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6A0774-D788-4149-89F1-8D672031E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 процедурного кабинета. Перевязочная в стационаре и поликлин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баев 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орахан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 процедурного кабинета. Перевязочная в стационаре и поликлин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ыполнил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ембаев 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Жорахан 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  постановки амидопириновой проб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шивают равные количества 5% спиртового раствора амидопирина, 30% уксусной кислоты и 3% раствора перекиси водорода (по 2—3 мл)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нестерильную вату наносят вышеуказанный реактив. Через несколько секунд при отсутствии цветовой реакции на вате этой ватой протирают поршень шприца, цилиндр с наружной стороны, иглы, канюлю внутри. Затем заливают реактивы в цилиндр шприца, пропускают их через шприц на другую ватку (проверяется цилиндр шприца)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этого на шприце закрепляют иглу, вновь наливают в цилиндр реактив и пропускают его через шприц и иглу (проверяется игла)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ри наличии кровяных загрязнений на вате появляется сине-зеленое окрашивание. Окрашивание может наблюдаться при наличии на шприце остатков лекарственных средств, тройного раствора и хлорамина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при положительных пробах повторный контроль инструментов проводят ежедневно до получения 3-кратного отрицательного результат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Технология  постановки амидопириновой проб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мешивают равные количества 5% спиртового раствора амидопирина, 30% уксусной кислоты и 3% раствора перекиси водорода (по 2—3 мл)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 нестерильную вату наносят вышеуказанный реактив. Через несколько секунд при отсутствии цветовой реакции на вате этой ватой протирают поршень шприца, цилиндр с наружной стороны, иглы, канюлю внутри. Затем заливают реактивы в цилиндр шприца, пропускают их через шприц на другую ватку (проверяется цилиндр шприца)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сле этого на шприце закрепляют иглу, вновь наливают в цилиндр реактив и пропускают его через шприц и иглу (проверяется игла):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) при наличии кровяных загрязнений на вате появляется сине-зеленое окрашивание. Окрашивание может наблюдаться при наличии на шприце остатков лекарственных средств, тройного раствора и хлорамина;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) при положительных пробах повторный контроль инструментов проводят ежедневно до получения 3-кратного отрицательного результата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особого микроклим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ое внимание уделяется освещению палат . Прямые солнечные лучи обладают бактерицидным действием. В то же время необходимо , чтобы освещение было достаточной интенсивности , равномерным , биологически полноценным по своему спектр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здание особого микроклима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ьшое внимание уделяется освещению палат . Прямые солнечные лучи обладают бактерицидным действием. В то же время необходимо , чтобы освещение было достаточной интенсивности , равномерным , биологически полноценным по своему спектр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сонал Сотрудники предприятий должны быть одеты в специализированную одежду, которая закрывает туловище (комбинезон, или брюки и халат), голову (шапка и маска на лицо), ступни (ботинки) и руки (перчат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. Помещение оснащается приборами фильтрации и обеспечения вертикального перемещения потоков воздуха. Дополнительно устанавливаются датчики контроля давления, параметров микроклимата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и. Поверхности стен и пола укладываются с применением специального химически стойкого материалы, который обеспечивает отсутствие неровностей и ш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сновные треб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ерсонал Сотрудники предприятий должны быть одеты в специализированную одежду, которая закрывает туловище (комбинезон, или брюки и халат), голову (шапка и маска на лицо), ступни (ботинки) и руки (перчатк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оздух. Помещение оснащается приборами фильтрации и обеспечения вертикального перемещения потоков воздуха. Дополнительно устанавливаются датчики контроля давления, параметров микроклимата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верхности. Поверхности стен и пола укладываются с применением специального химически стойкого материалы, который обеспечивает отсутствие неровностей и шв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одноразовых расходных материалов. Уборка помещений производится с использованием материалов недолгого срока службы, которые после уборки выбрасываются. Этот подход приводит к тому, что расходы на уборку составляют солидную долю в эксплуатационных издерж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многоразовых микроволоконных материалов. После уборки помещений расходники, для обеспечения их стерильности, отдают в стирку и обработку специализированным организациям, работающим на условиях аутсор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атери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менение одноразовых расходных материалов. Уборка помещений производится с использованием материалов недолгого срока службы, которые после уборки выбрасываются. Этот подход приводит к тому, что расходы на уборку составляют солидную долю в эксплуатационных издерж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ование многоразовых микроволоконных материалов. После уборки помещений расходники, для обеспечения их стерильности, отдают в стирку и обработку специализированным организациям, работающим на условиях аутсорин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, комплекс противоэпидемическ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е содержание помещений, оборудования, инвентаря (уборочный инвентарь, его маркировка, назначение, хранение, дезинфекц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 в процедурном кабинете, хирургических отдел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ь проведения текущей и генеральной дезинф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, комплекс противоэпидемических меропри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е содержание помещений, оборудования, инвентаря (уборочный инвентарь, его маркировка, назначение, хранение, дезинфекц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 в процедурном кабинете, хирургических отделе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ратность проведения текущей и генеральной дезинфе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эпидемический  режим - это совокупность строго регламентированных и обязательных для выполнения противоэпидемических мероприятий в конкретных лечебных учреждениях, для предупреждения возникновения, распространения В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эпидемические  мероприятия - комплекс мероприятий, направленных на предупреждение формирования или разрыв путей передачи от источника инфекции к восприимчивому организму, а так же предотвращения экзо и эндогенного инфицирования этого восприимчивого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тивоэпидемический  режим - это совокупность строго регламентированных и обязательных для выполнения противоэпидемических мероприятий в конкретных лечебных учреждениях, для предупреждения возникновения, распространения ВБ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тивоэпидемические  мероприятия - комплекс мероприятий, направленных на предупреждение формирования или разрыв путей передачи от источника инфекции к восприимчивому организму, а так же предотвращения экзо и эндогенного инфицирования этого восприимчивого организ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асептики и антисептики при проведении лечебно-диагностических процедур (использование стерильного медицинского инструментария, перевязочного материал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эффективных мер обеззараживания рук медицинского персонала и операционного п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зинфекцию объектов внешней среды, имеющих важное значение в механизме передачи возбудителей (постельные принадлежности, воздух, посуда, уборочный инвентар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омплекс включ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блюдение асептики и антисептики при проведении лечебно-диагностических процедур (использование стерильного медицинского инструментария, перевязочного материа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менение эффективных мер обеззараживания рук медицинского персонала и операционного по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езинфекцию объектов внешней среды, имеющих важное значение в механизме передачи возбудителей (постельные принадлежности, воздух, посуда, уборочный инвентар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е  содержание помещ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мещения, оборудование, инвентарь должные содержаться в идеальной чист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жная уборка помещений должна осуществляться не менее одного раза в сутки, а при необходимости чаще с применением моющих средств и дезинф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раз в месяц в помещениях, где проводится работа с кровью, сывороткой делают генеральную уборку с использованием 3% раствора хлорамина, хлорной извести, извести белильной термостой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генеральной уборки тщательно моются стены, оборудование, мебель, проводится очистка полов от наслоений, пятен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альные уборки проводятся по утвержденному граф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е  содержание помещ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помещения, оборудование, инвентарь должные содержаться в идеальной чисто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лажная уборка помещений должна осуществляться не менее одного раза в сутки, а при необходимости чаще с применением моющих средств и дезинфе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дин раз в месяц в помещениях, где проводится работа с кровью, сывороткой делают генеральную уборку с использованием 3% раствора хлорамина, хлорной извести, извести белильной термостой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о время генеральной уборки тщательно моются стены, оборудование, мебель, проводится очистка полов от наслоений, пятен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Генеральные уборки проводятся по утвержденному граф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мещения УЗ условно  можно разделить 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ующие особого режима дезинфекции (т.н. режимные кабине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е функциональные помещения: палаты, коридоры, лестницы, санитарно-бытовые помещения (туалеты, душевые, бельевые), кладовые, буфеты, столов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помещения УЗ условно  можно разделить  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требующие особого режима дезинфекции (т.н. режимные кабинет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ругие функциональные помещения: палаты, коридоры, лестницы, санитарно-бытовые помещения (туалеты, душевые, бельевые), кладовые, буфеты, столов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 в процедурном кабин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манипуляции  производится в перчатках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рильные укладки готовятся на одну рабочую смену (6 часов). Пинцеты для захвата стерильных материалов хранятся в стерильных емкостях, заполненных растворами стерилянтов (6% Н2О2, тройной раствор, в исключительных случаях -"Сайдекс"). Уровень заливки растворов в емкости должен быть не более уровня рабочих поверхностей браншей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 в процедурном кабине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манипуляции  производится в перчатках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терильные укладки готовятся на одну рабочую смену (6 часов). Пинцеты для захвата стерильных материалов хранятся в стерильных емкостях, заполненных растворами стерилянтов (6% Н2О2, тройной раствор, в исключительных случаях -"Сайдекс"). Уровень заливки растворов в емкости должен быть не более уровня рабочих поверхностей браншей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ные шприцы, иглы, пинцеты, зажимы, перчатки, системы для переливаний, зонды, катетеры и т. д. погружаются в один из дезинфицирующих растворов, затем промываются проточной водой и сдаются в ЦСО для предстерилизационной очистки и стерилизации. (Или, при отсутствии ЦСО, подвергаются предстерилизационной очистке.)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ные шарики и другой перевязочный материал погружаются в 3% раствор хлорамина или хлорной извести на 2 часа, либо в 0,03% раствор нейтрального анолита на 30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ованные шприцы, иглы, пинцеты, зажимы, перчатки, системы для переливаний, зонды, катетеры и т. д. погружаются в один из дезинфицирующих растворов, затем промываются проточной водой и сдаются в ЦСО для предстерилизационной очистки и стерилизации. (Или, при отсутствии ЦСО, подвергаются предстерилизационной очистке.)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ованные шарики и другой перевязочный материал погружаются в 3% раствор хлорамина или хлорной извести на 2 часа, либо в 0,03% раствор нейтрального анолита на 30 мину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440A-9F14-4718-83CC-3F9F13B3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3A44-1E92-4FC4-A08B-EE057916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C3C-E923-44F7-A4E0-713DBF27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50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264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436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50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264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4EF-ED6A-46D2-AC05-2F534A4F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7DCF-5BF2-4C62-84D8-D82E257C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2B77-E3DA-4338-9642-25D946B9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203F-F9B5-4298-B4C5-8929A67B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CB44-F016-4F8E-977F-9A042BED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61F0-640B-4953-BD1A-5EF85560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043640" y="1027800"/>
            <a:ext cx="70243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B7CE-CF23-40BB-BA8C-644988D7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4AD3-A07C-434D-A594-E12BFCA8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741F-5A87-4C04-BE33-302CBA08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CD8C-3D51-4591-9F29-4F40F0A4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7FD4-C281-4F14-BBA7-D4A3C85F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04D4-116E-491C-90D4-7D02B12C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E3DD-A4BE-4D9C-8213-DC44E720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50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264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0436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350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6264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4840-3248-4EED-87E4-ABB02557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1AD7-D652-4F03-91C0-D1C5BA16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329-5A46-450F-8C9E-51F42DB4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D35-42C2-481D-876A-C52BB805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43640" y="1027800"/>
            <a:ext cx="70243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B55-5C29-436F-A338-DB595344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76E-3753-41D6-8A6F-61B9FDF7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7E8-10C6-4A21-A653-9B744F76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29B-9CA8-4435-AA3E-72AC5E7C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25f"/>
            </a:gs>
            <a:gs pos="100000">
              <a:srgbClr val="92bd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8360" cy="7116480"/>
            <a:chOff x="-567360" y="0"/>
            <a:chExt cx="10458360" cy="7116480"/>
          </a:xfrm>
        </p:grpSpPr>
        <p:grpSp>
          <p:nvGrpSpPr>
            <p:cNvPr id="1" name="Group 44"/>
            <p:cNvGrpSpPr/>
            <p:nvPr/>
          </p:nvGrpSpPr>
          <p:grpSpPr>
            <a:xfrm>
              <a:off x="77760" y="0"/>
              <a:ext cx="9144000" cy="6858000"/>
              <a:chOff x="7776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760" y="0"/>
                <a:ext cx="2514240" cy="6857640"/>
                <a:chOff x="77760" y="0"/>
                <a:chExt cx="2514240" cy="685764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216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76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36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400" y="0"/>
                <a:ext cx="2514240" cy="6857640"/>
                <a:chOff x="500400" y="0"/>
                <a:chExt cx="2514240" cy="685764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8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4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90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520" y="360"/>
                <a:ext cx="2514240" cy="6857640"/>
                <a:chOff x="6707520" y="360"/>
                <a:chExt cx="2514240" cy="685764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52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92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400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76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6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068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68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704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392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66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66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04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40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39" name="Rectangle 65" hidden="1"/>
          <p:cNvSpPr/>
          <p:nvPr/>
        </p:nvSpPr>
        <p:spPr>
          <a:xfrm>
            <a:off x="457200" y="333360"/>
            <a:ext cx="8229240" cy="6185160"/>
          </a:xfrm>
          <a:prstGeom prst="rect">
            <a:avLst/>
          </a:prstGeom>
          <a:solidFill>
            <a:schemeClr val="bg1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0" name="Rectangle 69" hidden="1"/>
          <p:cNvSpPr/>
          <p:nvPr/>
        </p:nvSpPr>
        <p:spPr>
          <a:xfrm>
            <a:off x="4561200" y="-21600"/>
            <a:ext cx="3678840" cy="6987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1" name="Rectangle 70" hidden="1"/>
          <p:cNvSpPr/>
          <p:nvPr/>
        </p:nvSpPr>
        <p:spPr>
          <a:xfrm>
            <a:off x="4649040" y="-21600"/>
            <a:ext cx="3504960" cy="6235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grpSp>
        <p:nvGrpSpPr>
          <p:cNvPr id="42" name="Group 42"/>
          <p:cNvGrpSpPr/>
          <p:nvPr/>
        </p:nvGrpSpPr>
        <p:grpSpPr>
          <a:xfrm>
            <a:off x="-644760" y="0"/>
            <a:ext cx="10458000" cy="7116480"/>
            <a:chOff x="-644760" y="0"/>
            <a:chExt cx="10458000" cy="7116480"/>
          </a:xfrm>
        </p:grpSpPr>
        <p:grpSp>
          <p:nvGrpSpPr>
            <p:cNvPr id="43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4" name="Group 4"/>
              <p:cNvGrpSpPr/>
              <p:nvPr/>
            </p:nvGrpSpPr>
            <p:grpSpPr>
              <a:xfrm>
                <a:off x="0" y="0"/>
                <a:ext cx="2514240" cy="6857640"/>
                <a:chOff x="0" y="0"/>
                <a:chExt cx="2514240" cy="6857640"/>
              </a:xfrm>
            </p:grpSpPr>
            <p:sp>
              <p:nvSpPr>
                <p:cNvPr id="45" name="Rectangle 114"/>
                <p:cNvSpPr/>
                <p:nvPr/>
              </p:nvSpPr>
              <p:spPr>
                <a:xfrm>
                  <a:off x="9144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46" name="Rectangle 2"/>
                <p:cNvSpPr/>
                <p:nvPr/>
              </p:nvSpPr>
              <p:spPr>
                <a:xfrm>
                  <a:off x="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47" name="Rectangle 3"/>
                <p:cNvSpPr/>
                <p:nvPr/>
              </p:nvSpPr>
              <p:spPr>
                <a:xfrm>
                  <a:off x="2286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8" name="Group 5"/>
              <p:cNvGrpSpPr/>
              <p:nvPr/>
            </p:nvGrpSpPr>
            <p:grpSpPr>
              <a:xfrm>
                <a:off x="423000" y="0"/>
                <a:ext cx="2514240" cy="6857640"/>
                <a:chOff x="423000" y="0"/>
                <a:chExt cx="2514240" cy="6857640"/>
              </a:xfrm>
            </p:grpSpPr>
            <p:sp>
              <p:nvSpPr>
                <p:cNvPr id="49" name="Rectangle 84"/>
                <p:cNvSpPr/>
                <p:nvPr/>
              </p:nvSpPr>
              <p:spPr>
                <a:xfrm>
                  <a:off x="13374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0" name="Rectangle 85"/>
                <p:cNvSpPr/>
                <p:nvPr/>
              </p:nvSpPr>
              <p:spPr>
                <a:xfrm>
                  <a:off x="4230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1" name="Rectangle 113"/>
                <p:cNvSpPr/>
                <p:nvPr/>
              </p:nvSpPr>
              <p:spPr>
                <a:xfrm>
                  <a:off x="6516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2" name="Group 9"/>
              <p:cNvGrpSpPr/>
              <p:nvPr/>
            </p:nvGrpSpPr>
            <p:grpSpPr>
              <a:xfrm>
                <a:off x="6629760" y="360"/>
                <a:ext cx="2514240" cy="6857640"/>
                <a:chOff x="6629760" y="360"/>
                <a:chExt cx="2514240" cy="6857640"/>
              </a:xfrm>
            </p:grpSpPr>
            <p:sp>
              <p:nvSpPr>
                <p:cNvPr id="53" name="Rectangle 77"/>
                <p:cNvSpPr/>
                <p:nvPr/>
              </p:nvSpPr>
              <p:spPr>
                <a:xfrm rot="10800000">
                  <a:off x="662976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4" name="Rectangle 78"/>
                <p:cNvSpPr/>
                <p:nvPr/>
              </p:nvSpPr>
              <p:spPr>
                <a:xfrm rot="10800000">
                  <a:off x="868716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5" name="Rectangle 80"/>
                <p:cNvSpPr/>
                <p:nvPr/>
              </p:nvSpPr>
              <p:spPr>
                <a:xfrm rot="10800000">
                  <a:off x="815364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56" name="Rectangle 74"/>
              <p:cNvSpPr/>
              <p:nvPr/>
            </p:nvSpPr>
            <p:spPr>
              <a:xfrm>
                <a:off x="380988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57" name="Rectangle 75"/>
              <p:cNvSpPr/>
              <p:nvPr/>
            </p:nvSpPr>
            <p:spPr>
              <a:xfrm>
                <a:off x="289548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58" name="Rectangle 76"/>
              <p:cNvSpPr/>
              <p:nvPr/>
            </p:nvSpPr>
            <p:spPr>
              <a:xfrm>
                <a:off x="312408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59" name="Freeform 44"/>
            <p:cNvSpPr/>
            <p:nvPr/>
          </p:nvSpPr>
          <p:spPr>
            <a:xfrm>
              <a:off x="-11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" name="Freeform 47"/>
            <p:cNvSpPr/>
            <p:nvPr/>
          </p:nvSpPr>
          <p:spPr>
            <a:xfrm>
              <a:off x="-11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" name="Freeform 48"/>
            <p:cNvSpPr/>
            <p:nvPr/>
          </p:nvSpPr>
          <p:spPr>
            <a:xfrm>
              <a:off x="-2376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" name="Freeform 50"/>
            <p:cNvSpPr/>
            <p:nvPr/>
          </p:nvSpPr>
          <p:spPr>
            <a:xfrm>
              <a:off x="-11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" name="Freeform 51"/>
            <p:cNvSpPr/>
            <p:nvPr/>
          </p:nvSpPr>
          <p:spPr>
            <a:xfrm>
              <a:off x="21376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" name="Hexagon 52"/>
            <p:cNvSpPr/>
            <p:nvPr/>
          </p:nvSpPr>
          <p:spPr>
            <a:xfrm rot="1800000">
              <a:off x="29962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5" name="Hexagon 53"/>
            <p:cNvSpPr/>
            <p:nvPr/>
          </p:nvSpPr>
          <p:spPr>
            <a:xfrm rot="1800000">
              <a:off x="37202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6" name="Hexagon 54"/>
            <p:cNvSpPr/>
            <p:nvPr/>
          </p:nvSpPr>
          <p:spPr>
            <a:xfrm rot="1800000">
              <a:off x="372960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7" name="Hexagon 55"/>
            <p:cNvSpPr/>
            <p:nvPr/>
          </p:nvSpPr>
          <p:spPr>
            <a:xfrm rot="1800000">
              <a:off x="29772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8" name="Hexagon 56"/>
            <p:cNvSpPr/>
            <p:nvPr/>
          </p:nvSpPr>
          <p:spPr>
            <a:xfrm rot="1800000">
              <a:off x="446292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9" name="Freeform 57"/>
            <p:cNvSpPr/>
            <p:nvPr/>
          </p:nvSpPr>
          <p:spPr>
            <a:xfrm rot="1800000">
              <a:off x="-3819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0" name="Hexagon 58"/>
            <p:cNvSpPr/>
            <p:nvPr/>
          </p:nvSpPr>
          <p:spPr>
            <a:xfrm rot="1800000">
              <a:off x="244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1" name="Hexagon 59"/>
            <p:cNvSpPr/>
            <p:nvPr/>
          </p:nvSpPr>
          <p:spPr>
            <a:xfrm rot="1800000">
              <a:off x="5292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2" name="Hexagon 60"/>
            <p:cNvSpPr/>
            <p:nvPr/>
          </p:nvSpPr>
          <p:spPr>
            <a:xfrm rot="1800000">
              <a:off x="7768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3" name="Hexagon 61"/>
            <p:cNvSpPr/>
            <p:nvPr/>
          </p:nvSpPr>
          <p:spPr>
            <a:xfrm rot="1800000">
              <a:off x="151020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4" name="Hexagon 62"/>
            <p:cNvSpPr/>
            <p:nvPr/>
          </p:nvSpPr>
          <p:spPr>
            <a:xfrm rot="1800000">
              <a:off x="15292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5" name="Hexagon 63"/>
            <p:cNvSpPr/>
            <p:nvPr/>
          </p:nvSpPr>
          <p:spPr>
            <a:xfrm rot="1800000">
              <a:off x="7959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6" name="Hexagon 64"/>
            <p:cNvSpPr/>
            <p:nvPr/>
          </p:nvSpPr>
          <p:spPr>
            <a:xfrm rot="1800000">
              <a:off x="680616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7" name="Hexagon 65"/>
            <p:cNvSpPr/>
            <p:nvPr/>
          </p:nvSpPr>
          <p:spPr>
            <a:xfrm rot="1800000">
              <a:off x="75492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8" name="Hexagon 66"/>
            <p:cNvSpPr/>
            <p:nvPr/>
          </p:nvSpPr>
          <p:spPr>
            <a:xfrm rot="1800000">
              <a:off x="75492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9" name="Freeform 67"/>
            <p:cNvSpPr/>
            <p:nvPr/>
          </p:nvSpPr>
          <p:spPr>
            <a:xfrm rot="1800000">
              <a:off x="830628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0" name="Freeform 68"/>
            <p:cNvSpPr/>
            <p:nvPr/>
          </p:nvSpPr>
          <p:spPr>
            <a:xfrm rot="1800000">
              <a:off x="83066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81" name="Rectangle 45"/>
          <p:cNvSpPr/>
          <p:nvPr/>
        </p:nvSpPr>
        <p:spPr>
          <a:xfrm>
            <a:off x="4561200" y="-21600"/>
            <a:ext cx="3678840" cy="62715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2" name="Rectangle 46"/>
          <p:cNvSpPr/>
          <p:nvPr/>
        </p:nvSpPr>
        <p:spPr>
          <a:xfrm>
            <a:off x="4649040" y="-21600"/>
            <a:ext cx="3504960" cy="23126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33280" y="270864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738680" y="1516680"/>
            <a:ext cx="213336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9"/>
          <p:cNvSpPr/>
          <p:nvPr/>
        </p:nvSpPr>
        <p:spPr>
          <a:xfrm>
            <a:off x="4650840" y="6088320"/>
            <a:ext cx="3504960" cy="813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5303520" y="5720040"/>
            <a:ext cx="2831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chemeClr val="accent1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3"/>
          </p:nvPr>
        </p:nvSpPr>
        <p:spPr>
          <a:xfrm>
            <a:off x="4649040" y="5720040"/>
            <a:ext cx="643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67AE8E9-F589-4DA0-A316-44669D225AAA}" type="slidenum">
              <a:rPr b="0" lang="ru-RU" sz="1200" spc="-1" strike="noStrike">
                <a:solidFill>
                  <a:schemeClr val="accent1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8"/>
          <p:cNvSpPr/>
          <p:nvPr/>
        </p:nvSpPr>
        <p:spPr>
          <a:xfrm>
            <a:off x="4650840" y="6088320"/>
            <a:ext cx="3504960" cy="813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ru-RU" sz="1800" spc="-1" strike="noStrike">
              <a:solidFill>
                <a:srgbClr val="3e3d2d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3e3d2d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25f"/>
            </a:gs>
            <a:gs pos="100000">
              <a:srgbClr val="92bd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1"/>
          <p:cNvGrpSpPr/>
          <p:nvPr/>
        </p:nvGrpSpPr>
        <p:grpSpPr>
          <a:xfrm>
            <a:off x="-567360" y="0"/>
            <a:ext cx="10458360" cy="7116480"/>
            <a:chOff x="-567360" y="0"/>
            <a:chExt cx="10458360" cy="7116480"/>
          </a:xfrm>
        </p:grpSpPr>
        <p:grpSp>
          <p:nvGrpSpPr>
            <p:cNvPr id="127" name="Group 44"/>
            <p:cNvGrpSpPr/>
            <p:nvPr/>
          </p:nvGrpSpPr>
          <p:grpSpPr>
            <a:xfrm>
              <a:off x="77760" y="0"/>
              <a:ext cx="9144000" cy="6858000"/>
              <a:chOff x="77760" y="0"/>
              <a:chExt cx="9144000" cy="6858000"/>
            </a:xfrm>
          </p:grpSpPr>
          <p:grpSp>
            <p:nvGrpSpPr>
              <p:cNvPr id="128" name="Group 4"/>
              <p:cNvGrpSpPr/>
              <p:nvPr/>
            </p:nvGrpSpPr>
            <p:grpSpPr>
              <a:xfrm>
                <a:off x="77760" y="0"/>
                <a:ext cx="2514240" cy="6857640"/>
                <a:chOff x="77760" y="0"/>
                <a:chExt cx="2514240" cy="6857640"/>
              </a:xfrm>
            </p:grpSpPr>
            <p:sp>
              <p:nvSpPr>
                <p:cNvPr id="129" name="Rectangle 112"/>
                <p:cNvSpPr/>
                <p:nvPr/>
              </p:nvSpPr>
              <p:spPr>
                <a:xfrm>
                  <a:off x="99216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0" name="Rectangle 2"/>
                <p:cNvSpPr/>
                <p:nvPr/>
              </p:nvSpPr>
              <p:spPr>
                <a:xfrm>
                  <a:off x="7776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1" name="Rectangle 3"/>
                <p:cNvSpPr/>
                <p:nvPr/>
              </p:nvSpPr>
              <p:spPr>
                <a:xfrm>
                  <a:off x="30636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2" name="Group 5"/>
              <p:cNvGrpSpPr/>
              <p:nvPr/>
            </p:nvGrpSpPr>
            <p:grpSpPr>
              <a:xfrm>
                <a:off x="500400" y="0"/>
                <a:ext cx="2514240" cy="6857640"/>
                <a:chOff x="500400" y="0"/>
                <a:chExt cx="2514240" cy="6857640"/>
              </a:xfrm>
            </p:grpSpPr>
            <p:sp>
              <p:nvSpPr>
                <p:cNvPr id="133" name="Rectangle 109"/>
                <p:cNvSpPr/>
                <p:nvPr/>
              </p:nvSpPr>
              <p:spPr>
                <a:xfrm>
                  <a:off x="14148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4" name="Rectangle 110"/>
                <p:cNvSpPr/>
                <p:nvPr/>
              </p:nvSpPr>
              <p:spPr>
                <a:xfrm>
                  <a:off x="5004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5" name="Rectangle 111"/>
                <p:cNvSpPr/>
                <p:nvPr/>
              </p:nvSpPr>
              <p:spPr>
                <a:xfrm>
                  <a:off x="7290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6" name="Group 9"/>
              <p:cNvGrpSpPr/>
              <p:nvPr/>
            </p:nvGrpSpPr>
            <p:grpSpPr>
              <a:xfrm>
                <a:off x="6707520" y="360"/>
                <a:ext cx="2514240" cy="6857640"/>
                <a:chOff x="6707520" y="360"/>
                <a:chExt cx="2514240" cy="6857640"/>
              </a:xfrm>
            </p:grpSpPr>
            <p:sp>
              <p:nvSpPr>
                <p:cNvPr id="137" name="Rectangle 106"/>
                <p:cNvSpPr/>
                <p:nvPr/>
              </p:nvSpPr>
              <p:spPr>
                <a:xfrm rot="10800000">
                  <a:off x="670752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8" name="Rectangle 107"/>
                <p:cNvSpPr/>
                <p:nvPr/>
              </p:nvSpPr>
              <p:spPr>
                <a:xfrm rot="10800000">
                  <a:off x="876492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9" name="Rectangle 108"/>
                <p:cNvSpPr/>
                <p:nvPr/>
              </p:nvSpPr>
              <p:spPr>
                <a:xfrm rot="10800000">
                  <a:off x="823140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0" name="Rectangle 103"/>
              <p:cNvSpPr/>
              <p:nvPr/>
            </p:nvSpPr>
            <p:spPr>
              <a:xfrm>
                <a:off x="388764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41" name="Rectangle 104"/>
              <p:cNvSpPr/>
              <p:nvPr/>
            </p:nvSpPr>
            <p:spPr>
              <a:xfrm>
                <a:off x="297324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42" name="Rectangle 105"/>
              <p:cNvSpPr/>
              <p:nvPr/>
            </p:nvSpPr>
            <p:spPr>
              <a:xfrm>
                <a:off x="320184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43" name="Freeform 43"/>
            <p:cNvSpPr/>
            <p:nvPr/>
          </p:nvSpPr>
          <p:spPr>
            <a:xfrm>
              <a:off x="65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44"/>
            <p:cNvSpPr/>
            <p:nvPr/>
          </p:nvSpPr>
          <p:spPr>
            <a:xfrm>
              <a:off x="65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45"/>
            <p:cNvSpPr/>
            <p:nvPr/>
          </p:nvSpPr>
          <p:spPr>
            <a:xfrm>
              <a:off x="5400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46"/>
            <p:cNvSpPr/>
            <p:nvPr/>
          </p:nvSpPr>
          <p:spPr>
            <a:xfrm>
              <a:off x="65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48"/>
            <p:cNvSpPr/>
            <p:nvPr/>
          </p:nvSpPr>
          <p:spPr>
            <a:xfrm>
              <a:off x="22150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Hexagon 49"/>
            <p:cNvSpPr/>
            <p:nvPr/>
          </p:nvSpPr>
          <p:spPr>
            <a:xfrm rot="1800000">
              <a:off x="30736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49" name="Hexagon 50"/>
            <p:cNvSpPr/>
            <p:nvPr/>
          </p:nvSpPr>
          <p:spPr>
            <a:xfrm rot="1800000">
              <a:off x="37976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0" name="Hexagon 51"/>
            <p:cNvSpPr/>
            <p:nvPr/>
          </p:nvSpPr>
          <p:spPr>
            <a:xfrm rot="1800000">
              <a:off x="380736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1" name="Hexagon 52"/>
            <p:cNvSpPr/>
            <p:nvPr/>
          </p:nvSpPr>
          <p:spPr>
            <a:xfrm rot="1800000">
              <a:off x="30546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2" name="Hexagon 53"/>
            <p:cNvSpPr/>
            <p:nvPr/>
          </p:nvSpPr>
          <p:spPr>
            <a:xfrm rot="1800000">
              <a:off x="454068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3" name="Freeform 54"/>
            <p:cNvSpPr/>
            <p:nvPr/>
          </p:nvSpPr>
          <p:spPr>
            <a:xfrm rot="1800000">
              <a:off x="-3045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4" name="Hexagon 55"/>
            <p:cNvSpPr/>
            <p:nvPr/>
          </p:nvSpPr>
          <p:spPr>
            <a:xfrm rot="1800000">
              <a:off x="1018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5" name="Hexagon 56"/>
            <p:cNvSpPr/>
            <p:nvPr/>
          </p:nvSpPr>
          <p:spPr>
            <a:xfrm rot="1800000">
              <a:off x="13068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6" name="Hexagon 57"/>
            <p:cNvSpPr/>
            <p:nvPr/>
          </p:nvSpPr>
          <p:spPr>
            <a:xfrm rot="1800000">
              <a:off x="8542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7" name="Hexagon 58"/>
            <p:cNvSpPr/>
            <p:nvPr/>
          </p:nvSpPr>
          <p:spPr>
            <a:xfrm rot="1800000">
              <a:off x="158796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8" name="Hexagon 59"/>
            <p:cNvSpPr/>
            <p:nvPr/>
          </p:nvSpPr>
          <p:spPr>
            <a:xfrm rot="1800000">
              <a:off x="160704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9" name="Hexagon 94"/>
            <p:cNvSpPr/>
            <p:nvPr/>
          </p:nvSpPr>
          <p:spPr>
            <a:xfrm rot="1800000">
              <a:off x="8733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0" name="Hexagon 95"/>
            <p:cNvSpPr/>
            <p:nvPr/>
          </p:nvSpPr>
          <p:spPr>
            <a:xfrm rot="1800000">
              <a:off x="688392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1" name="Hexagon 96"/>
            <p:cNvSpPr/>
            <p:nvPr/>
          </p:nvSpPr>
          <p:spPr>
            <a:xfrm rot="1800000">
              <a:off x="76266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2" name="Hexagon 97"/>
            <p:cNvSpPr/>
            <p:nvPr/>
          </p:nvSpPr>
          <p:spPr>
            <a:xfrm rot="1800000">
              <a:off x="76266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3" name="Freeform 98"/>
            <p:cNvSpPr/>
            <p:nvPr/>
          </p:nvSpPr>
          <p:spPr>
            <a:xfrm rot="1800000">
              <a:off x="838404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4" name="Freeform 99"/>
            <p:cNvSpPr/>
            <p:nvPr/>
          </p:nvSpPr>
          <p:spPr>
            <a:xfrm rot="1800000">
              <a:off x="83840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165" name="Rectangle 65"/>
          <p:cNvSpPr/>
          <p:nvPr/>
        </p:nvSpPr>
        <p:spPr>
          <a:xfrm>
            <a:off x="457200" y="333360"/>
            <a:ext cx="8229240" cy="6185160"/>
          </a:xfrm>
          <a:prstGeom prst="rect">
            <a:avLst/>
          </a:prstGeom>
          <a:solidFill>
            <a:schemeClr val="bg1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66" name="Rectangle 69"/>
          <p:cNvSpPr/>
          <p:nvPr/>
        </p:nvSpPr>
        <p:spPr>
          <a:xfrm>
            <a:off x="4561200" y="-21600"/>
            <a:ext cx="3678840" cy="6987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67" name="Rectangle 70"/>
          <p:cNvSpPr/>
          <p:nvPr/>
        </p:nvSpPr>
        <p:spPr>
          <a:xfrm>
            <a:off x="4649040" y="-21600"/>
            <a:ext cx="3504960" cy="6235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разец текста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40080" indent="-274320">
              <a:lnSpc>
                <a:spcPct val="100000"/>
              </a:lnSpc>
              <a:spcBef>
                <a:spcPts val="43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Второй уровень</a:t>
            </a:r>
            <a:endParaRPr b="0" lang="ru-RU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lnSpc>
                <a:spcPct val="10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Третий уровень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3" marL="1124640" indent="-228600">
              <a:lnSpc>
                <a:spcPct val="100000"/>
              </a:lnSpc>
              <a:spcBef>
                <a:spcPts val="36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Четвертый уровень</a:t>
            </a:r>
            <a:endParaRPr b="0" lang="ru-RU" sz="18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880" indent="-228600">
              <a:lnSpc>
                <a:spcPct val="100000"/>
              </a:lnSpc>
              <a:spcBef>
                <a:spcPts val="3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5997240" y="224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4641480" y="5852160"/>
            <a:ext cx="3501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chemeClr val="accent1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4649040" y="224640"/>
            <a:ext cx="1331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91B966A-546C-48EE-90DB-2AD88F9461F7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788000" y="1585440"/>
            <a:ext cx="3096000" cy="22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chemeClr val="accent1"/>
                </a:solidFill>
                <a:latin typeface="Century Gothic"/>
              </a:rPr>
              <a:t>Санитарно-противоэпидемический режим процедурного кабинета</a:t>
            </a:r>
            <a:r>
              <a:rPr b="1" i="1" lang="uk-UA" sz="2800" spc="-1" strike="noStrike">
                <a:solidFill>
                  <a:schemeClr val="accent1"/>
                </a:solidFill>
                <a:latin typeface="Century Gothic"/>
              </a:rPr>
              <a:t>.</a:t>
            </a:r>
            <a:r>
              <a:rPr b="1" i="1" lang="ru-RU" sz="2800" spc="-1" strike="noStrike">
                <a:solidFill>
                  <a:schemeClr val="accent1"/>
                </a:solidFill>
                <a:latin typeface="Century Gothic"/>
              </a:rPr>
              <a:t> Перевязочная в стационаре и поликлинике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95640" y="3141720"/>
            <a:ext cx="3654720" cy="25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24242"/>
                </a:solidFill>
                <a:latin typeface="Century Gothic"/>
              </a:rPr>
              <a:t>Выполни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24242"/>
                </a:solidFill>
                <a:latin typeface="Century Gothic"/>
              </a:rPr>
              <a:t>Дембаев 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24242"/>
                </a:solidFill>
                <a:latin typeface="Century Gothic"/>
              </a:rPr>
              <a:t>Жорахан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47640" y="1989000"/>
            <a:ext cx="6952320" cy="42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7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Технология  постановки амидопириновой пробы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9640" y="2061000"/>
            <a:ext cx="8064360" cy="43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27960" indent="-26208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мешивают равные количества 5% спиртового раствора амидопирина, 30% уксусной кислоты и 3% раствора перекиси водорода (по 2—3 мл).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 нестерильную вату наносят вышеуказанный реактив. Через несколько секунд при отсутствии цветовой реакции на вате этой ватой протирают поршень шприца, цилиндр с наружной стороны, иглы, канюлю внутри. Затем заливают реактивы в цилиндр шприца, пропускают их через шприц на другую ватку (проверяется цилиндр шприца).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сле этого на шприце закрепляют иглу, вновь наливают в цилиндр реактив и пропускают его через шприц и иглу (проверяется игла):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а) при наличии кровяных загрязнений на вате появляется сине-зеленое окрашивание. Окрашивание может наблюдаться при наличии на шприце остатков лекарственных средств, тройного раствора и хлорамина;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) при положительных пробах повторный контроль инструментов проводят ежедневно до получения 3-кратного отрицательного результата. 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7640" y="908640"/>
            <a:ext cx="82807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Создание особого микроклимата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99640" y="2323800"/>
            <a:ext cx="72723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ольшое внимание уделяется освещению палат . Прямые солнечные лучи обладают бактерицидным действием.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 то же время необходимо , чтобы освещение было достаточной интенсивности , равномерным , биологически полноценным по своему спектру 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7640" y="908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Основные требования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6912360" cy="39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06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/>
                </a:solidFill>
                <a:latin typeface="Century Gothic"/>
              </a:rPr>
              <a:t>Персонал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Сотрудники предприятий должны быть одеты в специализированную одежду, которая закрывает туловище (комбинезон, или брюки и халат), голову (шапка и маска на лицо), ступни (ботинки) и руки (перчатки)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/>
                </a:solidFill>
                <a:latin typeface="Century Gothic"/>
              </a:rPr>
              <a:t>Воздух.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мещение оснащается приборами фильтрации и обеспечения вертикального перемещения потоков воздуха. Дополнительно устанавливаются датчики контроля давления, параметров микроклимата и т.д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/>
                </a:solidFill>
                <a:latin typeface="Century Gothic"/>
              </a:rPr>
              <a:t>Поверхности.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верхности стен и пола укладываются с применением специального химически стойкого материалы, который обеспечивает отсутствие неровностей и швов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5640" y="548640"/>
            <a:ext cx="724032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Материалы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7640" y="1484640"/>
            <a:ext cx="7416360" cy="475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52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менение одноразовых расходных материалов. Уборка помещений производится с использованием материалов недолгого срока службы, которые после уборки выбрасываются. Этот подход приводит к тому, что расходы на уборку составляют солидную долю в эксплуатационных издержках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52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спользование многоразовых микроволоконных материалов. После уборки помещений расходники, для обеспечения их стерильности, отдают в стирку и обработку специализированным организациям, работающим на условиях аутсоринга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3640" y="116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План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7640" y="1700640"/>
            <a:ext cx="7488360" cy="46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нитарно-противоэпидемический режим, комплекс противоэпидемических мероприятий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нитарное содержание помещений, оборудования, инвентаря (уборочный инвентарь, его маркировка, назначение, хранение, дезинфекция)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нитарно-противоэпидемический режим в процедурном кабинете, хирургических отделениях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ратность проведения текущей и генеральной дезинфекции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908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Санитарно-противоэпидемический режим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640" y="2323800"/>
            <a:ext cx="8064360" cy="40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2635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отивоэпидемический  режим 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- это совокупность строго регламентированных и обязательных для выполнения противоэпидемических мероприятий в конкретных лечебных учреждениях, для предупреждения возникновения, распространения ВБИ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29760" indent="-2635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    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отивоэпидемические  мероприятия 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- комплекс мероприятий, направленных на предупреждение формирования или разрыв путей передачи от источника инфекции к восприимчивому организму, а так же предотвращения экзо и эндогенного инфицирования этого восприимчивого организма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476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Комплекс включает: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845000"/>
            <a:ext cx="7632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310320" indent="-248040">
              <a:lnSpc>
                <a:spcPct val="100000"/>
              </a:lnSpc>
              <a:spcBef>
                <a:spcPts val="10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5100" spc="-1" strike="noStrike">
                <a:solidFill>
                  <a:srgbClr val="3e3d2d"/>
                </a:solidFill>
                <a:latin typeface="Century Gothic"/>
              </a:rPr>
              <a:t>Соблюдение асептики и антисептики при проведении лечебно-диагностических процедур (использование стерильного медицинского инструментария, перевязочного материала).</a:t>
            </a:r>
            <a:endParaRPr b="0" lang="ru-RU" sz="5100" spc="-1" strike="noStrike">
              <a:solidFill>
                <a:srgbClr val="3e3d2d"/>
              </a:solidFill>
              <a:latin typeface="Century Gothic"/>
            </a:endParaRPr>
          </a:p>
          <a:p>
            <a:pPr marL="310320" indent="-248040">
              <a:lnSpc>
                <a:spcPct val="100000"/>
              </a:lnSpc>
              <a:spcBef>
                <a:spcPts val="10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5100" spc="-1" strike="noStrike">
                <a:solidFill>
                  <a:srgbClr val="3e3d2d"/>
                </a:solidFill>
                <a:latin typeface="Century Gothic"/>
              </a:rPr>
              <a:t>Применение эффективных мер обеззараживания рук медицинского персонала и операционного поля.</a:t>
            </a:r>
            <a:endParaRPr b="0" lang="ru-RU" sz="5100" spc="-1" strike="noStrike">
              <a:solidFill>
                <a:srgbClr val="3e3d2d"/>
              </a:solidFill>
              <a:latin typeface="Century Gothic"/>
            </a:endParaRPr>
          </a:p>
          <a:p>
            <a:pPr marL="310320" indent="-248040">
              <a:lnSpc>
                <a:spcPct val="100000"/>
              </a:lnSpc>
              <a:spcBef>
                <a:spcPts val="10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5100" spc="-1" strike="noStrike">
                <a:solidFill>
                  <a:srgbClr val="3e3d2d"/>
                </a:solidFill>
                <a:latin typeface="Century Gothic"/>
              </a:rPr>
              <a:t>Дезинфекцию объектов внешней среды, имеющих важное значение в механизме передачи возбудителей (постельные принадлежности, воздух, посуда, уборочный инвентарь).</a:t>
            </a:r>
            <a:endParaRPr b="0" lang="ru-RU" sz="5100" spc="-1" strike="noStrike">
              <a:solidFill>
                <a:srgbClr val="3e3d2d"/>
              </a:solidFill>
              <a:latin typeface="Century Gothic"/>
            </a:endParaRPr>
          </a:p>
          <a:p>
            <a:pPr marL="61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br>
              <a:rPr sz="2400"/>
            </a:b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4" descr=""/>
          <p:cNvPicPr/>
          <p:nvPr/>
        </p:nvPicPr>
        <p:blipFill>
          <a:blip r:embed="rId1"/>
          <a:stretch/>
        </p:blipFill>
        <p:spPr>
          <a:xfrm>
            <a:off x="4932000" y="1052640"/>
            <a:ext cx="3038760" cy="19112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"/>
          <p:cNvPicPr/>
          <p:nvPr/>
        </p:nvPicPr>
        <p:blipFill>
          <a:blip r:embed="rId2"/>
          <a:stretch/>
        </p:blipFill>
        <p:spPr>
          <a:xfrm>
            <a:off x="747000" y="476640"/>
            <a:ext cx="3636360" cy="27237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6" descr=""/>
          <p:cNvPicPr/>
          <p:nvPr/>
        </p:nvPicPr>
        <p:blipFill>
          <a:blip r:embed="rId3"/>
          <a:stretch/>
        </p:blipFill>
        <p:spPr>
          <a:xfrm>
            <a:off x="2195640" y="3429000"/>
            <a:ext cx="4709520" cy="302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908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Санитарное  содержание помещений.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3640" y="2205000"/>
            <a:ext cx="7632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е помещения, оборудование, инвентарь должные содержаться в идеальной чистоте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лажная уборка помещений должна осуществляться не менее одного раза в сутки, а при необходимости чаще с применением моющих средств и дезинфекции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дин раз в месяц в помещениях, где проводится работа с кровью, сывороткой делают генеральную уборку с использованием 3% раствора хлорамина, хлорной извести, извести белильной термостойкой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о время генеральной уборки тщательно моются стены, оборудование, мебель, проводится очистка полов от наслоений, пятен и т.д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Генеральные уборки проводятся по утвержденному графику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61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7640" y="1412640"/>
            <a:ext cx="748836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Все помещения УЗ условно  можно разделить  на: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71640" y="2856600"/>
            <a:ext cx="7344360" cy="398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ребующие особого режима дезинфекции (т.н. режимные кабинеты);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ругие функциональные помещения: палаты, коридоры, лестницы, санитарно-бытовые помещения (туалеты, душевые, бельевые), кладовые, буфеты, столовые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32640"/>
            <a:ext cx="7848360" cy="189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Санитарно-противоэпидемический режим в процедурном кабинете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776360" cy="420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76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е манипуляции  производится в перчатках.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терильные укладки готовятся на одну рабочую смену (6 часов). Пинцеты для захвата стерильных материалов хранятся в стерильных емкостях, заполненных растворами стерилянтов (6% Н2О2, тройной раствор, в исключительных случаях -"Сайдекс"). Уровень заливки растворов в емкости должен быть не более уровня рабочих поверхностей браншей.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99640" y="980640"/>
            <a:ext cx="727236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31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спользованные шприцы, иглы, пинцеты, зажимы, перчатки, системы для переливаний, зонды, катетеры и т. д. погружаются в один из дезинфицирующих растворов, затем промываются проточной водой и сдаются в ЦСО для предстерилизационной очистки и стерилизации. (Или, при отсутствии ЦСО, подвергаются предстерилизационной очистке.)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спользованные шарики и другой перевязочный материал погружаются в 3% раствор хлорамина или хлорной извести на 2 часа, либо в 0,03% раствор нейтрального анолита на 30 минут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стин">
  <a:themeElements>
    <a:clrScheme name="Остин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стин">
  <a:themeElements>
    <a:clrScheme name="Остин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ustin</Template>
  <TotalTime>75</TotalTime>
  <Application>LibreOffice/7.4.7.2$Linux_X86_64 LibreOffice_project/40$Build-2</Application>
  <AppVersion>15.0000</AppVersion>
  <Words>1275</Words>
  <Paragraphs>1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04:45:53Z</dcterms:created>
  <dc:creator>DES</dc:creator>
  <dc:description/>
  <dc:language>en-US</dc:language>
  <cp:lastModifiedBy>LEGION</cp:lastModifiedBy>
  <dcterms:modified xsi:type="dcterms:W3CDTF">2015-12-31T12:51:01Z</dcterms:modified>
  <cp:revision>9</cp:revision>
  <dc:subject/>
  <dc:title>Санитарно-противоэпидемический режим процедурного кабине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Екран (4:3)</vt:lpwstr>
  </property>
  <property fmtid="{D5CDD505-2E9C-101B-9397-08002B2CF9AE}" pid="4" name="Slides">
    <vt:r8>13</vt:r8>
  </property>
</Properties>
</file>