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C8EDB0-6F7E-4817-88F5-7C0115754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итарно-противоэпидемический режим процедурного кабинета. Перевязочная в стационаре и поликлин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мбаев 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орахан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анитарно-противоэпидемический режим процедурного кабинета. Перевязочная в стационаре и поликлин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ыполнили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Дембаев 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Жорахан 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ология  постановки амидопириновой пробы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мешивают равные количества 5% спиртового раствора амидопирина, 30% уксусной кислоты и 3% раствора перекиси водорода (по 2—3 мл)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нестерильную вату наносят вышеуказанный реактив. Через несколько секунд при отсутствии цветовой реакции на вате этой ватой протирают поршень шприца, цилиндр с наружной стороны, иглы, канюлю внутри. Затем заливают реактивы в цилиндр шприца, пропускают их через шприц на другую ватку (проверяется цилиндр шприца)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этого на шприце закрепляют иглу, вновь наливают в цилиндр реактив и пропускают его через шприц и иглу (проверяется игла):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при наличии кровяных загрязнений на вате появляется сине-зеленое окрашивание. Окрашивание может наблюдаться при наличии на шприце остатков лекарственных средств, тройного раствора и хлорамина;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при положительных пробах повторный контроль инструментов проводят ежедневно до получения 3-кратного отрицательного результата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Технология  постановки амидопириновой проб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мешивают равные количества 5% спиртового раствора амидопирина, 30% уксусной кислоты и 3% раствора перекиси водорода (по 2—3 мл).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а нестерильную вату наносят вышеуказанный реактив. Через несколько секунд при отсутствии цветовой реакции на вате этой ватой протирают поршень шприца, цилиндр с наружной стороны, иглы, канюлю внутри. Затем заливают реактивы в цилиндр шприца, пропускают их через шприц на другую ватку (проверяется цилиндр шприца).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осле этого на шприце закрепляют иглу, вновь наливают в цилиндр реактив и пропускают его через шприц и иглу (проверяется игла):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а) при наличии кровяных загрязнений на вате появляется сине-зеленое окрашивание. Окрашивание может наблюдаться при наличии на шприце остатков лекарственных средств, тройного раствора и хлорамина;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) при положительных пробах повторный контроль инструментов проводят ежедневно до получения 3-кратного отрицательного результата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особого микроклим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шое внимание уделяется освещению палат . Прямые солнечные лучи обладают бактерицидным действием. В то же время необходимо , чтобы освещение было достаточной интенсивности , равномерным , биологически полноценным по своему спектр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оздание особого микроклима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ольшое внимание уделяется освещению палат . Прямые солнечные лучи обладают бактерицидным действием. В то же время необходимо , чтобы освещение было достаточной интенсивности , равномерным , биологически полноценным по своему спектру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треб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сонал Сотрудники предприятий должны быть одеты в специализированную одежду, которая закрывает туловище (комбинезон, или брюки и халат), голову (шапка и маска на лицо), ступни (ботинки) и руки (перчатк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дух. Помещение оснащается приборами фильтрации и обеспечения вертикального перемещения потоков воздуха. Дополнительно устанавливаются датчики контроля давления, параметров микроклимата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ерхности. Поверхности стен и пола укладываются с применением специального химически стойкого материалы, который обеспечивает отсутствие неровностей и шв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Основные треб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ерсонал Сотрудники предприятий должны быть одеты в специализированную одежду, которая закрывает туловище (комбинезон, или брюки и халат), голову (шапка и маска на лицо), ступни (ботинки) и руки (перчатк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оздух. Помещение оснащается приборами фильтрации и обеспечения вертикального перемещения потоков воздуха. Дополнительно устанавливаются датчики контроля давления, параметров микроклимата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оверхности. Поверхности стен и пола укладываются с применением специального химически стойкого материалы, который обеспечивает отсутствие неровностей и шв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нение одноразовых расходных материалов. Уборка помещений производится с использованием материалов недолгого срока службы, которые после уборки выбрасываются. Этот подход приводит к тому, что расходы на уборку составляют солидную долю в эксплуатационных издерж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ие многоразовых микроволоконных материалов. После уборки помещений расходники, для обеспечения их стерильности, отдают в стирку и обработку специализированным организациям, работающим на условиях аутсорин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атериал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рименение одноразовых расходных материалов. Уборка помещений производится с использованием материалов недолгого срока службы, которые после уборки выбрасываются. Этот подход приводит к тому, что расходы на уборку составляют солидную долю в эксплуатационных издержк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Использование многоразовых микроволоконных материалов. После уборки помещений расходники, для обеспечения их стерильности, отдают в стирку и обработку специализированным организациям, работающим на условиях аутсорин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итарно-противоэпидемический режим, комплекс противоэпидемических мероприя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итарное содержание помещений, оборудования, инвентаря (уборочный инвентарь, его маркировка, назначение, хранение, дезинфекц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итарно-противоэпидемический режим в процедурном кабинете, хирургических отдел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тность проведения текущей и генеральной дезинфе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анитарно-противоэпидемический режим, комплекс противоэпидемических мероприят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анитарное содержание помещений, оборудования, инвентаря (уборочный инвентарь, его маркировка, назначение, хранение, дезинфекция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анитарно-противоэпидемический режим в процедурном кабинете, хирургических отделения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Кратность проведения текущей и генеральной дезинфе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итарно-противоэпидемический реж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тивоэпидемический  режим - это совокупность строго регламентированных и обязательных для выполнения противоэпидемических мероприятий в конкретных лечебных учреждениях, для предупреждения возникновения, распространения ВБ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тивоэпидемические  мероприятия - комплекс мероприятий, направленных на предупреждение формирования или разрыв путей передачи от источника инфекции к восприимчивому организму, а так же предотвращения экзо и эндогенного инфицирования этого восприимчивого орган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анитарно-противоэпидемический режи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ротивоэпидемический  режим - это совокупность строго регламентированных и обязательных для выполнения противоэпидемических мероприятий в конкретных лечебных учреждениях, для предупреждения возникновения, распространения ВБ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     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ротивоэпидемические  мероприятия - комплекс мероприятий, направленных на предупреждение формирования или разрыв путей передачи от источника инфекции к восприимчивому организму, а так же предотвращения экзо и эндогенного инфицирования этого восприимчивого организ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лекс включ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людение асептики и антисептики при проведении лечебно-диагностических процедур (использование стерильного медицинского инструментария, перевязочного материал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нение эффективных мер обеззараживания рук медицинского персонала и операционного по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зинфекцию объектов внешней среды, имеющих важное значение в механизме передачи возбудителей (постельные принадлежности, воздух, посуда, уборочный инвентар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Комплекс включа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облюдение асептики и антисептики при проведении лечебно-диагностических процедур (использование стерильного медицинского инструментария, перевязочного материал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рименение эффективных мер обеззараживания рук медицинского персонала и операционного пол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Дезинфекцию объектов внешней среды, имеющих важное значение в механизме передачи возбудителей (постельные принадлежности, воздух, посуда, уборочный инвентарь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итарное  содержание помещ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помещения, оборудование, инвентарь должные содержаться в идеальной чист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ажная уборка помещений должна осуществляться не менее одного раза в сутки, а при необходимости чаще с применением моющих средств и дезинфе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ин раз в месяц в помещениях, где проводится работа с кровью, сывороткой делают генеральную уборку с использованием 3% раствора хлорамина, хлорной извести, извести белильной термостой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время генеральной уборки тщательно моются стены, оборудование, мебель, проводится очистка полов от наслоений, пятен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неральные уборки проводятся по утвержденному графи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анитарное  содержание помещ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се помещения, оборудование, инвентарь должные содержаться в идеальной чистот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лажная уборка помещений должна осуществляться не менее одного раза в сутки, а при необходимости чаще с применением моющих средств и дезинфек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Один раз в месяц в помещениях, где проводится работа с кровью, сывороткой делают генеральную уборку с использованием 3% раствора хлорамина, хлорной извести, извести белильной термостойк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о время генеральной уборки тщательно моются стены, оборудование, мебель, проводится очистка полов от наслоений, пятен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Генеральные уборки проводятся по утвержденному графи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помещения УЗ условно  можно разделить  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бующие особого режима дезинфекции (т.н. режимные кабинеты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угие функциональные помещения: палаты, коридоры, лестницы, санитарно-бытовые помещения (туалеты, душевые, бельевые), кладовые, буфеты, столов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се помещения УЗ условно  можно разделить  н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требующие особого режима дезинфекции (т.н. режимные кабинеты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другие функциональные помещения: палаты, коридоры, лестницы, санитарно-бытовые помещения (туалеты, душевые, бельевые), кладовые, буфеты, столовы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итарно-противоэпидемический режим в процедурном кабине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манипуляции  производится в перчатках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ерильные укладки готовятся на одну рабочую смену (6 часов). Пинцеты для захвата стерильных материалов хранятся в стерильных емкостях, заполненных растворами стерилянтов (6% Н2О2, тройной раствор, в исключительных случаях -"Сайдекс"). Уровень заливки растворов в емкости должен быть не более уровня рабочих поверхностей браншей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анитарно-противоэпидемический режим в процедурном кабинет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се манипуляции  производится в перчатках.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терильные укладки готовятся на одну рабочую смену (6 часов). Пинцеты для захвата стерильных материалов хранятся в стерильных емкостях, заполненных растворами стерилянтов (6% Н2О2, тройной раствор, в исключительных случаях -"Сайдекс"). Уровень заливки растворов в емкости должен быть не более уровня рабочих поверхностей браншей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ные шприцы, иглы, пинцеты, зажимы, перчатки, системы для переливаний, зонды, катетеры и т. д. погружаются в один из дезинфицирующих растворов, затем промываются проточной водой и сдаются в ЦСО для предстерилизационной очистки и стерилизации. (Или, при отсутствии ЦСО, подвергаются предстерилизационной очистке.)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ные шарики и другой перевязочный материал погружаются в 3% раствор хлорамина или хлорной извести на 2 часа, либо в 0,03% раствор нейтрального анолита на 30 мин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Использованные шприцы, иглы, пинцеты, зажимы, перчатки, системы для переливаний, зонды, катетеры и т. д. погружаются в один из дезинфицирующих растворов, затем промываются проточной водой и сдаются в ЦСО для предстерилизационной очистки и стерилизации. (Или, при отсутствии ЦСО, подвергаются предстерилизационной очистке.)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Использованные шарики и другой перевязочный материал погружаются в 3% раствор хлорамина или хлорной извести на 2 часа, либо в 0,03% раствор нейтрального анолита на 30 мину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599C-98EE-4356-8F77-5FB0788A9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04364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E966-C774-44AE-8FED-B7754E67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04364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1620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E84A-85B0-424A-B5A8-5762DFF90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3504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62644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04364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3504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62644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9D17-9108-40A8-B2B7-F82C82BE7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C0C37-3BBC-4791-BA4B-D26E7DAF2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043640" y="232380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B687A-57C2-4CBD-A9CA-063C81CB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AF28-4ABF-4EF4-928D-C5C94F6B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9EE7-4653-4EF5-B46F-14C323A1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90C3-3245-471E-B14A-5A6CAD7F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1043640" y="1027800"/>
            <a:ext cx="70243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3CD6-C267-4EAC-9EF0-F21EA5E5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04364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FBD7-4773-4172-AEAA-7B649649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43640" y="232380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7AB9-268C-4AA6-9BB7-A279F749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1620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7826-CC78-4040-BC4E-BB99970D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04364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B2E5-E03D-45F7-BDB5-7305A6F5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104364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654A-EF96-4ACC-B9A0-5F7DA9FC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04364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1620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99C0-98CE-4822-9546-1BAF7489A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3504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62644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104364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3504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62644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7339-F814-4524-9737-144C81E12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45F1-0555-49C5-83E2-6D78714E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4DEE-1E50-423D-8BBD-EB97D0A8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A88E-21C1-43C7-AE86-8FC5C77B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43640" y="1027800"/>
            <a:ext cx="70243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239B-8487-4B74-8DBF-49812DF3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4364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3904-35AD-4F79-AB17-EA85E5DE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1620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A47D-F567-4885-BD6B-186EF1CA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04364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D051-A71B-43CF-8185-2F3D85FF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25f"/>
            </a:gs>
            <a:gs pos="100000">
              <a:srgbClr val="92bd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8360" cy="7116480"/>
            <a:chOff x="-567360" y="0"/>
            <a:chExt cx="10458360" cy="7116480"/>
          </a:xfrm>
        </p:grpSpPr>
        <p:grpSp>
          <p:nvGrpSpPr>
            <p:cNvPr id="1" name="Group 44"/>
            <p:cNvGrpSpPr/>
            <p:nvPr/>
          </p:nvGrpSpPr>
          <p:grpSpPr>
            <a:xfrm>
              <a:off x="77760" y="0"/>
              <a:ext cx="9144000" cy="6858000"/>
              <a:chOff x="7776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760" y="0"/>
                <a:ext cx="2514240" cy="6857640"/>
                <a:chOff x="77760" y="0"/>
                <a:chExt cx="2514240" cy="685764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2160" y="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760" y="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360" y="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400" y="0"/>
                <a:ext cx="2514240" cy="6857640"/>
                <a:chOff x="500400" y="0"/>
                <a:chExt cx="2514240" cy="685764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800" y="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400" y="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9000" y="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520" y="360"/>
                <a:ext cx="2514240" cy="6857640"/>
                <a:chOff x="6707520" y="360"/>
                <a:chExt cx="2514240" cy="685764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520" y="36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920" y="36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36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16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684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880" y="5034960"/>
              <a:ext cx="9143640" cy="117540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75400"/>
                <a:gd name="textAreaBottom" fmla="*/ 1175760 h 1175400"/>
              </a:gdLst>
              <a:ahLst/>
              <a:rect l="textAreaLeft" t="textAreaTop" r="textAreaRight" b="textAreaBottom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880" y="3467520"/>
              <a:ext cx="9143640" cy="89028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890280"/>
                <a:gd name="textAreaBottom" fmla="*/ 890640 h 890280"/>
              </a:gdLst>
              <a:ahLst/>
              <a:rect l="textAreaLeft" t="textAreaTop" r="textAreaRight" b="textAreaBottom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4000" y="5640840"/>
              <a:ext cx="3004200" cy="1211040"/>
            </a:xfrm>
            <a:custGeom>
              <a:avLst/>
              <a:gdLst>
                <a:gd name="textAreaLeft" fmla="*/ 0 w 3004200"/>
                <a:gd name="textAreaRight" fmla="*/ 3004560 w 3004200"/>
                <a:gd name="textAreaTop" fmla="*/ 0 h 1211040"/>
                <a:gd name="textAreaBottom" fmla="*/ 1211400 h 1211040"/>
              </a:gdLst>
              <a:ahLst/>
              <a:rect l="textAreaLeft" t="textAreaTop" r="textAreaRight" b="textAreaBottom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880" y="5284440"/>
              <a:ext cx="9143640" cy="147816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478160"/>
                <a:gd name="textAreaBottom" fmla="*/ 1478520 h 1478160"/>
              </a:gdLst>
              <a:ahLst/>
              <a:rect l="textAreaLeft" t="textAreaTop" r="textAreaRight" b="textAreaBottom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2200" cy="1719720"/>
            </a:xfrm>
            <a:custGeom>
              <a:avLst/>
              <a:gdLst>
                <a:gd name="textAreaLeft" fmla="*/ 0 w 6982200"/>
                <a:gd name="textAreaRight" fmla="*/ 6982560 w 6982200"/>
                <a:gd name="textAreaTop" fmla="*/ 0 h 1719720"/>
                <a:gd name="textAreaBottom" fmla="*/ 1720080 h 1719720"/>
              </a:gdLst>
              <a:ahLst/>
              <a:rect l="textAreaLeft" t="textAreaTop" r="textAreaRight" b="textAreaBottom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91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7640" y="41259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22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600" y="32544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4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0680" y="53830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6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080" cy="1387800"/>
            </a:xfrm>
            <a:custGeom>
              <a:avLst/>
              <a:gdLst>
                <a:gd name="textAreaLeft" fmla="*/ 0 w 1261080"/>
                <a:gd name="textAreaRight" fmla="*/ 1261440 w 1261080"/>
                <a:gd name="textAreaTop" fmla="*/ 0 h 1387800"/>
                <a:gd name="textAreaBottom" fmla="*/ 1388160 h 1387800"/>
              </a:gdLst>
              <a:ahLst/>
              <a:rect l="textAreaLeft" t="textAreaTop" r="textAreaRight" b="textAreaBottom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680" y="284940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9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7040" y="28591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3920" y="41446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6600" y="542124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6600" y="28684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040" y="4055400"/>
              <a:ext cx="1243080" cy="1387800"/>
            </a:xfrm>
            <a:custGeom>
              <a:avLst/>
              <a:gdLst>
                <a:gd name="textAreaLeft" fmla="*/ 0 w 1243080"/>
                <a:gd name="textAreaRight" fmla="*/ 1243440 w 1243080"/>
                <a:gd name="textAreaTop" fmla="*/ 0 h 1387800"/>
                <a:gd name="textAreaBottom" fmla="*/ 1388160 h 1387800"/>
              </a:gdLst>
              <a:ahLst/>
              <a:rect l="textAreaLeft" t="textAreaTop" r="textAreaRight" b="textAreaBottom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4040" y="1511280"/>
              <a:ext cx="1241640" cy="1388520"/>
            </a:xfrm>
            <a:custGeom>
              <a:avLst/>
              <a:gdLst>
                <a:gd name="textAreaLeft" fmla="*/ 0 w 1241640"/>
                <a:gd name="textAreaRight" fmla="*/ 1242000 w 1241640"/>
                <a:gd name="textAreaTop" fmla="*/ 0 h 1388520"/>
                <a:gd name="textAreaBottom" fmla="*/ 1388880 h 1388520"/>
              </a:gdLst>
              <a:ahLst/>
              <a:rect l="textAreaLeft" t="textAreaTop" r="textAreaRight" b="textAreaBottom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</p:grpSp>
      <p:sp>
        <p:nvSpPr>
          <p:cNvPr id="39" name="Rectangle 65" hidden="1"/>
          <p:cNvSpPr/>
          <p:nvPr/>
        </p:nvSpPr>
        <p:spPr>
          <a:xfrm>
            <a:off x="457200" y="333360"/>
            <a:ext cx="8229240" cy="6185160"/>
          </a:xfrm>
          <a:prstGeom prst="rect">
            <a:avLst/>
          </a:prstGeom>
          <a:solidFill>
            <a:schemeClr val="bg1"/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40" name="Rectangle 69" hidden="1"/>
          <p:cNvSpPr/>
          <p:nvPr/>
        </p:nvSpPr>
        <p:spPr>
          <a:xfrm>
            <a:off x="4561200" y="-21600"/>
            <a:ext cx="3678840" cy="698760"/>
          </a:xfrm>
          <a:prstGeom prst="rect">
            <a:avLst/>
          </a:prstGeom>
          <a:solidFill>
            <a:srgbClr val="f5f5f5"/>
          </a:solidFill>
          <a:ln>
            <a:solidFill>
              <a:srgbClr val="caf278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41" name="Rectangle 70" hidden="1"/>
          <p:cNvSpPr/>
          <p:nvPr/>
        </p:nvSpPr>
        <p:spPr>
          <a:xfrm>
            <a:off x="4649040" y="-21600"/>
            <a:ext cx="3504960" cy="62352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grpSp>
        <p:nvGrpSpPr>
          <p:cNvPr id="42" name="Group 42"/>
          <p:cNvGrpSpPr/>
          <p:nvPr/>
        </p:nvGrpSpPr>
        <p:grpSpPr>
          <a:xfrm>
            <a:off x="-644760" y="0"/>
            <a:ext cx="10458000" cy="7116480"/>
            <a:chOff x="-644760" y="0"/>
            <a:chExt cx="10458000" cy="7116480"/>
          </a:xfrm>
        </p:grpSpPr>
        <p:grpSp>
          <p:nvGrpSpPr>
            <p:cNvPr id="43" name="Group 4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44" name="Group 4"/>
              <p:cNvGrpSpPr/>
              <p:nvPr/>
            </p:nvGrpSpPr>
            <p:grpSpPr>
              <a:xfrm>
                <a:off x="0" y="0"/>
                <a:ext cx="2514240" cy="6857640"/>
                <a:chOff x="0" y="0"/>
                <a:chExt cx="2514240" cy="6857640"/>
              </a:xfrm>
            </p:grpSpPr>
            <p:sp>
              <p:nvSpPr>
                <p:cNvPr id="45" name="Rectangle 114"/>
                <p:cNvSpPr/>
                <p:nvPr/>
              </p:nvSpPr>
              <p:spPr>
                <a:xfrm>
                  <a:off x="914400" y="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46" name="Rectangle 2"/>
                <p:cNvSpPr/>
                <p:nvPr/>
              </p:nvSpPr>
              <p:spPr>
                <a:xfrm>
                  <a:off x="0" y="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47" name="Rectangle 3"/>
                <p:cNvSpPr/>
                <p:nvPr/>
              </p:nvSpPr>
              <p:spPr>
                <a:xfrm>
                  <a:off x="228600" y="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48" name="Group 5"/>
              <p:cNvGrpSpPr/>
              <p:nvPr/>
            </p:nvGrpSpPr>
            <p:grpSpPr>
              <a:xfrm>
                <a:off x="423000" y="0"/>
                <a:ext cx="2514240" cy="6857640"/>
                <a:chOff x="423000" y="0"/>
                <a:chExt cx="2514240" cy="6857640"/>
              </a:xfrm>
            </p:grpSpPr>
            <p:sp>
              <p:nvSpPr>
                <p:cNvPr id="49" name="Rectangle 84"/>
                <p:cNvSpPr/>
                <p:nvPr/>
              </p:nvSpPr>
              <p:spPr>
                <a:xfrm>
                  <a:off x="1337400" y="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50" name="Rectangle 85"/>
                <p:cNvSpPr/>
                <p:nvPr/>
              </p:nvSpPr>
              <p:spPr>
                <a:xfrm>
                  <a:off x="423000" y="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51" name="Rectangle 113"/>
                <p:cNvSpPr/>
                <p:nvPr/>
              </p:nvSpPr>
              <p:spPr>
                <a:xfrm>
                  <a:off x="651600" y="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52" name="Group 9"/>
              <p:cNvGrpSpPr/>
              <p:nvPr/>
            </p:nvGrpSpPr>
            <p:grpSpPr>
              <a:xfrm>
                <a:off x="6629760" y="360"/>
                <a:ext cx="2514240" cy="6857640"/>
                <a:chOff x="6629760" y="360"/>
                <a:chExt cx="2514240" cy="6857640"/>
              </a:xfrm>
            </p:grpSpPr>
            <p:sp>
              <p:nvSpPr>
                <p:cNvPr id="53" name="Rectangle 77"/>
                <p:cNvSpPr/>
                <p:nvPr/>
              </p:nvSpPr>
              <p:spPr>
                <a:xfrm rot="10800000">
                  <a:off x="6629760" y="36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54" name="Rectangle 78"/>
                <p:cNvSpPr/>
                <p:nvPr/>
              </p:nvSpPr>
              <p:spPr>
                <a:xfrm rot="10800000">
                  <a:off x="8687160" y="36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55" name="Rectangle 80"/>
                <p:cNvSpPr/>
                <p:nvPr/>
              </p:nvSpPr>
              <p:spPr>
                <a:xfrm rot="10800000">
                  <a:off x="8153640" y="36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56" name="Rectangle 74"/>
              <p:cNvSpPr/>
              <p:nvPr/>
            </p:nvSpPr>
            <p:spPr>
              <a:xfrm>
                <a:off x="3809880" y="0"/>
                <a:ext cx="281916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  <p:sp>
            <p:nvSpPr>
              <p:cNvPr id="57" name="Rectangle 75"/>
              <p:cNvSpPr/>
              <p:nvPr/>
            </p:nvSpPr>
            <p:spPr>
              <a:xfrm>
                <a:off x="2895480" y="0"/>
                <a:ext cx="45684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  <p:sp>
            <p:nvSpPr>
              <p:cNvPr id="58" name="Rectangle 76"/>
              <p:cNvSpPr/>
              <p:nvPr/>
            </p:nvSpPr>
            <p:spPr>
              <a:xfrm>
                <a:off x="3124080" y="0"/>
                <a:ext cx="76176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</p:grpSp>
        <p:sp>
          <p:nvSpPr>
            <p:cNvPr id="59" name="Freeform 44"/>
            <p:cNvSpPr/>
            <p:nvPr/>
          </p:nvSpPr>
          <p:spPr>
            <a:xfrm>
              <a:off x="-11880" y="5034960"/>
              <a:ext cx="9143640" cy="117540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75400"/>
                <a:gd name="textAreaBottom" fmla="*/ 1175760 h 1175400"/>
              </a:gdLst>
              <a:ahLst/>
              <a:rect l="textAreaLeft" t="textAreaTop" r="textAreaRight" b="textAreaBottom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0" name="Freeform 47"/>
            <p:cNvSpPr/>
            <p:nvPr/>
          </p:nvSpPr>
          <p:spPr>
            <a:xfrm>
              <a:off x="-11880" y="3467520"/>
              <a:ext cx="9143640" cy="89028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890280"/>
                <a:gd name="textAreaBottom" fmla="*/ 890640 h 890280"/>
              </a:gdLst>
              <a:ahLst/>
              <a:rect l="textAreaLeft" t="textAreaTop" r="textAreaRight" b="textAreaBottom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1" name="Freeform 48"/>
            <p:cNvSpPr/>
            <p:nvPr/>
          </p:nvSpPr>
          <p:spPr>
            <a:xfrm>
              <a:off x="-23760" y="5640840"/>
              <a:ext cx="3004200" cy="1211040"/>
            </a:xfrm>
            <a:custGeom>
              <a:avLst/>
              <a:gdLst>
                <a:gd name="textAreaLeft" fmla="*/ 0 w 3004200"/>
                <a:gd name="textAreaRight" fmla="*/ 3004560 w 3004200"/>
                <a:gd name="textAreaTop" fmla="*/ 0 h 1211040"/>
                <a:gd name="textAreaBottom" fmla="*/ 1211400 h 1211040"/>
              </a:gdLst>
              <a:ahLst/>
              <a:rect l="textAreaLeft" t="textAreaTop" r="textAreaRight" b="textAreaBottom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" name="Freeform 50"/>
            <p:cNvSpPr/>
            <p:nvPr/>
          </p:nvSpPr>
          <p:spPr>
            <a:xfrm>
              <a:off x="-11880" y="5284440"/>
              <a:ext cx="9143640" cy="147816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478160"/>
                <a:gd name="textAreaBottom" fmla="*/ 1478520 h 1478160"/>
              </a:gdLst>
              <a:ahLst/>
              <a:rect l="textAreaLeft" t="textAreaTop" r="textAreaRight" b="textAreaBottom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" name="Freeform 51"/>
            <p:cNvSpPr/>
            <p:nvPr/>
          </p:nvSpPr>
          <p:spPr>
            <a:xfrm>
              <a:off x="2137680" y="5132160"/>
              <a:ext cx="6982200" cy="1719720"/>
            </a:xfrm>
            <a:custGeom>
              <a:avLst/>
              <a:gdLst>
                <a:gd name="textAreaLeft" fmla="*/ 0 w 6982200"/>
                <a:gd name="textAreaRight" fmla="*/ 6982560 w 6982200"/>
                <a:gd name="textAreaTop" fmla="*/ 0 h 1719720"/>
                <a:gd name="textAreaBottom" fmla="*/ 1720080 h 1719720"/>
              </a:gdLst>
              <a:ahLst/>
              <a:rect l="textAreaLeft" t="textAreaTop" r="textAreaRight" b="textAreaBottom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" name="Hexagon 52"/>
            <p:cNvSpPr/>
            <p:nvPr/>
          </p:nvSpPr>
          <p:spPr>
            <a:xfrm rot="1800000">
              <a:off x="2996280" y="28591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65" name="Hexagon 53"/>
            <p:cNvSpPr/>
            <p:nvPr/>
          </p:nvSpPr>
          <p:spPr>
            <a:xfrm rot="1800000">
              <a:off x="3720240" y="41259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66" name="Hexagon 54"/>
            <p:cNvSpPr/>
            <p:nvPr/>
          </p:nvSpPr>
          <p:spPr>
            <a:xfrm rot="1800000">
              <a:off x="3729600" y="15922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67" name="Hexagon 55"/>
            <p:cNvSpPr/>
            <p:nvPr/>
          </p:nvSpPr>
          <p:spPr>
            <a:xfrm rot="1800000">
              <a:off x="2977200" y="32544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4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68" name="Hexagon 56"/>
            <p:cNvSpPr/>
            <p:nvPr/>
          </p:nvSpPr>
          <p:spPr>
            <a:xfrm rot="1800000">
              <a:off x="4462920" y="53830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6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69" name="Freeform 57"/>
            <p:cNvSpPr/>
            <p:nvPr/>
          </p:nvSpPr>
          <p:spPr>
            <a:xfrm rot="1800000">
              <a:off x="-381960" y="4201200"/>
              <a:ext cx="1261080" cy="1387800"/>
            </a:xfrm>
            <a:custGeom>
              <a:avLst/>
              <a:gdLst>
                <a:gd name="textAreaLeft" fmla="*/ 0 w 1261080"/>
                <a:gd name="textAreaRight" fmla="*/ 1261440 w 1261080"/>
                <a:gd name="textAreaTop" fmla="*/ 0 h 1387800"/>
                <a:gd name="textAreaBottom" fmla="*/ 1388160 h 1387800"/>
              </a:gdLst>
              <a:ahLst/>
              <a:rect l="textAreaLeft" t="textAreaTop" r="textAreaRight" b="textAreaBottom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0" name="Hexagon 58"/>
            <p:cNvSpPr/>
            <p:nvPr/>
          </p:nvSpPr>
          <p:spPr>
            <a:xfrm rot="1800000">
              <a:off x="24480" y="54021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1" name="Hexagon 59"/>
            <p:cNvSpPr/>
            <p:nvPr/>
          </p:nvSpPr>
          <p:spPr>
            <a:xfrm rot="1800000">
              <a:off x="52920" y="284940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2" name="Hexagon 60"/>
            <p:cNvSpPr/>
            <p:nvPr/>
          </p:nvSpPr>
          <p:spPr>
            <a:xfrm rot="1800000">
              <a:off x="776880" y="41259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3" name="Hexagon 61"/>
            <p:cNvSpPr/>
            <p:nvPr/>
          </p:nvSpPr>
          <p:spPr>
            <a:xfrm rot="1800000">
              <a:off x="1510200" y="54115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4" name="Hexagon 62"/>
            <p:cNvSpPr/>
            <p:nvPr/>
          </p:nvSpPr>
          <p:spPr>
            <a:xfrm rot="1800000">
              <a:off x="1529280" y="28591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5" name="Hexagon 63"/>
            <p:cNvSpPr/>
            <p:nvPr/>
          </p:nvSpPr>
          <p:spPr>
            <a:xfrm rot="1800000">
              <a:off x="795960" y="15634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6" name="Hexagon 64"/>
            <p:cNvSpPr/>
            <p:nvPr/>
          </p:nvSpPr>
          <p:spPr>
            <a:xfrm rot="1800000">
              <a:off x="6806160" y="41446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7" name="Hexagon 65"/>
            <p:cNvSpPr/>
            <p:nvPr/>
          </p:nvSpPr>
          <p:spPr>
            <a:xfrm rot="1800000">
              <a:off x="7549200" y="542124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8" name="Hexagon 66"/>
            <p:cNvSpPr/>
            <p:nvPr/>
          </p:nvSpPr>
          <p:spPr>
            <a:xfrm rot="1800000">
              <a:off x="7549200" y="28684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9" name="Freeform 67"/>
            <p:cNvSpPr/>
            <p:nvPr/>
          </p:nvSpPr>
          <p:spPr>
            <a:xfrm rot="1800000">
              <a:off x="8306280" y="4055400"/>
              <a:ext cx="1243080" cy="1387800"/>
            </a:xfrm>
            <a:custGeom>
              <a:avLst/>
              <a:gdLst>
                <a:gd name="textAreaLeft" fmla="*/ 0 w 1243080"/>
                <a:gd name="textAreaRight" fmla="*/ 1243440 w 1243080"/>
                <a:gd name="textAreaTop" fmla="*/ 0 h 1387800"/>
                <a:gd name="textAreaBottom" fmla="*/ 1388160 h 1387800"/>
              </a:gdLst>
              <a:ahLst/>
              <a:rect l="textAreaLeft" t="textAreaTop" r="textAreaRight" b="textAreaBottom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0" name="Freeform 68"/>
            <p:cNvSpPr/>
            <p:nvPr/>
          </p:nvSpPr>
          <p:spPr>
            <a:xfrm rot="1800000">
              <a:off x="8306640" y="1511280"/>
              <a:ext cx="1241640" cy="1388520"/>
            </a:xfrm>
            <a:custGeom>
              <a:avLst/>
              <a:gdLst>
                <a:gd name="textAreaLeft" fmla="*/ 0 w 1241640"/>
                <a:gd name="textAreaRight" fmla="*/ 1242000 w 1241640"/>
                <a:gd name="textAreaTop" fmla="*/ 0 h 1388520"/>
                <a:gd name="textAreaBottom" fmla="*/ 1388880 h 1388520"/>
              </a:gdLst>
              <a:ahLst/>
              <a:rect l="textAreaLeft" t="textAreaTop" r="textAreaRight" b="textAreaBottom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</p:grpSp>
      <p:sp>
        <p:nvSpPr>
          <p:cNvPr id="81" name="Rectangle 45"/>
          <p:cNvSpPr/>
          <p:nvPr/>
        </p:nvSpPr>
        <p:spPr>
          <a:xfrm>
            <a:off x="4561200" y="-21600"/>
            <a:ext cx="3678840" cy="6271560"/>
          </a:xfrm>
          <a:prstGeom prst="rect">
            <a:avLst/>
          </a:prstGeom>
          <a:solidFill>
            <a:srgbClr val="f5f5f5"/>
          </a:solidFill>
          <a:ln>
            <a:solidFill>
              <a:srgbClr val="caf278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82" name="Rectangle 46"/>
          <p:cNvSpPr/>
          <p:nvPr/>
        </p:nvSpPr>
        <p:spPr>
          <a:xfrm>
            <a:off x="4649040" y="-21600"/>
            <a:ext cx="3504960" cy="23126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733280" y="270864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Century Gothic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4738680" y="1516680"/>
            <a:ext cx="2133360" cy="75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24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9"/>
          <p:cNvSpPr/>
          <p:nvPr/>
        </p:nvSpPr>
        <p:spPr>
          <a:xfrm>
            <a:off x="4650840" y="6088320"/>
            <a:ext cx="3504960" cy="8136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2"/>
          </p:nvPr>
        </p:nvSpPr>
        <p:spPr>
          <a:xfrm>
            <a:off x="5303520" y="5720040"/>
            <a:ext cx="2831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chemeClr val="accent1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chemeClr val="accent1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3"/>
          </p:nvPr>
        </p:nvSpPr>
        <p:spPr>
          <a:xfrm>
            <a:off x="4649040" y="5720040"/>
            <a:ext cx="643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chemeClr val="accent1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759E0B6-442C-4693-8837-0601124FAE3F}" type="slidenum">
              <a:rPr b="0" lang="ru-RU" sz="1200" spc="-1" strike="noStrike">
                <a:solidFill>
                  <a:schemeClr val="accent1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8"/>
          <p:cNvSpPr/>
          <p:nvPr/>
        </p:nvSpPr>
        <p:spPr>
          <a:xfrm>
            <a:off x="4650840" y="6088320"/>
            <a:ext cx="3504960" cy="8136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ru-RU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ru-RU" sz="1800" spc="-1" strike="noStrike">
              <a:solidFill>
                <a:srgbClr val="3e3d2d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ru-RU" sz="1600" spc="-1" strike="noStrike">
              <a:solidFill>
                <a:srgbClr val="3e3d2d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3e3d2d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3e3d2d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25f"/>
            </a:gs>
            <a:gs pos="100000">
              <a:srgbClr val="92bd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1"/>
          <p:cNvGrpSpPr/>
          <p:nvPr/>
        </p:nvGrpSpPr>
        <p:grpSpPr>
          <a:xfrm>
            <a:off x="-567360" y="0"/>
            <a:ext cx="10458360" cy="7116480"/>
            <a:chOff x="-567360" y="0"/>
            <a:chExt cx="10458360" cy="7116480"/>
          </a:xfrm>
        </p:grpSpPr>
        <p:grpSp>
          <p:nvGrpSpPr>
            <p:cNvPr id="127" name="Group 44"/>
            <p:cNvGrpSpPr/>
            <p:nvPr/>
          </p:nvGrpSpPr>
          <p:grpSpPr>
            <a:xfrm>
              <a:off x="77760" y="0"/>
              <a:ext cx="9144000" cy="6858000"/>
              <a:chOff x="77760" y="0"/>
              <a:chExt cx="9144000" cy="6858000"/>
            </a:xfrm>
          </p:grpSpPr>
          <p:grpSp>
            <p:nvGrpSpPr>
              <p:cNvPr id="128" name="Group 4"/>
              <p:cNvGrpSpPr/>
              <p:nvPr/>
            </p:nvGrpSpPr>
            <p:grpSpPr>
              <a:xfrm>
                <a:off x="77760" y="0"/>
                <a:ext cx="2514240" cy="6857640"/>
                <a:chOff x="77760" y="0"/>
                <a:chExt cx="2514240" cy="6857640"/>
              </a:xfrm>
            </p:grpSpPr>
            <p:sp>
              <p:nvSpPr>
                <p:cNvPr id="129" name="Rectangle 112"/>
                <p:cNvSpPr/>
                <p:nvPr/>
              </p:nvSpPr>
              <p:spPr>
                <a:xfrm>
                  <a:off x="992160" y="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130" name="Rectangle 2"/>
                <p:cNvSpPr/>
                <p:nvPr/>
              </p:nvSpPr>
              <p:spPr>
                <a:xfrm>
                  <a:off x="77760" y="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131" name="Rectangle 3"/>
                <p:cNvSpPr/>
                <p:nvPr/>
              </p:nvSpPr>
              <p:spPr>
                <a:xfrm>
                  <a:off x="306360" y="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32" name="Group 5"/>
              <p:cNvGrpSpPr/>
              <p:nvPr/>
            </p:nvGrpSpPr>
            <p:grpSpPr>
              <a:xfrm>
                <a:off x="500400" y="0"/>
                <a:ext cx="2514240" cy="6857640"/>
                <a:chOff x="500400" y="0"/>
                <a:chExt cx="2514240" cy="6857640"/>
              </a:xfrm>
            </p:grpSpPr>
            <p:sp>
              <p:nvSpPr>
                <p:cNvPr id="133" name="Rectangle 109"/>
                <p:cNvSpPr/>
                <p:nvPr/>
              </p:nvSpPr>
              <p:spPr>
                <a:xfrm>
                  <a:off x="1414800" y="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134" name="Rectangle 110"/>
                <p:cNvSpPr/>
                <p:nvPr/>
              </p:nvSpPr>
              <p:spPr>
                <a:xfrm>
                  <a:off x="500400" y="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135" name="Rectangle 111"/>
                <p:cNvSpPr/>
                <p:nvPr/>
              </p:nvSpPr>
              <p:spPr>
                <a:xfrm>
                  <a:off x="729000" y="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36" name="Group 9"/>
              <p:cNvGrpSpPr/>
              <p:nvPr/>
            </p:nvGrpSpPr>
            <p:grpSpPr>
              <a:xfrm>
                <a:off x="6707520" y="360"/>
                <a:ext cx="2514240" cy="6857640"/>
                <a:chOff x="6707520" y="360"/>
                <a:chExt cx="2514240" cy="6857640"/>
              </a:xfrm>
            </p:grpSpPr>
            <p:sp>
              <p:nvSpPr>
                <p:cNvPr id="137" name="Rectangle 106"/>
                <p:cNvSpPr/>
                <p:nvPr/>
              </p:nvSpPr>
              <p:spPr>
                <a:xfrm rot="10800000">
                  <a:off x="6707520" y="36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138" name="Rectangle 107"/>
                <p:cNvSpPr/>
                <p:nvPr/>
              </p:nvSpPr>
              <p:spPr>
                <a:xfrm rot="10800000">
                  <a:off x="8764920" y="36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139" name="Rectangle 108"/>
                <p:cNvSpPr/>
                <p:nvPr/>
              </p:nvSpPr>
              <p:spPr>
                <a:xfrm rot="10800000">
                  <a:off x="8231400" y="36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0" name="Rectangle 103"/>
              <p:cNvSpPr/>
              <p:nvPr/>
            </p:nvSpPr>
            <p:spPr>
              <a:xfrm>
                <a:off x="3887640" y="0"/>
                <a:ext cx="281916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  <p:sp>
            <p:nvSpPr>
              <p:cNvPr id="141" name="Rectangle 104"/>
              <p:cNvSpPr/>
              <p:nvPr/>
            </p:nvSpPr>
            <p:spPr>
              <a:xfrm>
                <a:off x="2973240" y="0"/>
                <a:ext cx="45684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  <p:sp>
            <p:nvSpPr>
              <p:cNvPr id="142" name="Rectangle 105"/>
              <p:cNvSpPr/>
              <p:nvPr/>
            </p:nvSpPr>
            <p:spPr>
              <a:xfrm>
                <a:off x="3201840" y="0"/>
                <a:ext cx="76176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</p:grpSp>
        <p:sp>
          <p:nvSpPr>
            <p:cNvPr id="143" name="Freeform 43"/>
            <p:cNvSpPr/>
            <p:nvPr/>
          </p:nvSpPr>
          <p:spPr>
            <a:xfrm>
              <a:off x="65880" y="5034960"/>
              <a:ext cx="9143640" cy="117540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75400"/>
                <a:gd name="textAreaBottom" fmla="*/ 1175760 h 1175400"/>
              </a:gdLst>
              <a:ahLst/>
              <a:rect l="textAreaLeft" t="textAreaTop" r="textAreaRight" b="textAreaBottom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44"/>
            <p:cNvSpPr/>
            <p:nvPr/>
          </p:nvSpPr>
          <p:spPr>
            <a:xfrm>
              <a:off x="65880" y="3467520"/>
              <a:ext cx="9143640" cy="89028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890280"/>
                <a:gd name="textAreaBottom" fmla="*/ 890640 h 890280"/>
              </a:gdLst>
              <a:ahLst/>
              <a:rect l="textAreaLeft" t="textAreaTop" r="textAreaRight" b="textAreaBottom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45"/>
            <p:cNvSpPr/>
            <p:nvPr/>
          </p:nvSpPr>
          <p:spPr>
            <a:xfrm>
              <a:off x="54000" y="5640840"/>
              <a:ext cx="3004200" cy="1211040"/>
            </a:xfrm>
            <a:custGeom>
              <a:avLst/>
              <a:gdLst>
                <a:gd name="textAreaLeft" fmla="*/ 0 w 3004200"/>
                <a:gd name="textAreaRight" fmla="*/ 3004560 w 3004200"/>
                <a:gd name="textAreaTop" fmla="*/ 0 h 1211040"/>
                <a:gd name="textAreaBottom" fmla="*/ 1211400 h 1211040"/>
              </a:gdLst>
              <a:ahLst/>
              <a:rect l="textAreaLeft" t="textAreaTop" r="textAreaRight" b="textAreaBottom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46"/>
            <p:cNvSpPr/>
            <p:nvPr/>
          </p:nvSpPr>
          <p:spPr>
            <a:xfrm>
              <a:off x="65880" y="5284440"/>
              <a:ext cx="9143640" cy="147816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478160"/>
                <a:gd name="textAreaBottom" fmla="*/ 1478520 h 1478160"/>
              </a:gdLst>
              <a:ahLst/>
              <a:rect l="textAreaLeft" t="textAreaTop" r="textAreaRight" b="textAreaBottom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48"/>
            <p:cNvSpPr/>
            <p:nvPr/>
          </p:nvSpPr>
          <p:spPr>
            <a:xfrm>
              <a:off x="2215080" y="5132160"/>
              <a:ext cx="6982200" cy="1719720"/>
            </a:xfrm>
            <a:custGeom>
              <a:avLst/>
              <a:gdLst>
                <a:gd name="textAreaLeft" fmla="*/ 0 w 6982200"/>
                <a:gd name="textAreaRight" fmla="*/ 6982560 w 6982200"/>
                <a:gd name="textAreaTop" fmla="*/ 0 h 1719720"/>
                <a:gd name="textAreaBottom" fmla="*/ 1720080 h 1719720"/>
              </a:gdLst>
              <a:ahLst/>
              <a:rect l="textAreaLeft" t="textAreaTop" r="textAreaRight" b="textAreaBottom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Hexagon 49"/>
            <p:cNvSpPr/>
            <p:nvPr/>
          </p:nvSpPr>
          <p:spPr>
            <a:xfrm rot="1800000">
              <a:off x="3073680" y="28591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49" name="Hexagon 50"/>
            <p:cNvSpPr/>
            <p:nvPr/>
          </p:nvSpPr>
          <p:spPr>
            <a:xfrm rot="1800000">
              <a:off x="3797640" y="41259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0" name="Hexagon 51"/>
            <p:cNvSpPr/>
            <p:nvPr/>
          </p:nvSpPr>
          <p:spPr>
            <a:xfrm rot="1800000">
              <a:off x="3807360" y="15922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1" name="Hexagon 52"/>
            <p:cNvSpPr/>
            <p:nvPr/>
          </p:nvSpPr>
          <p:spPr>
            <a:xfrm rot="1800000">
              <a:off x="3054600" y="32544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4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2" name="Hexagon 53"/>
            <p:cNvSpPr/>
            <p:nvPr/>
          </p:nvSpPr>
          <p:spPr>
            <a:xfrm rot="1800000">
              <a:off x="4540680" y="53830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6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3" name="Freeform 54"/>
            <p:cNvSpPr/>
            <p:nvPr/>
          </p:nvSpPr>
          <p:spPr>
            <a:xfrm rot="1800000">
              <a:off x="-304560" y="4201200"/>
              <a:ext cx="1261080" cy="1387800"/>
            </a:xfrm>
            <a:custGeom>
              <a:avLst/>
              <a:gdLst>
                <a:gd name="textAreaLeft" fmla="*/ 0 w 1261080"/>
                <a:gd name="textAreaRight" fmla="*/ 1261440 w 1261080"/>
                <a:gd name="textAreaTop" fmla="*/ 0 h 1387800"/>
                <a:gd name="textAreaBottom" fmla="*/ 1388160 h 1387800"/>
              </a:gdLst>
              <a:ahLst/>
              <a:rect l="textAreaLeft" t="textAreaTop" r="textAreaRight" b="textAreaBottom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4" name="Hexagon 55"/>
            <p:cNvSpPr/>
            <p:nvPr/>
          </p:nvSpPr>
          <p:spPr>
            <a:xfrm rot="1800000">
              <a:off x="101880" y="54021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5" name="Hexagon 56"/>
            <p:cNvSpPr/>
            <p:nvPr/>
          </p:nvSpPr>
          <p:spPr>
            <a:xfrm rot="1800000">
              <a:off x="130680" y="284940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6" name="Hexagon 57"/>
            <p:cNvSpPr/>
            <p:nvPr/>
          </p:nvSpPr>
          <p:spPr>
            <a:xfrm rot="1800000">
              <a:off x="854280" y="41259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7" name="Hexagon 58"/>
            <p:cNvSpPr/>
            <p:nvPr/>
          </p:nvSpPr>
          <p:spPr>
            <a:xfrm rot="1800000">
              <a:off x="1587960" y="54115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8" name="Hexagon 59"/>
            <p:cNvSpPr/>
            <p:nvPr/>
          </p:nvSpPr>
          <p:spPr>
            <a:xfrm rot="1800000">
              <a:off x="1607040" y="28591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9" name="Hexagon 94"/>
            <p:cNvSpPr/>
            <p:nvPr/>
          </p:nvSpPr>
          <p:spPr>
            <a:xfrm rot="1800000">
              <a:off x="873360" y="15634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60" name="Hexagon 95"/>
            <p:cNvSpPr/>
            <p:nvPr/>
          </p:nvSpPr>
          <p:spPr>
            <a:xfrm rot="1800000">
              <a:off x="6883920" y="41446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61" name="Hexagon 96"/>
            <p:cNvSpPr/>
            <p:nvPr/>
          </p:nvSpPr>
          <p:spPr>
            <a:xfrm rot="1800000">
              <a:off x="7626600" y="542124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62" name="Hexagon 97"/>
            <p:cNvSpPr/>
            <p:nvPr/>
          </p:nvSpPr>
          <p:spPr>
            <a:xfrm rot="1800000">
              <a:off x="7626600" y="28684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63" name="Freeform 98"/>
            <p:cNvSpPr/>
            <p:nvPr/>
          </p:nvSpPr>
          <p:spPr>
            <a:xfrm rot="1800000">
              <a:off x="8384040" y="4055400"/>
              <a:ext cx="1243080" cy="1387800"/>
            </a:xfrm>
            <a:custGeom>
              <a:avLst/>
              <a:gdLst>
                <a:gd name="textAreaLeft" fmla="*/ 0 w 1243080"/>
                <a:gd name="textAreaRight" fmla="*/ 1243440 w 1243080"/>
                <a:gd name="textAreaTop" fmla="*/ 0 h 1387800"/>
                <a:gd name="textAreaBottom" fmla="*/ 1388160 h 1387800"/>
              </a:gdLst>
              <a:ahLst/>
              <a:rect l="textAreaLeft" t="textAreaTop" r="textAreaRight" b="textAreaBottom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64" name="Freeform 99"/>
            <p:cNvSpPr/>
            <p:nvPr/>
          </p:nvSpPr>
          <p:spPr>
            <a:xfrm rot="1800000">
              <a:off x="8384040" y="1511280"/>
              <a:ext cx="1241640" cy="1388520"/>
            </a:xfrm>
            <a:custGeom>
              <a:avLst/>
              <a:gdLst>
                <a:gd name="textAreaLeft" fmla="*/ 0 w 1241640"/>
                <a:gd name="textAreaRight" fmla="*/ 1242000 w 1241640"/>
                <a:gd name="textAreaTop" fmla="*/ 0 h 1388520"/>
                <a:gd name="textAreaBottom" fmla="*/ 1388880 h 1388520"/>
              </a:gdLst>
              <a:ahLst/>
              <a:rect l="textAreaLeft" t="textAreaTop" r="textAreaRight" b="textAreaBottom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</p:grpSp>
      <p:sp>
        <p:nvSpPr>
          <p:cNvPr id="165" name="Rectangle 65"/>
          <p:cNvSpPr/>
          <p:nvPr/>
        </p:nvSpPr>
        <p:spPr>
          <a:xfrm>
            <a:off x="457200" y="333360"/>
            <a:ext cx="8229240" cy="6185160"/>
          </a:xfrm>
          <a:prstGeom prst="rect">
            <a:avLst/>
          </a:prstGeom>
          <a:solidFill>
            <a:schemeClr val="bg1"/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66" name="Rectangle 69"/>
          <p:cNvSpPr/>
          <p:nvPr/>
        </p:nvSpPr>
        <p:spPr>
          <a:xfrm>
            <a:off x="4561200" y="-21600"/>
            <a:ext cx="3678840" cy="698760"/>
          </a:xfrm>
          <a:prstGeom prst="rect">
            <a:avLst/>
          </a:prstGeom>
          <a:solidFill>
            <a:srgbClr val="f5f5f5"/>
          </a:solidFill>
          <a:ln>
            <a:solidFill>
              <a:srgbClr val="caf278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67" name="Rectangle 70"/>
          <p:cNvSpPr/>
          <p:nvPr/>
        </p:nvSpPr>
        <p:spPr>
          <a:xfrm>
            <a:off x="4649040" y="-21600"/>
            <a:ext cx="3504960" cy="62352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chemeClr val="accent1"/>
                </a:solidFill>
                <a:latin typeface="Century Gothic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043640" y="232380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7432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бразец текста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40080" indent="-274320">
              <a:lnSpc>
                <a:spcPct val="100000"/>
              </a:lnSpc>
              <a:spcBef>
                <a:spcPts val="43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Второй уровень</a:t>
            </a:r>
            <a:endParaRPr b="0" lang="ru-RU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lnSpc>
                <a:spcPct val="100000"/>
              </a:lnSpc>
              <a:spcBef>
                <a:spcPts val="400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Третий уровень</a:t>
            </a:r>
            <a:endParaRPr b="0" lang="ru-RU" sz="2000" spc="-1" strike="noStrike">
              <a:solidFill>
                <a:srgbClr val="3e3d2d"/>
              </a:solidFill>
              <a:latin typeface="Century Gothic"/>
            </a:endParaRPr>
          </a:p>
          <a:p>
            <a:pPr lvl="3" marL="1124640" indent="-228600">
              <a:lnSpc>
                <a:spcPct val="100000"/>
              </a:lnSpc>
              <a:spcBef>
                <a:spcPts val="360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Четвертый уровень</a:t>
            </a:r>
            <a:endParaRPr b="0" lang="ru-RU" sz="18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880" indent="-228600">
              <a:lnSpc>
                <a:spcPct val="100000"/>
              </a:lnSpc>
              <a:spcBef>
                <a:spcPts val="320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Пятый уровень</a:t>
            </a:r>
            <a:endParaRPr b="0" lang="ru-RU" sz="1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4"/>
          </p:nvPr>
        </p:nvSpPr>
        <p:spPr>
          <a:xfrm>
            <a:off x="5997240" y="224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5"/>
          </p:nvPr>
        </p:nvSpPr>
        <p:spPr>
          <a:xfrm>
            <a:off x="4641480" y="5852160"/>
            <a:ext cx="3501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chemeClr val="accent1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chemeClr val="accent1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6"/>
          </p:nvPr>
        </p:nvSpPr>
        <p:spPr>
          <a:xfrm>
            <a:off x="4649040" y="224640"/>
            <a:ext cx="1331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1DAF529-9023-41CF-90A7-3E00070AC47F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788000" y="1585440"/>
            <a:ext cx="3096000" cy="226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2800" spc="-1" strike="noStrike">
                <a:solidFill>
                  <a:schemeClr val="accent1"/>
                </a:solidFill>
                <a:latin typeface="Century Gothic"/>
              </a:rPr>
              <a:t>Санитарно-противоэпидемический режим процедурного кабинета</a:t>
            </a:r>
            <a:r>
              <a:rPr b="1" i="1" lang="uk-UA" sz="2800" spc="-1" strike="noStrike">
                <a:solidFill>
                  <a:schemeClr val="accent1"/>
                </a:solidFill>
                <a:latin typeface="Century Gothic"/>
              </a:rPr>
              <a:t>.</a:t>
            </a:r>
            <a:r>
              <a:rPr b="1" i="1" lang="ru-RU" sz="2800" spc="-1" strike="noStrike">
                <a:solidFill>
                  <a:schemeClr val="accent1"/>
                </a:solidFill>
                <a:latin typeface="Century Gothic"/>
              </a:rPr>
              <a:t> Перевязочная в стационаре и поликлинике</a:t>
            </a: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395640" y="3141720"/>
            <a:ext cx="3654720" cy="25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24242"/>
                </a:solidFill>
                <a:latin typeface="Century Gothic"/>
              </a:rPr>
              <a:t>Выполнил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24242"/>
                </a:solidFill>
                <a:latin typeface="Century Gothic"/>
              </a:rPr>
              <a:t>Дембаев 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24242"/>
                </a:solidFill>
                <a:latin typeface="Century Gothic"/>
              </a:rPr>
              <a:t>Жорахан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47640" y="1989000"/>
            <a:ext cx="6952320" cy="42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27000"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/>
                </a:solidFill>
                <a:latin typeface="Century Gothic"/>
              </a:rPr>
              <a:t>Технология  постановки амидопириновой пробы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9640" y="2061000"/>
            <a:ext cx="8064360" cy="43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327960" indent="-26208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мешивают равные количества 5% спиртового раствора амидопирина, 30% уксусной кислоты и 3% раствора перекиси водорода (по 2—3 мл). </a:t>
            </a:r>
            <a:br>
              <a:rPr sz="2400"/>
            </a:b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а нестерильную вату наносят вышеуказанный реактив. Через несколько секунд при отсутствии цветовой реакции на вате этой ватой протирают поршень шприца, цилиндр с наружной стороны, иглы, канюлю внутри. Затем заливают реактивы в цилиндр шприца, пропускают их через шприц на другую ватку (проверяется цилиндр шприца). </a:t>
            </a:r>
            <a:br>
              <a:rPr sz="2400"/>
            </a:b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осле этого на шприце закрепляют иглу, вновь наливают в цилиндр реактив и пропускают его через шприц и иглу (проверяется игла): </a:t>
            </a:r>
            <a:br>
              <a:rPr sz="2400"/>
            </a:b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а) при наличии кровяных загрязнений на вате появляется сине-зеленое окрашивание. Окрашивание может наблюдаться при наличии на шприце остатков лекарственных средств, тройного раствора и хлорамина; </a:t>
            </a:r>
            <a:br>
              <a:rPr sz="2400"/>
            </a:b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б) при положительных пробах повторный контроль инструментов проводят ежедневно до получения 3-кратного отрицательного результата. 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7640" y="908640"/>
            <a:ext cx="82807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chemeClr val="accent1"/>
                </a:solidFill>
                <a:latin typeface="Century Gothic"/>
              </a:rPr>
              <a:t>Создание особого микроклимата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99640" y="2323800"/>
            <a:ext cx="727236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7432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Большое внимание уделяется освещению палат . Прямые солнечные лучи обладают бактерицидным действием.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 то же время необходимо , чтобы освещение было достаточной интенсивности , равномерным , биологически полноценным по своему спектру 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87640" y="90864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chemeClr val="accent1"/>
                </a:solidFill>
                <a:latin typeface="Century Gothic"/>
              </a:rPr>
              <a:t>Основные требования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71640" y="2205000"/>
            <a:ext cx="6912360" cy="39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106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/>
                </a:solidFill>
                <a:latin typeface="Century Gothic"/>
              </a:rPr>
              <a:t>Персонал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Сотрудники предприятий должны быть одеты в специализированную одежду, которая закрывает туловище (комбинезон, или брюки и халат), голову (шапка и маска на лицо), ступни (ботинки) и руки (перчатки)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106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/>
                </a:solidFill>
                <a:latin typeface="Century Gothic"/>
              </a:rPr>
              <a:t>Воздух.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омещение оснащается приборами фильтрации и обеспечения вертикального перемещения потоков воздуха. Дополнительно устанавливаются датчики контроля давления, параметров микроклимата и т.д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106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/>
                </a:solidFill>
                <a:latin typeface="Century Gothic"/>
              </a:rPr>
              <a:t>Поверхности.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оверхности стен и пола укладываются с применением специального химически стойкого материалы, который обеспечивает отсутствие неровностей и швов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55640" y="548640"/>
            <a:ext cx="7240320" cy="7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chemeClr val="accent1"/>
                </a:solidFill>
                <a:latin typeface="Century Gothic"/>
              </a:rPr>
              <a:t>Материалы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7640" y="1484640"/>
            <a:ext cx="7416360" cy="475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52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рименение одноразовых расходных материалов. Уборка помещений производится с использованием материалов недолгого срока службы, которые после уборки выбрасываются. Этот подход приводит к тому, что расходы на уборку составляют солидную долю в эксплуатационных издержках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52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Использование многоразовых микроволоконных материалов. После уборки помещений расходники, для обеспечения их стерильности, отдают в стирку и обработку специализированным организациям, работающим на условиях аутсоринга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3640" y="11664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chemeClr val="accent1"/>
                </a:solidFill>
                <a:latin typeface="Century Gothic"/>
              </a:rPr>
              <a:t>План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27640" y="1700640"/>
            <a:ext cx="7488360" cy="46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26856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анитарно-противоэпидемический режим, комплекс противоэпидемических мероприятий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35880" indent="-26856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анитарное содержание помещений, оборудования, инвентаря (уборочный инвентарь, его маркировка, назначение, хранение, дезинфекция)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35880" indent="-26856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анитарно-противоэпидемический режим в процедурном кабинете, хирургических отделениях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35880" indent="-26856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ратность проведения текущей и генеральной дезинфекции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55640" y="90864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chemeClr val="accent1"/>
                </a:solidFill>
                <a:latin typeface="Century Gothic"/>
              </a:rPr>
              <a:t>Санитарно-противоэпидемический режим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7640" y="2323800"/>
            <a:ext cx="8064360" cy="40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9760" indent="-26352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Противоэпидемический  режим 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- это совокупность строго регламентированных и обязательных для выполнения противоэпидемических мероприятий в конкретных лечебных учреждениях, для предупреждения возникновения, распространения ВБИ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29760" indent="-26352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     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Противоэпидемические  мероприятия 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- комплекс мероприятий, направленных на предупреждение формирования или разрыв путей передачи от источника инфекции к восприимчивому организму, а так же предотвращения экзо и эндогенного инфицирования этого восприимчивого организма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5640" y="47664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/>
                </a:solidFill>
                <a:latin typeface="Century Gothic"/>
              </a:rPr>
              <a:t>Комплекс включает: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55640" y="1845000"/>
            <a:ext cx="7632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310320" indent="-248040">
              <a:lnSpc>
                <a:spcPct val="100000"/>
              </a:lnSpc>
              <a:spcBef>
                <a:spcPts val="1020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5100" spc="-1" strike="noStrike">
                <a:solidFill>
                  <a:srgbClr val="3e3d2d"/>
                </a:solidFill>
                <a:latin typeface="Century Gothic"/>
              </a:rPr>
              <a:t>Соблюдение асептики и антисептики при проведении лечебно-диагностических процедур (использование стерильного медицинского инструментария, перевязочного материала).</a:t>
            </a:r>
            <a:endParaRPr b="0" lang="ru-RU" sz="5100" spc="-1" strike="noStrike">
              <a:solidFill>
                <a:srgbClr val="3e3d2d"/>
              </a:solidFill>
              <a:latin typeface="Century Gothic"/>
            </a:endParaRPr>
          </a:p>
          <a:p>
            <a:pPr marL="310320" indent="-248040">
              <a:lnSpc>
                <a:spcPct val="100000"/>
              </a:lnSpc>
              <a:spcBef>
                <a:spcPts val="1020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5100" spc="-1" strike="noStrike">
                <a:solidFill>
                  <a:srgbClr val="3e3d2d"/>
                </a:solidFill>
                <a:latin typeface="Century Gothic"/>
              </a:rPr>
              <a:t>Применение эффективных мер обеззараживания рук медицинского персонала и операционного поля.</a:t>
            </a:r>
            <a:endParaRPr b="0" lang="ru-RU" sz="5100" spc="-1" strike="noStrike">
              <a:solidFill>
                <a:srgbClr val="3e3d2d"/>
              </a:solidFill>
              <a:latin typeface="Century Gothic"/>
            </a:endParaRPr>
          </a:p>
          <a:p>
            <a:pPr marL="310320" indent="-248040">
              <a:lnSpc>
                <a:spcPct val="100000"/>
              </a:lnSpc>
              <a:spcBef>
                <a:spcPts val="1020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5100" spc="-1" strike="noStrike">
                <a:solidFill>
                  <a:srgbClr val="3e3d2d"/>
                </a:solidFill>
                <a:latin typeface="Century Gothic"/>
              </a:rPr>
              <a:t>Дезинфекцию объектов внешней среды, имеющих важное значение в механизме передачи возбудителей (постельные принадлежности, воздух, посуда, уборочный инвентарь).</a:t>
            </a:r>
            <a:endParaRPr b="0" lang="ru-RU" sz="5100" spc="-1" strike="noStrike">
              <a:solidFill>
                <a:srgbClr val="3e3d2d"/>
              </a:solidFill>
              <a:latin typeface="Century Gothic"/>
            </a:endParaRPr>
          </a:p>
          <a:p>
            <a:pPr marL="619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br>
              <a:rPr sz="2400"/>
            </a:b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4" descr=""/>
          <p:cNvPicPr/>
          <p:nvPr/>
        </p:nvPicPr>
        <p:blipFill>
          <a:blip r:embed="rId1"/>
          <a:stretch/>
        </p:blipFill>
        <p:spPr>
          <a:xfrm>
            <a:off x="4932000" y="1052640"/>
            <a:ext cx="3038760" cy="191124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5" descr=""/>
          <p:cNvPicPr/>
          <p:nvPr/>
        </p:nvPicPr>
        <p:blipFill>
          <a:blip r:embed="rId2"/>
          <a:stretch/>
        </p:blipFill>
        <p:spPr>
          <a:xfrm>
            <a:off x="747000" y="476640"/>
            <a:ext cx="3636360" cy="272376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6" descr=""/>
          <p:cNvPicPr/>
          <p:nvPr/>
        </p:nvPicPr>
        <p:blipFill>
          <a:blip r:embed="rId3"/>
          <a:stretch/>
        </p:blipFill>
        <p:spPr>
          <a:xfrm>
            <a:off x="2195640" y="3429000"/>
            <a:ext cx="4709520" cy="302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640" y="90864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/>
                </a:solidFill>
                <a:latin typeface="Century Gothic"/>
              </a:rPr>
              <a:t>Санитарное  содержание помещений.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3640" y="2205000"/>
            <a:ext cx="7632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10680" indent="-24804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се помещения, оборудование, инвентарь должные содержаться в идеальной чистоте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10680" indent="-24804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лажная уборка помещений должна осуществляться не менее одного раза в сутки, а при необходимости чаще с применением моющих средств и дезинфекции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10680" indent="-24804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дин раз в месяц в помещениях, где проводится работа с кровью, сывороткой делают генеральную уборку с использованием 3% раствора хлорамина, хлорной извести, извести белильной термостойкой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10680" indent="-24804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о время генеральной уборки тщательно моются стены, оборудование, мебель, проводится очистка полов от наслоений, пятен и т.д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10680" indent="-24804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Генеральные уборки проводятся по утвержденному графику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619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7640" y="1412640"/>
            <a:ext cx="748836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/>
                </a:solidFill>
                <a:latin typeface="Century Gothic"/>
              </a:rPr>
              <a:t>Все помещения УЗ условно  можно разделить  на: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71640" y="2856600"/>
            <a:ext cx="7344360" cy="398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7432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требующие особого режима дезинфекции (т.н. режимные кабинеты);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432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ругие функциональные помещения: палаты, коридоры, лестницы, санитарно-бытовые помещения (туалеты, душевые, бельевые), кладовые, буфеты, столовые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55640" y="332640"/>
            <a:ext cx="7848360" cy="189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9000"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/>
                </a:solidFill>
                <a:latin typeface="Century Gothic"/>
              </a:rPr>
              <a:t>Санитарно-противоэпидемический режим в процедурном кабинете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55640" y="2421000"/>
            <a:ext cx="7776360" cy="420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76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се манипуляции  производится в перчатках. </a:t>
            </a:r>
            <a:br>
              <a:rPr sz="2400"/>
            </a:b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терильные укладки готовятся на одну рабочую смену (6 часов). Пинцеты для захвата стерильных материалов хранятся в стерильных емкостях, заполненных растворами стерилянтов (6% Н2О2, тройной раствор, в исключительных случаях -"Сайдекс"). Уровень заливки растворов в емкости должен быть не более уровня рабочих поверхностей браншей.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899640" y="980640"/>
            <a:ext cx="7272360" cy="532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6316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Использованные шприцы, иглы, пинцеты, зажимы, перчатки, системы для переливаний, зонды, катетеры и т. д. погружаются в один из дезинфицирующих растворов, затем промываются проточной водой и сдаются в ЦСО для предстерилизационной очистки и стерилизации. (Или, при отсутствии ЦСО, подвергаются предстерилизационной очистке.) </a:t>
            </a:r>
            <a:br>
              <a:rPr sz="2400"/>
            </a:b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Использованные шарики и другой перевязочный материал погружаются в 3% раствор хлорамина или хлорной извести на 2 часа, либо в 0,03% раствор нейтрального анолита на 30 минут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Остин">
  <a:themeElements>
    <a:clrScheme name="Остин">
      <a:dk1>
        <a:srgbClr val="000000"/>
      </a:dk1>
      <a:lt1>
        <a:srgbClr val="ffffff"/>
      </a:lt1>
      <a:dk2>
        <a:srgbClr val="3e3d2d"/>
      </a:dk2>
      <a:lt2>
        <a:srgbClr val="caf278"/>
      </a:lt2>
      <a:accent1>
        <a:srgbClr val="94c600"/>
      </a:accent1>
      <a:accent2>
        <a:srgbClr val="71685a"/>
      </a:accent2>
      <a:accent3>
        <a:srgbClr val="ff6700"/>
      </a:accent3>
      <a:accent4>
        <a:srgbClr val="909465"/>
      </a:accent4>
      <a:accent5>
        <a:srgbClr val="956b43"/>
      </a:accent5>
      <a:accent6>
        <a:srgbClr val="fea022"/>
      </a:accent6>
      <a:hlink>
        <a:srgbClr val="e68200"/>
      </a:hlink>
      <a:folHlink>
        <a:srgbClr val="ffa94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стин">
  <a:themeElements>
    <a:clrScheme name="Остин">
      <a:dk1>
        <a:srgbClr val="000000"/>
      </a:dk1>
      <a:lt1>
        <a:srgbClr val="ffffff"/>
      </a:lt1>
      <a:dk2>
        <a:srgbClr val="3e3d2d"/>
      </a:dk2>
      <a:lt2>
        <a:srgbClr val="caf278"/>
      </a:lt2>
      <a:accent1>
        <a:srgbClr val="94c600"/>
      </a:accent1>
      <a:accent2>
        <a:srgbClr val="71685a"/>
      </a:accent2>
      <a:accent3>
        <a:srgbClr val="ff6700"/>
      </a:accent3>
      <a:accent4>
        <a:srgbClr val="909465"/>
      </a:accent4>
      <a:accent5>
        <a:srgbClr val="956b43"/>
      </a:accent5>
      <a:accent6>
        <a:srgbClr val="fea022"/>
      </a:accent6>
      <a:hlink>
        <a:srgbClr val="e68200"/>
      </a:hlink>
      <a:folHlink>
        <a:srgbClr val="ffa94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3e3d2d"/>
      </a:dk2>
      <a:lt2>
        <a:srgbClr val="caf278"/>
      </a:lt2>
      <a:accent1>
        <a:srgbClr val="94c600"/>
      </a:accent1>
      <a:accent2>
        <a:srgbClr val="71685a"/>
      </a:accent2>
      <a:accent3>
        <a:srgbClr val="ff6700"/>
      </a:accent3>
      <a:accent4>
        <a:srgbClr val="909465"/>
      </a:accent4>
      <a:accent5>
        <a:srgbClr val="956b43"/>
      </a:accent5>
      <a:accent6>
        <a:srgbClr val="fea022"/>
      </a:accent6>
      <a:hlink>
        <a:srgbClr val="e68200"/>
      </a:hlink>
      <a:folHlink>
        <a:srgbClr val="ffa94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ustin</Template>
  <TotalTime>75</TotalTime>
  <Application>LibreOffice/7.4.7.2$Linux_X86_64 LibreOffice_project/40$Build-2</Application>
  <AppVersion>15.0000</AppVersion>
  <Words>1275</Words>
  <Paragraphs>17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6T04:45:53Z</dcterms:created>
  <dc:creator>DES</dc:creator>
  <dc:description/>
  <dc:language>en-US</dc:language>
  <cp:lastModifiedBy>LEGION</cp:lastModifiedBy>
  <dcterms:modified xsi:type="dcterms:W3CDTF">2015-12-31T12:51:01Z</dcterms:modified>
  <cp:revision>9</cp:revision>
  <dc:subject/>
  <dc:title>Санитарно-противоэпидемический режим процедурного кабине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3</vt:r8>
  </property>
  <property fmtid="{D5CDD505-2E9C-101B-9397-08002B2CF9AE}" pid="3" name="PresentationFormat">
    <vt:lpwstr>Екран (4:3)</vt:lpwstr>
  </property>
  <property fmtid="{D5CDD505-2E9C-101B-9397-08002B2CF9AE}" pid="4" name="Slides">
    <vt:r8>13</vt:r8>
  </property>
</Properties>
</file>