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E68B7-9787-49A9-994B-A52B5FFD6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баев 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орахан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процедурного кабинета. Перевязочная в стационаре и поликлин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полнил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мбаев 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Жорахан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  постановки амидопириновой про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хнология  постановки амидопириновой про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особого микрокли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здание особого микроклим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льшое внимание уделяется освещению палат . Прямые солнечные лучи обладают бактерицидным действием. 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треб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сновные треб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ерсонал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здух. 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верхности. 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атери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, комплекс противоэпидем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тность проведения текущей и генеральной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, комплекс противоэпидемических меропри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, хирургических отдел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ратность проведения текущей и генеральной дезинфе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й  режим 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    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тивоэпидемические  мероприятия 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омплекс включ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е  содержание поме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, оборудование, инвентарь должные содержаться в идеальной чист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е уборки проводятся по утвержденному граф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е  содержание помещ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, оборудование, инвентарь должные содержаться в идеальной чисто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Генеральные уборки проводятся по утвержденному граф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мещения УЗ условно  можно разделить 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бующие особого режима дезинфекции (т.н. режимные кабине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помещения УЗ условно  можно разделить 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ебующие особого режима дезинфекции (т.н. режимные кабинет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итарно-противоэпидемический режим в процедурном каби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манипуляции  производится в перчатках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анитарно-противоэпидемический режим в процедурном кабине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се манипуляции  производится в перчатках.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0C2B-7892-42D2-AC04-9C082332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CD7-5FBF-43A2-9EF0-926AA813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933-07B7-4F80-B4A9-DE0B0896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464-906B-4562-BA9B-7AFE6A57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A1F8-1B4B-4D7B-B432-261D1D93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2142-155C-43C8-840E-5DE338FC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31A7-713E-424B-8355-F79E70F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327A-701F-4F0C-B8DA-CFBC248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3F05-8163-42A8-87B2-BF7E641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7D1E-36D9-497D-B0A3-84043567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3F59-F2B0-4F1E-AD86-C031D34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B797-486D-475E-8D33-B5E1ED21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08A-AAA1-4929-867A-62C8BFD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3BC-96C3-4AC7-A212-3D771F38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BEBF-2D96-4BB8-BADB-98F69E22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FB4B-D5B5-4A93-98DA-EA585FC2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50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644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36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50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644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AE5F-8E0E-4260-B505-F92E7ED9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146-CA32-4E66-A588-F0E4AAC3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370-33E5-4015-8DAD-843548A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A3F-DD31-4F87-895C-18818775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43640" y="1027800"/>
            <a:ext cx="70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360-07B7-4A3A-8478-65842A28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B33-2E47-4300-A3DD-4EC67FE6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35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1620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A6B6-A4DA-4E98-8387-91C8569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364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1620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4364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6D4-B8A9-441B-9776-213963B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39" name="Rectangle 65" hidden="1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0" name="Rectangle 69" hidden="1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41" name="Rectangle 70" hidden="1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-644760" y="0"/>
            <a:ext cx="10458000" cy="7116480"/>
            <a:chOff x="-644760" y="0"/>
            <a:chExt cx="10458000" cy="7116480"/>
          </a:xfrm>
        </p:grpSpPr>
        <p:grpSp>
          <p:nvGrpSpPr>
            <p:cNvPr id="43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44" name="Group 4"/>
              <p:cNvGrpSpPr/>
              <p:nvPr/>
            </p:nvGrpSpPr>
            <p:grpSpPr>
              <a:xfrm>
                <a:off x="0" y="0"/>
                <a:ext cx="2514240" cy="6857640"/>
                <a:chOff x="0" y="0"/>
                <a:chExt cx="2514240" cy="6857640"/>
              </a:xfrm>
            </p:grpSpPr>
            <p:sp>
              <p:nvSpPr>
                <p:cNvPr id="45" name="Rectangle 114"/>
                <p:cNvSpPr/>
                <p:nvPr/>
              </p:nvSpPr>
              <p:spPr>
                <a:xfrm>
                  <a:off x="914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6" name="Rectangle 2"/>
                <p:cNvSpPr/>
                <p:nvPr/>
              </p:nvSpPr>
              <p:spPr>
                <a:xfrm>
                  <a:off x="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47" name="Rectangle 3"/>
                <p:cNvSpPr/>
                <p:nvPr/>
              </p:nvSpPr>
              <p:spPr>
                <a:xfrm>
                  <a:off x="228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8" name="Group 5"/>
              <p:cNvGrpSpPr/>
              <p:nvPr/>
            </p:nvGrpSpPr>
            <p:grpSpPr>
              <a:xfrm>
                <a:off x="423000" y="0"/>
                <a:ext cx="2514240" cy="6857640"/>
                <a:chOff x="423000" y="0"/>
                <a:chExt cx="2514240" cy="6857640"/>
              </a:xfrm>
            </p:grpSpPr>
            <p:sp>
              <p:nvSpPr>
                <p:cNvPr id="49" name="Rectangle 84"/>
                <p:cNvSpPr/>
                <p:nvPr/>
              </p:nvSpPr>
              <p:spPr>
                <a:xfrm>
                  <a:off x="13374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0" name="Rectangle 85"/>
                <p:cNvSpPr/>
                <p:nvPr/>
              </p:nvSpPr>
              <p:spPr>
                <a:xfrm>
                  <a:off x="4230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1" name="Rectangle 113"/>
                <p:cNvSpPr/>
                <p:nvPr/>
              </p:nvSpPr>
              <p:spPr>
                <a:xfrm>
                  <a:off x="6516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2" name="Group 9"/>
              <p:cNvGrpSpPr/>
              <p:nvPr/>
            </p:nvGrpSpPr>
            <p:grpSpPr>
              <a:xfrm>
                <a:off x="6629760" y="360"/>
                <a:ext cx="2514240" cy="6857640"/>
                <a:chOff x="6629760" y="360"/>
                <a:chExt cx="2514240" cy="6857640"/>
              </a:xfrm>
            </p:grpSpPr>
            <p:sp>
              <p:nvSpPr>
                <p:cNvPr id="53" name="Rectangle 77"/>
                <p:cNvSpPr/>
                <p:nvPr/>
              </p:nvSpPr>
              <p:spPr>
                <a:xfrm rot="10800000">
                  <a:off x="662976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4" name="Rectangle 78"/>
                <p:cNvSpPr/>
                <p:nvPr/>
              </p:nvSpPr>
              <p:spPr>
                <a:xfrm rot="10800000">
                  <a:off x="868716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55" name="Rectangle 80"/>
                <p:cNvSpPr/>
                <p:nvPr/>
              </p:nvSpPr>
              <p:spPr>
                <a:xfrm rot="10800000">
                  <a:off x="815364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6" name="Rectangle 74"/>
              <p:cNvSpPr/>
              <p:nvPr/>
            </p:nvSpPr>
            <p:spPr>
              <a:xfrm>
                <a:off x="380988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7" name="Rectangle 75"/>
              <p:cNvSpPr/>
              <p:nvPr/>
            </p:nvSpPr>
            <p:spPr>
              <a:xfrm>
                <a:off x="289548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58" name="Rectangle 76"/>
              <p:cNvSpPr/>
              <p:nvPr/>
            </p:nvSpPr>
            <p:spPr>
              <a:xfrm>
                <a:off x="312408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59" name="Freeform 44"/>
            <p:cNvSpPr/>
            <p:nvPr/>
          </p:nvSpPr>
          <p:spPr>
            <a:xfrm>
              <a:off x="-11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47"/>
            <p:cNvSpPr/>
            <p:nvPr/>
          </p:nvSpPr>
          <p:spPr>
            <a:xfrm>
              <a:off x="-11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48"/>
            <p:cNvSpPr/>
            <p:nvPr/>
          </p:nvSpPr>
          <p:spPr>
            <a:xfrm>
              <a:off x="-2376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50"/>
            <p:cNvSpPr/>
            <p:nvPr/>
          </p:nvSpPr>
          <p:spPr>
            <a:xfrm>
              <a:off x="-11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" name="Freeform 51"/>
            <p:cNvSpPr/>
            <p:nvPr/>
          </p:nvSpPr>
          <p:spPr>
            <a:xfrm>
              <a:off x="21376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" name="Hexagon 52"/>
            <p:cNvSpPr/>
            <p:nvPr/>
          </p:nvSpPr>
          <p:spPr>
            <a:xfrm rot="1800000">
              <a:off x="2996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5" name="Hexagon 53"/>
            <p:cNvSpPr/>
            <p:nvPr/>
          </p:nvSpPr>
          <p:spPr>
            <a:xfrm rot="1800000">
              <a:off x="37202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6" name="Hexagon 54"/>
            <p:cNvSpPr/>
            <p:nvPr/>
          </p:nvSpPr>
          <p:spPr>
            <a:xfrm rot="1800000">
              <a:off x="372960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7" name="Hexagon 55"/>
            <p:cNvSpPr/>
            <p:nvPr/>
          </p:nvSpPr>
          <p:spPr>
            <a:xfrm rot="1800000">
              <a:off x="29772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8" name="Hexagon 56"/>
            <p:cNvSpPr/>
            <p:nvPr/>
          </p:nvSpPr>
          <p:spPr>
            <a:xfrm rot="1800000">
              <a:off x="446292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69" name="Freeform 57"/>
            <p:cNvSpPr/>
            <p:nvPr/>
          </p:nvSpPr>
          <p:spPr>
            <a:xfrm rot="1800000">
              <a:off x="-3819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0" name="Hexagon 58"/>
            <p:cNvSpPr/>
            <p:nvPr/>
          </p:nvSpPr>
          <p:spPr>
            <a:xfrm rot="1800000">
              <a:off x="244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1" name="Hexagon 59"/>
            <p:cNvSpPr/>
            <p:nvPr/>
          </p:nvSpPr>
          <p:spPr>
            <a:xfrm rot="1800000">
              <a:off x="5292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2" name="Hexagon 60"/>
            <p:cNvSpPr/>
            <p:nvPr/>
          </p:nvSpPr>
          <p:spPr>
            <a:xfrm rot="1800000">
              <a:off x="7768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3" name="Hexagon 61"/>
            <p:cNvSpPr/>
            <p:nvPr/>
          </p:nvSpPr>
          <p:spPr>
            <a:xfrm rot="1800000">
              <a:off x="151020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4" name="Hexagon 62"/>
            <p:cNvSpPr/>
            <p:nvPr/>
          </p:nvSpPr>
          <p:spPr>
            <a:xfrm rot="1800000">
              <a:off x="15292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5" name="Hexagon 63"/>
            <p:cNvSpPr/>
            <p:nvPr/>
          </p:nvSpPr>
          <p:spPr>
            <a:xfrm rot="1800000">
              <a:off x="7959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6" name="Hexagon 64"/>
            <p:cNvSpPr/>
            <p:nvPr/>
          </p:nvSpPr>
          <p:spPr>
            <a:xfrm rot="1800000">
              <a:off x="680616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7" name="Hexagon 65"/>
            <p:cNvSpPr/>
            <p:nvPr/>
          </p:nvSpPr>
          <p:spPr>
            <a:xfrm rot="1800000">
              <a:off x="75492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8" name="Hexagon 66"/>
            <p:cNvSpPr/>
            <p:nvPr/>
          </p:nvSpPr>
          <p:spPr>
            <a:xfrm rot="1800000">
              <a:off x="75492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79" name="Freeform 67"/>
            <p:cNvSpPr/>
            <p:nvPr/>
          </p:nvSpPr>
          <p:spPr>
            <a:xfrm rot="1800000">
              <a:off x="830628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80" name="Freeform 68"/>
            <p:cNvSpPr/>
            <p:nvPr/>
          </p:nvSpPr>
          <p:spPr>
            <a:xfrm rot="1800000">
              <a:off x="83066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81" name="Rectangle 45"/>
          <p:cNvSpPr/>
          <p:nvPr/>
        </p:nvSpPr>
        <p:spPr>
          <a:xfrm>
            <a:off x="4561200" y="-21600"/>
            <a:ext cx="3678840" cy="62715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4649040" y="-21600"/>
            <a:ext cx="3504960" cy="23126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33280" y="270864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4738680" y="1516680"/>
            <a:ext cx="213336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24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9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5303520" y="5720040"/>
            <a:ext cx="2831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4649040" y="5720040"/>
            <a:ext cx="643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A0D21AA-65FC-4774-B36A-51E236F39DD2}" type="slidenum">
              <a:rPr b="0" lang="ru-RU" sz="1200" spc="-1" strike="noStrike">
                <a:solidFill>
                  <a:schemeClr val="accent1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8"/>
          <p:cNvSpPr/>
          <p:nvPr/>
        </p:nvSpPr>
        <p:spPr>
          <a:xfrm>
            <a:off x="4650840" y="6088320"/>
            <a:ext cx="3504960" cy="813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25f"/>
            </a:gs>
            <a:gs pos="100000">
              <a:srgbClr val="92bd3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1"/>
          <p:cNvGrpSpPr/>
          <p:nvPr/>
        </p:nvGrpSpPr>
        <p:grpSpPr>
          <a:xfrm>
            <a:off x="-567360" y="0"/>
            <a:ext cx="10458360" cy="7116480"/>
            <a:chOff x="-567360" y="0"/>
            <a:chExt cx="10458360" cy="7116480"/>
          </a:xfrm>
        </p:grpSpPr>
        <p:grpSp>
          <p:nvGrpSpPr>
            <p:cNvPr id="127" name="Group 44"/>
            <p:cNvGrpSpPr/>
            <p:nvPr/>
          </p:nvGrpSpPr>
          <p:grpSpPr>
            <a:xfrm>
              <a:off x="77760" y="0"/>
              <a:ext cx="9144000" cy="6858000"/>
              <a:chOff x="77760" y="0"/>
              <a:chExt cx="9144000" cy="6858000"/>
            </a:xfrm>
          </p:grpSpPr>
          <p:grpSp>
            <p:nvGrpSpPr>
              <p:cNvPr id="128" name="Group 4"/>
              <p:cNvGrpSpPr/>
              <p:nvPr/>
            </p:nvGrpSpPr>
            <p:grpSpPr>
              <a:xfrm>
                <a:off x="77760" y="0"/>
                <a:ext cx="2514240" cy="6857640"/>
                <a:chOff x="77760" y="0"/>
                <a:chExt cx="2514240" cy="6857640"/>
              </a:xfrm>
            </p:grpSpPr>
            <p:sp>
              <p:nvSpPr>
                <p:cNvPr id="129" name="Rectangle 112"/>
                <p:cNvSpPr/>
                <p:nvPr/>
              </p:nvSpPr>
              <p:spPr>
                <a:xfrm>
                  <a:off x="99216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0" name="Rectangle 2"/>
                <p:cNvSpPr/>
                <p:nvPr/>
              </p:nvSpPr>
              <p:spPr>
                <a:xfrm>
                  <a:off x="7776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1" name="Rectangle 3"/>
                <p:cNvSpPr/>
                <p:nvPr/>
              </p:nvSpPr>
              <p:spPr>
                <a:xfrm>
                  <a:off x="30636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2" name="Group 5"/>
              <p:cNvGrpSpPr/>
              <p:nvPr/>
            </p:nvGrpSpPr>
            <p:grpSpPr>
              <a:xfrm>
                <a:off x="500400" y="0"/>
                <a:ext cx="2514240" cy="6857640"/>
                <a:chOff x="500400" y="0"/>
                <a:chExt cx="2514240" cy="6857640"/>
              </a:xfrm>
            </p:grpSpPr>
            <p:sp>
              <p:nvSpPr>
                <p:cNvPr id="133" name="Rectangle 109"/>
                <p:cNvSpPr/>
                <p:nvPr/>
              </p:nvSpPr>
              <p:spPr>
                <a:xfrm>
                  <a:off x="1414800" y="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4" name="Rectangle 110"/>
                <p:cNvSpPr/>
                <p:nvPr/>
              </p:nvSpPr>
              <p:spPr>
                <a:xfrm>
                  <a:off x="500400" y="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5" name="Rectangle 111"/>
                <p:cNvSpPr/>
                <p:nvPr/>
              </p:nvSpPr>
              <p:spPr>
                <a:xfrm>
                  <a:off x="729000" y="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6" name="Group 9"/>
              <p:cNvGrpSpPr/>
              <p:nvPr/>
            </p:nvGrpSpPr>
            <p:grpSpPr>
              <a:xfrm>
                <a:off x="6707520" y="360"/>
                <a:ext cx="2514240" cy="6857640"/>
                <a:chOff x="6707520" y="360"/>
                <a:chExt cx="2514240" cy="6857640"/>
              </a:xfrm>
            </p:grpSpPr>
            <p:sp>
              <p:nvSpPr>
                <p:cNvPr id="137" name="Rectangle 106"/>
                <p:cNvSpPr/>
                <p:nvPr/>
              </p:nvSpPr>
              <p:spPr>
                <a:xfrm rot="10800000">
                  <a:off x="6707520" y="360"/>
                  <a:ext cx="1599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8" name="Rectangle 107"/>
                <p:cNvSpPr/>
                <p:nvPr/>
              </p:nvSpPr>
              <p:spPr>
                <a:xfrm rot="10800000">
                  <a:off x="8764920" y="360"/>
                  <a:ext cx="45684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  <p:sp>
              <p:nvSpPr>
                <p:cNvPr id="139" name="Rectangle 108"/>
                <p:cNvSpPr/>
                <p:nvPr/>
              </p:nvSpPr>
              <p:spPr>
                <a:xfrm rot="10800000">
                  <a:off x="8231400" y="360"/>
                  <a:ext cx="761760" cy="6857640"/>
                </a:xfrm>
                <a:prstGeom prst="rect">
                  <a:avLst/>
                </a:prstGeom>
                <a:solidFill>
                  <a:schemeClr val="bg1">
                    <a:alpha val="1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0" name="Rectangle 103"/>
              <p:cNvSpPr/>
              <p:nvPr/>
            </p:nvSpPr>
            <p:spPr>
              <a:xfrm>
                <a:off x="3887640" y="0"/>
                <a:ext cx="28191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1" name="Rectangle 104"/>
              <p:cNvSpPr/>
              <p:nvPr/>
            </p:nvSpPr>
            <p:spPr>
              <a:xfrm>
                <a:off x="2973240" y="0"/>
                <a:ext cx="45684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  <p:sp>
            <p:nvSpPr>
              <p:cNvPr id="142" name="Rectangle 105"/>
              <p:cNvSpPr/>
              <p:nvPr/>
            </p:nvSpPr>
            <p:spPr>
              <a:xfrm>
                <a:off x="3201840" y="0"/>
                <a:ext cx="761760" cy="6857640"/>
              </a:xfrm>
              <a:prstGeom prst="rect">
                <a:avLst/>
              </a:prstGeom>
              <a:solidFill>
                <a:schemeClr val="bg1">
                  <a:alpha val="1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entury Gothic"/>
                </a:endParaRPr>
              </a:p>
            </p:txBody>
          </p:sp>
        </p:grpSp>
        <p:sp>
          <p:nvSpPr>
            <p:cNvPr id="143" name="Freeform 43"/>
            <p:cNvSpPr/>
            <p:nvPr/>
          </p:nvSpPr>
          <p:spPr>
            <a:xfrm>
              <a:off x="65880" y="5034960"/>
              <a:ext cx="9143640" cy="117540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44"/>
            <p:cNvSpPr/>
            <p:nvPr/>
          </p:nvSpPr>
          <p:spPr>
            <a:xfrm>
              <a:off x="65880" y="3467520"/>
              <a:ext cx="9143640" cy="8902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45"/>
            <p:cNvSpPr/>
            <p:nvPr/>
          </p:nvSpPr>
          <p:spPr>
            <a:xfrm>
              <a:off x="54000" y="5640840"/>
              <a:ext cx="3004200" cy="1211040"/>
            </a:xfrm>
            <a:custGeom>
              <a:avLst/>
              <a:gdLst>
                <a:gd name="textAreaLeft" fmla="*/ 0 w 3004200"/>
                <a:gd name="textAreaRight" fmla="*/ 3004560 w 3004200"/>
                <a:gd name="textAreaTop" fmla="*/ 0 h 1211040"/>
                <a:gd name="textAreaBottom" fmla="*/ 1211400 h 1211040"/>
              </a:gdLst>
              <a:ahLst/>
              <a:rect l="textAreaLeft" t="textAreaTop" r="textAreaRight" b="textAreaBottom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46"/>
            <p:cNvSpPr/>
            <p:nvPr/>
          </p:nvSpPr>
          <p:spPr>
            <a:xfrm>
              <a:off x="65880" y="5284440"/>
              <a:ext cx="9143640" cy="14781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1478160"/>
                <a:gd name="textAreaBottom" fmla="*/ 1478520 h 1478160"/>
              </a:gdLst>
              <a:ahLst/>
              <a:rect l="textAreaLeft" t="textAreaTop" r="textAreaRight" b="textAreaBottom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48"/>
            <p:cNvSpPr/>
            <p:nvPr/>
          </p:nvSpPr>
          <p:spPr>
            <a:xfrm>
              <a:off x="2215080" y="5132160"/>
              <a:ext cx="6982200" cy="1719720"/>
            </a:xfrm>
            <a:custGeom>
              <a:avLst/>
              <a:gdLst>
                <a:gd name="textAreaLeft" fmla="*/ 0 w 6982200"/>
                <a:gd name="textAreaRight" fmla="*/ 6982560 w 6982200"/>
                <a:gd name="textAreaTop" fmla="*/ 0 h 1719720"/>
                <a:gd name="textAreaBottom" fmla="*/ 1720080 h 1719720"/>
              </a:gdLst>
              <a:ahLst/>
              <a:rect l="textAreaLeft" t="textAreaTop" r="textAreaRight" b="textAreaBottom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35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49"/>
            <p:cNvSpPr/>
            <p:nvPr/>
          </p:nvSpPr>
          <p:spPr>
            <a:xfrm rot="1800000">
              <a:off x="307368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49" name="Hexagon 50"/>
            <p:cNvSpPr/>
            <p:nvPr/>
          </p:nvSpPr>
          <p:spPr>
            <a:xfrm rot="1800000">
              <a:off x="379764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0" name="Hexagon 51"/>
            <p:cNvSpPr/>
            <p:nvPr/>
          </p:nvSpPr>
          <p:spPr>
            <a:xfrm rot="1800000">
              <a:off x="3807360" y="15922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1" name="Hexagon 52"/>
            <p:cNvSpPr/>
            <p:nvPr/>
          </p:nvSpPr>
          <p:spPr>
            <a:xfrm rot="1800000">
              <a:off x="3054600" y="3254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2" name="Hexagon 53"/>
            <p:cNvSpPr/>
            <p:nvPr/>
          </p:nvSpPr>
          <p:spPr>
            <a:xfrm rot="1800000">
              <a:off x="4540680" y="53830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6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3" name="Freeform 54"/>
            <p:cNvSpPr/>
            <p:nvPr/>
          </p:nvSpPr>
          <p:spPr>
            <a:xfrm rot="1800000">
              <a:off x="-304560" y="4201200"/>
              <a:ext cx="1261080" cy="1387800"/>
            </a:xfrm>
            <a:custGeom>
              <a:avLst/>
              <a:gdLst>
                <a:gd name="textAreaLeft" fmla="*/ 0 w 1261080"/>
                <a:gd name="textAreaRight" fmla="*/ 1261440 w 1261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4" name="Hexagon 55"/>
            <p:cNvSpPr/>
            <p:nvPr/>
          </p:nvSpPr>
          <p:spPr>
            <a:xfrm rot="1800000">
              <a:off x="101880" y="54021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5" name="Hexagon 56"/>
            <p:cNvSpPr/>
            <p:nvPr/>
          </p:nvSpPr>
          <p:spPr>
            <a:xfrm rot="1800000">
              <a:off x="130680" y="284940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6" name="Hexagon 57"/>
            <p:cNvSpPr/>
            <p:nvPr/>
          </p:nvSpPr>
          <p:spPr>
            <a:xfrm rot="1800000">
              <a:off x="854280" y="412596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7" name="Hexagon 58"/>
            <p:cNvSpPr/>
            <p:nvPr/>
          </p:nvSpPr>
          <p:spPr>
            <a:xfrm rot="1800000">
              <a:off x="1587960" y="54115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8" name="Hexagon 59"/>
            <p:cNvSpPr/>
            <p:nvPr/>
          </p:nvSpPr>
          <p:spPr>
            <a:xfrm rot="1800000">
              <a:off x="1607040" y="285912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59" name="Hexagon 94"/>
            <p:cNvSpPr/>
            <p:nvPr/>
          </p:nvSpPr>
          <p:spPr>
            <a:xfrm rot="1800000">
              <a:off x="873360" y="1563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0" name="Hexagon 95"/>
            <p:cNvSpPr/>
            <p:nvPr/>
          </p:nvSpPr>
          <p:spPr>
            <a:xfrm rot="1800000">
              <a:off x="6883920" y="41446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10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1" name="Hexagon 96"/>
            <p:cNvSpPr/>
            <p:nvPr/>
          </p:nvSpPr>
          <p:spPr>
            <a:xfrm rot="1800000">
              <a:off x="7626600" y="542124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2" name="Hexagon 97"/>
            <p:cNvSpPr/>
            <p:nvPr/>
          </p:nvSpPr>
          <p:spPr>
            <a:xfrm rot="1800000">
              <a:off x="7626600" y="2868480"/>
              <a:ext cx="1600920" cy="138780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chemeClr val="bg1">
                <a:alpha val="7000"/>
              </a:schemeClr>
            </a:solidFill>
            <a:ln w="12700">
              <a:solidFill>
                <a:srgbClr val="ffffff">
                  <a:alpha val="8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3" name="Freeform 98"/>
            <p:cNvSpPr/>
            <p:nvPr/>
          </p:nvSpPr>
          <p:spPr>
            <a:xfrm rot="1800000">
              <a:off x="8384040" y="4055400"/>
              <a:ext cx="1243080" cy="1387800"/>
            </a:xfrm>
            <a:custGeom>
              <a:avLst/>
              <a:gdLst>
                <a:gd name="textAreaLeft" fmla="*/ 0 w 1243080"/>
                <a:gd name="textAreaRight" fmla="*/ 1243440 w 1243080"/>
                <a:gd name="textAreaTop" fmla="*/ 0 h 1387800"/>
                <a:gd name="textAreaBottom" fmla="*/ 1388160 h 1387800"/>
              </a:gdLst>
              <a:ahLst/>
              <a:rect l="textAreaLeft" t="textAreaTop" r="textAreaRight" b="textAreaBottom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chemeClr val="bg1">
                <a:alpha val="4000"/>
              </a:schemeClr>
            </a:solidFill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  <p:sp>
          <p:nvSpPr>
            <p:cNvPr id="164" name="Freeform 99"/>
            <p:cNvSpPr/>
            <p:nvPr/>
          </p:nvSpPr>
          <p:spPr>
            <a:xfrm rot="1800000">
              <a:off x="8384040" y="1511280"/>
              <a:ext cx="1241640" cy="1388520"/>
            </a:xfrm>
            <a:custGeom>
              <a:avLst/>
              <a:gdLst>
                <a:gd name="textAreaLeft" fmla="*/ 0 w 1241640"/>
                <a:gd name="textAreaRight" fmla="*/ 1242000 w 1241640"/>
                <a:gd name="textAreaTop" fmla="*/ 0 h 1388520"/>
                <a:gd name="textAreaBottom" fmla="*/ 1388880 h 1388520"/>
              </a:gdLst>
              <a:ahLst/>
              <a:rect l="textAreaLeft" t="textAreaTop" r="textAreaRight" b="textAreaBottom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7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entury Gothic"/>
              </a:endParaRPr>
            </a:p>
          </p:txBody>
        </p:sp>
      </p:grpSp>
      <p:sp>
        <p:nvSpPr>
          <p:cNvPr id="165" name="Rectangle 65"/>
          <p:cNvSpPr/>
          <p:nvPr/>
        </p:nvSpPr>
        <p:spPr>
          <a:xfrm>
            <a:off x="457200" y="333360"/>
            <a:ext cx="8229240" cy="6185160"/>
          </a:xfrm>
          <a:prstGeom prst="rect">
            <a:avLst/>
          </a:prstGeom>
          <a:solidFill>
            <a:schemeClr val="bg1"/>
          </a:solidFill>
          <a:ln w="635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6" name="Rectangle 69"/>
          <p:cNvSpPr/>
          <p:nvPr/>
        </p:nvSpPr>
        <p:spPr>
          <a:xfrm>
            <a:off x="4561200" y="-21600"/>
            <a:ext cx="3678840" cy="698760"/>
          </a:xfrm>
          <a:prstGeom prst="rect">
            <a:avLst/>
          </a:prstGeom>
          <a:solidFill>
            <a:srgbClr val="f5f5f5"/>
          </a:solidFill>
          <a:ln>
            <a:solidFill>
              <a:srgbClr val="caf278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7" name="Rectangle 70"/>
          <p:cNvSpPr/>
          <p:nvPr/>
        </p:nvSpPr>
        <p:spPr>
          <a:xfrm>
            <a:off x="4649040" y="-21600"/>
            <a:ext cx="3504960" cy="62352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3640" y="102780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3640" y="232380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бразец текст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40080" indent="-274320">
              <a:lnSpc>
                <a:spcPct val="100000"/>
              </a:lnSpc>
              <a:spcBef>
                <a:spcPts val="43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Второй уровень</a:t>
            </a:r>
            <a:endParaRPr b="0" lang="ru-RU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40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Третий уровень</a:t>
            </a:r>
            <a:endParaRPr b="0" lang="ru-RU" sz="2000" spc="-1" strike="noStrike">
              <a:solidFill>
                <a:srgbClr val="3e3d2d"/>
              </a:solidFill>
              <a:latin typeface="Century Gothic"/>
            </a:endParaRPr>
          </a:p>
          <a:p>
            <a:pPr lvl="3" marL="1124640" indent="-228600">
              <a:lnSpc>
                <a:spcPct val="100000"/>
              </a:lnSpc>
              <a:spcBef>
                <a:spcPts val="36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Четвертый уровень</a:t>
            </a:r>
            <a:endParaRPr b="0" lang="ru-RU" sz="18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880" indent="-228600">
              <a:lnSpc>
                <a:spcPct val="100000"/>
              </a:lnSpc>
              <a:spcBef>
                <a:spcPts val="3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1600" spc="-1" strike="noStrike">
                <a:solidFill>
                  <a:srgbClr val="3e3d2d"/>
                </a:solidFill>
                <a:latin typeface="Century Gothic"/>
              </a:rPr>
              <a:t>Пятый уровень</a:t>
            </a:r>
            <a:endParaRPr b="0" lang="ru-RU" sz="1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5997240" y="224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641480" y="5852160"/>
            <a:ext cx="3501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pl-PL" sz="12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chemeClr val="accent1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040" y="224640"/>
            <a:ext cx="1331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efe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6A6E3F-7CB0-43C5-82CF-6E7207EFC047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788000" y="1585440"/>
            <a:ext cx="3096000" cy="22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процедурного кабинета</a:t>
            </a:r>
            <a:r>
              <a:rPr b="1" i="1" lang="uk-UA" sz="2800" spc="-1" strike="noStrike">
                <a:solidFill>
                  <a:schemeClr val="accent1"/>
                </a:solidFill>
                <a:latin typeface="Century Gothic"/>
              </a:rPr>
              <a:t>.</a:t>
            </a:r>
            <a:r>
              <a:rPr b="1" i="1" lang="ru-RU" sz="2800" spc="-1" strike="noStrike">
                <a:solidFill>
                  <a:schemeClr val="accent1"/>
                </a:solidFill>
                <a:latin typeface="Century Gothic"/>
              </a:rPr>
              <a:t> Перевязочная в стационаре и поликлинике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640" y="3141720"/>
            <a:ext cx="3654720" cy="25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Выполни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Дембаев 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24242"/>
                </a:solidFill>
                <a:latin typeface="Century Gothic"/>
              </a:rPr>
              <a:t>Жорахан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47640" y="1989000"/>
            <a:ext cx="6952320" cy="4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7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Технология  постановки амидопириновой пробы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2061000"/>
            <a:ext cx="8064360" cy="43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26208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мешивают равные количества 5% спиртового раствора амидопирина, 30% уксусной кислоты и 3% раствора перекиси водорода (по 2—3 мл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 нестерильную вату наносят вышеуказанный реактив. Через несколько секунд при отсутствии цветовой реакции на вате этой ватой протирают поршень шприца, цилиндр с наружной стороны, иглы, канюлю внутри. Затем заливают реактивы в цилиндр шприца, пропускают их через шприц на другую ватку (проверяется цилиндр шприца)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сле этого на шприце закрепляют иглу, вновь наливают в цилиндр реактив и пропускают его через шприц и иглу (проверяется игла):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а) при наличии кровяных загрязнений на вате появляется сине-зеленое окрашивание. Окрашивание может наблюдаться при наличии на шприце остатков лекарственных средств, тройного раствора и хлорамина;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) при положительных пробах повторный контроль инструментов проводят ежедневно до получения 3-кратного отрицательного результата. 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7640" y="908640"/>
            <a:ext cx="82807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оздание особого микроклимата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99640" y="2323800"/>
            <a:ext cx="72723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ольшое внимание уделяется освещению палат . Прямые солнечные лучи обладают бактерицидным действием.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 то же время необходимо , чтобы освещение было достаточной интенсивности , равномерным , биологически полноценным по своему спектру 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7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Основные требования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1640" y="2205000"/>
            <a:ext cx="6912360" cy="396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ерсонал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Сотрудники предприятий должны быть одеты в специализированную одежду, которая закрывает туловище (комбинезон, или брюки и халат), голову (шапка и маска на лицо), ступни (ботинки) и руки (перчатки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Воздух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мещение оснащается приборами фильтрации и обеспечения вертикального перемещения потоков воздуха. Дополнительно устанавливаются датчики контроля давления, параметров микроклимата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/>
                </a:solidFill>
                <a:latin typeface="Century Gothic"/>
              </a:rPr>
              <a:t>Поверхности.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оверхности стен и пола укладываются с применением специального химически стойкого материалы, который обеспечивает отсутствие неровностей и швов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55640" y="548640"/>
            <a:ext cx="724032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Материалы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7640" y="1484640"/>
            <a:ext cx="7416360" cy="475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Применение одноразовых расходных материалов. Уборка помещений производится с использованием материалов недолгого срока службы, которые после уборки выбрасываются. Этот подход приводит к тому, что расходы на уборку составляют солидную долю в эксплуатационных издержка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52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ие многоразовых микроволоконных материалов. После уборки помещений расходники, для обеспечения их стерильности, отдают в стирку и обработку специализированным организациям, работающим на условиях аутсоринга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3640" y="11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План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7640" y="1700640"/>
            <a:ext cx="7488360" cy="46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, комплекс противоэпидемических мероприяти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е содержание помещений, оборудования, инвентаря (уборочный инвентарь, его маркировка, назначение, хранение, дезинфекция)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анитарно-противоэпидемический режим в процедурном кабинете, хирургических отделениях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85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ратность проведения текущей и генеральной дезинфекции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640" y="2323800"/>
            <a:ext cx="8064360" cy="40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й  режим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это совокупность строго регламентированных и обязательных для выполнения противоэпидемических мероприятий в конкретных лечебных учреждениях, для предупреждения возникновения, распространения ВБ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29760" indent="-2635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     </a:t>
            </a:r>
            <a:r>
              <a:rPr b="1" lang="ru-RU" sz="2400" spc="-1" strike="noStrike">
                <a:solidFill>
                  <a:srgbClr val="3e3d2d"/>
                </a:solidFill>
                <a:latin typeface="Century Gothic"/>
              </a:rPr>
              <a:t>Противоэпидемические  мероприятия 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- комплекс мероприятий, направленных на предупреждение формирования или разрыв путей передачи от источника инфекции к восприимчивому организму, а так же предотвращения экзо и эндогенного инфицирования этого восприимчивого организма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476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Комплекс включает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845000"/>
            <a:ext cx="763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Соблюдение асептики и антисептики при проведении лечебно-диагностических процедур (использование стерильного медицинского инструментария, перевязочного материала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Применение эффективных мер обеззараживания рук медицинского персонала и операционного поля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310320" indent="-248040">
              <a:lnSpc>
                <a:spcPct val="100000"/>
              </a:lnSpc>
              <a:spcBef>
                <a:spcPts val="1020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5100" spc="-1" strike="noStrike">
                <a:solidFill>
                  <a:srgbClr val="3e3d2d"/>
                </a:solidFill>
                <a:latin typeface="Century Gothic"/>
              </a:rPr>
              <a:t>Дезинфекцию объектов внешней среды, имеющих важное значение в механизме передачи возбудителей (постельные принадлежности, воздух, посуда, уборочный инвентарь).</a:t>
            </a:r>
            <a:endParaRPr b="0" lang="ru-RU" sz="51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4" descr=""/>
          <p:cNvPicPr/>
          <p:nvPr/>
        </p:nvPicPr>
        <p:blipFill>
          <a:blip r:embed="rId1"/>
          <a:stretch/>
        </p:blipFill>
        <p:spPr>
          <a:xfrm>
            <a:off x="4932000" y="1052640"/>
            <a:ext cx="303876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"/>
          <p:cNvPicPr/>
          <p:nvPr/>
        </p:nvPicPr>
        <p:blipFill>
          <a:blip r:embed="rId2"/>
          <a:stretch/>
        </p:blipFill>
        <p:spPr>
          <a:xfrm>
            <a:off x="747000" y="476640"/>
            <a:ext cx="3636360" cy="27237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6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4709520" cy="302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908640"/>
            <a:ext cx="70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е  содержание помещений.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3640" y="2205000"/>
            <a:ext cx="7632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помещения, оборудование, инвентарь должные содержаться в идеальной чистот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лажная уборка помещений должна осуществляться не менее одного раза в сутки, а при необходимости чаще с применением моющих средств и дезинфекции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Один раз в месяц в помещениях, где проводится работа с кровью, сывороткой делают генеральную уборку с использованием 3% раствора хлорамина, хлорной извести, извести белильной термостойкой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о время генеральной уборки тщательно моются стены, оборудование, мебель, проводится очистка полов от наслоений, пятен и т.д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10680" indent="-24804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Генеральные уборки проводятся по утвержденному графику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61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7640" y="1412640"/>
            <a:ext cx="748836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Все помещения УЗ условно  можно разделить  на: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2856600"/>
            <a:ext cx="7344360" cy="39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ребующие особого режима дезинфекции (т.н. режимные кабинеты);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432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ругие функциональные помещения: палаты, коридоры, лестницы, санитарно-бытовые помещения (туалеты, душевые, бельевые), кладовые, буфеты, столовые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32640"/>
            <a:ext cx="7848360" cy="18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/>
                </a:solidFill>
                <a:latin typeface="Century Gothic"/>
              </a:rPr>
              <a:t>Санитарно-противоэпидемический режим в процедурном кабинете</a:t>
            </a:r>
            <a:endParaRPr b="0" lang="ru-RU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421000"/>
            <a:ext cx="7776360" cy="420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7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се манипуляции  производится в перчатках.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терильные укладки готовятся на одну рабочую смену (6 часов). Пинцеты для захвата стерильных материалов хранятся в стерильных емкостях, заполненных растворами стерилянтов (6% Н2О2, тройной раствор, в исключительных случаях -"Сайдекс"). Уровень заливки растворов в емкости должен быть не более уровня рабочих поверхностей браншей.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99640" y="980640"/>
            <a:ext cx="7272360" cy="53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3160">
              <a:lnSpc>
                <a:spcPct val="100000"/>
              </a:lnSpc>
              <a:spcBef>
                <a:spcPts val="479"/>
              </a:spcBef>
              <a:buClr>
                <a:srgbClr val="94c600"/>
              </a:buClr>
              <a:buSzPct val="76000"/>
              <a:buFont typeface="Wingdings 2" charset="2"/>
              <a:buChar char=""/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прицы, иглы, пинцеты, зажимы, перчатки, системы для переливаний, зонды, катетеры и т. д. погружаются в один из дезинфицирующих растворов, затем промываются проточной водой и сдаются в ЦСО для предстерилизационной очистки и стерилизации. (Или, при отсутствии ЦСО, подвергаются предстерилизационной очистке.) </a:t>
            </a:r>
            <a:br>
              <a:rPr sz="2400"/>
            </a:b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Использованные шарики и другой перевязочный материал погружаются в 3% раствор хлорамина или хлорной извести на 2 часа, либо в 0,03% раствор нейтрального анолита на 30 минут.</a:t>
            </a:r>
            <a:endParaRPr b="0" lang="ru-RU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стин">
  <a:themeElements>
    <a:clrScheme name="Остин">
      <a:dk1>
        <a:srgbClr val="000000"/>
      </a:dk1>
      <a:lt1>
        <a:srgbClr val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e3d2d"/>
      </a:dk2>
      <a:lt2>
        <a:srgbClr val="caf278"/>
      </a:lt2>
      <a:accent1>
        <a:srgbClr val="94c600"/>
      </a:accent1>
      <a:accent2>
        <a:srgbClr val="71685a"/>
      </a:accent2>
      <a:accent3>
        <a:srgbClr val="ff6700"/>
      </a:accent3>
      <a:accent4>
        <a:srgbClr val="909465"/>
      </a:accent4>
      <a:accent5>
        <a:srgbClr val="956b43"/>
      </a:accent5>
      <a:accent6>
        <a:srgbClr val="fea022"/>
      </a:accent6>
      <a:hlink>
        <a:srgbClr val="e68200"/>
      </a:hlink>
      <a:folHlink>
        <a:srgbClr val="ffa94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75</TotalTime>
  <Application>LibreOffice/7.4.7.2$Linux_X86_64 LibreOffice_project/40$Build-2</Application>
  <AppVersion>15.0000</AppVersion>
  <Words>1275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04:45:53Z</dcterms:created>
  <dc:creator>DES</dc:creator>
  <dc:description/>
  <dc:language>en-US</dc:language>
  <cp:lastModifiedBy>LEGION</cp:lastModifiedBy>
  <dcterms:modified xsi:type="dcterms:W3CDTF">2015-12-31T12:51:01Z</dcterms:modified>
  <cp:revision>9</cp:revision>
  <dc:subject/>
  <dc:title>Санитарно-противоэпидемический режим процедурного кабин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Екран (4:3)</vt:lpwstr>
  </property>
  <property fmtid="{D5CDD505-2E9C-101B-9397-08002B2CF9AE}" pid="4" name="Slides">
    <vt:r8>13</vt:r8>
  </property>
</Properties>
</file>