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B6BAE-8AF0-4B6E-8502-3F9D36D7EF1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оловно-процессуаль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я курса лекций, подготовленная к.ю.н., доцентом  А.В. Верещаги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головно-процессуальное прав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езентация курса лекций, подготовленная к.ю.н., доцентом  А.В. Верещагино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ые стад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это относительно самостоятельные последовательно сменяющие друг друга этапы процессуальной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цессуальные стад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это относительно самостоятельные последовательно сменяющие друг друга этапы процессуальной деятельност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ая процессуальная стадия характеризуе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личием конкретных задач, подчиняющихся назначению уголовного судопроизвод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кругом участников уголовного процес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орядком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характером и формой итового для стадии реш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установленными в законе сроками этапа процессуальной деятелнь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аждая процессуальная стадия характеризуется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 наличием конкретных задач, подчиняющихся назначению уголовного судопроизводства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кругом участников уголовного процесса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порядком деятельности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характером и формой итового для стадии решения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установленными в законе сроками этапа процессуальной деятелньости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дии российского уголовного процесса делятся н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. Обязате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. Факультативные (дополнительные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тадии российского уголовного процесса делятся на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I. Обязательны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II. Факультативные (дополнительные)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обязательным стадиям российского уголовного процесса относя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. Досудебные стад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тадия возбуждения уголовного де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тадия предварительного расслед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. Судебные стад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одготовительные действия к судебному разбирательств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удебное разбирательств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оизводство в суде второй инстанции (апелляция и кассаци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исполнение пригово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 обязательным стадиям российского уголовного процесса относятс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I. Досудебные стад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стадия возбуждения уголовного дела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стадия предварительного расследован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II. Судебные стад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подготовительные действия к судебному разбирательству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судебное разбирательство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производство в суде второй инстанции (апелляция и кассация)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исполнение приговора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ультативные стадии российского уголовного судо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оизводство в надзорной инстан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возобновление дела по новым и вновь открывшимся обстоятельств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акультативные стадии российского уголовного судопроизводств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производство в надзорной инстанц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возобновление дела по новым и вновь открывшимся обстоятельства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ношение уголовного процесса и правосуд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С одной стороны по содержанию понятие «уголовный процесс» шире понятия «правосудие», т.к. уголовный процесс включает не толь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о по уголовному делу в суде, но и досудебное производств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С другой стороны понятие «уголовный процесс» уже понятия «правосудие», т.к. оно осуществляется не только по уголовным, но и по гражданским, административным  делам, в конституционном судопроизводстве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оотношение уголовного процесса и правосуд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 С одной стороны по содержанию понятие «уголовный процесс» шире понятия «правосудие», т.к. уголовный процесс включает не тольк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изводство по уголовному делу в суде, но и досудебное производство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. С другой стороны понятие «уголовный процесс» уже понятия «правосудие», т.к. оно осуществляется не только по уголовным, но и по гражданским, административным  делам, в конституционном судопроизводстве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1.Понятие и назначение уголовного судопроизводств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1.Понятие уголовно-процессуального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2.Цели уголовного проц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3. Процессуальные фо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4. Процессуальные гарант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5. Система стадий уголовного проц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ема 1.Понятие и назначение уголовного судопроизводства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1.Понятие уголовно-процессуального прав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2.Цели уголовного процесс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3. Процессуальные форм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4. Процессуальные гарант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5. Система стадий уголовного процесс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уголовно-процессуального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 уголовно-процессуальным правом следует понимать самостоятельную отрасль права, регламентирующую уголовно-процессуальную деятельность по возбуждению, расследованию и разрешению уголовных дел по существ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нятие уголовно-процессуального прав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д уголовно-процессуальным правом следует понимать самостоятельную отрасль права, регламентирующую уголовно-процессуальную деятельность по возбуждению, расследованию и разрешению уголовных дел по существу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(назначение) уголовного проц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защита прав и законных интересов лиц и организаций, потерпевших от преступл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защита личности от незаконного и необоснованного обвинения, осуждения, ограничения прав и своб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ль (назначение) уголовного процесс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защита прав и законных интересов лиц и организаций, потерпевших от преступлений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защита личности от незаконного и необоснованного обвинения, осуждения, ограничения прав и свобод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уголовно-процессуальной фо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 уголовно-процессуальной формой следует понимать установленный законом регламент расследования преступлений и рассмотрения уголовных дел в суд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нятие уголовно-процессуальной форм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д уголовно-процессуальной формой следует понимать установленный законом регламент расследования преступлений и рассмотрения уголовных дел в судах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оловно-процессуальная форма характеризуется-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всеобщн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единст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бязательн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головно-процессуальная форма характеризуется- 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всеобщностью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единство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обязательностью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процессуальных фо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частно-обвинитель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инквизиционный (следственны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мешан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остязательный (обвинительны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иды процессуальных фор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частно-обвинительны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инквизиционный (следственный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смешанны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состязательный (обвинительный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лементы уголовно-процессуальной форм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цел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инцип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фун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сновные элементы уголовно-процессуальной формы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цель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принципы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функц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ые гарант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 широком смысле слова все уголовно-процессуальное право от общих принципов до конкретных норм представляет собой совокупность процессуальных гарант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в узком смысле слова в отдельно взятых процессуальных институтах имеется оригинальный набор норм, обеспечивающих права и свободы личности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цессуальные гарант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 в широком смысле слова все уголовно-процессуальное право от общих принципов до конкретных норм представляет собой совокупность процессуальных гаранти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в узком смысле слова в отдельно взятых процессуальных институтах имеется оригинальный набор норм, обеспечивающих права и свободы личности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7DF5-8C44-462A-B55D-32806EC32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43D5-65B1-48AC-B850-639ADE6FF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E57C-1584-4970-A44D-B5D76E1BC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1F45-91E2-4FA7-B81C-B1921CAFF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ECEA5-0320-49EA-8F57-4CBC96F8E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30153-38C3-4E7D-8362-0C3B885EA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64D2C-4C8A-4729-AFA3-791055052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9967C-169F-4814-9FB7-241910DD0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EB6E7-2CB1-49D7-BB03-3ACF90EE3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ECBED-FECF-4357-8774-232E6F6B3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EC794-13A6-46BB-B660-D370A480F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135D-3396-424C-89C7-4A7C0F099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33DCF-6D49-4EFD-8DC9-A7A69CD10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C8E1E-21DF-4609-BE5A-DFCBDCCAD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147F9-B62F-4E2A-8D3D-21653740D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7C105-C7BF-4491-8DE9-826C7093E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C506A-1B1C-4CE1-B340-4FD875EDF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5106-B3FD-4DA1-88B2-ECF0934B8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3FFE-1A86-4ACD-BEC5-D672C1C5F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1394-AA2A-45BE-B9B6-FF1858AA0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53F0-6408-410B-AB1A-B7301764C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C86B-9D21-4985-B80C-02B0EEE2A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7A6E-8ABD-42D4-AECE-2DE5B02EC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1B04-8C55-47FA-A11B-8EC931DB5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E2E0D-9370-428A-9114-7335892D8D8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62DC4-F8C9-47C3-B9B0-812CFD294CE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bbd71"/>
                </a:solidFill>
                <a:latin typeface="Arial"/>
              </a:rPr>
              <a:t>Уголовно-процессуальное право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зентация курса лекций, подготовленная к.ю.н., доцентом  А.В. Верещагин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Процессуальные стади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это относительно самостоятельные последовательно сменяющие друг друга этапы процессуальной деятельност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Каждая процессуальная стадия характеризуется: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наличием конкретных задач, подчиняющихся назначению уголовного судопроизводств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кругом участников уголовного процесс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порядком деятельност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характером и формой итового для стадии реше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установленными в законе сроками этапа процессуальной деятелньост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Стадии российского уголовного процесса делятся на: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 Обязатель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 Факультативные (дополнительные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К обязательным стадиям российского уголовного процесса относятся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528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Досудебные стад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стадия возбуждения уголовного дел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стадия предварительного расследова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Судебные стад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подготовительные действия к судебному разбирательству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судебное разбирательство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производство в суде второй инстанции (апелляция и кассация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исполнение приговор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Факультативные стадии российского уголовного судопроизводства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964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производство в надзорной инстан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возобновление дела по новым и вновь открывшимся обстоятельства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Соотношение уголовного процесса и правосудия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 С одной стороны по содержанию понятие «уголовный процесс» шире понятия «правосудие», т.к. уголовный процесс включает не тольк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изводство по уголовному делу в суде, но и досудебное производство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 С другой стороны понятие «уголовный процесс» уже понятия «правосудие», т.к. оно осуществляется не только по уголовным, но и по гражданским, административным  делам, в конституционном судопроизводстве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Тема 1.Понятие и назначение уголовного судопроизводства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1.Понятие уголовно-процессуального пра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2.Цели уголовного процес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3. Процессуальные форм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4. Процессуальные гарант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5. Система стадий уголовного процес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Понятие уголовно-процессуального права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д уголовно-процессуальным правом следует понимать самостоятельную отрасль права, регламентирующую уголовно-процессуальную деятельность по возбуждению, расследованию и разрешению уголовных дел по существу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Цель (назначение) уголовного процесса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защита прав и законных интересов лиц и организаций, потерпевших от преступлени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защита личности от незаконного и необоснованного обвинения, осуждения, ограничения прав и свобо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Понятие уголовно-процессуальной формы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д уголовно-процессуальной формой следует понимать установленный законом регламент расследования преступлений и рассмотрения уголовных дел в суда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dbbd71"/>
                </a:solidFill>
                <a:latin typeface="Arial"/>
              </a:rPr>
              <a:t>Уголовно-процессуальная форма характеризуется- </a:t>
            </a:r>
            <a:br>
              <a:rPr sz="4800"/>
            </a:b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332000" y="256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-всеобщностью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-единством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-обязательностью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Виды процессуальных форм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частно-обвинительны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инквизиционный (следственный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смешанны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состязательный (обвинительный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Основные элементы уголовно-процессуальной формы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2400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цель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принципы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функ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Процессуальные гаранти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 широком смысле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слова все уголовно-процессуальное право от общих принципов до конкретных норм представляет собой совокупность процессуальных гарант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 узком смысле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слова в отдельно взятых процессуальных институтах имеется оригинальный набор норм, обеспечивающих права и свободы личности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5T13:48:35Z</dcterms:created>
  <dc:creator>Верещагина Катарина</dc:creator>
  <dc:description/>
  <dc:language>en-US</dc:language>
  <cp:lastModifiedBy>LEGION</cp:lastModifiedBy>
  <dcterms:modified xsi:type="dcterms:W3CDTF">2016-01-04T08:11:16Z</dcterms:modified>
  <cp:revision>27</cp:revision>
  <dc:subject/>
  <dc:title>Уголовно-процессуальное право</dc:title>
</cp:coreProperties>
</file>