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6073-C4D6-43E8-ABFA-9ADDC76EE4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это относительно самостоятельные последовательно сменяющие друг друга этапы процессуальной 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ядком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процессуальная стадия характеризуе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Обяз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Факультативные (дополните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адии российского уголовного процесса делятся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Обязательн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Факультативные (дополнительные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 До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Судебные ста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удебное разбиратель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сполнение приго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 обязательным стадиям российского уголовного процесса относят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. До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II. Судебные стад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ультативные стадии российского уголовн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отношение уголовного процесса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Цели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Процессуаль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ма 1.Понятие и назначение уголовного судопроизводств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(назначение) уголовного процес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уголовно-процессуальной фор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сеобщ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един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бяза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головно-процессуальная форма характеризуется-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о-обвин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квизиционный (следствен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еша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язательный (обвинительн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процессуальных фор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ц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элементы уголовно-процессуальной формы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гаран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уальные гаран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в широком смысле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в узком смысле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DFA-0B7C-4E20-AE25-1E880EE1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2F2-4E1D-4221-A27B-2C7920EC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174-C2A3-4DCA-9651-77129A7C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38F6-0BC7-44B8-BF9D-040D92AA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44F1-801C-458D-99BA-7FFD282C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88A0-1260-4CA3-B74B-637B451B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4239-3E89-40B8-BB3D-3A6D57E9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1FF4-7E0A-4223-868D-670220B3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205F-A264-4887-A5A8-82B3D15D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738E-80C4-4719-AA8F-9E08DB65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0246-23BE-4B20-8080-83F93273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302-8CF4-4190-A0A2-7CD0D440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B024-57BE-420D-BBA5-A56828F2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21F3-6C44-4E7B-BEC8-CE37110C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FDD7-5672-4590-A01F-F2156D06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738D-2CA4-4FE3-9487-50E8CE95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529A-8673-4526-A96D-1416A06F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A08-F3C0-43B4-8F60-F3C15795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85E-40E2-4F9A-8DBC-03A4A029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FB4-6753-4405-BD3D-6A15F1B7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AFA-7594-4F93-AFAB-130F5A31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4A6-4D51-41EC-95B2-A7DE9DF2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1F4-A7DB-435D-B0BD-7F71F4B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9AD-B89C-4415-B97C-0DE0E78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51BB-5305-4311-B95B-C52DFE95E9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8C65-FC74-4617-98AC-5C036A18E9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Уголовно-процессуальное право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урса лекций, подготовленная к.ю.н., доцентом  А.В. Верещаги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стад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то относительно самостоятельные последовательно сменяющие друг друга этапы процессуальной деятель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аждая процессуальная стадия характеризуетс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наличием конкретных задач, подчиняющихся назначению уголовного судопроизвод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кругом участников уголов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рядком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характером и формой итового для стадии реш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ленными в законе сроками этапа процессуальной деятелнь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тадии российского уголовного процесса делятся на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Обязате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Факультативные (дополнительные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 обязательным стадиям российского уголовного процесса относят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До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возбуждения уголовного де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тадия предварительного расследо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дебные стад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дготовительные действия к судебному разбирательст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судебное разбирательств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роизводство в суде второй инстанции (апелляция и кассац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исполнение пригово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ультативные стадии российского уголовного судопроизвод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оизводство в надзорной инста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возобновление дела по новым и вновь открывшимся обстоятельств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Соотношение уголовного процесса и правосуд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С одной стороны по содержанию понятие «уголовный процесс» шире понятия «правосудие», т.к. уголовный процесс включает не толь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изводство по уголовному делу в суде, но и досудебное производс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С другой стороны понятие «уголовный процесс» уже понятия «правосудие», т.к. оно осуществляется не только по уголовным, но и по гражданским, административным  делам, в конституционном судопроизводств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ма 1.Понятие и назначение уголовного судопроизводства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Понятие уголовно-процессуального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Цели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Процессуальные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Процессуальные гаран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Система стадий уголов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го пра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ым правом следует понимать самостоятельную отрасль права, регламентирующую уголовно-процессуальную деятельность по возбуждению, расследованию и разрешению уголовных дел по существ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Цель (назначение) уголовного процес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прав и законных интересов лиц и организаций, потерпевших от преступл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защита личности от незаконного и необоснованного обвинения, осуждения, ограничения прав и своб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онятие уголовно-процессуальной форм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уголовно-процессуальной формой следует понимать установленный законом регламент расследования преступлений и рассмотрения уголовных дел в су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Arial"/>
              </a:rPr>
              <a:t>Уголовно-процессуальная форма характеризуется- 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всеобщ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единство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обязательность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процессуальных форм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астно-обвините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нквизиционный (следствен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мешан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состязательный (обвинитель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сновные элементы уголовно-процессуальной формы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це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ринцип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функ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цессуальные гарант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широ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се уголовно-процессуальное право от общих принципов до конкретных норм представляет собой совокупность процессуальных гаран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узком смысл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лова в отдельно взятых процессуальных институтах имеется оригинальный набор норм, обеспечивающих права и свободы личност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3:48:35Z</dcterms:created>
  <dc:creator>Верещагина Катарина</dc:creator>
  <dc:description/>
  <dc:language>en-US</dc:language>
  <cp:lastModifiedBy>LEGION</cp:lastModifiedBy>
  <dcterms:modified xsi:type="dcterms:W3CDTF">2016-01-04T08:11:16Z</dcterms:modified>
  <cp:revision>27</cp:revision>
  <dc:subject/>
  <dc:title>Уголовно-процессуальное право</dc:title>
</cp:coreProperties>
</file>