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63CC-3B63-40C0-A510-41DCAF117B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ядком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Обяз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Факультативные (дополните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Обязатель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Факультативные (дополнительные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До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ебное разбиратель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сполнение приго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До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Цели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Процессуаль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сеобщ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дин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яза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о-обвин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квизиционный (следствен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еша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ый (обвинитель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процессуальных фор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F6A-F834-4727-A7FB-34026915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DC0-48E8-4070-BAC5-E132BE04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13F-FF87-4407-A480-2CB1ADEF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099-4137-4F01-AC77-753EBEAD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D52A-0BCB-4738-9072-46484324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A331-659B-46AD-B69C-B5690D53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C755-7B75-46BE-8490-5CEC9BF1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624F-3293-4F27-9205-BDEF1E1C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6A1F-934B-4CAA-AE70-4474B39C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602F-5A9F-419D-8E70-629A506D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8F1C-7E6D-41D0-A287-1ADBCAE5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C90-2AEA-4DAE-991D-05F5CC4D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DE55-329B-4BBF-9971-9654747C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299D-D098-4AD4-9CF9-EAC57C86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BD51-2ADC-4716-BA3F-E90E722E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A02F-E5C3-468B-965F-CF663427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D178-B631-42D2-94D5-E351F7BA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FCD-7DE9-4362-AF40-9D21EEE1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8AB-93C7-4C9B-A097-94F5C4B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D39-7523-46DE-9247-6B447AFB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B48-905E-4753-A20A-61F61842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364-2DE8-4236-8536-EA19EED3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443-F5F9-4E82-AB64-41688AA1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17F-543D-43E3-8D9D-908546C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3BB8-659A-4DD3-A240-63D009D003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68E3-9D52-4CEC-A108-081A546D25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Уголовно-процессуальное право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стад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относительно самостоятельные последовательно сменяющие друг друга этапы процессуальной деятель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аждая процессуальная стадия характеризуе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адии российского уголовного процесса делятся н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бяз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Факультативные (дополнительные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 обязательным стадиям российского уголовного процесса относятс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о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ультативные стадии российского уголовного судопроизвод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оотношение уголовного процесса и правосуд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 1.Понятие и назначение уголовного судопроизводст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Цель (назначение) уголовного процес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й форм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Уголовно-процессуальная форма характеризуется- 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процессуальных фор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новные элементы уголовно-процессуальной фор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гарант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широ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уз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8:35Z</dcterms:created>
  <dc:creator>Верещагина Катарина</dc:creator>
  <dc:description/>
  <dc:language>en-US</dc:language>
  <cp:lastModifiedBy>LEGION</cp:lastModifiedBy>
  <dcterms:modified xsi:type="dcterms:W3CDTF">2016-01-04T08:11:16Z</dcterms:modified>
  <cp:revision>27</cp:revision>
  <dc:subject/>
  <dc:title>Уголовно-процессуальное право</dc:title>
</cp:coreProperties>
</file>