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1.gif" ContentType="image/gif"/>
  <Override PartName="/ppt/media/image14.png" ContentType="image/png"/>
  <Override PartName="/ppt/media/image7.jpeg" ContentType="image/jpeg"/>
  <Override PartName="/ppt/media/image6.jpeg" ContentType="image/jpeg"/>
  <Override PartName="/ppt/media/image10.gif" ContentType="image/gif"/>
  <Override PartName="/ppt/media/image9.png" ContentType="image/png"/>
  <Override PartName="/ppt/media/image5.gif" ContentType="image/gif"/>
  <Override PartName="/ppt/media/image13.gif" ContentType="image/gif"/>
  <Override PartName="/ppt/media/image16.jpeg" ContentType="image/jpeg"/>
  <Override PartName="/ppt/media/image8.gif" ContentType="image/gif"/>
  <Override PartName="/ppt/media/image26.gif" ContentType="image/gif"/>
  <Override PartName="/ppt/media/image15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3.jpeg" ContentType="image/jpeg"/>
  <Override PartName="/ppt/media/image2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718D-C745-4A98-939B-47DAC706C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панова Татьяна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истории  и обществозн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У СОШ № 13 г.Тамбова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ведем итог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 условие добродетельной жизни.»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с точки зрения зак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не есть добродетель, но необходимое условие добродетельной жизни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.Толст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Лентяй да шалопай – два родных брат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Хочешь есть калачи – не лежи на печ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руд человека кормит, а лень порт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ли подросткам трудиться и зарабатывать деньг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на труд –важнейшее и неотъемлем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декс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C23-C2D4-488D-95D0-BE36F4F7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A3A-4756-4F2A-BB2C-BB20D3E2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6BB-38A7-4471-AB36-CF9319FA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68D-C4C0-4B4C-9CFB-0FBBAC8B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15BC-AD45-420D-8950-0B0AFBEB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2E7-7FF8-407E-93C9-A9AC1F7C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765-B4C4-4480-9F7A-27F479C7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252-5005-44DE-8A11-6A5BDFA0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5CE1-0B5B-44BA-BAB3-8CEFC374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5A9-FB77-4ACB-9D50-02FBBD09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F25-A339-444B-AE82-D3240855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268-AA57-4C7F-879D-CEE6DB8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99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BF53-6DD4-4245-9B90-4310070EDF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Степанова Татьян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учитель истории  и обществозн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МАОУ СОШ № 13 г.Тамбов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рок обществознания  6 класс по теме «Труд с точки зрения зако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838080" y="2368440"/>
            <a:ext cx="2971800" cy="43228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догов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00600" y="1904760"/>
            <a:ext cx="419112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чий лист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определение понятия «Трудовой дого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е пункты предусмотрен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акого возраста закон разрешает трудоустройство по общему правилу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еобходимо для заключения трудового договора с учащимися  с 14 лет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трудовой договор может быть расторгну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Текст 11"/>
          <p:cNvSpPr/>
          <p:nvPr/>
        </p:nvSpPr>
        <p:spPr>
          <a:xfrm>
            <a:off x="152280" y="1981080"/>
            <a:ext cx="41911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Таня.F52B12A72E7B40C\Рабочий стол\труд\trudovoy-dogovor.jpg"/>
          <p:cNvPicPr/>
          <p:nvPr/>
        </p:nvPicPr>
        <p:blipFill>
          <a:blip r:embed="rId1"/>
          <a:stretch/>
        </p:blipFill>
        <p:spPr>
          <a:xfrm>
            <a:off x="674640" y="2666880"/>
            <a:ext cx="3963960" cy="34480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бочий лист   2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говорится в Конституции РФ об отдыхе? Приложение 1 Статья 37 п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чему право на отдых рассматривается там же, где и право на труд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й недели в РФ?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включает в себя время отдых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ова минимальная продолжительность ежегодного отпуск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ие праздничные дни предусмотрены законом РФ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такое пенсия? Каков пенсионный возраст в РФ?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у еще положены социальные выплат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йте возможны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Текст 11"/>
          <p:cNvSpPr/>
          <p:nvPr/>
        </p:nvSpPr>
        <p:spPr>
          <a:xfrm>
            <a:off x="152280" y="1981080"/>
            <a:ext cx="34290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228600" y="274680"/>
            <a:ext cx="8458200" cy="155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 на отдых и социальное обеспе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Чупров Леонид\Мои документы\А. наглядность\А. фон природа\02.gif"/>
          <p:cNvPicPr/>
          <p:nvPr/>
        </p:nvPicPr>
        <p:blipFill>
          <a:blip r:embed="rId1"/>
          <a:stretch/>
        </p:blipFill>
        <p:spPr>
          <a:xfrm>
            <a:off x="247680" y="2057400"/>
            <a:ext cx="3276720" cy="4444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Documents and Settings\Чупров Леонид\Мои документы\А. наглядность\А. люди анимация\peopls166.gif"/>
          <p:cNvPicPr/>
          <p:nvPr/>
        </p:nvPicPr>
        <p:blipFill>
          <a:blip r:embed="rId2"/>
          <a:stretch/>
        </p:blipFill>
        <p:spPr>
          <a:xfrm>
            <a:off x="7696080" y="5334120"/>
            <a:ext cx="1086120" cy="1085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Чупров Леонид\Мои документы\А. наглядность\А. люди анимация\hiker_roasting01.gif"/>
          <p:cNvPicPr/>
          <p:nvPr/>
        </p:nvPicPr>
        <p:blipFill>
          <a:blip r:embed="rId3"/>
          <a:stretch/>
        </p:blipFill>
        <p:spPr>
          <a:xfrm>
            <a:off x="1828800" y="3352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Чупров Леонид\Мои документы\А. наглядность\А. люди анимация\album_0308172145_9443.gif"/>
          <p:cNvPicPr/>
          <p:nvPr/>
        </p:nvPicPr>
        <p:blipFill>
          <a:blip r:embed="rId4"/>
          <a:stretch/>
        </p:blipFill>
        <p:spPr>
          <a:xfrm>
            <a:off x="6858000" y="1136520"/>
            <a:ext cx="1600200" cy="13543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80880" y="380880"/>
            <a:ext cx="8382240" cy="129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авовое регулирование труда несовершеннолет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чий лист   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вовое регулирование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 по закону считается несовершеннолетни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государство заботится об их здоровь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а продолжительность рабочего дня несовершеннолетни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каким работам не привлекаются несовершеннолетни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ие льготы предусмотрены в ежегодном отпуске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ов порядок их увольнения?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делайте возможные выводы об особенностях регулирования труда несовершеннолет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1"/>
          <a:stretch/>
        </p:blipFill>
        <p:spPr>
          <a:xfrm>
            <a:off x="1523880" y="4876920"/>
            <a:ext cx="1143000" cy="1533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C:\Documents and Settings\Таня.F52B12A72E7B40C\Рабочий стол\труд\trud1.jpg"/>
          <p:cNvPicPr/>
          <p:nvPr/>
        </p:nvPicPr>
        <p:blipFill>
          <a:blip r:embed="rId2"/>
          <a:stretch/>
        </p:blipFill>
        <p:spPr>
          <a:xfrm>
            <a:off x="304920" y="2209680"/>
            <a:ext cx="344808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одведем 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447920" y="1771200"/>
            <a:ext cx="6705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руд  людей, занятых в общественном производстве, в совре­менной России регулируется Конституцией РФ, а также другими законами и подзаконными  актами.  Важным законом является Трудовой кодекс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 Законами установлены правила приема на работу,  заключении трудового договора и его расторжения, продолжительность труда и отды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  Труд несовершеннолетних охраняется законами. Им предоставляются льготные условия трудов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D:\Мои рисунки\Оля\Рисунок2.jpg"/>
          <p:cNvPicPr/>
          <p:nvPr/>
        </p:nvPicPr>
        <p:blipFill>
          <a:blip r:embed="rId1"/>
          <a:stretch/>
        </p:blipFill>
        <p:spPr>
          <a:xfrm>
            <a:off x="304920" y="2133720"/>
            <a:ext cx="123192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Таня.F52B12A72E7B40C\Рабочий стол\труд\7-1.jpg"/>
          <p:cNvPicPr/>
          <p:nvPr/>
        </p:nvPicPr>
        <p:blipFill>
          <a:blip r:embed="rId2"/>
          <a:stretch/>
        </p:blipFill>
        <p:spPr>
          <a:xfrm>
            <a:off x="228600" y="4343400"/>
            <a:ext cx="1228680" cy="1787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Таня.F52B12A72E7B40C\Рабочий стол\труд\detskiy-trud.jpg"/>
          <p:cNvPicPr/>
          <p:nvPr/>
        </p:nvPicPr>
        <p:blipFill>
          <a:blip r:embed="rId3"/>
          <a:stretch/>
        </p:blipFill>
        <p:spPr>
          <a:xfrm>
            <a:off x="7010280" y="5562720"/>
            <a:ext cx="1752840" cy="1130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800600" y="609120"/>
            <a:ext cx="4114800" cy="5791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Таня.F52B12A72E7B40C\Рабочий стол\труд\final_shmel060807-6.jpg"/>
          <p:cNvPicPr/>
          <p:nvPr/>
        </p:nvPicPr>
        <p:blipFill>
          <a:blip r:embed="rId1"/>
          <a:stretch/>
        </p:blipFill>
        <p:spPr>
          <a:xfrm>
            <a:off x="5181480" y="1371600"/>
            <a:ext cx="3429000" cy="4275000"/>
          </a:xfrm>
          <a:prstGeom prst="rect">
            <a:avLst/>
          </a:prstGeom>
          <a:ln w="0">
            <a:noFill/>
          </a:ln>
        </p:spPr>
      </p:pic>
      <p:sp>
        <p:nvSpPr>
          <p:cNvPr id="130" name="Текст 11"/>
          <p:cNvSpPr/>
          <p:nvPr/>
        </p:nvSpPr>
        <p:spPr>
          <a:xfrm>
            <a:off x="304920" y="609480"/>
            <a:ext cx="4190760" cy="58676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не есть добродетель, но необходимое  условие добродетельной жизни.»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(Л.Толс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C:\Documents and Settings\Чупров Леонид\Мои документы\А. наглядность\А. люди анимация\41_1.gif"/>
          <p:cNvPicPr/>
          <p:nvPr/>
        </p:nvPicPr>
        <p:blipFill>
          <a:blip r:embed="rId2"/>
          <a:stretch/>
        </p:blipFill>
        <p:spPr>
          <a:xfrm>
            <a:off x="3657600" y="4876920"/>
            <a:ext cx="1143000" cy="153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4"/>
          <p:cNvSpPr/>
          <p:nvPr/>
        </p:nvSpPr>
        <p:spPr>
          <a:xfrm>
            <a:off x="457200" y="228600"/>
            <a:ext cx="8305920" cy="63244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Спасиб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Arial Black"/>
              </a:rPr>
              <a:t>за внимание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Мои рисунки\Коллекция картинок (Microsoft)\j0315816.gif"/>
          <p:cNvPicPr/>
          <p:nvPr/>
        </p:nvPicPr>
        <p:blipFill>
          <a:blip r:embed="rId1"/>
          <a:stretch/>
        </p:blipFill>
        <p:spPr>
          <a:xfrm>
            <a:off x="7010280" y="533412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Труд с точки зрения зако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екст 11"/>
          <p:cNvSpPr/>
          <p:nvPr/>
        </p:nvSpPr>
        <p:spPr>
          <a:xfrm>
            <a:off x="4648320" y="1828800"/>
            <a:ext cx="4114800" cy="4876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Documents and Settings\Таня.F52B12A72E7B40C\Рабочий стол\труд\1235993383_nb_pinacoteca_nesterov_portrait_of_count_leo_tolst.jpg"/>
          <p:cNvPicPr/>
          <p:nvPr/>
        </p:nvPicPr>
        <p:blipFill>
          <a:blip r:embed="rId1"/>
          <a:stretch/>
        </p:blipFill>
        <p:spPr>
          <a:xfrm>
            <a:off x="4800600" y="1981080"/>
            <a:ext cx="3765600" cy="4551480"/>
          </a:xfrm>
          <a:prstGeom prst="rect">
            <a:avLst/>
          </a:prstGeom>
          <a:ln w="0">
            <a:noFill/>
          </a:ln>
        </p:spPr>
      </p:pic>
      <p:sp>
        <p:nvSpPr>
          <p:cNvPr id="55" name="Текст 11"/>
          <p:cNvSpPr/>
          <p:nvPr/>
        </p:nvSpPr>
        <p:spPr>
          <a:xfrm>
            <a:off x="304920" y="3886200"/>
            <a:ext cx="4038480" cy="27432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Documents and Settings\Таня.F52B12A72E7B40C\Рабочий стол\труд\215550.jpg"/>
          <p:cNvPicPr/>
          <p:nvPr/>
        </p:nvPicPr>
        <p:blipFill>
          <a:blip r:embed="rId2"/>
          <a:stretch/>
        </p:blipFill>
        <p:spPr>
          <a:xfrm>
            <a:off x="609480" y="4191120"/>
            <a:ext cx="3276720" cy="2206440"/>
          </a:xfrm>
          <a:prstGeom prst="rect">
            <a:avLst/>
          </a:prstGeom>
          <a:ln w="0">
            <a:noFill/>
          </a:ln>
        </p:spPr>
      </p:pic>
      <p:sp>
        <p:nvSpPr>
          <p:cNvPr id="57" name="Текст 11"/>
          <p:cNvSpPr/>
          <p:nvPr/>
        </p:nvSpPr>
        <p:spPr>
          <a:xfrm>
            <a:off x="228600" y="1828800"/>
            <a:ext cx="4038480" cy="1676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Труд не есть добродетель, но необходимое условие добродетельной жизни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Л.Толстой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8959680" y="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724640" cy="472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тдых и социальн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сти правового регулирования труда несовершеннолетни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Текст 11"/>
          <p:cNvSpPr/>
          <p:nvPr/>
        </p:nvSpPr>
        <p:spPr>
          <a:xfrm>
            <a:off x="152280" y="1981080"/>
            <a:ext cx="373392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Documents and Settings\Таня.F52B12A72E7B40C\Рабочий стол\труд\pic.jpeg"/>
          <p:cNvPicPr/>
          <p:nvPr/>
        </p:nvPicPr>
        <p:blipFill>
          <a:blip r:embed="rId1"/>
          <a:stretch/>
        </p:blipFill>
        <p:spPr>
          <a:xfrm>
            <a:off x="457200" y="2209680"/>
            <a:ext cx="3257640" cy="4343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3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C:\Documents and Settings\Чупров Леонид\Мои документы\А. наглядность\Анимации исторические\peo-engineer.gif"/>
          <p:cNvPicPr/>
          <p:nvPr/>
        </p:nvPicPr>
        <p:blipFill>
          <a:blip r:embed="rId2"/>
          <a:stretch/>
        </p:blipFill>
        <p:spPr>
          <a:xfrm>
            <a:off x="7772400" y="20574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457200" y="609480"/>
            <a:ext cx="8153280" cy="4267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Лентяй да шалопай – два родных брата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 Хочешь есть калачи – не лежи на печ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 Black"/>
              </a:rPr>
              <a:t>«Труд человека кормит, а лень порт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0"/>
            <a:ext cx="363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 11"/>
          <p:cNvSpPr/>
          <p:nvPr/>
        </p:nvSpPr>
        <p:spPr>
          <a:xfrm>
            <a:off x="2895480" y="3733920"/>
            <a:ext cx="3810240" cy="29718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3449880" cy="2590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3"/>
          <p:cNvSpPr/>
          <p:nvPr/>
        </p:nvSpPr>
        <p:spPr>
          <a:xfrm>
            <a:off x="685800" y="533520"/>
            <a:ext cx="8153280" cy="2057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ТРУД – это использование времени, энергии и способностей людей для производства и распределения товаров и у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C:\Documents and Settings\Таня.F52B12A72E7B40C\Рабочий стол\труд\trud1.jpg"/>
          <p:cNvPicPr/>
          <p:nvPr/>
        </p:nvPicPr>
        <p:blipFill>
          <a:blip r:embed="rId1"/>
          <a:stretch/>
        </p:blipFill>
        <p:spPr>
          <a:xfrm>
            <a:off x="2895480" y="2286000"/>
            <a:ext cx="5486400" cy="4121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Documents and Settings\Чупров Леонид\Мои документы\А. наглядность\А. люди анимация\peopls79.gif"/>
          <p:cNvPicPr/>
          <p:nvPr/>
        </p:nvPicPr>
        <p:blipFill>
          <a:blip r:embed="rId2"/>
          <a:stretch/>
        </p:blipFill>
        <p:spPr>
          <a:xfrm>
            <a:off x="380880" y="4038480"/>
            <a:ext cx="1863720" cy="1683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Нужно ли подросткам трудиться и зарабатывать деньги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5800" y="3048120"/>
          <a:ext cx="8077320" cy="261756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97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остки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дростковом возрасте дети не должны трудиться и зарабатывать день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114800" y="4952880"/>
            <a:ext cx="1295280" cy="16606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9718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бодно выбирать раб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ть справедливые и благоприятные условия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у от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Documents and Settings\Чупров Леонид\Мои документы\А. наглядность\Анимации исторические\peo-relaxin_dude.gif"/>
          <p:cNvPicPr/>
          <p:nvPr/>
        </p:nvPicPr>
        <p:blipFill>
          <a:blip r:embed="rId1"/>
          <a:stretch/>
        </p:blipFill>
        <p:spPr>
          <a:xfrm>
            <a:off x="1219320" y="3429000"/>
            <a:ext cx="2479680" cy="1157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Documents and Settings\Чупров Леонид\Мои документы\А. наглядность\А. люди анимация\peopls91.gif"/>
          <p:cNvPicPr/>
          <p:nvPr/>
        </p:nvPicPr>
        <p:blipFill>
          <a:blip r:embed="rId2"/>
          <a:stretch/>
        </p:blipFill>
        <p:spPr>
          <a:xfrm>
            <a:off x="7238880" y="3124080"/>
            <a:ext cx="952560" cy="851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Documents and Settings\Чупров Леонид\Мои документы\А. наглядность\Анимации исторические\man26.gif"/>
          <p:cNvPicPr/>
          <p:nvPr/>
        </p:nvPicPr>
        <p:blipFill>
          <a:blip r:embed="rId3"/>
          <a:stretch/>
        </p:blipFill>
        <p:spPr>
          <a:xfrm>
            <a:off x="6095880" y="5486400"/>
            <a:ext cx="1811520" cy="101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Documents and Settings\Чупров Леонид\Мои документы\А. наглядность\А. люди анимация\hw06.gif"/>
          <p:cNvPicPr/>
          <p:nvPr/>
        </p:nvPicPr>
        <p:blipFill>
          <a:blip r:embed="rId4"/>
          <a:stretch/>
        </p:blipFill>
        <p:spPr>
          <a:xfrm>
            <a:off x="4114800" y="4800600"/>
            <a:ext cx="928800" cy="9288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457200" y="2057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3962520"/>
            <a:ext cx="2139840" cy="2895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Мои рисунки\Оля\Рисунок2.jpg"/>
          <p:cNvPicPr/>
          <p:nvPr/>
        </p:nvPicPr>
        <p:blipFill>
          <a:blip r:embed="rId2"/>
          <a:stretch/>
        </p:blipFill>
        <p:spPr>
          <a:xfrm>
            <a:off x="2438280" y="3124080"/>
            <a:ext cx="3353040" cy="373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Documents and Settings\Таня.F52B12A72E7B40C\Рабочий стол\труд\7-1.jpg"/>
          <p:cNvPicPr/>
          <p:nvPr/>
        </p:nvPicPr>
        <p:blipFill>
          <a:blip r:embed="rId3"/>
          <a:stretch/>
        </p:blipFill>
        <p:spPr>
          <a:xfrm>
            <a:off x="6019920" y="2666880"/>
            <a:ext cx="2881080" cy="41911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3"/>
          <p:cNvSpPr/>
          <p:nvPr/>
        </p:nvSpPr>
        <p:spPr>
          <a:xfrm>
            <a:off x="457200" y="380880"/>
            <a:ext cx="8229600" cy="2133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раво на труд –важнейшее и неотъемлемое пра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380880"/>
            <a:ext cx="838224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Трудовой кодекс Р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800240" y="1981080"/>
            <a:ext cx="3962520" cy="4572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ой свод законов, регулирующий трудовую деятельность в нашей ст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Текст 11"/>
          <p:cNvSpPr/>
          <p:nvPr/>
        </p:nvSpPr>
        <p:spPr>
          <a:xfrm>
            <a:off x="457200" y="1981080"/>
            <a:ext cx="3886200" cy="46483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Таня.F52B12A72E7B40C\Рабочий стол\труд\7-1.jpg"/>
          <p:cNvPicPr/>
          <p:nvPr/>
        </p:nvPicPr>
        <p:blipFill>
          <a:blip r:embed="rId1"/>
          <a:stretch/>
        </p:blipFill>
        <p:spPr>
          <a:xfrm>
            <a:off x="914400" y="2286000"/>
            <a:ext cx="2917800" cy="41338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1:08Z</dcterms:modified>
  <cp:revision>182</cp:revision>
  <dc:subject/>
  <dc:title>Урок обществознания 6 класс по теме «Труд с точки зрения закон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