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2671-B5F4-4EA9-B679-8EB7E10FFCA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а: Роль права в жизни человека, общества, государства § 29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меня не важно, на чьей стороне сила: важно то, на чьей стороне прав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.Гю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 - ?  Уч-к стр. 180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 совокупность норм права данной стра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взаимосвязанных правовых норм, регулирующих однородные общественные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гражданское право, семейное право, трудовое право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отрасли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ституты прав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овокупность родственных институтов какой-либо отрасли пра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избирательное право в конституционном пра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пример: в трудовом праве институт рабочего времени, заработной платы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АСТ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БЛИЧ-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, стр.1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ЗИТИВ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тественное право –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.З. § 29, конспект. Термины, вопросы для самопроверки,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знак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сть – регулирует общественные отношения, действует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ходит от государства и поддерживается его принудительной сил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формальное выражение – устанавливается государством в нормативных ак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ужит для регулирования общественных отношений, носит системный характ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ункции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спита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го контр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гулятив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хранитель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Теории возникновения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актическое значение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озглашение правового положения человека в общест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 права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правовых норм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ав нормы прав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потеза (предположе-ние) – описывает условия выполнения правила. «если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озиция (распоряже-ние) – описывает само правило поведения. «то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анкция (взыскание) предусматривает последствия неисполнения нормы. «иначе…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иды законов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(Конституция РФ, конституции республик в составе РФ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конституционные (закон о гербе, о флаге, о референдуме и т.д.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я РФ – основной закон РФ! (принята 12 декабря 1993 г. путём референдум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AA6D-A181-44B5-8C69-27646DFB23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64B4-AA84-4523-AE9D-E80622588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28A8-24A5-41F0-A85D-3A1226E97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67D1F-D08A-4258-BF73-1085B260F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FB45-DA06-47D6-ACE1-DBA625CF8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44909-D014-4499-9C45-F1861ED80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4C5C9-AB1B-41E3-953C-56BC87687A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18012-947F-4A76-B79F-B562C237D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FCE93-A9FD-42E0-89A6-DE00DC5AD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236BC-0EA1-46F6-BCB7-CC07856F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DB6DAC-0B10-4581-B345-7E6B6E175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A8682-9AD1-43A4-9001-202F0160F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1240D-920B-4E88-A27D-296048EB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4E55-234B-4C42-980D-632A7A8E2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AB4FD-0AC8-4E9E-B9A7-72474608E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3D1BB-0A28-41A3-8F7B-AC0532D9E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7AB1-F308-4B79-8B7B-5CD9A133CF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B28B4-3670-4B98-9599-983AB7EDB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4F448E-EB4E-4BC9-95D5-EF07DA02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101FE9-C0CE-4D5E-960F-5DB1AE38E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CE300D-F939-4F71-B314-C2C2F8B96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A4D26-BFDA-405D-A01C-26CA5C08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1E7C-6AD5-42C2-8916-D6E818C5F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FB9FEA-9A2D-49DC-A4E1-B4E5CB52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CE802D-981C-43CB-9AAA-F86C691A6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67235C-25B2-4C9A-8B3C-66808D0FA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D8869-9DB7-41B1-8F9A-C1C9DDC4A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D73E7A-1974-4093-865D-2F5132A1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7D988C-0B8D-432B-81F1-B2800146A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0E801-79A3-47F5-8A64-2943E0DE2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F9165F-08A1-4C44-90C3-200AC30AB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64B296-3A58-4852-9FCB-A0F4A615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585516-9E5F-428D-A427-D093CD6D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EFC2-F32C-4D71-B894-7F2EC30DE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636697-3152-4FE0-820C-7E7FF8E14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4F41C0-C0F4-489E-A322-8B6A77DBC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412CA-8DC1-4BAA-B28D-2F8F4E64B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1C78AF-0727-43B5-A03A-76EB4264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B38836-B511-4C22-B519-E3AC2B576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9A5A35-3A83-4723-B88D-FE6B204CC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49AEF6-80C0-4EC6-A17D-3F2313C5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95468-521C-4A49-9958-4F9CF1DD4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0D93BD-198D-4CEA-BF0E-E463B9F3F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186D20-67F5-4422-A1E0-FAACB8C7B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856D-03B2-4FF2-834E-094A446B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C953A-BD46-4A1B-925C-E701CF38E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F6C577-5DAF-4F86-89CF-39FF4E0AA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19AB08-8CD0-459C-A8D1-33AC4A44A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28668-8B22-42ED-8427-00A48121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5BAAB-118E-4F94-A885-95D9F366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86BF61-29F3-4215-9DD6-B6408660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6BCFCE-B6ED-4B7A-B20F-72CA8656C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A60168-ED96-4CF2-96E4-DA803890C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21528B-83B3-4EF3-9E30-9E8AD64AE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C6CEA5-AFC7-4B57-9816-2B463AA2D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76F8-5D42-4867-86EB-1CD61FC13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27081-6AA1-4F64-8C8A-84E2A9B8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3905C6-8BC9-4204-BE67-A08F1FD17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E8E9AB-8C22-420C-B424-27AC5DF90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785E5E-E6BC-401C-9BAB-E6E830BB7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1F204-6075-4C09-9764-647D71FA6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FCC4E4-09B1-4CFC-9CB9-D5DAC1D4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6E814B-2A15-4D44-AC43-4705F287C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653AB8-2C90-4459-8865-3E88EEBC7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E40E33-4F69-40DD-8A3B-E2BFBD298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39ADD4-BE7F-4605-A432-5B94EEAB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3B35-57B3-43BB-B5E7-581CEB647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05AD32-4788-4AD7-813B-AD99136D4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BB645B-AE16-4F95-AB34-46CCDF447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676E2B-6F16-42C2-BA03-205B1AE9F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A3AE23-6018-45FB-91E5-B3B8651EF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19993-6040-4D04-A1BB-DC95195B2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30C760-851A-49EC-8F0B-645CA1111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4A94D4-DD44-41B8-ABDB-DA8BD574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9811C-8A6D-40CE-985E-B1776293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B248F0-77B9-4D13-AF13-D789289EF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3927E40-174C-4256-B75B-F75EDC63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88B4-9B10-4D6F-8A3F-5C1A49944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141C31-4A71-4118-AB4C-389208436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C2C882-1BF3-4C84-BC93-AE1B7E552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AF3929-CB48-4822-8851-6CB2293A9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E05DB8-AFA4-4604-AAAA-A46EC1CAE9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37DA2E-9F44-43F6-A5EE-6873C108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EA8B-6707-4D86-BD1C-13AD5EE20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01DFA-7B47-4514-97C9-1C9E776131B1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83233-6DE0-41D7-9162-530A4607ECC8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579B0-CDAD-417C-82A4-0115506EC6ED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A479-E9F3-47C1-8E84-6968AD72D2A4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FB54-A580-4E32-AEE8-53A4B5A11724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70E19-7A30-4A14-BCB5-EFD8408EB1AE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12261-8D44-4245-BDEC-E2D396631A18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1122C-A3AB-4CA2-A804-53BEA017DC51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BD36-A7DB-4835-BA50-F4BE68A0279C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A4DAD-BA76-446F-9891-04C133938BA2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1D8BA-F164-4449-8049-3ABEC5C733D0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EE9A3-2A40-4827-8031-C471F538D6FF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E948-80AB-4EEF-9ABE-5E2EF66018E3}" type="datetime">
              <a:rPr b="0" lang="ru-RU" sz="1200" spc="-1" strike="noStrike">
                <a:solidFill>
                  <a:srgbClr val="b5a788"/>
                </a:solidFill>
                <a:latin typeface="Corbe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Corbe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EAA77-98C1-431B-AD1A-003DF9F3D796}" type="slidenum">
              <a:rPr b="0" lang="ru-RU" sz="1200" spc="-1" strike="noStrike">
                <a:solidFill>
                  <a:srgbClr val="b5a788"/>
                </a:solidFill>
                <a:latin typeface="Corbe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31720" y="620280"/>
            <a:ext cx="7407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572314"/>
                </a:solidFill>
                <a:latin typeface="Corbel"/>
              </a:rPr>
              <a:t>Тема:</a:t>
            </a:r>
            <a:r>
              <a:rPr b="1" i="1" lang="ru-RU" sz="4000" spc="-1" strike="noStrike">
                <a:solidFill>
                  <a:srgbClr val="572314"/>
                </a:solidFill>
                <a:latin typeface="Corbel"/>
              </a:rPr>
              <a:t> Роль права в жизни человека, общества, государства § 29</a:t>
            </a:r>
            <a:br>
              <a:rPr sz="4000"/>
            </a:br>
            <a:endParaRPr b="0" lang="en-US" sz="4000" spc="-1" strike="noStrike">
              <a:solidFill>
                <a:srgbClr val="572314"/>
              </a:solidFill>
              <a:latin typeface="Corbel"/>
            </a:endParaRPr>
          </a:p>
        </p:txBody>
      </p:sp>
      <p:grpSp>
        <p:nvGrpSpPr>
          <p:cNvPr id="326" name="Прямоугольник 2"/>
          <p:cNvGrpSpPr/>
          <p:nvPr/>
        </p:nvGrpSpPr>
        <p:grpSpPr>
          <a:xfrm>
            <a:off x="1719360" y="3449520"/>
            <a:ext cx="6912000" cy="3011760"/>
            <a:chOff x="1719360" y="3449520"/>
            <a:chExt cx="6912000" cy="3011760"/>
          </a:xfrm>
        </p:grpSpPr>
        <p:pic>
          <p:nvPicPr>
            <p:cNvPr id="327" name="Прямоугольник 2" descr=""/>
            <p:cNvPicPr/>
            <p:nvPr/>
          </p:nvPicPr>
          <p:blipFill>
            <a:blip r:embed="rId1"/>
            <a:stretch/>
          </p:blipFill>
          <p:spPr>
            <a:xfrm>
              <a:off x="1719360" y="3449520"/>
              <a:ext cx="6912000" cy="301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8" name=""/>
            <p:cNvSpPr/>
            <p:nvPr/>
          </p:nvSpPr>
          <p:spPr>
            <a:xfrm>
              <a:off x="1763640" y="3500280"/>
              <a:ext cx="6480360" cy="244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Для меня не важно, на чьей стороне сила: важно то, на чьей стороне право.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0000"/>
                  </a:solidFill>
                  <a:latin typeface="Corbel"/>
                </a:rPr>
                <a:t>В.Гюго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Прямоугольник 1"/>
          <p:cNvSpPr/>
          <p:nvPr/>
        </p:nvSpPr>
        <p:spPr>
          <a:xfrm>
            <a:off x="1042920" y="115920"/>
            <a:ext cx="5400720" cy="1441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Corbel"/>
              </a:rPr>
              <a:t>Система права 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-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?  Уч-к стр. 180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Прямоугольник 2"/>
          <p:cNvSpPr/>
          <p:nvPr/>
        </p:nvSpPr>
        <p:spPr>
          <a:xfrm>
            <a:off x="4067280" y="115920"/>
            <a:ext cx="489744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Вся совокупность норм права данной стран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Прямоугольник 3"/>
          <p:cNvSpPr/>
          <p:nvPr/>
        </p:nvSpPr>
        <p:spPr>
          <a:xfrm>
            <a:off x="1042920" y="1844640"/>
            <a:ext cx="201636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Прямоугольник 4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Совокупность взаимосвязанных правовых норм, регулирующих</a:t>
            </a: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однородные общественные отноше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5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гражданское право, семейное право, трудовое право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Прямоугольник 6"/>
          <p:cNvSpPr/>
          <p:nvPr/>
        </p:nvSpPr>
        <p:spPr>
          <a:xfrm>
            <a:off x="3635280" y="1844640"/>
            <a:ext cx="2232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Подотрасли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Прямоугольник 7"/>
          <p:cNvSpPr/>
          <p:nvPr/>
        </p:nvSpPr>
        <p:spPr>
          <a:xfrm>
            <a:off x="6300720" y="1844640"/>
            <a:ext cx="2664000" cy="14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Институты пра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Прямоугольник 8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Это совокупность родственных институтов какой-либо отрасли пра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Прямоугольник 9"/>
          <p:cNvSpPr/>
          <p:nvPr/>
        </p:nvSpPr>
        <p:spPr>
          <a:xfrm>
            <a:off x="2484360" y="3573360"/>
            <a:ext cx="4535640" cy="25923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избирательное право в конституционном пра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Прямоугольник 10"/>
          <p:cNvSpPr/>
          <p:nvPr/>
        </p:nvSpPr>
        <p:spPr>
          <a:xfrm>
            <a:off x="2484360" y="3573360"/>
            <a:ext cx="4535640" cy="2665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Обособленный комплекс правовых норм, которые регулируют лишь часть отношений определённого вид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Прямоугольник 11"/>
          <p:cNvSpPr/>
          <p:nvPr/>
        </p:nvSpPr>
        <p:spPr>
          <a:xfrm>
            <a:off x="2484360" y="3573360"/>
            <a:ext cx="4535640" cy="3095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Например: в трудовом праве институт рабочего времени, заработной платы и т.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Місце для нижнього колонтитула 1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Прямоугольник 1"/>
          <p:cNvSpPr/>
          <p:nvPr/>
        </p:nvSpPr>
        <p:spPr>
          <a:xfrm>
            <a:off x="2987640" y="549360"/>
            <a:ext cx="3529080" cy="9144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Система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Прямая со стрелкой 3" descr=""/>
          <p:cNvPicPr/>
          <p:nvPr/>
        </p:nvPicPr>
        <p:blipFill>
          <a:blip r:embed="rId1"/>
          <a:stretch/>
        </p:blipFill>
        <p:spPr>
          <a:xfrm>
            <a:off x="2438280" y="1420920"/>
            <a:ext cx="2328840" cy="1504800"/>
          </a:xfrm>
          <a:prstGeom prst="rect">
            <a:avLst/>
          </a:prstGeom>
          <a:ln w="0">
            <a:noFill/>
          </a:ln>
        </p:spPr>
      </p:pic>
      <p:pic>
        <p:nvPicPr>
          <p:cNvPr id="388" name="Прямая со стрелкой 5" descr=""/>
          <p:cNvPicPr/>
          <p:nvPr/>
        </p:nvPicPr>
        <p:blipFill>
          <a:blip r:embed="rId2"/>
          <a:stretch/>
        </p:blipFill>
        <p:spPr>
          <a:xfrm>
            <a:off x="4700520" y="1420920"/>
            <a:ext cx="2724120" cy="1504800"/>
          </a:xfrm>
          <a:prstGeom prst="rect">
            <a:avLst/>
          </a:prstGeom>
          <a:ln w="0">
            <a:noFill/>
          </a:ln>
        </p:spPr>
      </p:pic>
      <p:sp>
        <p:nvSpPr>
          <p:cNvPr id="389" name="Скругленный прямоугольник 6"/>
          <p:cNvSpPr/>
          <p:nvPr/>
        </p:nvSpPr>
        <p:spPr>
          <a:xfrm>
            <a:off x="1547640" y="2708280"/>
            <a:ext cx="2160720" cy="187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ЧАСТ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Скругленный прямоугольник 7"/>
          <p:cNvSpPr/>
          <p:nvPr/>
        </p:nvSpPr>
        <p:spPr>
          <a:xfrm>
            <a:off x="6156360" y="2708280"/>
            <a:ext cx="2160720" cy="194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УБЛИЧ-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Овал 8"/>
          <p:cNvSpPr/>
          <p:nvPr/>
        </p:nvSpPr>
        <p:spPr>
          <a:xfrm>
            <a:off x="6732720" y="115920"/>
            <a:ext cx="1942920" cy="1584360"/>
          </a:xfrm>
          <a:prstGeom prst="ellipse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Уч-к, стр.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Скругленный прямоугольник 14"/>
          <p:cNvSpPr/>
          <p:nvPr/>
        </p:nvSpPr>
        <p:spPr>
          <a:xfrm>
            <a:off x="241128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ПОЗИТИВ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Скругленный прямоугольник 9"/>
          <p:cNvSpPr/>
          <p:nvPr/>
        </p:nvSpPr>
        <p:spPr>
          <a:xfrm>
            <a:off x="5219640" y="4797360"/>
            <a:ext cx="2376720" cy="1871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ЕСТЕСТВЕН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6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Скругленный прямоугольник 1"/>
          <p:cNvSpPr/>
          <p:nvPr/>
        </p:nvSpPr>
        <p:spPr>
          <a:xfrm>
            <a:off x="1692360" y="26028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Естественное право – 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Скругленный прямоугольник 2"/>
          <p:cNvSpPr/>
          <p:nvPr/>
        </p:nvSpPr>
        <p:spPr>
          <a:xfrm>
            <a:off x="1763640" y="3068640"/>
            <a:ext cx="6696000" cy="223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Corbel"/>
              </a:rPr>
              <a:t>Существует ли различие между правом и законом? Какие вы знаете точки зрения на этот вопрос? Уч-к стр. 18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9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8" name="Прямоугольник 1"/>
          <p:cNvGrpSpPr/>
          <p:nvPr/>
        </p:nvGrpSpPr>
        <p:grpSpPr>
          <a:xfrm>
            <a:off x="1700280" y="2030400"/>
            <a:ext cx="6748560" cy="2273400"/>
            <a:chOff x="1700280" y="2030400"/>
            <a:chExt cx="6748560" cy="2273400"/>
          </a:xfrm>
        </p:grpSpPr>
        <p:pic>
          <p:nvPicPr>
            <p:cNvPr id="399" name="Прямоугольник 1" descr=""/>
            <p:cNvPicPr/>
            <p:nvPr/>
          </p:nvPicPr>
          <p:blipFill>
            <a:blip r:embed="rId1"/>
            <a:stretch/>
          </p:blipFill>
          <p:spPr>
            <a:xfrm>
              <a:off x="1700280" y="2030400"/>
              <a:ext cx="6748560" cy="2273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0" name=""/>
            <p:cNvSpPr/>
            <p:nvPr/>
          </p:nvSpPr>
          <p:spPr>
            <a:xfrm>
              <a:off x="1763640" y="2060640"/>
              <a:ext cx="6624720" cy="21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Д.З. § 29, конспект. Термины, вопросы для самопроверки,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          </a:t>
              </a:r>
              <a:r>
                <a:rPr b="1" i="1" lang="ru-RU" sz="3200" spc="-1" strike="noStrike">
                  <a:solidFill>
                    <a:srgbClr val="000000"/>
                  </a:solidFill>
                  <a:latin typeface="Corbel"/>
                </a:rPr>
                <a:t>задани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Прямоугольник 1"/>
          <p:cNvSpPr/>
          <p:nvPr/>
        </p:nvSpPr>
        <p:spPr>
          <a:xfrm>
            <a:off x="1187280" y="260280"/>
            <a:ext cx="7705800" cy="3240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ПРАВО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совокупность общеобязательных, формально определённых правил поведения, установленных государством и обеспечиваемых его принудительной сил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Скругленный прямоугольник 2"/>
          <p:cNvSpPr/>
          <p:nvPr/>
        </p:nvSpPr>
        <p:spPr>
          <a:xfrm>
            <a:off x="1908000" y="4149720"/>
            <a:ext cx="6120000" cy="19432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Признак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Прямоугольник 3"/>
          <p:cNvSpPr/>
          <p:nvPr/>
        </p:nvSpPr>
        <p:spPr>
          <a:xfrm>
            <a:off x="1187280" y="917640"/>
            <a:ext cx="7705800" cy="25826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Місце для нижнього колонтитула 4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Скругленный прямоугольник 1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оциальность – регулирует общественные отношения, действует в обществ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Скругленный прямоугольник 2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Носит общеобязательный характер – адресовано неопределённо большому количеству людей и обязательны для исполнения и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Скругленный прямоугольник 3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сходит от государства и поддерживается его принудительной сил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Скругленный прямоугольник 4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Имеет формальное выражение – устанавливается государством в нормативных ак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Скругленный прямоугольник 5"/>
          <p:cNvSpPr/>
          <p:nvPr/>
        </p:nvSpPr>
        <p:spPr>
          <a:xfrm>
            <a:off x="1763640" y="620640"/>
            <a:ext cx="6408720" cy="3384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Служит для регулирования общественных отношений, носит системный характе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Скругленный прямоугольник 1"/>
          <p:cNvSpPr/>
          <p:nvPr/>
        </p:nvSpPr>
        <p:spPr>
          <a:xfrm>
            <a:off x="1979640" y="620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Функции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Скругленный прямоугольник 2"/>
          <p:cNvSpPr/>
          <p:nvPr/>
        </p:nvSpPr>
        <p:spPr>
          <a:xfrm>
            <a:off x="1979640" y="90792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Воспита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Скругленный прямоугольник 3"/>
          <p:cNvSpPr/>
          <p:nvPr/>
        </p:nvSpPr>
        <p:spPr>
          <a:xfrm>
            <a:off x="1979640" y="119700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Социального контрол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Скругленный прямоугольник 4"/>
          <p:cNvSpPr/>
          <p:nvPr/>
        </p:nvSpPr>
        <p:spPr>
          <a:xfrm>
            <a:off x="1979640" y="1484280"/>
            <a:ext cx="6264360" cy="36734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Регулятив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Скругленный прямоугольник 5"/>
          <p:cNvSpPr/>
          <p:nvPr/>
        </p:nvSpPr>
        <p:spPr>
          <a:xfrm>
            <a:off x="1979640" y="1844640"/>
            <a:ext cx="6264360" cy="36720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Corbel"/>
              </a:rPr>
              <a:t>Охранительна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Місце для нижнього колонтитула 6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Прямоугольник 1"/>
          <p:cNvSpPr/>
          <p:nvPr/>
        </p:nvSpPr>
        <p:spPr>
          <a:xfrm>
            <a:off x="1835280" y="44280"/>
            <a:ext cx="6121440" cy="720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000000"/>
                </a:solidFill>
                <a:latin typeface="Corbel"/>
              </a:rPr>
              <a:t>Теории возникновения прав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7" name=""/>
          <p:cNvGraphicFramePr/>
          <p:nvPr/>
        </p:nvGraphicFramePr>
        <p:xfrm>
          <a:off x="1042920" y="907920"/>
          <a:ext cx="8101080" cy="7351920"/>
        </p:xfrm>
        <a:graphic>
          <a:graphicData uri="http://schemas.openxmlformats.org/drawingml/2006/table">
            <a:tbl>
              <a:tblPr/>
              <a:tblGrid>
                <a:gridCol w="2422440"/>
                <a:gridCol w="5678640"/>
              </a:tblGrid>
              <a:tr h="13402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Те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Законы существуют вечно, ибо являются божественным даром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 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Естественного пра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Человек от рождения и природы обладает неотъемлемыми естественными правами, которые нельзя отменить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сихологическа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есть результат человеческих переживаний. Законы государства зависят от психологии люде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8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Норма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исходит от государства,</a:t>
                      </a:r>
                      <a:r>
                        <a:rPr b="1" lang="en-US" sz="2100" spc="-1" strike="noStrike">
                          <a:solidFill>
                            <a:srgbClr val="000000"/>
                          </a:solidFill>
                          <a:latin typeface="Gill Sans MT"/>
                        </a:rPr>
                        <a:t> </a:t>
                      </a: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которое диктует людям модель поведения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543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озитивист-ская теори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100" spc="-1" strike="noStrike">
                          <a:solidFill>
                            <a:srgbClr val="000000"/>
                          </a:solidFill>
                          <a:latin typeface="Corbel"/>
                        </a:rPr>
                        <a:t>Право порождено противоречиями в жизни, военными конфликтами, в результате которых победу одерживает сильнейший</a:t>
                      </a:r>
                      <a:endParaRPr b="0" lang="en-US" sz="2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028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Скругленный прямоугольник 1"/>
          <p:cNvSpPr/>
          <p:nvPr/>
        </p:nvSpPr>
        <p:spPr>
          <a:xfrm>
            <a:off x="2050920" y="333360"/>
            <a:ext cx="5185080" cy="91440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рактическое значение прав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0" name="Прямая со стрелкой 4" descr=""/>
          <p:cNvPicPr/>
          <p:nvPr/>
        </p:nvPicPr>
        <p:blipFill>
          <a:blip r:embed="rId1"/>
          <a:stretch/>
        </p:blipFill>
        <p:spPr>
          <a:xfrm>
            <a:off x="3017880" y="1182600"/>
            <a:ext cx="1712880" cy="1170000"/>
          </a:xfrm>
          <a:prstGeom prst="rect">
            <a:avLst/>
          </a:prstGeom>
          <a:ln w="0">
            <a:noFill/>
          </a:ln>
        </p:spPr>
      </p:pic>
      <p:pic>
        <p:nvPicPr>
          <p:cNvPr id="351" name="Прямая со стрелкой 6" descr=""/>
          <p:cNvPicPr/>
          <p:nvPr/>
        </p:nvPicPr>
        <p:blipFill>
          <a:blip r:embed="rId2"/>
          <a:stretch/>
        </p:blipFill>
        <p:spPr>
          <a:xfrm>
            <a:off x="4559400" y="1189080"/>
            <a:ext cx="1573200" cy="1163520"/>
          </a:xfrm>
          <a:prstGeom prst="rect">
            <a:avLst/>
          </a:prstGeom>
          <a:ln w="0">
            <a:noFill/>
          </a:ln>
        </p:spPr>
      </p:pic>
      <p:sp>
        <p:nvSpPr>
          <p:cNvPr id="352" name="Параллелограмм 7"/>
          <p:cNvSpPr/>
          <p:nvPr/>
        </p:nvSpPr>
        <p:spPr>
          <a:xfrm>
            <a:off x="1116000" y="2492280"/>
            <a:ext cx="3384720" cy="352908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rbel"/>
              </a:rPr>
              <a:t>Защита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Параллелограмм 8"/>
          <p:cNvSpPr/>
          <p:nvPr/>
        </p:nvSpPr>
        <p:spPr>
          <a:xfrm>
            <a:off x="4932360" y="2421000"/>
            <a:ext cx="3600360" cy="3744720"/>
          </a:xfrm>
          <a:prstGeom prst="parallelogram">
            <a:avLst>
              <a:gd name="adj" fmla="val 25000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Corbel"/>
              </a:rPr>
              <a:t>Провозглашение правового положения человека в обществ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Скругленный прямоугольник 1"/>
          <p:cNvSpPr/>
          <p:nvPr/>
        </p:nvSpPr>
        <p:spPr>
          <a:xfrm>
            <a:off x="1547640" y="115920"/>
            <a:ext cx="6769440" cy="295272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Норма права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общеобязательное правило поведения, установленное и обеспеченное обществом и государством, закрепленное и опубликованное в официальных актах. (норма – правило, образец)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Скругленный прямоугольник 2"/>
          <p:cNvSpPr/>
          <p:nvPr/>
        </p:nvSpPr>
        <p:spPr>
          <a:xfrm>
            <a:off x="1547640" y="3500280"/>
            <a:ext cx="6769440" cy="295308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Виды правовых нор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прещающие (что делать нельзя), обязывающие (определяют, что нужно делать), управомочивающие (определяют, что можно делать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кругленный прямоугольник 3"/>
          <p:cNvSpPr/>
          <p:nvPr/>
        </p:nvSpPr>
        <p:spPr>
          <a:xfrm>
            <a:off x="1547640" y="549360"/>
            <a:ext cx="6769440" cy="267156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Скругленный прямоугольник 4"/>
          <p:cNvSpPr/>
          <p:nvPr/>
        </p:nvSpPr>
        <p:spPr>
          <a:xfrm>
            <a:off x="1547640" y="4221000"/>
            <a:ext cx="6769440" cy="2384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0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xit" presetID="20">
                                  <p:stCondLst>
                                    <p:cond delay="0"/>
                                  </p:stCondLst>
                                  <p:childTnLst>
                                    <p:animEffect filter="wedge" transition="out">
                                      <p:cBhvr additive="repl">
                                        <p:cTn id="13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Скругленный прямоугольник 1"/>
          <p:cNvSpPr/>
          <p:nvPr/>
        </p:nvSpPr>
        <p:spPr>
          <a:xfrm>
            <a:off x="1476360" y="189000"/>
            <a:ext cx="7272360" cy="1655640"/>
          </a:xfrm>
          <a:prstGeom prst="roundRect">
            <a:avLst>
              <a:gd name="adj" fmla="val 16667"/>
            </a:avLst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Состав нормы права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2"/>
          <p:cNvSpPr/>
          <p:nvPr/>
        </p:nvSpPr>
        <p:spPr>
          <a:xfrm>
            <a:off x="1187280" y="2421000"/>
            <a:ext cx="2232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Гипотеза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предположе-ние) – описывает условия выполнения правила. «если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Прямоугольник 3"/>
          <p:cNvSpPr/>
          <p:nvPr/>
        </p:nvSpPr>
        <p:spPr>
          <a:xfrm>
            <a:off x="3924360" y="2421000"/>
            <a:ext cx="237636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Диспози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распоряже-ние) – описывает само правило поведения. «то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Прямоугольник 4"/>
          <p:cNvSpPr/>
          <p:nvPr/>
        </p:nvSpPr>
        <p:spPr>
          <a:xfrm>
            <a:off x="6732720" y="2421000"/>
            <a:ext cx="2232000" cy="374472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Санкция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взыскание) предусматривает последствия неисполнения нормы. «иначе…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Місце для нижнього колонтитула 5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Прямоугольник 1"/>
          <p:cNvSpPr/>
          <p:nvPr/>
        </p:nvSpPr>
        <p:spPr>
          <a:xfrm>
            <a:off x="1547640" y="71280"/>
            <a:ext cx="7201080" cy="2421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00"/>
                </a:solidFill>
                <a:uFillTx/>
                <a:latin typeface="Corbel"/>
              </a:rPr>
              <a:t>Закон –</a:t>
            </a:r>
            <a:r>
              <a:rPr b="1" lang="ru-RU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это нормативный акт, который регулирует наиболее важные общественные отношения и обладает высшей юридической силой (стр. 179 уч-к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Прямоугольник 2"/>
          <p:cNvSpPr/>
          <p:nvPr/>
        </p:nvSpPr>
        <p:spPr>
          <a:xfrm>
            <a:off x="2268360" y="2637000"/>
            <a:ext cx="5543640" cy="2016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rbel"/>
              </a:rPr>
              <a:t>Виды законов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Прямоугольник 4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Основные (Конституция РФ, конституции республик в составе РФ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Прямоугольник 5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конституционные (закон о гербе, о флаге, о референдуме и т.д.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Прямоугольник 6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Федеральные ( принимаются по предметам ведения РФ: гражданский кодекс, уголовный кодекс и т.д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Прямоугольник 7"/>
          <p:cNvSpPr/>
          <p:nvPr/>
        </p:nvSpPr>
        <p:spPr>
          <a:xfrm>
            <a:off x="2268360" y="3429000"/>
            <a:ext cx="5543640" cy="244800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Законы субъектов Федерации (распространяются только на соответствующую тер-ию: закон Воронежской области о муниципальной службе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Прямоугольник 8"/>
          <p:cNvSpPr/>
          <p:nvPr/>
        </p:nvSpPr>
        <p:spPr>
          <a:xfrm>
            <a:off x="2268360" y="3429000"/>
            <a:ext cx="5543640" cy="244944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00"/>
                </a:solidFill>
                <a:uFillTx/>
                <a:latin typeface="Corbel"/>
              </a:rPr>
              <a:t>Конституция РФ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– основной закон РФ! (принята 12 декабря 1993 г. путём референдум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Прямоугольник 9"/>
          <p:cNvSpPr/>
          <p:nvPr/>
        </p:nvSpPr>
        <p:spPr>
          <a:xfrm>
            <a:off x="1547640" y="549360"/>
            <a:ext cx="7201080" cy="2095560"/>
          </a:xfrm>
          <a:prstGeom prst="rect">
            <a:avLst/>
          </a:prstGeom>
          <a:solidFill>
            <a:srgbClr val="fff1ce"/>
          </a:solidFill>
          <a:ln w="25560">
            <a:solidFill>
              <a:srgbClr val="c065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b5a788"/>
                </a:solidFill>
                <a:latin typeface="Gill Sans MT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1T16:19:30Z</dcterms:created>
  <dc:creator>Пользователь</dc:creator>
  <dc:description/>
  <dc:language>en-US</dc:language>
  <cp:lastModifiedBy>LEGION</cp:lastModifiedBy>
  <dcterms:modified xsi:type="dcterms:W3CDTF">2016-01-04T08:10:58Z</dcterms:modified>
  <cp:revision>24</cp:revision>
  <dc:subject/>
  <dc:title>Тема: Роль права в жизни человека, общества, государства § 29</dc:title>
</cp:coreProperties>
</file>