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4873-7C5A-4A10-8C49-8569668AFF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B0F-06CD-4ECE-B0DB-1D87A66D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93E-3927-457B-8C0E-733C22A9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71A-5822-4136-A30F-89076CC7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F5A-5899-4F49-9992-C50B6113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25D6-5B17-492E-9067-05EA4A90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D8CD-ED50-43C2-B6A1-875386AD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A205-B159-4B5B-97BB-925CFDEA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E383-663C-4F39-946A-395080B9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2B50-B97B-4583-8B9C-8CCC14A2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065B-8059-4356-9610-86594174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21F1-EF48-475B-B185-4EFDFE9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516-957B-409B-87B9-FF7B7860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43D1-8DA9-4D24-8298-62A9EF0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3FDF-C430-464C-9646-B04C7B5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F9EC-430A-40EF-A5D3-A45E5F28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9A2F-8971-4368-90EF-6DDDBD6B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BEE3-1B33-46A5-B3AB-5144250A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7C1E7-4501-47DF-9240-91788309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EEBAC-4E59-4815-8806-D0916A17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763E-55EF-4B45-8EE3-730A3F18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380F-0895-487B-818D-CC0ECB02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ABF6F-160B-4C9C-B487-46D11149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7FA-8538-4F2D-B5D1-73DBE445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F23FC-1FDB-4EF8-B19E-7F92CF22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CC4A-B7FA-4DF8-99BD-A1F2EFAF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B011-5B9D-4DB4-9494-267F893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CAE1E-63A9-4F7A-82A0-646BF6B9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C444-3150-4FF0-9272-7E444D86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020A-7A60-4038-8084-40239955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85FA-835D-44CB-BD32-CB759DD1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DACAA-F310-483D-99F2-AF3669D0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C8CE-3F50-41B3-8022-858A1777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0C11-81DB-40C1-8DA2-6D7C4D3D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2F4-6DC9-4026-A8F8-52D0AD4B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3882-43A9-4A72-AAF1-7F6A43E7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10A4-93AA-4AE7-9FD1-0A18F8AD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BF092-687E-4AD0-B122-080DFB1E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3D0F-0C44-471F-9C33-7A2C6C19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01BC-376C-45DF-ABEA-1FB0779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4976-2C8C-489D-8806-89E25482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8DDE4-F283-4312-A9A4-3B3AAA3D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DFC6E-E76A-4A49-A26B-84EC3270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26A3C-D572-4903-BD43-ECE9EA7C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81A49-7C15-463A-9C33-2F3ACEB4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8D8-F044-440F-A35D-3CA077EF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AB2D2-1D72-45C3-9F4E-335E935B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162FE-FC38-46AA-8AED-03DBE6D5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84BFA-BA65-4EE5-9A19-45C5BC24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EB9A7-7A4A-4306-96CC-916704A8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FA812-79AF-4471-9095-4E78E03A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BD779-1668-497B-B6E0-75F9360F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A652F-161C-4475-BC59-5ACF4D9E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1E3A5-65F5-49F3-9321-6F13AEB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A5652-26A1-4EA2-80EE-154B108D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765EB-508E-40CB-8FF0-378F6FC4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FE7-D9F0-4E00-A025-7CD60563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993BD-FF1A-41A2-A34F-A29F241C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4D566-1ABD-4B91-A175-B2609776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6A01-96F7-40B0-90AC-CB7A07AB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F36E-E7E1-405E-90B8-03A90AF6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37C35-2023-4DB8-ACF5-A6397129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2ECD2-A499-499F-BFD8-36795A14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CDEE-9626-462D-820F-A79BE8EE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76AC4-B2DB-4C51-A8AA-E7DC6A56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4DE35-E805-4FB5-BEB0-41AFA3FF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0AF2C-A4C7-4D12-9EA8-DF7546D4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475-BBA6-4D0B-B500-03737DF5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0EFDC-4D1A-4686-8BE3-6975DB0D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D55CB-76F0-4767-8856-8DA79B30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5BF51-1C4E-41DF-BBF1-5C6C80D5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F94B1-69DC-4F85-ADC3-CA5C39F0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44F9D-C18E-4834-A696-DE8D14D7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188B5-BEE0-41D9-8D92-898A8126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6D1B2-B242-4C58-9E18-3D9441AF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1854F-D2AD-47AE-99D0-9744DFCC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9E65A-043B-45F3-B6C3-19B86DA3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70F80-CC75-4B9A-B0E6-86D58585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185-F347-4AF1-97C0-B96BDFAA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5B764-BB7A-4EEA-846A-D5D4E1F1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B3AFA-F781-47F9-8EB6-B2EF58DB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A4D75-11FC-46C9-B393-45DA57D4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66952-4682-456F-A2F2-B9B426F9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49A43-05DC-4B71-8F78-9F0B6491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CB9-4E11-481E-AC6F-8370F639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6424-AE90-43CA-A23D-05FD74514F7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B226-BF3D-4CE2-A482-7502724824D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CBCB-B9D1-4775-87E7-4A676D1FB08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5451-A8E3-42B1-88B9-58B2DB49DBD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E3C1-84A7-4B67-9202-C9DBE0F8B9B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75C6-9FAB-4338-A4E0-E461F6E9E5B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E396-3DED-4DC9-AD21-3FE7AE563AB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4228-92BE-48D0-877A-BF4C92CD88E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0ED5-703C-462B-9343-8037D1150A1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5FD5-DA06-4680-B8F8-7DBEF1DA0E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8282-B2B1-4AE2-9E74-0770942489D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FEEA-3D0B-463B-8A3B-390C552416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8B0D-79AF-4509-B0DF-890F9426B7A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3F35-79E5-4BDC-92A9-4BADF7FF1F8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620280"/>
            <a:ext cx="7407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Тема: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Роль права в жизни человека, общества, государства § 29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Прямоугольник 2"/>
          <p:cNvGrpSpPr/>
          <p:nvPr/>
        </p:nvGrpSpPr>
        <p:grpSpPr>
          <a:xfrm>
            <a:off x="1719360" y="3449520"/>
            <a:ext cx="6912000" cy="3011760"/>
            <a:chOff x="1719360" y="3449520"/>
            <a:chExt cx="6912000" cy="301176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719360" y="3449520"/>
              <a:ext cx="69120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763640" y="3500280"/>
              <a:ext cx="6480360" cy="24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Для меня не важно, на чьей стороне сила: важно то, на чьей стороне право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В.Гю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42920" y="115920"/>
            <a:ext cx="5400720" cy="1441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Система прав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?  Уч-к стр. 1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067280" y="115920"/>
            <a:ext cx="489744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я совокупность норм права данно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042920" y="1844640"/>
            <a:ext cx="201636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овокупность взаимосвязанных правовых норм, регулирующих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однородные общественные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гражданское право, семейное право, трудовое пра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3635280" y="1844640"/>
            <a:ext cx="2232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од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300720" y="1844640"/>
            <a:ext cx="2664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нституты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то совокупность родственных институтов какой-либо отрасл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избирательное право в конституционном п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2484360" y="3573360"/>
            <a:ext cx="4535640" cy="2665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2484360" y="3573360"/>
            <a:ext cx="4535640" cy="3095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в трудовом праве институт рабочего времени, заработной пла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2987640" y="549360"/>
            <a:ext cx="3529080" cy="9144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истема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438280" y="1420920"/>
            <a:ext cx="2328840" cy="150480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4700520" y="1420920"/>
            <a:ext cx="2724120" cy="1504800"/>
          </a:xfrm>
          <a:prstGeom prst="rect">
            <a:avLst/>
          </a:prstGeom>
          <a:ln w="0">
            <a:noFill/>
          </a:ln>
        </p:spPr>
      </p:pic>
      <p:sp>
        <p:nvSpPr>
          <p:cNvPr id="389" name="Скругленный прямоугольник 6"/>
          <p:cNvSpPr/>
          <p:nvPr/>
        </p:nvSpPr>
        <p:spPr>
          <a:xfrm>
            <a:off x="1547640" y="2708280"/>
            <a:ext cx="2160720" cy="187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7"/>
          <p:cNvSpPr/>
          <p:nvPr/>
        </p:nvSpPr>
        <p:spPr>
          <a:xfrm>
            <a:off x="6156360" y="2708280"/>
            <a:ext cx="2160720" cy="194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УБЛИЧ-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8"/>
          <p:cNvSpPr/>
          <p:nvPr/>
        </p:nvSpPr>
        <p:spPr>
          <a:xfrm>
            <a:off x="6732720" y="115920"/>
            <a:ext cx="1942920" cy="1584360"/>
          </a:xfrm>
          <a:prstGeom prst="ellipse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ч-к, стр.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4"/>
          <p:cNvSpPr/>
          <p:nvPr/>
        </p:nvSpPr>
        <p:spPr>
          <a:xfrm>
            <a:off x="241128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З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9"/>
          <p:cNvSpPr/>
          <p:nvPr/>
        </p:nvSpPr>
        <p:spPr>
          <a:xfrm>
            <a:off x="521964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"/>
          <p:cNvSpPr/>
          <p:nvPr/>
        </p:nvSpPr>
        <p:spPr>
          <a:xfrm>
            <a:off x="1692360" y="26028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Естественное право –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763640" y="306864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1"/>
          <p:cNvGrpSpPr/>
          <p:nvPr/>
        </p:nvGrpSpPr>
        <p:grpSpPr>
          <a:xfrm>
            <a:off x="1700280" y="2030400"/>
            <a:ext cx="6748560" cy="2273400"/>
            <a:chOff x="1700280" y="2030400"/>
            <a:chExt cx="6748560" cy="2273400"/>
          </a:xfrm>
        </p:grpSpPr>
        <p:pic>
          <p:nvPicPr>
            <p:cNvPr id="39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00280" y="2030400"/>
              <a:ext cx="674856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3640" y="2060640"/>
              <a:ext cx="662472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Д.З. § 29, конспект. Термины, вопросы для самопроверки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 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87280" y="260280"/>
            <a:ext cx="7705800" cy="32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"/>
          <p:cNvSpPr/>
          <p:nvPr/>
        </p:nvSpPr>
        <p:spPr>
          <a:xfrm>
            <a:off x="1908000" y="4149720"/>
            <a:ext cx="6120000" cy="19432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ризнак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87280" y="917640"/>
            <a:ext cx="7705800" cy="2582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Скругленный прямоугольник 1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циальность – регулирует общественные отношения, действует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ходит от государства и поддерживается его принудительн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еет формальное выражение – устанавливается государством в нормативных 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лужит для регулирования общественных отношений, носит систем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1"/>
          <p:cNvSpPr/>
          <p:nvPr/>
        </p:nvSpPr>
        <p:spPr>
          <a:xfrm>
            <a:off x="1979640" y="620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ункци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2"/>
          <p:cNvSpPr/>
          <p:nvPr/>
        </p:nvSpPr>
        <p:spPr>
          <a:xfrm>
            <a:off x="1979640" y="90792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"/>
          <p:cNvSpPr/>
          <p:nvPr/>
        </p:nvSpPr>
        <p:spPr>
          <a:xfrm>
            <a:off x="1979640" y="119700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циального контр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"/>
          <p:cNvSpPr/>
          <p:nvPr/>
        </p:nvSpPr>
        <p:spPr>
          <a:xfrm>
            <a:off x="1979640" y="148428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1979640" y="1844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Охра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44280"/>
            <a:ext cx="6121440" cy="720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еории возникновения пра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42920" y="907920"/>
          <a:ext cx="8101080" cy="7351920"/>
        </p:xfrm>
        <a:graphic>
          <a:graphicData uri="http://schemas.openxmlformats.org/drawingml/2006/table">
            <a:tbl>
              <a:tblPr/>
              <a:tblGrid>
                <a:gridCol w="2422440"/>
                <a:gridCol w="567864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коны существуют вечно, ибо являются божественным дар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ествен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ловек от рождения и природы обладает неотъемлемыми естественными правами, которые нельзя отмени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сих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есть результат человеческих переживаний. Законы государства зависят от психологии люд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рма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исходит от государства,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торое диктует людям модель п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и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порождено противоречиями в жизни, военными конфликтами, в результате которых победу одерживает сильнейш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2050920" y="333360"/>
            <a:ext cx="5185080" cy="9144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ктическое значени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3017880" y="1182600"/>
            <a:ext cx="1712880" cy="11700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559400" y="1189080"/>
            <a:ext cx="1573200" cy="1163520"/>
          </a:xfrm>
          <a:prstGeom prst="rect">
            <a:avLst/>
          </a:prstGeom>
          <a:ln w="0">
            <a:noFill/>
          </a:ln>
        </p:spPr>
      </p:pic>
      <p:sp>
        <p:nvSpPr>
          <p:cNvPr id="352" name="Параллелограмм 7"/>
          <p:cNvSpPr/>
          <p:nvPr/>
        </p:nvSpPr>
        <p:spPr>
          <a:xfrm>
            <a:off x="1116000" y="2492280"/>
            <a:ext cx="3384720" cy="352908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ащи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араллелограмм 8"/>
          <p:cNvSpPr/>
          <p:nvPr/>
        </p:nvSpPr>
        <p:spPr>
          <a:xfrm>
            <a:off x="4932360" y="2421000"/>
            <a:ext cx="3600360" cy="374472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ровозглашение правового положения человека в общ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1"/>
          <p:cNvSpPr/>
          <p:nvPr/>
        </p:nvSpPr>
        <p:spPr>
          <a:xfrm>
            <a:off x="1547640" y="115920"/>
            <a:ext cx="6769440" cy="2952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Норма прав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1547640" y="3500280"/>
            <a:ext cx="6769440" cy="295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иды правовых нор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1547640" y="549360"/>
            <a:ext cx="6769440" cy="267156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1547640" y="4221000"/>
            <a:ext cx="6769440" cy="2384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1"/>
          <p:cNvSpPr/>
          <p:nvPr/>
        </p:nvSpPr>
        <p:spPr>
          <a:xfrm>
            <a:off x="1476360" y="189000"/>
            <a:ext cx="7272360" cy="1655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став нормы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187280" y="2421000"/>
            <a:ext cx="2232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ипоте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предположе-ние) – описывает условия выполнения правила. «ес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3924360" y="2421000"/>
            <a:ext cx="2376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Диспози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распоряже-ние) – описывает само правило поведения. «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732720" y="2421000"/>
            <a:ext cx="223200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Сан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взыскание) предусматривает последствия неисполнения нормы. «инач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547640" y="71280"/>
            <a:ext cx="7201080" cy="2421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кон 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68360" y="2637000"/>
            <a:ext cx="5543640" cy="2016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иды закон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(Конституция РФ, конституции республик в составе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конституционные (закон о гербе, о флаге, о референдуме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268360" y="3429000"/>
            <a:ext cx="5543640" cy="2449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ституция РФ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 основной закон РФ! (принята 12 декабря 1993 г. путём референд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1547640" y="549360"/>
            <a:ext cx="7201080" cy="20955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6:19:30Z</dcterms:created>
  <dc:creator>Пользователь</dc:creator>
  <dc:description/>
  <dc:language>en-US</dc:language>
  <cp:lastModifiedBy>LEGION</cp:lastModifiedBy>
  <dcterms:modified xsi:type="dcterms:W3CDTF">2016-01-04T08:10:58Z</dcterms:modified>
  <cp:revision>24</cp:revision>
  <dc:subject/>
  <dc:title>Тема: Роль права в жизни человека, общества, государства § 29</dc:title>
</cp:coreProperties>
</file>