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70C9-AE5A-4A27-888A-7517EC2173C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Роль права в жизни человека, общества, государства § 2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еня не важно, на чьей стороне сила: важно то, на чьей сторон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Гю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Роль права в жизни человека, общества, государства § 2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меня не важно, на чьей стороне сила: важно то, на чьей сторон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Гю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 - ?  Уч-к стр. 1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совокупность норм права данно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взаимосвязанных правовых норм, регулирующих однородные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гражданское право, семейное право, трудовое право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трас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родственных институтов какой-либо 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избирательное право в конституционном пра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в трудовом праве институт рабочего времени, заработной плат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 - ?  Уч-к стр. 1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 совокупность норм права данно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взаимосвязанных правовых норм, регулирующих однородные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гражданское право, семейное право, трудовое право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трасли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ы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овокупность родственных институтов какой-либо 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избирательное право в конституционном пра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в трудовом праве институт рабочего времени, заработной платы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-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-к, стр.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-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-к, стр.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 право –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-к стр. 1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право –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-к стр. 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З. § 29, конспект. Термины, вопросы для самопроверк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З. § 29, конспект. Термины, вопросы для самопроверки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сть – регулирует общественные отношения, действует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т от государства и поддерживается его принудитель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формальное выражение – устанавливается государством в нормативных ак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для регулирования общественных отношений, носит систем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сть – регулирует общественные отношения, действует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ит от государства и поддерживается его принудительной сил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формальное выражение – устанавливается государством в нормативных ак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ит для регулирования общественных отношений, носит систем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а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го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ории возникновения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ории возникновения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начение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зглашение правового положения человек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начение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зглашение правового положения человека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авовых нор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овых норм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нормы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(предположе-ние) – описывает условия выполнения правила. «есл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озиция (распоряже-ние) – описывает само правило поведения. «то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ция (взыскание) предусматривает последствия неисполнения нормы. «инач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нормы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(предположе-ние) – описывает условия выполнения правила. «если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озиция (распоряже-ние) – описывает само правило поведения. «то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ция (взыскание) предусматривает последствия неисполнения нормы. «иначе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ко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(Конституция РФ, конституции республик в составе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конституционные (закон о гербе, о флаге, о референдуме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 – основной закон РФ! (принята 12 декабря 1993 г. путём референду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акон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(Конституция РФ, конституции республик в составе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конституционные (закон о гербе, о флаге, о референдуме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я РФ – основной закон РФ! (принята 12 декабря 1993 г. путём референду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4B1-DF1C-4895-81C0-DB0912D7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AEB-2CA8-4AEC-8FB2-FB43DC99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EF6-8D1D-479C-A0E1-DC27CCA4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3C4-AE1D-49DA-9F79-F25D070F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D30C-59E3-4364-B2D9-3597256D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0D49-B1C6-4222-9AB8-1D7BE126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D85B-EB2F-4CB9-9C6B-6AFEE3AD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8F81-385D-4145-AC20-76FBC05E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D6D3-D27E-4410-BADC-0FF0E13C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FE6F-7A62-4706-80B7-35A76B5B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4C75-EBA7-43AC-A61F-9DE27ECE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6E1C-1B60-4361-98DB-336D105D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344F-B5E6-4E8F-A890-EFAB511B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6BC6-FCDC-4372-A779-A242333E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917A-77A8-4B6A-BCEA-10F6FEBF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8780-49EB-406D-AB43-B4AD2FD3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CD7C-946A-4EB0-94E1-40D55BE3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470FF-3DEA-4963-B94F-8B7ABFC1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5E1A6-51CB-4E3D-AD14-FBC56D77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7E67D-B3F6-45CA-B4A4-2999DD32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8BA70-2B05-4999-B2EB-4504F5A0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8AADD-D5C6-4FB9-817C-F307D78C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BAB-8318-4E8B-B57C-91BF4D60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47559-B767-43D7-8934-1E11E3D0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F4B2C-159F-4E26-93EB-6BC7DF3A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479CD-7398-4ACA-8D23-88E20A44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B70BC-1913-4653-9A5B-316AB3C4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E1E33-2230-4AC0-88E7-DA2B5CB9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6EFFE-06D5-4F72-A73B-E2A99DD2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D149B-FBE1-48DB-8B33-EB283DB8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A836E-5E7E-420F-A4A2-D7193B42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033FC-B66C-4CF7-B0F9-5D986A02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46169-7C44-4C6F-B94C-7CA9B832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D752-FCF7-4857-8878-FCB2894F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3A1D8-71EB-47BD-BCED-1122BC93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86796-BB10-469B-B300-D19B9F4F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29FC4-6792-4BE6-A365-18EA57D1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79316-2CE3-45FA-A22E-9D1F77E1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381FD-EE36-40CC-883E-8A333B4B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DC8D7-EBDA-4C35-A08E-A2DDCE40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F7B5D-5C5E-4C93-A88E-D681FC5A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F3F9A-0335-4685-965B-1340AFC9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8C113-D678-4DE6-8EB7-66369031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F60F0-3BF2-4D7A-A4D4-CD02B067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55F-F50F-4B38-A364-BD3DF24F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2A3B7-0E30-4C83-8169-06B698AF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E14D6-BB19-460D-B810-2E27576B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A3235-D657-4519-9AE1-7F3C80DC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85093-B369-4119-9881-92758AA6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ED8E2-8E61-4F97-B7C1-8F826101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FE336-3457-4FDC-BCF4-AC1A1612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9182A-EBD0-454A-A013-652AB512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C1599-6F82-4A68-8DBD-72238AB3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1437B-253C-477F-8594-4AD5794C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5C4F3-6C70-4956-9393-98C9B810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F7B-8B03-47B3-AB70-2C447FE5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0FCC3-2983-4626-AD13-4788DC6F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6A003-F678-4ABA-8C8D-F22DD933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F88AD-8542-4E6B-88FD-BAF09775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6B138-B8F9-4A93-9A2E-F9FF1EFE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01F63-E95B-455A-B6D0-8ADAE877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2A3CA-EEEE-4119-BD9D-8C7BF9B7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86B76-9642-436F-9B70-F2CC3BCB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2769E-ECF7-45A6-98FA-5BD71A1D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AF631-3B13-473F-8839-0E70C12C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69A39-C254-4E72-94D1-A78B1146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EE06-F73F-4CF3-AF2C-36F32685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4A932-2E91-40AE-9BE8-B5D2D849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65254-CF8C-4D3E-8942-EFFFCFB4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AC0BF-4490-4063-A1C9-B086A916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B727F-4949-4A4B-8DF3-068AE019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5AE99-1DEF-4CB9-84F9-402F6F3C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A1666-5518-4160-95F8-FE9019BC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C2474-C919-468A-BBA6-C06F9D44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747EF-9475-4F71-AD59-F6BCD754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75EFD-1A17-4D8B-A649-6ABA27E4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F020D-8384-41B6-B576-4DA29C52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020B-D921-4B3B-A002-0659D3C5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09136-33D6-4802-876E-319C721B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7238F-04B2-4648-BE1E-C01A0EAE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064A2-9EAE-477B-9D54-4D1C7532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CE239-4866-46E6-8455-0526C0ED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8488E-1402-4F3A-AA64-41B91EB3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B5D5-F3D8-4F60-A392-272C6011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F0A0-9D7A-4F6C-83B4-A700C51D346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2082-00E4-4B12-90EF-C602B8E5F46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4E0E-6A63-439D-8552-52FDA9B45CC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122D-E6EA-4489-90B4-BF402E7B4DC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89B3-9AA0-4ADD-945A-EFEC028CDA2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DF1E-5512-4A64-B047-A453B78C1D0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2305-6212-48F9-A6B9-E0226A0530F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6CC5-6FEC-4F2C-9C95-0C2719A5195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C5F1-1ED6-4F61-B813-DF24D7FDAF2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881E-D161-415D-89D7-1D0600E301D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D053-1A93-461D-A1AD-8084E6581CF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C366-13BB-4280-856F-6E9B93ACEA0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39BA-348E-44AC-BC30-44EC0767EDA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E6B0-1612-44C8-81C0-74E6601B141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620280"/>
            <a:ext cx="7407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72314"/>
                </a:solidFill>
                <a:latin typeface="Corbel"/>
              </a:rPr>
              <a:t>Тема:</a:t>
            </a: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 Роль права в жизни человека, общества, государства § 29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26" name="Прямоугольник 2"/>
          <p:cNvGrpSpPr/>
          <p:nvPr/>
        </p:nvGrpSpPr>
        <p:grpSpPr>
          <a:xfrm>
            <a:off x="1719360" y="3449520"/>
            <a:ext cx="6912000" cy="3011760"/>
            <a:chOff x="1719360" y="3449520"/>
            <a:chExt cx="6912000" cy="3011760"/>
          </a:xfrm>
        </p:grpSpPr>
        <p:pic>
          <p:nvPicPr>
            <p:cNvPr id="327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719360" y="3449520"/>
              <a:ext cx="6912000" cy="30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763640" y="3500280"/>
              <a:ext cx="6480360" cy="24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rbel"/>
                </a:rPr>
                <a:t>Для меня не важно, на чьей стороне сила: важно то, на чьей стороне право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rbel"/>
                </a:rPr>
                <a:t>В.Гюг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1042920" y="115920"/>
            <a:ext cx="5400720" cy="1441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Система права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?  Уч-к стр. 18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"/>
          <p:cNvSpPr/>
          <p:nvPr/>
        </p:nvSpPr>
        <p:spPr>
          <a:xfrm>
            <a:off x="4067280" y="115920"/>
            <a:ext cx="489744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Вся совокупность норм права данной ст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1042920" y="1844640"/>
            <a:ext cx="201636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Отрасли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4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Совокупность взаимосвязанных правовых норм, регулирующих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однородные общественные отнош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гражданское право, семейное право, трудовое право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6"/>
          <p:cNvSpPr/>
          <p:nvPr/>
        </p:nvSpPr>
        <p:spPr>
          <a:xfrm>
            <a:off x="3635280" y="1844640"/>
            <a:ext cx="223200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Подотрасли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7"/>
          <p:cNvSpPr/>
          <p:nvPr/>
        </p:nvSpPr>
        <p:spPr>
          <a:xfrm>
            <a:off x="6300720" y="1844640"/>
            <a:ext cx="266400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Институты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8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Это совокупность родственных институтов какой-либо отрасли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9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избирательное право в конституционном пра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0"/>
          <p:cNvSpPr/>
          <p:nvPr/>
        </p:nvSpPr>
        <p:spPr>
          <a:xfrm>
            <a:off x="2484360" y="3573360"/>
            <a:ext cx="4535640" cy="2665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1"/>
          <p:cNvSpPr/>
          <p:nvPr/>
        </p:nvSpPr>
        <p:spPr>
          <a:xfrm>
            <a:off x="2484360" y="3573360"/>
            <a:ext cx="4535640" cy="30956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в трудовом праве институт рабочего времени, заработной пла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ижнього колонтитула 1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2987640" y="549360"/>
            <a:ext cx="3529080" cy="9144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Система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Прямая со стрелкой 3" descr=""/>
          <p:cNvPicPr/>
          <p:nvPr/>
        </p:nvPicPr>
        <p:blipFill>
          <a:blip r:embed="rId1"/>
          <a:stretch/>
        </p:blipFill>
        <p:spPr>
          <a:xfrm>
            <a:off x="2438280" y="1420920"/>
            <a:ext cx="2328840" cy="150480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ая со стрелкой 5" descr=""/>
          <p:cNvPicPr/>
          <p:nvPr/>
        </p:nvPicPr>
        <p:blipFill>
          <a:blip r:embed="rId2"/>
          <a:stretch/>
        </p:blipFill>
        <p:spPr>
          <a:xfrm>
            <a:off x="4700520" y="1420920"/>
            <a:ext cx="2724120" cy="1504800"/>
          </a:xfrm>
          <a:prstGeom prst="rect">
            <a:avLst/>
          </a:prstGeom>
          <a:ln w="0">
            <a:noFill/>
          </a:ln>
        </p:spPr>
      </p:pic>
      <p:sp>
        <p:nvSpPr>
          <p:cNvPr id="389" name="Скругленный прямоугольник 6"/>
          <p:cNvSpPr/>
          <p:nvPr/>
        </p:nvSpPr>
        <p:spPr>
          <a:xfrm>
            <a:off x="1547640" y="2708280"/>
            <a:ext cx="2160720" cy="18730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ЧАС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кругленный прямоугольник 7"/>
          <p:cNvSpPr/>
          <p:nvPr/>
        </p:nvSpPr>
        <p:spPr>
          <a:xfrm>
            <a:off x="6156360" y="2708280"/>
            <a:ext cx="2160720" cy="194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УБЛИЧ-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Овал 8"/>
          <p:cNvSpPr/>
          <p:nvPr/>
        </p:nvSpPr>
        <p:spPr>
          <a:xfrm>
            <a:off x="6732720" y="115920"/>
            <a:ext cx="1942920" cy="1584360"/>
          </a:xfrm>
          <a:prstGeom prst="ellipse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Уч-к, стр.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кругленный прямоугольник 14"/>
          <p:cNvSpPr/>
          <p:nvPr/>
        </p:nvSpPr>
        <p:spPr>
          <a:xfrm>
            <a:off x="2411280" y="4797360"/>
            <a:ext cx="2376720" cy="1871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ОЗИТИ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кругленный прямоугольник 9"/>
          <p:cNvSpPr/>
          <p:nvPr/>
        </p:nvSpPr>
        <p:spPr>
          <a:xfrm>
            <a:off x="5219640" y="4797360"/>
            <a:ext cx="2376720" cy="1871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ЕСТЕ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Скругленный прямоугольник 1"/>
          <p:cNvSpPr/>
          <p:nvPr/>
        </p:nvSpPr>
        <p:spPr>
          <a:xfrm>
            <a:off x="1692360" y="260280"/>
            <a:ext cx="6696000" cy="223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Естественное право –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Уч-к стр. 1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Скругленный прямоугольник 2"/>
          <p:cNvSpPr/>
          <p:nvPr/>
        </p:nvSpPr>
        <p:spPr>
          <a:xfrm>
            <a:off x="1763640" y="3068640"/>
            <a:ext cx="6696000" cy="223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Прямоугольник 1"/>
          <p:cNvGrpSpPr/>
          <p:nvPr/>
        </p:nvGrpSpPr>
        <p:grpSpPr>
          <a:xfrm>
            <a:off x="1700280" y="2030400"/>
            <a:ext cx="6748560" cy="2273400"/>
            <a:chOff x="1700280" y="2030400"/>
            <a:chExt cx="6748560" cy="2273400"/>
          </a:xfrm>
        </p:grpSpPr>
        <p:pic>
          <p:nvPicPr>
            <p:cNvPr id="399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700280" y="2030400"/>
              <a:ext cx="674856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763640" y="2060640"/>
              <a:ext cx="662472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Д.З. § 29, конспект. Термины, вопросы для самопроверки,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         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зада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1"/>
          <p:cNvSpPr/>
          <p:nvPr/>
        </p:nvSpPr>
        <p:spPr>
          <a:xfrm>
            <a:off x="1187280" y="260280"/>
            <a:ext cx="7705800" cy="32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2"/>
          <p:cNvSpPr/>
          <p:nvPr/>
        </p:nvSpPr>
        <p:spPr>
          <a:xfrm>
            <a:off x="1908000" y="4149720"/>
            <a:ext cx="6120000" cy="19432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Признаки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187280" y="917640"/>
            <a:ext cx="7705800" cy="25826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Скругленный прямоугольник 1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оциальность – регулирует общественные отношения, действует в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2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3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сходит от государства и поддерживается его принудительной си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кругленный прямоугольник 4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меет формальное выражение – устанавливается государством в нормативных а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кругленный прямоугольник 5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лужит для регулирования общественных отношений, носит системны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Скругленный прямоугольник 1"/>
          <p:cNvSpPr/>
          <p:nvPr/>
        </p:nvSpPr>
        <p:spPr>
          <a:xfrm>
            <a:off x="1979640" y="62064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Функции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кругленный прямоугольник 2"/>
          <p:cNvSpPr/>
          <p:nvPr/>
        </p:nvSpPr>
        <p:spPr>
          <a:xfrm>
            <a:off x="1979640" y="907920"/>
            <a:ext cx="6264360" cy="36734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Воспита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3"/>
          <p:cNvSpPr/>
          <p:nvPr/>
        </p:nvSpPr>
        <p:spPr>
          <a:xfrm>
            <a:off x="1979640" y="119700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Социального контр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4"/>
          <p:cNvSpPr/>
          <p:nvPr/>
        </p:nvSpPr>
        <p:spPr>
          <a:xfrm>
            <a:off x="1979640" y="1484280"/>
            <a:ext cx="6264360" cy="36734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Регуля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5"/>
          <p:cNvSpPr/>
          <p:nvPr/>
        </p:nvSpPr>
        <p:spPr>
          <a:xfrm>
            <a:off x="1979640" y="184464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Охрани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1835280" y="44280"/>
            <a:ext cx="6121440" cy="720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Теории возникновения прав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042920" y="907920"/>
          <a:ext cx="8101080" cy="7351920"/>
        </p:xfrm>
        <a:graphic>
          <a:graphicData uri="http://schemas.openxmlformats.org/drawingml/2006/table">
            <a:tbl>
              <a:tblPr/>
              <a:tblGrid>
                <a:gridCol w="2422440"/>
                <a:gridCol w="567864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коны существуют вечно, ибо являются божественным дар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стественного пра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еловек от рождения и природы обладает неотъемлемыми естественными правами, которые нельзя отменит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сих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есть результат человеческих переживаний. Законы государства зависят от психологии люде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ормативист-ская те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исходит от государства,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торое диктует людям модель поведен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зитивист-ская те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порождено противоречиями в жизни, военными конфликтами, в результате которых победу одерживает сильнейш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1"/>
          <p:cNvSpPr/>
          <p:nvPr/>
        </p:nvSpPr>
        <p:spPr>
          <a:xfrm>
            <a:off x="2050920" y="333360"/>
            <a:ext cx="5185080" cy="9144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рактическое значение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Прямая со стрелкой 4" descr=""/>
          <p:cNvPicPr/>
          <p:nvPr/>
        </p:nvPicPr>
        <p:blipFill>
          <a:blip r:embed="rId1"/>
          <a:stretch/>
        </p:blipFill>
        <p:spPr>
          <a:xfrm>
            <a:off x="3017880" y="1182600"/>
            <a:ext cx="1712880" cy="117000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ая со стрелкой 6" descr=""/>
          <p:cNvPicPr/>
          <p:nvPr/>
        </p:nvPicPr>
        <p:blipFill>
          <a:blip r:embed="rId2"/>
          <a:stretch/>
        </p:blipFill>
        <p:spPr>
          <a:xfrm>
            <a:off x="4559400" y="1189080"/>
            <a:ext cx="1573200" cy="1163520"/>
          </a:xfrm>
          <a:prstGeom prst="rect">
            <a:avLst/>
          </a:prstGeom>
          <a:ln w="0">
            <a:noFill/>
          </a:ln>
        </p:spPr>
      </p:pic>
      <p:sp>
        <p:nvSpPr>
          <p:cNvPr id="352" name="Параллелограмм 7"/>
          <p:cNvSpPr/>
          <p:nvPr/>
        </p:nvSpPr>
        <p:spPr>
          <a:xfrm>
            <a:off x="1116000" y="2492280"/>
            <a:ext cx="3384720" cy="3529080"/>
          </a:xfrm>
          <a:prstGeom prst="parallelogram">
            <a:avLst>
              <a:gd name="adj" fmla="val 25000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Защит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араллелограмм 8"/>
          <p:cNvSpPr/>
          <p:nvPr/>
        </p:nvSpPr>
        <p:spPr>
          <a:xfrm>
            <a:off x="4932360" y="2421000"/>
            <a:ext cx="3600360" cy="3744720"/>
          </a:xfrm>
          <a:prstGeom prst="parallelogram">
            <a:avLst>
              <a:gd name="adj" fmla="val 25000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Провозглашение правового положения человека в обществ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1"/>
          <p:cNvSpPr/>
          <p:nvPr/>
        </p:nvSpPr>
        <p:spPr>
          <a:xfrm>
            <a:off x="1547640" y="115920"/>
            <a:ext cx="6769440" cy="2952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Норма права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кругленный прямоугольник 2"/>
          <p:cNvSpPr/>
          <p:nvPr/>
        </p:nvSpPr>
        <p:spPr>
          <a:xfrm>
            <a:off x="1547640" y="3500280"/>
            <a:ext cx="6769440" cy="29530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Виды правовых нор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ый прямоугольник 3"/>
          <p:cNvSpPr/>
          <p:nvPr/>
        </p:nvSpPr>
        <p:spPr>
          <a:xfrm>
            <a:off x="1547640" y="549360"/>
            <a:ext cx="6769440" cy="267156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4"/>
          <p:cNvSpPr/>
          <p:nvPr/>
        </p:nvSpPr>
        <p:spPr>
          <a:xfrm>
            <a:off x="1547640" y="4221000"/>
            <a:ext cx="6769440" cy="2384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Скругленный прямоугольник 1"/>
          <p:cNvSpPr/>
          <p:nvPr/>
        </p:nvSpPr>
        <p:spPr>
          <a:xfrm>
            <a:off x="1476360" y="189000"/>
            <a:ext cx="7272360" cy="1655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остав нормы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2"/>
          <p:cNvSpPr/>
          <p:nvPr/>
        </p:nvSpPr>
        <p:spPr>
          <a:xfrm>
            <a:off x="1187280" y="2421000"/>
            <a:ext cx="223236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Гипотез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предположе-ние) – описывает условия выполнения правила. «есл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3"/>
          <p:cNvSpPr/>
          <p:nvPr/>
        </p:nvSpPr>
        <p:spPr>
          <a:xfrm>
            <a:off x="3924360" y="2421000"/>
            <a:ext cx="237636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Диспозиция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распоряже-ние) – описывает само правило поведения. «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4"/>
          <p:cNvSpPr/>
          <p:nvPr/>
        </p:nvSpPr>
        <p:spPr>
          <a:xfrm>
            <a:off x="6732720" y="2421000"/>
            <a:ext cx="223200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Санкция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взыскание) предусматривает последствия неисполнения нормы. «инач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1547640" y="71280"/>
            <a:ext cx="7201080" cy="2421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Закон –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"/>
          <p:cNvSpPr/>
          <p:nvPr/>
        </p:nvSpPr>
        <p:spPr>
          <a:xfrm>
            <a:off x="2268360" y="2637000"/>
            <a:ext cx="5543640" cy="2016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иды закон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4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сновные (Конституция РФ, конституции республик в составе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5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едеральные конституционные (закон о гербе, о флаге, о референдуме и т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6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7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8"/>
          <p:cNvSpPr/>
          <p:nvPr/>
        </p:nvSpPr>
        <p:spPr>
          <a:xfrm>
            <a:off x="2268360" y="3429000"/>
            <a:ext cx="5543640" cy="2449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Конституция РФ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– основной закон РФ! (принята 12 декабря 1993 г. путём референду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9"/>
          <p:cNvSpPr/>
          <p:nvPr/>
        </p:nvSpPr>
        <p:spPr>
          <a:xfrm>
            <a:off x="1547640" y="549360"/>
            <a:ext cx="7201080" cy="20955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6:19:30Z</dcterms:created>
  <dc:creator>Пользователь</dc:creator>
  <dc:description/>
  <dc:language>en-US</dc:language>
  <cp:lastModifiedBy>LEGION</cp:lastModifiedBy>
  <dcterms:modified xsi:type="dcterms:W3CDTF">2016-01-04T08:10:58Z</dcterms:modified>
  <cp:revision>24</cp:revision>
  <dc:subject/>
  <dc:title>Тема: Роль права в жизни человека, общества, государства § 29</dc:title>
</cp:coreProperties>
</file>