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A527-A238-4CF2-B7F1-7DDBAFF441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4FC3-D924-40FB-88CA-8C60606CA7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экзистенц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0693-810C-468C-A8AB-3AACF3FDE1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5105-183A-4E9A-893C-614D0CEF6F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природы –  «Порча быт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– это активность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природа – пассивность, предметность, матери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объектов лиш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убин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сущей Дух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есть «ноумен», «вещь в себ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а же – лишь «феномен», явл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начально бытие было чисто духовной реальностью, но в этом первичном бытии произош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порч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дение: Дух стал отчуждённым от самого себ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шибочно полагать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ъектив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меет место лишь в познавательной сфере; она происходит в самом бытии: объективация – это лишь гносеологическая категория для обозначен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адше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ыти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C3AD-6EC7-46D1-B2A9-C8B5B104C7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C1A5-9DE8-4872-9F85-F634095070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обода и детермин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D71A-A389-4F52-BE89-808A91D8B7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41E5-61CB-4C22-BC07-09D9D024F6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сотворённом мире, и особенно в душе человека, происходи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рьба между Богом и свободо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ф о грехопадении свидетельствует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ссилии Творца предотвратить зло, исходящее из свободы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ой Он не сотвори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торично действ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отношении мира и человека, но он нисходит в мир уже не как Творец, а ка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паситель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Божественное самораспятие должно победить меоническую свободу просветлением её изнутри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з насилия над не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агическая теодице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 даёт никаких гарантий победы Бога над иррациональной свободой, но одушевляется верой в эту победу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9CF6-2B91-4A50-BDA6-ACB80B2638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зак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закона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изшая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хотя и необходимая ступень морального со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, по преимуществу,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отрицательная этика»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остоящая из кодексов запретов – заповедей, табу, вет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з этих запретов человек рискует вернуться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животное состояни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этика закона как бы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роходит мимо личн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создаёт фарисейскую психологию «законничества», вырождающуюся нередко в лицемерие и ханжество и порождающую «фанатизм добра» с типичным для него садистским комплексо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(«кошмар злого добра»)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078D-F5E2-4DC5-85A9-DA141FC72B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искуп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искупления – благодатная этик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сепрощения, любви и сострадания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она легко вырождается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трансцендентный эгоизм» –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сключительную заботу о спасении собственной души, что может породить религиозный мазохизм и засушить корень любви к ближне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BB89-117F-4655-B59A-F189C0448B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тоит как бы вне этики закона и вне этики искупления и предполагает иную этик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ец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правдывае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ои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тра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казания и страх вечных мук не может играт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икакой рол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этике твор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лимация, или преображение страстей, означа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свобожд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трасти от похоти и утверждение в ней свободной творческой стих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ец всегд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скорыстен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 забывает о себе и любит своё творение, как Бог любит ми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творчестве человек становитс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вободным соучастником миротвор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«меньшим братом Божиим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ADFA-BD3A-47AD-8D2A-57B58CB5A9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4892-53DA-4F8B-B55A-D074674742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экзистенциал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1866-193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3D39-DCE0-4238-9360-B515826A7E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47F5-43F0-44F8-B81F-7E6A1D45C8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0255-B14E-4C23-8916-4CE3704240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FC3D-F51B-4DEA-A48F-F77248079E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8E96-43E3-455B-A822-BB3F495A5D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асение может быть лиш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обор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 есть имен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изоляц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т други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гедия ада заключается не в том, что Бог не может простить грешнику его грехи, но в том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ам грешник не может простить их 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 не есть внешняя сфера, где мучаются грешники, а есть имен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абсолютное одиночество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где голос совести, заглушённый при жизни, жжёт грешника страшным неугасимым огнём самоосужд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A533-9FDC-4E83-AD09-AFE4EF07F8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E5BA-6BFF-4622-9E0A-AA80D764DA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ризис 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истоки современного кризиса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отпадении человечества от христианства и гуманизм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Христианство дало человечеству благую весть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арстве Божие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гуманизм впервые осознал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вободу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еловека и ценность этой своб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современное человечество отвернулось и от Царствия Божия ради мечты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арстве человеческо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от свободы, предпочитая ей мечту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ытом довольств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рганической культуры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еловечество стало создават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ханическую цивилизацию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ая устремлённость которой антирелигиозна и антиперсоналистична. Вместо образа и подобия Божия человек становится образом и подобием бездушной маши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Цивилизация развил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громные технические силы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е по замыслу должны были уготовить господство человека над природой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эти силы властвуют над самим человеко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елают его рабом, убивают его душ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1822-757F-4290-83DA-9F636925D7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Новое средневековь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дна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ания свободы в отрыве от Бог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иалектически приводит 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худшим формам рабств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а гуманизм, будучи оторван от его религиозного первоисточника, –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 дегуманизации и бестиализации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условиях относительного благоденств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еловеческий дух засыпает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одовольная личность деперсонализируется, и в результате буржуазная культура, будучи не в состоянии выдержать натиска «нового варварства», оказывается лишь переходной формой от чистого гуманизма к «новому средневековью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 «новое средневековье» гораздо хуже прежнего, ибо тогда христианская идея предохраняла личность от разложения. Теперь ж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 монаха и рыцаря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тупает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у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оргаша и шофёр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 тем, чтобы, в свою очередь, уступить 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у комиссара и чеки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иранящего народ во имя народной воли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E058-AA02-4971-807F-2A9250A8D1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ммунизм есть Немезида капитализма и порождён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атериалистическим духом капитализм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льшевизм силён своей критикой лжи буржуазной культуры, но не в силах создать своей положительной культуры, ибо он сам заражён материализмом, порождённым буржуазией;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льшевизм силён своим разрушением, а не творчеством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DAF8-BE88-41C4-A1A0-32CCA8F935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A641-5253-43C3-8BF8-0913519F43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. Шестов (1866-193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E2D6-92C6-4867-B47A-13E83FAE7E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5E46-0780-4548-884B-89F7D92783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абсу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698C-E57D-47CB-8C19-DB20FF5861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абсу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абсур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диционная философия стремится стать «наукой», но человеку нужн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не истинная, а лучшая философия»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этому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эллинской мудр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до противопоставить иерусалимскую жажду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живого Бог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дь невозможное для человека возможно для Бога: Бог может изменить даже прошлое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нимание, не соблазняющееся жаждой универсального понимания, не желающее становиться «знанием», есть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ера – «второе измерение мышлен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Истины» разума требуют слепого повиновения своей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зличной необходимости;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ера предполага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личную свободу и отвагу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3D01-D1EC-4527-ACFC-FF1139E49E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567A-FB02-4F99-838D-20ACFB61D7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. Бердяев (1874-19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8AC6-C080-4145-B9BD-A812A31EFC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тво и объектив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природы; «порча бытия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детерми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, этика искупления, этика твор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одоление морал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общее спас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зис куль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ое средневековь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ьба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DB10-E84E-451E-B2D9-C470721347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ход из антиноми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еличия и ничтожества человека –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обожении человека и очеловечивании Бога, в Богочеловече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еловеческое творчество должно стать как бы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родолжением миротвор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ибо, творя, человек уподобляется Богу-Творц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диционное богословие чересчур унижало человека, чересчур сосредоточивалось на учении о человеке ка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бе Божие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мало замечало другую сторону христианского учения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гоподобие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асение человека от греха есть только предварительная цель; конечная цель заключается не в спасении, а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DA9F-54F7-4C82-9EEA-85C96365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3679-38C4-4AF3-A25C-E7BAC9F0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6FA-B8D9-4FB3-B321-580133F2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403A-7D73-4CD4-B22D-B96DC55A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3B50-1C6C-41B7-93CF-48DB443B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31E6-219A-4ABF-B86D-BEA2C7F7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EE9D-A865-4524-A818-D3B88C6D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95C4-E13B-4A3E-ABA4-9CE20E01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95B1-74DD-4DAB-AC15-282BF87D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93F-94BE-4CFC-9D06-9B45229B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9711-306E-49A0-881F-B818DE61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8010-17C7-4168-A3FF-BC102417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19F9-4DD8-472D-A476-E1AD45585E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680" y="257148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ий экзистенциал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 rot="10800000">
            <a:off x="358920" y="2338560"/>
            <a:ext cx="431784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ворчество долж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правды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, наоборо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 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авдывать жизн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 rot="10800000">
            <a:off x="4497480" y="2338560"/>
            <a:ext cx="431784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кий ак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цен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нающая над соб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го суда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ульт свят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ен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полнен культ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ниа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природы –  «Порча быт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– это активность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природа – пассивность, предметность, матери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объектов лиш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убин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сущей Дух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есть «ноумен», «вещь в себ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а же – лишь «феномен», явл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начально бытие было чисто духовной реальностью, но в этом первичном бытии произош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порч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дение: Дух стал отчуждённым от самого себ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шибочно полагать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ъектив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меет место лишь в познавательной сфере; она происходит в самом бытии: объективация – это лишь гносеологическая категория для обозначен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адше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ыти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3116160" y="49831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2036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957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611280" y="16192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арство духа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ваться лишь интуитив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тическим опы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1690560" y="2878200"/>
            <a:ext cx="467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природы, «мира объектов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гда нос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й харак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2770200" y="413856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езультате объектив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ождествляем реальность с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а самом дел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торич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бъективирован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3849840" y="53974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еальности же первичн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ъективированн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рациональ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напроти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мневаем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15"/>
          <p:cNvSpPr/>
          <p:nvPr/>
        </p:nvSpPr>
        <p:spPr>
          <a:xfrm flipV="1">
            <a:off x="671040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3"/>
          <p:cNvSpPr/>
          <p:nvPr/>
        </p:nvSpPr>
        <p:spPr>
          <a:xfrm flipV="1">
            <a:off x="436392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4"/>
          <p:cNvSpPr/>
          <p:nvPr/>
        </p:nvSpPr>
        <p:spPr>
          <a:xfrm flipV="1">
            <a:off x="205092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2"/>
          <p:cNvSpPr/>
          <p:nvPr/>
        </p:nvSpPr>
        <p:spPr>
          <a:xfrm flipV="1">
            <a:off x="4363920" y="3056760"/>
            <a:ext cx="414360" cy="358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обода и детерми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690560" y="3417840"/>
            <a:ext cx="5757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го изначальная свобо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тупает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31640" y="4857840"/>
            <a:ext cx="251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природ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ерминаци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6189840" y="485784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Бо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3309840" y="4857840"/>
            <a:ext cx="251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обществ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емящим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чинить ли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вторим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му стандар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2409840" y="1978200"/>
            <a:ext cx="4317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сотворён дл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307980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2000160" y="372420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92088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574560" y="1619280"/>
            <a:ext cx="4749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начальная (иррациональная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а не сотворена Бог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предвечно укоренен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54200" y="2878200"/>
            <a:ext cx="4749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дуализмом экзистенциа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а и мира объектив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о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ее глубокий дуализ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а-Творца и несотворённой своб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2733840" y="4138560"/>
            <a:ext cx="4749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поэтому есть н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дитя Божие», но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тя своб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бытия, «меона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3814920" y="5397480"/>
            <a:ext cx="4749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м объясняется непреодолим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ечение ко злу, иррацион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ывы к разруш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отворённом мире, и особенно в душе человека, происход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рьба между Богом и свободо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ф о грехопадении свидетельствует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ссилии Творца предотвратить зло, исходящее из свобод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ой Он не сотвор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торично действу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 отношении мира и человека, но он нисходит в мир уже не как Творец, а ка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паситель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ожественное самораспятие должно победить меоническую свободу просветлением её изнутри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з насилия над не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агическая теодице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 даёт никаких гарантий победы Бога над иррациональной свободой, но одушевляется верой в эту победу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зак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зша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хотя и необходимая ступень морального созн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, по преимуществу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отрицательная этик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стоящая из кодексов запретов – заповедей, табу, ве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з этих запретов человек рискует вернуться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животное состояни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этика закона как б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ходит мимо лич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создаёт фарисейскую психологию «законничества», вырождающуюся нередко в лицемерие и ханжество и порождающую «фанатизм добра» с типичным для него садистским комплексом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(«кошмар злого добра»)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иску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60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искупления – благодатная этик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сепрощения, любви и сострадан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она легко вырождается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трансцендентный эгоизм»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сключительную заботу о спасении собственной души, что может породить религиозный мазохизм и засушить корень любви к ближне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оит как бы вне этики закона и вне этики искупления и предполагает иную эт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ец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правдывае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воим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рах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казания и страх вечных мук не может игра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какой рол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 этике твор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блимация, или преображение страстей, означа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свобожде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расти от похоти и утверждение в ней свободной творческой стих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ец всегд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скорысте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н забывает о себе и любит своё творение, как Бог любит ми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творчестве человек станови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ным соучастником миротвор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«меньшим братом Божии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, что возник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е между добром и зл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рошо пров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различ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 оно возникло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 прох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ерез опыт з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рошо распо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 и з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 этого опы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экзистенциал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78200" y="1798200"/>
            <a:ext cx="305928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6-193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698920" y="5576760"/>
            <a:ext cx="262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Бердяе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4-194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Шестов (1-2)"/>
          <p:cNvPicPr/>
          <p:nvPr/>
        </p:nvPicPr>
        <p:blipFill>
          <a:blip r:embed="rId1"/>
          <a:stretch/>
        </p:blipFill>
        <p:spPr>
          <a:xfrm>
            <a:off x="898560" y="1798560"/>
            <a:ext cx="244008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9" descr="Бердяев (2-1)"/>
          <p:cNvPicPr/>
          <p:nvPr/>
        </p:nvPicPr>
        <p:blipFill>
          <a:blip r:embed="rId2"/>
          <a:stretch/>
        </p:blipFill>
        <p:spPr>
          <a:xfrm>
            <a:off x="5649840" y="3309840"/>
            <a:ext cx="274968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идёт от первоначаль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различения добра 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рез рез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ение добра 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окончатель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различению добра и зл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огащённ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 опытом различ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/>
          <p:cNvSpPr/>
          <p:nvPr/>
        </p:nvSpPr>
        <p:spPr>
          <a:xfrm>
            <a:off x="3076560" y="4371840"/>
            <a:ext cx="880920" cy="145764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640"/>
              <a:gd name="textAreaBottom" fmla="*/ 1056960 h 14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45728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19280" y="1943280"/>
            <a:ext cx="4317840" cy="125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раль высшего доб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все не означ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различия к добру и зл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значает терпимости ко з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2338560" y="3417840"/>
            <a:ext cx="431784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требует больш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меньшего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стреми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просветлен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освобождению з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3957480" y="4894200"/>
            <a:ext cx="431820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асение невозможно,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ь одна душа мучается в ад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то не может быть спасё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золированности от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Novelli 1 Cain and Abel - compr"/>
          <p:cNvPicPr/>
          <p:nvPr/>
        </p:nvPicPr>
        <p:blipFill>
          <a:blip r:embed="rId1"/>
          <a:stretch/>
        </p:blipFill>
        <p:spPr>
          <a:xfrm>
            <a:off x="5397480" y="1978200"/>
            <a:ext cx="322884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4" name="Text Box 5"/>
          <p:cNvSpPr/>
          <p:nvPr/>
        </p:nvSpPr>
        <p:spPr>
          <a:xfrm>
            <a:off x="537120" y="1978200"/>
            <a:ext cx="395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равственное сознани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алось с Божьего вопро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 rot="10800000">
            <a:off x="719280" y="3238200"/>
            <a:ext cx="359856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ин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де брат тв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вель?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Bouguereau W, Les Remords d’Oreste [ARC] - compr"/>
          <p:cNvPicPr/>
          <p:nvPr/>
        </p:nvPicPr>
        <p:blipFill>
          <a:blip r:embed="rId1"/>
          <a:stretch/>
        </p:blipFill>
        <p:spPr>
          <a:xfrm>
            <a:off x="4678200" y="2338560"/>
            <a:ext cx="3959280" cy="3489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9" name="Text Box 5"/>
          <p:cNvSpPr/>
          <p:nvPr/>
        </p:nvSpPr>
        <p:spPr>
          <a:xfrm>
            <a:off x="715680" y="197820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о кончится вопросом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 rot="10800000">
            <a:off x="539280" y="3238200"/>
            <a:ext cx="359892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вель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де брат тв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ин?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асение может быть лиш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бор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 есть имен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изоля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 друг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гедия ада заключается не в том, что Бог не может простить грешнику его грехи, но в том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ам грешник не может простить их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 не есть внешняя сфера, где мучаются грешники, а есть имен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бсолютное одино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де голос совести, заглушённый при жизни, жжёт грешника страшным неугасимым огнём самоосуж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 rot="10800000">
            <a:off x="358920" y="1798200"/>
            <a:ext cx="593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ада должна быть соверш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обождена от всех ассоциаций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язанных 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енесением на не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ов уголовного прав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д, как  субъективная сфе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гружение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ё собственную ть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ый результа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еховного суще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овс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рансцендент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казание за гре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д и есть не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йти к трансцендент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погружённость в имманент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ризис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истоки современного кризиса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 отпадении человечества от христианства и гуманизм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ристианство дало человечеству благую весть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арстве Божие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уманизм впервые осознал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ловека и ценность этой своб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современное человечество отвернулось и от Царствия Божия ради мечты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арстве человеческо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от свободы, предпочитая ей мечту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ытом довольств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рганической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ловечество стало создава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еханическую цивилизацию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ая устремлённость которой антирелигиозна и антиперсоналистична. Вместо образа и подобия Божия человек становится образом и подобием бездушной маш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я разви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громные технические сил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ые по замыслу должны были уготовить господство человека над природой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ти силы властвуют над самим человеко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ают его рабом, убивают его душ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вое средневековь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ания свободы в отрыве от Бог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иалектически приводит 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худшим формам рабств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гуманизм, будучи оторван от его религиозного первоисточника, –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дегуманизации и бестиализации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условиях относительного благоденств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ческий дух засыпает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довольная личность деперсонализируется, и в результате буржуазная культура, будучи не в состоянии выдержать натиска «нового варварства», оказывается лишь переходной формой от чистого гуманизма к «новому средневековь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«новое средневековье» гораздо хуже прежнего, ибо тогда христианская идея предохраняла личность от разложения. Теперь же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 монаха и рыцаря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упает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ргаша и шофёр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 тем, чтобы, в свою очередь, уступить 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у комиссара и чекист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тиранящего народ во имя народной воли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96020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мунизм есть Немезида капитализма и порожд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атериалистическим духом капитализм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ьшевизм силён своей критикой лжи буржуазной культуры, но не в силах создать своей положительной культуры, ибо он сам заражён материализмом, порождённым буржуазией;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визм силён своим разрушением, а не творчество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ий народ не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ть среди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уманистического цар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хочет правов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в европейс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этого слова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хочет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арства Божь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ратства во Христе, 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варищества в Антихрис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арства князя мира сег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Шестов (1866-193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42920" y="2698920"/>
            <a:ext cx="575784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бро в учении гр. Толстого и Ф. Ницше (Философия и проповедь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стоевский и Ницше (Философия трагедии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феоз беспочвенности (Опыт адогматического мышления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асть ключ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весах Иова (Странствования по душам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фины и Иерусали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8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ркегард и экзистенциальная философ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93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Шестов (2-2 - Григорьев)"/>
          <p:cNvPicPr/>
          <p:nvPr/>
        </p:nvPicPr>
        <p:blipFill>
          <a:blip r:embed="rId1"/>
          <a:stretch/>
        </p:blipFill>
        <p:spPr>
          <a:xfrm>
            <a:off x="6045120" y="1798560"/>
            <a:ext cx="27813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Text Box 6"/>
          <p:cNvSpPr/>
          <p:nvPr/>
        </p:nvSpPr>
        <p:spPr>
          <a:xfrm>
            <a:off x="1079640" y="183528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0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3116160" y="49831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2036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957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611280" y="16192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– величайш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раг истин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Истины» разум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абощ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освобождают мыс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1690560" y="2878200"/>
            <a:ext cx="467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звучит абсурд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мире абсурд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урдность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казатель исти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к недомыслия и забл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2770200" y="413856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ные методы разум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я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 противоречия и зак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аточного основа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ности или целесообразн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3849840" y="53974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я из них разум стрем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ить всё совершающее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необходим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 самы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авдыва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я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Шестов (2-2 - Григорьев) red"/>
          <p:cNvPicPr/>
          <p:nvPr/>
        </p:nvPicPr>
        <p:blipFill>
          <a:blip r:embed="rId1"/>
          <a:stretch/>
        </p:blipFill>
        <p:spPr>
          <a:xfrm>
            <a:off x="7305840" y="1619280"/>
            <a:ext cx="1209600" cy="21621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2355840" y="4479840"/>
            <a:ext cx="880920" cy="15289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67480 h 1528920"/>
              <a:gd name="textAreaBottom" fmla="*/ 1108440 h 15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1096920" y="2824200"/>
            <a:ext cx="881280" cy="1528560"/>
          </a:xfrm>
          <a:custGeom>
            <a:avLst/>
            <a:gdLst>
              <a:gd name="textAreaLeft" fmla="*/ 118080 w 881280"/>
              <a:gd name="textAreaRight" fmla="*/ 763200 w 881280"/>
              <a:gd name="textAreaTop" fmla="*/ 267480 h 1528560"/>
              <a:gd name="textAreaBottom" fmla="*/ 1108440 h 152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719280" y="1654200"/>
            <a:ext cx="521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создаёт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иемлемую картину мира: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временн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у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нравствен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1978200" y="3309840"/>
            <a:ext cx="521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наш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 зле лежит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праведливость и зл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ют в нё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 справедливостью и добром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3238560" y="4965840"/>
            <a:ext cx="521820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ейшее есть нечто, прям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положное миру ноуменальных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– бытие как бездонное, тайное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лыханное, неожиданное, обитающе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диничном, случайном, временном, н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ятом в расчёт sub speciae aeternitat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Шестов (2-2 - Григорьев) red"/>
          <p:cNvPicPr/>
          <p:nvPr/>
        </p:nvPicPr>
        <p:blipFill>
          <a:blip r:embed="rId1"/>
          <a:stretch/>
        </p:blipFill>
        <p:spPr>
          <a:xfrm>
            <a:off x="7305840" y="1619280"/>
            <a:ext cx="1209600" cy="21621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диционная философия стремится стать «наукой», но человеку нужн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не истинная, а лучшая философия»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этому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ллинской мудр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до противопоставить иерусалимскую жажду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живого Бог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дь невозможное для человека возможно для Бога: Бог может изменить даже прошло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нимание, не соблазняющееся жаждой универсального понимания, не желающее становиться «знанием», есть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ра – «второе измерение мышлени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стины» разума требуют слепого повиновения своей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зличной необходимости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ера предполага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ичную свободу и отвагу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878200" y="2698920"/>
            <a:ext cx="61182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свобод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: Опыт оправдания челове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назначении человека: Опыт парадоксальной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 и мир объектов: Философия и одиночества и общ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4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рабстве и свободе человека: Опыт персоналистическ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ая идея: Основные проблемы русской мыс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ки и смысл русского коммун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5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Бердяев (6-5)"/>
          <p:cNvPicPr/>
          <p:nvPr/>
        </p:nvPicPr>
        <p:blipFill>
          <a:blip r:embed="rId1"/>
          <a:stretch/>
        </p:blipFill>
        <p:spPr>
          <a:xfrm>
            <a:off x="466560" y="1798560"/>
            <a:ext cx="21592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4210200" y="183528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458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тво и объектив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природы; «порча бытия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детерми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, этика искупления, этика твор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одоление морал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общее спас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зис куль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ое средневековь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ьба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ход из антиноми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личия и ничтожества человека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божении человека и очеловечивании Бога, в Богочеловече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ловеческое творчество должно стать как бы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должением миротвор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ибо, творя, человек уподобляется Богу-Твор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диционное богословие чересчур унижало человека, чересчур сосредоточивалось на учении о человеке ка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бе Божи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мало замечало другую сторону христианского учения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гоподобие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асение человека от греха есть только предварительная цель; конечная цель заключается не в спасении, а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18:20:26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0:15:48Z</dcterms:modified>
  <cp:revision>33</cp:revision>
  <dc:subject>История русской философии - Лекция 11</dc:subject>
  <dc:title>Русский экзистенциализм</dc:title>
</cp:coreProperties>
</file>