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E8B97-74AC-4BC9-BE27-81A16810AC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FF601-BA06-4C09-A40C-87F6A0A200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8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усский экзистенциал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9447D-382A-4221-A847-74EC97A009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ворчество и объективация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Смысл творчест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EAA64-E8B0-43EA-A6BB-27ABDDAFC0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ворчество и объективац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уализм духа и природы –  «Порча бытия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х – это активность,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ворчество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а природа – пассивность, предметность, материаль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р объектов лишён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глубины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рисущей Духу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х есть «ноумен», «вещь в себе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рода же – лишь «феномен», явление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значально бытие было чисто духовной реальностью, но в этом первичном бытии произошла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«порча»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адение: Дух стал отчуждённым от самого себя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шибочно полагать, чт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объективац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меет место лишь в познавательной сфере; она происходит в самом бытии: объективация – это лишь гносеологическая категория для обозначения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адшест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бытия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D87EC-B3E6-4662-B541-B61713A42C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ворчество и объективац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знание духа и познание прир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3B2BA-3EC2-4DB0-B882-7F14CD842C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вобода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вобода и детермин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4D41B-07A9-469E-AFD0-E7B0242134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вобода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вобода и Нич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684A4-8F8E-44EE-859F-E27A5146E9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вобода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ог и свобода (трагическая теодице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сотворённом мире, и особенно в душе человека, происходит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борьба между Богом и свободой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иф о грехопадении свидетельствует 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бессилии Творца предотвратить зло, исходящее из свободы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которой Он не сотвори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ог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торично действует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 отношении мира и человека, но он нисходит в мир уже не как Творец, а как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Спаситель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Божественное самораспятие должно победить меоническую свободу просветлением её изнутри –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без насилия над ней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а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рагическая теодице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не даёт никаких гарантий победы Бога над иррациональной свободой, но одушевляется верой в эту победу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7815D-5664-492B-841B-D1E103832F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Этика зак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ика закона –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низшая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хотя и необходимая ступень морального созн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о, по преимуществу,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«отрицательная этика»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остоящая из кодексов запретов – заповедей, табу, вет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ез этих запретов человек рискует вернуться в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животное состояние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этика закона как бы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проходит мимо личност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 создаёт фарисейскую психологию «законничества», вырождающуюся нередко в лицемерие и ханжество и порождающую «фанатизм добра» с типичным для него садистским комплексом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(«кошмар злого добра»)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525AC-F30F-42B2-9B81-D698F0B669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Этика искуп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ика искупления – благодатная этика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сепрощения, любви и сострадания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она легко вырождается в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«трансцендентный эгоизм» –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сключительную заботу о спасении собственной души, что может породить религиозный мазохизм и засушить корень любви к ближнем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34899-7661-45F8-B262-AC9A69FE86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Этика творч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ворчеств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тоит как бы вне этики закона и вне этики искупления и предполагает иную этик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ворец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оправдываетс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воим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ворчеств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Страх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наказания и страх вечных мук не может играть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никакой рол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 этике творче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ублимация, или преображение страстей, означает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освобождени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трасти от похоти и утверждение в ней свободной творческой стих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ворец всегда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бескорыстен: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он забывает о себе и любит своё творение, как Бог любит ми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творчестве человек становится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свободным соучастником миротворен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– «меньшим братом Божиим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2BB73-0EF7-4C6D-9602-F44CBBAB1D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еодоление морализма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A6840-8A50-48A4-8D8B-FD619779C6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усский экзистенциализ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И. Шестов </a:t>
            </a:r>
            <a:br>
              <a:rPr sz="1000"/>
            </a:b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(1866-193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B5143-9F57-46C8-8934-B21ABE0C3F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еодоление морализма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4B196-2A65-4AC0-B377-C92B5A83D5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сеобщее спас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3E0C7-ABFC-4FEF-9B6E-68616DC27B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сеобщее спас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221D4-4CA1-45F6-9BE6-E9D00DE1AA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сеобщее спас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F609F-D185-4641-B978-BCA08F48A5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сеобщее спас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пасение может быть лишь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собор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д есть именн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изоляц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от други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гедия ада заключается не в том, что Бог не может простить грешнику его грехи, но в том, чт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сам грешник не может простить их себ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д не есть внешняя сфера, где мучаются грешники, а есть именн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абсолютное одиночество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где голос совести, заглушённый при жизни, жжёт грешника страшным неугасимым огнём самоосужд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05E35-8E37-407A-A41C-85B79476A6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сеобщее спас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F18A-4755-45BA-B451-55E5310835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я истории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Кризис культу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рвоистоки современного кризиса –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отпадении человечества от христианства и гуманизма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Христианство дало человечеству благую весть 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Царстве Божием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гуманизм впервые осознал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свободу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человека и ценность этой свобод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современное человечество отвернулось и от Царствия Божия ради мечты 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царстве человеческом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 от свободы, предпочитая ей мечту 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сытом довольстве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мест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органической культуры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человечество стало создавать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механическую цивилизацию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амая устремлённость которой антирелигиозна и антиперсоналистична. Вместо образа и подобия Божия человек становится образом и подобием бездушной машин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Цивилизация развила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огромные технические силы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которые по замыслу должны были уготовить господство человека над природой, н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эти силы властвуют над самим человеком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делают его рабом, убивают его душ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3B5FB-1CB8-4ECA-9F43-8D1D675D02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я истории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Новое средневековье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днак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мания свободы в отрыве от Бог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диалектически приводит к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худшим формам рабства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а гуманизм, будучи оторван от его религиозного первоисточника, –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 дегуманизации и бестиализации челове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условиях относительного благоденствия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человеческий дух засыпает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амодовольная личность деперсонализируется, и в результате буржуазная культура, будучи не в состоянии выдержать натиска «нового варварства», оказывается лишь переходной формой от чистого гуманизма к «новому средневековью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о «новое средневековье» гораздо хуже прежнего, ибо тогда христианская идея предохраняла личность от разложения. Теперь же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ип монаха и рыцаря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ступает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ест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ипу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оргаша и шофёр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 тем, чтобы, в свою очередь, уступить мест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ипу комиссара и чекиста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тиранящего народ во имя народной воли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D317-F372-420A-8E41-8594E2AA83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я истории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удьба Росс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ммунизм есть Немезида капитализма и порождён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материалистическим духом капитализма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ольшевизм силён своей критикой лжи буржуазной культуры, но не в силах создать своей положительной культуры, ибо он сам заражён материализмом, порождённым буржуазией;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большевизм силён своим разрушением, а не творчеством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C088A-C425-4FE4-AD9D-B44B128701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истории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Судьба России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12321-4E33-4F54-B280-BCC409F4A3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Л.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И. Шестов (1866-193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1C611-02A0-4062-A5C7-1305FC34C3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89718-2093-474A-971F-FAB899606E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. Шестов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носеология абсур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E072D-EB4E-49BC-8E5B-F71920ED58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. Шестов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абсур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. Шестов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Этика абсур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диционная философия стремится стать «наукой», но человеку нужна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«не истинная, а лучшая философия»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этому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эллинской мудрост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надо противопоставить иерусалимскую жажду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живого Бога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дь невозможное для человека возможно для Бога: Бог может изменить даже прошлое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нимание, не соблазняющееся жаждой универсального понимания, не желающее становиться «знанием», есть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ера – «второе измерение мышления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Истины» разума требуют слепого повиновения своей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безличной необходимости;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ера предполагает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личную свободу и отвагу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16425-DF4F-4466-B3E0-DC3137CC3E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172DF-BCC9-4C25-8729-7854822A89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.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А. Бердяев (1874-194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D6857-0E51-4972-B277-0B1BDD7937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. Бердяев (1874-194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ворчество и объектив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мысл твор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ализм духа и природы; «порча бытия»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знание духа и познание природ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воб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вобода и детермина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вобода и Нич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г и свобода (трагическая теодицея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ик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ика закона, этика искупления, этика творче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одоление морализ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еобщее спас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зис культур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Новое средневековье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дьба Росс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AED00-8DF6-487D-95BE-8856B8CF5F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ворчество и объективация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мысл творч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ыход из антиномии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еличия и ничтожества человека –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обожении человека и очеловечивании Бога, в Богочеловечеств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Человеческое творчество должно стать как бы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продолжением миротворен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, ибо, творя, человек уподобляется Богу-Творц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диционное богословие чересчур унижало человека, чересчур сосредоточивалось на учении о человеке как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бе Божием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 мало замечало другую сторону христианского учения –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богоподобие челове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пасение человека от греха есть только предварительная цель; конечная цель заключается не в спасении, а в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ворчестве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A58E-F974-463F-9C4E-A701DA3AF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B285-6C49-4144-BB3F-C1569C51D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62C6-689A-465C-8C68-FB69635E6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BEA5-45E0-4A08-BA09-F1A59631C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B7D3-9767-41D3-83F4-3457C0790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EF80-4A97-4D59-9240-EF309462A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0FF8-27C6-4F5A-A92A-1541ED7EF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AB91-EEAD-4A60-93F5-F4023C688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37ED-F650-45D3-9D3E-128EFA349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53C6-26B0-4693-BCF5-D0C1FFE7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8A20-7EBA-4453-926E-62494DA86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E026-CA24-4DD2-A3BE-217308CD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E2C70-4EA0-44AD-83A0-21E0C41C88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4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71680" y="2571480"/>
            <a:ext cx="820080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10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усский экзистенциализ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ворчество и объективац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мысл твор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"/>
          <p:cNvSpPr/>
          <p:nvPr/>
        </p:nvSpPr>
        <p:spPr>
          <a:xfrm rot="10800000">
            <a:off x="358920" y="2338560"/>
            <a:ext cx="431784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творчество должн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оправдыва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, наоборо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ворчеств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лжны м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правдывать жизнь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6"/>
          <p:cNvSpPr/>
          <p:nvPr/>
        </p:nvSpPr>
        <p:spPr>
          <a:xfrm rot="10800000">
            <a:off x="4497480" y="2338560"/>
            <a:ext cx="431784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ворческий ак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оценнос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знающая над соб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нешнего суда…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ульт свят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лжен бы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полнен культо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ениальност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ворчество и объективац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уализм духа и природы –  «Порча бытия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5760" y="1599840"/>
            <a:ext cx="823104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х – это активность,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ворчество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а природа – пассивность, предметность, материаль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р объектов лишён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глубины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рисущей Духу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х есть «ноумен», «вещь в себе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рода же – лишь «феномен», явление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значально бытие было чисто духовной реальностью, но в этом первичном бытии произошла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«порча»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адение: Дух стал отчуждённым от самого себя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шибочно полагать, чт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объективац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меет место лишь в познавательной сфере; она происходит в самом бытии: объективация – это лишь гносеологическая категория для обозначения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адшест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бытия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2"/>
          <p:cNvSpPr/>
          <p:nvPr/>
        </p:nvSpPr>
        <p:spPr>
          <a:xfrm>
            <a:off x="3116160" y="4983120"/>
            <a:ext cx="733680" cy="121464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3"/>
          <p:cNvSpPr/>
          <p:nvPr/>
        </p:nvSpPr>
        <p:spPr>
          <a:xfrm>
            <a:off x="2036880" y="37242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957240" y="24638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5"/>
          <p:cNvSpPr/>
          <p:nvPr/>
        </p:nvSpPr>
        <p:spPr>
          <a:xfrm>
            <a:off x="611280" y="1619280"/>
            <a:ext cx="46782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Царство духа мож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знаваться лишь интуитивно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стическим опы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6"/>
          <p:cNvSpPr/>
          <p:nvPr/>
        </p:nvSpPr>
        <p:spPr>
          <a:xfrm>
            <a:off x="1690560" y="2878200"/>
            <a:ext cx="467856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знание природы, «мира объектов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гда носи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нешний характ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7"/>
          <p:cNvSpPr/>
          <p:nvPr/>
        </p:nvSpPr>
        <p:spPr>
          <a:xfrm>
            <a:off x="2770200" y="4138560"/>
            <a:ext cx="46782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результате объективац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отождествляем реальность с те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на самом дел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торич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объективирован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8"/>
          <p:cNvSpPr/>
          <p:nvPr/>
        </p:nvSpPr>
        <p:spPr>
          <a:xfrm>
            <a:off x="3849840" y="5397480"/>
            <a:ext cx="46782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реальности же первичного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объективированного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рациональног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, напротив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мневаем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ворчество и объективац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знание духа и познание прир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1" descr="Бердяев (6-5_transp)"/>
          <p:cNvPicPr/>
          <p:nvPr/>
        </p:nvPicPr>
        <p:blipFill>
          <a:blip r:embed="rId1"/>
          <a:stretch/>
        </p:blipFill>
        <p:spPr>
          <a:xfrm>
            <a:off x="7197840" y="1619280"/>
            <a:ext cx="1493640" cy="198108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15"/>
          <p:cNvSpPr/>
          <p:nvPr/>
        </p:nvSpPr>
        <p:spPr>
          <a:xfrm flipV="1">
            <a:off x="6710400" y="4497480"/>
            <a:ext cx="414360" cy="35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3"/>
          <p:cNvSpPr/>
          <p:nvPr/>
        </p:nvSpPr>
        <p:spPr>
          <a:xfrm flipV="1">
            <a:off x="4363920" y="4497480"/>
            <a:ext cx="414360" cy="35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4"/>
          <p:cNvSpPr/>
          <p:nvPr/>
        </p:nvSpPr>
        <p:spPr>
          <a:xfrm flipV="1">
            <a:off x="2050920" y="4497480"/>
            <a:ext cx="414360" cy="35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2"/>
          <p:cNvSpPr/>
          <p:nvPr/>
        </p:nvSpPr>
        <p:spPr>
          <a:xfrm flipV="1">
            <a:off x="4363920" y="3056760"/>
            <a:ext cx="414360" cy="3589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вобод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вобода и детермин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1690560" y="3417840"/>
            <a:ext cx="57578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его изначальная свобод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тупает 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тивореч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7"/>
          <p:cNvSpPr/>
          <p:nvPr/>
        </p:nvSpPr>
        <p:spPr>
          <a:xfrm>
            <a:off x="431640" y="4857840"/>
            <a:ext cx="251964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 природ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терминаци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8"/>
          <p:cNvSpPr/>
          <p:nvPr/>
        </p:nvSpPr>
        <p:spPr>
          <a:xfrm>
            <a:off x="6189840" y="4857840"/>
            <a:ext cx="251928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 Бог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9"/>
          <p:cNvSpPr/>
          <p:nvPr/>
        </p:nvSpPr>
        <p:spPr>
          <a:xfrm>
            <a:off x="3309840" y="4857840"/>
            <a:ext cx="251964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 обществ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ремящим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чинить лично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повторим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щему стандарт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1"/>
          <p:cNvSpPr/>
          <p:nvPr/>
        </p:nvSpPr>
        <p:spPr>
          <a:xfrm>
            <a:off x="2409840" y="1978200"/>
            <a:ext cx="431784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к сотворён дл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2"/>
          <p:cNvSpPr/>
          <p:nvPr/>
        </p:nvSpPr>
        <p:spPr>
          <a:xfrm>
            <a:off x="3079800" y="498312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3"/>
          <p:cNvSpPr/>
          <p:nvPr/>
        </p:nvSpPr>
        <p:spPr>
          <a:xfrm>
            <a:off x="2000160" y="3724200"/>
            <a:ext cx="733680" cy="121464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920880" y="24638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574560" y="1619280"/>
            <a:ext cx="47498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начальная (иррациональная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обода не сотворена Бог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а предвечно укоренена 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ичт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6"/>
          <p:cNvSpPr/>
          <p:nvPr/>
        </p:nvSpPr>
        <p:spPr>
          <a:xfrm>
            <a:off x="1654200" y="2878200"/>
            <a:ext cx="474984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 дуализмом экзистенциальн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бъекта и мира объективац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ро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лее глубокий дуализ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га-Творца и несотворённой своб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7"/>
          <p:cNvSpPr/>
          <p:nvPr/>
        </p:nvSpPr>
        <p:spPr>
          <a:xfrm>
            <a:off x="2733840" y="4138560"/>
            <a:ext cx="47494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к поэтому есть не толь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дитя Божие», но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итя свобод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небытия, «меона»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8"/>
          <p:cNvSpPr/>
          <p:nvPr/>
        </p:nvSpPr>
        <p:spPr>
          <a:xfrm>
            <a:off x="3814920" y="5397480"/>
            <a:ext cx="47494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им объясняется непреодолим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лечение ко злу, иррациональн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рывы к разруш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вобод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вобода и Нич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0" descr="Бердяев (6-5_transp)"/>
          <p:cNvPicPr/>
          <p:nvPr/>
        </p:nvPicPr>
        <p:blipFill>
          <a:blip r:embed="rId1"/>
          <a:stretch/>
        </p:blipFill>
        <p:spPr>
          <a:xfrm>
            <a:off x="7197840" y="1619280"/>
            <a:ext cx="1493640" cy="198108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вобод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ог и свобода (трагическая теодице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сотворённом мире, и особенно в душе человека, происходит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борьба между Богом и свободой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ф о грехопадении свидетельствует 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бессилии Творца предотвратить зло, исходящее из свободы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которой Он не сотвори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г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вторично действует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 отношении мира и человека, но он нисходит в мир уже не как Творец, а как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паситель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Божественное самораспятие должно победить меоническую свободу просветлением её изнутри –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без насилия над ней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а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рагическая теодице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не даёт никаких гарантий победы Бога над иррациональной свободой, но одушевляется верой в эту победу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ика зак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ика закона –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низшая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хотя и необходимая ступень морального созн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о, по преимуществу,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«отрицательная этика»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остоящая из кодексов запретов – заповедей, табу, вет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ез этих запретов человек рискует вернуться в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животное состояние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о этика закона как бы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роходит мимо личност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 создаёт фарисейскую психологию «законничества», вырождающуюся нередко в лицемерие и ханжество и порождающую «фанатизм добра» с типичным для него садистским комплексом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(«кошмар злого добра»)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ика искуп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60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ика искупления – благодатная этика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всепрощения, любви и сострадания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о она легко вырождается в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«трансцендентный эгоизм» –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сключительную заботу о спасении собственной души, что может породить религиозный мазохизм и засушить корень любви к ближнем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ика твор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ворчество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тоит как бы вне этики закона и вне этики искупления и предполагает иную эти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ворец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оправдываетс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воим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ворчест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трах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наказания и страх вечных мук не может играть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никакой рол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 этике творче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блимация, или преображение страстей, означает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освобождени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трасти от похоти и утверждение в ней свободной творческой стих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ворец всегда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бескорыстен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он забывает о себе и любит своё творение, как Бог любит ми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творчестве человек становится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вободным соучастником миротворе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«меньшим братом Божиим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еодоление морализм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4"/>
          <p:cNvSpPr/>
          <p:nvPr/>
        </p:nvSpPr>
        <p:spPr>
          <a:xfrm rot="10800000">
            <a:off x="431280" y="1869840"/>
            <a:ext cx="575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лохо, что возникл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личие между добром и зл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хорошо проводи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это различ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 оно возникло;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лохо проходи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через опыт зл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хорошо распознава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бро и зл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основе этого опыт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Бердяев (6-5_transp)"/>
          <p:cNvPicPr/>
          <p:nvPr/>
        </p:nvPicPr>
        <p:blipFill>
          <a:blip r:embed="rId1"/>
          <a:stretch/>
        </p:blipFill>
        <p:spPr>
          <a:xfrm>
            <a:off x="6908760" y="1870200"/>
            <a:ext cx="1494000" cy="198108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усский экзистенциализ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778200" y="1798200"/>
            <a:ext cx="3059280" cy="9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. Шестов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66-193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2698920" y="5576760"/>
            <a:ext cx="2627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. Бердяев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74-1948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Шестов (1-2)"/>
          <p:cNvPicPr/>
          <p:nvPr/>
        </p:nvPicPr>
        <p:blipFill>
          <a:blip r:embed="rId1"/>
          <a:stretch/>
        </p:blipFill>
        <p:spPr>
          <a:xfrm>
            <a:off x="898560" y="1798560"/>
            <a:ext cx="2440080" cy="3060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7" name="Picture 9" descr="Бердяев (2-1)"/>
          <p:cNvPicPr/>
          <p:nvPr/>
        </p:nvPicPr>
        <p:blipFill>
          <a:blip r:embed="rId2"/>
          <a:stretch/>
        </p:blipFill>
        <p:spPr>
          <a:xfrm>
            <a:off x="5649840" y="3309840"/>
            <a:ext cx="2749680" cy="30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еодоление морализм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"/>
          <p:cNvSpPr/>
          <p:nvPr/>
        </p:nvSpPr>
        <p:spPr>
          <a:xfrm rot="10800000">
            <a:off x="431280" y="1869840"/>
            <a:ext cx="575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ир идёт от первоначально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различения добра и зл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рез резк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личение добра и зл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окончательном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различению добра и зла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огащённому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м опытом различени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Бердяев (6-5_transp)"/>
          <p:cNvPicPr/>
          <p:nvPr/>
        </p:nvPicPr>
        <p:blipFill>
          <a:blip r:embed="rId1"/>
          <a:stretch/>
        </p:blipFill>
        <p:spPr>
          <a:xfrm>
            <a:off x="6908760" y="1870200"/>
            <a:ext cx="1494000" cy="198108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nodeType="clickEffect" fill="hold">
                      <p:stCondLst>
                        <p:cond delay="0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"/>
          <p:cNvSpPr/>
          <p:nvPr/>
        </p:nvSpPr>
        <p:spPr>
          <a:xfrm>
            <a:off x="3076560" y="4371840"/>
            <a:ext cx="880920" cy="1457640"/>
          </a:xfrm>
          <a:custGeom>
            <a:avLst/>
            <a:gdLst>
              <a:gd name="textAreaLeft" fmla="*/ 117720 w 880920"/>
              <a:gd name="textAreaRight" fmla="*/ 763200 w 880920"/>
              <a:gd name="textAreaTop" fmla="*/ 254880 h 1457640"/>
              <a:gd name="textAreaBottom" fmla="*/ 1056960 h 145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3"/>
          <p:cNvSpPr/>
          <p:nvPr/>
        </p:nvSpPr>
        <p:spPr>
          <a:xfrm>
            <a:off x="1457280" y="2895480"/>
            <a:ext cx="881280" cy="1457280"/>
          </a:xfrm>
          <a:custGeom>
            <a:avLst/>
            <a:gdLst>
              <a:gd name="textAreaLeft" fmla="*/ 118080 w 881280"/>
              <a:gd name="textAreaRight" fmla="*/ 763200 w 881280"/>
              <a:gd name="textAreaTop" fmla="*/ 254880 h 1457280"/>
              <a:gd name="textAreaBottom" fmla="*/ 105660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еобщее спас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5"/>
          <p:cNvSpPr/>
          <p:nvPr/>
        </p:nvSpPr>
        <p:spPr>
          <a:xfrm>
            <a:off x="719280" y="1943280"/>
            <a:ext cx="4317840" cy="125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раль высшего добр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все не означа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зразличия к добру и зл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означает терпимости ко зл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2338560" y="3417840"/>
            <a:ext cx="4317840" cy="125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а требует больше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не меньшего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а стреми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просветлению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освобождению зл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7"/>
          <p:cNvSpPr/>
          <p:nvPr/>
        </p:nvSpPr>
        <p:spPr>
          <a:xfrm>
            <a:off x="3957480" y="4894200"/>
            <a:ext cx="4318200" cy="125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пасение невозможно, ес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хоть одна душа мучается в аду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кто не может быть спасён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изолированности от друг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9" descr="Бердяев (6-5_transp)"/>
          <p:cNvPicPr/>
          <p:nvPr/>
        </p:nvPicPr>
        <p:blipFill>
          <a:blip r:embed="rId1"/>
          <a:stretch/>
        </p:blipFill>
        <p:spPr>
          <a:xfrm>
            <a:off x="7197840" y="1619280"/>
            <a:ext cx="1493640" cy="198108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еобщее спас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Novelli 1 Cain and Abel - compr"/>
          <p:cNvPicPr/>
          <p:nvPr/>
        </p:nvPicPr>
        <p:blipFill>
          <a:blip r:embed="rId1"/>
          <a:stretch/>
        </p:blipFill>
        <p:spPr>
          <a:xfrm>
            <a:off x="5397480" y="1978200"/>
            <a:ext cx="3228840" cy="4317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64" name="Text Box 5"/>
          <p:cNvSpPr/>
          <p:nvPr/>
        </p:nvSpPr>
        <p:spPr>
          <a:xfrm>
            <a:off x="537120" y="1978200"/>
            <a:ext cx="395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равственное сознание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чалось с Божьего вопро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6"/>
          <p:cNvSpPr/>
          <p:nvPr/>
        </p:nvSpPr>
        <p:spPr>
          <a:xfrm rot="10800000">
            <a:off x="719280" y="3238200"/>
            <a:ext cx="3598560" cy="2879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аин,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где брат твой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вель?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”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4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5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6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еобщее спас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" descr="Bouguereau W, Les Remords d’Oreste [ARC] - compr"/>
          <p:cNvPicPr/>
          <p:nvPr/>
        </p:nvPicPr>
        <p:blipFill>
          <a:blip r:embed="rId1"/>
          <a:stretch/>
        </p:blipFill>
        <p:spPr>
          <a:xfrm>
            <a:off x="4678200" y="2338560"/>
            <a:ext cx="3959280" cy="3489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69" name="Text Box 5"/>
          <p:cNvSpPr/>
          <p:nvPr/>
        </p:nvSpPr>
        <p:spPr>
          <a:xfrm>
            <a:off x="715680" y="1978200"/>
            <a:ext cx="34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о кончится вопросом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6"/>
          <p:cNvSpPr/>
          <p:nvPr/>
        </p:nvSpPr>
        <p:spPr>
          <a:xfrm rot="10800000">
            <a:off x="539280" y="3238200"/>
            <a:ext cx="3598920" cy="2879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вель,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где брат твой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аин?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”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2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3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4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еобщее спас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пасение может быть лишь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обор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д есть именн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изоляц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от други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агедия ада заключается не в том, что Бог не может простить грешнику его грехи, но в том, чт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ам грешник не может простить их себ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д не есть внешняя сфера, где мучаются грешники, а есть именн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абсолютное одиночество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где голос совести, заглушённый при жизни, жжёт грешника страшным неугасимым огнём самоосужд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еобщее спас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3"/>
          <p:cNvSpPr/>
          <p:nvPr/>
        </p:nvSpPr>
        <p:spPr>
          <a:xfrm rot="10800000">
            <a:off x="358920" y="1798200"/>
            <a:ext cx="5938560" cy="467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ея ада должна быть совершен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вобождена от всех ассоциаций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язанных с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ренесением на неб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нципов уголовного права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д, как  субъективная сфер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погружение душ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её собственную ть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мманентный результа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реховного существован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совсе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трансцендентн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казание за грех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д и есть невозмож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ейти к трансцендентно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погружённость в имманентно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Бердяев (6-5_transp)"/>
          <p:cNvPicPr/>
          <p:nvPr/>
        </p:nvPicPr>
        <p:blipFill>
          <a:blip r:embed="rId1"/>
          <a:stretch/>
        </p:blipFill>
        <p:spPr>
          <a:xfrm>
            <a:off x="6908760" y="1870200"/>
            <a:ext cx="1494000" cy="198108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Кризис куль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823104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воистоки современного кризиса –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в отпадении человечества от христианства и гуманизма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Христианство дало человечеству благую весть 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Царстве Божием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гуманизм впервые осознал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вободу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человека и ценность этой свобо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о современное человечество отвернулось и от Царствия Божия ради мечты 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царстве человеческом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 от свободы, предпочитая ей мечту 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ытом довольстве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мест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органической культур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человечество стало создавать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механическую цивилизацию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амая устремлённость которой антирелигиозна и антиперсоналистична. Вместо образа и подобия Божия человек становится образом и подобием бездушной маши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ивилизация развила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огромные технические силы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которые по замыслу должны были уготовить господство человека над природой, н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эти силы властвуют над самим человеком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делают его рабом, убивают его душ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Новое средневековь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823104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нак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мания свободы в отрыве от Бог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диалектически приводит к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худшим формам рабства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а гуманизм, будучи оторван от его религиозного первоисточника, –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 дегуманизации и бестиализации челове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условиях относительного благоденствия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человеческий дух засыпает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амодовольная личность деперсонализируется, и в результате буржуазная культура, будучи не в состоянии выдержать натиска «нового варварства», оказывается лишь переходной формой от чистого гуманизма к «новому средневековью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о «новое средневековье» гораздо хуже прежнего, ибо тогда христианская идея предохраняла личность от разложения. Теперь же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ип монаха и рыцаря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ступает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ст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ипу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оргаша и шофёр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 тем, чтобы, в свою очередь, уступить мест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ипу комиссара и чекиста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тиранящего народ во имя народной воли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удьба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760" y="196020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ммунизм есть Немезида капитализма и порождён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материалистическим духом капитализма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льшевизм силён своей критикой лжи буржуазной культуры, но не в силах создать своей положительной культуры, ибо он сам заражён материализмом, порождённым буржуазией;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большевизм силён своим разрушением, а не творчеством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удьба Росс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3"/>
          <p:cNvSpPr/>
          <p:nvPr/>
        </p:nvSpPr>
        <p:spPr>
          <a:xfrm rot="10800000">
            <a:off x="431280" y="1869840"/>
            <a:ext cx="575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усский народ не мож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здать срединн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уманистического царств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 не хочет правов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сударства в европейск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мысле этого слова </a:t>
            </a:r>
            <a:r>
              <a:rPr b="1" lang="en-US" sz="1800" spc="-1" strike="noStrike">
                <a:solidFill>
                  <a:srgbClr val="0099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99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99ff"/>
                </a:solidFill>
                <a:latin typeface="Arial"/>
              </a:rPr>
              <a:t>&gt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 хочет 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царства Божье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ратства во Христе, ил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варищества в Антихрист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царства князя мира сего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Бердяев (6-5_transp)"/>
          <p:cNvPicPr/>
          <p:nvPr/>
        </p:nvPicPr>
        <p:blipFill>
          <a:blip r:embed="rId1"/>
          <a:stretch/>
        </p:blipFill>
        <p:spPr>
          <a:xfrm>
            <a:off x="6908760" y="1870200"/>
            <a:ext cx="1494000" cy="198108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Л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И. Шестов (1866-193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142920" y="2698920"/>
            <a:ext cx="5757840" cy="39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бро в учении гр. Толстого и Ф. Ницше (Философия и проповедь)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стоевский и Ницше (Философия трагедии)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пофеоз беспочвенности (Опыт адогматического мышления)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ласть ключе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весах Иова (Странствования по душам)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фины и Иерусалим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38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иркегард и экзистенциальная философ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публ. 1939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Шестов (2-2 - Григорьев)"/>
          <p:cNvPicPr/>
          <p:nvPr/>
        </p:nvPicPr>
        <p:blipFill>
          <a:blip r:embed="rId1"/>
          <a:stretch/>
        </p:blipFill>
        <p:spPr>
          <a:xfrm>
            <a:off x="6045120" y="1798560"/>
            <a:ext cx="278136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2" name="Text Box 6"/>
          <p:cNvSpPr/>
          <p:nvPr/>
        </p:nvSpPr>
        <p:spPr>
          <a:xfrm>
            <a:off x="1079640" y="1835280"/>
            <a:ext cx="359856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nodeType="clickEffect" fill="hold">
                      <p:stCondLst>
                        <p:cond delay="0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2"/>
          <p:cNvSpPr/>
          <p:nvPr/>
        </p:nvSpPr>
        <p:spPr>
          <a:xfrm>
            <a:off x="3116160" y="4983120"/>
            <a:ext cx="733680" cy="121464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"/>
          <p:cNvSpPr/>
          <p:nvPr/>
        </p:nvSpPr>
        <p:spPr>
          <a:xfrm>
            <a:off x="2036880" y="37242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4"/>
          <p:cNvSpPr/>
          <p:nvPr/>
        </p:nvSpPr>
        <p:spPr>
          <a:xfrm>
            <a:off x="957240" y="24638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5"/>
          <p:cNvSpPr/>
          <p:nvPr/>
        </p:nvSpPr>
        <p:spPr>
          <a:xfrm>
            <a:off x="611280" y="1619280"/>
            <a:ext cx="46782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ум – величайши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раг истины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Истины» разум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рабощаю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не освобождают мыс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6"/>
          <p:cNvSpPr/>
          <p:nvPr/>
        </p:nvSpPr>
        <p:spPr>
          <a:xfrm>
            <a:off x="1690560" y="2878200"/>
            <a:ext cx="467856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звучит абсурд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в мире абсурд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сурдность 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оре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казатель истины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ч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знак недомыслия и заблуж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7"/>
          <p:cNvSpPr/>
          <p:nvPr/>
        </p:nvSpPr>
        <p:spPr>
          <a:xfrm>
            <a:off x="2770200" y="4138560"/>
            <a:ext cx="46782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новные методы разумн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знания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кон противоречия и закон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статочного основани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в форм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чинности или целесообразност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8"/>
          <p:cNvSpPr/>
          <p:nvPr/>
        </p:nvSpPr>
        <p:spPr>
          <a:xfrm>
            <a:off x="3849840" y="5397480"/>
            <a:ext cx="46782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ходя из них разум стрем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ставить всё совершающее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необходимо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м самы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правдыва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. Шестов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носеология абсур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3" descr="Шестов (2-2 - Григорьев) red"/>
          <p:cNvPicPr/>
          <p:nvPr/>
        </p:nvPicPr>
        <p:blipFill>
          <a:blip r:embed="rId1"/>
          <a:stretch/>
        </p:blipFill>
        <p:spPr>
          <a:xfrm>
            <a:off x="7305840" y="1619280"/>
            <a:ext cx="1209600" cy="216216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AutoShape 2"/>
          <p:cNvSpPr/>
          <p:nvPr/>
        </p:nvSpPr>
        <p:spPr>
          <a:xfrm>
            <a:off x="2355840" y="4479840"/>
            <a:ext cx="880920" cy="1528920"/>
          </a:xfrm>
          <a:custGeom>
            <a:avLst/>
            <a:gdLst>
              <a:gd name="textAreaLeft" fmla="*/ 117720 w 880920"/>
              <a:gd name="textAreaRight" fmla="*/ 763200 w 880920"/>
              <a:gd name="textAreaTop" fmla="*/ 267480 h 1528920"/>
              <a:gd name="textAreaBottom" fmla="*/ 1108440 h 152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3"/>
          <p:cNvSpPr/>
          <p:nvPr/>
        </p:nvSpPr>
        <p:spPr>
          <a:xfrm>
            <a:off x="1096920" y="2824200"/>
            <a:ext cx="881280" cy="1528560"/>
          </a:xfrm>
          <a:custGeom>
            <a:avLst/>
            <a:gdLst>
              <a:gd name="textAreaLeft" fmla="*/ 118080 w 881280"/>
              <a:gd name="textAreaRight" fmla="*/ 763200 w 881280"/>
              <a:gd name="textAreaTop" fmla="*/ 267480 h 1528560"/>
              <a:gd name="textAreaBottom" fmla="*/ 1108440 h 152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. Шестов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нтология абсур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5"/>
          <p:cNvSpPr/>
          <p:nvPr/>
        </p:nvSpPr>
        <p:spPr>
          <a:xfrm>
            <a:off x="719280" y="1654200"/>
            <a:ext cx="521784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ум создаёт, таким образом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приемлемую картину мира: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овременн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жную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знравствен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6"/>
          <p:cNvSpPr/>
          <p:nvPr/>
        </p:nvSpPr>
        <p:spPr>
          <a:xfrm>
            <a:off x="1978200" y="3309840"/>
            <a:ext cx="521784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наш мир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 зле лежит: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справедливость и зл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сподствуют в нём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д справедливостью и добром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7"/>
          <p:cNvSpPr/>
          <p:nvPr/>
        </p:nvSpPr>
        <p:spPr>
          <a:xfrm>
            <a:off x="3238560" y="4965840"/>
            <a:ext cx="5218200" cy="1474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альнейшее есть нечто, прям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тивоположное миру ноуменальных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ностей – бытие как бездонное, тайное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слыханное, неожиданное, обитающе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единичном, случайном, временном, н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нятом в расчёт sub speciae aeternitat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9" descr="Шестов (2-2 - Григорьев) red"/>
          <p:cNvPicPr/>
          <p:nvPr/>
        </p:nvPicPr>
        <p:blipFill>
          <a:blip r:embed="rId1"/>
          <a:stretch/>
        </p:blipFill>
        <p:spPr>
          <a:xfrm>
            <a:off x="7305840" y="1619280"/>
            <a:ext cx="1209600" cy="216216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. Шестов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ика абсур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адиционная философия стремится стать «наукой», но человеку нужна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«не истинная, а лучшая философия»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этому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эллинской мудрост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надо противопоставить иерусалимскую жажду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живого Бога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едь невозможное для человека возможно для Бога: Бог может изменить даже прошлое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нимание, не соблазняющееся жаждой универсального понимания, не желающее становиться «знанием», есть </a:t>
            </a:r>
            <a:br>
              <a:rPr sz="2000"/>
            </a:b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вера – «второе измерение мышления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Истины» разума требуют слепого повиновения своей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безличной необходимости;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ера предполагает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личную свободу и отвагу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. Бердяев (1874-194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2878200" y="2698920"/>
            <a:ext cx="611820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я свободы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1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мысл творчества: Опыт оправдания человек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6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назначении человека: Опыт парадоксальной этик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31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Я и мир объектов: Философия и одиночества и обще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34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рабстве и свободе человека: Опыт персоналистической философ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40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усская идея: Основные проблемы русской мысл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4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ки и смысл русского коммунизм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55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Бердяев (6-5)"/>
          <p:cNvPicPr/>
          <p:nvPr/>
        </p:nvPicPr>
        <p:blipFill>
          <a:blip r:embed="rId1"/>
          <a:stretch/>
        </p:blipFill>
        <p:spPr>
          <a:xfrm>
            <a:off x="466560" y="1798560"/>
            <a:ext cx="215928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88" name="Text Box 5"/>
          <p:cNvSpPr/>
          <p:nvPr/>
        </p:nvSpPr>
        <p:spPr>
          <a:xfrm>
            <a:off x="4210200" y="1835280"/>
            <a:ext cx="359856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. Бердяев (1874-194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458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ворчество и объектив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мысл твор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ализм духа и природы; «порча бытия»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знание духа и познание природ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воб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вобода и детермина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вобода и Нич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г и свобода (трагическая теодицея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ик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ика закона, этика искупления, этика творче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одоление морализ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еобщее спас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зис культур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Новое средневековье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дьба Росс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9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ворчество и объективац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мысл твор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8231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ход из антиномии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величия и ничтожества человека –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обожении человека и очеловечивании Бога, в Богочеловечеств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еловеческое творчество должно стать как бы </a:t>
            </a:r>
            <a:br>
              <a:rPr sz="2000"/>
            </a:b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родолжением миротворе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ибо, творя, человек уподобляется Богу-Творц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адиционное богословие чересчур унижало человека, чересчур сосредоточивалось на учении о человеке как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рабе Божием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 мало замечало другую сторону христианского учения –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богоподобие челове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пасение человека от греха есть только предварительная цель; конечная цель заключается не в спасении, а в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ворчестве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4T18:20:26Z</dcterms:created>
  <dc:creator>Николай Бирюков / Nikolai Biryukov</dc:creator>
  <dc:description>Версия апреля 2007 г.</dc:description>
  <dc:language>en-US</dc:language>
  <cp:lastModifiedBy>LEGION</cp:lastModifiedBy>
  <dcterms:modified xsi:type="dcterms:W3CDTF">2014-11-11T10:15:48Z</dcterms:modified>
  <cp:revision>33</cp:revision>
  <dc:subject>История русской философии - Лекция 11</dc:subject>
  <dc:title>Русский экзистенциализм</dc:title>
</cp:coreProperties>
</file>