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B151-50D5-4AA2-915B-9D0D51C11BF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ы правового регулирования экономических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те примеры правового регулирования экономических вопр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благосостояния людей. 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 ли с помощью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ять созданные бла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благосостояния людей. 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о ли с помощью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спределять созданные благ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право вмешивает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ую жизнь, ведь в эт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 все так индивидуаль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право вмешивае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ховную жизнь, ведь в этой сфе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 все так индивидуаль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к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42/341 - 271/270 гг. до н.э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философ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играф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ику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42/341 - 271/270 гг. до н.э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негреческий филосо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сф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ая сф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максим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э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у жиз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максима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ет э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у жиз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965-BD50-46CF-B45E-053B56FE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D792-39D4-466D-8002-C21B527D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591-8724-4E5C-8046-7E058186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7729-1505-489E-8BCF-7BD539BD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4CB8-0DB3-476F-B2D1-6AB2C567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8534-B099-46FA-9B6B-EEC1BD34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F978-9ED7-4F34-AF20-9948D13C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BA0C-2314-4064-8739-C4825B79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A76F-CB31-4491-B102-9B8CC29D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6CAF-5B1C-4106-9DF3-6EEC841A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8ECE-E412-44A5-94C6-BCDAEBC1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7F2-D79E-4175-B0FA-6A8126E8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B24F-B7A1-4B3B-BA91-C91FA0DC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1C65-7C66-4EC2-9034-7A72E3F0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8F49-F5C3-4452-A1AF-3796D611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1F82-489D-45F0-8228-E265DAD6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9668-F22D-4106-9C71-5D17E0A9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B263-6159-442F-9A33-989FCBC5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458-3D02-4515-A509-11B7D135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AC58-4305-4EE4-B830-F3B19B63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B90-E8EB-4EFA-86EA-93CFED5F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74A-BA96-4592-8011-0C7BF840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112-835C-405B-A9D8-66987470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A65-33C0-435C-B6A6-FF5D45C2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BF21-021A-493B-8283-D0E0AE851CE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000A-F277-44A5-9B24-0E31609BE7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BD21-38EC-4AE2-B4AA-906759BF6B7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D108-83CB-4243-81AB-6C1FA34ED8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erhmedia.ru/docs/2007091712512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8440" y="766800"/>
            <a:ext cx="77216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оль права в жизни обществ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28800" y="5301720"/>
            <a:ext cx="7929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а учитель обществознания МОУ СОШ с. Варны Коребо О.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Картинка 9 из 460263"/>
          <p:cNvPicPr/>
          <p:nvPr/>
        </p:nvPicPr>
        <p:blipFill>
          <a:blip r:embed="rId1"/>
          <a:stretch/>
        </p:blipFill>
        <p:spPr>
          <a:xfrm>
            <a:off x="2928960" y="1604880"/>
            <a:ext cx="3720960" cy="37195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экономическ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71360" y="1500120"/>
            <a:ext cx="4647960" cy="24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одств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еделен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мен и потреб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ных трудом человека бла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http://news.rin.ru/pictures/26/111233.jpg"/>
          <p:cNvPicPr/>
          <p:nvPr/>
        </p:nvPicPr>
        <p:blipFill>
          <a:blip r:embed="rId1"/>
          <a:stretch/>
        </p:blipFill>
        <p:spPr>
          <a:xfrm>
            <a:off x="6000840" y="164304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Картинка 115 из 209508"/>
          <p:cNvPicPr/>
          <p:nvPr/>
        </p:nvPicPr>
        <p:blipFill>
          <a:blip r:embed="rId2"/>
          <a:stretch/>
        </p:blipFill>
        <p:spPr>
          <a:xfrm>
            <a:off x="5715000" y="3929040"/>
            <a:ext cx="2928960" cy="23274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1071720" y="40006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1143000" y="6027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ведите примеры правового регулирования экономических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Картинка 14 из 11212"/>
          <p:cNvPicPr/>
          <p:nvPr/>
        </p:nvPicPr>
        <p:blipFill>
          <a:blip r:embed="rId1"/>
          <a:srcRect l="0" t="31877" r="2500" b="0"/>
          <a:stretch/>
        </p:blipFill>
        <p:spPr>
          <a:xfrm>
            <a:off x="6000840" y="3786120"/>
            <a:ext cx="2786040" cy="2595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социаль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8440" y="1571400"/>
            <a:ext cx="5500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благосостояния люде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Картинка 10 из 11212"/>
          <p:cNvPicPr/>
          <p:nvPr/>
        </p:nvPicPr>
        <p:blipFill>
          <a:blip r:embed="rId2"/>
          <a:stretch/>
        </p:blipFill>
        <p:spPr>
          <a:xfrm>
            <a:off x="6072120" y="1500120"/>
            <a:ext cx="2643120" cy="21733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5"/>
          <p:cNvSpPr/>
          <p:nvPr/>
        </p:nvSpPr>
        <p:spPr>
          <a:xfrm>
            <a:off x="1071720" y="590400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аведливо ли с помощью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распределять созданные благ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духов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499760"/>
            <a:ext cx="51436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Картинка 3 из 1659"/>
          <p:cNvPicPr/>
          <p:nvPr/>
        </p:nvPicPr>
        <p:blipFill>
          <a:blip r:embed="rId1"/>
          <a:stretch/>
        </p:blipFill>
        <p:spPr>
          <a:xfrm>
            <a:off x="7423200" y="1214280"/>
            <a:ext cx="172080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Картинка 37 из 1659"/>
          <p:cNvPicPr/>
          <p:nvPr/>
        </p:nvPicPr>
        <p:blipFill>
          <a:blip r:embed="rId2"/>
          <a:stretch/>
        </p:blipFill>
        <p:spPr>
          <a:xfrm>
            <a:off x="6286680" y="3643200"/>
            <a:ext cx="2473200" cy="1928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Картинка 5 из 300157"/>
          <p:cNvPicPr/>
          <p:nvPr/>
        </p:nvPicPr>
        <p:blipFill>
          <a:blip r:embed="rId3"/>
          <a:stretch/>
        </p:blipFill>
        <p:spPr>
          <a:xfrm>
            <a:off x="5857920" y="1143000"/>
            <a:ext cx="1466640" cy="23572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6"/>
          <p:cNvSpPr/>
          <p:nvPr/>
        </p:nvSpPr>
        <p:spPr>
          <a:xfrm>
            <a:off x="1083960" y="3429000"/>
            <a:ext cx="50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м право вмешивае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ховную жизнь, ведь в этой сф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и все так индивидуа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143000" y="4714920"/>
            <a:ext cx="542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Роль права в различных сферах общественной жизни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0" name="Содержимое 3" descr=""/>
          <p:cNvPicPr/>
          <p:nvPr/>
        </p:nvPicPr>
        <p:blipFill>
          <a:blip r:embed="rId1"/>
          <a:stretch/>
        </p:blipFill>
        <p:spPr>
          <a:xfrm>
            <a:off x="1847880" y="1987560"/>
            <a:ext cx="6168960" cy="36385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5"/>
          <p:cNvSpPr/>
          <p:nvPr/>
        </p:nvSpPr>
        <p:spPr>
          <a:xfrm flipH="1">
            <a:off x="3499920" y="1999440"/>
            <a:ext cx="4000680" cy="34290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http://im8-tub.yandex.net/i?id=66367062&amp;tov=8"/>
          <p:cNvPicPr/>
          <p:nvPr/>
        </p:nvPicPr>
        <p:blipFill>
          <a:blip r:embed="rId2"/>
          <a:stretch/>
        </p:blipFill>
        <p:spPr>
          <a:xfrm>
            <a:off x="1857240" y="2857680"/>
            <a:ext cx="135252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im7-tub.yandex.net/i?id=135305913&amp;tov=7"/>
          <p:cNvPicPr/>
          <p:nvPr/>
        </p:nvPicPr>
        <p:blipFill>
          <a:blip r:embed="rId3"/>
          <a:stretch/>
        </p:blipFill>
        <p:spPr>
          <a:xfrm>
            <a:off x="1857240" y="1928880"/>
            <a:ext cx="1314720" cy="981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im6-tub.yandex.net/i?id=32861835&amp;tov=6"/>
          <p:cNvPicPr/>
          <p:nvPr/>
        </p:nvPicPr>
        <p:blipFill>
          <a:blip r:embed="rId4"/>
          <a:stretch/>
        </p:blipFill>
        <p:spPr>
          <a:xfrm>
            <a:off x="1857240" y="371484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http://im0-tub.yandex.net/i?id=37677649&amp;tov=0"/>
          <p:cNvPicPr/>
          <p:nvPr/>
        </p:nvPicPr>
        <p:blipFill>
          <a:blip r:embed="rId5"/>
          <a:stretch/>
        </p:blipFill>
        <p:spPr>
          <a:xfrm>
            <a:off x="1857240" y="4714920"/>
            <a:ext cx="1333800" cy="9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опросы для закрепления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 Что было бы, если бы права не было? Поясните ответ на  конкретных  пример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 Как можно определить прав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  Почему право регулирует не все вопросы общественной жизн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§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я 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лан изучения новой темы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е пра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Картинка 6 из 1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3200" y="3214800"/>
            <a:ext cx="3272040" cy="32716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пиграф уро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643200" y="1752480"/>
            <a:ext cx="50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юдям необходимы даже самые дурные законы, ибо, не будь их, люди пожрали бы друг дру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Картинка 3 из 393"/>
          <p:cNvPicPr/>
          <p:nvPr/>
        </p:nvPicPr>
        <p:blipFill>
          <a:blip r:embed="rId1"/>
          <a:stretch/>
        </p:blipFill>
        <p:spPr>
          <a:xfrm>
            <a:off x="1000080" y="14288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1576080" y="52149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пик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999000" y="557208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342/341 - 271/270 гг. до н.э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1086480" y="592920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ий филосо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00080" y="50004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Картинка 20 из 16191"/>
          <p:cNvPicPr/>
          <p:nvPr/>
        </p:nvPicPr>
        <p:blipFill>
          <a:blip r:embed="rId1"/>
          <a:stretch/>
        </p:blipFill>
        <p:spPr>
          <a:xfrm>
            <a:off x="6215040" y="428760"/>
            <a:ext cx="2500200" cy="351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Картинка 54 из 16191"/>
          <p:cNvPicPr/>
          <p:nvPr/>
        </p:nvPicPr>
        <p:blipFill>
          <a:blip r:embed="rId2"/>
          <a:stretch/>
        </p:blipFill>
        <p:spPr>
          <a:xfrm>
            <a:off x="6215040" y="40719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321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аво -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00080" y="1213920"/>
            <a:ext cx="7934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ы считаете какие стороны нашей жизни не требуют правового регулирова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66320" y="428400"/>
            <a:ext cx="76201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Схема 3" descr=""/>
          <p:cNvPicPr/>
          <p:nvPr/>
        </p:nvPicPr>
        <p:blipFill>
          <a:blip r:embed="rId1"/>
          <a:stretch/>
        </p:blipFill>
        <p:spPr>
          <a:xfrm>
            <a:off x="927000" y="2182680"/>
            <a:ext cx="7358040" cy="4035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752480"/>
            <a:ext cx="772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2b09"/>
                </a:solidFill>
                <a:latin typeface="Times New Roman"/>
              </a:rPr>
              <a:t>Вспомните, какие четыре сферы общества вы знаете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Содержимое 3" descr=""/>
          <p:cNvPicPr/>
          <p:nvPr/>
        </p:nvPicPr>
        <p:blipFill>
          <a:blip r:embed="rId1"/>
          <a:stretch/>
        </p:blipFill>
        <p:spPr>
          <a:xfrm>
            <a:off x="858960" y="1914480"/>
            <a:ext cx="7772400" cy="44132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1580400" y="207180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тическая сф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5508000" y="20718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ономическ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1655640" y="521496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циаль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5930280" y="550080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ухов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3880" y="38052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28440" y="1643040"/>
            <a:ext cx="55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рограмм развития общест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 политических партий и других общественных объединен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государственных органов и определение их компетен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с другими государствами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6072120" y="514368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 максим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ирует э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рону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Картинка 195 из 174751"/>
          <p:cNvPicPr/>
          <p:nvPr/>
        </p:nvPicPr>
        <p:blipFill>
          <a:blip r:embed="rId1"/>
          <a:stretch/>
        </p:blipFill>
        <p:spPr>
          <a:xfrm>
            <a:off x="6286680" y="1500120"/>
            <a:ext cx="2571480" cy="1682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Картинка 200 из 174751"/>
          <p:cNvPicPr/>
          <p:nvPr/>
        </p:nvPicPr>
        <p:blipFill>
          <a:blip r:embed="rId2"/>
          <a:stretch/>
        </p:blipFill>
        <p:spPr>
          <a:xfrm>
            <a:off x="6286680" y="3286080"/>
            <a:ext cx="2558880" cy="1714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0:49Z</dcterms:modified>
  <cp:revision>25</cp:revision>
  <dc:subject/>
  <dc:title>Роль права в жизни общества</dc:title>
</cp:coreProperties>
</file>