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B29F-2167-4663-951B-A6F7C8E7E73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права в жизни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ла учитель обществознания МОУ СОШ с. Варны Коребо О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права в жизни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ила учитель обществознания МОУ СОШ с. Варны Коребо О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ключает в себя экономическая сф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 и потреб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ных трудом человека бл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 способна к саморегулированию, поэтому степень  участия права по сравнению с политической  сферой  гораздо  мень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ите примеры правового регулирования экономических вопро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ключает в себя экономическая сфер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еделени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и потреб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ных трудом человека бла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 способна к саморегулированию, поэтому степень  участия права по сравнению с политической  сферой  гораздо  меньш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ите примеры правового регулирования экономических вопро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ключает социальная сф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овлетворение насущных потребностей человека (потребности работать, есть, пить, одеваться и т. п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благосостояния людей. (работоспособных и тех, кто не способен прокормиться своим трудом: детей, учащихся, пенсионеров, безработных, инвалидов, беженцев, переселенцев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едливо ли с помощью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распределять созданные благ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ключает социальная сфер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овлетворение насущных потребностей человека (потребности работать, есть, пить, одеваться и т. п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благосостояния людей. (работоспособных и тех, кто не способен прокормиться своим трудом: детей, учащихся, пенсионеров, безработных, инвалидов, беженцев, переселенцев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едливо ли с помощью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спределять созданные блага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ключает в себя духовная сф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у, культуру, образование, отправление религиозных культов, самопознание, нравственность, этикет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право вмешивается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ую жизнь, ведь в этой сфе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и все так индивидуальн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устанавливает стандарты образования, определяет объемы финансирования образования, культуры, науки, порядок  регистрации  религиозных  объединений   и 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ключает в себя духовная сфер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ку, культуру, образование, отправление религиозных культов, самопознание, нравственность, этикет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право вмешивается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ховную жизнь, ведь в этой сфе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зни все так индивидуальн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устанавливает стандарты образования, определяет объемы финансирования образования, культуры, науки, порядок  регистрации  религиозных  объединений   и 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права в различных сферах общественно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права в различных сферах общественной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закреп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Что было бы, если бы права не было? Поясните ответ на  конкретных  пример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Как можно определить пра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Почему право регулирует не все вопросы общественной жизн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закреп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 Что было бы, если бы права не было? Поясните ответ на  конкретных  пример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 Как можно определить прав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  Почему право регулирует не все вопросы общественной жизн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§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я 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§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 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изучения новой т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права в различных сферах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изучения новой те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е права в различных сферах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граф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ям необходимы даже самые дурные законы, ибо, не будь их, люди пожрали бы друг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к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342/341 - 271/270 гг. до н.э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егреческий философ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пиграф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ям необходимы даже самые дурные законы, ибо, не будь их, люди пожрали бы друг дру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пику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342/341 - 271/270 гг. до н.э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евнегреческий философ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ь современного общества невозможно представить без права. Если отменить правовые нормы, то каждый из нас будет действовать так, как ему заблагорассудится, и жизнь станет подобной хору, в котором каждый участник поет свою песн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знь современного общества невозможно представить без права. Если отменить правовые нормы, то каждый из нас будет действовать так, как ему заблагорассудится, и жизнь станет подобной хору, в котором каждый участник поет свою песн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истема обязательных правил поведения, закрепленных в официальных документах, охраняемых силой государственного прину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регулирует многие вопросы нашей жизни. Однако не все в ней требует регулирования с помощью правовых но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считаете какие стороны нашей жизни не требуют правового регулирова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истема обязательных правил поведения, закрепленных в официальных документах, охраняемых силой государственного прину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регулирует многие вопросы нашей жизни. Однако не все в ней требует регулирования с помощью правовых но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ы считаете какие стороны нашей жизни не требуют правового регулирован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, которое в нашей жизни занимает право, можно графически изобразить  следующим  обра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, которое в нашей жизни занимает право, можно графически изобразить  следующим  образ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права в различных сферах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играет в обществе главную роль потому, что регулирует самые важные общественные отношения. Оно представляет собой очень сильное оружие, ведь за правовыми нормами стоит государственное принуждение, т. е. возможность применения санк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е права в различных сферах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играет в обществе главную роль потому, что регулирует самые важные общественные отношения. Оно представляет собой очень сильное оружие, ведь за правовыми нормами стоит государственное принуждение, т. е. возможность применения санк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помните, какие четыре сферы общества вы зна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ая сфе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сф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сф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ая сф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помните, какие четыре сферы общества вы зна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ческая сфе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сф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ая сф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ховная сф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относится к политической сфере и какие вопросы здесь регулируются  с  помощью  пра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программ развития обще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политических партий и других общественных объединен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государственных органов и определение их компетенц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отношения между нациями, классами и другими общественными группами, существующими в государств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отношения с другими государствами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максима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ет эт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рону жиз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относится к политической сфере и какие вопросы здесь регулируются  с  помощью  пра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программ развития обще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политических партий и других общественных объедине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государственных органов и определение их компетенц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отношения между нациями, классами и другими общественными группами, существующими в государств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отношения с другими государствами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максима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ирует эт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рону жизн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899C-BDA2-4A08-B54E-527BFB5D8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E286-2082-4E77-9F24-31956B10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11C6-8ED5-4AEF-A545-D07C35A33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9672-4680-40FA-98DA-35ABA060A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15F8-9BEE-4754-8478-C7F16A3FC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1522-7A3E-4000-8882-A0D6CF6F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BBE0-3019-4CD2-A977-0D698D35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BC2C0-8491-4DB1-B369-8DB656F1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5E80F-42E0-466E-A158-38DCAE62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B9351-C960-4CDA-B69F-6712FF08D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3BB9-8795-4886-8A62-5659F278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F6B2-00B2-4C3D-A01C-69552B2F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3B05-6B3B-4BC1-AD85-3B21F3D9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6FC0-82EF-451D-ADF8-468FF284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D2A69-42A1-4C08-906F-EBBAA513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74DD-520C-4141-AF85-5EDDDD157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A973-F927-4E28-AED2-963872643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1C68-E09B-4501-860C-005CB8A7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7ECE-5953-4474-B41A-2B0B5201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6D07-06BA-4DBA-88C7-6165B15A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3730-AF15-4460-81F4-FD2E083E4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04D2-9968-4D76-9091-3A949B2A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C067-E21A-487C-A2A7-71CA42B8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8334-DF93-4577-A406-22516A06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D28B-66D3-4589-BF5B-8BF40146D6B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AE4A-047B-4F76-97A4-08E865721F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446B-3CD9-4994-9ECB-A5E4298C9F7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E10D-F056-41D9-B48A-98EFE15834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erhmedia.ru/docs/20070917125126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28440" y="766800"/>
            <a:ext cx="772164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Роль права в жизни обществ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28800" y="5301720"/>
            <a:ext cx="7929360" cy="11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готовила учитель обществознания МОУ СОШ с. Варны Коребо О.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Картинка 9 из 460263"/>
          <p:cNvPicPr/>
          <p:nvPr/>
        </p:nvPicPr>
        <p:blipFill>
          <a:blip r:embed="rId1"/>
          <a:stretch/>
        </p:blipFill>
        <p:spPr>
          <a:xfrm>
            <a:off x="2928960" y="1604880"/>
            <a:ext cx="3720960" cy="37195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Что включает в себя экономическая сфера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71360" y="1500120"/>
            <a:ext cx="4647960" cy="24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изводство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пределение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мен и потреб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ных трудом человека бла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" descr="http://news.rin.ru/pictures/26/111233.jpg"/>
          <p:cNvPicPr/>
          <p:nvPr/>
        </p:nvPicPr>
        <p:blipFill>
          <a:blip r:embed="rId1"/>
          <a:stretch/>
        </p:blipFill>
        <p:spPr>
          <a:xfrm>
            <a:off x="6000840" y="1643040"/>
            <a:ext cx="2500200" cy="2228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Картинка 115 из 209508"/>
          <p:cNvPicPr/>
          <p:nvPr/>
        </p:nvPicPr>
        <p:blipFill>
          <a:blip r:embed="rId2"/>
          <a:stretch/>
        </p:blipFill>
        <p:spPr>
          <a:xfrm>
            <a:off x="5715000" y="3929040"/>
            <a:ext cx="2928960" cy="232740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5"/>
          <p:cNvSpPr/>
          <p:nvPr/>
        </p:nvSpPr>
        <p:spPr>
          <a:xfrm>
            <a:off x="1071720" y="40006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номика способна к саморегулированию, поэтому степень  участия права по сравнению с политической  сферой  гораздо  мень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6"/>
          <p:cNvSpPr/>
          <p:nvPr/>
        </p:nvSpPr>
        <p:spPr>
          <a:xfrm>
            <a:off x="1143000" y="602784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иведите примеры правового регулирования экономических вопро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Картинка 14 из 11212"/>
          <p:cNvPicPr/>
          <p:nvPr/>
        </p:nvPicPr>
        <p:blipFill>
          <a:blip r:embed="rId1"/>
          <a:srcRect l="0" t="31877" r="2500" b="0"/>
          <a:stretch/>
        </p:blipFill>
        <p:spPr>
          <a:xfrm>
            <a:off x="6000840" y="3786120"/>
            <a:ext cx="2786040" cy="25956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Что включает социальная сфера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28440" y="1571400"/>
            <a:ext cx="55004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довлетворение насущных потребностей человека (потребности работать, есть, пить, одеваться и т. п.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ышение благосостояния людей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работоспособных и тех, кто не способен прокормиться своим трудом: детей, учащихся, пенсионеров, безработных, инвалидов, беженцев, переселенцев и др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2" descr="Картинка 10 из 11212"/>
          <p:cNvPicPr/>
          <p:nvPr/>
        </p:nvPicPr>
        <p:blipFill>
          <a:blip r:embed="rId2"/>
          <a:stretch/>
        </p:blipFill>
        <p:spPr>
          <a:xfrm>
            <a:off x="6072120" y="1500120"/>
            <a:ext cx="2643120" cy="217332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5"/>
          <p:cNvSpPr/>
          <p:nvPr/>
        </p:nvSpPr>
        <p:spPr>
          <a:xfrm>
            <a:off x="1071720" y="5904000"/>
            <a:ext cx="75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раведливо ли с помощью 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ераспределять созданные благ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Что включает в себя духовная сфера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14240" y="1499760"/>
            <a:ext cx="514368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уку, культуру, образование, отправление религиозных культов, самопознание, нравственность, этикет и д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2" descr="Картинка 3 из 1659"/>
          <p:cNvPicPr/>
          <p:nvPr/>
        </p:nvPicPr>
        <p:blipFill>
          <a:blip r:embed="rId1"/>
          <a:stretch/>
        </p:blipFill>
        <p:spPr>
          <a:xfrm>
            <a:off x="7423200" y="1214280"/>
            <a:ext cx="1720800" cy="2286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Картинка 37 из 1659"/>
          <p:cNvPicPr/>
          <p:nvPr/>
        </p:nvPicPr>
        <p:blipFill>
          <a:blip r:embed="rId2"/>
          <a:stretch/>
        </p:blipFill>
        <p:spPr>
          <a:xfrm>
            <a:off x="6286680" y="3643200"/>
            <a:ext cx="2473200" cy="1928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Картинка 5 из 300157"/>
          <p:cNvPicPr/>
          <p:nvPr/>
        </p:nvPicPr>
        <p:blipFill>
          <a:blip r:embed="rId3"/>
          <a:stretch/>
        </p:blipFill>
        <p:spPr>
          <a:xfrm>
            <a:off x="5857920" y="1143000"/>
            <a:ext cx="1466640" cy="235728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6"/>
          <p:cNvSpPr/>
          <p:nvPr/>
        </p:nvSpPr>
        <p:spPr>
          <a:xfrm>
            <a:off x="1083960" y="3429000"/>
            <a:ext cx="50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чем право вмешивается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уховную жизнь, ведь в этой сфе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изни все так индивидуальн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7"/>
          <p:cNvSpPr/>
          <p:nvPr/>
        </p:nvSpPr>
        <p:spPr>
          <a:xfrm>
            <a:off x="1143000" y="4714920"/>
            <a:ext cx="542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о устанавливает стандарты образования, определяет объемы финансирования образования, культуры, науки, порядок  регистрации  религиозных  объединений   и 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1304"/>
                </a:solidFill>
                <a:latin typeface="Times New Roman"/>
              </a:rPr>
              <a:t>Роль права в различных сферах общественной жизни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0" name="Содержимое 3" descr=""/>
          <p:cNvPicPr/>
          <p:nvPr/>
        </p:nvPicPr>
        <p:blipFill>
          <a:blip r:embed="rId1"/>
          <a:stretch/>
        </p:blipFill>
        <p:spPr>
          <a:xfrm>
            <a:off x="1847880" y="1987560"/>
            <a:ext cx="6168960" cy="363852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ая соединительная линия 5"/>
          <p:cNvSpPr/>
          <p:nvPr/>
        </p:nvSpPr>
        <p:spPr>
          <a:xfrm flipH="1">
            <a:off x="3499920" y="1999440"/>
            <a:ext cx="4000680" cy="3429000"/>
          </a:xfrm>
          <a:prstGeom prst="line">
            <a:avLst/>
          </a:prstGeom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http://im8-tub.yandex.net/i?id=66367062&amp;tov=8"/>
          <p:cNvPicPr/>
          <p:nvPr/>
        </p:nvPicPr>
        <p:blipFill>
          <a:blip r:embed="rId2"/>
          <a:stretch/>
        </p:blipFill>
        <p:spPr>
          <a:xfrm>
            <a:off x="1857240" y="2857680"/>
            <a:ext cx="1352520" cy="9144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http://im7-tub.yandex.net/i?id=135305913&amp;tov=7"/>
          <p:cNvPicPr/>
          <p:nvPr/>
        </p:nvPicPr>
        <p:blipFill>
          <a:blip r:embed="rId3"/>
          <a:stretch/>
        </p:blipFill>
        <p:spPr>
          <a:xfrm>
            <a:off x="1857240" y="1928880"/>
            <a:ext cx="1314720" cy="981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http://im6-tub.yandex.net/i?id=32861835&amp;tov=6"/>
          <p:cNvPicPr/>
          <p:nvPr/>
        </p:nvPicPr>
        <p:blipFill>
          <a:blip r:embed="rId4"/>
          <a:stretch/>
        </p:blipFill>
        <p:spPr>
          <a:xfrm>
            <a:off x="1857240" y="371484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http://im0-tub.yandex.net/i?id=37677649&amp;tov=0"/>
          <p:cNvPicPr/>
          <p:nvPr/>
        </p:nvPicPr>
        <p:blipFill>
          <a:blip r:embed="rId5"/>
          <a:stretch/>
        </p:blipFill>
        <p:spPr>
          <a:xfrm>
            <a:off x="1857240" y="4714920"/>
            <a:ext cx="1333800" cy="97164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Вопросы для закрепления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 Что было бы, если бы права не было? Поясните ответ на  конкретных  примера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  Как можно определить прав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  Почему право регулирует не все вопросы общественной жизн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Домашнее задание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§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нятия тем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План изучения новой темы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нятие пра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начение права в различных сферах жиз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2" descr="Картинка 6 из 16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43200" y="3214800"/>
            <a:ext cx="3272040" cy="327168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Эпиграф урок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643200" y="1752480"/>
            <a:ext cx="50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Людям необходимы даже самые дурные законы, ибо, не будь их, люди пожрали бы друг друг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" descr="Картинка 3 из 393"/>
          <p:cNvPicPr/>
          <p:nvPr/>
        </p:nvPicPr>
        <p:blipFill>
          <a:blip r:embed="rId1"/>
          <a:stretch/>
        </p:blipFill>
        <p:spPr>
          <a:xfrm>
            <a:off x="1000080" y="142884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4"/>
          <p:cNvSpPr/>
          <p:nvPr/>
        </p:nvSpPr>
        <p:spPr>
          <a:xfrm>
            <a:off x="1576080" y="5214960"/>
            <a:ext cx="11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Эпик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999000" y="557208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342/341 - 271/270 гг. до н.э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6"/>
          <p:cNvSpPr/>
          <p:nvPr/>
        </p:nvSpPr>
        <p:spPr>
          <a:xfrm>
            <a:off x="1086480" y="5929200"/>
            <a:ext cx="286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евнегреческий филосо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000080" y="500040"/>
            <a:ext cx="485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изнь современного общества невозможно представить без права. Если отменить правовые нормы, то каждый из нас будет действовать так, как ему заблагорассудится, и жизнь станет подобной хору, в котором каждый участник поет свою песн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Картинка 20 из 16191"/>
          <p:cNvPicPr/>
          <p:nvPr/>
        </p:nvPicPr>
        <p:blipFill>
          <a:blip r:embed="rId1"/>
          <a:stretch/>
        </p:blipFill>
        <p:spPr>
          <a:xfrm>
            <a:off x="6215040" y="428760"/>
            <a:ext cx="2500200" cy="3510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Картинка 54 из 16191"/>
          <p:cNvPicPr/>
          <p:nvPr/>
        </p:nvPicPr>
        <p:blipFill>
          <a:blip r:embed="rId2"/>
          <a:stretch/>
        </p:blipFill>
        <p:spPr>
          <a:xfrm>
            <a:off x="6215040" y="4071960"/>
            <a:ext cx="2571840" cy="25718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3219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раво -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00080" y="1213920"/>
            <a:ext cx="79344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то система обязательных правил поведения, закрепленных в официальных документах, охраняемых силой государственного принужд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о регулирует многие вопросы нашей жизни. Однако не все в ней требует регулирования с помощью правовых нор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вы считаете какие стороны нашей жизни не требуют правового регулирования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066320" y="428400"/>
            <a:ext cx="762012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сто, которое в нашей жизни занимает право, можно графически изобразить  следующим  образом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Схема 3" descr=""/>
          <p:cNvPicPr/>
          <p:nvPr/>
        </p:nvPicPr>
        <p:blipFill>
          <a:blip r:embed="rId1"/>
          <a:stretch/>
        </p:blipFill>
        <p:spPr>
          <a:xfrm>
            <a:off x="927000" y="2182680"/>
            <a:ext cx="7358040" cy="40356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Значение права в различных сферах жизни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320" y="1752480"/>
            <a:ext cx="7720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о играет в обществе главную роль потому, что регулирует самые важные общественные отношения. Оно представляет собой очень сильное оружие, ведь за правовыми нормами стоит государственное принуждение, т. е. возможность применения санкц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c2b09"/>
                </a:solidFill>
                <a:latin typeface="Times New Roman"/>
              </a:rPr>
              <a:t>Вспомните, какие четыре сферы общества вы знаете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6" name="Содержимое 3" descr=""/>
          <p:cNvPicPr/>
          <p:nvPr/>
        </p:nvPicPr>
        <p:blipFill>
          <a:blip r:embed="rId1"/>
          <a:stretch/>
        </p:blipFill>
        <p:spPr>
          <a:xfrm>
            <a:off x="858960" y="1914480"/>
            <a:ext cx="7772400" cy="441324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4"/>
          <p:cNvSpPr/>
          <p:nvPr/>
        </p:nvSpPr>
        <p:spPr>
          <a:xfrm>
            <a:off x="1580400" y="2071800"/>
            <a:ext cx="23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итическая сф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5"/>
          <p:cNvSpPr/>
          <p:nvPr/>
        </p:nvSpPr>
        <p:spPr>
          <a:xfrm>
            <a:off x="5508000" y="207180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кономическая 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6"/>
          <p:cNvSpPr/>
          <p:nvPr/>
        </p:nvSpPr>
        <p:spPr>
          <a:xfrm>
            <a:off x="1655640" y="5214960"/>
            <a:ext cx="21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циальная 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7"/>
          <p:cNvSpPr/>
          <p:nvPr/>
        </p:nvSpPr>
        <p:spPr>
          <a:xfrm>
            <a:off x="5930280" y="5500800"/>
            <a:ext cx="18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уховная 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2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13880" y="380520"/>
            <a:ext cx="821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1304"/>
                </a:solidFill>
                <a:latin typeface="Times New Roman"/>
              </a:rPr>
              <a:t>Что относится к политической сфере и какие вопросы здесь регулируются  с  помощью  права?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28440" y="1643040"/>
            <a:ext cx="5505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ение программ развития обществ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ятельность политических партий и других общественных объединени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государственных органов и определение их компетенци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между нациями, классами и другими общественными группами, существующими в государств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с другими государствами и т.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оугольник 3"/>
          <p:cNvSpPr/>
          <p:nvPr/>
        </p:nvSpPr>
        <p:spPr>
          <a:xfrm>
            <a:off x="6072120" y="5143680"/>
            <a:ext cx="307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во максима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гулирует э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орону жиз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Картинка 195 из 174751"/>
          <p:cNvPicPr/>
          <p:nvPr/>
        </p:nvPicPr>
        <p:blipFill>
          <a:blip r:embed="rId1"/>
          <a:stretch/>
        </p:blipFill>
        <p:spPr>
          <a:xfrm>
            <a:off x="6286680" y="1500120"/>
            <a:ext cx="2571480" cy="1682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Картинка 200 из 174751"/>
          <p:cNvPicPr/>
          <p:nvPr/>
        </p:nvPicPr>
        <p:blipFill>
          <a:blip r:embed="rId2"/>
          <a:stretch/>
        </p:blipFill>
        <p:spPr>
          <a:xfrm>
            <a:off x="6286680" y="3286080"/>
            <a:ext cx="2558880" cy="171468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08:10:49Z</dcterms:modified>
  <cp:revision>25</cp:revision>
  <dc:subject/>
  <dc:title>Роль права в жизни общества</dc:title>
</cp:coreProperties>
</file>