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1C89-66F8-4077-BAA9-87EFF004C20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ы правового регулирования экономических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те примеры правового регулирования экономически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благосостояния людей. 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 ли с помощью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ять созданные бла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благосостояния людей. 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о ли с помощью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спределять созданные благ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право вмешивает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ую жизнь, ведь в эт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 все так индивидуа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право вмешивае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ховную жизнь, ведь в этой сф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 все так индивидуаль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к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42/341 - 271/270 гг. до н.э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филосо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играф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ику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42/341 - 271/270 гг. до н.э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егреческий филосо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сф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ая сф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максим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э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у жиз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максима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ет э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у жиз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53A8-E871-4553-B287-B44CB5A6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0FA-49B7-4785-A2C8-26C71DFF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4AE-1B15-47AB-BD75-2C2501CF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B3E-8741-47E5-B33D-24AD918B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F8F9-1C7F-49E6-B414-A13D1998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2651-2964-4E23-A2DF-0B1E5DCB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E6BD-8F69-4DE6-BD3A-44738E8A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4295-13EA-4669-ADD9-6A55AD33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DE09-C95B-4F92-A7BF-67AA1A11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6955-022D-46FD-8D53-88C77C66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A89D-0964-4F99-98EE-F64EEE44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4EA-9E82-46B0-9B59-DA9A2802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35C9-B1C6-4261-8A9E-E16CCC70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0437-CAD7-4C15-B9AA-8BA753B5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50D0-6AE7-4D2A-AAEA-2DD2B994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5A41-1910-4509-BE8F-6AEA4A96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E1A5-8E06-40FC-8D6C-5E472453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AB00-DD88-4B11-8855-B8B3584F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1CD-4DA1-47CA-BB16-2F642DC9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2C84-8653-46C4-B9A6-A7C27434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8A8-FB32-4796-83EF-430CE532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376B-E871-4951-A29B-483964FB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2E8-80BD-4356-BB76-91422AC3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5F5F-7997-4FB0-9F60-3D62B63F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A98D-0F6A-470A-9349-B1D212D201B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0C75-3686-408C-BED8-BD5CD63759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DE19-5660-45E2-83C4-FA1B688BA22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07AA-71CF-47BB-A6B1-694833C4FA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erhmedia.ru/docs/2007091712512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8440" y="766800"/>
            <a:ext cx="77216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оль права в жизни общест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28800" y="5301720"/>
            <a:ext cx="7929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а учитель обществознания МОУ СОШ с. Варны Коребо О.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Картинка 9 из 460263"/>
          <p:cNvPicPr/>
          <p:nvPr/>
        </p:nvPicPr>
        <p:blipFill>
          <a:blip r:embed="rId1"/>
          <a:stretch/>
        </p:blipFill>
        <p:spPr>
          <a:xfrm>
            <a:off x="2928960" y="1604880"/>
            <a:ext cx="3720960" cy="3719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экономическ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71360" y="1500120"/>
            <a:ext cx="464796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ств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мен и потреб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ных трудом человека бла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news.rin.ru/pictures/26/111233.jpg"/>
          <p:cNvPicPr/>
          <p:nvPr/>
        </p:nvPicPr>
        <p:blipFill>
          <a:blip r:embed="rId1"/>
          <a:stretch/>
        </p:blipFill>
        <p:spPr>
          <a:xfrm>
            <a:off x="6000840" y="164304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Картинка 115 из 209508"/>
          <p:cNvPicPr/>
          <p:nvPr/>
        </p:nvPicPr>
        <p:blipFill>
          <a:blip r:embed="rId2"/>
          <a:stretch/>
        </p:blipFill>
        <p:spPr>
          <a:xfrm>
            <a:off x="5715000" y="3929040"/>
            <a:ext cx="2928960" cy="2327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1071720" y="40006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143000" y="6027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ведите примеры правового регулирования экономических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Картинка 14 из 11212"/>
          <p:cNvPicPr/>
          <p:nvPr/>
        </p:nvPicPr>
        <p:blipFill>
          <a:blip r:embed="rId1"/>
          <a:srcRect l="0" t="31877" r="2500" b="0"/>
          <a:stretch/>
        </p:blipFill>
        <p:spPr>
          <a:xfrm>
            <a:off x="6000840" y="3786120"/>
            <a:ext cx="2786040" cy="2595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социаль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8440" y="1571400"/>
            <a:ext cx="5500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благосостояния люде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Картинка 10 из 11212"/>
          <p:cNvPicPr/>
          <p:nvPr/>
        </p:nvPicPr>
        <p:blipFill>
          <a:blip r:embed="rId2"/>
          <a:stretch/>
        </p:blipFill>
        <p:spPr>
          <a:xfrm>
            <a:off x="6072120" y="1500120"/>
            <a:ext cx="2643120" cy="21733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1071720" y="59040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едливо ли с помощью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распределять созданные благ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духов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499760"/>
            <a:ext cx="51436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Картинка 3 из 1659"/>
          <p:cNvPicPr/>
          <p:nvPr/>
        </p:nvPicPr>
        <p:blipFill>
          <a:blip r:embed="rId1"/>
          <a:stretch/>
        </p:blipFill>
        <p:spPr>
          <a:xfrm>
            <a:off x="7423200" y="1214280"/>
            <a:ext cx="172080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Картинка 37 из 1659"/>
          <p:cNvPicPr/>
          <p:nvPr/>
        </p:nvPicPr>
        <p:blipFill>
          <a:blip r:embed="rId2"/>
          <a:stretch/>
        </p:blipFill>
        <p:spPr>
          <a:xfrm>
            <a:off x="6286680" y="3643200"/>
            <a:ext cx="2473200" cy="1928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Картинка 5 из 300157"/>
          <p:cNvPicPr/>
          <p:nvPr/>
        </p:nvPicPr>
        <p:blipFill>
          <a:blip r:embed="rId3"/>
          <a:stretch/>
        </p:blipFill>
        <p:spPr>
          <a:xfrm>
            <a:off x="5857920" y="1143000"/>
            <a:ext cx="1466640" cy="2357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6"/>
          <p:cNvSpPr/>
          <p:nvPr/>
        </p:nvSpPr>
        <p:spPr>
          <a:xfrm>
            <a:off x="1083960" y="3429000"/>
            <a:ext cx="50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м право вмешива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ховную жизнь, ведь в этой 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и все так индивиду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143000" y="4714920"/>
            <a:ext cx="54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Роль права в различных сферах общественной жизни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0" name="Содержимое 3" descr=""/>
          <p:cNvPicPr/>
          <p:nvPr/>
        </p:nvPicPr>
        <p:blipFill>
          <a:blip r:embed="rId1"/>
          <a:stretch/>
        </p:blipFill>
        <p:spPr>
          <a:xfrm>
            <a:off x="1847880" y="1987560"/>
            <a:ext cx="6168960" cy="36385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5"/>
          <p:cNvSpPr/>
          <p:nvPr/>
        </p:nvSpPr>
        <p:spPr>
          <a:xfrm flipH="1">
            <a:off x="3499920" y="1999440"/>
            <a:ext cx="4000680" cy="34290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http://im8-tub.yandex.net/i?id=66367062&amp;tov=8"/>
          <p:cNvPicPr/>
          <p:nvPr/>
        </p:nvPicPr>
        <p:blipFill>
          <a:blip r:embed="rId2"/>
          <a:stretch/>
        </p:blipFill>
        <p:spPr>
          <a:xfrm>
            <a:off x="1857240" y="2857680"/>
            <a:ext cx="135252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im7-tub.yandex.net/i?id=135305913&amp;tov=7"/>
          <p:cNvPicPr/>
          <p:nvPr/>
        </p:nvPicPr>
        <p:blipFill>
          <a:blip r:embed="rId3"/>
          <a:stretch/>
        </p:blipFill>
        <p:spPr>
          <a:xfrm>
            <a:off x="1857240" y="1928880"/>
            <a:ext cx="1314720" cy="981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im6-tub.yandex.net/i?id=32861835&amp;tov=6"/>
          <p:cNvPicPr/>
          <p:nvPr/>
        </p:nvPicPr>
        <p:blipFill>
          <a:blip r:embed="rId4"/>
          <a:stretch/>
        </p:blipFill>
        <p:spPr>
          <a:xfrm>
            <a:off x="1857240" y="371484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http://im0-tub.yandex.net/i?id=37677649&amp;tov=0"/>
          <p:cNvPicPr/>
          <p:nvPr/>
        </p:nvPicPr>
        <p:blipFill>
          <a:blip r:embed="rId5"/>
          <a:stretch/>
        </p:blipFill>
        <p:spPr>
          <a:xfrm>
            <a:off x="1857240" y="4714920"/>
            <a:ext cx="1333800" cy="9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опросы для закрепления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 Что было бы, если бы права не было? Поясните ответ на  конкретных  пример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 Как можно определить пра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  Почему право регулирует не все вопросы общественной жиз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§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я 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ан изучения новой темы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е пра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Картинка 6 из 1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3214800"/>
            <a:ext cx="3272040" cy="32716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пиграф уро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43200" y="1752480"/>
            <a:ext cx="50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юдям необходимы даже самые дурные законы, ибо, не будь их, люди пожрали бы друг дру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Картинка 3 из 393"/>
          <p:cNvPicPr/>
          <p:nvPr/>
        </p:nvPicPr>
        <p:blipFill>
          <a:blip r:embed="rId1"/>
          <a:stretch/>
        </p:blipFill>
        <p:spPr>
          <a:xfrm>
            <a:off x="1000080" y="14288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1576080" y="52149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пик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999000" y="557208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342/341 - 271/270 гг. до н.э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1086480" y="592920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ий филосо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00080" y="50004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Картинка 20 из 16191"/>
          <p:cNvPicPr/>
          <p:nvPr/>
        </p:nvPicPr>
        <p:blipFill>
          <a:blip r:embed="rId1"/>
          <a:stretch/>
        </p:blipFill>
        <p:spPr>
          <a:xfrm>
            <a:off x="6215040" y="428760"/>
            <a:ext cx="2500200" cy="351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54 из 16191"/>
          <p:cNvPicPr/>
          <p:nvPr/>
        </p:nvPicPr>
        <p:blipFill>
          <a:blip r:embed="rId2"/>
          <a:stretch/>
        </p:blipFill>
        <p:spPr>
          <a:xfrm>
            <a:off x="6215040" y="40719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21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аво -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00080" y="1213920"/>
            <a:ext cx="7934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 какие стороны нашей жизни не требуют правового регулирова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6320" y="428400"/>
            <a:ext cx="76201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Схема 3" descr=""/>
          <p:cNvPicPr/>
          <p:nvPr/>
        </p:nvPicPr>
        <p:blipFill>
          <a:blip r:embed="rId1"/>
          <a:stretch/>
        </p:blipFill>
        <p:spPr>
          <a:xfrm>
            <a:off x="927000" y="2182680"/>
            <a:ext cx="7358040" cy="4035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752480"/>
            <a:ext cx="772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2b09"/>
                </a:solidFill>
                <a:latin typeface="Times New Roman"/>
              </a:rPr>
              <a:t>Вспомните, какие четыре сферы общества вы знаете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858960" y="1914480"/>
            <a:ext cx="7772400" cy="44132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1580400" y="20718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тическая сф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5508000" y="20718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ономическ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1655640" y="521496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ь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5930280" y="550080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ухов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3880" y="38052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28440" y="1643040"/>
            <a:ext cx="55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рограмм развития общест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 политических партий и других общественных объедин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государственных органов и определение их компетен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с другими государствами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6072120" y="514368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 максим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ирует э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рону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Картинка 195 из 174751"/>
          <p:cNvPicPr/>
          <p:nvPr/>
        </p:nvPicPr>
        <p:blipFill>
          <a:blip r:embed="rId1"/>
          <a:stretch/>
        </p:blipFill>
        <p:spPr>
          <a:xfrm>
            <a:off x="6286680" y="1500120"/>
            <a:ext cx="2571480" cy="1682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Картинка 200 из 174751"/>
          <p:cNvPicPr/>
          <p:nvPr/>
        </p:nvPicPr>
        <p:blipFill>
          <a:blip r:embed="rId2"/>
          <a:stretch/>
        </p:blipFill>
        <p:spPr>
          <a:xfrm>
            <a:off x="6286680" y="3286080"/>
            <a:ext cx="2558880" cy="1714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0:49Z</dcterms:modified>
  <cp:revision>25</cp:revision>
  <dc:subject/>
  <dc:title>Роль права в жизни общества</dc:title>
</cp:coreProperties>
</file>