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2592-10E5-458E-8994-E08B54BF10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жизн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учитель обществознания МОУ СОШ с. Варны Коребо О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ы правового регулирования экономических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экономическ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и потреб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ных трудом человека бл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ите примеры правового регулирования экономических вопр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благосостояния людей. 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 ли с помощью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ять созданные бла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социальн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благосостояния людей. 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о ли с помощью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спределять созданные благ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право вмешивает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ую жизнь, ведь в эт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 все так индивидуаль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духовная сф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право вмешивае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ховную жизнь, ведь в этой сфе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и все так индивидуаль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различных сферах обществен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закреп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Что было бы, если бы права не было? Поясните ответ на  конкретных  приме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Как можно определить пра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Почему право регулирует не все вопросы общественной жизн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изучения новой 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к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42/341 - 271/270 гг. до н.э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греческий философ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играф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ям необходимы даже самые дурные законы, ибо, не будь их, люди пожрали бы друг дру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ику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42/341 - 271/270 гг. до н.э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негреческий филосо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 какие стороны нашей жизни не требуют правового регулиров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права в различных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сф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ните, какие четыре сферы общества вы зн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ая сф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максим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э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у жиз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рограмм развития общ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политических партий и других общественных объедин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государственных органов и определение их компетен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отношения с другими государствами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максима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ет э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у жиз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300-B4EF-4E2E-AAED-0166A07E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099B-C4E0-4E67-A947-1806C23F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9DEC-5A6E-4291-9872-70E8E4E6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29C-3D5B-4CD6-A4AB-15D4476D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EF27-3E2A-498A-89CF-A78ADF38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8E6A-D43D-4D6D-8813-FD188F31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0933-FBE5-41B2-8F7E-C701F7E1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DE11-B128-4E84-9606-1470367B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CA62-190E-4C1D-9971-7900F878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E364-DE2A-4AA1-9F44-AC4789FA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744C-C01F-4E4D-A79D-D6843B6A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019-3D0B-45DA-ADE3-A51B6063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4005-0EFE-4980-B3E6-45DA4866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4138-D0A6-43C7-AEC3-E8D95E76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820E-4178-412B-A674-F855B96A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EA88-AFF6-4701-8361-D20CE7C5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4B56-917A-481E-9F83-52E5655C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011-500C-4941-9968-AA273B65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422-CF3E-4FAD-9A10-AF1E29DB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EA25-644A-4191-9B15-01CDFDBE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2CD-72E1-41DE-A768-EA8B90B9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E290-BDC3-4BE9-B318-2C6E470A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B9BC-2CCE-403E-BDF2-5F5FBE64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E59-03C7-4EE9-BE98-AF7C2529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F992-AD40-4ED6-BB91-4568FE78C69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C488-F35E-4C74-BF53-3744DCB8E6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CA36-CBC4-42FA-A270-37497C225D6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6C7C-0561-4C7B-A6E9-F357A89064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erhmedia.ru/docs/2007091712512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8440" y="766800"/>
            <a:ext cx="772164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Роль права в жизни обществ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28800" y="5301720"/>
            <a:ext cx="79293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а учитель обществознания МОУ СОШ с. Варны Коребо О.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Картинка 9 из 460263"/>
          <p:cNvPicPr/>
          <p:nvPr/>
        </p:nvPicPr>
        <p:blipFill>
          <a:blip r:embed="rId1"/>
          <a:stretch/>
        </p:blipFill>
        <p:spPr>
          <a:xfrm>
            <a:off x="2928960" y="1604880"/>
            <a:ext cx="3720960" cy="37195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экономическ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71360" y="1500120"/>
            <a:ext cx="4647960" cy="24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одство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еделение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мен и потреб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ных трудом человека бла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http://news.rin.ru/pictures/26/111233.jpg"/>
          <p:cNvPicPr/>
          <p:nvPr/>
        </p:nvPicPr>
        <p:blipFill>
          <a:blip r:embed="rId1"/>
          <a:stretch/>
        </p:blipFill>
        <p:spPr>
          <a:xfrm>
            <a:off x="6000840" y="1643040"/>
            <a:ext cx="2500200" cy="2228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Картинка 115 из 209508"/>
          <p:cNvPicPr/>
          <p:nvPr/>
        </p:nvPicPr>
        <p:blipFill>
          <a:blip r:embed="rId2"/>
          <a:stretch/>
        </p:blipFill>
        <p:spPr>
          <a:xfrm>
            <a:off x="5715000" y="3929040"/>
            <a:ext cx="2928960" cy="23274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5"/>
          <p:cNvSpPr/>
          <p:nvPr/>
        </p:nvSpPr>
        <p:spPr>
          <a:xfrm>
            <a:off x="1071720" y="40006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номика способна к саморегулированию, поэтому степень  участия права по сравнению с политической  сферой  гораздо 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1143000" y="6027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ведите примеры правового регулирования экономических вопро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Картинка 14 из 11212"/>
          <p:cNvPicPr/>
          <p:nvPr/>
        </p:nvPicPr>
        <p:blipFill>
          <a:blip r:embed="rId1"/>
          <a:srcRect l="0" t="31877" r="2500" b="0"/>
          <a:stretch/>
        </p:blipFill>
        <p:spPr>
          <a:xfrm>
            <a:off x="6000840" y="3786120"/>
            <a:ext cx="2786040" cy="2595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социаль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8440" y="1571400"/>
            <a:ext cx="55004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ие насущных потребностей человека (потребности работать, есть, пить, одеваться и т. п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благосостояния люде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аботоспособных и тех, кто не способен прокормиться своим трудом: детей, учащихся, пенсионеров, безработных, инвалидов, беженцев, переселенцев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" descr="Картинка 10 из 11212"/>
          <p:cNvPicPr/>
          <p:nvPr/>
        </p:nvPicPr>
        <p:blipFill>
          <a:blip r:embed="rId2"/>
          <a:stretch/>
        </p:blipFill>
        <p:spPr>
          <a:xfrm>
            <a:off x="6072120" y="1500120"/>
            <a:ext cx="2643120" cy="21733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5"/>
          <p:cNvSpPr/>
          <p:nvPr/>
        </p:nvSpPr>
        <p:spPr>
          <a:xfrm>
            <a:off x="1071720" y="590400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раведливо ли с помощью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распределять созданные благ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то включает в себя духовная сфера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14240" y="1499760"/>
            <a:ext cx="51436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у, культуру, образование, отправление религиозных культов, самопознание, нравственность, этикет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Картинка 3 из 1659"/>
          <p:cNvPicPr/>
          <p:nvPr/>
        </p:nvPicPr>
        <p:blipFill>
          <a:blip r:embed="rId1"/>
          <a:stretch/>
        </p:blipFill>
        <p:spPr>
          <a:xfrm>
            <a:off x="7423200" y="1214280"/>
            <a:ext cx="172080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Картинка 37 из 1659"/>
          <p:cNvPicPr/>
          <p:nvPr/>
        </p:nvPicPr>
        <p:blipFill>
          <a:blip r:embed="rId2"/>
          <a:stretch/>
        </p:blipFill>
        <p:spPr>
          <a:xfrm>
            <a:off x="6286680" y="3643200"/>
            <a:ext cx="2473200" cy="1928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Картинка 5 из 300157"/>
          <p:cNvPicPr/>
          <p:nvPr/>
        </p:nvPicPr>
        <p:blipFill>
          <a:blip r:embed="rId3"/>
          <a:stretch/>
        </p:blipFill>
        <p:spPr>
          <a:xfrm>
            <a:off x="5857920" y="1143000"/>
            <a:ext cx="1466640" cy="23572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6"/>
          <p:cNvSpPr/>
          <p:nvPr/>
        </p:nvSpPr>
        <p:spPr>
          <a:xfrm>
            <a:off x="1083960" y="3429000"/>
            <a:ext cx="50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м право вмешиваетс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уховную жизнь, ведь в этой сф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зни все так индивидуаль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143000" y="4714920"/>
            <a:ext cx="542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 устанавливает стандарты образования, определяет объемы финансирования образования, культуры, науки, порядок  регистрации  религиозных  объединений   и 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Роль права в различных сферах общественной жизни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0" name="Содержимое 3" descr=""/>
          <p:cNvPicPr/>
          <p:nvPr/>
        </p:nvPicPr>
        <p:blipFill>
          <a:blip r:embed="rId1"/>
          <a:stretch/>
        </p:blipFill>
        <p:spPr>
          <a:xfrm>
            <a:off x="1847880" y="1987560"/>
            <a:ext cx="6168960" cy="363852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5"/>
          <p:cNvSpPr/>
          <p:nvPr/>
        </p:nvSpPr>
        <p:spPr>
          <a:xfrm flipH="1">
            <a:off x="3499920" y="1999440"/>
            <a:ext cx="4000680" cy="342900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http://im8-tub.yandex.net/i?id=66367062&amp;tov=8"/>
          <p:cNvPicPr/>
          <p:nvPr/>
        </p:nvPicPr>
        <p:blipFill>
          <a:blip r:embed="rId2"/>
          <a:stretch/>
        </p:blipFill>
        <p:spPr>
          <a:xfrm>
            <a:off x="1857240" y="2857680"/>
            <a:ext cx="135252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im7-tub.yandex.net/i?id=135305913&amp;tov=7"/>
          <p:cNvPicPr/>
          <p:nvPr/>
        </p:nvPicPr>
        <p:blipFill>
          <a:blip r:embed="rId3"/>
          <a:stretch/>
        </p:blipFill>
        <p:spPr>
          <a:xfrm>
            <a:off x="1857240" y="1928880"/>
            <a:ext cx="1314720" cy="981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im6-tub.yandex.net/i?id=32861835&amp;tov=6"/>
          <p:cNvPicPr/>
          <p:nvPr/>
        </p:nvPicPr>
        <p:blipFill>
          <a:blip r:embed="rId4"/>
          <a:stretch/>
        </p:blipFill>
        <p:spPr>
          <a:xfrm>
            <a:off x="1857240" y="371484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http://im0-tub.yandex.net/i?id=37677649&amp;tov=0"/>
          <p:cNvPicPr/>
          <p:nvPr/>
        </p:nvPicPr>
        <p:blipFill>
          <a:blip r:embed="rId5"/>
          <a:stretch/>
        </p:blipFill>
        <p:spPr>
          <a:xfrm>
            <a:off x="1857240" y="4714920"/>
            <a:ext cx="1333800" cy="9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опросы для закрепления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 Что было бы, если бы права не было? Поясните ответ на  конкретных  пример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 Как можно определить прав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  Почему право регулирует не все вопросы общественной жизн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Домашнее задани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§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я 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лан изучения новой темы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нятие пра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Картинка 6 из 1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43200" y="3214800"/>
            <a:ext cx="3272040" cy="32716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пиграф уро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643200" y="1752480"/>
            <a:ext cx="50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юдям необходимы даже самые дурные законы, ибо, не будь их, люди пожрали бы друг дру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Картинка 3 из 393"/>
          <p:cNvPicPr/>
          <p:nvPr/>
        </p:nvPicPr>
        <p:blipFill>
          <a:blip r:embed="rId1"/>
          <a:stretch/>
        </p:blipFill>
        <p:spPr>
          <a:xfrm>
            <a:off x="1000080" y="14288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1576080" y="52149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пик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999000" y="557208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342/341 - 271/270 гг. до н.э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1086480" y="592920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егреческий филосо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00080" y="50004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знь современного общества невозможно представить без права. Если отменить правовые нормы, то каждый из нас будет действовать так, как ему заблагорассудится, и жизнь станет подобной хору, в котором каждый участник поет свою песн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Картинка 20 из 16191"/>
          <p:cNvPicPr/>
          <p:nvPr/>
        </p:nvPicPr>
        <p:blipFill>
          <a:blip r:embed="rId1"/>
          <a:stretch/>
        </p:blipFill>
        <p:spPr>
          <a:xfrm>
            <a:off x="6215040" y="428760"/>
            <a:ext cx="2500200" cy="351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Картинка 54 из 16191"/>
          <p:cNvPicPr/>
          <p:nvPr/>
        </p:nvPicPr>
        <p:blipFill>
          <a:blip r:embed="rId2"/>
          <a:stretch/>
        </p:blipFill>
        <p:spPr>
          <a:xfrm>
            <a:off x="6215040" y="40719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3219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аво -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00080" y="1213920"/>
            <a:ext cx="7934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система обязательных правил поведения, закрепленных в официальных документах, охраняемых силой государственного принужд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регулирует многие вопросы нашей жизни. Однако не все в ней требует регулирования с помощью правовых но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ы считаете какие стороны нашей жизни не требуют правового регулировани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66320" y="428400"/>
            <a:ext cx="76201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, которое в нашей жизни занимает право, можно графически изобразить  следующим  образ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Схема 3" descr=""/>
          <p:cNvPicPr/>
          <p:nvPr/>
        </p:nvPicPr>
        <p:blipFill>
          <a:blip r:embed="rId1"/>
          <a:stretch/>
        </p:blipFill>
        <p:spPr>
          <a:xfrm>
            <a:off x="927000" y="2182680"/>
            <a:ext cx="7358040" cy="4035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Значение права в различных сферах жизн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752480"/>
            <a:ext cx="7720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во играет в обществе главную роль потому, что регулирует самые важные общественные отношения. Оно представляет собой очень сильное оружие, ведь за правовыми нормами стоит государственное принуждение, т. е. возможность применения са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2b09"/>
                </a:solidFill>
                <a:latin typeface="Times New Roman"/>
              </a:rPr>
              <a:t>Вспомните, какие четыре сферы общества вы знаете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6" name="Содержимое 3" descr=""/>
          <p:cNvPicPr/>
          <p:nvPr/>
        </p:nvPicPr>
        <p:blipFill>
          <a:blip r:embed="rId1"/>
          <a:stretch/>
        </p:blipFill>
        <p:spPr>
          <a:xfrm>
            <a:off x="858960" y="1914480"/>
            <a:ext cx="7772400" cy="44132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1580400" y="207180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итическая сф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5508000" y="207180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ономическ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1655640" y="521496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циаль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5930280" y="550080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уховная 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3880" y="380520"/>
            <a:ext cx="821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1304"/>
                </a:solidFill>
                <a:latin typeface="Times New Roman"/>
              </a:rPr>
              <a:t>Что относится к политической сфере и какие вопросы здесь регулируются  с  помощью  права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28440" y="1643040"/>
            <a:ext cx="550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рограмм развития общест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 политических партий и других общественных объединен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государственных органов и определение их компетенци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между нациями, классами и другими общественными группами, существующими в государств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отношения с другими государствами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6072120" y="514368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 максим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ирует э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рону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Картинка 195 из 174751"/>
          <p:cNvPicPr/>
          <p:nvPr/>
        </p:nvPicPr>
        <p:blipFill>
          <a:blip r:embed="rId1"/>
          <a:stretch/>
        </p:blipFill>
        <p:spPr>
          <a:xfrm>
            <a:off x="6286680" y="1500120"/>
            <a:ext cx="2571480" cy="1682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Картинка 200 из 174751"/>
          <p:cNvPicPr/>
          <p:nvPr/>
        </p:nvPicPr>
        <p:blipFill>
          <a:blip r:embed="rId2"/>
          <a:stretch/>
        </p:blipFill>
        <p:spPr>
          <a:xfrm>
            <a:off x="6286680" y="3286080"/>
            <a:ext cx="2558880" cy="17146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0:49Z</dcterms:modified>
  <cp:revision>25</cp:revision>
  <dc:subject/>
  <dc:title>Роль права в жизни общества</dc:title>
</cp:coreProperties>
</file>