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B20-051E-47F0-9EDD-3D57857C00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914-1DD9-456F-9AE2-2D90CA71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8ED-C1D5-4F02-862F-0279D3E5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01D-766D-4068-BE84-2E70E81D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816-BF9C-4887-999C-DF076913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AFDC-E474-45D4-AF19-3A879F23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F50C-CB9C-4053-997A-2A461877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88E4-91E2-417D-AAAD-E66C6CCA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240E-36EA-4887-9DA8-A3623F71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F4D1-1D07-4F64-8A4F-4A9EBBF1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541-EE0F-4201-B3F4-2272E5AA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5604-22D7-46BB-9FB6-F371B104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56D-0B7B-4800-9C64-519282A4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FBB2-9810-4012-B453-54FD653B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7489-E075-4749-9ACE-BA07CAE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FE24-6B87-4FE1-ADCC-9B8491D1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BCBE-4ED8-49A8-B150-2F24FEBA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C67-68C5-4BEB-831F-92D6AB86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F80-2279-43CB-A0DF-50AA9BC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E35-AAA9-4669-B0AB-BC64907E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5B3-6E9A-408B-A0A0-52AD61B7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37C-1A6A-459B-871E-AAD99B3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793-1619-4AEA-B50B-7B53EFD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D72-51EF-47DB-880C-FD017CD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845-655F-4161-B1A9-7CCDB74D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6EBF-6C49-420D-8479-11685E1CE6D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0662-25C8-49BE-BFF5-5DB64E058C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BA17-98A8-482E-8018-5B8AFF6BBAB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A27-1417-40EE-AD07-E1DD494D1D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0:49Z</dcterms:modified>
  <cp:revision>25</cp:revision>
  <dc:subject/>
  <dc:title>Роль права в жизни общества</dc:title>
</cp:coreProperties>
</file>