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6.png" ContentType="image/png"/>
  <Override PartName="/ppt/media/image31.png" ContentType="image/png"/>
  <Override PartName="/ppt/media/image29.png" ContentType="image/png"/>
  <Override PartName="/ppt/media/image11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12.png" ContentType="image/png"/>
  <Override PartName="/ppt/media/image35.wmf" ContentType="image/x-wmf"/>
  <Override PartName="/ppt/media/image15.png" ContentType="image/png"/>
  <Override PartName="/ppt/media/image7.png" ContentType="image/png"/>
  <Override PartName="/ppt/media/image37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36.wmf" ContentType="image/x-wmf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move the slide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F3C2F-1A2A-43A7-A161-F96CFC730B3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уальн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емида (Юстиция)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гин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судия 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ревней Гре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означаю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язка на глазах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с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ч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уальное пра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емида (Юстиция)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гин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судия 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ревней Гре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означаю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язка на глазах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сы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ч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Администартивный процесс</a:t>
            </a:r>
            <a:br>
              <a:rPr sz="400"/>
            </a:b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 (адм-процессуальное право)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Административный процесс — это порядок осуществления государственно-управленческой деятельности, с целью реализации норм административного права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министартивный процесс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адм-процессуальное прав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министративный процесс — это порядок осуществления государственно-управленческой деятельности, с целью реализации норм административного пра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готовительный эта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дья открывает заседание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являет, какое дело рассматриваетс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ряет явку участников процесс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даляет из зала заседания свидетеле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являет состав суд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готовительный эта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дья открывает заседание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являет, какое дело рассматриваетс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ряет явку участников процесс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даляет из зала заседания свидетелей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являет состав суд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Уважаемый суд!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участники процесса должны давать свои показания и объяснения стоя, к суду обращаются со словами: «Уважаемый суд!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Уважаемый суд!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участники процесса должны давать свои показания и объяснения стоя, к суду обращаются со словами: «Уважаемый суд!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ный этап- рассмотрение сути де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дья докладывает дело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ясняет, поддерживает ли истец свои требовани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знает ли ответчик требова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желают ли стороны закончить дело мир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ный этап- рассмотрение сути де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дья докладывает дело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ясняет, поддерживает ли истец свои требования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знает ли ответчик требова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желают ли стороны закончить дело мир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1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ный этап- рассмотрение де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31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 этого судья заслушивает объяснения лиц, участвующих в деле (и соответственно их представителей), в следующей последовательност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31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ец, третьи лица на стороне истц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31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чик, третьи лица на стороне ответчи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31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31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31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ный этап- рассмотрение де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 этого судья заслушивает объяснения лиц, участвующих в деле (и соответственно их представителей), в следующей последовательности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ец, третьи лица на стороне истц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чик, третьи лица на стороне ответчик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ный этап- рассмотрение де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следование доказательст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ачале допрашивают свидетелей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тем оглашают письменные доказательства, исследуют вещественные доказательства, воспроизводят и исследуют аудио- или видеозапись, исследуют заключение экспер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ный этап- рассмотрение де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следование доказательст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ачале допрашивают свидетелей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тем оглашают письменные доказательства, исследуют вещественные доказательства, воспроизводят и исследуют аудио- или видеозапись, исследуют заключение эксперт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тий этап – судебные пр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тупления лиц, участвующих в деле с обоснованием своей правовой и фактической позиции, с учетом всех сведений и обстоятельств, которые были исследованы в ходе судебного засед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довательность выступления в прениях аналогична последовательности дачи объяснений: прокурор, истец и его представитель; ответчик и его представител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тий этап – судебные пр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тупления лиц, участвующих в деле с обоснованием своей правовой и фактической позиции, с учетом всех сведений и обстоятельств, которые были исследованы в ходе судебного заседа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довательность выступления в прениях аналогична последовательности дачи объяснений: прокурор, истец и его представитель; ответчик и его представитель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Последнее слово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Каждый имеет право выступить с речью (Приложение 3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Но последнее слово – подсудимого (право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днее сло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ый имеет право выступить с речью (Приложение 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последнее слово – подсудимого (прав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дний эта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окончании прений суд удаляется в совещательную комнату для вынесения реш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ако тут есть оговорка: если в прениях выявлены некоторые новые обстоятельства, суд может вернуться к судебному следств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дний эта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окончании прений суд удаляется в совещательную комнату для вынесения реш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ако тут есть оговорка: если в прениях выявлены некоторые новые обстоятельства, суд может вернуться к судебному следстви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дебное реш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д принимает решение немедленно после рассмотрения дела в совещательной комнате, тайно, т.е. с участием только тех лиц, которые входят в состав су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дебное реш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д принимает решение немедленно после рассмотрения дела в совещательной комнате, тайно, т.е. с участием только тех лиц, которые входят в состав су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уальное прав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совокупность отраслей, основная задача которых — определить правила судебного процесса, чтобы установить ИСТИН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уальное прав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совокупность отраслей, основная задача которых — определить правила судебного процесса, чтобы установить ИСТИН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ОХРАНИТЕЛЬНЫЕ ОРГА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неральный прокурор назначается и освобождается Советом Федерации по представлению президента на 5 л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кура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Генеральная п.,  п. субъектов РФ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. городов, районо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осуществляет надзор  за исполнением закон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Наблюдает правильно ли исполняются зако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Не нарушаются ли права граждан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Выступает на суде со стороны обви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Может не согласиться с решением суда, наложив на него протес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ОХРАНИТЕЛЬНЫЕ ОРГА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неральный прокурор назначается и освобождается Советом Федерации по представлению президента на 5 л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кура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Генеральная п.,  п. субъектов РФ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. городов, районов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осуществляет надзор  за исполнением закон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Наблюдает правильно ли исполняются зако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Не нарушаются ли права граждан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Выступает на суде со стороны обвин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Может не согласиться с решением суда, наложив на него протес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ОХРАНИТЕЛЬНЫЕ ОРГА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вока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броволь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дине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ристов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ное дл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в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мощ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зическим 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ридически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ц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могает составить необходимые документы (исковое заявлен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тупает защитником в суд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ятельность адвоката оплачивается из средств кли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ОХРАНИТЕЛЬНЫЕ ОРГА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вока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бровольн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дине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ристов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ное дл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в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мощ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зическим 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ридически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ц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могает составить необходимые документы (исковое заявлени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тупает защитником в суд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ятельность адвоката оплачивается из средств клиен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стать, суд идет!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левая иг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стать, суд идет!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левая иг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Закрепляем изучен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репляем изученн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Закрепляем изучен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репляем изученн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Закрепляем изучен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репляем изученн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Закрепляем изучен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репляем изученн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уальное право: уголовный проце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участникам уголовного процесса со стороны защиты относи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прокур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следоват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подсудим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потерпевш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уальное право: уголовный процес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участникам уголовного процесса со стороны защиты относит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прокур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следоват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подсудим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потерпевш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уальное право: уголовный проце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лицам, способствующим проведению уголовного процесса, относи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судим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знават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виняем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уальное право: уголовный процес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лицам, способствующим проведению уголовного процесса, относит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судим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знават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виняем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уальное право – это порядок реализации и защиты материального прав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уальное право – это порядок реализации и защиты материального прав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уальн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териальн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асли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а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уальное пра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териальное пра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асли пра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пра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а чело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числу наиболее «старых» процессуальных отраслей относятся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головно-процессуальное прав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ско-процессуальн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министративно-процес.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битражно-процессуальн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ституционно-процес.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УЛИРУЮТ    СУДОПРОИЗВОД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числу наиболее «старых» процессуальных отраслей относятся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головно-процессуальное прав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ско-процессуальное пра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министративно-процес. пра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битражно-процессуальное пра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ституционно-процес. пра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УЛИРУЮТ    СУДОПРОИЗВОД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Система судопроизводства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Арбитражный суд: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Разрешает экономические споры между гражданами,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занимающимис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предпринимательской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деятельностью,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и организациями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Мировые суды: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рассматривают гражданские, уголовные,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административные дела незначительной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сложности в качестве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суда первой инстанции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Конституционный суд: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отменяет законы,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противоречащие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Конституции и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нарушающие права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граждан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Верховный суд: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важнейший орган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судебной власти по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гражданским,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уголовным делам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судо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битражный суд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ешает экономические споры между гражданами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нимающими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нимательск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ятельностью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организация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ые суд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атривают гражданские, уголовные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министративные дела незначительн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ожности в качест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да первой инстан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ституционный суд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меняет законы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тиворечащ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ституции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рушающие пра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рховный суд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жнейший орга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дебной власти п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ским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головным дел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битражное процессуальное право, арбитражный проце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битражный суд рассматривает споры между юридическими лицами, гражданами, осуществляющими предпринимательскую деятельность без образования юридического лица и имеющими статус предпринимателя (граждане-предприниматели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битражное процессуальное право, арбитражный процес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битражный суд рассматривает споры между юридическими лицами, гражданами, осуществляющими предпринимательскую деятельность без образования юридического лица и имеющими статус предпринимателя (граждане-предприниматели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Уголовный процесс и его участники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Уголовный процессуальное право (уголовный процесс)  — это процесс государственных органов по расследованию и разрешению дел, связанных с совершением преступлений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I.Органы государства и должностные лица: суд (судья), прокурор, следователь, орган дознания и лицо, дознаватель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II. Участники уголовного процесса: подозреваемый, обвиняемый, их защитники, потерпевший, гражданский истец, гражданский ответчик и их представители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III. Лица, привлекаемые в процессе для содействия органам государства в выполнении задач правосудия: свидетель, эксперт, специалист, переводчик, понятые, секретарь судебного заседания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головный процесс и его участн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головный процессуальное право (уголовный процесс)  — это процесс государственных органов по расследованию и разрешению дел, связанных с совершением преступлен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.Органы государства и должностные лица: суд (судья), прокурор, следователь, орган дознания и лицо, дознаватель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I. Участники уголовного процесса: подозреваемый, обвиняемый, их защитники, потерпевший, гражданский истец, гражданский ответчик и их представител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II. Лица, привлекаемые в процессе для содействия органам государства в выполнении задач правосудия: свидетель, эксперт, специалист, переводчик, понятые, секретарь судебного засед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Судья на уголовном процессе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а) судья единолично рассматривает дела (если санкция не превышает 10 лет лишения свободы);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б) судья и 12 присяжных заседателей (рассматривают дела, затрагивающие общественный интерес и имеющие общественный интерес, согласно перечню в УПК);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в) коллегия из трех судей (дела о тяжких и особо тяжких преступлениях);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г) мировой судья (если санкция не превышает трех лет)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дья на уголовном процесс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судья единолично рассматривает дела (если санкция не превышает 10 лет лишения свободы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судья и 12 присяжных заседателей (рассматривают дела, затрагивающие общественный интерес и имеющие общественный интерес, согласно перечню в УПК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коллегия из трех судей (дела о тяжких и особо тяжких преступлениях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) мировой судья (если санкция не превышает трех лет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Гражданский процесс 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(гражд-процессуальное право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Участники гражданского  процесса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истец,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ответчик,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третьи лица,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прокурор,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адвокат,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свидетели,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эксперты,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специалисты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Гражданское процессуальное право (процесс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это отрасль права, регулирующая порядок рассмотрения судом гражданских дел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ский процесс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гражд-процессуальное прав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ники гражданского  процес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ец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чик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тьи лиц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курор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вокат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идетели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сперты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циалис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ское процессуальное право (процесс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отрасль права, регулирующая порядок рассмотрения судом гражданских де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65C1-9F99-4647-B647-DD13A07B4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8EB9-B759-4BB5-94A8-DF45C1170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0B20-0399-42E6-A11E-F46D58049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DBDE-7EC9-4F06-9F99-D1EBB4E59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DBAB1-C91A-4CD5-878E-4DD91F082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21907-C825-4783-90C2-58FCCE381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C4B4F-71F6-48B4-86F6-0D7DCEDC3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88C2E-ECC1-4C66-B081-A8A3ACA85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A6DC7-0410-4057-B08F-0F2DF0271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6ED25-B34F-4A37-92EA-BD4C904EC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FA6BC-29B7-4218-B69B-38FC1D04D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A123-C4DE-43E2-A9AF-704A068DA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5DAFD-2389-41F8-888F-C359DF5A6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9092A-076C-4098-857A-AE2741DA2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18D75-E931-4C6C-97CF-9B55DE97A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0B0B8-6CA9-4CBF-A3BC-03F3EB1BB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C5E12-8197-4875-A72D-BC2B11FFB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35B7E5-8F1C-48CF-ABC9-8F8F53B66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E2BA36-E200-46FC-97F6-9E55CC0B5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1B9934-E78C-4023-B50C-2FDD39D4E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87D423-BB0F-4755-8479-F3C9F9D52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22E00E-183A-42AE-A84F-DB27E150B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34B1-327C-43F8-8526-A25330DBC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7B3143-E889-4A65-97BE-FEBF2379A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09B505-8FBC-4042-A93D-A1490B706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DEAB0D-9E0D-4AA8-9099-ECF36FFA9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E81830-C974-4B67-BE28-D9933907B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B528CF-F6F1-45EA-B0A0-659707119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CA87BB-D77C-477C-8EB2-5F1FD2A16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AB98CE-FB30-4947-BAFE-8C1CE57FC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BA529A-9CAD-46B4-B378-D3803F40C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937B83-ABF1-4BC9-8162-6A21C02ED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8583D8-02D5-4DB5-AA62-832EEF220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6ED2-E675-4E18-8206-008DEDCCC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118F78-37F4-4AF4-AF80-7595B9423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8EBBF1-5F42-46F8-8626-2B79D45D8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58960F-4AF4-45F0-8707-D8B976C2D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BDD3E0-4C22-4712-98B0-163B8A864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1F9ECE-D94B-4A81-9C49-E034E2FD8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5387B5-0A31-405E-BEC9-D7EC723C3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B0E0C1-9C58-46E1-8C3C-77BBB2F76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224198-D1D6-4C80-AA2D-0F79C9E0A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DBEBD2-6BAF-4EA5-94CE-A7A949617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20DE26-787B-4217-AFEE-4AB2C46F1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5347-3F96-4F7E-AA13-58828C9C0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9CDD7B-3964-4B36-BCF9-23E4B352A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0EDFE6-842C-4C06-A0F2-CECF91ADB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985A5C-CBBF-4A54-B33A-F0B9E70DF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CF769C-850C-48A6-B59C-2B0CA15EE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29BC7D-F30E-4C07-814E-D13983457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2BDFC0-A4F5-4100-9B61-D502C280F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F55C23-6E18-4483-998C-2257AB98B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1A1442-16EA-437F-AD64-2A7A36566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64DB73-9FE1-4D11-8803-F8A765291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6127AE-9577-4B92-9BD1-E35C62D7F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8A3F-54EF-4545-89DD-9DAD367D7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481029-13AF-43CB-B4D9-3D3E18736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807ACA-FE29-49DB-BA64-75F5FBA02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7BE662-EB48-41D0-9553-340CA664B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8674E6-981A-4EEF-B481-813C98AC7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13170A-5071-4A57-A238-50BA80640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1B7F72-2283-48CA-902D-83FDEC56A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18AE57-B593-410D-83D8-72E32F119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04D79B-C316-46CF-A968-9B5483369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C63396-CAF1-49EF-88D6-5FC1B1951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4D2DD1-578E-45E4-9450-41DECB7E4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0DB0-FE28-44EE-B68F-55A4A6F08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4322D3-3BF2-4527-837E-4C6C872AF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99A041-9F55-456E-8210-BDE38F8F9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8AB55F-AC7C-420F-85D0-94946A5CD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A6B65D-9012-4785-9E7B-E22BDC830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1E45A6-E2A6-423C-86C6-3D79968CA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C3FDAD-C448-464F-8574-0D3032110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011777-046E-434B-B227-B328BB089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3C75AC-2634-498C-93FF-E0770F414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E92573-BDCF-453C-B4CB-383201904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30DED3-FCAC-466C-BE71-75D33ED26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D6DD-489D-4AC2-9485-4BFF5A308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E61943-2A05-4C3B-B5FD-23998BED2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8F1D72-3609-44C3-A13B-7F5D62BD0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2B9D7D-BF4F-4CB5-81CB-9234218A4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0B63F0-E7D3-498E-AE56-AC039C736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A6331F-5B1B-47ED-AD1D-65753BAF8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01C9-8AFE-48FD-AF02-C4D66FA2A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4B7F7-A028-41D2-989C-CB72FF129723}" type="datetime">
              <a:rPr b="0" lang="ru-RU" sz="1200" spc="-1" strike="noStrike">
                <a:solidFill>
                  <a:srgbClr val="3f3f3f"/>
                </a:solidFill>
                <a:latin typeface="Corbe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f3f3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4FA06-1B71-474A-B1D9-DE90B9C7859C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786AA-8DDA-4CAE-BB39-ADD8E76ABF91}" type="datetime">
              <a:rPr b="0" lang="ru-RU" sz="1200" spc="-1" strike="noStrike">
                <a:solidFill>
                  <a:srgbClr val="ffffff"/>
                </a:solidFill>
                <a:latin typeface="Corbe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176C3-2527-4DEF-B922-00056F017775}" type="slidenum">
              <a:rPr b="0" lang="ru-RU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ик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CFBBB-2F3C-404C-8B9B-239666DCA416}" type="datetime">
              <a:rPr b="0" lang="ru-RU" sz="1200" spc="-1" strike="noStrike">
                <a:solidFill>
                  <a:srgbClr val="ffffff"/>
                </a:solidFill>
                <a:latin typeface="Corbe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1C883-4FD2-4A87-BB3F-8CAB119942A4}" type="slidenum">
              <a:rPr b="0" lang="ru-RU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E820D-01C2-488B-A9A4-D109DAFB27EF}" type="datetime">
              <a:rPr b="0" lang="ru-RU" sz="1200" spc="-1" strike="noStrike">
                <a:solidFill>
                  <a:srgbClr val="3f3f3f"/>
                </a:solidFill>
                <a:latin typeface="Corbe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f3f3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C697A-1149-45C2-B175-6CBE7646CD7F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рямоугольник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7D985-6EC7-44F0-9D33-0CBD4C1F5998}" type="datetime">
              <a:rPr b="0" lang="ru-RU" sz="1200" spc="-1" strike="noStrike">
                <a:solidFill>
                  <a:srgbClr val="3f3f3f"/>
                </a:solidFill>
                <a:latin typeface="Corbe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f3f3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E5975-DFB6-4E77-A176-30045707EE83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Прямоугольник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Прямоугольник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3661D-AF64-45A8-AB4F-27A7A262704C}" type="datetime">
              <a:rPr b="0" lang="ru-RU" sz="1200" spc="-1" strike="noStrike">
                <a:solidFill>
                  <a:srgbClr val="3f3f3f"/>
                </a:solidFill>
                <a:latin typeface="Corbe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cbcbc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cbcbc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45934-FCBB-443F-A5CE-DFEAC8523953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Прямоугольник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2095E-C822-46BB-9ED2-986563A59A55}" type="datetime">
              <a:rPr b="0" lang="ru-RU" sz="1200" spc="-1" strike="noStrike">
                <a:solidFill>
                  <a:srgbClr val="3f3f3f"/>
                </a:solidFill>
                <a:latin typeface="Corbe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f3f3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8D644-145F-4FD4-AA6C-6DF3165B40E9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hyperlink" Target="file:///&#1072;&#1076;&#1084;&#1080;&#1085;&#1080;&#1089;&#1090;&#1088;&#1072;&#1090;&#1080;&#1074;&#1085;&#1072;&#1103;%20&#1102;&#1088;&#1080;&#1089;&#1076;&#1080;&#1082;&#1089;&#1094;&#1080;&#1103;.ppsx" TargetMode="External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file:///&#1087;&#1088;&#1072;&#1074;&#1086;&#1086;&#1079;&#1093;%20&#1086;&#1088;&#1075;&#1072;&#1085;&#1099;.pptx" TargetMode="External"/><Relationship Id="rId2" Type="http://schemas.openxmlformats.org/officeDocument/2006/relationships/image" Target="../media/image31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wmf"/><Relationship Id="rId3" Type="http://schemas.openxmlformats.org/officeDocument/2006/relationships/image" Target="../media/image3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Rectangle 2" descr=""/>
          <p:cNvPicPr/>
          <p:nvPr/>
        </p:nvPicPr>
        <p:blipFill>
          <a:blip r:embed="rId1"/>
          <a:stretch/>
        </p:blipFill>
        <p:spPr>
          <a:xfrm>
            <a:off x="901800" y="281160"/>
            <a:ext cx="7785000" cy="11397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 txBox="1"/>
          <p:nvPr/>
        </p:nvSpPr>
        <p:spPr>
          <a:xfrm>
            <a:off x="3714480" y="1928520"/>
            <a:ext cx="5429160" cy="45306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 Black"/>
              </a:rPr>
              <a:t>Фемида (Юстиция)-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богиня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правосудия в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Древней Греции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Что означают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Повязка на глазах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Весы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Меч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2" name="Picture 4" descr=""/>
          <p:cNvPicPr/>
          <p:nvPr/>
        </p:nvPicPr>
        <p:blipFill>
          <a:blip r:embed="rId2"/>
          <a:stretch/>
        </p:blipFill>
        <p:spPr>
          <a:xfrm>
            <a:off x="0" y="1571760"/>
            <a:ext cx="3811680" cy="5075280"/>
          </a:xfrm>
          <a:prstGeom prst="rect">
            <a:avLst/>
          </a:prstGeom>
          <a:ln w="0">
            <a:noFill/>
          </a:ln>
        </p:spPr>
      </p:pic>
      <p:sp>
        <p:nvSpPr>
          <p:cNvPr id="313" name="Місце для нижнього колонтитула 1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f3f3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Заголовок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4956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 txBox="1"/>
          <p:nvPr/>
        </p:nvSpPr>
        <p:spPr>
          <a:xfrm>
            <a:off x="213840" y="1773000"/>
            <a:ext cx="4281480" cy="46242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 fontScale="95000"/>
          </a:bodyPr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orbel"/>
              </a:rPr>
              <a:t>Административный процесс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— это порядок осуществления </a:t>
            </a:r>
            <a:r>
              <a:rPr b="0" i="1" lang="ru-RU" sz="2800" spc="-1" strike="noStrike">
                <a:solidFill>
                  <a:srgbClr val="c00000"/>
                </a:solidFill>
                <a:latin typeface="Corbel"/>
              </a:rPr>
              <a:t>государственно-управленческой деятельности,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с целью реализации норм административного права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7" name="Содержимое 7" descr="46182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786200" y="2286000"/>
            <a:ext cx="3900600" cy="2943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358" name="Місце для нижнього колонтитула 2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f3f3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60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8000"/>
          </a:bodyPr>
          <a:p>
            <a:pPr marL="429120" indent="-312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удья открывает заседание,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бъявляет, какое дело рассматривается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роверяет явку участников процесса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удаляет из зала заседания свидетелей;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бъявляет состав суда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1" name="Місце для нижнього колонтитула 2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f3f3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Заголовок 4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Все участники процесса должны давать свои показания и объяснения 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Corbel"/>
              </a:rPr>
              <a:t>стоя,</a:t>
            </a: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 к суду обращаются со словами: </a:t>
            </a:r>
            <a:r>
              <a:rPr b="1" lang="ru-RU" sz="3600" spc="-1" strike="noStrike">
                <a:solidFill>
                  <a:srgbClr val="c00000"/>
                </a:solidFill>
                <a:latin typeface="Corbel"/>
              </a:rPr>
              <a:t>«Уважаемый суд!»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4" name="Picture 4" descr=""/>
          <p:cNvPicPr/>
          <p:nvPr/>
        </p:nvPicPr>
        <p:blipFill>
          <a:blip r:embed="rId2"/>
          <a:stretch/>
        </p:blipFill>
        <p:spPr>
          <a:xfrm>
            <a:off x="8070840" y="139680"/>
            <a:ext cx="787320" cy="1049400"/>
          </a:xfrm>
          <a:prstGeom prst="rect">
            <a:avLst/>
          </a:prstGeom>
          <a:ln w="0">
            <a:noFill/>
          </a:ln>
        </p:spPr>
      </p:pic>
      <p:sp>
        <p:nvSpPr>
          <p:cNvPr id="365" name="Місце для нижнього колонтитула 1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f3f3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удья докладывает дело,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ыясняет, поддерживает ли истец свои требования,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ризнает ли ответчик требования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не желают ли стороны закончить дело миром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8" name="Picture 4" descr=""/>
          <p:cNvPicPr/>
          <p:nvPr/>
        </p:nvPicPr>
        <p:blipFill>
          <a:blip r:embed="rId2"/>
          <a:stretch/>
        </p:blipFill>
        <p:spPr>
          <a:xfrm>
            <a:off x="8070840" y="139680"/>
            <a:ext cx="787320" cy="1049400"/>
          </a:xfrm>
          <a:prstGeom prst="rect">
            <a:avLst/>
          </a:prstGeom>
          <a:ln w="0">
            <a:noFill/>
          </a:ln>
        </p:spPr>
      </p:pic>
      <p:sp>
        <p:nvSpPr>
          <p:cNvPr id="369" name="Місце для нижнього колонтитула 2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f3f3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71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осле этого судья заслушивает </a:t>
            </a:r>
            <a:r>
              <a:rPr b="1" lang="ru-RU" sz="3200" spc="-1" strike="noStrike">
                <a:solidFill>
                  <a:srgbClr val="c00000"/>
                </a:solidFill>
                <a:latin typeface="Corbel"/>
              </a:rPr>
              <a:t>объяснения лиц,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участвующих в деле (и соответственно их представителей), в следующей последовательности: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Истец, третьи лица на стороне истца,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тветчик, третьи лица на стороне ответчика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2" name="Місце для нижнього колонтитула 3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f3f3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1" lang="ru-RU" sz="3200" spc="-1" strike="noStrike">
                <a:solidFill>
                  <a:srgbClr val="c00000"/>
                </a:solidFill>
                <a:latin typeface="Corbel"/>
              </a:rPr>
              <a:t>Исследование доказательств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начале допрашивают свидетелей,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Затем оглашают письменные доказательства, исследуют вещественные доказательства, воспроизводят и исследуют аудио- или видеозапись, исследуют заключение эксперта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5" name="Місце для нижнього колонтитула 2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f3f3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7000"/>
          </a:bodyPr>
          <a:p>
            <a:pPr marL="424800" indent="-3092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00000"/>
                </a:solidFill>
                <a:latin typeface="Corbel"/>
              </a:rPr>
              <a:t>ПРЕНИЯ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Выступления лиц, участвующих в деле с обоснованием своей правовой и фактической позиции, с учетом всех сведений и обстоятельств, которые были исследованы в ходе судебного заседания.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Последовательность выступления в прениях аналогична последовательности дачи объяснений: прокурор, истец и его представитель; ответчик и его представитель.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8" name="Місце для нижнього колонтитула 3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f3f3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80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аждый имеет право выступить с речью (Приложение 3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Но последнее слово – подсудимого (право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1" name="Прямоугольник 3"/>
          <p:cNvSpPr/>
          <p:nvPr/>
        </p:nvSpPr>
        <p:spPr>
          <a:xfrm>
            <a:off x="2286000" y="310500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Місце для нижнього колонтитула 2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f3f3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о окончании прений суд удаляется в совещательную комнату для вынесения решения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днако тут есть оговорка: если в прениях выявлены некоторые новые обстоятельства, суд может </a:t>
            </a: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вернуться к судебному следствию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5" name="Місце для нижнього колонтитула 2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f3f3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уд принимает решение немедленно после рассмотрения дела в совещательной комнате, тайно, т.е. с участием только тех лиц, которые входят в состав суда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8" name="Місце для нижнього колонтитула 2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f3f3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это совокупность отраслей, основная задача которых — определить правила судебного процесса, чтобы установить </a:t>
            </a:r>
            <a:r>
              <a:rPr b="1" lang="ru-RU" sz="3600" spc="-1" strike="noStrike">
                <a:solidFill>
                  <a:srgbClr val="c00000"/>
                </a:solidFill>
                <a:latin typeface="Corbel"/>
              </a:rPr>
              <a:t>ИСТИНУ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6" name="Picture 4" descr=""/>
          <p:cNvPicPr/>
          <p:nvPr/>
        </p:nvPicPr>
        <p:blipFill>
          <a:blip r:embed="rId2"/>
          <a:stretch/>
        </p:blipFill>
        <p:spPr>
          <a:xfrm>
            <a:off x="8070840" y="139680"/>
            <a:ext cx="787320" cy="1049400"/>
          </a:xfrm>
          <a:prstGeom prst="rect">
            <a:avLst/>
          </a:prstGeom>
          <a:ln w="0">
            <a:noFill/>
          </a:ln>
        </p:spPr>
      </p:pic>
      <p:sp>
        <p:nvSpPr>
          <p:cNvPr id="317" name="Місце для нижнього колонтитула 2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f3f3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6" descr=""/>
          <p:cNvPicPr/>
          <p:nvPr/>
        </p:nvPicPr>
        <p:blipFill>
          <a:blip r:embed="rId1"/>
          <a:stretch/>
        </p:blipFill>
        <p:spPr>
          <a:xfrm>
            <a:off x="1000080" y="3857760"/>
            <a:ext cx="2324160" cy="2786040"/>
          </a:xfrm>
          <a:prstGeom prst="rect">
            <a:avLst/>
          </a:prstGeom>
          <a:ln w="0">
            <a:noFill/>
          </a:ln>
        </p:spPr>
      </p:pic>
      <p:pic>
        <p:nvPicPr>
          <p:cNvPr id="390" name="Rectangle 2" descr=""/>
          <p:cNvPicPr/>
          <p:nvPr/>
        </p:nvPicPr>
        <p:blipFill>
          <a:blip r:embed="rId2"/>
          <a:stretch/>
        </p:blipFill>
        <p:spPr>
          <a:xfrm>
            <a:off x="500040" y="285840"/>
            <a:ext cx="8229600" cy="114120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 txBox="1"/>
          <p:nvPr/>
        </p:nvSpPr>
        <p:spPr>
          <a:xfrm>
            <a:off x="285840" y="1356840"/>
            <a:ext cx="3889440" cy="262116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Arial Black"/>
              </a:rPr>
              <a:t>   </a:t>
            </a:r>
            <a:r>
              <a:rPr b="1" lang="ru-RU" sz="2200" spc="-1" strike="noStrike">
                <a:solidFill>
                  <a:srgbClr val="ff0000"/>
                </a:solidFill>
                <a:latin typeface="Arial Black"/>
              </a:rPr>
              <a:t>Генеральный прокурор</a:t>
            </a:r>
            <a:r>
              <a:rPr b="0" lang="ru-RU" sz="22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 Black"/>
              </a:rPr>
              <a:t>назначается и освобождается Советом Федерации по представлению президента на 5 лет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211640" y="1628280"/>
            <a:ext cx="4681440" cy="492444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txBody>
          <a:bodyPr lIns="54720" tIns="91440" anchor="t">
            <a:normAutofit/>
          </a:bodyPr>
          <a:p>
            <a:pPr marL="438120" indent="-31896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0000"/>
                </a:solidFill>
                <a:latin typeface="Arial Black"/>
              </a:rPr>
              <a:t>Прокуратура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0000"/>
                </a:solidFill>
                <a:latin typeface="Arial Black"/>
              </a:rPr>
              <a:t>(Генеральная п.,  п. субъектов РФ, 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0000"/>
                </a:solidFill>
                <a:latin typeface="Arial Black"/>
              </a:rPr>
              <a:t>п. городов, районов)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 Black"/>
              </a:rPr>
              <a:t>* осуществляет надзор  за исполнением законов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 Black"/>
              </a:rPr>
              <a:t>* Наблюдает правильно ли исполняются законы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 Black"/>
              </a:rPr>
              <a:t>* Не нарушаются ли права граждан?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 Black"/>
              </a:rPr>
              <a:t>* Выступает на суде со стороны обвинения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 Black"/>
              </a:rPr>
              <a:t>* Может не согласиться с решением суда, наложив на него протест.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4211640" y="3429000"/>
          <a:ext cx="4681440" cy="457200"/>
        </p:xfrm>
        <a:graphic>
          <a:graphicData uri="http://schemas.openxmlformats.org/drawingml/2006/table">
            <a:tbl>
              <a:tblPr/>
              <a:tblGrid>
                <a:gridCol w="2305080"/>
                <a:gridCol w="23763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4" name="Місце для нижнього колонтитула 1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f3f3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6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43160" y="2071800"/>
            <a:ext cx="2068560" cy="3071880"/>
          </a:xfrm>
          <a:prstGeom prst="rect">
            <a:avLst/>
          </a:prstGeom>
          <a:ln w="0">
            <a:noFill/>
          </a:ln>
        </p:spPr>
      </p:pic>
      <p:pic>
        <p:nvPicPr>
          <p:cNvPr id="396" name="Rectangle 2" descr=""/>
          <p:cNvPicPr/>
          <p:nvPr/>
        </p:nvPicPr>
        <p:blipFill>
          <a:blip r:embed="rId3"/>
          <a:stretch/>
        </p:blipFill>
        <p:spPr>
          <a:xfrm>
            <a:off x="500040" y="285840"/>
            <a:ext cx="8229600" cy="114120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0" y="2071440"/>
            <a:ext cx="3214800" cy="407196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438120" indent="-318960"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Адвокатура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Добровольное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объединение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юристов,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созданное для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Правовой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Помощи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физическим и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юридическим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лицам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5214960" y="1773000"/>
            <a:ext cx="3471840" cy="46242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7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Помогает составить необходимые документы (исковое заявление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7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Выступает защитником в суде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7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Деятельность адвоката оплачивается из средств клиентов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9" name="Місце для нижнього колонтитула 1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f3f3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Заголовок 4" descr=""/>
          <p:cNvPicPr/>
          <p:nvPr/>
        </p:nvPicPr>
        <p:blipFill>
          <a:blip r:embed="rId1"/>
          <a:stretch/>
        </p:blipFill>
        <p:spPr>
          <a:xfrm>
            <a:off x="689040" y="3359160"/>
            <a:ext cx="8076960" cy="1670040"/>
          </a:xfrm>
          <a:prstGeom prst="rect">
            <a:avLst/>
          </a:prstGeom>
          <a:ln w="0">
            <a:noFill/>
          </a:ln>
        </p:spPr>
      </p:pic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685440" y="1828440"/>
            <a:ext cx="8077320" cy="150012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Ролевая игра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02" name="Picture 4" descr=""/>
          <p:cNvPicPr/>
          <p:nvPr/>
        </p:nvPicPr>
        <p:blipFill>
          <a:blip r:embed="rId2"/>
          <a:stretch/>
        </p:blipFill>
        <p:spPr>
          <a:xfrm>
            <a:off x="5784840" y="549360"/>
            <a:ext cx="2968560" cy="3949560"/>
          </a:xfrm>
          <a:prstGeom prst="rect">
            <a:avLst/>
          </a:prstGeom>
          <a:ln w="0">
            <a:noFill/>
          </a:ln>
        </p:spPr>
      </p:pic>
      <p:sp>
        <p:nvSpPr>
          <p:cNvPr id="403" name="Місце для нижнього колонтитула 1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pic>
        <p:nvPicPr>
          <p:cNvPr id="405" name="Рисунок 3" descr=""/>
          <p:cNvPicPr/>
          <p:nvPr/>
        </p:nvPicPr>
        <p:blipFill>
          <a:blip r:embed="rId2"/>
          <a:srcRect l="0" t="0" r="0" b="84963"/>
          <a:stretch/>
        </p:blipFill>
        <p:spPr>
          <a:xfrm>
            <a:off x="714240" y="1714680"/>
            <a:ext cx="7715520" cy="21430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406" name="Содержимое 4" descr=""/>
          <p:cNvPicPr/>
          <p:nvPr/>
        </p:nvPicPr>
        <p:blipFill>
          <a:blip r:embed="rId3"/>
          <a:srcRect l="0" t="37064" r="0" b="47495"/>
          <a:stretch/>
        </p:blipFill>
        <p:spPr>
          <a:xfrm>
            <a:off x="785880" y="4071960"/>
            <a:ext cx="7786800" cy="24289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407" name="Місце для нижнього колонтитула 2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f3f3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pic>
        <p:nvPicPr>
          <p:cNvPr id="409" name="Содержимое 4" descr=""/>
          <p:cNvPicPr/>
          <p:nvPr/>
        </p:nvPicPr>
        <p:blipFill>
          <a:blip r:embed="rId2"/>
          <a:srcRect l="0" t="53462" r="0" b="15093"/>
          <a:stretch/>
        </p:blipFill>
        <p:spPr>
          <a:xfrm>
            <a:off x="285840" y="1571760"/>
            <a:ext cx="8429400" cy="49291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410" name="Місце для нижнього колонтитула 2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f3f3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pic>
        <p:nvPicPr>
          <p:cNvPr id="412" name="Содержимое 4" descr=""/>
          <p:cNvPicPr/>
          <p:nvPr/>
        </p:nvPicPr>
        <p:blipFill>
          <a:blip r:embed="rId2"/>
          <a:srcRect l="2316" t="32433" r="51738" b="42864"/>
          <a:stretch/>
        </p:blipFill>
        <p:spPr>
          <a:xfrm>
            <a:off x="285840" y="1714680"/>
            <a:ext cx="8501040" cy="42145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413" name="Місце для нижнього колонтитула 2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f3f3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pic>
        <p:nvPicPr>
          <p:cNvPr id="415" name="Содержимое 4" descr=""/>
          <p:cNvPicPr/>
          <p:nvPr/>
        </p:nvPicPr>
        <p:blipFill>
          <a:blip r:embed="rId2"/>
          <a:srcRect l="2094" t="57141" r="53081" b="22785"/>
          <a:stretch/>
        </p:blipFill>
        <p:spPr>
          <a:xfrm>
            <a:off x="142920" y="1857240"/>
            <a:ext cx="8858160" cy="40006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416" name="Місце для нижнього колонтитула 2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f3f3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Содержимое 4" descr=""/>
          <p:cNvPicPr/>
          <p:nvPr/>
        </p:nvPicPr>
        <p:blipFill>
          <a:blip r:embed="rId1"/>
          <a:srcRect l="2044" t="77220" r="52555" b="7197"/>
          <a:stretch/>
        </p:blipFill>
        <p:spPr>
          <a:xfrm>
            <a:off x="357120" y="0"/>
            <a:ext cx="7929720" cy="1857240"/>
          </a:xfrm>
          <a:prstGeom prst="rect">
            <a:avLst/>
          </a:prstGeom>
          <a:ln w="0">
            <a:noFill/>
          </a:ln>
        </p:spPr>
      </p:pic>
      <p:pic>
        <p:nvPicPr>
          <p:cNvPr id="418" name="Содержимое 4" descr=""/>
          <p:cNvPicPr/>
          <p:nvPr/>
        </p:nvPicPr>
        <p:blipFill>
          <a:blip r:embed="rId2"/>
          <a:srcRect l="52287" t="0" r="829" b="61775"/>
          <a:stretch/>
        </p:blipFill>
        <p:spPr>
          <a:xfrm>
            <a:off x="285840" y="1785960"/>
            <a:ext cx="8072280" cy="4857840"/>
          </a:xfrm>
          <a:prstGeom prst="rect">
            <a:avLst/>
          </a:prstGeom>
          <a:ln w="0">
            <a:noFill/>
          </a:ln>
        </p:spPr>
      </p:pic>
      <p:sp>
        <p:nvSpPr>
          <p:cNvPr id="419" name="Місце для нижнього колонтитула 1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f3f3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 участникам уголовного процесса со стороны защиты относится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1. прокурор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2. следователь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3. подсудимый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4. потерпевший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22" name="Picture 4" descr=""/>
          <p:cNvPicPr/>
          <p:nvPr/>
        </p:nvPicPr>
        <p:blipFill>
          <a:blip r:embed="rId2"/>
          <a:stretch/>
        </p:blipFill>
        <p:spPr>
          <a:xfrm>
            <a:off x="5430960" y="2646360"/>
            <a:ext cx="2970000" cy="3949560"/>
          </a:xfrm>
          <a:prstGeom prst="rect">
            <a:avLst/>
          </a:prstGeom>
          <a:ln w="0">
            <a:noFill/>
          </a:ln>
        </p:spPr>
      </p:pic>
      <p:sp>
        <p:nvSpPr>
          <p:cNvPr id="423" name="Місце для нижнього колонтитула 2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f3f3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 лицам, способствующим проведению уголовного процесса, относится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одсудимый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Дознаватель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бвиняемый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онятой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26" name="Picture 4" descr=""/>
          <p:cNvPicPr/>
          <p:nvPr/>
        </p:nvPicPr>
        <p:blipFill>
          <a:blip r:embed="rId2"/>
          <a:stretch/>
        </p:blipFill>
        <p:spPr>
          <a:xfrm>
            <a:off x="5430960" y="2646360"/>
            <a:ext cx="2970000" cy="3949560"/>
          </a:xfrm>
          <a:prstGeom prst="rect">
            <a:avLst/>
          </a:prstGeom>
          <a:ln w="0">
            <a:noFill/>
          </a:ln>
        </p:spPr>
      </p:pic>
      <p:sp>
        <p:nvSpPr>
          <p:cNvPr id="427" name="Місце для нижнього колонтитула 2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f3f3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Заголовок 1" descr=""/>
          <p:cNvPicPr/>
          <p:nvPr/>
        </p:nvPicPr>
        <p:blipFill>
          <a:blip r:embed="rId1"/>
          <a:stretch/>
        </p:blipFill>
        <p:spPr>
          <a:xfrm>
            <a:off x="426960" y="1859040"/>
            <a:ext cx="8229600" cy="386532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4" descr=""/>
          <p:cNvPicPr/>
          <p:nvPr/>
        </p:nvPicPr>
        <p:blipFill>
          <a:blip r:embed="rId2"/>
          <a:stretch/>
        </p:blipFill>
        <p:spPr>
          <a:xfrm>
            <a:off x="8070840" y="139680"/>
            <a:ext cx="787320" cy="1049400"/>
          </a:xfrm>
          <a:prstGeom prst="rect">
            <a:avLst/>
          </a:prstGeom>
          <a:ln w="0">
            <a:noFill/>
          </a:ln>
        </p:spPr>
      </p:pic>
      <p:sp>
        <p:nvSpPr>
          <p:cNvPr id="320" name="Місце для нижнього колонтитула 3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f3f3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роцессуальное право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Материальное право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трасли прав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истема прав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рава человек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30" name="Picture 4" descr=""/>
          <p:cNvPicPr/>
          <p:nvPr/>
        </p:nvPicPr>
        <p:blipFill>
          <a:blip r:embed="rId2"/>
          <a:stretch/>
        </p:blipFill>
        <p:spPr>
          <a:xfrm>
            <a:off x="5357880" y="2646360"/>
            <a:ext cx="2968560" cy="3949560"/>
          </a:xfrm>
          <a:prstGeom prst="rect">
            <a:avLst/>
          </a:prstGeom>
          <a:ln w="0">
            <a:noFill/>
          </a:ln>
        </p:spPr>
      </p:pic>
      <p:sp>
        <p:nvSpPr>
          <p:cNvPr id="431" name="Місце для нижнього колонтитула 2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f3f3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Заголовок 1" descr=""/>
          <p:cNvPicPr/>
          <p:nvPr/>
        </p:nvPicPr>
        <p:blipFill>
          <a:blip r:embed="rId1"/>
          <a:stretch/>
        </p:blipFill>
        <p:spPr>
          <a:xfrm>
            <a:off x="139680" y="158760"/>
            <a:ext cx="8791560" cy="162720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 txBox="1"/>
          <p:nvPr/>
        </p:nvSpPr>
        <p:spPr>
          <a:xfrm>
            <a:off x="285840" y="2000160"/>
            <a:ext cx="8400960" cy="45007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87000"/>
          </a:bodyPr>
          <a:p>
            <a:pPr marL="380880" indent="-27720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Уголовно-процессуальное право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80880" indent="-27720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Гражданско-процессуальное право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80880" indent="-27720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Административно-процес. право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80880" indent="-27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80880" indent="-27720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Арбитражно-процессуальное право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80880" indent="-27720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Конституционно-процес. право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80880" indent="-27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80880" indent="-27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c00000"/>
                </a:solidFill>
                <a:uFillTx/>
                <a:latin typeface="Corbel"/>
              </a:rPr>
              <a:t>РЕГУЛИРУЮТ    СУДОПРОИЗВОДСТВО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80880" indent="-27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3" name="Picture 4" descr=""/>
          <p:cNvPicPr/>
          <p:nvPr/>
        </p:nvPicPr>
        <p:blipFill>
          <a:blip r:embed="rId2"/>
          <a:stretch/>
        </p:blipFill>
        <p:spPr>
          <a:xfrm>
            <a:off x="8070840" y="139680"/>
            <a:ext cx="787320" cy="1049400"/>
          </a:xfrm>
          <a:prstGeom prst="rect">
            <a:avLst/>
          </a:prstGeom>
          <a:ln w="0">
            <a:noFill/>
          </a:ln>
        </p:spPr>
      </p:pic>
      <p:sp>
        <p:nvSpPr>
          <p:cNvPr id="324" name="Місце для нижнього колонтитула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f3f3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13" descr=""/>
          <p:cNvPicPr/>
          <p:nvPr/>
        </p:nvPicPr>
        <p:blipFill>
          <a:blip r:embed="rId1"/>
          <a:stretch/>
        </p:blipFill>
        <p:spPr>
          <a:xfrm>
            <a:off x="7524720" y="3643200"/>
            <a:ext cx="1619280" cy="121464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12" descr=""/>
          <p:cNvPicPr/>
          <p:nvPr/>
        </p:nvPicPr>
        <p:blipFill>
          <a:blip r:embed="rId2"/>
          <a:srcRect l="0" t="-364" r="0" b="0"/>
          <a:stretch/>
        </p:blipFill>
        <p:spPr>
          <a:xfrm>
            <a:off x="7500960" y="1714680"/>
            <a:ext cx="1427040" cy="178884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11" descr=""/>
          <p:cNvPicPr/>
          <p:nvPr/>
        </p:nvPicPr>
        <p:blipFill>
          <a:blip r:embed="rId3"/>
          <a:stretch/>
        </p:blipFill>
        <p:spPr>
          <a:xfrm>
            <a:off x="2786040" y="4857840"/>
            <a:ext cx="2060640" cy="137484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10" descr=""/>
          <p:cNvPicPr/>
          <p:nvPr/>
        </p:nvPicPr>
        <p:blipFill>
          <a:blip r:embed="rId4"/>
          <a:stretch/>
        </p:blipFill>
        <p:spPr>
          <a:xfrm>
            <a:off x="3214800" y="2500200"/>
            <a:ext cx="1512720" cy="1241640"/>
          </a:xfrm>
          <a:prstGeom prst="rect">
            <a:avLst/>
          </a:prstGeom>
          <a:ln w="0">
            <a:noFill/>
          </a:ln>
        </p:spPr>
      </p:pic>
      <p:pic>
        <p:nvPicPr>
          <p:cNvPr id="329" name="Rectangle 2" descr=""/>
          <p:cNvPicPr/>
          <p:nvPr/>
        </p:nvPicPr>
        <p:blipFill>
          <a:blip r:embed="rId5"/>
          <a:stretch/>
        </p:blipFill>
        <p:spPr>
          <a:xfrm>
            <a:off x="500040" y="212760"/>
            <a:ext cx="8229600" cy="122544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 txBox="1"/>
          <p:nvPr/>
        </p:nvSpPr>
        <p:spPr>
          <a:xfrm>
            <a:off x="468000" y="3860280"/>
            <a:ext cx="3311640" cy="234180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txBody>
          <a:bodyPr tIns="91440" anchor="t">
            <a:normAutofit/>
          </a:bodyPr>
          <a:p>
            <a:pPr marL="438120" indent="-318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Black"/>
              </a:rPr>
              <a:t>Арбитражный суд: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Разрешает экономические споры между гражданами,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занимающимися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предпринимательской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деятельностью,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и организациями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4858920" y="3789000"/>
            <a:ext cx="3745080" cy="237636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Black"/>
              </a:rPr>
              <a:t>Мировые суды: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рассматривают гражданские, уголовные,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административные дела незначительной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сложности в качестве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суда первой инстанции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2" name="Text Box 5"/>
          <p:cNvSpPr/>
          <p:nvPr/>
        </p:nvSpPr>
        <p:spPr>
          <a:xfrm>
            <a:off x="468360" y="1700280"/>
            <a:ext cx="3348000" cy="173988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Black"/>
              </a:rPr>
              <a:t>Конституционный суд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отменяет закон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противоречащ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Конституции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нарушающие пра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гражд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6"/>
          <p:cNvSpPr/>
          <p:nvPr/>
        </p:nvSpPr>
        <p:spPr>
          <a:xfrm>
            <a:off x="4859280" y="1700280"/>
            <a:ext cx="2641680" cy="146556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Black"/>
              </a:rPr>
              <a:t>Верховный суд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важнейший орг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судебной власти п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граждански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уголовным дел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Picture 4" descr=""/>
          <p:cNvPicPr/>
          <p:nvPr/>
        </p:nvPicPr>
        <p:blipFill>
          <a:blip r:embed="rId6"/>
          <a:stretch/>
        </p:blipFill>
        <p:spPr>
          <a:xfrm>
            <a:off x="7931160" y="139680"/>
            <a:ext cx="927000" cy="1049400"/>
          </a:xfrm>
          <a:prstGeom prst="rect">
            <a:avLst/>
          </a:prstGeom>
          <a:ln w="0">
            <a:noFill/>
          </a:ln>
        </p:spPr>
      </p:pic>
      <p:sp>
        <p:nvSpPr>
          <p:cNvPr id="335" name="Місце для нижнього колонтитула 1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f3f3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Заголовок 4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арбитражный суд рассматривает споры между юридическими лицами, гражданами, </a:t>
            </a:r>
            <a:r>
              <a:rPr b="1" lang="ru-RU" sz="3200" spc="-1" strike="noStrike">
                <a:solidFill>
                  <a:srgbClr val="c00000"/>
                </a:solidFill>
                <a:latin typeface="Corbel"/>
              </a:rPr>
              <a:t>осуществляющими предпринимательскую деятельность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без образования юридического лица и имеющими статус предпринимателя (граждане-предприниматели)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8" name="Picture 4" descr=""/>
          <p:cNvPicPr/>
          <p:nvPr/>
        </p:nvPicPr>
        <p:blipFill>
          <a:blip r:embed="rId2"/>
          <a:stretch/>
        </p:blipFill>
        <p:spPr>
          <a:xfrm>
            <a:off x="8070840" y="139680"/>
            <a:ext cx="787320" cy="1049400"/>
          </a:xfrm>
          <a:prstGeom prst="rect">
            <a:avLst/>
          </a:prstGeom>
          <a:ln w="0">
            <a:noFill/>
          </a:ln>
        </p:spPr>
      </p:pic>
      <p:sp>
        <p:nvSpPr>
          <p:cNvPr id="339" name="Місце для нижнього колонтитула 1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f3f3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Заголовок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4956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 txBox="1"/>
          <p:nvPr/>
        </p:nvSpPr>
        <p:spPr>
          <a:xfrm>
            <a:off x="142920" y="1857240"/>
            <a:ext cx="4038480" cy="462456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orbel"/>
              </a:rPr>
              <a:t>Уголовный процессуальное право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(уголовный процесс)  — это процесс государственных органов по расследованию и разрешению дел, </a:t>
            </a:r>
            <a:r>
              <a:rPr b="1" lang="ru-RU" sz="2400" spc="-1" strike="noStrike">
                <a:solidFill>
                  <a:srgbClr val="c00000"/>
                </a:solidFill>
                <a:latin typeface="Corbel"/>
              </a:rPr>
              <a:t>связанных с совершением преступлений.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4214880" y="1714680"/>
            <a:ext cx="4643280" cy="50004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3000"/>
          </a:bodyPr>
          <a:p>
            <a:pPr marL="407160" indent="-29628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I.</a:t>
            </a:r>
            <a:r>
              <a:rPr b="1" lang="ru-RU" sz="2200" spc="-1" strike="noStrike">
                <a:solidFill>
                  <a:srgbClr val="0070c0"/>
                </a:solidFill>
                <a:latin typeface="Corbel"/>
              </a:rPr>
              <a:t>Органы государства и должностные лица</a:t>
            </a:r>
            <a:r>
              <a:rPr b="0" lang="ru-RU" sz="2200" spc="-1" strike="noStrike">
                <a:solidFill>
                  <a:srgbClr val="0070c0"/>
                </a:solidFill>
                <a:latin typeface="Corbel"/>
              </a:rPr>
              <a:t>: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суд (судья), прокурор, следователь, орган дознания и лицо, дознаватель.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II. </a:t>
            </a:r>
            <a:r>
              <a:rPr b="1" lang="ru-RU" sz="2200" spc="-1" strike="noStrike">
                <a:solidFill>
                  <a:srgbClr val="0070c0"/>
                </a:solidFill>
                <a:latin typeface="Corbel"/>
              </a:rPr>
              <a:t>Участники уголовного процесса: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подозреваемый, обвиняемый, их защитники, потерпевший, гражданский истец, гражданский ответчик и их представители.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III. </a:t>
            </a:r>
            <a:r>
              <a:rPr b="1" lang="ru-RU" sz="2200" spc="-1" strike="noStrike">
                <a:solidFill>
                  <a:srgbClr val="0070c0"/>
                </a:solidFill>
                <a:latin typeface="Corbel"/>
              </a:rPr>
              <a:t>Лица, привлекаемые в процессе для содействия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органам государства в выполнении задач правосудия: свидетель, эксперт, специалист, переводчик, понятые, секретарь судебного заседания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3" name="Picture 4" descr=""/>
          <p:cNvPicPr/>
          <p:nvPr/>
        </p:nvPicPr>
        <p:blipFill>
          <a:blip r:embed="rId2"/>
          <a:stretch/>
        </p:blipFill>
        <p:spPr>
          <a:xfrm>
            <a:off x="8070840" y="139680"/>
            <a:ext cx="787320" cy="1049400"/>
          </a:xfrm>
          <a:prstGeom prst="rect">
            <a:avLst/>
          </a:prstGeom>
          <a:ln w="0">
            <a:noFill/>
          </a:ln>
        </p:spPr>
      </p:pic>
      <p:sp>
        <p:nvSpPr>
          <p:cNvPr id="344" name="Місце для нижнього колонтитула 5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f3f3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Заголовок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4956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 txBox="1"/>
          <p:nvPr/>
        </p:nvSpPr>
        <p:spPr>
          <a:xfrm>
            <a:off x="285840" y="1571400"/>
            <a:ext cx="4572000" cy="507204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а) </a:t>
            </a:r>
            <a:r>
              <a:rPr b="1" lang="ru-RU" sz="2200" spc="-1" strike="noStrike">
                <a:solidFill>
                  <a:srgbClr val="000000"/>
                </a:solidFill>
                <a:latin typeface="Corbel"/>
              </a:rPr>
              <a:t>судья единолично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рассматривает дела (если санкция не превышает 10 лет лишения свободы);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б) </a:t>
            </a:r>
            <a:r>
              <a:rPr b="1" lang="ru-RU" sz="2200" spc="-1" strike="noStrike">
                <a:solidFill>
                  <a:srgbClr val="000000"/>
                </a:solidFill>
                <a:latin typeface="Corbel"/>
              </a:rPr>
              <a:t>судья и 12 присяжных заседателей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(рассматривают дела, затрагивающие общественный интерес и имеющие общественный интерес, согласно перечню в УПК);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в) </a:t>
            </a:r>
            <a:r>
              <a:rPr b="1" lang="ru-RU" sz="2200" spc="-1" strike="noStrike">
                <a:solidFill>
                  <a:srgbClr val="000000"/>
                </a:solidFill>
                <a:latin typeface="Corbel"/>
              </a:rPr>
              <a:t>коллегия из трех судей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(дела о тяжких и особо тяжких преступлениях);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г) </a:t>
            </a:r>
            <a:r>
              <a:rPr b="1" lang="ru-RU" sz="2200" spc="-1" strike="noStrike">
                <a:solidFill>
                  <a:srgbClr val="000000"/>
                </a:solidFill>
                <a:latin typeface="Corbel"/>
              </a:rPr>
              <a:t>мировой судья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(если санкция не превышает трех лет).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7" name="Содержимое 4" descr="image31.png"/>
          <p:cNvPicPr/>
          <p:nvPr/>
        </p:nvPicPr>
        <p:blipFill>
          <a:blip r:embed="rId2"/>
          <a:stretch/>
        </p:blipFill>
        <p:spPr>
          <a:xfrm>
            <a:off x="4786200" y="1857240"/>
            <a:ext cx="3953160" cy="4086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348" name="Місце для нижнього колонтитула 3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f3f3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Заголовок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49560"/>
          </a:xfrm>
          <a:prstGeom prst="rect">
            <a:avLst/>
          </a:prstGeom>
          <a:ln w="0">
            <a:noFill/>
          </a:ln>
        </p:spPr>
      </p:pic>
      <p:sp>
        <p:nvSpPr>
          <p:cNvPr id="350" name="PlaceHolder 1"/>
          <p:cNvSpPr>
            <a:spLocks noGrp="1"/>
          </p:cNvSpPr>
          <p:nvPr>
            <p:ph/>
          </p:nvPr>
        </p:nvSpPr>
        <p:spPr>
          <a:xfrm>
            <a:off x="356760" y="1698120"/>
            <a:ext cx="4140360" cy="716040"/>
          </a:xfrm>
          <a:prstGeom prst="rect">
            <a:avLst/>
          </a:prstGeom>
          <a:noFill/>
          <a:ln w="0">
            <a:noFill/>
          </a:ln>
        </p:spPr>
        <p:txBody>
          <a:bodyPr lIns="146160" tIns="91440" anchor="ctr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УЧАСТНИКИ ГРАЖДАНСКОГО  ПРОЦЕССА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499680" y="228600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7000"/>
          </a:bodyPr>
          <a:p>
            <a:pPr marL="424800" indent="-309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  <a:ea typeface="Arial"/>
              </a:rPr>
              <a:t>истец,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  <a:ea typeface="Arial"/>
              </a:rPr>
              <a:t>ответчик,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  <a:ea typeface="Arial"/>
              </a:rPr>
              <a:t>третьи лица,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  <a:ea typeface="Arial"/>
              </a:rPr>
              <a:t>прокурор,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  <a:ea typeface="Arial"/>
              </a:rPr>
              <a:t>адвокат,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  <a:ea typeface="Arial"/>
              </a:rPr>
              <a:t>свидетели,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  <a:ea typeface="Arial"/>
              </a:rPr>
              <a:t>эксперты,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  <a:ea typeface="Arial"/>
              </a:rPr>
              <a:t>специалисты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4428720" y="2428920"/>
            <a:ext cx="4429080" cy="32148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3000"/>
          </a:bodyPr>
          <a:p>
            <a:pPr marL="407160" indent="-296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orbel"/>
              </a:rPr>
              <a:t>     </a:t>
            </a:r>
            <a:r>
              <a:rPr b="0" lang="ru-RU" sz="2800" spc="-1" strike="noStrike">
                <a:solidFill>
                  <a:srgbClr val="c00000"/>
                </a:solidFill>
                <a:latin typeface="Corbel"/>
              </a:rPr>
              <a:t>Гражданское процессуальное право (процесс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—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это отрасль права, регулирующая порядок рассмотрения судом гражданских дел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644720" y="1698120"/>
            <a:ext cx="4041720" cy="716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ctr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3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4" name="Місце для нижнього колонтитула 2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f3f3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30T11:11:46Z</dcterms:created>
  <dc:creator>Учитель</dc:creator>
  <dc:description/>
  <dc:language>en-US</dc:language>
  <cp:lastModifiedBy>LEGION</cp:lastModifiedBy>
  <dcterms:modified xsi:type="dcterms:W3CDTF">2016-01-04T08:10:28Z</dcterms:modified>
  <cp:revision>65</cp:revision>
  <dc:subject/>
  <dc:title>Процессуальное право</dc:title>
</cp:coreProperties>
</file>