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4EB0-0C34-4C0A-A137-04F76177D0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D653-8D9A-4D3B-AD60-A59828B5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2A7-C93F-49A2-9AA8-61B24FE1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7CA-B53D-4F55-AA2A-A3804D17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8A4-C1DB-45C5-8EE9-9B01E3A7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8297-F83B-42AE-A962-AFD88D44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4B33-1E9C-4111-A659-39216C8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0E73-5022-4E9B-B295-CF408D25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501A-AB16-4347-83B5-A3E12E8A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F8AF-DD69-4473-9893-8D25F9DA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47FA-5B7F-442A-874B-7B06D58E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AA16-92DB-4D5D-B7B2-FBE41F9E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C5D-D579-4B12-A0FA-896FDA81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557E-DF50-4F5B-AF2E-9141DC93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45ED-53DB-4E0A-9DF1-245345A6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8CE8-1763-4DE1-8D65-8D833013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C6AB-24F8-4745-AA65-9421884C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8AAD-9AE2-4EE5-A255-FC6CA145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70BF-2A19-4AB1-90E1-066F4CFA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86B4-FD8E-4A7F-B9B2-3038606E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0FC0-D8C6-42B9-8DED-2D92DD96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42D58-C893-4291-95BE-C1A843EF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9AF5-142E-471D-AB7D-67CEA988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13B-7CC0-4227-BDC4-B5C69DB2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31EE-AD33-4B6A-9BBD-ED322E8D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B526-FF1F-4D24-8F66-989DD3DD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F4047-68AF-4DFA-BF3C-2BF97306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B484E-D6D9-406C-B2D3-E4308D04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39563-C65D-4138-96B2-9AD6D493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B8CA3-3509-4949-88DC-2F04A239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F5FA-DAD4-4349-92A0-560CCF04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5D53-64AB-45CE-82B7-D59E9D50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43C3-DB81-4C55-B316-5AE77FB0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BE63-7697-4269-8258-537C0E34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E74-65C1-4293-97CC-DC4428C8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A4F1-E099-49F2-8ECF-A90BC2F4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1DB5D-D972-4126-B899-2C6A7548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D1C3-192A-43E3-803D-F64A43C6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83A5C-8CED-4AB4-AB51-B334B30B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73DBE-A2C2-43BD-8BB5-CFA76807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83C8D-B0C0-4BA6-9DE8-2649F425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B7F9-04E8-4233-A0D8-AC9AE8DF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0485-D7C8-45A9-BC5C-E5185949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2B57-DCC7-4A2E-B800-C27C0FD1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FA1B6-560C-4916-860C-9B76456F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6B6-26FA-4422-ABEB-1EEA17AB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5FAEC-64F2-45ED-A441-F760FE8C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E8577-498E-4460-99C3-175C7259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E23C1-C5D2-4B55-A169-BAD0EE9C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251E2-BFC8-4833-BA66-68E07154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E541A-19F6-4F5A-9D3B-B57FF305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256CF-9D99-434F-9955-87447CED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21D92-14F5-4BFC-97A3-A3AE6251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6C079-8917-49AB-B731-37116400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43FAB-759A-439E-B484-214FDE6D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3E5B7-48CC-4961-9CE5-BA1A5307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FB7-61CF-4BED-AE9B-0198FBD0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EA40E-ABC7-48DB-8CC9-721C63D4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A15D5-63DB-4EB0-9F7B-4A7B15E2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7B198-3B2B-4BE7-9126-B440C1E8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8011E-2163-4879-AB7C-3DFABAB0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EFA24-406F-47E2-9622-9F2A30CA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24050-9D4C-4175-A573-0DD629FD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1C8FE-4A30-4CC1-867D-25EEF428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965D-B50D-43EB-B8C0-06D282F0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11BFB-F6F2-4EB0-8855-D2DAF493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D952D-F3D2-4D47-B677-A18632B5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E88-D991-4B6D-9807-4DD49CB4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DA68D-3AE5-4F84-9A50-991ADEE7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3D39D-222A-4287-B6AA-1D6B63B1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24BF1-689E-41EB-BB4C-DC560477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E97E2-805F-43C7-9032-84D3626E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7889C-D49F-4F1B-BE74-5F2A1C5E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402AF-DC98-47EA-99B0-4BCF4661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9C29E-73AC-45FE-BD55-71D0613F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D2291-B58A-40F7-82BE-FC17DE4C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233D0-C6F5-4B1B-88EA-32757921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22252-E6AA-4BB8-93AB-9C275DBA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B33-9465-4A23-ADAA-E2E9C99B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5C16B-3CF7-4E61-A220-43A85972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CCD83-1342-429B-B672-EF7EB02A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C6A35-C431-4C68-8354-491F7377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78D42-DE00-4EEC-957D-45B563A3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F3B91-7D82-4DF9-B488-401B04DA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F9F-0862-48A1-8031-485993DA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69AF-8510-4167-B655-676F4DFE600A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01CA-5A2F-40DA-9FF0-DCCAFA27352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358E-601B-488A-B91B-0922CAC1DA55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772F-4C11-41C6-B2FD-DFFC72AEC1CA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44C3-7237-4B97-A1D4-516FD3E704DF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6535-1BF1-4905-AD90-69752C04546F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5B14-B8BA-460A-B6F3-E61D7221D9F2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F8D4-C004-4BDD-B375-5CF0743FB68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3FBB-B7D7-4380-A52C-17BB1016F47C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E441-0A50-493D-B749-4FF36F8C14F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77F8-A3C6-4643-B91E-A8947F7108B9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87A5-E3ED-436B-B563-DCBBD18A5DC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93F2-6F9C-4DB8-9692-BE98FB1DA401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7A07-E2B7-4D13-ACB2-9524B18015E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72;&#1076;&#1084;&#1080;&#1085;&#1080;&#1089;&#1090;&#1088;&#1072;&#1090;&#1080;&#1074;&#1085;&#1072;&#1103;%20&#1102;&#1088;&#1080;&#1089;&#1076;&#1080;&#1082;&#1089;&#1094;&#1080;&#1103;.ppsx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87;&#1088;&#1072;&#1074;&#1086;&#1086;&#1079;&#1093;%20&#1086;&#1088;&#1075;&#1072;&#1085;&#1099;.pptx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901800" y="281160"/>
            <a:ext cx="7785000" cy="1139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714480" y="1928520"/>
            <a:ext cx="542916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Фемида (Юстиция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огин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осудия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ревней Гре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Что означаю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вязка на глазах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есы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ч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0" y="1571760"/>
            <a:ext cx="3811680" cy="50752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13840" y="1773000"/>
            <a:ext cx="4281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Административный процесс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это порядок осуществления 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государственно-управленческой деятельности,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с целью реализации норм административного пра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Содержимое 7" descr="4618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286000"/>
            <a:ext cx="3900600" cy="29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открывает заседание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, какое дело рассматривает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яет явку участников процес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даляет из зала заседания свидетеле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 состав суд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се участники процесса должны давать свои показания и объяснени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стоя,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к суду обращаются со словами: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«Уважаемый суд!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докладывает дел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яет, поддерживает ли истец свои требования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знает ли ответчик требова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желают ли стороны закончить дело мир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ле этого судья заслушивает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бъяснения лиц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вующих в деле (и соответственно их представителей), в следующей последовательност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ец, третьи лица на стороне ист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чик, третьи лица на стороне ответчик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Исследование доказательств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ачале допрашивают свидетеле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ПР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ждый имеет право выступить с речью (Приложение 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 последнее слово – подсудимого (право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окончании прений суд удаляется в совещательную комнату для вынесения реш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ако тут есть оговорка: если в прениях выявлены некоторые новые обстоятельства, суд может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ернуться к судебному следствию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о совокупность отраслей, основная задача которых — определить правила судебного процесса, чтобы установить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ИСТИН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2324160" cy="27860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1356840"/>
            <a:ext cx="3889440" cy="2621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Генеральный прокурор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азначается и освобождается Советом Федерации по представлению президента на 5 лет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11640" y="1628280"/>
            <a:ext cx="4681440" cy="4924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 Black"/>
              </a:rPr>
              <a:t>Прокуратур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(Генеральная п.,  п. субъектов РФ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п. городов, районов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осуществляет надзор  за исполнением законов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аблюдает правильно ли исполняются закон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е нарушаются ли права граждан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Выступает на суде со стороны обвинени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Может не согласиться с решением суда, наложив на него протес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211640" y="3429000"/>
          <a:ext cx="4681440" cy="457200"/>
        </p:xfrm>
        <a:graphic>
          <a:graphicData uri="http://schemas.openxmlformats.org/drawingml/2006/table">
            <a:tbl>
              <a:tblPr/>
              <a:tblGrid>
                <a:gridCol w="2305080"/>
                <a:gridCol w="23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071800"/>
            <a:ext cx="2068560" cy="3071880"/>
          </a:xfrm>
          <a:prstGeom prst="rect">
            <a:avLst/>
          </a:prstGeom>
          <a:ln w="0">
            <a:noFill/>
          </a:ln>
        </p:spPr>
      </p:pic>
      <p:pic>
        <p:nvPicPr>
          <p:cNvPr id="396" name="Rectangle 2" descr=""/>
          <p:cNvPicPr/>
          <p:nvPr/>
        </p:nvPicPr>
        <p:blipFill>
          <a:blip r:embed="rId3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0" y="2071440"/>
            <a:ext cx="3214800" cy="4071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двокат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бровольн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ъедине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стов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озданное дл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авов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щ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изическим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дически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иц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214960" y="1773000"/>
            <a:ext cx="347184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гает составить необходимые документы (исковое заявл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ыступает защитником в суд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ятельность адвоката оплачивается из средств клиен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4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олевая иг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5784840" y="549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" descr=""/>
          <p:cNvPicPr/>
          <p:nvPr/>
        </p:nvPicPr>
        <p:blipFill>
          <a:blip r:embed="rId2"/>
          <a:srcRect l="0" t="0" r="0" b="84963"/>
          <a:stretch/>
        </p:blipFill>
        <p:spPr>
          <a:xfrm>
            <a:off x="714240" y="1714680"/>
            <a:ext cx="771552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06" name="Содержимое 4" descr=""/>
          <p:cNvPicPr/>
          <p:nvPr/>
        </p:nvPicPr>
        <p:blipFill>
          <a:blip r:embed="rId3"/>
          <a:srcRect l="0" t="37064" r="0" b="47495"/>
          <a:stretch/>
        </p:blipFill>
        <p:spPr>
          <a:xfrm>
            <a:off x="785880" y="4071960"/>
            <a:ext cx="778680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4" descr=""/>
          <p:cNvPicPr/>
          <p:nvPr/>
        </p:nvPicPr>
        <p:blipFill>
          <a:blip r:embed="rId2"/>
          <a:srcRect l="0" t="53462" r="0" b="15093"/>
          <a:stretch/>
        </p:blipFill>
        <p:spPr>
          <a:xfrm>
            <a:off x="285840" y="1571760"/>
            <a:ext cx="8429400" cy="4929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0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4" descr=""/>
          <p:cNvPicPr/>
          <p:nvPr/>
        </p:nvPicPr>
        <p:blipFill>
          <a:blip r:embed="rId2"/>
          <a:srcRect l="2316" t="32433" r="51738" b="42864"/>
          <a:stretch/>
        </p:blipFill>
        <p:spPr>
          <a:xfrm>
            <a:off x="285840" y="1714680"/>
            <a:ext cx="8501040" cy="4214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"/>
          <p:cNvPicPr/>
          <p:nvPr/>
        </p:nvPicPr>
        <p:blipFill>
          <a:blip r:embed="rId2"/>
          <a:srcRect l="2094" t="57141" r="53081" b="22785"/>
          <a:stretch/>
        </p:blipFill>
        <p:spPr>
          <a:xfrm>
            <a:off x="142920" y="1857240"/>
            <a:ext cx="8858160" cy="4000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4" descr=""/>
          <p:cNvPicPr/>
          <p:nvPr/>
        </p:nvPicPr>
        <p:blipFill>
          <a:blip r:embed="rId1"/>
          <a:srcRect l="2044" t="77220" r="52555" b="7197"/>
          <a:stretch/>
        </p:blipFill>
        <p:spPr>
          <a:xfrm>
            <a:off x="357120" y="0"/>
            <a:ext cx="7929720" cy="185724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4" descr=""/>
          <p:cNvPicPr/>
          <p:nvPr/>
        </p:nvPicPr>
        <p:blipFill>
          <a:blip r:embed="rId2"/>
          <a:srcRect l="52287" t="0" r="829" b="61775"/>
          <a:stretch/>
        </p:blipFill>
        <p:spPr>
          <a:xfrm>
            <a:off x="285840" y="1785960"/>
            <a:ext cx="8072280" cy="48578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участникам уголовного процесса со стороны защиты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рокуро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следо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потерпевш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лицам, способствующим проведению уголовного процесса,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зна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виняе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нят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229600" cy="3865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у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тери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расли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стема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а челове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5357880" y="2646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39680" y="158760"/>
            <a:ext cx="8791560" cy="1627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5840" y="2000160"/>
            <a:ext cx="8400960" cy="4500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Уголовно-процессуальное прав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Гражданск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дминистратив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рбитражн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онституцион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Corbel"/>
              </a:rPr>
              <a:t>РЕГУЛИРУЮТ    СУДОПРОИЗВОДСТ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3" descr=""/>
          <p:cNvPicPr/>
          <p:nvPr/>
        </p:nvPicPr>
        <p:blipFill>
          <a:blip r:embed="rId1"/>
          <a:stretch/>
        </p:blipFill>
        <p:spPr>
          <a:xfrm>
            <a:off x="7524720" y="3643200"/>
            <a:ext cx="1619280" cy="1214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2"/>
          <a:srcRect l="0" t="-364" r="0" b="0"/>
          <a:stretch/>
        </p:blipFill>
        <p:spPr>
          <a:xfrm>
            <a:off x="7500960" y="1714680"/>
            <a:ext cx="1427040" cy="1788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2786040" y="4857840"/>
            <a:ext cx="2060640" cy="1374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4"/>
          <a:stretch/>
        </p:blipFill>
        <p:spPr>
          <a:xfrm>
            <a:off x="3214800" y="2500200"/>
            <a:ext cx="1512720" cy="12416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" descr=""/>
          <p:cNvPicPr/>
          <p:nvPr/>
        </p:nvPicPr>
        <p:blipFill>
          <a:blip r:embed="rId5"/>
          <a:stretch/>
        </p:blipFill>
        <p:spPr>
          <a:xfrm>
            <a:off x="500040" y="21276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68000" y="3860280"/>
            <a:ext cx="3311640" cy="2341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Арбитражный суд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зрешает экономические споры между гражданами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нимающимис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принимательско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еятельностью,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 организациям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858920" y="3789000"/>
            <a:ext cx="3745080" cy="23763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ировые суд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ссматривают гражданские, уголовные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дминистративные дела незначитель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ложности в качеств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а первой инстанц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68360" y="1700280"/>
            <a:ext cx="3348000" cy="1739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онституцион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меняет зак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тивореч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нститу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рушающ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4859280" y="1700280"/>
            <a:ext cx="2641680" cy="1465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ерхов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ажнейший 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ебной власт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ск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головным де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7931160" y="139680"/>
            <a:ext cx="927000" cy="10494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рбитражный суд рассматривает споры между юридическими лицами, гражданами,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существляющими предпринимательскую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з образования юридического лица и имеющими статус предпринимателя (граждане-предпринимател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42920" y="1857240"/>
            <a:ext cx="4038480" cy="4624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Уголовный процессуальное право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уголовный процесс)  — это процесс государственных органов по расследованию и разрешению дел,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вязанных с совершением преступлений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214880" y="1714680"/>
            <a:ext cx="4643280" cy="500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.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Органы государства и должностные лица</a:t>
            </a:r>
            <a:r>
              <a:rPr b="0" lang="ru-RU" sz="2200" spc="-1" strike="noStrike">
                <a:solidFill>
                  <a:srgbClr val="0070c0"/>
                </a:solidFill>
                <a:latin typeface="Corbe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уд (судья), прокурор, следователь, орган дознания и лицо, дознаватель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Участники уголовного процесса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Лица, привлекаемые в процессе для содейств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285840" y="157140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единолично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ссматривает дела (если санкция не превышает 10 лет лишения свободы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и 12 присяжных заседател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коллегия из трех суд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дела о тяжких и особо тяжких преступлениях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мировой судь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если санкция не превышает трех лет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Содержимое 4" descr="image31.png"/>
          <p:cNvPicPr/>
          <p:nvPr/>
        </p:nvPicPr>
        <p:blipFill>
          <a:blip r:embed="rId2"/>
          <a:stretch/>
        </p:blipFill>
        <p:spPr>
          <a:xfrm>
            <a:off x="4786200" y="1857240"/>
            <a:ext cx="3953160" cy="408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56760" y="1698120"/>
            <a:ext cx="414036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НИКИ ГРАЖДАНСКОГО  ПРОЦЕ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9680" y="2286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истец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ответчик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третьи ли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прокурор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адвокат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видетели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эксперт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пециал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428720" y="2428920"/>
            <a:ext cx="4429080" cy="32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Гражданское процессуальное право (процесс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отрасль права, регулирующая порядок рассмотрения судом гражданских де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11:46Z</dcterms:created>
  <dc:creator>Учитель</dc:creator>
  <dc:description/>
  <dc:language>en-US</dc:language>
  <cp:lastModifiedBy>LEGION</cp:lastModifiedBy>
  <dcterms:modified xsi:type="dcterms:W3CDTF">2016-01-04T08:10:28Z</dcterms:modified>
  <cp:revision>65</cp:revision>
  <dc:subject/>
  <dc:title>Процессуальное право</dc:title>
</cp:coreProperties>
</file>