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png" ContentType="image/png"/>
  <Override PartName="/ppt/media/image35.wmf" ContentType="image/x-wmf"/>
  <Override PartName="/ppt/media/image15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6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338F-3774-42DD-AF7A-F329F78AC8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мида (Юстиция)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и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й Гр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знача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язка на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ч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400"/>
            </a:b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артивный проце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дм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й процесс — это порядок осуществления государственно-управленческой деятельности, с целью реализации норм административного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ельн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открывает засед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, какое дело рассматривает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ет явку участников проц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из зала заседания свидетел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вляет состав су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важаемый суд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участники процесса должны давать свои показания и объяснения стоя, к суду обращаются со словами: «Уважаемый суд!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сути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докладывает дел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яет, поддерживает ли истец свои требов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ет ли ответчик треб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желают ли стороны закончить дело ми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3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этого судья заслушивает объяснения лиц, участвующих в деле (и соответственно их представителей), в следующей последова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третьи лица на стороне ист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третьи лица на стороне ответч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этап- рассмотрение 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доказатель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опрашивают свидетел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этап – судебные 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ее сло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меет право выступить с речью (Приложение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следнее слово – подсудимого (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и прений суд удаляется в совещательную комнату для вынесения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т есть оговорка: если в прениях выявлены некоторые новые обстоятельства, суд может вернуться к судебному следств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отраслей, основная задача которых — определить правила судебного процесса, чтобы установить ИСТ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прокурор назначается и освобождается Советом Федерации по представлению президента на 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енеральная п.,  п. субъектов Р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городов, рай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осуществляет надзор  за исполнением зако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аблюдает правильно ли исполняются зак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Не нарушаются ли права гражд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ыступает на суде со стороны обв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жет не согласиться с решением суда, наложив на него проте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ХРАНИТЕЛЬНЫЕ ОРГ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ст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ное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м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составить необходимые документы (исковое заявл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защитником в су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адвоката оплачивается из средств кли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тать, суд идет!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м изуч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частникам уголовного процесса со стороны защиты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кур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ледо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терпевш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: уголов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лицам, способствующим проведению уголовного процесса, относи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уди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нав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виняем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 – это порядок реализации и защиты материального пра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ислу наиболее «старых» процессуальных отраслей относятся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процессуальное прав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-процес.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   СУДО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судо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шает экономические споры между гражданам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имающими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ю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су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ют гражданские, уголов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ые дела незначите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и в кач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а первой инста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няет закон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а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ающие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овный су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й власти 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дел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ое процессуальное право, арбитраж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битражный суд рассматривает споры между юридическими лицами, гражданами, осуществляющими предпринимательскую деятельность без образования юридического лица и имеющими статус предпринимателя (граждане-предпринимател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 и его участ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 процессуальное право (уголовный процесс)  — это процесс государственных органов по расследованию и разрешению дел, связанных с совершением преступ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.Органы государства и должностные лица: суд (судья), прокурор, следователь, орган дознания и лицо, дознавате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. Участники уголовного процесса: 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. Лица, привлекаемые в процессе для содействия 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на уголов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удья единолично рассматривает дела (если санкция не превышает 10 лет лишения своб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удья и 12 присяжных заседателей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оллегия из трех судей (дела о тяжких и особо тяжких преступлениях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мировой судья (если санкция не превышает трех ле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ражд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гражданского 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ец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чи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и ли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кур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идетел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 (проце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расль права, регулирующая порядок рассмотрения судом гражданских де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8FD7-277F-4514-A327-B8629AD1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48A-257A-4D0F-B75F-CCCBCD27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F3E-DB7C-4701-9C8F-51DF9169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1D1-FD8E-4E90-BC86-FDFF31D7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AA24-1FE6-4F25-9764-65A915F1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760F-DDEE-40EC-9F7D-414B61A5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3871-DF23-4D7E-AD9A-E38E02D2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7772-E844-4FD7-BBC1-C4CC7669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A522-030B-44E2-8BEE-656C594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23C1-4520-415E-9A56-530D7182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88B1-3021-43F4-8CF0-FEF314E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C77-51A7-4D01-9A03-9F679781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2787-7347-4393-9890-6DCE13B8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74A2-842D-436E-AF55-66A8054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3C2C-413A-43BB-B5D6-DA37DC9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A151-441E-4630-A492-CB22A57A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CB51-BD19-4F3D-A748-460BE13F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09692-C450-4065-8196-04205BCB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10F48-8928-446B-9723-5E16D7C5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4AEB-3041-44E8-A608-A9A06F04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48DE2-4E9A-420C-AAD5-D75BD421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EADA1-D8FB-4566-8218-8380EA56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185-D467-4B56-869F-100CB699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1E54-6F8C-4558-B455-97263658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3124-A982-4301-891B-1F9673E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91721-815C-4E11-8FF0-75910D9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0346-B6FE-4FAD-93B9-4C8D15F4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062F7-F7ED-48B8-B912-CD3CF6C3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1273-2498-4B9D-9AB2-8354E8C1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26E7A-81F1-4C90-A532-0111FA98D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3E12-AA95-480E-A4A9-BE65496B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BF91F-009E-44D4-B4A2-919F81CE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2988-8FC3-4ADA-8EB2-0E82980C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B5A-D5FD-494E-8DDB-7996493A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C19F-531A-465D-8C83-4567797E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F481B-630A-401D-9E0E-B1C3EEE3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441A-FDD3-4787-ABD9-AD627405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7BC46-6BD7-490D-92D4-764F81B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8723C-999D-4200-B996-A4F49AE0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63ADA-DA8C-4B1F-B25D-A5C82BD3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5BF6-FA01-4938-8085-AFC422A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51D1D-26E3-4036-9A4D-1AC42C72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A8E8-A2A4-46A0-BC37-91AAC734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6992-CEAD-4BD1-B927-FA4AAA3C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FF3-32DC-4F50-92B1-B8AE762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B0BA7-C2B5-42F8-94AC-EA3F4C9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ADE52-82A0-4DEA-A7BE-1548DDC8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129C-0517-4E77-88C3-54154EDB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2C1A-6504-4E26-BD50-F6BB842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09F8-A9AA-4927-B8F2-66E2D863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F224-9FB0-49C1-952A-7EF4650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44486-A7D8-44E3-AFBE-F4ADA29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A768C-E037-4519-91B7-18B07119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60292-389E-497E-8C2B-DA044D6D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F352-CF82-4467-A3C0-553E52CC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EECC-395E-408A-985B-B876072C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547E-F32F-4E9A-8D2F-CAD62238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D3E08-2C53-4C82-9830-19677160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1268A-D3F6-4CD2-AD00-061293EB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6490-DFE7-4EB1-AA7B-C92EA59C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D4B71-34CF-4C0A-A8C0-27FC08DC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EE52-2963-4293-BD29-13B7A5F4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9E719-5727-46EC-8FC4-3F9A7CD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D3E3E-0FD2-47FA-BAC3-3A2F79AA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2854-4202-4266-A303-0AACC1D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BA55-C4B6-47ED-92E9-F180CB15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229-B5CC-46EE-929B-D99E2957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4F21-28F3-4843-88F5-F5AA7B15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D1158-EED5-44AC-9B4B-346DDE3B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A859-CB15-4F09-8F7D-167C9822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EB410-A103-4C36-A07D-5B36A2D4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14D31-B278-4F12-AB83-41E6B28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9C95-9AFD-4A2D-BF1A-BDF3BAB2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F4D21-ACDC-4046-94C1-BB971AD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5A89-FE83-410B-9048-A2870DD2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7B1E-012D-4BFC-8872-1203E0A2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96FAE-E8F6-4CD0-BBF9-B7168443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C373-9BCA-469F-B62C-3254597F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3E204-A1D7-408B-BA13-E68A614C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8A07-8EE3-4DF5-94A9-4B8DC532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29C0-CCCB-478E-B0CE-5695FF80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7314-9B52-4EE4-B8B6-6E48E393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B66CB-401F-4D8E-BF40-ACFCCF60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604-0FB4-4470-8849-54AB76A6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14D-75A4-4FAE-8AC8-4D7FEB6042CB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C1A-5EB4-4C1B-BFB1-2B7D4D610AE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2440-D836-48EF-9941-C7F83CB40C58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FFBE-F14D-4CE5-82C2-6B21E744A97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735A-464B-44FC-A049-505ED4A514FF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5C0B-9A27-42D8-8D57-A339EC0F14F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60B-203E-455A-853A-6CD43118F70F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A43-3CE2-4762-8A5B-74A971FF8A6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CCB3-2DCA-41ED-AD1E-A525CB1C6C6B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1093-4A13-40BD-82FA-BD1BF4D63D3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3FAB-D07A-4CE6-BEC9-55880C22CC3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cbcbc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D2CA-DF57-4390-8815-E9904F0A7AD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2F6-6021-46DC-A848-B136101EE47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AB33-6C61-4001-9EA8-466E728BD7A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72;&#1076;&#1084;&#1080;&#1085;&#1080;&#1089;&#1090;&#1088;&#1072;&#1090;&#1080;&#1074;&#1085;&#1072;&#1103;%20&#1102;&#1088;&#1080;&#1089;&#1076;&#1080;&#1082;&#1089;&#1094;&#1080;&#1103;.ppsx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&#1087;&#1088;&#1072;&#1074;&#1086;&#1086;&#1079;&#1093;%20&#1086;&#1088;&#1075;&#1072;&#1085;&#1099;.pptx" TargetMode="External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139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3714480" y="1928520"/>
            <a:ext cx="5429160" cy="453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Фемида (Юстиция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богин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осудия 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ревней Гре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Что означают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вязка на глаза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есы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еч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2"/>
          <a:stretch/>
        </p:blipFill>
        <p:spPr>
          <a:xfrm>
            <a:off x="0" y="1571760"/>
            <a:ext cx="3811680" cy="507528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13840" y="17730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Административный процесс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это порядок осуществления </a:t>
            </a:r>
            <a:r>
              <a:rPr b="0" i="1" lang="ru-RU" sz="2800" spc="-1" strike="noStrike">
                <a:solidFill>
                  <a:srgbClr val="c00000"/>
                </a:solidFill>
                <a:latin typeface="Corbel"/>
              </a:rPr>
              <a:t>государственно-управленческой деятельности,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 целью реализации норм административного прав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Содержимое 7" descr="4618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2286000"/>
            <a:ext cx="3900600" cy="294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открывает заседание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, какое дело рассматривается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яет явку участников процес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яет из зала заседания свидетеле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ъявляет состав суд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Все участники процесса должны давать свои показания и объяснения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rbel"/>
              </a:rPr>
              <a:t>стоя,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к суду обращаются со словами: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«Уважаемый суд!»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ья докладывает дело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ясняет, поддерживает ли истец свои требования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знает ли ответчик требова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желают ли стороны закончить дело миро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ле этого судья заслушивает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бъяснения лиц,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частвующих в деле (и соответственно их представителей), в следующей последовательност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стец, третьи лица на стороне ист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чик, третьи лица на стороне ответчик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следование доказательств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начале допрашивают свидетелей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тем оглашают письменные доказательства, исследуют вещественные доказательства, воспроизводят и исследуют аудио- или видеозапись, исследуют заключение эксперт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orbel"/>
              </a:rPr>
              <a:t>ПРЕНИЯ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ыступления лиц, участвующих в деле с обоснованием своей правовой и фактической позиции, с учетом всех сведений и обстоятельств, которые были исследованы в ходе судебного засед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следовательность выступления в прениях аналогична последовательности дачи объяснений: прокурор, истец и его представитель; ответчик и его представитель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ждый имеет право выступить с речью (Приложение 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о последнее слово – подсудимого (право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3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 окончании прений суд удаляется в совещательную комнату для вынесения решения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ко тут есть оговорка: если в прениях выявлены некоторые новые обстоятельства, суд может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ернуться к судебному следствию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д принимает решение немедленно после рассмотрения дела в совещательной комнате, тайно, т.е. с участием только тех лиц, которые входят в состав суд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о совокупность отраслей, основная задача которых — определить правила судебного процесса, чтобы установить </a:t>
            </a:r>
            <a:r>
              <a:rPr b="1" lang="ru-RU" sz="3600" spc="-1" strike="noStrike">
                <a:solidFill>
                  <a:srgbClr val="c00000"/>
                </a:solidFill>
                <a:latin typeface="Corbel"/>
              </a:rPr>
              <a:t>ИСТИНУ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2324160" cy="27860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840" y="1356840"/>
            <a:ext cx="3889440" cy="26211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   </a:t>
            </a:r>
            <a:r>
              <a:rPr b="1" lang="ru-RU" sz="2200" spc="-1" strike="noStrike">
                <a:solidFill>
                  <a:srgbClr val="ff0000"/>
                </a:solidFill>
                <a:latin typeface="Arial Black"/>
              </a:rPr>
              <a:t>Генеральный прокурор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значается и освобождается Советом Федерации по представлению президента на 5 лет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211640" y="1628280"/>
            <a:ext cx="4681440" cy="4924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Arial Black"/>
              </a:rPr>
              <a:t>Прокуратура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(Генеральная п.,  п. субъектов РФ,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0000"/>
                </a:solidFill>
                <a:latin typeface="Arial Black"/>
              </a:rPr>
              <a:t>п. городов, районов)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осуществляет надзор  за исполнением законов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аблюдает правильно ли исполняются закон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Не нарушаются ли права граждан?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Выступает на суде со стороны обвинения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</a:rPr>
              <a:t>* Может не согласиться с решением суда, наложив на него протест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4211640" y="3429000"/>
          <a:ext cx="4681440" cy="457200"/>
        </p:xfrm>
        <a:graphic>
          <a:graphicData uri="http://schemas.openxmlformats.org/drawingml/2006/table">
            <a:tbl>
              <a:tblPr/>
              <a:tblGrid>
                <a:gridCol w="2305080"/>
                <a:gridCol w="23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2071800"/>
            <a:ext cx="2068560" cy="3071880"/>
          </a:xfrm>
          <a:prstGeom prst="rect">
            <a:avLst/>
          </a:prstGeom>
          <a:ln w="0">
            <a:noFill/>
          </a:ln>
        </p:spPr>
      </p:pic>
      <p:pic>
        <p:nvPicPr>
          <p:cNvPr id="396" name="Rectangle 2" descr=""/>
          <p:cNvPicPr/>
          <p:nvPr/>
        </p:nvPicPr>
        <p:blipFill>
          <a:blip r:embed="rId3"/>
          <a:stretch/>
        </p:blipFill>
        <p:spPr>
          <a:xfrm>
            <a:off x="500040" y="285840"/>
            <a:ext cx="8229600" cy="1141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0" y="2071440"/>
            <a:ext cx="3214800" cy="40719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Адвокатур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обровольно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ъединение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стов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зданное дл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вово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щ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физическим 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юридическим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214960" y="1773000"/>
            <a:ext cx="347184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могает составить необходимые документы (исковое заявление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ыступает защитником в суд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7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ятельность адвоката оплачивается из средств клиент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4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олевая игр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2"/>
          <a:stretch/>
        </p:blipFill>
        <p:spPr>
          <a:xfrm>
            <a:off x="5784840" y="549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3" descr=""/>
          <p:cNvPicPr/>
          <p:nvPr/>
        </p:nvPicPr>
        <p:blipFill>
          <a:blip r:embed="rId2"/>
          <a:srcRect l="0" t="0" r="0" b="84963"/>
          <a:stretch/>
        </p:blipFill>
        <p:spPr>
          <a:xfrm>
            <a:off x="714240" y="1714680"/>
            <a:ext cx="771552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06" name="Содержимое 4" descr=""/>
          <p:cNvPicPr/>
          <p:nvPr/>
        </p:nvPicPr>
        <p:blipFill>
          <a:blip r:embed="rId3"/>
          <a:srcRect l="0" t="37064" r="0" b="47495"/>
          <a:stretch/>
        </p:blipFill>
        <p:spPr>
          <a:xfrm>
            <a:off x="785880" y="4071960"/>
            <a:ext cx="7786800" cy="2428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4" descr=""/>
          <p:cNvPicPr/>
          <p:nvPr/>
        </p:nvPicPr>
        <p:blipFill>
          <a:blip r:embed="rId2"/>
          <a:srcRect l="0" t="53462" r="0" b="15093"/>
          <a:stretch/>
        </p:blipFill>
        <p:spPr>
          <a:xfrm>
            <a:off x="285840" y="1571760"/>
            <a:ext cx="8429400" cy="492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0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4" descr=""/>
          <p:cNvPicPr/>
          <p:nvPr/>
        </p:nvPicPr>
        <p:blipFill>
          <a:blip r:embed="rId2"/>
          <a:srcRect l="2316" t="32433" r="51738" b="42864"/>
          <a:stretch/>
        </p:blipFill>
        <p:spPr>
          <a:xfrm>
            <a:off x="285840" y="1714680"/>
            <a:ext cx="8501040" cy="4214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415" name="Содержимое 4" descr=""/>
          <p:cNvPicPr/>
          <p:nvPr/>
        </p:nvPicPr>
        <p:blipFill>
          <a:blip r:embed="rId2"/>
          <a:srcRect l="2094" t="57141" r="53081" b="22785"/>
          <a:stretch/>
        </p:blipFill>
        <p:spPr>
          <a:xfrm>
            <a:off x="142920" y="1857240"/>
            <a:ext cx="8858160" cy="4000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4" descr=""/>
          <p:cNvPicPr/>
          <p:nvPr/>
        </p:nvPicPr>
        <p:blipFill>
          <a:blip r:embed="rId1"/>
          <a:srcRect l="2044" t="77220" r="52555" b="7197"/>
          <a:stretch/>
        </p:blipFill>
        <p:spPr>
          <a:xfrm>
            <a:off x="357120" y="0"/>
            <a:ext cx="7929720" cy="1857240"/>
          </a:xfrm>
          <a:prstGeom prst="rect">
            <a:avLst/>
          </a:prstGeom>
          <a:ln w="0">
            <a:noFill/>
          </a:ln>
        </p:spPr>
      </p:pic>
      <p:pic>
        <p:nvPicPr>
          <p:cNvPr id="418" name="Содержимое 4" descr=""/>
          <p:cNvPicPr/>
          <p:nvPr/>
        </p:nvPicPr>
        <p:blipFill>
          <a:blip r:embed="rId2"/>
          <a:srcRect l="52287" t="0" r="829" b="61775"/>
          <a:stretch/>
        </p:blipFill>
        <p:spPr>
          <a:xfrm>
            <a:off x="285840" y="1785960"/>
            <a:ext cx="8072280" cy="4857840"/>
          </a:xfrm>
          <a:prstGeom prst="rect">
            <a:avLst/>
          </a:prstGeom>
          <a:ln w="0">
            <a:noFill/>
          </a:ln>
        </p:spPr>
      </p:pic>
      <p:sp>
        <p:nvSpPr>
          <p:cNvPr id="41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участникам уголовного процесса со стороны защиты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рокурор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ледо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потерпевши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 лицам, способствующим проведению уголовного процесса, относ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дсуди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ознавате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виняемы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нятой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5430960" y="2646360"/>
            <a:ext cx="2970000" cy="394956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229600" cy="3865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цессу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атериальное пра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расли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истема пра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30" name="Picture 4" descr=""/>
          <p:cNvPicPr/>
          <p:nvPr/>
        </p:nvPicPr>
        <p:blipFill>
          <a:blip r:embed="rId2"/>
          <a:stretch/>
        </p:blipFill>
        <p:spPr>
          <a:xfrm>
            <a:off x="5357880" y="2646360"/>
            <a:ext cx="2968560" cy="39495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139680" y="158760"/>
            <a:ext cx="8791560" cy="1627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285840" y="2000160"/>
            <a:ext cx="8400960" cy="4500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Уголовно-процессуальное право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Гражданск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дминистратив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Арбитражно-процессуальное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нституционно-процес. пра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Corbel"/>
              </a:rPr>
              <a:t>РЕГУЛИРУЮТ    СУДОПРОИЗВОДСТВО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3" descr=""/>
          <p:cNvPicPr/>
          <p:nvPr/>
        </p:nvPicPr>
        <p:blipFill>
          <a:blip r:embed="rId1"/>
          <a:stretch/>
        </p:blipFill>
        <p:spPr>
          <a:xfrm>
            <a:off x="7524720" y="3643200"/>
            <a:ext cx="1619280" cy="1214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2" descr=""/>
          <p:cNvPicPr/>
          <p:nvPr/>
        </p:nvPicPr>
        <p:blipFill>
          <a:blip r:embed="rId2"/>
          <a:srcRect l="0" t="-364" r="0" b="0"/>
          <a:stretch/>
        </p:blipFill>
        <p:spPr>
          <a:xfrm>
            <a:off x="7500960" y="1714680"/>
            <a:ext cx="1427040" cy="1788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"/>
          <p:cNvPicPr/>
          <p:nvPr/>
        </p:nvPicPr>
        <p:blipFill>
          <a:blip r:embed="rId3"/>
          <a:stretch/>
        </p:blipFill>
        <p:spPr>
          <a:xfrm>
            <a:off x="2786040" y="4857840"/>
            <a:ext cx="2060640" cy="1374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3214800" y="2500200"/>
            <a:ext cx="1512720" cy="1241640"/>
          </a:xfrm>
          <a:prstGeom prst="rect">
            <a:avLst/>
          </a:prstGeom>
          <a:ln w="0">
            <a:noFill/>
          </a:ln>
        </p:spPr>
      </p:pic>
      <p:pic>
        <p:nvPicPr>
          <p:cNvPr id="329" name="Rectangle 2" descr=""/>
          <p:cNvPicPr/>
          <p:nvPr/>
        </p:nvPicPr>
        <p:blipFill>
          <a:blip r:embed="rId5"/>
          <a:stretch/>
        </p:blipFill>
        <p:spPr>
          <a:xfrm>
            <a:off x="500040" y="21276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68000" y="3860280"/>
            <a:ext cx="3311640" cy="2341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Арбитражный суд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Разрешает экономические споры между гражданами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занимающимис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редпринимательской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деятельностью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и организациями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58920" y="3789000"/>
            <a:ext cx="3745080" cy="2376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ровые суды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ссматривают гражданские, уголовные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дминистративные дела незначительной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ложности в качеств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а первой инстанц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8360" y="1700280"/>
            <a:ext cx="3348000" cy="17398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Конституцион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тменяет зако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тивореча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нституци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рушающ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859280" y="1700280"/>
            <a:ext cx="2641680" cy="14655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рховный су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ажнейший 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судебной власт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гражданск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головным де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7931160" y="139680"/>
            <a:ext cx="927000" cy="104940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4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рбитражный суд рассматривает споры между юридическими лицами, гражданами, </a:t>
            </a: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существляющими предпринимательскую деятельность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ез образования юридического лица и имеющими статус предпринимателя (граждане-предпринимател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39" name="Місце для нижнього колонтитула 1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142920" y="1857240"/>
            <a:ext cx="4038480" cy="46245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Уголовный процессуальное право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(уголовный процесс)  — это процесс государственных органов по расследованию и разрешению дел,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вязанных с совершением преступлений.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214880" y="1714680"/>
            <a:ext cx="4643280" cy="5000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.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Органы государства и должностные лица</a:t>
            </a:r>
            <a:r>
              <a:rPr b="0" lang="ru-RU" sz="2200" spc="-1" strike="noStrike">
                <a:solidFill>
                  <a:srgbClr val="0070c0"/>
                </a:solidFill>
                <a:latin typeface="Corbel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уд (судья), прокурор, следователь, орган дознания и лицо, дознаватель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Участники уголовного процесса: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дозреваемый, обвиняемый, их защитники, потерпевший, гражданский истец, гражданский ответчик и их представител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III. </a:t>
            </a:r>
            <a:r>
              <a:rPr b="1" lang="ru-RU" sz="2200" spc="-1" strike="noStrike">
                <a:solidFill>
                  <a:srgbClr val="0070c0"/>
                </a:solidFill>
                <a:latin typeface="Corbel"/>
              </a:rPr>
              <a:t>Лица, привлекаемые в процессе для содействи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рганам государства в выполнении задач правосудия: свидетель, эксперт, специалист, переводчик, понятые, секретарь судебного заседа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4" descr=""/>
          <p:cNvPicPr/>
          <p:nvPr/>
        </p:nvPicPr>
        <p:blipFill>
          <a:blip r:embed="rId2"/>
          <a:stretch/>
        </p:blipFill>
        <p:spPr>
          <a:xfrm>
            <a:off x="8070840" y="139680"/>
            <a:ext cx="787320" cy="104940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285840" y="1571400"/>
            <a:ext cx="4572000" cy="50720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а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единолично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ассматривает дела (если санкция не превышает 10 лет лишения свободы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б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судья и 12 присяжных заседател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рассматривают дела, затрагивающие общественный интерес и имеющие общественный интерес, согласно перечню в УПК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коллегия из трех судей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(дела о тяжких и особо тяжких преступлениях);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) </a:t>
            </a: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мировой судья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(если санкция не превышает трех лет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Содержимое 4" descr="image31.png"/>
          <p:cNvPicPr/>
          <p:nvPr/>
        </p:nvPicPr>
        <p:blipFill>
          <a:blip r:embed="rId2"/>
          <a:stretch/>
        </p:blipFill>
        <p:spPr>
          <a:xfrm>
            <a:off x="4786200" y="1857240"/>
            <a:ext cx="3953160" cy="408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48" name="Місце для нижнього колонтитула 3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56760" y="1698120"/>
            <a:ext cx="4140360" cy="71604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УЧАСТНИКИ ГРАЖДАНСКОГО 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99680" y="228600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истец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ответчик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третьи лиц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прокурор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адвока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видетели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эксперты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Arial"/>
              </a:rPr>
              <a:t>специалис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428720" y="2428920"/>
            <a:ext cx="4429080" cy="32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Corbel"/>
              </a:rPr>
              <a:t>Гражданское процессуальное право (процесс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то отрасль права, регулирующая порядок рассмотрения судом гражданских де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f3f3f"/>
                </a:solidFill>
                <a:latin typeface="Corbe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1:11:46Z</dcterms:created>
  <dc:creator>Учитель</dc:creator>
  <dc:description/>
  <dc:language>en-US</dc:language>
  <cp:lastModifiedBy>LEGION</cp:lastModifiedBy>
  <dcterms:modified xsi:type="dcterms:W3CDTF">2016-01-04T08:10:28Z</dcterms:modified>
  <cp:revision>65</cp:revision>
  <dc:subject/>
  <dc:title>Процессуальное право</dc:title>
</cp:coreProperties>
</file>