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move the slide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D63C0-B923-47E5-A946-D554653111D7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урока обществознания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ПРОЦЕССУАЛЬНОЕ ПРАВО: ГРАЖДАНСКИЙ И АРБИТРАЖНЫЙ ПРОЦЕСС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урока обществознания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ПРОЦЕССУАЛЬНОЕ ПРАВО: ГРАЖДАНСКИЙ И АРБИТРАЖНЫЙ ПРОЦЕСС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олните задание ЕГЭ В1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Запишите слово, пропущенное во фрагменте таблицы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Стороны гражданского судопроизводств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:     ___________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:    ОТВЕТЧ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полните задание ЕГЭ В1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Запишите слово, пропущенное во фрагменте таблицы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Стороны гражданского судопроизводств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вет:     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вет:    ОТВЕТЧИ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КАЗАТЕЛЬСТВА 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процессуальные средства установления истины в суд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вам известно об обязательности доказательств в уголовном процесс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Nota bane: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не подлежат допросу в качестве свидетелей священнослужители, если им об обстоятельствах дела стало известно из исповед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могут отказаться от дачи свидетельских показаний граждане, если  данные доказательства затрагивают интересы их близки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АЗАТЕЛЬСТВА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процессуальные средства установления истины в суд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вам известно об обязательности доказательств в уголовном процесс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Nota bane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не подлежат допросу в качестве свидетелей священнослужители, если им об обстоятельствах дела стало известно из исповед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могут отказаться от дачи свидетельских показаний граждане, если  данные доказательства затрагивают интересы их близки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ТАДИИ ГРАЖДАНСКОГО ПРОЦЕ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ТАДИИ ГРАЖДАНСКОГО ПРОЦЕС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 часть судебного разбирательства имеет своей целью подвести итог проведенного исследования доказательств. Здесь лица, участвующие в деле, высказывают и аргументируют свои выводы о том, какие доказательства являются достоверны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бирательство де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ни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а часть судебного разбирательства имеет своей целью подвести итог проведенного исследования доказательств. Здесь лица, участвующие в деле, высказывают и аргументируют свои выводы о том, какие доказательства являются достоверны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бирательство де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битражный процесс –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специфическая отрасль гражданского процесс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рохождение дел в арбитражном суд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мет арбитражного процесса – экономические спо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бъекты арбитражного процесса -    граждане, юридические лица, государство, предприниматели без образования юридического лица (ПБОЮЛ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битражный процесс –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специфическая отрасль гражданского процесс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прохождение дел в арбитражном суд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мет арбитражного процесса – экономические спо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бъекты арбитражного процесса -    граждане, юридические лица, государство, предприниматели без образования юридического лица (ПБОЮЛ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олните задание ЕГЭ С1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 правовых источников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учебник стр. 297)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уя фрагменты и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ституции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ско-процессуального кодекса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битражного процессуального кодекса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кажите,  каково соотношение статей указанных источн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кажите, в чем общее и особенное в задачах ГПК и АП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полните задание ЕГЭ С1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ализ правовых источников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учебник стр. 297)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уя фрагменты и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ституции Р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ажданско-процессуального кодекса Р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битражного процессуального кодекса Р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кажите,  каково соотношение статей указанных источни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кажите, в чем общее и особенное в задачах ГПК и АП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ее задание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раграф 2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полнить таблицу «Принципы гражданского процесс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машнее задание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раграф 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полнить таблицу «Принципы гражданского процесс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олните задание ЕГЭ С5: Какой смысл вкладывают обществоведы в понятие? Привлекая знания обществоведческого курса, составьте два предложения, содержащие информацию о данном понят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 вариан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З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I вариа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НЯТ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полните задание ЕГЭ С5: Какой смысл вкладывают обществоведы в понятие? Привлекая знания обществоведческого курса, составьте два предложения, содержащие информацию о данном понят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I вариан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З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II вариан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НЯТ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олните задание ЕГЭ С8:  Вам поручено подготовить развернутый план по теме. Составьте план в соответствии с которым вы будете освещать эту тему. План должен содержать не менее трех пунктов, два или более из которых детализированы в подпункт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 вариан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Социальное обеспечение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I вариант «Профессиональ-ное образование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полните задание ЕГЭ С8:  Вам поручено подготовить развернутый план по теме. Составьте план в соответствии с которым вы будете освещать эту тему. План должен содержать не менее трех пунктов, два или более из которых детализированы в подпункта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I вариан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Социальное обеспечение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II вариант «Профессиональ-ное образование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 ур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«гражданский процесс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принципы гражданского процесса и категории исковых де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ники гражданского проце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казательство и доказывание как процессуальные  сре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дии гражданского проце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битражный проце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н уро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е «гражданский процесс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принципы гражданского процесса и категории исковых де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стники гражданского процес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азательство и доказывание как процессуальные  сре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адии гражданского процес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битражный процес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допроизводство - эт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ятельность судов по рассмотрению де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орядоченные судебные действия, которые в последовательности представляют проце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допроизводство - эт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ятельность судов по рассмотрению де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орядоченные судебные действия, которые в последовательности представляют процес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ский процесс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гражданско-процессуальное право) - эт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асль права, регулирующая порядок рассмотрения и разрешения гражданских дел в суде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рядок  и последовательность процессуальных действ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а и обязанности участников проце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ажданский процесс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гражданско-процессуальное право) - эт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расль права, регулирующая порядок рассмотрения и разрешения гражданских дел в суде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рядок  и последовательность процессуальных действ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а и обязанности участников процес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с текстом учебни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йдите в тексте основные принципы гражданского процесса                (учебник стр. 288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полните таблицу, используя материалы учебника и Главу II Конституции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та с текстом учебник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йдите в тексте основные принципы гражданского процесса                (учебник стр. 28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полните таблицу, используя материалы учебника и Главу II Конституции Р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тегории (виды) дел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гражданском процесс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тегории (виды) дел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гражданском процесс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УЧАСТНИКИ ГРАЖДАНСКОГО ПРОЦЕ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УЧАСТНИКИ ГРАЖДАНСКОГО ПРОЦЕС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A725-E0CD-4D8B-977D-B46EE5A3C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B2B8-C154-4917-8DBD-16E4D73F5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CBA1-B052-4A3C-83DD-5F558C9B5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D8B4-D065-4DE5-B8E7-3AB27595D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F925B-0EBD-474A-8B04-E56272BED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091F2-94FD-4D61-B90F-0C6278512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091CA-E254-4FBB-8BD0-5BFF09EAC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9EE9B-10F5-4E82-9B96-BC8CB37F3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EB184-6F22-4681-B1AE-083608076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FE4FB-ABF2-4D53-912D-B92F33F44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43819-B3A2-483E-80ED-C983BD8AD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9484-1C8D-4CCF-A023-DB78157EF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A080E-EA61-45DA-8DEE-20FA6F7BC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31CD9-3ED0-41DD-955A-EF048EB91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B5ED3-2ED4-496E-83AA-25DCCA294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6C89A-E1A7-49A3-A0A3-2B120DB26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984A7-BA96-4C02-B6DF-577A52D20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4763A5-06D5-4881-8700-BB324A930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848747-8A9B-403D-8B11-B2093B9A8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E52375-3407-4D34-A06F-0BD5CBEE0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0B5456-15F2-40EA-8F71-C5FE7C10C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E49C64-CB20-4909-9830-3917CB87D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8E32-A5C2-4648-B1CD-5E8CE1B85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59B523-E853-4544-9D9C-8B1B76821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ECE4BD-C8F6-49E8-BDF4-2E153CD0F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6C9EEE-1558-46AA-BFBB-81C76D52B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2B72CE-8CA7-4CF1-B024-289EEAEA2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08A570-FE30-4806-8B19-60AA9C3EE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5155B1-AC5A-47E6-8475-005A1A732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DA121D-610E-4484-B4E2-9C432550D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9E0A3F-6BD7-4B3C-8F49-4C6FF22D2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3E5123-BDDE-4718-AE9D-1BE99096A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1A01D2-2EB7-4C49-80F6-D83D50EF2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44E7-522B-4651-A25D-2C12654AA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02FD9E-D711-464E-900B-C3D9A3634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8B1418-7FB6-430F-AE30-C9FBEB42E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9A35B7-8ADB-4C5C-8D38-D91E4C0D0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9CE259-70C5-4B42-A103-AD59A4374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A6AB8D-113F-4A1B-81CE-F58183B75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F52EDC-73EC-4CA9-AD4D-A4C0F0DFE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6E117F-1A85-4DB8-8C7C-70F2098EE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0AA012-1093-4879-A2A3-70FAAFA85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CF83A2-6AF2-4366-8D15-1CE15F318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596845-3B18-4497-AE0C-3DFB015D3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2DE9-2934-48E7-8D97-986037D8F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98C079-8160-4EA1-96E9-20832C81E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F36470-3659-4BD3-B978-42CE5C550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F1ED31-951D-4598-980F-965B9E6B3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69AF3A-DBE4-4AD7-B9F9-49ED559C6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9D23D6-FC5F-4B96-A44F-07E6D10FF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1C06A8-A43B-461F-B0CA-BA88F6291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3BFB7F-A82F-47DB-A630-6F8900F6F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222D4E-02BC-47C9-A1DF-84A2D665C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DB5CBC-50A3-4ADF-AC94-398B2E88E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285131-784C-4045-BF03-5EA2FC863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D79B-B038-4D3D-9AF4-AFF551220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0353F1-9D82-4455-BFF7-44F0B3EAC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7D41-A8C8-4355-A111-4EF141D44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BA9B-D498-402F-895E-15E7619BC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E027-1A6F-4707-BF21-4A6E7A2B8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6DACD-2D8E-4C95-AB94-B9BC3BFC8C0B}" type="datetime">
              <a:rPr b="0" lang="ru-RU" sz="1400" spc="-1" strike="noStrike">
                <a:solidFill>
                  <a:srgbClr val="696464"/>
                </a:solidFill>
                <a:latin typeface="Cambria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696464"/>
                </a:solidFill>
                <a:latin typeface="Perpetu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75E73-C11F-4C23-A5E6-7A6D7CFA2A80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5663E-020A-42B1-B6F2-A8587BB7E50A}" type="datetime">
              <a:rPr b="0" lang="ru-RU" sz="1400" spc="-1" strike="noStrike">
                <a:solidFill>
                  <a:srgbClr val="696464"/>
                </a:solidFill>
                <a:latin typeface="Cambria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696464"/>
                </a:solidFill>
                <a:latin typeface="Perpetu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2D1F3-1C30-488C-B533-9BC5CA9B978A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Скругленный прямоугольник 10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91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B9B00-C5D4-405D-AAC1-254D4E5ACDB3}" type="datetime">
              <a:rPr b="0" lang="ru-RU" sz="1400" spc="-1" strike="noStrike">
                <a:solidFill>
                  <a:srgbClr val="696464"/>
                </a:solidFill>
                <a:latin typeface="Cambria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696464"/>
                </a:solidFill>
                <a:latin typeface="Perpetu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9FCA9-2E82-4B00-BB89-A871098E3A10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BF2DA-4199-40FD-A54B-9233DCFDCAF5}" type="datetime">
              <a:rPr b="0" lang="ru-RU" sz="1400" spc="-1" strike="noStrike">
                <a:solidFill>
                  <a:srgbClr val="696464"/>
                </a:solidFill>
                <a:latin typeface="Cambria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696464"/>
                </a:solidFill>
                <a:latin typeface="Perpetu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A543E-71E8-4BA0-A544-26BB9B7C5EF6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F0CBC-0A1D-494B-B833-6320E4AC8280}" type="datetime">
              <a:rPr b="0" lang="ru-RU" sz="1400" spc="-1" strike="noStrike">
                <a:solidFill>
                  <a:srgbClr val="696464"/>
                </a:solidFill>
                <a:latin typeface="Cambria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696464"/>
                </a:solidFill>
                <a:latin typeface="Perpetu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A2930-B19E-43DA-A2C1-40065815D5FF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600" spc="-1" strike="noStrike">
              <a:solidFill>
                <a:srgbClr val="696464"/>
              </a:solidFill>
              <a:latin typeface="Cambri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title"/>
          </p:nvPr>
        </p:nvSpPr>
        <p:spPr>
          <a:xfrm>
            <a:off x="500040" y="157140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Тема урока обществознания: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«ПРОЦЕССУАЛЬНОЕ ПРАВО: ГРАЖДАНСКИЙ И АРБИТРАЖНЫЙ ПРОЦЕСС»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7" name="Місце для нижнього колонтитула 2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696464"/>
                </a:solidFill>
                <a:latin typeface="Perpetu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71680" y="274320"/>
            <a:ext cx="8115120" cy="23684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Выполните задание ЕГЭ В1:</a:t>
            </a:r>
            <a:br>
              <a:rPr sz="3600"/>
            </a:b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 Запишите слово, пропущенное во фрагменте таблицы</a:t>
            </a:r>
            <a:br>
              <a:rPr sz="3600"/>
            </a:br>
            <a:r>
              <a:rPr b="1" lang="ru-RU" sz="3200" spc="-1" strike="noStrike">
                <a:solidFill>
                  <a:srgbClr val="696464"/>
                </a:solidFill>
                <a:latin typeface="Calibri"/>
              </a:rPr>
              <a:t>«Стороны гражданского судопроизводства»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428760" y="2571840"/>
          <a:ext cx="8258040" cy="3597120"/>
        </p:xfrm>
        <a:graphic>
          <a:graphicData uri="http://schemas.openxmlformats.org/drawingml/2006/table">
            <a:tbl>
              <a:tblPr/>
              <a:tblGrid>
                <a:gridCol w="4128840"/>
                <a:gridCol w="4129200"/>
              </a:tblGrid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Наименование сторо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Их сущ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</a:tr>
              <a:tr h="3078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. . 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Лицо, которое предположительно нарушило права истца и которое по указанию последнего привлекается судом в процес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</a:tbl>
          </a:graphicData>
        </a:graphic>
      </p:graphicFrame>
      <p:sp>
        <p:nvSpPr>
          <p:cNvPr id="267" name="TextBox 4"/>
          <p:cNvSpPr/>
          <p:nvPr/>
        </p:nvSpPr>
        <p:spPr>
          <a:xfrm>
            <a:off x="928800" y="6286680"/>
            <a:ext cx="292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Ответ:     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5"/>
          <p:cNvSpPr/>
          <p:nvPr/>
        </p:nvSpPr>
        <p:spPr>
          <a:xfrm>
            <a:off x="857160" y="6286680"/>
            <a:ext cx="357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Ответ:    ОТВЕТЧ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Місце для нижнього колонтитула 2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696464"/>
                </a:solidFill>
                <a:latin typeface="Perpetu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Calibri"/>
              </a:rPr>
              <a:t>ДОКАЗАТЕЛЬСТВА -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914400" y="1447560"/>
            <a:ext cx="7772400" cy="105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Это процессуальные средства установления истины в суде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2" name="Прямоугольник 3"/>
          <p:cNvSpPr/>
          <p:nvPr/>
        </p:nvSpPr>
        <p:spPr>
          <a:xfrm>
            <a:off x="1016640" y="2428920"/>
            <a:ext cx="1241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0000"/>
                </a:solidFill>
                <a:latin typeface="Cambria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4"/>
          <p:cNvSpPr/>
          <p:nvPr/>
        </p:nvSpPr>
        <p:spPr>
          <a:xfrm>
            <a:off x="2714760" y="2214720"/>
            <a:ext cx="52149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Что вам известно об обязательности доказательств в уголовном процесс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5"/>
          <p:cNvSpPr/>
          <p:nvPr/>
        </p:nvSpPr>
        <p:spPr>
          <a:xfrm>
            <a:off x="928800" y="4214880"/>
            <a:ext cx="7643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Perpetua"/>
              </a:rPr>
              <a:t>Nota bane</a:t>
            </a:r>
            <a:r>
              <a:rPr b="0" lang="ru-RU" sz="2400" spc="-1" strike="noStrike">
                <a:solidFill>
                  <a:srgbClr val="ff0000"/>
                </a:solidFill>
                <a:latin typeface="Cambria"/>
              </a:rPr>
              <a:t>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-не подлежат допросу в качестве свидетелей священнослужители, если им об обстоятельствах дела стало известно из исповед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- могут отказаться от дачи свидетельских показаний граждане, если  данные доказательства затрагивают интересы их близк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696464"/>
                </a:solidFill>
                <a:latin typeface="Perpetu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СТАДИИ ГРАЖДАНСКОГО ПРОЦЕССА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77" name="Содержимое 3" descr=""/>
          <p:cNvPicPr/>
          <p:nvPr/>
        </p:nvPicPr>
        <p:blipFill>
          <a:blip r:embed="rId1"/>
          <a:stretch/>
        </p:blipFill>
        <p:spPr>
          <a:xfrm>
            <a:off x="907920" y="1450800"/>
            <a:ext cx="7785360" cy="4572000"/>
          </a:xfrm>
          <a:prstGeom prst="rect">
            <a:avLst/>
          </a:prstGeom>
          <a:ln w="0">
            <a:noFill/>
          </a:ln>
        </p:spPr>
      </p:pic>
      <p:sp>
        <p:nvSpPr>
          <p:cNvPr id="278" name="Місце для нижнього колонтитула 2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696464"/>
                </a:solidFill>
                <a:latin typeface="Perpetu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Calibri"/>
              </a:rPr>
              <a:t>Задание: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Эта часть судебного разбирательства имеет своей целью подвести итог проведенного исследования доказательств. Здесь лица, участвующие в деле, высказывают и аргументируют свои выводы о том, какие доказательства являются достоверными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1" name="Прямоугольник 3"/>
          <p:cNvSpPr/>
          <p:nvPr/>
        </p:nvSpPr>
        <p:spPr>
          <a:xfrm>
            <a:off x="802440" y="4143240"/>
            <a:ext cx="1241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0000"/>
                </a:solidFill>
                <a:latin typeface="Cambria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4"/>
          <p:cNvSpPr/>
          <p:nvPr/>
        </p:nvSpPr>
        <p:spPr>
          <a:xfrm>
            <a:off x="3571920" y="4429080"/>
            <a:ext cx="5000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Разбирательство де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696464"/>
                </a:solidFill>
                <a:latin typeface="Perpetu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5" dur="5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0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27972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Арбитражный процесс – </a:t>
            </a:r>
            <a:br>
              <a:rPr sz="3600"/>
            </a:b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-специфическая отрасль гражданского процесса</a:t>
            </a:r>
            <a:br>
              <a:rPr sz="3600"/>
            </a:b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-прохождение дел в арбитражном суде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914400" y="3499920"/>
            <a:ext cx="7772400" cy="25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Предмет арбитражного процесса – экономические споры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Субъекты арбитражного процесса -    граждане, юридические лица, государство, предприниматели без образования юридического лица (ПБОЮЛ)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6" name="Місце для нижнього колонтитула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696464"/>
                </a:solidFill>
                <a:latin typeface="Perpetu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23684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Выполните задание ЕГЭ С1</a:t>
            </a: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:</a:t>
            </a:r>
            <a:br>
              <a:rPr sz="3600"/>
            </a:b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Анализ правовых источников </a:t>
            </a:r>
            <a:br>
              <a:rPr sz="3600"/>
            </a:b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(учебник стр. 297)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Используя фрагменты из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857160" y="2714760"/>
            <a:ext cx="7772400" cy="387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Конституции РФ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67120" indent="-26712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Гражданско-процессуального кодекса РФ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67120" indent="-26712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Арбитражного процессуального кодекса РФ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67120" indent="-267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67120" indent="-267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Укажите,  каково соотношение статей указанных источников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67120" indent="-267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Укажите, в чем общее и особенное в задачах ГПК и АПК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9" name="Місце для нижнього колонтитула 2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696464"/>
                </a:solidFill>
                <a:latin typeface="Perpetu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Домашнее задание :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Параграф 25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Заполнить таблицу «Принципы гражданского процесса»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2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696464"/>
                </a:solidFill>
                <a:latin typeface="Perpetu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34401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Выполните задание ЕГЭ С5: </a:t>
            </a: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Какой смысл вкладывают обществоведы в понятие? Привлекая знания обществоведческого курса, составьте два предложения, содержащие информацию о данном понятии.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914040" y="4071600"/>
            <a:ext cx="2871720" cy="19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вариант: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ОБРАЗОВАНИЕ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857560" y="4142880"/>
            <a:ext cx="2825640" cy="18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I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вариант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ЗАНЯТОСТЬ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1" name="Місце для нижнього колонтитула 2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696464"/>
                </a:solidFill>
                <a:latin typeface="Perpetu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39402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Выполните задание ЕГЭ С8:  </a:t>
            </a:r>
            <a:r>
              <a:rPr b="0" lang="ru-RU" sz="3200" spc="-1" strike="noStrike">
                <a:solidFill>
                  <a:srgbClr val="696464"/>
                </a:solidFill>
                <a:latin typeface="Calibri"/>
              </a:rPr>
              <a:t>Вам поручено подготовить развернутый план по теме. Составьте план в соответствии с которым вы будете освещать эту тему. План должен содержать не менее трех пунктов, два или более из которых детализированы в подпунктах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914400" y="4142880"/>
            <a:ext cx="3749760" cy="18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I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 вариант 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«Социальное обеспечение»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285800" y="4142880"/>
            <a:ext cx="4397400" cy="18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II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 вариант «Профессиональ-ное образование»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5" name="Місце для нижнього колонтитула 2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696464"/>
                </a:solidFill>
                <a:latin typeface="Perpetu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План урока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Понятие «гражданский процесс»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Основные принципы гражданского процесса и категории исковых дел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Участники гражданского процесса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Доказательство и доказывание как процессуальные  средства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Стадии гражданского процесса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Арбитражный процесс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8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696464"/>
                </a:solidFill>
                <a:latin typeface="Perpetu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Судопроизводство - это 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деятельность судов по рассмотрению дел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Упорядоченные судебные действия, которые в последовательности представляют процесс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1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696464"/>
                </a:solidFill>
                <a:latin typeface="Perpetu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28400" y="274680"/>
            <a:ext cx="8258040" cy="18684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Гражданский процесс 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(гражданско-процессуальное право) - это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914400" y="2142720"/>
            <a:ext cx="7772400" cy="387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Отрасль права, регулирующая порядок рассмотрения и разрешения гражданских дел в суде      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780840" indent="-21708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порядок  и последовательность процессуальных действий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780840" indent="-21708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права и обязанности участников процесса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59200" indent="-2592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4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696464"/>
                </a:solidFill>
                <a:latin typeface="Perpetu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571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Calibri"/>
              </a:rPr>
              <a:t>Работа с текстом учебника: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1000080" y="1285560"/>
            <a:ext cx="7772400" cy="39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Найдите в тексте </a:t>
            </a:r>
            <a:r>
              <a:rPr b="0" i="1" lang="ru-RU" sz="3200" spc="-1" strike="noStrike">
                <a:solidFill>
                  <a:srgbClr val="ff0000"/>
                </a:solidFill>
                <a:latin typeface="Cambria"/>
              </a:rPr>
              <a:t>основные принципы гражданского процесса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(учебник стр. 288)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Заполните таблицу, используя материалы учебника и Главу 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II</a:t>
            </a: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 Конституции РФ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928800" y="4000680"/>
          <a:ext cx="7715160" cy="2595240"/>
        </p:xfrm>
        <a:graphic>
          <a:graphicData uri="http://schemas.openxmlformats.org/drawingml/2006/table">
            <a:tbl>
              <a:tblPr/>
              <a:tblGrid>
                <a:gridCol w="3857400"/>
                <a:gridCol w="3857760"/>
              </a:tblGrid>
              <a:tr h="2225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Принципы гражданского процессуального пра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Какое право человека и гражданина защищает данный принци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</a:tbl>
          </a:graphicData>
        </a:graphic>
      </p:graphicFrame>
      <p:sp>
        <p:nvSpPr>
          <p:cNvPr id="258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696464"/>
                </a:solidFill>
                <a:latin typeface="Perpetu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Категории (виды) дел </a:t>
            </a:r>
            <a:br>
              <a:rPr sz="3600"/>
            </a:b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в гражданском процессе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60" name="Содержимое 3" descr=""/>
          <p:cNvPicPr/>
          <p:nvPr/>
        </p:nvPicPr>
        <p:blipFill>
          <a:blip r:embed="rId1"/>
          <a:stretch/>
        </p:blipFill>
        <p:spPr>
          <a:xfrm>
            <a:off x="907920" y="1450800"/>
            <a:ext cx="7785360" cy="4572000"/>
          </a:xfrm>
          <a:prstGeom prst="rect">
            <a:avLst/>
          </a:prstGeom>
          <a:ln w="0">
            <a:noFill/>
          </a:ln>
        </p:spPr>
      </p:pic>
      <p:sp>
        <p:nvSpPr>
          <p:cNvPr id="261" name="Місце для нижнього колонтитула 2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696464"/>
                </a:solidFill>
                <a:latin typeface="Perpetu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УЧАСТНИКИ ГРАЖДАНСКОГО ПРОЦЕССА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63" name="Содержимое 3" descr=""/>
          <p:cNvPicPr/>
          <p:nvPr/>
        </p:nvPicPr>
        <p:blipFill>
          <a:blip r:embed="rId1"/>
          <a:stretch/>
        </p:blipFill>
        <p:spPr>
          <a:xfrm>
            <a:off x="907920" y="1420920"/>
            <a:ext cx="7785360" cy="4601880"/>
          </a:xfrm>
          <a:prstGeom prst="rect">
            <a:avLst/>
          </a:prstGeom>
          <a:ln w="0">
            <a:noFill/>
          </a:ln>
        </p:spPr>
      </p:pic>
      <p:sp>
        <p:nvSpPr>
          <p:cNvPr id="264" name="Місце для нижнього колонтитула 2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696464"/>
                </a:solidFill>
                <a:latin typeface="Perpetu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6-01-04T08:09:51Z</dcterms:modified>
  <cp:revision>14</cp:revision>
  <dc:subject/>
  <dc:title>Тема урока обществознания: «ПРОЦЕССУАЛЬНОЕ ПРАВО: ГРАЖДАНСКИЙ И АРБИТРАЖНЫЙ ПРОЦЕСС»</dc:title>
</cp:coreProperties>
</file>