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417-78AE-4E8C-A0F5-D016CD252D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 Ковд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 Томилова Алё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6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педаг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равонарушений среди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XII ученические чтения «Шаг в будуще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род  Ковдо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Томилова Алё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ица 6 «А» кла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руководитель: Старкова Мария Анатолье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проводилос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 №1,2,3 Ковдорского рай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ятся в вашей шк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е проводилос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ании анкетирования учащихс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 №1,2,3 Ковдорского райо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а включала следующие вопросы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мероприятия, направленные на предотвращение вредных привыче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одятся в вашей школ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акой форме вы получаете информаци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 ответственности подростков перед Законом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 вы думаете, почему подростки совершают преступлени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из мероприятий, названных вами в п.1,2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 считаете наиболее интересными и эффективными (полезными)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ишите ваше мнение, как можно сократить преступность в подростковой среде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1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1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вопрос 2 показа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веты на вопрос 2 показал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3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интересны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3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интересные меро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4 : Налич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4 : Налич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го эффекта от меро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5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5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ы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6: способы сокра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 6: способы сокращ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нуж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 формы профилактической работы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зывающие наибольший интерес у подростков, являются наиболе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ффективными» - опровергнута результатами исслед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иболее популярные среди подростков Декада «SOS» и тематические классные часы не заставляют ребят оказаться от вредных привычек и совершения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ьшинство опрошенных считают, что количество правонарушений в подростковой среде можно сократ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этого нуж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ще приглашать специалистов для бесед с подростками в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о демонстрировать подросткам негативные примеры поведения несовершеннолетних и рассказывать о том, как за это дети наказан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ь родителей работе с детьми и помогать им в этом, рассказывать родителям о том, что дети мечтают о большем внимании со стороны взросл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ть в школе условия для досуговой деятельности ребят «группы риска» и контролировать их досуг за пределами школ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ить Законодательство в сторону введения реальных мер наказания за такие правонарушения как уклонение от учебы, курение на территории школы, употребление спиртных напитков, уходы из дома и други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анализировать состояние профилактической работы в стране и в регион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ъект 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следова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кетирование подрост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кетирование подростко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еседа с социальными педагогами шко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сследования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ления, совершаемые несовершеннолетни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вляются наиболее опасным и широко распространенным явлением в наше время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подростк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ности в Ковдорском райо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а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рные межведомственные рей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 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филактика подростк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ступности в Ковдорском район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ованная работа всех ведомств и учреж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активное взаимодейств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ярные межведомственные рей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ческое объединение социальных педаг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ческая служба гор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твленная система 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388-2139-4906-A009-E26A387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78A-A07C-4DCB-84CE-1DA82233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8F0-C783-4E2B-BB6D-63F7253A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3BC-9E14-4AB3-90E0-E03D67ED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9EA-42EC-4E56-8C6C-F0915619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C9FA-41E6-447D-B364-9C09651C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08B-C64A-4B45-9EDA-D39AF4C3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AF3-74E0-469B-B977-2BE71405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3F51-8692-4C53-B603-B1936715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EAC-D4B9-431F-9F1A-E40D285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67C-4FFB-4FFC-97BA-92B14640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3A0-AD7C-4C3A-A5F9-F1EB8181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C781-666F-41E8-919F-0E6362E970F4}" type="datetime">
              <a:rPr b="0" lang="ru-RU" sz="12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5603-965B-486F-9738-8BA34EBE5F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7748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c00000"/>
                </a:solidFill>
                <a:latin typeface="Calibri"/>
              </a:rPr>
              <a:t>Профилактика правонарушений среди подростков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6008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XII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енические чтения «Шаг в будущее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город  Ковдо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TextBox 3" descr=""/>
          <p:cNvPicPr/>
          <p:nvPr/>
        </p:nvPicPr>
        <p:blipFill>
          <a:blip r:embed="rId1"/>
          <a:stretch/>
        </p:blipFill>
        <p:spPr>
          <a:xfrm>
            <a:off x="6480" y="1925640"/>
            <a:ext cx="4694040" cy="18651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dsc06407_001.jpg"/>
          <p:cNvPicPr/>
          <p:nvPr/>
        </p:nvPicPr>
        <p:blipFill>
          <a:blip r:embed="rId2"/>
          <a:stretch/>
        </p:blipFill>
        <p:spPr>
          <a:xfrm>
            <a:off x="4643280" y="1871640"/>
            <a:ext cx="4235760" cy="36590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3"/>
          <a:stretch/>
        </p:blipFill>
        <p:spPr>
          <a:xfrm>
            <a:off x="-42840" y="3591000"/>
            <a:ext cx="4938840" cy="1766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142920" y="21420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000"/>
                </a:solidFill>
                <a:latin typeface="Arial"/>
                <a:ea typeface="Arial"/>
              </a:rPr>
              <a:t>Проводимая профилактическая работа в учреждениях сегодня дает положительн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14240" y="1928880"/>
          <a:ext cx="7500960" cy="4322520"/>
        </p:xfrm>
        <a:graphic>
          <a:graphicData uri="http://schemas.openxmlformats.org/drawingml/2006/table">
            <a:tbl>
              <a:tblPr/>
              <a:tblGrid>
                <a:gridCol w="2500560"/>
                <a:gridCol w="2500200"/>
                <a:gridCol w="2500200"/>
              </a:tblGrid>
              <a:tr h="105228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Название О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сентябре 20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анные о состоящих на учете в январе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СОШ №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ОУ ООШ №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БСКОУ СКОШ №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ГАОУ МО СПО «КПК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"/>
          <p:cNvSpPr/>
          <p:nvPr/>
        </p:nvSpPr>
        <p:spPr>
          <a:xfrm>
            <a:off x="0" y="447840"/>
            <a:ext cx="8858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днако дела об административных и уголовных правонарушениях все же продолжают поступать на рассмотрение Комиссии по делам несовершеннолетни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что говорит о необходимости сделать профилактическую работу в регионе еще более эффективной, в чем может помочь настоящее исслед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Прямоугольник 3" descr=""/>
          <p:cNvPicPr/>
          <p:nvPr/>
        </p:nvPicPr>
        <p:blipFill>
          <a:blip r:embed="rId1"/>
          <a:stretch/>
        </p:blipFill>
        <p:spPr>
          <a:xfrm>
            <a:off x="49320" y="-79200"/>
            <a:ext cx="7613640" cy="18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"/>
          <p:cNvSpPr/>
          <p:nvPr/>
        </p:nvSpPr>
        <p:spPr>
          <a:xfrm>
            <a:off x="0" y="1285920"/>
            <a:ext cx="82868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Анкета включала следующие вопросы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мероприятия, направленные на предотвращение вредных привычек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роводятся в вашей школ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 какой форме вы получаете информацию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об ответственности подростков перед Закон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После проведения какого из названых вами в п.1,2 мероприятий в школе, вы или ваши друзья решили избавиться от какой-либо привычки или отказаться от мысли совершить правонарушени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 вы думаете, почему подростки совершают преступления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Какие из мероприятий, названных вами в п.1,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вы считаете наиболее интересными и эффективными (полезными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Times New Roman"/>
                <a:ea typeface="Arial"/>
              </a:rPr>
              <a:t>Напишите ваше мнение, как можно сократить преступность в подростковой среде?</a:t>
            </a:r>
            <a:r>
              <a:rPr b="0" lang="ru-RU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133200"/>
            <a:ext cx="6626160" cy="86040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2" descr=""/>
          <p:cNvPicPr/>
          <p:nvPr/>
        </p:nvPicPr>
        <p:blipFill>
          <a:blip r:embed="rId2"/>
          <a:stretch/>
        </p:blipFill>
        <p:spPr>
          <a:xfrm>
            <a:off x="281160" y="1066680"/>
            <a:ext cx="8508960" cy="55101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1" descr=""/>
          <p:cNvPicPr/>
          <p:nvPr/>
        </p:nvPicPr>
        <p:blipFill>
          <a:blip r:embed="rId1"/>
          <a:stretch/>
        </p:blipFill>
        <p:spPr>
          <a:xfrm>
            <a:off x="-158760" y="-92160"/>
            <a:ext cx="74437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Диаграмма 2" descr=""/>
          <p:cNvPicPr/>
          <p:nvPr/>
        </p:nvPicPr>
        <p:blipFill>
          <a:blip r:embed="rId2"/>
          <a:stretch/>
        </p:blipFill>
        <p:spPr>
          <a:xfrm>
            <a:off x="281160" y="1139760"/>
            <a:ext cx="8150040" cy="54324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1"/>
          <a:stretch/>
        </p:blipFill>
        <p:spPr>
          <a:xfrm>
            <a:off x="-182520" y="-92160"/>
            <a:ext cx="8759880" cy="15130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2" descr=""/>
          <p:cNvPicPr/>
          <p:nvPr/>
        </p:nvPicPr>
        <p:blipFill>
          <a:blip r:embed="rId2"/>
          <a:stretch/>
        </p:blipFill>
        <p:spPr>
          <a:xfrm>
            <a:off x="0" y="1285920"/>
            <a:ext cx="8931240" cy="49989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12600" y="201600"/>
            <a:ext cx="8742240" cy="12254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2" descr=""/>
          <p:cNvPicPr/>
          <p:nvPr/>
        </p:nvPicPr>
        <p:blipFill>
          <a:blip r:embed="rId2"/>
          <a:stretch/>
        </p:blipFill>
        <p:spPr>
          <a:xfrm>
            <a:off x="281160" y="1500120"/>
            <a:ext cx="800388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Диаграмма 2" descr=""/>
          <p:cNvPicPr/>
          <p:nvPr/>
        </p:nvPicPr>
        <p:blipFill>
          <a:blip r:embed="rId1"/>
          <a:stretch/>
        </p:blipFill>
        <p:spPr>
          <a:xfrm>
            <a:off x="0" y="1573200"/>
            <a:ext cx="9144000" cy="528480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3" descr=""/>
          <p:cNvPicPr/>
          <p:nvPr/>
        </p:nvPicPr>
        <p:blipFill>
          <a:blip r:embed="rId2"/>
          <a:stretch/>
        </p:blipFill>
        <p:spPr>
          <a:xfrm>
            <a:off x="-298440" y="-146160"/>
            <a:ext cx="7510320" cy="2614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-231840" y="103320"/>
            <a:ext cx="9236160" cy="1628640"/>
          </a:xfrm>
          <a:prstGeom prst="rect">
            <a:avLst/>
          </a:prstGeom>
          <a:ln w="0">
            <a:noFill/>
          </a:ln>
        </p:spPr>
      </p:pic>
      <p:pic>
        <p:nvPicPr>
          <p:cNvPr id="103" name="Диаграмма 3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9004320" cy="52848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-212760"/>
            <a:ext cx="8412120" cy="6784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3760" y="-23760"/>
            <a:ext cx="5711760" cy="1968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3"/>
          <p:cNvSpPr/>
          <p:nvPr/>
        </p:nvSpPr>
        <p:spPr>
          <a:xfrm>
            <a:off x="395280" y="105264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  <a:ea typeface="Arial"/>
              </a:rPr>
              <a:t>выявить наиболее эффективные методы работы по профилактике подростковой преступности, опираясь на интересы и мнение самих подростк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-128520" y="225360"/>
            <a:ext cx="9339120" cy="38466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1928880" y="335772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ff99"/>
                </a:solidFill>
                <a:latin typeface="Arial"/>
                <a:ea typeface="Arial"/>
              </a:rPr>
              <a:t>Сегодня очень важно не упустить момент – предотвратить распространение преступности в подростковой сред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Прямоугольник 1" descr=""/>
          <p:cNvPicPr/>
          <p:nvPr/>
        </p:nvPicPr>
        <p:blipFill>
          <a:blip r:embed="rId1"/>
          <a:stretch/>
        </p:blipFill>
        <p:spPr>
          <a:xfrm>
            <a:off x="-30240" y="19080"/>
            <a:ext cx="3511800" cy="145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10785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1. Проанализировать состояние профилактической работы в стране и в регион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2. Выявить и проанализировать основные направления в профилактической работе школ Ковдорского район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3.  Установить (с помощью метода анкетирования) наиболее интересные и эффективные для самих подростков способы профилактики 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1" descr=""/>
          <p:cNvPicPr/>
          <p:nvPr/>
        </p:nvPicPr>
        <p:blipFill>
          <a:blip r:embed="rId1"/>
          <a:stretch/>
        </p:blipFill>
        <p:spPr>
          <a:xfrm>
            <a:off x="-244440" y="-128520"/>
            <a:ext cx="6664320" cy="18478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427640" y="-603360"/>
            <a:ext cx="471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  <a:ea typeface="Arial"/>
              </a:rPr>
              <a:t>учащиеся школ Ковдорского района, в возрасте от 11 до 14 лет, входящие в «группу риск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Рисунок 3" descr="IMG_0066(1).jpg"/>
          <p:cNvPicPr/>
          <p:nvPr/>
        </p:nvPicPr>
        <p:blipFill>
          <a:blip r:embed="rId2"/>
          <a:stretch/>
        </p:blipFill>
        <p:spPr>
          <a:xfrm>
            <a:off x="179280" y="1413000"/>
            <a:ext cx="4248360" cy="28080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3"/>
          <a:stretch/>
        </p:blipFill>
        <p:spPr>
          <a:xfrm>
            <a:off x="-244440" y="4237200"/>
            <a:ext cx="4919760" cy="18460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284720" y="4334040"/>
            <a:ext cx="4859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Arial"/>
              </a:rPr>
              <a:t>профилактическая работа педагогов школ города Ковдора с подростками от 11 до 14 лет, склонными к девиантному повед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Прямоугольник 1" descr=""/>
          <p:cNvPicPr/>
          <p:nvPr/>
        </p:nvPicPr>
        <p:blipFill>
          <a:blip r:embed="rId1"/>
          <a:stretch/>
        </p:blipFill>
        <p:spPr>
          <a:xfrm>
            <a:off x="433440" y="12600"/>
            <a:ext cx="4187880" cy="19321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900000" y="1197000"/>
            <a:ext cx="7920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Arial"/>
              </a:rPr>
              <a:t>формы профилактической работы, вызывающие наибольший интерес у подростков, являются самыми эффективным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0" y="589680"/>
            <a:ext cx="845964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изучение списка несовершеннолетних, состоящих на профилактическом учете в Комиссии по делам несовершеннолетних и защите их прав Ковдорского района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изучение нормативной базы по профилактике преступлений в подростковой среде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анкетирование подростков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Arial"/>
              </a:rPr>
              <a:t>беседа с социальными педагогами шко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1"/>
          <a:stretch/>
        </p:blipFill>
        <p:spPr>
          <a:xfrm>
            <a:off x="0" y="-176040"/>
            <a:ext cx="8163000" cy="15602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0" y="16200"/>
            <a:ext cx="78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Преступления, совершаемые несовершеннолетними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являются наиболее опасным и широко распространенным явлением в наше время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714680" y="200016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Охрана жизни и  здоровья несовершеннолетних является одним из важнейших факторов сохранения стабильности демографического состояния государства. Активная реализация общероссийских тенденций в сфере профилактики, позволила переломить ситуацию в нашем регио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Рисунок 3" descr="IMG_1155.jpg"/>
          <p:cNvPicPr/>
          <p:nvPr/>
        </p:nvPicPr>
        <p:blipFill>
          <a:blip r:embed="rId1"/>
          <a:stretch/>
        </p:blipFill>
        <p:spPr>
          <a:xfrm>
            <a:off x="5929200" y="5000760"/>
            <a:ext cx="3214800" cy="18572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-219240" y="-96840"/>
            <a:ext cx="910116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6:19:36Z</dcterms:created>
  <dc:creator>user</dc:creator>
  <dc:description/>
  <dc:language>en-US</dc:language>
  <cp:lastModifiedBy>LEGION</cp:lastModifiedBy>
  <dcterms:modified xsi:type="dcterms:W3CDTF">2016-01-04T08:09:40Z</dcterms:modified>
  <cp:revision>48</cp:revision>
  <dc:subject/>
  <dc:title>Профилактика правонарушений среди подростков</dc:title>
</cp:coreProperties>
</file>