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D6BE-733E-4BD0-96E3-0054113DC4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равонарушений среди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II ученические чтения «Шаг в будуще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  Ковд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Томилова Алё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6 «А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руководитель: Старкова Мария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педаг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ка правонарушений среди подрост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XII ученические чтения «Шаг в будуще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  Ковдо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р: Томилова Алё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ица 6 «А» клас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№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ый руководитель: Старкова Мария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ый педаго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№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проводило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анкетирования уча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 №1,2,3 Ковдорского рай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включала следующи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мероприятия, направленные на предотвращение вредных привыч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ятся в вашей шко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форме вы получаете информац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ответственности подростков перед Закон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думаете, почему подростки совершают преступ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из мероприятий, названных вами в п.1,2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считаете наиболее интересными и эффективными (полезными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ите ваше мнение, как можно сократить преступность в подростковой сред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следование проводилос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основании анкетирования учащихс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 №1,2,3 Ковдорского райо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кета включала следующие вопросы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мероприятия, направленные на предотвращение вредных привычек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одятся в вашей школ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акой форме вы получаете информацию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 ответственности подростков перед Законом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 вы думаете, почему подростки совершают преступлени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из мероприятий, названных вами в п.1,2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 считаете наиболее интересными и эффективными (полезными)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ишите ваше мнение, как можно сократить преступность в подростковой среде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на вопрос 1 показа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ы на вопрос 1 показа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на вопрос 2 показа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ы на вопрос 2 показа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нтересные 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3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более интересные мероприя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 : Налич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го эффекта от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4 : Налич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ого эффекта от мероприя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подростк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5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чины подростк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6: способы сокра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6: способы сокращ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: формы профилактической рабо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ывающие наибольший интерес у подростков, являются наи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ыми» - опровергнута результатами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популярные среди подростков Декада «SOS» и тематические классные часы не заставляют ребят оказаться от вредных привычек и совершения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опрошенных считают, что количество правонарушений в подростковой среде можно сократ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нуж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приглашать специалистов для бесед с подростками в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о демонстрировать подросткам негативные примеры поведения несовершеннолетних и рассказывать о том, как за это дети наказ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родителей работе с детьми и помогать им в этом, рассказывать родителям о том, что дети мечтают о большем внимании со стороны взросл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потеза: формы профилактической работы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зывающие наибольший интерес у подростков, являются наиболе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ффективными» - опровергнута результатами исследова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более популярные среди подростков Декада «SOS» и тематические классные часы не заставляют ребят оказаться от вредных привычек и совершения правонару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ьшинство опрошенных считают, что количество правонарушений в подростковой среде можно сократи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этого нужн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ще приглашать специалистов для бесед с подростками в школ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ярно демонстрировать подросткам негативные примеры поведения несовершеннолетних и рассказывать о том, как за это дети наказан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ить родителей работе с детьми и помогать им в этом, рассказывать родителям о том, что дети мечтают о большем внимании со стороны взрослых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ь рабо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вать в школе условия для досуговой деятельности ребят «группы риска» и контролировать их досуг за пределами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ить Законодательство в сторону введения реальных мер наказания за такие правонарушения как уклонение от учебы, курение на территории школы, употребление спиртных напитков, уходы из дома и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вать в школе условия для досуговой деятельности ребят «группы риска» и контролировать их досуг за пределами школ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ить Законодательство в сторону введения реальных мер наказания за такие правонарушения как уклонение от учебы, курение на территории школы, употребление спиртных напитков, уходы из дома и други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анализировать состояние профилактической работы в стране и в реги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роанализировать состояние профилактической работы в стране и в регион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школ Ковдорского района, в возрасте от 11 до 14 лет, входящие в «группу рис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щиеся школ Ковдорского района, в возрасте от 11 до 14 лет, входящие в «группу риск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следова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потез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рмативной базы по профилактике преступлений в подростковой сре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ирование подростк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а с социальными педагогами шк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нормативной базы по профилактике преступлений в подростковой сред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кетирование подростков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седа с социальными педагогами шко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исследования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, совершаемые несовершеннолетни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наиболее опасным и широко распространенным явлением в наше время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ления, совершаемые несовершеннолетни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вляются наиболее опасным и широко распространенным явлением в наше время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одростк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 в Ковдорском райо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ая работа всех ведомств и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а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ые межведомственные рей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 объединение социальных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служба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енная система дополните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ка подростк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 в Ковдорском район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ованная работа всех ведомств и учрежд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активное взаимодейств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ярные межведомственные рей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ческое объединение социальных педагог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ческая служба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етвленная система дополнительного образ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07DA-5D6F-467B-B0E1-895F1273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7D94-1EDA-4113-A4ED-4CA00699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202-5EE8-42AC-A3A8-E839EAEA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E1A-0CFA-4B39-9D87-0ADA558A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E63-D784-4D37-A6BE-1559616C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A1E8-9214-4D9F-9BC5-E984DE6C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01F-9A00-4AFE-A591-4919C54E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767-3CD1-4D3E-BCCC-A6289B26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EB4C-3E29-4245-89C7-2BA70CFF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F65-1ED4-4C9C-9CA7-C552E993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0D7-7D2F-404E-A97F-2678C34D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76DB-BD24-46D7-B131-38683632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91B7-9D12-4F01-B1A0-A8BF15E4FF55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DFC4-4AAF-4FF2-AFA0-118F93815D6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7748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00000"/>
                </a:solidFill>
                <a:latin typeface="Calibri"/>
              </a:rPr>
              <a:t>Профилактика правонарушений среди подростков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600880"/>
            <a:ext cx="914400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XII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ченические чтения «Шаг в будущее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город  Ковдо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TextBox 3" descr=""/>
          <p:cNvPicPr/>
          <p:nvPr/>
        </p:nvPicPr>
        <p:blipFill>
          <a:blip r:embed="rId1"/>
          <a:stretch/>
        </p:blipFill>
        <p:spPr>
          <a:xfrm>
            <a:off x="6480" y="1925640"/>
            <a:ext cx="4694040" cy="1865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dsc06407_001.jpg"/>
          <p:cNvPicPr/>
          <p:nvPr/>
        </p:nvPicPr>
        <p:blipFill>
          <a:blip r:embed="rId2"/>
          <a:stretch/>
        </p:blipFill>
        <p:spPr>
          <a:xfrm>
            <a:off x="4643280" y="1871640"/>
            <a:ext cx="4235760" cy="36590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3"/>
          <a:stretch/>
        </p:blipFill>
        <p:spPr>
          <a:xfrm>
            <a:off x="-42840" y="3591000"/>
            <a:ext cx="4938840" cy="1766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42920" y="21420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14240" y="1928880"/>
          <a:ext cx="7500960" cy="4322520"/>
        </p:xfrm>
        <a:graphic>
          <a:graphicData uri="http://schemas.openxmlformats.org/drawingml/2006/table">
            <a:tbl>
              <a:tblPr/>
              <a:tblGrid>
                <a:gridCol w="2500560"/>
                <a:gridCol w="2500200"/>
                <a:gridCol w="2500200"/>
              </a:tblGrid>
              <a:tr h="10522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звание О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анные о состоящих на учете в сентябре 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анные о состоящих на учете в январе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СОШ №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ООШ №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ООШ №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СКОУ СКОШ №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АОУ МО СПО «КПК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447840"/>
            <a:ext cx="8858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3" descr=""/>
          <p:cNvPicPr/>
          <p:nvPr/>
        </p:nvPicPr>
        <p:blipFill>
          <a:blip r:embed="rId1"/>
          <a:stretch/>
        </p:blipFill>
        <p:spPr>
          <a:xfrm>
            <a:off x="49320" y="-79200"/>
            <a:ext cx="7613640" cy="1895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0" y="1285920"/>
            <a:ext cx="8286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Анкета включала следующие вопросы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ие мероприятия, направленные на предотвращение вредных привычек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проводятся в вашей школ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В какой форме вы получаете информацию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об ответственности подростков перед Законом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 вы думаете, почему подростки совершают преступления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ие из мероприятий, названных вами в п.1,2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вы считаете наиболее интересными и эффективными (полезными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Напишите ваше мнение, как можно сократить преступность в подростковой среде?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1" descr=""/>
          <p:cNvPicPr/>
          <p:nvPr/>
        </p:nvPicPr>
        <p:blipFill>
          <a:blip r:embed="rId1"/>
          <a:stretch/>
        </p:blipFill>
        <p:spPr>
          <a:xfrm>
            <a:off x="-128520" y="133200"/>
            <a:ext cx="6626160" cy="860400"/>
          </a:xfrm>
          <a:prstGeom prst="rect">
            <a:avLst/>
          </a:prstGeom>
          <a:ln w="0">
            <a:noFill/>
          </a:ln>
        </p:spPr>
      </p:pic>
      <p:pic>
        <p:nvPicPr>
          <p:cNvPr id="88" name="Диаграмма 2" descr=""/>
          <p:cNvPicPr/>
          <p:nvPr/>
        </p:nvPicPr>
        <p:blipFill>
          <a:blip r:embed="rId2"/>
          <a:stretch/>
        </p:blipFill>
        <p:spPr>
          <a:xfrm>
            <a:off x="281160" y="1066680"/>
            <a:ext cx="8508960" cy="55101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1" descr=""/>
          <p:cNvPicPr/>
          <p:nvPr/>
        </p:nvPicPr>
        <p:blipFill>
          <a:blip r:embed="rId1"/>
          <a:stretch/>
        </p:blipFill>
        <p:spPr>
          <a:xfrm>
            <a:off x="-158760" y="-92160"/>
            <a:ext cx="7443720" cy="963720"/>
          </a:xfrm>
          <a:prstGeom prst="rect">
            <a:avLst/>
          </a:prstGeom>
          <a:ln w="0">
            <a:noFill/>
          </a:ln>
        </p:spPr>
      </p:pic>
      <p:pic>
        <p:nvPicPr>
          <p:cNvPr id="91" name="Диаграмма 2" descr=""/>
          <p:cNvPicPr/>
          <p:nvPr/>
        </p:nvPicPr>
        <p:blipFill>
          <a:blip r:embed="rId2"/>
          <a:stretch/>
        </p:blipFill>
        <p:spPr>
          <a:xfrm>
            <a:off x="281160" y="1139760"/>
            <a:ext cx="8150040" cy="5432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1" descr=""/>
          <p:cNvPicPr/>
          <p:nvPr/>
        </p:nvPicPr>
        <p:blipFill>
          <a:blip r:embed="rId1"/>
          <a:stretch/>
        </p:blipFill>
        <p:spPr>
          <a:xfrm>
            <a:off x="-182520" y="-92160"/>
            <a:ext cx="8759880" cy="151308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2" descr=""/>
          <p:cNvPicPr/>
          <p:nvPr/>
        </p:nvPicPr>
        <p:blipFill>
          <a:blip r:embed="rId2"/>
          <a:stretch/>
        </p:blipFill>
        <p:spPr>
          <a:xfrm>
            <a:off x="0" y="1285920"/>
            <a:ext cx="8931240" cy="49989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1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8742240" cy="1225440"/>
          </a:xfrm>
          <a:prstGeom prst="rect">
            <a:avLst/>
          </a:prstGeom>
          <a:ln w="0">
            <a:noFill/>
          </a:ln>
        </p:spPr>
      </p:pic>
      <p:pic>
        <p:nvPicPr>
          <p:cNvPr id="97" name="Диаграмма 2" descr=""/>
          <p:cNvPicPr/>
          <p:nvPr/>
        </p:nvPicPr>
        <p:blipFill>
          <a:blip r:embed="rId2"/>
          <a:stretch/>
        </p:blipFill>
        <p:spPr>
          <a:xfrm>
            <a:off x="281160" y="1500120"/>
            <a:ext cx="800388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Диаграмма 2" descr=""/>
          <p:cNvPicPr/>
          <p:nvPr/>
        </p:nvPicPr>
        <p:blipFill>
          <a:blip r:embed="rId1"/>
          <a:stretch/>
        </p:blipFill>
        <p:spPr>
          <a:xfrm>
            <a:off x="0" y="1573200"/>
            <a:ext cx="9144000" cy="52848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-298440" y="-146160"/>
            <a:ext cx="7510320" cy="26146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-231840" y="103320"/>
            <a:ext cx="9236160" cy="1628640"/>
          </a:xfrm>
          <a:prstGeom prst="rect">
            <a:avLst/>
          </a:prstGeom>
          <a:ln w="0">
            <a:noFill/>
          </a:ln>
        </p:spPr>
      </p:pic>
      <p:pic>
        <p:nvPicPr>
          <p:cNvPr id="103" name="Диаграмма 3" descr=""/>
          <p:cNvPicPr/>
          <p:nvPr/>
        </p:nvPicPr>
        <p:blipFill>
          <a:blip r:embed="rId2"/>
          <a:stretch/>
        </p:blipFill>
        <p:spPr>
          <a:xfrm>
            <a:off x="139680" y="1573200"/>
            <a:ext cx="9004320" cy="5284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1" descr=""/>
          <p:cNvPicPr/>
          <p:nvPr/>
        </p:nvPicPr>
        <p:blipFill>
          <a:blip r:embed="rId1"/>
          <a:stretch/>
        </p:blipFill>
        <p:spPr>
          <a:xfrm>
            <a:off x="73080" y="-212760"/>
            <a:ext cx="8412120" cy="6784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23760" y="-23760"/>
            <a:ext cx="5711760" cy="19684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395280" y="105264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  <a:ea typeface="Arial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1" descr=""/>
          <p:cNvPicPr/>
          <p:nvPr/>
        </p:nvPicPr>
        <p:blipFill>
          <a:blip r:embed="rId1"/>
          <a:stretch/>
        </p:blipFill>
        <p:spPr>
          <a:xfrm>
            <a:off x="-128520" y="225360"/>
            <a:ext cx="9339120" cy="38466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1928880" y="33577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99"/>
                </a:solidFill>
                <a:latin typeface="Arial"/>
                <a:ea typeface="Arial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-30240" y="19080"/>
            <a:ext cx="3511800" cy="1455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10785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1. Проанализировать состояние профилактической работы в стране и в регион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1"/>
          <a:stretch/>
        </p:blipFill>
        <p:spPr>
          <a:xfrm>
            <a:off x="-244440" y="-128520"/>
            <a:ext cx="6664320" cy="18478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4427640" y="-603360"/>
            <a:ext cx="47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учащиеся школ Ковдорского района, в возрасте от 11 до 14 лет, входящие в «группу рис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Рисунок 3" descr="IMG_0066(1).jpg"/>
          <p:cNvPicPr/>
          <p:nvPr/>
        </p:nvPicPr>
        <p:blipFill>
          <a:blip r:embed="rId2"/>
          <a:stretch/>
        </p:blipFill>
        <p:spPr>
          <a:xfrm>
            <a:off x="179280" y="1413000"/>
            <a:ext cx="4248360" cy="2808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" descr=""/>
          <p:cNvPicPr/>
          <p:nvPr/>
        </p:nvPicPr>
        <p:blipFill>
          <a:blip r:embed="rId3"/>
          <a:stretch/>
        </p:blipFill>
        <p:spPr>
          <a:xfrm>
            <a:off x="-244440" y="4237200"/>
            <a:ext cx="4919760" cy="18460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4284720" y="4334040"/>
            <a:ext cx="4859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1" descr=""/>
          <p:cNvPicPr/>
          <p:nvPr/>
        </p:nvPicPr>
        <p:blipFill>
          <a:blip r:embed="rId1"/>
          <a:stretch/>
        </p:blipFill>
        <p:spPr>
          <a:xfrm>
            <a:off x="433440" y="12600"/>
            <a:ext cx="4187880" cy="19321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900000" y="1197000"/>
            <a:ext cx="7920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  <a:ea typeface="Arial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589680"/>
            <a:ext cx="845964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Calibri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изучение нормативной базы по профилактике преступлений в подростковой сред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анкетирование подростков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беседа с социальными педагогами шко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0" y="-176040"/>
            <a:ext cx="8163000" cy="15602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0" y="16200"/>
            <a:ext cx="7812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  <a:ea typeface="Times New Roman"/>
              </a:rPr>
              <a:t>Преступления, совершаемые несовершеннолетними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  <a:ea typeface="Times New Roman"/>
              </a:rPr>
              <a:t>являются наиболее опасным и широко распространенным явлением в наше время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714680" y="2000160"/>
            <a:ext cx="657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Рисунок 3" descr="IMG_1155.jpg"/>
          <p:cNvPicPr/>
          <p:nvPr/>
        </p:nvPicPr>
        <p:blipFill>
          <a:blip r:embed="rId1"/>
          <a:stretch/>
        </p:blipFill>
        <p:spPr>
          <a:xfrm>
            <a:off x="5929200" y="5000760"/>
            <a:ext cx="3214800" cy="1857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1" descr=""/>
          <p:cNvPicPr/>
          <p:nvPr/>
        </p:nvPicPr>
        <p:blipFill>
          <a:blip r:embed="rId1"/>
          <a:stretch/>
        </p:blipFill>
        <p:spPr>
          <a:xfrm>
            <a:off x="-219240" y="-96840"/>
            <a:ext cx="9101160" cy="42181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6:19:36Z</dcterms:created>
  <dc:creator>user</dc:creator>
  <dc:description/>
  <dc:language>en-US</dc:language>
  <cp:lastModifiedBy>LEGION</cp:lastModifiedBy>
  <dcterms:modified xsi:type="dcterms:W3CDTF">2016-01-04T08:09:40Z</dcterms:modified>
  <cp:revision>48</cp:revision>
  <dc:subject/>
  <dc:title>Профилактика правонарушений среди подростков</dc:title>
</cp:coreProperties>
</file>