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70EF-CC4A-4A61-843C-3EEECDF3BD7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№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№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денное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ыденное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е – обладают юристы, специалисты-пр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е (теоретическое)  - источник право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ое – обладают юристы, специалисты-прак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ное (теоретическое)  - источник правотвор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   правового с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ет явления, связанные с пра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уется многими поколениями, характеризуется преем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знание правовых явлений через юридические понятия и катег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   правового со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ражает явления, связанные с пра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уется многими поколениями, характеризуется преемствен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знание правовых явлений через юридические понятия и категор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широком смысле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 смысле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зком смысле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нигилизм - отрицание правовых установ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 идеализм - возвеличивание ро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куль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нигилизм - отрицание правовых установ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идеализм - возвеличивание роли пра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правового нигилиз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Юридическое невеж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стал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овая невоспитанность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езнани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правового нигилизм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Юридическое невеж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Отст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Правовая невоспитанность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Незнание пра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воспитание общества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а законод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и право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я судебной защиты прав и свобод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я раскрытия преступ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е воспитание общества зависи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а законода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ки правоприме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я судебной защиты прав и свобод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ня раскрытия преступл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правового вос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воспитание и само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 в 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правовых знаний через С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е права в образовательны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ризация правовых знаний учеными-юрис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юридической уче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правового воспит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воспитание и сам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правовой культуры в семь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ие правовых знаний через С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подавание права в образовательных учреж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пуляризация правовых знаний учеными-юрис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юридической учеб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№ 1, 2,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§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№ 1, 2,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де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созн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де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истема правовых чувств, эмоций, настроений, выражающих отношение людей к пра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псих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истема правовых чувств, эмоций, настроений, выражающих отношение людей к прав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иде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иде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знания –информация о различных сторонах правовой системы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эмоции – чувственное отношение к праву в форме позитивных и негативных пережи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ые знания –информация о различных сторонах правовой системы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ые эмоции – чувственное отношение к праву в форме позитивных и негативных пережив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установк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правн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ая установка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 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мер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ивоправное по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по субъек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–отношение к праву отдельного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рупповое – отношение к праву групп и коллективов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щественное – правовые идеи, взгляд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сознание по субъект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ое –отношение к праву отдельного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лективное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Групповое – отношение к праву групп и коллективов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Общественное – правовые идеи, взгляды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и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4D3D-F849-45D5-A967-141D5C59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2526-AE57-4139-9791-C1452710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8846-5C14-4BF3-82C8-B6591937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EFA-B870-48C5-A487-8FE9B687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2237-FD6B-4043-9DAC-436CAD79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54E5-5466-46DA-9864-B8668E77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3283-BACE-4BA6-BD51-CF5B0362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B703-CD98-455F-886D-DCEC7DE1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F0C5-10AE-46E6-85D1-4C0C5E8E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6A32-B5F1-482C-BF0F-4632F234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7CF6-19C3-48E2-BB4C-201B2614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E7E2-7A2A-4D97-BEA9-04570727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496F-2EB1-40A2-A1E0-705659A4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D4CC-E86F-4905-BC3E-9962B101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5A40-77F0-4AF4-9509-D754D5E3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07BE-41EC-423A-A662-59D3ECDC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43CA-54C1-4A8E-9FEB-B2958D22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80CB1-9AC5-4A33-81A8-DE4C2564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122D2F-5984-43D9-B69D-4F537B05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F02F7-1A47-4F3B-8D60-C29620A0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A5D9E-6CD6-4CD3-82E1-26144BB6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FD36F-5B93-4D43-B5F4-6D5A72D4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62B2-617A-45EC-AEBE-BF29A7A4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7043EB-2660-49D6-A40C-A05BDE91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F7A38-8AB3-4497-8660-4F51C778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98FAB-9430-47D7-8076-E6BFCB3A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5FB6B-0D0F-4F30-B2D1-05FC1362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89A94B-0B2E-4BFA-9B30-9337A054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7F916E-A1BE-45EF-9B55-AB4913A0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24C71-3D0B-4A26-8A68-1123B051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BCD0C-F8D9-43A4-A02F-BD1CB032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38E2E-B777-4CF6-BCF3-B260D09A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E7361-CA9F-4371-A860-D9818F78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DBF0-57F5-41CD-BA50-38092F50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4EC6F-375F-4C3E-8297-F71D6C9E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23A66-C005-4C77-83AB-FDB66499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D2489-0720-4B9E-AD5F-FD3C8D03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4958C-4186-4D8C-A547-C5069C64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FC00A-97EC-42D4-BD32-74D9F24E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D54F5-41CA-4692-8F23-BAC7C83F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24E49-C750-4808-9474-C8B4DDF1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C4BDA-9929-44AD-A7A4-F28512EF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23792-4BBB-40FB-B5F0-07BC0579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F9DE-44AA-4F60-B0D0-AACA4088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A56C-22AE-45C5-A64E-FEBC515A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8A66-F2FE-4D92-9541-3E891364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B685-8727-4B22-9B1B-EE059729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5B17-985A-4D7C-9321-656202C6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2491-67A3-4E01-8B09-3A3407997CB9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A74E-89DD-4DC7-B9B0-5D7DF9B3FA1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4CF5-FFB7-45D0-ADBA-E45FC0C5EA81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60E0-7491-4163-870A-E536855A3B2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942A-8CF4-45FA-97FE-7B4EB9EC1E24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A6DB-04A8-432A-ADC3-623626A5E0E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A37E-6D65-4B55-B840-6F68B1699E93}" type="datetime">
              <a:rPr b="0" lang="ru-RU" sz="800" spc="-1" strike="noStrike">
                <a:solidFill>
                  <a:srgbClr val="438086"/>
                </a:solidFill>
                <a:latin typeface="Georgia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8FF4-D7BA-4BB5-BBC3-2F91FFE9752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5480" y="2357280"/>
            <a:ext cx="8458200" cy="175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Правосознание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                               и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286080" y="4142880"/>
            <a:ext cx="5857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4456"/>
                </a:solidFill>
                <a:latin typeface="Times New Roman"/>
              </a:rPr>
              <a:t>правовая культура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569640" y="591804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 №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066160" cy="16556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362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ыд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эмпирическое) - складывается стихийно, под влиянием конкретных жизненных условий, отражает непосредственно воспринимаемые конкретные правовые явл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18440" cy="17096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сознание от уровня отражения правовой действительност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3141360"/>
            <a:ext cx="84358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бладают юристы, специалисты-практик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ауч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теоретическое)  - источник правотворче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3"/>
          <p:cNvSpPr/>
          <p:nvPr/>
        </p:nvSpPr>
        <p:spPr>
          <a:xfrm>
            <a:off x="2627280" y="2852640"/>
            <a:ext cx="3786120" cy="135756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Особенности    правового со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755640" y="620640"/>
            <a:ext cx="3065400" cy="172872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Отражает явления, связанные с пра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7"/>
          <p:cNvSpPr/>
          <p:nvPr/>
        </p:nvSpPr>
        <p:spPr>
          <a:xfrm>
            <a:off x="2411280" y="4581360"/>
            <a:ext cx="4176720" cy="172728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Формируется многими поколениями, характеризуется преемств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8"/>
          <p:cNvSpPr/>
          <p:nvPr/>
        </p:nvSpPr>
        <p:spPr>
          <a:xfrm>
            <a:off x="4716360" y="642960"/>
            <a:ext cx="3498840" cy="1633680"/>
          </a:xfrm>
          <a:prstGeom prst="rect">
            <a:avLst/>
          </a:prstGeom>
          <a:solidFill>
            <a:srgbClr val="d6d7e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52e1f"/>
                </a:solidFill>
                <a:latin typeface="Georgia"/>
              </a:rPr>
              <a:t>Осознание правовых явлений через юридические понятия и катег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Соединительная линия уступом 16"/>
          <p:cNvCxnSpPr/>
          <p:nvPr/>
        </p:nvCxnSpPr>
        <p:spPr>
          <a:xfrm rot="5400000">
            <a:off x="4464000" y="3609000"/>
            <a:ext cx="357840" cy="286200"/>
          </a:xfrm>
          <a:prstGeom prst="bentConnector3">
            <a:avLst>
              <a:gd name="adj1" fmla="val 12386"/>
            </a:avLst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6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066680"/>
          </a:xfrm>
          <a:prstGeom prst="rect">
            <a:avLst/>
          </a:prstGeom>
          <a:solidFill>
            <a:srgbClr val="add2d6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3f68"/>
                </a:solidFill>
                <a:latin typeface="Times New Roman"/>
              </a:rPr>
              <a:t>Правовая культур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41e3"/>
                </a:solidFill>
                <a:latin typeface="Times New Roman"/>
              </a:rPr>
              <a:t>В широком смысле</a:t>
            </a:r>
            <a:r>
              <a:rPr b="1" lang="ru-RU" sz="3600" spc="-1" strike="noStrike">
                <a:solidFill>
                  <a:srgbClr val="3e3f68"/>
                </a:solidFill>
                <a:latin typeface="Times New Roman"/>
              </a:rPr>
              <a:t> – все правовые ценности, созданные в правовой сфере (законодательство, правовая наука, система правоохранительных и судебных органов)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2249640"/>
            <a:ext cx="86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41e3"/>
                </a:solidFill>
                <a:latin typeface="Times New Roman"/>
              </a:rPr>
              <a:t>В узком смысле</a:t>
            </a:r>
            <a:r>
              <a:rPr b="1" lang="ru-RU" sz="3200" spc="-1" strike="noStrike">
                <a:solidFill>
                  <a:srgbClr val="3e3f68"/>
                </a:solidFill>
                <a:latin typeface="Times New Roman"/>
              </a:rPr>
              <a:t> – определенный уровень правосознания, включающий  в себя знание действующих законов, их понимание, соблюдение и применение, нетерпимое отношение к любым нарушениям законност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9360">
            <a:solidFill>
              <a:srgbClr val="53548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Arial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611280" y="37861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индивидуаль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292720" y="386064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обществен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6"/>
          <p:cNvSpPr/>
          <p:nvPr/>
        </p:nvSpPr>
        <p:spPr>
          <a:xfrm flipH="1">
            <a:off x="2555640" y="256536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4500720" y="2565360"/>
            <a:ext cx="2016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Правовая куль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539640" y="256536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овой нигилиз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трицание правовых установо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авовой идеализ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возвеличивание роли пра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5940360" y="5950080"/>
            <a:ext cx="35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24456"/>
                </a:solidFill>
                <a:latin typeface="Times New Roman"/>
              </a:rPr>
              <a:t>Причины правового нигилизма</a:t>
            </a:r>
            <a:r>
              <a:rPr b="1" lang="ru-RU" sz="4000" spc="-1" strike="noStrike">
                <a:solidFill>
                  <a:srgbClr val="424456"/>
                </a:solidFill>
                <a:latin typeface="Georgia"/>
              </a:rPr>
              <a:t>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Юридическое невежество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тсталост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равовая невоспитанность насел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Незнание пра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0670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</a:rPr>
              <a:t>Правовое воспитание общества зависит от: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чества законодатель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актики правоприменен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ояния судебной защиты прав и свобод челове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овня раскрытия преступлени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106704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</a:rPr>
              <a:t>Формы правового воспита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воспитание и самообразова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правовой культуры в семь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остранение правовых знаний через С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подавание права в образовательных учреждения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уляризация правовых знаний учеными-юристам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стема юридической учеб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24456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14240" y="2286000"/>
            <a:ext cx="77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f68"/>
                </a:solidFill>
                <a:latin typeface="Times New Roman"/>
              </a:rPr>
              <a:t>§</a:t>
            </a: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Задание № 1, 2, 3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add2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сознание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14240" y="2286000"/>
            <a:ext cx="7786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e3f68"/>
                </a:solidFill>
                <a:latin typeface="Times New Roman"/>
              </a:rPr>
              <a:t>это форма общественного сознания, выражающая представления и чувства людей о праве и регулируемом им поведени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Выноска со стрелками влево/вправо 3"/>
          <p:cNvSpPr/>
          <p:nvPr/>
        </p:nvSpPr>
        <p:spPr>
          <a:xfrm>
            <a:off x="2571840" y="1643040"/>
            <a:ext cx="4071960" cy="928800"/>
          </a:xfrm>
          <a:custGeom>
            <a:avLst/>
            <a:gdLst>
              <a:gd name="textAreaLeft" fmla="*/ 487080 w 4071960"/>
              <a:gd name="textAreaRight" fmla="*/ 3584880 w 407196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2584" y="0"/>
                </a:moveTo>
                <a:lnTo>
                  <a:pt x="19016" y="0"/>
                </a:lnTo>
                <a:lnTo>
                  <a:pt x="19016" y="8570"/>
                </a:lnTo>
                <a:lnTo>
                  <a:pt x="20290" y="8570"/>
                </a:lnTo>
                <a:lnTo>
                  <a:pt x="20290" y="6772"/>
                </a:lnTo>
                <a:lnTo>
                  <a:pt x="21600" y="10800"/>
                </a:lnTo>
                <a:lnTo>
                  <a:pt x="20290" y="14828"/>
                </a:lnTo>
                <a:lnTo>
                  <a:pt x="20290" y="13030"/>
                </a:lnTo>
                <a:lnTo>
                  <a:pt x="19016" y="13030"/>
                </a:lnTo>
                <a:lnTo>
                  <a:pt x="19016" y="21600"/>
                </a:lnTo>
                <a:lnTo>
                  <a:pt x="2584" y="21600"/>
                </a:lnTo>
                <a:lnTo>
                  <a:pt x="2584" y="13030"/>
                </a:lnTo>
                <a:lnTo>
                  <a:pt x="1310" y="13030"/>
                </a:lnTo>
                <a:lnTo>
                  <a:pt x="1310" y="14828"/>
                </a:lnTo>
                <a:lnTo>
                  <a:pt x="0" y="10800"/>
                </a:lnTo>
                <a:lnTo>
                  <a:pt x="1310" y="6772"/>
                </a:lnTo>
                <a:lnTo>
                  <a:pt x="1310" y="8570"/>
                </a:lnTo>
                <a:lnTo>
                  <a:pt x="2584" y="8570"/>
                </a:lnTo>
                <a:close/>
              </a:path>
            </a:pathLst>
          </a:custGeom>
          <a:solidFill>
            <a:srgbClr val="406f8d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Times New Roman"/>
              </a:rPr>
              <a:t>правосозн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250920" y="2133720"/>
            <a:ext cx="2305080" cy="2357280"/>
          </a:xfrm>
          <a:prstGeom prst="rect">
            <a:avLst/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равов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сих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Прямоугольник 5"/>
          <p:cNvSpPr/>
          <p:nvPr/>
        </p:nvSpPr>
        <p:spPr>
          <a:xfrm>
            <a:off x="6659640" y="2143080"/>
            <a:ext cx="2198520" cy="2357640"/>
          </a:xfrm>
          <a:prstGeom prst="rect">
            <a:avLst/>
          </a:prstGeom>
          <a:solidFill>
            <a:srgbClr val="d6e9e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Правов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a45"/>
                </a:solidFill>
                <a:latin typeface="Times New Roman"/>
              </a:rPr>
              <a:t>идеоло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вая психология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6560" y="2498760"/>
            <a:ext cx="757260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f68"/>
                </a:solidFill>
                <a:latin typeface="Times New Roman"/>
              </a:rPr>
              <a:t>это система правовых чувств, эмоций, настроений, выражающих отношение людей к праву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24456"/>
                </a:solidFill>
                <a:latin typeface="Times New Roman"/>
              </a:rPr>
              <a:t>Правовая идеология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56800" y="2285640"/>
            <a:ext cx="75726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f68"/>
                </a:solidFill>
                <a:latin typeface="Times New Roman"/>
              </a:rPr>
              <a:t>систематизированное, научно обоснованное отражение правовых явлений (правовые знания, понятия, категории, принципы, убеждения, идеи</a:t>
            </a:r>
            <a:r>
              <a:rPr b="0" lang="ru-RU" sz="4000" spc="-1" strike="noStrike">
                <a:solidFill>
                  <a:srgbClr val="3e3f68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04000" y="-4147920"/>
            <a:ext cx="824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imes New Roman"/>
              </a:rPr>
              <a:t>Правовые знания</a:t>
            </a: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 –информация о различных сторонах правовой системы обществ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24456"/>
                </a:solidFill>
                <a:latin typeface="Times New Roman"/>
              </a:rPr>
              <a:t>Правовые эмоции</a:t>
            </a:r>
            <a:r>
              <a:rPr b="0" lang="ru-RU" sz="3600" spc="-1" strike="noStrike">
                <a:solidFill>
                  <a:srgbClr val="424456"/>
                </a:solidFill>
                <a:latin typeface="Times New Roman"/>
              </a:rPr>
              <a:t> – чувственное отношение к праву в форме позитивных и негативных переживаний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06668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24456"/>
                </a:solidFill>
                <a:latin typeface="Times New Roman"/>
              </a:rPr>
              <a:t>Правовая установка</a:t>
            </a:r>
            <a:r>
              <a:rPr b="0" lang="ru-RU" sz="4000" spc="-1" strike="noStrike">
                <a:solidFill>
                  <a:srgbClr val="424456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56800" y="1989000"/>
            <a:ext cx="757260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</a:rPr>
              <a:t>предрасположенность личности (группы, общества) определенным (негативным или позитивным) образом воспринимать и оценивать правовые явления и готовность в соответствии с этим действова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Правомерное повед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24456"/>
                </a:solidFill>
                <a:latin typeface="Times New Roman"/>
              </a:rPr>
              <a:t>Противоправное повед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084320"/>
          </a:xfrm>
          <a:prstGeom prst="rect">
            <a:avLst/>
          </a:prstGeom>
          <a:solidFill>
            <a:srgbClr val="9fccd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24456"/>
                </a:solidFill>
                <a:latin typeface="Times New Roman"/>
              </a:rPr>
              <a:t>Правосознание по субъектам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ндивидуаль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отношение к праву отдельного человек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оллектив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Группов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тношение к праву групп и коллективов люде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Общественн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правовые идеи, взгляды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ории обществ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3:44:26Z</dcterms:created>
  <dc:creator>Пыркина</dc:creator>
  <dc:description/>
  <dc:language>en-US</dc:language>
  <cp:lastModifiedBy>LEGION</cp:lastModifiedBy>
  <dcterms:modified xsi:type="dcterms:W3CDTF">2016-01-04T08:09:19Z</dcterms:modified>
  <cp:revision>31</cp:revision>
  <dc:subject/>
  <dc:title>Правосознание                                  и</dc:title>
</cp:coreProperties>
</file>