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2BDE-0062-4D0E-BD65-756A8E1B78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ACF-C3F1-4E2B-A970-A9290825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FF1-E529-4040-A21C-FD092057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884-D68C-4423-BE54-5412D97F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569-8809-4389-97E4-D6B88942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5A0D-EB9B-4390-9364-2123CD79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3393-56AD-4435-AD43-B82E834F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9DC3-896E-4C4A-8D5F-84155DAD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4591-3EF2-419E-9635-1B6ECE0E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3F7F-AEF8-4904-8073-81566269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99F8-B0DF-48DA-862F-48B8FAF5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350D-5C71-4672-9498-8AE11A91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426A-C191-4777-9F31-309308A7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DC99-370C-4D5A-83B2-A8BDD05E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AE6F-A32A-4155-85A6-AE1A1597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02B8-E799-4E82-B8E2-F56F92BC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844E-537E-47E3-BCF3-25FB2B94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02AA-568B-48C3-B216-F31462C9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AB2D3-CC63-42C2-8266-A5B9B283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CD0A8-8972-4A25-BC24-6B697960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3B36E-B051-4613-89A9-5D57AB95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CB08E-5B66-4A35-97CE-C3093722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F1EFD-3835-4D12-9644-AD8D76DF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8A3-8DD9-44DE-88C9-05353674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C067B-F241-4032-8615-B8EC9132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7B054-73DB-4771-8C61-1BAB4212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82154-404F-4235-B704-66BAA6C7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78EF3-E6FC-4EE7-B1B8-4C5FBAAF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53226-CB0E-44E1-9D01-53585565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3021F-21AC-4223-A44F-D52B02EE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662B1-382F-44C3-AC36-E0E5C0DC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7E7D-34E2-4890-A196-39DB9E64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9BE48-90A6-491D-B072-FC0C2B2F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728FF-D875-4EAA-8F26-293EB64D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905-34E8-44C4-B149-B8208EE5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37F80-89DB-4001-BD33-BA690816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5D176-AD7A-4B8C-AE1F-2977F9E5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8961A-2231-4BF3-A172-2A385C06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B5C35-59B9-4072-AAC7-002877AC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E5F81-3A5F-41CC-9646-2645309E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712EA-9D35-4F2A-A133-66389AC9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DBE30-39CD-4903-A24E-BE863DCA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072D9-1B76-4833-894E-10198DBA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1031F-F8A5-49E9-8548-F114C59B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2BA-0941-4207-AE09-72B6A1BD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656-F460-41C6-95ED-F93D75A1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922-88D0-4DC4-9240-BF745079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1CE-CDC2-441E-8404-C3107BA0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402-F872-4D78-A34A-72FDD330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3139-65D6-4D55-A3A3-A650E3AAF7BF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9B8A-AEEC-49ED-B330-BF224CFFB01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1B45-F647-4C62-8C34-7D3255D7303C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D2C8-CB5E-46E2-AC6A-8BBAB614994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8B58-93FC-4373-92C6-58904044B1C4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8D9F-C307-403C-87A0-19E1EC4D786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2B48-5D1B-4DBD-B354-D72EAE3CF1DC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7CA8-631B-4A4B-B5C1-056AE1F2146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480" y="2357280"/>
            <a:ext cx="8458200" cy="175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равосознание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                               и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286080" y="4142880"/>
            <a:ext cx="5857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imes New Roman"/>
              </a:rPr>
              <a:t>правовая культура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569640" y="59180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066160" cy="1655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362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ыд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709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41360"/>
            <a:ext cx="84358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бладают юристы, специалисты-практи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уч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теоретическое)  - источник правотворч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3"/>
          <p:cNvSpPr/>
          <p:nvPr/>
        </p:nvSpPr>
        <p:spPr>
          <a:xfrm>
            <a:off x="2627280" y="2852640"/>
            <a:ext cx="3786120" cy="13575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собенности    правового со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755640" y="620640"/>
            <a:ext cx="3065400" cy="172872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тражает явления, связанные с пра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2411280" y="4581360"/>
            <a:ext cx="4176720" cy="17272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Формируется многими поколениями, характеризуется преемств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4716360" y="642960"/>
            <a:ext cx="3498840" cy="16336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сознание правовых явлений через юридические понятия и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Соединительная линия уступом 16"/>
          <p:cNvCxnSpPr/>
          <p:nvPr/>
        </p:nvCxnSpPr>
        <p:spPr>
          <a:xfrm rot="5400000">
            <a:off x="4464000" y="3609000"/>
            <a:ext cx="357840" cy="286200"/>
          </a:xfrm>
          <a:prstGeom prst="bentConnector3">
            <a:avLst>
              <a:gd name="adj1" fmla="val 12386"/>
            </a:avLst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3f68"/>
                </a:solidFill>
                <a:latin typeface="Times New Roman"/>
              </a:rPr>
              <a:t>Правовая культур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41e3"/>
                </a:solidFill>
                <a:latin typeface="Times New Roman"/>
              </a:rPr>
              <a:t>В широком смысле</a:t>
            </a: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6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41e3"/>
                </a:solidFill>
                <a:latin typeface="Times New Roman"/>
              </a:rPr>
              <a:t>В узком смысле</a:t>
            </a:r>
            <a:r>
              <a:rPr b="1" lang="ru-RU" sz="3200" spc="-1" strike="noStrike">
                <a:solidFill>
                  <a:srgbClr val="3e3f68"/>
                </a:solidFill>
                <a:latin typeface="Times New Roman"/>
              </a:rPr>
              <a:t>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611280" y="37861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ндивидуаль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292720" y="386064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бществен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2555640" y="25653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4500720" y="2565360"/>
            <a:ext cx="201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39640" y="256536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ниги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ицание правовых установо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идеа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возвеличивание роли пра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5940360" y="5950080"/>
            <a:ext cx="35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</a:rPr>
              <a:t>Причины правового нигилизма</a:t>
            </a: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Формы правового воспит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24456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f68"/>
                </a:solidFill>
                <a:latin typeface="Times New Roman"/>
              </a:rPr>
              <a:t>§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Задание № 1, 2, 3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сознание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Выноска со стрелками влево/вправо 3"/>
          <p:cNvSpPr/>
          <p:nvPr/>
        </p:nvSpPr>
        <p:spPr>
          <a:xfrm>
            <a:off x="2571840" y="1643040"/>
            <a:ext cx="4071960" cy="928800"/>
          </a:xfrm>
          <a:custGeom>
            <a:avLst/>
            <a:gdLst>
              <a:gd name="textAreaLeft" fmla="*/ 487080 w 4071960"/>
              <a:gd name="textAreaRight" fmla="*/ 3584880 w 407196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2584" y="0"/>
                </a:moveTo>
                <a:lnTo>
                  <a:pt x="19016" y="0"/>
                </a:lnTo>
                <a:lnTo>
                  <a:pt x="19016" y="8570"/>
                </a:lnTo>
                <a:lnTo>
                  <a:pt x="20290" y="8570"/>
                </a:lnTo>
                <a:lnTo>
                  <a:pt x="20290" y="6772"/>
                </a:lnTo>
                <a:lnTo>
                  <a:pt x="21600" y="10800"/>
                </a:lnTo>
                <a:lnTo>
                  <a:pt x="20290" y="14828"/>
                </a:lnTo>
                <a:lnTo>
                  <a:pt x="20290" y="13030"/>
                </a:lnTo>
                <a:lnTo>
                  <a:pt x="19016" y="13030"/>
                </a:lnTo>
                <a:lnTo>
                  <a:pt x="19016" y="21600"/>
                </a:lnTo>
                <a:lnTo>
                  <a:pt x="2584" y="21600"/>
                </a:lnTo>
                <a:lnTo>
                  <a:pt x="2584" y="13030"/>
                </a:lnTo>
                <a:lnTo>
                  <a:pt x="1310" y="13030"/>
                </a:lnTo>
                <a:lnTo>
                  <a:pt x="1310" y="14828"/>
                </a:lnTo>
                <a:lnTo>
                  <a:pt x="0" y="10800"/>
                </a:lnTo>
                <a:lnTo>
                  <a:pt x="1310" y="6772"/>
                </a:lnTo>
                <a:lnTo>
                  <a:pt x="1310" y="8570"/>
                </a:lnTo>
                <a:lnTo>
                  <a:pt x="2584" y="8570"/>
                </a:lnTo>
                <a:close/>
              </a:path>
            </a:pathLst>
          </a:custGeom>
          <a:solidFill>
            <a:srgbClr val="406f8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Times New Roman"/>
              </a:rPr>
              <a:t>правосозн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250920" y="2133720"/>
            <a:ext cx="2305080" cy="235728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6659640" y="2143080"/>
            <a:ext cx="2198520" cy="235764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иде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псих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560" y="2498760"/>
            <a:ext cx="7572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иде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56800" y="2285640"/>
            <a:ext cx="75726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04000" y="-4147920"/>
            <a:ext cx="824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знания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информация о различных сторонах правовой системы обществ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эмоции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 чувственное отношение к праву в форме позитивных и негативных переживан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24456"/>
                </a:solidFill>
                <a:latin typeface="Times New Roman"/>
              </a:rPr>
              <a:t>Правовая установка</a:t>
            </a:r>
            <a:r>
              <a:rPr b="0" lang="ru-RU" sz="4000" spc="-1" strike="noStrike">
                <a:solidFill>
                  <a:srgbClr val="42445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989000"/>
            <a:ext cx="757260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авомер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отивоправ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08432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4456"/>
                </a:solidFill>
                <a:latin typeface="Times New Roman"/>
              </a:rPr>
              <a:t>Правосознание по субъектам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ндивиду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отношение к праву отдельного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ллектив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Группов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тношение к праву групп и коллективов люде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бществ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авовые идеи, взгляды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3:44:26Z</dcterms:created>
  <dc:creator>Пыркина</dc:creator>
  <dc:description/>
  <dc:language>en-US</dc:language>
  <cp:lastModifiedBy>LEGION</cp:lastModifiedBy>
  <dcterms:modified xsi:type="dcterms:W3CDTF">2016-01-04T08:09:19Z</dcterms:modified>
  <cp:revision>31</cp:revision>
  <dc:subject/>
  <dc:title>Правосознание                                  и</dc:title>
</cp:coreProperties>
</file>