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AACD-2C83-479F-9A5D-3BF40EBEFA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59D-0C1E-4A82-817B-2AE5777D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848-AD39-4BEC-85BC-A6656E1B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170-BFA4-485D-847A-FD9E2DAA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80D-84F0-456A-839D-713AFD9C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3F16-013D-4C46-AE95-AD897277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49A1-F9D2-478F-B55C-20C4083E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8105-C61F-48FD-B961-D95928FD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9ABD-168A-44E6-BC13-F53FF93B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FACC-8BA7-46EB-AFAB-201B7B81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427E-B1A0-41D4-B7A9-1C474670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ACBA-4EA8-4C39-89D3-690D26A0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CCC-8A53-473E-A260-A4050DFE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493A-F0FE-451C-AD0C-63B7ED8A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9EDA-4020-4E3B-8089-66A1A8EA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B9C8-9204-4674-8122-C8171F32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8649-0248-4B09-98B8-96C80B2E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4738-D7BD-45C2-A96F-70B9A423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58C88-9808-4994-94E5-AD404E70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41FB3-D550-47F6-AFAF-AAB75DF7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29AFF-4069-4EDA-AF15-207C598D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7309C-8019-4D49-A978-F13F2295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49009-3943-4A8D-A2D2-A0EE5F98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77F-C099-4CBE-82B6-8FAD95BE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0BDA4-8215-4C64-95F1-9850BD98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EE1E1-1AE7-4E84-B049-F268A1AF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4EDD7-E1C1-45AF-9FAB-A404952D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D7D43-C243-40BA-9B74-CA8E3DF4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D55A7-C1AC-49E3-A887-293BC79B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3462F-3764-44A5-B7A2-350CCEF2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3491E-87A5-43B8-ADAD-086F160F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32A59-1B95-450E-8357-7CBE6B00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6F994-BED0-4CBA-88AC-2D6F6C49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C9B54-BFCB-48BD-8FA9-9627F995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1D3-2F0F-43AC-BE22-0A587B7A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15E97-B109-4035-82C2-B101AB64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3F5BB-3D47-4659-A9BB-1DBB1874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FC894-2193-473A-B6BD-0E6E37C7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6C1E5-67FA-4002-A354-B106247D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E3523-768A-4EB6-BEA1-B01AA563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F4B6B-1F36-48EA-BECA-2F16B3F9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3D6D0-9888-457B-A589-18D1BE39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4A4B9-5EFC-4C2F-BA45-E4C241FC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88860-B491-4C96-9A37-80028BBE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247-BCA4-43CE-91C3-F4659B54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4D5-3C78-4CC9-ABF0-334257D2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9CE-7551-4CB4-ABE4-DB569E63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88F-DBA5-4A1E-833D-3F374DB3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1D3-0A8D-43D0-AF59-3CC7FC84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B4C1-D6B1-47B0-B4B1-104152BD44BC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CF22-8A5F-4632-879D-42A947DE054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A305-13EE-4888-B43A-A95D5A86C51A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0FBA-08EA-419B-8041-D8BF5FD93A1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186F-9087-4BEE-9061-3D7E7068D520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9EEF-F4F0-4D5C-BB2B-996CFB9BF21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E2D1-64C4-4417-9321-3D9697CF56F1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1EAC-DDD4-497A-BBED-933A875B80D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480" y="2357280"/>
            <a:ext cx="8458200" cy="175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равосознание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                               и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286080" y="4142880"/>
            <a:ext cx="5857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imes New Roman"/>
              </a:rPr>
              <a:t>правовая культура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569640" y="59180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066160" cy="1655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362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ыд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709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41360"/>
            <a:ext cx="84358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бладают юристы, специалисты-практи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уч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теоретическое)  - источник правотворч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3"/>
          <p:cNvSpPr/>
          <p:nvPr/>
        </p:nvSpPr>
        <p:spPr>
          <a:xfrm>
            <a:off x="2627280" y="2852640"/>
            <a:ext cx="3786120" cy="13575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собенности    правового со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755640" y="620640"/>
            <a:ext cx="3065400" cy="172872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тражает явления, связанные с пра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2411280" y="4581360"/>
            <a:ext cx="4176720" cy="17272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Формируется многими поколениями, характеризуется преемств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4716360" y="642960"/>
            <a:ext cx="3498840" cy="16336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сознание правовых явлений через юридические понятия и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Соединительная линия уступом 16"/>
          <p:cNvCxnSpPr/>
          <p:nvPr/>
        </p:nvCxnSpPr>
        <p:spPr>
          <a:xfrm rot="5400000">
            <a:off x="4464000" y="3609000"/>
            <a:ext cx="357840" cy="286200"/>
          </a:xfrm>
          <a:prstGeom prst="bentConnector3">
            <a:avLst>
              <a:gd name="adj1" fmla="val 12386"/>
            </a:avLst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3f68"/>
                </a:solidFill>
                <a:latin typeface="Times New Roman"/>
              </a:rPr>
              <a:t>Правовая культур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41e3"/>
                </a:solidFill>
                <a:latin typeface="Times New Roman"/>
              </a:rPr>
              <a:t>В широком смысле</a:t>
            </a: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6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41e3"/>
                </a:solidFill>
                <a:latin typeface="Times New Roman"/>
              </a:rPr>
              <a:t>В узком смысле</a:t>
            </a:r>
            <a:r>
              <a:rPr b="1" lang="ru-RU" sz="3200" spc="-1" strike="noStrike">
                <a:solidFill>
                  <a:srgbClr val="3e3f68"/>
                </a:solidFill>
                <a:latin typeface="Times New Roman"/>
              </a:rPr>
              <a:t>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611280" y="37861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ндивидуаль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292720" y="386064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бществен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2555640" y="25653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4500720" y="2565360"/>
            <a:ext cx="201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39640" y="256536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ниги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ицание правовых установо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идеа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возвеличивание роли пра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5940360" y="5950080"/>
            <a:ext cx="35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</a:rPr>
              <a:t>Причины правового нигилизма</a:t>
            </a: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Формы правового воспит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24456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f68"/>
                </a:solidFill>
                <a:latin typeface="Times New Roman"/>
              </a:rPr>
              <a:t>§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Задание № 1, 2, 3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сознание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Выноска со стрелками влево/вправо 3"/>
          <p:cNvSpPr/>
          <p:nvPr/>
        </p:nvSpPr>
        <p:spPr>
          <a:xfrm>
            <a:off x="2571840" y="1643040"/>
            <a:ext cx="4071960" cy="928800"/>
          </a:xfrm>
          <a:custGeom>
            <a:avLst/>
            <a:gdLst>
              <a:gd name="textAreaLeft" fmla="*/ 487080 w 4071960"/>
              <a:gd name="textAreaRight" fmla="*/ 3584880 w 407196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2584" y="0"/>
                </a:moveTo>
                <a:lnTo>
                  <a:pt x="19016" y="0"/>
                </a:lnTo>
                <a:lnTo>
                  <a:pt x="19016" y="8570"/>
                </a:lnTo>
                <a:lnTo>
                  <a:pt x="20290" y="8570"/>
                </a:lnTo>
                <a:lnTo>
                  <a:pt x="20290" y="6772"/>
                </a:lnTo>
                <a:lnTo>
                  <a:pt x="21600" y="10800"/>
                </a:lnTo>
                <a:lnTo>
                  <a:pt x="20290" y="14828"/>
                </a:lnTo>
                <a:lnTo>
                  <a:pt x="20290" y="13030"/>
                </a:lnTo>
                <a:lnTo>
                  <a:pt x="19016" y="13030"/>
                </a:lnTo>
                <a:lnTo>
                  <a:pt x="19016" y="21600"/>
                </a:lnTo>
                <a:lnTo>
                  <a:pt x="2584" y="21600"/>
                </a:lnTo>
                <a:lnTo>
                  <a:pt x="2584" y="13030"/>
                </a:lnTo>
                <a:lnTo>
                  <a:pt x="1310" y="13030"/>
                </a:lnTo>
                <a:lnTo>
                  <a:pt x="1310" y="14828"/>
                </a:lnTo>
                <a:lnTo>
                  <a:pt x="0" y="10800"/>
                </a:lnTo>
                <a:lnTo>
                  <a:pt x="1310" y="6772"/>
                </a:lnTo>
                <a:lnTo>
                  <a:pt x="1310" y="8570"/>
                </a:lnTo>
                <a:lnTo>
                  <a:pt x="2584" y="8570"/>
                </a:lnTo>
                <a:close/>
              </a:path>
            </a:pathLst>
          </a:custGeom>
          <a:solidFill>
            <a:srgbClr val="406f8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Times New Roman"/>
              </a:rPr>
              <a:t>правосозн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250920" y="2133720"/>
            <a:ext cx="2305080" cy="235728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6659640" y="2143080"/>
            <a:ext cx="2198520" cy="235764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иде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псих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560" y="2498760"/>
            <a:ext cx="7572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иде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56800" y="2285640"/>
            <a:ext cx="75726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04000" y="-4147920"/>
            <a:ext cx="824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знания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информация о различных сторонах правовой системы обществ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эмоции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 чувственное отношение к праву в форме позитивных и негативных переживан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24456"/>
                </a:solidFill>
                <a:latin typeface="Times New Roman"/>
              </a:rPr>
              <a:t>Правовая установка</a:t>
            </a:r>
            <a:r>
              <a:rPr b="0" lang="ru-RU" sz="4000" spc="-1" strike="noStrike">
                <a:solidFill>
                  <a:srgbClr val="42445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989000"/>
            <a:ext cx="757260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авомер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отивоправ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08432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4456"/>
                </a:solidFill>
                <a:latin typeface="Times New Roman"/>
              </a:rPr>
              <a:t>Правосознание по субъектам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ндивиду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отношение к праву отдельного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ллектив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Группов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тношение к праву групп и коллективов люде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бществ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авовые идеи, взгляды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3:44:26Z</dcterms:created>
  <dc:creator>Пыркина</dc:creator>
  <dc:description/>
  <dc:language>en-US</dc:language>
  <cp:lastModifiedBy>LEGION</cp:lastModifiedBy>
  <dcterms:modified xsi:type="dcterms:W3CDTF">2016-01-04T08:09:19Z</dcterms:modified>
  <cp:revision>31</cp:revision>
  <dc:subject/>
  <dc:title>Правосознание                                  и</dc:title>
</cp:coreProperties>
</file>