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C047-1878-40AF-A302-2D3A64F451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№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№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денное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ыденное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е – обладают юристы, специалисты-пр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е (теоретическое)  - источник прав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ое – обладают юристы, специалисты-прак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(теоретическое)  - источник правотвор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   правового с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явления, связанные с пра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многими поколениями, характеризуется преем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знание правовых явлений через юридические понятия и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   правового с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ражает явления, связанные с пра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уется многими поколениями, характеризуется преем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знание правовых явлений через юридические понятия и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широком смысле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 смысле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зком смысле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нигилизм - отрицание правовых установ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идеализм - возвеличивание ро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нигилизм - отрицание правовых установ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идеализм - возвеличивание роли пра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правового нигилиз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Юридическое невеж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стал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вая невоспитанность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езнан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правового нигилизм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Юридическое невеж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тст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авовая невоспитанность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Незнание пра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воспитание общества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а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и право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я судебной защиты прав и свобод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я раскрытия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е воспитание общества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а законода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ки правоприме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я судебной защиты прав и свобод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ня раскрытия преступл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правового вос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воспитание и само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 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правовых знаний через С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е права в образовательны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ризация правовых знаний учеными-юрис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юридической уче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правового воспит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воспитание и сам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правовой культуры в семь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ие правовых знаний через С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ние права в образовательных учреж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уляризация правовых знаний учеными-юрис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юридической уче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№ 1, 2,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§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№ 1, 2,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де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де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истема правовых чувств, эмоций, настроений, выражающих отношение людей к пр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псих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истема правовых чувств, эмоций, настроений, выражающих отношение людей к прав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иде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иде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знания –информация о различных сторонах правовой системы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эмоции – чувственное отношение к праву в форме позитивных и негативных пережи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ые знания –информация о различных сторонах правовой системы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ые эмоции – чувственное отношение к праву в форме позитивных и негативных пережив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установк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установк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 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мер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ивоправ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по субъек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–отношение к праву отдельного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упповое – отношение к праву групп и коллективов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ственное – правовые идеи, взгляд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по субъек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ое –отношение к праву отдельного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лективное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рупповое – отношение к праву групп и коллективов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Общественное – правовые идеи, взгляд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и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DD3-9EE1-4651-A453-58A0F6BD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4DF-D3A3-40ED-A786-E8E1EC91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BCA-5D5A-4025-B2EB-73E4E713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B5DF-C8D8-4D48-853B-5C70119C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8125-DD0F-4398-B839-CFBB9BBF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1CCA-BB15-47B4-AA9B-A86524AC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4C47-5F5B-4A11-AB18-08523A79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5316-8564-4D96-A729-CCF710F3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C7AA-EAFB-4CC8-9447-EB2E905B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5E3F-EBE6-4277-8211-4342888D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3C81-DB98-4C8E-B76E-9EEDE6B8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5B1-2646-4D47-836D-017FB62C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35F5-8A09-419C-8070-A7B82A35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C197-9CA9-4FBE-B898-9C0C5A5D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57BF-4074-4E6A-85E9-B7288E6F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E268-4F3F-46F2-BCCE-8D93D949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028A-1DF3-483B-85BD-20675644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273A0-5984-4953-A980-9DC7C86B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A49AB-3D78-456C-8104-72284216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66B7B-04B5-44FF-8F99-48B85CEC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2CA2A-B9EC-4B0B-B1CD-62D2E4EA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80B83-1EE0-400D-B07E-F1D0A5A6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71D-A18D-4A0A-95BA-FA6BB7F1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B80E6-4EC2-4100-8596-3A68E1F4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DC128-1E9B-462F-A12D-C8009EC6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AACC3-5D18-4793-BF3D-530C73BD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92DF7-363F-4274-8C3C-981AC49F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CDB1D-0721-4C03-9FA7-C65DF3D1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F1A47-2FE9-4D1D-A4A8-A7ED1F17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3F7B7-D149-4E54-A884-5AA4AD73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BB9F6-3173-47E1-B360-8434FB14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2DFFD-6C21-45D2-870A-70870551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643CE-67A2-4081-BEDC-BFDF28FB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4E5-11A7-4F0C-BF92-655CF263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43145-00C2-4DE0-B3E6-CD1C66A1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897DC-B4FB-4E09-B0E3-E5271200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BCF39-BB38-4F0B-B06E-0EBA8CD0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5B1B1-62AA-4F64-AD83-DFDBFD07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38061-3027-4E3C-AC30-62503AE4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E3BB1-A820-4014-923D-D9B76F41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12BC7-254A-478F-BCB3-981D5D58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781ED-7AF5-4E89-A794-4EAEA664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CF32C-0078-4CB7-B76F-BF36567D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2B8C-4CF6-44CE-A26C-7DED54E7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B8A-2D3D-4D8A-AA74-9F4DD57D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95D-85D0-4014-A4F3-76024CD6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5AF0-7D01-4ABD-8215-A6B141DD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C39-8EB2-44F5-AB68-D975C32F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0BF4-D9D0-48B6-A201-822D852EB245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DA97-4B48-46D3-BDF6-931C3FFA035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D239-193C-40F9-93D7-069A3AD08F6F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C5A8-AF27-4BA0-ABB7-AF17878FED8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2439-87F8-483F-8160-05DA47A330D9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5EDB-6F18-4C14-96CB-0E58B9996C1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219F-C951-4E27-B1DD-926E7C1140F3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80CB-2075-4C38-95F2-4558820065C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480" y="2357280"/>
            <a:ext cx="8458200" cy="175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равосознание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                               и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286080" y="4142880"/>
            <a:ext cx="5857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imes New Roman"/>
              </a:rPr>
              <a:t>правовая культура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569640" y="59180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№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066160" cy="16556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362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ыд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17096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41360"/>
            <a:ext cx="84358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бладают юристы, специалисты-практи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уч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теоретическое)  - источник правотворче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3"/>
          <p:cNvSpPr/>
          <p:nvPr/>
        </p:nvSpPr>
        <p:spPr>
          <a:xfrm>
            <a:off x="2627280" y="2852640"/>
            <a:ext cx="3786120" cy="13575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собенности    правового со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755640" y="620640"/>
            <a:ext cx="3065400" cy="172872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Отражает явления, связанные с пра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7"/>
          <p:cNvSpPr/>
          <p:nvPr/>
        </p:nvSpPr>
        <p:spPr>
          <a:xfrm>
            <a:off x="2411280" y="4581360"/>
            <a:ext cx="4176720" cy="172728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Формируется многими поколениями, характеризуется преемств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4716360" y="642960"/>
            <a:ext cx="3498840" cy="163368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Осознание правовых явлений через юридические понятия и 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Соединительная линия уступом 16"/>
          <p:cNvCxnSpPr/>
          <p:nvPr/>
        </p:nvCxnSpPr>
        <p:spPr>
          <a:xfrm rot="5400000">
            <a:off x="4464000" y="3609000"/>
            <a:ext cx="357840" cy="286200"/>
          </a:xfrm>
          <a:prstGeom prst="bentConnector3">
            <a:avLst>
              <a:gd name="adj1" fmla="val 12386"/>
            </a:avLst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6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066680"/>
          </a:xfrm>
          <a:prstGeom prst="rect">
            <a:avLst/>
          </a:prstGeom>
          <a:solidFill>
            <a:srgbClr val="add2d6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3f68"/>
                </a:solidFill>
                <a:latin typeface="Times New Roman"/>
              </a:rPr>
              <a:t>Правовая культур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41e3"/>
                </a:solidFill>
                <a:latin typeface="Times New Roman"/>
              </a:rPr>
              <a:t>В широком смысле</a:t>
            </a:r>
            <a:r>
              <a:rPr b="1" lang="ru-RU" sz="3600" spc="-1" strike="noStrike">
                <a:solidFill>
                  <a:srgbClr val="3e3f68"/>
                </a:solidFill>
                <a:latin typeface="Times New Roman"/>
              </a:rPr>
              <a:t>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6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41e3"/>
                </a:solidFill>
                <a:latin typeface="Times New Roman"/>
              </a:rPr>
              <a:t>В узком смысле</a:t>
            </a:r>
            <a:r>
              <a:rPr b="1" lang="ru-RU" sz="3200" spc="-1" strike="noStrike">
                <a:solidFill>
                  <a:srgbClr val="3e3f68"/>
                </a:solidFill>
                <a:latin typeface="Times New Roman"/>
              </a:rPr>
              <a:t>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Arial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611280" y="37861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индивидуаль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292720" y="386064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бществен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2555640" y="25653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4500720" y="2565360"/>
            <a:ext cx="201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539640" y="256536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вой нигилиз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ицание правовых установо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вой идеализ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возвеличивание роли пра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5940360" y="5950080"/>
            <a:ext cx="35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</a:rPr>
              <a:t>Причины правового нигилизма</a:t>
            </a: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Юридическое невежество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тстал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равовая невоспитанность насел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Незнание пра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0670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вое воспитание общества зависит от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чества законодатель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ки правопримен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ояния судебной защиты прав и свобод челове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ня раскрытия преступлени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670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Формы правового воспит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воспитание и самообразова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правовой культуры в семь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остранение правовых знаний через С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подавание права в образовательных учреждения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уляризация правовых знаний учеными-юриста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юридической учеб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24456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14240" y="2286000"/>
            <a:ext cx="77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f68"/>
                </a:solidFill>
                <a:latin typeface="Times New Roman"/>
              </a:rPr>
              <a:t>§</a:t>
            </a: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Задание № 1, 2, 3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сознание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14240" y="2286000"/>
            <a:ext cx="77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e3f68"/>
                </a:solidFill>
                <a:latin typeface="Times New Roman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Выноска со стрелками влево/вправо 3"/>
          <p:cNvSpPr/>
          <p:nvPr/>
        </p:nvSpPr>
        <p:spPr>
          <a:xfrm>
            <a:off x="2571840" y="1643040"/>
            <a:ext cx="4071960" cy="928800"/>
          </a:xfrm>
          <a:custGeom>
            <a:avLst/>
            <a:gdLst>
              <a:gd name="textAreaLeft" fmla="*/ 487080 w 4071960"/>
              <a:gd name="textAreaRight" fmla="*/ 3584880 w 407196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2584" y="0"/>
                </a:moveTo>
                <a:lnTo>
                  <a:pt x="19016" y="0"/>
                </a:lnTo>
                <a:lnTo>
                  <a:pt x="19016" y="8570"/>
                </a:lnTo>
                <a:lnTo>
                  <a:pt x="20290" y="8570"/>
                </a:lnTo>
                <a:lnTo>
                  <a:pt x="20290" y="6772"/>
                </a:lnTo>
                <a:lnTo>
                  <a:pt x="21600" y="10800"/>
                </a:lnTo>
                <a:lnTo>
                  <a:pt x="20290" y="14828"/>
                </a:lnTo>
                <a:lnTo>
                  <a:pt x="20290" y="13030"/>
                </a:lnTo>
                <a:lnTo>
                  <a:pt x="19016" y="13030"/>
                </a:lnTo>
                <a:lnTo>
                  <a:pt x="19016" y="21600"/>
                </a:lnTo>
                <a:lnTo>
                  <a:pt x="2584" y="21600"/>
                </a:lnTo>
                <a:lnTo>
                  <a:pt x="2584" y="13030"/>
                </a:lnTo>
                <a:lnTo>
                  <a:pt x="1310" y="13030"/>
                </a:lnTo>
                <a:lnTo>
                  <a:pt x="1310" y="14828"/>
                </a:lnTo>
                <a:lnTo>
                  <a:pt x="0" y="10800"/>
                </a:lnTo>
                <a:lnTo>
                  <a:pt x="1310" y="6772"/>
                </a:lnTo>
                <a:lnTo>
                  <a:pt x="1310" y="8570"/>
                </a:lnTo>
                <a:lnTo>
                  <a:pt x="2584" y="8570"/>
                </a:lnTo>
                <a:close/>
              </a:path>
            </a:pathLst>
          </a:custGeom>
          <a:solidFill>
            <a:srgbClr val="406f8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Times New Roman"/>
              </a:rPr>
              <a:t>правосозн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250920" y="2133720"/>
            <a:ext cx="2305080" cy="2357280"/>
          </a:xfrm>
          <a:prstGeom prst="rect">
            <a:avLst/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сих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оугольник 5"/>
          <p:cNvSpPr/>
          <p:nvPr/>
        </p:nvSpPr>
        <p:spPr>
          <a:xfrm>
            <a:off x="6659640" y="2143080"/>
            <a:ext cx="2198520" cy="2357640"/>
          </a:xfrm>
          <a:prstGeom prst="rect">
            <a:avLst/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иде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вая психологи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6560" y="2498760"/>
            <a:ext cx="75726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f68"/>
                </a:solidFill>
                <a:latin typeface="Times New Roman"/>
              </a:rPr>
              <a:t>это система правовых чувств, эмоций, настроений, выражающих отношение людей к праву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вая идеологи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56800" y="2285640"/>
            <a:ext cx="75726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f68"/>
                </a:solidFill>
                <a:latin typeface="Times New Roman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</a:t>
            </a: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04000" y="-4147920"/>
            <a:ext cx="824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imes New Roman"/>
              </a:rPr>
              <a:t>Правовые знания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 –информация о различных сторонах правовой системы обществ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imes New Roman"/>
              </a:rPr>
              <a:t>Правовые эмоции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 – чувственное отношение к праву в форме позитивных и негативных переживани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24456"/>
                </a:solidFill>
                <a:latin typeface="Times New Roman"/>
              </a:rPr>
              <a:t>Правовая установка</a:t>
            </a:r>
            <a:r>
              <a:rPr b="0" lang="ru-RU" sz="4000" spc="-1" strike="noStrike">
                <a:solidFill>
                  <a:srgbClr val="424456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989000"/>
            <a:ext cx="757260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Правомерное пове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Противоправное пове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08432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4456"/>
                </a:solidFill>
                <a:latin typeface="Times New Roman"/>
              </a:rPr>
              <a:t>Правосознание по субъектам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ндивидуа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отношение к праву отдельного челове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ллектив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Группов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тношение к праву групп и коллективов люде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Обществ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равовые идеи, взгляды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ории обще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3:44:26Z</dcterms:created>
  <dc:creator>Пыркина</dc:creator>
  <dc:description/>
  <dc:language>en-US</dc:language>
  <cp:lastModifiedBy>LEGION</cp:lastModifiedBy>
  <dcterms:modified xsi:type="dcterms:W3CDTF">2016-01-04T08:09:19Z</dcterms:modified>
  <cp:revision>31</cp:revision>
  <dc:subject/>
  <dc:title>Правосознание                                  и</dc:title>
</cp:coreProperties>
</file>