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9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8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5.jpeg" ContentType="image/jpeg"/>
  <Override PartName="/ppt/media/image32.jpeg" ContentType="image/jpeg"/>
  <Override PartName="/ppt/media/image20.wmf" ContentType="image/x-wmf"/>
  <Override PartName="/ppt/media/image26.jpeg" ContentType="image/jpeg"/>
  <Override PartName="/ppt/media/image6.png" ContentType="image/png"/>
  <Override PartName="/ppt/media/image30.jpeg" ContentType="image/jpeg"/>
  <Override PartName="/ppt/media/image35.wmf" ContentType="image/x-wmf"/>
  <Override PartName="/ppt/media/image31.jpeg" ContentType="image/jpeg"/>
  <Override PartName="/ppt/media/image2.png" ContentType="image/png"/>
  <Override PartName="/ppt/media/image25.jpeg" ContentType="image/jpeg"/>
  <Override PartName="/ppt/media/image11.jpeg" ContentType="image/jpeg"/>
  <Override PartName="/ppt/media/image9.png" ContentType="image/png"/>
  <Override PartName="/ppt/media/image33.jpeg" ContentType="image/jpeg"/>
  <Override PartName="/ppt/media/image27.jpeg" ContentType="image/jpeg"/>
  <Override PartName="/ppt/media/image7.png" ContentType="image/png"/>
  <Override PartName="/ppt/media/image10.png" ContentType="image/png"/>
  <Override PartName="/ppt/media/image1.jpeg" ContentType="image/jpeg"/>
  <Override PartName="/ppt/media/image38.png" ContentType="image/png"/>
  <Override PartName="/ppt/media/image39.jpeg" ContentType="image/jpeg"/>
  <Override PartName="/ppt/media/image8.png" ContentType="image/png"/>
  <Override PartName="/ppt/media/image36.wmf" ContentType="image/x-wmf"/>
  <Override PartName="/ppt/media/image1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.jpeg" ContentType="image/jpeg"/>
  <Override PartName="/ppt/media/image37.jpeg" ContentType="image/jpeg"/>
  <Override PartName="/ppt/media/image14.png" ContentType="image/png"/>
  <Override PartName="/ppt/media/image15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</p:sldMasterIdLst>
  <p:notesMasterIdLst>
    <p:notesMasterId r:id="rId41"/>
  </p:notesMasterIdLst>
  <p:sldIdLst>
    <p:sldId id="256" r:id="rId42"/>
    <p:sldId id="257" r:id="rId43"/>
    <p:sldId id="258" r:id="rId44"/>
    <p:sldId id="259" r:id="rId45"/>
    <p:sldId id="260" r:id="rId46"/>
    <p:sldId id="261" r:id="rId47"/>
    <p:sldId id="262" r:id="rId48"/>
    <p:sldId id="263" r:id="rId49"/>
    <p:sldId id="264" r:id="rId50"/>
    <p:sldId id="265" r:id="rId51"/>
    <p:sldId id="266" r:id="rId52"/>
    <p:sldId id="267" r:id="rId53"/>
    <p:sldId id="268" r:id="rId54"/>
    <p:sldId id="269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notesMaster" Target="notesMasters/notesMaster1.xml"/><Relationship Id="rId42" Type="http://schemas.openxmlformats.org/officeDocument/2006/relationships/slide" Target="slides/slide1.xml"/><Relationship Id="rId43" Type="http://schemas.openxmlformats.org/officeDocument/2006/relationships/slide" Target="slides/slide2.xml"/><Relationship Id="rId44" Type="http://schemas.openxmlformats.org/officeDocument/2006/relationships/slide" Target="slides/slide3.xml"/><Relationship Id="rId45" Type="http://schemas.openxmlformats.org/officeDocument/2006/relationships/slide" Target="slides/slide4.xml"/><Relationship Id="rId46" Type="http://schemas.openxmlformats.org/officeDocument/2006/relationships/slide" Target="slides/slide5.xml"/><Relationship Id="rId47" Type="http://schemas.openxmlformats.org/officeDocument/2006/relationships/slide" Target="slides/slide6.xml"/><Relationship Id="rId48" Type="http://schemas.openxmlformats.org/officeDocument/2006/relationships/slide" Target="slides/slide7.xml"/><Relationship Id="rId49" Type="http://schemas.openxmlformats.org/officeDocument/2006/relationships/slide" Target="slides/slide8.xml"/><Relationship Id="rId50" Type="http://schemas.openxmlformats.org/officeDocument/2006/relationships/slide" Target="slides/slide9.xml"/><Relationship Id="rId51" Type="http://schemas.openxmlformats.org/officeDocument/2006/relationships/slide" Target="slides/slide10.xml"/><Relationship Id="rId52" Type="http://schemas.openxmlformats.org/officeDocument/2006/relationships/slide" Target="slides/slide11.xml"/><Relationship Id="rId53" Type="http://schemas.openxmlformats.org/officeDocument/2006/relationships/slide" Target="slides/slide12.xml"/><Relationship Id="rId54" Type="http://schemas.openxmlformats.org/officeDocument/2006/relationships/slide" Target="slides/slide13.xml"/><Relationship Id="rId55" Type="http://schemas.openxmlformats.org/officeDocument/2006/relationships/slide" Target="slides/slide14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 type="dt" idx="11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98bf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17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5"/>
          <p:cNvSpPr>
            <a:spLocks noGrp="1"/>
          </p:cNvSpPr>
          <p:nvPr>
            <p:ph type="ftr" idx="11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PlaceHolder 6"/>
          <p:cNvSpPr>
            <a:spLocks noGrp="1"/>
          </p:cNvSpPr>
          <p:nvPr>
            <p:ph type="sldNum" idx="12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44780-B944-480E-96E9-ED83169ED98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ОБЩЕСТВОЗНАНИЯ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РОК ОБЩЕСТВОЗНАНИЯ 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 клас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под правовой культуры –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правовой нигил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акон что дышло, куда повернешь, туда и вышл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Где закон, там и обид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Что мне законы, коли судьи знакомы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акон топтать нельзя, а вокруг ходить можн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типод правовой культуры –  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правовой нигилиз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Закон что дышло, куда повернешь, туда и вышло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Где закон, там и обида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Что мне законы, коли судьи знакомы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Закон топтать нельзя, а вокруг ходить можно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ознание – важнейший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элемент правовой культур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широком смысл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ний, иде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беждени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увст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з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ысл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беждение в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обще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чин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ы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м д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ага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осознание – важнейший  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элемент правовой культуры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широком смысле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динст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овы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наний, идей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беждений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увств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ноше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узк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мысле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беждение в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обходимост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сеобщег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дчинен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овым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ормам дл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лага обще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ческая 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ведомленность в вопросах поли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ость в политической об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ительное отношение к политике как роду человеческ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литическая культу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ведомленность в вопросах полит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ктивность в политической обла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ложительное отношение к политике как роду человеческой деятельн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ите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лагательное                    Прилагате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гол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Глаго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Глаго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ительно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ыв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ьте синквейн со словом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авосознан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ществительн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лагательное                    Прилагательн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гол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Глагол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Глаго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раз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ществительно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вывод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ставьте синквейн со словом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правосознание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16, стр. 69-7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сьменно ответить на вопрос «Каждый ли человек может обладать активной правозащитной позицией?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рок 16, стр. 69-7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исьменно ответить на вопрос «Каждый ли человек может обладать активной правозащитной позицией?»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урока: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АВОВАЯ КУЛЬТУР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ма урока: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ПРАВОВАЯ КУЛЬТУРА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ь мир театр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люди в нем – акте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каждый там свою играет ро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експи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пиграф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есь мир театр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 люди в нем – актер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каждый там свою играет роль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експир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пиграф урок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комство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ми правов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ажительн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я к пра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ЦЕЛИ УРОК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накомство 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ами правово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ультур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спит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важительног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ношения к прав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 культу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культу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озн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ческая культу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ЛАН УРО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то такое  культура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овая культур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осознани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литическая культур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ульту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тура (в переводе с латинского языка – возделывание) - это все, что создано человеком и отлично от прир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ультура (в переводе с латинского языка – возделывание) - это все, что создано человеком и отлично от природ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авовая культура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овая культура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культура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ость правозащитной пози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овая культура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ктивность правозащитной позици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5371-A1A1-419B-BB8F-834AECE8C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A393-57CA-41A7-B5AA-CC33855FE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66DA55-1987-4503-AD3D-D104FD250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6E1987-F3C6-4C19-A471-191ED243B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284BB0-A6DE-452F-B5AB-889494F30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65327A-0584-49CF-826C-19780F7F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EB7DF0-1184-46FA-8FB6-DF115354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15A0AF-FE6F-436E-8F17-C4E01434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6FDC7C-45BB-4F57-833D-0EFAA696D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E52065-3EF7-4B83-95F3-41166BFC2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18ECDD-A532-4F17-A3A1-D6019FD26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430F779-A3D2-4EB3-AC93-7ABFC2B2D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CC8F-6CCA-4C6B-B6F8-700998499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D22F95F-A18F-4AC6-ADC8-BB5334E3F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4CFF0D5-7E36-4DE3-9AFD-A0612ADCF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5DAD3D7-F79F-4C8C-AD9A-04D716C9B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9632CF8-6B39-4E3A-971F-8D4F32874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4A0C66E-FB29-4FFA-BEC8-426F22C25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C723101-A0EF-46CD-84DB-C033D50D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DDE4AAB-6CBB-4A54-837F-74DF7DBD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6B486A3-9383-4BC5-8787-FEE7FDC7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295DDF2-56F0-42CD-905C-9C1734784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26FD48D-A3B6-4990-9FC0-738A5434C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2F37-FCC8-474C-8851-BB76DB643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0B85C6D-C49F-46B8-A2CE-133BA945E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B7F6CD-8BBB-4D49-81AB-0B99D58CE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D58587-689B-4A5D-8C6E-D2C6ECC5D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FACD6A-B4E2-4FC8-A6A2-BDE81695B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A30AF6-CCFE-4EA0-9C0E-B7DDC5982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BC30BE-B63A-43EB-8FE5-7731B318C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15AA23-7F01-4311-8408-866E0B0A4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9F480F-49FA-48BE-BA77-7E2B38C3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95B9F0-3446-496F-914A-FCA51BBD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20EC9B-15F6-4D82-9211-552FF818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5A6E1-4B0B-4614-91D5-E822A43DA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584E3E-BF6C-4868-B9E3-5DBF49CCD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C25DAA-6BB3-43FA-BA16-618ABF3AE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2F576E-716D-44A9-8105-444839644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732BD3-CC96-4158-B437-994851909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D3BDAE-315C-4DAC-AB47-B66E471B9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EB6827-C0B0-46E6-88DB-116E80E82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366DB3-B123-4183-A6A1-D42ED9E23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5DA6D2-11C6-46B0-99AB-E806BAA45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EE149F-104D-4150-BE2A-62E8DFD83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BB1806-47B3-428E-8295-96FC77AA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15BFC-A315-4D9A-BFF1-D44DFC652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ED8B9E-111A-4F72-A16B-13505FEA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DC0D70-77C2-4D25-8D09-BE4CDB02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CE9597-64D1-4720-9551-F32FA963E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0142BC-979C-4B5C-9912-2B07999B0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9E98B0-64D6-4408-AD88-F5F3E1C54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7AF693-9A27-4A3D-8315-668799382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A5A653-80ED-4EDE-83ED-BB503B2BE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18FEE5-8116-4B0A-B6FA-2335238D0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2BE017-5BAE-454F-BA68-9F50FE20B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294C9D-995B-440D-8E09-BFAC97610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84FF6-3033-47FD-9714-9CD6DB7AD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9013F1-0EAA-4090-9BCA-2588A0998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03C9A7-80F8-41B0-96E9-FCC3C67E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803411-AC25-4801-B0F8-8A9904C5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7DDF12-49AD-405C-9C74-D95A399E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43CE75-280E-4EF6-A499-022F48456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FCECCA-D269-4BD4-8577-FE94BCD21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C6766B-C161-4F7F-9746-870F3DC6D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867F95-2B83-438D-8029-08B6CF48E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15B525-D1EF-47BF-9DBE-BFCDE60AC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96EF15-134E-45C2-91CE-C1B5BF0EB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F97DF-B21E-4808-88E7-62967A1E4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C2F9C0-A6AF-4120-B1C9-193372711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B56580-B58B-43EB-A7EA-5922ED070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9D60F5-80C0-4256-A616-84DCA40F0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006613-2BF7-49F9-820B-8092B22F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4AD67A-2C01-422D-8502-7BB6C6D2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173221-C0B3-4068-9E47-283A4001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5EB628-0169-4A27-B222-31D3169AF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E66097-CA33-405D-8158-3A60A5BC4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23C05B-3518-40BC-B8DF-29B897326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C1CA85-BECA-404B-8EB6-060F24276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01FFC-F064-41F3-8CA4-AA89E1F7B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138B25-AA71-4F28-94F7-6A348DCC6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394CC4-A759-49F3-9155-215672046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A75FF7-BBB7-4D50-8238-EC84ACE65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427955-C0CC-48F9-9375-8B9EAD223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06B740-AFA4-4DAD-9CC0-0D451EDA0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EBAAC7-4483-483B-876B-1C7D8460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180AED-FDEF-454D-A79A-16E99258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1A1686-67A6-4BF0-8AC1-C56A140F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F8E3A0-CF63-4CDD-9194-EBA974DEF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D98DD6-4BDE-4510-875E-93CDD4795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61808-149A-4835-9CE3-43BFB9662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BBE37D-08BE-4D9D-A147-6496AA923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6B5C2F-D928-4553-B94D-549C7BF08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E458B5-26CD-434C-B2F9-9E3F27265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85CADA-F99B-48F0-91C2-725921C68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4E674D-7E33-4E5F-9496-48EC60378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2AEAFC-DE5B-4C2D-B93B-3F2D3D896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599362-8277-4836-AAAC-B3AF82214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21A905-D903-4ABD-A475-3BF30358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54280D-030B-4495-B2CF-450671D2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BC5F3C-D1E1-4B4C-8222-C5D85462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4015B-CAB9-49E2-A7C0-9942BECB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4758E9-533B-486C-80C9-6C1C851AD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E66178-C5F5-4EF6-A35A-86A7B3086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8A0F4F-BDA7-423D-8F9E-D7C3AEE36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C81955-E9C7-405C-807B-147ECEFE4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CC77BD-A3DC-4F6E-809C-C68267B9C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0B4311-889C-42B8-BD25-0EF5832FD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6C0524-2C75-48FB-B3B0-E0C5179EC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9B9407-1CE4-4650-817E-0509B101D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872E2E-326D-46D2-9E7E-29058B4E9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02FE4C-D646-49DA-B6B3-D463D197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8A72-406D-44A4-B5A2-0F21B2A94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7DBEA-AA18-4F0E-BBA7-0055DAC0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83A23E-C0BD-4A47-B4BE-67FE3ED4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620026-39A6-4DD9-B570-9E30F758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6A4D64-4AA3-486D-95FF-2F48CF627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BE008E-4748-4944-AE3A-9B87DDD34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A151AB-CE00-4089-BCF5-0CFFAC9FF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11A216-BB8D-425E-A9EE-42D6E4433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647CFF-3BA4-4117-915F-D24821E1B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8BD347-C866-451D-8A00-7E6CF68F4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05C403-F8D6-4C35-B763-9F3467D3C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CF5E32-A334-402D-8009-2D81DF95F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EB473-D623-4C70-BD11-19F9B87B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9A28EE-7071-4866-ADA8-4E1B9A20A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EA3498-BE42-4D97-8D02-3547D8C9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B8C238-9F41-40F1-9858-D147ED67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960F31-686C-4883-94C9-3631CF08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7A3C02-E96F-4D47-8EC7-78A19DC2E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478416-E152-4416-8F9E-8880C6B5B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3ED2DA-0659-4D46-A561-8C94A25A9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E8FADB-7A89-4145-91AF-2FFF5697F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090BA4-79CC-461D-B5B1-F3A79797C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25D4FC-F5ED-4A98-8CF8-3E1972584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9406F-6CD6-464F-ADB9-AD78D9CA0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1038C2-5589-4C4E-87D3-84A355A16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3C8BF4-705E-4025-8AE8-E1BDE3EF5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FD4640-B5E7-4FD5-82D0-2F0DE3E1C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E10969-5AE5-43A5-9AC8-5FC3B7BF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767FCD-FF2D-438A-B39D-2E57AD1F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A84014-F655-4F13-8E25-65E6278F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DF5663-AF7E-4774-B386-DBA03157E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3C6443-AAA6-44E3-AFFD-E6F9219CC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6D5F11-7806-43D2-A897-78833473F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3A847D-CED1-499B-9A6D-3C5DED406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CA777-1F7A-49B1-883A-E42141FE2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FF5135-16D3-4A7C-8427-90141F720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E952ED-09CC-4B68-A241-9E1AB9FC4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802DF5-2031-4553-A5C0-5F628B269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ADBF8E-601C-44A0-BF1B-6EB642EDD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3B3409-2B8B-404B-9CD9-89C325C6C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6BE0A7-680B-427E-BDE7-3656ACF5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A85928-F862-4899-9D4F-48748C97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843DEB-A936-4E73-A51C-5661A93E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3CE2C9-F255-48D8-BB97-C7693318A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E77811-9BCF-443E-AC02-F38E6317C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71B07-A534-4E3D-B10C-B8037565A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6DDDDB-D7DD-4D38-880A-9A9FA292C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98516D-008E-4BE6-BDC8-D776E5F29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06A554-32FF-459D-838C-CEA4EA999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4A7642-93A4-4662-8163-EAEEA0684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4A3FDF-75C6-402D-A0C4-9048A7D3A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9E9411-1E0D-4A55-BE98-2722C45E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441519-67D1-4344-9230-26DFC9EDA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04B7BC-F64B-4CA4-8567-4688A01F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534869-516A-4A2D-92AD-2570AACC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32C124-18C4-45DE-B73E-6BBF4578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5625C-C4C3-4BEB-AF77-4509C956E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8528E5-84A7-4985-851A-090075005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ADD2EF-F274-455F-8384-6887EA0E2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3E514D-5A4B-4511-9B4E-C6FE47812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BB97263-B26C-4CAF-B9A0-D294847F7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4953D4D-5BB6-402F-B71B-7D1857DD7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8E0BF9E-FE29-4467-95CC-76D58DE15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DB37C18-2C34-4F5E-8606-970F12195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FB1A806-DF42-47F7-B7A8-529467352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22A1AEC-C917-4225-80B1-DCCEF6994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F55D88-4CFA-41DC-AAD6-A0625075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CEE3D-BE37-44BF-BBC5-471355AA3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C0370A1-E6D2-4D8B-B31B-55E376E5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4EBECC-F564-4721-8DA9-034E154D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A5E11F5-E636-404E-BB53-61D0E1C35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5F1929A-0C07-43A7-B7EE-3E8E37561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3778016-1741-4308-8A05-9387A0CDA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0FE47A9-5C73-44A3-BAD9-39E094A75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42F6799-F2AB-488B-9855-61C11C056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11132A2-6182-473E-A2FD-88ED968BD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567D9C2-00E7-41CD-B037-999FACDA2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B23A148-6F2F-4803-BC2D-61550BF13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80AE0-1FBB-4B9C-9C16-1F30892DF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BFFBA79-6E68-4FDC-8D9D-598C47F8D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E5749FE-9C35-4AE1-852A-58B61884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4AD12ED-0E38-436E-B516-FFF5696F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4DFCEB8-4131-49F1-804B-08E50991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6A05789-D95D-4170-B75B-A0F39537C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93BE325-9A06-4306-BA47-3E6CFA7F3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AD1E60F-5B73-4891-A9E4-094A5381E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CDFE019-4E6F-4EA1-B013-3F0EB5394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08DC393-BF42-4D8C-9D06-C8B17DDEA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59AE122-A835-4604-9283-505BC7E4B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A69D5-C2C8-4F60-93E3-8B8CEC4F1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891C008-55A4-473C-90C8-7AEFB222B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E4961BF-C82E-483C-8A86-6A6609380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56D450D-3292-41B0-8035-444EA2A06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49A7F82-A916-490E-A4C4-852745D5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E2D2F9F-603A-4627-B65D-0CE3258E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792AE0F-AC26-465B-AF08-14370A83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EBBF6E2-3DD2-45A6-B68E-96D73C101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AA29CF0-9F34-4D3C-B702-C1FC429EB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92C3832-4506-4BB5-98C6-4BFC1D8EF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9A314D6-0DD6-4F64-A2D9-AB783AA6E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A3C2C-81BE-4FDC-A2DA-FF4494B47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422D713-0EDC-4197-A978-4DCEF75CB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B82FC91-BF22-4FD1-96F3-644689AA1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9EC1806-6C38-4D98-A482-0419B83CE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6013F3E-AAF3-494E-8392-B72024ED0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1522F1F-1A57-4DA4-BC8B-E0D360A96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D4A6770-4F4E-4F13-8B91-5976DF08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5466614-6B99-40C6-B582-CD36CEC0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A5CED3E-997B-4DB9-BF02-B4317882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DE0B6D5-E366-44D3-8412-6FF8899D3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C889DC5-B3FE-4765-8806-415EF254F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17A8-FFD3-41AB-8518-B48655AA9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7D235-1E15-4638-A8F0-D48F3FD2B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F6BDFDE-F657-43DE-991C-5B9DE1CE3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3216DF7-5090-43D8-ADED-21DFF7BBD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92180BF-C58F-42A6-A0C8-C18A5C191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8AF9BFC-BBF7-4315-B39F-E41A50292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B604020-882F-4507-882A-3E94169A2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0285352-34D5-4B76-83FA-06EDCAC6D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7AF8FDB-67A7-4CD5-8E54-2D3FD32B2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9C35E50-D84C-46DE-9894-9AF18514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5165F9E-5196-4A9D-BC2F-F4743209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FCFB876-D47D-45B5-8FF8-22B39813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66AD3-1B64-49F7-ADAA-8CB39074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987FCB9-BB4E-4027-B64D-48D2D6963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FDC6924-AA36-4018-895B-004ECFCDE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B6326A2-40E0-40B9-A379-C4C02C11A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3742292-7F01-4B91-9671-4DDC5C073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398E3FD-23DE-4B3E-B5E8-B6F9A29C9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90F54D9-39C4-454E-B59F-6FEB5C918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15D3784-DDC9-4485-A42C-6ABBBBF27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9950FE2-2A5E-4CA0-AFD2-49A32B872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5F12CAB-0ED1-4955-898B-306BCECE5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ED64156-C475-413D-BB10-3300F61F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85E3C-B25D-4433-BF69-98F8F79C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E3EA70F-C0F7-4966-83C9-274EA95E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AD11802-9D60-4E69-AF9B-E24FD13C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D01B93F-E44A-4254-8348-CD73AAA28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B547E17-A1C8-4066-84EF-1CE6B484D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62B2CBD-803D-47E9-9E87-C86105551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7DB91CC-0411-45DA-80E7-6FEBCC100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49E1D3B-94B5-4F52-8701-A369AE1C1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71EF639-F218-4D64-B7AF-9AA1872CA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12ACD21-0679-4BBF-AC65-E6DA48DC7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FC7F322-3C85-4AC9-986C-64734FF4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F4A69-802D-4772-98F8-D0F99082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CD3F853-AD61-43A4-992D-D7236DFF6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E5E3496-0CA5-4D0B-88E3-510142FA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193F647-3213-43AE-BB07-F507D040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0936EE9-E227-46FA-A081-708B05B5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1822178-196F-4312-A471-87901D739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89183EA-44EC-497A-A3A8-E386A4E1B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78853A5-5AF0-45C2-8077-C9E86AE89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F74B947-F228-4E13-BEAA-521E55410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790953F-8107-4B7E-9783-CF29D06B6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C6F79F6-5EA7-4277-8931-826F59B3F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DF769-472F-4376-8879-0CE13C150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ABBD42F-E278-4C74-8B54-99250A90A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8F6E7E4-8C59-42E3-AFCD-2DD9F413E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AAE2197-7F7B-4434-9687-799058E48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91D6C9F-1A50-4211-B775-76D88C8A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928B8D0-7687-4F97-8893-A8CCE767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076D190-AC97-4AAA-A4D9-BDFEECD2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616477B-94CA-41D1-AF37-F48DE46CE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C11AA07-3BB2-4C36-B7AF-4817F1AA4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99ABE02-E52A-48D0-9F31-2DC1F0121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C69A137-53F2-4A12-8662-900F7B4D7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5F762-99CE-40B6-B1C1-6B64923A0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32F7D99-1C4F-4652-8D73-B687A48D6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D930A8E-8859-48BE-BB75-BFD23389F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9E71C89-1A4B-463E-A5CA-F829355FC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6E0F5F3-4A4C-4ABA-8380-61B13BC76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5B17F35-B61D-4B03-BF28-3561DA55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1C44D3D-03C1-4527-8137-5B3B8AC0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C767B31-6096-46C4-A9E5-CF67E182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BCBEF25-CF8B-4B6C-83C7-E564A351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A865460-1AC5-49E2-B117-A014B27E3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F1B977B-4946-4543-94C7-83B226FB8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75804-AE4A-4BBC-8623-BA077BFE7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952787B-0EFD-4E67-A54E-0CB2195E7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4DC3908-2D1A-424D-B391-3667D60C3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91D7B1F-4876-4270-943B-CFB2C7826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7439B1A-D2B4-4D07-8782-0D4CC31CB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7B5C514-B84C-4934-A6B0-4EEB6A7C8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49CFBA9-3635-4B5E-9A16-44D1715E1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A59BA8D-9DB1-4EAB-A22E-C71659530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71FF0A6-7A69-4BA2-A329-818BD75A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4BF9CAF-3F92-42FB-BF09-56BFB5A4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23DAB66-C050-44E6-A490-93462460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332C7-3849-4FC2-A6D6-49E62F2B3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E0C82EE-E0A3-4743-8C5F-64BC416F5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11944BB-D80A-462A-B613-CAEC54C5E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2A7B1BA-A129-4F11-B136-40C8353E9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1972CD5-4C78-40DF-9F7D-8A5F00786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516FD57-1296-4594-A59F-07E5227B5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787E627-7ABB-4E70-AC94-AE4468E14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3A0850C-5151-48C2-9F12-6136EF31C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FF36556-C0F1-4F0A-97F7-4B65EC989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A181ED5-8D52-4D29-B8D2-BC5742B61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4F1BAF3-2E6F-4062-B8B8-E4D3FD29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E8D52-C622-4FFF-8FF7-730702C1C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5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B3436C2-F2A4-49EA-901A-F226662F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2516C7B-067C-413A-9F37-AD0D62DF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F921361-F438-4497-951B-E36A4B2BF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7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E465444-5E3D-402D-9988-792A7639D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2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3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4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6E98A0C-8CF3-43F1-A609-579D90F78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8DF815B-C535-482B-8802-E1AFE1F6F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EC35C68-259A-440B-9941-2B7365349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5C7F823-0248-4A29-AA91-70EB4A1E3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C198A97-16C5-4BC8-A7E3-D04072A6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6B510FF-30C0-4EAC-87CE-2332E34FF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E95C3-7D0E-46DA-BF03-98E342E7A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3D98C20-1C63-4218-AC74-A5F58DCEC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A5A9A3A-25E3-4AC2-AE13-3DC66221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A2AA0F2-5787-4146-B220-5F963D0A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FEF9EEC-E373-4325-A0C8-B94C478B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CE7D8D2-58C4-4D3F-9E00-F666EF65F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5F1B1DA-BF41-4BA3-BD54-11C5AED99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C1E580A-6BCF-4BF8-8C80-07E187401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B7ED588-DD87-4FA1-A3E0-F9AC7AA77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26D74A6-E9EA-4389-BAF5-6B127A413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5723EB8-1447-490F-9180-26A5022F7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C27F-D4B6-4E30-A489-ADB08C5C7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49D84-F404-48F3-8065-591E84FD3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82AAECA-9F48-4133-BB6B-A2575AC26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17A107D-C591-445F-8120-23EB92293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01057B2-8BC4-45CF-883B-088668125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F8ABF01-2A38-4D1F-9519-71752A1E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11D7A7E-EC3F-4C27-AA43-6CFDBFA8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AD0E58F-132A-429E-938C-62151F4B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E5DAD42-D6E8-441A-8CA9-0DDF518F3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7FD0FFC-4A4E-4879-81CB-6E7C577A5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5EC7742-96D8-4065-BD87-CE5723978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9FA804E-A409-4694-BCED-A567A235D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3733C-C033-4CDC-9BF0-0B45AC44E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8715B5D-04F7-43C8-A545-A63A61871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0B41694-542D-49D1-9E77-281033617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DE74937-E454-421F-8EDB-828F12465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B5DAEB5-3E41-4CCB-9C58-FAC973825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A2C9E93-A1D7-4BBA-8D4D-0AA20CC0E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089FD53-6558-4320-A8D4-546B5D12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25DFF0B-6628-492D-ACDB-A26E0296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F4ADD37-46C9-4505-9C8A-EF24259A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0D787DF-3A1B-41F5-940B-7E306DADF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C606055-9024-4E77-8DBE-8806A84ED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8C429-E32A-4E5F-8EEF-02BED7793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A933B1C-5773-40F1-814F-BA3F97C7D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1BC182C-4FFA-4ACD-8B3B-A91FB1FCA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ABB7D35-9F0E-438D-88C1-4090CE5DE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CC6E50C-C485-4D3D-B7FF-DC684A701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8588583-9B4A-4766-9006-9AA962AD8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86BBA70-FEEF-45DF-AE31-2F91C9ABD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7E7A617-1929-4A93-83C5-DA0506AAA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5B95388-D46C-46C1-948D-49468A8D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7916E9F-4FD9-44A8-B2BA-A40DAC85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C93A504-1C7B-4A9C-8DED-5AF3F3AF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A1D8A-BFF2-4071-9792-53225386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9CA1E33-AA09-42FC-832C-554509551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FD65CBE-849E-4045-A640-D7CF36A53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BE32EB1-E23E-4ED0-892A-767AD9346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5269B26-DFAE-4A39-8C3C-CAE6F026C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3D24894-A6C6-48B4-A9E8-790D25D54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49E0C1B-F3EC-48F1-A4C3-FF2E8F48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6B19E7A-17DA-4C2B-A846-4F44814F8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B08647E-2ABB-438D-B951-561F6B8A8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DF5F384-0161-48F9-98C1-39D0BAE6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59EA43D-E46F-48D9-8EF6-CDEFE965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8D3EA-029E-4F72-8DEA-4E7C6698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4EA5743-583E-4F92-AD6C-04ABD94D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7BE5CBF-4C32-41E0-9722-CD1F0FC0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96E9073-979B-4C3D-8407-B8061D76E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17BE6B7-0AAD-4127-94FE-B116729AE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7800406-E29E-4447-AA84-ACBDECD35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B1936CD-8853-40DA-B602-6A2C690BC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5225607-1C6C-4725-B89A-3A4AB47C5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EFA31E4-5BB6-4D7F-8F58-8BEF4E875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0C714C9-236B-49E5-9C7E-C3459B404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9836B95-5F5E-4FBE-8DCB-FCD4393F9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5545A-C5D1-4C40-ADB6-99605497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FE97091-D9AC-445A-8E9B-221109616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C8F8751-75CA-48A9-B2D6-2B37497D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50C44DF-E9DE-49AF-9CA4-931535E2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3100FDE-0A5D-4D6D-B4CB-EACCD735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BDBA26A-F1E0-46D1-A5D8-EFD22AC42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85FE89D-EC4A-46CE-8E35-CAA240312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4A0C739-F1C2-4C83-B102-554DA97A5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86A715C-AB4F-429E-BDA7-4048C243A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C4664BF-2264-49EB-84DE-E736EE6AC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C45CE69-2410-4137-A3C1-AC088E724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FD116-6918-4820-86A0-517A094BC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1BE6FBF-98BC-432E-83BD-4107CCA52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D20DDA7-6A6C-4A9B-8C46-B54CF05EF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8F7A30B-FB96-4A54-922A-8EC2E7873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E3D3B82-D6AE-403D-B857-93E86060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E2DCD07-7A02-403B-A624-D8E9A854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2A689D3-F063-4EA3-A750-5383FFCF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09B34D8-00C5-4018-8889-D478F5F0B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3A647C9-5FA9-49A7-83AF-4FB03844D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450BE79-3C5F-4D04-8C00-5D686ADA7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68140-2CB8-438F-B4F8-7E3395508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7DA05-72C0-4037-A232-191267994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11F65-CC42-4663-95A6-261408DFC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A94B-83B3-4B08-927C-F5BA89F43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0A488-6FB3-4B04-AAE6-50BE60D79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F1E45-911A-4AAA-A1B2-65221671D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2497B-3BE7-435B-9C0E-DA1506232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52968-3C1D-455A-A248-A9FC71A24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3F021-ED75-4315-BBCA-74F15FA84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139A9-D29F-436D-8100-00BDA0C7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3F2AC-7B03-4557-9B92-31981466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7874B-1297-4A0D-97D1-3C8FFA7E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9873D-92BD-4958-A10A-72DD35C7F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E47DD-83C3-4327-96F0-9F320E61E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5365-A034-473D-907D-61D854B69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56F15-8B2E-4C59-A9D9-B09020DA2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C3E3E-5D66-4D8C-BB39-894864101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9255F-759C-43D1-A5DA-F19DC0C1D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7CFDC-D044-425A-9FC0-345D87267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8F02D-5E0E-472B-BE9F-36E91529C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C6F9A-E2BB-43FC-986F-04F8230A7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71D3E-D9E5-4154-AE00-12D7FB79A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F8466-DFCF-4879-A657-319F9775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4AFD6-52AA-4EE4-A696-4AF91278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2BA79-5B91-43B5-83D0-5ED7DD3D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626C-1A39-4F34-BAD9-089E6B4F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AECF1-AD91-4B74-A127-5380D885D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97D6C-EB8E-4FEE-8107-A88D0E04D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43BCC-0C4D-4B27-8188-AA47BFD3F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2F6F0-3FAA-4A9E-9674-98C1B544F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E7DB2C-D67B-4367-8F43-F2CEC89FA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B6E04-04D9-4F34-AAED-90C846F41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3B10E-5F96-4E15-AFD9-B538EE688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F29A0D-E415-439B-BD33-551012CE5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A77D58-4128-4AEF-BD4B-034CC1064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DEB5C-F20C-452C-B8E0-A378BE3F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66A7-E4A0-4FC3-8460-F31B31EA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A4CB05-85B5-46E1-9512-0921F6E9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9F3798-5853-4529-BED7-D9579E1F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331B2-4FFF-49B4-93E6-1722D03B6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68814-58D5-446F-A5E6-AF4768DE9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4FBA2-B478-4F04-9CB2-599E6E60F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D6AD2E-AD1D-40DE-8899-A328F072C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DA7965-AAD2-4A55-8D81-37ABE223E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18FB04-BBAF-4EC2-A59E-F8DEB0D2D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C382CF-F338-4E32-AC82-041F33FBE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529A4-BDCD-47B0-A212-6820ED8CB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5F5E-8DF0-4132-9CBB-1748C267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830356-B684-4D75-9244-DB0482A88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03D5EA-5DF2-4008-9FE5-5319520F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66939A-1C3D-446B-8639-865CAC44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2002A3-40BF-4B4A-8F40-73D2DDEC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9FC745-A8D9-4869-B233-3AFD9CB62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7D1F93-A149-4D50-88EB-1D1146EC3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EC7360-BC20-4901-A3DB-C688A695A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01700B-C823-4FB4-BC6B-3D72CBA6D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1C1B1B-5301-4877-B246-0F2A796BA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7E1BE8-702D-4B5E-9C14-A2414A01F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025F1-6FFE-43C8-A84B-5366AE8F381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1C00B-7FB4-48B4-8ECC-C325E287C00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3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484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6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487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1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1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2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3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79B8A-58B6-4295-813D-44B94030E63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534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AE7FB-4B45-462A-B68E-46F6BF603E95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2a40"/>
            </a:gs>
            <a:gs pos="100000">
              <a:srgbClr val="73738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de9ec">
                  <a:alpha val="1176"/>
                </a:srgbClr>
              </a:gs>
              <a:gs pos="100000">
                <a:srgbClr val="dde9ec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8b8bc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0c0c4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374165"/>
              </a:gs>
              <a:gs pos="100000">
                <a:srgbClr val="a1aad1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98b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7ca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7ca3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aa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dt" idx="37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ftr" idx="38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sldNum" idx="39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5FE32-E1D5-4281-9B59-860AA5CDF170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2a40"/>
            </a:gs>
            <a:gs pos="100000">
              <a:srgbClr val="73738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de9ec">
                  <a:alpha val="1176"/>
                </a:srgbClr>
              </a:gs>
              <a:gs pos="100000">
                <a:srgbClr val="dde9ec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8b8bc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0c0c4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98b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7ca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7ca3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aa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0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41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42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D6F86-D950-4280-BAE5-B182C07B02E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de9ec">
                  <a:alpha val="1176"/>
                </a:srgbClr>
              </a:gs>
              <a:gs pos="100000">
                <a:srgbClr val="dde9ec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374165"/>
              </a:gs>
              <a:gs pos="100000">
                <a:srgbClr val="a1aad1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0c0c4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8b8bc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98b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7ca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7ca3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aa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dt" idx="43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ftr" idx="44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 type="sldNum" idx="45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49217-A531-48C2-90D0-BF78D25A3B1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2a40"/>
            </a:gs>
            <a:gs pos="100000">
              <a:srgbClr val="73738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98b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7ca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7ca3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aa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 type="dt" idx="4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 type="ftr" idx="4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 type="sldNum" idx="4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51E84-4427-406E-8784-4AEFB96C58D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2a40"/>
            </a:gs>
            <a:gs pos="100000">
              <a:srgbClr val="73738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98b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7ca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7ca3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aa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4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25C43-C6FD-4C5F-97A8-80AD45491449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98b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7ca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7ca3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aa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 type="dt" idx="5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 type="ftr" idx="5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 type="sldNum" idx="5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6BA13-BCC8-4C0B-BDAB-B72A488091A8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868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9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 type="dt" idx="5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 type="ftr" idx="5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 type="sldNum" idx="5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FE7B1-E3C5-46B5-9248-D2C3DB5C904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43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46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5C263-E0D1-4E10-AE19-EDB38775132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2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13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4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 type="dt" idx="5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 type="ftr" idx="5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 type="sldNum" idx="6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A78C1-0497-46FD-9A40-362831309B6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 type="dt" idx="6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 type="ftr" idx="6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 type="sldNum" idx="6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C1AF1-59C0-4393-9415-7B5CB9DDF87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 type="dt" idx="6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 type="ftr" idx="6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 type="sldNum" idx="6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A6448-1761-4E07-A023-73D75795CA1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c121e">
                  <a:alpha val="45098"/>
                </a:srgbClr>
              </a:gs>
              <a:gs pos="100000">
                <a:srgbClr val="00558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64164">
                  <a:alpha val="45098"/>
                </a:srgbClr>
              </a:gs>
              <a:gs pos="100000">
                <a:srgbClr val="a00e1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44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5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47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48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3ded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293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 type="ftr" idx="6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9d4c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9d4c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 type="sldNum" idx="6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9d4c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D2A42-88CB-4D83-8A9C-979B59F6BBE4}" type="slidenum">
              <a:rPr b="0" lang="ru-RU" sz="1200" spc="-1" strike="noStrike">
                <a:solidFill>
                  <a:srgbClr val="d9d4c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c121e">
                  <a:alpha val="45098"/>
                </a:srgbClr>
              </a:gs>
              <a:gs pos="100000">
                <a:srgbClr val="00558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64164">
                  <a:alpha val="45098"/>
                </a:srgbClr>
              </a:gs>
              <a:gs pos="100000">
                <a:srgbClr val="a00e1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94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95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97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8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3ded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293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 type="ftr" idx="7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9d4c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9d4c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 type="sldNum" idx="7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9d4c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C0879-2C0A-40D2-B41A-A6FE9FE3D84B}" type="slidenum">
              <a:rPr b="0" lang="ru-RU" sz="1200" spc="-1" strike="noStrike">
                <a:solidFill>
                  <a:srgbClr val="d9d4c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c121e">
                  <a:alpha val="45098"/>
                </a:srgbClr>
              </a:gs>
              <a:gs pos="100000">
                <a:srgbClr val="00558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64164">
                  <a:alpha val="45098"/>
                </a:srgbClr>
              </a:gs>
              <a:gs pos="100000">
                <a:srgbClr val="a00e1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293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 type="ftr" idx="7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2f2f2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2f2f2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 type="sldNum" idx="7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f2f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EF122-9B28-4CCB-B01B-7F5EC393B4D2}" type="slidenum">
              <a:rPr b="0" lang="ru-RU" sz="1200" spc="-1" strike="noStrike">
                <a:solidFill>
                  <a:srgbClr val="2f2f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7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1188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9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 type="dt" idx="7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 type="ftr" idx="7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PlaceHolder 5"/>
          <p:cNvSpPr>
            <a:spLocks noGrp="1"/>
          </p:cNvSpPr>
          <p:nvPr>
            <p:ph type="sldNum" idx="7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BD08D-8C4A-4B19-A71B-9A3513AA6CA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2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1233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4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 type="dt" idx="7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 type="ftr" idx="8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 type="sldNum" idx="8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CF0C3-3880-4AD1-ABD3-4CEF0923792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 type="dt" idx="8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 type="ftr" idx="8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PlaceHolder 5"/>
          <p:cNvSpPr>
            <a:spLocks noGrp="1"/>
          </p:cNvSpPr>
          <p:nvPr>
            <p:ph type="sldNum" idx="8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B6929-38C1-44CA-8856-5526FB8285D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9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 type="dt" idx="8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3" name="PlaceHolder 4"/>
          <p:cNvSpPr>
            <a:spLocks noGrp="1"/>
          </p:cNvSpPr>
          <p:nvPr>
            <p:ph type="ftr" idx="8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PlaceHolder 5"/>
          <p:cNvSpPr>
            <a:spLocks noGrp="1"/>
          </p:cNvSpPr>
          <p:nvPr>
            <p:ph type="sldNum" idx="8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A34E3-D98B-4E5F-9CC4-6144F556A66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93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D7D54-20F3-463E-9FE0-50CCB1D167C9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3ded1">
                  <a:alpha val="1176"/>
                </a:srgbClr>
              </a:gs>
              <a:gs pos="100000">
                <a:srgbClr val="e3ded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2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6b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3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ebeb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4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14700"/>
              </a:gs>
              <a:gs pos="100000">
                <a:srgbClr val="ffa066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 type="dt" idx="88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 type="ftr" idx="89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PlaceHolder 5"/>
          <p:cNvSpPr>
            <a:spLocks noGrp="1"/>
          </p:cNvSpPr>
          <p:nvPr>
            <p:ph type="sldNum" idx="90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98FA9-51D8-4168-8EAD-A0EBC809D5ED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3ded1">
                  <a:alpha val="1176"/>
                </a:srgbClr>
              </a:gs>
              <a:gs pos="100000">
                <a:srgbClr val="e3ded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7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6b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8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ebeb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 type="dt" idx="91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 type="ftr" idx="92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PlaceHolder 5"/>
          <p:cNvSpPr>
            <a:spLocks noGrp="1"/>
          </p:cNvSpPr>
          <p:nvPr>
            <p:ph type="sldNum" idx="9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A04BC-73CA-4FDD-BCC9-B729D047056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3ded1">
                  <a:alpha val="1176"/>
                </a:srgbClr>
              </a:gs>
              <a:gs pos="100000">
                <a:srgbClr val="e3ded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14700"/>
              </a:gs>
              <a:gs pos="100000">
                <a:srgbClr val="ffa066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ebeb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6b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 type="dt" idx="94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PlaceHolder 4"/>
          <p:cNvSpPr>
            <a:spLocks noGrp="1"/>
          </p:cNvSpPr>
          <p:nvPr>
            <p:ph type="ftr" idx="95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8" name="PlaceHolder 5"/>
          <p:cNvSpPr>
            <a:spLocks noGrp="1"/>
          </p:cNvSpPr>
          <p:nvPr>
            <p:ph type="sldNum" idx="96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BEE8-1CE8-4B1B-BA2E-AFD7F86128B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 type="dt" idx="97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 type="ftr" idx="98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PlaceHolder 5"/>
          <p:cNvSpPr>
            <a:spLocks noGrp="1"/>
          </p:cNvSpPr>
          <p:nvPr>
            <p:ph type="sldNum" idx="99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C6784-00F0-4991-8A78-002BF73AFFB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 type="dt" idx="100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 type="ftr" idx="101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PlaceHolder 5"/>
          <p:cNvSpPr>
            <a:spLocks noGrp="1"/>
          </p:cNvSpPr>
          <p:nvPr>
            <p:ph type="sldNum" idx="102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CB2CB-62DA-4362-9F63-84E087A1297E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 type="dt" idx="103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 type="ftr" idx="104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1" name="PlaceHolder 5"/>
          <p:cNvSpPr>
            <a:spLocks noGrp="1"/>
          </p:cNvSpPr>
          <p:nvPr>
            <p:ph type="sldNum" idx="105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F80A4-9668-4300-BDDC-4F25ADBE10BF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8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1619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0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1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 type="dt" idx="106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 type="ftr" idx="107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PlaceHolder 5"/>
          <p:cNvSpPr>
            <a:spLocks noGrp="1"/>
          </p:cNvSpPr>
          <p:nvPr>
            <p:ph type="sldNum" idx="108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BBE77-AF6C-42C9-9B47-5B0D64861C91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3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664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5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 type="dt" idx="109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9" name="PlaceHolder 4"/>
          <p:cNvSpPr>
            <a:spLocks noGrp="1"/>
          </p:cNvSpPr>
          <p:nvPr>
            <p:ph type="ftr" idx="110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13f9a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PlaceHolder 5"/>
          <p:cNvSpPr>
            <a:spLocks noGrp="1"/>
          </p:cNvSpPr>
          <p:nvPr>
            <p:ph type="sldNum" idx="111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90648-CD16-48A8-A38E-303E572AB854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8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 type="dt" idx="112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 type="ftr" idx="113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4e7ed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PlaceHolder 5"/>
          <p:cNvSpPr>
            <a:spLocks noGrp="1"/>
          </p:cNvSpPr>
          <p:nvPr>
            <p:ph type="sldNum" idx="114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DD40C-F02C-4F02-8A72-53D473552CAF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5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 type="dt" idx="115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 type="ftr" idx="116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13f9a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PlaceHolder 5"/>
          <p:cNvSpPr>
            <a:spLocks noGrp="1"/>
          </p:cNvSpPr>
          <p:nvPr>
            <p:ph type="sldNum" idx="117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A6986-AE03-4C54-BB5A-31D39167B641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2a40"/>
            </a:gs>
            <a:gs pos="100000">
              <a:srgbClr val="73738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de9ec">
                  <a:alpha val="1176"/>
                </a:srgbClr>
              </a:gs>
              <a:gs pos="100000">
                <a:srgbClr val="dde9ec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8b8bc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0c0c4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98b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7ca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7ca3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aa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95BF9-6D31-4E28-AABB-2BF6CDFFBEC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14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FC6D-9408-480F-9DF3-303D0DE8149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c121e">
                  <a:alpha val="45098"/>
                </a:srgbClr>
              </a:gs>
              <a:gs pos="100000">
                <a:srgbClr val="00558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64164">
                  <a:alpha val="45098"/>
                </a:srgbClr>
              </a:gs>
              <a:gs pos="100000">
                <a:srgbClr val="a00e1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293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2f2f2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2f2f2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f2f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31EC4-E165-4CA9-B796-42392391CA89}" type="slidenum">
              <a:rPr b="0" lang="ru-RU" sz="1200" spc="-1" strike="noStrike">
                <a:solidFill>
                  <a:srgbClr val="2f2f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65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66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69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8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309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C440B-76C2-4ECE-8407-67D0E35B8E2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3ded1">
                  <a:alpha val="1176"/>
                </a:srgbClr>
              </a:gs>
              <a:gs pos="100000">
                <a:srgbClr val="e3ded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6b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ebeb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2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3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4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6DC19-FB86-4A9D-BF9A-A65AD3DA214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39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5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6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13f9a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27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E032A-2355-4750-8E81-F9BCC45691EB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57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1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36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57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1" name="Rectangle 2" descr=""/>
          <p:cNvPicPr/>
          <p:nvPr/>
        </p:nvPicPr>
        <p:blipFill>
          <a:blip r:embed="rId1"/>
          <a:stretch/>
        </p:blipFill>
        <p:spPr>
          <a:xfrm>
            <a:off x="249120" y="981000"/>
            <a:ext cx="9772920" cy="3919680"/>
          </a:xfrm>
          <a:prstGeom prst="rect">
            <a:avLst/>
          </a:prstGeom>
          <a:ln w="0">
            <a:noFill/>
          </a:ln>
        </p:spPr>
      </p:pic>
      <p:pic>
        <p:nvPicPr>
          <p:cNvPr id="1802" name="Picture 11" descr="%D0%BF%D1%80%D0%B0%D0%B2%D0%BE_17"/>
          <p:cNvPicPr/>
          <p:nvPr/>
        </p:nvPicPr>
        <p:blipFill>
          <a:blip r:embed="rId2"/>
          <a:stretch/>
        </p:blipFill>
        <p:spPr>
          <a:xfrm>
            <a:off x="0" y="4878360"/>
            <a:ext cx="1979640" cy="1979640"/>
          </a:xfrm>
          <a:prstGeom prst="rect">
            <a:avLst/>
          </a:prstGeom>
          <a:ln w="0">
            <a:noFill/>
          </a:ln>
        </p:spPr>
      </p:pic>
      <p:sp>
        <p:nvSpPr>
          <p:cNvPr id="1803" name="Місце для нижнього колонтитула 1"/>
          <p:cNvSpPr/>
          <p:nvPr/>
        </p:nvSpPr>
        <p:spPr>
          <a:xfrm>
            <a:off x="137160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             </a:t>
            </a: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Антипод правовой культуры –   </a:t>
            </a:r>
            <a:br>
              <a:rPr sz="4000"/>
            </a:b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                   правовой нигилизм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453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«Закон что дышло, куда повернешь, туда и вышло»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«Где закон, там и обида»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«Что мне законы, коли судьи знакомы»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«Закон топтать нельзя, а вокруг ходить можно»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56" name="Picture 4" descr="206"/>
          <p:cNvPicPr/>
          <p:nvPr/>
        </p:nvPicPr>
        <p:blipFill>
          <a:blip r:embed="rId1"/>
          <a:stretch/>
        </p:blipFill>
        <p:spPr>
          <a:xfrm>
            <a:off x="3492360" y="4797360"/>
            <a:ext cx="2016360" cy="2060640"/>
          </a:xfrm>
          <a:prstGeom prst="rect">
            <a:avLst/>
          </a:prstGeom>
          <a:ln w="0">
            <a:noFill/>
          </a:ln>
        </p:spPr>
      </p:pic>
      <p:sp>
        <p:nvSpPr>
          <p:cNvPr id="1857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-252720" y="291960"/>
            <a:ext cx="900108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   </a:t>
            </a:r>
            <a:r>
              <a:rPr b="1" i="1" lang="ru-RU" sz="4000" spc="-1" strike="noStrike">
                <a:solidFill>
                  <a:srgbClr val="dbbd71"/>
                </a:solidFill>
                <a:latin typeface="Arial"/>
              </a:rPr>
              <a:t>Правосознание – важнейший   </a:t>
            </a:r>
            <a:br>
              <a:rPr sz="4000"/>
            </a:br>
            <a:r>
              <a:rPr b="1" i="1" lang="ru-RU" sz="4000" spc="-1" strike="noStrike">
                <a:solidFill>
                  <a:srgbClr val="dbbd71"/>
                </a:solidFill>
                <a:latin typeface="Arial"/>
              </a:rPr>
              <a:t>     элемент правовой культуры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108000" y="1916280"/>
            <a:ext cx="316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Tahoma"/>
              </a:rPr>
              <a:t>В широком смысл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динс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авовы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наний, идей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беждений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увств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ноше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/>
          </p:nvPr>
        </p:nvSpPr>
        <p:spPr>
          <a:xfrm>
            <a:off x="6215040" y="1905120"/>
            <a:ext cx="292896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ahoma"/>
              </a:rPr>
              <a:t>     </a:t>
            </a:r>
            <a:r>
              <a:rPr b="1" lang="ru-RU" sz="2800" spc="-1" strike="noStrike" u="sng">
                <a:solidFill>
                  <a:srgbClr val="ff3300"/>
                </a:solidFill>
                <a:uFillTx/>
                <a:latin typeface="Tahoma"/>
              </a:rPr>
              <a:t>В узк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ahoma"/>
              </a:rPr>
              <a:t>     </a:t>
            </a:r>
            <a:r>
              <a:rPr b="1" lang="ru-RU" sz="2800" spc="-1" strike="noStrike" u="sng">
                <a:solidFill>
                  <a:srgbClr val="ff3300"/>
                </a:solidFill>
                <a:uFillTx/>
                <a:latin typeface="Tahoma"/>
              </a:rPr>
              <a:t>смысл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беждение в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обходимост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сеобщег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чинен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авовым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ормам дл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лага обще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1" name="Picture 7" descr="obraz"/>
          <p:cNvPicPr/>
          <p:nvPr/>
        </p:nvPicPr>
        <p:blipFill>
          <a:blip r:embed="rId1"/>
          <a:stretch/>
        </p:blipFill>
        <p:spPr>
          <a:xfrm>
            <a:off x="2916360" y="3357720"/>
            <a:ext cx="3095640" cy="2366640"/>
          </a:xfrm>
          <a:prstGeom prst="rect">
            <a:avLst/>
          </a:prstGeom>
          <a:ln w="0">
            <a:noFill/>
          </a:ln>
        </p:spPr>
      </p:pic>
      <p:sp>
        <p:nvSpPr>
          <p:cNvPr id="186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3" name="Rectangle 2" descr=""/>
          <p:cNvPicPr/>
          <p:nvPr/>
        </p:nvPicPr>
        <p:blipFill>
          <a:blip r:embed="rId1"/>
          <a:stretch/>
        </p:blipFill>
        <p:spPr>
          <a:xfrm>
            <a:off x="0" y="-158760"/>
            <a:ext cx="9277200" cy="1500120"/>
          </a:xfrm>
          <a:prstGeom prst="rect">
            <a:avLst/>
          </a:prstGeom>
          <a:ln w="0">
            <a:noFill/>
          </a:ln>
        </p:spPr>
      </p:pic>
      <p:sp>
        <p:nvSpPr>
          <p:cNvPr id="1864" name=""/>
          <p:cNvSpPr txBox="1"/>
          <p:nvPr/>
        </p:nvSpPr>
        <p:spPr>
          <a:xfrm>
            <a:off x="457200" y="928800"/>
            <a:ext cx="822960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727ca3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Осведомленность в вопросах политики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751"/>
              </a:spcBef>
              <a:buClr>
                <a:srgbClr val="727ca3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Активность в политической области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751"/>
              </a:spcBef>
              <a:buClr>
                <a:srgbClr val="727ca3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Положительное отношение к политике как роду человеческой деятельности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865" name="Picture 11" descr="j0343393"/>
          <p:cNvPicPr/>
          <p:nvPr/>
        </p:nvPicPr>
        <p:blipFill>
          <a:blip r:embed="rId2"/>
          <a:stretch/>
        </p:blipFill>
        <p:spPr>
          <a:xfrm>
            <a:off x="3924360" y="4076640"/>
            <a:ext cx="1247760" cy="252108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grpSp>
        <p:nvGrpSpPr>
          <p:cNvPr id="1866" name="Group 14"/>
          <p:cNvGrpSpPr/>
          <p:nvPr/>
        </p:nvGrpSpPr>
        <p:grpSpPr>
          <a:xfrm>
            <a:off x="7093080" y="4508640"/>
            <a:ext cx="1818720" cy="2461680"/>
            <a:chOff x="7093080" y="4508640"/>
            <a:chExt cx="1818720" cy="2461680"/>
          </a:xfrm>
        </p:grpSpPr>
        <p:pic>
          <p:nvPicPr>
            <p:cNvPr id="1867" name="Picture 15" descr="j0229051"/>
            <p:cNvPicPr/>
            <p:nvPr/>
          </p:nvPicPr>
          <p:blipFill>
            <a:blip r:embed="rId3"/>
            <a:stretch/>
          </p:blipFill>
          <p:spPr>
            <a:xfrm>
              <a:off x="7093080" y="4508640"/>
              <a:ext cx="1818720" cy="2130120"/>
            </a:xfrm>
            <a:prstGeom prst="rect">
              <a:avLst/>
            </a:prstGeom>
            <a:ln w="76320">
              <a:solidFill>
                <a:srgbClr val="ff0000"/>
              </a:solidFill>
              <a:miter/>
            </a:ln>
          </p:spPr>
        </p:pic>
        <p:sp>
          <p:nvSpPr>
            <p:cNvPr id="1868" name="Text Box 16"/>
            <p:cNvSpPr/>
            <p:nvPr/>
          </p:nvSpPr>
          <p:spPr>
            <a:xfrm>
              <a:off x="7909920" y="6514200"/>
              <a:ext cx="18216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69" name="Picture 21" descr="i?id=34623584&amp;tov=3"/>
          <p:cNvPicPr/>
          <p:nvPr/>
        </p:nvPicPr>
        <p:blipFill>
          <a:blip r:embed="rId4"/>
          <a:stretch/>
        </p:blipFill>
        <p:spPr>
          <a:xfrm>
            <a:off x="0" y="4508640"/>
            <a:ext cx="2208240" cy="2349360"/>
          </a:xfrm>
          <a:prstGeom prst="rect">
            <a:avLst/>
          </a:prstGeom>
          <a:ln w="0">
            <a:noFill/>
          </a:ln>
        </p:spPr>
      </p:pic>
      <p:sp>
        <p:nvSpPr>
          <p:cNvPr id="1870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"/>
          <p:cNvSpPr txBox="1"/>
          <p:nvPr/>
        </p:nvSpPr>
        <p:spPr>
          <a:xfrm>
            <a:off x="457200" y="1499760"/>
            <a:ext cx="822960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76280" indent="-357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уществительно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76280" indent="-357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76280" indent="-357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8e19f"/>
                </a:solidFill>
                <a:latin typeface="Arial"/>
              </a:rPr>
              <a:t>Прилагательное                    Прилагательно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76280" indent="-357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76280" indent="-357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лагол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Глагол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Глаго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76280" indent="-357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76280" indent="-357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e19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8e19f"/>
                </a:solidFill>
                <a:latin typeface="Arial"/>
              </a:rPr>
              <a:t>Фра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76280" indent="-357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76280" indent="-357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уществительно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76280" indent="-357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вывод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76280" indent="-357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2" name="Text Box 4"/>
          <p:cNvSpPr/>
          <p:nvPr/>
        </p:nvSpPr>
        <p:spPr>
          <a:xfrm>
            <a:off x="826920" y="0"/>
            <a:ext cx="705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3" name="Text Box 5"/>
          <p:cNvSpPr/>
          <p:nvPr/>
        </p:nvSpPr>
        <p:spPr>
          <a:xfrm>
            <a:off x="611280" y="-171360"/>
            <a:ext cx="7993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оставьте синквейн со словом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«правосознание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8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8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8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8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8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8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8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8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5" name="Rectangle 2" descr=""/>
          <p:cNvPicPr/>
          <p:nvPr/>
        </p:nvPicPr>
        <p:blipFill>
          <a:blip r:embed="rId1"/>
          <a:stretch/>
        </p:blipFill>
        <p:spPr>
          <a:xfrm>
            <a:off x="0" y="324000"/>
            <a:ext cx="8070840" cy="1504800"/>
          </a:xfrm>
          <a:prstGeom prst="rect">
            <a:avLst/>
          </a:prstGeom>
          <a:ln w="0">
            <a:noFill/>
          </a:ln>
        </p:spPr>
      </p:pic>
      <p:pic>
        <p:nvPicPr>
          <p:cNvPr id="1876" name="Picture 9" descr="22-04-2009-pravo"/>
          <p:cNvPicPr/>
          <p:nvPr/>
        </p:nvPicPr>
        <p:blipFill>
          <a:blip r:embed="rId2"/>
          <a:stretch/>
        </p:blipFill>
        <p:spPr>
          <a:xfrm>
            <a:off x="3500280" y="4929120"/>
            <a:ext cx="1524240" cy="1619280"/>
          </a:xfrm>
          <a:prstGeom prst="rect">
            <a:avLst/>
          </a:prstGeom>
          <a:ln w="0">
            <a:noFill/>
          </a:ln>
        </p:spPr>
      </p:pic>
      <p:sp>
        <p:nvSpPr>
          <p:cNvPr id="1877" name="Text Box 10"/>
          <p:cNvSpPr/>
          <p:nvPr/>
        </p:nvSpPr>
        <p:spPr>
          <a:xfrm>
            <a:off x="611280" y="2000160"/>
            <a:ext cx="6697440" cy="26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рок 16, стр. 69-7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исьменно ответить на вопрос «Каждый ли человек может обладать активной правозащитной позицией?»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8" name="Місце для нижнього колонтитула 1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13f9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685440" y="404640"/>
            <a:ext cx="8062920" cy="3252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8d3e"/>
                </a:solidFill>
                <a:latin typeface="Verdana"/>
              </a:rPr>
              <a:t>Тема урока:</a:t>
            </a:r>
            <a:br>
              <a:rPr sz="8800"/>
            </a:br>
            <a:br>
              <a:rPr sz="5400"/>
            </a:br>
            <a:endParaRPr b="1" lang="en-US" sz="8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 type="subTitle"/>
          </p:nvPr>
        </p:nvSpPr>
        <p:spPr>
          <a:xfrm>
            <a:off x="0" y="2071440"/>
            <a:ext cx="9252000" cy="125892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9766f"/>
                </a:solidFill>
                <a:latin typeface="Verdana"/>
              </a:rPr>
              <a:t>«ПРАВОВАЯ КУЛЬТУРА»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06" name="Picture 8" descr="yrist"/>
          <p:cNvPicPr/>
          <p:nvPr/>
        </p:nvPicPr>
        <p:blipFill>
          <a:blip r:embed="rId1"/>
          <a:stretch/>
        </p:blipFill>
        <p:spPr>
          <a:xfrm>
            <a:off x="3419640" y="3645000"/>
            <a:ext cx="2447640" cy="2846160"/>
          </a:xfrm>
          <a:prstGeom prst="rect">
            <a:avLst/>
          </a:prstGeom>
          <a:ln w="0">
            <a:noFill/>
          </a:ln>
        </p:spPr>
      </p:pic>
      <p:sp>
        <p:nvSpPr>
          <p:cNvPr id="1807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Rectangle 4"/>
          <p:cNvSpPr/>
          <p:nvPr/>
        </p:nvSpPr>
        <p:spPr>
          <a:xfrm>
            <a:off x="140760" y="1478520"/>
            <a:ext cx="8419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Весь мир театр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А люди в нем – актер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И каждый там свою играет роль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                                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Шекспир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Text Box 7"/>
          <p:cNvSpPr/>
          <p:nvPr/>
        </p:nvSpPr>
        <p:spPr>
          <a:xfrm>
            <a:off x="785880" y="836640"/>
            <a:ext cx="551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Эпиграф урок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2f2f2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548316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8d3e"/>
                </a:solidFill>
                <a:latin typeface="Verdana"/>
              </a:rPr>
              <a:t>   </a:t>
            </a:r>
            <a:r>
              <a:rPr b="1" lang="ru-RU" sz="4800" spc="-1" strike="noStrike">
                <a:solidFill>
                  <a:srgbClr val="ff00ff"/>
                </a:solidFill>
                <a:latin typeface="Verdana"/>
              </a:rPr>
              <a:t>ЦЕЛИ УРОКА:</a:t>
            </a:r>
            <a:endParaRPr b="1" lang="en-US" sz="4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12" name=""/>
          <p:cNvSpPr txBox="1"/>
          <p:nvPr/>
        </p:nvSpPr>
        <p:spPr>
          <a:xfrm>
            <a:off x="428400" y="178596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Verdana"/>
              </a:rPr>
              <a:t>Знакомство с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Verdana"/>
              </a:rPr>
              <a:t>основами правовой 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Verdana"/>
              </a:rPr>
              <a:t>культуры.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Verdana"/>
              </a:rPr>
              <a:t>Воспитание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Verdana"/>
              </a:rPr>
              <a:t>уважительного 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Verdana"/>
              </a:rPr>
              <a:t>отношения к праву.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3" name="Picture 9" descr="i?id=65643925&amp;tov=5"/>
          <p:cNvPicPr/>
          <p:nvPr/>
        </p:nvPicPr>
        <p:blipFill>
          <a:blip r:embed="rId1"/>
          <a:stretch/>
        </p:blipFill>
        <p:spPr>
          <a:xfrm>
            <a:off x="6643800" y="500040"/>
            <a:ext cx="1979640" cy="1692360"/>
          </a:xfrm>
          <a:prstGeom prst="rect">
            <a:avLst/>
          </a:prstGeom>
          <a:ln w="0">
            <a:noFill/>
          </a:ln>
        </p:spPr>
      </p:pic>
      <p:grpSp>
        <p:nvGrpSpPr>
          <p:cNvPr id="1814" name="Group 10"/>
          <p:cNvGrpSpPr/>
          <p:nvPr/>
        </p:nvGrpSpPr>
        <p:grpSpPr>
          <a:xfrm>
            <a:off x="6429240" y="4429080"/>
            <a:ext cx="2160360" cy="1744200"/>
            <a:chOff x="6429240" y="4429080"/>
            <a:chExt cx="2160360" cy="1744200"/>
          </a:xfrm>
        </p:grpSpPr>
        <p:pic>
          <p:nvPicPr>
            <p:cNvPr id="1815" name="Picture 11" descr="j0286939"/>
            <p:cNvPicPr/>
            <p:nvPr/>
          </p:nvPicPr>
          <p:blipFill>
            <a:blip r:embed="rId2"/>
            <a:stretch/>
          </p:blipFill>
          <p:spPr>
            <a:xfrm>
              <a:off x="7120800" y="4429080"/>
              <a:ext cx="1468800" cy="1342800"/>
            </a:xfrm>
            <a:prstGeom prst="rect">
              <a:avLst/>
            </a:prstGeom>
            <a:ln w="76320">
              <a:solidFill>
                <a:srgbClr val="ff0000"/>
              </a:solidFill>
              <a:miter/>
            </a:ln>
          </p:spPr>
        </p:pic>
        <p:sp>
          <p:nvSpPr>
            <p:cNvPr id="1816" name="Text Box 12"/>
            <p:cNvSpPr/>
            <p:nvPr/>
          </p:nvSpPr>
          <p:spPr>
            <a:xfrm>
              <a:off x="6429240" y="5717160"/>
              <a:ext cx="18468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17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1" lang="ru-RU" sz="4400" spc="-1" strike="noStrike">
                <a:solidFill>
                  <a:srgbClr val="66ff33"/>
                </a:solidFill>
                <a:latin typeface="Tahoma"/>
              </a:rPr>
              <a:t>ПЛАН УРО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Что такое  культура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авовая культур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авосознани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олитическая культур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0" name="Рисунок 3" descr="boy.gif"/>
          <p:cNvPicPr/>
          <p:nvPr/>
        </p:nvPicPr>
        <p:blipFill>
          <a:blip r:embed="rId1"/>
          <a:stretch/>
        </p:blipFill>
        <p:spPr>
          <a:xfrm>
            <a:off x="2340000" y="4365720"/>
            <a:ext cx="4465440" cy="2378160"/>
          </a:xfrm>
          <a:prstGeom prst="rect">
            <a:avLst/>
          </a:prstGeom>
          <a:ln w="0">
            <a:noFill/>
          </a:ln>
        </p:spPr>
      </p:pic>
      <p:sp>
        <p:nvSpPr>
          <p:cNvPr id="18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2" name="Rectangle 2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907920"/>
          </a:xfrm>
          <a:prstGeom prst="rect">
            <a:avLst/>
          </a:prstGeom>
          <a:ln w="0">
            <a:noFill/>
          </a:ln>
        </p:spPr>
      </p:pic>
      <p:sp>
        <p:nvSpPr>
          <p:cNvPr id="1823" name="Oval 4"/>
          <p:cNvSpPr/>
          <p:nvPr/>
        </p:nvSpPr>
        <p:spPr>
          <a:xfrm>
            <a:off x="2556000" y="2205000"/>
            <a:ext cx="3673440" cy="201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6b9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Культур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4" name="Line 6"/>
          <p:cNvSpPr/>
          <p:nvPr/>
        </p:nvSpPr>
        <p:spPr>
          <a:xfrm flipV="1">
            <a:off x="4427640" y="1125000"/>
            <a:ext cx="0" cy="10083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5" name="Line 7"/>
          <p:cNvSpPr/>
          <p:nvPr/>
        </p:nvSpPr>
        <p:spPr>
          <a:xfrm flipV="1">
            <a:off x="5580000" y="1557360"/>
            <a:ext cx="1081080" cy="9367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6" name="Line 8"/>
          <p:cNvSpPr/>
          <p:nvPr/>
        </p:nvSpPr>
        <p:spPr>
          <a:xfrm flipV="1">
            <a:off x="6227640" y="3284280"/>
            <a:ext cx="1800360" cy="730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Line 9"/>
          <p:cNvSpPr/>
          <p:nvPr/>
        </p:nvSpPr>
        <p:spPr>
          <a:xfrm>
            <a:off x="5580000" y="4005360"/>
            <a:ext cx="936720" cy="1224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Line 10"/>
          <p:cNvSpPr/>
          <p:nvPr/>
        </p:nvSpPr>
        <p:spPr>
          <a:xfrm>
            <a:off x="4500720" y="4292640"/>
            <a:ext cx="0" cy="1224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Line 11"/>
          <p:cNvSpPr/>
          <p:nvPr/>
        </p:nvSpPr>
        <p:spPr>
          <a:xfrm flipH="1">
            <a:off x="2050920" y="4149720"/>
            <a:ext cx="1440000" cy="10810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0" name="Line 12"/>
          <p:cNvSpPr/>
          <p:nvPr/>
        </p:nvSpPr>
        <p:spPr>
          <a:xfrm flipH="1" flipV="1">
            <a:off x="900000" y="3141720"/>
            <a:ext cx="1657440" cy="71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Line 13"/>
          <p:cNvSpPr/>
          <p:nvPr/>
        </p:nvSpPr>
        <p:spPr>
          <a:xfrm flipH="1" flipV="1">
            <a:off x="2195280" y="1413000"/>
            <a:ext cx="936360" cy="1008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2" name="Picture 9" descr="C:\Мои документы\Учителя\Смирнова\рисунки\37.jpg"/>
          <p:cNvPicPr/>
          <p:nvPr/>
        </p:nvPicPr>
        <p:blipFill>
          <a:blip r:embed="rId2"/>
          <a:stretch/>
        </p:blipFill>
        <p:spPr>
          <a:xfrm>
            <a:off x="6851520" y="5500800"/>
            <a:ext cx="2292480" cy="1357200"/>
          </a:xfrm>
          <a:prstGeom prst="rect">
            <a:avLst/>
          </a:prstGeom>
          <a:ln w="0">
            <a:noFill/>
          </a:ln>
        </p:spPr>
      </p:pic>
      <p:pic>
        <p:nvPicPr>
          <p:cNvPr id="1833" name="Picture 16" descr="i?id=82752023&amp;tov=8"/>
          <p:cNvPicPr/>
          <p:nvPr/>
        </p:nvPicPr>
        <p:blipFill>
          <a:blip r:embed="rId3"/>
          <a:srcRect l="18920" t="12935" r="17464" b="0"/>
          <a:stretch/>
        </p:blipFill>
        <p:spPr>
          <a:xfrm>
            <a:off x="0" y="0"/>
            <a:ext cx="1643040" cy="2151000"/>
          </a:xfrm>
          <a:prstGeom prst="rect">
            <a:avLst/>
          </a:prstGeom>
          <a:ln w="0">
            <a:noFill/>
          </a:ln>
        </p:spPr>
      </p:pic>
      <p:pic>
        <p:nvPicPr>
          <p:cNvPr id="1834" name="Picture 18" descr="museum10_"/>
          <p:cNvPicPr/>
          <p:nvPr/>
        </p:nvPicPr>
        <p:blipFill>
          <a:blip r:embed="rId4"/>
          <a:stretch/>
        </p:blipFill>
        <p:spPr>
          <a:xfrm>
            <a:off x="7358040" y="214200"/>
            <a:ext cx="1785960" cy="1957680"/>
          </a:xfrm>
          <a:prstGeom prst="rect">
            <a:avLst/>
          </a:prstGeom>
          <a:ln w="0">
            <a:noFill/>
          </a:ln>
        </p:spPr>
      </p:pic>
      <p:pic>
        <p:nvPicPr>
          <p:cNvPr id="1835" name="Picture 19" descr="Сватовство Майора"/>
          <p:cNvPicPr/>
          <p:nvPr/>
        </p:nvPicPr>
        <p:blipFill>
          <a:blip r:embed="rId5">
            <a:lum contrast="12000"/>
          </a:blip>
          <a:stretch/>
        </p:blipFill>
        <p:spPr>
          <a:xfrm>
            <a:off x="0" y="5072040"/>
            <a:ext cx="2000160" cy="1785960"/>
          </a:xfrm>
          <a:prstGeom prst="rect">
            <a:avLst/>
          </a:prstGeom>
          <a:ln w="0">
            <a:noFill/>
          </a:ln>
        </p:spPr>
      </p:pic>
      <p:sp>
        <p:nvSpPr>
          <p:cNvPr id="1836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"/>
          <p:cNvSpPr txBox="1"/>
          <p:nvPr/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ff"/>
                </a:solidFill>
                <a:latin typeface="Century Gothic"/>
              </a:rPr>
              <a:t>  </a:t>
            </a:r>
            <a:r>
              <a:rPr b="1" lang="ru-RU" sz="4000" spc="-1" strike="noStrike">
                <a:solidFill>
                  <a:srgbClr val="ff00ff"/>
                </a:solidFill>
                <a:latin typeface="Century Gothic"/>
              </a:rPr>
              <a:t>Культура (в переводе с латинского языка – возделывание) - это все, что создано человеком и отлично от природы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838" name="Picture 6" descr="C:\Мои документы\Учителя\Смирнова\рисунки\28.jpg"/>
          <p:cNvPicPr/>
          <p:nvPr/>
        </p:nvPicPr>
        <p:blipFill>
          <a:blip r:embed="rId1"/>
          <a:stretch/>
        </p:blipFill>
        <p:spPr>
          <a:xfrm>
            <a:off x="3635280" y="5376960"/>
            <a:ext cx="1181160" cy="1481040"/>
          </a:xfrm>
          <a:prstGeom prst="rect">
            <a:avLst/>
          </a:prstGeom>
          <a:ln w="0">
            <a:noFill/>
          </a:ln>
        </p:spPr>
      </p:pic>
      <p:pic>
        <p:nvPicPr>
          <p:cNvPr id="1839" name="Picture 6" descr="i?id=3681989&amp;tov=7"/>
          <p:cNvPicPr/>
          <p:nvPr/>
        </p:nvPicPr>
        <p:blipFill>
          <a:blip r:embed="rId2"/>
          <a:srcRect l="0" t="0" r="4828" b="11535"/>
          <a:stretch/>
        </p:blipFill>
        <p:spPr>
          <a:xfrm>
            <a:off x="6804000" y="5272200"/>
            <a:ext cx="2340000" cy="1585800"/>
          </a:xfrm>
          <a:prstGeom prst="rect">
            <a:avLst/>
          </a:prstGeom>
          <a:ln w="0">
            <a:noFill/>
          </a:ln>
        </p:spPr>
      </p:pic>
      <p:pic>
        <p:nvPicPr>
          <p:cNvPr id="1840" name="Picture 7" descr="Moscow_Bolshoi_Theatre"/>
          <p:cNvPicPr/>
          <p:nvPr/>
        </p:nvPicPr>
        <p:blipFill>
          <a:blip r:embed="rId3"/>
          <a:stretch/>
        </p:blipFill>
        <p:spPr>
          <a:xfrm>
            <a:off x="6407280" y="115920"/>
            <a:ext cx="2736720" cy="1814400"/>
          </a:xfrm>
          <a:prstGeom prst="rect">
            <a:avLst/>
          </a:prstGeom>
          <a:ln w="0">
            <a:noFill/>
          </a:ln>
        </p:spPr>
      </p:pic>
      <p:pic>
        <p:nvPicPr>
          <p:cNvPr id="1841" name="Picture 8" descr="448px-Russia-Moscow-Cathedral_of_Christ_the_Saviour-3"/>
          <p:cNvPicPr/>
          <p:nvPr/>
        </p:nvPicPr>
        <p:blipFill>
          <a:blip r:embed="rId4"/>
          <a:srcRect l="0" t="14798" r="0" b="0"/>
          <a:stretch/>
        </p:blipFill>
        <p:spPr>
          <a:xfrm>
            <a:off x="0" y="0"/>
            <a:ext cx="1889280" cy="2060640"/>
          </a:xfrm>
          <a:prstGeom prst="rect">
            <a:avLst/>
          </a:prstGeom>
          <a:ln w="0">
            <a:noFill/>
          </a:ln>
        </p:spPr>
      </p:pic>
      <p:pic>
        <p:nvPicPr>
          <p:cNvPr id="1842" name="Рисунок 5" descr="1.jpg"/>
          <p:cNvPicPr/>
          <p:nvPr/>
        </p:nvPicPr>
        <p:blipFill>
          <a:blip r:embed="rId5"/>
          <a:stretch/>
        </p:blipFill>
        <p:spPr>
          <a:xfrm>
            <a:off x="0" y="5157720"/>
            <a:ext cx="1366920" cy="1700280"/>
          </a:xfrm>
          <a:prstGeom prst="rect">
            <a:avLst/>
          </a:prstGeom>
          <a:ln w="0">
            <a:noFill/>
          </a:ln>
        </p:spPr>
      </p:pic>
      <p:sp>
        <p:nvSpPr>
          <p:cNvPr id="1843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1547280" y="291960"/>
            <a:ext cx="713916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Правовая культура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45" name=""/>
          <p:cNvGraphicFramePr/>
          <p:nvPr/>
        </p:nvGraphicFramePr>
        <p:xfrm>
          <a:off x="1619280" y="3141720"/>
          <a:ext cx="6048360" cy="3487680"/>
        </p:xfrm>
        <a:graphic>
          <a:graphicData uri="http://schemas.openxmlformats.org/drawingml/2006/table">
            <a:tbl>
              <a:tblPr/>
              <a:tblGrid>
                <a:gridCol w="6048360"/>
              </a:tblGrid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Законопослушное повед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</a:t>
                      </a: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Уважение к закона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6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</a:t>
                      </a: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Знание закон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6" name="AutoShape 23"/>
          <p:cNvSpPr/>
          <p:nvPr/>
        </p:nvSpPr>
        <p:spPr>
          <a:xfrm>
            <a:off x="611280" y="1773360"/>
            <a:ext cx="7993080" cy="143964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Text Box 26"/>
          <p:cNvSpPr/>
          <p:nvPr/>
        </p:nvSpPr>
        <p:spPr>
          <a:xfrm>
            <a:off x="3780000" y="1989000"/>
            <a:ext cx="143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3300"/>
                </a:solidFill>
                <a:latin typeface="Tahoma"/>
              </a:rPr>
              <a:t>  </a:t>
            </a:r>
            <a:r>
              <a:rPr b="1" lang="ru-RU" sz="6600" spc="-1" strike="noStrike">
                <a:solidFill>
                  <a:srgbClr val="ff3300"/>
                </a:solidFill>
                <a:latin typeface="Tahoma"/>
              </a:rPr>
              <a:t>?</a:t>
            </a:r>
            <a:r>
              <a:rPr b="0" lang="ru-RU" sz="60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4400" spc="-1" strike="noStrike">
                <a:solidFill>
                  <a:srgbClr val="ff0066"/>
                </a:solidFill>
                <a:latin typeface="Tahoma"/>
              </a:rPr>
              <a:t>Правовая культура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50" name=""/>
          <p:cNvGraphicFramePr/>
          <p:nvPr/>
        </p:nvGraphicFramePr>
        <p:xfrm>
          <a:off x="1619280" y="3141720"/>
          <a:ext cx="6048360" cy="3487680"/>
        </p:xfrm>
        <a:graphic>
          <a:graphicData uri="http://schemas.openxmlformats.org/drawingml/2006/table">
            <a:tbl>
              <a:tblPr/>
              <a:tblGrid>
                <a:gridCol w="6048360"/>
              </a:tblGrid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Законопослушное повед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00cc"/>
                    </a:solidFill>
                  </a:tcPr>
                </a:tc>
              </a:tr>
              <a:tr h="11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</a:t>
                      </a: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Уважение к закона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00cc"/>
                    </a:solidFill>
                  </a:tcPr>
                </a:tc>
              </a:tr>
              <a:tr h="116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</a:t>
                      </a: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Знание закон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00cc"/>
                    </a:solidFill>
                  </a:tcPr>
                </a:tc>
              </a:tr>
            </a:tbl>
          </a:graphicData>
        </a:graphic>
      </p:graphicFrame>
      <p:sp>
        <p:nvSpPr>
          <p:cNvPr id="1851" name="AutoShape 13"/>
          <p:cNvSpPr/>
          <p:nvPr/>
        </p:nvSpPr>
        <p:spPr>
          <a:xfrm>
            <a:off x="611280" y="1773360"/>
            <a:ext cx="7993080" cy="143964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Text Box 14"/>
          <p:cNvSpPr/>
          <p:nvPr/>
        </p:nvSpPr>
        <p:spPr>
          <a:xfrm>
            <a:off x="2484360" y="1844640"/>
            <a:ext cx="496728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f3300"/>
                </a:solidFill>
                <a:latin typeface="Tahoma"/>
              </a:rPr>
              <a:t>Активность правозащитной позиции</a:t>
            </a:r>
            <a:r>
              <a:rPr b="0" lang="ru-RU" sz="12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3T13:59:18Z</dcterms:created>
  <dc:creator>HomeComp</dc:creator>
  <dc:description/>
  <dc:language>en-US</dc:language>
  <cp:lastModifiedBy>LEGION</cp:lastModifiedBy>
  <dcterms:modified xsi:type="dcterms:W3CDTF">2016-01-04T08:09:09Z</dcterms:modified>
  <cp:revision>31</cp:revision>
  <dc:subject/>
  <dc:title>УРОК ОБЩЕСТВОЗНАНИЯ 6 класс</dc:title>
</cp:coreProperties>
</file>