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6.png" ContentType="image/png"/>
  <Override PartName="/ppt/media/image30.jpeg" ContentType="image/jpeg"/>
  <Override PartName="/ppt/media/image35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11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36.wmf" ContentType="image/x-wmf"/>
  <Override PartName="/ppt/media/image1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.jpeg" ContentType="image/jpeg"/>
  <Override PartName="/ppt/media/image37.jpeg" ContentType="image/jpeg"/>
  <Override PartName="/ppt/media/image14.png" ContentType="image/png"/>
  <Override PartName="/ppt/media/image1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dt" idx="1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 type="ftr" idx="1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 type="sldNum" idx="1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F835-094E-407D-A6BE-0364C14371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ЩЕСТВОЗНАНИЯ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 ОБЩЕСТВОЗНАНИЯ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под правовой культуры –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правовой ниги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что дышло, куда повернешь, туда и вышл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де закон, там и оби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то мне законы, коли судьи знаком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топтать нельзя, а вокруг ходить мож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под правовой культуры –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правовой ниги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Закон что дышло, куда повернешь, туда и вышл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Где закон, там и обид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Что мне законы, коли судьи знакомы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Закон топтать нельзя, а вокруг ходить можн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– важнейший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элемент правовой куль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, ид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е 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чи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м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а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ознание – важнейший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элемент правовой культур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широком смы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ний, иде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беждени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увст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но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узк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мы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беждение в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чин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м дл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а обще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едомленность в вопросах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в политиче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отношение к политике как роду человеческ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тическая куль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ведомленность в вопросах полит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ость в политической обл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ое отношение к политике как роду человеческой дея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агательное                    Прилага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го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Глаго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Глаг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итель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в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инквейн со словом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созн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и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лагательное                    Прилага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гол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Глагол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Глаго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р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ительн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вывод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тавьте синквейн со словом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сознани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16, стр. 69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ответить на вопрос «Каждый ли человек может обладать активной правозащитной позицией?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 16, стр. 69-7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сьменно ответить на вопрос «Каждый ли человек может обладать активной правозащитной позицией?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АЯ КУЛЬТУ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ВАЯ КУЛЬТУР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 теат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люди в нем – акт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ждый там свою играет 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ксп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сь мир театр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люди в нем – акте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каждый там свою играет рол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експи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пиграф уро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ми прав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ите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к пра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комство 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ми прав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ажитель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ношения к прав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 культу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такое  культу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озн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тическая культу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 культура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правозащитной пози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ость правозащитной пози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7B2-704C-45B7-A64A-F0BB5206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2EE-C1D8-45FF-8670-A23EC719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F5A91-0544-4076-9B9A-CEFE3611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AB23D-3692-4114-8D97-3189A61B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32FFC-284D-4377-9D4F-B2EC81D1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34FE2-0FAF-44BB-903A-C05B4E65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E83D9-E971-41AD-B277-CDB5D420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64459-1A9F-41B4-A029-22E3D462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213B6-0725-4582-AD05-ED1B2C40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AB033-907F-42ED-844A-79584CDF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75754-D365-4C90-B02A-6DBED9CB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085966-B1EC-451B-A128-5C4F4FFF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EDE-F4A1-44C7-94A0-EF2DE8E7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902581-76BE-4181-B5ED-A1EC0E92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1406CC-B396-4CD1-BDD8-A68426FB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136610-3000-4FEE-B6D1-221BD1CB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CD0BBE-92AE-4201-9890-6D206C09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9798F2-F8D3-434C-8536-FBC628CD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15C693-6B8C-4EDF-8391-5091B185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F3172C-C661-4206-A4B9-880AEDD9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CD4647-490C-49D4-8A2E-BB3DAAE4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1CC1DE-F235-403E-9880-2F86B207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481E97-7FBF-4B11-A74C-C4375D01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C21-14D0-40B9-BF1F-62A5CEA6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B485D8-41DA-49C2-99CC-5CBCE32E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27B44-6A61-4833-B42B-FD8A50F5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A50C0-1251-47FF-BD10-EFE9E2B2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C6C0A-D9E6-4F81-B2BE-197B7BA1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142C9-212E-48BC-B89A-DA2A0506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2E366-1ACC-4972-BD76-E7F1595D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A0903-D4B3-445D-8F38-8E7584CE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9008C-5F27-41F0-AAA2-06F4519C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DE23B-1D8E-47FE-896F-839E0C3D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93674-0F12-489E-9A5F-FF8067F6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3756-9179-4E9D-9661-FF2BD79C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795A7-4C57-484A-B4BD-F73582E0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74AB5-11CB-49A3-AC82-4613BF4D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40890-6459-45CE-9340-445D7290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2A141-E86C-46C8-893D-E2C79698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4B4AC-9F8D-428F-B009-493B7177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59F9D-2E7B-4B59-A12A-F928DBB2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5D6A5-8B26-4E99-A780-31FE05EC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A3608-5146-4064-8D3B-384519BD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F3A22-5A50-44A8-BC1B-B8574435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8D63E-F1BE-46BC-B5DA-AFA37A56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6A9D-4EC1-41E1-9987-59C6878A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D52DA-8ADF-473E-B43D-2E6A8BEF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2ADB5-7DE8-4319-8D3D-D9FF1648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67432-912C-44B1-A8D1-889C45FE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83847-E198-4642-B9C2-EF0CB603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79C05-FC97-4EE5-88CA-8D392066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DA890-25F7-432C-8BD4-11EAD34B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306F32-B5D5-4D1F-8BD9-4B5542B3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7C7DE-7C60-4D43-927F-9410448C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61B6F-F819-47AC-97A0-59C81298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39D5E-50A9-4874-8340-3B624AF2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CA2E-F699-4492-AA38-BCEEA3CC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879A0-F84C-41D1-96DA-DF3910E8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A2582-EB48-4131-AFE6-F882CEF4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B0D99-08F5-41C8-B986-3EDB8D75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75E71-E2B9-47FA-A65E-2A5B17E6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9EF7A-BC71-4FEE-A672-A6B8C45A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1B913-0A0E-4CC2-BEE1-2F277BCA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9BBC6-6C4D-4463-BE4C-A69992E9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585664-EB43-478D-9185-403EC510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508E2-D2ED-4C88-B806-482A23D9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675EC2-6202-46C6-B5EF-A14CDC92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C575-9294-497D-BEA8-44EFA907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C42C49-E124-482C-9C1B-0DAC11D2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DC2635-ADB0-4E04-B991-5A41D19F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5E692-C635-4A1C-9175-645C14F4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00402-8737-4525-83E2-41EB62CA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B27E1-A8A4-474C-8876-3CAEB363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D56FA-BAAD-4EA2-9562-7C641B4A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7E77B-2CC9-425B-843A-77EECDA0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CE92DD-D669-42F9-BA67-FA93B7D7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9158A-D60C-4C05-9D5D-49A8B354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B2A1FA-96D6-46A0-9123-1646AA75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787D-03F9-4D86-8AF2-87ACC036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1CF74-AD55-4100-926D-121BCAAB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C58FF9-660E-4799-A059-D484D354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7B79D-081A-4669-8EC8-6ACC6E4B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6B3E8-1D6A-473A-A5CA-0E7400A0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797F2F-C369-4AF1-AF87-7AF02DFF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1820D2-A54D-4879-9148-E1906D69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234655-FEAF-4491-A33F-6A4F020F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BF2C3-5E06-4FBB-8E44-4B22D282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F30454-EA8C-47A0-A460-FF4B64FD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99C34F-32B5-4D47-800B-49A3F2E1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9966-61C1-4A40-B161-B045F5BD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248687-00C3-4EA5-8AC4-C5265CFC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A65186-D9CF-4A8E-B234-B58AC759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5F92DD-5682-4CA5-AD39-47131958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D781A5-B4A5-41B2-9A8E-EA24BEC8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ADD62-1463-4EE6-8EEB-2B9CF7BD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5BA6CE-4F1B-45E9-9069-243EC1F2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8868EF-90D4-42EE-8A2C-6C8C3C0B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72D11A-9073-4546-8FAA-BF410908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BC4E40-EBE0-4B1A-8983-7611B792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4947B7-295C-4A43-ADFE-B9E777B1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05A2-CA74-487C-8186-962B6B7A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A77536-7B02-4E3D-AD85-399BF307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AD2594-2B57-4A08-9E1A-29D73B3D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ACB3E8-3124-4D32-A5B7-38FEF652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7E4D99-4FC5-483A-AA90-DF42684B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D8CD43-D03A-410D-9B7B-19D7219A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BF7BB8-81EC-4118-AA5C-6EDA0114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0E6041-6536-43F7-A4F5-748F1DB6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420823-8027-41D1-8FF0-82CCC4DA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118C0C-FFBC-40D0-8A6A-63BA395D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E798AA-1FC9-477B-9E34-2573FD6C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9EC-B6E7-49E5-8CB4-AC1FFE35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47F8-581C-4748-B9A5-01AE09FE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CAE8F7-AFF0-4614-BD95-6A846B08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C05536-82E9-42CA-B286-A6AB9932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123658-78A6-421B-8847-FEEB6735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F6F30-D29A-46EB-8B32-A7449C2D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A8BF32-95FC-4F4F-9C4B-9DC5116A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01DFC5-DD7C-4E4F-9DF3-583966A9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C3A61D-BA18-4E69-BEBE-F7F6BA70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43C54C-9618-4195-9823-4BDEFDE5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2419DB-23E6-4C4B-B899-861C02A9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2E4730-E642-49B3-A0B2-D25816DD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F4D0-FAF2-4F50-839F-4DE24C48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25D012-289F-4805-BCC8-0B223B06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5AB623-9AA8-4DFF-9458-95CA1174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45ADA3-69FE-4FB7-B362-D2FA21AC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A85C35-D5A2-4CD0-ABC4-9C341DD7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EDE070-2198-45D8-8A36-A64C3784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A59953-67D8-45E9-BD64-1731E2EF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708F1D-A4DF-4B25-B70A-F2C94052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F6393F-3337-482A-ACB7-505B6441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2F40D0-CBB9-470D-870F-E610A5EA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F6B757-41BC-4380-80E2-947350C6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6B93-9627-46BE-8B4C-1F99A34F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83022F-5A05-4BF6-AC0D-FCF84849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41524B-92E0-423B-AF28-FE96D5CF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B85BC9-CA96-417C-8147-32A9FD3F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6BCC0F-58A1-4E22-9FC8-2705ED23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969515-8AFB-4DA7-8ED2-9C3594D4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D98DC6-5F47-47ED-96E1-6AFDEC96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047B0C-49F0-4DFA-8537-098EF4BA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290E14-EE13-41E2-97D8-E0BB0AD3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AA34F7-6B05-4DFA-996B-44E76869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29C730-DEBF-4839-934D-6825FD43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8537-5C6E-4671-8646-D4BCADBF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1323E5-4923-44BA-B10B-56C4A998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F9436D-7C85-4BB6-BF27-220AB7E0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D4CB24-4AE3-4287-9017-A249AF8C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5D9AA2-523B-4B76-80BC-90C4AA8A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E2E213-8526-40E9-A356-E22B8D9F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C18B98-07DC-4985-8C74-7C872DF8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D58699-088A-495C-8C2F-F0EB23D4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45CB4E-24A8-486B-8280-DBA498D4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C573C3-218B-4925-B517-7FF7FDF8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3AFCD1-91DF-449B-839B-1B7DBF00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CAF6-1FEE-4EAE-8864-F0014AD7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954E53-D95A-4E74-AD45-286A46F5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D72DDB-2DE4-4927-8690-4AF7D0CE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3F261D-F8FC-44AA-A9E4-12887E71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439963-68B4-4C17-8DAA-F4959104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1B722A-6FC1-4BAB-90D5-00DFC309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F47A97-118B-4B1D-A7DD-CF0D35F8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EECDFE-774D-425C-87F5-4BA0B21C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B856B9-0B7E-478D-B50C-C545CC3A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D90657-2C38-4F90-B2B2-6705DCEA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0495F5-6A06-4F6E-9062-2589F155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AD27C-B12B-4E1E-8AA6-3BE8BC5E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624F63-7CA1-493D-A59F-C799EE22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2342C5-09EB-478F-80DC-F45F0D01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678EC2-7F91-49A5-868B-153E8517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3DE90D-BE2D-43A7-ADE7-D4157751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04C8BD-9E34-461E-A5C2-0FF49B51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1D28FD-7A94-4D78-8B2C-39594D63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74E846-9873-4498-B7BA-D80E1240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754322-2FD3-498E-9E52-78C75A49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2F8DC3-04BA-41F8-B872-A71E48E2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ED0DB6-904D-43D2-A6A3-9DCF5A56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61567-0D6B-43AC-83B4-86DCA2E4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27F5FB-9333-4ADC-BCA1-6C8061E4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6D2F63-D812-409A-9439-DC2CF19A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1B3DFB-DC83-4D4A-A66C-F4002B49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D6D224-62CF-4430-A54B-C04C402A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D65808-1DED-41B7-A400-BAE253DB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E4E26D-71B6-4992-ABDD-20E18642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66A1C0-719A-44D0-8E81-2E701C07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5D9F9F-FA12-4309-931D-28494E30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B96F43-A8AA-4F2F-BC21-22F98EEC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90698B-4EDC-4641-9282-D948A837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996F0-4E0F-4FFE-8E64-6CE55050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EDCEC2-A55D-4C59-8A22-9F39EB78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ECF50D-F243-41EB-9D66-B9DD7045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71E221-9C30-4498-9825-12324D45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CF76A7-4181-41D0-A8BD-14496A9B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B9472E-0072-4208-B987-0B2693D9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B0CCC6-679D-4740-93FD-451ADB92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782762-973E-44B2-8EC7-3034E6F2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CAE1C3-A99A-400C-B0B3-71DC1EF7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A0A401-91CD-4A9E-82D4-EE815D6C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867914-1672-437D-BB66-5C163FBD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475BF-F5EC-4035-9018-B65F394B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A34CBF-980A-4C4E-BABA-68684719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82699C-4CB8-48CC-A956-6839AED0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7A157B-057E-47B1-9304-ADD8E04C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388951-DD80-4C84-A969-2FBF3171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5FC87C-1A9E-4E5D-A06E-B42DE171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EBF820-6C62-4624-9EBE-D508A399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FF7E69-CAB0-43CB-BB9F-8E99BF74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E820E1-8636-4C14-97E2-1A713DB3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E8DF60-9D67-40D6-90D3-2F53EA0E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92A1CB-491F-4FC6-8DC3-64D558D1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CB914-C7AD-4020-95FB-DD27A607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649E21-29B3-4DE5-9C24-58BCFABF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4F5C35-14B7-4838-97ED-EF9A8238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F3F922-4EEC-4C85-82BF-7C5464DE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32BB6B-4D0D-4B1C-B7D8-3C4FCE9A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AA8301-72FA-4BE8-8910-BCFD8CE7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A2B795-2725-4CA5-B4CA-C1EE92F6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180D9E-D4F5-4825-9D46-DE6EBE14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05EF5D-5E99-462C-9DB3-33C318AF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C139E8-997F-4B60-901D-8D57684A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3E1655-510A-4194-93A3-76B2BC7F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BD2-F742-4102-955F-858910A7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5257-48D9-4D2F-9D94-661F12C8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EA2DFB-41F3-4324-87A9-31ED8302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760325-0532-4CF5-BF72-D00F35E5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0D8784-152E-458F-BC45-C01337F5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042331-CB96-4421-B61E-F032DFAB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29C5DD-D49C-4BDF-B787-5F5761FE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823CE3-A669-4A27-A836-E7D43EE4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540D47-6EF7-4AB8-931E-4F0D2627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44BFF3-08CC-4687-8E23-CE5BCFD6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A60DC3-9A6C-4CFD-A7B4-99575764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4673EB-B999-4378-887D-68A5AA70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F68E4-CE59-4D67-B43B-D0442443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453372-681C-453A-929F-05DA824E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31EE0C-C3CB-43F9-897B-58170D36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946C68-1463-423E-AD43-FDE125DE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01C6C3-7C4D-40D7-8CB8-883B0D44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C3F94F-4E36-4DCB-B7A1-6A06F33B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611AAB-2807-4F27-B6D7-C74F6023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4C349D-3A21-4CA6-9788-B29A808C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4AB99A-EDDD-4E38-8FDA-67D5F640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420F5C-5326-4046-A38C-F85B7967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0ABE6F-D87A-4594-A765-AFFF0C8C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88629-CF16-447C-B98F-62FC154F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5B2FA4-8F47-4BB8-B6C2-B7796E73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0BB8E9-E47A-4060-B5BA-17C59FB8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15FFDB-FB7E-4380-955A-112A74C8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F17810-5A6D-4485-841B-9165E042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AEFB4A-C176-422F-8E31-099BE146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5530DE-6EF5-44A1-817D-1739D436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2345BD-4E7B-48E2-9FAC-E9484E07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C1A577-EEEA-46F9-B16B-D0906DC7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2BB29F-1AFB-48DE-85C8-3794F8B2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FC43E0-828D-43E9-9D16-4FBCEAD4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F69B4-7568-455C-8E95-ACE6379A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B3ECC8-4158-435B-9ABC-6273E32A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F346A6-DB66-46A0-8F90-4C12FC3B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B08036-714A-43DE-AF9D-15D79A42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8B30E1-A618-4AA7-B430-BAD6A59F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6EB94F-6EB7-435C-A894-2964EB8D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D4CF2C-077F-4A9F-AA13-B837A303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4BFCF5-2E3A-4087-8DD8-597B31BF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718D6E-0203-4896-ACB1-EB6C8B9B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C3DF90-402C-4456-9DA4-5ABD520D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3499CF-6580-45E3-AC68-F71CA757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CF6B-AEE8-45A1-86BE-825AC76C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FA82A7-5915-4A97-802F-2D25551C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953817-5313-4F64-80A7-604E331C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88BB66-835F-466C-A707-2E92CD14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3DC0F7-7D98-437F-BD77-FAAD9622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70F17E-2A60-4FBF-896E-EC5F3F6A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6E3F76-B692-4B85-B0F2-6C1D371D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8242C7-5427-4F6D-B64C-B1E17C71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AF6130-BC1A-42D7-9906-8AE7D5F4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3DC9D1-1AB1-4BA8-9D3B-60D5F4BC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35CBA0-993C-47CE-8DBF-D77366AC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A1764-E549-4B46-A04A-1C9622D4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BDFE62-9CCC-4CEF-9AFF-345AFEF2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1C2E4B-F154-4E93-BF06-6D4FE03C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303907-B958-4D32-84C7-7FF69E5F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C93A71-E738-49E6-8B4F-F560D9BC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0EA5FA-FC38-4DB1-8459-A409BC5B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0BB42D-BFCF-482C-B331-1F41B9F0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CBAFCB-823B-4C1B-83BE-BFE356C4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DE31A3-3D5F-432D-9A05-7F2DD5DE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2FF7AC-DA8D-4B93-9CCF-437E52AF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B85722-6FCE-46D5-91BA-EF48474C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DCF15-D06A-4A4E-BF4B-5BDA8A0B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96A70C-54C3-4035-A39E-4034464C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F03D94-5984-48D9-9C32-C88ADCDE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CD6BDA-03D5-4F8C-83BA-602CCB90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8CD4E2-31FA-49EB-9D9F-9E3B9052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7CEAB3-88CA-413A-8A64-FE941C57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74BC90-5CBA-4051-BE62-4ED071D7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B0E180-4BAB-4F1D-85DD-D3213DEF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5AC004-4E64-4819-9DDB-3B17A040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D86E47-6815-43B4-A62C-BFB2317F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17D489-229C-4A1A-BA1A-C91AD4C9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3C8D7-FB34-496A-BF4D-693D4D7A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B56D07-AA53-4005-8FC7-B72A34D8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76A404-AE87-4199-8018-1FEE49E3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2F5D57-660B-4D27-B80E-ADFEBCDD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AB8EF7-6371-4670-985E-5A0F78C0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7ED3D6-665A-4B22-B66E-DD07CA20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ADBD86-DD80-41F7-8235-7F49239A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1877C3-4930-424D-974C-D03235CE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B4BEFE-DD93-4865-837C-5F15AAA6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7188BE-56A4-4D1B-8F6C-AA3DD97A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C593F7-CC3C-4D29-9BD0-89B85D63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25473-5090-45C1-A0C5-681F7D5B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E0A4EA-705F-4C0B-A508-BCE73BB2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DCA3A0-4C13-4652-8B62-0C7ABAAA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74F3DE-5C20-43DD-83E6-12763533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517658-DA2B-4DFD-AD3E-00A2EB49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EB0673-E3AD-469F-8946-94C60707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AE01D0-EDE9-44A4-8E0E-E43B42C8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E5EB2E-7BA2-4CB3-B91D-767AB7BA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D826F7-38B2-4241-900F-8D6F9F1C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719D85-30FD-43D3-BE6A-6CC188BE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188D52C-50DF-4DE5-8737-C7121C45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10F39-C2F6-4673-B47A-430537DD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F60E4A-0D89-4A50-8AA7-4FC9115F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A0A7B8-F651-4201-B108-A80492F8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2C1292-242F-44D5-87A6-F0FADEF9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8EAC02-DB76-4FD2-86F4-C3B3DCA3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D3BE9D-7151-4029-BC71-4FA6C785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FA5EB7B-3A52-4C11-B342-CAA053BA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97F3FD-A027-4003-80C9-3FD56F2A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64BDB8-5372-42DB-B75A-529C15D1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0BE441-FB17-4472-A45C-D2D31A0F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7642A6-789B-40ED-B286-17FCA207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51C-79A9-48A7-A9D0-A86ABE35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DC63E-334B-4BAB-B3AC-56FEA628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77D637-B688-43E0-A5D7-728151E1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E881EF-C418-43D2-8EB9-3E2F266F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7EE921-3A0F-496C-BDD1-16899C5F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0F6316-510C-4534-9E53-F4B1B43D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0382A6-22E9-4807-AAA3-302709FB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D77429-AFC2-4618-BE07-274F0A7C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6DF0F3-6362-41ED-A091-43037E20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22BA2B-7526-4DF3-9370-BCBDB2B0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905CFE-F699-4AF8-9E11-4020B656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DB3AAA-6C9A-4202-9C0B-0F40F5A4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95ADB-4E8D-4912-AC7F-CA7AFCCC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78CC21-D395-4AC1-8895-30DB762F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F136F18-94F9-417E-BC42-7FB28FD6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87E1B8-1839-42FC-B8DD-091398D4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6CB97A-EB56-476D-AD26-6DC770E3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4985CB9-47E3-43DE-99AA-E6134B3D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6E55B4-0E8E-4C13-A382-F93370E0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0BF593-70F2-4380-9C2F-23E9A65F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6C3658-1B25-41FF-92A4-FC6848A5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21F7D9C-3820-474C-A38D-3435F224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B84A20-37B6-4D0A-9EA0-B34FF583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4AAA0-629B-4163-81D9-A31B8C77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33E903-7456-49BB-8E4F-11818D3D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51C0126-45DC-444C-BDE8-277B1AC9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761721-70CA-4A85-9AD1-E5059F6B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B48B3F-38BA-4822-B959-093E99BE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A39AD9-D35B-45A3-B47E-D0637B98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9406039-877C-44BC-AF52-B778B2F1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C6311B-7E95-4C2D-A3C0-0F3B9C4F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271CB5-1521-4FA7-AE9A-010E625F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7BC8AD3-E6BC-4BE7-9C24-F96430BC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E94AB94-83D3-4A23-85CD-CC05B07F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445AC-CAF9-44EB-BA16-AA43CC59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24E5D3E-138F-4889-9756-EF7DEC7F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138DEC-5750-4E52-96BC-12110C21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4143E2-B2F4-4258-B5A5-C6DDC3B9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1946BC4-0FBA-4D9C-BB0E-DC37DF89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7307160-8FAE-489F-B31A-E2730E02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E84230-CC18-4785-9FE7-2F1A03DE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1E6554B-A737-4C16-A730-11D6C088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353314D-7569-4A46-B1AA-985D3BBF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99BF71-9A7D-4047-8CDF-5C4CDA37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8E598FC-91E4-495E-BF4B-F7AADCDC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74C37-C54C-49B1-BD33-E0B61EB3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FDD0241-B148-4950-BEF7-49294B25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674B5A-0953-49AC-83DC-80720CA3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94D396-54E6-48A4-9C42-4E66D658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6CF0B83-593B-481C-9448-594A9152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91CEF31-D3C8-4095-89EA-6E0F5496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93BE0F-5F76-4660-AB0C-41DC5EF3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9BF98A1-2138-401D-BFDD-6EA95D0C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B73292-38AD-4C51-AA7C-54CDBD33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3096449-ADF5-498E-B1E1-52DE940F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199B2B8-A8AC-45DB-8039-541C78B1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92995-B236-4EB9-8E9C-307AE910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A2C65D-DECE-4806-B1EC-C09C03AE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D517033-A447-4A9B-9A98-ADB31BA2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B1046A3-2C20-41EF-8801-185320E7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8F1357E-4121-498A-94DC-046E5D11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436F818-5354-4033-826B-C52A1C62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0EB328A-3A09-4EC3-B229-199DADCE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82F967-7D6D-4FAB-88FB-6C99AF1F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5FD0A8B-BFB1-454C-BDCA-82C644F6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384794E-6A55-4707-AB34-D84D91BA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0FC3239-3793-441D-B44B-0999DAB1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4BE9E-90DC-4E42-9593-2AD11745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C9FA559-1523-45E7-8B8E-38D8547F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6EE6D35-FA05-435B-8332-E75A91C2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332C1C3-3A2E-4024-A5AA-9CD9B4C6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20F3BF2-08C0-4D0B-A50E-C1B42B87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1DAF52A-C9CE-4396-9665-1CFB5E75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AF27CC3-5071-4F01-8746-D24B52C1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DB6498-0F52-40DB-9F0F-1E4267F0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77CE08A-EE37-4D41-9A4F-A830981F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2FE6E28-E0D7-47BA-88F2-3652A0B0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9797D-C326-4DA2-9C0E-707FCACE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FD097-6687-4346-9F28-F7BB0832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24BD3-9232-41C0-B24E-E36F9A49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A87-5FA5-496D-BA6F-FE142999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F62D2-D4CB-4143-B25B-13DA7BA9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07710-03F9-4612-9F60-0939680C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B9D19-D0E8-42F1-AD33-2A1B20DF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B07A8-2864-4D8B-8C73-8E12BD0F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A4CF5-1C1D-470B-B443-ADDE9E8D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20944-C563-414C-8498-5C417FBA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BE62E-81F4-4A75-BEC0-95409914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2292B-04D8-441B-9038-4007943F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409A1-2427-44E4-8E5B-4DDEB4B9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4345A-32A1-4A69-A4C1-0E83035B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D25-0E54-408A-9974-4B6B7F56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3059F-FCB7-48EF-96A9-F0E73C78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0FE8C-51C7-4525-A33F-A598514A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81C56-86BB-4502-B544-5BC1A034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26C3F-AA38-42D0-B02E-A1D5C6D2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46458-0843-4C65-B294-21AFAC76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900ED-DAF6-4A3B-8855-F67F9847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91062-3642-467F-B679-952372B6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9E828-AD4E-42AB-93B3-A7BBDD92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E8E54-0462-4DE4-BD57-CE472B8C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C1911-093D-4E71-B812-FBC438DD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884-AAC0-4884-99CA-56A7682D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212C4-4BAA-452B-9FA0-60CE2AB4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FDF3B-F859-4420-8F4A-A3ACFB10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52187-3452-450C-8863-8C8A013C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624A1-E6AF-4DAA-985E-02B1977A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5C459-1089-404B-99EF-FB638FB0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52492-1CD0-42E1-B45B-47EF5B0D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C249F-7908-4B2E-A6DA-0DC25AE9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12022-05DC-4C49-AD38-6290ECA6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8451A-4BAB-4BC0-B59A-826069AD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2B159-9880-417E-BBC1-1F8996F3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7DDF-1B94-4C6E-A701-A9446058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BF6BE-C91E-43C4-A609-A5E0CC2F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F8765-A1AE-4763-B12D-3110DB7E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29468-E8AD-4EAE-8B9B-8DB58794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A6108-2E45-4D00-BE17-8394A086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7EF46-0AA6-4195-8149-1B25B6AB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3563C-D22C-4CF4-8082-A22566F4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0525B-38B3-45A5-8D97-1D3A6F49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96EEF-03E7-4513-A17E-F9643F39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BA0C6-00A5-438D-8AD1-B1A840C7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8E486-88D4-40E4-832B-DB7134FE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768C-A366-4461-89BC-FC28954F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94F9F-A6C6-40E0-9DD8-2A4215B8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7277D-CE2E-4CF8-970A-7312002E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4483E-E738-44A7-BD3D-F25FDDBC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BA4A0-88B7-4C03-9086-C76368CB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340FD-D402-4541-B492-27941F03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3239F-CAA3-49BA-904F-7A82D148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39590-CBE4-4152-A16F-149672A4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D1CDF-D75C-414E-9B3E-3699AE38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D418E-C35C-40EF-8B0E-9FBC0693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59D12-FEBC-4EE7-B37A-5D5EE320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2DB4-62D1-4E36-B5F3-954B11C29F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AF2B-8BC6-45C5-AD37-361A802114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48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48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09A5-FD3A-4CFA-94CB-E67591E971C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3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5BA4-6BA6-4835-A393-035CE6DFD3D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4165"/>
              </a:gs>
              <a:gs pos="100000">
                <a:srgbClr val="a1aad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37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38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39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9843-8430-489A-9CE0-708B3A45C202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3290-D8AD-4BB2-9E24-6B0807CC75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4165"/>
              </a:gs>
              <a:gs pos="100000">
                <a:srgbClr val="a1aad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3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4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5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9093-0824-40A8-94C0-834C87E439D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4543-CA0F-4B50-8F9A-30BE17CB26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4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F5C1-4DE2-4C6D-86CD-CA8D5822B790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5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5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5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7A3C-7E5D-4464-BA2F-6D9CCBC5295D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86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E7DF-2EA4-4F31-9C7C-0DFB1605682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CFC5-77AC-4E8C-948C-050DC7879E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1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25AE-78CF-4CB8-A230-3B1229A331B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B39C-2B99-4A16-B268-A5A8A46AC47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E115-06FF-4879-A712-97439B2E5B9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9d4c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FD28-0342-4DB1-9C5A-B58EBBB86138}" type="slidenum"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9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9d4c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sldNum" idx="7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8E58-539D-451A-878C-CCD1B0B90790}" type="slidenum"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2A2A-3A1F-48FC-8332-227CFB99E5A0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11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dt" idx="7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 type="ftr" idx="7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 type="sldNum" idx="7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6702-68B5-49E9-91F8-27FF94317A1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2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7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8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8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556D-7B51-4076-A2D3-CA567717723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8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8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8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D317-1EB2-49B7-AA43-E14B5D5A92C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 type="dt" idx="8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 type="ftr" idx="8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 type="sldNum" idx="8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BB3E-0A40-4CF9-BF55-03E4F266296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9F9A-A417-409C-AC48-3EF9D70626F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88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89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90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B994-F0BF-4BB6-AD01-C2630127F758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91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92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9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D6E5-55F1-4632-A479-F7078EC455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dt" idx="9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 type="ftr" idx="9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 type="sldNum" idx="9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88D1-6A27-45DA-81EF-B5361100B1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 type="dt" idx="9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 type="ftr" idx="9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 type="sldNum" idx="9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4791-D252-4A2C-8EA5-8398389255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dt" idx="100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ftr" idx="101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 type="sldNum" idx="102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BB88-93BB-4393-BE19-3FDB7A9D19D5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 type="dt" idx="103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 type="ftr" idx="104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 type="sldNum" idx="105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4F4D-093D-485E-B06C-275BDFCE6CF1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8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161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0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1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 type="dt" idx="106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 type="ftr" idx="107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 type="sldNum" idx="108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CA7F-36BA-476A-8321-DC3F90A0951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3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66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5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 type="dt" idx="109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 type="ftr" idx="110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 type="sldNum" idx="111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6660-FE08-4488-AC00-A637FB1FF11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 type="dt" idx="11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 type="ftr" idx="11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 type="sldNum" idx="11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E6D1-36BF-4B9D-9F6F-0093716FF2E9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5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 type="dt" idx="115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 type="ftr" idx="116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 type="sldNum" idx="117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1040-7287-4125-B19E-057F1E41362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CDAA-A500-4F30-A402-583AB052D3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1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51EF-5477-407C-A4DB-92773904F7A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75D6-FF1C-4D8A-B4C6-CE8914589FC9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0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D1D6-07BB-4B27-90C3-98D83082CBF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F746-D1E6-4A0B-9AD6-0310DB3374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39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C82C-365E-4FDF-82AD-C9192D80B98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5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6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57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1" name="Rectangle 2" descr=""/>
          <p:cNvPicPr/>
          <p:nvPr/>
        </p:nvPicPr>
        <p:blipFill>
          <a:blip r:embed="rId1"/>
          <a:stretch/>
        </p:blipFill>
        <p:spPr>
          <a:xfrm>
            <a:off x="249120" y="981000"/>
            <a:ext cx="9772920" cy="39196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1" descr="%D0%BF%D1%80%D0%B0%D0%B2%D0%BE_17"/>
          <p:cNvPicPr/>
          <p:nvPr/>
        </p:nvPicPr>
        <p:blipFill>
          <a:blip r:embed="rId2"/>
          <a:stretch/>
        </p:blipFill>
        <p:spPr>
          <a:xfrm>
            <a:off x="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1803" name="Місце для нижнього колонтитула 1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Антипод правовой культуры –  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           правовой нигилизм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Закон что дышло, куда повернешь, туда и вышло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Где закон, там и обида»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Что мне законы, коли судьи знакомы»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Закон топтать нельзя, а вокруг ходить можно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6" name="Picture 4" descr="206"/>
          <p:cNvPicPr/>
          <p:nvPr/>
        </p:nvPicPr>
        <p:blipFill>
          <a:blip r:embed="rId1"/>
          <a:stretch/>
        </p:blipFill>
        <p:spPr>
          <a:xfrm>
            <a:off x="3492360" y="4797360"/>
            <a:ext cx="2016360" cy="2060640"/>
          </a:xfrm>
          <a:prstGeom prst="rect">
            <a:avLst/>
          </a:prstGeom>
          <a:ln w="0">
            <a:noFill/>
          </a:ln>
        </p:spPr>
      </p:pic>
      <p:sp>
        <p:nvSpPr>
          <p:cNvPr id="18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-252720" y="291960"/>
            <a:ext cx="9001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Правосознание – важнейший   </a:t>
            </a:r>
            <a:br>
              <a:rPr sz="4000"/>
            </a:b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     элемент правовой культуры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16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В широком смысл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в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ний, иде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беждени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6215040" y="1905120"/>
            <a:ext cx="29289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В уз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смысл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беждение в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обходим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обще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чин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вы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м дл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ага об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1" name="Picture 7" descr="obraz"/>
          <p:cNvPicPr/>
          <p:nvPr/>
        </p:nvPicPr>
        <p:blipFill>
          <a:blip r:embed="rId1"/>
          <a:stretch/>
        </p:blipFill>
        <p:spPr>
          <a:xfrm>
            <a:off x="2916360" y="3357720"/>
            <a:ext cx="3095640" cy="2366640"/>
          </a:xfrm>
          <a:prstGeom prst="rect">
            <a:avLst/>
          </a:prstGeom>
          <a:ln w="0">
            <a:noFill/>
          </a:ln>
        </p:spPr>
      </p:pic>
      <p:sp>
        <p:nvSpPr>
          <p:cNvPr id="18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Rectangle 2" descr=""/>
          <p:cNvPicPr/>
          <p:nvPr/>
        </p:nvPicPr>
        <p:blipFill>
          <a:blip r:embed="rId1"/>
          <a:stretch/>
        </p:blipFill>
        <p:spPr>
          <a:xfrm>
            <a:off x="0" y="-158760"/>
            <a:ext cx="9277200" cy="150012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сведомленность в вопросах политик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ктивность в политической обла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оложительное отношение к политике как роду человеческой деятельно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65" name="Picture 11" descr="j0343393"/>
          <p:cNvPicPr/>
          <p:nvPr/>
        </p:nvPicPr>
        <p:blipFill>
          <a:blip r:embed="rId2"/>
          <a:stretch/>
        </p:blipFill>
        <p:spPr>
          <a:xfrm>
            <a:off x="3924360" y="4076640"/>
            <a:ext cx="1247760" cy="252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grpSp>
        <p:nvGrpSpPr>
          <p:cNvPr id="1866" name="Group 14"/>
          <p:cNvGrpSpPr/>
          <p:nvPr/>
        </p:nvGrpSpPr>
        <p:grpSpPr>
          <a:xfrm>
            <a:off x="7093080" y="4508640"/>
            <a:ext cx="1818720" cy="2461680"/>
            <a:chOff x="7093080" y="4508640"/>
            <a:chExt cx="1818720" cy="2461680"/>
          </a:xfrm>
        </p:grpSpPr>
        <p:pic>
          <p:nvPicPr>
            <p:cNvPr id="1867" name="Picture 15" descr="j0229051"/>
            <p:cNvPicPr/>
            <p:nvPr/>
          </p:nvPicPr>
          <p:blipFill>
            <a:blip r:embed="rId3"/>
            <a:stretch/>
          </p:blipFill>
          <p:spPr>
            <a:xfrm>
              <a:off x="7093080" y="4508640"/>
              <a:ext cx="1818720" cy="213012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1868" name="Text Box 16"/>
            <p:cNvSpPr/>
            <p:nvPr/>
          </p:nvSpPr>
          <p:spPr>
            <a:xfrm>
              <a:off x="7909920" y="6514200"/>
              <a:ext cx="1821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69" name="Picture 21" descr="i?id=34623584&amp;tov=3"/>
          <p:cNvPicPr/>
          <p:nvPr/>
        </p:nvPicPr>
        <p:blipFill>
          <a:blip r:embed="rId4"/>
          <a:stretch/>
        </p:blipFill>
        <p:spPr>
          <a:xfrm>
            <a:off x="0" y="4508640"/>
            <a:ext cx="2208240" cy="2349360"/>
          </a:xfrm>
          <a:prstGeom prst="rect">
            <a:avLst/>
          </a:prstGeom>
          <a:ln w="0">
            <a:noFill/>
          </a:ln>
        </p:spPr>
      </p:pic>
      <p:sp>
        <p:nvSpPr>
          <p:cNvPr id="187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 txBox="1"/>
          <p:nvPr/>
        </p:nvSpPr>
        <p:spPr>
          <a:xfrm>
            <a:off x="457200" y="149976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ествите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Прилагательное                    Прилагате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лаго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Глагол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Глаг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Фр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ествитель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выво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2" name="Text Box 4"/>
          <p:cNvSpPr/>
          <p:nvPr/>
        </p:nvSpPr>
        <p:spPr>
          <a:xfrm>
            <a:off x="826920" y="0"/>
            <a:ext cx="70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 Box 5"/>
          <p:cNvSpPr/>
          <p:nvPr/>
        </p:nvSpPr>
        <p:spPr>
          <a:xfrm>
            <a:off x="611280" y="-171360"/>
            <a:ext cx="79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ставьте синквейн со словом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правосознани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8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8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5" name="Rectangle 2" descr=""/>
          <p:cNvPicPr/>
          <p:nvPr/>
        </p:nvPicPr>
        <p:blipFill>
          <a:blip r:embed="rId1"/>
          <a:stretch/>
        </p:blipFill>
        <p:spPr>
          <a:xfrm>
            <a:off x="0" y="324000"/>
            <a:ext cx="8070840" cy="1504800"/>
          </a:xfrm>
          <a:prstGeom prst="rect">
            <a:avLst/>
          </a:prstGeom>
          <a:ln w="0">
            <a:noFill/>
          </a:ln>
        </p:spPr>
      </p:pic>
      <p:pic>
        <p:nvPicPr>
          <p:cNvPr id="1876" name="Picture 9" descr="22-04-2009-pravo"/>
          <p:cNvPicPr/>
          <p:nvPr/>
        </p:nvPicPr>
        <p:blipFill>
          <a:blip r:embed="rId2"/>
          <a:stretch/>
        </p:blipFill>
        <p:spPr>
          <a:xfrm>
            <a:off x="3500280" y="4929120"/>
            <a:ext cx="1524240" cy="1619280"/>
          </a:xfrm>
          <a:prstGeom prst="rect">
            <a:avLst/>
          </a:prstGeom>
          <a:ln w="0">
            <a:noFill/>
          </a:ln>
        </p:spPr>
      </p:pic>
      <p:sp>
        <p:nvSpPr>
          <p:cNvPr id="1877" name="Text Box 10"/>
          <p:cNvSpPr/>
          <p:nvPr/>
        </p:nvSpPr>
        <p:spPr>
          <a:xfrm>
            <a:off x="611280" y="2000160"/>
            <a:ext cx="669744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16, стр. 69-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ьменно ответить на вопрос «Каждый ли человек может обладать активной правозащитной позицией?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8062920" cy="325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8d3e"/>
                </a:solidFill>
                <a:latin typeface="Verdana"/>
              </a:rPr>
              <a:t>Тема урока:</a:t>
            </a:r>
            <a:br>
              <a:rPr sz="8800"/>
            </a:br>
            <a:br>
              <a:rPr sz="5400"/>
            </a:br>
            <a:endParaRPr b="1" lang="en-US" sz="8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ubTitle"/>
          </p:nvPr>
        </p:nvSpPr>
        <p:spPr>
          <a:xfrm>
            <a:off x="0" y="2071440"/>
            <a:ext cx="9252000" cy="12589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9766f"/>
                </a:solidFill>
                <a:latin typeface="Verdana"/>
              </a:rPr>
              <a:t>«ПРАВОВАЯ КУЛЬТУРА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6" name="Picture 8" descr="yrist"/>
          <p:cNvPicPr/>
          <p:nvPr/>
        </p:nvPicPr>
        <p:blipFill>
          <a:blip r:embed="rId1"/>
          <a:stretch/>
        </p:blipFill>
        <p:spPr>
          <a:xfrm>
            <a:off x="3419640" y="3645000"/>
            <a:ext cx="2447640" cy="2846160"/>
          </a:xfrm>
          <a:prstGeom prst="rect">
            <a:avLst/>
          </a:prstGeom>
          <a:ln w="0">
            <a:noFill/>
          </a:ln>
        </p:spPr>
      </p:pic>
      <p:sp>
        <p:nvSpPr>
          <p:cNvPr id="180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Rectangle 4"/>
          <p:cNvSpPr/>
          <p:nvPr/>
        </p:nvSpPr>
        <p:spPr>
          <a:xfrm>
            <a:off x="140760" y="1478520"/>
            <a:ext cx="8419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Весь мир театр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А люди в нем – акте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И каждый там свою играет ро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Шекспи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Text Box 7"/>
          <p:cNvSpPr/>
          <p:nvPr/>
        </p:nvSpPr>
        <p:spPr>
          <a:xfrm>
            <a:off x="785880" y="836640"/>
            <a:ext cx="55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пиграф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4831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4800" spc="-1" strike="noStrike">
                <a:solidFill>
                  <a:srgbClr val="ff00ff"/>
                </a:solidFill>
                <a:latin typeface="Verdana"/>
              </a:rPr>
              <a:t>ЦЕЛИ УРОКА: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428400" y="178596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Знакомство с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основами правовой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культуры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Воспитание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уважительного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отношения к праву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3" name="Picture 9" descr="i?id=65643925&amp;tov=5"/>
          <p:cNvPicPr/>
          <p:nvPr/>
        </p:nvPicPr>
        <p:blipFill>
          <a:blip r:embed="rId1"/>
          <a:stretch/>
        </p:blipFill>
        <p:spPr>
          <a:xfrm>
            <a:off x="6643800" y="500040"/>
            <a:ext cx="1979640" cy="1692360"/>
          </a:xfrm>
          <a:prstGeom prst="rect">
            <a:avLst/>
          </a:prstGeom>
          <a:ln w="0">
            <a:noFill/>
          </a:ln>
        </p:spPr>
      </p:pic>
      <p:grpSp>
        <p:nvGrpSpPr>
          <p:cNvPr id="1814" name="Group 10"/>
          <p:cNvGrpSpPr/>
          <p:nvPr/>
        </p:nvGrpSpPr>
        <p:grpSpPr>
          <a:xfrm>
            <a:off x="6429240" y="4429080"/>
            <a:ext cx="2160360" cy="1744200"/>
            <a:chOff x="6429240" y="4429080"/>
            <a:chExt cx="2160360" cy="1744200"/>
          </a:xfrm>
        </p:grpSpPr>
        <p:pic>
          <p:nvPicPr>
            <p:cNvPr id="1815" name="Picture 11" descr="j0286939"/>
            <p:cNvPicPr/>
            <p:nvPr/>
          </p:nvPicPr>
          <p:blipFill>
            <a:blip r:embed="rId2"/>
            <a:stretch/>
          </p:blipFill>
          <p:spPr>
            <a:xfrm>
              <a:off x="7120800" y="4429080"/>
              <a:ext cx="1468800" cy="134280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1816" name="Text Box 12"/>
            <p:cNvSpPr/>
            <p:nvPr/>
          </p:nvSpPr>
          <p:spPr>
            <a:xfrm>
              <a:off x="6429240" y="5717160"/>
              <a:ext cx="1846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4400" spc="-1" strike="noStrike">
                <a:solidFill>
                  <a:srgbClr val="66ff33"/>
                </a:solidFill>
                <a:latin typeface="Tahoma"/>
              </a:rPr>
              <a:t>ПЛАН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такое  культур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овая культур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осозна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литическая культур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0" name="Рисунок 3" descr="boy.gif"/>
          <p:cNvPicPr/>
          <p:nvPr/>
        </p:nvPicPr>
        <p:blipFill>
          <a:blip r:embed="rId1"/>
          <a:stretch/>
        </p:blipFill>
        <p:spPr>
          <a:xfrm>
            <a:off x="2340000" y="4365720"/>
            <a:ext cx="4465440" cy="2378160"/>
          </a:xfrm>
          <a:prstGeom prst="rect">
            <a:avLst/>
          </a:prstGeom>
          <a:ln w="0">
            <a:noFill/>
          </a:ln>
        </p:spPr>
      </p:pic>
      <p:sp>
        <p:nvSpPr>
          <p:cNvPr id="18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2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07920"/>
          </a:xfrm>
          <a:prstGeom prst="rect">
            <a:avLst/>
          </a:prstGeom>
          <a:ln w="0">
            <a:noFill/>
          </a:ln>
        </p:spPr>
      </p:pic>
      <p:sp>
        <p:nvSpPr>
          <p:cNvPr id="1823" name="Oval 4"/>
          <p:cNvSpPr/>
          <p:nvPr/>
        </p:nvSpPr>
        <p:spPr>
          <a:xfrm>
            <a:off x="2556000" y="2205000"/>
            <a:ext cx="3673440" cy="20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уль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Line 6"/>
          <p:cNvSpPr/>
          <p:nvPr/>
        </p:nvSpPr>
        <p:spPr>
          <a:xfrm flipV="1">
            <a:off x="4427640" y="1125000"/>
            <a:ext cx="0" cy="1008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Line 7"/>
          <p:cNvSpPr/>
          <p:nvPr/>
        </p:nvSpPr>
        <p:spPr>
          <a:xfrm flipV="1">
            <a:off x="5580000" y="1557360"/>
            <a:ext cx="1081080" cy="936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Line 8"/>
          <p:cNvSpPr/>
          <p:nvPr/>
        </p:nvSpPr>
        <p:spPr>
          <a:xfrm flipV="1">
            <a:off x="6227640" y="3284280"/>
            <a:ext cx="1800360" cy="73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Line 9"/>
          <p:cNvSpPr/>
          <p:nvPr/>
        </p:nvSpPr>
        <p:spPr>
          <a:xfrm>
            <a:off x="5580000" y="4005360"/>
            <a:ext cx="936720" cy="1224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Line 10"/>
          <p:cNvSpPr/>
          <p:nvPr/>
        </p:nvSpPr>
        <p:spPr>
          <a:xfrm>
            <a:off x="4500720" y="4292640"/>
            <a:ext cx="0" cy="1224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Line 11"/>
          <p:cNvSpPr/>
          <p:nvPr/>
        </p:nvSpPr>
        <p:spPr>
          <a:xfrm flipH="1">
            <a:off x="2050920" y="4149720"/>
            <a:ext cx="1440000" cy="1081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Line 12"/>
          <p:cNvSpPr/>
          <p:nvPr/>
        </p:nvSpPr>
        <p:spPr>
          <a:xfrm flipH="1" flipV="1">
            <a:off x="900000" y="3141720"/>
            <a:ext cx="1657440" cy="7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Line 13"/>
          <p:cNvSpPr/>
          <p:nvPr/>
        </p:nvSpPr>
        <p:spPr>
          <a:xfrm flipH="1" flipV="1">
            <a:off x="2195280" y="1413000"/>
            <a:ext cx="936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2" name="Picture 9" descr="C:\Мои документы\Учителя\Смирнова\рисунки\37.jpg"/>
          <p:cNvPicPr/>
          <p:nvPr/>
        </p:nvPicPr>
        <p:blipFill>
          <a:blip r:embed="rId2"/>
          <a:stretch/>
        </p:blipFill>
        <p:spPr>
          <a:xfrm>
            <a:off x="6851520" y="5500800"/>
            <a:ext cx="2292480" cy="1357200"/>
          </a:xfrm>
          <a:prstGeom prst="rect">
            <a:avLst/>
          </a:prstGeom>
          <a:ln w="0">
            <a:noFill/>
          </a:ln>
        </p:spPr>
      </p:pic>
      <p:pic>
        <p:nvPicPr>
          <p:cNvPr id="1833" name="Picture 16" descr="i?id=82752023&amp;tov=8"/>
          <p:cNvPicPr/>
          <p:nvPr/>
        </p:nvPicPr>
        <p:blipFill>
          <a:blip r:embed="rId3"/>
          <a:srcRect l="18920" t="12935" r="17464" b="0"/>
          <a:stretch/>
        </p:blipFill>
        <p:spPr>
          <a:xfrm>
            <a:off x="0" y="0"/>
            <a:ext cx="1643040" cy="2151000"/>
          </a:xfrm>
          <a:prstGeom prst="rect">
            <a:avLst/>
          </a:prstGeom>
          <a:ln w="0">
            <a:noFill/>
          </a:ln>
        </p:spPr>
      </p:pic>
      <p:pic>
        <p:nvPicPr>
          <p:cNvPr id="1834" name="Picture 18" descr="museum10_"/>
          <p:cNvPicPr/>
          <p:nvPr/>
        </p:nvPicPr>
        <p:blipFill>
          <a:blip r:embed="rId4"/>
          <a:stretch/>
        </p:blipFill>
        <p:spPr>
          <a:xfrm>
            <a:off x="7358040" y="214200"/>
            <a:ext cx="1785960" cy="195768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19" descr="Сватовство Майора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0" y="5072040"/>
            <a:ext cx="2000160" cy="1785960"/>
          </a:xfrm>
          <a:prstGeom prst="rect">
            <a:avLst/>
          </a:prstGeom>
          <a:ln w="0">
            <a:noFill/>
          </a:ln>
        </p:spPr>
      </p:pic>
      <p:sp>
        <p:nvSpPr>
          <p:cNvPr id="183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 txBox="1"/>
          <p:nvPr/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Century Gothic"/>
              </a:rPr>
              <a:t>  </a:t>
            </a:r>
            <a:r>
              <a:rPr b="1" lang="ru-RU" sz="4000" spc="-1" strike="noStrike">
                <a:solidFill>
                  <a:srgbClr val="ff00ff"/>
                </a:solidFill>
                <a:latin typeface="Century Gothic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38" name="Picture 6" descr="C:\Мои документы\Учителя\Смирнова\рисунки\28.jpg"/>
          <p:cNvPicPr/>
          <p:nvPr/>
        </p:nvPicPr>
        <p:blipFill>
          <a:blip r:embed="rId1"/>
          <a:stretch/>
        </p:blipFill>
        <p:spPr>
          <a:xfrm>
            <a:off x="3635280" y="5376960"/>
            <a:ext cx="1181160" cy="1481040"/>
          </a:xfrm>
          <a:prstGeom prst="rect">
            <a:avLst/>
          </a:prstGeom>
          <a:ln w="0">
            <a:noFill/>
          </a:ln>
        </p:spPr>
      </p:pic>
      <p:pic>
        <p:nvPicPr>
          <p:cNvPr id="1839" name="Picture 6" descr="i?id=3681989&amp;tov=7"/>
          <p:cNvPicPr/>
          <p:nvPr/>
        </p:nvPicPr>
        <p:blipFill>
          <a:blip r:embed="rId2"/>
          <a:srcRect l="0" t="0" r="4828" b="11535"/>
          <a:stretch/>
        </p:blipFill>
        <p:spPr>
          <a:xfrm>
            <a:off x="6804000" y="5272200"/>
            <a:ext cx="2340000" cy="1585800"/>
          </a:xfrm>
          <a:prstGeom prst="rect">
            <a:avLst/>
          </a:prstGeom>
          <a:ln w="0">
            <a:noFill/>
          </a:ln>
        </p:spPr>
      </p:pic>
      <p:pic>
        <p:nvPicPr>
          <p:cNvPr id="1840" name="Picture 7" descr="Moscow_Bolshoi_Theatre"/>
          <p:cNvPicPr/>
          <p:nvPr/>
        </p:nvPicPr>
        <p:blipFill>
          <a:blip r:embed="rId3"/>
          <a:stretch/>
        </p:blipFill>
        <p:spPr>
          <a:xfrm>
            <a:off x="6407280" y="115920"/>
            <a:ext cx="2736720" cy="1814400"/>
          </a:xfrm>
          <a:prstGeom prst="rect">
            <a:avLst/>
          </a:prstGeom>
          <a:ln w="0">
            <a:noFill/>
          </a:ln>
        </p:spPr>
      </p:pic>
      <p:pic>
        <p:nvPicPr>
          <p:cNvPr id="1841" name="Picture 8" descr="448px-Russia-Moscow-Cathedral_of_Christ_the_Saviour-3"/>
          <p:cNvPicPr/>
          <p:nvPr/>
        </p:nvPicPr>
        <p:blipFill>
          <a:blip r:embed="rId4"/>
          <a:srcRect l="0" t="14798" r="0" b="0"/>
          <a:stretch/>
        </p:blipFill>
        <p:spPr>
          <a:xfrm>
            <a:off x="0" y="0"/>
            <a:ext cx="1889280" cy="2060640"/>
          </a:xfrm>
          <a:prstGeom prst="rect">
            <a:avLst/>
          </a:prstGeom>
          <a:ln w="0">
            <a:noFill/>
          </a:ln>
        </p:spPr>
      </p:pic>
      <p:pic>
        <p:nvPicPr>
          <p:cNvPr id="1842" name="Рисунок 5" descr="1.jpg"/>
          <p:cNvPicPr/>
          <p:nvPr/>
        </p:nvPicPr>
        <p:blipFill>
          <a:blip r:embed="rId5"/>
          <a:stretch/>
        </p:blipFill>
        <p:spPr>
          <a:xfrm>
            <a:off x="0" y="5157720"/>
            <a:ext cx="1366920" cy="1700280"/>
          </a:xfrm>
          <a:prstGeom prst="rect">
            <a:avLst/>
          </a:prstGeom>
          <a:ln w="0">
            <a:noFill/>
          </a:ln>
        </p:spPr>
      </p:pic>
      <p:sp>
        <p:nvSpPr>
          <p:cNvPr id="184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547280" y="291960"/>
            <a:ext cx="7139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равовая культур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5" name=""/>
          <p:cNvGraphicFramePr/>
          <p:nvPr/>
        </p:nvGraphicFramePr>
        <p:xfrm>
          <a:off x="1619280" y="3141720"/>
          <a:ext cx="6048360" cy="348768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конопослушное повед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важение к зако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нание зако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6" name="AutoShape 23"/>
          <p:cNvSpPr/>
          <p:nvPr/>
        </p:nvSpPr>
        <p:spPr>
          <a:xfrm>
            <a:off x="611280" y="1773360"/>
            <a:ext cx="7993080" cy="1439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Text Box 26"/>
          <p:cNvSpPr/>
          <p:nvPr/>
        </p:nvSpPr>
        <p:spPr>
          <a:xfrm>
            <a:off x="3780000" y="1989000"/>
            <a:ext cx="143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1" lang="ru-RU" sz="6600" spc="-1" strike="noStrike">
                <a:solidFill>
                  <a:srgbClr val="ff3300"/>
                </a:solidFill>
                <a:latin typeface="Tahoma"/>
              </a:rPr>
              <a:t>?</a:t>
            </a: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Правовая культур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0" name=""/>
          <p:cNvGraphicFramePr/>
          <p:nvPr/>
        </p:nvGraphicFramePr>
        <p:xfrm>
          <a:off x="1619280" y="3141720"/>
          <a:ext cx="6048360" cy="348768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конопослушное повед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важение к зако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нание зако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</a:tbl>
          </a:graphicData>
        </a:graphic>
      </p:graphicFrame>
      <p:sp>
        <p:nvSpPr>
          <p:cNvPr id="1851" name="AutoShape 13"/>
          <p:cNvSpPr/>
          <p:nvPr/>
        </p:nvSpPr>
        <p:spPr>
          <a:xfrm>
            <a:off x="611280" y="1773360"/>
            <a:ext cx="7993080" cy="14396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Text Box 14"/>
          <p:cNvSpPr/>
          <p:nvPr/>
        </p:nvSpPr>
        <p:spPr>
          <a:xfrm>
            <a:off x="2484360" y="1844640"/>
            <a:ext cx="49672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Активность правозащитной позиции</a:t>
            </a:r>
            <a:r>
              <a:rPr b="0" lang="ru-RU" sz="12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3:59:18Z</dcterms:created>
  <dc:creator>HomeComp</dc:creator>
  <dc:description/>
  <dc:language>en-US</dc:language>
  <cp:lastModifiedBy>LEGION</cp:lastModifiedBy>
  <dcterms:modified xsi:type="dcterms:W3CDTF">2016-01-04T08:09:09Z</dcterms:modified>
  <cp:revision>31</cp:revision>
  <dc:subject/>
  <dc:title>УРОК ОБЩЕСТВОЗНАНИЯ 6 класс</dc:title>
</cp:coreProperties>
</file>