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media/image6.png" ContentType="image/png"/>
  <Override PartName="/ppt/media/image30.jpeg" ContentType="image/jpeg"/>
  <Override PartName="/ppt/media/image35.wmf" ContentType="image/x-wmf"/>
  <Override PartName="/ppt/media/image31.jpeg" ContentType="image/jpeg"/>
  <Override PartName="/ppt/media/image2.png" ContentType="image/png"/>
  <Override PartName="/ppt/media/image25.jpeg" ContentType="image/jpeg"/>
  <Override PartName="/ppt/media/image11.jpeg" ContentType="image/jpeg"/>
  <Override PartName="/ppt/media/image9.png" ContentType="image/png"/>
  <Override PartName="/ppt/media/image33.jpeg" ContentType="image/jpeg"/>
  <Override PartName="/ppt/media/image27.jpeg" ContentType="image/jpeg"/>
  <Override PartName="/ppt/media/image7.png" ContentType="image/png"/>
  <Override PartName="/ppt/media/image10.png" ContentType="image/png"/>
  <Override PartName="/ppt/media/image1.jpeg" ContentType="image/jpeg"/>
  <Override PartName="/ppt/media/image38.png" ContentType="image/png"/>
  <Override PartName="/ppt/media/image39.jpeg" ContentType="image/jpeg"/>
  <Override PartName="/ppt/media/image8.png" ContentType="image/png"/>
  <Override PartName="/ppt/media/image36.wmf" ContentType="image/x-wmf"/>
  <Override PartName="/ppt/media/image1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.jpeg" ContentType="image/jpeg"/>
  <Override PartName="/ppt/media/image37.jpeg" ContentType="image/jpeg"/>
  <Override PartName="/ppt/media/image14.png" ContentType="image/png"/>
  <Override PartName="/ppt/media/image15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</p:sldMasterIdLst>
  <p:notesMasterIdLst>
    <p:notesMasterId r:id="rId41"/>
  </p:notesMasterIdLst>
  <p:sldIdLst>
    <p:sldId id="256" r:id="rId42"/>
    <p:sldId id="257" r:id="rId43"/>
    <p:sldId id="258" r:id="rId44"/>
    <p:sldId id="259" r:id="rId45"/>
    <p:sldId id="260" r:id="rId46"/>
    <p:sldId id="261" r:id="rId47"/>
    <p:sldId id="262" r:id="rId48"/>
    <p:sldId id="263" r:id="rId49"/>
    <p:sldId id="264" r:id="rId50"/>
    <p:sldId id="265" r:id="rId51"/>
    <p:sldId id="266" r:id="rId52"/>
    <p:sldId id="267" r:id="rId53"/>
    <p:sldId id="268" r:id="rId54"/>
    <p:sldId id="269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notesMaster" Target="notesMasters/notesMaster1.xml"/><Relationship Id="rId42" Type="http://schemas.openxmlformats.org/officeDocument/2006/relationships/slide" Target="slides/slide1.xml"/><Relationship Id="rId43" Type="http://schemas.openxmlformats.org/officeDocument/2006/relationships/slide" Target="slides/slide2.xml"/><Relationship Id="rId44" Type="http://schemas.openxmlformats.org/officeDocument/2006/relationships/slide" Target="slides/slide3.xml"/><Relationship Id="rId45" Type="http://schemas.openxmlformats.org/officeDocument/2006/relationships/slide" Target="slides/slide4.xml"/><Relationship Id="rId46" Type="http://schemas.openxmlformats.org/officeDocument/2006/relationships/slide" Target="slides/slide5.xml"/><Relationship Id="rId47" Type="http://schemas.openxmlformats.org/officeDocument/2006/relationships/slide" Target="slides/slide6.xml"/><Relationship Id="rId48" Type="http://schemas.openxmlformats.org/officeDocument/2006/relationships/slide" Target="slides/slide7.xml"/><Relationship Id="rId49" Type="http://schemas.openxmlformats.org/officeDocument/2006/relationships/slide" Target="slides/slide8.xml"/><Relationship Id="rId50" Type="http://schemas.openxmlformats.org/officeDocument/2006/relationships/slide" Target="slides/slide9.xml"/><Relationship Id="rId51" Type="http://schemas.openxmlformats.org/officeDocument/2006/relationships/slide" Target="slides/slide10.xml"/><Relationship Id="rId52" Type="http://schemas.openxmlformats.org/officeDocument/2006/relationships/slide" Target="slides/slide11.xml"/><Relationship Id="rId53" Type="http://schemas.openxmlformats.org/officeDocument/2006/relationships/slide" Target="slides/slide12.xml"/><Relationship Id="rId54" Type="http://schemas.openxmlformats.org/officeDocument/2006/relationships/slide" Target="slides/slide13.xml"/><Relationship Id="rId55" Type="http://schemas.openxmlformats.org/officeDocument/2006/relationships/slide" Target="slides/slide14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 type="dt" idx="11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 type="ftr" idx="11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PlaceHolder 6"/>
          <p:cNvSpPr>
            <a:spLocks noGrp="1"/>
          </p:cNvSpPr>
          <p:nvPr>
            <p:ph type="sldNum" idx="12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FEEA-37CD-45E0-975B-6FEC8BD06E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ОБЩЕСТВОЗНАНИЯ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К ОБЩЕСТВОЗНАНИЯ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 клас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под правовой культуры –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правовой ниги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кон что дышло, куда повернешь, туда и вышл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де закон, там и обид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то мне законы, коли судьи знаком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кон топтать нельзя, а вокруг ходить можн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типод правовой культуры –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правовой нигили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Закон что дышло, куда повернешь, туда и вышло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Где закон, там и обида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Что мне законы, коли судьи знакомы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Закон топтать нельзя, а вокруг ходить можно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 – важнейший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элемент правовой культу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ироком смыс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й, иде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бежден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з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ыс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беждение в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обще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чи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м д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а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сознание – важнейший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элемент правовой культур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широком смысле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дин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вы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наний, идей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беждений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увств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нош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узк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мысле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беждение в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обходимост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еобще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чин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вы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ам дл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лага обще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ведомленность в вопросах поли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сть в политическ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е отношение к политике как роду человеческ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итическая культу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ведомленность в вопросах полит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тивность в политической обла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ожительное отношение к политике как роду человеческой деятель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ите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агательное                    Прилагате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го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Глаго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Глаго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ительн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ыв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те синквейн со словом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авосозна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ществитель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лагательное                    Прилагатель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гол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Глагол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Глаго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ра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ществительно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вывод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ставьте синквейн со словом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равосознание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16, стр. 69-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ьменно ответить на вопрос «Каждый ли человек может обладать активной правозащитной позицией?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к 16, стр. 69-7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исьменно ответить на вопрос «Каждый ли человек может обладать активной правозащитной позицией?»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АВОВАЯ КУЛЬТУ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ма урока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РАВОВАЯ КУЛЬТУРА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ь мир театр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люди в нем – акт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каждый там свою играет р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ксп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граф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есь мир театр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 люди в нем – актер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каждый там свою играет рол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експир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пиграф урок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комство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ми прав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ажитель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 к пра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ЛИ УРОК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накомство 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ами правов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ультур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спит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важительн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ношения к прав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 культу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ая куль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Н УРО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такое  культура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вая культур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созна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итическая культур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ульту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а (в переводе с латинского языка – возделывание) - это все, что создано человеком и отлично от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ультура (в переводе с латинского языка – возделывание) - это все, что создано человеком и отлично от природ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авовая культура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вая культура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сть правозащитной пози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вая культура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тивность правозащитной позици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6EA1-DE3B-40CF-804F-BB107E9E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2D2D-AC3E-49FD-ACEC-24390D6F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A3BF7B-3BFD-4E3B-8A6B-8592B0E2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51A25-3F0C-4FD6-9B53-6F38B5E3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B3133-3EC8-46AD-8382-2B70BA3F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0B7F05-5E46-4784-A611-D3AE1087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81B902-FB0B-4F60-90BE-A31A8AF1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07CF2D-2C80-42FF-ADAF-32AEF95D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1FE736-AE5B-403C-84A3-E99B2E40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DA0BB-8452-4EA4-B0F8-3026E8EFB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19B5E5-2CD2-4586-83A5-0191B0BF5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867B6F-60D8-4642-BF05-E62FF7110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128E-12E4-4F74-BE1F-C374C3341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3B04FE-BE9D-4710-9C0E-82094A8E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FFD632-89BA-4F94-BD51-B815F5A9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884F22-3CE1-4E77-9C09-A5C3D2AA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D7B112-6EE7-4A75-8712-BCFE05BE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D9EB67-BDE9-4A7C-A85F-C58DC22E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557D9C-AD21-49EA-BF38-4D4486A3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A2E003-4C43-4443-BF5C-FA5ECD5E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7C7279-E1F4-40EB-9BE5-4ADFB96C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0435BA-5694-4D76-8ABF-283703D9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80E0BB-4EFC-4887-9F68-A07EBF773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D35C-3BEE-4A77-A2AD-1F0D21CB7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E5108E-A0AF-4A11-9177-23288E022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0B338-BE97-4A41-AA6D-0F0106858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873FC-698A-47B4-974B-FAF9BC9C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F4D15-DF7E-4758-B533-FB412259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673E0-6BD4-47D8-AA24-676640A6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EDFC7-BC21-4082-9F0D-123B8E21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02428-C05A-4E9F-82C0-585C6E77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D29ED-AEAE-401B-8FEC-DE2783A4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D7DA8-364C-46DB-964E-A5F71DA3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89992-7227-4D8A-84D1-E417597A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B7E2-761F-4372-97F5-1DEEEA0E4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FE803-21D9-44ED-AAFD-23E49042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C34BF-FD38-4F0D-9493-DFF6504E8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04047-8207-4031-8C6C-F5360565B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87E445-58E7-42F8-87BE-BACF35E4B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D90FC7-DAA7-412A-8F90-CB25A27D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ACD9CD-8065-49DD-8EB1-BCCB2609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808C16-2FAF-4C69-9BF2-614BE5CE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9AA54C-2BBD-4F8F-A9D5-E82BF4B3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D81022-0057-47BD-A448-E2600C2D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D71AB4-679B-4A57-9042-1A08B1EC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9877-4DC0-431B-BCDC-10D6369E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97624-3FD1-415E-B0D3-A4DF99C2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E0161B-9B49-4C53-916D-4A171FDF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952DA0-9D04-4EED-B083-0EFE2AE2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906BB-21B9-4982-ADA4-D4774961B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E35FAC-9342-4A6E-A75A-415A1D5C9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D561CA-5910-4D92-8750-4D8D0A215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35E393-6A94-4D4D-B01F-81E26E49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422189-9F59-4713-A1D4-D4C2CD54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274C3E-9C40-4906-833B-E870743A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8F758A-E1E5-4ED9-A9CE-3A49D93E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60755-502D-4635-ACA1-573E98CD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B53BCA-8CF8-40D9-8252-A25D09EF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4D02A0-7EA8-4EE4-BE4C-21023B8F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3E814C-039B-490A-B064-B8B9B4EC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A2DEE6-CEE6-4F91-8A5E-5135478C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ECAF34-206C-48B4-BB00-BB7BC0EA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682297-A24E-4C77-B591-ACAA0E966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99DFC9-3679-4D72-970E-3B23890E9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53D806-D8BE-4ABF-BDA1-6AA892689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E72487-E9C0-46BA-B73E-B82B7AFB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72556F-542B-40F0-938D-EAE078F3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576B-6ECC-4844-ABE0-FD7F0387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C5177E-48C2-4D6F-9F1E-12CD5FEC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75E0B7-EBAA-4FFA-90C4-E39E90C9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040416-C6ED-45ED-B871-2C5D219C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B3C8DC-0E83-47C6-8378-F37FAD3D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5EB8B8-EA02-4CEE-A7E5-2366D849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54983F-9849-48C3-B382-420CD55E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D8E21D-2B8C-4610-A73B-BD555880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193352-5B32-4EDA-8517-49B1FE24B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A7DF9D-EB03-42AC-A959-8FA5FE602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593D49-0211-4914-BC83-FDF018BE0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A133-36BD-40C3-8281-D8529AA7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2DAFB9-F40E-4298-884E-D4A27B8C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C2C6CC-6A67-4CA2-A071-1A240280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97D88A-3951-4304-A493-DB3BEAD6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E4511E-AA2A-4B17-AFEF-599CB807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03EC79-0321-4046-8F6E-7A22A21C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C43D7A-E395-4034-90D5-61F51659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4C095A-94B6-4395-B478-0334E690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5ED700-8C5B-4C37-9C34-B048C9C4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1CE446-6EA4-4A52-BA2B-2781091F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FB9194-5FD1-4283-ACD1-66DF921FF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99D9-B4B4-4559-B11F-00B75ECA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BF9D2F-7C3D-4C87-881B-003ADC796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01CF98-5000-443F-B9ED-40FF2AAD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F004AF-3DB5-4242-9398-5861AEA9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D31992-2E4F-4366-AEA0-1176AD72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4F7C3B-AC1A-4DA5-96C2-74C83F8A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1B62AE-30F0-4960-A697-2B379647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0B547E-972A-46D4-846B-999C4964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706EA8-2A87-4054-8261-2E61E553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7DAABA-47C7-4A27-89B6-E59134C8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6110F4-C8F4-4C9A-BA19-C84698CA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1409-7FBC-462E-B240-B9C4B893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C23115-F30E-4134-A3D2-466C28C8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9DF6A7-C34A-4517-A169-618A7E1D3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8373CC-5E80-4A77-9AC6-DF4D43472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7070E0-688B-48DD-83DD-BE6D10877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337827-409E-4DF1-B00E-C47B4D64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0CF4DC-D0B5-4D7F-8A5F-86824DF9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25D55E-B80D-42AF-8263-D9AF5230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4F515A-B6E3-4F11-9A78-D8822CE9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1092A2-70A5-4A20-8071-F3D8244A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0CE24C-D33C-4CD6-9F59-5A5A9F3E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AC0A-9E61-4258-9824-8CD3B9E1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A1B2-EC0B-472D-9579-D118638C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D7C16E-B33F-4439-8FB5-D2785A12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D4A7CB-9D75-45BD-9DED-2B4AFD96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DADF34-04D6-46E5-98A9-38029B28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3A2AD5-FD7B-49CB-8DBF-CF1D1B3E9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C31DA5-F29C-49E6-B25A-D918D1293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2ABA63-A0F2-4991-87E8-C6E6A8ADC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F87644-9D13-4BF3-A6F7-B5DEC303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068596-E4BC-4A3C-AF42-FE8FFBD0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ACB81D-DA15-42C0-BA83-ED044B25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D437B1-2A8D-42E7-9D5E-BAD6C5FB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9B5A-80B0-450B-813F-661C0B6C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4950ED-2070-40AC-B6E2-A3BC9C79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BC3CEF-E70E-4E78-B043-CB2A6204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32FD6E-C4B8-48CA-A732-8660E829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73FE68-D40A-47F5-98E0-E6F75865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6B698D-BCB1-4939-B10E-1FD956AC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895F60-4FBB-4A53-8DFD-8122DE86B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869D97-4EB8-4493-94BF-62C6D1F01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F70986-724E-463A-8261-34BB1A376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CCFF85-5FC5-40B5-B81D-35B3F2F8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631318-ACD6-41F7-B4FF-203759A1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F05E-2E07-402A-8D33-708D554C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4D957A-4762-40FE-AD2E-2A4A9DE9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D6FAE1-2A78-4098-A78A-F25AD03D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F21AEA-7C65-45F7-BE03-80BAAEB6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413954-0B84-4EC8-A9A5-856E9001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36DDF0-6344-4241-82DA-D799EB9E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CE276D-A482-4D4F-BE9E-047CF653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2C8C59-8D8D-4168-814C-00C05E33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3D4E92-ACF4-49B5-A9CD-B54F0BD2D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97B8CA-DC5E-4D95-BA8D-C09ED1978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67BFB1-BCCA-4166-BEAE-F595E420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3D53-12B8-4504-8300-7DAAFC172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C131FD-ED73-4FEA-A4CF-C60FFA9F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12299D-CB20-410C-BC39-15428D15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CB6724-7477-4C1D-AFA3-DC5C3131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8202E8-58F7-4D29-A7A3-0F7D53DD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389380-E224-4943-8B28-6D858503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37641D-D71F-4D91-92E2-D8B284B4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FB39B1-8370-4ACE-945F-96761787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BF19F4-B843-4710-9205-7EB0813D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C7674F-9E5F-4A67-9AE4-7E5FDF35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EFADD2-444E-4DF0-84A6-76B725232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DF63-6E33-4A4B-9DEE-CA955213A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04B26E-A656-4FAE-9EF1-B9D3467F9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52853A-B95D-478A-BB77-A5848346D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D010C3-6BF6-41A1-BC73-126B191D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CA2DCF-8DCA-4CE6-9646-0B348CF0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C3D32F-08BC-4903-91D8-3177BAFD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DAC2CB-ABCF-4B8E-965C-9DF76163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564AF8-6EBA-4EC5-87F3-5B5C175D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C5F3B1-C744-42DC-B50D-91B924C9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125CB9-17AC-46EC-9F20-F2E0FC6A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4A374D-D774-4284-8A74-DDA9AAF7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03C00-7185-497B-8475-A570D577D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6534B0-5F77-4021-BB2A-E53135EC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BC57DD-E287-4068-8D57-2AC5638AA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50F045-B919-4307-98B0-3E0BE5668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475C4E-7FAA-428B-B992-B462EBB1F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220606-DCE9-415E-AB9C-EFEFEE28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C3208E-80C5-4CEB-92C1-B007133A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A564B6-4401-4B9D-9037-299BA163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2686EC-B0A2-4CBA-91E3-C94A9F15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4212C7-2CFF-4A19-B5D7-78FC4685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8202F8-ECFA-401A-9D6E-E115AE2A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65C1D-F856-4843-A9BD-CBCDE439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F02389-F91F-4E3F-A5C9-9C7AEE70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A9F73E-04B4-44A3-88AA-44F978CD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F8E239-B446-408B-B46C-9CCE6409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DA3979-9604-4CDC-A979-FBE0E3D5D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D4F5CD-7D68-4A0A-82CE-88C948E1D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67EF6A-6C62-4128-8C8E-1A6D21175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4FCFBE-2D39-4EC1-99FB-C3F869C0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9F96E1-62FE-4A0E-96DA-BFBE5371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A4A17C-1766-425F-9068-FB4DDB34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B055C7-A381-4267-BBAD-38128C04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C428C-4A44-4763-A4CB-B3D3B0AE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B16F33-D52A-408B-AE3C-640B8AF3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44C500-6643-4D47-8E73-1BC6EEC7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150677-F4B9-4216-9D3D-E95A06F5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FC2107-6284-4DC4-BD5A-FEF7E86E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FCA337-E629-4F1B-A4A4-B7FB3C49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A41D1B-6024-43DC-8600-2DF34230C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22C25D-CE02-432A-AC49-86D2CE944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324A58-EE78-48F7-8185-685D7AC7D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1DED48-B92C-4206-9834-994D9954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620105-CCCB-4828-9785-D0F4207B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A90C7-6E01-4129-9B1D-B548AAC1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40A0CF-0003-407B-B078-73C183F9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5FF8F7-6A80-495A-B8BB-12E88E65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1A8CE4-2BC1-48B6-AF12-278FCBC2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046AD3-86FF-4B9E-90BF-9FC6B285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9C9215-AC36-49DB-935E-F9019814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2E53DB-0BD0-4696-9DE2-2ED9A82D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4E0EE1-B3F7-483A-96A8-44EBC7AD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02F34B-A0B3-4E1F-99A6-74289DF22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B16F0C-637E-44AB-9AEB-726166DE8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9255EB0-6DE2-4D58-82CF-59C60ED46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BDD1A-C411-4CCD-A73B-56EB882E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F7A3D4-A2A3-4621-A3B9-4A488FED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1FBE28-0119-4FAB-BEDF-95625EDD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B34CCC1-74D4-4BD9-AB17-C6EE42E4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CD0E8C-F9D1-41C0-8906-8B297FC1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1B733BB-6F7E-4914-83A1-A7597DF3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EB8BC4-1FC5-4D60-9EFA-96D0D751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5846B76-1A27-455D-96FD-2B522DD1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7A2595-A860-47B7-BF76-C7F0169A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D13F902-AC09-49F4-815E-8EB762A1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7C4011-1F84-4B4C-BC15-C6EBE2260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954D-DC1E-4EE1-9271-BA034118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E9BCC-8487-4E64-839C-AA688CAC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46DE01-9AEE-401D-B676-1CC3A3A7A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E32369B-AEAA-4D56-9C47-D7EB6108C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A1ED58-2C3E-4C3A-8CEC-F9377C93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3A6A6E6-CFB6-4EE7-BFDE-6F236A51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1482D3E-8E05-49CB-B110-78840B07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09DFA8-31C4-4874-98BF-296FB58A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93DDA79-F073-427B-95B6-26CEAF01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B94471-9FC5-4F8F-99C5-24956689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6E2285-5194-48FB-AEC3-75E1A273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EBE8C44-3867-4C33-BCB0-621C54D2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01A23-2B2C-4167-98F8-2811059A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0E4B2C-7C7E-425B-853D-6F45833E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95E670F-BE98-4AEE-A6B3-C220EBC59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B3D932-5B15-4C84-AB42-343B1837A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3B3A6D2-398C-4746-B9DB-22EA6F9CB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9C0DADB-FBF0-489F-BAFF-17010BCD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9C47D63-D019-4738-80C8-572942EA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D21939-93CA-479C-AE48-88B6E308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55D8E25-A260-4358-BC0E-1AA6F8A1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11AF48B-A16C-4D23-B7DD-DD7DB12D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6122489-9980-45A0-B428-D702907A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C32E9-2DAC-4E79-95F7-41D6C138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3B04353-B67C-4854-9BA0-FED700E6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095A1EE-9E67-4047-B20E-21788664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437C3B8-C975-4D2A-9F23-41288EE2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555C4FA-42A7-4A2F-BCBA-8FFF1FBD4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81450E-D226-4B24-8556-357732809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DEBC1AD-0556-4B97-9D41-42BD618A2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D75BD7B-7A3C-48F7-9393-AC458F77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A9BB55A-662D-473D-B828-8750CA10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DBBD087-D6D8-439F-A39A-FED849D5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2B7653E-84DF-43A4-84A8-66C4A52D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596E6-C7E7-4CBE-8414-2CDB0A9A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20A09D6-7C07-45CF-8A1C-F469125A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8AA53B7-5E58-41D0-A449-2CD80841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2B59DE-3E92-43E0-84CC-87CC94D7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F7905F4-4E3F-455E-BB2F-EF8E3305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2F96C68-A774-4785-A789-7FF63D6B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20672C-27FD-4B8D-B9B9-C1B4B7C93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B13596B-D629-4864-AC18-E25299AA4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FD4B2BA-BA16-4E8A-AF06-EFDFC2CA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8C5E9BB-B443-40AA-B026-A5E9B108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D658DF7-2A71-4F3A-B25D-1D6E7AFB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83B26-A44D-4FA4-BDE9-CCBDF383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027FB47-54FD-45B0-A208-1F9CCE28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3FC3C18-373A-450E-8B06-6AC6896D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1AC1957-53A3-4B4D-8987-9BBCA4FB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A4E4380-04B0-447C-B714-613A0E40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46066B2-969B-4AF9-8DC3-C65C2ADD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E310E8D-384F-4DA3-A2AF-B0BB4C22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40437C8-A4F8-488F-89C9-CFDACD26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48F8232-E9AD-44F4-8B92-93B610F5E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AFAB3F8-FE18-40F8-9F8E-037D27813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CB4D1F4-0E55-408C-8ED1-F79F0A790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97989-5AE4-4765-8C04-E33675921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B7FBCFB-1FC5-4FDA-9393-37135C65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7A4902A-B67D-4DA6-A09C-5A297636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E5658EA-0B32-4EE8-AD58-46ECDE52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402A6A0-7030-4EDC-8148-42B19C3D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A337400-AA8A-4342-87AB-0CB00F0E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1C9B28E-596D-4EE3-870F-C33DF446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BA4B1DC-3923-4753-98FD-BA0685C7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3EF6629-A6B0-4837-A9D9-3865BFF5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2487D6B-6AEF-43D2-808B-6380EE88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1CBC44D-2C93-4CBE-9232-0C58C8F9D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66609-C73A-4514-8994-16EB59BE1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AE2F0D5-AA4F-45BF-8A6B-D2E01C9B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828DC81-E3FA-47F2-9E88-2EDCE7AE2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3EF1C2F-D769-41DF-9B3C-2DCE001B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9EF0A70-7B52-4821-8E5D-53766144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9C83E51-9F14-4143-9FD4-667116A7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7018347-C787-4235-A22F-A57E1DE4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883E79F-0AB5-43E6-AAC0-A910E2A3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DCFDB44-DC50-4CD6-9C3A-0661674D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1FA279-BE47-4029-A61C-BBD606C3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7AA6DF7-74B1-40DB-B4E1-8BA6D962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F90D7-8C9B-482A-B7AB-983C3179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88FAB8C-C867-45BD-8598-C11D1200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0F2D738-68B0-4146-96B8-405ED2A0C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D5D6F7D-6825-44D6-AD8B-DF0358B20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17CC3E0-7318-4BBA-A5ED-0A79FB530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B9CC500-EA3A-4F74-B7EA-02462E7F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BCFF53A-C19C-4CFF-98FF-657A037C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AC96E48-220D-4D89-AE64-02ADBD32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FD184B0-54CC-4DDE-A6D1-0E7B89DC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BC9D5EA-93DA-4716-BA9C-9A27F11A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60DFF6E-89F5-4E99-8F67-7C0F407A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95E55-62EC-4BC8-84B8-C82FDDFF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50C35C4-42D3-4B9E-9120-ADBD93B6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7D5B671-B398-4071-B270-DC9630AC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743DE3F-F1FE-4A46-89B9-FE8A1D44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9C746DC-C983-49C2-9E64-DF9BB38F4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FDDB435-1223-4DF6-B1D9-DF663CFAA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79D489E-DE7F-4B54-865D-4E62D8B8F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D52187D-6BDB-4B87-82A2-2966C146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F53C3FC-3C9D-40FD-AFF9-01148ABE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04BE518-C571-4214-B970-F17964FE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E4424D6-9363-4F09-AAFA-18854CB4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278CA-B60E-4C93-A20B-4ED71762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E7999D1-730A-4B89-8D7F-8618CBB7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9AACABF-EA27-4FD6-8998-F7FF613F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2CFF984-CFC7-4199-9464-00332F32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1D34A6D-5CC8-408F-B38E-4EAB5322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FE3AC42-05EB-47E7-B67F-747F4981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95E9267-95F7-4A4A-9ECD-C96DB0DA8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B6B8A15-4680-496A-9EE1-F5163AFEF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D729C14-1F5E-4AF1-81C2-4F3FFFD2E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4FE8969-5CCA-4BE9-885F-8A579C00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6D577CF-DB31-4733-9350-153E9309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AB94-B26D-4061-BA0C-7F7A6B9C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67677-0CF1-464C-94E9-EC62DC97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8FDFDC1-F572-42AC-9870-650AB482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D9144BC-07C0-4A94-AD60-6A1754D0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98DE44C-E8AF-4B82-A0AA-CB337313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18518B3-74D2-4E7D-BF4A-BA804431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95BCF0B-BFD5-4733-825E-0919AFB5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8A3244A-1778-4884-AC45-83C0C74D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972A4DB-606D-4735-9D7F-CE7B478B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C1995E6-8B37-4664-AF2E-D9A288CA9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A021AE8-D3DB-457C-8B08-2EE62891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B724FC8-DF12-4C12-89F6-EBB282EE2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8715E-DD3A-4F09-B79A-47FBC7A8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E977BF3-1C12-4704-8E2C-3CF0CBC7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F9C039A-E24D-4E34-8928-F885B794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2241062-1BD4-44A6-8780-CE4F1E26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A5BBA07-6A05-4C2F-A68D-C6CF8450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348C58C-7341-49BD-9F47-BA6B9E25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B949AC9-E76F-4881-B7B6-CBBF3FF5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5359EDB-39EF-477F-9CB8-14D714D1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79ED2C9-6335-4DEF-950D-95F67030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D270E8A-0118-46A6-B243-E22253A1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0416EE7-7D97-4ECF-A663-56425E281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A2899-FEF4-436E-B4E9-8943CA74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64396F9-4149-45DA-9773-8CFF04E6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0460E63-A7FF-4C2D-A20C-9DC3F2968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3C66EB1-1CC1-4958-AA1F-51611EC3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150BBD1-3CC2-40C3-84AA-773C523C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4061520-7B21-4938-8EC0-46409B38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2355D19-6886-4EB8-AB00-F5DF7255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32F2003-688A-4F89-91B0-C2D0509D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7BBE2E0-9A9D-414E-BACA-D0A607E0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AE91B71-7409-4471-A39F-D24653C8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06AFD7A-80D6-4228-B491-8D2370DA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B2046-4A2E-4BBD-B0E3-C8D9C3C0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EC7FD13-3A6F-4E1D-A81E-D9C70F83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3AF1A02-ADB3-410A-BE18-EE362BB8D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B7B6779-9EC2-4F50-A9FC-4BD54BA27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E4FF893-9DB2-41BF-AB10-670948720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4723164-FD24-496C-8A91-2F00D15A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2354013-6F5B-4DC4-84F9-359067FA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A654EFE-8748-4F8E-88A4-E2D0B389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D3E507D-15F1-4005-A56D-6C4A056D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06E2523-1DC9-4A59-9039-FE20615E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6A393A7-EC34-4A4F-80CF-D4AB3C66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3E708-47C3-4349-A46D-DC43EAB3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C022B38-DC03-4C1F-B52B-12058041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C5E8330-FEA8-4323-9EC1-63DB8493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2D9B62A-F224-4573-8AC8-9FDAFCD3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7067B46-1F63-4860-BFB9-A0E0D0F85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417E05E-127D-4A32-99B5-F8CF06D0F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03CB2BF-288D-44AB-BAF6-A08DCD1BE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F02C0CD-04D0-4978-8B3D-27146973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B9E4C91-9906-4464-B688-B3F6033A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E1DF4CA-D55C-46E1-96B4-9D9A8FFA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51FACCD-D719-42B2-A2DE-9E569985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A9F9D-BEAC-411B-BDD3-DD359280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81420BB-EC63-40FA-BD33-810CD656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7DA017A-B09E-48DD-A217-16E0E92F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A1C2847-A5F3-418D-9DA9-D12CAE30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5E454A1-C5C7-4968-8892-EE836B36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20D62DF-9112-4553-A124-F62900FE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95F27D9-C168-4FF3-89CC-E4E6AAD6E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E44FDC7-13BA-444E-AD98-A8764FA06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667AB1E-71FD-426D-B0F2-1E53AFFA4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3CD035F-9873-4783-BE6C-83136AD4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C116A36-C1AF-40B8-90EA-82F4D0AB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9C992-771E-45C1-B602-39071DE8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279CABC-0CC1-43BA-AB0C-25A0AA41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CB51320-47EB-438B-9F81-D44B0E4E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7601C02-98A8-4F36-92A1-9C704042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9434530-0F80-4EC8-B802-2209E8A0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272A014-6450-4119-8BFF-40FACFC4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802F9EF-21CA-47EA-AE1E-6BC3B542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5DBCB95-A1DC-4869-9141-30D4AC7D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989EBD2-065E-44FB-86CA-7956B57EA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013F33B-FDF6-4EB5-8204-B8C8D72BA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E596E-2C04-4490-B55E-8861C59DA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F4542-A39D-4E1D-AB61-757435FB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56F7B-4FC0-49A5-9B69-06335717C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2E82-F78C-494B-9F72-DC2E8CC6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080C3-BBA5-4983-9A8F-31673BA8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833A4-A8A0-4FBD-8A2F-28AB284A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B33A7-BF45-4360-9B25-5E7E1C8C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B4D29-B87E-4B99-B0A3-E99FA6AF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27C23-39CA-42C8-A843-74175A52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CA7A5-8E78-4CD3-A72E-3F45A722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6C8CF-C56C-4601-B65B-F316CFDA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546C1-4AAC-467D-AEEC-48D9072B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3F83A-5B7F-483B-8D3A-EBB4131A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68E42-510F-466C-AF3B-62F787B28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32D2-081F-43FF-A3BB-B6524702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55D7D-B011-4047-9723-D8E2D87CE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996EA-75E2-49D7-BA1A-D9235D670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5CDCE-0160-4427-8334-DF33D313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F12AD-C0F8-4880-9503-4AD7B949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C88F9-8F94-4AB0-920A-18093705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DFC0C-F170-4A1B-B666-60DC1BE3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4B546-5E0A-4AF7-A0A9-EC7CBB43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F1828-56E6-4234-A63D-448AD1E7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4762C-FCF6-4BF9-A579-11B02BFD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AA8FC-9AC2-4ECF-A39B-89F5D63E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0338-11D0-4127-986F-B0BFE20E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9B04E-E2A6-48E1-9ED3-1AD6C4BA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04D6D-F7F0-4332-8B6F-BAA49EC19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03C2D-058F-4C46-8876-95AE53D7F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C1B61-4B40-471D-8F62-9ED1064B2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1FA3E-77D3-40D0-906F-BB7E7CA2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5265C-71EA-4F1E-B413-2C2EB0F1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17F95-187F-44FE-AEB0-EF394EBE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226AA-A127-4393-8BDB-6E9DD081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43CCE-8730-42C6-B78A-CF324ED2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EF404-5F6D-4180-B541-9A3499FC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44BD-E6CD-4C4F-824D-13EC6ADE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48EC7-5FC1-4A29-986E-5C06E824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841A9-4BA2-455C-96CF-F3EEEE36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1C479-CA83-4AB3-B309-A812771A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B2993-A9A8-4D02-8902-60C21F83A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666BE-C8F9-4E32-A0A9-BB606DBE6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AD007-52A8-409E-8F99-405E94529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DD4D7-5F76-4DE4-B74C-1AA61A88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E728E-EAFA-4C2A-9790-E56965CC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6F0B0-F80A-4CFA-BC32-3BC59693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09282-2E2F-4F91-B231-9C296E68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0279-FF7C-4BA4-93AB-6DF2E702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91DB4-95CC-455F-B7B9-326840AE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904F6-0704-4B48-A42E-364C4D54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B5B72-9D05-4B4D-9052-1F6162F5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B1D4D-F62A-4A07-9B5F-2D77197A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294AA-8348-41D4-B2DE-A08586D9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557C5-E39A-4909-A777-95EE6DF33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A1EB9-3B13-4749-A78F-D04ABF788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93268-3ECA-4A9B-A183-0AE33F5CF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CDAFE-9396-4B09-9D58-CF5AF7AA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645476-3180-446F-B02C-33815814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D2F8-05D5-4787-BD03-FDCDECBF72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F4A2-EE21-4E8F-9135-998883E4BB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48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48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1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2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3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F397-E369-4AEC-A3B0-2860CDE010E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34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CFB1-3FC3-447E-B447-89FA7918A7E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2a40"/>
            </a:gs>
            <a:gs pos="100000">
              <a:srgbClr val="7373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de9ec">
                  <a:alpha val="1176"/>
                </a:srgbClr>
              </a:gs>
              <a:gs pos="100000">
                <a:srgbClr val="dde9ec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8b8bc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0c0c4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4165"/>
              </a:gs>
              <a:gs pos="100000">
                <a:srgbClr val="a1aad1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37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38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39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0F7A-1647-4A55-9A0D-BCE57052BAD0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2a40"/>
            </a:gs>
            <a:gs pos="100000">
              <a:srgbClr val="7373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de9ec">
                  <a:alpha val="1176"/>
                </a:srgbClr>
              </a:gs>
              <a:gs pos="100000">
                <a:srgbClr val="dde9ec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8b8bc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0c0c4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0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1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2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0372-863F-4AFC-B83F-F12FF95CEE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de9ec">
                  <a:alpha val="1176"/>
                </a:srgbClr>
              </a:gs>
              <a:gs pos="100000">
                <a:srgbClr val="dde9ec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4165"/>
              </a:gs>
              <a:gs pos="100000">
                <a:srgbClr val="a1aad1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0c0c4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8b8bc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3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44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45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2AF4-614D-4086-9933-43BC916579E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2a40"/>
            </a:gs>
            <a:gs pos="100000">
              <a:srgbClr val="7373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4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4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4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1394-6B46-4DB0-8070-865EFFE666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2a40"/>
            </a:gs>
            <a:gs pos="100000">
              <a:srgbClr val="7373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4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59E6-9908-4B07-B9D2-B80714ED93C2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5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ftr" idx="5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sldNum" idx="5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1F4F-7D6C-4BDA-A1E8-83BCF4DBA107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86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 type="dt" idx="5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 type="ftr" idx="5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 type="sldNum" idx="5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5A34-2926-4A86-B1BA-AC1FD68C6A1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7418-F998-4AB7-8E02-8F6D3C3EDCE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2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13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5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5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6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8971-2CF2-4DD7-ACC0-CC18EB5B2DA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dt" idx="6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 type="ftr" idx="6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 type="sldNum" idx="6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55AC-0A8C-46D3-B306-D9B9D82F8CE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6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6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6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245F-B287-4073-9317-BF230AC0F8E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4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4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3ded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 type="ftr" idx="6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9d4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9d4c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 type="sldNum" idx="6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9d4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F8BD-7736-4050-8CD0-EB0267C4991E}" type="slidenum">
              <a:rPr b="0" lang="ru-RU" sz="1200" spc="-1" strike="noStrike">
                <a:solidFill>
                  <a:srgbClr val="d9d4c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9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9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3ded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 type="ftr" idx="7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9d4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9d4c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 type="sldNum" idx="7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9d4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F068-6359-4346-92CD-E18DFEB2DE99}" type="slidenum">
              <a:rPr b="0" lang="ru-RU" sz="1200" spc="-1" strike="noStrike">
                <a:solidFill>
                  <a:srgbClr val="d9d4c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 type="ftr" idx="7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2f2f2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 type="sldNum" idx="7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27BE-5EC6-44FD-B73B-1C367AA2219B}" type="slidenum"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7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118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9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 type="dt" idx="7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 type="ftr" idx="7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 type="sldNum" idx="7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7430-3E83-4B55-8F6B-23263D45B90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2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233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 type="dt" idx="7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 type="ftr" idx="8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 type="sldNum" idx="8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9ED3-0300-44EA-A2CA-282849E6566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 type="dt" idx="8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 type="ftr" idx="8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 type="sldNum" idx="8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F094-E568-4A87-99C3-FF1E5A391E8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 type="dt" idx="8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 type="ftr" idx="8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PlaceHolder 5"/>
          <p:cNvSpPr>
            <a:spLocks noGrp="1"/>
          </p:cNvSpPr>
          <p:nvPr>
            <p:ph type="sldNum" idx="8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9E28-4DF1-4DBC-9EB9-E709B03F216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9C1C-092F-469E-883A-A4B77130E65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14700"/>
              </a:gs>
              <a:gs pos="100000">
                <a:srgbClr val="ffa066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 type="dt" idx="88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 type="ftr" idx="89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 type="sldNum" idx="90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8C41-0BB7-40A5-9AFD-B315A3AD2AD1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 type="dt" idx="91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 type="ftr" idx="92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 type="sldNum" idx="9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4BFE-62AC-4EA3-BEED-8AE92E19A6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14700"/>
              </a:gs>
              <a:gs pos="100000">
                <a:srgbClr val="ffa066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 type="dt" idx="94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 type="ftr" idx="95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PlaceHolder 5"/>
          <p:cNvSpPr>
            <a:spLocks noGrp="1"/>
          </p:cNvSpPr>
          <p:nvPr>
            <p:ph type="sldNum" idx="96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6B50-740A-40C3-BECC-01AA2C512A5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 type="dt" idx="97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 type="ftr" idx="98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 type="sldNum" idx="99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AF5B-8205-4FC2-ACBD-2FD886B35C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 type="dt" idx="100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 type="ftr" idx="101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 type="sldNum" idx="102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110A-1AF6-493A-A2FD-B9AA347D5115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 type="dt" idx="103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 type="ftr" idx="104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 type="sldNum" idx="105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C605-B80E-4C11-9381-020D02C1FFB1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8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1619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0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1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 type="dt" idx="106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 type="ftr" idx="107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 type="sldNum" idx="108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D20B-6659-4239-BDD5-D25D0261C3DE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3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664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5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 type="dt" idx="109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 type="ftr" idx="110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5"/>
          <p:cNvSpPr>
            <a:spLocks noGrp="1"/>
          </p:cNvSpPr>
          <p:nvPr>
            <p:ph type="sldNum" idx="111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721E-8920-42BE-93F6-A7B6CB58770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 type="dt" idx="112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 type="ftr" idx="113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4e7ed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 type="sldNum" idx="114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3F28-BE84-43B1-9DF5-82014570A72A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5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 type="dt" idx="115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 type="ftr" idx="116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 type="sldNum" idx="117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6F73-A52F-4FA2-A243-5841CC4DC14C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2a40"/>
            </a:gs>
            <a:gs pos="100000">
              <a:srgbClr val="7373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de9ec">
                  <a:alpha val="1176"/>
                </a:srgbClr>
              </a:gs>
              <a:gs pos="100000">
                <a:srgbClr val="dde9ec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8b8bc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0c0c4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CB39-838D-40F2-857F-EC047EC8E9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14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5057-6550-461B-BCBB-6C5A3CB8A31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2f2f2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9789-0F1E-4449-8C4D-0E9FBA91909D}" type="slidenum"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6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6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309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F4ED-3E30-4D35-8563-BA5FA9C36DC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2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3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4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34C4-5569-4FD7-9595-330C434F70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39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ACCC-1DB0-49BA-939E-13C798C4F5F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57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36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57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1" name="Rectangle 2" descr=""/>
          <p:cNvPicPr/>
          <p:nvPr/>
        </p:nvPicPr>
        <p:blipFill>
          <a:blip r:embed="rId1"/>
          <a:stretch/>
        </p:blipFill>
        <p:spPr>
          <a:xfrm>
            <a:off x="249120" y="981000"/>
            <a:ext cx="9772920" cy="39196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11" descr="%D0%BF%D1%80%D0%B0%D0%B2%D0%BE_17"/>
          <p:cNvPicPr/>
          <p:nvPr/>
        </p:nvPicPr>
        <p:blipFill>
          <a:blip r:embed="rId2"/>
          <a:stretch/>
        </p:blipFill>
        <p:spPr>
          <a:xfrm>
            <a:off x="0" y="4878360"/>
            <a:ext cx="1979640" cy="1979640"/>
          </a:xfrm>
          <a:prstGeom prst="rect">
            <a:avLst/>
          </a:prstGeom>
          <a:ln w="0">
            <a:noFill/>
          </a:ln>
        </p:spPr>
      </p:pic>
      <p:sp>
        <p:nvSpPr>
          <p:cNvPr id="1803" name="Місце для нижнього колонтитула 1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            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Антипод правовой культуры –   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                  правовой нигилизм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53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«Закон что дышло, куда повернешь, туда и вышло»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«Где закон, там и обида»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«Что мне законы, коли судьи знакомы»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«Закон топтать нельзя, а вокруг ходить можно»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56" name="Picture 4" descr="206"/>
          <p:cNvPicPr/>
          <p:nvPr/>
        </p:nvPicPr>
        <p:blipFill>
          <a:blip r:embed="rId1"/>
          <a:stretch/>
        </p:blipFill>
        <p:spPr>
          <a:xfrm>
            <a:off x="3492360" y="4797360"/>
            <a:ext cx="2016360" cy="2060640"/>
          </a:xfrm>
          <a:prstGeom prst="rect">
            <a:avLst/>
          </a:prstGeom>
          <a:ln w="0">
            <a:noFill/>
          </a:ln>
        </p:spPr>
      </p:pic>
      <p:sp>
        <p:nvSpPr>
          <p:cNvPr id="185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-252720" y="291960"/>
            <a:ext cx="90010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  </a:t>
            </a:r>
            <a:r>
              <a:rPr b="1" i="1" lang="ru-RU" sz="4000" spc="-1" strike="noStrike">
                <a:solidFill>
                  <a:srgbClr val="dbbd71"/>
                </a:solidFill>
                <a:latin typeface="Arial"/>
              </a:rPr>
              <a:t>Правосознание – важнейший   </a:t>
            </a:r>
            <a:br>
              <a:rPr sz="4000"/>
            </a:br>
            <a:r>
              <a:rPr b="1" i="1" lang="ru-RU" sz="4000" spc="-1" strike="noStrike">
                <a:solidFill>
                  <a:srgbClr val="dbbd71"/>
                </a:solidFill>
                <a:latin typeface="Arial"/>
              </a:rPr>
              <a:t>     элемент правовой культуры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108000" y="1916280"/>
            <a:ext cx="316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В широком смысл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дин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авов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наний, иде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беждени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увств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нош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6215040" y="1905120"/>
            <a:ext cx="292896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     </a:t>
            </a: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В узк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     </a:t>
            </a: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смысл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беждение в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обходимост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общег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чине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авовы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рмам дл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лага общ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1" name="Picture 7" descr="obraz"/>
          <p:cNvPicPr/>
          <p:nvPr/>
        </p:nvPicPr>
        <p:blipFill>
          <a:blip r:embed="rId1"/>
          <a:stretch/>
        </p:blipFill>
        <p:spPr>
          <a:xfrm>
            <a:off x="2916360" y="3357720"/>
            <a:ext cx="3095640" cy="2366640"/>
          </a:xfrm>
          <a:prstGeom prst="rect">
            <a:avLst/>
          </a:prstGeom>
          <a:ln w="0">
            <a:noFill/>
          </a:ln>
        </p:spPr>
      </p:pic>
      <p:sp>
        <p:nvSpPr>
          <p:cNvPr id="186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3" name="Rectangle 2" descr=""/>
          <p:cNvPicPr/>
          <p:nvPr/>
        </p:nvPicPr>
        <p:blipFill>
          <a:blip r:embed="rId1"/>
          <a:stretch/>
        </p:blipFill>
        <p:spPr>
          <a:xfrm>
            <a:off x="0" y="-158760"/>
            <a:ext cx="9277200" cy="1500120"/>
          </a:xfrm>
          <a:prstGeom prst="rect">
            <a:avLst/>
          </a:prstGeom>
          <a:ln w="0">
            <a:noFill/>
          </a:ln>
        </p:spPr>
      </p:pic>
      <p:sp>
        <p:nvSpPr>
          <p:cNvPr id="1864" name=""/>
          <p:cNvSpPr txBox="1"/>
          <p:nvPr/>
        </p:nvSpPr>
        <p:spPr>
          <a:xfrm>
            <a:off x="457200" y="928800"/>
            <a:ext cx="82296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727ca3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Осведомленность в вопросах политики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751"/>
              </a:spcBef>
              <a:buClr>
                <a:srgbClr val="727ca3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Активность в политической области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751"/>
              </a:spcBef>
              <a:buClr>
                <a:srgbClr val="727ca3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Положительное отношение к политике как роду человеческой деятельности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865" name="Picture 11" descr="j0343393"/>
          <p:cNvPicPr/>
          <p:nvPr/>
        </p:nvPicPr>
        <p:blipFill>
          <a:blip r:embed="rId2"/>
          <a:stretch/>
        </p:blipFill>
        <p:spPr>
          <a:xfrm>
            <a:off x="3924360" y="4076640"/>
            <a:ext cx="1247760" cy="25210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grpSp>
        <p:nvGrpSpPr>
          <p:cNvPr id="1866" name="Group 14"/>
          <p:cNvGrpSpPr/>
          <p:nvPr/>
        </p:nvGrpSpPr>
        <p:grpSpPr>
          <a:xfrm>
            <a:off x="7093080" y="4508640"/>
            <a:ext cx="1818720" cy="2461680"/>
            <a:chOff x="7093080" y="4508640"/>
            <a:chExt cx="1818720" cy="2461680"/>
          </a:xfrm>
        </p:grpSpPr>
        <p:pic>
          <p:nvPicPr>
            <p:cNvPr id="1867" name="Picture 15" descr="j0229051"/>
            <p:cNvPicPr/>
            <p:nvPr/>
          </p:nvPicPr>
          <p:blipFill>
            <a:blip r:embed="rId3"/>
            <a:stretch/>
          </p:blipFill>
          <p:spPr>
            <a:xfrm>
              <a:off x="7093080" y="4508640"/>
              <a:ext cx="1818720" cy="213012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1868" name="Text Box 16"/>
            <p:cNvSpPr/>
            <p:nvPr/>
          </p:nvSpPr>
          <p:spPr>
            <a:xfrm>
              <a:off x="7909920" y="6514200"/>
              <a:ext cx="1821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69" name="Picture 21" descr="i?id=34623584&amp;tov=3"/>
          <p:cNvPicPr/>
          <p:nvPr/>
        </p:nvPicPr>
        <p:blipFill>
          <a:blip r:embed="rId4"/>
          <a:stretch/>
        </p:blipFill>
        <p:spPr>
          <a:xfrm>
            <a:off x="0" y="4508640"/>
            <a:ext cx="2208240" cy="2349360"/>
          </a:xfrm>
          <a:prstGeom prst="rect">
            <a:avLst/>
          </a:prstGeom>
          <a:ln w="0">
            <a:noFill/>
          </a:ln>
        </p:spPr>
      </p:pic>
      <p:sp>
        <p:nvSpPr>
          <p:cNvPr id="1870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"/>
          <p:cNvSpPr txBox="1"/>
          <p:nvPr/>
        </p:nvSpPr>
        <p:spPr>
          <a:xfrm>
            <a:off x="457200" y="1499760"/>
            <a:ext cx="822960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76280" indent="-357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ществительн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8e19f"/>
                </a:solidFill>
                <a:latin typeface="Arial"/>
              </a:rPr>
              <a:t>Прилагательное                    Прилагательн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лагол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Глагол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Глаго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e19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8e19f"/>
                </a:solidFill>
                <a:latin typeface="Arial"/>
              </a:rPr>
              <a:t>Фр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ществительно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вывод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2" name="Text Box 4"/>
          <p:cNvSpPr/>
          <p:nvPr/>
        </p:nvSpPr>
        <p:spPr>
          <a:xfrm>
            <a:off x="826920" y="0"/>
            <a:ext cx="70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Text Box 5"/>
          <p:cNvSpPr/>
          <p:nvPr/>
        </p:nvSpPr>
        <p:spPr>
          <a:xfrm>
            <a:off x="611280" y="-171360"/>
            <a:ext cx="799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оставьте синквейн со словом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«правосознание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8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8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8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8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8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8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5" name="Rectangle 2" descr=""/>
          <p:cNvPicPr/>
          <p:nvPr/>
        </p:nvPicPr>
        <p:blipFill>
          <a:blip r:embed="rId1"/>
          <a:stretch/>
        </p:blipFill>
        <p:spPr>
          <a:xfrm>
            <a:off x="0" y="324000"/>
            <a:ext cx="8070840" cy="1504800"/>
          </a:xfrm>
          <a:prstGeom prst="rect">
            <a:avLst/>
          </a:prstGeom>
          <a:ln w="0">
            <a:noFill/>
          </a:ln>
        </p:spPr>
      </p:pic>
      <p:pic>
        <p:nvPicPr>
          <p:cNvPr id="1876" name="Picture 9" descr="22-04-2009-pravo"/>
          <p:cNvPicPr/>
          <p:nvPr/>
        </p:nvPicPr>
        <p:blipFill>
          <a:blip r:embed="rId2"/>
          <a:stretch/>
        </p:blipFill>
        <p:spPr>
          <a:xfrm>
            <a:off x="3500280" y="4929120"/>
            <a:ext cx="1524240" cy="1619280"/>
          </a:xfrm>
          <a:prstGeom prst="rect">
            <a:avLst/>
          </a:prstGeom>
          <a:ln w="0">
            <a:noFill/>
          </a:ln>
        </p:spPr>
      </p:pic>
      <p:sp>
        <p:nvSpPr>
          <p:cNvPr id="1877" name="Text Box 10"/>
          <p:cNvSpPr/>
          <p:nvPr/>
        </p:nvSpPr>
        <p:spPr>
          <a:xfrm>
            <a:off x="611280" y="2000160"/>
            <a:ext cx="6697440" cy="26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рок 16, стр. 69-7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сьменно ответить на вопрос «Каждый ли человек может обладать активной правозащитной позицией?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Місце для нижнього колонтитула 1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685440" y="404640"/>
            <a:ext cx="8062920" cy="325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8d3e"/>
                </a:solidFill>
                <a:latin typeface="Verdana"/>
              </a:rPr>
              <a:t>Тема урока:</a:t>
            </a:r>
            <a:br>
              <a:rPr sz="8800"/>
            </a:br>
            <a:br>
              <a:rPr sz="5400"/>
            </a:br>
            <a:endParaRPr b="1" lang="en-US" sz="8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subTitle"/>
          </p:nvPr>
        </p:nvSpPr>
        <p:spPr>
          <a:xfrm>
            <a:off x="0" y="2071440"/>
            <a:ext cx="9252000" cy="12589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9766f"/>
                </a:solidFill>
                <a:latin typeface="Verdana"/>
              </a:rPr>
              <a:t>«ПРАВОВАЯ КУЛЬТУРА»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6" name="Picture 8" descr="yrist"/>
          <p:cNvPicPr/>
          <p:nvPr/>
        </p:nvPicPr>
        <p:blipFill>
          <a:blip r:embed="rId1"/>
          <a:stretch/>
        </p:blipFill>
        <p:spPr>
          <a:xfrm>
            <a:off x="3419640" y="3645000"/>
            <a:ext cx="2447640" cy="2846160"/>
          </a:xfrm>
          <a:prstGeom prst="rect">
            <a:avLst/>
          </a:prstGeom>
          <a:ln w="0">
            <a:noFill/>
          </a:ln>
        </p:spPr>
      </p:pic>
      <p:sp>
        <p:nvSpPr>
          <p:cNvPr id="1807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Rectangle 4"/>
          <p:cNvSpPr/>
          <p:nvPr/>
        </p:nvSpPr>
        <p:spPr>
          <a:xfrm>
            <a:off x="140760" y="1478520"/>
            <a:ext cx="8419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Весь мир театр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А люди в нем – актер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И каждый там свою играет рол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                     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Шекспи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Text Box 7"/>
          <p:cNvSpPr/>
          <p:nvPr/>
        </p:nvSpPr>
        <p:spPr>
          <a:xfrm>
            <a:off x="785880" y="836640"/>
            <a:ext cx="55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пиграф урок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2f2f2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548316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8d3e"/>
                </a:solidFill>
                <a:latin typeface="Verdana"/>
              </a:rPr>
              <a:t>   </a:t>
            </a:r>
            <a:r>
              <a:rPr b="1" lang="ru-RU" sz="4800" spc="-1" strike="noStrike">
                <a:solidFill>
                  <a:srgbClr val="ff00ff"/>
                </a:solidFill>
                <a:latin typeface="Verdana"/>
              </a:rPr>
              <a:t>ЦЕЛИ УРОКА: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12" name=""/>
          <p:cNvSpPr txBox="1"/>
          <p:nvPr/>
        </p:nvSpPr>
        <p:spPr>
          <a:xfrm>
            <a:off x="428400" y="178596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Знакомство с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основами правовой 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культуры.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Воспитание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уважительного 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отношения к праву.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3" name="Picture 9" descr="i?id=65643925&amp;tov=5"/>
          <p:cNvPicPr/>
          <p:nvPr/>
        </p:nvPicPr>
        <p:blipFill>
          <a:blip r:embed="rId1"/>
          <a:stretch/>
        </p:blipFill>
        <p:spPr>
          <a:xfrm>
            <a:off x="6643800" y="500040"/>
            <a:ext cx="1979640" cy="1692360"/>
          </a:xfrm>
          <a:prstGeom prst="rect">
            <a:avLst/>
          </a:prstGeom>
          <a:ln w="0">
            <a:noFill/>
          </a:ln>
        </p:spPr>
      </p:pic>
      <p:grpSp>
        <p:nvGrpSpPr>
          <p:cNvPr id="1814" name="Group 10"/>
          <p:cNvGrpSpPr/>
          <p:nvPr/>
        </p:nvGrpSpPr>
        <p:grpSpPr>
          <a:xfrm>
            <a:off x="6429240" y="4429080"/>
            <a:ext cx="2160360" cy="1744200"/>
            <a:chOff x="6429240" y="4429080"/>
            <a:chExt cx="2160360" cy="1744200"/>
          </a:xfrm>
        </p:grpSpPr>
        <p:pic>
          <p:nvPicPr>
            <p:cNvPr id="1815" name="Picture 11" descr="j0286939"/>
            <p:cNvPicPr/>
            <p:nvPr/>
          </p:nvPicPr>
          <p:blipFill>
            <a:blip r:embed="rId2"/>
            <a:stretch/>
          </p:blipFill>
          <p:spPr>
            <a:xfrm>
              <a:off x="7120800" y="4429080"/>
              <a:ext cx="1468800" cy="134280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1816" name="Text Box 12"/>
            <p:cNvSpPr/>
            <p:nvPr/>
          </p:nvSpPr>
          <p:spPr>
            <a:xfrm>
              <a:off x="6429240" y="5717160"/>
              <a:ext cx="18468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7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ru-RU" sz="4400" spc="-1" strike="noStrike">
                <a:solidFill>
                  <a:srgbClr val="66ff33"/>
                </a:solidFill>
                <a:latin typeface="Tahoma"/>
              </a:rPr>
              <a:t>ПЛАН УРО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то такое  культур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авовая культур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авосознани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олитическая культур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0" name="Рисунок 3" descr="boy.gif"/>
          <p:cNvPicPr/>
          <p:nvPr/>
        </p:nvPicPr>
        <p:blipFill>
          <a:blip r:embed="rId1"/>
          <a:stretch/>
        </p:blipFill>
        <p:spPr>
          <a:xfrm>
            <a:off x="2340000" y="4365720"/>
            <a:ext cx="4465440" cy="2378160"/>
          </a:xfrm>
          <a:prstGeom prst="rect">
            <a:avLst/>
          </a:prstGeom>
          <a:ln w="0">
            <a:noFill/>
          </a:ln>
        </p:spPr>
      </p:pic>
      <p:sp>
        <p:nvSpPr>
          <p:cNvPr id="18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2" name="Rectangl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907920"/>
          </a:xfrm>
          <a:prstGeom prst="rect">
            <a:avLst/>
          </a:prstGeom>
          <a:ln w="0">
            <a:noFill/>
          </a:ln>
        </p:spPr>
      </p:pic>
      <p:sp>
        <p:nvSpPr>
          <p:cNvPr id="1823" name="Oval 4"/>
          <p:cNvSpPr/>
          <p:nvPr/>
        </p:nvSpPr>
        <p:spPr>
          <a:xfrm>
            <a:off x="2556000" y="2205000"/>
            <a:ext cx="3673440" cy="20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Культу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Line 6"/>
          <p:cNvSpPr/>
          <p:nvPr/>
        </p:nvSpPr>
        <p:spPr>
          <a:xfrm flipV="1">
            <a:off x="4427640" y="1125000"/>
            <a:ext cx="0" cy="1008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Line 7"/>
          <p:cNvSpPr/>
          <p:nvPr/>
        </p:nvSpPr>
        <p:spPr>
          <a:xfrm flipV="1">
            <a:off x="5580000" y="1557360"/>
            <a:ext cx="1081080" cy="936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Line 8"/>
          <p:cNvSpPr/>
          <p:nvPr/>
        </p:nvSpPr>
        <p:spPr>
          <a:xfrm flipV="1">
            <a:off x="6227640" y="3284280"/>
            <a:ext cx="1800360" cy="73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Line 9"/>
          <p:cNvSpPr/>
          <p:nvPr/>
        </p:nvSpPr>
        <p:spPr>
          <a:xfrm>
            <a:off x="5580000" y="4005360"/>
            <a:ext cx="936720" cy="1224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Line 10"/>
          <p:cNvSpPr/>
          <p:nvPr/>
        </p:nvSpPr>
        <p:spPr>
          <a:xfrm>
            <a:off x="4500720" y="4292640"/>
            <a:ext cx="0" cy="1224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Line 11"/>
          <p:cNvSpPr/>
          <p:nvPr/>
        </p:nvSpPr>
        <p:spPr>
          <a:xfrm flipH="1">
            <a:off x="2050920" y="4149720"/>
            <a:ext cx="1440000" cy="1081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Line 12"/>
          <p:cNvSpPr/>
          <p:nvPr/>
        </p:nvSpPr>
        <p:spPr>
          <a:xfrm flipH="1" flipV="1">
            <a:off x="900000" y="3141720"/>
            <a:ext cx="1657440" cy="71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Line 13"/>
          <p:cNvSpPr/>
          <p:nvPr/>
        </p:nvSpPr>
        <p:spPr>
          <a:xfrm flipH="1" flipV="1">
            <a:off x="2195280" y="1413000"/>
            <a:ext cx="936360" cy="1008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2" name="Picture 9" descr="C:\Мои документы\Учителя\Смирнова\рисунки\37.jpg"/>
          <p:cNvPicPr/>
          <p:nvPr/>
        </p:nvPicPr>
        <p:blipFill>
          <a:blip r:embed="rId2"/>
          <a:stretch/>
        </p:blipFill>
        <p:spPr>
          <a:xfrm>
            <a:off x="6851520" y="5500800"/>
            <a:ext cx="2292480" cy="1357200"/>
          </a:xfrm>
          <a:prstGeom prst="rect">
            <a:avLst/>
          </a:prstGeom>
          <a:ln w="0">
            <a:noFill/>
          </a:ln>
        </p:spPr>
      </p:pic>
      <p:pic>
        <p:nvPicPr>
          <p:cNvPr id="1833" name="Picture 16" descr="i?id=82752023&amp;tov=8"/>
          <p:cNvPicPr/>
          <p:nvPr/>
        </p:nvPicPr>
        <p:blipFill>
          <a:blip r:embed="rId3"/>
          <a:srcRect l="18920" t="12935" r="17464" b="0"/>
          <a:stretch/>
        </p:blipFill>
        <p:spPr>
          <a:xfrm>
            <a:off x="0" y="0"/>
            <a:ext cx="1643040" cy="2151000"/>
          </a:xfrm>
          <a:prstGeom prst="rect">
            <a:avLst/>
          </a:prstGeom>
          <a:ln w="0">
            <a:noFill/>
          </a:ln>
        </p:spPr>
      </p:pic>
      <p:pic>
        <p:nvPicPr>
          <p:cNvPr id="1834" name="Picture 18" descr="museum10_"/>
          <p:cNvPicPr/>
          <p:nvPr/>
        </p:nvPicPr>
        <p:blipFill>
          <a:blip r:embed="rId4"/>
          <a:stretch/>
        </p:blipFill>
        <p:spPr>
          <a:xfrm>
            <a:off x="7358040" y="214200"/>
            <a:ext cx="1785960" cy="1957680"/>
          </a:xfrm>
          <a:prstGeom prst="rect">
            <a:avLst/>
          </a:prstGeom>
          <a:ln w="0">
            <a:noFill/>
          </a:ln>
        </p:spPr>
      </p:pic>
      <p:pic>
        <p:nvPicPr>
          <p:cNvPr id="1835" name="Picture 19" descr="Сватовство Майора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0" y="5072040"/>
            <a:ext cx="2000160" cy="1785960"/>
          </a:xfrm>
          <a:prstGeom prst="rect">
            <a:avLst/>
          </a:prstGeom>
          <a:ln w="0">
            <a:noFill/>
          </a:ln>
        </p:spPr>
      </p:pic>
      <p:sp>
        <p:nvSpPr>
          <p:cNvPr id="1836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"/>
          <p:cNvSpPr txBox="1"/>
          <p:nvPr/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Century Gothic"/>
              </a:rPr>
              <a:t>  </a:t>
            </a:r>
            <a:r>
              <a:rPr b="1" lang="ru-RU" sz="4000" spc="-1" strike="noStrike">
                <a:solidFill>
                  <a:srgbClr val="ff00ff"/>
                </a:solidFill>
                <a:latin typeface="Century Gothic"/>
              </a:rPr>
              <a:t>Культура (в переводе с латинского языка – возделывание) - это все, что создано человеком и отлично от природы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838" name="Picture 6" descr="C:\Мои документы\Учителя\Смирнова\рисунки\28.jpg"/>
          <p:cNvPicPr/>
          <p:nvPr/>
        </p:nvPicPr>
        <p:blipFill>
          <a:blip r:embed="rId1"/>
          <a:stretch/>
        </p:blipFill>
        <p:spPr>
          <a:xfrm>
            <a:off x="3635280" y="5376960"/>
            <a:ext cx="1181160" cy="1481040"/>
          </a:xfrm>
          <a:prstGeom prst="rect">
            <a:avLst/>
          </a:prstGeom>
          <a:ln w="0">
            <a:noFill/>
          </a:ln>
        </p:spPr>
      </p:pic>
      <p:pic>
        <p:nvPicPr>
          <p:cNvPr id="1839" name="Picture 6" descr="i?id=3681989&amp;tov=7"/>
          <p:cNvPicPr/>
          <p:nvPr/>
        </p:nvPicPr>
        <p:blipFill>
          <a:blip r:embed="rId2"/>
          <a:srcRect l="0" t="0" r="4828" b="11535"/>
          <a:stretch/>
        </p:blipFill>
        <p:spPr>
          <a:xfrm>
            <a:off x="6804000" y="5272200"/>
            <a:ext cx="2340000" cy="1585800"/>
          </a:xfrm>
          <a:prstGeom prst="rect">
            <a:avLst/>
          </a:prstGeom>
          <a:ln w="0">
            <a:noFill/>
          </a:ln>
        </p:spPr>
      </p:pic>
      <p:pic>
        <p:nvPicPr>
          <p:cNvPr id="1840" name="Picture 7" descr="Moscow_Bolshoi_Theatre"/>
          <p:cNvPicPr/>
          <p:nvPr/>
        </p:nvPicPr>
        <p:blipFill>
          <a:blip r:embed="rId3"/>
          <a:stretch/>
        </p:blipFill>
        <p:spPr>
          <a:xfrm>
            <a:off x="6407280" y="115920"/>
            <a:ext cx="2736720" cy="1814400"/>
          </a:xfrm>
          <a:prstGeom prst="rect">
            <a:avLst/>
          </a:prstGeom>
          <a:ln w="0">
            <a:noFill/>
          </a:ln>
        </p:spPr>
      </p:pic>
      <p:pic>
        <p:nvPicPr>
          <p:cNvPr id="1841" name="Picture 8" descr="448px-Russia-Moscow-Cathedral_of_Christ_the_Saviour-3"/>
          <p:cNvPicPr/>
          <p:nvPr/>
        </p:nvPicPr>
        <p:blipFill>
          <a:blip r:embed="rId4"/>
          <a:srcRect l="0" t="14798" r="0" b="0"/>
          <a:stretch/>
        </p:blipFill>
        <p:spPr>
          <a:xfrm>
            <a:off x="0" y="0"/>
            <a:ext cx="1889280" cy="2060640"/>
          </a:xfrm>
          <a:prstGeom prst="rect">
            <a:avLst/>
          </a:prstGeom>
          <a:ln w="0">
            <a:noFill/>
          </a:ln>
        </p:spPr>
      </p:pic>
      <p:pic>
        <p:nvPicPr>
          <p:cNvPr id="1842" name="Рисунок 5" descr="1.jpg"/>
          <p:cNvPicPr/>
          <p:nvPr/>
        </p:nvPicPr>
        <p:blipFill>
          <a:blip r:embed="rId5"/>
          <a:stretch/>
        </p:blipFill>
        <p:spPr>
          <a:xfrm>
            <a:off x="0" y="5157720"/>
            <a:ext cx="1366920" cy="1700280"/>
          </a:xfrm>
          <a:prstGeom prst="rect">
            <a:avLst/>
          </a:prstGeom>
          <a:ln w="0">
            <a:noFill/>
          </a:ln>
        </p:spPr>
      </p:pic>
      <p:sp>
        <p:nvSpPr>
          <p:cNvPr id="1843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1547280" y="291960"/>
            <a:ext cx="71391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равовая культура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45" name=""/>
          <p:cNvGraphicFramePr/>
          <p:nvPr/>
        </p:nvGraphicFramePr>
        <p:xfrm>
          <a:off x="1619280" y="3141720"/>
          <a:ext cx="6048360" cy="3487680"/>
        </p:xfrm>
        <a:graphic>
          <a:graphicData uri="http://schemas.openxmlformats.org/drawingml/2006/table">
            <a:tbl>
              <a:tblPr/>
              <a:tblGrid>
                <a:gridCol w="6048360"/>
              </a:tblGrid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аконопослушное повед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Уважение к закона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нание закон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6" name="AutoShape 23"/>
          <p:cNvSpPr/>
          <p:nvPr/>
        </p:nvSpPr>
        <p:spPr>
          <a:xfrm>
            <a:off x="611280" y="1773360"/>
            <a:ext cx="7993080" cy="14396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Text Box 26"/>
          <p:cNvSpPr/>
          <p:nvPr/>
        </p:nvSpPr>
        <p:spPr>
          <a:xfrm>
            <a:off x="3780000" y="1989000"/>
            <a:ext cx="143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1" lang="ru-RU" sz="6600" spc="-1" strike="noStrike">
                <a:solidFill>
                  <a:srgbClr val="ff3300"/>
                </a:solidFill>
                <a:latin typeface="Tahoma"/>
              </a:rPr>
              <a:t>?</a:t>
            </a:r>
            <a:r>
              <a:rPr b="0" lang="ru-RU" sz="60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4400" spc="-1" strike="noStrike">
                <a:solidFill>
                  <a:srgbClr val="ff0066"/>
                </a:solidFill>
                <a:latin typeface="Tahoma"/>
              </a:rPr>
              <a:t>Правовая культура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0" name=""/>
          <p:cNvGraphicFramePr/>
          <p:nvPr/>
        </p:nvGraphicFramePr>
        <p:xfrm>
          <a:off x="1619280" y="3141720"/>
          <a:ext cx="6048360" cy="3487680"/>
        </p:xfrm>
        <a:graphic>
          <a:graphicData uri="http://schemas.openxmlformats.org/drawingml/2006/table">
            <a:tbl>
              <a:tblPr/>
              <a:tblGrid>
                <a:gridCol w="6048360"/>
              </a:tblGrid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аконопослушное повед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cc"/>
                    </a:solidFill>
                  </a:tcPr>
                </a:tc>
              </a:tr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Уважение к закона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cc"/>
                    </a:solidFill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нание закон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00cc"/>
                    </a:solidFill>
                  </a:tcPr>
                </a:tc>
              </a:tr>
            </a:tbl>
          </a:graphicData>
        </a:graphic>
      </p:graphicFrame>
      <p:sp>
        <p:nvSpPr>
          <p:cNvPr id="1851" name="AutoShape 13"/>
          <p:cNvSpPr/>
          <p:nvPr/>
        </p:nvSpPr>
        <p:spPr>
          <a:xfrm>
            <a:off x="611280" y="1773360"/>
            <a:ext cx="7993080" cy="143964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Text Box 14"/>
          <p:cNvSpPr/>
          <p:nvPr/>
        </p:nvSpPr>
        <p:spPr>
          <a:xfrm>
            <a:off x="2484360" y="1844640"/>
            <a:ext cx="49672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Активность правозащитной позиции</a:t>
            </a:r>
            <a:r>
              <a:rPr b="0" lang="ru-RU" sz="12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13:59:18Z</dcterms:created>
  <dc:creator>HomeComp</dc:creator>
  <dc:description/>
  <dc:language>en-US</dc:language>
  <cp:lastModifiedBy>LEGION</cp:lastModifiedBy>
  <dcterms:modified xsi:type="dcterms:W3CDTF">2016-01-04T08:09:09Z</dcterms:modified>
  <cp:revision>31</cp:revision>
  <dc:subject/>
  <dc:title>УРОК ОБЩЕСТВОЗНАНИЯ 6 класс</dc:title>
</cp:coreProperties>
</file>