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6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39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9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9.jpeg" ContentType="image/jpeg"/>
  <Override PartName="/ppt/media/image28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1.png" ContentType="image/png"/>
  <Override PartName="/ppt/media/image19.jpeg" ContentType="image/jpeg"/>
  <Override PartName="/ppt/media/image18.jpeg" ContentType="image/jpeg"/>
  <Override PartName="/ppt/media/image17.jpeg" ContentType="image/jpeg"/>
  <Override PartName="/ppt/media/image5.jpeg" ContentType="image/jpeg"/>
  <Override PartName="/ppt/media/image32.jpeg" ContentType="image/jpeg"/>
  <Override PartName="/ppt/media/image20.wmf" ContentType="image/x-wmf"/>
  <Override PartName="/ppt/media/image26.jpeg" ContentType="image/jpeg"/>
  <Override PartName="/ppt/media/image6.png" ContentType="image/png"/>
  <Override PartName="/ppt/media/image30.jpeg" ContentType="image/jpeg"/>
  <Override PartName="/ppt/media/image35.wmf" ContentType="image/x-wmf"/>
  <Override PartName="/ppt/media/image31.jpeg" ContentType="image/jpeg"/>
  <Override PartName="/ppt/media/image2.png" ContentType="image/png"/>
  <Override PartName="/ppt/media/image25.jpeg" ContentType="image/jpeg"/>
  <Override PartName="/ppt/media/image11.jpeg" ContentType="image/jpeg"/>
  <Override PartName="/ppt/media/image9.png" ContentType="image/png"/>
  <Override PartName="/ppt/media/image33.jpeg" ContentType="image/jpeg"/>
  <Override PartName="/ppt/media/image27.jpeg" ContentType="image/jpeg"/>
  <Override PartName="/ppt/media/image7.png" ContentType="image/png"/>
  <Override PartName="/ppt/media/image10.png" ContentType="image/png"/>
  <Override PartName="/ppt/media/image1.jpeg" ContentType="image/jpeg"/>
  <Override PartName="/ppt/media/image38.png" ContentType="image/png"/>
  <Override PartName="/ppt/media/image39.jpeg" ContentType="image/jpeg"/>
  <Override PartName="/ppt/media/image8.png" ContentType="image/png"/>
  <Override PartName="/ppt/media/image36.wmf" ContentType="image/x-wmf"/>
  <Override PartName="/ppt/media/image16.png" ContentType="image/png"/>
  <Override PartName="/ppt/media/image13.jpeg" ContentType="image/jpeg"/>
  <Override PartName="/ppt/media/image34.png" ContentType="image/png"/>
  <Override PartName="/ppt/media/image4.png" ContentType="image/png"/>
  <Override PartName="/ppt/media/image3.jpeg" ContentType="image/jpeg"/>
  <Override PartName="/ppt/media/image37.jpeg" ContentType="image/jpeg"/>
  <Override PartName="/ppt/media/image14.png" ContentType="image/png"/>
  <Override PartName="/ppt/media/image15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</p:sldMasterIdLst>
  <p:notesMasterIdLst>
    <p:notesMasterId r:id="rId41"/>
  </p:notesMasterIdLst>
  <p:sldIdLst>
    <p:sldId id="256" r:id="rId42"/>
    <p:sldId id="257" r:id="rId43"/>
    <p:sldId id="258" r:id="rId44"/>
    <p:sldId id="259" r:id="rId45"/>
    <p:sldId id="260" r:id="rId46"/>
    <p:sldId id="261" r:id="rId47"/>
    <p:sldId id="262" r:id="rId48"/>
    <p:sldId id="263" r:id="rId49"/>
    <p:sldId id="264" r:id="rId50"/>
    <p:sldId id="265" r:id="rId51"/>
    <p:sldId id="266" r:id="rId52"/>
    <p:sldId id="267" r:id="rId53"/>
    <p:sldId id="268" r:id="rId54"/>
    <p:sldId id="269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notesMaster" Target="notesMasters/notesMaster1.xml"/><Relationship Id="rId42" Type="http://schemas.openxmlformats.org/officeDocument/2006/relationships/slide" Target="slides/slide1.xml"/><Relationship Id="rId43" Type="http://schemas.openxmlformats.org/officeDocument/2006/relationships/slide" Target="slides/slide2.xml"/><Relationship Id="rId44" Type="http://schemas.openxmlformats.org/officeDocument/2006/relationships/slide" Target="slides/slide3.xml"/><Relationship Id="rId45" Type="http://schemas.openxmlformats.org/officeDocument/2006/relationships/slide" Target="slides/slide4.xml"/><Relationship Id="rId46" Type="http://schemas.openxmlformats.org/officeDocument/2006/relationships/slide" Target="slides/slide5.xml"/><Relationship Id="rId47" Type="http://schemas.openxmlformats.org/officeDocument/2006/relationships/slide" Target="slides/slide6.xml"/><Relationship Id="rId48" Type="http://schemas.openxmlformats.org/officeDocument/2006/relationships/slide" Target="slides/slide7.xml"/><Relationship Id="rId49" Type="http://schemas.openxmlformats.org/officeDocument/2006/relationships/slide" Target="slides/slide8.xml"/><Relationship Id="rId50" Type="http://schemas.openxmlformats.org/officeDocument/2006/relationships/slide" Target="slides/slide9.xml"/><Relationship Id="rId51" Type="http://schemas.openxmlformats.org/officeDocument/2006/relationships/slide" Target="slides/slide10.xml"/><Relationship Id="rId52" Type="http://schemas.openxmlformats.org/officeDocument/2006/relationships/slide" Target="slides/slide11.xml"/><Relationship Id="rId53" Type="http://schemas.openxmlformats.org/officeDocument/2006/relationships/slide" Target="slides/slide12.xml"/><Relationship Id="rId54" Type="http://schemas.openxmlformats.org/officeDocument/2006/relationships/slide" Target="slides/slide13.xml"/><Relationship Id="rId55" Type="http://schemas.openxmlformats.org/officeDocument/2006/relationships/slide" Target="slides/slide14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 type="dt" idx="11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 type="ftr" idx="11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PlaceHolder 6"/>
          <p:cNvSpPr>
            <a:spLocks noGrp="1"/>
          </p:cNvSpPr>
          <p:nvPr>
            <p:ph type="sldNum" idx="12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B5282-3BFD-40CB-BCD1-74DF1CDF2CF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ОБЩЕСТВОЗНАНИЯ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К ОБЩЕСТВОЗНАНИЯ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 клас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под правовой культуры –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правовой ниги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кон что дышло, куда повернешь, туда и вышл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Где закон, там и обид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Что мне законы, коли судьи знакомы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акон топтать нельзя, а вокруг ходить можн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типод правовой культуры –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правовой нигил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Закон что дышло, куда повернешь, туда и вышло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Где закон, там и обида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Что мне законы, коли судьи знакомы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Закон топтать нельзя, а вокруг ходить можно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 – важнейший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элемент правовой культур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широком смыс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ний, иде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еждений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увст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зк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ысл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беждение в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обходим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обще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чи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ы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м дл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а обще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сознание – важнейший  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элемент правовой культуры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широком смысл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дин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ы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наний, идей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беждений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увств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ношен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узко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мысл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беждение в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еобходимост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обще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чинени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ым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ам для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ага обществ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ая 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ведомленность в вопросах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сть в политической обла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жительное отношение к политике как роду человеческой деятель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итическая культу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ведомленность в вопросах полит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тивность в политической обла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ожительное отношение к политике как роду человеческой деятельност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ите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лагательное                    Прилагатель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гол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Глагол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Глаго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раз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ительно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ыв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ьте синквейн со словом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осознани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итель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лагательное                    Прилагательно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агол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Глагол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Глаго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раз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ительное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вывод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ставьте синквейн со словом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равосознание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16, стр. 69-7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исьменно ответить на вопрос «Каждый ли человек может обладать активной правозащитной позицией?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к 16, стр. 69-7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исьменно ответить на вопрос «Каждый ли человек может обладать активной правозащитной позицией?»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урока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ПРАВОВАЯ КУЛЬТУР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ма урока: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РАВОВАЯ КУЛЬТУРА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сь мир театр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 люди в нем – акт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аждый там свою играет рол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експи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пиграф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есь мир театр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 люди в нем – актер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 каждый там свою играет роль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експир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пиграф уро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ство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ми право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важитель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шения к пра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ЛИ УРОКА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накомство 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ами правово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льтур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спит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важительного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ношения к прав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 УРО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 культура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созна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ческая культу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 УРО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такое  культура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ая культу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сознани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итическая культу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уль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льтур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льтура (в переводе с латинского языка – возделывание) - это все, что создано человеком и отлично от прир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ультура (в переводе с латинского языка – возделывание) - это все, что создано человеком и отлично от природ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авовая культура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ая культура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вая культура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ость правозащитной пози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авовая культура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тивность правозащитной позиции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8B67-1178-4C51-928F-529D7A8EF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B557-DCD2-4FA6-8F3D-55BB9238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A68DA7-4D29-4C21-8FA6-47F91CEE2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DEB010-FB2F-49E3-8854-C47C6306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4DDA09-521D-4CB1-A5A3-71A37FA64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F17679-1879-4541-9CE4-12DA18740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7FFA9D-E03A-436E-B094-4A8D14DDD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9A0624-14CB-4863-900C-DCBA012E3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65E984-A498-41A3-A3F8-2A81F6D2F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5BFF1-0DEB-43FD-B4A3-3F18E0142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A65B138-690A-47B9-8FDC-04C0B6560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0A2E59-1DC5-435A-9433-52B5C2947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60E9D-954C-4145-AD51-90178628A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CD5A79C-16A0-4CB3-B642-A3AFEFC98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C7A247-2827-4113-A7CB-578100AB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130A0A9-B9A3-4A54-B315-CB09339C2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057760-0281-4694-9F9C-32CB926C9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84BB627-591C-48CA-A63F-B4AFF8AD1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ACA66D2-E419-4344-8D75-F8B1B07B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A0B6C2A-F786-4155-ABB3-6FCF90DCD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2505DE-B408-4110-A81D-26A76908F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C1FBF78-449B-40AF-A19C-56728B74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C91336-EC54-4094-855F-C6FED452D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D469-F21F-4AF6-B209-EC20C4483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EFCB33D-2702-4FEB-AAE3-9EC61022DB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8D2B5E-7B6A-4CFF-B74B-6DA0F306E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9FB796-348B-499C-8D2A-7368C2F03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11564-20A3-4047-BA59-AE957416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054A6E-D31A-4D71-830E-F0780D5A9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911DE2-C915-491A-B861-C639A223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0737BC-A193-4FA8-BAC7-EDCD7135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112F88-ECAD-4A30-BBFA-FCDA8EAB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75BFF2-D3E9-4502-AD9D-FB21D8407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E70F33-4BCA-4A5F-BEAF-92076E98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673B6-87ED-4E68-B6B7-80A2BA2F6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D8B3B8-7BCF-44DC-ACB8-A9DB235A4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8561DC-C2DF-49EB-BD77-86C241FF6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F62DCA-FAEA-4436-9BF7-25B7626EE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F68917-3EE5-4066-9416-F1D9189BC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A4F8E-2D0C-46BD-ABDB-67B791036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1F12B2-E3AB-48B7-8142-A45A6116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D7F3F0E-77ED-47C7-A7B2-D2E57EA02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E4B3DD-9049-4B71-A7CA-70FE15460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97A51AB-753C-4439-B42D-FE6E49D3D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A8C371-2F62-4126-B8B5-926332752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88E5A-B282-4700-8D11-0195BAFDD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43CD37-ECBB-4219-9B78-54AFF0294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95EF97-84FB-4C5F-AC37-F40003F65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2A09E-8EEF-436C-85EF-E551A1DB0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6DF5C0-287F-47A1-B0DE-240DEB88B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47C386-C0F6-4DE3-85C3-110EA535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6A7E6D-B2A9-4452-BED1-78DEC53DC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214913-5AC9-4DF1-8D9A-190FBDF0E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AB765A-9D74-46A5-9A9D-96BB5A64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50A6705-FF5D-4CF0-9E88-C499F6455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566EAE-9DDA-4BAF-A03E-9D809B4E8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F32ED-6D09-4882-8625-11C051B86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A494C0-63B0-476B-B574-72A6E4B9A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D212459-8648-47B3-A939-1BD8DF05C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C4F09B-A734-43AC-B7AA-26073638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543377-F400-4A30-8B11-1888EE7E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D5F133-9913-4125-B056-614EF8FE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5886FC-904F-4F20-94FB-E500D0C924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E8CF38-A557-4EA3-9377-BCEDBE206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9F8CB2-7B86-4B9A-8069-7AB0FAE7D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EA9A26-2645-4D07-9DC0-E2975A05F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1B9443-E57D-4E0E-8DB1-DA3221DC0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AABF8-B833-45A1-9381-728695678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C81C76-F67D-495C-A39E-1B13BD82A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7A451A-F0B0-414D-BCA4-D183CD582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D12CFC-3EE3-4F39-8D6C-C278BB929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E0A0C6-2B25-4FED-936D-E3C5AF00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C05561-E24B-49A9-8A74-FA189DBD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AA6FD0-B9CB-45D0-B442-BF79ECF3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809FDBB-B6AF-419B-B071-A803C7C2A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4E2FDB-93D6-46F3-BA2B-EAEC8F8C1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D19F9F-48FC-414F-A5F6-8D1CBFDEB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12D364E-7249-48B6-98F6-DC241D314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72AC-3F48-4994-888A-B1BE61F3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9AA9A7-03AF-4DD0-94F8-E1BCB1F0C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90D0E2-9AC0-45E7-BBD3-8BA28D01F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76A9F8C-AF67-473B-ABA2-742B30E20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3D6C55B-8B5B-425C-A3D0-54077F3D5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36CDADA-8E78-4B40-BAD5-C97FE3FAD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B69369-CC1E-4B8A-8407-6D3D751C5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227F4F-E1E8-42EC-8645-C2EC862EC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6702F10-C40B-4812-88D2-3F97CEEA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3B2488F-CCFA-4E2F-A24B-8DA6722A0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A414C6-0751-448F-8BD7-B79C3E6EA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191C8-67E0-4943-8BA7-B95F7602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03CD7D-7D89-47BE-AD54-A748E9181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674586A-1ABE-4A3B-9707-E60AA902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35B249A-54F2-4CEF-92B1-053C5570F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0E3290D-5B06-47CF-9800-156B80363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448EEBC-AD5F-4332-9B13-87A0C8DE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1D5E9F-797B-4FFD-8FD4-517A64C704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0602D6-4FE9-4DCF-AAA6-5ABE32C4C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4E228A2-6C02-4F30-A7EA-C162175B0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22189EB-285A-4265-9510-C45C06BAE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D2B54E-48B3-41B5-8AD9-4B0FF7D52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21FBB-A3EF-45BB-8C3C-3A382280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1538C4-E90F-4DF5-BE8B-9EF0D909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819867-299D-406B-A974-8913EA2D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A88CBFC-C551-440D-83FB-969FC1F4B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47171F2-49A1-4DCD-B85A-EE6731D5E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381A17-9FC0-4C65-A1CB-4F77BA22B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5C0B08-DE81-499F-806F-0DA746BD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157D0C-5906-416A-B9DB-F7D1F4896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835808-1592-4FC3-8C55-0AFCA6CDA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9A9112C-E3E1-4A80-8B33-0F0B6682F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6B5F31-BB10-4B28-AD23-4F36809A2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FCDA2-429B-409E-8214-125EC52C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8BEF8-A5B2-469C-8E10-F118E7C88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E68F2C-8768-4921-8FE5-77494A20C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751CCA3-045E-462B-A69C-DD171355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6C3F5F8-0857-499A-93A9-3B8B5412E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882130-7A44-43CD-8356-B2676051B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20D873B-E3FD-4BDF-BF54-DF8930E4B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66A3E6-195E-481D-AA52-06C91D0E0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68D25C-29F6-4107-A311-948F56B75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1BF268B-18AF-4371-AE73-666F49936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9B0A2F2-0601-4138-BD70-84E78DF25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1F1552-55B7-4BFE-976F-1B161B3DB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618AE-93B5-406B-9593-1B223452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1F78273-836A-4D1B-ACE4-AFC53BAC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6CE21A3-7869-4C24-84A8-0E0D43A2D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14D737E-BD7F-4F90-BBC8-E706C926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3AE66C1-9556-4A46-A1FB-55347F450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8FE89C-95C0-4AAC-AFFA-5E2A8FAE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3B83BC-3991-44D7-A03C-F22C2EB7F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6EFB0A-33DC-4575-857C-1D95735FB7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87E4B8-8918-451A-BFE2-77BEE9381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ED2E634-25BF-4112-B80C-D3BA70E95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F40A7D-D2D0-41F4-81EE-38D356AD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FB559-A43D-4ADA-B943-2C2D71875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4A988F7-67BC-49CC-8C58-0CAE49671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73FA5C-93ED-440E-A392-E8FDF0F2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ACA3D63-050E-4748-B6AB-E6E88DAFC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A4B979-2F71-4723-B232-6D3973569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C67AC7-4476-49B7-97FD-B83E3F19A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E55A8E-CFE9-4AAB-B0EE-6D4145CEA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3DF3AB-3A34-4013-BB7B-5A618EC3B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5146672-611F-439C-ADE2-4F9E33FC2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47623A-82BC-4B80-B5C2-13EF0457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897C7F6-28F7-48E0-B8F2-8A237EAAD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076F-ADED-455A-813E-172629577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D1F1750-0887-4265-8171-FD9529843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568219-1537-41A6-BCD0-78759E6BC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EF9F3B-62E4-4202-9961-A800F5A91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15E8EB-22E7-406F-92F7-9DC3479C4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FE3D505-BAAA-4EFB-8E6D-61A73668C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AFBBF42-1C72-438F-B0AE-AE1DE4CF3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A378C6-C8EF-4344-93EC-5A82D737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B168E7-9FAB-44DC-8C62-D6DD1A58A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831B43-9A21-4294-990D-EF9BAB27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E124E1-D5AF-4BD2-A4CA-1DC526CE5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C8D03-7DB0-4D55-8235-1FF61435C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7621E04-418B-4CF4-A5F1-D425D4B99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C956E89-F38D-4270-A002-CD4C68F68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D99D84-A752-4098-82EC-17CE2886C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7EEAF01-3F34-4710-A9BB-8869E32C8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797A09-2E6A-48CE-9827-5BAFBA498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9DA8008-6DBE-456B-B35D-F6EEEA54A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2CC33E3-102A-42DE-A740-6241E80BA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79D866-403A-44E5-BD76-581B58CDF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4BEC8B-FFE7-46EA-9F68-FB89EE4C6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F71AD1-AF56-422B-A3E1-FED2BC27B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CFD39-F935-4D02-82BA-9A0E95F43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C6CD4F9-816F-49CD-8EDA-31AA6D68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A50D5A4-8CEE-48F9-8632-8BACA0C4D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9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85D41C-573D-4364-8EEF-8480BB6F6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C0BAF93-9F57-4F42-A566-97C88DA7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CFD3806-1F63-49F3-90D0-E3430828C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3E385E3-2966-4649-AE54-BBA23B234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83D6D7-5B9B-45D3-A49E-FD2D60E8C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550CD4-9148-4A86-BF95-01AB85ADB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8DE2846-96AB-4C89-8FED-97712DF85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FE31C5-B24D-4363-BDB5-EEFEAC15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4EAEF7-A9B5-4646-860B-882F13DB8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244976-9EC5-41C7-8C57-8B81E3C8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7D3ED3-D9CF-442B-8BBE-32F929BC9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65B0F8-A9C9-445F-BEDE-D65D7495C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DD57EE0-62B0-44B7-89C6-11A7DDCE5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4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033F6B5-9F56-4884-8481-F48A8F1D1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4853D3-5D40-40F6-B247-693E6C291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88A340-B3A3-48E5-BB8D-0308801F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B5AAA0-A0FF-434C-A66F-8D2F8A5CA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F4E7A1F-71F2-4459-A0FA-239DBFEE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393EB7-1B86-48D3-BFA6-607745AE7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D6B6E1-BE2D-4977-B9D3-9F283230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E0EB98E-3024-437D-9F91-A77568121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E271E58-5655-4516-88AA-EA6D9D347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1D34020-9EDF-46EB-BE1A-72CDB15A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4C688E8-101A-47BC-87CF-D196F0C0C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8640414-1486-4D02-972D-B63DC826E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CBF5D86-5F27-4B27-833D-067CC485D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8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9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0DFEB27-A27A-42C6-A02A-5E9A27AFF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62F895-3F35-41EF-B3F1-F067FA0B4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3626EB-426F-44BA-AB7B-5E8B60AC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11542A-3A0A-49AA-9DCF-E4F02F2F5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EB48C8-B049-49BC-95C5-AC9769F7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DB882E-3529-4394-8F8B-F053C4E66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59E2A6B-0741-4318-9C70-C827FDA1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89B79F6-B739-4B01-987D-E20BCDAE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B6C7B91-1A40-438A-A3B1-9A1D7A809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AEAB809-C8A9-4C64-AF2E-73A049CD2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0F60AB-C873-4752-89DF-54CAC054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BE6370-75D4-4FB4-A81B-6DDB15847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C562433-D262-466D-823D-B3CC05DAE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3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4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4FAA334-B04C-4232-9E8E-51D1E5674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A78B6C6-718B-4395-B1C7-851563799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B0794-E475-45D0-ACC6-128EAD10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60092E3-BEEC-4B1E-A2C4-C209D79AD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860D1F3-F71C-4BF4-A934-574104659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340E2A2-8CC9-4363-BA8A-E79E7A185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7C430E-541C-4141-B292-4A323E69A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9E3B4A-9E58-4357-A4A1-9EE883E83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C6295A-C4A6-4D10-9BF7-556246359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D269439-4378-44A3-86A6-B2010E4C1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A9790CA-79C5-43F4-BD0C-4A4076363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28FE5D0-1AE8-428F-8253-732ADBF32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7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743425-DE6E-4960-AB71-F644D394F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484BE-9E66-4033-8AEB-107458132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6CD571-9BF4-4F38-AD00-F41DB3239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838728F-C32A-4D1C-ADB3-B1EBABAF9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E65534-A4B6-410E-B2EA-B4BC1B69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6D9B4CA-5230-4FC1-897A-0BF9C2CEB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20AB4C1-8849-43A1-A468-F73A87004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9F29AB-98EF-46A2-8300-7D65F9E31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5F9F2EC-D74C-4D1B-BEC2-C27496262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5183C24-DE32-4066-B102-78BA3B4F9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6138C76-391E-4EBC-BEF2-68521E303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59F7C6E-2703-47BE-A9F3-10961478F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E388A5-2574-4A90-AF79-EB5CF133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1F7BC8-22EB-4E53-A79F-4B4DD5603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B7EB5A2-55D0-443E-8476-634C2A664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3392460-0F37-481C-A76D-0D405C36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2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4B654FF-F9A7-44A3-A89E-8A89F6699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054BEC-8D80-4237-83B2-4F560D7B4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7BCEEB7-3835-4C74-9C7E-D97CCE2C7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F46404A-9D41-4AC5-98DC-D09BE2A72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1CCAF29-BEEE-47F6-BF4F-76FA1719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D0E37BCF-963E-4972-AB2C-8B33BE279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1267450-706E-4177-94BE-BF95BF43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7AA4EA-2F87-47CC-9501-8FC70F4D3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608FD-E6B9-4404-AAFF-33322E861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CBFCF79-E9D9-4A91-A7E6-FE6968C50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AAEC2AF-FE85-4482-ABCA-1D344B9A4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7E9681B-BCBB-48C6-B40D-9DC47D914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BE449E-F1A4-4D2E-AE09-114C4854A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7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7454820-FBAD-4073-B4F6-DB8295434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E5D0B21-C50F-4914-8F85-03560C69E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316921F-B36B-476F-8767-405ADD3EF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BA0690-A7AB-489D-92F0-F5D83AC6A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4D41C76-5F6D-4C2A-B5B1-399DBE1BB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0A997D0-D09D-4B4D-8353-CF406DF85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21E80-741C-48B1-9B85-10E16B5C2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00C0788-2398-455D-BAD0-B30BB1699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4EB8214-3C4E-4949-8F52-EFCE3BEC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E8D09E2-C149-4B86-9D31-5EF2F2F82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92D68BF-7D69-4031-8EA1-EE8D0F974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A81D70A-4441-4EF4-B57B-AE925DEE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59CC658-4FB2-4AC6-ABFD-59424EC0A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1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793C4D6-B018-4464-9B6B-51CB2946A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C75DC4C-C026-40C2-9701-A5F3270CD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B7C6CAB-EEE6-4C8C-83D4-18ECAD442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31BB214-F073-4DC5-9245-47003F872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142F9D-584D-43A4-B8DF-D80899EFE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DF9519B-20DD-46DD-84BA-38ED5383A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99A48CF-3458-4FB9-9539-94682A3E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A2DAB43-1070-4B9A-A245-D10C11FB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6CAAFC2-AAD8-42B4-B121-18B1A08AB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3490D38-0C3B-4CE0-968B-0661F964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AD9D7CC-1A1C-4EC2-99CB-6CD46AD3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0D2CE6-A17D-485F-9EFC-6C3B8EC06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3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28A2662-8454-4BD9-B94A-6E8C9F7A8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59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60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8199515-52A9-4200-951A-8FAB31C68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33D1A87-738C-4928-840B-95C70F7B5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8E348-6812-4952-9A16-CAEE66699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B55ADFE-A0CA-49F4-A2C9-83252B4A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C654B89-3B83-46E6-BB74-DDB703FB0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A466DBD-CFD4-4E2E-B051-B9258191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CA272DB-38F6-42B9-B3AA-31DCCB62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461F953-413E-4377-AA10-0DEBF4B11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E419FEA-2439-44CC-9FD7-3CAF026F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8D899D3-CD28-4A2A-82F6-5174967A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8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CEB6DB4-0AE5-4BF5-B435-96893AB34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F60629E-CA61-48A1-AF01-4F18A55BC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9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6BD724-168A-4ED0-90E3-7E8CBFF81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FC6BC-7879-4F91-82B5-5D54D1E02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0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8F96B52-8F35-49A1-B035-F33C098DB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39DCFD0-217F-4C0D-9C2D-85CC50109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9778F08-70D9-4B63-82DC-A07EEE9F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864A402-CA85-474F-BD5F-F324D9F0D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63C4659-ABBF-4FA2-8E8B-F285D9CF3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BB710D6-9FDE-4A84-A045-9015860AF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D1244CB-6358-4AAA-8C00-B50862985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29644DA-9C8D-459F-8128-45DA379A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AD41772-7156-4B48-AE09-D145A6D29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5FFD872-FEB2-4872-BA01-241732D5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1D76D4-FA99-41FE-95A5-59A35A36A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C027BCC-E0E3-42AA-8B8E-314649E25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841310B-2069-4D21-972B-8D31BE6A3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4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504EDBE-FFE8-44D2-B6D2-2386F8087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61B4C8B-7972-4CF0-B0D5-4C053B19F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5160D56-F533-4223-B35D-FD6FD5C54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7BE6223-D74C-4901-8EFE-487EDC027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0DF54BA-5A13-4C15-86BA-38D2DE68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90F1B10-DE89-47AF-87D9-03E0E3145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A28603B-CA1E-45F8-98F1-F0DCDC43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36ACF5B-3788-471B-B0BA-D901355AC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88CF0-07BE-4595-A0ED-D72654641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5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E111808-611B-44CE-9BA5-87F5B058B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951C925-7A24-440A-9482-61902F1B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2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AA3E5E8-5A03-4803-87A4-95D758446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7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991202B-81EE-45CE-B575-934C18172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2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3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4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89989E31-389D-4B12-8F3C-FBF885F5B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CC4602C-5532-4388-BAA4-9350C2271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893C10D-D3E4-434B-84C8-D54C4A24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5489AB2-AB23-4D80-86E4-8F8A071DF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AE9BAFFE-D18C-4FB5-BB30-E74B8AEFC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BC462FD-8E70-41CA-A201-7344C42B9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F803BE-A42D-4334-BCD8-B7C03350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DF7A702-729C-4E23-B834-C1B27B7F7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CB77EA0-3F44-4940-8056-9965D039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B81012C-A2EA-43B8-9759-6332EC64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6CBE6FA-E085-4C41-9904-EF30E72DB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8B2754E-E24F-472A-A60E-C95993AC7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A174FBB-B6D0-45CE-8569-322426203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3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B49174B-C832-4036-85F4-E28148FB9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BFFC633-C899-438D-8539-5723DA104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AFBECC4-3155-4BDF-8AE0-AC0B5AB5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E842AFE-7ACB-46F9-84B2-0C4B5DDDA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5CEE-F60E-4235-AF55-56F12AFB3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B01E80-B2BC-45BA-B721-62C14C81C1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B7FC43F5-AB28-4F4E-B378-D0F918D7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FBB4D1D-929E-4304-871D-2D292F0B4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E1015B0-2E50-4C9A-B09F-8DFC3CA0A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39CAB5D-D844-4122-99C5-3CCC9681D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F5CA064-3D14-47A3-9AC3-00E7D295B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5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BB4955A-6B1B-421A-9EE2-59AC43423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E30F3E7-6414-4F01-AF3F-A33AB24C9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6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FBBBF53-FB29-483A-BF93-0EB94EE07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503A915-3B76-4298-8B63-DB77B9CF2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1D44D7B-F4A3-425D-AED8-7570F188E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607CDD-A9E8-413E-A8B3-22D94D11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38782772-48B6-4A0D-A9A9-EEB226905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1FA4684-75CA-46C0-93E7-A7DF70FB3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8720AE8-11D2-433E-ACD3-B044E2143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9EAE8B77-78F8-4D21-B577-1E82A60A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2D0498D-D615-4B35-8602-DF3C19B44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AECC08B-02D1-4E47-8DAC-B025FE8CF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98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E9D24DA-8CD0-40F4-AFF9-A9114AA05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BE2491E-AE9C-4258-BBF2-521F0D9E7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10EA260-BC87-464D-88CF-1797141DD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0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0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F6C511B-49F4-4A33-9502-ECFEE81DC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9453A9-3B5D-4FE9-9250-8DA022C1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5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6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17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463584F-6748-44EB-BF20-923F6D9E2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76C6866-51AE-4EFD-A1D6-1F1F23878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8F354C4-C1C0-4D40-8331-99485EA34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466B8855-9EBB-4B2D-885F-DB79D272D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08E1CFC-79DA-418D-ADF9-83F29EA92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D964F74-D88A-48F2-B1D9-AC143FB90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995AF9D-E2A3-4F59-85D1-5C83B9426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8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9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BF61957-58D6-4C7A-83A0-D9B850E2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C731D12-714D-4A69-9940-F0C77C28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D70473EB-B9D9-4AF8-ACBB-ADC2D684D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162898-3863-488F-BD5F-BF7788DC5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0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DBC2261-E0E2-42AB-9FD9-F3CCB30E6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5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7C4467E-3B3B-4876-9C73-6ABC25774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0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1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2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4EC8022-7F46-4E62-9D75-34B7D3E8A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06E5188-1909-44E4-98ED-9E0F15356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9BD9ED4-9939-4CCB-B6EA-53D97060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32128CD-3B31-43FD-8843-86070CFD2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59BA390-B485-434E-8E7F-A25312E6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DB818FE-B9EF-4C44-A259-4C6A02661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B399224-5F2F-4F41-8A4B-FABA4272C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E2D283A-9882-44A8-AEFA-8B1167CF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11A13D-A588-4D2F-9081-47E081440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161B736-4CA7-4316-A581-6A674BCD6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F443BDA-735F-4014-970A-611F6814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C443811-6BBA-4860-9CEE-E901B8CC3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9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32B948A-0E6C-4833-941F-4741E54D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0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78029D5-1D3F-4174-B1BC-5747C2492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BC0BFDF-52B2-4E5E-BA55-B07088456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8B80537-8C7F-4B95-835A-0527EEBE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C947B2D-B762-4FC8-AA9C-5556EBBC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201EA96-0F41-458D-ABCE-17E69D02A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788F9D8-B4F4-495B-B781-2A3FA60A1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BE204-05BD-4DB5-8668-2F1EE3BE8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C13088C-04CE-4B36-9727-8C92CE7E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00D171B-D9F6-42DB-9D40-E637D71A2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2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0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316DE89-A52E-4DC1-93B7-0C90443DB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4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8BE7F6A-D9A3-4E91-A2BE-8610EF9B8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7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B2136265-9C4A-4EDB-B135-C2110C491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2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6C4536D-132C-45F9-B0D0-EA334F2DD2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5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6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7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8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9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2517D8A-E860-4A32-94CE-7BCAA7999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8F4C5FC-EE70-43E8-9026-D80997380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6CACD14-8620-45DB-86BB-FC741A493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D981948-7EF0-4AAD-AD76-0DE8E4C29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06E24D-A4C8-4E8B-957C-BC1408597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63176C9-F6E0-437D-AD26-0836FC66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41B51FB-970B-423F-BF84-35D1A3F65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83C6F30-1FAD-4CAF-862D-8A6A0F8E6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330F89A-55D4-45FF-B04E-D86C5104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3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4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2C81644-23C1-4FE6-9152-E9BC06A0F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2C48E35-9978-4553-BEE0-0C7A394F9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850696A-35D3-4915-834C-CD944BD3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6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054CC5A-AEDD-44AA-A2D8-215F109C7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1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2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3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AC50673-A15E-4FDE-9BFD-3758A8553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91D810-416B-4290-8CA7-C5C271CF0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C8C322-FB29-4822-93FA-969186DCF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DB4658-5E9F-4204-B340-409F3B72D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BD04C-1194-4938-A336-58FF7CEB0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029E0B1-F59D-4544-8479-1E9F5AB69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6209DB-4B4D-4D46-8DB6-481C8C81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873CC8-EB06-464F-8DAD-63AE3605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5E811D-3C79-4EC2-BFF8-CC6E88DFB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C3EA9-54AC-4A1C-BA8D-D8B4CCC4C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6794A-9E0C-499F-AC1B-6E625DBE7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4341A7-369A-4766-9E99-8CF41158F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0DBA9-7D13-4EE1-BF07-4B79CB2A0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705B99-B93A-4505-9E8E-4D4D4731B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1347F1-7A5C-4A77-8127-57C7DAED6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1B44-6817-4725-9F49-12740E9AD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AA4A7F-9164-4082-9A63-1EDA7CAA6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AEE9DF-3FC4-4655-AECC-083D88E98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65987-514E-420A-B240-312BC11AD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39AB98-31FF-4BB9-B89C-4C0E2909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A72CB6-1016-4AAF-9826-E3BF49D1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E2767D-A538-4BF9-8FC8-5D384B00E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8D66AB-132C-42D8-A77B-F319BC556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3AB46-021F-410D-B284-11AC6A502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EF8F9-2793-4559-A93D-3A9149278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BBFA8A-A363-4FC2-9D01-5A9EB481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D46BF-4E8D-4F7E-A1B3-4FFAE71B9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034EA6-F9A4-4082-BC2A-6E2CF57F0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0C9E0B-0CB2-403B-80A7-AA8BA7027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76A85B-7121-408D-82BD-7DA53590D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683D69-1C97-4FE3-864B-D475E4593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C0C1F6-D23B-4D13-B2B4-2B6130666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8A5914-351E-4A0E-8670-5971587FD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23579-3674-42AB-820B-458C7EC90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4851C3-82BE-42A8-AC1C-A5AD3BA9B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2B569-5760-45F4-8E76-D229DA7B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C301B-0877-4121-9B42-974EBCA71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E637-6D4F-4B76-BCB4-F6CD4AACD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0C4976-1B3D-4A58-BC44-E079C57AA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95D5F2-4BE6-4ACD-A6E6-CC151B360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4C1298-AAC9-472F-AC9E-5714E254C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B51B47-7AD4-4615-906F-9CD4E4686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F056BC-6D69-4F76-9BB7-96D05802A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EF11B3-135F-49A8-B1D3-7CD4800A7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C59536-07FE-4173-B7D3-CDDE328E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1A79F-BA40-49A4-9827-860BA043E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28C0B7-8B90-4692-8E8D-A2705A7A2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C42A60-A965-4E4B-B6B8-91FED4D26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A025-3B1C-4C1C-A6A6-25528449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ubTitle"/>
          </p:nvPr>
        </p:nvSpPr>
        <p:spPr>
          <a:xfrm>
            <a:off x="457200" y="320400"/>
            <a:ext cx="7238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DC02A-0821-4D7C-9A1E-14AD1C990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6A98D3-EC92-4FD2-9642-4C65120B9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BB607-59CF-406F-8135-4A87B649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4E5936-5297-4EFB-9D06-3A5198862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57200" y="4140720"/>
            <a:ext cx="723888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BBB65D-FE0A-472C-8724-F830176E0E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166640" y="160920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166640" y="4140720"/>
            <a:ext cx="353232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7F530A-B07E-45E7-98BE-DB3265B41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290484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5352480" y="160920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5720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4" name="PlaceHolder 6"/>
          <p:cNvSpPr>
            <a:spLocks noGrp="1"/>
          </p:cNvSpPr>
          <p:nvPr>
            <p:ph/>
          </p:nvPr>
        </p:nvSpPr>
        <p:spPr>
          <a:xfrm>
            <a:off x="290484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95" name="PlaceHolder 7"/>
          <p:cNvSpPr>
            <a:spLocks noGrp="1"/>
          </p:cNvSpPr>
          <p:nvPr>
            <p:ph/>
          </p:nvPr>
        </p:nvSpPr>
        <p:spPr>
          <a:xfrm>
            <a:off x="5352480" y="4140720"/>
            <a:ext cx="2330640" cy="231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59C69-3A8F-4B37-BEBE-36B767E31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AB2DB7-746A-416A-9D9E-6EC83E548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EBEF15-F0C5-46CB-9E7D-54D3C2D55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D8DA75-BE10-4586-BA90-57BDF691B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33.xml"/><Relationship Id="rId4" Type="http://schemas.openxmlformats.org/officeDocument/2006/relationships/slideLayout" Target="../slideLayouts/slideLayout434.xml"/><Relationship Id="rId5" Type="http://schemas.openxmlformats.org/officeDocument/2006/relationships/slideLayout" Target="../slideLayouts/slideLayout435.xml"/><Relationship Id="rId6" Type="http://schemas.openxmlformats.org/officeDocument/2006/relationships/slideLayout" Target="../slideLayouts/slideLayout436.xml"/><Relationship Id="rId7" Type="http://schemas.openxmlformats.org/officeDocument/2006/relationships/slideLayout" Target="../slideLayouts/slideLayout437.xml"/><Relationship Id="rId8" Type="http://schemas.openxmlformats.org/officeDocument/2006/relationships/slideLayout" Target="../slideLayouts/slideLayout438.xml"/><Relationship Id="rId9" Type="http://schemas.openxmlformats.org/officeDocument/2006/relationships/slideLayout" Target="../slideLayouts/slideLayout439.xml"/><Relationship Id="rId10" Type="http://schemas.openxmlformats.org/officeDocument/2006/relationships/slideLayout" Target="../slideLayouts/slideLayout440.xml"/><Relationship Id="rId11" Type="http://schemas.openxmlformats.org/officeDocument/2006/relationships/slideLayout" Target="../slideLayouts/slideLayout441.xml"/><Relationship Id="rId12" Type="http://schemas.openxmlformats.org/officeDocument/2006/relationships/slideLayout" Target="../slideLayouts/slideLayout442.xml"/><Relationship Id="rId13" Type="http://schemas.openxmlformats.org/officeDocument/2006/relationships/slideLayout" Target="../slideLayouts/slideLayout443.xml"/><Relationship Id="rId14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45.xml"/><Relationship Id="rId4" Type="http://schemas.openxmlformats.org/officeDocument/2006/relationships/slideLayout" Target="../slideLayouts/slideLayout446.xml"/><Relationship Id="rId5" Type="http://schemas.openxmlformats.org/officeDocument/2006/relationships/slideLayout" Target="../slideLayouts/slideLayout447.xml"/><Relationship Id="rId6" Type="http://schemas.openxmlformats.org/officeDocument/2006/relationships/slideLayout" Target="../slideLayouts/slideLayout448.xml"/><Relationship Id="rId7" Type="http://schemas.openxmlformats.org/officeDocument/2006/relationships/slideLayout" Target="../slideLayouts/slideLayout449.xml"/><Relationship Id="rId8" Type="http://schemas.openxmlformats.org/officeDocument/2006/relationships/slideLayout" Target="../slideLayouts/slideLayout450.xml"/><Relationship Id="rId9" Type="http://schemas.openxmlformats.org/officeDocument/2006/relationships/slideLayout" Target="../slideLayouts/slideLayout451.xml"/><Relationship Id="rId10" Type="http://schemas.openxmlformats.org/officeDocument/2006/relationships/slideLayout" Target="../slideLayouts/slideLayout452.xml"/><Relationship Id="rId11" Type="http://schemas.openxmlformats.org/officeDocument/2006/relationships/slideLayout" Target="../slideLayouts/slideLayout453.xml"/><Relationship Id="rId12" Type="http://schemas.openxmlformats.org/officeDocument/2006/relationships/slideLayout" Target="../slideLayouts/slideLayout454.xml"/><Relationship Id="rId13" Type="http://schemas.openxmlformats.org/officeDocument/2006/relationships/slideLayout" Target="../slideLayouts/slideLayout455.xml"/><Relationship Id="rId14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457.xml"/><Relationship Id="rId4" Type="http://schemas.openxmlformats.org/officeDocument/2006/relationships/slideLayout" Target="../slideLayouts/slideLayout458.xml"/><Relationship Id="rId5" Type="http://schemas.openxmlformats.org/officeDocument/2006/relationships/slideLayout" Target="../slideLayouts/slideLayout459.xml"/><Relationship Id="rId6" Type="http://schemas.openxmlformats.org/officeDocument/2006/relationships/slideLayout" Target="../slideLayouts/slideLayout460.xml"/><Relationship Id="rId7" Type="http://schemas.openxmlformats.org/officeDocument/2006/relationships/slideLayout" Target="../slideLayouts/slideLayout461.xml"/><Relationship Id="rId8" Type="http://schemas.openxmlformats.org/officeDocument/2006/relationships/slideLayout" Target="../slideLayouts/slideLayout462.xml"/><Relationship Id="rId9" Type="http://schemas.openxmlformats.org/officeDocument/2006/relationships/slideLayout" Target="../slideLayouts/slideLayout463.xml"/><Relationship Id="rId10" Type="http://schemas.openxmlformats.org/officeDocument/2006/relationships/slideLayout" Target="../slideLayouts/slideLayout464.xml"/><Relationship Id="rId11" Type="http://schemas.openxmlformats.org/officeDocument/2006/relationships/slideLayout" Target="../slideLayouts/slideLayout465.xml"/><Relationship Id="rId12" Type="http://schemas.openxmlformats.org/officeDocument/2006/relationships/slideLayout" Target="../slideLayouts/slideLayout466.xml"/><Relationship Id="rId13" Type="http://schemas.openxmlformats.org/officeDocument/2006/relationships/slideLayout" Target="../slideLayouts/slideLayout467.xml"/><Relationship Id="rId14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05890-6214-49DF-B56D-415C7CBF8DFE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ftr" idx="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sldNum" idx="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A41DB-1FED-4F59-9E8E-6236C92EB36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00763b"/>
            </a:gs>
            <a:gs pos="100000">
              <a:srgbClr val="0000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2"/>
          <p:cNvSpPr/>
          <p:nvPr/>
        </p:nvSpPr>
        <p:spPr>
          <a:xfrm>
            <a:off x="2895480" y="0"/>
            <a:ext cx="335304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3" name="Group 3"/>
          <p:cNvGrpSpPr/>
          <p:nvPr/>
        </p:nvGrpSpPr>
        <p:grpSpPr>
          <a:xfrm>
            <a:off x="2133720" y="472680"/>
            <a:ext cx="4878360" cy="3491280"/>
            <a:chOff x="2133720" y="472680"/>
            <a:chExt cx="4878360" cy="3491280"/>
          </a:xfrm>
        </p:grpSpPr>
        <p:sp>
          <p:nvSpPr>
            <p:cNvPr id="484" name="Freeform 4"/>
            <p:cNvSpPr/>
            <p:nvPr/>
          </p:nvSpPr>
          <p:spPr>
            <a:xfrm>
              <a:off x="2133720" y="1643040"/>
              <a:ext cx="161748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0" y="566"/>
                  </a:moveTo>
                  <a:lnTo>
                    <a:pt x="0" y="906"/>
                  </a:lnTo>
                  <a:lnTo>
                    <a:pt x="1014" y="283"/>
                  </a:lnTo>
                  <a:lnTo>
                    <a:pt x="1018" y="307"/>
                  </a:lnTo>
                  <a:lnTo>
                    <a:pt x="869" y="0"/>
                  </a:lnTo>
                  <a:lnTo>
                    <a:pt x="0" y="566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Freeform 5"/>
            <p:cNvSpPr/>
            <p:nvPr/>
          </p:nvSpPr>
          <p:spPr>
            <a:xfrm>
              <a:off x="5394240" y="1643040"/>
              <a:ext cx="1617840" cy="1440000"/>
            </a:xfrm>
            <a:custGeom>
              <a:avLst/>
              <a:gdLst/>
              <a:ahLst/>
              <a:rect l="l" t="t" r="r" b="b"/>
              <a:pathLst>
                <a:path w="1019" h="907">
                  <a:moveTo>
                    <a:pt x="1018" y="566"/>
                  </a:moveTo>
                  <a:lnTo>
                    <a:pt x="1018" y="906"/>
                  </a:lnTo>
                  <a:lnTo>
                    <a:pt x="3" y="283"/>
                  </a:lnTo>
                  <a:lnTo>
                    <a:pt x="0" y="307"/>
                  </a:lnTo>
                  <a:lnTo>
                    <a:pt x="148" y="0"/>
                  </a:lnTo>
                  <a:lnTo>
                    <a:pt x="1018" y="566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6" name="Group 6"/>
            <p:cNvGrpSpPr/>
            <p:nvPr/>
          </p:nvGrpSpPr>
          <p:grpSpPr>
            <a:xfrm>
              <a:off x="2494080" y="472680"/>
              <a:ext cx="4178160" cy="3491280"/>
              <a:chOff x="2494080" y="472680"/>
              <a:chExt cx="4178160" cy="3491280"/>
            </a:xfrm>
          </p:grpSpPr>
          <p:sp>
            <p:nvSpPr>
              <p:cNvPr id="487" name="AutoShape 7"/>
              <p:cNvSpPr/>
              <p:nvPr/>
            </p:nvSpPr>
            <p:spPr>
              <a:xfrm flipH="1" rot="10800000">
                <a:off x="2494080" y="472680"/>
                <a:ext cx="4176720" cy="348948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2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Freeform 8"/>
              <p:cNvSpPr/>
              <p:nvPr/>
            </p:nvSpPr>
            <p:spPr>
              <a:xfrm>
                <a:off x="2494080" y="473040"/>
                <a:ext cx="2089080" cy="3490920"/>
              </a:xfrm>
              <a:custGeom>
                <a:avLst/>
                <a:gdLst/>
                <a:ahLst/>
                <a:rect l="l" t="t" r="r" b="b"/>
                <a:pathLst>
                  <a:path w="1316" h="2199">
                    <a:moveTo>
                      <a:pt x="1315" y="2198"/>
                    </a:moveTo>
                    <a:lnTo>
                      <a:pt x="1315" y="1815"/>
                    </a:lnTo>
                    <a:lnTo>
                      <a:pt x="409" y="214"/>
                    </a:lnTo>
                    <a:lnTo>
                      <a:pt x="0" y="0"/>
                    </a:lnTo>
                    <a:lnTo>
                      <a:pt x="1315" y="2198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Freeform 9"/>
              <p:cNvSpPr/>
              <p:nvPr/>
            </p:nvSpPr>
            <p:spPr>
              <a:xfrm>
                <a:off x="2494080" y="473040"/>
                <a:ext cx="4178160" cy="344520"/>
              </a:xfrm>
              <a:custGeom>
                <a:avLst/>
                <a:gdLst/>
                <a:ahLst/>
                <a:rect l="l" t="t" r="r" b="b"/>
                <a:pathLst>
                  <a:path w="2632" h="217">
                    <a:moveTo>
                      <a:pt x="0" y="0"/>
                    </a:moveTo>
                    <a:lnTo>
                      <a:pt x="409" y="216"/>
                    </a:lnTo>
                    <a:lnTo>
                      <a:pt x="2279" y="216"/>
                    </a:lnTo>
                    <a:lnTo>
                      <a:pt x="2631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Freeform 10"/>
              <p:cNvSpPr/>
              <p:nvPr/>
            </p:nvSpPr>
            <p:spPr>
              <a:xfrm>
                <a:off x="4581360" y="473040"/>
                <a:ext cx="2090880" cy="3490920"/>
              </a:xfrm>
              <a:custGeom>
                <a:avLst/>
                <a:gdLst/>
                <a:ahLst/>
                <a:rect l="l" t="t" r="r" b="b"/>
                <a:pathLst>
                  <a:path w="1317" h="2199">
                    <a:moveTo>
                      <a:pt x="0" y="2198"/>
                    </a:moveTo>
                    <a:lnTo>
                      <a:pt x="0" y="1815"/>
                    </a:lnTo>
                    <a:lnTo>
                      <a:pt x="906" y="214"/>
                    </a:lnTo>
                    <a:lnTo>
                      <a:pt x="1316" y="0"/>
                    </a:lnTo>
                    <a:lnTo>
                      <a:pt x="0" y="2198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1" name="Rectangle 11"/>
            <p:cNvSpPr/>
            <p:nvPr/>
          </p:nvSpPr>
          <p:spPr>
            <a:xfrm>
              <a:off x="2133720" y="2589120"/>
              <a:ext cx="4871880" cy="492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1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2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3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7C26-872E-4D24-B860-0DE087F5470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3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534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 type="dt" idx="3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 type="ftr" idx="3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 type="sldNum" idx="3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ADCD-EBA3-4FBD-B423-6CCF23D18A2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de9ec">
                  <a:alpha val="1176"/>
                </a:srgbClr>
              </a:gs>
              <a:gs pos="100000">
                <a:srgbClr val="dde9ec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8b8bc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0c0c4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4165"/>
              </a:gs>
              <a:gs pos="100000">
                <a:srgbClr val="a1aad1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37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38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39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5EB6-1563-45C9-93CF-10CA398CA82E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de9ec">
                  <a:alpha val="1176"/>
                </a:srgbClr>
              </a:gs>
              <a:gs pos="100000">
                <a:srgbClr val="dde9ec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8b8bc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0c0c4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dt" idx="40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ftr" idx="41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sldNum" idx="42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21CD4-39FF-4488-A170-C65D4A45402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de9ec">
                  <a:alpha val="1176"/>
                </a:srgbClr>
              </a:gs>
              <a:gs pos="100000">
                <a:srgbClr val="dde9ec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374165"/>
              </a:gs>
              <a:gs pos="100000">
                <a:srgbClr val="a1aad1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c0c0c4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8b8bc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 type="dt" idx="43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 type="ftr" idx="44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 type="sldNum" idx="45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32B82-AE94-4E9D-99B0-05305E03DCFF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46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47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48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AF29-A8B7-433E-9A09-978F2E2745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 type="dt" idx="49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 type="ftr" idx="50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 type="sldNum" idx="51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FBE60-9D0D-41B9-A31A-24836521AD14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52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ftr" idx="53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sldNum" idx="54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650D-792B-4181-8A0A-6B154CC9FC59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86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 type="dt" idx="5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 type="ftr" idx="5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 type="sldNum" idx="5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CB73F-B5EB-470B-93CB-902DA486ECF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1752480" cy="685656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00763b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" name="Group 3"/>
          <p:cNvGrpSpPr/>
          <p:nvPr/>
        </p:nvGrpSpPr>
        <p:grpSpPr>
          <a:xfrm>
            <a:off x="152280" y="374760"/>
            <a:ext cx="1525680" cy="1226880"/>
            <a:chOff x="152280" y="374760"/>
            <a:chExt cx="1525680" cy="1226880"/>
          </a:xfrm>
        </p:grpSpPr>
        <p:sp>
          <p:nvSpPr>
            <p:cNvPr id="43" name="Freeform 4"/>
            <p:cNvSpPr/>
            <p:nvPr/>
          </p:nvSpPr>
          <p:spPr>
            <a:xfrm>
              <a:off x="117144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318" y="198"/>
                  </a:moveTo>
                  <a:lnTo>
                    <a:pt x="318" y="318"/>
                  </a:lnTo>
                  <a:lnTo>
                    <a:pt x="1" y="99"/>
                  </a:lnTo>
                  <a:lnTo>
                    <a:pt x="0" y="108"/>
                  </a:lnTo>
                  <a:lnTo>
                    <a:pt x="46" y="0"/>
                  </a:lnTo>
                  <a:lnTo>
                    <a:pt x="318" y="198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763b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Freeform 5"/>
            <p:cNvSpPr/>
            <p:nvPr/>
          </p:nvSpPr>
          <p:spPr>
            <a:xfrm>
              <a:off x="152280" y="785880"/>
              <a:ext cx="506520" cy="506520"/>
            </a:xfrm>
            <a:custGeom>
              <a:avLst/>
              <a:gdLst/>
              <a:ahLst/>
              <a:rect l="l" t="t" r="r" b="b"/>
              <a:pathLst>
                <a:path w="319" h="319">
                  <a:moveTo>
                    <a:pt x="0" y="198"/>
                  </a:moveTo>
                  <a:lnTo>
                    <a:pt x="0" y="318"/>
                  </a:lnTo>
                  <a:lnTo>
                    <a:pt x="316" y="99"/>
                  </a:lnTo>
                  <a:lnTo>
                    <a:pt x="318" y="108"/>
                  </a:lnTo>
                  <a:lnTo>
                    <a:pt x="271" y="0"/>
                  </a:lnTo>
                  <a:lnTo>
                    <a:pt x="0" y="198"/>
                  </a:lnTo>
                </a:path>
              </a:pathLst>
            </a:custGeom>
            <a:gradFill rotWithShape="0">
              <a:gsLst>
                <a:gs pos="0">
                  <a:srgbClr val="00763b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" name="Group 6"/>
            <p:cNvGrpSpPr/>
            <p:nvPr/>
          </p:nvGrpSpPr>
          <p:grpSpPr>
            <a:xfrm>
              <a:off x="240480" y="374760"/>
              <a:ext cx="1307160" cy="1226880"/>
              <a:chOff x="240480" y="374760"/>
              <a:chExt cx="1307160" cy="1226880"/>
            </a:xfrm>
          </p:grpSpPr>
          <p:sp>
            <p:nvSpPr>
              <p:cNvPr id="46" name="AutoShape 7"/>
              <p:cNvSpPr/>
              <p:nvPr/>
            </p:nvSpPr>
            <p:spPr>
              <a:xfrm flipH="1" rot="10800000">
                <a:off x="240120" y="374760"/>
                <a:ext cx="1305000" cy="1225440"/>
              </a:xfrm>
              <a:prstGeom prst="triangle">
                <a:avLst>
                  <a:gd name="adj" fmla="val 49995"/>
                </a:avLst>
              </a:prstGeom>
              <a:blipFill rotWithShape="0">
                <a:blip r:embed="rId3"/>
                <a:srcRect/>
                <a:tile tx="0" ty="0" sx="100000" sy="100000" algn="ctr"/>
              </a:blipFill>
              <a:ln cap="sq" w="12600">
                <a:solidFill>
                  <a:srgbClr val="00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Freeform 8"/>
              <p:cNvSpPr/>
              <p:nvPr/>
            </p:nvSpPr>
            <p:spPr>
              <a:xfrm>
                <a:off x="241200" y="374760"/>
                <a:ext cx="65412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411" y="772"/>
                    </a:moveTo>
                    <a:lnTo>
                      <a:pt x="411" y="637"/>
                    </a:lnTo>
                    <a:lnTo>
                      <a:pt x="127" y="75"/>
                    </a:lnTo>
                    <a:lnTo>
                      <a:pt x="0" y="0"/>
                    </a:lnTo>
                    <a:lnTo>
                      <a:pt x="411" y="772"/>
                    </a:lnTo>
                  </a:path>
                </a:pathLst>
              </a:custGeom>
              <a:solidFill>
                <a:srgbClr val="002010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Freeform 9"/>
              <p:cNvSpPr/>
              <p:nvPr/>
            </p:nvSpPr>
            <p:spPr>
              <a:xfrm>
                <a:off x="241200" y="374760"/>
                <a:ext cx="1306440" cy="122040"/>
              </a:xfrm>
              <a:custGeom>
                <a:avLst/>
                <a:gdLst/>
                <a:ahLst/>
                <a:rect l="l" t="t" r="r" b="b"/>
                <a:pathLst>
                  <a:path w="823" h="77">
                    <a:moveTo>
                      <a:pt x="0" y="0"/>
                    </a:moveTo>
                    <a:lnTo>
                      <a:pt x="127" y="76"/>
                    </a:lnTo>
                    <a:lnTo>
                      <a:pt x="712" y="76"/>
                    </a:lnTo>
                    <a:lnTo>
                      <a:pt x="822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71bb96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Freeform 10"/>
              <p:cNvSpPr/>
              <p:nvPr/>
            </p:nvSpPr>
            <p:spPr>
              <a:xfrm>
                <a:off x="893880" y="374760"/>
                <a:ext cx="653760" cy="1226880"/>
              </a:xfrm>
              <a:custGeom>
                <a:avLst/>
                <a:gdLst/>
                <a:ahLst/>
                <a:rect l="l" t="t" r="r" b="b"/>
                <a:pathLst>
                  <a:path w="412" h="773">
                    <a:moveTo>
                      <a:pt x="0" y="772"/>
                    </a:moveTo>
                    <a:lnTo>
                      <a:pt x="0" y="637"/>
                    </a:lnTo>
                    <a:lnTo>
                      <a:pt x="283" y="75"/>
                    </a:lnTo>
                    <a:lnTo>
                      <a:pt x="411" y="0"/>
                    </a:lnTo>
                    <a:lnTo>
                      <a:pt x="0" y="772"/>
                    </a:lnTo>
                  </a:path>
                </a:pathLst>
              </a:custGeom>
              <a:solidFill>
                <a:srgbClr val="006633">
                  <a:alpha val="50000"/>
                </a:srgbClr>
              </a:solidFill>
              <a:ln cap="sq" w="12600">
                <a:solidFill>
                  <a:srgbClr val="0066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" name="Rectangle 11"/>
            <p:cNvSpPr/>
            <p:nvPr/>
          </p:nvSpPr>
          <p:spPr>
            <a:xfrm>
              <a:off x="152280" y="1117440"/>
              <a:ext cx="1522440" cy="173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71bb96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760" y="228600"/>
            <a:ext cx="70866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6204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581DC-A2A1-4643-AB52-1E471E94A19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2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91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5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5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6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5BE1E-D5A6-415F-8081-413EAF90903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dt" idx="6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 type="ftr" idx="6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 type="sldNum" idx="6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320C-3B15-4648-9D6A-269A5378AD5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 type="dt" idx="6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 type="ftr" idx="6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 type="sldNum" idx="6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F9FC-58E9-4B24-A48A-5F524F30286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4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4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4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3de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 type="ftr" idx="6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9d4c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PlaceHolder 5"/>
          <p:cNvSpPr>
            <a:spLocks noGrp="1"/>
          </p:cNvSpPr>
          <p:nvPr>
            <p:ph type="sldNum" idx="6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14AC8-9CB4-4C60-9B9D-4DEB5BA5C9E2}" type="slidenum">
              <a:rPr b="0" lang="ru-RU" sz="1200" spc="-1" strike="noStrike">
                <a:solidFill>
                  <a:srgbClr val="d9d4c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3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94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95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6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97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98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99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e3ded1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e3ded1"/>
              </a:solidFill>
              <a:latin typeface="Calibri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 type="ftr" idx="7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d9d4c7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5"/>
          <p:cNvSpPr>
            <a:spLocks noGrp="1"/>
          </p:cNvSpPr>
          <p:nvPr>
            <p:ph type="sldNum" idx="7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9d4c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3BF54-B309-496D-993A-8BB3BFB780D2}" type="slidenum">
              <a:rPr b="0" lang="ru-RU" sz="1200" spc="-1" strike="noStrike">
                <a:solidFill>
                  <a:srgbClr val="d9d4c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 type="dt" idx="7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 type="ftr" idx="7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2f2f2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PlaceHolder 5"/>
          <p:cNvSpPr>
            <a:spLocks noGrp="1"/>
          </p:cNvSpPr>
          <p:nvPr>
            <p:ph type="sldNum" idx="7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F5830-B762-4819-A173-E3792EDD0E0F}" type="slidenum"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7" name="Скругленный прямоугольник 10"/>
          <p:cNvGrpSpPr/>
          <p:nvPr/>
        </p:nvGrpSpPr>
        <p:grpSpPr>
          <a:xfrm>
            <a:off x="420840" y="433440"/>
            <a:ext cx="8302320" cy="3108240"/>
            <a:chOff x="420840" y="433440"/>
            <a:chExt cx="8302320" cy="3108240"/>
          </a:xfrm>
        </p:grpSpPr>
        <p:pic>
          <p:nvPicPr>
            <p:cNvPr id="1188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9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 type="dt" idx="7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 type="ftr" idx="7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 type="sldNum" idx="7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E0C25-8853-47E7-81DC-CDF9DACF6908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32" name="Скругленный прямоугольник 10"/>
          <p:cNvGrpSpPr/>
          <p:nvPr/>
        </p:nvGrpSpPr>
        <p:grpSpPr>
          <a:xfrm>
            <a:off x="420840" y="433440"/>
            <a:ext cx="8302320" cy="4340160"/>
            <a:chOff x="420840" y="433440"/>
            <a:chExt cx="8302320" cy="4340160"/>
          </a:xfrm>
        </p:grpSpPr>
        <p:pic>
          <p:nvPicPr>
            <p:cNvPr id="1233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4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7" name="PlaceHolder 3"/>
          <p:cNvSpPr>
            <a:spLocks noGrp="1"/>
          </p:cNvSpPr>
          <p:nvPr>
            <p:ph type="dt" idx="7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PlaceHolder 4"/>
          <p:cNvSpPr>
            <a:spLocks noGrp="1"/>
          </p:cNvSpPr>
          <p:nvPr>
            <p:ph type="ftr" idx="8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PlaceHolder 5"/>
          <p:cNvSpPr>
            <a:spLocks noGrp="1"/>
          </p:cNvSpPr>
          <p:nvPr>
            <p:ph type="sldNum" idx="8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FB91-734C-4B1A-9C5C-8820352FA60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 type="dt" idx="8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 type="ftr" idx="8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PlaceHolder 5"/>
          <p:cNvSpPr>
            <a:spLocks noGrp="1"/>
          </p:cNvSpPr>
          <p:nvPr>
            <p:ph type="sldNum" idx="8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45161-D602-4D98-8D67-C2FFD0B917A4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9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/>
            <a:ahLst/>
            <a:rect l="l" t="t" r="r" b="b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cubicBezTo>
                  <a:pt x="2295506" y="0"/>
                  <a:pt x="2324100" y="28594"/>
                  <a:pt x="2324100" y="63866"/>
                </a:cubicBezTo>
                <a:lnTo>
                  <a:pt x="23241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2" name="PlaceHolder 3"/>
          <p:cNvSpPr>
            <a:spLocks noGrp="1"/>
          </p:cNvSpPr>
          <p:nvPr>
            <p:ph type="dt" idx="8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3" name="PlaceHolder 4"/>
          <p:cNvSpPr>
            <a:spLocks noGrp="1"/>
          </p:cNvSpPr>
          <p:nvPr>
            <p:ph type="ftr" idx="8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PlaceHolder 5"/>
          <p:cNvSpPr>
            <a:spLocks noGrp="1"/>
          </p:cNvSpPr>
          <p:nvPr>
            <p:ph type="sldNum" idx="8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EEB64-6D96-4BB5-BD8F-0FBD39775AD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93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7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8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9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6BFB2-E0D9-492F-AB7C-9613E60BFFC4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1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2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3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4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 type="dt" idx="88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 type="ftr" idx="89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PlaceHolder 5"/>
          <p:cNvSpPr>
            <a:spLocks noGrp="1"/>
          </p:cNvSpPr>
          <p:nvPr>
            <p:ph type="sldNum" idx="90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6EC45-5506-4B5E-B44E-7AF6E358AB46}" type="slidenum">
              <a:rPr b="0" lang="ru-RU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7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8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 type="dt" idx="91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 type="ftr" idx="92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5"/>
          <p:cNvSpPr>
            <a:spLocks noGrp="1"/>
          </p:cNvSpPr>
          <p:nvPr>
            <p:ph type="sldNum" idx="9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2FFE8-248B-47E8-9C00-69C4476E3F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1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14700"/>
              </a:gs>
              <a:gs pos="100000">
                <a:srgbClr val="ffa066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 type="dt" idx="94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 type="ftr" idx="95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 type="sldNum" idx="96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B3C92-4B41-4091-A2D3-BE4491E00DEE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 type="dt" idx="97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8" name="PlaceHolder 4"/>
          <p:cNvSpPr>
            <a:spLocks noGrp="1"/>
          </p:cNvSpPr>
          <p:nvPr>
            <p:ph type="ftr" idx="98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9" name="PlaceHolder 5"/>
          <p:cNvSpPr>
            <a:spLocks noGrp="1"/>
          </p:cNvSpPr>
          <p:nvPr>
            <p:ph type="sldNum" idx="99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9EDC-BB4C-418C-97D5-EA62F34B8C9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 type="dt" idx="100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 type="ftr" idx="101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 type="sldNum" idx="102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2D91D-5700-463F-BF23-03EB3625C411}" type="slidenum">
              <a:rPr b="0" lang="ru-RU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 type="dt" idx="103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 type="ftr" idx="104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 type="sldNum" idx="105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E732E-4687-4DB3-B12C-05968F5D5A28}" type="slidenum"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8" name="Прямоугольник 7"/>
          <p:cNvGrpSpPr/>
          <p:nvPr/>
        </p:nvGrpSpPr>
        <p:grpSpPr>
          <a:xfrm>
            <a:off x="2670120" y="0"/>
            <a:ext cx="6473880" cy="6858000"/>
            <a:chOff x="2670120" y="0"/>
            <a:chExt cx="6473880" cy="6858000"/>
          </a:xfrm>
        </p:grpSpPr>
        <p:pic>
          <p:nvPicPr>
            <p:cNvPr id="1619" name="Прямоугольник 7" descr=""/>
            <p:cNvPicPr/>
            <p:nvPr/>
          </p:nvPicPr>
          <p:blipFill>
            <a:blip r:embed="rId3"/>
            <a:stretch/>
          </p:blipFill>
          <p:spPr>
            <a:xfrm>
              <a:off x="2673000" y="0"/>
              <a:ext cx="64706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0" name=""/>
            <p:cNvSpPr/>
            <p:nvPr/>
          </p:nvSpPr>
          <p:spPr>
            <a:xfrm>
              <a:off x="2670120" y="0"/>
              <a:ext cx="64738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21" name="Прямая соединительная линия 9"/>
          <p:cNvSpPr/>
          <p:nvPr/>
        </p:nvSpPr>
        <p:spPr>
          <a:xfrm flipV="1">
            <a:off x="2666880" y="0"/>
            <a:ext cx="0" cy="6858000"/>
          </a:xfrm>
          <a:prstGeom prst="line">
            <a:avLst/>
          </a:prstGeom>
          <a:ln w="11520">
            <a:solidFill>
              <a:srgbClr val="f9f9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24" name="PlaceHolder 3"/>
          <p:cNvSpPr>
            <a:spLocks noGrp="1"/>
          </p:cNvSpPr>
          <p:nvPr>
            <p:ph type="dt" idx="106"/>
          </p:nvPr>
        </p:nvSpPr>
        <p:spPr>
          <a:xfrm>
            <a:off x="5870160" y="6558120"/>
            <a:ext cx="200340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4"/>
          <p:cNvSpPr>
            <a:spLocks noGrp="1"/>
          </p:cNvSpPr>
          <p:nvPr>
            <p:ph type="ftr" idx="107"/>
          </p:nvPr>
        </p:nvSpPr>
        <p:spPr>
          <a:xfrm>
            <a:off x="2819160" y="6557760"/>
            <a:ext cx="2927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PlaceHolder 5"/>
          <p:cNvSpPr>
            <a:spLocks noGrp="1"/>
          </p:cNvSpPr>
          <p:nvPr>
            <p:ph type="sldNum" idx="108"/>
          </p:nvPr>
        </p:nvSpPr>
        <p:spPr>
          <a:xfrm>
            <a:off x="7880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6FC0F-97DC-4B1A-A003-94C8361BEE03}" type="slidenum">
              <a:rPr b="0" lang="ru-RU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63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664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5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 type="dt" idx="109"/>
          </p:nvPr>
        </p:nvSpPr>
        <p:spPr>
          <a:xfrm>
            <a:off x="4723920" y="6555960"/>
            <a:ext cx="200196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4"/>
          <p:cNvSpPr>
            <a:spLocks noGrp="1"/>
          </p:cNvSpPr>
          <p:nvPr>
            <p:ph type="ftr" idx="110"/>
          </p:nvPr>
        </p:nvSpPr>
        <p:spPr>
          <a:xfrm>
            <a:off x="1734840" y="65559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PlaceHolder 5"/>
          <p:cNvSpPr>
            <a:spLocks noGrp="1"/>
          </p:cNvSpPr>
          <p:nvPr>
            <p:ph type="sldNum" idx="111"/>
          </p:nvPr>
        </p:nvSpPr>
        <p:spPr>
          <a:xfrm>
            <a:off x="6734160" y="65545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03F6C-3031-471B-B3BD-B51A11DC96C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3"/>
    <p:sldLayoutId id="2147484118" r:id="rId4"/>
    <p:sldLayoutId id="2147484119" r:id="rId5"/>
    <p:sldLayoutId id="2147484120" r:id="rId6"/>
    <p:sldLayoutId id="2147484121" r:id="rId7"/>
    <p:sldLayoutId id="2147484122" r:id="rId8"/>
    <p:sldLayoutId id="2147484123" r:id="rId9"/>
    <p:sldLayoutId id="2147484124" r:id="rId10"/>
    <p:sldLayoutId id="2147484125" r:id="rId11"/>
    <p:sldLayoutId id="2147484126" r:id="rId12"/>
    <p:sldLayoutId id="2147484127" r:id="rId13"/>
    <p:sldLayoutId id="2147484128" r:id="rId14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7" name="Прямоугольник 7"/>
          <p:cNvSpPr/>
          <p:nvPr/>
        </p:nvSpPr>
        <p:spPr>
          <a:xfrm rot="21240000">
            <a:off x="598320" y="1004760"/>
            <a:ext cx="4319640" cy="431172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Прямоугольник 9"/>
          <p:cNvSpPr/>
          <p:nvPr/>
        </p:nvSpPr>
        <p:spPr>
          <a:xfrm rot="21420000">
            <a:off x="596880" y="998280"/>
            <a:ext cx="4319640" cy="4313160"/>
          </a:xfrm>
          <a:prstGeom prst="rect">
            <a:avLst/>
          </a:prstGeom>
          <a:solidFill>
            <a:srgbClr val="fafafa"/>
          </a:solidFill>
          <a:ln cap="rnd" w="1440">
            <a:solidFill>
              <a:srgbClr val="eaeaea"/>
            </a:solidFill>
            <a:miter/>
          </a:ln>
          <a:effectLst>
            <a:outerShdw dist="1260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ff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4e7ed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11" name="PlaceHolder 3"/>
          <p:cNvSpPr>
            <a:spLocks noGrp="1"/>
          </p:cNvSpPr>
          <p:nvPr>
            <p:ph type="dt" idx="112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PlaceHolder 4"/>
          <p:cNvSpPr>
            <a:spLocks noGrp="1"/>
          </p:cNvSpPr>
          <p:nvPr>
            <p:ph type="ftr" idx="113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4e7ed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3" name="PlaceHolder 5"/>
          <p:cNvSpPr>
            <a:spLocks noGrp="1"/>
          </p:cNvSpPr>
          <p:nvPr>
            <p:ph type="sldNum" idx="114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4e7e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1E53-F936-495D-B4D9-0829D8F0711A}" type="slidenum">
              <a:rPr b="0" lang="ru-RU" sz="1100" spc="-1" strike="noStrike">
                <a:solidFill>
                  <a:srgbClr val="f4e7ed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3"/>
    <p:sldLayoutId id="2147484131" r:id="rId4"/>
    <p:sldLayoutId id="2147484132" r:id="rId5"/>
    <p:sldLayoutId id="2147484133" r:id="rId6"/>
    <p:sldLayoutId id="2147484134" r:id="rId7"/>
    <p:sldLayoutId id="2147484135" r:id="rId8"/>
    <p:sldLayoutId id="2147484136" r:id="rId9"/>
    <p:sldLayoutId id="2147484137" r:id="rId10"/>
    <p:sldLayoutId id="2147484138" r:id="rId11"/>
    <p:sldLayoutId id="2147484139" r:id="rId12"/>
    <p:sldLayoutId id="2147484140" r:id="rId13"/>
    <p:sldLayoutId id="2147484141" r:id="rId14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0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1751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2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53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4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55" name="PlaceHolder 3"/>
          <p:cNvSpPr>
            <a:spLocks noGrp="1"/>
          </p:cNvSpPr>
          <p:nvPr>
            <p:ph type="dt" idx="115"/>
          </p:nvPr>
        </p:nvSpPr>
        <p:spPr>
          <a:xfrm>
            <a:off x="424296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PlaceHolder 4"/>
          <p:cNvSpPr>
            <a:spLocks noGrp="1"/>
          </p:cNvSpPr>
          <p:nvPr>
            <p:ph type="ftr" idx="116"/>
          </p:nvPr>
        </p:nvSpPr>
        <p:spPr>
          <a:xfrm>
            <a:off x="457200" y="65559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PlaceHolder 5"/>
          <p:cNvSpPr>
            <a:spLocks noGrp="1"/>
          </p:cNvSpPr>
          <p:nvPr>
            <p:ph type="sldNum" idx="117"/>
          </p:nvPr>
        </p:nvSpPr>
        <p:spPr>
          <a:xfrm>
            <a:off x="6254640" y="6552720"/>
            <a:ext cx="58752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F1595-4289-4B84-B013-061B16C72610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3"/>
    <p:sldLayoutId id="2147484144" r:id="rId4"/>
    <p:sldLayoutId id="2147484145" r:id="rId5"/>
    <p:sldLayoutId id="2147484146" r:id="rId6"/>
    <p:sldLayoutId id="2147484147" r:id="rId7"/>
    <p:sldLayoutId id="2147484148" r:id="rId8"/>
    <p:sldLayoutId id="2147484149" r:id="rId9"/>
    <p:sldLayoutId id="2147484150" r:id="rId10"/>
    <p:sldLayoutId id="2147484151" r:id="rId11"/>
    <p:sldLayoutId id="2147484152" r:id="rId12"/>
    <p:sldLayoutId id="2147484153" r:id="rId13"/>
    <p:sldLayoutId id="2147484154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a2a40"/>
            </a:gs>
            <a:gs pos="100000">
              <a:srgbClr val="73738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dde9ec">
                  <a:alpha val="1176"/>
                </a:srgbClr>
              </a:gs>
              <a:gs pos="100000">
                <a:srgbClr val="dde9ec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8b8bc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c0c0c4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f98b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8f98b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7ca3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7ca3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7ca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aac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336A5-7B6D-4827-8E78-16ED0EA4DC5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214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CE15-8D35-4318-B5D5-99DE20A384F7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c121e">
                  <a:alpha val="45098"/>
                </a:srgbClr>
              </a:gs>
              <a:gs pos="100000">
                <a:srgbClr val="00558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64164">
                  <a:alpha val="45098"/>
                </a:srgbClr>
              </a:gs>
              <a:gs pos="100000">
                <a:srgbClr val="a00e1e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23232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323232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7f0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f2936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2f2f2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2f2f2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05CA-266D-418A-BAE5-8D124D8BD44E}" type="slidenum">
              <a:rPr b="0" lang="ru-RU" sz="1200" spc="-1" strike="noStrike">
                <a:solidFill>
                  <a:srgbClr val="2f2f2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4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65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66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7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8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69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70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Скругленный прямоугольник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8" name="Скругленный прямоугольник 8"/>
          <p:cNvGrpSpPr/>
          <p:nvPr/>
        </p:nvGrpSpPr>
        <p:grpSpPr>
          <a:xfrm>
            <a:off x="420840" y="433440"/>
            <a:ext cx="8302320" cy="5486400"/>
            <a:chOff x="420840" y="433440"/>
            <a:chExt cx="8302320" cy="5486400"/>
          </a:xfrm>
        </p:grpSpPr>
        <p:pic>
          <p:nvPicPr>
            <p:cNvPr id="309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420840" y="433440"/>
              <a:ext cx="830232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0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1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811EC-29B2-4ACA-A6AB-82A3FD19DC89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12121"/>
            </a:gs>
            <a:gs pos="100000">
              <a:srgbClr val="75757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e3ded1">
                  <a:alpha val="1176"/>
                </a:srgbClr>
              </a:gs>
              <a:gs pos="100000">
                <a:srgbClr val="e3ded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b6b6b6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ebebe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9553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9553"/>
              </a:solidFill>
              <a:latin typeface="Century Gothic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07f09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07f09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07f0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4ab89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dt" idx="22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 type="ftr" idx="2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1D2C-AF1E-4B2F-A563-164633445E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6" name="Прямоугольник 8"/>
          <p:cNvGrpSpPr/>
          <p:nvPr/>
        </p:nvGrpSpPr>
        <p:grpSpPr>
          <a:xfrm>
            <a:off x="8156520" y="0"/>
            <a:ext cx="987480" cy="6858000"/>
            <a:chOff x="8156520" y="0"/>
            <a:chExt cx="987480" cy="6858000"/>
          </a:xfrm>
        </p:grpSpPr>
        <p:pic>
          <p:nvPicPr>
            <p:cNvPr id="397" name="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8159400" y="0"/>
              <a:ext cx="98424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8" name=""/>
            <p:cNvSpPr/>
            <p:nvPr/>
          </p:nvSpPr>
          <p:spPr>
            <a:xfrm>
              <a:off x="8156520" y="0"/>
              <a:ext cx="9874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20400"/>
            <a:ext cx="72388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38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9200"/>
            <a:ext cx="7238880" cy="484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b13f9a"/>
              </a:buClr>
              <a:buSzPct val="73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1" marL="5205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2" marL="758880" indent="-228600">
              <a:spcBef>
                <a:spcPts val="601"/>
              </a:spcBef>
              <a:buClr>
                <a:srgbClr val="f9b639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3" marL="1004760" indent="-228600">
              <a:spcBef>
                <a:spcPts val="601"/>
              </a:spcBef>
              <a:buClr>
                <a:srgbClr val="f9b63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4" marL="1279440" indent="-228600">
              <a:spcBef>
                <a:spcPts val="601"/>
              </a:spcBef>
              <a:buClr>
                <a:srgbClr val="f9b639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5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  <a:p>
            <a:pPr lvl="6" marL="127944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rebuchet MS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5"/>
          </p:nvPr>
        </p:nvSpPr>
        <p:spPr>
          <a:xfrm>
            <a:off x="4246200" y="6558120"/>
            <a:ext cx="2001960" cy="22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6"/>
          </p:nvPr>
        </p:nvSpPr>
        <p:spPr>
          <a:xfrm>
            <a:off x="457200" y="6557760"/>
            <a:ext cx="3657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27"/>
          </p:nvPr>
        </p:nvSpPr>
        <p:spPr>
          <a:xfrm>
            <a:off x="6251400" y="6555960"/>
            <a:ext cx="588960" cy="22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b13f9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D14D9-B87D-406B-82B6-C7CCF0070782}" type="slidenum">
              <a:rPr b="0" lang="ru-RU" sz="1100" spc="-1" strike="noStrike">
                <a:solidFill>
                  <a:srgbClr val="b13f9a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jpeg"/><Relationship Id="rId5" Type="http://schemas.openxmlformats.org/officeDocument/2006/relationships/slideLayout" Target="../slideLayouts/slideLayout157.xml"/><Relationship Id="rId6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97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36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57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1" name="Rectangle 2" descr=""/>
          <p:cNvPicPr/>
          <p:nvPr/>
        </p:nvPicPr>
        <p:blipFill>
          <a:blip r:embed="rId1"/>
          <a:stretch/>
        </p:blipFill>
        <p:spPr>
          <a:xfrm>
            <a:off x="249120" y="981000"/>
            <a:ext cx="9772920" cy="39196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1" descr="%D0%BF%D1%80%D0%B0%D0%B2%D0%BE_17"/>
          <p:cNvPicPr/>
          <p:nvPr/>
        </p:nvPicPr>
        <p:blipFill>
          <a:blip r:embed="rId2"/>
          <a:stretch/>
        </p:blipFill>
        <p:spPr>
          <a:xfrm>
            <a:off x="0" y="4878360"/>
            <a:ext cx="1979640" cy="1979640"/>
          </a:xfrm>
          <a:prstGeom prst="rect">
            <a:avLst/>
          </a:prstGeom>
          <a:ln w="0">
            <a:noFill/>
          </a:ln>
        </p:spPr>
      </p:pic>
      <p:sp>
        <p:nvSpPr>
          <p:cNvPr id="1803" name="Місце для нижнього колонтитула 1"/>
          <p:cNvSpPr/>
          <p:nvPr/>
        </p:nvSpPr>
        <p:spPr>
          <a:xfrm>
            <a:off x="137160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imes New Roman"/>
              </a:rPr>
              <a:t>            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Антипод правовой культуры –   </a:t>
            </a:r>
            <a:br>
              <a:rPr sz="4000"/>
            </a:b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                   правовой нигилизм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5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53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«Закон что дышло, куда повернешь, туда и вышло»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«Где закон, там и обида»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«Что мне законы, коли судьи знакомы».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90000"/>
              <a:buFont typeface="Wingdings" charset="2"/>
              <a:buChar char="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eaeaea"/>
                </a:solidFill>
                <a:latin typeface="Times New Roman"/>
              </a:rPr>
              <a:t>«Закон топтать нельзя, а вокруг ходить можно»</a:t>
            </a: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856" name="Picture 4" descr="206"/>
          <p:cNvPicPr/>
          <p:nvPr/>
        </p:nvPicPr>
        <p:blipFill>
          <a:blip r:embed="rId1"/>
          <a:stretch/>
        </p:blipFill>
        <p:spPr>
          <a:xfrm>
            <a:off x="3492360" y="4797360"/>
            <a:ext cx="2016360" cy="2060640"/>
          </a:xfrm>
          <a:prstGeom prst="rect">
            <a:avLst/>
          </a:prstGeom>
          <a:ln w="0">
            <a:noFill/>
          </a:ln>
        </p:spPr>
      </p:pic>
      <p:sp>
        <p:nvSpPr>
          <p:cNvPr id="1857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-252720" y="291960"/>
            <a:ext cx="900108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bbd71"/>
                </a:solidFill>
                <a:latin typeface="Arial"/>
              </a:rPr>
              <a:t>   </a:t>
            </a:r>
            <a:r>
              <a:rPr b="1" i="1" lang="ru-RU" sz="4000" spc="-1" strike="noStrike">
                <a:solidFill>
                  <a:srgbClr val="dbbd71"/>
                </a:solidFill>
                <a:latin typeface="Arial"/>
              </a:rPr>
              <a:t>Правосознание – важнейший   </a:t>
            </a:r>
            <a:br>
              <a:rPr sz="4000"/>
            </a:br>
            <a:r>
              <a:rPr b="1" i="1" lang="ru-RU" sz="4000" spc="-1" strike="noStrike">
                <a:solidFill>
                  <a:srgbClr val="dbbd71"/>
                </a:solidFill>
                <a:latin typeface="Arial"/>
              </a:rPr>
              <a:t>     элемент правовой культуры </a:t>
            </a: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108000" y="1916280"/>
            <a:ext cx="316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В широком смысл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Единств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вовых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знаний, иде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беждений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чувств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тношений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6215040" y="1905120"/>
            <a:ext cx="2928960" cy="46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     </a:t>
            </a: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В узком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     </a:t>
            </a:r>
            <a:r>
              <a:rPr b="1" lang="ru-RU" sz="2800" spc="-1" strike="noStrike" u="sng">
                <a:solidFill>
                  <a:srgbClr val="ff3300"/>
                </a:solidFill>
                <a:uFillTx/>
                <a:latin typeface="Tahoma"/>
              </a:rPr>
              <a:t>смысле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беждение в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еобходимости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всеобщего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одчинени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вовым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нормам дл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блага обществ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61" name="Picture 7" descr="obraz"/>
          <p:cNvPicPr/>
          <p:nvPr/>
        </p:nvPicPr>
        <p:blipFill>
          <a:blip r:embed="rId1"/>
          <a:stretch/>
        </p:blipFill>
        <p:spPr>
          <a:xfrm>
            <a:off x="2916360" y="3357720"/>
            <a:ext cx="3095640" cy="2366640"/>
          </a:xfrm>
          <a:prstGeom prst="rect">
            <a:avLst/>
          </a:prstGeom>
          <a:ln w="0">
            <a:noFill/>
          </a:ln>
        </p:spPr>
      </p:pic>
      <p:sp>
        <p:nvSpPr>
          <p:cNvPr id="186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3" name="Rectangle 2" descr=""/>
          <p:cNvPicPr/>
          <p:nvPr/>
        </p:nvPicPr>
        <p:blipFill>
          <a:blip r:embed="rId1"/>
          <a:stretch/>
        </p:blipFill>
        <p:spPr>
          <a:xfrm>
            <a:off x="0" y="-158760"/>
            <a:ext cx="9277200" cy="1500120"/>
          </a:xfrm>
          <a:prstGeom prst="rect">
            <a:avLst/>
          </a:prstGeom>
          <a:ln w="0">
            <a:noFill/>
          </a:ln>
        </p:spPr>
      </p:pic>
      <p:sp>
        <p:nvSpPr>
          <p:cNvPr id="1864" name=""/>
          <p:cNvSpPr txBox="1"/>
          <p:nvPr/>
        </p:nvSpPr>
        <p:spPr>
          <a:xfrm>
            <a:off x="457200" y="928800"/>
            <a:ext cx="8229600" cy="55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51"/>
              </a:spcBef>
              <a:buClr>
                <a:srgbClr val="727ca3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Осведомленность в вопросах политик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51"/>
              </a:spcBef>
              <a:buClr>
                <a:srgbClr val="727ca3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Активность в политической област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609480" indent="-609480">
              <a:spcBef>
                <a:spcPts val="751"/>
              </a:spcBef>
              <a:buClr>
                <a:srgbClr val="727ca3"/>
              </a:buClr>
              <a:buSzPct val="80000"/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entury Gothic"/>
              </a:rPr>
              <a:t>Положительное отношение к политике как роду человеческой деятельности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865" name="Picture 11" descr="j0343393"/>
          <p:cNvPicPr/>
          <p:nvPr/>
        </p:nvPicPr>
        <p:blipFill>
          <a:blip r:embed="rId2"/>
          <a:stretch/>
        </p:blipFill>
        <p:spPr>
          <a:xfrm>
            <a:off x="3924360" y="4076640"/>
            <a:ext cx="1247760" cy="2521080"/>
          </a:xfrm>
          <a:prstGeom prst="rect">
            <a:avLst/>
          </a:prstGeom>
          <a:ln w="76320">
            <a:solidFill>
              <a:srgbClr val="ffcc00"/>
            </a:solidFill>
            <a:miter/>
          </a:ln>
        </p:spPr>
      </p:pic>
      <p:grpSp>
        <p:nvGrpSpPr>
          <p:cNvPr id="1866" name="Group 14"/>
          <p:cNvGrpSpPr/>
          <p:nvPr/>
        </p:nvGrpSpPr>
        <p:grpSpPr>
          <a:xfrm>
            <a:off x="7093080" y="4508640"/>
            <a:ext cx="1818720" cy="2461680"/>
            <a:chOff x="7093080" y="4508640"/>
            <a:chExt cx="1818720" cy="2461680"/>
          </a:xfrm>
        </p:grpSpPr>
        <p:pic>
          <p:nvPicPr>
            <p:cNvPr id="1867" name="Picture 15" descr="j0229051"/>
            <p:cNvPicPr/>
            <p:nvPr/>
          </p:nvPicPr>
          <p:blipFill>
            <a:blip r:embed="rId3"/>
            <a:stretch/>
          </p:blipFill>
          <p:spPr>
            <a:xfrm>
              <a:off x="7093080" y="4508640"/>
              <a:ext cx="1818720" cy="213012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1868" name="Text Box 16"/>
            <p:cNvSpPr/>
            <p:nvPr/>
          </p:nvSpPr>
          <p:spPr>
            <a:xfrm>
              <a:off x="7909920" y="6514200"/>
              <a:ext cx="18216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69" name="Picture 21" descr="i?id=34623584&amp;tov=3"/>
          <p:cNvPicPr/>
          <p:nvPr/>
        </p:nvPicPr>
        <p:blipFill>
          <a:blip r:embed="rId4"/>
          <a:stretch/>
        </p:blipFill>
        <p:spPr>
          <a:xfrm>
            <a:off x="0" y="4508640"/>
            <a:ext cx="2208240" cy="2349360"/>
          </a:xfrm>
          <a:prstGeom prst="rect">
            <a:avLst/>
          </a:prstGeom>
          <a:ln w="0">
            <a:noFill/>
          </a:ln>
        </p:spPr>
      </p:pic>
      <p:sp>
        <p:nvSpPr>
          <p:cNvPr id="1870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"/>
          <p:cNvSpPr txBox="1"/>
          <p:nvPr/>
        </p:nvSpPr>
        <p:spPr>
          <a:xfrm>
            <a:off x="457200" y="1499760"/>
            <a:ext cx="8229600" cy="451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76280" indent="-357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ществительн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8e19f"/>
                </a:solidFill>
                <a:latin typeface="Arial"/>
              </a:rPr>
              <a:t>Прилагательное                    Прилагательное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Глагол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Глагол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Глаго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8e19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8e19f"/>
                </a:solidFill>
                <a:latin typeface="Arial"/>
              </a:rPr>
              <a:t>Фраза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                                  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Существительное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(вывод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476280" indent="-3574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2" name="Text Box 4"/>
          <p:cNvSpPr/>
          <p:nvPr/>
        </p:nvSpPr>
        <p:spPr>
          <a:xfrm>
            <a:off x="826920" y="0"/>
            <a:ext cx="7058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Text Box 5"/>
          <p:cNvSpPr/>
          <p:nvPr/>
        </p:nvSpPr>
        <p:spPr>
          <a:xfrm>
            <a:off x="611280" y="-171360"/>
            <a:ext cx="799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Составьте синквейн со словом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               </a:t>
            </a: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«правосознание»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8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8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8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8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8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8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18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8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8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5" name="Rectangle 2" descr=""/>
          <p:cNvPicPr/>
          <p:nvPr/>
        </p:nvPicPr>
        <p:blipFill>
          <a:blip r:embed="rId1"/>
          <a:stretch/>
        </p:blipFill>
        <p:spPr>
          <a:xfrm>
            <a:off x="0" y="324000"/>
            <a:ext cx="8070840" cy="1504800"/>
          </a:xfrm>
          <a:prstGeom prst="rect">
            <a:avLst/>
          </a:prstGeom>
          <a:ln w="0">
            <a:noFill/>
          </a:ln>
        </p:spPr>
      </p:pic>
      <p:pic>
        <p:nvPicPr>
          <p:cNvPr id="1876" name="Picture 9" descr="22-04-2009-pravo"/>
          <p:cNvPicPr/>
          <p:nvPr/>
        </p:nvPicPr>
        <p:blipFill>
          <a:blip r:embed="rId2"/>
          <a:stretch/>
        </p:blipFill>
        <p:spPr>
          <a:xfrm>
            <a:off x="3500280" y="4929120"/>
            <a:ext cx="1524240" cy="1619280"/>
          </a:xfrm>
          <a:prstGeom prst="rect">
            <a:avLst/>
          </a:prstGeom>
          <a:ln w="0">
            <a:noFill/>
          </a:ln>
        </p:spPr>
      </p:pic>
      <p:sp>
        <p:nvSpPr>
          <p:cNvPr id="1877" name="Text Box 10"/>
          <p:cNvSpPr/>
          <p:nvPr/>
        </p:nvSpPr>
        <p:spPr>
          <a:xfrm>
            <a:off x="611280" y="2000160"/>
            <a:ext cx="6697440" cy="267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Урок 16, стр. 69-7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Письменно ответить на вопрос «Каждый ли человек может обладать активной правозащитной позицией?»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8" name="Місце для нижнього колонтитула 1"/>
          <p:cNvSpPr/>
          <p:nvPr/>
        </p:nvSpPr>
        <p:spPr>
          <a:xfrm>
            <a:off x="457200" y="6558120"/>
            <a:ext cx="3657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b13f9a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685440" y="404640"/>
            <a:ext cx="8062920" cy="325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800" spc="-1" strike="noStrike">
                <a:solidFill>
                  <a:srgbClr val="ff8d3e"/>
                </a:solidFill>
                <a:latin typeface="Verdana"/>
              </a:rPr>
              <a:t>Тема урока:</a:t>
            </a:r>
            <a:br>
              <a:rPr sz="8800"/>
            </a:br>
            <a:br>
              <a:rPr sz="5400"/>
            </a:br>
            <a:endParaRPr b="1" lang="en-US" sz="8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 type="subTitle"/>
          </p:nvPr>
        </p:nvSpPr>
        <p:spPr>
          <a:xfrm>
            <a:off x="0" y="2071440"/>
            <a:ext cx="9252000" cy="1258920"/>
          </a:xfrm>
          <a:prstGeom prst="rect">
            <a:avLst/>
          </a:prstGeom>
          <a:noFill/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9766f"/>
                </a:solidFill>
                <a:latin typeface="Verdana"/>
              </a:rPr>
              <a:t>«ПРАВОВАЯ КУЛЬТУРА»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06" name="Picture 8" descr="yrist"/>
          <p:cNvPicPr/>
          <p:nvPr/>
        </p:nvPicPr>
        <p:blipFill>
          <a:blip r:embed="rId1"/>
          <a:stretch/>
        </p:blipFill>
        <p:spPr>
          <a:xfrm>
            <a:off x="3419640" y="3645000"/>
            <a:ext cx="2447640" cy="2846160"/>
          </a:xfrm>
          <a:prstGeom prst="rect">
            <a:avLst/>
          </a:prstGeom>
          <a:ln w="0">
            <a:noFill/>
          </a:ln>
        </p:spPr>
      </p:pic>
      <p:sp>
        <p:nvSpPr>
          <p:cNvPr id="1807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Rectangle 4"/>
          <p:cNvSpPr/>
          <p:nvPr/>
        </p:nvSpPr>
        <p:spPr>
          <a:xfrm>
            <a:off x="140760" y="1478520"/>
            <a:ext cx="84193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Весь мир театр,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А люди в нем – актеры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ru-RU" sz="3600" spc="-1" strike="noStrike">
                <a:solidFill>
                  <a:srgbClr val="ffffff"/>
                </a:solidFill>
                <a:latin typeface="Tahoma"/>
              </a:rPr>
              <a:t>И каждый там свою играет роль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ahoma"/>
              </a:rPr>
              <a:t>                                                   </a:t>
            </a:r>
            <a:r>
              <a:rPr b="0" lang="ru-RU" sz="3600" spc="-1" strike="noStrike">
                <a:solidFill>
                  <a:srgbClr val="ffffff"/>
                </a:solidFill>
                <a:latin typeface="Tahoma"/>
              </a:rPr>
              <a:t>Шекспир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Text Box 7"/>
          <p:cNvSpPr/>
          <p:nvPr/>
        </p:nvSpPr>
        <p:spPr>
          <a:xfrm>
            <a:off x="785880" y="836640"/>
            <a:ext cx="55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Эпиграф урока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Місце для нижнього колонтитула 1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2f2f2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5483160" cy="12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8d3e"/>
                </a:solidFill>
                <a:latin typeface="Verdana"/>
              </a:rPr>
              <a:t>   </a:t>
            </a:r>
            <a:r>
              <a:rPr b="1" lang="ru-RU" sz="4800" spc="-1" strike="noStrike">
                <a:solidFill>
                  <a:srgbClr val="ff00ff"/>
                </a:solidFill>
                <a:latin typeface="Verdana"/>
              </a:rPr>
              <a:t>ЦЕЛИ УРОКА:</a:t>
            </a:r>
            <a:endParaRPr b="1" lang="en-US" sz="48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12" name=""/>
          <p:cNvSpPr txBox="1"/>
          <p:nvPr/>
        </p:nvSpPr>
        <p:spPr>
          <a:xfrm>
            <a:off x="428400" y="1785960"/>
            <a:ext cx="7715160" cy="411480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Знакомство с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основами правовой 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культуры.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Воспитание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уважительного 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000000"/>
                </a:solidFill>
                <a:latin typeface="Verdana"/>
              </a:rPr>
              <a:t>отношения к праву.</a:t>
            </a: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3" name="Picture 9" descr="i?id=65643925&amp;tov=5"/>
          <p:cNvPicPr/>
          <p:nvPr/>
        </p:nvPicPr>
        <p:blipFill>
          <a:blip r:embed="rId1"/>
          <a:stretch/>
        </p:blipFill>
        <p:spPr>
          <a:xfrm>
            <a:off x="6643800" y="500040"/>
            <a:ext cx="1979640" cy="1692360"/>
          </a:xfrm>
          <a:prstGeom prst="rect">
            <a:avLst/>
          </a:prstGeom>
          <a:ln w="0">
            <a:noFill/>
          </a:ln>
        </p:spPr>
      </p:pic>
      <p:grpSp>
        <p:nvGrpSpPr>
          <p:cNvPr id="1814" name="Group 10"/>
          <p:cNvGrpSpPr/>
          <p:nvPr/>
        </p:nvGrpSpPr>
        <p:grpSpPr>
          <a:xfrm>
            <a:off x="6429240" y="4429080"/>
            <a:ext cx="2160360" cy="1744200"/>
            <a:chOff x="6429240" y="4429080"/>
            <a:chExt cx="2160360" cy="1744200"/>
          </a:xfrm>
        </p:grpSpPr>
        <p:pic>
          <p:nvPicPr>
            <p:cNvPr id="1815" name="Picture 11" descr="j0286939"/>
            <p:cNvPicPr/>
            <p:nvPr/>
          </p:nvPicPr>
          <p:blipFill>
            <a:blip r:embed="rId2"/>
            <a:stretch/>
          </p:blipFill>
          <p:spPr>
            <a:xfrm>
              <a:off x="7120800" y="4429080"/>
              <a:ext cx="1468800" cy="1342800"/>
            </a:xfrm>
            <a:prstGeom prst="rect">
              <a:avLst/>
            </a:prstGeom>
            <a:ln w="76320">
              <a:solidFill>
                <a:srgbClr val="ff0000"/>
              </a:solidFill>
              <a:miter/>
            </a:ln>
          </p:spPr>
        </p:pic>
        <p:sp>
          <p:nvSpPr>
            <p:cNvPr id="1816" name="Text Box 12"/>
            <p:cNvSpPr/>
            <p:nvPr/>
          </p:nvSpPr>
          <p:spPr>
            <a:xfrm>
              <a:off x="6429240" y="5717160"/>
              <a:ext cx="184680" cy="45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17" name="Місце для нижнього колонтитула 1"/>
          <p:cNvSpPr/>
          <p:nvPr/>
        </p:nvSpPr>
        <p:spPr>
          <a:xfrm>
            <a:off x="6062760" y="6111720"/>
            <a:ext cx="2286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a7a399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       </a:t>
            </a:r>
            <a:r>
              <a:rPr b="1" lang="ru-RU" sz="4400" spc="-1" strike="noStrike">
                <a:solidFill>
                  <a:srgbClr val="66ff33"/>
                </a:solidFill>
                <a:latin typeface="Tahoma"/>
              </a:rPr>
              <a:t>ПЛАН УРО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Что такое  культура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авовая культур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равосознание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Политическая культура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20" name="Рисунок 3" descr="boy.gif"/>
          <p:cNvPicPr/>
          <p:nvPr/>
        </p:nvPicPr>
        <p:blipFill>
          <a:blip r:embed="rId1"/>
          <a:stretch/>
        </p:blipFill>
        <p:spPr>
          <a:xfrm>
            <a:off x="2340000" y="4365720"/>
            <a:ext cx="4465440" cy="2378160"/>
          </a:xfrm>
          <a:prstGeom prst="rect">
            <a:avLst/>
          </a:prstGeom>
          <a:ln w="0">
            <a:noFill/>
          </a:ln>
        </p:spPr>
      </p:pic>
      <p:sp>
        <p:nvSpPr>
          <p:cNvPr id="182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2" name="Rectangle 2" descr=""/>
          <p:cNvPicPr/>
          <p:nvPr/>
        </p:nvPicPr>
        <p:blipFill>
          <a:blip r:embed="rId1"/>
          <a:stretch/>
        </p:blipFill>
        <p:spPr>
          <a:xfrm>
            <a:off x="457200" y="0"/>
            <a:ext cx="8229600" cy="907920"/>
          </a:xfrm>
          <a:prstGeom prst="rect">
            <a:avLst/>
          </a:prstGeom>
          <a:ln w="0">
            <a:noFill/>
          </a:ln>
        </p:spPr>
      </p:pic>
      <p:sp>
        <p:nvSpPr>
          <p:cNvPr id="1823" name="Oval 4"/>
          <p:cNvSpPr/>
          <p:nvPr/>
        </p:nvSpPr>
        <p:spPr>
          <a:xfrm>
            <a:off x="2556000" y="2205000"/>
            <a:ext cx="3673440" cy="2016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6b9f2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Tahoma"/>
              </a:rPr>
              <a:t>Культур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Line 6"/>
          <p:cNvSpPr/>
          <p:nvPr/>
        </p:nvSpPr>
        <p:spPr>
          <a:xfrm flipV="1">
            <a:off x="4427640" y="1125000"/>
            <a:ext cx="0" cy="100836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Line 7"/>
          <p:cNvSpPr/>
          <p:nvPr/>
        </p:nvSpPr>
        <p:spPr>
          <a:xfrm flipV="1">
            <a:off x="5580000" y="1557360"/>
            <a:ext cx="1081080" cy="93672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Line 8"/>
          <p:cNvSpPr/>
          <p:nvPr/>
        </p:nvSpPr>
        <p:spPr>
          <a:xfrm flipV="1">
            <a:off x="6227640" y="3284280"/>
            <a:ext cx="1800360" cy="73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Line 9"/>
          <p:cNvSpPr/>
          <p:nvPr/>
        </p:nvSpPr>
        <p:spPr>
          <a:xfrm>
            <a:off x="5580000" y="4005360"/>
            <a:ext cx="936720" cy="1224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Line 10"/>
          <p:cNvSpPr/>
          <p:nvPr/>
        </p:nvSpPr>
        <p:spPr>
          <a:xfrm>
            <a:off x="4500720" y="4292640"/>
            <a:ext cx="0" cy="1224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Line 11"/>
          <p:cNvSpPr/>
          <p:nvPr/>
        </p:nvSpPr>
        <p:spPr>
          <a:xfrm flipH="1">
            <a:off x="2050920" y="4149720"/>
            <a:ext cx="1440000" cy="10810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Line 12"/>
          <p:cNvSpPr/>
          <p:nvPr/>
        </p:nvSpPr>
        <p:spPr>
          <a:xfrm flipH="1" flipV="1">
            <a:off x="900000" y="3141720"/>
            <a:ext cx="1657440" cy="71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Line 13"/>
          <p:cNvSpPr/>
          <p:nvPr/>
        </p:nvSpPr>
        <p:spPr>
          <a:xfrm flipH="1" flipV="1">
            <a:off x="2195280" y="1413000"/>
            <a:ext cx="936360" cy="100800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2" name="Picture 9" descr="C:\Мои документы\Учителя\Смирнова\рисунки\37.jpg"/>
          <p:cNvPicPr/>
          <p:nvPr/>
        </p:nvPicPr>
        <p:blipFill>
          <a:blip r:embed="rId2"/>
          <a:stretch/>
        </p:blipFill>
        <p:spPr>
          <a:xfrm>
            <a:off x="6851520" y="5500800"/>
            <a:ext cx="2292480" cy="1357200"/>
          </a:xfrm>
          <a:prstGeom prst="rect">
            <a:avLst/>
          </a:prstGeom>
          <a:ln w="0">
            <a:noFill/>
          </a:ln>
        </p:spPr>
      </p:pic>
      <p:pic>
        <p:nvPicPr>
          <p:cNvPr id="1833" name="Picture 16" descr="i?id=82752023&amp;tov=8"/>
          <p:cNvPicPr/>
          <p:nvPr/>
        </p:nvPicPr>
        <p:blipFill>
          <a:blip r:embed="rId3"/>
          <a:srcRect l="18920" t="12935" r="17464" b="0"/>
          <a:stretch/>
        </p:blipFill>
        <p:spPr>
          <a:xfrm>
            <a:off x="0" y="0"/>
            <a:ext cx="1643040" cy="2151000"/>
          </a:xfrm>
          <a:prstGeom prst="rect">
            <a:avLst/>
          </a:prstGeom>
          <a:ln w="0">
            <a:noFill/>
          </a:ln>
        </p:spPr>
      </p:pic>
      <p:pic>
        <p:nvPicPr>
          <p:cNvPr id="1834" name="Picture 18" descr="museum10_"/>
          <p:cNvPicPr/>
          <p:nvPr/>
        </p:nvPicPr>
        <p:blipFill>
          <a:blip r:embed="rId4"/>
          <a:stretch/>
        </p:blipFill>
        <p:spPr>
          <a:xfrm>
            <a:off x="7358040" y="214200"/>
            <a:ext cx="1785960" cy="1957680"/>
          </a:xfrm>
          <a:prstGeom prst="rect">
            <a:avLst/>
          </a:prstGeom>
          <a:ln w="0">
            <a:noFill/>
          </a:ln>
        </p:spPr>
      </p:pic>
      <p:pic>
        <p:nvPicPr>
          <p:cNvPr id="1835" name="Picture 19" descr="Сватовство Майора"/>
          <p:cNvPicPr/>
          <p:nvPr/>
        </p:nvPicPr>
        <p:blipFill>
          <a:blip r:embed="rId5">
            <a:lum contrast="12000"/>
          </a:blip>
          <a:stretch/>
        </p:blipFill>
        <p:spPr>
          <a:xfrm>
            <a:off x="0" y="5072040"/>
            <a:ext cx="2000160" cy="1785960"/>
          </a:xfrm>
          <a:prstGeom prst="rect">
            <a:avLst/>
          </a:prstGeom>
          <a:ln w="0">
            <a:noFill/>
          </a:ln>
        </p:spPr>
      </p:pic>
      <p:sp>
        <p:nvSpPr>
          <p:cNvPr id="1836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"/>
          <p:cNvSpPr txBox="1"/>
          <p:nvPr/>
        </p:nvSpPr>
        <p:spPr>
          <a:xfrm>
            <a:off x="46836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ff"/>
                </a:solidFill>
                <a:latin typeface="Century Gothic"/>
              </a:rPr>
              <a:t>  </a:t>
            </a:r>
            <a:r>
              <a:rPr b="1" lang="ru-RU" sz="4000" spc="-1" strike="noStrike">
                <a:solidFill>
                  <a:srgbClr val="ff00ff"/>
                </a:solidFill>
                <a:latin typeface="Century Gothic"/>
              </a:rPr>
              <a:t>Культура (в переводе с латинского языка – возделывание) - это все, что создано человеком и отлично от природы.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838" name="Picture 6" descr="C:\Мои документы\Учителя\Смирнова\рисунки\28.jpg"/>
          <p:cNvPicPr/>
          <p:nvPr/>
        </p:nvPicPr>
        <p:blipFill>
          <a:blip r:embed="rId1"/>
          <a:stretch/>
        </p:blipFill>
        <p:spPr>
          <a:xfrm>
            <a:off x="3635280" y="5376960"/>
            <a:ext cx="1181160" cy="1481040"/>
          </a:xfrm>
          <a:prstGeom prst="rect">
            <a:avLst/>
          </a:prstGeom>
          <a:ln w="0">
            <a:noFill/>
          </a:ln>
        </p:spPr>
      </p:pic>
      <p:pic>
        <p:nvPicPr>
          <p:cNvPr id="1839" name="Picture 6" descr="i?id=3681989&amp;tov=7"/>
          <p:cNvPicPr/>
          <p:nvPr/>
        </p:nvPicPr>
        <p:blipFill>
          <a:blip r:embed="rId2"/>
          <a:srcRect l="0" t="0" r="4828" b="11535"/>
          <a:stretch/>
        </p:blipFill>
        <p:spPr>
          <a:xfrm>
            <a:off x="6804000" y="5272200"/>
            <a:ext cx="2340000" cy="1585800"/>
          </a:xfrm>
          <a:prstGeom prst="rect">
            <a:avLst/>
          </a:prstGeom>
          <a:ln w="0">
            <a:noFill/>
          </a:ln>
        </p:spPr>
      </p:pic>
      <p:pic>
        <p:nvPicPr>
          <p:cNvPr id="1840" name="Picture 7" descr="Moscow_Bolshoi_Theatre"/>
          <p:cNvPicPr/>
          <p:nvPr/>
        </p:nvPicPr>
        <p:blipFill>
          <a:blip r:embed="rId3"/>
          <a:stretch/>
        </p:blipFill>
        <p:spPr>
          <a:xfrm>
            <a:off x="6407280" y="115920"/>
            <a:ext cx="2736720" cy="1814400"/>
          </a:xfrm>
          <a:prstGeom prst="rect">
            <a:avLst/>
          </a:prstGeom>
          <a:ln w="0">
            <a:noFill/>
          </a:ln>
        </p:spPr>
      </p:pic>
      <p:pic>
        <p:nvPicPr>
          <p:cNvPr id="1841" name="Picture 8" descr="448px-Russia-Moscow-Cathedral_of_Christ_the_Saviour-3"/>
          <p:cNvPicPr/>
          <p:nvPr/>
        </p:nvPicPr>
        <p:blipFill>
          <a:blip r:embed="rId4"/>
          <a:srcRect l="0" t="14798" r="0" b="0"/>
          <a:stretch/>
        </p:blipFill>
        <p:spPr>
          <a:xfrm>
            <a:off x="0" y="0"/>
            <a:ext cx="1889280" cy="2060640"/>
          </a:xfrm>
          <a:prstGeom prst="rect">
            <a:avLst/>
          </a:prstGeom>
          <a:ln w="0">
            <a:noFill/>
          </a:ln>
        </p:spPr>
      </p:pic>
      <p:pic>
        <p:nvPicPr>
          <p:cNvPr id="1842" name="Рисунок 5" descr="1.jpg"/>
          <p:cNvPicPr/>
          <p:nvPr/>
        </p:nvPicPr>
        <p:blipFill>
          <a:blip r:embed="rId5"/>
          <a:stretch/>
        </p:blipFill>
        <p:spPr>
          <a:xfrm>
            <a:off x="0" y="5157720"/>
            <a:ext cx="1366920" cy="1700280"/>
          </a:xfrm>
          <a:prstGeom prst="rect">
            <a:avLst/>
          </a:prstGeom>
          <a:ln w="0">
            <a:noFill/>
          </a:ln>
        </p:spPr>
      </p:pic>
      <p:sp>
        <p:nvSpPr>
          <p:cNvPr id="1843" name="Місце для нижнього колонтитула 1"/>
          <p:cNvSpPr/>
          <p:nvPr/>
        </p:nvSpPr>
        <p:spPr>
          <a:xfrm>
            <a:off x="457200" y="6481800"/>
            <a:ext cx="4259160" cy="2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1547280" y="291960"/>
            <a:ext cx="713916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4400" spc="-1" strike="noStrike">
                <a:solidFill>
                  <a:srgbClr val="ffffff"/>
                </a:solidFill>
                <a:latin typeface="Tahoma"/>
              </a:rPr>
              <a:t>Правовая культур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45" name=""/>
          <p:cNvGraphicFramePr/>
          <p:nvPr/>
        </p:nvGraphicFramePr>
        <p:xfrm>
          <a:off x="1619280" y="3141720"/>
          <a:ext cx="6048360" cy="3487680"/>
        </p:xfrm>
        <a:graphic>
          <a:graphicData uri="http://schemas.openxmlformats.org/drawingml/2006/table">
            <a:tbl>
              <a:tblPr/>
              <a:tblGrid>
                <a:gridCol w="6048360"/>
              </a:tblGrid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аконопослушное повед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Уважение к закона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нание закон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46" name="AutoShape 23"/>
          <p:cNvSpPr/>
          <p:nvPr/>
        </p:nvSpPr>
        <p:spPr>
          <a:xfrm>
            <a:off x="611280" y="1773360"/>
            <a:ext cx="7993080" cy="1439640"/>
          </a:xfrm>
          <a:prstGeom prst="triangle">
            <a:avLst>
              <a:gd name="adj" fmla="val 50000"/>
            </a:avLst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Text Box 26"/>
          <p:cNvSpPr/>
          <p:nvPr/>
        </p:nvSpPr>
        <p:spPr>
          <a:xfrm>
            <a:off x="3780000" y="1989000"/>
            <a:ext cx="1439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Tahoma"/>
              </a:rPr>
              <a:t>  </a:t>
            </a:r>
            <a:r>
              <a:rPr b="1" lang="ru-RU" sz="6600" spc="-1" strike="noStrike">
                <a:solidFill>
                  <a:srgbClr val="ff3300"/>
                </a:solidFill>
                <a:latin typeface="Tahoma"/>
              </a:rPr>
              <a:t>?</a:t>
            </a:r>
            <a:r>
              <a:rPr b="0" lang="ru-RU" sz="60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   </a:t>
            </a: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Правовая культура</a:t>
            </a:r>
            <a:r>
              <a:rPr b="0" lang="ru-RU" sz="4400" spc="-1" strike="noStrike">
                <a:solidFill>
                  <a:srgbClr val="ffffff"/>
                </a:solidFill>
                <a:latin typeface="Tahoma"/>
              </a:rPr>
              <a:t>   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850" name=""/>
          <p:cNvGraphicFramePr/>
          <p:nvPr/>
        </p:nvGraphicFramePr>
        <p:xfrm>
          <a:off x="1619280" y="3141720"/>
          <a:ext cx="6048360" cy="3487680"/>
        </p:xfrm>
        <a:graphic>
          <a:graphicData uri="http://schemas.openxmlformats.org/drawingml/2006/table">
            <a:tbl>
              <a:tblPr/>
              <a:tblGrid>
                <a:gridCol w="6048360"/>
              </a:tblGrid>
              <a:tr h="115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аконопослушное поведени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cc"/>
                    </a:solidFill>
                  </a:tcPr>
                </a:tc>
              </a:tr>
              <a:tr h="116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Уважение к закона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cc"/>
                    </a:solidFill>
                  </a:tcPr>
                </a:tc>
              </a:tr>
              <a:tr h="116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 </a:t>
                      </a:r>
                      <a:r>
                        <a:rPr b="1" lang="ru-RU" sz="2800" spc="-1" strike="noStrike">
                          <a:solidFill>
                            <a:srgbClr val="ff3300"/>
                          </a:solidFill>
                          <a:latin typeface="Tahoma"/>
                        </a:rPr>
                        <a:t>Знание законов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9900cc"/>
                    </a:solidFill>
                  </a:tcPr>
                </a:tc>
              </a:tr>
            </a:tbl>
          </a:graphicData>
        </a:graphic>
      </p:graphicFrame>
      <p:sp>
        <p:nvSpPr>
          <p:cNvPr id="1851" name="AutoShape 13"/>
          <p:cNvSpPr/>
          <p:nvPr/>
        </p:nvSpPr>
        <p:spPr>
          <a:xfrm>
            <a:off x="611280" y="1773360"/>
            <a:ext cx="7993080" cy="143964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Text Box 14"/>
          <p:cNvSpPr/>
          <p:nvPr/>
        </p:nvSpPr>
        <p:spPr>
          <a:xfrm>
            <a:off x="2484360" y="1844640"/>
            <a:ext cx="496728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3300"/>
                </a:solidFill>
                <a:latin typeface="Tahoma"/>
              </a:rPr>
              <a:t>	</a:t>
            </a:r>
            <a:r>
              <a:rPr b="1" lang="ru-RU" sz="2800" spc="-1" strike="noStrike">
                <a:solidFill>
                  <a:srgbClr val="ff3300"/>
                </a:solidFill>
                <a:latin typeface="Tahoma"/>
              </a:rPr>
              <a:t>Активность правозащитной позиции</a:t>
            </a:r>
            <a:r>
              <a:rPr b="0" lang="ru-RU" sz="1200" spc="-1" strike="noStrike">
                <a:solidFill>
                  <a:srgbClr val="ff3300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3T13:59:18Z</dcterms:created>
  <dc:creator>HomeComp</dc:creator>
  <dc:description/>
  <dc:language>en-US</dc:language>
  <cp:lastModifiedBy>LEGION</cp:lastModifiedBy>
  <dcterms:modified xsi:type="dcterms:W3CDTF">2016-01-04T08:09:09Z</dcterms:modified>
  <cp:revision>31</cp:revision>
  <dc:subject/>
  <dc:title>УРОК ОБЩЕСТВОЗНАНИЯ 6 класс</dc:title>
</cp:coreProperties>
</file>