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6.png" ContentType="image/png"/>
  <Override PartName="/ppt/media/image30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6.wmf" ContentType="image/x-wmf"/>
  <Override PartName="/ppt/media/image1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14.png" ContentType="image/png"/>
  <Override PartName="/ppt/media/image1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dt" idx="1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ftr" idx="1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 type="sldNum" idx="1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5A17-F4A8-4115-8299-73A8DC8BE6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правовой ниги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де закон, там и оби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правовой ниги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де закон, там и обид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элемент правовой 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, и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е 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и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м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элемент правовой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ироком 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ний, ид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увст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уз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е в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м дл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а общ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в политиче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в политиче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Глаг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Глаг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в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инквейн со слово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созн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ьте синквейн со словом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сознани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16, стр. 69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КУЛЬ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ВАЯ КУЛЬТУ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 теат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люди в нем – акт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ждый там свою играет 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ксп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ь мир театр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люди в нем – акт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каждый там свою играет рол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експи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ми прав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ите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пр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комство 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ми прав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ажите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я к прав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ульту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 культу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 культура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правозащитной поз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правозащитной пози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572-3797-48C0-A143-C669FF78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DBF-1648-473D-8CB3-BA62994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ECAF3-A6C3-4CD5-B614-1CA1154F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37937-CB6E-453F-B189-C93BEB81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F4991-B486-4BF3-87EE-5F5CD417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4C755-8A19-4B4C-BEF3-CC6EC729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AACD0-6DA7-4934-B022-8876BF9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0F5D5-3434-4375-B888-83E2E0D5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22B0C-0660-4CB3-84B8-C1129A9D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C1963-229B-49EA-8C1A-6B69A6FD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F24D1-B488-4680-9285-ECA63094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3ED9B-8FC2-450D-8835-E7D65A8A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DE5-5F54-4D31-9E30-8AA761C7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EFE932-806C-45E6-BC5C-2BCE5449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3E8C58-4056-41E8-A00B-C47F7676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54075D-55FB-4D66-B885-47A258F8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AD60C9-A41A-4C43-A1D8-1050278C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F75606-B533-4DF6-ACD5-6B756863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B00721-1CA2-4844-847B-6D2004D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EBE52-ABF7-4DCA-86BB-5C18561E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5EA69C-D4C6-44B2-A46E-620A5F42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DB5380-4536-4C0C-BC64-5A12745F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BF317D-DDA2-4402-846D-2524DA3E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068-96F9-459C-83A4-E5245E0D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C6A8FE-A505-417E-89B4-8DD6EA54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D9FF0-5DBD-4B6D-9D7A-9A91E0FC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EB8EC-6854-4D9F-885E-3CCAB578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CB771-279B-4C25-8751-5E7B9305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1F612-CB49-4850-B389-176ECB4B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B4565-F846-47FA-A83F-0C706823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A30DF-48C9-407B-A8B2-2DFA9084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EDFA0-22CA-4341-B703-1ADC34E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E1F39-0C94-4A75-85B3-B0D648D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4C2B7-9A45-451A-8F90-C570F872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D0F0-141F-4C86-B076-27A443FB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D9C35-2FAA-42B1-A7B0-77407B40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1C10-72EE-4253-91BF-A4482446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7FEE2-44FE-4B4B-9F95-23DD73BF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91285-446B-41C2-8C2F-CCF09164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09DE3-798C-4BE2-B502-34B351EA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3DFAA-3AB7-440C-AD8E-C7305E04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B6B03-C780-4540-8EA2-F6A09557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17C6A-E1F0-4643-B18F-33929407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8E183-410B-4936-BC34-A72B49B5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ACFD8-B228-4291-AA14-A85DD8C8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5D40-142D-4242-9D3F-00EF9188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08FBF-4073-4BB7-B22D-AEFBBEF6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5F3AD-01E0-4FDE-88D3-73BB31B6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7781B-97E1-4A95-A0EF-9E0021D3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0CC25-5EF7-45B1-81B3-73B9D3BE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C72E2-37BB-451F-A213-410821B9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F4272-F5E0-4432-B832-15FAF4E2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C8175-9E9A-48F4-8E51-740FF43A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DD8C1-6E93-4E18-B75F-AD1D47BD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92DBD-063D-4F07-83A3-2EF2BEA8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0A523-A85F-4F71-9FAD-47983575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B08A-2EEC-4587-A4E8-9E38DB18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86AAD-CCBB-4902-A7A9-BBFC2D2A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F9CFA-59CB-4278-A3A6-532B0CBA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96239-6DAA-4222-8290-252044D9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91A24-2D92-4854-8F5A-7C202594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3EA6E-2B17-4C58-80E3-A14EB503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9D4E9-F504-4DB2-AEB5-926AC1A8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8BD4A-13E7-4AB2-ABC1-46507176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A980E-106A-4596-964E-7390645F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00702-39A5-4180-82E2-528EF979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521BB-E834-4304-9489-B12A7E08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CCD0-7542-4AC3-B2C2-51974C57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60506-77F4-4DE9-B53C-CB2036B6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2DE11-F157-4FE6-BD42-060F5CE7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A88D8-7123-405D-A3C3-E96657EB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A1075-A7F9-4D01-8C28-3083C3D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ED748-6B7F-4999-952A-3B21DB04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8EDFB-CECE-4469-A769-BBA61402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3D8F9-6CE1-49C6-A5C9-1EB3B7D5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36A3D-130A-49F8-90E8-A4F7D705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6FBE8-B5B8-4867-B026-833E9237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04EDC-B96A-49E3-8C7F-EB597EC4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9859-117D-4582-AC12-77FC26F0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3AB89-B71D-4A2A-A9AA-3A6F8D30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3AF7C-0495-43B1-9A54-61CE3338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EA866-53AA-4505-8676-B5C99FF2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5B4E5-0255-4EDF-B336-4364D14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16704-FF46-4D89-96A0-18912B5D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44260-B6BE-4B27-B694-67C9C46F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6BB6A-CA3D-4AC0-B916-47E01633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BA5F2-B915-4A2F-8803-D0670D7F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D4376-CED4-4DE9-89B7-6E8F317B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4186A-2D96-4074-9B2B-BC43C361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AC5C-A3AA-414D-91B3-4EF00D56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8E48A-C214-486B-8FDB-CEC21EAD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E7BD2-125C-4BFA-B3B0-3FD91005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97419-C350-45AE-AB24-07D16C0B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3A050-015F-479A-9A9F-C655A6C2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CB63C-B5D9-4B2A-A447-E1B390E1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075BBA-12A9-469B-BB32-8DEB056F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39B8D-D2D9-4EA8-B200-4CC23872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DC2B4-1AE2-48A9-BE9E-25F9A29A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A259B-DD87-48D5-AE27-8CB2929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FC1A8-E04F-4A4A-8A35-033FCF1D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7D97-0790-47C2-98EA-0825CA0D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6238C-16A5-4B33-B544-A657596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34A16-EB32-4059-8382-2B9DB36C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F5A0F-F06D-4294-8C03-41C79742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4F675-1FC6-47C5-A94E-46E48134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039CC-B949-4C3F-973C-55BD9C68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3DDCD-02E3-456F-BE3F-C986FF99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24CF8-0D7B-4B65-A178-5682A487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32EB4-D45E-4D64-A9E6-D3141D81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8518B-1995-4B58-BE24-66060A83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61C61-A02D-4BAB-97C8-770D14B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5CE-497D-4DAD-A8D6-5459ED91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2C2E-1FF4-4D0E-91A0-C5360CB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BAE00-FBAD-432A-9F05-A15D7D31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5BFA95-161B-433B-A2AF-9990ECD5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77E94-F14C-4187-85E4-9A76B348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B3A5D-EAFA-4760-8D11-AE0B0C51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A1A11-1C73-478D-BEA8-D8BBFD0C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F98C1-B9E5-4717-8CBE-BFB752C9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01C2A-FB7C-4AD9-8988-0BEF208C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EE610-74B8-4AA5-B6B3-6349C67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09B67-4A6B-47CB-AC40-D0377871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659E7-29C9-4645-B636-31EC29D3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0B22-C7DE-4555-80E4-FF0C8E04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5A9C1-B563-4A8D-98E5-46B57616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84ACB-23C9-4447-8FCC-EEB58450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4C75F-120F-4A3F-931E-EC968696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FBB4A-A124-49A1-9253-84F2000B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F44FA-12B3-4392-B912-A2EDA195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7F2A2-86F4-4A83-A0BB-89D9F275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E8DCA-013E-488B-9C11-192050C8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CA021C-4488-44F6-8D8C-B0850301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025D2-6BA9-436C-8B89-FDD0D1E7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2D5C8-C3A2-43A7-98E1-5BD7D23B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B87E-1E40-4784-980E-43A10116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64198-B420-4046-9BEA-063107C0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53E891-479D-4D9F-B575-EC7521E6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F5AE3-4CF0-48FA-88BC-29378D8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AF252-16AB-4E98-B53F-9CF070F8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52EA4-C5AE-4E94-B3D1-4D2BB824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AB54E-49D3-4985-A87A-A5FC2CCE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01A890-11D8-48D8-A857-632CE63F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4AB27-1F59-4ACE-9148-8B0FB83D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09960-539E-40AA-8762-A38EADE4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B4D0B-3840-4E7E-807C-9D6C50A2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5451-9CF5-411F-BC50-A8A45D7C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68ED9-2CEA-49D7-BFFE-E5883C4F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32854-C0EB-4FB8-82CA-3CE2FC93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AEDA01-4A5B-45DF-8D90-B462C3CE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788D24-4311-44C2-BB6A-1BC138CF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A0C47-4451-408D-A9C9-2EA59068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250927-626C-4802-B58F-94F9FE58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6D976-8B1B-473A-A3FE-E15F8C9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73599C-9618-4159-BA2F-5EB77A79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55D7E6-D860-4789-B539-139AF32A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853AC-B3CB-44D8-8F31-9DC402B6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A447-C877-4F9A-A571-747E6F04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76AAE-E12A-455D-A4AC-AE712562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20580-D0A5-4B59-98BF-329A5C2D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32A29-3844-47CB-A52B-4B1A3534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B3B620-E5E7-4447-89BB-C95DBEE4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52A00-D364-49BD-B761-5C35A37C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48C19-88B6-4752-9BC1-32FAFBC5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DC29E-0FEB-40C2-BC66-2615A0F6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6F604-C9B0-4723-8305-882EE643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00B71-95FB-417D-8B3E-DF1A93FF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33DE0-2812-4747-BE53-7E094066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CA221-21F8-4E68-9C84-B45C4FD0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38239-C9A1-4926-B66F-456AF271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CBC60-33BE-40F3-92F0-0F3BA12D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E841B-3124-49EC-96A9-7181A1D4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6DAA84-F1A2-4C40-AFBE-DDFAC4E0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D947CD-58A4-4175-A212-DFCF5907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804C2-5661-4503-839B-6347B67C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0FA1BD-65B5-4477-BAC4-46318266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74004E-CC0E-4A22-B585-42C21B47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F8226A-5420-4922-B361-616B0B91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08BC11-8CD9-4753-8CDA-CCD52E29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4F5F-5AA1-4128-AEDD-3C5346B0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FA9563-112E-4890-83E4-93B89EFD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F43301-ED2B-49BA-B4D1-83AA626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D63A6B-E8F0-4A8A-9696-C16A3182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41AD0B-F488-4FEB-AD36-B4B25C00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9DE6F-4004-4DDA-8D4F-A48F3175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6643B5-3340-45D4-8A9D-26AC2C5E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2755FC-DAF0-4ECA-8D35-1E9802E7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66973E-3C6C-4E6D-BE4C-6A5DDEBA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0CA483-57A1-493C-A54B-8C14DE0E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87A660-16E5-4099-9E09-3B66296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F808-6BA4-4672-B6C3-FF38741D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EDCD45-9B46-47C5-9453-4EE48B46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79E677-471A-46BC-BA12-BB347B44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51C321-AC59-4FBA-BF90-9C62BB58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7BF970-873A-47B0-93D4-6DEE65D1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C6A728-E337-4579-B1B4-C941F7B2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6CCCB9-7A82-47F8-9F61-81ABEA58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DC8A92-FDE3-4CA2-AFB4-39999425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851D79-29B4-49A7-ACE6-BBE0E49F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0BB590-0D63-4AC6-8F7C-83E5C491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0896D7-CCC3-49EE-AF49-BD001AC2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7ED8-B289-449E-84C2-030BC9B9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F0C429-8DC4-4366-81E1-4FE7E119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0D5BD9-8326-4BE9-B5B8-613C4718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EF874F-09C4-4A20-B7F7-3919994E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90B10C-C4AB-403B-9540-AD0EA150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93E217-DDAC-4113-840F-59F404D7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A64CA5-DE3A-49A5-BD28-BE101252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47047A-6739-4F27-A847-C98C39F1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891BFC-46CF-4839-AE99-205904EA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EFCBED-6444-4427-A290-2937F4FC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B7F4C8-C2AB-4903-9149-786EB4E3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D346-4E06-4662-A505-4F31FCE3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E51D7B-7A1A-4CE6-BAE0-C29C6DBF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CED436-1F29-4F32-8BF6-B25D1715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ACA9ED-D459-43E6-93E9-4251E9EA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CE9E4C-E0EA-4918-881A-0732D491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6407D4-2CFF-4EE0-A5E8-16A2B75E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BE046A-63B5-42A4-BE9C-51BC1B71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631AF5-E7F8-44F3-BC7D-C7B2B1A3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310CEA-3FAC-4820-8883-C71FBF47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D799F9-785B-4648-8F02-E48C581E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B9482D-CD96-4DB7-A912-F0A54D85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926-1874-4577-90AC-1902C800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D029-AF12-4515-83F6-18D3CB83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B36B9B-BD0A-43D3-A7CE-72424BFF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6A0892-3E71-4399-B898-92877A31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242D89-C91D-41E4-84AF-C53D7BC9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363E9E-03DD-40D9-9955-D1F1D848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00A043-B1AC-473F-B634-DB3A4C8E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478A7F-FAE5-4220-91B5-09124F81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D1995B-FF19-4A48-9CA1-FC7F21E4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D7F439-2AAD-4AB5-9BA5-6D3C8743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283DCA-AAC5-4B23-A5F7-C941608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00ACE4-62B5-4129-99F6-23E9ED14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F305-7A02-47FD-8540-D5A267D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6A450D-FF4D-4273-B54F-43FBFC61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FDE61A-FD02-422E-9448-784BA893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913BEF-F693-4E1C-8518-CA716B45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4ACFBF-5D5D-450F-8156-554798C5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FB7B58-1AE3-4FCF-BA48-721E4721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8CEF50-6C6D-44F2-BB4F-B2D2E133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399EE6-AF58-45E8-B3E1-BA6330DC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54E82D-5B84-40A7-AF1D-A1592EF0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B51182-A85C-48B7-99DD-7C99687F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B5786B-0B22-41ED-8369-33B1A47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B42F-073D-4412-9686-F45DBA82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113A60-5494-4166-A8D0-42B82B1C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521C0D-7266-466E-8D25-001F9CEA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28377B-B1A2-470D-B75A-DE392110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3A53F2-CDF1-48C3-93D7-4735AD2B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569865-9450-4C83-A1B8-9AD37C9A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DB9885-42FD-47D8-9358-3F388BD9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88AA95-A3C8-4833-BB51-A7F2FEF8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535319-B561-4544-9088-ACAF3464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DE89F7-2659-4718-A933-54F0626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2CC819-E36C-4C8F-B58C-5434512E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CF3A-F8F1-4784-B77E-62124F3B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131788-4C46-4E70-9935-03C13D79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C1F29B-79E9-4085-A72B-0E4B0F1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4099D8-F038-498A-935C-B0D1D8BF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5C726D-AF25-4E0F-9D99-991CC1F2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D66FD2-713F-4862-B696-2A850CEB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BD6B02-A71B-4833-9FA2-BDEE9B1C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3EA830-8EEB-44B3-88FF-74BBA669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5F1754-08B9-4133-97C6-5FD5770A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3863E7-B456-46BF-B9B0-3B3EF2C4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C0AD6D-3D0E-41FD-9027-1DC1D5EA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B987-D0C5-477A-8C0C-631C06BD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14A7DB-88D8-4B13-93FD-9C5AA3DF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33A1B9-5080-4512-AA2F-B16E901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DF069B-1249-44DC-89BC-54A955B6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D9B349-ABB6-474B-A4F9-60ABC21A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1DC259-AE61-4D63-8770-055244BF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680E98-C5D5-448E-9850-16DEDC6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9207FE-3367-44F5-9DF0-EB95C07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6BCF74-2008-4D7A-8991-27537B4C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D1091E-CD30-423D-BD42-B6E4E440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B0DE32-7F10-41F0-AF2C-86D835E3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DF6E-7814-4C68-8067-B5E442F5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9415D7-D553-4143-AAD2-E5C83138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E939CB-09A8-4515-BC06-ACC397B9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6C43DE-1A3C-47D7-B819-9570C1B2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17CDFF-F5C5-48A3-BB39-6B579B19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5AE59A-E6AC-4733-AAAD-E68A9801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BE9C9B-1A69-4242-A3BE-B124372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DD819A-F9ED-4682-BC27-D7EB81AF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1E5F45-253E-4F89-A780-3E9F132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7DCB11-F643-4143-9125-901F0DF2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E46A10-FC49-4F51-88EB-3EDB159C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CFDB-CFD4-4819-9879-CA1F98F7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112562-DD66-4751-9C02-9997FEF8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41BB23-6773-4F8F-B597-BAD4B1CD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80D6D6-5D7F-4484-996A-9E92AD9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FFDA73-391C-4DBB-8D04-7CD08C29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3D8C16-8932-41DC-B0C7-64AEB256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6C9609-4B3F-4354-95D4-96284AB7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86AAF1-DB11-434B-92B3-BE3928B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0D9A99-9919-4D32-8805-17D436D2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DD9910-0B30-4C57-BFD0-7EFA1987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3CC633-FF3D-43ED-99DF-AA540874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1A7F2-9D9D-4FF8-A887-2D013A41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7F6118-EBD1-452A-A963-5C2C0128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240ED4-C50B-4D61-947E-BEC54724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495785-5475-49B2-A005-27D06D1B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3F247B-D0E9-4FCD-91D6-39F8AD1C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07D27F-2EE6-4AD5-8C4D-74FAE5EA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60803D-EE72-458E-BD23-F0EFC5EE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EE94FE-226A-4D6E-A3B3-4855C3AD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5C4518-0BFD-4F9F-8C26-3A092203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20AFF1-E54B-4558-8120-ABAC7813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1B2EE6-B2BE-4C24-BB11-C6AE3EB0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6285-9824-4AEA-8367-112A5E40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952730-270C-4978-A5B9-87D0DF86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CAA3DE-4A3D-4E01-B11B-B6ED77A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38B431-1586-4489-82D2-52D266B8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BF619A-A629-4C95-95E4-08B32993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50812D-E364-40B6-8806-7B6861D1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1F49DA-A1D2-4D2C-8D5A-651285BB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B330C4-322B-406B-8714-C2091DC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6011A2-D87B-416D-8166-32B1876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4293C5-D2C9-47CB-8709-6C8848A6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BB85E4-B758-4C3F-9CB7-3D8C9D2D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4EC25-897C-4928-B07C-48F52480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C73E23-B8EC-494A-860A-EDC5D3BA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D12EDF-9008-464B-A694-FF8A85F4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808250-8306-4858-B643-B41868E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E03D90-A244-4A57-8971-2791807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8E7F6E-0D10-4F0F-9970-36855056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5A6FF3-50FD-4F62-9A92-9D447C4D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A57281-2990-44F0-B06F-5DBC86D4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E3B993-41F3-4766-9D11-004F7DCB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FEBD1E-75B6-40A0-80E0-0BB9394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E89B6A-2626-42FA-BF00-552512F3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9F6-3B73-4D12-8E5D-379E544C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3708-BC9A-4F81-8346-C2968BAE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17367A-4930-4671-BE15-2B916CE7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F88BB0-ABDA-4967-AC83-7F83276E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D15D29-1559-4A1B-9FBA-8491E198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B76555-9426-4E2E-B934-761EA9D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E1C3DA-5639-4771-8034-6F2C874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CAF245-4423-4DAA-BA32-81C1825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6D5B10-3632-4C13-B9EE-A413C82B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4818E7-8903-4D19-8442-2C4DAC64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727C30-BF86-4020-B8C2-95EB0671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824EF0-E2B1-48D0-9560-CA0D4814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56EC-FF8B-4238-9419-19762BB1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174A8E-61B2-4AF5-A8F8-D0195EF1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56B5C0-E44D-415D-BA8A-064EE42E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77FCAB-1288-4538-BEA0-D91BB733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6FDBA1-1E28-4D82-A23E-CC91C666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589611-6A0D-4A34-911B-5860C9AF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F690F0-0996-4A9F-A8E4-DD98DFE4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A2AA95-0D0B-4484-9063-9C91C4B6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5B1A29-C228-4F2F-882E-86BB28C0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28D980-901E-44A3-8300-71FE56EA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73F9A2-8983-4A22-8A40-DABF3CCF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CC6EA-455F-4013-BDF5-CAFA637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E15D40-5798-4790-9070-379B34D4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503A11-9C9A-4921-B755-0B0D95CA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4088BB-9438-4B38-AEC5-A35F56D2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3DCA82-883C-4BA8-A60E-EE1C0EEF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877E71-6520-42A1-A7E2-B6267FF3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E38F4B-CEDD-4810-83CD-1AC681CE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7C111A-7C1D-472D-829E-BFAF9C8A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69D0CB-2A26-436A-9B18-81F94C1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C6CF7F-86CB-4E1A-9559-32F63B07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4600D0-5D8E-458E-BF3C-F3D7A859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688F8-3B3C-4AFD-8F25-C577014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C64D18-DBE9-4956-939E-55BF9FF6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ED7A6A-DD92-44CC-8103-3B28C375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BACE577-7CA1-49B3-9639-17B8B023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89A362-867F-476A-9E0F-E0ABED53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9D6473-1A5F-44D1-A5AD-7ACAB709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25CC02-A88F-4028-AE9B-3A1A7D3B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EE1BA6-0D06-4001-978A-4D8D4BAA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7B72AB-71F8-49EB-9FBA-EB564864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F06C0C-3CF1-46A7-AA2A-CAF63C5F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51860B-CEE0-4DF7-9F13-640F0A34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7CD1-9391-4E66-AFC5-A4875C6D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505D98-F49C-4B86-853E-3F7B5BB0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B3AC16-6AC7-4E75-9CF5-61250726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98C13E-35DA-4386-9D4C-031A3EDD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2CFDCE-7CDB-4EEE-98D5-298CFFFA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2E2E3C-A194-4E33-A7FA-E77CECB6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DA94AA-145A-4149-A228-78900746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153D97-04A9-49E9-811B-583BAD1C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7D687D-885D-4B18-AD62-C7AD74E5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A8C33B-354C-43EA-83E2-8242515D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A82730-7295-4A9B-BC22-7959172C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6BE8-932C-48EB-A6BC-2226BCB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B11AD0-37B4-4E09-91E9-13ED52A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B0AA2E-25EE-43D8-BD8D-453E53A4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3D6F17-0987-4E7F-85A8-64FBE06C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4FCBEE-06C8-43E3-A367-7B976089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93DE4A-9AFA-49E4-B569-2396E3F8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75BBC0-E368-4526-8766-E7D18852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4F5C01-DA47-41F8-A3D3-665A7488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5E56EF-61F9-412D-8220-4FBFA246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FFAC8E-C4CC-4045-889E-64056277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C666FF-C7E0-4485-A9B0-34607C2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C7F9-A1AC-41FD-B289-09AAA4AF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2ACDA7-0F93-46D3-9EA5-556C40CF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3DD767-2EA5-48E1-951F-2766164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F9FED9-6A6D-4FF6-8F15-BFA8EAF4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B3EFD4-0C20-45E0-BCC5-E92500CB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8E2B4F-825D-4F0B-9615-6DDFC77A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D99E4F5-7F91-4897-A8A3-E8537C00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B7EC10-14F7-4095-89B5-54D32265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FCE9F5-6A5B-4FC7-929D-A729A92B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B27E14-8038-4BB5-89B2-BA9B966E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37111-B90F-4021-8C5E-DF5EEBD8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251D0-51FE-4C38-A7EF-AA1A8383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53EB-EF9D-4071-A05D-CE3C811F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72F-4342-427F-AD42-C85B9BA2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CC827-10A9-4D7D-9177-5F12D44B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08C9B-1B0D-4A8D-9D26-840A5651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BB8AF-9121-4C65-A731-F1C9C22F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C5C8-2006-42D5-B534-B89DAB13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F8D89-C97D-448C-8DFE-BADB3EDF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387F5-581B-4A2A-8EF1-C61399F6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D770-6F1D-4849-B504-0F50F6A5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AD2B-799E-40B1-97AB-8427D35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FAE6-C6C6-47DD-B234-33B384E5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EC9B-EE4A-49C1-9225-7A703266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95C-D029-42B7-83E4-B723D645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3F654-B087-40D5-A816-ACF10C0B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F7AD3-68D9-4512-BE48-A049B306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C2F0E-5475-4254-A172-D8EC9D01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4EB75-88D2-4DD5-A544-E35F3252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0942D-C24B-456B-B3DD-BBB233B6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027D-3812-4900-8A9C-50DE4B95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1ACAD-6434-499E-86C8-7D1BF76D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046D4-97D2-4886-A8CA-98D94522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C3DEA-6614-4987-9D9C-03B677F3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E6F27-9459-4FA4-8998-4CA6252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A9E-E057-4D15-92E1-1563381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1E68-B1D0-4D02-8672-A9A045B3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EBDE-32F0-4FF2-AF19-ED9A9830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03ADD-16F3-4E34-862A-009C3A55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DFBF5-9E03-4EAA-9963-0A2D3FC6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30B06-6006-4C6A-90B4-D7DF9C0A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D239F-5D87-476C-B410-B0408420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A40A-82A6-4AF0-A215-18748BB3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3147F-7329-4768-8ED5-170AF5E4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EDE4B-A497-4160-A4FF-644EC938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684A4-5A73-4F5D-9BAD-FF1FED6E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192-EF4A-43D4-B186-28A71D1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9FBFC-EF8F-41CC-8711-03D5185D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8DD92-A6A2-457A-9BFD-4CA4FC68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EF55-49C8-44E5-88D2-48F3F37D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DBEF5-51C0-4ED3-A13C-E5BAC9FD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17FCC-8229-4D87-AAFA-D22FC9DC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B44D6-DBD9-48C6-9D1D-E5092E44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FB798-C240-49AC-A478-D67A266F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152E1-6C46-4365-B82F-F89CF74E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D8DF3-7EEB-4A9E-AB9B-B53B093C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7B26-EFC1-4507-AAD1-47A82493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182-4DEA-4FD3-B900-D3549354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4B8C7-F911-475C-9C8B-01B9E8E7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05FE7-D897-4FD2-9CB7-2EA7EE5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A95D0-4807-4576-94B7-877C0396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7D40E-9607-44AC-BF1C-D591E85E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D7831-AB77-499A-BC46-CDDB5325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0A0CB-2A6B-4B6C-87D6-2C649F40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CCE2C-AD18-45DB-9920-C9381913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8C528-B4E0-4F96-BA2D-F42F8B19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ACFA5-9998-40FC-8B65-091A53EB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7BC7C-0FA2-4DC4-A09C-B389D3D7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DD66-2AC0-47CA-BCAE-D6AA2C023B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67C2-11C3-4F75-B20E-BE2EEFC1C2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8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8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E3A7-D822-402C-9E8F-2B817B856B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3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C70E-73E7-4DC7-85BB-3B45668BF0E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7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60E2-4B85-4A7B-8332-B9C08CF20475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6C5-60CB-44B1-916C-FE113D3C0A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8975-D642-4F1A-AD4E-08FA0CDC8D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887D-00D2-4480-B892-09F24488AB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5976-D689-4A57-B8C4-435F60FF5D2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CBD4-7CFA-4FD9-BE80-C5604A3559F6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86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AFB-890D-4236-B9E6-B4A359E77F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1B46-6F53-4C06-8DFE-C7D35260B5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1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4706-76B4-4B67-8493-DD8B4959A8A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82A5-E1C3-4710-9B4C-48F642D586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2E07-FE3F-4784-8438-B9F56B6CE0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BCF8-A011-4E84-BB1F-3B897256B767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6204-C398-4086-9F7A-992BA9A7BAF1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83B2-7D52-43F0-97AD-A7F801B954E6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1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7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7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7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A5C-7605-49F2-8707-F8EBEFA532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2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7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8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4358-C66E-4357-BC3E-C8A46791EC6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A011-B54A-4B73-9DB7-4D68E46902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9FF0-306C-4F21-9317-FFCD4DE38E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49D8-FA9C-4E78-B619-E9A36764716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172D-7CDF-43D9-900C-CB86AAC4875B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9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9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36FC-695E-4036-A3C3-DC00EE7357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DD5B-1FCA-4E9D-B5F7-9D47DB1507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9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9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9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FCE9-10CD-4ECE-97A3-3AEDC89D3F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0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0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5059-B37D-40CE-8D7F-B81C6B4750D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10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10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10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091A-788E-468F-9848-E3587D7849D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8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161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 type="dt" idx="10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 type="ftr" idx="10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 type="sldNum" idx="10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89D3-3595-489F-AD33-54E8938E566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66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1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1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1802-0665-417F-BD4D-191F784BB57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1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B706-5EC9-4C9B-96A5-B12FF50B1E2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1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1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1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3A7-0253-4045-A768-47654DC1AE9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32FE-C4C9-4A53-89C1-ABF6665220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1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FE88-738C-4487-9DFA-31A5842384E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9354-8FA5-43EF-95DB-C7BB3CE8F1BF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72E7-E124-493C-B270-C723C4FB35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8CB3-94A3-4B58-920D-0B72682F59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9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2A16-49C2-4DD7-995E-CF83C9AEB69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Rectangle 2" descr=""/>
          <p:cNvPicPr/>
          <p:nvPr/>
        </p:nvPicPr>
        <p:blipFill>
          <a:blip r:embed="rId1"/>
          <a:stretch/>
        </p:blipFill>
        <p:spPr>
          <a:xfrm>
            <a:off x="249120" y="981000"/>
            <a:ext cx="9772920" cy="39196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1" descr="%D0%BF%D1%80%D0%B0%D0%B2%D0%BE_17"/>
          <p:cNvPicPr/>
          <p:nvPr/>
        </p:nvPicPr>
        <p:blipFill>
          <a:blip r:embed="rId2"/>
          <a:stretch/>
        </p:blipFill>
        <p:spPr>
          <a:xfrm>
            <a:off x="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803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типод правовой культуры –  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      правовой нигилиз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что дышло, куда повернешь, туда и вышл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Где закон, там и обида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Что мне законы, коли судьи знакомы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топтать нельзя, а вокруг ходить можн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6" name="Picture 4" descr="206"/>
          <p:cNvPicPr/>
          <p:nvPr/>
        </p:nvPicPr>
        <p:blipFill>
          <a:blip r:embed="rId1"/>
          <a:stretch/>
        </p:blipFill>
        <p:spPr>
          <a:xfrm>
            <a:off x="3492360" y="4797360"/>
            <a:ext cx="2016360" cy="2060640"/>
          </a:xfrm>
          <a:prstGeom prst="rect">
            <a:avLst/>
          </a:prstGeom>
          <a:ln w="0">
            <a:noFill/>
          </a:ln>
        </p:spPr>
      </p:pic>
      <p:sp>
        <p:nvSpPr>
          <p:cNvPr id="18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-252720" y="291960"/>
            <a:ext cx="9001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авосознание – важнейший   </a:t>
            </a:r>
            <a:br>
              <a:rPr sz="4000"/>
            </a:b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     элемент правовой культур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широком 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й, ид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6215040" y="1905120"/>
            <a:ext cx="29289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уз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е 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обще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и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м д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а об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1" name="Picture 7" descr="obraz"/>
          <p:cNvPicPr/>
          <p:nvPr/>
        </p:nvPicPr>
        <p:blipFill>
          <a:blip r:embed="rId1"/>
          <a:stretch/>
        </p:blipFill>
        <p:spPr>
          <a:xfrm>
            <a:off x="2916360" y="3357720"/>
            <a:ext cx="3095640" cy="2366640"/>
          </a:xfrm>
          <a:prstGeom prst="rect">
            <a:avLst/>
          </a:prstGeom>
          <a:ln w="0">
            <a:noFill/>
          </a:ln>
        </p:spPr>
      </p:pic>
      <p:sp>
        <p:nvSpPr>
          <p:cNvPr id="18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Rectangle 2" descr=""/>
          <p:cNvPicPr/>
          <p:nvPr/>
        </p:nvPicPr>
        <p:blipFill>
          <a:blip r:embed="rId1"/>
          <a:stretch/>
        </p:blipFill>
        <p:spPr>
          <a:xfrm>
            <a:off x="0" y="-158760"/>
            <a:ext cx="9277200" cy="15001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сведомленность в вопросах политик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ктивность в политической обла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ложительное отношение к политике как роду человеческ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65" name="Picture 11" descr="j0343393"/>
          <p:cNvPicPr/>
          <p:nvPr/>
        </p:nvPicPr>
        <p:blipFill>
          <a:blip r:embed="rId2"/>
          <a:stretch/>
        </p:blipFill>
        <p:spPr>
          <a:xfrm>
            <a:off x="3924360" y="4076640"/>
            <a:ext cx="1247760" cy="25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66" name="Group 14"/>
          <p:cNvGrpSpPr/>
          <p:nvPr/>
        </p:nvGrpSpPr>
        <p:grpSpPr>
          <a:xfrm>
            <a:off x="7093080" y="4508640"/>
            <a:ext cx="1818720" cy="2461680"/>
            <a:chOff x="7093080" y="4508640"/>
            <a:chExt cx="1818720" cy="2461680"/>
          </a:xfrm>
        </p:grpSpPr>
        <p:pic>
          <p:nvPicPr>
            <p:cNvPr id="1867" name="Picture 15" descr="j0229051"/>
            <p:cNvPicPr/>
            <p:nvPr/>
          </p:nvPicPr>
          <p:blipFill>
            <a:blip r:embed="rId3"/>
            <a:stretch/>
          </p:blipFill>
          <p:spPr>
            <a:xfrm>
              <a:off x="7093080" y="4508640"/>
              <a:ext cx="1818720" cy="21301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68" name="Text Box 16"/>
            <p:cNvSpPr/>
            <p:nvPr/>
          </p:nvSpPr>
          <p:spPr>
            <a:xfrm>
              <a:off x="7909920" y="6514200"/>
              <a:ext cx="1821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9" name="Picture 21" descr="i?id=34623584&amp;tov=3"/>
          <p:cNvPicPr/>
          <p:nvPr/>
        </p:nvPicPr>
        <p:blipFill>
          <a:blip r:embed="rId4"/>
          <a:stretch/>
        </p:blipFill>
        <p:spPr>
          <a:xfrm>
            <a:off x="0" y="4508640"/>
            <a:ext cx="2208240" cy="2349360"/>
          </a:xfrm>
          <a:prstGeom prst="rect">
            <a:avLst/>
          </a:prstGeom>
          <a:ln w="0">
            <a:noFill/>
          </a:ln>
        </p:spPr>
      </p:pic>
      <p:sp>
        <p:nvSpPr>
          <p:cNvPr id="187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Прилагательное                    Прилага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Фр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Text Box 4"/>
          <p:cNvSpPr/>
          <p:nvPr/>
        </p:nvSpPr>
        <p:spPr>
          <a:xfrm>
            <a:off x="826920" y="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5"/>
          <p:cNvSpPr/>
          <p:nvPr/>
        </p:nvSpPr>
        <p:spPr>
          <a:xfrm>
            <a:off x="611280" y="-171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ставьте синквейн со словом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правосознани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Rectangle 2" descr=""/>
          <p:cNvPicPr/>
          <p:nvPr/>
        </p:nvPicPr>
        <p:blipFill>
          <a:blip r:embed="rId1"/>
          <a:stretch/>
        </p:blipFill>
        <p:spPr>
          <a:xfrm>
            <a:off x="0" y="324000"/>
            <a:ext cx="8070840" cy="15048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9" descr="22-04-2009-pravo"/>
          <p:cNvPicPr/>
          <p:nvPr/>
        </p:nvPicPr>
        <p:blipFill>
          <a:blip r:embed="rId2"/>
          <a:stretch/>
        </p:blipFill>
        <p:spPr>
          <a:xfrm>
            <a:off x="3500280" y="4929120"/>
            <a:ext cx="1524240" cy="161928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10"/>
          <p:cNvSpPr/>
          <p:nvPr/>
        </p:nvSpPr>
        <p:spPr>
          <a:xfrm>
            <a:off x="611280" y="2000160"/>
            <a:ext cx="66974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8062920" cy="325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Тема урока:</a:t>
            </a:r>
            <a:br>
              <a:rPr sz="8800"/>
            </a:br>
            <a:br>
              <a:rPr sz="5400"/>
            </a:b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252000" cy="1258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766f"/>
                </a:solidFill>
                <a:latin typeface="Verdana"/>
              </a:rPr>
              <a:t>«ПРАВОВАЯ КУЛЬТУРА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6" name="Picture 8" descr="yrist"/>
          <p:cNvPicPr/>
          <p:nvPr/>
        </p:nvPicPr>
        <p:blipFill>
          <a:blip r:embed="rId1"/>
          <a:stretch/>
        </p:blipFill>
        <p:spPr>
          <a:xfrm>
            <a:off x="3419640" y="3645000"/>
            <a:ext cx="2447640" cy="2846160"/>
          </a:xfrm>
          <a:prstGeom prst="rect">
            <a:avLst/>
          </a:prstGeom>
          <a:ln w="0">
            <a:noFill/>
          </a:ln>
        </p:spPr>
      </p:pic>
      <p:sp>
        <p:nvSpPr>
          <p:cNvPr id="18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4"/>
          <p:cNvSpPr/>
          <p:nvPr/>
        </p:nvSpPr>
        <p:spPr>
          <a:xfrm>
            <a:off x="140760" y="1478520"/>
            <a:ext cx="841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есь мир театр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А люди в нем – акте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И каждый там свою играет р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Шекспи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 Box 7"/>
          <p:cNvSpPr/>
          <p:nvPr/>
        </p:nvSpPr>
        <p:spPr>
          <a:xfrm>
            <a:off x="785880" y="83664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483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4800" spc="-1" strike="noStrike">
                <a:solidFill>
                  <a:srgbClr val="ff00ff"/>
                </a:solidFill>
                <a:latin typeface="Verdana"/>
              </a:rPr>
              <a:t>ЦЕЛИ УРОКА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428400" y="178596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Знакомство с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сновами правовой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культуры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Воспитани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уважительного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тношения к праву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3" name="Picture 9" descr="i?id=65643925&amp;tov=5"/>
          <p:cNvPicPr/>
          <p:nvPr/>
        </p:nvPicPr>
        <p:blipFill>
          <a:blip r:embed="rId1"/>
          <a:stretch/>
        </p:blipFill>
        <p:spPr>
          <a:xfrm>
            <a:off x="6643800" y="500040"/>
            <a:ext cx="1979640" cy="1692360"/>
          </a:xfrm>
          <a:prstGeom prst="rect">
            <a:avLst/>
          </a:prstGeom>
          <a:ln w="0">
            <a:noFill/>
          </a:ln>
        </p:spPr>
      </p:pic>
      <p:grpSp>
        <p:nvGrpSpPr>
          <p:cNvPr id="1814" name="Group 10"/>
          <p:cNvGrpSpPr/>
          <p:nvPr/>
        </p:nvGrpSpPr>
        <p:grpSpPr>
          <a:xfrm>
            <a:off x="6429240" y="4429080"/>
            <a:ext cx="2160360" cy="1744200"/>
            <a:chOff x="6429240" y="4429080"/>
            <a:chExt cx="2160360" cy="1744200"/>
          </a:xfrm>
        </p:grpSpPr>
        <p:pic>
          <p:nvPicPr>
            <p:cNvPr id="1815" name="Picture 11" descr="j0286939"/>
            <p:cNvPicPr/>
            <p:nvPr/>
          </p:nvPicPr>
          <p:blipFill>
            <a:blip r:embed="rId2"/>
            <a:stretch/>
          </p:blipFill>
          <p:spPr>
            <a:xfrm>
              <a:off x="7120800" y="4429080"/>
              <a:ext cx="1468800" cy="134280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16" name="Text Box 12"/>
            <p:cNvSpPr/>
            <p:nvPr/>
          </p:nvSpPr>
          <p:spPr>
            <a:xfrm>
              <a:off x="6429240" y="571716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66ff33"/>
                </a:solidFill>
                <a:latin typeface="Tahoma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 куль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в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созн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итическ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0" name="Рисунок 3" descr="boy.gif"/>
          <p:cNvPicPr/>
          <p:nvPr/>
        </p:nvPicPr>
        <p:blipFill>
          <a:blip r:embed="rId1"/>
          <a:stretch/>
        </p:blipFill>
        <p:spPr>
          <a:xfrm>
            <a:off x="2340000" y="4365720"/>
            <a:ext cx="4465440" cy="2378160"/>
          </a:xfrm>
          <a:prstGeom prst="rect">
            <a:avLst/>
          </a:prstGeom>
          <a:ln w="0">
            <a:noFill/>
          </a:ln>
        </p:spPr>
      </p:pic>
      <p:sp>
        <p:nvSpPr>
          <p:cNvPr id="18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1823" name="Oval 4"/>
          <p:cNvSpPr/>
          <p:nvPr/>
        </p:nvSpPr>
        <p:spPr>
          <a:xfrm>
            <a:off x="2556000" y="2205000"/>
            <a:ext cx="3673440" cy="20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уль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Line 6"/>
          <p:cNvSpPr/>
          <p:nvPr/>
        </p:nvSpPr>
        <p:spPr>
          <a:xfrm flipV="1">
            <a:off x="4427640" y="1125000"/>
            <a:ext cx="0" cy="100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7"/>
          <p:cNvSpPr/>
          <p:nvPr/>
        </p:nvSpPr>
        <p:spPr>
          <a:xfrm flipV="1">
            <a:off x="5580000" y="1557360"/>
            <a:ext cx="108108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8"/>
          <p:cNvSpPr/>
          <p:nvPr/>
        </p:nvSpPr>
        <p:spPr>
          <a:xfrm flipV="1">
            <a:off x="6227640" y="3284280"/>
            <a:ext cx="1800360" cy="73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9"/>
          <p:cNvSpPr/>
          <p:nvPr/>
        </p:nvSpPr>
        <p:spPr>
          <a:xfrm>
            <a:off x="5580000" y="4005360"/>
            <a:ext cx="93672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10"/>
          <p:cNvSpPr/>
          <p:nvPr/>
        </p:nvSpPr>
        <p:spPr>
          <a:xfrm>
            <a:off x="4500720" y="4292640"/>
            <a:ext cx="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Line 11"/>
          <p:cNvSpPr/>
          <p:nvPr/>
        </p:nvSpPr>
        <p:spPr>
          <a:xfrm flipH="1">
            <a:off x="2050920" y="4149720"/>
            <a:ext cx="1440000" cy="1081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Line 12"/>
          <p:cNvSpPr/>
          <p:nvPr/>
        </p:nvSpPr>
        <p:spPr>
          <a:xfrm flipH="1" flipV="1">
            <a:off x="900000" y="3141720"/>
            <a:ext cx="165744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Line 13"/>
          <p:cNvSpPr/>
          <p:nvPr/>
        </p:nvSpPr>
        <p:spPr>
          <a:xfrm flipH="1" flipV="1">
            <a:off x="2195280" y="1413000"/>
            <a:ext cx="936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2" name="Picture 9" descr="C:\Мои документы\Учителя\Смирнова\рисунки\37.jpg"/>
          <p:cNvPicPr/>
          <p:nvPr/>
        </p:nvPicPr>
        <p:blipFill>
          <a:blip r:embed="rId2"/>
          <a:stretch/>
        </p:blipFill>
        <p:spPr>
          <a:xfrm>
            <a:off x="6851520" y="5500800"/>
            <a:ext cx="2292480" cy="135720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16" descr="i?id=82752023&amp;tov=8"/>
          <p:cNvPicPr/>
          <p:nvPr/>
        </p:nvPicPr>
        <p:blipFill>
          <a:blip r:embed="rId3"/>
          <a:srcRect l="18920" t="12935" r="17464" b="0"/>
          <a:stretch/>
        </p:blipFill>
        <p:spPr>
          <a:xfrm>
            <a:off x="0" y="0"/>
            <a:ext cx="1643040" cy="215100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8" descr="museum10_"/>
          <p:cNvPicPr/>
          <p:nvPr/>
        </p:nvPicPr>
        <p:blipFill>
          <a:blip r:embed="rId4"/>
          <a:stretch/>
        </p:blipFill>
        <p:spPr>
          <a:xfrm>
            <a:off x="7358040" y="214200"/>
            <a:ext cx="1785960" cy="195768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19" descr="Сватовство Майора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0" y="507204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183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38" name="Picture 6" descr="C:\Мои документы\Учителя\Смирнова\рисунки\28.jpg"/>
          <p:cNvPicPr/>
          <p:nvPr/>
        </p:nvPicPr>
        <p:blipFill>
          <a:blip r:embed="rId1"/>
          <a:stretch/>
        </p:blipFill>
        <p:spPr>
          <a:xfrm>
            <a:off x="3635280" y="5376960"/>
            <a:ext cx="1181160" cy="148104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6" descr="i?id=3681989&amp;tov=7"/>
          <p:cNvPicPr/>
          <p:nvPr/>
        </p:nvPicPr>
        <p:blipFill>
          <a:blip r:embed="rId2"/>
          <a:srcRect l="0" t="0" r="4828" b="11535"/>
          <a:stretch/>
        </p:blipFill>
        <p:spPr>
          <a:xfrm>
            <a:off x="6804000" y="5272200"/>
            <a:ext cx="2340000" cy="158580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7" descr="Moscow_Bolshoi_Theatre"/>
          <p:cNvPicPr/>
          <p:nvPr/>
        </p:nvPicPr>
        <p:blipFill>
          <a:blip r:embed="rId3"/>
          <a:stretch/>
        </p:blipFill>
        <p:spPr>
          <a:xfrm>
            <a:off x="6407280" y="115920"/>
            <a:ext cx="2736720" cy="181440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8" descr="448px-Russia-Moscow-Cathedral_of_Christ_the_Saviour-3"/>
          <p:cNvPicPr/>
          <p:nvPr/>
        </p:nvPicPr>
        <p:blipFill>
          <a:blip r:embed="rId4"/>
          <a:srcRect l="0" t="14798" r="0" b="0"/>
          <a:stretch/>
        </p:blipFill>
        <p:spPr>
          <a:xfrm>
            <a:off x="0" y="0"/>
            <a:ext cx="1889280" cy="2060640"/>
          </a:xfrm>
          <a:prstGeom prst="rect">
            <a:avLst/>
          </a:prstGeom>
          <a:ln w="0">
            <a:noFill/>
          </a:ln>
        </p:spPr>
      </p:pic>
      <p:pic>
        <p:nvPicPr>
          <p:cNvPr id="1842" name="Рисунок 5" descr="1.jpg"/>
          <p:cNvPicPr/>
          <p:nvPr/>
        </p:nvPicPr>
        <p:blipFill>
          <a:blip r:embed="rId5"/>
          <a:stretch/>
        </p:blipFill>
        <p:spPr>
          <a:xfrm>
            <a:off x="0" y="5157720"/>
            <a:ext cx="1366920" cy="1700280"/>
          </a:xfrm>
          <a:prstGeom prst="rect">
            <a:avLst/>
          </a:prstGeom>
          <a:ln w="0">
            <a:noFill/>
          </a:ln>
        </p:spPr>
      </p:pic>
      <p:sp>
        <p:nvSpPr>
          <p:cNvPr id="18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47280" y="291960"/>
            <a:ext cx="713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5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6" name="AutoShape 2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3780000" y="198900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ru-RU" sz="6600" spc="-1" strike="noStrike">
                <a:solidFill>
                  <a:srgbClr val="ff3300"/>
                </a:solidFill>
                <a:latin typeface="Tahoma"/>
              </a:rPr>
              <a:t>?</a:t>
            </a: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</a:tbl>
          </a:graphicData>
        </a:graphic>
      </p:graphicFrame>
      <p:sp>
        <p:nvSpPr>
          <p:cNvPr id="1851" name="AutoShape 1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 Box 14"/>
          <p:cNvSpPr/>
          <p:nvPr/>
        </p:nvSpPr>
        <p:spPr>
          <a:xfrm>
            <a:off x="2484360" y="1844640"/>
            <a:ext cx="4967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ктивность правозащитной позиции</a:t>
            </a:r>
            <a:r>
              <a:rPr b="0" lang="ru-RU" sz="1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59:18Z</dcterms:created>
  <dc:creator>HomeComp</dc:creator>
  <dc:description/>
  <dc:language>en-US</dc:language>
  <cp:lastModifiedBy>LEGION</cp:lastModifiedBy>
  <dcterms:modified xsi:type="dcterms:W3CDTF">2016-01-04T08:09:09Z</dcterms:modified>
  <cp:revision>31</cp:revision>
  <dc:subject/>
  <dc:title>УРОК ОБЩЕСТВОЗНАНИЯ 6 класс</dc:title>
</cp:coreProperties>
</file>