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E882-3D96-4F0C-921B-CA29AB7FDC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ЕГЭ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бществозн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Умётской СОШ  Понафидина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права 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ь права 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права - совокупность правовых норм, институтов и подотраслей права, регулирующая однород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траслей пра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ые отрасли, направленные на установление прав и обязанностей (конституционное, гражданское, трудовое, семей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ые 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право – обеспечивает равенство между всеми субъектами (гражданское, семейное, предприниматель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ое право 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о – германская 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осаксонская Право некодифицированное и прецедентное. Нет разделения права на публичное и час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стическое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ый ( религиозный) 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тношение 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правоотно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- 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убъе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государство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физические лица(граждане, иностранные граждане, лица без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рганизации, не являющиеся юридическими л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ые юридические права и 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бъек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-способность субъекта иметь права и обязанности. Возникает с р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-способность распоряжаться своими правами и нести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ансипация-объявление несовершеннолетнего полностью дееспособным ( вступление в брак раньше 18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ктоспособность - способность нести юридическую ответственность за совершенные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два подхода к пониманию данной категор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бъектов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е блага (веши, предметы, ценности) — они характерны для граждански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личные блага 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субъектов и его результаты 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духовного творчества 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ые бумаги, официальные документы (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й ф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факты 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ридических фак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Предусмотрены нормативно-правовым актом (гипотезой нормы пра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тверждены документально (справкой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ыражаются в наличии либо отсутствии тех или иных явлений, событий, действий;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характеру правовых последствий разли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о можно использовать в 3 смысл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 право-см.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е в юридическом смысле слова ( на ува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право – действующее право, как совокупность нормативных правовых 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принципы права, вытекающие из природы человека и не зависящие от социальных условий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юридических фа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ытия - юридически значимые факты, которые возникают помимо воли и сознания человека (стихийные бедствия, смерть,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я — это факты, связанные с волей участников правоотношений. Они бывают правомерными (соответствующими праву) и неправомерными 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 - противоправное, волевое виновное деяние дееспособного лица, наносящее вред государству, обществу,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или без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ение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правонарушения- главные признаки, необходимые для того, чтобы возложить юридическую ответ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авонарушения- нормы права, на которые посягает правонаруш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ая сторона-действие или бездействие; общественно-опасные последствия; причинная связь между деянием и последств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     Субъективная сторона. Характеризуется виной, целью, моти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нару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а - психическое отношение лица к собственному поведению и его 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мыс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ямой - осознавал опасность, предвидел последствия и желал их на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еосторо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нарушени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ки                                                 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упок-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оступ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                      Администра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е                               Тру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уальные                         Международные ( дели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- 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для Ю.О. является правонару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разрывная связь с гос. принужд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ступает только за совершен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ана с определенными ли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существляется в строгом соответствии с нормам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а право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спитание граждан в духе уважения к пр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филактика правонарушений ( превентивная фун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праведл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тврат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целе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езумпция невино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 - недопустимость признания лица виновным до вынесения обвинительного приговора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исциплинар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дминист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ажд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ол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Ю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ая оборона - самостоятельная защита  своей жизни, прав и свобод, а также жизни, прав и свобод други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необходимой оборо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свобождающие от Ю.О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е раскаяние вино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рение виновного с потерпе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роков да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-досрочное освоб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рочка наказания беременным женщинам и женщинам,  имеющим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ечение сроков да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  давности 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ступления небольшой тяжести – 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тяжести – 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–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тяжкие – 1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спространяется на военные преступления и преступления против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 - 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 РФ, 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уголовного закона в простран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й принцип- все лица, совершившие преступление на территории РФ, подлежат уголовной ответственности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гражданства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принцип- 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ый принцип 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мор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е - виновно совершенное общественно-опасное деяние, запрещенное УК под угрозой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енная опасность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у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участие - умышленное совместное участие двух или более лиц в совершении умышленного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участни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- непосредственно соверши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рекатель - склонивший дру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ста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 - без смягчающих или отягчающих     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м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цированные  - с отягчающими обстоятель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тяж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ой тяжести - наказание не больше 2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й - не больш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яжкие - не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тяжкие - больше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ступления против собственности ( кража, грабеж, разбой, мошенничество, угон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остные ( взятка, злоупотребление власть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нские ( мародерство, дезертир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.О. Наступает с 16 лет, за особо тяжкие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4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-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наказ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овление соц. справедл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ление осужд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преступ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от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упление тяжелых посл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активная роль в совершен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ЧП  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смягчающие У.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ение преступления впер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лиянием угро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едствии стечения тяжелых семейных или личных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ка с пови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помощь в раскрытии преступ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ая тяжесть,  в последствии случайного стечения обстоя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м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алолетних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и потерпевш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 или аморальность действий потерпев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оятельства, исключающие У.О. -см Юридическ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- от 2500 до 1 млн., может быть рассрочка до 3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 определенные должности - от 1 года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воинского или специального з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по военной службе -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в дисциплинарной воинской части - от 3 месяцев до 2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3 месяца-2 года, удержание в доход государства от 5-20% зар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свободы - содержание в  спец. учреждении без изоляции от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1-6 меся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на определенный срок - от 2 месяцев до 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изненное лишение своб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ная казнь ( мораторий с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воспитательного воздействия к несовершеннолетн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за преступления небольшой или средней тяже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под надзор родителей или специализированного гос.орг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ложение обязанност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досуга и установление особых требований к повед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аказания для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, при наличии самостоятельного заработка - от 100 до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права заниматься определенной де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ест- с 16 лет, 1-4 меся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вободы - не более 1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 - отрасль права, регулирующая общественные отношения  по поводу реализации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КОАП, дисциплинарные уставы, таможенный и др.кодек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: физические лица, организации, органы исполнительной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АП одной и сторон всегда выступает госуда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административного правонаруш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де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ра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о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правонаруш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труда и здоровья населения ( сброс предприятием отходов в рек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тельства на гос. соб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четчик электроэнер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охраны природы, памятников истори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ранспорте ( бесплатный проез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правил ПД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 торговли и финансов ( грубость продавца, обвес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общественный порядок ( мелкое хулиган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ягающие на установленный порядок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неповиновение милиционе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р принуждения в А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 наступает с 16 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наказание может быть наложено не позднее 2 месяцев со дня совершения правонару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и функции прав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об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вязь с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орма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истемат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ультурно-истор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нигилизм-отрицание роли права в жизн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зыск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дминистративных взыска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, в письменной фор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раф ( для граждан- не больше 5000 руб., для должностных лиц-50000,для юридических лиц-1 млн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ездное изъятие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му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спец права ( водители, не меньше 1 мес., не больше 2 л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равительные работы- до 2 месяцев, удержание из зарплаты до 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приостановление деятельности-до 90 су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ое выдворение за предел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е право- отрасль права, регулирующая отношения работника с работодате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й договор 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е ( дополнительные льготы, доп.отпус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 ( контракт)- соглашение между работником и работодателем по выполнению ими определенных усло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еобходимые ( обязательные) - место работы, профессия, специальность, квалификация, зарпл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я- вид трудовой деятельности, определяемый характером и целью трудовой функции ( вра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- одна из разновидностей профессии (окулис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лификация- степень и вид профессиональной  обу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ополнительные ( факультативные)- 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на работу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ся по деловым качествам. Причина отказа должна быть в письмен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ая кни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 ( индентификационный налоговый но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нный би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об образовании и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инициативе админист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квид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шт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днократное неисполнение работником своих обяза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кратное неисполнение,  повлекшее тяжел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ый поступок работника, выполнявшего воспитательные фу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подложных документов или ложных сведений при заключении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оржение трудового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ется уволь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нетрудоспособности или пребывания в отпу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согласия профсою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снованиям,  не предусмотренны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 в особых случа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вершеннолетних без согласия комиссии по делам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союзных актив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ное пособие 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ее время -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абочего времен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- не может быть больше 4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16-18 лет - не больше 35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14-16 лет - не больше 24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лное - по соглашению, беременные, с ребенком до 14 лет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 отдыха - свободное от работы время, которое работник может использовать по своему у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ремени отдых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еждусменные перерывы - не могут быть меньше 12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Еженедельные выходные дни. Работа в выходной запрещена. Может быть в случа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ля предотвращения стихийных бед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едотвращения несчастных случ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ля производства непредвиденных раб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лата труда - установленное соглашением сторон и предусмотренное договором система вознаграждения з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опл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ремен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плата должна выплачиваться не реже раз в полмеся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удерж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подоходный налог 1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обязательные страховые взносы в пенсионный фонд 1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удержания по судебному реш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удержаний суммарно не может быть больше 20 %, а в особых случаях не больше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пра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права - документ, в котором записаны правовы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сточников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й обычай- 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-соглашение двух или более лиц, санкционирующее возникновение, изменение или прекращение право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индивиду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рмативный ( РФ-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цедент-факт, имевший место в чьей-либо прак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ой акт - официальный письменный документ, принятый в особом порядке управомоченным на то гос.орга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ая ответственность- 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исциплинарных взыск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ч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оль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- разногласия, возникающие по поводу применения труд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шестоящими орг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дминистрацией предприятия совместно с профко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 возвращении на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изменении даты и формулировки причины уволь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плате вынужденного прогу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ительно в суде рассматриваются сп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абочих тех предприятий, где нет К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 заявлению администрации о возмещении работником ущер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трудовым арбитражем, создается в 10- дневный ср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- отрасль права, регулирующая семей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Конституция, Семейный коде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ступления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ое согла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е присут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брачного возраста( раньше- только по решению местных органов вла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ятствия к вступлению в бр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упругов уже состоит в законном бра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ицом признанным недееспособным вследствие душевной болезни или слабоу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ственное имя и фамил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профе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вободного выбора места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воспитание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род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ФИО, национальность,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ть место ж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права и интересы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ть получени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титься о здоровье и нравственном разви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ть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ение родительских пра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лоняются от выполнения обязанностей по воспитанию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 обращ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аль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ики, нарком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вобождаются от содержания детей, платят али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емейного воспитания детей, оставшихся без попечения родителе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ыновление ( удочер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ёмная сем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детей может быть установле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родители могут подать в загс совместное заявление о признании их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гсе - при наличии совершеннолетних детей, взаимном согласии, отсутствии имущественных сп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уде 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, регулируемые брачным договор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совместной собственности на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обязанности супругов по взаимному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частия в доходах друг друга и порядок несения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имущества в случае расторжения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чный договор не мож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граничивать правоспособность и дееспособность суп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гулировать личные неимущественны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- отрасль права, регулирующая нормальные, повседневные отноше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у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связанные с имуществом ( опубликование книг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вилистика – то же, что гражданск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: Гражданский кодекс, положения и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-правовые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юридической силе различа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(имеет высшую юридическую си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-конституцион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законные а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 президен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я прав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ы и инструкции министер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РФ, иностранцы и лица без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и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Ф, субъекты РФ, муниципальные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мал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 не могут распоряжаться имущ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несовершеннолет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вершать мелкие бытовые сд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ы авторского и изобретатель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могут быть субъектами права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   не могут распоряжаться имуществом, купленным на стипенд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Г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деньги, ценные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вижимые вещи - земельные участки и все, что с ними связано ( здания, предприят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имые вещи - перемещение которых возможно без несоразмерного ущерба их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, ограниченные в обороте - оружие, летательные аппараты, яды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интеллект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ые бл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ка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вой а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ждает гражданские право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йствительности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субъектов сделки, обладающих дее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еизъявление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чение в соответствующую форму устную, письменную (простую, нотариальную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людентные  действия 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д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выполнении работ ( подряда, строительства.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 оказании услуг ( перевозка, поручение, хранение, комиссия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договора ( страхование, совместная деятельность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й договор 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доверительства 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заключения догов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ерта- предложение, которое адресовано конкретному лицу и содержит существенные условия догов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епт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до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о-правовая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П ответственность- реакция государства на неправомерное поведение, которое влечет неблагоприятные последствия для наруш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ГП ответ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компенсацио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имуществен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ущерб- утрата или повреждение имуества, а также расходы для возвращения имущественного по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ущенная выгода- неполученные доходы, которые потерпевшая сторона могла бы получить если бы не было нарушено её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возникновения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й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, сбор, добыча доступных для этих целей вещ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вольная по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права собственности на бесхозное иму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спос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ого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 при реорганизации юридическ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собстве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щение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оле собствен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удительное изъ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щиты права соб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дикационный иск - об истребовании имущества из чужого незаконного вла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витут- 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- указан круг лиц, которому она адресована, обстоятельства, при которых она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-  правила поведения, в которых указываются права и обязанности стор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- меры государственного прину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ство- правоотношение, стороны которого называются кредитор и дол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беспечения обя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тойка в виде штрафа или п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ержание- удерживание вещи кредитором до полного исполнения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уч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г. Ипотека- залог без передачи вещи залогодержа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на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завещанию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зако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очередей на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упруг, родители,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одные братья и сестры, дедушки и баб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одные дяди и т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прабабушки и прадед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дети племянников и племянниц, родные сестры и братья бабушек и деду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след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, лишенные родитель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ещательный отказ – возложение на наследника по завещанию исполнение какого-либо обязательства в пользу другого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жизненное использование до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асынки, падчерицы, отчим и мач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проживающие на иждивении не менее 1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ают в права наследования в течение  6 месяцев после его откр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 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ы 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лица. Заниматься предпринимательством можно с 16 лет, в исключительных случаях с 14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дическое лицо-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внутренней структуры организации, учредительных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 отвечает по долг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в гражданском обороте от собственного и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Ю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ие - цель-получение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лное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На вере ( коммандитное)- 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С ограниченной ответственностью ООО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кционерное АО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крытое ОАО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крытое ЗАО- акции распределяются только среди учредителей или заранее определенного круга л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изводственный кооператив( артель)-добровольное объединение граждан на основе членства для совместной производ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государственные и муниципальные предприятия ( унитарные)- управляют, но не владеют закрепленным за ними гос. имуществом, имущество не может быть поделено по вклад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ммер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й кооператив-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ественные и религиозные организации - 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нд- 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ЮЛ возникает с момента его создания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еспособность ЮЛ реализуется через действия органов ЮЛ ( директор, общее собрание акционеров..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преемство- переход прав и обязанностей к новому Ю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организация- изменение организационно-правовой формы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яние с другим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на несколько новых 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ормы деятельности ( ОАО-ЗА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партнёрство 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чайзинг 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нчурная фирма 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в РФ сложилась единая система судо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существления правосуд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ги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висимость су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пустимость посторного осуждения за одно и тоже престу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пользование квалифицированной юридической помощ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правие и состяза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опроизводство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умпция невино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ебная система в РФ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высшей инстанции - Конституционный суд, Верховный суд, Высший арбитраж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охранительный орган 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уратура -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прокур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производства дознания и предварительного 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уголовном и гражданском судо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в стадии исполнения пригов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зор за исполнением прав и своб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действий правоохранительных органов по борьбе с преступ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вокатура - профессиональное сообщество адвок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 адвока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ации, разъяснения, справки по юридическим вопро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документов правового харак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гражданском, уголовном, административном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интересов доверителя в органах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граждан при оказании им психиатриче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обслуживание коммерчески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ачестве представителя в Конституционном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юст РФ 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гос. политики в сфере ю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прав и законных интересов личности 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ая защита интеллектуальной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ного порядка действия су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актов судебных и други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ение уголовных наказ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ведение Минюста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ба судебных пристав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С ( уголовно-исполнительная система - колонии, тюрьмы, СИЗО..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судебных эксперт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дакции юридических жур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уд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лиция-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личной безопасности 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бщественного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ние помощ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ледование преступлений и розыск скрывшихся л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ли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минальная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г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БЭ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технически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перативно-поисковый от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илиция общественной безопасности с подразде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 - устойчивая правовая связь человека с государством, выраженная в их взаимных правах и обязанност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2- Закон о гражданстве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обретения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   по рождению- фили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инцип крови - гражданство определяется гражданством родителей, место рождения не учит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инцип почвы - гражданство того государства, на территории которого человек родился, независимо от гражданства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приёму в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атрид- лицо, не имеющее гражд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патрид- лицо, имеющее двойное 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ация- выбор гражданства при изменении государственных границ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ку 14-18 лет  спрашивают его согласия при выбор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ами, подтверждающими гражданство РФ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порт гражданин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идетельство о рожд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ами РФ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ца, которые приобрели гражданство РФ в соответствии с действующим зако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зация- процесс приобретения гражданских 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в гражданство- с 18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5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проживание на территории РФ до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ь соблюдать Конституцию и другие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законный источник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ют русским язы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е достижения в области науки, искусства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раке с гражданином РФ не менее 3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удоспособный и имеет детей старше 18 лет, имеющих гражданство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щущий политическое убежище на территории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 применение норм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норм права – воплощение содержащихся в н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исаний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еализа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существление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нение – обязательное совершение активного действия, предписанного нормами права ( юридические обязанности граж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блюдение – воздержание от совершения действия, запрещённого нормам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рм права 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в приеме в граждан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ает за насильственное изменение конституционного строя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из гражданства невозмо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отбыл воинскую пови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 в качестве обвиняемого по уголовному де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обязательства перед стра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атрид- лицо, лишенное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Ф не допускается лишения гражд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оссийского граждан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гражданства гражданами РФ, проживающими за её предел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тъемлемость гражданства ( не может быть лишё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, предоставляемые иностранным физическим и юридическим лиц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C8AD-0748-49D4-BF79-840AD02C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4E5-34BD-4931-938F-A382FF33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964C-E9E1-4732-8984-F2B6FEA8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007-5830-423C-BF11-91247152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F10C-C772-4761-820B-0B93262D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2217-7DA9-4664-844C-3AC748A3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6D0C-D4F8-4CDE-9C63-795D08B2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546C-3C89-4936-A865-E8AA5249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852A-7208-4CB7-836E-B3C1B2F9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72FC-79B2-4005-9DD1-EC64D0F8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A06D-3C37-4769-895F-CE4F6179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DEC-5573-4E0E-80E0-59B6A65E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B64A-1BE0-4E64-9D02-4012490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9D6F-78D3-485A-B521-84566EE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CDB5-EFB3-4D4B-9D51-30750E6F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D295-1CA9-405C-8BC1-D6542501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FD1A-611D-48C8-AA53-E74B5630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ADD-A5F8-4A4C-A28D-081C4C9D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1E3-AEE6-490A-8BEE-EB296906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A87-ACAC-4EF0-93BE-FF272B3C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0E9-B422-4631-BB82-70EE8009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FE4-AB63-4863-B029-A031A577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F91-2559-4FF3-BBBF-AC216DD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0C2-7BA8-4B88-915D-63E22AB0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8351-78F7-4A9A-A970-2BFFD8AD8F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D53F-B092-45F9-A747-8DABCA61B8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387440"/>
            <a:ext cx="8447040" cy="15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дготовка к ЕГЭ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по обществозна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346560"/>
            <a:ext cx="662940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d3dd7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22560" y="5715000"/>
            <a:ext cx="61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d3dd7"/>
                </a:solidFill>
                <a:latin typeface="Times New Roman"/>
              </a:rPr>
              <a:t>МБОУ Умётской СОШ  Понафид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4751640"/>
          </a:xfrm>
          <a:prstGeom prst="rect">
            <a:avLst/>
          </a:prstGeom>
          <a:noFill/>
          <a:ln w="9360">
            <a:solidFill>
              <a:srgbClr val="7070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ально определенное правило поведения, установленное и обеспечиваемое государ­ством и направленное на урегулирование типичных общественных отнош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Институт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ленная внутри отрасли группа правовых норм, регулирующая однородные об­щественные отношения (например, институт гражданства, институт избирательного прав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од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 родственных институтов конкретной отрасли права (например, подотрасль «обязательственное право» объединяет институты цены, поставки, подряда и др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1" lang="ru-RU" sz="2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трасль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окупность правовых норм, институтов и подотраслей права, регулирующая однородные общественные отнош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549000"/>
            <a:ext cx="8015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отраслей прав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8920" y="1483920"/>
            <a:ext cx="4388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егулятив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установление прав и обязанностей (конституционное, гражданское, трудовое, семей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хранительные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и, направленные на защиту прав (уголовное, уголовно-процессуальное, гражданское, гражданско-процессуально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720" y="1483920"/>
            <a:ext cx="446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Част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ивает равенство между всеми субъектами (гражданское, семейное, предприниматель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егулирует отношения, затрагивающие государственный интерес (конституционное, административное, финансовое, уголовн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вые сист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341000"/>
            <a:ext cx="8820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Романо – герма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м плане принципы справедливости. Право кодифицировано.Основной источник – закон. Конституция имеет высшую юридическую силу. Признаётся разделение право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Англосаксонская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кодифицированное и прецедентное. Нет разделения права на публичное и частно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оциалистическо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рко выраженный классовый характер. Основной источник права – революционное творчество масс, нормативно-правовой акт выступает как выразитель воли народа. Большую часть составляют подзаконные акты. Право носит императивный ( властный)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Традиционный (</a:t>
            </a:r>
            <a:r>
              <a:rPr b="0" lang="ru-RU" sz="21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религиозный)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происходит от Бога, а государство выполняет роль служителя церкви. На веру принимаются определённые догмы. Основной источник – священные книг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1341360"/>
            <a:ext cx="84247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отно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ые отношения, права и обязанности участников которых определены юридическими нормами и обеспечиваются возможностью государственного прин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лементы правоотно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ы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правоотношения, который имеет право - управомоченное лицо, на которого возложена обязанность - обязанный субъ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Объект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иды су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осударство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лица(граждане, иностранные граждане, лица без граждан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юридически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рганизации, не являющиеся юридическими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Субъективные юридические права и обяза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бъек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Право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субъекта иметь права и обязанности. Возникает с ро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еспособ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собность распоряжаться своими правами и нести обяза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Эмансип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вление несовершеннолетнего полностью дееспособным ( вступление в брак раньше 18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еликтоспособ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нести юридическую ответственность за совершенные правонару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413000"/>
            <a:ext cx="84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ыделяют два подхода к пониманию данной категор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60640"/>
          <a:ext cx="7921800" cy="4000320"/>
        </p:xfrm>
        <a:graphic>
          <a:graphicData uri="http://schemas.openxmlformats.org/drawingml/2006/table">
            <a:tbl>
              <a:tblPr/>
              <a:tblGrid>
                <a:gridCol w="4105440"/>
                <a:gridCol w="3816360"/>
              </a:tblGrid>
              <a:tr h="4000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могут выступать только действия субъектов, поступки людей, повеление участников правоотношений, так как именно на него направлено регулирующее воздействие юридической н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ом правоотношения является не само поведение, а те явления окружающего мира, по поводу которых люди вступают в отношения друг с другом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бъектов правоотнош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413000"/>
            <a:ext cx="867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териаль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и, предметы, ценности) — они характерны для граждански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материальные личные благ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изнь, честь, достоинство, свобода, безопасность, неприкосновенность человека) — типичны для уголовных, гражданских и процессуальных право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дение субъектов и его результа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йствие или бездействие субъектов, услуги и т. п.) — характерны для административных, хозяйственных правоотношений, отношений в сфере бытового обслуживани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укты духовного творчества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зведения литературы, искусства, научные открытия, изобретения и т. д.). Следует отметить особенно широкое распространение такого объекта, как интеллектуальная собственность, под которой понимают материально выраженные продукты умственной деятельности человека, востребованность которых признана государством в нормативной форме. К сожалению, данный объект еще не получил надлежащей защиты в российской правовой системе, о чем свидетельствует широко распространенное интеллектуальное «пиратство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нные бумаги, официальные документы</a:t>
            </a:r>
            <a:r>
              <a:rPr b="0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и, векселя, деньги, дипломы, аттестаты и т. п.) — характерны для финансовых, хозяйственных, гражданских и иных прав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фа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ие факты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конкретные жизненные обстоятельства, с которыми нормы права связывают возникновение, изменение или прекращение право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ридических фа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Предусмотрены нормативно-правовым актом (гипотезой нормы пра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зывают определенные правовые последствия (воз­никновение, изменение, прекращение субъективных права и юридических обязанностей субъектов и правоотношен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ъективированы (выражены) вовне (то есть должны произойти именно в реальной действительности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тверждены документально (справко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ражаются в наличии либо отсутствии тех или иных явлений, событий, действий;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характеру правовых последствий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16280"/>
          <a:ext cx="8137440" cy="4022640"/>
        </p:xfrm>
        <a:graphic>
          <a:graphicData uri="http://schemas.openxmlformats.org/drawingml/2006/table">
            <a:tbl>
              <a:tblPr/>
              <a:tblGrid>
                <a:gridCol w="2712960"/>
                <a:gridCol w="2687760"/>
                <a:gridCol w="2736720"/>
              </a:tblGrid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образу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изменяю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прекращ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щ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29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     связывают возникнов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аключение гражданско-правовой сделки, рождение человека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 нормы права связывают изменение правоотношений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инятие  нового граждан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оторыми  нормы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а связывают прекращение правоотно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рть человека,   расторжение брака между супру­гам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3816360" cy="3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27040"/>
            <a:ext cx="8569440" cy="489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истема общеобязательных правил поведения, санкционированных государством и выраженных в определенных нор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нятие право можно использовать в 3 смысл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е право-см. 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ое право-обеспечение государством возможности что-то сделать ( свобода сов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е в юридическом смысле слова ( на ува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зитив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ующее право, как совокупность нормативных правовы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тественн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инципы права, вытекающие из природы человека и не зависящие от социальных условий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юридических фак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быт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 значимые факты, которые возникают помимо воли и сознания челове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ихийные бедствия, смерть, т.д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акты, связанные с волей участников правоотношений. Они бывают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ответствующими праву) и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равомерны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иворечащими праву), т.е. правонарушениями. Правомерные юридические факты делятся в свою очередь на юридические акты и юридические посту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267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наруш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волевое виновное деяние дееспособного лица, наносящее вред государству, обществу,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или без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ение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авные признаки, необходимые для того, чтобы возложить юридическую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ста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авонару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рмы права, на которые посягает правонаруш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ивная сторо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йствие или бездействие; общественно-опасные последствия; причинная связь между деянием и последств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     Субъективная стор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 виной, целью, мот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нару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ическое отношение лица к собственному поведению и его результа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в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Умы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ямой - осознавал опасность, предвидел последствия и желал их на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свенный - осознавал опасность, не желал её, но сознательно допускал последствия ( наемный убийца производит выстрелы в людном мес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остор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надеянность — предвидел последствия, но легкомысленно рассчитывал их избежать ( водитель превысил ско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режность - не предвидел последствий, но мог и должен был их предвидеть.( водитель заговорился с пассажиром не заметил запрещающий зн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авонарушений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ки                                                  Пре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ступок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нарушение, характеризующееся меньшей степенью общественной опасности, посягающее на отдельные стороны правового порядка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оступ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рные                       Админист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е                               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ые                         Международные ( делик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267920"/>
            <a:ext cx="871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ая ответственность</a:t>
            </a: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принуждение, заключающееся в обязанности лица претерпевать определенные лишения государственно-властного характера за совершенное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ем для Ю.О. является правонаруш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.О.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разрывная связь с гос. принужде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тупает только за совершенные правонаруш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язана с определенными лишения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уществляется в строгом соответствии с нормами пра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Ю.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а правопоряд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граждан в духе уважения к прав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илактика правонарушений ( превентивная функция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59984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принципы Ю.О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ко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тврат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лесообраз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езумпция невино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зумпция невиновно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пустимость признания лица виновным до вынесения обвинительного приговора 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оло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териальная ( действия в процессе выполнения служебных обязанностей, за причинённый ущер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Ю.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ая оборо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ая защита  своей жизни, прав и свобод, а также жизни, прав и свобод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95280" y="134136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Условия необходимой обор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еальность посяг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щественная 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екватность защиты степени 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йняя необходимость - сознательное причинение вреда в целях    предотвращения большего, устранение опасности, непосредственно угрожавше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меняемость правонаруш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ее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ание лица, совершившего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приказа или распо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ическое или психическое прин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снованный риск - если указанная цель не может быть     достигнута иначе, а лицо приняло достаточные меры для предотвращения в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одолимая сила ( форс-мажор) -событие чрезвычайное и непредотвратимое при дан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684360" y="1484280"/>
            <a:ext cx="770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свобождающие от Ю.О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е раскаяние винов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ирение виновного с потерпев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роков да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-досрочное освоб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рочка наказания беременным женщинам и женщинам,  имеющим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чение сроков дав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рок  давности 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ступления небольшой тяжести –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тяжести – 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–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тяжкие – 1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спространяется на военные преступления и преступления против челове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ая ответств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определяющая круг преступных деяний, виды и размеры У.О., а также порядок и условия освобождения от 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, 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йствие уголовного закона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ритори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лица, совершившие преступление на территории РФ, подлежат уголовной ответственности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ждане РФ или лица без гражданства, постоянно проживающие на территории РФ, совершившие преступление на территории другого государства, отвечают по 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принцип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 и лица без гражданства, не проживающие постоянно на территории РФ, совершившие преступление вне РФ, могут быть привлечены к ответственности по УК, если преступление было направлено против интересов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ниверсальный принци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остранцы и лица без гражданства, не проживающие постоянно в РФ, совершившие преступление за рубежом и находящиеся на территории РФ, могут быть осуждены по РФ или выданы иностранному государ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мора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8360" y="1484280"/>
          <a:ext cx="8137440" cy="462276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а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12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равственный миним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фера регулирования ш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304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рушение ведет санкции гос.орган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уждение общественного м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912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креплены в зако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складываются в созна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911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еобязатель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еступл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395280" y="1413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ступл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новно совершенное общественно-опасное дея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ое УК под угрозой на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ая опасность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участ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ышленное совместное участие двух или более лиц в совершении умышленного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соучаст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- непосредственно соверш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рекатель - склонивший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ник - содействовавший совершению указаниями, предоставлением информации, обещавший скрыть преступника или следы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395280" y="141300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преступ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 - без смягчающих или отягчающих     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м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е  - с отягчающими обстоятель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 тяжести - наказание не больше 2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- не больш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кие - не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тяжкие - больш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преступл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250920" y="1268280"/>
            <a:ext cx="8497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квалифик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личности ( убийство, похищение, преступление против конституционных прав и свобод, изнасилование, уклонение от алиментов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 против собственности ( кража, грабеж, разбой, мошенничество, угон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е экономической деятельности ( незаконная банковская деятельность, лжепредпринимательство, контрабанда.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 мира и безопасности человечества ( геноцид, экологические, распространение оружия массового поражения...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е ( взятка, злоупотребление властью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нские ( мародерство, дезертирств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.О. Наступает с 16 лет, за особо тяжкие преступл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14 л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395280" y="134136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каз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гос. принуждения, назначаемая по приговору суда и применяемая к лицу, признанному виновным в совершении пре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наказ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соц. справедл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ление осужд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пре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отягчающие У.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ление тяжелых посл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 активная роль в совершен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к совершению преступления лиц с тяжелыми психическими расстройствами, в состоянии опьянения, несовершеннол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беременных, малолетних, лиц находящихся в материальной или служебной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ЧП  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539640" y="1557360"/>
            <a:ext cx="820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смягчающие У.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ие преступления впер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лиянием у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ствии стечения тяжелых семейных или личных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ка с пови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помощь в раскрытии пре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ая тяжесть,  в последствии случайного стечения обстоя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м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лолетних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и потерпе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 или аморальность действий потерпевш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стоятельства, исключающие У.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-см Юридическ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324000" y="1268280"/>
            <a:ext cx="8569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- от 2500 до 1 млн., может быть рассрочка до 3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 определенные должности - от 1 года до 5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воинского или специального з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 военной службе - удержание из зарплаты до 20 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бесплатный общественно-полезный труд в свободное от работы время - от 60 до 240 часов, не больше 4 часов в день. Нельзя для инвалидов 1 группы, беременных женин, женщин с детьми до 3 лет, военнослужащ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в дисциплинарной воинской части - от 3 месяцев до 2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3 месяца-2 года, удержание в доход государства от 5-20% зарплат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свободы - содержание в  спец. учреждении без изоляции от обще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1-6 месяц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на определенный срок - от 2 месяцев до 20 л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изненное лишение свобод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ная казнь ( мораторий с 199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аз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24000" y="126828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еры воспитательного воздействия к несовершеннолетн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 за преступления небольшой или средней тяже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под надзор родителей или специализированного гос.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обязанности загладить причиненный 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досуга и установление особых требований к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4000" y="314172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наказания для несовершеннолет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, при наличии самостоятельного заработка - от 100 до 5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права заниматься определ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работы - от 40-160 часов, должны быть посильными, 2 часа-до 15 лет, 3 часа- до 16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ст- с 16 лет, 1-4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вободы - не более 1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ключение под стражу несовершеннолетних только в тяжелых случаях. Допрос не больше 4 часов, в присутствии адвоката, педагога, психолога до 16 лет, после 16 лет- умственно отсталый. Родители — разрешение следов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пра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468360" y="1628640"/>
            <a:ext cx="8207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расль права, регулирующая общественные отношения  по поводу реализации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итуция, КОАП, дисциплинарные уставы, таможенный и др.ко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ы: физические лица, организации, органы исполнитель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АП одной и сторон всегда выступает государ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административного правонару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де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ра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но-следственная связь между противоправным деянием и его вредными последств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395280" y="148428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правонаруш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труда и здоровья населения ( сброс предприятием отходов в ре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тельства на гос. соб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четчик электроэнерг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охраны природы, памятников истории 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анспорте ( бесплатный прое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Д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торговли и финансов ( грубость продавца, обвес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общественный порядок ( мелкое хулиган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ягающие на установленный порядок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неповиновение милицион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дминистративные правонар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468360" y="148428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ер принуждения в А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дупредительные - предотвращение совершения правонарушения ( введение карантина, досмотр вещей, прекращение движения транспорта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-пресекательные - прекращение противоправных действий ( применение дубинок, административное задержание, принудительное лечение.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ая 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 наступает с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министративное наказ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наложено не позднее 2 месяцев со дня совершения правонар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0150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ки и функции прав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ще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вязь с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рма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истемат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ногократность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м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716000" y="1628280"/>
            <a:ext cx="38862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ункции прав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г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храни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льтурно-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611280" y="5157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ниги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ицание роли права в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тивное взыскани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395280" y="1484280"/>
            <a:ext cx="8280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административных взыск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, в письмен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 ( для граждан- не больше 5000 руб., для должностных лиц-50000,для юридических лиц-1 м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ое изъятие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скация 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ение спец права ( водители, не меньше 1 мес., не больше 2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ительные работы- до 2 месяцев, удержание из зарплаты до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арест- до 15 суток с выполнением физических работ, нельзя применять к имеющим детей до 12 лет, беременным, инвалидам 1 и 2 группы, несовершеннолет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алификация  - лишение права  занимать руководящую должность в исполнительном органе от 6 мес. до 3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приостановление деятельности-до 90 су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ое выдворение за пределы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е право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е пра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права, регулирующая отношения работника с работода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Трудовой кодекс, Основы законодательства РФ об охране труда, О коллективных договорах и соглашениях, О профсоюзах, О занятости населения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й догово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й акт, регулирующий трудовые отношения и заключаемый работниками организации с работодателем. Заключается не более чем на 3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( размер оплаты труда, продолжительность рабочего дня, мед.и соц.страхование, отказ от забастово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( дополнительные льготы, доп.отпу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( условия и срок действия договора, контроль выполнения, ответственность за наруш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ой договор ( контракт)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между работником и работодателем по выполнению ими определен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ой 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24000" y="1341000"/>
            <a:ext cx="8640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обязательные) - место работы, профессия, специальность, квалификация, зарп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фессия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д трудовой деятельности, определяемый характером и целью трудовой функции ( вр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ециаль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дна из разновидностей профессии (окулис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валифик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ь и вид профессиональной  обу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ые ( факультативны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тельный срок ( не более 3 месяцев, нельзя для несовершеннолетних), оплата проезда до работы, место в детсаду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 на работу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по деловым качествам. Причина отказа должна быть в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бходимые доку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кни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 ( индентификационный налоговый н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й би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об образовании и квал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заключается в 2 экземплярах. Работодатель издает приказ о зачислении на работу и объявляет его работнику под распис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 инициативе работника. Заявление за 2 недели. Самовольное прекращение работы- прогул без уважительной 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инициативе админист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ред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ш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занимаемой должности в следствии состояния здоровья или недостаточной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кратное неисполнение работником своих обяза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кратное неисполнение,  повлекшее тяжелы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ый поступок работника, выполнявшего воспитательные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одложных документов или ложных сведений при заключении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оржение трудового догов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Прямоугольник 7"/>
          <p:cNvSpPr/>
          <p:nvPr/>
        </p:nvSpPr>
        <p:spPr>
          <a:xfrm>
            <a:off x="324000" y="1268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рещается уволь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нетрудоспособности или пребывания в от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гласия профсою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снованиям,  не предусмотренным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 в особых случа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без согласия комиссии по делам несовершеннолет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союзных актив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ное пособ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нежная сумма, единовременно выплачиваемая работнику при увольнении не по его вине. В размере не менее 2 недельной или среднемесячной зарпл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иказе и трудовой книжке причина увольнения должна быть указана в точном соответствии с формулировкой законодательства и ссылкой на статью. Выдается в день увольнения, который считается последним рабочим д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бочее вре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468360" y="1341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бочее врем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ленный законодательством отрезок календарного времени, в течение которого работник выполняет свои служебные обяза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рабочего врем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ое - не может быть больше 40 часов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6-18 лет - не больше 35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-16 лет - не больше 24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е - по соглашению, беременные, с ребенком до 14 лет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ремя отдых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324000" y="134136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ремя отдых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ное от работы время, которое работник может использовать по своему усмот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времени отдых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рывы. Обеденный перерыв  не засчитывается в рабочее время и не оплачивается. Не менее 30 минут и более 2 ча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ждусменные перерывы - не могут быть меньше 12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женедельные выходные дни. Работа в выходной запрещена. Может быть в случ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ля предотвращения стихийных бед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едотвращения несчастных случ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ля производства непредвиденн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ам после сдачи крови 2 оплаченных дня. За работу в выходной предоставляется другой день отдыха или денежная компенс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Ежегодные праздничные дни. Накануне рабочий день сокращается на 1 час. Если праздничный день совпадает с выходным, то день отдыха переносится на следующи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жегодные отпуска. Не меньше 28 календарных дней, подросткам- не меньше 31 дня.Право на отпуск за первый год работы-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плата труд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468360" y="1557360"/>
            <a:ext cx="806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лата тру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ное соглашением сторон и предусмотренное договором система вознаграждени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стемы опл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ме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ая тарифная сетка-система зарплаты работников бюджетной сферы. Состоит из 18 разрядов, каждый соответствует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ь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плата должна выплачиваться не реже раз в пол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можны удерж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подоходный налог 1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обязательные страховые взносы в пенсионный фонд 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удержания по судебному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 удержаний суммарно не может быть больше 20 %, а в особых случаях не больше 5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015400" cy="46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и прав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 прав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, в котором записаны правовые нор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источников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вой обычай</a:t>
            </a: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поведения, закрепившееся в обществе в результате его длительного применения ( ребенок остается с матерью при развод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глашение двух или более лиц, санкционирующее возникновение, изменение или прекращение право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ормативный ( РФ-СШ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цед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, имевший место в чьей-либо практ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й акт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ициальный письменный документ, принятый в особом порядке управомоченным на то гос.орган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сциплинарная ответств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39640" y="155736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циплинарная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работника понести наказание, предусмотренное нормами трудового права за халатное, противоправное неисполнение своих трудов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исциплинарных взыск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ль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именения взыскания от работника должны потребовать письменное объяснение. Применяется не позднее 1 месяца со дня поступка, не позже 6 месяцев. Приказ о взыскании под расписку в течение 3 рабочи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468360" y="1628640"/>
            <a:ext cx="79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-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гласия, возникающие по поводу применения трудового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удовые спо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иссией по рассмотрению трудовых споров ( КТС), избираемой трудовым коллективом с числом рабочих не менее 15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шестоящими орга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министрацией предприятия совместно с профко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рассматриваются сп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озвращении на раб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изменении даты и формулировки 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плате вынужденного прог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удовые спо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468360" y="144468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о в суде рассматриваются сп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бочих тех предприятий, где нет КТ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заявлению администрации о возмещении работником ущер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 отказе в приеме на работу лица, с которым предприятие должно было заключить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лл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ирительной комиссией из числа работников и администрации, создается в 3- дневный с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удовым арбитражем, создается в 10- дневный с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468360" y="1341360"/>
            <a:ext cx="8351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семей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нституция, Семейный код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вступления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ное согла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присутст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брачного возраста( раньше- только по решению местных органов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пятствия к вступлению в бр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супругов уже состоит в законном бра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ственниками по прямой восходящей и нисходящей линии, полнородными и неполнородными, усыновителями и усыновле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ицом признанным недееспособным вследствие душевной болезни или слабоу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супругов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468360" y="1341360"/>
            <a:ext cx="806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супру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ственное имя и фамил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проф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вободного выбора места ж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воспитани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уще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мущество, что было нажито при совместной жизни,  делится поровну. Не делится имущество, нажитое до совместной жизни, полученное в дар или по наследству, личные вещи, к которым не относятся драгоценности и вклад в ба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му из супругов могут быть назначены алименты. Прекращение алиментных прав наступает если супруга вступает в новый брак, возвращает трудоспособность, отпадает нужда по другим обстоятельствам( наследство). На детей алименты выплачиваются до 18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а и обязанности родителей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468360" y="1341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а и обязанности род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ФИО, национальность,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место жи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ать права и интересы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получе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ься о здоровье и нравственном разви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ь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шение родительских пра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лоняются от выполнения обязанностей по воспитанию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 обращ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ральное по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ки, нарком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освобождаются от содержания детей, платят али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семейного воспитания детей, оставшихся без попечения родителей: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2"/>
          <p:cNvSpPr/>
          <p:nvPr/>
        </p:nvSpPr>
        <p:spPr>
          <a:xfrm>
            <a:off x="539640" y="1484280"/>
            <a:ext cx="777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ыновление ( удочер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ка- для защиты малолетних и над лицами, признанными недееспособными вследствие психического расстройства. Опекун самостоятельно совершает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чительство- для защиты несовершеннолетних и граждан, ограниченных в дееспособности вследствие приема спиртных напитков и наркотических веществ. Попечитель дает согласие на совершение сд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468360" y="1341360"/>
            <a:ext cx="8136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схождение детей может быть установле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родители могут подать в загс совместное заявление о признании их родителя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 мать может обратиться в суд с иском об установлении отцовства ( во внимание принимаются совместное проживание и ведение общего хозяйства, совместное воспитание, доказательства, подтверждающие признание ответчиком отцов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в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загсе 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наличии совершеннолетних детей, взаимном согласии, отсутствии имущественных сп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суд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наличии несовершеннолетних детей, при отсутствии согласия одного из супругов на развод, при наличии имущественных споров. Суд может назначить супругам срок примирения до 3 месяце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Прямоугольник 2"/>
          <p:cNvSpPr/>
          <p:nvPr/>
        </p:nvSpPr>
        <p:spPr>
          <a:xfrm>
            <a:off x="539640" y="170028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глашение , определяющее имущественные права и обязанности супругов. Может быть заключён до брака и во время брака, заверяется нотари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ношения, регулируемые брачным договор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совместной собственности на иму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и обязанности супругов по взаимному содержа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участия в доходах друг друга и порядок несения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имущества в случае расторжения бр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рачный договор не мо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вать правоспособность и дееспособность суп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егулировать личные неимущественны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ключать положения, которые ставят одного из супругов в крайне неблагоприятное положение или противоречат 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611280" y="155736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асль права, регулирующая нормальные, повседневные отнош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ществе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связанные с имуществом ( опубликование кни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ые неимущественные отношения, не связанные с имуществом ( защита чести и достои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ивилист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о же, что гражданск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точники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й кодекс, положения и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тивно-правовые а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юридической силе различ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(имеет высшую юридическую сил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-конституцион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зак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законные 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 президент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и инструкции министер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ы Г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539640" y="1413000"/>
            <a:ext cx="80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Г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е РФ, иностранцы и лица без гражд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, субъекты РФ, муниципальны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мал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вносить на счет в банке деньги и распоряжаться ими, но не могут распоряжаться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не могут распоряжаться иму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несовершеннолет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вершать мелкие бытовые сд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бъекты авторского и изобретательск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 вносить в сбербанк деньги и распоряжаться ими, а также распоряжаться    вкладами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могут быть субъектами права на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не могут распоряжаться имуществом, купленным на стипенд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ы ГП: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ямоугольник 2"/>
          <p:cNvSpPr/>
          <p:nvPr/>
        </p:nvSpPr>
        <p:spPr>
          <a:xfrm>
            <a:off x="684360" y="1503360"/>
            <a:ext cx="78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ъекты Г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щи, деньги,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вижимые вещи - земельные участки и все, что с ними связано ( здания, предприят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имые вещи - перемещение которых возможно без несоразмерного ущерба их назна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свободно участвующие в обороте - могут приобретаться без ограничений любыми субъектами гражданск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и, ограниченные в обороте - оружие, летательные аппараты, яды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интеллектуаль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териальные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дел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395280" y="148428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дел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йствие физических и юридических лиц, направленные на установление, изменение или прекращение гражданских прав и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вой 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е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дает гражданские право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словия действительности сдел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убъектов сделки, обладающих дееспособ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еизъявление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м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чение в соответствующую форму устную, письменную (простую, нотариальную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нклюдентные  действия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йствия лиц, которые выражены не волеизъявлением, а конкретным поведенческим актом ( приобретение товаров в магазинах самообслуживания, обмен валюты через автома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сдел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Схема 2. Классификация сделок"/>
          <p:cNvPicPr/>
          <p:nvPr/>
        </p:nvPicPr>
        <p:blipFill>
          <a:blip r:embed="rId1"/>
          <a:stretch/>
        </p:blipFill>
        <p:spPr>
          <a:xfrm>
            <a:off x="395280" y="1341360"/>
            <a:ext cx="8271000" cy="460872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2"/>
          <p:cNvSpPr/>
          <p:nvPr/>
        </p:nvSpPr>
        <p:spPr>
          <a:xfrm>
            <a:off x="324000" y="1268280"/>
            <a:ext cx="849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догов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передачу имущества в собственность ( купля-продажа, поставка, дарение, заем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е целью передачу имущества во временное пользование ( аренда, договор найма жилого помещения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полнении работ ( подряда, строительства.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казании услуг ( перевозка, поручение, хранение, комиссия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договора ( страхование, совместная деятельность..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убличный договор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 – правовой договор, заключаемый коммерческой  организацией и устанавливающий её обязанности по продаже товаров, оказанию услуг или выполнению работ, которые такая организация должна осуществлять в отношении каждого, который к ней обращается ( розничная торговля, гостиничное обслуживание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говор доверительства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гражданско-правовой договор, при котором одна сторона ( учредитель управления) передаёт другой стороне ( доверительному управляемому) на определённый срок имущество, а другая сторона обязуется осуществлять управление этим имуществом в интересах учредителя или указанного им лица ( выгодоприобретател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оговор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Прямоугольник 2"/>
          <p:cNvSpPr/>
          <p:nvPr/>
        </p:nvSpPr>
        <p:spPr>
          <a:xfrm>
            <a:off x="468360" y="14130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рядок заключения до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фер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ожение, которое адресовано конкретному лицу и содержит существенные условия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кцеп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вет лица, которому адресована оферта о её безоговорочном принятии. Если лицо посылает свои условия договора, его ответ будет называться контрофер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иды догов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Picture 2" descr="http://stupinaoa.narod.ru/olderfiles/1/34.jpg"/>
          <p:cNvPicPr/>
          <p:nvPr/>
        </p:nvPicPr>
        <p:blipFill>
          <a:blip r:embed="rId1"/>
          <a:stretch/>
        </p:blipFill>
        <p:spPr>
          <a:xfrm>
            <a:off x="684360" y="1773360"/>
            <a:ext cx="7991280" cy="388764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ражданско-правовая ответствен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539640" y="1484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П ответственность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государства на неправомерное поведение, которое влечет неблагоприятные последствия для наруш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ГП ответ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компенсацио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ит имуществен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ьный ущерб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ата или повреждение имуества, а также расходы для возвращения имущественно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ущенная выгода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ученные доходы, которые потерпевшая сторона могла бы получить если бы не было нарушено её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2"/>
          <p:cNvSpPr/>
          <p:nvPr/>
        </p:nvSpPr>
        <p:spPr>
          <a:xfrm>
            <a:off x="684360" y="130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возникновения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воначаль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новой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а, сбор, добыча доступных для этих целей ве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льная постр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права собственности на бесхозное им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ные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о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преемство при реорганизации юридическ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оугольник 2"/>
          <p:cNvSpPr/>
          <p:nvPr/>
        </p:nvSpPr>
        <p:spPr>
          <a:xfrm>
            <a:off x="395280" y="1197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кращение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е собстве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ель ве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защиты права собств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дикационный иск - об истребовании имущества из чужого незаконного вла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орный иск - об устранении препятствий в пользовании имуществом, несвязаное с лишением владения ве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ервитут-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рава на вещь, которое существует одновременно с правом собственности на ту же самую вещь. ( право ограниченного пользования соседским участ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 прав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 пр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обязательное правило поведения, которое устанавливается государством и закреплено в официальных правовых 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держание нормы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ипоте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ан круг лиц, которому она адресована, обстоятельства, при которых она реализ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испози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авила поведения, в которых указываются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ан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ры государственного прин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язатель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2"/>
          <p:cNvSpPr/>
          <p:nvPr/>
        </p:nvSpPr>
        <p:spPr>
          <a:xfrm>
            <a:off x="468360" y="1484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язатель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отношение, стороны которого называются кредитор и дол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обеспечения обяз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ка в виде штрафа или 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ержание- удерживание вещи кредитором до полного исполнения обя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г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от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лог без передачи вещи залогодерж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овская гарантия - обязательство банка, данное по просьбе должника,  об уплате его кредитору денежной суммы по представлении им письменного треб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476280"/>
            <a:ext cx="80154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539640" y="1484280"/>
            <a:ext cx="828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ания на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вещан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вещатель может завещать имущество любым лицам, самостоятельно определить доли наследников. Необходимыми наследниками являются: несовершеннолетние или нетрудоспособные дети наследователя, нетрудоспособный супруг или родители, нетрудоспособные иждивенцы. Они наследуют не менее половины доли, которая причиталась бы каждому при наследовании по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 очередей на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пруг, родители, 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дные братья и сестры, дедушки и баб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одные дяди и т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абабушки и прадед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племянников и племянниц, родные сестры и братья бабушек и деду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ледственн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Прямоугольник 2"/>
          <p:cNvSpPr/>
          <p:nvPr/>
        </p:nvSpPr>
        <p:spPr>
          <a:xfrm>
            <a:off x="468360" y="3213000"/>
            <a:ext cx="82072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наследу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ившие умышленные противоправные действия против наследователя или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, лишенные родительских пр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вещательный отказ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ожение на наследника по завещанию исполнение какого-либо обязательства в пользу друг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жизненное использование до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468360" y="1484280"/>
            <a:ext cx="806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нуки племянников и племянниц, дети двоюродных братьев и сестер, двоюродные тети и дя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асынки, падчерицы, отчим и маче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проживающие на иждивении не менее 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упают в права наследования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течение  6 месяцев после его откр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468360" y="1413000"/>
            <a:ext cx="81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едпринимательское прав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сль права, регулирующая отношения физических и юридических лиц, осуществляющих предпринимательскую деятельность, а также их взаимоотношения с органами в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ъекты П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изические л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ниматься предпринимательством можно с 16 лет, в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ключительных случаях с 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я этого нужно зарегистрироваться в органах местной администрации, получить соответствующее свидетельство или лицензию. Можно нанимать работников в свою фирму, заключив с ними трудовые контра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Юридическое лиц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обособленное имущество, отвечающее самостоятельно этим имуществом по долгам, выступающее в суде истцом или ответ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26920" y="1557360"/>
            <a:ext cx="749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утренней структуры организации, учредитель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мущества на праве собственности. Наличие денежных средств на расчетном счете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отвечает по дол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в гражданском обороте от собственного и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468360" y="148428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Ю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мерческие - цель-получение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овари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но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се участники ведет предпринимательскую деятельность от имени товарищества и отвечают по его обязательствам. Каждый участник имеет один го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вере ( коммандитное)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яду с полными товарищами есть вкладчики( коммандиты), которые предоставляют свои денежные средства, не принимая участия в предпринимательской деятельности и несут ответственность в пределах установленных им вкла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611280" y="1413000"/>
            <a:ext cx="792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 ограниченной ответственностью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о, учредители которого собрали определенный капитал, разделив его  на доли между собой. Убытки в пределах внесенной доли в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кционерн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ставной капитал делится на определенное количество акций, его участники несут риск убытков в пределах стоимости 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но продать акции без согласия других акционеров, должны публиковать для всеобщего обозрения годово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крытое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ции распределяются только среди учредителей или заранее определенного круга 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2"/>
          <p:cNvSpPr/>
          <p:nvPr/>
        </p:nvSpPr>
        <p:spPr>
          <a:xfrm>
            <a:off x="468360" y="1484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изводственный кооператив( артель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й производ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государственные и муниципальные предприятия ( унитарные)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т, но не владеют закрепленным за ними гос. имуществом, имущество не может быть поделено по вкла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рямоугольник 2"/>
          <p:cNvSpPr/>
          <p:nvPr/>
        </p:nvSpPr>
        <p:spPr>
          <a:xfrm>
            <a:off x="468360" y="1484280"/>
            <a:ext cx="8207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коммерческ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Потребительский кооператив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ленство на основе удовлетворения материальных и иных потребностей, объединение имущественных и паевых взно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Общественные и религиозные организац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ое объединение на основе общности интересов для удовлетворения духовных и иных нематериальных потребностей. Может осуществлять предпринимательскую деятельность лишь для достижения цели, ради которой было создано.Участники не отвечают по обязательствам орган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Фонд</a:t>
            </a:r>
            <a:r>
              <a:rPr b="0" lang="ru-RU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ая организация, преследующая социальные, благотворительные, культурные, образовательные и другие общественно-полезные цели. Учредители не отвечают по обязательствам фон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Прямоугольник 2"/>
          <p:cNvSpPr/>
          <p:nvPr/>
        </p:nvSpPr>
        <p:spPr>
          <a:xfrm>
            <a:off x="468360" y="148428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способность ЮЛ возникает с момента его созд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ом создания считается момент его регистрации в органах юстиции. Данные гос.регистрации вносятся в единый гос.реестр, открытый для всеобщего ознако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еспособность ЮЛ реализуется через действия органов Ю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иректор, общее собрание акционеров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преем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прав и обязанностей к новому Ю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организа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менение организационно-правовой формы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яние с другим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ие на несколько новых Ю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формы деятельности ( ОАО-ЗА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орм пра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523880" y="1397160"/>
          <a:ext cx="6096240" cy="741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24000" y="1397160"/>
          <a:ext cx="8424720" cy="5446440"/>
        </p:xfrm>
        <a:graphic>
          <a:graphicData uri="http://schemas.openxmlformats.org/drawingml/2006/table">
            <a:tbl>
              <a:tblPr/>
              <a:tblGrid>
                <a:gridCol w="2736720"/>
                <a:gridCol w="3384360"/>
                <a:gridCol w="2303640"/>
              </a:tblGrid>
              <a:tr h="79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бязыв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правомочивающие 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прещающие нор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4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обязанность совершать определенные     положительные действия (например, платить за  проезд в  метро, исполнять      гражданско-правовые обязательства и т.д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    участникам правовых отношений возможность    совершать положительные  действия в   целях   удовлетворения своих   законных   интересов (получать стипендию, подавать иск в суд, и т.п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ют запрет совершать недозволенные действия (злоупотреблять властью, нарушать права   граждан, грабить, убивать и т.п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ое пра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2"/>
          <p:cNvSpPr/>
          <p:nvPr/>
        </p:nvSpPr>
        <p:spPr>
          <a:xfrm>
            <a:off x="539640" y="148428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ое партнёрство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, направленная на достижение социальных целей ( садоводческое  товарищество, огородническое товарищество, дачное хозяй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ранчайзинг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истема мелких частных фирм, которые заключают контракт на право пользования фабричной маркой крупной фирмы в своей деятельности на определённой территории и в определё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енчурная фирма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ммерческая организация, занимающаяся разработкой научных исследований для их дальнейшего развития и завер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2"/>
          <p:cNvSpPr/>
          <p:nvPr/>
        </p:nvSpPr>
        <p:spPr>
          <a:xfrm>
            <a:off x="468360" y="1484280"/>
            <a:ext cx="8351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РФ сложилась единая система судо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обенности осуществления правосуд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ие правосудия только су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сть су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сть посторного осуждения за одно и тоже пре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на пользование квалифицированной юридиче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и состяз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производство на национальном язы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умпция невино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611280" y="148428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дебная система в Р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- Конституционный суд, Верховный суд, Высший арбитражны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2 инстанции - Конституционный суд субъектов РФ, Верховные суды республик, краёв, областей, автономных областей и округов, городов федерального значения, Федеральные арбитражные суды о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1 инстанции - городские и районные суды, мировые судьи, арбитражные суды субъектов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оугольник 2"/>
          <p:cNvSpPr/>
          <p:nvPr/>
        </p:nvSpPr>
        <p:spPr>
          <a:xfrm>
            <a:off x="611280" y="141300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охранитель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. орган, осуществляющий специализированную правоохранительную деятельность, в целях защиты прав и свобод граждан, общества и государства от противоправных посяга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диная федеральная централизованная система органов, осуществляющая от имени РФ надзор за исполнением конституции и зак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проку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зак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производства дознания и предварительного 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уголовном и гражданском судопроизвод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в стадии исполнения при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зор за исполнением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я действий правоохранительных органов по борьбе с преступ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46836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вокату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сообщество адвок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 адвокату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, разъяснения, справки по юридическим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документов правов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ражданском, уголовном, административном производ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интересов доверителя в органах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граждан при оказании им психиатр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е обслуживание коммерческих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качестве представителя в Конституционном су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684360" y="1413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нюст Р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орган исполнительной власти, проводящий гос. политику и осуществляющий управление в сфере юст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правления деятель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гос. политики в сфере ю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ав и законных интересов личности и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ая защита интеллектуальной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установленного порядка действия су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актов судебных и других орг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уголовных наказ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введение Минюста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 судебных приста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ИС ( уголовно-исполнительная система - колонии, тюрьмы, СИЗО..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нотариат ( удостоверяет сделки, подлинность документов, охрана наследственных прав, принимает документы на хранение.....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судебных эксперт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кции юридических журн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авосуд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395280" y="1413000"/>
            <a:ext cx="799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лиция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органов исполнительной власти, призванных защищать жизнь, здоровье, права и свободы граждан, интересы общества и государства от преступных посяг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личной безопасности 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общественного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помощи насе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ледование преступлений и розыск скрывшихся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ды мили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минальная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г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Э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технически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еративно-поисковый 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лиция общественной безопасности с подраздел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539640" y="1444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ство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ойчивая правовая связь человека с государством, выраженная в их взаимных правах и обяза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 Закон о гражданстве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пособы приобретения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     </a:t>
            </a: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о рождению- фили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кров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определяется гражданством родителей, место рождения не учит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 почв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жданство того государства, на территории которого человек родился, независимо от гражданства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о приёму в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2"/>
          <p:cNvSpPr/>
          <p:nvPr/>
        </p:nvSpPr>
        <p:spPr>
          <a:xfrm>
            <a:off x="539640" y="1484280"/>
            <a:ext cx="806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патри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не имеющее гражд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цо, имеющее двойное гражд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 гражданства при изменении государственных гран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ку 14-18 лет  спрашивают его согласия при выборе гражд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ументами, подтверждающими гражданство РФ являю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гражданин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детельство о рожд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жданами РФ являю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ца, имеющие гражданство РФ на день вступления в силу Федерального закона о гражданстве ( на 1 июля 2002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ица, которые приобрели гражданство РФ в соответствии с действующим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324000" y="14130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турализация- процесс приобретения граждански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ем в гражданство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5 л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е проживание на территории РФ до 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соблюдать Конституцию и другие 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законный источник сущ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т русским язы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1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достижения в области науки, искусства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раке с гражданином РФ не менее 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удоспособный и имеет детей старше 18 лет, имеющих гражданство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щущий политическое убежище на 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и применение норм пра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ализация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площение содержащихся в не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й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ы реализации права</a:t>
            </a: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</a:t>
            </a: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уществл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использование) – реализация возможности, которая предоставляется участникам правоотношений ( ГК закрепляет право владеть, пользоваться и распоряжаться имуществ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Исполнени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язательное совершение активного действия, предписанного нормами права ( юридические обязанности граждан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Соблюдение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здержание от совершения действия, запрещённого нормами пра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менение норм права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ятельность компетентных органов по реализации правовых предписаний по отношению к конкретным ситуациям и определённым лицам. ( вынесение приговора суд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Прямоугольник 2"/>
          <p:cNvSpPr/>
          <p:nvPr/>
        </p:nvSpPr>
        <p:spPr>
          <a:xfrm>
            <a:off x="539640" y="155736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каз в приеме в гражда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ает за насильственное изменение конституционного стро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ход из гражданства невозмож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е отбыл воинскую пов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 в качестве обвиняемого по уголовному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обязательства перед стра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патри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лишенное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не допускается лишения гражд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2"/>
          <p:cNvSpPr/>
          <p:nvPr/>
        </p:nvSpPr>
        <p:spPr>
          <a:xfrm>
            <a:off x="539640" y="141300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ципы Российского гражда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ость ( запрещение дискриминации по расовым, национальным, религиозным, языковым признак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ое и равное гражданство ( все граждане равны, независимо от оснований приобретения граждан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гражданства гражданами РФ, проживающими за её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тъемлемость гражданства ( не может быть лишё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безгражданства ( упрочение правового статуса лиц без гражданства, проживающих на территории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оугольник 2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жимы, предоставляемые иностранным физическим и юридическим лиц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правовой режим – имеют те же права, что и граждане государства ( обращаться в с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наибольшего благоприятствования – иностранцы имеют те же права, что и другие иностранцы ( используется для внешней торгов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еренциальный режим – льготный режим, предоставляемый одним государством другому государству без распространения на другие страны ( скидки, уменьшение таможенных пош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509760" y="2133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ebarhime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468360" y="2492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randar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6:43:10Z</dcterms:created>
  <dc:creator>user</dc:creator>
  <dc:description/>
  <dc:language>en-US</dc:language>
  <cp:lastModifiedBy>LEGION</cp:lastModifiedBy>
  <dcterms:modified xsi:type="dcterms:W3CDTF">2016-01-04T08:08:57Z</dcterms:modified>
  <cp:revision>96</cp:revision>
  <dc:subject/>
  <dc:title>Подготовка к ЕГЭ по обществознанию</dc:title>
</cp:coreProperties>
</file>