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D4B01-D057-4D29-B7DE-673578BAB4E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ка к ЕГЭ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обществозна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и его роль в жизни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истории и обществозн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БОУ Умётской СОШ  Понафидина Е.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к ЕГЭ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 обществозна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и его роль в жизни об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истории и обществозн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БОУ Умётской СОШ  Понафидина Е.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 права - формально определенное правило поведения, установленное и обеспечиваемое государ­ством и направленное на урегулирование типичных общественны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тут права - обособленная внутри отрасли группа правовых норм, регулирующая однородные об­щественные отношения (например, институт гражданства, институт избирательного права и др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отрасль права - совокупность правовых норм родственных институтов конкретной отрасли права (например, подотрасль «обязательственное право» объединяет институты цены, поставки, подряда и др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ь права - совокупность правовых норм, институтов и подотраслей права, регулирующая однородные общественные от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 права - формально определенное правило поведения, установленное и обеспечиваемое государ­ством и направленное на урегулирование типичных общественных 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титут права - обособленная внутри отрасли группа правовых норм, регулирующая однородные об­щественные отношения (например, институт гражданства, институт избирательного права и др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отрасль права - совокупность правовых норм родственных институтов конкретной отрасли права (например, подотрасль «обязательственное право» объединяет институты цены, поставки, подряда и др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ь права - совокупность правовых норм, институтов и подотраслей права, регулирующая однородные общественные отно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отраслей прав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ятивные отрасли, направленные на установление прав и обязанностей (конституционное, гражданское, трудовое, семейное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хранительные отрасли, направленные на защиту прав (уголовное, уголовно-процессуальное, гражданское, гражданско-процессуальное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ое право – обеспечивает равенство между всеми субъектами (гражданское, семейное, предпринимательское прав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бличное право – регулирует отношения, затрагивающие государственный интерес (конституционное, административное, финансовое, уголовное прав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отраслей прав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ятивные отрасли, направленные на установление прав и обязанностей (конституционное, гражданское, трудовое, семейное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ранительные отрасли, направленные на защиту прав (уголовное, уголовно-процессуальное, гражданское, гражданско-процессуальное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ое право – обеспечивает равенство между всеми субъектами (гражданское, семейное, предпринимательское пра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бличное право – регулирует отношения, затрагивающие государственный интерес (конституционное, административное, финансовое, уголовное пра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отраслей прав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ятивные отрасли, направленные на установление прав и обязанностей (конституционное, гражданское, трудовое, семейное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хранительные отрасли, направленные на защиту прав (уголовное, уголовно-процессуальное, гражданское, гражданско-процессуальное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ое право – обеспечивает равенство между всеми субъектами (гражданское, семейное, предпринимательское прав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бличное право – регулирует отношения, затрагивающие государственный интерес (конституционное, административное, финансовое, уголовное прав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отраслей прав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ятивные отрасли, направленные на установление прав и обязанностей (конституционное, гражданское, трудовое, семейное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ранительные отрасли, направленные на защиту прав (уголовное, уголовно-процессуальное, гражданское, гражданско-процессуальное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ое право – обеспечивает равенство между всеми субъектами (гражданское, семейное, предпринимательское пра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бличное право – регулирует отношения, затрагивающие государственный интерес (конституционное, административное, финансовое, уголовное пра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ы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мано – германская На первом плане принципы справедливости. Право кодифицировано.Основной источник – закон. Конституция имеет высшую юридическую силу. Признаётся разделение право на публичное и частн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глосаксонская Право некодифицированное и прецедентное. Нет разделения права на публичное и частн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истическое Ярко выраженный классовый характер. Основной источник права – революционное творчество масс, нормативно-правовой акт выступает как выразитель воли народа. Большую часть составляют подзаконные акты. Право носит императивный ( властный) характ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диционный ( религиозный) Право происходит от Бога, а государство выполняет роль служителя церкви. На веру принимаются определённые догмы. Основной источник – священные кни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вые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мано – германская На первом плане принципы справедливости. Право кодифицировано.Основной источник – закон. Конституция имеет высшую юридическую силу. Признаётся разделение право на публичное и частн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глосаксонская Право некодифицированное и прецедентное. Нет разделения права на публичное и частн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истическое Ярко выраженный классовый характер. Основной источник права – революционное творчество масс, нормативно-правовой акт выступает как выразитель воли народа. Большую часть составляют подзаконные акты. Право носит императивный ( властный) характе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диционный ( религиозный) Право происходит от Бога, а государство выполняет роль служителя церкви. На веру принимаются определённые догмы. Основной источник – священные кни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отношение - общественные отношения, права и обязанности участников которых определены юридическими нормами и обеспечиваются возможностью государственного принуж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ы правоотноше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ы - участник правоотношения, который имеет право - управомоченное лицо, на которого возложена обязанность - обязанный субъек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субъект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государство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физические лица(граждане, иностранные граждане, лица без гражданств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юридические л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рганизации, не являющиеся юридическими лиц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ивные юридические права и обяза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ий фа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отношение - общественные отношения, права и обязанности участников которых определены юридическими нормами и обеспечиваются возможностью государственного принуж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ы правоотноше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ы - участник правоотношения, который имеет право - управомоченное лицо, на которого возложена обязанность - обязанный субъек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субъект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государство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физические лица(граждане, иностранные граждане, лица без гражданств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юридические л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организации, не являющиеся юридическими лиц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ивные юридические права и обяза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ридический фа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убъект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пособность-способность субъекта иметь права и обязанности. Возникает с рож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еспособность-способность распоряжаться своими правами и нести обяза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ансипация-объявление несовершеннолетнего полностью дееспособным ( вступление в брак раньше 18 ле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иктоспособность - способность нести юридическую ответственность за совершенные правонару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убъект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пособность-способность субъекта иметь права и обязанности. Возникает с рож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еспособность-способность распоряжаться своими правами и нести обязан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мансипация-объявление несовершеннолетнего полностью дееспособным ( вступление в брак раньше 18 ле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иктоспособность - способность нести юридическую ответственность за совершенные правонару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объектов право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яют два подхода к пониманию данной категор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объектов право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яют два подхода к пониманию данной категор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объектов право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ьные блага (веши, предметы, ценности) — они характерны для гражданских правоотнош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атериальные личные блага (жизнь, честь, достоинство, свобода, безопасность, неприкосновенность человека) — типичны для уголовных, гражданских и процессуальных правоотнош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едение субъектов и его результаты (действие или бездействие субъектов, услуги и т. п.) — характерны для административных, хозяйственных правоотношений, отношений в сфере бытового обслуживания и др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укты духовного творчества (произведения литературы, искусства, научные открытия, изобретения и т. д.). Следует отметить особенно широкое распространение такого объекта, как интеллектуальная собственность, под которой понимают материально выраженные продукты умственной деятельности человека, востребованность которых признана государством в нормативной форме. К сожалению, данный объект еще не получил надлежащей защиты в российской правовой системе, о чем свидетельствует широко распространенное интеллектуальное «пиратство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ные бумаги, официальные документы (акции, векселя, деньги, дипломы, аттестаты и т. п.) — характерны для финансовых, хозяйственных, гражданских и иных право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объектов право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альные блага (веши, предметы, ценности) — они характерны для гражданских правоотноше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атериальные личные блага (жизнь, честь, достоинство, свобода, безопасность, неприкосновенность человека) — типичны для уголовных, гражданских и процессуальных правоотноше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едение субъектов и его результаты (действие или бездействие субъектов, услуги и т. п.) — характерны для административных, хозяйственных правоотношений, отношений в сфере бытового обслуживания и др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укты духовного творчества (произведения литературы, искусства, научные открытия, изобретения и т. д.). Следует отметить особенно широкое распространение такого объекта, как интеллектуальная собственность, под которой понимают материально выраженные продукты умственной деятельности человека, востребованность которых признана государством в нормативной форме. К сожалению, данный объект еще не получил надлежащей защиты в российской правовой системе, о чем свидетельствует широко распространенное интеллектуальное «пиратство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ные бумаги, официальные документы (акции, векселя, деньги, дипломы, аттестаты и т. п.) — характерны для финансовых, хозяйственных, гражданских и иных право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ий фа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ие факты — это конкретные жизненные обстоятельства, с которыми нормы права связывают возникновение, изменение или прекращение право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юридических факт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Предусмотрены нормативно-правовым актом (гипотезой нормы прав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ызывают определенные правовые последствия (воз­никновение, изменение, прекращение субъективных права и юридических обязанностей субъектов и правоотношени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Объективированы (выражены) вовне (то есть должны произойти именно в реальной действительности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подтверждены документально (справкой и др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выражаются в наличии либо отсутствии тех или иных явлений, событий, действий; и т. 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ридический фа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ридические факты — это конкретные жизненные обстоятельства, с которыми нормы права связывают возникновение, изменение или прекращение право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юридических факт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 Предусмотрены нормативно-правовым актом (гипотезой нормы прав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Вызывают определенные правовые последствия (воз­никновение, изменение, прекращение субъективных права и юридических обязанностей субъектов и правоотношений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бъективированы (выражены) вовне (то есть должны произойти именно в реальной действительности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подтверждены документально (справкой и др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выражаются в наличии либо отсутствии тех или иных явлений, событий, действий; и т. 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юридических фа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характеру правовых последствий различа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юридических фа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характеру правовых последствий различаю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-система общеобязательных правил поведения, санкционированных государством и выраженных в определенных норм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право можно использовать в 3 смысла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ивное право-см. Опреде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ивное право-обеспечение государством возможности что-то сделать ( свобода сове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е в юридическом смысле слова ( на ува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тивное право – действующее право, как совокупность нормативных правовых ак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ественное право – принципы права, вытекающие из природы человека и не зависящие от социальных условий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-система общеобязательных правил поведения, санкционированных государством и выраженных в определенных норм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право можно использовать в 3 смыслах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ивное право-см. Опреде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ивное право-обеспечение государством возможности что-то сделать ( свобода совест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е в юридическом смысле слова ( на уважени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итивное право – действующее право, как совокупность нормативных правовых ак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ественное право – принципы права, вытекающие из природы человека и не зависящие от социальных условий государ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юридических фа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ытия - юридически значимые факты, которые возникают помимо воли и сознания человека (стихийные бедствия, смерть, т.д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я — это факты, связанные с волей участников правоотношений. Они бывают правомерными (соответствующими праву) и неправомерными (противоречащими праву), т.е. правонарушениями. Правомерные юридические факты делятся в свою очередь на юридические акты и юридические поступ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юридических фа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ытия - юридически значимые факты, которые возникают помимо воли и сознания человека (стихийные бедствия, смерть, т.д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ия — это факты, связанные с волей участников правоотношений. Они бывают правомерными (соответствующими праву) и неправомерными (противоречащими праву), т.е. правонарушениями. Правомерные юридические факты делятся в свою очередь на юридические акты и юридические поступ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наруш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нарушение - противоправное, волевое виновное деяние дееспособного лица, наносящее вред государству, обществу,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е или бездей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ивопра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но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ение вре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 правонарушения- главные признаки, необходимые для того, чтобы возложить юридическую ответствен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 правонарушения- нормы права, на которые посягает правонаруш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ивная сторона-действие или бездействие; общественно-опасные последствия; причинная связь между деянием и последств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      Субъективная сторона. Характеризуется виной, целью, моти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наруш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нарушение - противоправное, волевое виновное деяние дееспособного лица, наносящее вред государству, обществу, лич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ие или бездейств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пра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но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инение вре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 правонарушения- главные признаки, необходимые для того, чтобы возложить юридическую ответствен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 правонарушения- нормы права, на которые посягает правонаруш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ивная сторона-действие или бездействие; общественно-опасные последствия; причинная связь между деянием и последстви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      Субъективная сторона. Характеризуется виной, целью, мотив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наруш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на - психическое отношение лица к собственному поведению и его результат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ви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Умыс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ямой - осознавал опасность, предвидел последствия и желал их наступ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косвенный - осознавал опасность, не желал её, но сознательно допускал последствия ( наемный убийца производит выстрелы в людном мест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Неосторож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амонадеянность — предвидел последствия, но легкомысленно рассчитывал их избежать ( водитель превысил скорост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ебрежность - не предвидел последствий, но мог и должен был их предвидеть.( водитель заговорился с пассажиром не заметил запрещающий зна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наруш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на - психическое отношение лица к собственному поведению и его результат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вин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Умыс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прямой - осознавал опасность, предвидел последствия и желал их наступ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косвенный - осознавал опасность, не желал её, но сознательно допускал последствия ( наемный убийца производит выстрелы в людном мест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Неосторож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амонадеянность — предвидел последствия, но легкомысленно рассчитывал их избежать ( водитель превысил скорос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брежность - не предвидел последствий, но мог и должен был их предвидеть.( водитель заговорился с пассажиром не заметил запрещающий зна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правонарушений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тупки                                                  Преступ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тупок- правонарушение, характеризующееся меньшей степенью общественной опасности, посягающее на отдельные стороны правового порядка в обще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проступк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циплинарные                       Административ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ие                               Трудов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ые                         Международные ( деликт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правонарушений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тупки                                                  Преступ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тупок- правонарушение, характеризующееся меньшей степенью общественной опасности, посягающее на отдельные стороны правового порядка в общест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проступк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арные                       Административ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кие                               Трудов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уальные                         Международные ( деликт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ая ответственность- правовое принуждение, заключающееся в обязанности лица претерпевать определенные лишения государственно-властного характера за совершенное правонаруш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нием для Ю.О. является правонаруш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Ю.О.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еразрывная связь с гос. принужд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ступает только за совершенные правонару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вязана с определенными лишен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осуществляется в строгом соответствии с нормами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Ю.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защита правопоряд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оспитание граждан в духе уважения к прав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офилактика правонарушений ( превентивная функ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ридическая ответ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ридическая ответственность- правовое принуждение, заключающееся в обязанности лица претерпевать определенные лишения государственно-властного характера за совершенное правонаруш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анием для Ю.О. является правонаруш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Ю.О.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разрывная связь с гос. принужден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аступает только за совершенные правонару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вязана с определенными лишен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осуществляется в строгом соответствии с нормами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Ю.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защита правопоряд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оспитание граждан в духе уважения к прав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офилактика правонарушений ( превентивная функц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ринципы Ю.О.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зако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праведлив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еотврати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целесообраз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остяза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езумпция невинос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умпция невиновности - недопустимость признания лица виновным до вынесения обвинительного приговора с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ридическая ответ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ринципы Ю.О.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зако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ответ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справедлив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неотврати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целесообраз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состяза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презумпция невинос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умпция невиновности - недопустимость признания лица виновным до вынесения обвинительного приговора су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Ю.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дисциплинар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административ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граждан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уголов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атериальная ( действия в процессе выполнения служебных обязанностей, за причинённый ущерб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тоятельства, исключающие Ю.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ая оборона - самостоятельная защита  своей жизни, прав и свобод, а также жизни, прав и свобод других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ридическая ответ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Ю.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дисциплинар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административ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граждан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голов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материальная ( действия в процессе выполнения служебных обязанностей, за причинённый ущерб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тоятельства, исключающие Ю.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ая оборона - самостоятельная защита  своей жизни, прав и свобод, а также жизни, прав и свобод других люд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овия необходимой оборо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еальность посяг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бщественная оп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адекватность защиты степени опас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йняя необходимость - сознательное причинение вреда в целях    предотвращения большего, устранение опасности, непосредственно угрожавшей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вменяемость правонаруши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ееспособ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ержание лица, совершившего преступ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ение приказа или распоря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ое или психическое принуж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снованный риск - если указанная цель не может быть     достигнута иначе, а лицо приняло достаточные меры для предотвращения вре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реодолимая сила ( форс-мажор) -событие чрезвычайное и непредотвратимое при данных услов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ридическая ответ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ия необходимой оборон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еальность посяг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бщественная опас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адекватность защиты степени опас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йняя необходимость - сознательное причинение вреда в целях    предотвращения большего, устранение опасности, непосредственно угрожавшей лич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вменяемость правонаруши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дееспособ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ержание лица, совершившего преступ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нение приказа или распоря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ческое или психическое принуж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снованный риск - если указанная цель не может быть     достигнута иначе, а лицо приняло достаточные меры для предотвращения вре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преодолимая сила ( форс-мажор) -событие чрезвычайное и непредотвратимое при данных услови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тоятельства, освобождающие от Ю.О.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е раскаяние винов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ирение виновного с потерпевш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сроков да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овно-досрочное освобож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рочка наказания беременным женщинам и женщинам,  имеющим малолетних де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ечение сроков дав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ок  давности 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реступления небольшой тяжести – 2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ей тяжести – 6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яжкие – 10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отяжкие – 15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распространяется на военные преступления и преступления против челове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тоятельства, освобождающие от Ю.О.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е раскаяние виновн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ирение виновного с потерпевши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сроков дав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но-досрочное освобож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срочка наказания беременным женщинам и женщинам,  имеющим малолетних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ечение сроков дав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ок  давности 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реступления небольшой тяжести – 2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ней тяжести – 6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яжкие – 10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отяжкие – 15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распространяется на военные преступления и преступления против человеч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ридическая ответ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ов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 - отрасль права, определяющая круг преступных деяний, виды и размеры У.О., а также порядок и условия освобождения от н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Конституция РФ, У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е уголовного закона в простран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риториальный принцип- все лица, совершившие преступление на территории РФ, подлежат уголовной ответственности по У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гражданства-граждане РФ или лица без гражданства, постоянно проживающие на территории РФ, совершившие преступление на территории другого государства, отвечают по У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ьный принцип- иностранные граждане и лица без гражданства, не проживающие постоянно на территории РФ, совершившие преступление вне РФ, могут быть привлечены к ответственности по УК, если преступление было направлено против интересов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ниверсальный принцип - иностранцы и лица без гражданства, не проживающие постоянно в РФ, совершившие преступление за рубежом и находящиеся на территории РФ, могут быть осуждены по РФ или выданы иностранному государст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оловн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 - отрасль права, определяющая круг преступных деяний, виды и размеры У.О., а также порядок и условия освобождения от не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и: Конституция РФ, У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ие уголовного закона в простран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рриториальный принцип- все лица, совершившие преступление на территории РФ, подлежат уголовной ответственности по У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гражданства-граждане РФ или лица без гражданства, постоянно проживающие на территории РФ, совершившие преступление на территории другого государства, отвечают по У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ый принцип- иностранные граждане и лица без гражданства, не проживающие постоянно на территории РФ, совершившие преступление вне РФ, могут быть привлечены к ответственности по УК, если преступление было направлено против интересов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ниверсальный принцип - иностранцы и лица без гражданства, не проживающие постоянно в РФ, совершившие преступление за рубежом и находящиеся на территории РФ, могут быть осуждены по РФ или выданы иностранному государств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аво и мора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и мора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ступл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ступление - виновно совершенное общественно-опасное деяние, запрещенное УК под угрозой наказ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енная опасность дея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но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ивопра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азуе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 преступ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 преступ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участие - умышленное совместное участие двух или более лиц в совершении умышленного преступ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соучастник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итель - непосредственно совершивш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стрекатель - склонивший друг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обник - содействовавший совершению указаниями, предоставлением информации, обещавший скрыть преступника или следы преступ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ступл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ступление - виновно совершенное общественно-опасное деяние, запрещенное УК под угрозой наказ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ственная опасность дея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но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пра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азуе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 преступ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 преступ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участие - умышленное совместное участие двух или более лиц в совершении умышленного преступ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соучастник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нитель - непосредственно совершивш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стрекатель - склонивший друг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обник - содействовавший совершению указаниями, предоставлением информации, обещавший скрыть преступника или следы преступ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преступл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преступле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остав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 - без смягчающих или отягчающих      обстоятель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 смягчающими обстоятельств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валифицированные  - с отягчающими обстоятельств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тепени тяже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большой тяжести - наказание не больше 2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ей - не больше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яжкие - не больше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о тяжкие - больше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преступл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преступле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остав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 - без смягчающих или отягчающих      обстоятель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 смягчающими обстоятельств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валифицированные  - с отягчающими обстоятельств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тепени тяже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большой тяжести - наказание не больше 2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ней - не больше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яжкие - не больше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о тяжкие - больше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преступл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квалифик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ступления против личности ( убийство, похищение, преступление против конституционных прав и свобод, изнасилование, уклонение от алиментов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ступления против собственности ( кража, грабеж, разбой, мошенничество, угон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фере экономической деятельности ( незаконная банковская деятельность, лжепредпринимательство, контрабанда.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ив мира и безопасности человечества ( геноцид, экологические, распространение оружия массового поражения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жностные ( взятка, злоупотребление властью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инские ( мародерство, дезертирств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.О. Наступает с 16 лет, за особо тяжкие преступ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4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преступл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квалифик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ступления против личности ( убийство, похищение, преступление против конституционных прав и свобод, изнасилование, уклонение от алиментов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ступления против собственности ( кража, грабеж, разбой, мошенничество, угон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фере экономической деятельности ( незаконная банковская деятельность, лжепредпринимательство, контрабанда.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 мира и безопасности человечества ( геноцид, экологические, распространение оружия массового поражения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жностные ( взятка, злоупотребление властью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инские ( мародерство, дезертирст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.О. Наступает с 16 лет, за особо тяжкие преступ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14 л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аз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азание- мера гос. принуждения, назначаемая по приговору суда и применяемая к лицу, признанному виновным в совершении преступ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наказ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становление соц. справедлив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равление осужден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ка преступл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тоятельства, отягчающие У.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тупление тяжелых послед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о активная роль в совершении преступ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лечение к совершению преступления лиц с тяжелыми психическими расстройствами, в состоянии опьянения, несовершеннолетн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тношении беременных, малолетних, лиц находящихся в материальной или служебной зависи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словиях ЧП  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аза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азание- мера гос. принуждения, назначаемая по приговору суда и применяемая к лицу, признанному виновным в совершении преступ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наказа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становление соц. справедлив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равление осужденн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илактика преступл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тоятельства, отягчающие У.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тупление тяжелых последств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о активная роль в совершении преступ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лечение к совершению преступления лиц с тяжелыми психическими расстройствами, в состоянии опьянения, несовершеннолетн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тношении беременных, малолетних, лиц находящихся в материальной или служебной завис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условиях ЧП  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аз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тоятельства, смягчающие У.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ршение преступления вперв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влиянием угро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ледствии стечения тяжелых семейных или личных обстоятель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ка с повин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ая помощь в раскрытии преступ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большая тяжесть,  в последствии случайного стечения обстоятель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овершенноле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рем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малолетних де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ние помои потерпевше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ивоправность или аморальность действий потерпевш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тоятельства, исключающие У.О. -см Юридическ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аза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тоятельства, смягчающие У.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ршение преступления вперв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влиянием угроз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ледствии стечения тяжелых семейных или личных обстоятель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ка с повин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ивная помощь в раскрытии преступ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большая тяжесть,  в последствии случайного стечения обстоятель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овершенноле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рем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малолетних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азание помои потерпевше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правность или аморальность действий потерпевше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тоятельства, исключающие У.О. -см Юридическая ответ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аз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наказа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траф - от 2500 до 1 млн., может быть рассрочка до 3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шение права занимать определенные должности - от 1 года до 5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шение воинского или специального з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ие по военной службе - удержание из зарплаты до 20 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ые работы - бесплатный общественно-полезный труд в свободное от работы время - от 60 до 240 часов, не больше 4 часов в день. Нельзя для инвалидов 1 группы, беременных женин, женщин с детьми до 3 лет, военнослужащ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в дисциплинарной воинской части - от 3 месяцев до 2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фискация иму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равительные работы-3 месяца-2 года, удержание в доход государства от 5-20% зарпл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ие свободы - содержание в  спец. учреждении без изоляции от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ест-1-6 месяц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шение свободы на определенный срок - от 2 месяцев до 20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жизненное лишение своб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ртная казнь ( мораторий с 199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аза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наказа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траф - от 2500 до 1 млн., может быть рассрочка до 3 л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шение права занимать определенные должности - от 1 года до 5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шение воинского или специального з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аничение по военной службе - удержание из зарплаты до 20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язательные работы - бесплатный общественно-полезный труд в свободное от работы время - от 60 до 240 часов, не больше 4 часов в день. Нельзя для инвалидов 1 группы, беременных женин, женщин с детьми до 3 лет, военнослужащи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в дисциплинарной воинской части - от 3 месяцев до 2 л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фискация иму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равительные работы-3 месяца-2 года, удержание в доход государства от 5-20% зарпла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аничение свободы - содержание в  спец. учреждении без изоляции от об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ест-1-6 месяц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шение свободы на определенный срок - от 2 месяцев до 20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жизненное лишение своб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мертная казнь ( мораторий с 199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аз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ры воспитательного воздействия к несовершеннолетни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 за преступления небольшой или средней тяже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упреж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ача под надзор родителей или специализированного гос.орг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ложение обязанности загладить причиненный вре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ие досуга и установление особых требований к повед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наказания для несовершеннолетни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траф, при наличии самостоятельного заработка - от 100 до 50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шение права заниматься определенной деятель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ые работы - от 40-160 часов, должны быть посильными, 2 часа-до 15 лет, 3 часа- до 16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равительные работы- до 1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ест- с 16 лет, 1-4 меся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шение свободы - не более 10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 под стражу несовершеннолетних только в тяжелых случаях. Допрос не больше 4 часов, в присутствии адвоката, педагога, психолога до 16 лет, после 16 лет- умственно отсталый. Родители — разрешение следова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аза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ры воспитательного воздействия к несовершеннолетни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 за преступления небольшой или средней тяжест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упреж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ча под надзор родителей или специализированного гос.орга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ложение обязанности загладить причиненный вре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аничение досуга и установление особых требований к поведе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наказания для несовершеннолетних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траф, при наличии самостоятельного заработка - от 100 до 5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шение права заниматься определенной деятельност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язательные работы - от 40-160 часов, должны быть посильными, 2 часа-до 15 лет, 3 часа- до 16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равительные работы- до 1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ест- с 16 лет, 1-4 меся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шение свободы - не более 10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лючение под стражу несовершеннолетних только в тяжелых случаях. Допрос не больше 4 часов, в присутствии адвоката, педагога, психолога до 16 лет, после 16 лет- умственно отсталый. Родители — разрешение следова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ое пра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П - отрасль права, регулирующая общественные отношения  по поводу реализации исполнительной вл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Конституция, КОАП, дисциплинарные уставы, таможенный и др.кодек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ы: физические лица, организации, органы исполнительной вл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АП одной и сторон всегда выступает государ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административного правонаруш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дея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ивопра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но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но-следственная связь между противоправным деянием и его вредными последств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ое пра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П - отрасль права, регулирующая общественные отношения  по поводу реализации исполнительной вла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и: Конституция, КОАП, дисциплинарные уставы, таможенный и др.кодек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ы: физические лица, организации, органы исполнительной вла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АП одной и сторон всегда выступает государ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административного правонаруш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дея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пра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но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инно-следственная связь между противоправным деянием и его вредными последств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ая ответ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ые правонару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административных правонаруше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ласти охраны труда и здоровья населения ( сброс предприятием отходов в рек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ягательства на гос. собствен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четчик электроэнерг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ласти охраны природы, памятников истории и куль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транспорте ( бесплатный проез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ушение правил ПД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ласти торговли и финансов ( грубость продавца, обвес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ягающие на общественный порядок ( мелкое хулиганств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ягающие на установленный порядок управл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 неповиновение милиционер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ые правонару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административных правонаруше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бласти охраны труда и здоровья населения ( сброс предприятием отходов в реку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ягательства на гос. собствен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счетчик электроэнерг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бласти охраны природы, памятников истории и куль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транспорте ( бесплатный проезд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ушение правил ПД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бласти торговли и финансов ( грубость продавца, обвес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ягающие на общественный порядок ( мелкое хулиганст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ягающие на установленный порядок управл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 неповиновение милиционеру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ые правонару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мер принуждения в АП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о-предупредительные - предотвращение совершения правонарушения ( введение карантина, досмотр вещей, прекращение движения транспорта.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о-пресекательные - прекращение противоправных действий ( применение дубинок, административное задержание, принудительное лечение.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О наступает с 16 л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ое наказание может быть наложено не позднее 2 месяцев со дня совершения правонару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ые правонару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мер принуждения в АП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о-предупредительные - предотвращение совершения правонарушения ( введение карантина, досмотр вещей, прекращение движения транспорта.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о-пресекательные - прекращение противоправных действий ( применение дубинок, административное задержание, принудительное лечение.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ая ответ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О наступает с 16 ле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ое наказание может быть наложено не позднее 2 месяцев со дня совершения правонару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и функции права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бщеобяза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Связь с государ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Норма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Системат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Многократность приме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Изменчив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права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Регулятив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храни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Воспита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ультурно-истор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ой нигилизм-отрицание роли права в жизни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и функции права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еобяза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Связь с государ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Нормати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Систематич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Многократность приме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Изменчив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права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Регулятив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хранитель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Воспитатель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Культурно-историче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вой нигилизм-отрицание роли права в жизни об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ое взыск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административных взыска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упреждение, в письменной фор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траф ( для граждан- не больше 5000 руб., для должностных лиц-50000,для юридических лиц-1 млн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ездное изъятие иму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фискация иму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шение спец права ( водители, не меньше 1 мес., не больше 2 ле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равительные работы- до 2 месяцев, удержание из зарплаты до 20 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ый арест- до 15 суток с выполнением физических работ, нельзя применять к имеющим детей до 12 лет, беременным, инвалидам 1 и 2 группы, несовершеннолетн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алификация  - лишение права  занимать руководящую должность в исполнительном органе от 6 мес. до 3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ое приостановление деятельности-до 90 сут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ое выдворение за пределы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ое взыска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административных взыска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упреждение, в письменной форм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траф ( для граждан- не больше 5000 руб., для должностных лиц-50000,для юридических лиц-1 млн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ездное изъятие иму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фискация иму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шение спец права ( водители, не меньше 1 мес., не больше 2 ле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равительные работы- до 2 месяцев, удержание из зарплаты до 20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ый арест- до 15 суток с выполнением физических работ, нельзя применять к имеющим детей до 12 лет, беременным, инвалидам 1 и 2 группы, несовершеннолетни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калификация  - лишение права  занимать руководящую должность в исполнительном органе от 6 мес. до 3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ое приостановление деятельности-до 90 су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ое выдворение за пределы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ое право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ое право- отрасль права, регулирующая отношения работника с работодате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Конституция, Трудовой кодекс, Основы законодательства РФ об охране труда, О коллективных договорах и соглашениях, О профсоюзах, О занятости населения в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е право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е право- отрасль права, регулирующая отношения работника с работодате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и: Конституция, Трудовой кодекс, Основы законодательства РФ об охране труда, О коллективных договорах и соглашениях, О профсоюзах, О занятости населения в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ой догов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договор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ктивный договор - правовой акт, регулирующий трудовые отношения и заключаемый работниками организации с работодателем. Заключается не более чем на 3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овия догово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ые ( размер оплаты труда, продолжительность рабочего дня, мед.и соц.страхование, отказ от забастово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ые ( дополнительные льготы, доп.отпус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ые ( условия и срок действия договора, контроль выполнения, ответственность за наруш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ой договор ( контракт)- соглашение между работником и работодателем по выполнению ими определенных усло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й догов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договор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лективный договор - правовой акт, регулирующий трудовые отношения и заключаемый работниками организации с работодателем. Заключается не более чем на 3 г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ия договор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язательные ( размер оплаты труда, продолжительность рабочего дня, мед.и соц.страхование, отказ от забастово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тивные ( дополнительные льготы, доп.отпус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ые ( условия и срок действия договора, контроль выполнения, ответственность за нарушени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й договор ( контракт)- соглашение между работником и работодателем по выполнению ими определенных услов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ой догов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овия догово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еобходимые ( обязательные) - место работы, профессия, специальность, квалификация, зарпл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ия- вид трудовой деятельности, определяемый характером и целью трудовой функции ( врач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ьность - одна из разновидностей профессии (окулис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валификация- степень и вид профессиональной  обуч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дополнительные ( факультативные)- испытательный срок ( не более 3 месяцев, нельзя для несовершеннолетних), оплата проезда до работы, место в детсаду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й догов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ия договор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необходимые ( обязательные) - место работы, профессия, специальность, квалификация, зарпла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ия- вид трудовой деятельности, определяемый характером и целью трудовой функции ( врач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ьность - одна из разновидностей профессии (окулис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валификация- степень и вид профессиональной  обучен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дополнительные ( факультативные)- испытательный срок ( не более 3 месяцев, нельзя для несовершеннолетних), оплата проезда до работы, место в детсаду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ем на работу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ится по деловым качествам. Причина отказа должна быть в письменной фор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ые докумен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спо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ая книж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Н ( индентификационный налоговый номе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енный би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умент об образовании и квалифик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 заключается в 2 экземплярах. Работодатель издает приказ о зачислении на работу и объявляет его работнику под распис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ем на работу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ится по деловым качествам. Причина отказа должна быть в письменной форм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ые докумен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спо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ая книж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Н ( индентификационный налоговый номер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енный би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 об образовании и квалифик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говор заключается в 2 экземплярах. Работодатель издает приказ о зачислении на работу и объявляет его работнику под распис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оржение трудового догов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 инициативе работника. Заявление за 2 недели. Самовольное прекращение работы- прогул без уважительной прич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о инициативе администр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квидация пред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шт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оответствие занимаемой должности в следствии состояния здоровья или недостаточной квалифик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днократное неисполнение работником своих обязанно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кратное неисполнение,  повлекшее тяжелые послед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оральный поступок работника, выполнявшего воспитательные фун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оставление подложных документов или ложных сведений при заключении догов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торжение трудового догов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 инициативе работника. Заявление за 2 недели. Самовольное прекращение работы- прогул без уважительной прич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о инициативе администр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квидация пред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кращение шта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оответствие занимаемой должности в следствии состояния здоровья или недостаточной квалифик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днократное неисполнение работником своих обязаннос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кратное неисполнение,  повлекшее тяжелые послед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моральный поступок работника, выполнявшего воспитательные фун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оставление подложных документов или ложных сведений при заключении догово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оржение трудового догов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рещается увольн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ериод нетрудоспособности или пребывания в отпус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 согласия профсою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основаниям,  не предусмотренным зако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нщин в особых случа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овершеннолетних без согласия комиссии по делам несовершеннолетн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союзных активис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ходное пособие - денежная сумма, единовременно выплачиваемая работнику при увольнении не по его вине. В размере не менее 2 недельной или среднемесячной зарпл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иказе и трудовой книжке причина увольнения должна быть указана в точном соответствии с формулировкой законодательства и ссылкой на статью. Выдается в день увольнения, который считается последним рабочим дн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торжение трудового догов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рещается увольн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ериод нетрудоспособности или пребывания в отпус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з согласия профсою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основаниям,  не предусмотренным закон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нщин в особых случа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овершеннолетних без согласия комиссии по делам несовершеннолетн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союзных активис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ходное пособие - денежная сумма, единовременно выплачиваемая работнику при увольнении не по его вине. В размере не менее 2 недельной или среднемесячной зарпла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иказе и трудовой книжке причина увольнения должна быть указана в точном соответствии с формулировкой законодательства и ссылкой на статью. Выдается в день увольнения, который считается последним рабочим дн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чее вре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чее время - установленный законодательством отрезок календарного времени, в течение которого работник выполняет свои служебные обяза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рабочего времен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льное - не может быть больше 40 часов в недел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16-18 лет - не больше 35 ча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14-16 лет - не больше 24 ча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лное - по соглашению, беременные, с ребенком до 14 лет..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ее врем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ее время - установленный законодательством отрезок календарного времени, в течение которого работник выполняет свои служебные обязан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рабочего времен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льное - не может быть больше 40 часов в недел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кращен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16-18 лет - не больше 35 ч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14-16 лет - не больше 24 ч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полное - по соглашению, беременные, с ребенком до 14 лет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я отдых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я отдыха - свободное от работы время, которое работник может использовать по своему усмотр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времени отдых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ерерывы. Обеденный перерыв  не засчитывается в рабочее время и не оплачивается. Не менее 30 минут и более 2 ча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Междусменные перерывы - не могут быть меньше 12 ча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Еженедельные выходные дни. Работа в выходной запрещена. Может быть в случа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для предотвращения стихийных бед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для предотвращения несчастных случа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для производства непредвиденных раб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норам после сдачи крови 2 оплаченных дня. За работу в выходной предоставляется другой день отдыха или денежная компенс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Ежегодные праздничные дни. Накануне рабочий день сокращается на 1 час. Если праздничный день совпадает с выходным, то день отдыха переносится на следующий де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Ежегодные отпуска. Не меньше 28 календарных дней, подросткам- не меньше 31 дня.Право на отпуск за первый год работы- через 6 месяц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я отдых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я отдыха - свободное от работы время, которое работник может использовать по своему усмотрен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времени отдых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ерерывы. Обеденный перерыв  не засчитывается в рабочее время и не оплачивается. Не менее 30 минут и более 2 ча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Междусменные перерывы - не могут быть меньше 12 ч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Еженедельные выходные дни. Работа в выходной запрещена. Может быть в случа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для предотвращения стихийных бедств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для предотвращения несчастных случа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для производства непредвиденных рабо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норам после сдачи крови 2 оплаченных дня. За работу в выходной предоставляется другой день отдыха или денежная компенс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Ежегодные праздничные дни. Накануне рабочий день сокращается на 1 час. Если праздничный день совпадает с выходным, то день отдыха переносится на следующий ден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Ежегодные отпуска. Не меньше 28 календарных дней, подросткам- не меньше 31 дня.Право на отпуск за первый год работы- через 6 месяце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лата тру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лата труда - установленное соглашением сторон и предусмотренное договором система вознаграждения за рабо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ы опла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ремен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ая тарифная сетка-система зарплаты работников бюджетной сферы. Состоит из 18 разрядов, каждый соответствует квалифик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е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плата должна выплачиваться не реже раз в полмеся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ы удерж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  подоходный налог 13 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  обязательные страховые взносы в пенсионный фонд 1 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  удержания по судебному реш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 удержаний суммарно не может быть больше 20 %, а в особых случаях не больше 5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лата труд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лата труда - установленное соглашением сторон и предусмотренное договором система вознаграждения за работ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ы опла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ременна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ая тарифная сетка-система зарплаты работников бюджетной сферы. Состоит из 18 разрядов, каждый соответствует квалифик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ельна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рплата должна выплачиваться не реже раз в полмесяц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ы удержа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 подоходный налог 13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 обязательные страховые взносы в пенсионный фонд 1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 удержания по судебному реше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р удержаний суммарно не может быть больше 20 %, а в особых случаях не больше 50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прав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 права - документ, в котором записаны правовые но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источников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ой обычай- правило поведения, закрепившееся в обществе в результате его длительного применения ( ребенок остается с матерью при развод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-соглашение двух или более лиц, санкционирующее возникновение, изменение или прекращение право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индивидуаль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ормативный ( РФ-СШ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цедент-факт, имевший место в чьей-либо практ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о-правовой акт - официальный письменный документ, принятый в особом порядке управомоченным на то гос.орга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и прав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 права - документ, в котором записаны правовые нор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источников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вой обычай- правило поведения, закрепившееся в обществе в результате его длительного применения ( ребенок остается с матерью при развод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говор-соглашение двух или более лиц, санкционирующее возникновение, изменение или прекращение право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индивидуаль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нормативный ( РФ-СШ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цедент-факт, имевший место в чьей-либо практ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тивно-правовой акт - официальный письменный документ, принятый в особом порядке управомоченным на то гос.орган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циплинарн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циплинарная ответственность- обязанность работника понести наказание, предусмотренное нормами трудового права за халатное, противоправное неисполнение своих трудовых обязан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дисциплинарных взыск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меч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гов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ольн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применения взыскания от работника должны потребовать письменное объяснение. Применяется не позднее 1 месяца со дня поступка, не позже 6 месяцев. Приказ о взыскании под расписку в течение 3 рабочих д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арная ответ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арная ответственность- обязанность работника понести наказание, предусмотренное нормами трудового права за халатное, противоправное неисполнение своих трудовых обязаннос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дисциплинарных взыск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меч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гов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ольн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применения взыскания от работника должны потребовать письменное объяснение. Применяется не позднее 1 месяца со дня поступка, не позже 6 месяцев. Приказ о взыскании под расписку в течение 3 рабочих дн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ые сп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ые споры- разногласия, возникающие по поводу применения трудового законод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ые спор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омиссией по рассмотрению трудовых споров ( КТС), избираемой трудовым коллективом с числом рабочих не менее 15 чело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уд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вышестоящими орган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администрацией предприятия совместно с профком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уде рассматриваются сп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 возвращении на рабо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б изменении даты и формулировки причины уволь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б оплате вынужденного прогу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ые сп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ые споры- разногласия, возникающие по поводу применения трудового законод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ые спор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ивиду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омиссией по рассмотрению трудовых споров ( КТС), избираемой трудовым коллективом с числом рабочих не менее 15 челов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суд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вышестоящими орган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администрацией предприятия совместно с профком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уде рассматриваются сп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 возвращении на работ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об изменении даты и формулировки причины уволь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об оплате вынужденного прогу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ые сп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лючительно в суде рассматриваются сп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рабочих тех предприятий, где нет КТ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 заявлению администрации о возмещении работником ущерб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б отказе в приеме на работу лица, с которым предприятие должно было заключить догов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ктив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имирительной комиссией из числа работников и администрации, создается в 3- дневный ср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трудовым арбитражем, создается в 10- дневный ср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ые сп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ключительно в суде рассматриваются сп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рабочих тех предприятий, где нет КТ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 заявлению администрации о возмещении работником ущерб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об отказе в приеме на работу лица, с которым предприятие должно было заключить догов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лектив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имирительной комиссией из числа работников и администрации, создается в 3- дневный ср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трудовым арбитражем, создается в 10- дневный ср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ей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- отрасль права, регулирующая семейные от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Конституция, Семейный кодек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овия вступления в бра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ное соглас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ое присут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ижение брачного возраста( раньше- только по решению местных органов вла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пятствия к вступлению в бра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из супругов уже состоит в законном бра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 родственниками по прямой восходящей и нисходящей линии, полнородными и неполнородными, усыновителями и усыновленн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лицом признанным недееспособным вследствие душевной болезни или слабоум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ейн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- отрасль права, регулирующая семейные отно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и: Конституция, Семейный кодек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ия вступления в бра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ное соглас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чное присутств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ижение брачного возраста( раньше- только по решению местных органов власт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пятствия к вступлению в бра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ин из супругов уже состоит в законном бра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 родственниками по прямой восходящей и нисходящей линии, полнородными и неполнородными, усыновителями и усыновленны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лицом признанным недееспособным вследствие душевной болезни или слабоум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и обязанности супругов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и обязанности супруг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обственное имя и фамил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свободного выбора профе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свободного выбора места жи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воспитание де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уществ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имущество, что было нажито при совместной жизни,  делится поровну. Не делится имущество, нажитое до совместной жизни, полученное в дар или по наследству, личные вещи, к которым не относятся драгоценности и вклад в ба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му из супругов могут быть назначены алименты. Прекращение алиментных прав наступает если супруга вступает в новый брак, возвращает трудоспособность, отпадает нужда по другим обстоятельствам( наследство). На детей алименты выплачиваются до 18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 и обязанности супругов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 и обязанности супруг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ч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собственное имя и фамил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свободного выбора профе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свободного выбора места жи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а воспитание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уществе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имущество, что было нажито при совместной жизни,  делится поровну. Не делится имущество, нажитое до совместной жизни, полученное в дар или по наследству, личные вещи, к которым не относятся драгоценности и вклад в бан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му из супругов могут быть назначены алименты. Прекращение алиментных прав наступает если супруга вступает в новый брак, возвращает трудоспособность, отпадает нужда по другим обстоятельствам( наследство). На детей алименты выплачиваются до 18 л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и обязанности родителей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и обязанности родител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ФИО, национальность, гражд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ть место жи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щать права и интересы де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ть получение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ыв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отиться о здоровье и нравственном развит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ть де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шение родительских пра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лоняются от выполнения обязанностей по воспитанию де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стоко обращаю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оральное п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коголики, нарком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освобождаются от содержания детей, платят алимен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 и обязанности родителей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 и обязанности родителе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ть ФИО, национальность, гражда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ять место жи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щать права и интересы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ить получение образ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итыв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ботиться о здоровье и нравственном развит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ть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шение родительских пра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клоняются от выполнения обязанностей по воспитанию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стоко обращаю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моральное по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коголики, нарком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освобождаются от содержания детей, платят алимен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семейного воспитания детей, оставшихся без попечения родителей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ыновление ( удочер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ка- для защиты малолетних и над лицами, признанными недееспособными вследствие психического расстройства. Опекун самостоятельно совершает сдел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ечительство- для защиты несовершеннолетних и граждан, ограниченных в дееспособности вследствие приема спиртных напитков и наркотических веществ. Попечитель дает согласие на совершение сдел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ёмная сем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семейного воспитания детей, оставшихся без попечения родителей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ыновление ( удочерени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ека- для защиты малолетних и над лицами, признанными недееспособными вследствие психического расстройства. Опекун самостоятельно совершает сдел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печительство- для защиты несовершеннолетних и граждан, ограниченных в дееспособности вследствие приема спиртных напитков и наркотических веществ. Попечитель дает согласие на совершение сдел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ёмная семь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ей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ждение детей может быть установле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       родители могут подать в загс совместное заявление о признании их родител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       мать может обратиться в суд с иском об установлении отцовства ( во внимание принимаются совместное проживание и ведение общего хозяйства, совместное воспитание, доказательства, подтверждающие признание ответчиком отцовств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о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гсе - при наличии совершеннолетних детей, взаимном согласии, отсутствии имущественных сп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уде - при наличии несовершеннолетних детей, при отсутствии согласия одного из супругов на развод, при наличии имущественных споров. Суд может назначить супругам срок примирения до 3 месяц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ейн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схождение детей может быть установлен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      родители могут подать в загс совместное заявление о признании их родител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      мать может обратиться в суд с иском об установлении отцовства ( во внимание принимаются совместное проживание и ведение общего хозяйства, совместное воспитание, доказательства, подтверждающие признание ответчиком отцовств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од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гсе - при наличии совершеннолетних детей, взаимном согласии, отсутствии имущественных сп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уде - при наличии несовершеннолетних детей, при отсутствии согласия одного из супругов на развод, при наличии имущественных споров. Суд может назначить супругам срок примирения до 3 месяце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ачный догово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ачный договор – соглашение , определяющее имущественные права и обязанности супругов. Может быть заключён до брака и во время брака, заверяется нотариаль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я, регулируемые брачным договор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совместной собственности на иму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и обязанности супругов по взаимному содержа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участия в доходах друг друга и порядок несения рас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дел имущества в случае расторжения бра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ачный договор не мож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граничивать правоспособность и дееспособность супру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регулировать личные неимущественные право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включать положения, которые ставят одного из супругов в крайне неблагоприятное положение или противоречат 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ачный договор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ачный договор – соглашение , определяющее имущественные права и обязанности супругов. Может быть заключён до брака и во время брака, заверяется нотариаль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ношения, регулируемые брачным договоро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 совместной собственности на имущ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 и обязанности супругов по взаимному содержа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ы участия в доходах друг друга и порядок несения рас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дел имущества в случае расторжения бра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ачный договор не мож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граничивать правоспособность и дееспособность супру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регулировать личные неимущественные право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включать положения, которые ставят одного из супругов в крайне неблагоприятное положение или противоречат 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П - отрасль права, регулирующая нормальные, повседневные отношения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ущественные 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ые неимущественные отношения, связанные с имуществом ( опубликование книг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ые неимущественные отношения, не связанные с имуществом ( защита чести и достоинств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ивилистика – то же, что гражданское пра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Гражданский кодекс, положения и инстру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к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П - отрасль права, регулирующая нормальные, повседневные отношения люд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ущественны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чные неимущественные отношения, связанные с имуществом ( опубликование книг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чные неимущественные отношения, не связанные с имуществом ( защита чести и достоинств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вилистика – то же, что гражданское пра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и: Гражданский кодекс, положения и инстру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о-правовые а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юридической силе различа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итуция (имеет высшую юридическую сил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о-конституционные зак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е зак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законные ак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азы президента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новления прави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азы и инструкции министер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тивно-правовые ак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юридической силе различаю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титуция (имеет высшую юридическую силу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едерально-конституционные зако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едеральные зако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законные ак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казы президента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ановления прави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казы и инструкции министер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ы Г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ы ГП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е РФ, иностранцы и лица без гражда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ие л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Ф, субъекты РФ, муниципальные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еспособность малолетни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   совершать мелкие бытовые сдел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   субъекты авторского и изобретательского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   вносить на счет в банке деньги и распоряжаться ими, но не могут распоряжаться вкладами других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    не могут распоряжаться имуще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еспособность несовершеннолетни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овершать мелкие бытовые сдел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убъекты авторского и изобретательского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  вносить в сбербанк деньги и распоряжаться ими, а также распоряжаться    вкладами других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  могут быть субъектами права на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   не могут распоряжаться имуществом, купленным на стипенд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ы Г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ы ГП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е РФ, иностранцы и лица без граждан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ридические л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Ф, субъекты РФ, муниципальные образ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еспособность малолетних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  совершать мелкие бытовые сде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  субъекты авторского и изобретательского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  вносить на счет в банке деньги и распоряжаться ими, но не могут распоряжаться вкладами других лю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   не могут распоряжаться имуще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еспособность несовершеннолетних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вершать мелкие бытовые сде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убъекты авторского и изобретательского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 вносить в сбербанк деньги и распоряжаться ими, а также распоряжаться    вкладами других лю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 могут быть субъектами права наслед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  не могут распоряжаться имуществом, купленным на стипенд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ГП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ГП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и, деньги, ценные бума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вижимые вещи - земельные участки и все, что с ними связано ( здания, предприятия.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жимые вещи - перемещение которых возможно без несоразмерного ущерба их назнач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и, свободно участвующие в обороте - могут приобретаться без ограничений любыми субъектами гражданского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и, ограниченные в обороте - оружие, летательные аппараты, яды..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ы и услу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ы интеллектуальн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атериальные бла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 ГП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 ГП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и, деньги, ценные бума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движимые вещи - земельные участки и все, что с ними связано ( здания, предприятия.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имые вещи - перемещение которых возможно без несоразмерного ущерба их назначе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и, свободно участвующие в обороте - могут приобретаться без ограничений любыми субъектами гражданского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и, ограниченные в обороте - оружие, летательные аппараты, яды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ы и услу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ультаты интеллектуальн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атериальные бла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ел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елка- действие физических и юридических лиц, направленные на установление, изменение или прекращение гражданских прав и обязан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сдел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левой а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мерное дей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ождает гражданские право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овия действительности сдел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субъектов сделки, обладающих дееспособ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леизъявление стор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мер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ичение в соответствующую форму устную, письменную (простую, нотариальную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людентные  действия – действия лиц, которые выражены не волеизъявлением, а конкретным поведенческим актом ( приобретение товаров в магазинах самообслуживания, обмен валюты через автомат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ел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елка- действие физических и юридических лиц, направленные на установление, изменение или прекращение гражданских прав и обязаннос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сдел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левой а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мерное действ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ождает гражданские право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ия действительности сдел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субъектов сделки, обладающих дееспособност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леизъявление стор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мер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личение в соответствующую форму устную, письменную (простую, нотариальную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клюдентные  действия – действия лиц, которые выражены не волеизъявлением, а конкретным поведенческим актом ( приобретение товаров в магазинах самообслуживания, обмен валюты через автомат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иды сдел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сдел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договор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ные на передачу имущества в собственность ( купля-продажа, поставка, дарение, заем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ющие целью передачу имущества во временное пользование ( аренда, договор найма жилого помещения.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выполнении работ ( подряда, строительства..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 оказании услуг ( перевозка, поручение, хранение, комиссия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ые договора ( страхование, совместная деятельность.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бличный договор – гражданско – правовой договор, заключаемый коммерческой  организацией и устанавливающий её обязанности по продаже товаров, оказанию услуг или выполнению работ, которые такая организация должна осуществлять в отношении каждого, который к ней обращается ( розничная торговля, гостиничное обслуживание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 доверительства – гражданско-правовой договор, при котором одна сторона ( учредитель управления) передаёт другой стороне ( доверительному управляемому) на определённый срок имущество, а другая сторона обязуется осуществлять управление этим имуществом в интересах учредителя или указанного им лица ( выгодоприобретател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гов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договор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ные на передачу имущества в собственность ( купля-продажа, поставка, дарение, заем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ющие целью передачу имущества во временное пользование ( аренда, договор найма жилого помещения.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 выполнении работ ( подряда, строительства..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 оказании услуг ( перевозка, поручение, хранение, комиссия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ые договора ( страхование, совместная деятельность.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бличный договор – гражданско – правовой договор, заключаемый коммерческой  организацией и устанавливающий её обязанности по продаже товаров, оказанию услуг или выполнению работ, которые такая организация должна осуществлять в отношении каждого, который к ней обращается ( розничная торговля, гостиничное обслуживание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говор доверительства – гражданско-правовой договор, при котором одна сторона ( учредитель управления) передаёт другой стороне ( доверительному управляемому) на определённый срок имущество, а другая сторона обязуется осуществлять управление этим имуществом в интересах учредителя или указанного им лица ( выгодоприобретател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ядок заключения догово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ферта- предложение, которое адресовано конкретному лицу и содержит существенные условия догов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епт-ответ лица, которому адресована оферта о её безоговорочном принятии. Если лицо посылает свои условия договора, его ответ будет называться контроферт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говор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ядок заключения договор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ферта- предложение, которое адресовано конкретному лицу и содержит существенные условия догово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епт-ответ лица, которому адресована оферта о её безоговорочном принятии. Если лицо посылает свои условия договора, его ответ будет называться контроферт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иды догов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догов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о-правовая ответствен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П ответственность- реакция государства на неправомерное поведение, которое влечет неблагоприятные последствия для наруши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ГП ответствен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сит компенсационный харак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сит имущественный харак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ьный ущерб- утрата или повреждение имуества, а также расходы для возвращения имущественного поло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ущенная выгода- неполученные доходы, которые потерпевшая сторона могла бы получить если бы не было нарушено её пра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ко-правовая ответствен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П ответственность- реакция государства на неправомерное поведение, которое влечет неблагоприятные последствия для наруши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ГП ответствен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сит компенсационный характ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сит имущественный характ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ый ущерб- утрата или повреждение имуества, а также расходы для возвращения имущественного поло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ущенная выгода- неполученные доходы, которые потерпевшая сторона могла бы получить если бы не было нарушено её пра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собствен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ния возникновения права собствен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оначальные спосо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новой ве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работка, сбор, добыча доступных для этих целей вещ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вольная построй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обретение права собственности на бесхозное иму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ные спосо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сновании догов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лед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преемство при реорганизации юридического л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собствен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ания возникновения права собствен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оначальные способ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овой ве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работка, сбор, добыча доступных для этих целей вещ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вольная построй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обретение права собственности на бесхозное имущ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ные способ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основании догов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лед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преемство при реорганизации юридического л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собствен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кращение права собствен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воле собствен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бель ве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е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удительное изъя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защиты права собствен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ндикационный иск - об истребовании имущества из чужого незаконного вла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гаторный иск - об устранении препятствий в пользовании имуществом, несвязаное с лишением владения вещ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витут- ограничение права на вещь, которое существует одновременно с правом собственности на ту же самую вещь. ( право ограниченного пользования соседским участко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собствен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кращение права собствен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воле собствен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а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бель ве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ер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удительное изъя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защиты права собствен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ндикационный иск - об истребовании имущества из чужого незаконного вла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гаторный иск - об устранении препятствий в пользовании имуществом, несвязаное с лишением владения вещ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рвитут- ограничение права на вещь, которое существует одновременно с правом собственности на ту же самую вещь. ( право ограниченного пользования соседским участко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 права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 права - общеобязательное правило поведения, которое устанавливается государством и закреплено в официальных правовых акт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нормы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потеза - указан круг лиц, которому она адресована, обстоятельства, при которых она реализу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позиция -  правила поведения, в которых указываются права и обязанности стор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кция - меры государственного принуж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 права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 права - общеобязательное правило поведения, которое устанавливается государством и закреплено в официальных правовых акт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нормы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теза - указан круг лиц, которому она адресована, обстоятельства, при которых она реализу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позиция -  правила поведения, в которых указываются права и обязанности стор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нкция - меры государственного принуж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ств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ство- правоотношение, стороны которого называются кредитор и должн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обеспечения обязательст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устойка в виде штрафа или п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ержание- удерживание вещи кредитором до полного исполнения обяз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учитель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лог. Ипотека- залог без передачи вещи залогодержател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овская гарантия - обязательство банка, данное по просьбе должника,  об уплате его кредитору денежной суммы по представлении им письменного треб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язательств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язательство- правоотношение, стороны которого называются кредитор и должн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ы обеспечения обязательст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устойка в виде штрафа или пе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ержание- удерживание вещи кредитором до полного исполнения обяз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учитель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лог. Ипотека- залог без передачи вещи залогодержател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нковская гарантия - обязательство банка, данное по просьбе должника,  об уплате его кредитору денежной суммы по представлении им письменного треб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ледственное право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ния наследо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 завещанию. Завещатель может завещать имущество любым лицам, самостоятельно определить доли наследников. Необходимыми наследниками являются: несовершеннолетние или нетрудоспособные дети наследователя, нетрудоспособный супруг или родители, нетрудоспособные иждивенцы. Они наследуют не менее половины доли, которая причиталась бы каждому при наследовании по зако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о закон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 очередей на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супруг, родители, де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родные братья и сестры, дедушки и бабуш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родные дяди и те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прабабушки и прадедуш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дети племянников и племянниц, родные сестры и братья бабушек и дедуш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ледственное право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ания наследова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 завещанию. Завещатель может завещать имущество любым лицам, самостоятельно определить доли наследников. Необходимыми наследниками являются: несовершеннолетние или нетрудоспособные дети наследователя, нетрудоспособный супруг или родители, нетрудоспособные иждивенцы. Они наследуют не менее половины доли, которая причиталась бы каждому при наследовании по закон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о закон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 очередей наслед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супруг, родители, де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родные братья и сестры, дедушки и бабуш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одные дяди и те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прабабушки и прадедуш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дети племянников и племянниц, родные сестры и братья бабушек и дедуш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ледствен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наследу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ршившие умышленные противоправные действия против наследователя или наслед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тели, лишенные родительских пр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ещательный отказ – возложение на наследника по завещанию исполнение какого-либо обязательства в пользу другого л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ожизненное использование дом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внуки племянников и племянниц, дети двоюродных братьев и сестер, двоюродные тети и дя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пасынки, падчерицы, отчим и мачех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проживающие на иждивении не менее 1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тупают в права наследования в течение  6 месяцев после его откры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ледственн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наследую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ршившие умышленные противоправные действия против наследователя или наследн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тели, лишенные родительских пра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ещательный отказ – возложение на наследника по завещанию исполнение какого-либо обязательства в пользу другого л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ожизненное использование дом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внуки племянников и племянниц, дети двоюродных братьев и сестер, двоюродные тети и дяд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пасынки, падчерицы, отчим и мачех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проживающие на иждивении не менее 1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тупают в права наследования в течение  6 месяцев после его откры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ое право -отрасль права, регулирующая отношения физических и юридических лиц, осуществляющих предпринимательскую деятельность, а также их взаимоотношения с органами вл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ы ПП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ие лица. Заниматься предпринимательством можно с 16 лет, в исключительных случаях с 14. Для этого нужно зарегистрироваться в органах местной администрации, получить соответствующее свидетельство или лицензию. Можно нанимать работников в свою фирму, заключив с ними трудовые контрак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ое лицо-организация, имеющая обособленное имущество, отвечающее самостоятельно этим имуществом по долгам, выступающее в суде истцом или ответч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ое право -отрасль права, регулирующая отношения физических и юридических лиц, осуществляющих предпринимательскую деятельность, а также их взаимоотношения с органами вла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ы ПП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ческие лица. Заниматься предпринимательством можно с 16 лет, в исключительных случаях с 14. Для этого нужно зарегистрироваться в органах местной администрации, получить соответствующее свидетельство или лицензию. Можно нанимать работников в свою фирму, заключив с ними трудовые контрак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ридическое лицо-организация, имеющая обособленное имущество, отвечающее самостоятельно этим имуществом по долгам, выступающее в суде истцом или ответчик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Ю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внутренней структуры организации, учредительных доку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имущества на праве собственности. Наличие денежных средств на расчетном счете в ба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о отвечает по долг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тупает в гражданском обороте от собственного и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Ю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внутренней структуры организации, учредительных докуме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имущества на праве собственности. Наличие денежных средств на расчетном счете в бан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стоятельно отвечает по долг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тупает в гражданском обороте от собственного име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Ю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ерческие - цель-получение прибы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Товари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Полное - все участники ведет предпринимательскую деятельность от имени товарищества и отвечают по его обязательствам. Каждый участник имеет один голо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На вере ( коммандитное)- наряду с полными товарищами есть вкладчики( коммандиты), которые предоставляют свои денежные средства, не принимая участия в предпринимательской деятельности и несут ответственность в пределах установленных им вкла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Ю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ерческие - цель-получение прибы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Товарищ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Полное - все участники ведет предпринимательскую деятельность от имени товарищества и отвечают по его обязательствам. Каждый участник имеет один голо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На вере ( коммандитное)- наряду с полными товарищами есть вкладчики( коммандиты), которые предоставляют свои денежные средства, не принимая участия в предпринимательской деятельности и несут ответственность в пределах установленных им вкла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б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С ограниченной ответственностью ООО- общество, учредители которого собрали определенный капитал, разделив его  на доли между собой. Убытки в пределах внесенной доли вкла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Акционерное АО - уставной капитал делится на определенное количество акций, его участники несут риск убытков в пределах стоимости ак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ткрытое ОАО - можно продать акции без согласия других акционеров, должны публиковать для всеобщего обозрения годовой отч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закрытое ЗАО- акции распределяются только среди учредителей или заранее определенного круга ли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бщ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С ограниченной ответственностью ООО- общество, учредители которого собрали определенный капитал, разделив его  на доли между собой. Убытки в пределах внесенной доли вкла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Акционерное АО - уставной капитал делится на определенное количество акций, его участники несут риск убытков в пределах стоимости а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ткрытое ОАО - можно продать акции без согласия других акционеров, должны публиковать для всеобщего обозрения годовой отч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закрытое ЗАО- акции распределяются только среди учредителей или заранее определенного круга лиц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оизводственный кооператив( артель)-добровольное объединение граждан на основе членства для совместной производственн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государственные и муниципальные предприятия ( унитарные)- управляют, но не владеют закрепленным за ними гос. имуществом, имущество не может быть поделено по вклад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роизводственный кооператив( артель)-добровольное объединение граждан на основе членства для совместной производственн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государственные и муниципальные предприятия ( унитарные)- управляют, но не владеют закрепленным за ними гос. имуществом, имущество не может быть поделено по вклад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ммерческ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требительский кооператив- членство на основе удовлетворения материальных и иных потребностей, объединение имущественных и паевых взно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бщественные и религиозные организации - добровольное объединение на основе общности интересов для удовлетворения духовных и иных нематериальных потребностей. Может осуществлять предпринимательскую деятельность лишь для достижения цели, ради которой было создано.Участники не отвечают по обязательствам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Фонд- добровольная организация, преследующая социальные, благотворительные, культурные, образовательные и другие общественно-полезные цели. Учредители не отвечают по обязательствам фон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коммерческ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требительский кооператив- членство на основе удовлетворения материальных и иных потребностей, объединение имущественных и паевых взно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бщественные и религиозные организации - добровольное объединение на основе общности интересов для удовлетворения духовных и иных нематериальных потребностей. Может осуществлять предпринимательскую деятельность лишь для достижения цели, ради которой было создано.Участники не отвечают по обязательствам орган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Фонд- добровольная организация, преследующая социальные, благотворительные, культурные, образовательные и другие общественно-полезные цели. Учредители не отвечают по обязательствам фон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пособность ЮЛ возникает с момента его создания. Моментом создания считается момент его регистрации в органах юстиции. Данные гос.регистрации вносятся в единый гос.реестр, открытый для всеобщего ознаком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еспособность ЮЛ реализуется через действия органов ЮЛ ( директор, общее собрание акционеров..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преемство- переход прав и обязанностей к новому Ю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организация- изменение организационно-правовой формы Ю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ияние с другим Ю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деление на несколько новых Ю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формы деятельности ( ОАО-ЗА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пособность ЮЛ возникает с момента его создания. Моментом создания считается момент его регистрации в органах юстиции. Данные гос.регистрации вносятся в единый гос.реестр, открытый для всеобщего ознаком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еспособность ЮЛ реализуется через действия органов ЮЛ ( директор, общее собрание акционеров..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преемство- переход прав и обязанностей к новому Ю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организация- изменение организационно-правовой формы Ю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ияние с другим Ю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деление на несколько новых Ю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формы деятельности ( ОАО-ЗАО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иды норм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норм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е партнёрство – деятельность, направленная на достижение социальных целей ( садоводческое  товарищество, огородническое товарищество, дачное хозяйств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анчайзинг – система мелких частных фирм, которые заключают контракт на право пользования фабричной маркой крупной фирмы в своей деятельности на определённой территории и в определённое врем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нчурная фирма – коммерческая организация, занимающаяся разработкой научных исследований для их дальнейшего развития и завер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е партнёрство – деятельность, направленная на достижение социальных целей ( садоводческое  товарищество, огородническое товарищество, дачное хозяйст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ранчайзинг – система мелких частных фирм, которые заключают контракт на право пользования фабричной маркой крупной фирмы в своей деятельности на определённой территории и в определённое врем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нчурная фирма – коммерческая организация, занимающаяся разработкой научных исследований для их дальнейшего развития и завер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уд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стоящее время в РФ сложилась единая система судо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осуществления правосуд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ги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ение правосудия только суд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зависимость су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пустимость посторного осуждения за одно и тоже преступ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пользование квалифицированной юридической помощ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ноправие и состяза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опроизводство на национальном язы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умпция невино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уд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настоящее время в РФ сложилась единая система судопроизвод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осуществления правосуд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легиа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уществление правосудия только суд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зависимость су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допустимость посторного осуждения за одно и тоже преступ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а пользование квалифицированной юридической помощ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с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вноправие и состяза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допроизводство на национальном язы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умпция невинов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уд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ебная система в РФ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ы высшей инстанции - Конституционный суд, Верховный суд, Высший арбитражный су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ы 2 инстанции - Конституционный суд субъектов РФ, Верховные суды республик, краёв, областей, автономных областей и округов, городов федерального значения, Федеральные арбитражные суды округ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ы 1 инстанции - городские и районные суды, мировые судьи, арбитражные суды субъектов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уд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дебная система в РФ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ды высшей инстанции - Конституционный суд, Верховный суд, Высший арбитражный су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ды 2 инстанции - Конституционный суд субъектов РФ, Верховные суды республик, краёв, областей, автономных областей и округов, городов федерального значения, Федеральные арбитражные суды округ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ды 1 инстанции - городские и районные суды, мировые судьи, арбитражные суды субъектов Р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уд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охранительный орган - гос. орган, осуществляющий специализированную правоохранительную деятельность, в целях защиты прав и свобод граждан, общества и государства от противоправных посягатель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куратура - единая федеральная централизованная система органов, осуществляющая от имени РФ надзор за исполнением конституции и зак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я деятельности прокуратур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зор за исполнением зако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зор в стадии производства дознания и предварительного след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зор в уголовном и гражданском судопроизвод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зор в стадии исполнения пригов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зор за исполнением прав и своб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ординация действий правоохранительных органов по борьбе с преступ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уд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охранительный орган - гос. орган, осуществляющий специализированную правоохранительную деятельность, в целях защиты прав и свобод граждан, общества и государства от противоправных посягатель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куратура - единая федеральная централизованная система органов, осуществляющая от имени РФ надзор за исполнением конституции и закон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деятельности прокуратур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дзор за исполнением зако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дзор в стадии производства дознания и предварительного след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дзор в уголовном и гражданском судопроизвод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дзор в стадии исполнения пригов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дзор за исполнением прав и своб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ординация действий правоохранительных органов по борьбе с преступност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уд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вокатура - профессиональное сообщество адвока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я деятельности адвокатур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ультации, разъяснения, справки по юридическим вопрос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документов правового харак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в гражданском, уголовном, административном производ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ие интересов доверителя в органах в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а прав граждан при оказании им психиатрической 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ое обслуживание коммерческих опер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в качестве представителя в Конституционном су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уд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вокатура - профессиональное сообщество адвока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деятельности адвокатур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ультации, разъяснения, справки по юридическим вопрос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ление документов правового характ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в гражданском, уголовном, административном производ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ление интересов доверителя в органах в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а прав граждан при оказании им психиатрической помо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вое обслуживание коммерческих опер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в качестве представителя в Конституционном су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уд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юст РФ - федеральный орган исполнительной власти, проводящий гос. политику и осуществляющий управление в сфере юсти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я деятель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изация гос. политики в сфере юст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прав и законных интересов личности и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 защита интеллектуальной собств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а установленного порядка действия су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ение актов судебных и других орга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ение уголовных наказ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введение Минюста входи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ужба судебных пристав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ИС ( уголовно-исполнительная система - колонии, тюрьмы, СИЗО.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. нотариат ( удостоверяет сделки, подлинность документов, охрана наследственных прав, принимает документы на хранение......)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тр судебных эксперт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дакции юридических журна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уд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юст РФ - федеральный орган исполнительной власти, проводящий гос. политику и осуществляющий управление в сфере юсти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деятель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изация гос. политики в сфере юст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прав и законных интересов личности и государ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вая защита интеллектуальной собств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а установленного порядка действия су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нение актов судебных и других орга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нение уголовных наказ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введение Минюста входи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ужба судебных пристав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ИС ( уголовно-исполнительная система - колонии, тюрьмы, СИЗО.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. нотариат ( удостоверяет сделки, подлинность документов, охрана наследственных прав, принимает документы на хранение......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Г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 судебных эксперт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дакции юридических журнал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уд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лиция- система органов исполнительной власти, призванных защищать жизнь, здоровье, права и свободы граждан, интересы общества и государства от преступных посягатель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направления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личной безопасности гражд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упреждение правонару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храна общественного поряд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ние помощи насел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ледование преступлений и розыск скрывшихся л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мили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минальная с подразделен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угр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БЭ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перативно-технический отд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перативно-поисковый отд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илиция общественной безопасности с подразделен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уд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лиция- система органов исполнительной власти, призванных защищать жизнь, здоровье, права и свободы граждан, интересы общества и государства от преступных посягатель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направления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личной безопасности гражд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упреждение правонару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рана общественного поряд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азание помощи населе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ледование преступлений и розыск скрывшихся ли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мили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минальная с подразделен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гр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ОБЭ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оперативно-технический отд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оперативно-поисковый отд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милиция общественной безопасности с подразделен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тво - устойчивая правовая связь человека с государством, выраженная в их взаимных правах и обязанност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2- Закон о гражданстве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приобретения граждан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     по рождению- фили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принцип крови - гражданство определяется гражданством родителей, место рождения не учитыв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принцип почвы - гражданство того государства, на территории которого человек родился, независимо от гражданства род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о приёму в гражд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тво - устойчивая правовая связь человека с государством, выраженная в их взаимных правах и обязанност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2- Закон о гражданстве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ы приобретения гражданст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     по рождению- фили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принцип крови - гражданство определяется гражданством родителей, место рождения не учитыва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принцип почвы - гражданство того государства, на территории которого человек родился, независимо от гражданства роди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о приёму в гражда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патрид- лицо, не имеющее гражда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патрид- лицо, имеющее двойное гражд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ация- выбор гражданства при изменении государственных границ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ребенку 14-18 лет  спрашивают его согласия при выборе граждан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ументами, подтверждающими гражданство РФ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спорт гражданина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идетельство о рожд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ами РФ являютс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лица, имеющие гражданство РФ на день вступления в силу Федерального закона о гражданстве ( на 1 июля 2002 год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лица, которые приобрели гражданство РФ в соответствии с действующим зако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патрид- лицо, не имеющее граждан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патрид- лицо, имеющее двойное гражда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ация- выбор гражданства при изменении государственных границ государ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ребенку 14-18 лет  спрашивают его согласия при выборе граждан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ами, подтверждающими гражданство РФ являю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спорт гражданина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идетельство о рожд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ами РФ являютс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лица, имеющие гражданство РФ на день вступления в силу Федерального закона о гражданстве ( на 1 июля 2002 год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лица, которые приобрели гражданство РФ в соответствии с действующим закон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турализация- процесс приобретения гражданских пр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ем в гражданство- с 18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5 л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оянное проживание на территории РФ до 5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нность соблюдать Конституцию и другие зак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ть законный источник существ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адеют русским язы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1 го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ие достижения в области науки, искусства..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раке с гражданином РФ не менее 3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рудоспособный и имеет детей старше 18 лет, имеющих гражданство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щущий политическое убежище на территории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турализация- процесс приобретения гражданских пра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ем в гражданство- с 18 л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5 л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оянное проживание на территории РФ до 5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язанность соблюдать Конституцию и другие зако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ть законный источник существ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деют русским язык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1 год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ие достижения в области науки, искусства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браке с гражданином РФ не менее 3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трудоспособный и имеет детей старше 18 лет, имеющих гражданство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щущий политическое убежище на территории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изация и применение норм пра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изация норм права – воплощение содержащихся в н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исаний по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реализации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существление ( использование) – реализация возможности, которая предоставляется участникам правоотношений ( ГК закрепляет право владеть, пользоваться и распоряжаться имущество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Исполнение – обязательное совершение активного действия, предписанного нормами права ( юридические обязанности гражда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облюдение – воздержание от совершения действия, запрещённого нормами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норм права – деятельность компетентных органов по реализации правовых предписаний по отношению к конкретным ситуациям и определённым лицам. ( вынесение приговора судо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изация и применение норм пра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изация норм права – воплощение содержащихся в н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исаний пове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реализации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существление ( использование) – реализация возможности, которая предоставляется участникам правоотношений ( ГК закрепляет право владеть, пользоваться и распоряжаться имущество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Исполнение – обязательное совершение активного действия, предписанного нормами права ( юридические обязанности гражда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Соблюдение – воздержание от совершения действия, запрещённого нормами пра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норм права – деятельность компетентных органов по реализации правовых предписаний по отношению к конкретным ситуациям и определённым лицам. ( вынесение приговора судо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аз в приеме в гражданств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тупает за насильственное изменение конституционного строя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лечен в качестве обвиняемого по уголовному дел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ход из гражданства невозможе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не отбыл воинскую пови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лечен в качестве обвиняемого по уголовному дел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ет обязательства перед стра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атрид- лицо, лишенное граждан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Ф не допускается лишения граждан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аз в приеме в гражданств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тупает за насильственное изменение конституционного строя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лечен в качестве обвиняемого по уголовному дел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ход из гражданства невозможе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не отбыл воинскую пови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лечен в качестве обвиняемого по уголовному дел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ет обязательства перед стра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спатрид- лицо, лишенное граждан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Ф не допускается лишения граждан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Российского граждан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граниченность ( запрещение дискриминации по расовым, национальным, религиозным, языковым признака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ое и равное гражданство ( все граждане равны, независимо от оснований приобретения гражданств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ение гражданства гражданами РФ, проживающими за её предел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тъемлемость гражданства ( не может быть лишё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безгражданства ( упрочение правового статуса лиц без гражданства, проживающих на территории РФ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Российского гражданст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граниченность ( запрещение дискриминации по расовым, национальным, религиозным, языковым признака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ое и равное гражданство ( все граждане равны, независимо от оснований приобретения гражданств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хранение гражданства гражданами РФ, проживающими за её предел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тъемлемость гражданства ( не может быть лишё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кращение безгражданства ( упрочение правового статуса лиц без гражданства, проживающих на территории РФ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ы, предоставляемые иностранным физическим и юридическим лица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й правовой режим – имеют те же права, что и граждане государства ( обращаться в су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наибольшего благоприятствования – иностранцы имеют те же права, что и другие иностранцы ( используется для внешней торговл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ференциальный режим – льготный режим, предоставляемый одним государством другому государству без распространения на другие страны ( скидки, уменьшение таможенных пошли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ы, предоставляемые иностранным физическим и юридическим лица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й правовой режим – имеют те же права, что и граждане государства ( обращаться в суд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 наибольшего благоприятствования – иностранцы имеют те же права, что и другие иностранцы ( используется для внешней торговл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ференциальный режим – льготный режим, предоставляемый одним государством другому государству без распространения на другие страны ( скидки, уменьшение таможенных пошли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емая 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webarhimed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grandars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емая 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webarhimed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grandars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B085-4005-4981-90FF-6E54D56EA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0983-68E5-42A8-8AF3-A7D8301BD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0F48-E01E-4CB1-B75E-5333F12F6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D5D3-1254-48EC-9B63-04565990F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80612-F220-4B48-B2D8-CC1153B2E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9086E-F6E5-453A-90B4-2C944AE99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D12D4-94FC-4B38-8D7B-F69490CA9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FC69F-5EF0-4CF3-AB1B-A3A6BAFD0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32A63-E8DA-4AE4-951B-1B10AEB20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9A1E2-64BB-4491-9840-FDFBB7BB9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B221E-4529-43A3-A683-DA9FB3C7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1435-1CEA-461F-9485-28C0F6AA9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DC317-AE14-4BFD-8AFE-FD58B00B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8728D-28D1-4996-BA60-095CD0EB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0BF52-D95F-4F51-836C-58FA4350F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B662C-0C65-450C-A14A-45ABAB7D4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7E7D4-9124-4ED7-B974-A46E53B6F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EC33-AD48-4E09-AA63-1AEF9E3CE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92E3-35F4-4284-B5D1-962C55BDB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7EB0-61E7-41CF-9CCF-2FEE1576A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7278-E938-438A-A1CF-DC8A25252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D2F6-4136-4250-A1AF-BC6880A2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96CE-C328-4CC2-92EB-C01DAB6D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CAAD-401B-4881-BC28-406DF928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605BA-009D-4F1B-8E9C-F2842634023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E4BB0-7CA4-4331-A3E5-0BFCB90D3FE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1387440"/>
            <a:ext cx="8447040" cy="156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одготовка к ЕГЭ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по обществознани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3346560"/>
            <a:ext cx="6629400" cy="163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d3dd7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Право и его роль в жизни общ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3022560" y="5715000"/>
            <a:ext cx="6121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d3dd7"/>
                </a:solidFill>
                <a:latin typeface="Times New Roman"/>
              </a:rPr>
              <a:t>Учитель истории и обществозн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d3dd7"/>
                </a:solidFill>
                <a:latin typeface="Times New Roman"/>
              </a:rPr>
              <a:t>МБОУ Умётской СОШ  Понафидина Е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стема пра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893080" cy="4751640"/>
          </a:xfrm>
          <a:prstGeom prst="rect">
            <a:avLst/>
          </a:prstGeom>
          <a:noFill/>
          <a:ln w="9360">
            <a:solidFill>
              <a:srgbClr val="7070ff"/>
            </a:solidFill>
            <a:miter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2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Норма прав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ормально определенное правило поведения, установленное и обеспечиваемое государ­ством и направленное на урегулирование типичных общественных отнош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    </a:t>
            </a:r>
            <a:r>
              <a:rPr b="1" lang="ru-RU" sz="22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Институт прав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особленная внутри отрасли группа правовых норм, регулирующая однородные об­щественные отношения (например, институт гражданства, институт избирательного права и др.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    </a:t>
            </a:r>
            <a:r>
              <a:rPr b="1" lang="ru-RU" sz="22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Подотрасль прав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вокупность правовых норм родственных институтов конкретной отрасли права (например, подотрасль «обязательственное право» объединяет институты цены, поставки, подряда и др.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    </a:t>
            </a:r>
            <a:r>
              <a:rPr b="1" lang="ru-RU" sz="22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Отрасль прав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вокупность правовых норм, институтов и подотраслей права, регулирующая однородные общественные отнош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4760" y="549000"/>
            <a:ext cx="8015400" cy="5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ификация отраслей права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78920" y="1483920"/>
            <a:ext cx="4388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Регулятивные</a:t>
            </a:r>
            <a:r>
              <a:rPr b="0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сли, направленные на установление прав и обязанностей (конституционное, гражданское, трудовое, семейное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Охранительные</a:t>
            </a:r>
            <a:r>
              <a:rPr b="0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сли, направленные на защиту прав (уголовное, уголовно-процессуальное, гражданское, гражданско-процессуальное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284720" y="1483920"/>
            <a:ext cx="4464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Частное право</a:t>
            </a:r>
            <a:r>
              <a:rPr b="0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беспечивает равенство между всеми субъектами (гражданское, семейное, предпринимательское прав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Публичное право</a:t>
            </a:r>
            <a:r>
              <a:rPr b="0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регулирует отношения, затрагивающие государственный интерес (конституционное, административное, финансовое, уголовное прав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4760" y="549000"/>
            <a:ext cx="8015400" cy="5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ификация отраслей права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78920" y="1483920"/>
            <a:ext cx="4388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Регулятивные</a:t>
            </a:r>
            <a:r>
              <a:rPr b="0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сли, направленные на установление прав и обязанностей (конституционное, гражданское, трудовое, семейное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Охранительные</a:t>
            </a:r>
            <a:r>
              <a:rPr b="0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сли, направленные на защиту прав (уголовное, уголовно-процессуальное, гражданское, гражданско-процессуальное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284720" y="1483920"/>
            <a:ext cx="4464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Частное право</a:t>
            </a:r>
            <a:r>
              <a:rPr b="0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беспечивает равенство между всеми субъектами (гражданское, семейное, предпринимательское прав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Публичное право</a:t>
            </a:r>
            <a:r>
              <a:rPr b="0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регулирует отношения, затрагивающие государственный интерес (конституционное, административное, финансовое, уголовное прав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вые систем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0" y="1341000"/>
            <a:ext cx="8820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1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Романо – германская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ервом плане принципы справедливости. Право кодифицировано.Основной источник – закон. Конституция имеет высшую юридическую силу. Признаётся разделение право на публичное и частно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1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Англосаксонская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 некодифицированное и прецедентное. Нет разделения права на публичное и частно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1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Социалистическое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Ярко выраженный классовый характер. Основной источник права – революционное творчество масс, нормативно-правовой акт выступает как выразитель воли народа. Большую часть составляют подзаконные акты. Право носит императивный ( властный) характер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1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Традиционный (</a:t>
            </a:r>
            <a:r>
              <a:rPr b="0" lang="ru-RU" sz="21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религиозный)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 происходит от Бога, а государство выполняет роль служителя церкви. На веру принимаются определённые догмы. Основной источник – священные книг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отнош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95280" y="1341360"/>
            <a:ext cx="8424720" cy="43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Правоотношени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щественные отношения, права и обязанности участников которых определены юридическими нормами и обеспечиваются возможностью государственного прину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Элементы правоотношен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Субъекты 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 правоотношения, который имеет право - управомоченное лицо, на которого возложена обязанность - обязанный субъек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Объект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Виды субъект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государство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физические лица(граждане, иностранные граждане, лица без гражданств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юридические л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рганизации, не являющиеся юридическими лиц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Субъективные юридические права и обяза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Юридический фа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субъектн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79280" y="1599840"/>
            <a:ext cx="8640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Правоспособн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пособность субъекта иметь права и обязанности. Возникает с рож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Дееспособн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пособность распоряжаться своими правами и нести обязан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Эмансипаци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вление несовершеннолетнего полностью дееспособным ( вступление в брак раньше 18 ле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Деликтоспособност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пособность нести юридическую ответственность за совершенные правонаруш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ы объектов правоотношен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4000" y="1413000"/>
            <a:ext cx="8424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Выделяют два подхода к пониманию данной категор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539640" y="2060640"/>
          <a:ext cx="7921800" cy="4000320"/>
        </p:xfrm>
        <a:graphic>
          <a:graphicData uri="http://schemas.openxmlformats.org/drawingml/2006/table">
            <a:tbl>
              <a:tblPr/>
              <a:tblGrid>
                <a:gridCol w="4105440"/>
                <a:gridCol w="3816360"/>
              </a:tblGrid>
              <a:tr h="40003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ктом могут выступать только действия субъектов, поступки людей, повеление участников правоотношений, так как именно на него направлено регулирующее воздействие юридической норм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ктом правоотношения является не само поведение, а те явления окружающего мира, по поводу которых люди вступают в отношения друг с другом.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ы объектов правоотношен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-360" y="1413000"/>
            <a:ext cx="8675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материальные блага</a:t>
            </a:r>
            <a:r>
              <a:rPr b="0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еши, предметы, ценности) — они характерны для гражданских правоотноше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материальные личные блага</a:t>
            </a:r>
            <a:r>
              <a:rPr b="0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жизнь, честь, достоинство, свобода, безопасность, неприкосновенность человека) — типичны для уголовных, гражданских и процессуальных правоотноше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ведение субъектов и его результаты</a:t>
            </a:r>
            <a:r>
              <a:rPr b="0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ействие или бездействие субъектов, услуги и т. п.) — характерны для административных, хозяйственных правоотношений, отношений в сфере бытового обслуживания и др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одукты духовного творчества</a:t>
            </a:r>
            <a:r>
              <a:rPr b="0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изведения литературы, искусства, научные открытия, изобретения и т. д.). Следует отметить особенно широкое распространение такого объекта, как интеллектуальная собственность, под которой понимают материально выраженные продукты умственной деятельности человека, востребованность которых признана государством в нормативной форме. К сожалению, данный объект еще не получил надлежащей защиты в российской правовой системе, о чем свидетельствует широко распространенное интеллектуальное «пиратство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ценные бумаги, официальные документы</a:t>
            </a:r>
            <a:r>
              <a:rPr b="0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(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ции, векселя, деньги, дипломы, аттестаты и т. п.) — характерны для финансовых, хозяйственных, гражданских и иных правоотнош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ридический фак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79280" y="1599840"/>
            <a:ext cx="8640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Юридические факты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это конкретные жизненные обстоятельства, с которыми нормы права связывают возникновение, изменение или прекращение правоотнош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знаки юридических факт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Предусмотрены нормативно-правовым актом (гипотезой нормы прав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ызывают определенные правовые последствия (воз­никновение, изменение, прекращение субъективных права и юридических обязанностей субъектов и правоотношений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бъективированы (выражены) вовне (то есть должны произойти именно в реальной действительности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одтверждены документально (справкой и др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выражаются в наличии либо отсутствии тех или иных явлений, событий, действий; и т. 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ификация юридических фак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09480" y="1412640"/>
            <a:ext cx="792504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 характеру правовых последствий различаю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68360" y="1916280"/>
          <a:ext cx="8137440" cy="4022640"/>
        </p:xfrm>
        <a:graphic>
          <a:graphicData uri="http://schemas.openxmlformats.org/drawingml/2006/table">
            <a:tbl>
              <a:tblPr/>
              <a:tblGrid>
                <a:gridCol w="2712960"/>
                <a:gridCol w="2687760"/>
                <a:gridCol w="2736720"/>
              </a:tblGrid>
              <a:tr h="731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авообразующ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авоизменяющ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авопрекраща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щ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292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которыми нормы права     связывают возникновение правоотноше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заключение гражданско-правовой сделки, рождение человека и т.п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которыми нормы права связывают изменение правоотношений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принятие  нового гражданств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которыми  нормы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а связывают прекращение правоотноше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мерть человека,   расторжение брака между супру­гами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10920" y="333360"/>
            <a:ext cx="3816360" cy="3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427040"/>
            <a:ext cx="8569440" cy="489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ав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истема общеобязательных правил поведения, санкционированных государством и выраженных в определенных норм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нятие право можно использовать в 3 смысла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ивное право-см. Опред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ъективное право-обеспечение государством возможности что-то сделать ( свобода совес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 не в юридическом смысле слова ( на уваж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зитивное право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действующее право, как совокупность нормативных правовых а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Естественное право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ринципы права, вытекающие из природы человека и не зависящие от социальных условий государ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ификация юридических фак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23640" y="159984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обытия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ридически значимые факты, которые возникают помимо воли и сознания человек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тихийные бедствия, смерть, т.д.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ействия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факты, связанные с волей участников правоотношений. Они бывают </a:t>
            </a: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авомерным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оответствующими праву) и </a:t>
            </a: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правомерным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тиворечащими праву), т.е. правонарушениями. Правомерные юридические факты делятся в свою очередь на юридические акты и юридические поступ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наруш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24000" y="1267920"/>
            <a:ext cx="8820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авонарушени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тивоправное, волевое виновное деяние дееспособного лица, наносящее вред государству, обществу, ли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зна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е или бездейств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пра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но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ение вре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остав правонаруш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лавные признаки, необходимые для того, чтобы возложить юридическую ответствен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оста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ъект правонаруш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ормы права, на которые посягает правонаруши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ъективная сторон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ействие или бездействие; общественно-опасные последствия; причинная связь между деянием и последств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убъект      Субъективная сторона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арактеризуется виной, целью, мотив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наруш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94920" y="1341360"/>
            <a:ext cx="82105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н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сихическое отношение лица к собственному поведению и его результат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Формы вин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. Умыс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рямой - осознавал опасность, предвидел последствия и желал их наступ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освенный - осознавал опасность, не желал её, но сознательно допускал последствия ( наемный убийца производит выстрелы в людном мест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. Неосторож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амонадеянность — предвидел последствия, но легкомысленно рассчитывал их избежать ( водитель превысил скорос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брежность - не предвидел последствий, но мог и должен был их предвидеть.( водитель заговорился с пассажиром не заметил запрещающий зна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ы правонарушений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оступки                                                  Преступ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оступок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авонарушение, характеризующееся меньшей степенью общественной опасности, посягающее на отдельные стороны правового порядка в обще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проступк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циплинарные                       Администрати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жданские                               Труд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уальные                         Международные ( делик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ридическая ответственн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-360" y="1267920"/>
            <a:ext cx="871236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Юридическая ответственность</a:t>
            </a:r>
            <a:r>
              <a:rPr b="0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вое принуждение, заключающееся в обязанности лица претерпевать определенные лишения государственно-властного характера за совершенное правонарушени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</a:t>
            </a: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снованием для Ю.О. является правонарушени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знаки Ю.О.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разрывная связь с гос. принуждением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ступает только за совершенные правонарушен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вязана с определенными лишениям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осуществляется в строгом соответствии с нормами прав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Цели Ю.О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щита правопорядк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спитание граждан в духе уважения к праву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филактика правонарушений ( превентивная функция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ридическая ответственн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94920" y="1599840"/>
            <a:ext cx="82803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сновные принципы Ю.О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ко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тветств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праведлив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еотврати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целесообраз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остяза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резумпция невинос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езумпция невиновност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допустимость признания лица виновным до вынесения обвинительного приговора су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ридическая ответственн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Ю.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исциплинар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дминистратив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ждан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голов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атериальная ( действия в процессе выполнения служебных обязанностей, за причинённый ущерб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стоятельства, исключающие Ю.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обходимая оборон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амостоятельная защита  своей жизни, прав и свобод, а также жизни, прав и свобод других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ридическая ответственн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Прямоугольник 2"/>
          <p:cNvSpPr/>
          <p:nvPr/>
        </p:nvSpPr>
        <p:spPr>
          <a:xfrm>
            <a:off x="395280" y="1341360"/>
            <a:ext cx="8424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Условия необходимой оборон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еальность посягате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бщественная опас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адекватность защиты степени опас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йняя необходимость - сознательное причинение вреда в целях    предотвращения большего, устранение опасности, непосредственно угрожавшей ли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вменяемость правонаруши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дееспособ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ержание лица, совершившего преступ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нение приказа или распоря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зическое или психическое прину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основанный риск - если указанная цель не может быть     достигнута иначе, а лицо приняло достаточные меры для предотвращения вре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преодолимая сила ( форс-мажор) -событие чрезвычайное и непредотвратимое при данных услов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Прямоугольник 2"/>
          <p:cNvSpPr/>
          <p:nvPr/>
        </p:nvSpPr>
        <p:spPr>
          <a:xfrm>
            <a:off x="684360" y="1484280"/>
            <a:ext cx="7704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стоятельства, освобождающие от Ю.О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е раскаяние винов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ирение виновного с потерпевш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е сроков дав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но-досрочное освобо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рочка наказания беременным женщинам и женщинам,  имеющим малолетних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ечение сроков дав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рок  давности 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еступления небольшой тяжести – 2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ей тяжести – 6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яжкие – 10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отяжкие – 15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распространяется на военные преступления и преступления против человеч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347760" y="380880"/>
            <a:ext cx="8015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ридическая ответствен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головн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Прямоугольник 2"/>
          <p:cNvSpPr/>
          <p:nvPr/>
        </p:nvSpPr>
        <p:spPr>
          <a:xfrm>
            <a:off x="468360" y="1341360"/>
            <a:ext cx="80643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П 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сль права, определяющая круг преступных деяний, виды и размеры У.О., а также порядок и условия освобождения от н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сточники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итуция РФ, У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ействие уголовного закона в пространст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ерриториальный принцип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лица, совершившие преступление на территории РФ, подлежат уголовной ответственности по У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нцип гражданств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граждане РФ или лица без гражданства, постоянно проживающие на территории РФ, совершившие преступление на территории другого государства, отвечают по У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еальный принцип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странные граждане и лица без гражданства, не проживающие постоянно на территории РФ, совершившие преступление вне РФ, могут быть привлечены к ответственности по УК, если преступление было направлено против интересов Р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ниверсальный принцип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ностранцы и лица без гражданства, не проживающие постоянно в РФ, совершившие преступление за рубежом и находящиеся на территории РФ, могут быть осуждены по РФ или выданы иностранному государств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46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 и морал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68360" y="1484280"/>
          <a:ext cx="8137440" cy="4622760"/>
        </p:xfrm>
        <a:graphic>
          <a:graphicData uri="http://schemas.openxmlformats.org/drawingml/2006/table">
            <a:tbl>
              <a:tblPr/>
              <a:tblGrid>
                <a:gridCol w="4068720"/>
                <a:gridCol w="4068720"/>
              </a:tblGrid>
              <a:tr h="5814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а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рал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9122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нравственный миниму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сфера регулирования шир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13046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нарушение ведет санкции гос.орган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осуждение общественного мн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9126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закреплены в закона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складываются в сознан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9118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обязатель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необязатель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</a:tbl>
          </a:graphicData>
        </a:graphic>
      </p:graphicFrame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реступление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Прямоугольник 2"/>
          <p:cNvSpPr/>
          <p:nvPr/>
        </p:nvSpPr>
        <p:spPr>
          <a:xfrm>
            <a:off x="395280" y="1413000"/>
            <a:ext cx="842472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еступлени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иновно совершенное общественно-опасное деяние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ещенное УК под угрозой наказ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зна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ственная опасность дея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но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пра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азуем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ъект преступ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убъект преступ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оучасти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мышленное совместное участие двух или более лиц в совершении умышленного преступ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соучастник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итель - непосредственно совершивш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трекатель - склонивший друг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обник - содействовавший совершению указаниями, предоставлением информации, обещавший скрыть преступника или следы преступ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ы преступлен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Прямоугольник 2"/>
          <p:cNvSpPr/>
          <p:nvPr/>
        </p:nvSpPr>
        <p:spPr>
          <a:xfrm>
            <a:off x="395280" y="1413000"/>
            <a:ext cx="8569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преступле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оста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 - без смягчающих или отягчающих      обстоятель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 смягчающими обстоятельств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лифицированные  - с отягчающими обстоятельств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епени тяж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большой тяжести - наказание не больше 2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ей - не больше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яжкие - не больше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о тяжкие - больше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ы преступлен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Прямоугольник 2"/>
          <p:cNvSpPr/>
          <p:nvPr/>
        </p:nvSpPr>
        <p:spPr>
          <a:xfrm>
            <a:off x="250920" y="1268280"/>
            <a:ext cx="849780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 квалификаци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ступления против личности ( убийство, похищение, преступление против конституционных прав и свобод, изнасилование, уклонение от алиментов....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ступления против собственности ( кража, грабеж, разбой, мошенничество, угон....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фере экономической деятельности ( незаконная банковская деятельность, лжепредпринимательство, контрабанда.....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 мира и безопасности человечества ( геноцид, экологические, распространение оружия массового поражения....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остные ( взятка, злоупотребление властью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инские ( мародерство, дезертирство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.О. Наступает с 16 лет, за особо тяжкие преступления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ru-RU" sz="23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 14 лет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казание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Прямоугольник 2"/>
          <p:cNvSpPr/>
          <p:nvPr/>
        </p:nvSpPr>
        <p:spPr>
          <a:xfrm>
            <a:off x="395280" y="1341360"/>
            <a:ext cx="82803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аказани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ра гос. принуждения, назначаемая по приговору суда и применяемая к лицу, признанному виновным в совершении преступ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Цели наказ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становление соц. справедлив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равление осужден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илактика преступл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стоятельства, отягчающие У.О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упление тяжелых последств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о активная роль в совершении преступ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ечение к совершению преступления лиц с тяжелыми психическими расстройствами, в состоянии опьянения, несовершеннолетн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ношении беременных, малолетних, лиц находящихся в материальной или служебной зависим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условиях ЧП  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казание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Прямоугольник 2"/>
          <p:cNvSpPr/>
          <p:nvPr/>
        </p:nvSpPr>
        <p:spPr>
          <a:xfrm>
            <a:off x="539640" y="1557360"/>
            <a:ext cx="8209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стоятельства, смягчающие У.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ие преступления впер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влиянием угроз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едствии стечения тяжелых семейных или личных обстоятель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ка с повин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ая помощь в раскрытии преступ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большая тяжесть,  в последствии случайного стечения обстоятель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овершенноле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ем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малолетних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ание помои потерпевше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правность или аморальность действий потерпевш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стоятельства, исключающие У.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-см Юридическая ответств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казание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Прямоугольник 2"/>
          <p:cNvSpPr/>
          <p:nvPr/>
        </p:nvSpPr>
        <p:spPr>
          <a:xfrm>
            <a:off x="324000" y="1268280"/>
            <a:ext cx="8569080" cy="55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наказаний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раф - от 2500 до 1 млн., может быть рассрочка до 3 лет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шение права занимать определенные должности - от 1 года до 5 ле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шение воинского или специального зван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ие по военной службе - удержание из зарплаты до 20 %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тельные работы - бесплатный общественно-полезный труд в свободное от работы время - от 60 до 240 часов, не больше 4 часов в день. Нельзя для инвалидов 1 группы, беременных женин, женщин с детьми до 3 лет, военнослужащи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в дисциплинарной воинской части - от 3 месяцев до 2 лет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искация имуществ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равительные работы-3 месяца-2 года, удержание в доход государства от 5-20% зарплаты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ие свободы - содержание в  спец. учреждении без изоляции от обществ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ест-1-6 месяцев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шение свободы на определенный срок - от 2 месяцев до 20 ле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изненное лишение свободы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ртная казнь ( мораторий с 1996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казание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"/>
          <p:cNvSpPr/>
          <p:nvPr/>
        </p:nvSpPr>
        <p:spPr>
          <a:xfrm>
            <a:off x="324000" y="1268280"/>
            <a:ext cx="8351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Меры воспитательного воздействия к несовершеннолетни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 за преступления небольшой или средней тяжест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пре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ача под надзор родителей или специализированного гос.орг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ложение обязанности загладить причиненный вре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ие досуга и установление особых требований к повед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3"/>
          <p:cNvSpPr/>
          <p:nvPr/>
        </p:nvSpPr>
        <p:spPr>
          <a:xfrm>
            <a:off x="324000" y="3141720"/>
            <a:ext cx="8569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наказания для несовершеннолетни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раф, при наличии самостоятельного заработка - от 100 до 5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шение права заниматься определенной деятельност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тельные работы - от 40-160 часов, должны быть посильными, 2 часа-до 15 лет, 3 часа- до 16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равительные работы- до 1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ест- с 16 лет, 1-4 меся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шение свободы - не более 10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Заключение под стражу несовершеннолетних только в тяжелых случаях. Допрос не больше 4 часов, в присутствии адвоката, педагога, психолога до 16 лет, после 16 лет- умственно отсталый. Родители — разрешение следоват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министративное право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"/>
          <p:cNvSpPr/>
          <p:nvPr/>
        </p:nvSpPr>
        <p:spPr>
          <a:xfrm>
            <a:off x="468360" y="1628640"/>
            <a:ext cx="82072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П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расль права, регулирующая общественные отношения  по поводу реализации исполнительной вл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сточники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нституция, КОАП, дисциплинарные уставы, таможенный и др.кодек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ъекты: физические лица, организации, органы исполнительной вл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АП одной и сторон всегда выступает государ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знаки административного правонаруш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дея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пра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но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но-следственная связь между противоправным деянием и его вредными последстви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тивная ответств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Административные правонаруш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Прямоугольник 2"/>
          <p:cNvSpPr/>
          <p:nvPr/>
        </p:nvSpPr>
        <p:spPr>
          <a:xfrm>
            <a:off x="395280" y="1484280"/>
            <a:ext cx="87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административных правонаруше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ласти охраны труда и здоровья населения ( сброс предприятием отходов в рек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ягательства на гос. собствен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четчик электроэнерг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ласти охраны природы, памятников истории и куль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ранспорте ( бесплатный проез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е правил ПД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ласти торговли и финансов ( грубость продавца, обвес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ягающие на общественный порядок ( мелкое хулиганств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ягающие на установленный порядок управл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неповиновение милиционер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Административные правонаруш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Прямоугольник 2"/>
          <p:cNvSpPr/>
          <p:nvPr/>
        </p:nvSpPr>
        <p:spPr>
          <a:xfrm>
            <a:off x="468360" y="1484280"/>
            <a:ext cx="792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мер принуждения в АП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тивно-предупредительные - предотвращение совершения правонарушения ( введение карантина, досмотр вещей, прекращение движения транспорта..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тивно-пресекательные - прекращение противоправных действий ( применение дубинок, административное задержание, принудительное лечение..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тивная ответств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О наступает с 16 л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дминистративное наказан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быть наложено не позднее 2 месяцев со дня совершения правонару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01504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знаки и функции права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знаки пра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бщеобяза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вязь с государ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Норматив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истематич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Многократность приме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Изменчив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716000" y="1628280"/>
            <a:ext cx="38862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Функции права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Регулятив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храните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оспитате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Культурно-историче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4"/>
          <p:cNvSpPr/>
          <p:nvPr/>
        </p:nvSpPr>
        <p:spPr>
          <a:xfrm>
            <a:off x="611280" y="5157720"/>
            <a:ext cx="813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авовой нигилиз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трицание роли права в жизни общ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министративное взыскание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Прямоугольник 2"/>
          <p:cNvSpPr/>
          <p:nvPr/>
        </p:nvSpPr>
        <p:spPr>
          <a:xfrm>
            <a:off x="395280" y="1484280"/>
            <a:ext cx="8280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административных взыскан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преждение, в письменной фор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раф ( для граждан- не больше 5000 руб., для должностных лиц-50000,для юридических лиц-1 млн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ездное изъятие иму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искация иму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шение спец права ( водители, не меньше 1 мес., не больше 2 ле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равительные работы- до 2 месяцев, удержание из зарплаты до 20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тивный арест- до 15 суток с выполнением физических работ, нельзя применять к имеющим детей до 12 лет, беременным, инвалидам 1 и 2 группы, несовершеннолетн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калификация  - лишение права  занимать руководящую должность в исполнительном органе от 6 мес. до 3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тивное приостановление деятельности-до 90 су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тивное выдворение за пределы Р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удовое право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рудовое право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сль права, регулирующая отношения работника с работодате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сточник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Конституция, Трудовой кодекс, Основы законодательства РФ об охране труда, О коллективных договорах и соглашениях, О профсоюзах, О занятости населения в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удовой догово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договор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оллективный договор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авовой акт, регулирующий трудовые отношения и заключаемый работниками организации с работодателем. Заключается не более чем на 3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словия догово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тельные ( размер оплаты труда, продолжительность рабочего дня, мед.и соц.страхование, отказ от забастово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ные ( дополнительные льготы, доп.отпус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ные ( условия и срок действия договора, контроль выполнения, ответственность за наруш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рудовой договор ( контракт)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шение между работником и работодателем по выполнению ими определенных услов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удовой догово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24000" y="1341000"/>
            <a:ext cx="864072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словия догово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обходим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 обязательные) - место работы, профессия, специальность, квалификация, зарпл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офессия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ид трудовой деятельности, определяемый характером и целью трудовой функции ( врач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пециальность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дна из разновидностей профессии (окулис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валификац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епень и вид профессиональной  обуч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ополнительные ( факультативные)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ытательный срок ( не более 3 месяцев, нельзя для несовершеннолетних), оплата проезда до работы, место в детсаду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760" y="476280"/>
            <a:ext cx="80154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ем на работу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ится по деловым качествам. Причина отказа должна быть в письменной фор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обходимые докумен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по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овая книж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Н ( индентификационный налоговый номе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енный би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 об образовании и квалифик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оговор заключается в 2 экземплярах. Работодатель издает приказ о зачислении на работу и объявляет его работнику под распис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торжение трудового догово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 инициативе работника. Заявление за 2 недели. Самовольное прекращение работы- прогул без уважительной прич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 инициативе администр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квидация предпри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кращение шт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оответствие занимаемой должности в следствии состояния здоровья или недостаточной квалифик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днократное неисполнение работником своих обязанн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кратное неисполнение,  повлекшее тяжелые послед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оральный поступок работника, выполнявшего воспитательные фун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ение подложных документов или ложных сведений при заключении догов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торжение трудового договор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Прямоугольник 7"/>
          <p:cNvSpPr/>
          <p:nvPr/>
        </p:nvSpPr>
        <p:spPr>
          <a:xfrm>
            <a:off x="324000" y="1268280"/>
            <a:ext cx="8496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Запрещается увольн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иод нетрудоспособности или пребывания в отпус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согласия профсою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снованиям,  не предусмотренным зако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щин в особых случа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овершеннолетних без согласия комиссии по делам несовершеннолетн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союзных активис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ыходное пособ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енежная сумма, единовременно выплачиваемая работнику при увольнении не по его вине. В размере не менее 2 недельной или среднемесячной зарпл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приказе и трудовой книжке причина увольнения должна быть указана в точном соответствии с формулировкой законодательства и ссылкой на статью. Выдается в день увольнения, который считается последним рабочим дн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абочее врем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Прямоугольник 2"/>
          <p:cNvSpPr/>
          <p:nvPr/>
        </p:nvSpPr>
        <p:spPr>
          <a:xfrm>
            <a:off x="468360" y="1341360"/>
            <a:ext cx="828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абочее врем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тановленный законодательством отрезок календарного времени, в течение которого работник выполняет свои служебные обяза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рабочего времен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льное - не может быть больше 40 часов в неде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кращен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16-18 лет - не больше 35 ча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4-16 лет - не больше 24 ча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лное - по соглашению, беременные, с ребенком до 14 лет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Время отдых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Прямоугольник 2"/>
          <p:cNvSpPr/>
          <p:nvPr/>
        </p:nvSpPr>
        <p:spPr>
          <a:xfrm>
            <a:off x="324000" y="1341360"/>
            <a:ext cx="86407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ремя отдых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вободное от работы время, которое работник может использовать по своему усмотр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времени отдых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ерерывы. Обеденный перерыв  не засчитывается в рабочее время и не оплачивается. Не менее 30 минут и более 2 ча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Междусменные перерывы - не могут быть меньше 12 ча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Еженедельные выходные дни. Работа в выходной запрещена. Может быть в случа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ля предотвращения стихийных бедств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ля предотвращения несчастных случа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ля производства непредвиденных раб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орам после сдачи крови 2 оплаченных дня. За работу в выходной предоставляется другой день отдыха или денежная компенсац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Ежегодные праздничные дни. Накануне рабочий день сокращается на 1 час. Если праздничный день совпадает с выходным, то день отдыха переносится на следующий д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Ежегодные отпуска. Не меньше 28 календарных дней, подросткам- не меньше 31 дня.Право на отпуск за первый год работы- через 6 месяц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плата труд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Прямоугольник 2"/>
          <p:cNvSpPr/>
          <p:nvPr/>
        </p:nvSpPr>
        <p:spPr>
          <a:xfrm>
            <a:off x="468360" y="1557360"/>
            <a:ext cx="8064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плата труд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становленное соглашением сторон и предусмотренное договором система вознаграждения за рабо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истемы опла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еменн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ая тарифная сетка-система зарплаты работников бюджетной сферы. Состоит из 18 разрядов, каждый соответствует квалифик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ьн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плата должна выплачиваться не реже раз в полмеся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озможны удерж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 подоходный налог 13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обязательные страховые взносы в пенсионный фонд 1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удержания по судебному реш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р удержаний суммарно не может быть больше 20 %, а в особых случаях не больше 50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8920" y="549000"/>
            <a:ext cx="8015400" cy="46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очники права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8200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сточник прав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окумент, в котором записаны правовые норм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источников прав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авовой обычай</a:t>
            </a:r>
            <a:r>
              <a:rPr b="0" i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о поведения, закрепившееся в обществе в результате его длительного применения ( ребенок остается с матерью при разводе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оговор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оглашение двух или более лиц, санкционирующее возникновение, изменение или прекращение правоотноше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индивидуальны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ормативный ( РФ-СШ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ецедент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факт, имевший место в чьей-либо практи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ормативно-правовой акт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фициальный письменный документ, принятый в особом порядке управомоченным на то гос.орган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исциплинарная ответствен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Прямоугольник 2"/>
          <p:cNvSpPr/>
          <p:nvPr/>
        </p:nvSpPr>
        <p:spPr>
          <a:xfrm>
            <a:off x="539640" y="1557360"/>
            <a:ext cx="806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исциплинарная ответственность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нность работника понести наказание, предусмотренное нормами трудового права за халатное, противоправное неисполнение своих трудовых обязан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дисциплинарных взыск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ч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гов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оль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применения взыскания от работника должны потребовать письменное объяснение. Применяется не позднее 1 месяца со дня поступка, не позже 6 месяцев. Приказ о взыскании под расписку в течение 3 рабочих д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Трудовые спо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Прямоугольник 2"/>
          <p:cNvSpPr/>
          <p:nvPr/>
        </p:nvSpPr>
        <p:spPr>
          <a:xfrm>
            <a:off x="468360" y="1628640"/>
            <a:ext cx="7956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рудовые споры-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гласия, возникающие по поводу применения трудового законодате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рудовые спо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ндивидуа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миссией по рассмотрению трудовых споров ( КТС), избираемой трудовым коллективом с числом рабочих не менее 15 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у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ышестоящими орган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дминистрацией предприятия совместно с профком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суде рассматриваются спо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 возвращении на рабо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б изменении даты и формулировки причины уволь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б оплате вынужденного прогу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Трудовые спо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Прямоугольник 2"/>
          <p:cNvSpPr/>
          <p:nvPr/>
        </p:nvSpPr>
        <p:spPr>
          <a:xfrm>
            <a:off x="468360" y="1444680"/>
            <a:ext cx="7991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сключительно в суде рассматриваются сп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абочих тех предприятий, где нет КТ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 заявлению администрации о возмещении работником ущер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б отказе в приеме на работу лица, с которым предприятие должно было заключить догов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оллекти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мирительной комиссией из числа работников и администрации, создается в 3- дневный с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трудовым арбитражем, создается в 10- дневный ср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мейн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Прямоугольник 2"/>
          <p:cNvSpPr/>
          <p:nvPr/>
        </p:nvSpPr>
        <p:spPr>
          <a:xfrm>
            <a:off x="468360" y="1341360"/>
            <a:ext cx="83516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П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расль права, регулирующая семейные отно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Конституция, Семейный кодек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словия вступления в бр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ное соглас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е присутст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ижение брачного возраста( раньше- только по решению местных органов влас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епятствия к вступлению в бр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из супругов уже состоит в законном бра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 родственниками по прямой восходящей и нисходящей линии, полнородными и неполнородными, усыновителями и усыновлен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лицом признанным недееспособным вследствие душевной болезни или слабоу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94760" y="476280"/>
            <a:ext cx="80154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а и обязанности супругов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Прямоугольник 2"/>
          <p:cNvSpPr/>
          <p:nvPr/>
        </p:nvSpPr>
        <p:spPr>
          <a:xfrm>
            <a:off x="468360" y="1341360"/>
            <a:ext cx="80643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ава и обязанности супруг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Лич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обственное имя и фамил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 свободного выбора профе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 свободного выбора места жите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 на воспитание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муществ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имущество, что было нажито при совместной жизни,  делится поровну. Не делится имущество, нажитое до совместной жизни, полученное в дар или по наследству, личные вещи, к которым не относятся драгоценности и вклад в бан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му из супругов могут быть назначены алименты. Прекращение алиментных прав наступает если супруга вступает в новый брак, возвращает трудоспособность, отпадает нужда по другим обстоятельствам( наследство). На детей алименты выплачиваются до 18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4760" y="476280"/>
            <a:ext cx="80154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а и обязанности родителей: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Прямоугольник 2"/>
          <p:cNvSpPr/>
          <p:nvPr/>
        </p:nvSpPr>
        <p:spPr>
          <a:xfrm>
            <a:off x="468360" y="1341360"/>
            <a:ext cx="8207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ава и обязанности родител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ь ФИО, национальность, граждан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ть место житель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щать права и интересы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ть получение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отиться о здоровье и нравственном развит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ть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Лишение родительских пра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лоняются от выполнения обязанностей по воспитанию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стоко обраща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оральное пове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оголики, нарком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 освобождаются от содержания детей, платят алимен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80154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ы семейного воспитания детей, оставшихся без попечения родителей:</a:t>
            </a:r>
            <a:br>
              <a:rPr sz="32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Прямоугольник 2"/>
          <p:cNvSpPr/>
          <p:nvPr/>
        </p:nvSpPr>
        <p:spPr>
          <a:xfrm>
            <a:off x="539640" y="1484280"/>
            <a:ext cx="7777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ыновление ( удочер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ка- для защиты малолетних и над лицами, признанными недееспособными вследствие психического расстройства. Опекун самостоятельно совершает сдел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ечительство- для защиты несовершеннолетних и граждан, ограниченных в дееспособности вследствие приема спиртных напитков и наркотических веществ. Попечитель дает согласие на совершение сдел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ёмная сем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емейн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Прямоугольник 2"/>
          <p:cNvSpPr/>
          <p:nvPr/>
        </p:nvSpPr>
        <p:spPr>
          <a:xfrm>
            <a:off x="468360" y="1341360"/>
            <a:ext cx="81360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оисхождение детей может быть установлен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 родители могут подать в загс совместное заявление о признании их родителя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 мать может обратиться в суд с иском об установлении отцовства ( во внимание принимаются совместное проживание и ведение общего хозяйства, совместное воспитание, доказательства, подтверждающие признание ответчиком отцовств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азвод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загсе -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 наличии совершеннолетних детей, взаимном согласии, отсутствии имущественных спор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суде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 наличии несовершеннолетних детей, при отсутствии согласия одного из супругов на развод, при наличии имущественных споров. Суд может назначить супругам срок примирения до 3 месяце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рачный договор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Прямоугольник 2"/>
          <p:cNvSpPr/>
          <p:nvPr/>
        </p:nvSpPr>
        <p:spPr>
          <a:xfrm>
            <a:off x="539640" y="1700280"/>
            <a:ext cx="8064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Брачный договор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оглашение , определяющее имущественные права и обязанности супругов. Может быть заключён до брака и во время брака, заверяется нотариаль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тношения, регулируемые брачным договор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жим совместной собственности на имущ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а и обязанности супругов по взаимному содержа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ы участия в доходах друг друга и порядок несения расх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имущества в случае расторжения бра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Брачный договор не мож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граничивать правоспособность и дееспособность супру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егулировать личные неимущественные правоотно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ключать положения, которые ставят одного из супругов в крайне неблагоприятное положение или противоречат 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жданск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Прямоугольник 2"/>
          <p:cNvSpPr/>
          <p:nvPr/>
        </p:nvSpPr>
        <p:spPr>
          <a:xfrm>
            <a:off x="611280" y="1557360"/>
            <a:ext cx="7848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П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расль права, регулирующая нормальные, повседневные отношения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ущественные отно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ые неимущественные отношения, связанные с имуществом ( опубликование книг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ые неимущественные отношения, не связанные с имуществом ( защита чести и достоинст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Цивилисти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то же, что гражданское пра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сточники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жданский кодекс, положения и инстру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рмативно-правовые акт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 юридической силе различаю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итуция (имеет высшую юридическую сил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о-конституционные зако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е зако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законные ак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ы президента Р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я правитель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ы и инструкции министер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бъекты ГП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Прямоугольник 2"/>
          <p:cNvSpPr/>
          <p:nvPr/>
        </p:nvSpPr>
        <p:spPr>
          <a:xfrm>
            <a:off x="539640" y="1413000"/>
            <a:ext cx="8064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убъекты ГП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ждане РФ, иностранцы и лица без граждан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ридические л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Ф, субъекты РФ, муниципальные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ееспособность малолетни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совершать мелкие бытовые сдел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субъекты авторского и изобретательского пра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вносить на счет в банке деньги и распоряжаться ими, но не могут распоряжаться вкладами других лю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не могут распоряжаться имуществ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ееспособность несовершеннолетни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вершать мелкие бытовые сдел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убъекты авторского и изобретательского пра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 вносить в сбербанк деньги и распоряжаться ими, а также распоряжаться    вкладами других лю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могут быть субъектами права на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не могут распоряжаться имуществом, купленным на стипенд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94760" y="476280"/>
            <a:ext cx="80154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ъекты ГП: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Прямоугольник 2"/>
          <p:cNvSpPr/>
          <p:nvPr/>
        </p:nvSpPr>
        <p:spPr>
          <a:xfrm>
            <a:off x="684360" y="1503360"/>
            <a:ext cx="7848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ъекты ГП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ещи, деньги, ценные бума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вижимые вещи - земельные участки и все, что с ними связано ( здания, предприятия..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имые вещи - перемещение которых возможно без несоразмерного ущерба их назнач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щи, свободно участвующие в обороте - могут приобретаться без ограничений любыми субъектами гражданского пра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щи, ограниченные в обороте - оружие, летательные аппараты, яды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ы и услу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интеллектуальн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атериальные бла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делк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Прямоугольник 2"/>
          <p:cNvSpPr/>
          <p:nvPr/>
        </p:nvSpPr>
        <p:spPr>
          <a:xfrm>
            <a:off x="395280" y="1484280"/>
            <a:ext cx="8209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дел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ействие физических и юридических лиц, направленные на установление, изменение или прекращение гражданских прав и обязан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знаки сдел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евой а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мерное действ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ождает гражданские правоотно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словия действительности сдел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субъектов сделки, обладающих дееспособност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еизъявление стор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мер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чение в соответствующую форму устную, письменную (простую, нотариальную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онклюдентные  действия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действия лиц, которые выражены не волеизъявлением, а конкретным поведенческим актом ( приобретение товаров в магазинах самообслуживания, обмен валюты через автомат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Виды сдело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Picture 4" descr="Схема 2. Классификация сделок"/>
          <p:cNvPicPr/>
          <p:nvPr/>
        </p:nvPicPr>
        <p:blipFill>
          <a:blip r:embed="rId1"/>
          <a:stretch/>
        </p:blipFill>
        <p:spPr>
          <a:xfrm>
            <a:off x="395280" y="1341360"/>
            <a:ext cx="8271000" cy="4608720"/>
          </a:xfrm>
          <a:prstGeom prst="rect">
            <a:avLst/>
          </a:prstGeom>
          <a:ln w="0">
            <a:noFill/>
          </a:ln>
        </p:spPr>
      </p:pic>
      <p:sp>
        <p:nvSpPr>
          <p:cNvPr id="2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Догово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Прямоугольник 2"/>
          <p:cNvSpPr/>
          <p:nvPr/>
        </p:nvSpPr>
        <p:spPr>
          <a:xfrm>
            <a:off x="324000" y="1268280"/>
            <a:ext cx="84960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договор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ные на передачу имущества в собственность ( купля-продажа, поставка, дарение, заем.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ющие целью передачу имущества во временное пользование ( аренда, договор найма жилого помещения..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выполнении работ ( подряда, строительства...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оказании услуг ( перевозка, поручение, хранение, комиссия.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ые договора ( страхование, совместная деятельность..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убличный договор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гражданско – правовой договор, заключаемый коммерческой  организацией и устанавливающий её обязанности по продаже товаров, оказанию услуг или выполнению работ, которые такая организация должна осуществлять в отношении каждого, который к ней обращается ( розничная торговля, гостиничное обслуживание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оговор доверительства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гражданско-правовой договор, при котором одна сторона ( учредитель управления) передаёт другой стороне ( доверительному управляемому) на определённый срок имущество, а другая сторона обязуется осуществлять управление этим имуществом в интересах учредителя или указанного им лица ( выгодоприобретател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Договор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Прямоугольник 2"/>
          <p:cNvSpPr/>
          <p:nvPr/>
        </p:nvSpPr>
        <p:spPr>
          <a:xfrm>
            <a:off x="468360" y="1413000"/>
            <a:ext cx="7991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рядок заключения догово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ферт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ложение, которое адресовано конкретному лицу и содержит существенные условия догов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кцеп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твет лица, которому адресована оферта о её безоговорочном принятии. Если лицо посылает свои условия договора, его ответ будет называться контроферт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Виды договор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6" name="Picture 2" descr="http://stupinaoa.narod.ru/olderfiles/1/34.jpg"/>
          <p:cNvPicPr/>
          <p:nvPr/>
        </p:nvPicPr>
        <p:blipFill>
          <a:blip r:embed="rId1"/>
          <a:stretch/>
        </p:blipFill>
        <p:spPr>
          <a:xfrm>
            <a:off x="684360" y="1773360"/>
            <a:ext cx="7991280" cy="3887640"/>
          </a:xfrm>
          <a:prstGeom prst="rect">
            <a:avLst/>
          </a:prstGeom>
          <a:ln w="0">
            <a:noFill/>
          </a:ln>
        </p:spPr>
      </p:pic>
      <p:sp>
        <p:nvSpPr>
          <p:cNvPr id="3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Гражданско-правовая ответственност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2"/>
          <p:cNvSpPr/>
          <p:nvPr/>
        </p:nvSpPr>
        <p:spPr>
          <a:xfrm>
            <a:off x="539640" y="1484280"/>
            <a:ext cx="7993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П ответственность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я государства на неправомерное поведение, которое влечет неблагоприятные последствия для наруш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знаки ГП ответствен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сит компенсационный харак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сит имущественный харак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еальный ущерб-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рата или повреждение имуества, а также расходы для возвращения имущественного по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пущенная выгода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лученные доходы, которые потерпевшая сторона могла бы получить если бы не было нарушено её пра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 собственности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2"/>
          <p:cNvSpPr/>
          <p:nvPr/>
        </p:nvSpPr>
        <p:spPr>
          <a:xfrm>
            <a:off x="684360" y="1305000"/>
            <a:ext cx="7775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снования возникновения права собствен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ервоначальные спосо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новой вещ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работка, сбор, добыча доступных для этих целей вещ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вольная постро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бретение права собственности на бесхозное имущ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оизводные спосо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ании догов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лед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преемство при реорганизации юридического л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 собственности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Прямоугольник 2"/>
          <p:cNvSpPr/>
          <p:nvPr/>
        </p:nvSpPr>
        <p:spPr>
          <a:xfrm>
            <a:off x="395280" y="1197000"/>
            <a:ext cx="8424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екращение права собствен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оле собствен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ель вещ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р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удительное изъя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защиты права собствен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ндикационный иск - об истребовании имущества из чужого незаконного вла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гаторный иск - об устранении препятствий в пользовании имуществом, несвязаное с лишением владения вещ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ервитут-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ие права на вещь, которое существует одновременно с правом собственности на ту же самую вещь. ( право ограниченного пользования соседским участко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рма права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4920" y="1599840"/>
            <a:ext cx="81392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орма прав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щеобязательное правило поведения, которое устанавливается государством и закреплено в официальных правовых акт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одержание нормы пра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ипотез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казан круг лиц, которому она адресована, обстоятельства, при которых она реализу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испозиц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равила поведения, в которых указываются права и обязанности стор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анкц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еры государственного принуж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бязательство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Прямоугольник 2"/>
          <p:cNvSpPr/>
          <p:nvPr/>
        </p:nvSpPr>
        <p:spPr>
          <a:xfrm>
            <a:off x="468360" y="1484280"/>
            <a:ext cx="8064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язательство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авоотношение, стороны которого называются кредитор и долж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пособы обеспечения обязательст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стойка в виде штрафа или п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ержание- удерживание вещи кредитором до полного исполнения обязатель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учитель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лог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поте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лог без передачи вещи залогодержате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нковская гарантия - обязательство банка, данное по просьбе должника,  об уплате его кредитору денежной суммы по представлении им письменного треб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94760" y="476280"/>
            <a:ext cx="80154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следственное право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Прямоугольник 2"/>
          <p:cNvSpPr/>
          <p:nvPr/>
        </p:nvSpPr>
        <p:spPr>
          <a:xfrm>
            <a:off x="539640" y="1484280"/>
            <a:ext cx="82803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снования наследов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 завещанию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Завещатель может завещать имущество любым лицам, самостоятельно определить доли наследников. Необходимыми наследниками являются: несовершеннолетние или нетрудоспособные дети наследователя, нетрудоспособный супруг или родители, нетрудоспособные иждивенцы. Они наследуют не менее половины доли, которая причиталась бы каждому при наследовании по зако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 закон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8 очередей наслед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упруг, родители, де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одные братья и сестры, дедушки и бабуш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родные дяди и те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прабабушки и прадедуш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дети племянников и племянниц, родные сестры и братья бабушек и дедуш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следственн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Прямоугольник 2"/>
          <p:cNvSpPr/>
          <p:nvPr/>
        </p:nvSpPr>
        <p:spPr>
          <a:xfrm>
            <a:off x="468360" y="3213000"/>
            <a:ext cx="820728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 наследую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ившие умышленные противоправные действия против наследователя или наслед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, лишенные родительских пра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Завещательный отказ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ложение на наследника по завещанию исполнение какого-либо обязательства в пользу другого л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жизненное использование дом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оугольник 3"/>
          <p:cNvSpPr/>
          <p:nvPr/>
        </p:nvSpPr>
        <p:spPr>
          <a:xfrm>
            <a:off x="468360" y="1484280"/>
            <a:ext cx="8064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внуки племянников и племянниц, дети двоюродных братьев и сестер, двоюродные тети и дя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пасынки, падчерицы, отчим и маче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проживающие на иждивении не менее 1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ступают в права наследования</a:t>
            </a: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в течение  6 месяцев после его откры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принимательск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Прямоугольник 3"/>
          <p:cNvSpPr/>
          <p:nvPr/>
        </p:nvSpPr>
        <p:spPr>
          <a:xfrm>
            <a:off x="468360" y="1413000"/>
            <a:ext cx="8136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едпринимательское прав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трасль права, регулирующая отношения физических и юридических лиц, осуществляющих предпринимательскую деятельность, а также их взаимоотношения с органами вла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убъекты ПП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Физические лиц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Заниматься предпринимательством можно с 16 лет, в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сключительных случаях с 1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ля этого нужно зарегистрироваться в органах местной администрации, получить соответствующее свидетельство или лицензию. Можно нанимать работников в свою фирму, заключив с ними трудовые контрак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Юридическое лицо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, имеющая обособленное имущество, отвечающее самостоятельно этим имуществом по долгам, выступающее в суде истцом или ответчи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принимательск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Прямоугольник 2"/>
          <p:cNvSpPr/>
          <p:nvPr/>
        </p:nvSpPr>
        <p:spPr>
          <a:xfrm>
            <a:off x="826920" y="1557360"/>
            <a:ext cx="7490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знаки Ю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внутренней структуры организации, учредительных доку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имущества на праве собственности. Наличие денежных средств на расчетном счете в бан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о отвечает по долг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упает в гражданском обороте от собственного и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принимательск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Прямоугольник 2"/>
          <p:cNvSpPr/>
          <p:nvPr/>
        </p:nvSpPr>
        <p:spPr>
          <a:xfrm>
            <a:off x="468360" y="1484280"/>
            <a:ext cx="7991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Ю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оммерческие - цель-получение прибы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.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Товарищ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лно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се участники ведет предпринимательскую деятельность от имени товарищества и отвечают по его обязательствам. Каждый участник имеет один гол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а вере ( коммандитное)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яду с полными товарищами есть вкладчики( коммандиты), которые предоставляют свои денежные средства, не принимая участия в предпринимательской деятельности и несут ответственность в пределах установленных им вкла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принимательск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Прямоугольник 2"/>
          <p:cNvSpPr/>
          <p:nvPr/>
        </p:nvSpPr>
        <p:spPr>
          <a:xfrm>
            <a:off x="611280" y="1413000"/>
            <a:ext cx="7921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. Общ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С ограниченной ответственностью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О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щество, учредители которого собрали определенный капитал, разделив его  на доли между собой. Убытки в пределах внесенной доли вкла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Акционерное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уставной капитал делится на определенное количество акций, его участники несут риск убытков в пределах стоимости 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крытое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А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можно продать акции без согласия других акционеров, должны публиковать для всеобщего обозрения годовой от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закрытое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ЗА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кции распределяются только среди учредителей или заранее определенного круга л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принимательск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Прямоугольник 2"/>
          <p:cNvSpPr/>
          <p:nvPr/>
        </p:nvSpPr>
        <p:spPr>
          <a:xfrm>
            <a:off x="468360" y="1484280"/>
            <a:ext cx="806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3.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оизводственный кооператив( артель)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вольное объединение граждан на основе членства для совместной производствен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4.государственные и муниципальные предприятия ( унитарные)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яют, но не владеют закрепленным за ними гос. имуществом, имущество не может быть поделено по вклад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принимательск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Прямоугольник 2"/>
          <p:cNvSpPr/>
          <p:nvPr/>
        </p:nvSpPr>
        <p:spPr>
          <a:xfrm>
            <a:off x="468360" y="1484280"/>
            <a:ext cx="82072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коммерческ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. Потребительский кооператив-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ленство на основе удовлетворения материальных и иных потребностей, объединение имущественных и паевых взнос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. Общественные и религиозные организации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вольное объединение на основе общности интересов для удовлетворения духовных и иных нематериальных потребностей. Может осуществлять предпринимательскую деятельность лишь для достижения цели, ради которой было создано.Участники не отвечают по обязательствам организац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3. Фонд</a:t>
            </a:r>
            <a:r>
              <a:rPr b="0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вольная организация, преследующая социальные, благотворительные, культурные, образовательные и другие общественно-полезные цели. Учредители не отвечают по обязательствам фонд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принимательск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Прямоугольник 2"/>
          <p:cNvSpPr/>
          <p:nvPr/>
        </p:nvSpPr>
        <p:spPr>
          <a:xfrm>
            <a:off x="468360" y="1484280"/>
            <a:ext cx="8136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авоспособность ЮЛ возникает с момента его созда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Моментом создания считается момент его регистрации в органах юстиции. Данные гос.регистрации вносятся в единый гос.реестр, открытый для всеобщего ознаком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ееспособность ЮЛ реализуется через действия органов Ю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директор, общее собрание акционеров..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авопреемств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ереход прав и обязанностей к новому Ю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еорганизац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менение организационно-правовой формы Ю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ияние с другим Ю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ение на несколько новых Ю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е формы деятельности ( ОАО-ЗАО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0154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ы норм пра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1523880" y="1397160"/>
          <a:ext cx="6096240" cy="7412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324000" y="1397160"/>
          <a:ext cx="8424720" cy="5446440"/>
        </p:xfrm>
        <a:graphic>
          <a:graphicData uri="http://schemas.openxmlformats.org/drawingml/2006/table">
            <a:tbl>
              <a:tblPr/>
              <a:tblGrid>
                <a:gridCol w="2736720"/>
                <a:gridCol w="3384360"/>
                <a:gridCol w="2303640"/>
              </a:tblGrid>
              <a:tr h="798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обязывающие нормы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управомочивающие 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нормы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запрещающие нормы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647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авливают обязанность совершать определенные     положительные действия (например, платить за  проезд в  метро, исполнять      гражданско-правовые обязательства и т.д.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оставляют    участникам правовых отношений возможность    совершать положительные  действия в   целях   удовлетворения своих   законных   интересов (получать стипендию, подавать иск в суд, и т.п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авливают запрет совершать недозволенные действия (злоупотреблять властью, нарушать права   граждан, грабить, убивать и т.п.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принимательск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Прямоугольник 2"/>
          <p:cNvSpPr/>
          <p:nvPr/>
        </p:nvSpPr>
        <p:spPr>
          <a:xfrm>
            <a:off x="539640" y="1484280"/>
            <a:ext cx="7993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оциальное партнёрство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деятельность, направленная на достижение социальных целей ( садоводческое  товарищество, огородническое товарищество, дачное хозяйств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Франчайзинг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истема мелких частных фирм, которые заключают контракт на право пользования фабричной маркой крупной фирмы в своей деятельности на определённой территории и в определённое 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енчурная фирма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коммерческая организация, занимающаяся разработкой научных исследований для их дальнейшего развития и завер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суд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Прямоугольник 2"/>
          <p:cNvSpPr/>
          <p:nvPr/>
        </p:nvSpPr>
        <p:spPr>
          <a:xfrm>
            <a:off x="468360" y="1484280"/>
            <a:ext cx="83516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е время в РФ сложилась единая система судопроизвод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собенности осуществления правосуд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егиа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ение правосудия только су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висимость су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пустимость посторного осуждения за одно и тоже преступ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 на пользование квалифицированной юридической помощ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с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правие и состяза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опроизводство на национальном язы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умпция невинов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суд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Прямоугольник 2"/>
          <p:cNvSpPr/>
          <p:nvPr/>
        </p:nvSpPr>
        <p:spPr>
          <a:xfrm>
            <a:off x="611280" y="1484280"/>
            <a:ext cx="7345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удебная система в РФ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ы высшей инстанции - Конституционный суд, Верховный суд, Высший арбитражный су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ы 2 инстанции - Конституционный суд субъектов РФ, Верховные суды республик, краёв, областей, автономных областей и округов, городов федерального значения, Федеральные арбитражные суды округ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ы 1 инстанции - городские и районные суды, мировые судьи, арбитражные суды субъектов Р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равосуд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Прямоугольник 2"/>
          <p:cNvSpPr/>
          <p:nvPr/>
        </p:nvSpPr>
        <p:spPr>
          <a:xfrm>
            <a:off x="611280" y="1413000"/>
            <a:ext cx="7993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авоохранительный орган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ос. орган, осуществляющий специализированную правоохранительную деятельность, в целях защиты прав и свобод граждан, общества и государства от противоправных посягатель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окуратур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диная федеральная централизованная система органов, осуществляющая от имени РФ надзор за исполнением конституции и закон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аправления деятельности прокурату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зор за исполнением зако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зор в стадии производства дознания и предварительного след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зор в уголовном и гражданском судопроизводст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зор в стадии исполнения пригово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зор за исполнением прав и своб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ация действий правоохранительных органов по борьбе с преступност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равосуд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Прямоугольник 3"/>
          <p:cNvSpPr/>
          <p:nvPr/>
        </p:nvSpPr>
        <p:spPr>
          <a:xfrm>
            <a:off x="468360" y="1557360"/>
            <a:ext cx="828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двокатур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фессиональное сообщество адвока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аправления деятельности адвокату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ции, разъяснения, справки по юридическим вопро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документов правового характ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в гражданском, уголовном, административном производ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ение интересов доверителя в органах в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а прав граждан при оказании им психиатрической помощ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вое обслуживание коммерческих опер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в качестве представителя в Конституционном су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равосуд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Прямоугольник 3"/>
          <p:cNvSpPr/>
          <p:nvPr/>
        </p:nvSpPr>
        <p:spPr>
          <a:xfrm>
            <a:off x="684360" y="1413000"/>
            <a:ext cx="7775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Минюст РФ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едеральный орган исполнительной власти, проводящий гос. политику и осуществляющий управление в сфере юсти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аправления деятельн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гос. политики в сфере юсти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прав и законных интересов личности и государ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вая защита интеллектуальной собств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а установленного порядка действия су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ение актов судебных и других орг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ение уголовных наказ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введение Минюста входи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жба судебных пристав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ИС ( уголовно-исполнительная система - колонии, тюрьмы, СИЗО..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. нотариат ( удостоверяет сделки, подлинность документов, охрана наследственных прав, принимает документы на хранение......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 судебных эксперт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акции юридических журна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равосуд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Прямоугольник 2"/>
          <p:cNvSpPr/>
          <p:nvPr/>
        </p:nvSpPr>
        <p:spPr>
          <a:xfrm>
            <a:off x="395280" y="1413000"/>
            <a:ext cx="7993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Милиция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а органов исполнительной власти, призванных защищать жизнь, здоровье, права и свободы граждан, интересы общества и государства от преступных посягатель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сновные направления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личной безопасности гражд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преждение правонаруш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рана общественного поря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ание помощи насел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ледование преступлений и розыск скрывшихся л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мили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минальная с подразделен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г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БЭ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перативно-технический отд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перативно-поисковый отд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илиция общественной безопасности с подразделен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жданст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Прямоугольник 2"/>
          <p:cNvSpPr/>
          <p:nvPr/>
        </p:nvSpPr>
        <p:spPr>
          <a:xfrm>
            <a:off x="539640" y="144468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ражданство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тойчивая правовая связь человека с государством, выраженная в их взаимных правах и обязанност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2- Закон о гражданстве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пособы приобретения граждан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.     </a:t>
            </a:r>
            <a:r>
              <a:rPr b="1" lang="ru-RU" sz="2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по рождению- фили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нцип кров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жданство определяется гражданством родителей, место рождения не учитыв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нцип почвы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жданство того государства, на территории которого человек родился, независимо от гражданства род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. По приёму в граждан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жданст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Прямоугольник 2"/>
          <p:cNvSpPr/>
          <p:nvPr/>
        </p:nvSpPr>
        <p:spPr>
          <a:xfrm>
            <a:off x="539640" y="1484280"/>
            <a:ext cx="8064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патрид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ицо, не имеющее граждан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Бипатрид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ицо, имеющее двойное граждан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птаци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бор гражданства при изменении государственных границ государ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ребенку 14-18 лет  спрашивают его согласия при выборе граждан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окументами, подтверждающими гражданство РФ являютс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порт гражданина Р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детельство о рожд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ражданами РФ являютс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лица, имеющие гражданство РФ на день вступления в силу Федерального закона о гражданстве ( на 1 июля 2002 год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лица, которые приобрели гражданство РФ в соответствии с действующим закон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жданст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Прямоугольник 2"/>
          <p:cNvSpPr/>
          <p:nvPr/>
        </p:nvSpPr>
        <p:spPr>
          <a:xfrm>
            <a:off x="324000" y="1413000"/>
            <a:ext cx="8280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атурализация- процесс приобретения гражданских пр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ем в гражданство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8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о 5 л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янное проживание на территории РФ до 5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нность соблюдать Конституцию и другие зак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ть законный источник существ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еют русским язы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о 1 го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ие достижения в области науки, искусства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браке с гражданином РФ не менее 3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рудоспособный и имеет детей старше 18 лет, имеющих гражданство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щущий политическое убежище на территории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ализация и применение норм прав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4960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еализация норм права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воплощение содержащихся в ней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исаний поведени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Формы реализации права</a:t>
            </a:r>
            <a:r>
              <a:rPr b="1" i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. </a:t>
            </a:r>
            <a:r>
              <a:rPr b="0" i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существление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 использование) – реализация возможности, которая предоставляется участникам правоотношений ( ГК закрепляет право владеть, пользоваться и распоряжаться имуществом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. Исполнение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бязательное совершение активного действия, предписанного нормами права ( юридические обязанности граждан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3. Соблюдение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воздержание от совершения действия, запрещённого нормами прав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менение норм права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деятельность компетентных органов по реализации правовых предписаний по отношению к конкретным ситуациям и определённым лицам. ( вынесение приговора судом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жданст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Прямоугольник 2"/>
          <p:cNvSpPr/>
          <p:nvPr/>
        </p:nvSpPr>
        <p:spPr>
          <a:xfrm>
            <a:off x="539640" y="155736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тказ в приеме в гражданст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упает за насильственное изменение конституционного строя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ечен в качестве обвиняемого по уголовному де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ыход из гражданства невозможе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не отбыл воинскую пови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ечен в качестве обвиняемого по уголовному де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обязательства перед стра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Экспатрид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ицо, лишенное граждан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Ф не допускается лишения граждан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жданст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Прямоугольник 2"/>
          <p:cNvSpPr/>
          <p:nvPr/>
        </p:nvSpPr>
        <p:spPr>
          <a:xfrm>
            <a:off x="539640" y="1413000"/>
            <a:ext cx="79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нципы Российского граждан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граниченность ( запрещение дискриминации по расовым, национальным, религиозным, языковым признака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ое и равное гражданство ( все граждане равны, независимо от оснований приобретения гражданст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хранение гражданства гражданами РФ, проживающими за её предел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тъемлемость гражданства ( не может быть лишё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кращение безгражданства ( упрочение правового статуса лиц без гражданства, проживающих на территории РФ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жданст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Прямоугольник 2"/>
          <p:cNvSpPr/>
          <p:nvPr/>
        </p:nvSpPr>
        <p:spPr>
          <a:xfrm>
            <a:off x="539640" y="1700280"/>
            <a:ext cx="806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ежимы, предоставляемые иностранным физическим и юридическим лиц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иональный правовой режим – имеют те же права, что и граждане государства ( обращаться в су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жим наибольшего благоприятствования – иностранцы имеют те же права, что и другие иностранцы ( используется для внешней торговл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ференциальный режим – льготный режим, предоставляемый одним государством другому государству без распространения на другие страны ( скидки, уменьшение таможенных пошли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Используемая литератур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Прямоугольник 3"/>
          <p:cNvSpPr/>
          <p:nvPr/>
        </p:nvSpPr>
        <p:spPr>
          <a:xfrm>
            <a:off x="509760" y="2133720"/>
            <a:ext cx="28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webarhimed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оугольник 4"/>
          <p:cNvSpPr/>
          <p:nvPr/>
        </p:nvSpPr>
        <p:spPr>
          <a:xfrm>
            <a:off x="468360" y="24922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grandars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1T16:43:10Z</dcterms:created>
  <dc:creator>user</dc:creator>
  <dc:description/>
  <dc:language>en-US</dc:language>
  <cp:lastModifiedBy>LEGION</cp:lastModifiedBy>
  <dcterms:modified xsi:type="dcterms:W3CDTF">2016-01-04T08:08:57Z</dcterms:modified>
  <cp:revision>96</cp:revision>
  <dc:subject/>
  <dc:title>Подготовка к ЕГЭ по обществознанию</dc:title>
</cp:coreProperties>
</file>