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20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png" ContentType="image/png"/>
  <Override PartName="/ppt/media/image18.wmf" ContentType="image/x-wmf"/>
  <Override PartName="/ppt/media/image16.wmf" ContentType="image/x-wmf"/>
  <Override PartName="/ppt/media/image1.gif" ContentType="image/gif"/>
  <Override PartName="/ppt/media/image4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687E-B02D-4C51-A016-0359F32612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DAB-EACA-4060-BC95-DCB07F91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012-A234-4CE3-891A-E492C7D0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2A9-6E62-4A63-887E-208BD3A9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EE3-8569-4EA0-9B3B-B733ACEE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36E-8057-42C0-A651-69616547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EC4-AD8D-495E-BBDB-5D3CFB51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5D2-EE93-4132-B83A-8EBD0491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0DB-D825-4982-9588-BB9EAF77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AA1-60F7-409F-A7D1-193D7DBA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827-FD98-4D35-9922-DE745879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17F-90A5-4638-8E74-C444B6E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B12-DF56-403A-B192-9C39AA1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A3F-E627-484C-BABD-44EFF8E08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38080" y="57150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066680" y="990720"/>
            <a:ext cx="6558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жданин  –  Отече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тойный   сын. . .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Рисунок 6" descr="rus1.gif"/>
          <p:cNvPicPr/>
          <p:nvPr/>
        </p:nvPicPr>
        <p:blipFill>
          <a:blip r:embed="rId1"/>
          <a:stretch/>
        </p:blipFill>
        <p:spPr>
          <a:xfrm>
            <a:off x="2214720" y="2438280"/>
            <a:ext cx="4000320" cy="2276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905120" y="464832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 гражданства – не в собственной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т, кто истинный граждан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щает собою все по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же если он в поле 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000760" y="58579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. Евту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5410080" y="6248520"/>
            <a:ext cx="3353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96" descr="j0231170"/>
          <p:cNvPicPr/>
          <p:nvPr/>
        </p:nvPicPr>
        <p:blipFill>
          <a:blip r:embed="rId1"/>
          <a:stretch/>
        </p:blipFill>
        <p:spPr>
          <a:xfrm>
            <a:off x="792000" y="1428840"/>
            <a:ext cx="1644840" cy="1500120"/>
          </a:xfrm>
          <a:prstGeom prst="rect">
            <a:avLst/>
          </a:prstGeom>
          <a:ln w="76320">
            <a:solidFill>
              <a:srgbClr val="e4f3f4"/>
            </a:solidFill>
            <a:miter/>
          </a:ln>
        </p:spPr>
      </p:pic>
      <p:grpSp>
        <p:nvGrpSpPr>
          <p:cNvPr id="57" name="Group 399"/>
          <p:cNvGrpSpPr/>
          <p:nvPr/>
        </p:nvGrpSpPr>
        <p:grpSpPr>
          <a:xfrm>
            <a:off x="2661120" y="1357200"/>
            <a:ext cx="5212800" cy="1580760"/>
            <a:chOff x="2661120" y="1357200"/>
            <a:chExt cx="5212800" cy="1580760"/>
          </a:xfrm>
        </p:grpSpPr>
        <p:sp>
          <p:nvSpPr>
            <p:cNvPr id="58" name="WordArt 397"/>
            <p:cNvSpPr txBox="1"/>
            <p:nvPr/>
          </p:nvSpPr>
          <p:spPr>
            <a:xfrm>
              <a:off x="4367160" y="1357200"/>
              <a:ext cx="236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ажданин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  <p:sp>
          <p:nvSpPr>
            <p:cNvPr id="59" name="Text Box 398"/>
            <p:cNvSpPr/>
            <p:nvPr/>
          </p:nvSpPr>
          <p:spPr>
            <a:xfrm>
              <a:off x="2661120" y="2021040"/>
              <a:ext cx="521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житель страны, имеющий гражданство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 участник политической жизни</a:t>
              </a: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9aaf2"/>
                  </a:solidFill>
                  <a:latin typeface="Constantia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обладающий правами и обязанностя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02"/>
          <p:cNvGrpSpPr/>
          <p:nvPr/>
        </p:nvGrpSpPr>
        <p:grpSpPr>
          <a:xfrm>
            <a:off x="785880" y="3286080"/>
            <a:ext cx="3609720" cy="1344600"/>
            <a:chOff x="785880" y="3286080"/>
            <a:chExt cx="3609720" cy="1344600"/>
          </a:xfrm>
        </p:grpSpPr>
        <p:pic>
          <p:nvPicPr>
            <p:cNvPr id="61" name="Picture 400" descr="j0215924"/>
            <p:cNvPicPr/>
            <p:nvPr/>
          </p:nvPicPr>
          <p:blipFill>
            <a:blip r:embed="rId2"/>
            <a:stretch/>
          </p:blipFill>
          <p:spPr>
            <a:xfrm>
              <a:off x="785880" y="3286080"/>
              <a:ext cx="1584360" cy="13446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2" name="WordArt 401"/>
            <p:cNvSpPr txBox="1"/>
            <p:nvPr/>
          </p:nvSpPr>
          <p:spPr>
            <a:xfrm>
              <a:off x="2585880" y="3367080"/>
              <a:ext cx="18097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я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еци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3" name="Text Box 403"/>
          <p:cNvSpPr/>
          <p:nvPr/>
        </p:nvSpPr>
        <p:spPr>
          <a:xfrm>
            <a:off x="4786200" y="3071880"/>
            <a:ext cx="38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владение землей, дом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 политические пр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соблюдение законов, защита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07"/>
          <p:cNvGrpSpPr/>
          <p:nvPr/>
        </p:nvGrpSpPr>
        <p:grpSpPr>
          <a:xfrm>
            <a:off x="785880" y="4929120"/>
            <a:ext cx="3600360" cy="1629000"/>
            <a:chOff x="785880" y="4929120"/>
            <a:chExt cx="3600360" cy="1629000"/>
          </a:xfrm>
        </p:grpSpPr>
        <p:pic>
          <p:nvPicPr>
            <p:cNvPr id="65" name="Picture 404" descr="j0231057"/>
            <p:cNvPicPr/>
            <p:nvPr/>
          </p:nvPicPr>
          <p:blipFill>
            <a:blip r:embed="rId3"/>
            <a:stretch/>
          </p:blipFill>
          <p:spPr>
            <a:xfrm>
              <a:off x="785880" y="4929120"/>
              <a:ext cx="1584360" cy="16290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6" name="WordArt 405"/>
            <p:cNvSpPr txBox="1"/>
            <p:nvPr/>
          </p:nvSpPr>
          <p:spPr>
            <a:xfrm>
              <a:off x="2538360" y="5218200"/>
              <a:ext cx="1847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ий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Рим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7" name="Text Box 406"/>
          <p:cNvSpPr/>
          <p:nvPr/>
        </p:nvSpPr>
        <p:spPr>
          <a:xfrm>
            <a:off x="5003640" y="5116680"/>
            <a:ext cx="37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граждане -свободное насе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чем больше прав, тем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6" descr=""/>
          <p:cNvPicPr/>
          <p:nvPr/>
        </p:nvPicPr>
        <p:blipFill>
          <a:blip r:embed="rId4"/>
          <a:stretch/>
        </p:blipFill>
        <p:spPr>
          <a:xfrm>
            <a:off x="-158760" y="165240"/>
            <a:ext cx="1008396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2"/>
          <p:cNvSpPr txBox="1"/>
          <p:nvPr/>
        </p:nvSpPr>
        <p:spPr>
          <a:xfrm>
            <a:off x="2214720" y="428760"/>
            <a:ext cx="52149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оисхождение 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ав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228600" y="1066680"/>
            <a:ext cx="2216160" cy="1928520"/>
            <a:chOff x="228600" y="1066680"/>
            <a:chExt cx="2216160" cy="1928520"/>
          </a:xfrm>
        </p:grpSpPr>
        <p:pic>
          <p:nvPicPr>
            <p:cNvPr id="73" name="Picture 23" descr="j0324624"/>
            <p:cNvPicPr/>
            <p:nvPr/>
          </p:nvPicPr>
          <p:blipFill>
            <a:blip r:embed="rId1"/>
            <a:stretch/>
          </p:blipFill>
          <p:spPr>
            <a:xfrm>
              <a:off x="514440" y="1066680"/>
              <a:ext cx="1822680" cy="11653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4" name="Text Box 24"/>
            <p:cNvSpPr/>
            <p:nvPr/>
          </p:nvSpPr>
          <p:spPr>
            <a:xfrm>
              <a:off x="228600" y="2352600"/>
              <a:ext cx="22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Да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авител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6740280" y="1428840"/>
            <a:ext cx="1982520" cy="1617120"/>
            <a:chOff x="6740280" y="1428840"/>
            <a:chExt cx="1982520" cy="1617120"/>
          </a:xfrm>
        </p:grpSpPr>
        <p:pic>
          <p:nvPicPr>
            <p:cNvPr id="76" name="Picture 26" descr="j0285676"/>
            <p:cNvPicPr/>
            <p:nvPr/>
          </p:nvPicPr>
          <p:blipFill>
            <a:blip r:embed="rId2"/>
            <a:stretch/>
          </p:blipFill>
          <p:spPr>
            <a:xfrm>
              <a:off x="6905520" y="1428840"/>
              <a:ext cx="1817280" cy="93348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7" name="Text Box 27"/>
            <p:cNvSpPr/>
            <p:nvPr/>
          </p:nvSpPr>
          <p:spPr>
            <a:xfrm>
              <a:off x="6740280" y="2403360"/>
              <a:ext cx="18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Естеств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оисх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33"/>
          <p:cNvSpPr/>
          <p:nvPr/>
        </p:nvSpPr>
        <p:spPr>
          <a:xfrm>
            <a:off x="838080" y="3124080"/>
            <a:ext cx="7315200" cy="13737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.Люди рождаются свобод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Никто не может отобрать эти права, они неотчужда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8"/>
          <p:cNvGrpSpPr/>
          <p:nvPr/>
        </p:nvGrpSpPr>
        <p:grpSpPr>
          <a:xfrm>
            <a:off x="571680" y="4929120"/>
            <a:ext cx="1796760" cy="1749240"/>
            <a:chOff x="571680" y="4929120"/>
            <a:chExt cx="1796760" cy="1749240"/>
          </a:xfrm>
        </p:grpSpPr>
        <p:pic>
          <p:nvPicPr>
            <p:cNvPr id="80" name="Picture 36" descr="j0343999"/>
            <p:cNvPicPr/>
            <p:nvPr/>
          </p:nvPicPr>
          <p:blipFill>
            <a:blip r:embed="rId3"/>
            <a:stretch/>
          </p:blipFill>
          <p:spPr>
            <a:xfrm>
              <a:off x="571680" y="4929120"/>
              <a:ext cx="1796760" cy="14083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1" name="Text Box 37"/>
            <p:cNvSpPr/>
            <p:nvPr/>
          </p:nvSpPr>
          <p:spPr>
            <a:xfrm>
              <a:off x="654840" y="6035760"/>
              <a:ext cx="15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Цел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4788000" y="4756320"/>
            <a:ext cx="4072320" cy="1625400"/>
            <a:chOff x="4788000" y="4756320"/>
            <a:chExt cx="4072320" cy="1625400"/>
          </a:xfrm>
        </p:grpSpPr>
        <p:pic>
          <p:nvPicPr>
            <p:cNvPr id="83" name="Picture 41" descr="j0344093"/>
            <p:cNvPicPr/>
            <p:nvPr/>
          </p:nvPicPr>
          <p:blipFill>
            <a:blip r:embed="rId4"/>
            <a:stretch/>
          </p:blipFill>
          <p:spPr>
            <a:xfrm>
              <a:off x="4788000" y="4757760"/>
              <a:ext cx="1728720" cy="162396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84" name="Text Box 42"/>
            <p:cNvSpPr/>
            <p:nvPr/>
          </p:nvSpPr>
          <p:spPr>
            <a:xfrm>
              <a:off x="6585480" y="4756320"/>
              <a:ext cx="22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хра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сте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неотчуждаем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 челов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29"/>
          <p:cNvSpPr/>
          <p:nvPr/>
        </p:nvSpPr>
        <p:spPr>
          <a:xfrm>
            <a:off x="2428920" y="485784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5"/>
          <p:cNvSpPr txBox="1"/>
          <p:nvPr/>
        </p:nvSpPr>
        <p:spPr>
          <a:xfrm>
            <a:off x="3571920" y="4191120"/>
            <a:ext cx="1741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6bdbfa"/>
              </a:solidFill>
              <a:latin typeface="Impact"/>
              <a:ea typeface="Impact"/>
            </a:endParaRPr>
          </a:p>
        </p:txBody>
      </p:sp>
      <p:sp>
        <p:nvSpPr>
          <p:cNvPr id="89" name="WordArt 17"/>
          <p:cNvSpPr txBox="1"/>
          <p:nvPr/>
        </p:nvSpPr>
        <p:spPr>
          <a:xfrm rot="20143800">
            <a:off x="852480" y="2154240"/>
            <a:ext cx="260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блич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WordArt 18"/>
          <p:cNvSpPr txBox="1"/>
          <p:nvPr/>
        </p:nvSpPr>
        <p:spPr>
          <a:xfrm rot="1273800">
            <a:off x="5758920" y="2152440"/>
            <a:ext cx="2476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52280" y="4267080"/>
            <a:ext cx="3276720" cy="143316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гол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занимать долж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воинскую служб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715000" y="4191120"/>
            <a:ext cx="3429000" cy="118980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на собств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зем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брак  с гражданк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649440" y="4965840"/>
            <a:ext cx="2752560" cy="1106280"/>
            <a:chOff x="649440" y="4965840"/>
            <a:chExt cx="2752560" cy="1106280"/>
          </a:xfrm>
        </p:grpSpPr>
        <p:sp>
          <p:nvSpPr>
            <p:cNvPr id="94" name="WordArt 23"/>
            <p:cNvSpPr txBox="1"/>
            <p:nvPr/>
          </p:nvSpPr>
          <p:spPr>
            <a:xfrm>
              <a:off x="881280" y="4965840"/>
              <a:ext cx="252072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9aaf2"/>
                  </a:solidFill>
                  <a:latin typeface="Impact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59aaf2"/>
                </a:solidFill>
                <a:latin typeface="Impact"/>
                <a:ea typeface="Impact"/>
              </a:endParaRPr>
            </a:p>
          </p:txBody>
        </p:sp>
        <p:sp>
          <p:nvSpPr>
            <p:cNvPr id="95" name="Text Box 24"/>
            <p:cNvSpPr/>
            <p:nvPr/>
          </p:nvSpPr>
          <p:spPr>
            <a:xfrm>
              <a:off x="649440" y="570240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25" descr="rus1.gif"/>
          <p:cNvPicPr/>
          <p:nvPr/>
        </p:nvPicPr>
        <p:blipFill>
          <a:blip r:embed="rId1"/>
          <a:stretch/>
        </p:blipFill>
        <p:spPr>
          <a:xfrm>
            <a:off x="3000240" y="2143080"/>
            <a:ext cx="3214800" cy="1643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3"/>
          <p:cNvSpPr txBox="1"/>
          <p:nvPr/>
        </p:nvSpPr>
        <p:spPr>
          <a:xfrm>
            <a:off x="1066680" y="838080"/>
            <a:ext cx="7286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жданин, человек, имеющий пр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590400" y="596880"/>
            <a:ext cx="813924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j0303430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28600" y="533520"/>
            <a:ext cx="1285920" cy="184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j0305429"/>
          <p:cNvPicPr/>
          <p:nvPr/>
        </p:nvPicPr>
        <p:blipFill>
          <a:blip r:embed="rId3"/>
          <a:stretch/>
        </p:blipFill>
        <p:spPr>
          <a:xfrm>
            <a:off x="380880" y="3809880"/>
            <a:ext cx="1484280" cy="13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Picture 43" descr="j0194142"/>
          <p:cNvPicPr/>
          <p:nvPr/>
        </p:nvPicPr>
        <p:blipFill>
          <a:blip r:embed="rId4"/>
          <a:stretch/>
        </p:blipFill>
        <p:spPr>
          <a:xfrm>
            <a:off x="2971800" y="2743200"/>
            <a:ext cx="1649520" cy="206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TextBox 19"/>
          <p:cNvSpPr/>
          <p:nvPr/>
        </p:nvSpPr>
        <p:spPr>
          <a:xfrm>
            <a:off x="0" y="53341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латить нал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2133720" y="457200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сохранять памят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6000840" y="6095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защищать Отеч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ffe71206c200.jpg"/>
          <p:cNvPicPr/>
          <p:nvPr/>
        </p:nvPicPr>
        <p:blipFill>
          <a:blip r:embed="rId5"/>
          <a:stretch/>
        </p:blipFill>
        <p:spPr>
          <a:xfrm>
            <a:off x="6553080" y="4572000"/>
            <a:ext cx="1989360" cy="150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8" name="Picture 12" descr="MCj03013640000[1]"/>
          <p:cNvPicPr/>
          <p:nvPr/>
        </p:nvPicPr>
        <p:blipFill>
          <a:blip r:embed="rId6"/>
          <a:stretch/>
        </p:blipFill>
        <p:spPr>
          <a:xfrm>
            <a:off x="5257800" y="198108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5"/>
          <p:cNvSpPr/>
          <p:nvPr/>
        </p:nvSpPr>
        <p:spPr>
          <a:xfrm>
            <a:off x="45720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вовать в управлении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09480" y="2438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блюдать законы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10"/>
          <p:cNvPicPr/>
          <p:nvPr/>
        </p:nvPicPr>
        <p:blipFill>
          <a:blip r:embed="rId1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7"/>
          <p:cNvGraphicFramePr/>
          <p:nvPr/>
        </p:nvGraphicFramePr>
        <p:xfrm>
          <a:off x="228600" y="0"/>
          <a:ext cx="3657600" cy="25909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3657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724280" y="41911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аво избирать и быть избр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59720" y="32004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ободное волеизъ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граждан на выбо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8098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С 18 Л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мократия – означает «власть наро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ферендум – всенародный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05120" y="60948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Изображение 098"/>
          <p:cNvPicPr/>
          <p:nvPr/>
        </p:nvPicPr>
        <p:blipFill>
          <a:blip r:embed="rId1"/>
          <a:stretch/>
        </p:blipFill>
        <p:spPr>
          <a:xfrm>
            <a:off x="380880" y="38098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Изображение 134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Изображение 278"/>
          <p:cNvPicPr/>
          <p:nvPr/>
        </p:nvPicPr>
        <p:blipFill>
          <a:blip r:embed="rId3"/>
          <a:stretch/>
        </p:blipFill>
        <p:spPr>
          <a:xfrm>
            <a:off x="304920" y="457200"/>
            <a:ext cx="3962160" cy="265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Изображение 282"/>
          <p:cNvPicPr/>
          <p:nvPr/>
        </p:nvPicPr>
        <p:blipFill>
          <a:blip r:embed="rId4"/>
          <a:stretch/>
        </p:blipFill>
        <p:spPr>
          <a:xfrm>
            <a:off x="5486400" y="609480"/>
            <a:ext cx="327672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2"/>
          <p:cNvSpPr txBox="1"/>
          <p:nvPr/>
        </p:nvSpPr>
        <p:spPr>
          <a:xfrm>
            <a:off x="1600200" y="2774880"/>
            <a:ext cx="6095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 моя  Родин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.Б. Титова</dc:creator>
  <dc:description/>
  <dc:language>en-US</dc:language>
  <cp:lastModifiedBy>LEGION</cp:lastModifiedBy>
  <dcterms:modified xsi:type="dcterms:W3CDTF">2016-01-04T08:08:46Z</dcterms:modified>
  <cp:revision>12</cp:revision>
  <dc:subject>Гражданин Отечества</dc:subject>
  <dc:title>Гражданин – Отечества достойный сы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