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CBB7-6797-48EB-B3F9-A5EEF74DE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E88A-EAF7-4604-8B7A-9A32E6C98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0E0F-67E4-4578-921E-C24E6F7F3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6CAF-F332-470C-A545-180937CCC2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9C23-3561-43EC-B57E-BB0839ABC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484C-8092-459C-908A-4FBE872C7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4457-FB1A-4129-9E5F-95A34A91F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F912-AF8E-4F14-BB4C-914C2A7E12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9D9E-50B3-4AFE-8F06-0AF51DE6E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23FE-62E4-45E8-80BB-DCF524533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8F38-7B0F-4018-9F53-19204E4793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3D1B-768B-457C-ADAC-6BBF7A5567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4A1C-82CD-4F6C-9AF2-EDC1C29E9F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89A3-5930-4456-9628-A15D18502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AC0A-9032-4947-915F-D8E2DF345D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B5EA-2657-4D8A-A8F1-5FCF1F590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57AD-0DD2-4F64-AA80-B7835A657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05F1-4082-49F1-B83F-D207316F7B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DA11-3B77-4812-802C-737C6280C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81BF-A6A4-41C3-8BDD-67C3F2E9C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9111-3459-4BB1-BC56-8A9157C60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2D5E-5DAC-422E-9C84-D76FA69093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21E8-1C24-4A68-8C55-E6CAFA117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85A4-247A-411F-BB01-6FD4654E9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AEA3-247C-418E-8BF3-B7A24D6951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0D94-6144-48BF-9A27-88FDE1F982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4C46-6952-480E-AAA2-171A422AE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842-E836-4E66-8768-3382F865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C93-504A-488C-B8B3-7BADB168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A53-A835-4E07-BA50-154F2BE7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56E-0C84-44E4-A9B5-8D013C37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B2C-FD7E-49BF-92ED-8C6434EB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6DD-1BCF-4C21-BF15-71F106E9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904-CCB2-4F8A-A056-07B86C2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56C-DE43-4923-B647-27F776BA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719-B5EC-4E62-AF75-ADDCD49D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16D-219F-409F-848B-F92D2430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231-24A1-42A9-B9E6-7A6871CC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41A-5226-4194-9ED2-9AFB49E9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0E20-FC04-4EC7-9002-9BC282B57C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5840" y="128556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5760" y="1618920"/>
            <a:ext cx="85899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агает свою грязную ру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литературу и нау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уби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ку и литерату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оны рабов заглуш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ью да свистом бич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Плеханов (1)"/>
          <p:cNvPicPr/>
          <p:nvPr/>
        </p:nvPicPr>
        <p:blipFill>
          <a:blip r:embed="rId1"/>
          <a:stretch/>
        </p:blipFill>
        <p:spPr>
          <a:xfrm>
            <a:off x="6588000" y="1989000"/>
            <a:ext cx="1828800" cy="22291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Ленин (2)"/>
          <p:cNvPicPr/>
          <p:nvPr/>
        </p:nvPicPr>
        <p:blipFill>
          <a:blip r:embed="rId1"/>
          <a:stretch/>
        </p:blipFill>
        <p:spPr>
          <a:xfrm>
            <a:off x="539640" y="1798560"/>
            <a:ext cx="3321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Rectangle 5"/>
          <p:cNvSpPr/>
          <p:nvPr/>
        </p:nvSpPr>
        <p:spPr>
          <a:xfrm>
            <a:off x="4138560" y="2806560"/>
            <a:ext cx="4678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делать? Наболевшие вопросы нашего движ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2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 и эмпириокритицизм: Критические заметки об одной реакционн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иализм как высшая стадия капит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о и револю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 rot="10800000">
            <a:off x="250560" y="1690200"/>
            <a:ext cx="6297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социализм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арксизм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ым двигателем истор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борьба клас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буржуазных философ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гатель прогресса – солида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элементов об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вших «несовершенств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 или иного учрежд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учение – материалистич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идеалистич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– революционн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реформистск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обосновывает такти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летариата в соврем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стических страна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тактику буржуаз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Ленин (2)"/>
          <p:cNvPicPr/>
          <p:nvPr/>
        </p:nvPicPr>
        <p:blipFill>
          <a:blip r:embed="rId1"/>
          <a:stretch/>
        </p:blipFill>
        <p:spPr>
          <a:xfrm>
            <a:off x="6837480" y="1690560"/>
            <a:ext cx="1724040" cy="2195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160020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2056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24000" y="1654200"/>
            <a:ext cx="62974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чий класс сам по себе способ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сознани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он способен вести классовую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капитализ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лучшение 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403280" y="3309840"/>
            <a:ext cx="629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йти за эти рамки, начать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ничтожение самого капиталистического стро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мисс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огильщика капитализма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бочий класс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ри условии, что его деятельност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ять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м авангард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482920" y="4965840"/>
            <a:ext cx="62974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у этого «авангарда»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ого 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Ленин (2)"/>
          <p:cNvPicPr/>
          <p:nvPr/>
        </p:nvPicPr>
        <p:blipFill>
          <a:blip r:embed="rId1"/>
          <a:stretch/>
        </p:blipFill>
        <p:spPr>
          <a:xfrm>
            <a:off x="7448400" y="1654200"/>
            <a:ext cx="1343160" cy="17096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93544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85580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76160" y="2463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31640" y="16192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о – необходимый инстит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ираемо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агонизма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лассов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511280" y="2878200"/>
            <a:ext cx="503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е государств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пар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ил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еспечивающи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итическое госп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кономически доминирующего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590920" y="4138560"/>
            <a:ext cx="50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ходе пролетарской револю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ржуазное государство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ма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мен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ктатур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летариат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форме власти Со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670200" y="53974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мере постро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ммунистического об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отмиранием класс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тмирать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Ленин (2)"/>
          <p:cNvPicPr/>
          <p:nvPr/>
        </p:nvPicPr>
        <p:blipFill>
          <a:blip r:embed="rId1"/>
          <a:stretch/>
        </p:blipFill>
        <p:spPr>
          <a:xfrm>
            <a:off x="7124760" y="1619280"/>
            <a:ext cx="1630440" cy="2074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748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Плеханов (1)"/>
          <p:cNvPicPr/>
          <p:nvPr/>
        </p:nvPicPr>
        <p:blipFill>
          <a:blip r:embed="rId1"/>
          <a:stretch/>
        </p:blipFill>
        <p:spPr>
          <a:xfrm>
            <a:off x="755640" y="1773360"/>
            <a:ext cx="272412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3057480" y="5576760"/>
            <a:ext cx="251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Ле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2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Ленин (3)"/>
          <p:cNvPicPr/>
          <p:nvPr/>
        </p:nvPicPr>
        <p:blipFill>
          <a:blip r:embed="rId2"/>
          <a:stretch/>
        </p:blipFill>
        <p:spPr>
          <a:xfrm>
            <a:off x="5651640" y="3309840"/>
            <a:ext cx="2724120" cy="305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7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61928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1928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Плеханов (1)"/>
          <p:cNvPicPr/>
          <p:nvPr/>
        </p:nvPicPr>
        <p:blipFill>
          <a:blip r:embed="rId1"/>
          <a:stretch/>
        </p:blipFill>
        <p:spPr>
          <a:xfrm>
            <a:off x="431640" y="1798560"/>
            <a:ext cx="38466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497480" y="3238560"/>
            <a:ext cx="4425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азвитии монистического взгляда на истор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89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оли личности в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terialismus militans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4:58:11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7:01Z</dcterms:modified>
  <cp:revision>15</cp:revision>
  <dc:subject>История русской философии - Лекция 9</dc:subject>
  <dc:title>Русский марксизм</dc:title>
</cp:coreProperties>
</file>