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31B4D-B42F-463D-96E5-5CC1771085E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9556E-E987-447B-80F8-B236E9847D2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усский марксиз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F53FE-D08E-43BC-A742-84369D00BCB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илософия истории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атериалистическое понимание истори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учное понимание любой области действительности, в том числе – и истории, может быть только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монистически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з двух разновидностей монизм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8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материализма 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8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идеализма –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ервый единственно научен, так как только он представляет историю как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бъективный процесс.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1C0D8-5CA6-4140-A58B-DE052D70CF9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илософия истории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оль личности в истории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аконы истории – законы человеческой деятельности, поэтому историческая необходимость реализуется не иначе, как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через действия люд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еликие исторические деятели, как правило, понимают, что действуют не «от себя», а как бы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«осёдлывают» объективный исторический процесс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(именно это и делает их великим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рити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8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«субъективного метода» в социологии (Михайловского) 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8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концепции «героев и толпы»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21F90-BFD2-4F54-B2F9-B431B073994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илософия истории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Осмысленное западничество»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удущее человечества –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оциализм,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но в России конца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IX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– начала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X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ека капитализм –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единственная альтернатива «азиатчине»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питализм плох, но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деспотизм ещё хуж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8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капитализм развивает в человеке зверя –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8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деспотизм превращает человека во вьючную скотину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85F28-F136-4644-9E41-B15C44A45B3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Философия истории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«Осмысленное западничество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BB593-FF85-4A1C-A02C-4F7ACEA5178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В.</a:t>
            </a: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И. Ленин (1870-192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E9BDE-2EC0-4F79-B60A-7C7F97191F7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. Ленин (1870-192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литическая философ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лассовая борьб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нцепция революционного авангар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чение о государств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еория позн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артийность филосо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носеологические корни идеализ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еория отражения и учение об объективной исти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бсолютная и относительная ист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иалек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Ядро диалектики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нципы диалект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EF13D-2820-4415-9FA2-34D6EA10308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литическая философ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Классовая борьб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стория классовых обществ есть история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классовой борьб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се значимые события истории – 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8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прежде всего, конечно, политические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8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но отнюдь не только они –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олжны пониматься как проявление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борьбы классов.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98E23-068D-417F-9997-5E51BDA98BD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олитическая философия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 Классовая борьб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15FD4-C03A-468C-A31F-04094979DD6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олитическая философия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онцепция революционного авангар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A417D-B6AA-4BEC-9FDB-68CB55A474E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олитическая философия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Учение о государств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E5A40-412A-4B0A-9472-668FAF6F9B2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усский марксиз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Г.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В. Плеханов </a:t>
            </a:r>
            <a:br>
              <a:rPr sz="1000"/>
            </a:b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(1856-1918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78C52-86D3-44A3-BD98-D57DED17995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ория познания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артийность философии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Философия всегда служит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интересам определённого класса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(даже если сам философ этого не понимает и не хочет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Если философ выражает интересы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передового класса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партийность не только не противоречит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научной объективности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, но единственно может эту объективность обеспечи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о никакая установка на объективность не помешает выразителю интересов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реакционного класса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скатиться на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антинаучные пози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6F253-FCB3-4A42-9559-76FD7AA088C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ория познания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оциальные и гносеологические корни идеализма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Философский идеализм неизменно стоит на защите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реакционных интересов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выступая формой идеологии господствующего класса на том этапе развития общественно-экономической формации, когда её прогрессивный потенциал исчерпа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о идеализм имеет и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гносеологические корни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представляя собой результат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абсолютизации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действительных, но оторванных от целого и односторонне интерпретированных особенностей познавательного процесса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2AF55-ECCA-4914-A533-E8ABDB58B93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ория познания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Теория отражения и объективность истины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ирода, материя первичны; познание есть лишь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отражение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бытия в сознан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о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способу существования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– в голове человека – знание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субъективно.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о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по содержанию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оно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объективно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постольку, поскольку отражает объективную действительность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1D4C8-4ED0-4431-B7E5-D5D21952EEA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еория познания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бсолютная и относительная истин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ир в принципе познаваем, и в этом смысле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абсолютная истина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достижи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днако на любом конкретном этапе познания человеку доступна лишь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тносительная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(т.е. неполная, обусловленная и ограниченная его специфическими обстоятельствами)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истина.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Критерием «истинности»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такой частичной истины является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«материальная» практика,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понимаемая как процесс активной, социально организованной деятельности по преобразованию окружающего мира, прежде всего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spcBef>
                <a:spcPts val="8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производственной 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spcBef>
                <a:spcPts val="8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революционной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D5244-BFB1-4824-ABF4-947816D40B7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иалектик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Ядро диалектик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з трёх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«законов диалектики»: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8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единства и борьбы противоположностей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8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перехода количественных изменений в качественные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8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отрицания отрицания –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качестве её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«ядра»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выделяется закон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единства и борьбы противоположностей,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ка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8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определяющий </a:t>
            </a:r>
            <a:r>
              <a:rPr b="1" lang="ru-RU" sz="2200" spc="-1" strike="noStrike">
                <a:solidFill>
                  <a:srgbClr val="ffff00"/>
                </a:solidFill>
                <a:latin typeface="Arial"/>
              </a:rPr>
              <a:t>источник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развития 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8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характеризующий само развитие как </a:t>
            </a:r>
            <a:r>
              <a:rPr b="1" lang="ru-RU" sz="2200" spc="-1" strike="noStrike">
                <a:solidFill>
                  <a:srgbClr val="ffff00"/>
                </a:solidFill>
                <a:latin typeface="Arial"/>
              </a:rPr>
              <a:t>саморазвит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8554C-CA00-488E-9C83-FDCDC977505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иалектик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инципы диалектик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аконы диалек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кон единства и борьбы противоположност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кон перехода количественных изменений в качестве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кон отрицания отриц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нципы диалек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нцип объектив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нцип развит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нцип историзм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нцип конкретност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тегории диалек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держание и фор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ущность и явл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еобходимость и случайность и п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1848D-E788-4C16-AC1F-B7BAAE4F838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6C8C7-1B6C-4350-A8E8-BAE4C8AFFF0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Г.</a:t>
            </a: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В. Плеханов (1856-191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B1279-E5F0-4F5F-AC87-9BD26FF2E28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. Плеханов (1856-191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Характер и функции философии и место марксизма в её ист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илософия и нау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сто марксизма в истории филосо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сновные части марксистской филосо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атериал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чение о мате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иалект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зн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илософия ист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атериалистическое понимание исто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оль личности в исто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Осмысленное западничество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F800C-9965-4185-9187-2BAD1457886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Характер и функции философии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илософия и наук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илософ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8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или </a:t>
            </a:r>
            <a:r>
              <a:rPr b="1" lang="ru-RU" sz="2200" spc="-1" strike="noStrike">
                <a:solidFill>
                  <a:srgbClr val="ffff00"/>
                </a:solidFill>
                <a:latin typeface="Arial"/>
              </a:rPr>
              <a:t>опережает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науку, предлагая умозрительные решения проблем, которые пока не могут быть решены наукой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8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или резюмирует и </a:t>
            </a:r>
            <a:r>
              <a:rPr b="1" lang="ru-RU" sz="2200" spc="-1" strike="noStrike">
                <a:solidFill>
                  <a:srgbClr val="ffff00"/>
                </a:solidFill>
                <a:latin typeface="Arial"/>
              </a:rPr>
              <a:t>обобщает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решения, найденные наукой (науками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илософия изучает мир как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целое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науки –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о част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адача философии – согласовать открытия разных наук и дать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целостную картину мира.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C8D9D-007A-4CBB-B979-BF072EDB84D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ункции философии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есто марксизма в истории философи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арксизм –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высшая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точка развития материализ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ми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«вехами»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развития материализма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до Маркса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был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8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Б. Спиноза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8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французские материалисты эпохи Просвещения (Ж. О. Ламетри, К. А. Гельвеций, Д. Дидро, </a:t>
            </a:r>
            <a:br>
              <a:rPr sz="2200"/>
            </a:b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П. Гольбах)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8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Л. Фейербах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рл Маркс распространил материализм на сферу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бщественной жизни.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D4139-8434-4A5C-958E-B84AB1F5FC9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ункции философии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сновные части марксистской философи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«Душой» марксизма как философской системы является </a:t>
            </a:r>
            <a:r>
              <a:rPr b="1" lang="ru-RU" sz="2400" spc="-1" strike="noStrike">
                <a:solidFill>
                  <a:srgbClr val="00ffff"/>
                </a:solidFill>
                <a:latin typeface="Arial"/>
              </a:rPr>
              <a:t>диалектика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ка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8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00"/>
                </a:solidFill>
                <a:latin typeface="Arial"/>
              </a:rPr>
              <a:t>метод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8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универсальная </a:t>
            </a:r>
            <a:r>
              <a:rPr b="1" lang="ru-RU" sz="2200" spc="-1" strike="noStrike">
                <a:solidFill>
                  <a:srgbClr val="ffff00"/>
                </a:solidFill>
                <a:latin typeface="Arial"/>
              </a:rPr>
              <a:t>теория развит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вумя основными </a:t>
            </a:r>
            <a:r>
              <a:rPr b="1" lang="ru-RU" sz="2400" spc="-1" strike="noStrike">
                <a:solidFill>
                  <a:srgbClr val="00ffff"/>
                </a:solidFill>
                <a:latin typeface="Arial"/>
              </a:rPr>
              <a:t>частями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философской системы марксизма являются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8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философия природы </a:t>
            </a:r>
            <a:r>
              <a:rPr b="1" lang="ru-RU" sz="2200" spc="-1" strike="noStrike">
                <a:solidFill>
                  <a:srgbClr val="ffff00"/>
                </a:solidFill>
                <a:latin typeface="Arial"/>
              </a:rPr>
              <a:t>(материалистическое понимание природы),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8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философия истории </a:t>
            </a:r>
            <a:r>
              <a:rPr b="1" lang="ru-RU" sz="2200" spc="-1" strike="noStrike">
                <a:solidFill>
                  <a:srgbClr val="ffff00"/>
                </a:solidFill>
                <a:latin typeface="Arial"/>
              </a:rPr>
              <a:t>(материалистическое понимание истории).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F3B7E-E455-4251-9A8D-FEB155CE8D9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атериализм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Учение о матери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Единственно сущее в мире –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материальная субстанция,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основными атрибутами которой являют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8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движение 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8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мышлен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атерия существует вне и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независимо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от челове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атерия – причина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щущений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как исходных и основных источников зна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3F9BE-3433-49BC-8F66-21E6AE58B1A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Материализ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Диалектика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инцип «всё течёт, всё изменяется» –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основной закон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всего существующег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и этом мир не просто изменяется, но изменяется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закономерно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поступательно.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Законы движения мира суть законы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диалекти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иалектика есть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«алгебра прогресса».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4D8C-A4CD-477F-9EFA-AD98FF0D1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9D35-2C2E-456E-BC44-78402CD28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12C7-5874-499D-944B-E1A51362B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7E94-3B54-4FB0-AAD0-13FAB656E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A2A7-B3A4-4164-BCDF-9A200509E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7E85-1BC2-4D7C-8B2D-08F6F3348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D99C-13CB-4F01-ABA6-D7C665AF5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25B9-F3AB-41BB-B283-8C2D9BE87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5899-467C-4B59-996B-F1B4EC8C8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4ECF-A28C-42E4-ACF7-9BFBB7083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B975-C7C8-40F1-8493-53118FB35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9825-8442-4224-8B0D-A72147CB4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E6A4E-BD16-4798-ABAD-A69CFC14D1D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logo2"/>
          <p:cNvPicPr/>
          <p:nvPr/>
        </p:nvPicPr>
        <p:blipFill>
          <a:blip r:embed="rId1"/>
          <a:stretch/>
        </p:blipFill>
        <p:spPr>
          <a:xfrm>
            <a:off x="250920" y="617400"/>
            <a:ext cx="1127160" cy="7556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chouet1"/>
          <p:cNvPicPr/>
          <p:nvPr/>
        </p:nvPicPr>
        <p:blipFill>
          <a:blip r:embed="rId2"/>
          <a:stretch/>
        </p:blipFill>
        <p:spPr>
          <a:xfrm>
            <a:off x="7848720" y="620640"/>
            <a:ext cx="826920" cy="11336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5"/>
          <p:cNvSpPr/>
          <p:nvPr/>
        </p:nvSpPr>
        <p:spPr>
          <a:xfrm>
            <a:off x="1442880" y="539640"/>
            <a:ext cx="6400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осковский государственный институт международных отношений</a:t>
            </a:r>
            <a:br>
              <a:rPr sz="24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федра филосо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285840" y="1285560"/>
            <a:ext cx="8200800" cy="19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Русский марксиз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илософия истории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атериалистическое понимание истори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798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учное понимание любой области действительности, в том числе – и истории, может быть только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монистически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з двух разновидностей монизм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материализма 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идеализма –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ервый единственно научен, так как только он представляет историю как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бъективный процесс.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илософия истории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оль личности в истории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75760" y="1618920"/>
            <a:ext cx="8589960" cy="493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аконы истории – законы человеческой деятельности, поэтому историческая необходимость реализуется не иначе, как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через действия люд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еликие исторические деятели, как правило, понимают, что действуют не «от себя», а как бы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«осёдлывают» объективный исторический процесс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(именно это и делает их великим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рити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«субъективного метода» в социологии (Михайловского) 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концепции «героев и толпы»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илософия истории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Осмысленное западничество»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98200"/>
            <a:ext cx="8229600" cy="35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удущее человечества –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оциализм,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но в России конца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IX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– начала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X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ека капитализм –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единственная альтернатива «азиатчине»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питализм плох, но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деспотизм ещё хуж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капитализм развивает в человеке зверя –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деспотизм превращает человека во вьючную скотину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илософия истории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Осмысленное западничество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4"/>
          <p:cNvSpPr/>
          <p:nvPr/>
        </p:nvSpPr>
        <p:spPr>
          <a:xfrm rot="10800000">
            <a:off x="431280" y="1869840"/>
            <a:ext cx="5758200" cy="431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питализ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лагает свою грязную руку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 литературу и науку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еспотизм убива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уку и литературу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стоны рабов заглушаю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естью да свистом бичей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Плеханов (1)"/>
          <p:cNvPicPr/>
          <p:nvPr/>
        </p:nvPicPr>
        <p:blipFill>
          <a:blip r:embed="rId1"/>
          <a:stretch/>
        </p:blipFill>
        <p:spPr>
          <a:xfrm>
            <a:off x="6588000" y="1989000"/>
            <a:ext cx="1828800" cy="2229120"/>
          </a:xfrm>
          <a:prstGeom prst="rect">
            <a:avLst/>
          </a:prstGeom>
          <a:ln w="0">
            <a:noFill/>
          </a:ln>
        </p:spPr>
      </p:pic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8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2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В.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И. Ленин (1870-192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3" descr="Ленин (2)"/>
          <p:cNvPicPr/>
          <p:nvPr/>
        </p:nvPicPr>
        <p:blipFill>
          <a:blip r:embed="rId1"/>
          <a:stretch/>
        </p:blipFill>
        <p:spPr>
          <a:xfrm>
            <a:off x="539640" y="1798560"/>
            <a:ext cx="3321000" cy="43182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97" name="Rectangle 5"/>
          <p:cNvSpPr/>
          <p:nvPr/>
        </p:nvSpPr>
        <p:spPr>
          <a:xfrm>
            <a:off x="4138560" y="2806560"/>
            <a:ext cx="467856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Что делать? Наболевшие вопросы нашего движения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02)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атериализм и эмпириокритицизм: Критические заметки об одной реакционной философи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09)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мпериализм как высшая стадия капитализма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15)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осударство и революция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17)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4929120" y="1835280"/>
            <a:ext cx="359892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9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. Ленин (1870-192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литическая философ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лассовая борьб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нцепция революционного авангар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чение о государств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еория позн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артийность филосо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носеологические корни идеализ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еория отражения и учение об объективной исти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бсолютная и относительная ист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иалек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Ядро диалектики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нципы диалект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литическая философ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Классовая борьб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798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стория классовых обществ есть история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классовой борьб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се значимые события истории – 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прежде всего, конечно, политические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но отнюдь не только они –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олжны пониматься как проявление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борьбы классов.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литическая философ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Классовая борьб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4"/>
          <p:cNvSpPr/>
          <p:nvPr/>
        </p:nvSpPr>
        <p:spPr>
          <a:xfrm rot="10800000">
            <a:off x="250560" y="1690200"/>
            <a:ext cx="6297480" cy="485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 учению социализма,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.е. марксизма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&lt;…&gt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ействительным двигателем истори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является борьба класс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&lt;…&gt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 учению буржуазных философов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вигатель прогресса – солидарно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ех элементов обществ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знавших «несовершенство»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го или иного учреждения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ервое учение – материалистичн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торое – идеалистично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ервое – революционное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торое – реформистское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ервое обосновывает тактику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летариата в современны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питалистических странах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торое – тактику буржуазии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Ленин (2)"/>
          <p:cNvPicPr/>
          <p:nvPr/>
        </p:nvPicPr>
        <p:blipFill>
          <a:blip r:embed="rId1"/>
          <a:stretch/>
        </p:blipFill>
        <p:spPr>
          <a:xfrm>
            <a:off x="6837480" y="1690560"/>
            <a:ext cx="1724040" cy="219564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4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8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AutoShape 2"/>
          <p:cNvSpPr/>
          <p:nvPr/>
        </p:nvSpPr>
        <p:spPr>
          <a:xfrm>
            <a:off x="1600200" y="4479840"/>
            <a:ext cx="880920" cy="1528920"/>
          </a:xfrm>
          <a:custGeom>
            <a:avLst/>
            <a:gdLst>
              <a:gd name="textAreaLeft" fmla="*/ 117720 w 880920"/>
              <a:gd name="textAreaRight" fmla="*/ 763200 w 880920"/>
              <a:gd name="textAreaTop" fmla="*/ 267480 h 1528920"/>
              <a:gd name="textAreaBottom" fmla="*/ 1108440 h 1528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3"/>
          <p:cNvSpPr/>
          <p:nvPr/>
        </p:nvSpPr>
        <p:spPr>
          <a:xfrm>
            <a:off x="520560" y="2824200"/>
            <a:ext cx="881280" cy="1528560"/>
          </a:xfrm>
          <a:custGeom>
            <a:avLst/>
            <a:gdLst>
              <a:gd name="textAreaLeft" fmla="*/ 118080 w 881280"/>
              <a:gd name="textAreaRight" fmla="*/ 763200 w 881280"/>
              <a:gd name="textAreaTop" fmla="*/ 267480 h 1528560"/>
              <a:gd name="textAreaBottom" fmla="*/ 1108440 h 152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литическая философ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нцепция революционного авангар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5"/>
          <p:cNvSpPr/>
          <p:nvPr/>
        </p:nvSpPr>
        <p:spPr>
          <a:xfrm>
            <a:off x="324000" y="1654200"/>
            <a:ext cx="6297480" cy="1474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абочий класс сам по себе способен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ыработать лиш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ред-юнионистское сознание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.е. он способен вести классовую борьбу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иш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 рамках капитализма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а улучшение условий труда и т.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6"/>
          <p:cNvSpPr/>
          <p:nvPr/>
        </p:nvSpPr>
        <p:spPr>
          <a:xfrm>
            <a:off x="1403280" y="3309840"/>
            <a:ext cx="6297840" cy="1474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ыйти за эти рамки, начать борьбу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а уничтожение самого капиталистического стро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.е. выполнить свою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сторическую миссию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могильщика капитализма»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рабочий класс мож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ишь при условии, что его деятельность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уд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правлятьс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революционным авангардом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7"/>
          <p:cNvSpPr/>
          <p:nvPr/>
        </p:nvSpPr>
        <p:spPr>
          <a:xfrm>
            <a:off x="2482920" y="4965840"/>
            <a:ext cx="6297480" cy="1474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снову этого «авангарда» составля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еволюционна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нтеллигенци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ладеюща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учной теорие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сторического развития и классовой борьб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8" descr="Ленин (2)"/>
          <p:cNvPicPr/>
          <p:nvPr/>
        </p:nvPicPr>
        <p:blipFill>
          <a:blip r:embed="rId1"/>
          <a:stretch/>
        </p:blipFill>
        <p:spPr>
          <a:xfrm>
            <a:off x="7448400" y="1654200"/>
            <a:ext cx="1343160" cy="1709640"/>
          </a:xfrm>
          <a:prstGeom prst="rect">
            <a:avLst/>
          </a:prstGeom>
          <a:ln w="0">
            <a:noFill/>
          </a:ln>
        </p:spPr>
      </p:pic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5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5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AutoShape 2"/>
          <p:cNvSpPr/>
          <p:nvPr/>
        </p:nvSpPr>
        <p:spPr>
          <a:xfrm>
            <a:off x="2935440" y="498312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3"/>
          <p:cNvSpPr/>
          <p:nvPr/>
        </p:nvSpPr>
        <p:spPr>
          <a:xfrm>
            <a:off x="1855800" y="372420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4"/>
          <p:cNvSpPr/>
          <p:nvPr/>
        </p:nvSpPr>
        <p:spPr>
          <a:xfrm>
            <a:off x="776160" y="246384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5"/>
          <p:cNvSpPr/>
          <p:nvPr/>
        </p:nvSpPr>
        <p:spPr>
          <a:xfrm>
            <a:off x="431640" y="1619280"/>
            <a:ext cx="503892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Государство – необходимый институ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аздираемог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оциальным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нтагонизмами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классового обще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6"/>
          <p:cNvSpPr/>
          <p:nvPr/>
        </p:nvSpPr>
        <p:spPr>
          <a:xfrm>
            <a:off x="1511280" y="2878200"/>
            <a:ext cx="5038920" cy="107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якое государство ес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ппарат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силия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обеспечивающий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литическое господств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кономически доминирующего клас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7"/>
          <p:cNvSpPr/>
          <p:nvPr/>
        </p:nvSpPr>
        <p:spPr>
          <a:xfrm>
            <a:off x="2590920" y="4138560"/>
            <a:ext cx="503856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ходе пролетарской революци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уржуазное государство должно быт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ломано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 заменен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иктатурой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олетариата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в форме власти Сове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8"/>
          <p:cNvSpPr/>
          <p:nvPr/>
        </p:nvSpPr>
        <p:spPr>
          <a:xfrm>
            <a:off x="3670200" y="5397480"/>
            <a:ext cx="503892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 мере построен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ммунистического обществ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месте с отмиранием классов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уде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отмирать»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 государст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6840" y="274320"/>
            <a:ext cx="895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литическая философ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Учение о государств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10" descr="Ленин (2)"/>
          <p:cNvPicPr/>
          <p:nvPr/>
        </p:nvPicPr>
        <p:blipFill>
          <a:blip r:embed="rId1"/>
          <a:stretch/>
        </p:blipFill>
        <p:spPr>
          <a:xfrm>
            <a:off x="7124760" y="1619280"/>
            <a:ext cx="1630440" cy="207468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2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усский марксиз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957480" y="1798200"/>
            <a:ext cx="3059280" cy="9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. Плеханов </a:t>
            </a:r>
            <a:br>
              <a:rPr sz="24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1856-191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Плеханов (1)"/>
          <p:cNvPicPr/>
          <p:nvPr/>
        </p:nvPicPr>
        <p:blipFill>
          <a:blip r:embed="rId1"/>
          <a:stretch/>
        </p:blipFill>
        <p:spPr>
          <a:xfrm>
            <a:off x="755640" y="1773360"/>
            <a:ext cx="2724120" cy="30607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56" name="Rectangle 5"/>
          <p:cNvSpPr/>
          <p:nvPr/>
        </p:nvSpPr>
        <p:spPr>
          <a:xfrm>
            <a:off x="3057480" y="5576760"/>
            <a:ext cx="25192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. Ленин </a:t>
            </a:r>
            <a:br>
              <a:rPr sz="24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1870-1924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6" descr="Ленин (3)"/>
          <p:cNvPicPr/>
          <p:nvPr/>
        </p:nvPicPr>
        <p:blipFill>
          <a:blip r:embed="rId2"/>
          <a:stretch/>
        </p:blipFill>
        <p:spPr>
          <a:xfrm>
            <a:off x="5651640" y="3309840"/>
            <a:ext cx="2724120" cy="30574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еория познания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артийность философи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илософия всегда служит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интересам определённого класса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(даже если сам философ этого не понимает и не хочет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Если философ выражает интересы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ередового класса,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партийность не только не противоречит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научной объективности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но единственно может эту объективность обеспечи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о никакая установка на объективность не помешает выразителю интересов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реакционного класса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скатиться на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антинаучные пози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еория познания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циальные и гносеологические корни идеализм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78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илософский идеализм неизменно стоит на защите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реакционных интересов,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выступая формой идеологии господствующего класса на том этапе развития общественно-экономической формации, когда её прогрессивный потенциал исчерпа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о идеализм имеет и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гносеологические корни,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представляя собой результат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абсолютизации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действительных, но оторванных от целого и односторонне интерпретированных особенностей познавательного процесса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еория познания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еория отражения и объективность истины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98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рода, материя первичны; познание есть лишь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тражение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бытия в созна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пособу существования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– в голове человека – знание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убъективно.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о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о содержанию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оно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бъективно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постольку, поскольку отражает объективную действительнос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еория познания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бсолютная и относительная истин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5760" y="1619280"/>
            <a:ext cx="82310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ир в принципе познаваем, и в этом смысле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абсолютная истина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достижи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днако на любом конкретном этапе познания человеку доступна лишь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тносительная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(т.е. неполная, обусловленная и ограниченная его специфическими обстоятельствами)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истина.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Критерием «истинности»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такой частичной истины является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«материальная» практика,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понимаемая как процесс активной, социально организованной деятельности по преобразованию окружающего мира, прежде всего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производственной 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революционной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иалектик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Ядро диалектик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798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з трёх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«законов диалектики»: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единства и борьбы противоположностей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перехода количественных изменений в качественные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отрицания отрицания –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качестве её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«ядра»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выделяется закон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единства и борьбы противоположностей,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ка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определяющий </a:t>
            </a:r>
            <a:r>
              <a:rPr b="1" lang="ru-RU" sz="2200" spc="-1" strike="noStrike">
                <a:solidFill>
                  <a:srgbClr val="ffff00"/>
                </a:solidFill>
                <a:latin typeface="Arial"/>
              </a:rPr>
              <a:t>источник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развития 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характеризующий само развитие как </a:t>
            </a:r>
            <a:r>
              <a:rPr b="1" lang="ru-RU" sz="2200" spc="-1" strike="noStrike">
                <a:solidFill>
                  <a:srgbClr val="ffff00"/>
                </a:solidFill>
                <a:latin typeface="Arial"/>
              </a:rPr>
              <a:t>саморазвит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иалектик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инципы диалектик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19280"/>
            <a:ext cx="822960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аконы диалек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кон единства и борьбы противоположност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кон перехода количественных изменений в качестве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кон отрицания отриц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нципы диалек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нцип объектив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нцип развит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нцип историзм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нцип конкретност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тегории диалек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держание и фор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ущность и явл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еобходимость и случайность и п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1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1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1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1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1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1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1979640" y="1438200"/>
            <a:ext cx="50385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Вопросы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3" descr="Gozzoli, Averroes"/>
          <p:cNvPicPr/>
          <p:nvPr/>
        </p:nvPicPr>
        <p:blipFill>
          <a:blip r:embed="rId1"/>
          <a:stretch/>
        </p:blipFill>
        <p:spPr>
          <a:xfrm>
            <a:off x="2158920" y="3598920"/>
            <a:ext cx="4822920" cy="1430280"/>
          </a:xfrm>
          <a:prstGeom prst="rect">
            <a:avLst/>
          </a:prstGeom>
          <a:ln w="0">
            <a:noFill/>
          </a:ln>
        </p:spPr>
      </p:pic>
      <p:sp>
        <p:nvSpPr>
          <p:cNvPr id="1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nodeType="clickEffect" fill="hold">
                      <p:stCondLst>
                        <p:cond delay="0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7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nodeType="clickEffect" fill="hold">
                      <p:stCondLst>
                        <p:cond delay="indefinite"/>
                      </p:stCondLst>
                      <p:childTnLst>
                        <p:par>
                          <p:cTn id="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2" dur="5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6" dur="5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nodeType="clickEffect" fill="hold">
                      <p:stCondLst>
                        <p:cond delay="indefinite"/>
                      </p:stCondLst>
                      <p:childTnLst>
                        <p:par>
                          <p:cTn id="7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2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3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8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9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Г.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В. Плеханов (1856-191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Плеханов (1)"/>
          <p:cNvPicPr/>
          <p:nvPr/>
        </p:nvPicPr>
        <p:blipFill>
          <a:blip r:embed="rId1"/>
          <a:stretch/>
        </p:blipFill>
        <p:spPr>
          <a:xfrm>
            <a:off x="431640" y="1798560"/>
            <a:ext cx="3846600" cy="43164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61" name="Rectangle 5"/>
          <p:cNvSpPr/>
          <p:nvPr/>
        </p:nvSpPr>
        <p:spPr>
          <a:xfrm>
            <a:off x="4497480" y="3238560"/>
            <a:ext cx="442584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 вопросу о развитии монистического взгляда на историю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опубл. 1895)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 вопросу о роли личности в истори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98)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Materialismus militans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08)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4929120" y="1835280"/>
            <a:ext cx="359892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. Плеханов (1856-191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Характер и функции философии и место марксизма в её ист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илософия и нау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сто марксизма в истории филосо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сновные части марксистской филосо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атериал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чение о мате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иалект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зн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илософия ист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атериалистическое понимание исто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оль личности в исто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Осмысленное западничество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Характер и функции философии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илософия и наук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98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илософ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или </a:t>
            </a:r>
            <a:r>
              <a:rPr b="1" lang="ru-RU" sz="2200" spc="-1" strike="noStrike">
                <a:solidFill>
                  <a:srgbClr val="ffff00"/>
                </a:solidFill>
                <a:latin typeface="Arial"/>
              </a:rPr>
              <a:t>опережает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науку, предлагая умозрительные решения проблем, которые пока не могут быть решены наукой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или резюмирует и </a:t>
            </a:r>
            <a:r>
              <a:rPr b="1" lang="ru-RU" sz="2200" spc="-1" strike="noStrike">
                <a:solidFill>
                  <a:srgbClr val="ffff00"/>
                </a:solidFill>
                <a:latin typeface="Arial"/>
              </a:rPr>
              <a:t>обобщает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решения, найденные наукой (науками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илософия изучает мир как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целое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науки –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о част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адача философии – согласовать открытия разных наук и дать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целостную картину мира.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ункции философии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есто марксизма в истории философи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798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арксизм –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высшая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точка развития материализ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ми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«вехами»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развития материализма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до Маркса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был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Б. Спиноза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французские материалисты эпохи Просвещения (Ж. О. Ламетри, К. А. Гельвеций, Д. Дидро, </a:t>
            </a:r>
            <a:br>
              <a:rPr sz="2200"/>
            </a:b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П. Гольбах)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Л. Фейербах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рл Маркс распространил материализм на сферу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бщественной жизни.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ункции философии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сновные части марксистской философи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798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«Душой» марксизма как философской системы является </a:t>
            </a:r>
            <a:r>
              <a:rPr b="1" lang="ru-RU" sz="2400" spc="-1" strike="noStrike">
                <a:solidFill>
                  <a:srgbClr val="00ffff"/>
                </a:solidFill>
                <a:latin typeface="Arial"/>
              </a:rPr>
              <a:t>диалектика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ка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00"/>
                </a:solidFill>
                <a:latin typeface="Arial"/>
              </a:rPr>
              <a:t>метод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универсальная </a:t>
            </a:r>
            <a:r>
              <a:rPr b="1" lang="ru-RU" sz="2200" spc="-1" strike="noStrike">
                <a:solidFill>
                  <a:srgbClr val="ffff00"/>
                </a:solidFill>
                <a:latin typeface="Arial"/>
              </a:rPr>
              <a:t>теория развит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вумя основными </a:t>
            </a:r>
            <a:r>
              <a:rPr b="1" lang="ru-RU" sz="2400" spc="-1" strike="noStrike">
                <a:solidFill>
                  <a:srgbClr val="00ffff"/>
                </a:solidFill>
                <a:latin typeface="Arial"/>
              </a:rPr>
              <a:t>частями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философской системы марксизма являются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философия природы </a:t>
            </a:r>
            <a:r>
              <a:rPr b="1" lang="ru-RU" sz="2200" spc="-1" strike="noStrike">
                <a:solidFill>
                  <a:srgbClr val="ffff00"/>
                </a:solidFill>
                <a:latin typeface="Arial"/>
              </a:rPr>
              <a:t>(материалистическое понимание природы),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философия истории </a:t>
            </a:r>
            <a:r>
              <a:rPr b="1" lang="ru-RU" sz="2200" spc="-1" strike="noStrike">
                <a:solidFill>
                  <a:srgbClr val="ffff00"/>
                </a:solidFill>
                <a:latin typeface="Arial"/>
              </a:rPr>
              <a:t>(материалистическое понимание истории).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атериализм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Учение о матери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798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Единственно сущее в мире –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материальная субстанция,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основными атрибутами которой являют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движение 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мышлен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атерия существует вне и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независимо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от челове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атерия – причина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щущений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как исходных и основных источников зна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атериализм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иалектик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98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нцип «всё течёт, всё изменяется» –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сновной закон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всего существующе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 этом мир не просто изменяется, но изменяется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закономерно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оступательно.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аконы движения мира суть законы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диалект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иалектика есть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«алгебра прогресса».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2T14:58:11Z</dcterms:created>
  <dc:creator>Николай Бирюков / Nikolai Biryukov</dc:creator>
  <dc:description>Версия апреля 2007 г.</dc:description>
  <dc:language>en-US</dc:language>
  <cp:lastModifiedBy>LEGION</cp:lastModifiedBy>
  <dcterms:modified xsi:type="dcterms:W3CDTF">2014-11-11T10:17:01Z</dcterms:modified>
  <cp:revision>15</cp:revision>
  <dc:subject>История русской философии - Лекция 9</dc:subject>
  <dc:title>Русский марксизм</dc:title>
</cp:coreProperties>
</file>