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7F08-5265-46F4-BE16-EECBD542DC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12E2-5CD2-4BB9-A05D-2DD3F3966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2C12-27CB-4376-A960-2B53B3AF3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465E-EADD-43A1-B3BD-F73FB538A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BDA2-427B-433A-BE0F-3FEB1C946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8CFF-819F-42AB-A4E9-F31AAA955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90A0-0DB4-455A-ACF2-501004EBE6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3209-3EF0-4E95-901B-0CE23DAF2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F8E-2154-4CD4-9C66-DD4D810438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966A-5327-4DD6-91DF-B183879F4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BC62-D313-4371-A57B-C96B7D1F6A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F9E3-E972-4C62-B3EE-C3D698396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3F85-084C-4791-9C63-24EBE469C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D00B-4F14-48B2-8B9A-6C8F9F28D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637B-92DC-4D15-9B87-7F101693D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10E2-DF0B-4CF8-B490-0C8A250F1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E7A6-769A-4378-AAD9-74339F258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BD1E-6597-46A9-A14C-19E203467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43DE-F106-4770-A0E2-39D7C7961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D0C6-5028-4FA0-8573-B3258E98C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85F9-EDD9-4AAE-B95C-747D01F59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6F91-CE9E-4937-8B4C-C01168D3E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1702-8228-4568-98E5-D8BEF3A6E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6B28-2979-42C1-B933-C79D4E9A3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4F88-2227-4985-BB8C-A1216DC4E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7B45-6179-420E-BEA6-29ABA8ED52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7763-0CDE-443D-BB09-E8FCC4FA2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F8D-3378-4F61-8237-C2233B12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C68-F064-4038-B3C9-81AE6DCB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2EC-4ACF-4E1C-87E8-F02A8B2E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C44-9369-4DA6-B6CF-D03B13BD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FC5-02FB-4637-B879-0B85EB2F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0DC-D41A-42B3-B048-21E5D9A8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7DF-225A-46C9-BE3A-EFC431B6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7B5-9BC2-4513-91F7-D204B5BA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199-A8FC-435B-BF0E-5D070CE2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18E-BF51-4661-AB1D-23115F57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643-D0D8-43AC-BFC5-785B732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DFE-D87E-4774-AFD8-FEF08E00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4D51-A160-4713-BA62-44AEAB009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5760" y="1618920"/>
            <a:ext cx="85899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агает свою грязную ру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литературу и нау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уби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ку и литерату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оны рабов заглуш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ью да свистом бич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Плеханов (1)"/>
          <p:cNvPicPr/>
          <p:nvPr/>
        </p:nvPicPr>
        <p:blipFill>
          <a:blip r:embed="rId1"/>
          <a:stretch/>
        </p:blipFill>
        <p:spPr>
          <a:xfrm>
            <a:off x="6588000" y="1989000"/>
            <a:ext cx="1828800" cy="22291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Ленин (2)"/>
          <p:cNvPicPr/>
          <p:nvPr/>
        </p:nvPicPr>
        <p:blipFill>
          <a:blip r:embed="rId1"/>
          <a:stretch/>
        </p:blipFill>
        <p:spPr>
          <a:xfrm>
            <a:off x="539640" y="1798560"/>
            <a:ext cx="3321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Rectangle 5"/>
          <p:cNvSpPr/>
          <p:nvPr/>
        </p:nvSpPr>
        <p:spPr>
          <a:xfrm>
            <a:off x="4138560" y="2806560"/>
            <a:ext cx="4678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делать? Наболевшие вопросы нашего движ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2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 и эмпириокритицизм: Критические заметки об одной реакционн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иализм как высшая стадия капит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о и револю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10800000">
            <a:off x="250560" y="1690200"/>
            <a:ext cx="6297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социализм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арксизм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ым двигателем истор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борьба клас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буржуазных философ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гатель прогресса – солида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элементов об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вших «несовершенств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 или иного учрежд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учение – материалистич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идеалистич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– революционн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реформистск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обосновывает такти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летариата в соврем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стических страна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тактику буржуаз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Ленин (2)"/>
          <p:cNvPicPr/>
          <p:nvPr/>
        </p:nvPicPr>
        <p:blipFill>
          <a:blip r:embed="rId1"/>
          <a:stretch/>
        </p:blipFill>
        <p:spPr>
          <a:xfrm>
            <a:off x="6837480" y="1690560"/>
            <a:ext cx="1724040" cy="2195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60020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2056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00" y="1654200"/>
            <a:ext cx="62974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чий класс сам по себе способ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сознани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он способен вести классовую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капитализ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лучшение 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403280" y="3309840"/>
            <a:ext cx="629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йти за эти рамки, начать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ничтожение самого капиталистического стро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мисс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огильщика капитализма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бочий класс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ри условии, что его деятельнос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ять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м авангард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482920" y="4965840"/>
            <a:ext cx="62974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у этого «авангарда»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ого 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Ленин (2)"/>
          <p:cNvPicPr/>
          <p:nvPr/>
        </p:nvPicPr>
        <p:blipFill>
          <a:blip r:embed="rId1"/>
          <a:stretch/>
        </p:blipFill>
        <p:spPr>
          <a:xfrm>
            <a:off x="7448400" y="1654200"/>
            <a:ext cx="134316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93544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85580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76160" y="2463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31640" y="16192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о – необходимый инстит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ираемо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агонизм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лассов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511280" y="2878200"/>
            <a:ext cx="503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е государств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пар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ил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еспечивающи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итическое госп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кономически доминирующ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90920" y="4138560"/>
            <a:ext cx="50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ходе пролетарской револю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ржуазное государство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ма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мен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ктатур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летариат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форме власти Со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670200" y="53974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мере постро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ммунистического об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отмиранием класс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тмирать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Ленин (2)"/>
          <p:cNvPicPr/>
          <p:nvPr/>
        </p:nvPicPr>
        <p:blipFill>
          <a:blip r:embed="rId1"/>
          <a:stretch/>
        </p:blipFill>
        <p:spPr>
          <a:xfrm>
            <a:off x="7124760" y="1619280"/>
            <a:ext cx="1630440" cy="2074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748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Плеханов (1)"/>
          <p:cNvPicPr/>
          <p:nvPr/>
        </p:nvPicPr>
        <p:blipFill>
          <a:blip r:embed="rId1"/>
          <a:stretch/>
        </p:blipFill>
        <p:spPr>
          <a:xfrm>
            <a:off x="755640" y="1773360"/>
            <a:ext cx="272412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3057480" y="5576760"/>
            <a:ext cx="25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Ле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2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Ленин (3)"/>
          <p:cNvPicPr/>
          <p:nvPr/>
        </p:nvPicPr>
        <p:blipFill>
          <a:blip r:embed="rId2"/>
          <a:stretch/>
        </p:blipFill>
        <p:spPr>
          <a:xfrm>
            <a:off x="5651640" y="3309840"/>
            <a:ext cx="2724120" cy="305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7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61928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Плеханов (1)"/>
          <p:cNvPicPr/>
          <p:nvPr/>
        </p:nvPicPr>
        <p:blipFill>
          <a:blip r:embed="rId1"/>
          <a:stretch/>
        </p:blipFill>
        <p:spPr>
          <a:xfrm>
            <a:off x="431640" y="1798560"/>
            <a:ext cx="38466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497480" y="3238560"/>
            <a:ext cx="442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азвитии монистического взгляда на истор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89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оли личности в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terialismus militan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4:58:11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7:01Z</dcterms:modified>
  <cp:revision>15</cp:revision>
  <dc:subject>История русской философии - Лекция 9</dc:subject>
  <dc:title>Русский марксизм</dc:title>
</cp:coreProperties>
</file>