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F732-F453-41C4-976C-3CC779F113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7CC-D2A0-4075-B712-DBE0ED6A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968-9706-4623-9F5E-24B9E0B4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370-2D96-454C-BD8A-1DBAD0DF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8D8-7F77-42AA-BDFC-52B7AA28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0FE-908B-4F4C-A3C2-327AA886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A6C-66D7-4EE2-8DEE-D2859AFC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D9F-C99D-4A1A-9976-9E94E5CA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89C-44EE-401E-B6DD-BE372262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979-A625-4805-9562-09DBAB9A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FCA-E320-4737-8927-11D5EDE6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936-B512-45A5-BA6F-F4C06AFA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5DE-B225-4BC5-B23D-15D3D434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9553-D776-4ED1-92EE-564945096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3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ценка качества консульт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484360" y="5321160"/>
            <a:ext cx="4038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т-Петербург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дека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12"/>
          <p:cNvGraphicFramePr/>
          <p:nvPr/>
        </p:nvGraphicFramePr>
        <p:xfrm>
          <a:off x="3429000" y="2763720"/>
          <a:ext cx="226368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63720"/>
                    <a:ext cx="226368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– люди одержимые идеей, беззаветно преданные своему дел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категория клиентов, для которы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 сформулировать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высказаться самому, но не слушать, что скажет консульт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first visit"/>
          <p:cNvPicPr/>
          <p:nvPr/>
        </p:nvPicPr>
        <p:blipFill>
          <a:blip r:embed="rId1"/>
          <a:stretch/>
        </p:blipFill>
        <p:spPr>
          <a:xfrm>
            <a:off x="6372360" y="907920"/>
            <a:ext cx="236844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000" y="980640"/>
            <a:ext cx="2693880" cy="3024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сотрудник консультативной службы должен уметь выдержа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й между “клиент всегда прав” и “я расскажу тебе, как работать правильно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правило -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ытаться решить вопросы, которые не имеют отношения к предмету консультирования и консультан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hit"/>
          <p:cNvPicPr/>
          <p:nvPr/>
        </p:nvPicPr>
        <p:blipFill>
          <a:blip r:embed="rId1"/>
          <a:stretch/>
        </p:blipFill>
        <p:spPr>
          <a:xfrm>
            <a:off x="6335640" y="1413000"/>
            <a:ext cx="2808360" cy="2641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ние для участник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в малых групп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64785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argument"/>
          <p:cNvPicPr/>
          <p:nvPr/>
        </p:nvPicPr>
        <p:blipFill>
          <a:blip r:embed="rId1"/>
          <a:stretch/>
        </p:blipFill>
        <p:spPr>
          <a:xfrm>
            <a:off x="6948360" y="1052640"/>
            <a:ext cx="1994040" cy="26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список индика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6118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йте решения на большом ли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тот вид работы отводится - 20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 свой список для остальных участни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Copy of TEAM"/>
          <p:cNvPicPr/>
          <p:nvPr/>
        </p:nvPicPr>
        <p:blipFill>
          <a:blip r:embed="rId1"/>
          <a:stretch/>
        </p:blipFill>
        <p:spPr>
          <a:xfrm>
            <a:off x="6551640" y="213372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824400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4000"/>
            </a:br>
            <a:br>
              <a:rPr sz="40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" y="47242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620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7360" indent="-387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bd09506_"/>
          <p:cNvPicPr/>
          <p:nvPr/>
        </p:nvPicPr>
        <p:blipFill>
          <a:blip r:embed="rId1"/>
          <a:stretch/>
        </p:blipFill>
        <p:spPr>
          <a:xfrm>
            <a:off x="6815160" y="1628640"/>
            <a:ext cx="2220840" cy="2040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73422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гражд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КО (руководители и сотрудники организац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ое (предмет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ческое (процесс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е консультации (очная встреча или по телефон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(почта, факсы, электронная поч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консультации, независимо от формы, должны быть зарегистриров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2" descr="ONWORK"/>
          <p:cNvPicPr/>
          <p:nvPr/>
        </p:nvPicPr>
        <p:blipFill>
          <a:blip r:embed="rId1"/>
          <a:stretch/>
        </p:blipFill>
        <p:spPr>
          <a:xfrm>
            <a:off x="7020000" y="549360"/>
            <a:ext cx="1944720" cy="20653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61912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консультаций позволя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ти некоторый статистический учет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количество обращающихся за консультационной помощ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ть наиболее востребованные темы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консультантам образцами уже данных ответов на схожие вопр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j0212051"/>
          <p:cNvPicPr/>
          <p:nvPr/>
        </p:nvPicPr>
        <p:blipFill>
          <a:blip r:embed="rId1"/>
          <a:stretch/>
        </p:blipFill>
        <p:spPr>
          <a:xfrm>
            <a:off x="7093080" y="1341360"/>
            <a:ext cx="1817640" cy="15350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64087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муникативные навы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opy of DRUG"/>
          <p:cNvPicPr/>
          <p:nvPr/>
        </p:nvPicPr>
        <p:blipFill>
          <a:blip r:embed="rId1"/>
          <a:stretch/>
        </p:blipFill>
        <p:spPr>
          <a:xfrm>
            <a:off x="6599160" y="2205000"/>
            <a:ext cx="2509920" cy="26528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е показатели консультир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кл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казанных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ционных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нтов, задействованных в процесс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handshake"/>
          <p:cNvPicPr/>
          <p:nvPr/>
        </p:nvPicPr>
        <p:blipFill>
          <a:blip r:embed="rId1"/>
          <a:stretch/>
        </p:blipFill>
        <p:spPr>
          <a:xfrm>
            <a:off x="6673680" y="2060640"/>
            <a:ext cx="2470320" cy="2881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йте свой предмет и область консульт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уйте в качестве консультан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вязывайте свое мн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 проблему, с которой столкнулся кли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, чего он хочет, результат, к которому стреми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те: «Юрист не решает проблему, юрист предлагает варианты решения проблем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йте “технических” термин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орите на языке клиента, а не на Вашем собственно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говорите о внутренних проблемах Вашей организ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золотых прав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гото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увер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общитель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чайте именно на тот вопрос, который был задан именно данным Клиенто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ерите те варианты, которые актуальны именно для этого кли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bs00554_"/>
          <p:cNvPicPr/>
          <p:nvPr/>
        </p:nvPicPr>
        <p:blipFill>
          <a:blip r:embed="rId1"/>
          <a:stretch/>
        </p:blipFill>
        <p:spPr>
          <a:xfrm>
            <a:off x="6664320" y="1619280"/>
            <a:ext cx="2155680" cy="1881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7:42:36Z</dcterms:created>
  <dc:creator>Home</dc:creator>
  <dc:description/>
  <dc:language>en-US</dc:language>
  <cp:lastModifiedBy>LEGION</cp:lastModifiedBy>
  <dcterms:modified xsi:type="dcterms:W3CDTF">2016-01-04T08:08:36Z</dcterms:modified>
  <cp:revision>99</cp:revision>
  <dc:subject/>
  <dc:title>Оценка качества консультаций</dc:title>
</cp:coreProperties>
</file>