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E19C-AAC0-40EA-993D-0943EB720E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нкт-Петербур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 декабря 2010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– люди одержимые идеей, беззаветно преданные своему дел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ть категория клиентов, для которы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но сформулировать 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 высказаться самому, но не слушать, что скажет консульта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сотрудник консультативной службы должен уметь выдержать бой между “клиент всегда прав” и “я расскажу тебе, как работать правильно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ое правило -  не пытаться решить вопросы, которые не имеют отношения к предмету консультирования и консультан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для участ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малых групп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ьте список индикато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исывайте решения на большом лист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вид работы отводится - 20 мину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ьте свой список для остальных участни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НКО (руководители и сотрудники организац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тическое (предмет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ое (процессное) консульт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ные консультации (очная встреча или по телефону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(почта, факсы, электронная почт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консультации, независимо от формы, должны быть зарегистрирова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урнал консультаций позволя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сти некоторый статистический учет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ть количество обращающихся за консультационной помощ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наиболее востребованные темы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огает консультантам образцами уже данных ответов на схожие во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тивные навы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консультиро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о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оказанных консульт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ционных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консультантов, задействованных в процесс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свой предмет и область консульт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уйте в качестве консульта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навязывайте свое мн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 проблему, с которой столкнулся клиен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е, чего он хочет, результат, к которому стреми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ните: «Юрист не решает проблему, юрист предлагает варианты решения пробл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бегайте “технических” термин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ворите на языке клиента, а не на Вашем собственн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говорите о внутренних проблемах Ваш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золотых прави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гото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увер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дьте общи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йте именно на тот вопрос, который был задан именно данным Клиен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берите те варианты, которые актуальны именно для эт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8B77-2A9D-4ECA-947A-11BFC66E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09F-2210-4608-9D09-3D61A224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A2C-6FBF-423E-AAA4-91DCD5375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97B-0717-44E4-B23D-3247557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B75-0180-4E92-8996-3A13F06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DFB-7989-4CCD-A046-6855F1C7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373-E746-4BC2-892A-1F77AD68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F9A-A9F0-47BF-A42F-F99AD47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3F4-0414-4DCB-B44D-B8C6E039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CA1-A631-44E6-B218-8E2DD252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CE2-273C-4808-9F26-B55C2D02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01C-3826-4248-AEE7-73CA833F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908-33CC-4D1D-B622-987B14579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3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ценка качества консульт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484360" y="5321160"/>
            <a:ext cx="4038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нкт-Петербур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декабр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12"/>
          <p:cNvGraphicFramePr/>
          <p:nvPr/>
        </p:nvGraphicFramePr>
        <p:xfrm>
          <a:off x="3429000" y="2763720"/>
          <a:ext cx="226368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763720"/>
                    <a:ext cx="226368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АБОТА С ТРУДНЫМИ КЛИЕНТ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– люди одержимые идеей, беззаветно преданные своему дел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думают, что консультант нужен лишь для того, чтобы подтвердить их позицию («сам знаю как правильно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енты часто предпочитают услышать то, что хотели бы услышать, а не то, что консультант говорит (надо всегда убеждаться, что вас правильно понял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категория клиентов, для которых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 сформулировать вопр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высказаться самому, но не слушать, что скажет консульт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нт, который сообщает что-то, что не соответствует представлению клиента, вызывает агрессию и недовер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first visit"/>
          <p:cNvPicPr/>
          <p:nvPr/>
        </p:nvPicPr>
        <p:blipFill>
          <a:blip r:embed="rId1"/>
          <a:stretch/>
        </p:blipFill>
        <p:spPr>
          <a:xfrm>
            <a:off x="6372360" y="907920"/>
            <a:ext cx="236844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000" y="980640"/>
            <a:ext cx="2693880" cy="3024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ДЛЯ  КОНСУЛЬТАН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сотрудник консультативной службы должен уметь выдержа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й между “клиент всегда прав” и “я расскажу тебе, как работать правильно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правило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пытаться решить вопросы, которые не имеют отношения к предмету консультирования и консульта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hit"/>
          <p:cNvPicPr/>
          <p:nvPr/>
        </p:nvPicPr>
        <p:blipFill>
          <a:blip r:embed="rId1"/>
          <a:stretch/>
        </p:blipFill>
        <p:spPr>
          <a:xfrm>
            <a:off x="6335640" y="1413000"/>
            <a:ext cx="2808360" cy="2641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дание для участник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в малых групп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6478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работайте систему индикаторов для проведения мониторинга бесплатной юридической помощ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деральных органов и органов исполнительной власти субъектов РФ, государственных внебюджетных фондов, органов МС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вокатских пал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 юридических бю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государственных центров (НК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argument"/>
          <p:cNvPicPr/>
          <p:nvPr/>
        </p:nvPicPr>
        <p:blipFill>
          <a:blip r:embed="rId1"/>
          <a:stretch/>
        </p:blipFill>
        <p:spPr>
          <a:xfrm>
            <a:off x="6948360" y="1052640"/>
            <a:ext cx="1994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список индика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61182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ывайте решения на большом лис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этот вид работы отводится - 20 мину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свой список для остальных участни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opy of TEAM"/>
          <p:cNvPicPr/>
          <p:nvPr/>
        </p:nvPicPr>
        <p:blipFill>
          <a:blip r:embed="rId1"/>
          <a:stretch/>
        </p:blipFill>
        <p:spPr>
          <a:xfrm>
            <a:off x="6551640" y="21337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8244000" cy="57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бросимова Елена Антоновна </a:t>
            </a:r>
            <a:br>
              <a:rPr sz="4000"/>
            </a:br>
            <a:br>
              <a:rPr sz="40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андидат юридических наук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доцент юридического факультета МГУ им. М.В.Ломоносова , член экспертной группы по совершенствованию законодательства об НКО Совета при Президенте РФ по содействию развитию институтов гражданского общества и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8600" y="472428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СУЛЬТ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62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7360" indent="-387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 взаимодействия консультанта и клиента по поводу проблемы последнего с целью выявления возможных вариантов ее решения и их последствий, уяснение путей и способов реализации выбранного варианта решения данной пробл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2" descr="bd09506_"/>
          <p:cNvPicPr/>
          <p:nvPr/>
        </p:nvPicPr>
        <p:blipFill>
          <a:blip r:embed="rId1"/>
          <a:stretch/>
        </p:blipFill>
        <p:spPr>
          <a:xfrm>
            <a:off x="6815160" y="1628640"/>
            <a:ext cx="2220840" cy="2040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73422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гражд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КО (руководители и сотрудники организаци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ое (предмет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ческое (процессное) консультир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е консультации (очная встреча или по телефон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(почта, факсы, электронная почт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консультации, независимо от формы, должны быть зарегистриров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2" descr="ONWORK"/>
          <p:cNvPicPr/>
          <p:nvPr/>
        </p:nvPicPr>
        <p:blipFill>
          <a:blip r:embed="rId1"/>
          <a:stretch/>
        </p:blipFill>
        <p:spPr>
          <a:xfrm>
            <a:off x="7020000" y="549360"/>
            <a:ext cx="1944720" cy="20653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ГИСТРАЦИЯ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19128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консультаций позволяе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ти некоторый статистический учет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ть количество обращающихся за консультационной помощ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ть наиболее востребованные темы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ет консультантам образцами уже данных ответов на схожие вопро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енные консультации необходимо также учитывать, включая письма-запросы в отдельную папку по дате получ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j0212051"/>
          <p:cNvPicPr/>
          <p:nvPr/>
        </p:nvPicPr>
        <p:blipFill>
          <a:blip r:embed="rId1"/>
          <a:stretch/>
        </p:blipFill>
        <p:spPr>
          <a:xfrm>
            <a:off x="7093080" y="1341360"/>
            <a:ext cx="1817640" cy="15350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ФЕССИОНАЛЬНЫЕ НАВЫКИ  КОНСУЛЬТА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640872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анализировать фактическую информацию с тем, чтобы выделять в ней значимые обстоятель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ориентироваться в предмете и анализировать аналогичные случаи с тем, чтобы находить альтернативные способы решения проблемы клиента, удовлетворяющие его интер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четко, ясно и доступно разъяснить основу его проблемы и возможные способы ее реш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использования различных способов решения проблемы, как положительные, так и отрицательны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ие прогнозировать последствия консультаций на случай правильного и неправильного их восприя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муникативные навы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Copy of DRUG"/>
          <p:cNvPicPr/>
          <p:nvPr/>
        </p:nvPicPr>
        <p:blipFill>
          <a:blip r:embed="rId1"/>
          <a:stretch/>
        </p:blipFill>
        <p:spPr>
          <a:xfrm>
            <a:off x="6599160" y="2205000"/>
            <a:ext cx="2509920" cy="26528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ЧЕСТВО КОНСУЛЬТ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553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ага или польза, которую получают клиенты в результате консультирования - приобретенные знания и навыки (например, повышение уровня грамотности), изменения в отношении к чему-либо (например, повышение уверенности в себе), и т.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е показатели консультир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кл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оказанных консульт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ционных ча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080" indent="-33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онсультантов, задействованных в процесс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handshake"/>
          <p:cNvPicPr/>
          <p:nvPr/>
        </p:nvPicPr>
        <p:blipFill>
          <a:blip r:embed="rId1"/>
          <a:stretch/>
        </p:blipFill>
        <p:spPr>
          <a:xfrm>
            <a:off x="6673680" y="2060640"/>
            <a:ext cx="2470320" cy="2881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АВИЛА КОНСУЛЬТ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28036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найте свой предмет и область консультир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уйте в качестве консультан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вязывайте свое мн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 проблему, с которой столкнулся кли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, чего он хочет, результат, к которому стремит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: «Юрист не решает проблему, юрист предлагает варианты решения проблем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бегайте “технических” термин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ворите на языке клиента, а не на Вашем собственн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пользуйте непонятных простому обывателю сокращений (например, НКО или «хьюман райт»), чтобы не ставить его в неудобное положе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оворите о внутренних проблемах Вашей организ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и золотых правил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гото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увере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ьте общительн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 ПРАВИЛЬНО ОТВЕЧАТЬ НА ВОПРОС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67920"/>
            <a:ext cx="56149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чайте именно на тот вопрос, который был задан именно данным Клиент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йте все специфические особенности предмета консультирования и возможные варианты реш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берите те варианты, которые актуальны именно для этого клиен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ите пути решения проблемы и помогите ему получить то, чего он хочет, а не фокусируйтесь на том, как надо и что хотите Вы. Убедитесь, что в основном говорит он, а Вы думаете над тем, как Ваша консультация может быть ему полез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bs00554_"/>
          <p:cNvPicPr/>
          <p:nvPr/>
        </p:nvPicPr>
        <p:blipFill>
          <a:blip r:embed="rId1"/>
          <a:stretch/>
        </p:blipFill>
        <p:spPr>
          <a:xfrm>
            <a:off x="6664320" y="1619280"/>
            <a:ext cx="2155680" cy="1881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7:42:36Z</dcterms:created>
  <dc:creator>Home</dc:creator>
  <dc:description/>
  <dc:language>en-US</dc:language>
  <cp:lastModifiedBy>LEGION</cp:lastModifiedBy>
  <dcterms:modified xsi:type="dcterms:W3CDTF">2016-01-04T08:08:36Z</dcterms:modified>
  <cp:revision>99</cp:revision>
  <dc:subject/>
  <dc:title>Оценка качества консультаций</dc:title>
</cp:coreProperties>
</file>