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07E10-A305-4C95-ADA5-B167B759B0B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ознание 6 клас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веева Светлана Геннадьевна – учитель истории и обществозн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У Лицей № 3 г.Зерноград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овской обл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АЧЕМ НУЖНА ВСЕОБЩАЯ ДЕКЛАРАЦИЯ ПРАВ ЧЕЛОВЕ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ствознание 6 клас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веева Светлана Геннадьевна – учитель истории и обществозн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У Лицей № 3 г.Зерноград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овской обла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ЗАЧЕМ НУЖНА ВСЕОБЩАЯ ДЕКЛАРАЦИЯ ПРАВ ЧЕЛОВЕК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говорят факт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бы мы сократили все население планеты до размеров одной деревни, в которой проживает 100 человек, и применили бы к этой деревне все те соотношения, какие характерны для нашей планеты в настоящее время, то получилась бы следующая потрясающая карти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7 человек в деревне — азиаты, 21 — европейцы, 14 — из западного полушария, 8 — из Афр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2 человека было бы женского пола, 48 — мужско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0 по расовой принадлежности — цветные, 30 — представляли бы белую рас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0 — нехристианской веры, 30 — христиан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0 проживали бы в условиях, не соответствующих минимальным человеческим норм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0 были бы не способны чита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0 страдали бы от постоянного голо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был бы при смер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имел бы образование на уровне колледжа и выш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имел бы компьют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говорят факт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бы мы сократили все население планеты до размеров одной деревни, в которой проживает 100 человек, и применили бы к этой деревне все те соотношения, какие характерны для нашей планеты в настоящее время, то получилась бы следующая потрясающая картин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7 человек в деревне — азиаты, 21 — европейцы, 14 — из западного полушария, 8 — из Афри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2 человека было бы женского пола, 48 — мужског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0 по расовой принадлежности — цветные, 30 — представляли бы белую рас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0 — нехристианской веры, 30 — христиан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 проживали бы в условиях, не соответствующих минимальным человеческим норма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0 были бы не способны чита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0 страдали бы от постоянного голо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был бы при смер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имел бы образование на уровне колледжа и выш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имел бы компьюте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и свободы человека ограничиваться во и свободы человека могут ограничиваться во и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и свободы человека могут ограничиваться во имя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и свободы человека ограничиваться во и свободы человека могут ограничиваться во им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и свободы человека могут ограничиваться во имя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и свободы человека ограничиваться во и свободы человека могут ограничиваться во и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и свободы человека могут ограничиваться во имя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а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ажения к правам других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ядка в обще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раны государственной безопас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оровья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ы принципов О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и свободы человека ограничиваться во и свободы человека могут ограничиваться во им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и свободы человека могут ограничиваться во имя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ра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ажения к правам других лю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ядка в обще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раны государственной безопас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доровья лю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ы принципов О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 цепочку, показывающую связь прав и обязанностей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е право на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ывает меня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олжи цепочку, показывающую связь прав и обязанностей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е право на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язывает меня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ЧЕМ НУЖНА ВСЕОБЩАЯ ДЕКЛАРАЦИЯ ПРАВ ЧЕЛОВЕКА 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НУЖНА ВСЕОБЩАЯ ДЕКЛАРАЦИЯ ПРАВ ЧЕЛОВЕКА 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Человек превратился в сверхчеловека... Но сверхчеловек, наделенный сверхчеловеческой силой, еще не поднялся до уровня сверхчеловеческого разума... Наша совесть должна пробудиться от сознания того, что чем больше мы превращаемся в сверхлюдей, тем бесчеловечнее мы становимс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ьберт  Швейц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Быть человеком — это чувствовать свою   ответственность».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Сент-Экзюпер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Человек превратился в сверхчеловека... Но сверхчеловек, наделенный сверхчеловеческой силой, еще не поднялся до уровня сверхчеловеческого разума... Наша совесть должна пробудиться от сознания того, что чем больше мы превращаемся в сверхлюдей, тем бесчеловечнее мы становимся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ьберт  Швейц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Быть человеком — это чувствовать свою   ответственность».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.Сент-Экзюпер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ЧЕМ НУЖНА ВСЕОБЩАЯ ДЕКЛАРАЦИЯ ПРАВ ЧЕЛОВЕКА 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НУЖНА ВСЕОБЩАЯ ДЕКЛАРАЦИЯ ПРАВ ЧЕЛОВЕКА 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ь ли здесь противоречие?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кларация — это рекомендация; международный договор, не имеющий обязательной силы. Декларация не закон, она не является юридически обязательным для исполнения документом, не содержит в себе каких либо санкций за нарушения указанных прав и свобод. Это скорее заявление о добрых намерениях человечества, провозглашение «общих достижений всех народов и наций». Она содержит в себе самые общие нормы и правила, которые как бы предлагают, советуют нам всем соблюд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, тем не менее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ь ли здесь противоречие?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кларация — это рекомендация; международный договор, не имеющий обязательной силы. Декларация не закон, она не является юридически обязательным для исполнения документом, не содержит в себе каких либо санкций за нарушения указанных прав и свобод. Это скорее заявление о добрых намерениях человечества, провозглашение «общих достижений всех народов и наций». Она содержит в себе самые общие нормы и правила, которые как бы предлагают, советуют нам всем соблюд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, тем не менее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0 национальных конституций, выработанных после 1948 года, содержат в себе формулировки основных прав человека на основе положений Деклар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екабре 1993 года была принята Конституция Российской Федерации. Это самый главный, основной закон нашей страны. Уже во второй статье Конституции говорится: «Человек, его права и свободы являются высшей ценностью. Признание, соблюдение и защита прав и свобод человека и гражданина — обязанность государств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ании декларации построены два обязательных для участников ООН договора: Международный пакт о гражданских и политических правах и Международный пакт об экономических, социальных и культурных прав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Декларацию прав человека можно ссылаться при защите своих прав, её положения часто используются в международных судах при рассмотрении дел по фактам нарушения прав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0 национальных конституций, выработанных после 1948 года, содержат в себе формулировки основных прав человека на основе положений Деклар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екабре 1993 года была принята Конституция Российской Федерации. Это самый главный, основной закон нашей страны. Уже во второй статье Конституции говорится: «Человек, его права и свободы являются высшей ценностью. Признание, соблюдение и защита прав и свобод человека и гражданина — обязанность государств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основании декларации построены два обязательных для участников ООН договора: Международный пакт о гражданских и политических правах и Международный пакт об экономических, социальных и культурных прав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Декларацию прав человека можно ссылаться при защите своих прав, её положения часто используются в международных судах при рассмотрении дел по фактам нарушения прав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1950 году ООН было решено отмечать день принятия Декларации как День прав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93 г. участники всемирной конференции, представлявшие 171 страну, в которых проживает 99% всего населения мира, вновь подтвердили свою приверженность защите прав челове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10 декабря 2007 года по 10 декабря 2008 года проходила кампания по случаю 60-летия Всеобщей Декларации прав человека. Тема кампании «Человеческое достоинство и справедливость для всех нас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документу, не имеющему юридической силы,  придают такое огромное значение? Зачем нужна Всеобщая декларация прав человек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1950 году ООН было решено отмечать день принятия Декларации как День прав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93 г. участники всемирной конференции, представлявшие 171 страну, в которых проживает 99% всего населения мира, вновь подтвердили свою приверженность защите прав челове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10 декабря 2007 года по 10 декабря 2008 года проходила кампания по случаю 60-летия Всеобщей Декларации прав человека. Тема кампании «Человеческое достоинство и справедливость для всех нас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 документу, не имеющему юридической силы,  придают такое огромное значение? Зачем нужна Всеобщая декларация прав человека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говори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Всеобщая декларация прав челове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была принята Всеобщая декларация прав человека? Зачем она нужн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принципы Декларации сохраняют свою актуальность и в современных условия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декларация может помочь человечеств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делать так, чтобы Декларация смогла нам всем помоч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вязаны между собой права и обязанности челове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ы считаете, нужна ли человечеству Всеобщая декла­рация обязанност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говори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Всеобщая декларация прав челове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да была принята Всеобщая декларация прав человека? Зачем она нужн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 принципы Декларации сохраняют свою актуальность и в современных условиях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декларация может помочь человечеств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сделать так, чтобы Декларация смогла нам всем помоч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связаны между собой права и обязанности челове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вы считаете, нужна ли человечеству Всеобщая декла­рация обязанносте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К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[&lt; фр. bouclette колечко] — непериодиче­ское издание на одном печатном листе, сложенном параллельными сгибами, так, что его читают или рассматривают, раскрывая как ширму; в виде буклетов выпуска­ются путеводители, проспекты, рекламные и информационные листки, некоторые детские издания и т. 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К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[&lt; фр. bouclette колечко] — непериодиче­ское издание на одном печатном листе, сложенном параллельными сгибами, так, что его читают или рассматривают, раскрывая как ширму; в виде буклетов выпуска­ются путеводители, проспекты, рекламные и информационные листки, некоторые детские издания и т. 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3AD2-9B2F-42C0-B73A-EA0525EB4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38DF-71AA-485F-B500-7CCEAA2C4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AB97E2-46A3-451D-8C07-0DCD61AD6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BFC87B-5CAB-4507-9547-9BDDD80DA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8B22D2-AAFE-4814-8786-58BBC0E7B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9C7823-317F-4137-8082-B95E855D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25C64A-284B-4154-B61C-2B2794C4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FC66E7-9523-489C-9B95-1726C82B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8F5059-D178-4A28-85AA-A6471EC80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279965-ADD2-469B-8C9F-0681FADCE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7F70BA-2A1B-4429-B5A8-4F4A02B82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4067-6E4E-4890-8F01-F752F9F90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30C2-C180-4558-8B58-3FCD1BE82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94876-8DE3-4D45-BCA2-D2C9A2A4E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14499-4122-46E8-82EB-C03931436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4087C-8796-4AF3-B21D-1CC6E0DA2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A7885-481D-491F-A6AD-8B9B6D5A6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7B0B8-91F4-469D-BC14-0FA3E9FAA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665CB-4C3C-4723-A64F-FA2A650A4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6D8C3-2506-48A5-8163-5B5A78EE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A547-BEAC-40CE-A986-223C17678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E9306-6620-4720-BE50-99E7BFA0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3B428-2CA1-4BB7-8079-D565DC53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DEFFE-4BE0-41DE-8D7E-ACEA607E5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23C74-B193-4326-B1BB-1F658004B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46715-1F42-46C4-9840-1AB675893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965E5-67BF-4C8E-9316-246CFAF12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2ED15-D821-40B3-B1CE-8F5090185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D3E48-952E-4C76-8A5B-72992FEF0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59679-52E9-4C4A-9B43-781AE9D05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1307E-2571-462A-8279-64C9089DA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A097-519F-48E4-B8F4-583B2E531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99158-B1CE-40AE-89E0-E9D573720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130A6-313D-48B9-A871-816E3A64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B1F93-798E-47D2-BD69-09AA28B7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A8960-824C-4F4F-961A-6E05442E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DB46F-3FF1-4695-98E4-A970307D6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8664E-3E53-4352-AABE-5FE982517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03CAF-6516-4904-B611-F5C27493E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BCBD9-680C-41B2-8F04-61794E6A2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BD021-62BB-4DEE-A1A4-C26A231CE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06E35-A190-4D09-9E40-B49A55F2D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85DB-D5E3-4949-AF8B-6135BBF44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7A3AF-51A8-4632-B226-D11C323FB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E7485-73B0-414E-BAFF-C26113888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4BB12-84C1-4B8E-AC17-52058E0BD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8EBC4-C3FD-49D4-9FFE-C141CBFF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A5B4B-859A-472A-8135-86B8B62F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8E0FF-D8C5-4DB5-AF81-49507AE5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57049-F104-4A3E-85F3-EFF6E7C45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71792-DE78-4DE2-9A74-30D3D2C79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B9819-734D-4840-ADCA-CE6281190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45A9E-53CB-463A-8BE7-47F83A2CD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CDF7-09AE-4C2A-BBAF-F0F18EFAA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6A904-B3AE-4E08-8787-C936C9EF0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21264-DDD9-43BE-AF6A-8E61F8ADE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7E6EA6-E4DF-4FE8-93C1-6CDE57BF9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5E402-2E27-421C-B9D7-3D3154973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96879-2E2D-4CAC-9088-34AA46856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3DB5A-EFF7-4335-9B95-D0916619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B5C4A-7BCE-46E2-AE96-F2AE1673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EDE43-0590-4C83-A1DB-0AB5649F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518F3-90A2-41A9-A36A-F785AEACA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1B4F4-9162-4939-9322-243DF85BC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9842-ECAF-4773-A1D7-B799FFF0F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7E2D6-399C-4288-B624-AC73CD998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2A26B-65F7-4F86-AD36-502A03AE8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686DE-E302-4D53-800D-E145851D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56E3A-F2E8-45EA-8CF4-0D41C0291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A8EFF-8CD1-4299-BC49-D8D6237C7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F26DD-B174-4A35-B3B5-EF98F3A72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5A151-04F8-4602-8CA2-73D63EF02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B5D16B-3B9C-496D-8A85-FBFB50E3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C43F8A-DD0E-4238-875C-8827A50D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60008-83B6-4FBA-81CD-6F1DB59C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A74A-7D33-4933-A900-158E7C17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64B4F-EA71-433F-9BE9-03913813A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3554A-9D56-4189-9DD8-E05D8DCA1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CCCB1-F09D-437A-A2E5-322B842E2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1B34B-46B8-44CF-BD51-DC3F11014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65CB2A-50F3-4C19-A861-314E58D05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16002-368F-4B80-B475-C8C240B6E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7B2784-B9C2-4774-850F-ACFC20921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9BBB95-2D07-49F1-ADFD-BCAE4B4AE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5E0C5-6139-466D-8064-BA4BF6B0D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DA04EE-9DB3-4C68-8596-333835A7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2A8F-4651-48EB-B068-E4B0C3C9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00FD63-DEC5-49C6-92BE-CB854527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38633-8ED8-4878-9139-E5F36905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EA3395-BF36-4BE2-BCC8-657CD33F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7823D-46F7-4550-A78A-4271E51BF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178A81-E711-4B60-A64D-2E1D42B94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3F044-2318-4C30-BEA8-369DE9CA1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532FC9-9C76-4753-99DD-D70EB0A54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FE42C2-63F2-480E-9593-228FE3D2D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995CF2-7CC8-4988-AB28-71809F472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D7EA42-1B9C-44DA-B981-9ED389232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BC91-14F3-4C9C-9643-1E54536F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2AE347-52CD-4246-AA89-91B9E7EE8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6DB7C5-378A-44DB-A83A-028473EE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A7F75E-A9BC-4E77-AF27-8A68FAE5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1F88D8-FD22-4FA8-A6A6-04C352DD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190F90-A429-4B09-9EDE-DAB76A89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C2AC73-0713-4894-B1A9-5AEE98C51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92FF47-9482-4BEF-9179-8FB116FFF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A96F4A-2D27-4DE0-B541-72DDCFF68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989D45-C7D2-46C4-9612-343ED4A03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78E768-5F0D-4370-96FF-5183CCDC3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3675B-03CE-4537-8A90-3EA95017A287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A5990-B048-4A87-AEFD-639CD3825A7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9B749-C8A9-4B0C-AE30-1D0B47CBC442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88414-FA1A-40CC-810A-0A9D202468E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DB84A-021E-49F1-85C8-A05F2FB87699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3C989-376B-480D-BDA5-082A8F4C552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8E99A-129C-4139-8248-59D99AFFCF04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C322F-914A-4561-B1D7-9270C4FACE1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B21D1-BA63-4B47-A39E-34172E15AD4B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0EEE6-1269-47A6-99B3-E52CF97992E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7AB0F-C628-4253-8533-A068E313BA0E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367D2-3D60-4432-B93F-4DA2B875902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B34AF-FC1D-46C1-B1D0-99D05BA53BEF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3F114-D540-47F3-843D-540F5EE16D3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AF2AA-370C-431D-8941-1207DC9F659D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B02DE-36B4-49F2-A888-6EB8705FA8F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92C89-2FBB-480A-BCC9-844294EE6D89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4097D-DD94-4A46-B4E9-D1C4BCF6D53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25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Прямоугольник 1"/>
          <p:cNvSpPr/>
          <p:nvPr/>
        </p:nvSpPr>
        <p:spPr>
          <a:xfrm>
            <a:off x="1000080" y="2274840"/>
            <a:ext cx="6929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Обществознание 6 кла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  </a:t>
            </a: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Матвеева Светлана Геннадьевна – учитель истории и обществозн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   </a:t>
            </a: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МОУ Лицей № 3 г.Зерногра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Ростовской обл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"/>
          <p:cNvSpPr/>
          <p:nvPr/>
        </p:nvSpPr>
        <p:spPr>
          <a:xfrm>
            <a:off x="928800" y="571680"/>
            <a:ext cx="7286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Franklin Gothic Medium"/>
              </a:rPr>
              <a:t>«ЗАЧЕМ НУЖНА ВСЕОБЩАЯ ДЕКЛАРАЦИЯ ПРАВ ЧЕЛОВЕ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Місце для нижнього колонтитула 4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Заголовок 1" descr=""/>
          <p:cNvPicPr/>
          <p:nvPr/>
        </p:nvPicPr>
        <p:blipFill>
          <a:blip r:embed="rId1"/>
          <a:stretch/>
        </p:blipFill>
        <p:spPr>
          <a:xfrm>
            <a:off x="311040" y="0"/>
            <a:ext cx="8418600" cy="115236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500040" y="11426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Если бы мы сократили все население планеты до размеров одной деревни, в которой проживает 100 человек, и применили бы к этой деревне все те соотношения, какие характерны для нашей планеты в настоящее время, то получилась бы следующая потрясающая картина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57 человек в деревне — азиаты, 21 — европейцы, 14 — из западного полушария, 8 — из Африки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e3b30"/>
                </a:solidFill>
                <a:latin typeface="Franklin Gothic Book"/>
              </a:rPr>
              <a:t>52 </a:t>
            </a: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человека было бы женского пола, 48 — мужского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70 по расовой принадлежности — цветные, 30 — представляли бы белую расу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70 — нехристианской веры, 30 — христиане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80 проживали бы в условиях, не соответствующих минимальным человеческим нормам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70 были бы не способны читать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50 страдали бы от постоянного голода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1 был бы при смерти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1 имел бы образование на уровне колледжа и выше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1 имел бы компьютер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0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Скругленный прямоугольник 1"/>
          <p:cNvSpPr/>
          <p:nvPr/>
        </p:nvSpPr>
        <p:spPr>
          <a:xfrm>
            <a:off x="2786040" y="2643120"/>
            <a:ext cx="3214800" cy="1271520"/>
          </a:xfrm>
          <a:prstGeom prst="roundRect">
            <a:avLst>
              <a:gd name="adj" fmla="val 33264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Права и свободы человека ограничиваться во и свободы человека могут ограничиваться во им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2"/>
          <p:cNvSpPr/>
          <p:nvPr/>
        </p:nvSpPr>
        <p:spPr>
          <a:xfrm>
            <a:off x="2643120" y="2786040"/>
            <a:ext cx="357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Права и свободы человека могут ограничиваться во им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Скругленный прямоугольник 8"/>
          <p:cNvSpPr/>
          <p:nvPr/>
        </p:nvSpPr>
        <p:spPr>
          <a:xfrm>
            <a:off x="214200" y="1714680"/>
            <a:ext cx="221472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Скругленный прямоугольник 9"/>
          <p:cNvSpPr/>
          <p:nvPr/>
        </p:nvSpPr>
        <p:spPr>
          <a:xfrm>
            <a:off x="3571920" y="857160"/>
            <a:ext cx="22143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Скругленный прямоугольник 10"/>
          <p:cNvSpPr/>
          <p:nvPr/>
        </p:nvSpPr>
        <p:spPr>
          <a:xfrm>
            <a:off x="6500880" y="1857240"/>
            <a:ext cx="22143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Скругленный прямоугольник 11"/>
          <p:cNvSpPr/>
          <p:nvPr/>
        </p:nvSpPr>
        <p:spPr>
          <a:xfrm>
            <a:off x="6500880" y="3714840"/>
            <a:ext cx="22143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Скругленный прямоугольник 12"/>
          <p:cNvSpPr/>
          <p:nvPr/>
        </p:nvSpPr>
        <p:spPr>
          <a:xfrm>
            <a:off x="3429000" y="5072040"/>
            <a:ext cx="221472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Скругленный прямоугольник 13"/>
          <p:cNvSpPr/>
          <p:nvPr/>
        </p:nvSpPr>
        <p:spPr>
          <a:xfrm>
            <a:off x="285840" y="3643200"/>
            <a:ext cx="22143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Місце для нижнього колонтитула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Скругленный прямоугольник 1"/>
          <p:cNvSpPr/>
          <p:nvPr/>
        </p:nvSpPr>
        <p:spPr>
          <a:xfrm>
            <a:off x="2786040" y="2643120"/>
            <a:ext cx="3214800" cy="1271520"/>
          </a:xfrm>
          <a:prstGeom prst="roundRect">
            <a:avLst>
              <a:gd name="adj" fmla="val 33264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Права и свободы человека ограничиваться во и свободы человека могут ограничиваться во им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2"/>
          <p:cNvSpPr/>
          <p:nvPr/>
        </p:nvSpPr>
        <p:spPr>
          <a:xfrm>
            <a:off x="2643120" y="2786040"/>
            <a:ext cx="357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Права и свободы человека могут ограничиваться во им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Скругленный прямоугольник 8"/>
          <p:cNvSpPr/>
          <p:nvPr/>
        </p:nvSpPr>
        <p:spPr>
          <a:xfrm>
            <a:off x="142920" y="1571760"/>
            <a:ext cx="22143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Скругленный прямоугольник 9"/>
          <p:cNvSpPr/>
          <p:nvPr/>
        </p:nvSpPr>
        <p:spPr>
          <a:xfrm>
            <a:off x="3571920" y="857160"/>
            <a:ext cx="22143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Скругленный прямоугольник 10"/>
          <p:cNvSpPr/>
          <p:nvPr/>
        </p:nvSpPr>
        <p:spPr>
          <a:xfrm>
            <a:off x="6500880" y="1857240"/>
            <a:ext cx="22143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Скругленный прямоугольник 11"/>
          <p:cNvSpPr/>
          <p:nvPr/>
        </p:nvSpPr>
        <p:spPr>
          <a:xfrm>
            <a:off x="6500880" y="3714840"/>
            <a:ext cx="22143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Скругленный прямоугольник 12"/>
          <p:cNvSpPr/>
          <p:nvPr/>
        </p:nvSpPr>
        <p:spPr>
          <a:xfrm>
            <a:off x="3429000" y="5072040"/>
            <a:ext cx="221472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Скругленный прямоугольник 13"/>
          <p:cNvSpPr/>
          <p:nvPr/>
        </p:nvSpPr>
        <p:spPr>
          <a:xfrm>
            <a:off x="285840" y="3643200"/>
            <a:ext cx="22143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14"/>
          <p:cNvSpPr/>
          <p:nvPr/>
        </p:nvSpPr>
        <p:spPr>
          <a:xfrm>
            <a:off x="4220640" y="1071720"/>
            <a:ext cx="9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ор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15"/>
          <p:cNvSpPr/>
          <p:nvPr/>
        </p:nvSpPr>
        <p:spPr>
          <a:xfrm>
            <a:off x="6572160" y="2000160"/>
            <a:ext cx="24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важения к правам других лю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16"/>
          <p:cNvSpPr/>
          <p:nvPr/>
        </p:nvSpPr>
        <p:spPr>
          <a:xfrm>
            <a:off x="6929280" y="3857760"/>
            <a:ext cx="15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рядка в общест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17"/>
          <p:cNvSpPr/>
          <p:nvPr/>
        </p:nvSpPr>
        <p:spPr>
          <a:xfrm>
            <a:off x="0" y="157176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храны государственной безопас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19"/>
          <p:cNvSpPr/>
          <p:nvPr/>
        </p:nvSpPr>
        <p:spPr>
          <a:xfrm>
            <a:off x="432360" y="3857760"/>
            <a:ext cx="185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доровья лю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20"/>
          <p:cNvSpPr/>
          <p:nvPr/>
        </p:nvSpPr>
        <p:spPr>
          <a:xfrm>
            <a:off x="3643200" y="5143680"/>
            <a:ext cx="18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щиты принципов О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Місце для нижнього колонтитула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Заголовок 1" descr=""/>
          <p:cNvPicPr/>
          <p:nvPr/>
        </p:nvPicPr>
        <p:blipFill>
          <a:blip r:embed="rId1"/>
          <a:stretch/>
        </p:blipFill>
        <p:spPr>
          <a:xfrm>
            <a:off x="480960" y="401760"/>
            <a:ext cx="8663040" cy="167148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 txBox="1"/>
          <p:nvPr/>
        </p:nvSpPr>
        <p:spPr>
          <a:xfrm>
            <a:off x="213840" y="233208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Franklin Gothic Book"/>
              </a:rPr>
              <a:t>Мое право на…</a:t>
            </a:r>
            <a:endParaRPr b="0" lang="en-US" sz="8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1" lang="ru-RU" sz="8000" spc="-1" strike="noStrike">
                <a:solidFill>
                  <a:srgbClr val="ff0000"/>
                </a:solidFill>
                <a:latin typeface="Franklin Gothic Book"/>
              </a:rPr>
              <a:t>обязывает меня…</a:t>
            </a:r>
            <a:endParaRPr b="0" lang="en-US" sz="8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7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Заголовок 3" descr=""/>
          <p:cNvPicPr/>
          <p:nvPr/>
        </p:nvPicPr>
        <p:blipFill>
          <a:blip r:embed="rId1"/>
          <a:stretch/>
        </p:blipFill>
        <p:spPr>
          <a:xfrm>
            <a:off x="957240" y="1011240"/>
            <a:ext cx="8345520" cy="4756320"/>
          </a:xfrm>
          <a:prstGeom prst="rect">
            <a:avLst/>
          </a:prstGeom>
          <a:ln w="0">
            <a:noFill/>
          </a:ln>
        </p:spPr>
      </p:pic>
      <p:sp>
        <p:nvSpPr>
          <p:cNvPr id="459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428400" y="214200"/>
            <a:ext cx="837252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Franklin Gothic Book"/>
              </a:rPr>
              <a:t>    </a:t>
            </a:r>
            <a:r>
              <a:rPr b="1" lang="ru-RU" sz="3000" spc="-1" strike="noStrike">
                <a:solidFill>
                  <a:srgbClr val="ff0000"/>
                </a:solidFill>
                <a:latin typeface="Franklin Gothic Book"/>
              </a:rPr>
              <a:t>«Человек превратился в сверхчеловека... Но сверхчеловек, наделенный сверхчеловеческой силой, еще не поднялся до уровня сверхчеловеческого разума... Наша совесть должна пробудиться от сознания того, что чем больше мы превращаемся в сверхлюдей, тем бесчеловечнее мы становимся»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Franklin Gothic Book"/>
              </a:rPr>
              <a:t>                                                     </a:t>
            </a:r>
            <a:r>
              <a:rPr b="1" lang="ru-RU" sz="3000" spc="-1" strike="noStrike">
                <a:solidFill>
                  <a:srgbClr val="ff0000"/>
                </a:solidFill>
                <a:latin typeface="Franklin Gothic Book"/>
              </a:rPr>
              <a:t>Альберт  Швейцер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Franklin Gothic Book"/>
              </a:rPr>
              <a:t>    </a:t>
            </a:r>
            <a:r>
              <a:rPr b="1" lang="ru-RU" sz="3000" spc="-1" strike="noStrike">
                <a:solidFill>
                  <a:srgbClr val="ff0000"/>
                </a:solidFill>
                <a:latin typeface="Franklin Gothic Book"/>
              </a:rPr>
              <a:t>«Быть человеком — это чувствовать свою   ответственность».                 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Franklin Gothic Book"/>
              </a:rPr>
              <a:t>                                                     </a:t>
            </a:r>
            <a:r>
              <a:rPr b="1" lang="ru-RU" sz="3000" spc="-1" strike="noStrike">
                <a:solidFill>
                  <a:srgbClr val="ff0000"/>
                </a:solidFill>
                <a:latin typeface="Franklin Gothic Book"/>
              </a:rPr>
              <a:t>А.Сент-Экзюпери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 algn="ctr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1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3" descr=""/>
          <p:cNvPicPr/>
          <p:nvPr/>
        </p:nvPicPr>
        <p:blipFill>
          <a:blip r:embed="rId1"/>
          <a:stretch/>
        </p:blipFill>
        <p:spPr>
          <a:xfrm>
            <a:off x="957240" y="1011240"/>
            <a:ext cx="8345520" cy="4756320"/>
          </a:xfrm>
          <a:prstGeom prst="rect">
            <a:avLst/>
          </a:prstGeom>
          <a:ln w="0">
            <a:noFill/>
          </a:ln>
        </p:spPr>
      </p:pic>
      <p:sp>
        <p:nvSpPr>
          <p:cNvPr id="410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109440" y="249120"/>
            <a:ext cx="8839440" cy="139716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304920" y="1554120"/>
            <a:ext cx="8339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Декларация — это рекомендация; международный договор, не имеющий обязательной силы. Декларация не закон, она не является юридически обязательным для исполнения документом, не содержит в себе каких либо санкций за нарушения указанных прав и свобод. Это скорее заявление о добрых намерениях человечества, провозглашение «общих достижений всех народов и наций». Она содержит в себе самые общие нормы и правила, которые как бы предлагают, советуют нам всем соблюдать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Но, тем не менее…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3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914400" y="214200"/>
            <a:ext cx="8229600" cy="607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90 национальных конституций, выработанных после 1948 года, содержат в себе формулировки основных прав человека на основе положений Декларации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В декабре 1993 года была принята Конституция Российской Федерации. Это самый главный, основной закон нашей страны. Уже во второй статье Конституции говорится: «Человек, его права и свободы являются высшей ценностью. Признание, соблюдение и защита прав и свобод человека и гражданина — обязанность государства»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На основании декларации построены два обязательных для участников ООН договора: Международный пакт о гражданских и политических правах и Международный пакт об экономических, социальных и культурных правах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На Декларацию прав человека можно ссылаться при защите своих прав, её положения часто используются в международных судах при рассмотрении дел по фактам нарушения прав человека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5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914040" y="214200"/>
            <a:ext cx="8086680" cy="607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В1950 году ООН было решено отмечать день принятия Декларации как День прав человека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В 1993 г. участники всемирной конференции, представлявшие 171 страну, в которых проживает 99% всего населения мира, вновь подтвердили свою приверженность защите прав человека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С10 декабря 2007 года по 10 декабря 2008 года проходила кампания по случаю 60-летия Всеобщей Декларации прав человека.</a:t>
            </a:r>
            <a:r>
              <a:rPr b="0" i="1" lang="ru-RU" sz="2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Тема кампании «Человеческое достоинство и справедливость для всех нас»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c00000"/>
                </a:solidFill>
                <a:latin typeface="Franklin Gothic Book"/>
              </a:rPr>
              <a:t>	</a:t>
            </a:r>
            <a:r>
              <a:rPr b="1" lang="ru-RU" sz="3300" spc="-1" strike="noStrike">
                <a:solidFill>
                  <a:srgbClr val="c00000"/>
                </a:solidFill>
                <a:latin typeface="Franklin Gothic Book"/>
              </a:rPr>
              <a:t>Почему документу, не имеющему юридической силы,  придают такое огромное значение? Зачем нужна Всеобщая декларация прав человека? </a:t>
            </a:r>
            <a:endParaRPr b="0" lang="en-US" sz="33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7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Заголовок 1" descr=""/>
          <p:cNvPicPr/>
          <p:nvPr/>
        </p:nvPicPr>
        <p:blipFill>
          <a:blip r:embed="rId1"/>
          <a:stretch/>
        </p:blipFill>
        <p:spPr>
          <a:xfrm>
            <a:off x="12600" y="208080"/>
            <a:ext cx="8979120" cy="134604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Franklin Gothic Book"/>
              </a:rPr>
              <a:t>Что такое Всеобщая декларация прав человека?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Franklin Gothic Book"/>
              </a:rPr>
              <a:t>Когда была принята Всеобщая декларация прав человека? Зачем она нужна?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Franklin Gothic Book"/>
              </a:rPr>
              <a:t>Почему принципы Декларации сохраняют свою актуальность и в современных условиях?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Franklin Gothic Book"/>
              </a:rPr>
              <a:t>Чем декларация может помочь человечеству?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Franklin Gothic Book"/>
              </a:rPr>
              <a:t>Как сделать так, чтобы Декларация смогла нам всем помочь?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Franklin Gothic Book"/>
              </a:rPr>
              <a:t>Как связаны между собой права и обязанности человека?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Franklin Gothic Book"/>
              </a:rPr>
              <a:t>Как вы считаете, нужна ли человечеству Всеобщая декла­рация обязанностей?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0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1" descr=""/>
          <p:cNvPicPr/>
          <p:nvPr/>
        </p:nvPicPr>
        <p:blipFill>
          <a:blip r:embed="rId1"/>
          <a:stretch/>
        </p:blipFill>
        <p:spPr>
          <a:xfrm>
            <a:off x="311040" y="390600"/>
            <a:ext cx="8680680" cy="98748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[&lt; фр. 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bouclette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 колечко] — непериодиче­ское издание на одном печатном листе, сложенном параллельными сгибами, так, что его читают или рассматривают, раскрывая как ширму; в виде буклетов выпуска­ются путеводители, проспекты, рекламные и информационные листки, некоторые детские издания и т. п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3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2" descr=""/>
          <p:cNvPicPr/>
          <p:nvPr/>
        </p:nvPicPr>
        <p:blipFill>
          <a:blip r:embed="rId1"/>
          <a:srcRect l="9523" t="22461" r="9914" b="8204"/>
          <a:stretch/>
        </p:blipFill>
        <p:spPr>
          <a:xfrm>
            <a:off x="571680" y="714240"/>
            <a:ext cx="7858080" cy="5072040"/>
          </a:xfrm>
          <a:prstGeom prst="rect">
            <a:avLst/>
          </a:prstGeom>
          <a:ln w="0">
            <a:noFill/>
          </a:ln>
        </p:spPr>
      </p:pic>
      <p:sp>
        <p:nvSpPr>
          <p:cNvPr id="425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2" descr=""/>
          <p:cNvPicPr/>
          <p:nvPr/>
        </p:nvPicPr>
        <p:blipFill>
          <a:blip r:embed="rId1"/>
          <a:srcRect l="9523" t="22461" r="9910" b="7229"/>
          <a:stretch/>
        </p:blipFill>
        <p:spPr>
          <a:xfrm>
            <a:off x="714240" y="857160"/>
            <a:ext cx="7858440" cy="5143680"/>
          </a:xfrm>
          <a:prstGeom prst="rect">
            <a:avLst/>
          </a:prstGeom>
          <a:ln w="0">
            <a:noFill/>
          </a:ln>
        </p:spPr>
      </p:pic>
      <p:sp>
        <p:nvSpPr>
          <p:cNvPr id="427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07:49:47Z</dcterms:created>
  <dc:creator>HOUSE</dc:creator>
  <dc:description/>
  <dc:language>en-US</dc:language>
  <cp:lastModifiedBy>LEGION</cp:lastModifiedBy>
  <dcterms:modified xsi:type="dcterms:W3CDTF">2016-01-04T08:07:20Z</dcterms:modified>
  <cp:revision>35</cp:revision>
  <dc:subject/>
  <dc:title>«Зачем нужна всеобщая декларация прав человека»</dc:title>
</cp:coreProperties>
</file>