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84B1-6042-4350-959E-2B48778F1A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566-8279-4AA7-B824-D969BEF2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6E2-3EFE-4149-B440-EB02877A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62225-1BAC-45BE-9B75-C6294FD6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464FE-072D-482F-B306-E1CABF28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AD7B3-442D-463D-AA56-22213FBF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3F62F-E0B1-4260-9BBE-87A74FE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8628B-B0BE-4884-96E5-BDF3CB0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A4592-C643-483B-8F3D-03DB1BBA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1D2B8-0188-4DBC-8F10-98C5625C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98806-7879-4B30-B68D-E7AE0B6E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92F7E-ED54-4282-8133-263E7D64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654-2A26-425A-8E75-688F0B8C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871-34FB-4EF5-88E4-F9CB8085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4217-326D-4268-BBEC-91F9950D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CAB6-E681-4A0F-92F8-4FCF25F6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944B-DDDF-4C33-9DE4-D715707B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E57F-6CC4-4097-B0B1-5CA45D41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1003-E74D-4840-A8CE-24EDD11B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C5AB-BB05-4F15-AEE2-0E308D54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D133-8A6C-4EAB-9AC3-AF6050E7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7DE-5113-4FE6-98DD-BCA0CE4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8DDA-4C49-4333-BC4B-5819F8CB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B299-CB0D-44A8-8417-B3FF871B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B489-DAEF-4B0C-8B0E-A8BAEDC1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1D5A-04E3-4060-8AC8-84421255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57D6-13CF-43E6-8455-CE1E2015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3B0F-E6B5-4C9A-8678-230D7AC3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3640-F830-4201-BAE9-841249BA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F726-4CA5-493D-BE63-A044BF65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693B-5722-4BC1-AF39-792096E2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E04B-34F2-4C10-87C6-048E8FD4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2A4-1D9B-4549-B11D-33C4111F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CEC7-3F56-4906-AD62-DC4BE649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8AB3-5398-4C04-8627-DC503114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379C-7B10-4A98-8A2C-02EF2D3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9B95-F371-4941-B74D-4BCF13C2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847A-F496-407E-9A35-704A7E62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6DEF-0C35-4BAF-B071-11E3B46F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048D-EF99-47AB-B3EF-3C8C4C2A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1E3D-236B-4593-A478-30DAD51F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B571-F8A5-418A-8FF2-458B72C9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0996C-64F8-4865-8318-B4EF0C6A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46B-859B-4B78-8C34-E2F7AABF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DCA9-5A54-4457-97FE-E43F5662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4FF3-168E-4BB8-99C1-9B099E5A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798D-E2FF-43DE-B64C-ED7E5F3A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68B0-F18E-40FD-AD6D-ED74C29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700F-2C3E-4D12-B17C-BC5CEEE0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1070-E1C5-46FE-9CF1-55BDDE2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BAEC-E249-4184-93CA-18A3E431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260F-9951-4804-82BF-BEB7C73E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B6A09-8054-4E5C-9912-4104EB9F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E32E6-97A8-4BF1-BB9B-718DB42C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976-D702-46A8-AC08-E9AAD49C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28A42-E5B9-4FE4-B76A-A2A71023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A95FE-9A72-460C-9F89-C622A2B6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2CDE-39E4-4434-8EEE-71D7F800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27D8-4D0D-443D-A9D2-A119FE25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C82DE-1647-4FD2-97C4-9AFC7038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0DC38-90B0-472E-AF7D-F77123E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71356-8157-4E6F-AD5D-8B155D1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A8735-D154-462B-853E-97C0E8E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CC02-8849-4B7A-A248-438AB4F6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15419-FB0F-47ED-8466-05EAFA69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259-080B-45F3-AC3E-EFA8DD08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25481-9D47-4CCD-8781-5C953E40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13299-47F5-4C0F-B9D9-18F76704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3C489-52A1-4097-A72F-9461918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8D8E2-C86B-467F-BFC3-D19E1D38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2781F-F353-4E76-B5F1-C5BE2C98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CAB5-4B3C-41F7-81B3-D7885877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B8B62-EE48-4C10-8A59-D0E05E3E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D372B-A0CE-4D5E-A943-5B324543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84F7-99A2-4916-A8FC-C284011B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DCE72-9134-4119-B4A4-6931682D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F17-C84F-42B9-B135-A408F79F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03AA8-1CAF-447E-8004-68733E46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1AC3-1440-45BE-ADCF-CF71B4FB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DFDD6-1CBD-4234-A880-10F960F2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971AA-350F-42D2-80FB-3BCAEC73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C766-CC22-4B3F-A258-1270CD04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DB8F-7C64-45E1-9B5A-D73D6190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C7FB8-1B1F-4728-942F-FF0A99B6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35E3F-BFC8-46AE-8506-74106121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E2C2B-B8A6-4FE4-B02A-53117A88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C22F5-ED63-4C71-A536-1BF89E7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4B8-19FA-41B2-AEEA-15F586A5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E439F-D7DB-4EB2-BC29-385FE4BC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3DFCD-6B91-40B1-89C0-9571DD9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B9397-BED4-4AD8-8548-89F4D42A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198DD-336A-434B-9EFF-EA1DCD3A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DB894-A10C-4191-AB22-B3AE9EC8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7A76E-0E65-43F1-9401-66CCA0FB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64A13-7EF7-4214-89D4-1AC07B86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5336-D517-4FF8-8267-0502C2DA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7B92F-F3A7-4C97-9B9C-43E653F1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0C78E-A886-418D-901B-30D3A78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ACF-93DA-46F4-AC81-CAB72633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A5A47-68C6-4078-A2C4-85ECD2C8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7BE47-2F03-44BB-9C5A-9491AEE1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30E59-C4E0-47FD-970A-D9110678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4F92A-CFAD-4855-814C-D751D442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C46C-3D4D-421A-8784-90DB4D77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345A4-7179-4ABB-828F-314267E5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75FBF-A5BD-433D-AA47-7BD9E5B6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E8301-AF4B-44FE-84FF-BDC351AF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60755-719A-4CDD-AEE3-C92C9A91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55415-5E51-4C00-B8D9-3F5EB2FA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6627-B16E-4D3E-8E36-334BB3F9CBB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9E26-21C3-4EEE-8400-E396C39AF2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7DB3-A961-4610-BD15-0962E7CA9E5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0754-B320-43E2-8D73-9214954BDE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05A4-9D18-42F2-AFFE-04AB498CC7D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318C-9DEB-4E0B-ADD3-6DBA93ABBC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19E6-E2AF-42B4-AB4C-49858386C0F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C9F0-E664-4AB3-B050-A970850BF0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587C-CD9C-4290-AF9D-9AE600CCF36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FBE2-D9A1-4569-A5BD-11E818C7F4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779-3E6C-43CD-BCD9-37C2B0EDA0D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25F8-1BEF-4286-B727-D61194A4BE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6DA3-4477-47D6-B82F-B5C548E3BE3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6E32-08A6-402C-9685-8C79F9F2AC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C98B-3D76-429D-913B-F17CC0380BB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40F8-CA56-43FA-A56F-E8912662F4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6259-8C6A-40A6-A90C-D7E4193EF7C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8C11-5060-49C2-8A30-B640EF04E1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00080" y="2274840"/>
            <a:ext cx="692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Обществознание 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атвеева Светлана Геннадьевна – учитель истории и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ОУ Лицей № 3 г.Зерно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Ростов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928800" y="571680"/>
            <a:ext cx="72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«ЗАЧЕМ НУЖНА ВСЕОБЩАЯ ДЕКЛАРАЦИЯ ПРАВ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0004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7 человек в деревне — азиаты, 21 — европейцы, 14 — из западного полушария, 8 — из Африк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52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еловека было бы женского пола, 48 — мужского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по расовой принадлежности — цветные, 30 — представляли бы белую рас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— нехристианской веры, 30 — христиан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0 проживали бы в условиях, не соответствующих минимальным человеческим норма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были бы не способны читать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0 страдали бы от постоянного го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был бы при смер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образование на уровне колледжа и выш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компьюте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8"/>
          <p:cNvSpPr/>
          <p:nvPr/>
        </p:nvSpPr>
        <p:spPr>
          <a:xfrm>
            <a:off x="214200" y="171468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8"/>
          <p:cNvSpPr/>
          <p:nvPr/>
        </p:nvSpPr>
        <p:spPr>
          <a:xfrm>
            <a:off x="142920" y="15717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4220640" y="107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6572160" y="2000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6"/>
          <p:cNvSpPr/>
          <p:nvPr/>
        </p:nvSpPr>
        <p:spPr>
          <a:xfrm>
            <a:off x="692928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7"/>
          <p:cNvSpPr/>
          <p:nvPr/>
        </p:nvSpPr>
        <p:spPr>
          <a:xfrm>
            <a:off x="0" y="1571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9"/>
          <p:cNvSpPr/>
          <p:nvPr/>
        </p:nvSpPr>
        <p:spPr>
          <a:xfrm>
            <a:off x="432360" y="38577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0"/>
          <p:cNvSpPr/>
          <p:nvPr/>
        </p:nvSpPr>
        <p:spPr>
          <a:xfrm>
            <a:off x="3643200" y="51436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80960" y="401760"/>
            <a:ext cx="8663040" cy="1671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13840" y="2332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Мое право на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обязывает меня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8400" y="21420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льберт  Швейцер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Быть человеком — это чувствовать свою   ответственность».             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.Сент-Экзюпер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ctr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249120"/>
            <a:ext cx="8839440" cy="1397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3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о, тем не менее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91440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14040" y="214200"/>
            <a:ext cx="8086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1950 году ООН было решено отмечать день принятия Декларации как День прав чело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10 декабря 2007 года по 10 декабря 2008 года проходила кампания по случаю 60-летия Всеобщей Декларации прав человека.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Тема кампании «Человеческое достоинство и справедливость для всех нас»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979120" cy="1346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то такое Всеобщая декларация прав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огда была принята Всеобщая декларация прав человека? Зачем она нужн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чему принципы Декларации сохраняют свою актуальность и в современных условиях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ем декларация может помочь человечеству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делать так, чтобы Декларация смогла нам всем помочь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вязаны между собой права и обязанности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вы считаете, нужна ли человечеству Всеобщая декла­рация обязанностей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11040" y="390600"/>
            <a:ext cx="868068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[&lt; фр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ouclette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rcRect l="9523" t="22461" r="9914" b="8204"/>
          <a:stretch/>
        </p:blipFill>
        <p:spPr>
          <a:xfrm>
            <a:off x="571680" y="71424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rcRect l="9523" t="22461" r="9910" b="7229"/>
          <a:stretch/>
        </p:blipFill>
        <p:spPr>
          <a:xfrm>
            <a:off x="714240" y="857160"/>
            <a:ext cx="78584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9:47Z</dcterms:created>
  <dc:creator>HOUSE</dc:creator>
  <dc:description/>
  <dc:language>en-US</dc:language>
  <cp:lastModifiedBy>LEGION</cp:lastModifiedBy>
  <dcterms:modified xsi:type="dcterms:W3CDTF">2016-01-04T08:07:20Z</dcterms:modified>
  <cp:revision>35</cp:revision>
  <dc:subject/>
  <dc:title>«Зачем нужна всеобщая декларация прав человека»</dc:title>
</cp:coreProperties>
</file>