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35D2-A53A-4EC8-854F-20B21673B5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03B-84F4-4E8A-8DBA-53E97ACA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625-CCAB-4C6F-9150-12DBD853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B1D34-38D2-4B6D-AE4E-501BE6B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DED8D-265D-4942-ABA1-6C98B02E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D6263-5864-4E3F-8FF6-940729D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69625-46D2-4234-B665-AEBDBF3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F6DA0-43E8-42F0-93C2-BB954EBA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B0416-9D9B-44D9-BE13-A2C8755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AD872-81F6-46DF-931F-3FC25EA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6C0E9-8517-4326-864A-68C2541F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36E9E-6FC2-413E-A9BD-6CD79B6B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7BC-03B4-42C9-959F-70F95345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FC8-EE17-478A-8C1F-A469A724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CBE4-3BB0-40DD-A3DB-4061DD8A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A367-0B4A-478E-9790-073CED64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9E48-A93C-4627-BC3D-F4BCF4EB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CEB7-5C8C-4536-A072-095A379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C8BD-021C-4B81-80C0-1202D617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B1D1-B499-4698-ADE5-DC056004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4710-BE1F-4BE1-B3A0-BE48F3F1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E66-4023-43EF-B2A9-99FB05BB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FB94-BD0F-4F14-969C-7A382F0B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9717-0A9A-473C-8B29-26FDE67A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3A4E-4DB5-4687-9209-AFE023BB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D409-C005-4A39-A1C7-036D4F15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60A0-5A72-4F07-B12F-209031A4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69146-0047-44EB-B496-3757E647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17DB-D03B-4AF9-8AF0-5B3EA1BF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ABA8-95B5-480F-81D9-467D9DE9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A7A1-C496-42D0-B86F-3ACA5C88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6814-75FC-48A8-9092-648880EE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3BA-F692-4BF5-8872-A5B03431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69B8-36FD-4ED2-9D56-4F214CE4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D1A40-51E9-4FFE-9AE0-7400252F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E689-5E48-4F4C-97EB-FF492BDE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5303-1021-4CAC-9894-5E1780FD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D3ED-9011-40A8-BD7E-F8C706B5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24A8-A957-4712-BEDA-23486234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AC1D-73A4-4BA2-81DB-A37F3036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5F18-72D5-49BA-9557-37C04A3A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DA72-FBCA-4DF4-8CE4-CF5DEDE5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DB1E-5DBD-474A-AE85-77877441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FF9-E545-47AD-B71D-53DDDAFA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71A3-3DC5-4B11-815B-48CF0344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8D85-74C1-4C4B-82D4-F5C02DF8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AE7A1-0A4B-4708-9C4D-5EE7199C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A17E-EE82-4306-8BF7-211A9FF6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A5F7-A940-4015-9858-EAD1508F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8853-1197-4CD5-8C0F-0483134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DCDA1-91D2-4CB4-957B-1E2E0C18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CC36-3B26-4E75-BBD0-DE788C0E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DA65B-8A09-4FF4-B752-282C3793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125A-6C20-4C18-9037-BBA60403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709-0C74-4831-8BED-8E8680C4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ED19-7A14-49E1-983E-94C18C5A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96D06-D928-412D-847E-A0C8B25D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B0B39-4EC8-43AC-B14C-305CF7FC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59B09-E5E0-423D-B234-87F255DD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666F1-3061-4FBF-A554-517BD121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4D9EE-BF2C-4C39-8EEE-F10818EA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70BE5-E52C-498F-A585-02C3DCC0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D0FB1-AC09-4D27-AA37-58915ACF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2E956-E1D1-4CC0-AAFB-70F42FD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045C-9824-459C-A840-D8688964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C89-4231-4FAD-B4AA-BA54219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E43F-F9D0-4BDE-A015-767FFBA5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436E1-8828-40B8-865C-C4C5DA5A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F754-EA18-40D9-AD07-DBF702AC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6B07-133B-484A-9FEF-EA645E97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F49D-15A1-4E39-8432-2E959BA8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DD5FC-EDEE-457B-9FA6-B50F5155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3FD83-9426-4634-A9FD-BCEFF4CD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1713B-3989-40BA-91C3-7F1548C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1EC32-01E5-4332-883D-9B17FF6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01CC6-6B7D-4FCA-BC12-D1023C24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255-7A21-446F-AEC8-364194B0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2825F-5F89-4B23-9430-AD0F2A48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5F19D-760D-43D3-81F7-E580B706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54E00-E63B-4200-914E-F77EB504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718D8-87FC-4062-9391-5DB0E4E1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707C-E5C1-4EFD-AEEA-91152C78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B52E-6464-43C5-BF8C-76EAB0A2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4682-A916-4B85-B503-4D0CD9F1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71312-FA5D-4DCE-81BD-BDD15353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0E0D6-6BCD-472C-9CEA-3C800F3D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635EB-59A7-4DA2-A33C-AF04E7CB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20F-EC60-4FB4-B11E-D24EF5E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5072A-DFA9-4A91-9E50-F24D2092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60F96-609A-4B55-9F37-6E13646B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27EFF-3F81-4D1D-8628-5432148A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31464-DAE6-4861-ABFB-2FDFA6FE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655DE-8784-4125-9E6D-004A186C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A8951-2D47-4A21-B656-17015B80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005EA-63BF-4482-BBB0-64E16D1A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B6FF1-C277-4293-B289-9DE792C9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61D94-4573-435D-8296-296EB104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6EC99-26A8-47AC-B1CF-E1C1B97B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B16-B61E-4029-83BE-C8DE1FE8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6A5C2-B84E-49D9-835D-B2946DFD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2F485-A600-4CC6-93B3-68F81B1F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B45AF-3C12-4586-8962-1FCEA221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1D8BE-EFD0-4224-A646-EA8E4128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A677-B843-4270-988C-ABFC573F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22367-DF79-4824-8703-C4BB5FCA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0492A-6285-454F-A521-F923DD65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3ACD9-916A-4F55-B791-9691DFAF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3B413-0602-4FEF-9087-0A7201BA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AFF84-65BD-44A8-9853-7EB8D862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54C9-6B15-4B22-B529-BFB489BC795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B05-36AB-46B1-A0E7-0AA49F71D2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3E43-B0BE-488A-8796-DE58671A713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4AA-1600-4748-A383-F1286D9FAF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079-2D53-4223-A09F-29FDEE3A8AA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634C-4A37-4578-B741-DD2902A1D0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3B57-7FFB-41AD-B4B7-5A10B9847BA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C52B-BC2D-48A0-9463-C5232D0416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085C-9646-4FC8-BBBF-ED5C0062B78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8384-8335-4185-B988-8FB37FA2E7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E4E-678C-40EB-9BB2-AEAC57ACA67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F37B-E6CA-4552-8679-70A6E876B6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E335-6C99-4DFF-805A-6BB70ECBA5E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3786-6C4D-410B-8411-481B68474F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2313-F8DE-4975-AF0D-A7716DBE7F7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37B0-7068-40DB-8E02-894280EF94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8AC5-A953-4D72-848F-E8098C552DF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8E09-3626-4BC9-852A-DEAA9F7F94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00080" y="227484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Обществознание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атвеева Светлана Геннадьевна – учитель истории и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ОУ Лицей № 3 г.Зерно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28800" y="57168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«ЗАЧЕМ НУЖНА ВСЕОБЩАЯ ДЕКЛАРАЦИЯ ПРАВ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7 человек в деревне — азиаты, 21 — европейцы, 14 — из западного полушария, 8 — из Африк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5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ловека было бы женского пола, 48 — мужск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по расовой принадлежности — цветные, 30 — представляли бы белую рас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— нехристианской веры, 30 — христиан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0 проживали бы в условиях, не соответствующих минимальным человеческим норм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были бы не способны читать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0 страдали бы от постоянного го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был бы при смер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образование на уровне колледжа и выш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компьют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214200" y="171468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8"/>
          <p:cNvSpPr/>
          <p:nvPr/>
        </p:nvSpPr>
        <p:spPr>
          <a:xfrm>
            <a:off x="142920" y="15717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4220640" y="107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6572160" y="2000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69292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9"/>
          <p:cNvSpPr/>
          <p:nvPr/>
        </p:nvSpPr>
        <p:spPr>
          <a:xfrm>
            <a:off x="432360" y="38577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0"/>
          <p:cNvSpPr/>
          <p:nvPr/>
        </p:nvSpPr>
        <p:spPr>
          <a:xfrm>
            <a:off x="364320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80960" y="401760"/>
            <a:ext cx="8663040" cy="1671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13840" y="2332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Мое право на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обязывает меня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21420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льберт  Швейце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Быть человеком — это чувствовать свою   ответственность».         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.Сент-Экзюпер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ctr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249120"/>
            <a:ext cx="8839440" cy="1397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3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о, тем не менее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9144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14040" y="214200"/>
            <a:ext cx="8086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1950 году ООН было решено отмечать день принятия Декларации как День прав чело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10 декабря 2007 года по 10 декабря 2008 года проходила кампания по случаю 60-летия Всеобщей Декларации прав человека.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ема кампании «Человеческое достоинство и справедливость для всех нас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979120" cy="1346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то такое Всеобщая декларация прав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огда была принята Всеобщая декларация прав человека? Зачем она нужн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чему принципы Декларации сохраняют свою актуальность и в современных условиях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ем декларация может помочь человечеству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делать так, чтобы Декларация смогла нам всем помоч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вязаны между собой права и обязанности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вы считаете, нужна ли человечеству Всеобщая декла­рация обязанностей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11040" y="390600"/>
            <a:ext cx="868068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[&lt; фр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ouclette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rcRect l="9523" t="22461" r="9914" b="8204"/>
          <a:stretch/>
        </p:blipFill>
        <p:spPr>
          <a:xfrm>
            <a:off x="571680" y="71424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rcRect l="9523" t="22461" r="9910" b="7229"/>
          <a:stretch/>
        </p:blipFill>
        <p:spPr>
          <a:xfrm>
            <a:off x="714240" y="857160"/>
            <a:ext cx="78584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47Z</dcterms:created>
  <dc:creator>HOUSE</dc:creator>
  <dc:description/>
  <dc:language>en-US</dc:language>
  <cp:lastModifiedBy>LEGION</cp:lastModifiedBy>
  <dcterms:modified xsi:type="dcterms:W3CDTF">2016-01-04T08:07:20Z</dcterms:modified>
  <cp:revision>35</cp:revision>
  <dc:subject/>
  <dc:title>«Зачем нужна всеобщая декларация прав человека»</dc:title>
</cp:coreProperties>
</file>