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67A5-1608-4660-BDF9-199F049404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ча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елам публич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аз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ков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оч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ни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делам публич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х отно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ение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к судеб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судами перв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судами втор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мотр дел в порядке надз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мотр дел по внов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шимся обстоя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елля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с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дии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буждение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в суд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готовка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к судебном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судами первой инстан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судами второй инстан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смотр дел в порядке надзо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смотр дел по внов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рывшимся обстоятельств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нительное 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а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елля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сса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гражданского 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зако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нума 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удеб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судеб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е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АП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мир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х 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судеб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тав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б исполнитель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чники гражданского 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говоры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ш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зако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я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енума В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судеб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е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и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судеб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е РФ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огов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АП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мир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ях в РФ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судебн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става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б исполнитель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лищ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 действия норм Граждан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времен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яется на вс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ю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процесс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 регулируют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, участвующих в да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м действ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яется времене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имен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остраняется на вс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рриторию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е процессу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ы регулируют отнош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, участвующих в дан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м действ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ажданского процессуаль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гражданского процессуаль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ов гражданского 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ормативному источни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закреплен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ы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ы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коллеги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единолич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на националь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испози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осред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реры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уществление правосудия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 делам только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зависимость судей и подчи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только зако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ласность судебного разбир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вноправие перед законом и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стяза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вноправие сто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ассиф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ов гражданского 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нормативному источник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тором закреплен принци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онные принцип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раслевые принцип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коллегиаль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ли единолично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на националь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зык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диспозитив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осредствен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рерыв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существление правосудия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м делам только судо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зависимость судей и подчин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только закон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гласность судебного разбирательств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авноправие перед законом и судо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остязатель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авноправие сторо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осуществления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осуществления правосудия только су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зависимости судей и подчинение их только зак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и независимы и подчиняются только Конституции РФ и федеральному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шательство в деятельность суда преследуется по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зависимости судей и подчинение их только закон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и независимы и подчиняются только Конституции РФ и федеральному зако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шательство в деятельность суда преследуется по зако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 судебного раз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суда объявляются публ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сность судебного разбир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суда объявляются публич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вноправия перед законом и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оложение субъектов определяется только процессуальным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вноправия перед законом и су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оложение субъектов определяется только процессуальным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Гражданское процессуальное право: понятие, предмет, метод и систе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ы гражданского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ая урегулирова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ниверсальность процессуальной формы рассмотрения и разрешения де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огое соблюдение процессуальной ф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1. Гражданское процессуальное право: понятие, предмет, метод и систе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ты гражданского процесс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юридическая урегулирован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ниверсальность процессуальной формы рассмотрения и разрешения де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трогое соблюдение процессуальной фо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стяза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состяза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вноправия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вноправия стор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ссмотрение дела коллегиально или единол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в апелляционной инстанции единолично (ч.3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ссмотрение дела коллегиально или единолич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в апелляционной инстанции единолично (ч.3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ссмотрение дел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ссмотрение дел на национальном язы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испози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диспозити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осред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и, разрешающие дело, обязаны лично воспринимать собранные доказ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о делу основывается на исследованных в судебном заседании доказатель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осред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и, разрешающие дело, обязаны лично воспринимать собранные доказатель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по делу основывается на исследованных в судебном заседании доказательства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реры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дание проводиться непрерывно за исключением времени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реры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седание проводиться непрерывно за исключением времени отды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роки установлены статьями 107-112  и рядом других статей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е сро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е сроки установлены статьями 107-112  и рядом других статей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цессуальных с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процессуальных сроков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для с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установлены только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рассмотрения дел в суде первой инстанции подразделяются на общие и сокращё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 для су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гут быть установлены только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 рассмотрения дел в суде первой инстанции подразделяются на общие и сокращённы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Система гражданского процессуального права подразделяется на Общую и Особенную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бщей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обенной части относятся нормы ГПК РФ, регулирующие различные стадии гражданск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Цель гражданского судопроизводства – защита нарушенных или оспариваемых прав, свобод, законных интересов субъ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4. Система гражданского процессуального права подразделяется на Общую и Особенную ча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бщей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собенной части относятся нормы ГПК РФ, регулирующие различные стадии гражданского процес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5. Цель гражданского судопроизводства – защита нарушенных или оспариваемых прав, свобод, законных интересов субъек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ённый с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которых категорий дел установлен сокращённый срок их рассмотр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щённый ср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некоторых категорий дел установлен сокращённый срок их рассмотр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ые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ые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ко-теоре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ал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а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государств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зарубежных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овых у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ридических нау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раслевые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ладные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ко-теоре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ория государ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миналис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государ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а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миноло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государства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а зарубежных ст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ридическ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политиче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овых уч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тис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логическ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рассмотрение и разрешение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рассмотрение и разрешение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, законных интересов су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е законности 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важения к закону и с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чи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ильное рассмотрение и разрешение д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оевременное рассмотрение и разрешение д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щита прав, законных интересов субъек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репление законности и правопоряд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 правонару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уважения к закону и суд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 действия норм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авило действия граждан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судопроизводство ведёт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 федеральными зако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ми во время рассмот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решения гражданского дела, совер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ённых процессуаль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ее правило действия граждан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 во 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судопроизводство ведётся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ии с  федеральными закон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ующими во время рассмотр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азрешения гражданского дела, соверш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ённых процессуальных действ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ав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 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й территории Россий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ции действуют н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го процессуа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ав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 в 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всей территории Российск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ции действуют норм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го процессуаль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одательства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ав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оцессу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распространяется на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ов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 от их национа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ав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по 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оцессуаль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распространяется на все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ников гражданского процес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зависимо от их национальн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граждан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F6D-A6CD-4243-A81E-71271FB0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00A-D425-4FBC-ABED-668EC058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833-679D-48C2-B7B2-DE6D6F83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E0B-23B0-4A9C-9EC2-D829800B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11CB-0578-4CF2-811F-BE420A88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D3D5-EA6D-46E9-BEA7-A518FDD7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8EC3-EF46-4247-9026-6C1E5A90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5267-B2B2-441B-B70F-CC94E35E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79D4-79BF-4B81-A781-4C45AD48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E4B9-BE26-4048-AE90-667F3C38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2FAD-75DF-48F8-8789-A844F0D7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312-5AB2-4F73-A024-1FFE9F14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288A-6731-4B28-B040-B991297E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6B0F-1C4A-4038-A64A-466AE4A8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D424-7CFF-4A2D-B28F-DD12097E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C799-812E-4876-9E88-9C496EA8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56E0-55D1-4B6F-AD6C-1B7BC5BE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56580-577C-4F9C-860F-83A9BC61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34000-5779-4D7C-8825-49E5943E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47F84-49C7-412D-A244-B5225BB6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B0B1F-BFBD-4A53-94D3-EA91552A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8A818-934F-49E0-8C23-DD6484D3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3F4-58AA-4D02-BF74-AE1D9C33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97C8-A734-4E8B-B7BA-BCF682EF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4EC55-2288-440C-9B69-42A2975B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CBB7-C412-4375-BD92-2640573A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F13E1-41BD-4F1B-8581-FAF57328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7096-85B2-447E-B943-80EAB815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FAD5C-611C-4A6F-A83F-10180E65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E5D96-DB5C-459E-A1BD-1B4086BD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3597E-C958-43F9-B616-885FC068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BA286-A528-4B72-AA6D-178A18BD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C9C73-3AA7-48B7-89D3-7BAE246E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804B-F985-4598-928B-9984FE91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FAA93-4538-453F-B97D-43981927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E41DF-7D91-4457-901A-C7643170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E717D-A298-410A-9BF6-A099DAB7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FBA7-3AF8-474F-9FB2-783CEB5C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928CE-B081-4D23-8938-A50BEBF4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D5CBF-A2B2-4E37-BCF4-72451E7D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0A74F-7D18-454E-A3CF-4704B369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8F14E-86D1-46FA-B48E-55B673E6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DABA1-924F-4489-A131-3182883F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5FB-D544-4AFD-B945-445E3CE3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16B-AA3D-42C1-B3E9-4D529941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F7E-3A80-4391-9D34-3DED7A55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370-229B-4917-B755-63DBE991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590-243C-401F-88ED-50FF7FCC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F35B-AA87-4F5B-9584-B1B68F90383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6940-8AAE-4CF8-B7F1-6A19590BBB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F79A-5EFD-4727-A09A-11586513681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A715-24E1-436A-A5B2-5DE78DDF6DC9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Гражданское процессуальное право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ча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7040" y="191736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539640" y="404640"/>
            <a:ext cx="8136000" cy="1130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755640" y="549360"/>
            <a:ext cx="756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гражданского судопроизводс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468360" y="2565360"/>
            <a:ext cx="21589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3492360" y="3357720"/>
            <a:ext cx="208764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6588000" y="2565360"/>
            <a:ext cx="20653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468360" y="4653000"/>
            <a:ext cx="3672000" cy="136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5148360" y="4724280"/>
            <a:ext cx="302400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3492360" y="2492280"/>
            <a:ext cx="20671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WordArt 17"/>
          <p:cNvSpPr txBox="1"/>
          <p:nvPr/>
        </p:nvSpPr>
        <p:spPr>
          <a:xfrm>
            <a:off x="611280" y="2852640"/>
            <a:ext cx="1873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каз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WordArt 18"/>
          <p:cNvSpPr txBox="1"/>
          <p:nvPr/>
        </p:nvSpPr>
        <p:spPr>
          <a:xfrm>
            <a:off x="3708360" y="2852640"/>
            <a:ext cx="16765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ов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6" name="WordArt 19"/>
          <p:cNvSpPr txBox="1"/>
          <p:nvPr/>
        </p:nvSpPr>
        <p:spPr>
          <a:xfrm>
            <a:off x="3708360" y="3716280"/>
            <a:ext cx="16574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оч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WordArt 20"/>
          <p:cNvSpPr txBox="1"/>
          <p:nvPr/>
        </p:nvSpPr>
        <p:spPr>
          <a:xfrm>
            <a:off x="6732720" y="2924280"/>
            <a:ext cx="16351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об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WordArt 21"/>
          <p:cNvSpPr txBox="1"/>
          <p:nvPr/>
        </p:nvSpPr>
        <p:spPr>
          <a:xfrm>
            <a:off x="5292720" y="5084640"/>
            <a:ext cx="2664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нитель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WordArt 22"/>
          <p:cNvSpPr txBox="1"/>
          <p:nvPr/>
        </p:nvSpPr>
        <p:spPr>
          <a:xfrm>
            <a:off x="611280" y="4941720"/>
            <a:ext cx="338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делам публично-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овых отношений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4572000" y="1557360"/>
            <a:ext cx="0" cy="4316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24"/>
          <p:cNvSpPr/>
          <p:nvPr/>
        </p:nvSpPr>
        <p:spPr>
          <a:xfrm>
            <a:off x="1476360" y="1989000"/>
            <a:ext cx="61912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25"/>
          <p:cNvSpPr/>
          <p:nvPr/>
        </p:nvSpPr>
        <p:spPr>
          <a:xfrm>
            <a:off x="1476360" y="1989000"/>
            <a:ext cx="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26"/>
          <p:cNvSpPr/>
          <p:nvPr/>
        </p:nvSpPr>
        <p:spPr>
          <a:xfrm>
            <a:off x="4572000" y="1989000"/>
            <a:ext cx="0" cy="432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27"/>
          <p:cNvSpPr/>
          <p:nvPr/>
        </p:nvSpPr>
        <p:spPr>
          <a:xfrm>
            <a:off x="7667640" y="1989000"/>
            <a:ext cx="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8"/>
          <p:cNvSpPr/>
          <p:nvPr/>
        </p:nvSpPr>
        <p:spPr>
          <a:xfrm>
            <a:off x="6227640" y="1989000"/>
            <a:ext cx="0" cy="2664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9"/>
          <p:cNvSpPr/>
          <p:nvPr/>
        </p:nvSpPr>
        <p:spPr>
          <a:xfrm>
            <a:off x="3059280" y="1989000"/>
            <a:ext cx="0" cy="2664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971640" y="333360"/>
            <a:ext cx="6913440" cy="100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WordArt 5"/>
          <p:cNvSpPr txBox="1"/>
          <p:nvPr/>
        </p:nvSpPr>
        <p:spPr>
          <a:xfrm>
            <a:off x="1619280" y="620640"/>
            <a:ext cx="56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дии гражданского судопроизводст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6300720" y="1557360"/>
            <a:ext cx="235440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буждение граждан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ла в су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6300720" y="2276640"/>
            <a:ext cx="235440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дготовка граждан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ла к судебном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бирательств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826920" y="2708280"/>
            <a:ext cx="48247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826920" y="3645000"/>
            <a:ext cx="48247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826920" y="4581360"/>
            <a:ext cx="4824720" cy="505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826920" y="5516640"/>
            <a:ext cx="48247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826920" y="1773360"/>
            <a:ext cx="48247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900000" y="1916280"/>
            <a:ext cx="4535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смотрение дел судами первой инстан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900000" y="278136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смотрение дел судами второй инстан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1258920" y="3860640"/>
            <a:ext cx="3960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смотр дел в порядке надзо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2" name="WordArt 17"/>
          <p:cNvSpPr txBox="1"/>
          <p:nvPr/>
        </p:nvSpPr>
        <p:spPr>
          <a:xfrm>
            <a:off x="1116000" y="4653000"/>
            <a:ext cx="4305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смотр дел по внов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вшимся обстоятельства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WordArt 18"/>
          <p:cNvSpPr txBox="1"/>
          <p:nvPr/>
        </p:nvSpPr>
        <p:spPr>
          <a:xfrm>
            <a:off x="1187280" y="5661000"/>
            <a:ext cx="3816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ьное производ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6300720" y="3284640"/>
            <a:ext cx="235440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бирательство дела п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ществ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6300720" y="4221000"/>
            <a:ext cx="23544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пелляцио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1"/>
          <p:cNvSpPr/>
          <p:nvPr/>
        </p:nvSpPr>
        <p:spPr>
          <a:xfrm flipH="1">
            <a:off x="468360" y="836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2"/>
          <p:cNvSpPr/>
          <p:nvPr/>
        </p:nvSpPr>
        <p:spPr>
          <a:xfrm>
            <a:off x="468360" y="836640"/>
            <a:ext cx="0" cy="489744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25"/>
          <p:cNvSpPr/>
          <p:nvPr/>
        </p:nvSpPr>
        <p:spPr>
          <a:xfrm>
            <a:off x="6300720" y="5084640"/>
            <a:ext cx="2354400" cy="6494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ссацио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31"/>
          <p:cNvSpPr/>
          <p:nvPr/>
        </p:nvSpPr>
        <p:spPr>
          <a:xfrm flipV="1">
            <a:off x="5651640" y="1988640"/>
            <a:ext cx="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32"/>
          <p:cNvSpPr/>
          <p:nvPr/>
        </p:nvSpPr>
        <p:spPr>
          <a:xfrm flipV="1">
            <a:off x="5651640" y="1844640"/>
            <a:ext cx="649080" cy="21600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5651640" y="2060640"/>
            <a:ext cx="649080" cy="5763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5651640" y="2060640"/>
            <a:ext cx="649080" cy="1655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36"/>
          <p:cNvSpPr/>
          <p:nvPr/>
        </p:nvSpPr>
        <p:spPr>
          <a:xfrm>
            <a:off x="5651640" y="2924280"/>
            <a:ext cx="649080" cy="15843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7"/>
          <p:cNvSpPr/>
          <p:nvPr/>
        </p:nvSpPr>
        <p:spPr>
          <a:xfrm>
            <a:off x="5651640" y="2924280"/>
            <a:ext cx="649080" cy="2520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9"/>
          <p:cNvSpPr/>
          <p:nvPr/>
        </p:nvSpPr>
        <p:spPr>
          <a:xfrm>
            <a:off x="468360" y="573408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40"/>
          <p:cNvSpPr/>
          <p:nvPr/>
        </p:nvSpPr>
        <p:spPr>
          <a:xfrm>
            <a:off x="468360" y="479736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41"/>
          <p:cNvSpPr/>
          <p:nvPr/>
        </p:nvSpPr>
        <p:spPr>
          <a:xfrm>
            <a:off x="468360" y="393372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2"/>
          <p:cNvSpPr/>
          <p:nvPr/>
        </p:nvSpPr>
        <p:spPr>
          <a:xfrm>
            <a:off x="468360" y="2924280"/>
            <a:ext cx="43164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43"/>
          <p:cNvSpPr/>
          <p:nvPr/>
        </p:nvSpPr>
        <p:spPr>
          <a:xfrm>
            <a:off x="468360" y="213372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755640" y="404640"/>
            <a:ext cx="748836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WordArt 6"/>
          <p:cNvSpPr txBox="1"/>
          <p:nvPr/>
        </p:nvSpPr>
        <p:spPr>
          <a:xfrm>
            <a:off x="1116000" y="62064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77d58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точники гражданского процессуального пра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77d58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468360" y="1773360"/>
            <a:ext cx="1942920" cy="865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дународ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говор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гла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2987640" y="1773360"/>
            <a:ext cx="158436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7093080" y="1773360"/>
            <a:ext cx="158256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деб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5076720" y="1773360"/>
            <a:ext cx="165600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зако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2916360" y="2781360"/>
            <a:ext cx="17269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ституция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076720" y="2781360"/>
            <a:ext cx="1656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каз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зид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3"/>
          <p:cNvSpPr/>
          <p:nvPr/>
        </p:nvSpPr>
        <p:spPr>
          <a:xfrm>
            <a:off x="7093080" y="2781360"/>
            <a:ext cx="15825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енума В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468360" y="2781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судеб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е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5076720" y="3573360"/>
            <a:ext cx="1656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витель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2916360" y="3573360"/>
            <a:ext cx="1726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468360" y="3573360"/>
            <a:ext cx="1942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судеб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е РФ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468360" y="4653000"/>
            <a:ext cx="1942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олов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19"/>
          <p:cNvSpPr/>
          <p:nvPr/>
        </p:nvSpPr>
        <p:spPr>
          <a:xfrm>
            <a:off x="2916360" y="4653000"/>
            <a:ext cx="1726920" cy="720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5076720" y="4508640"/>
            <a:ext cx="165600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логов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7164360" y="4508640"/>
            <a:ext cx="15112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удов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2"/>
          <p:cNvSpPr/>
          <p:nvPr/>
        </p:nvSpPr>
        <p:spPr>
          <a:xfrm>
            <a:off x="7093080" y="3573360"/>
            <a:ext cx="15825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АП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468360" y="5805360"/>
            <a:ext cx="1942920" cy="719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мировы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удьях в РФ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24"/>
          <p:cNvSpPr/>
          <p:nvPr/>
        </p:nvSpPr>
        <p:spPr>
          <a:xfrm>
            <a:off x="2916360" y="5734080"/>
            <a:ext cx="151128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судеб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ставах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25"/>
          <p:cNvSpPr/>
          <p:nvPr/>
        </p:nvSpPr>
        <p:spPr>
          <a:xfrm>
            <a:off x="4716360" y="5734080"/>
            <a:ext cx="216072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б исполнительн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изводств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7164360" y="5734080"/>
            <a:ext cx="151128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лищ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27"/>
          <p:cNvSpPr/>
          <p:nvPr/>
        </p:nvSpPr>
        <p:spPr>
          <a:xfrm>
            <a:off x="4500720" y="1268280"/>
            <a:ext cx="0" cy="289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4500720" y="1557360"/>
            <a:ext cx="33112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29"/>
          <p:cNvSpPr/>
          <p:nvPr/>
        </p:nvSpPr>
        <p:spPr>
          <a:xfrm flipH="1">
            <a:off x="1403280" y="1557360"/>
            <a:ext cx="309744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30"/>
          <p:cNvSpPr/>
          <p:nvPr/>
        </p:nvSpPr>
        <p:spPr>
          <a:xfrm>
            <a:off x="140328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31"/>
          <p:cNvSpPr/>
          <p:nvPr/>
        </p:nvSpPr>
        <p:spPr>
          <a:xfrm>
            <a:off x="378000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86728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781200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2626920" y="2133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6732720" y="213372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39"/>
          <p:cNvSpPr/>
          <p:nvPr/>
        </p:nvSpPr>
        <p:spPr>
          <a:xfrm>
            <a:off x="7812000" y="2565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40"/>
          <p:cNvSpPr/>
          <p:nvPr/>
        </p:nvSpPr>
        <p:spPr>
          <a:xfrm>
            <a:off x="6877080" y="2133720"/>
            <a:ext cx="0" cy="1726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42"/>
          <p:cNvSpPr/>
          <p:nvPr/>
        </p:nvSpPr>
        <p:spPr>
          <a:xfrm flipH="1">
            <a:off x="6732360" y="3068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2627280" y="2133720"/>
            <a:ext cx="0" cy="3959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46"/>
          <p:cNvSpPr/>
          <p:nvPr/>
        </p:nvSpPr>
        <p:spPr>
          <a:xfrm>
            <a:off x="2627280" y="609300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47"/>
          <p:cNvSpPr/>
          <p:nvPr/>
        </p:nvSpPr>
        <p:spPr>
          <a:xfrm flipH="1">
            <a:off x="2411280" y="609300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48"/>
          <p:cNvSpPr/>
          <p:nvPr/>
        </p:nvSpPr>
        <p:spPr>
          <a:xfrm flipH="1">
            <a:off x="2411280" y="508464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49"/>
          <p:cNvSpPr/>
          <p:nvPr/>
        </p:nvSpPr>
        <p:spPr>
          <a:xfrm>
            <a:off x="2627280" y="306864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50"/>
          <p:cNvSpPr/>
          <p:nvPr/>
        </p:nvSpPr>
        <p:spPr>
          <a:xfrm flipH="1">
            <a:off x="2411280" y="306864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51"/>
          <p:cNvSpPr/>
          <p:nvPr/>
        </p:nvSpPr>
        <p:spPr>
          <a:xfrm flipH="1">
            <a:off x="2411280" y="400536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52"/>
          <p:cNvSpPr/>
          <p:nvPr/>
        </p:nvSpPr>
        <p:spPr>
          <a:xfrm>
            <a:off x="2627280" y="400536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3"/>
          <p:cNvSpPr/>
          <p:nvPr/>
        </p:nvSpPr>
        <p:spPr>
          <a:xfrm flipV="1">
            <a:off x="5867280" y="5157360"/>
            <a:ext cx="0" cy="3589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4"/>
          <p:cNvSpPr/>
          <p:nvPr/>
        </p:nvSpPr>
        <p:spPr>
          <a:xfrm>
            <a:off x="5867280" y="5516640"/>
            <a:ext cx="0" cy="2174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55"/>
          <p:cNvSpPr/>
          <p:nvPr/>
        </p:nvSpPr>
        <p:spPr>
          <a:xfrm flipV="1">
            <a:off x="7956720" y="5157360"/>
            <a:ext cx="0" cy="3589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6"/>
          <p:cNvSpPr/>
          <p:nvPr/>
        </p:nvSpPr>
        <p:spPr>
          <a:xfrm>
            <a:off x="7956720" y="5516640"/>
            <a:ext cx="0" cy="2174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57"/>
          <p:cNvSpPr/>
          <p:nvPr/>
        </p:nvSpPr>
        <p:spPr>
          <a:xfrm flipH="1">
            <a:off x="6732360" y="3860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58"/>
          <p:cNvSpPr/>
          <p:nvPr/>
        </p:nvSpPr>
        <p:spPr>
          <a:xfrm>
            <a:off x="4572000" y="2133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9"/>
          <p:cNvSpPr/>
          <p:nvPr/>
        </p:nvSpPr>
        <p:spPr>
          <a:xfrm>
            <a:off x="4788000" y="2133720"/>
            <a:ext cx="0" cy="3382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60"/>
          <p:cNvSpPr/>
          <p:nvPr/>
        </p:nvSpPr>
        <p:spPr>
          <a:xfrm>
            <a:off x="4788000" y="5516640"/>
            <a:ext cx="31687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63"/>
          <p:cNvSpPr/>
          <p:nvPr/>
        </p:nvSpPr>
        <p:spPr>
          <a:xfrm flipV="1">
            <a:off x="7885080" y="407664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65"/>
          <p:cNvSpPr/>
          <p:nvPr/>
        </p:nvSpPr>
        <p:spPr>
          <a:xfrm flipH="1">
            <a:off x="4787640" y="4292640"/>
            <a:ext cx="30970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66"/>
          <p:cNvSpPr/>
          <p:nvPr/>
        </p:nvSpPr>
        <p:spPr>
          <a:xfrm>
            <a:off x="2627280" y="501336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1835280" y="404640"/>
            <a:ext cx="51130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395280" y="2205000"/>
            <a:ext cx="237636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3203640" y="2205000"/>
            <a:ext cx="237636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ростран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5940360" y="2205000"/>
            <a:ext cx="27352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кругу ли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468360" y="3716280"/>
            <a:ext cx="223200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йствие гражданск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ых н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пределяется времене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х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3203640" y="3716280"/>
            <a:ext cx="237636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йствие граждан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ых н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спространяется на вс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рриторию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5940360" y="3716280"/>
            <a:ext cx="273528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ражданские процессуаль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ормы регулируют отнош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иц, участвующих в данн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ом действ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284720" y="1341360"/>
            <a:ext cx="0" cy="4320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15"/>
          <p:cNvSpPr/>
          <p:nvPr/>
        </p:nvSpPr>
        <p:spPr>
          <a:xfrm>
            <a:off x="1476360" y="1773360"/>
            <a:ext cx="590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6"/>
          <p:cNvSpPr/>
          <p:nvPr/>
        </p:nvSpPr>
        <p:spPr>
          <a:xfrm>
            <a:off x="428472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17"/>
          <p:cNvSpPr/>
          <p:nvPr/>
        </p:nvSpPr>
        <p:spPr>
          <a:xfrm>
            <a:off x="7308720" y="177336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18"/>
          <p:cNvSpPr/>
          <p:nvPr/>
        </p:nvSpPr>
        <p:spPr>
          <a:xfrm>
            <a:off x="738036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9"/>
          <p:cNvSpPr/>
          <p:nvPr/>
        </p:nvSpPr>
        <p:spPr>
          <a:xfrm>
            <a:off x="147636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20"/>
          <p:cNvSpPr/>
          <p:nvPr/>
        </p:nvSpPr>
        <p:spPr>
          <a:xfrm>
            <a:off x="147636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21"/>
          <p:cNvSpPr/>
          <p:nvPr/>
        </p:nvSpPr>
        <p:spPr>
          <a:xfrm>
            <a:off x="428472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22"/>
          <p:cNvSpPr/>
          <p:nvPr/>
        </p:nvSpPr>
        <p:spPr>
          <a:xfrm>
            <a:off x="738036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нципы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гражданского процессуального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а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136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468360" y="404640"/>
            <a:ext cx="82072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лассифик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нципов гражданского процессуального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2195640" y="1700280"/>
            <a:ext cx="51847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нормативному источни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тором закреплен принци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468360" y="3141720"/>
            <a:ext cx="3816360" cy="574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итуционные принци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5076720" y="3141720"/>
            <a:ext cx="3598920" cy="574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раслевые принци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4932360" y="4221000"/>
            <a:ext cx="3887640" cy="230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смотрение дела коллег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и единоличн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смотрение дел на националь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диспозитив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непосредствен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непрерыв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250920" y="4221000"/>
            <a:ext cx="4176720" cy="230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ществление правосудия п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им делам только суд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независимость судей и подчи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х только закон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гласность судебного разбиратель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авноправие перед законом и суд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остязатель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авноправие стор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11"/>
          <p:cNvSpPr/>
          <p:nvPr/>
        </p:nvSpPr>
        <p:spPr>
          <a:xfrm>
            <a:off x="4643280" y="1341360"/>
            <a:ext cx="0" cy="3589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3"/>
          <p:cNvSpPr/>
          <p:nvPr/>
        </p:nvSpPr>
        <p:spPr>
          <a:xfrm>
            <a:off x="4643280" y="2637000"/>
            <a:ext cx="201636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4"/>
          <p:cNvSpPr/>
          <p:nvPr/>
        </p:nvSpPr>
        <p:spPr>
          <a:xfrm flipH="1">
            <a:off x="2411280" y="2637000"/>
            <a:ext cx="223200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1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6877080" y="3716280"/>
            <a:ext cx="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осуществления правосудия только судом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Принцип независимости судей и подчинение их только закону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удьи независимы и подчиняются только Конституции РФ и федеральному закону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мешательство в деятельность суда преследуется по закону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Гласность судебного разбирательства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ешение суда объявляются публично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равноправия перед законом и судом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цессуальное положение субъектов определяется только процессуальным закон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ма 1. Гражданское процессуальное право: понятие, предмет, метод и система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Черты гражданского процесса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юридическая урегулированность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универсальность процессуальной формы рассмотрения и разрешения дел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строгое соблюдение процессуальной формы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состязатель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равноправия сторон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рассмотрение дела коллегиально или единолично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а в апелляционной инстанции единолично (ч.3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рассмотрение дел на национальном языке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диспозитив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непосредствен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удьи, разрешающие дело, обязаны лично воспринимать собранные доказательств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ешение по делу основывается на исследованных в судебном заседании доказательств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непрерыв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седание проводиться непрерывно за исключением времени отдых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цессуальные срок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роцессуальные сроки установлены статьями 107-112  и рядом других статей ГПК РФ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Виды процессуальных сроков: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роки для суд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Могут быть установлены только закон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 рассмотрения дел в суде первой инстанции подразделяются на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общи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сокращённы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600"/>
            </a:b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4. Система гражданского процессуального права подразделяется на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бщую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собенную 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част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бщей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собенной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части относятся нормы ГПК РФ, регулирующие различные стадии гражданского процесса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5.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Цель гражданского судопроизводства – 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защита нарушенных или оспариваемых прав, свобод, законных интересов субъектов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7560" y="429840"/>
            <a:ext cx="79581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окращённый срок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ля некоторых категорий дел установлен сокращённый срок их рассмотрени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3635280" y="260280"/>
            <a:ext cx="2210040" cy="6858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истем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ю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идических нау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635280" y="1341360"/>
            <a:ext cx="223200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траслевые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16720" y="1341360"/>
            <a:ext cx="194292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кладные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68360" y="1341360"/>
            <a:ext cx="2519280" cy="649440"/>
          </a:xfrm>
          <a:prstGeom prst="flowChartProcess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Историко-теорет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3635280" y="220500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итуцио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68360" y="2205000"/>
            <a:ext cx="25192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ория государ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516720" y="220500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али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3635280" y="2997360"/>
            <a:ext cx="223200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468360" y="2997360"/>
            <a:ext cx="25192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6516720" y="2997360"/>
            <a:ext cx="19429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468360" y="3789360"/>
            <a:ext cx="25192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государства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а зарубежных стр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3635280" y="458136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уаль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6516720" y="3789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деб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диц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3635280" y="378936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6516720" y="4581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рид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сих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1"/>
          <p:cNvSpPr/>
          <p:nvPr/>
        </p:nvSpPr>
        <p:spPr>
          <a:xfrm>
            <a:off x="3635280" y="537372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голов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468360" y="4581360"/>
            <a:ext cx="2448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полит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овых уч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23"/>
          <p:cNvSpPr/>
          <p:nvPr/>
        </p:nvSpPr>
        <p:spPr>
          <a:xfrm>
            <a:off x="4716360" y="98100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24"/>
          <p:cNvSpPr/>
          <p:nvPr/>
        </p:nvSpPr>
        <p:spPr>
          <a:xfrm>
            <a:off x="1619280" y="1125360"/>
            <a:ext cx="5905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1619280" y="112536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7524720" y="112536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7"/>
          <p:cNvSpPr/>
          <p:nvPr/>
        </p:nvSpPr>
        <p:spPr>
          <a:xfrm>
            <a:off x="6516720" y="537372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и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9"/>
          <p:cNvSpPr/>
          <p:nvPr/>
        </p:nvSpPr>
        <p:spPr>
          <a:xfrm flipH="1">
            <a:off x="3419280" y="17002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3419640" y="1700280"/>
            <a:ext cx="0" cy="4033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31"/>
          <p:cNvSpPr/>
          <p:nvPr/>
        </p:nvSpPr>
        <p:spPr>
          <a:xfrm>
            <a:off x="3419640" y="57340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32"/>
          <p:cNvSpPr/>
          <p:nvPr/>
        </p:nvSpPr>
        <p:spPr>
          <a:xfrm>
            <a:off x="3419640" y="4869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33"/>
          <p:cNvSpPr/>
          <p:nvPr/>
        </p:nvSpPr>
        <p:spPr>
          <a:xfrm>
            <a:off x="3419640" y="4076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34"/>
          <p:cNvSpPr/>
          <p:nvPr/>
        </p:nvSpPr>
        <p:spPr>
          <a:xfrm>
            <a:off x="3419640" y="3284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35"/>
          <p:cNvSpPr/>
          <p:nvPr/>
        </p:nvSpPr>
        <p:spPr>
          <a:xfrm>
            <a:off x="3419640" y="2421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6"/>
          <p:cNvSpPr/>
          <p:nvPr/>
        </p:nvSpPr>
        <p:spPr>
          <a:xfrm flipH="1">
            <a:off x="250920" y="1628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7"/>
          <p:cNvSpPr/>
          <p:nvPr/>
        </p:nvSpPr>
        <p:spPr>
          <a:xfrm>
            <a:off x="250920" y="1628640"/>
            <a:ext cx="0" cy="3313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8"/>
          <p:cNvSpPr/>
          <p:nvPr/>
        </p:nvSpPr>
        <p:spPr>
          <a:xfrm flipH="1">
            <a:off x="250560" y="4941720"/>
            <a:ext cx="7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9"/>
          <p:cNvSpPr/>
          <p:nvPr/>
        </p:nvSpPr>
        <p:spPr>
          <a:xfrm>
            <a:off x="250920" y="494172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40"/>
          <p:cNvSpPr/>
          <p:nvPr/>
        </p:nvSpPr>
        <p:spPr>
          <a:xfrm>
            <a:off x="250920" y="4076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41"/>
          <p:cNvSpPr/>
          <p:nvPr/>
        </p:nvSpPr>
        <p:spPr>
          <a:xfrm>
            <a:off x="250920" y="3284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3"/>
          <p:cNvSpPr/>
          <p:nvPr/>
        </p:nvSpPr>
        <p:spPr>
          <a:xfrm>
            <a:off x="250920" y="242100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44"/>
          <p:cNvSpPr/>
          <p:nvPr/>
        </p:nvSpPr>
        <p:spPr>
          <a:xfrm>
            <a:off x="8459640" y="170028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45"/>
          <p:cNvSpPr/>
          <p:nvPr/>
        </p:nvSpPr>
        <p:spPr>
          <a:xfrm>
            <a:off x="8675640" y="1700280"/>
            <a:ext cx="0" cy="396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46"/>
          <p:cNvSpPr/>
          <p:nvPr/>
        </p:nvSpPr>
        <p:spPr>
          <a:xfrm flipH="1">
            <a:off x="8459640" y="566100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47"/>
          <p:cNvSpPr/>
          <p:nvPr/>
        </p:nvSpPr>
        <p:spPr>
          <a:xfrm>
            <a:off x="8459640" y="486900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48"/>
          <p:cNvSpPr/>
          <p:nvPr/>
        </p:nvSpPr>
        <p:spPr>
          <a:xfrm>
            <a:off x="8459640" y="4076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49"/>
          <p:cNvSpPr/>
          <p:nvPr/>
        </p:nvSpPr>
        <p:spPr>
          <a:xfrm>
            <a:off x="8459640" y="3284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50"/>
          <p:cNvSpPr/>
          <p:nvPr/>
        </p:nvSpPr>
        <p:spPr>
          <a:xfrm>
            <a:off x="8459640" y="249228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51"/>
          <p:cNvSpPr/>
          <p:nvPr/>
        </p:nvSpPr>
        <p:spPr>
          <a:xfrm>
            <a:off x="468360" y="5373720"/>
            <a:ext cx="2448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голов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уаль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52"/>
          <p:cNvSpPr/>
          <p:nvPr/>
        </p:nvSpPr>
        <p:spPr>
          <a:xfrm>
            <a:off x="3635280" y="6165720"/>
            <a:ext cx="2232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логическ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3"/>
          <p:cNvSpPr/>
          <p:nvPr/>
        </p:nvSpPr>
        <p:spPr>
          <a:xfrm>
            <a:off x="468360" y="6165720"/>
            <a:ext cx="2448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ов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54"/>
          <p:cNvSpPr/>
          <p:nvPr/>
        </p:nvSpPr>
        <p:spPr>
          <a:xfrm>
            <a:off x="3419640" y="573408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55"/>
          <p:cNvSpPr/>
          <p:nvPr/>
        </p:nvSpPr>
        <p:spPr>
          <a:xfrm flipH="1">
            <a:off x="2916000" y="6453360"/>
            <a:ext cx="718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403280" y="333360"/>
            <a:ext cx="6769080" cy="1274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Задачи гражданского судопроизвод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971640" y="1916280"/>
            <a:ext cx="777708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ьное рассмотрение и разрешение 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971640" y="2781360"/>
            <a:ext cx="77770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евременное рассмотрение и разрешение 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971640" y="3645000"/>
            <a:ext cx="77770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щита прав, законных интересов субъе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971640" y="5300640"/>
            <a:ext cx="77770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репление законности и правопоря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971640" y="4508640"/>
            <a:ext cx="77770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упреждение правонару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26"/>
          <p:cNvSpPr/>
          <p:nvPr/>
        </p:nvSpPr>
        <p:spPr>
          <a:xfrm>
            <a:off x="971640" y="6093000"/>
            <a:ext cx="77770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уважения к закону и с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7"/>
          <p:cNvSpPr/>
          <p:nvPr/>
        </p:nvSpPr>
        <p:spPr>
          <a:xfrm>
            <a:off x="468360" y="836640"/>
            <a:ext cx="0" cy="54720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8"/>
          <p:cNvSpPr/>
          <p:nvPr/>
        </p:nvSpPr>
        <p:spPr>
          <a:xfrm>
            <a:off x="468360" y="836640"/>
            <a:ext cx="93492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9"/>
          <p:cNvSpPr/>
          <p:nvPr/>
        </p:nvSpPr>
        <p:spPr>
          <a:xfrm>
            <a:off x="468360" y="2276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30"/>
          <p:cNvSpPr/>
          <p:nvPr/>
        </p:nvSpPr>
        <p:spPr>
          <a:xfrm>
            <a:off x="468360" y="3068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31"/>
          <p:cNvSpPr/>
          <p:nvPr/>
        </p:nvSpPr>
        <p:spPr>
          <a:xfrm>
            <a:off x="468360" y="393372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32"/>
          <p:cNvSpPr/>
          <p:nvPr/>
        </p:nvSpPr>
        <p:spPr>
          <a:xfrm>
            <a:off x="468360" y="479736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33"/>
          <p:cNvSpPr/>
          <p:nvPr/>
        </p:nvSpPr>
        <p:spPr>
          <a:xfrm>
            <a:off x="468360" y="558972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34"/>
          <p:cNvSpPr/>
          <p:nvPr/>
        </p:nvSpPr>
        <p:spPr>
          <a:xfrm>
            <a:off x="468360" y="6308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00000" y="765000"/>
            <a:ext cx="7559640" cy="12020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елы действия норм гражданск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цессуального п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468360" y="3284640"/>
            <a:ext cx="257004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3564000" y="3284640"/>
            <a:ext cx="223200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ран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6300720" y="3284640"/>
            <a:ext cx="237492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гу л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4500720" y="2492280"/>
            <a:ext cx="30240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 flipH="1">
            <a:off x="1835280" y="2492280"/>
            <a:ext cx="26654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183528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752472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478800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20"/>
          <p:cNvSpPr/>
          <p:nvPr/>
        </p:nvSpPr>
        <p:spPr>
          <a:xfrm flipV="1">
            <a:off x="4788000" y="1989000"/>
            <a:ext cx="0" cy="503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Rectangle 24"/>
          <p:cNvSpPr/>
          <p:nvPr/>
        </p:nvSpPr>
        <p:spPr>
          <a:xfrm>
            <a:off x="468360" y="333360"/>
            <a:ext cx="8207280" cy="1655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бщее правило действия гражданск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оцессуальных норм во врем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468360" y="2708280"/>
            <a:ext cx="8207280" cy="338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Гражданское судопроизводство ведётся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соответствии с  федеральными законам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действующими во время рассмотр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и разрешения гражданского дела, соверш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определённых процессуальных действ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8"/>
          <p:cNvSpPr/>
          <p:nvPr/>
        </p:nvSpPr>
        <p:spPr>
          <a:xfrm>
            <a:off x="4356000" y="198900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1042920" y="836640"/>
            <a:ext cx="6985080" cy="13460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ействие гражданско-правов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орм  в пространств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611280" y="3141720"/>
            <a:ext cx="7705800" cy="2448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всей территории Российск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дерации действуют нор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ажданского процессуаль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онодательства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4284720" y="2205000"/>
            <a:ext cx="0" cy="7923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1332000" y="620640"/>
            <a:ext cx="6697440" cy="1584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ействие гражданско-правов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орм по кругу ли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539640" y="2708280"/>
            <a:ext cx="8136000" cy="30258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йствие гражданско-процессуаль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рм распространяется на все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ников гражданского проце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зависимо от их националь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гражд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6"/>
          <p:cNvSpPr/>
          <p:nvPr/>
        </p:nvSpPr>
        <p:spPr>
          <a:xfrm>
            <a:off x="4572000" y="2205000"/>
            <a:ext cx="0" cy="5032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9:00:21Z</dcterms:created>
  <dc:creator>HOME</dc:creator>
  <dc:description/>
  <dc:language>en-US</dc:language>
  <cp:lastModifiedBy>LEGION</cp:lastModifiedBy>
  <dcterms:modified xsi:type="dcterms:W3CDTF">2016-01-04T08:07:08Z</dcterms:modified>
  <cp:revision>27</cp:revision>
  <dc:subject/>
  <dc:title>Гражданское процессуальное право</dc:title>
</cp:coreProperties>
</file>