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4E23-3750-4F27-A86E-6833AB4900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ч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елам публич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оч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елам публич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 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к судеб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в порядке надз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по внов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елля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с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ждение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в су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готовка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к судебном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в порядке надзо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по внов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 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елля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сса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нума 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уд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АП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мир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х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ав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 исполните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времен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яется на вс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ю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 регулируют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, участвующих в да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м действ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яется времене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име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яется на вс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рриторию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ы регулируют отно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, участвующих в дан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м действ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тивному источни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закреплен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коллеги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диноли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на национа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е правосудия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делам только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зависимость судей и подчи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только зако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тяз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коллегиа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ли единоличн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на национа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зык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существление правосудия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м делам только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зависимость судей и подчин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только закон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стязатель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стор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объявляются публ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суда объявляются публич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граждан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ая урегулиров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ты гражданского процесс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юридическая урегулирова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стяза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состяза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стор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с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процессуальных сроков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для с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для с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ён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ённый ср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о-теоре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зарубежных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овых у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их нау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ко-теоре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госуда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ал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 зарубежных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политиче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овых уч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логиче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 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й территории Россий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ции действуют н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го процессу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 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всей территории Российск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ции действуют норм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го процессуа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дательства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распространяется на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ов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их национа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распространяется на все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ов гражданского проце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 от их националь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граждан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109-02A7-4554-81E1-BFD92299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FDB-B5C6-4A10-81CD-97668114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66E-ED03-4767-BED7-5DE06CBB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C58-99CB-4DB2-AF70-F7845762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2624-9988-41D9-85D0-0340041E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71E3-67D8-4ECF-9942-47FCA875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D2D3-F81F-4D0F-A5D8-E2E4773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F17E-83E3-48C9-95F2-DE6E9A4C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C164-C717-4078-8AA0-6C39D3B2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23AA-69A2-4C1A-9A49-341A3C54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F17F-BF9E-4FAC-B5D1-E49300E9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78A-325A-4F25-9C29-EF1CD0F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8DF6-7220-4667-A397-32A2A29B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9BAA-3E8F-4F9F-97EB-6929A43D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8099-F662-4063-AA9D-BBDBAAF2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7B81-AF3A-4258-BCB2-3F7426A1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7FCB-B14C-427D-8A8F-7385F7AC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011F-C27C-404F-9165-7A344898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58E1-E5C9-412E-B90C-4DEAE3C8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D597-F5FC-4152-994C-2B02AC0C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114E-1B79-47BE-98FE-455088D8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E4E6-1B9F-4D6E-9079-920D8C36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A64-07BF-4318-9C5B-10C2EFEA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617F-D57B-446E-9D34-02F205D5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CB7ED-BF07-4BF8-A834-EA2FAD8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1CDE-C712-43BA-9974-E3B9D54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0D23-3504-46EC-9F03-78763821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F31D-ABA9-489B-B231-9EEDA138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71E8-EDF3-487C-8D36-EAF9752A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B498-3D16-462B-B239-7EB7A1AA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A0AE-B36F-46CC-B3F2-0CC7DFAC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6E06-A07A-4BEC-A5D5-58D15DDD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7176-8D27-4969-B72F-7D6FEB23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8CC-B41F-4B8D-98FE-808C598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EDE99-CD70-438E-86D2-A20256DD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58E9D-79C7-42F0-9DB6-4EE057E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7CB7-2E2E-4F45-A64C-DF82F5BC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5D93B-9BBC-4502-B680-525F5CF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25DF-87A0-4900-BFF0-BC4FA4C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E7636-E42B-42EC-9A45-CAEA3FEC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1D72D-E37D-43C2-82E9-FBB12B42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9EF8A-CA59-4981-A1F0-AE2DADD5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2CE6-4F00-4D22-92DC-1EE9A935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542-129A-41AD-91ED-CE382B19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B16-7BFF-4FE2-B8A6-3BC4D941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28D-46A8-4D47-9D96-3225A05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07F-C2E4-4BD8-BBF9-B058963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CE5-F898-4BD8-B10F-1B6A0CCE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A2DD-C5B9-4572-8E07-5EE3B29E953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7C7E-24E5-4B35-AE03-1E56FBD2F3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C02-73D4-4536-8749-9C98EBABD53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BA1-2FA7-41E6-95EE-A1436FC366CC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Гражданское процессуальное пра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7040" y="191736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539640" y="404640"/>
            <a:ext cx="8136000" cy="1130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75564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гражданского судопроизвод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468360" y="2565360"/>
            <a:ext cx="21589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3492360" y="3357720"/>
            <a:ext cx="208764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6588000" y="2565360"/>
            <a:ext cx="20653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468360" y="4653000"/>
            <a:ext cx="367200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5148360" y="4724280"/>
            <a:ext cx="302400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492360" y="2492280"/>
            <a:ext cx="20671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WordArt 17"/>
          <p:cNvSpPr txBox="1"/>
          <p:nvPr/>
        </p:nvSpPr>
        <p:spPr>
          <a:xfrm>
            <a:off x="611280" y="2852640"/>
            <a:ext cx="1873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каз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WordArt 18"/>
          <p:cNvSpPr txBox="1"/>
          <p:nvPr/>
        </p:nvSpPr>
        <p:spPr>
          <a:xfrm>
            <a:off x="3708360" y="2852640"/>
            <a:ext cx="16765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ов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19"/>
          <p:cNvSpPr txBox="1"/>
          <p:nvPr/>
        </p:nvSpPr>
        <p:spPr>
          <a:xfrm>
            <a:off x="3708360" y="3716280"/>
            <a:ext cx="1657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оч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WordArt 20"/>
          <p:cNvSpPr txBox="1"/>
          <p:nvPr/>
        </p:nvSpPr>
        <p:spPr>
          <a:xfrm>
            <a:off x="6732720" y="2924280"/>
            <a:ext cx="16351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WordArt 21"/>
          <p:cNvSpPr txBox="1"/>
          <p:nvPr/>
        </p:nvSpPr>
        <p:spPr>
          <a:xfrm>
            <a:off x="5292720" y="5084640"/>
            <a:ext cx="266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нитель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WordArt 22"/>
          <p:cNvSpPr txBox="1"/>
          <p:nvPr/>
        </p:nvSpPr>
        <p:spPr>
          <a:xfrm>
            <a:off x="611280" y="4941720"/>
            <a:ext cx="338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делам публично-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вых отношений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4572000" y="1557360"/>
            <a:ext cx="0" cy="431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24"/>
          <p:cNvSpPr/>
          <p:nvPr/>
        </p:nvSpPr>
        <p:spPr>
          <a:xfrm>
            <a:off x="1476360" y="1989000"/>
            <a:ext cx="6191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25"/>
          <p:cNvSpPr/>
          <p:nvPr/>
        </p:nvSpPr>
        <p:spPr>
          <a:xfrm>
            <a:off x="147636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4572000" y="1989000"/>
            <a:ext cx="0" cy="432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27"/>
          <p:cNvSpPr/>
          <p:nvPr/>
        </p:nvSpPr>
        <p:spPr>
          <a:xfrm>
            <a:off x="766764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8"/>
          <p:cNvSpPr/>
          <p:nvPr/>
        </p:nvSpPr>
        <p:spPr>
          <a:xfrm>
            <a:off x="622764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9"/>
          <p:cNvSpPr/>
          <p:nvPr/>
        </p:nvSpPr>
        <p:spPr>
          <a:xfrm>
            <a:off x="305928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971640" y="333360"/>
            <a:ext cx="69134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1619280" y="62064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дии гражданского судопроизвод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6300720" y="1557360"/>
            <a:ext cx="23544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буждение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в су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300720" y="2276640"/>
            <a:ext cx="23544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ка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к судебн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826920" y="270828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826920" y="364500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826920" y="4581360"/>
            <a:ext cx="4824720" cy="50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826920" y="551664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826920" y="177336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900000" y="1916280"/>
            <a:ext cx="453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перв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900000" y="278136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втор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1258920" y="3860640"/>
            <a:ext cx="396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в порядке надзо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WordArt 17"/>
          <p:cNvSpPr txBox="1"/>
          <p:nvPr/>
        </p:nvSpPr>
        <p:spPr>
          <a:xfrm>
            <a:off x="1116000" y="4653000"/>
            <a:ext cx="4305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по внов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вшимся обстоятельства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WordArt 18"/>
          <p:cNvSpPr txBox="1"/>
          <p:nvPr/>
        </p:nvSpPr>
        <p:spPr>
          <a:xfrm>
            <a:off x="1187280" y="5661000"/>
            <a:ext cx="381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ьное производ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6300720" y="3284640"/>
            <a:ext cx="23544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о дела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ще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6300720" y="4221000"/>
            <a:ext cx="23544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пелля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468360" y="83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468360" y="836640"/>
            <a:ext cx="0" cy="489744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6300720" y="5084640"/>
            <a:ext cx="2354400" cy="6494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сса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5651640" y="198864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32"/>
          <p:cNvSpPr/>
          <p:nvPr/>
        </p:nvSpPr>
        <p:spPr>
          <a:xfrm flipV="1">
            <a:off x="5651640" y="1844640"/>
            <a:ext cx="649080" cy="216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5651640" y="2060640"/>
            <a:ext cx="649080" cy="576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5651640" y="2060640"/>
            <a:ext cx="649080" cy="1655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5651640" y="2924280"/>
            <a:ext cx="649080" cy="1584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>
            <a:off x="5651640" y="2924280"/>
            <a:ext cx="649080" cy="2520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9"/>
          <p:cNvSpPr/>
          <p:nvPr/>
        </p:nvSpPr>
        <p:spPr>
          <a:xfrm>
            <a:off x="468360" y="573408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>
            <a:off x="468360" y="479736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41"/>
          <p:cNvSpPr/>
          <p:nvPr/>
        </p:nvSpPr>
        <p:spPr>
          <a:xfrm>
            <a:off x="468360" y="39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2"/>
          <p:cNvSpPr/>
          <p:nvPr/>
        </p:nvSpPr>
        <p:spPr>
          <a:xfrm>
            <a:off x="468360" y="2924280"/>
            <a:ext cx="43164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43"/>
          <p:cNvSpPr/>
          <p:nvPr/>
        </p:nvSpPr>
        <p:spPr>
          <a:xfrm>
            <a:off x="468360" y="21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55640" y="404640"/>
            <a:ext cx="748836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6"/>
          <p:cNvSpPr txBox="1"/>
          <p:nvPr/>
        </p:nvSpPr>
        <p:spPr>
          <a:xfrm>
            <a:off x="1116000" y="62064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77d58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и гражданского процессуального пра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77d58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68360" y="1773360"/>
            <a:ext cx="1942920" cy="86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987640" y="1773360"/>
            <a:ext cx="15843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7093080" y="1773360"/>
            <a:ext cx="15825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5076720" y="1773360"/>
            <a:ext cx="16560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2916360" y="2781360"/>
            <a:ext cx="17269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076720" y="2781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7093080" y="2781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68360" y="27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5076720" y="3573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916360" y="3573360"/>
            <a:ext cx="1726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468360" y="357336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468360" y="465300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2916360" y="4653000"/>
            <a:ext cx="172692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076720" y="4508640"/>
            <a:ext cx="1656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7164360" y="4508640"/>
            <a:ext cx="15112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7093080" y="3573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468360" y="5805360"/>
            <a:ext cx="1942920" cy="719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2916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716360" y="5734080"/>
            <a:ext cx="216072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7164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7"/>
          <p:cNvSpPr/>
          <p:nvPr/>
        </p:nvSpPr>
        <p:spPr>
          <a:xfrm>
            <a:off x="4500720" y="1268280"/>
            <a:ext cx="0" cy="28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4500720" y="1557360"/>
            <a:ext cx="3311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9"/>
          <p:cNvSpPr/>
          <p:nvPr/>
        </p:nvSpPr>
        <p:spPr>
          <a:xfrm flipH="1">
            <a:off x="1403280" y="1557360"/>
            <a:ext cx="30974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0"/>
          <p:cNvSpPr/>
          <p:nvPr/>
        </p:nvSpPr>
        <p:spPr>
          <a:xfrm>
            <a:off x="1403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1"/>
          <p:cNvSpPr/>
          <p:nvPr/>
        </p:nvSpPr>
        <p:spPr>
          <a:xfrm>
            <a:off x="3780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867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7812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2626920" y="21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6732720" y="2133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39"/>
          <p:cNvSpPr/>
          <p:nvPr/>
        </p:nvSpPr>
        <p:spPr>
          <a:xfrm>
            <a:off x="7812000" y="2565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40"/>
          <p:cNvSpPr/>
          <p:nvPr/>
        </p:nvSpPr>
        <p:spPr>
          <a:xfrm>
            <a:off x="6877080" y="2133720"/>
            <a:ext cx="0" cy="1726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2"/>
          <p:cNvSpPr/>
          <p:nvPr/>
        </p:nvSpPr>
        <p:spPr>
          <a:xfrm flipH="1">
            <a:off x="6732360" y="3068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2627280" y="2133720"/>
            <a:ext cx="0" cy="3959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6"/>
          <p:cNvSpPr/>
          <p:nvPr/>
        </p:nvSpPr>
        <p:spPr>
          <a:xfrm>
            <a:off x="2627280" y="609300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47"/>
          <p:cNvSpPr/>
          <p:nvPr/>
        </p:nvSpPr>
        <p:spPr>
          <a:xfrm flipH="1">
            <a:off x="2411280" y="609300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 flipH="1">
            <a:off x="2411280" y="5084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9"/>
          <p:cNvSpPr/>
          <p:nvPr/>
        </p:nvSpPr>
        <p:spPr>
          <a:xfrm>
            <a:off x="2627280" y="306864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50"/>
          <p:cNvSpPr/>
          <p:nvPr/>
        </p:nvSpPr>
        <p:spPr>
          <a:xfrm flipH="1">
            <a:off x="2411280" y="3068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51"/>
          <p:cNvSpPr/>
          <p:nvPr/>
        </p:nvSpPr>
        <p:spPr>
          <a:xfrm flipH="1">
            <a:off x="2411280" y="400536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52"/>
          <p:cNvSpPr/>
          <p:nvPr/>
        </p:nvSpPr>
        <p:spPr>
          <a:xfrm>
            <a:off x="2627280" y="4005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3"/>
          <p:cNvSpPr/>
          <p:nvPr/>
        </p:nvSpPr>
        <p:spPr>
          <a:xfrm flipV="1">
            <a:off x="586728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4"/>
          <p:cNvSpPr/>
          <p:nvPr/>
        </p:nvSpPr>
        <p:spPr>
          <a:xfrm>
            <a:off x="586728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5"/>
          <p:cNvSpPr/>
          <p:nvPr/>
        </p:nvSpPr>
        <p:spPr>
          <a:xfrm flipV="1">
            <a:off x="795672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6"/>
          <p:cNvSpPr/>
          <p:nvPr/>
        </p:nvSpPr>
        <p:spPr>
          <a:xfrm>
            <a:off x="795672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7"/>
          <p:cNvSpPr/>
          <p:nvPr/>
        </p:nvSpPr>
        <p:spPr>
          <a:xfrm flipH="1">
            <a:off x="6732360" y="3860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58"/>
          <p:cNvSpPr/>
          <p:nvPr/>
        </p:nvSpPr>
        <p:spPr>
          <a:xfrm>
            <a:off x="4572000" y="213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9"/>
          <p:cNvSpPr/>
          <p:nvPr/>
        </p:nvSpPr>
        <p:spPr>
          <a:xfrm>
            <a:off x="4788000" y="2133720"/>
            <a:ext cx="0" cy="3382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60"/>
          <p:cNvSpPr/>
          <p:nvPr/>
        </p:nvSpPr>
        <p:spPr>
          <a:xfrm>
            <a:off x="4788000" y="5516640"/>
            <a:ext cx="3168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63"/>
          <p:cNvSpPr/>
          <p:nvPr/>
        </p:nvSpPr>
        <p:spPr>
          <a:xfrm flipV="1">
            <a:off x="7885080" y="407664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65"/>
          <p:cNvSpPr/>
          <p:nvPr/>
        </p:nvSpPr>
        <p:spPr>
          <a:xfrm flipH="1">
            <a:off x="4787640" y="4292640"/>
            <a:ext cx="30970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66"/>
          <p:cNvSpPr/>
          <p:nvPr/>
        </p:nvSpPr>
        <p:spPr>
          <a:xfrm>
            <a:off x="2627280" y="5013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835280" y="404640"/>
            <a:ext cx="51130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9528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364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940360" y="2205000"/>
            <a:ext cx="2735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468360" y="3716280"/>
            <a:ext cx="223200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ределяется времен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х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203640" y="3716280"/>
            <a:ext cx="237636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ространяется на вс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риторию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940360" y="3716280"/>
            <a:ext cx="273528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ажданские процессу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рмы регулируют отнош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, участвующих в дан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ом действ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284720" y="1341360"/>
            <a:ext cx="0" cy="43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1476360" y="1773360"/>
            <a:ext cx="590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6"/>
          <p:cNvSpPr/>
          <p:nvPr/>
        </p:nvSpPr>
        <p:spPr>
          <a:xfrm>
            <a:off x="428472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7"/>
          <p:cNvSpPr/>
          <p:nvPr/>
        </p:nvSpPr>
        <p:spPr>
          <a:xfrm>
            <a:off x="7308720" y="1773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8"/>
          <p:cNvSpPr/>
          <p:nvPr/>
        </p:nvSpPr>
        <p:spPr>
          <a:xfrm>
            <a:off x="7380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9"/>
          <p:cNvSpPr/>
          <p:nvPr/>
        </p:nvSpPr>
        <p:spPr>
          <a:xfrm>
            <a:off x="1476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20"/>
          <p:cNvSpPr/>
          <p:nvPr/>
        </p:nvSpPr>
        <p:spPr>
          <a:xfrm>
            <a:off x="1476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21"/>
          <p:cNvSpPr/>
          <p:nvPr/>
        </p:nvSpPr>
        <p:spPr>
          <a:xfrm>
            <a:off x="428472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22"/>
          <p:cNvSpPr/>
          <p:nvPr/>
        </p:nvSpPr>
        <p:spPr>
          <a:xfrm>
            <a:off x="7380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нципы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гражданского процессуальног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13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68360" y="404640"/>
            <a:ext cx="8207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лассифик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2195640" y="1700280"/>
            <a:ext cx="51847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468360" y="3141720"/>
            <a:ext cx="381636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076720" y="3141720"/>
            <a:ext cx="359892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4932360" y="4221000"/>
            <a:ext cx="388764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а коллег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единолич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 на националь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диспозитив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осредств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реры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250920" y="4221000"/>
            <a:ext cx="417672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ление правосудия 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им делам только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независимость судей и подчи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х только зако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гласность судебного разбиратель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перед законом и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стяза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стор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4643280" y="1341360"/>
            <a:ext cx="0" cy="358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>
            <a:off x="4643280" y="2637000"/>
            <a:ext cx="201636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 flipH="1">
            <a:off x="2411280" y="2637000"/>
            <a:ext cx="223200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687708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осуществления правосудия только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инцип независимости судей и подчинение их только закону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ьи независимы и подчиняются только Конституции РФ и федеральному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мешательство в деятельность суда преследуется по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ешение суда объявляются публично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равноправия перед законом и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цессуальное положение субъектов определяется только процессуальным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ма 1. Гражданское процессуальное право: понятие, предмет, метод и система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Черты гражданского процесса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юридическая урегулированность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универсальность процессуальной формы рассмотрения и разрешения дел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строгое соблюдение процессуальной формы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состязатель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равноправия сторон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а коллегиально или единолично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апелляционной инстанции единолично (ч.3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 на национальном языке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диспозити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осредствен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ьи, разрешающие дело, обязаны лично воспринимать собранные доказательств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ешение по делу основывается на исследованных в судебном заседании доказательств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реры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седание проводиться непрерывно за исключением времени отдых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цессуальные срок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роцессуальные сроки установлены статьями 107-112  и рядом других статей ГПК РФ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иды процессуальных сроков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роки для су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огут быть установлены только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 рассмотрения дел в суде первой инстанции подразделяются на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общ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сокращённы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600"/>
            </a:b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4. Система гражданского процессуального права подразделяется на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ую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ую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част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е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о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регулирующие различные стадии гражданского процесс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5.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Цель гражданского судопроизводства –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защита нарушенных или оспариваемых прав, свобод, законных интересов субъектов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7560" y="429840"/>
            <a:ext cx="795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окращённый ср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ля некоторых категорий дел установлен сокращённый срок их рассмотрени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635280" y="260280"/>
            <a:ext cx="2210040" cy="6858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исте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ю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дических нау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635280" y="1341360"/>
            <a:ext cx="2232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траслев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16720" y="1341360"/>
            <a:ext cx="194292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кладн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68360" y="1341360"/>
            <a:ext cx="2519280" cy="649440"/>
          </a:xfrm>
          <a:prstGeom prst="flowChartProcess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Историко-теоре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635280" y="220500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68360" y="220500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ория государ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16720" y="220500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ал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3635280" y="2997360"/>
            <a:ext cx="223200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468360" y="2997360"/>
            <a:ext cx="25192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516720" y="2997360"/>
            <a:ext cx="19429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8360" y="378936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а зарубежных ст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635280" y="4581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6516720" y="3789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иц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635280" y="3789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6516720" y="45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ид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сих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3635280" y="537372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468360" y="458136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поли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овых у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4716360" y="981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1619280" y="1125360"/>
            <a:ext cx="590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161928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752472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6516720" y="537372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9"/>
          <p:cNvSpPr/>
          <p:nvPr/>
        </p:nvSpPr>
        <p:spPr>
          <a:xfrm flipH="1">
            <a:off x="3419280" y="1700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3419640" y="1700280"/>
            <a:ext cx="0" cy="40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3419640" y="57340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3419640" y="4076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>
            <a:off x="3419640" y="3284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3419640" y="2421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 flipH="1">
            <a:off x="250920" y="1628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250920" y="1628640"/>
            <a:ext cx="0" cy="33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 flipH="1">
            <a:off x="250560" y="4941720"/>
            <a:ext cx="7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250920" y="494172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>
            <a:off x="250920" y="4076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>
            <a:off x="250920" y="3284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3"/>
          <p:cNvSpPr/>
          <p:nvPr/>
        </p:nvSpPr>
        <p:spPr>
          <a:xfrm>
            <a:off x="250920" y="242100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4"/>
          <p:cNvSpPr/>
          <p:nvPr/>
        </p:nvSpPr>
        <p:spPr>
          <a:xfrm>
            <a:off x="8459640" y="1700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45"/>
          <p:cNvSpPr/>
          <p:nvPr/>
        </p:nvSpPr>
        <p:spPr>
          <a:xfrm>
            <a:off x="8675640" y="1700280"/>
            <a:ext cx="0" cy="396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46"/>
          <p:cNvSpPr/>
          <p:nvPr/>
        </p:nvSpPr>
        <p:spPr>
          <a:xfrm flipH="1">
            <a:off x="8459640" y="5661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7"/>
          <p:cNvSpPr/>
          <p:nvPr/>
        </p:nvSpPr>
        <p:spPr>
          <a:xfrm>
            <a:off x="8459640" y="4869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8"/>
          <p:cNvSpPr/>
          <p:nvPr/>
        </p:nvSpPr>
        <p:spPr>
          <a:xfrm>
            <a:off x="8459640" y="4076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9"/>
          <p:cNvSpPr/>
          <p:nvPr/>
        </p:nvSpPr>
        <p:spPr>
          <a:xfrm>
            <a:off x="8459640" y="3284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>
            <a:off x="8459640" y="2492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468360" y="537372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2"/>
          <p:cNvSpPr/>
          <p:nvPr/>
        </p:nvSpPr>
        <p:spPr>
          <a:xfrm>
            <a:off x="3635280" y="6165720"/>
            <a:ext cx="2232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логиче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3"/>
          <p:cNvSpPr/>
          <p:nvPr/>
        </p:nvSpPr>
        <p:spPr>
          <a:xfrm>
            <a:off x="468360" y="6165720"/>
            <a:ext cx="2448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54"/>
          <p:cNvSpPr/>
          <p:nvPr/>
        </p:nvSpPr>
        <p:spPr>
          <a:xfrm>
            <a:off x="3419640" y="573408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55"/>
          <p:cNvSpPr/>
          <p:nvPr/>
        </p:nvSpPr>
        <p:spPr>
          <a:xfrm flipH="1">
            <a:off x="2916000" y="645336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403280" y="333360"/>
            <a:ext cx="6769080" cy="1274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Задачи гражданского судопроизво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971640" y="1916280"/>
            <a:ext cx="777708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ь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971640" y="278136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евремен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971640" y="364500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щита прав, законных интересов су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971640" y="5300640"/>
            <a:ext cx="77770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епление законности и правопо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1640" y="450864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ение правонару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1640" y="609300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важения к закону и с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468360" y="836640"/>
            <a:ext cx="0" cy="547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468360" y="836640"/>
            <a:ext cx="9349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468360" y="227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468360" y="306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468360" y="3933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468360" y="479736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468360" y="5589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468360" y="630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00000" y="765000"/>
            <a:ext cx="7559640" cy="1202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елы действия норм граждан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цессуального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68360" y="3284640"/>
            <a:ext cx="257004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564000" y="3284640"/>
            <a:ext cx="223200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6300720" y="3284640"/>
            <a:ext cx="237492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500720" y="2492280"/>
            <a:ext cx="3024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1835280" y="2492280"/>
            <a:ext cx="2665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83528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752472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478800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4788000" y="1989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68360" y="333360"/>
            <a:ext cx="8207280" cy="1655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бщее правило действия гражданск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цессуальных норм в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68360" y="2708280"/>
            <a:ext cx="8207280" cy="338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Гражданское судопроизводство ведётся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соответствии с  федеральными законам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действующими во время рассмотр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и разрешения гражданского дела, соверш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определённых процессуальных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4356000" y="198900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42920" y="836640"/>
            <a:ext cx="6985080" cy="1346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 в пространств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611280" y="3141720"/>
            <a:ext cx="7705800" cy="2448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сей территории Россий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ции действуют нор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жданского процессуа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онодательства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284720" y="220500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332000" y="620640"/>
            <a:ext cx="6697440" cy="1584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по кругу ли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539640" y="2708280"/>
            <a:ext cx="8136000" cy="302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гражданско-процессуа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 распространяется на все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ников граждан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зависимо от их национа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гражд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9:00:21Z</dcterms:created>
  <dc:creator>HOME</dc:creator>
  <dc:description/>
  <dc:language>en-US</dc:language>
  <cp:lastModifiedBy>LEGION</cp:lastModifiedBy>
  <dcterms:modified xsi:type="dcterms:W3CDTF">2016-01-04T08:07:08Z</dcterms:modified>
  <cp:revision>27</cp:revision>
  <dc:subject/>
  <dc:title>Гражданское процессуальное право</dc:title>
</cp:coreProperties>
</file>