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92C-2DA6-4805-9B88-7324873FA1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. Факторы влияющие на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ая эластичность спроса –показывает степень количественного изменения величины спроса под влиянием  изменения цены, дохода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носительное изменение объема спроса под влиянием изменения цены на 1 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овой эластичности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спрос (E Pd &gt; 1): цена изменяется меньше, чем изменяется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 (E Pd &lt;1): цена изменяется больше, чем изменяется величина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ая эластичность спроса (E Pd =1): цена и величина спроса изменятся одинако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эластичный спрос (E Pd =∞): цена постоянна – величина спроса меня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но неэластичный спрос (E Pd =0): цена меняется – спрос постоян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варам с эластичным спросом обычно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роскоши (ковры, драгоценности, деликатес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ощутима для семейного бюджета (мебель, телевизор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заменяемые товары (отдельные виды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с неэластичным спросом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первой необходимости (лекарства, обувь, электричество, телефон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заменяемые товары (электрические лампочки, бензин, клавиатура и т. 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 или неэластичны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автомобили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ные отбивные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ск в Европе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улин в одной из четырех аптек большого торгового центра__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день после увеличения его цены на 20%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нзин, покупаемый через год после увеличения его цены на 20%____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?_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линейной функции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аксимум выруч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g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&lt;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диничная эластичность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 – это зависимость между количеством товара, который покупатели хотят и могут купить, и ценами на этот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спроса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 =&gt;∞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бсолютно неэластичный спрос (Е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d=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величины спроса от уровня цены называется шкал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demand – "спрос") называется кривой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точек кривой отображает зависимость величины спроса от уровня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величина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 объясняется действием эффектов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при росте цены на благо покупатель старается заменить его другим схожим благ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при росте цены реальный доход потребителя снижается, то есть на свой доход он уже может купить меньше бл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спрос зависит от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фактор: изменение цены ведет к изменению величины спроса, что графически изображается движением вдоль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 ведут к изменению спроса, что графически изображается сдвигом кривой спрос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1      Q         Q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ЗМЕНЕНИЯ СПР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ите каждое изменение спроса из Части I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вкус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доходов потреб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числа потребителей на рын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товара-замените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 Изменение цены дополняющего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EFA-E222-4F67-AE52-31B8D31B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C87-55ED-4F51-94A3-D9E7AA0A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7AF-A28A-4CBD-AB82-B9060756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F91-2720-4444-8A73-7DB16295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1B2E-9643-4CFE-A546-3B9164D2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924E-4C5F-4906-91B0-D9F6455B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320F-F6CC-4A0B-8192-CC70329C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03D0-8956-4ACB-B499-6A7830BA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7391-F94C-416D-B609-81400E41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D76-BDB1-4461-8A2E-DC7C0C8A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B098-3431-45D8-AF7E-123AD03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0AB-3AF1-42B8-98D4-5BABBD02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037-7018-4118-A6B3-49DA691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10C-50EA-4D1E-A8A4-54396D5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C70-2B01-4969-BA2C-5739C416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ABFA-D438-490D-9EB7-BCCE619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57E-51F3-4DFF-B2A0-8F5253EB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A18B-2241-4460-BB5E-8CE61FCF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7C2C-3DE4-4E25-B478-B6A4369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C717-C5D2-42B0-A1D0-CD1F151D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5DD9-55C7-4DFA-9D4C-546A1A81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E4F0-E631-46EE-B98E-95D655CE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BF6-13A4-4A2C-AB7B-6855137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EA42-4515-4914-B8E1-33290C50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AB90-6134-41F4-9821-C53B4A8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779B-90DB-4CC5-BDA9-E2D536F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98AD-CFFF-4A5E-8610-78D7F9E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6798-E4A3-422C-8539-E035619C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83A9-EBAB-4E2F-A5F5-AD429F2A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167A-8A98-465E-9206-0FE60857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CE12-3385-4AAA-9C64-8DCBA510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6C7D-C647-403E-9A44-B691B00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AF87-A486-4ECA-98FF-4BACF1AC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D20-FFD7-48AD-9B1A-446EC144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5C08-BF47-4607-9689-8BED9AE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041A1-E85F-4966-8046-A68468C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2D6C-0E58-4D76-9E2F-65A027A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74F7-A80C-47CA-96EA-BC8F59D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4CE6D-D1A4-4A48-9830-1A77C1D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899A-FB92-4387-B2DD-5489E20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151A-29E4-4472-AE8C-D09C5855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628D-F9F3-45A7-B9F8-B8C7C6FE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10BA-83C9-47D1-AE37-D720A470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6FB-54FF-45CB-AA4E-BA29278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9B1-64B8-4EAD-96CC-EEA026CE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F17-749D-4886-A5EB-E2C0A04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55C-2E72-4886-91AA-8D54B79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1CF-7B29-4B8A-ADA8-BC1695F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BB5-2E1F-43C5-A70C-7A28FB88A37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39E-267D-47B4-8CFD-F6DDB7AD34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366D-C521-44AF-8594-5A9324C0FFD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BF3B-C633-42C8-A9D5-D118E6F722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874C-2915-4DC9-982F-1C243BD127E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D764-9840-49D2-9EAA-CC5A53A0F39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6C46-77A3-41EF-B07D-6BC43C4ED9A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54E-90B9-4F9F-9A07-22ADD19EFC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19280" y="1073160"/>
            <a:ext cx="7364160" cy="370692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28440" y="40003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alibri"/>
              </a:rPr>
              <a:t>Ценовая эластичность спроса </a:t>
            </a:r>
            <a:r>
              <a:rPr b="0" lang="ru-RU" sz="3600" spc="-1" strike="noStrike">
                <a:solidFill>
                  <a:srgbClr val="3333cc"/>
                </a:solidFill>
                <a:latin typeface="Calibri"/>
              </a:rPr>
              <a:t>–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зывает степень количественного изменения величины спроса под влиянием  изменения цены, дохода. 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носительное изменение объема спроса под влиянием изменения цены на 1 %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857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чечная эластично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714240" y="1285920"/>
                <a:ext cx="721836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1000080" y="3571920"/>
                <a:ext cx="4281480" cy="27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говая эластичность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"/>
              <p:cNvSpPr txBox="1"/>
              <p:nvPr/>
            </p:nvSpPr>
            <p:spPr>
              <a:xfrm>
                <a:off x="714240" y="1357200"/>
                <a:ext cx="735804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000080" y="3857760"/>
                <a:ext cx="4281480" cy="27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-эластичность  спроса  по  цене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ая  цена;</m:t>
                        </m:r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ая  цен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ервоначальный  объем  спроса;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онечный  объем  спрос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иды ценовой эластичности спрос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685800" y="1052640"/>
            <a:ext cx="817236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ластичный спрос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gt; 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изменяется меньше, чем изменяется величина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еэластичный спро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&lt;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зменяется больше, чем изменяется величи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Единичная эластичность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цена и величина спроса изменятся одинак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постоянна – величина спроса меня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вершенно неэластичный спрос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nstantia"/>
              </a:rPr>
              <a:t>d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на меняется – спрос постоя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53"/>
          <p:cNvSpPr/>
          <p:nvPr/>
        </p:nvSpPr>
        <p:spPr>
          <a:xfrm>
            <a:off x="571680" y="116676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товарам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ычно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роскоши (ковры, драгоценности, деликатес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ощутима для семейного бюджета (мебель, телевизор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гкозаменяемые товары (отдельные виды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 с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эластичным спросо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клю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меты первой необходимости (лекарства, обувь, электричество, телефон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вары, стоимость которых незначительна для семейного бюджета (карандаш, зубная щет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уднозаменяемые товары (электрические лампочки, бензин, клавиатура и т. 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285840" y="173520"/>
            <a:ext cx="87152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астичный или неэластичный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ние: Определите, эластичен или нет спрос по цене на перечисленные ниже продукты. Запишите свой ответ рядом с названием продукта. Объясните причины своего от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ь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вые автомобили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иные отбивные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пуск в Европе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в одной из четырех аптек большого торгового центра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день после увеличения его цены на 20%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н, покупаемый через год после увеличения его цены на 20%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му?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3"/>
          <p:cNvGraphicFramePr/>
          <p:nvPr/>
        </p:nvGraphicFramePr>
        <p:xfrm>
          <a:off x="214200" y="571680"/>
          <a:ext cx="864072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1680"/>
                    <a:ext cx="864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Эластичность линейной функции спроса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и максимум выручки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Эластичный спрос (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8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8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&gt;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1)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500120" y="2428920"/>
            <a:ext cx="586116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эластичный спрос 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5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&lt;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6586560" cy="3771720"/>
          </a:xfrm>
          <a:prstGeom prst="rect">
            <a:avLst/>
          </a:prstGeom>
          <a:ln w="0">
            <a:noFill/>
          </a:ln>
        </p:spPr>
      </p:pic>
      <p:sp>
        <p:nvSpPr>
          <p:cNvPr id="310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Единичная эластичность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1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7594560" cy="4479840"/>
          </a:xfrm>
          <a:prstGeom prst="rect">
            <a:avLst/>
          </a:prstGeom>
          <a:ln w="0">
            <a:noFill/>
          </a:ln>
        </p:spPr>
      </p:pic>
      <p:sp>
        <p:nvSpPr>
          <p:cNvPr id="314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000080" y="1071720"/>
            <a:ext cx="7215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зависимость между количеством товара, который покупатели хотят и могут купить, и ценами на этот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1071720" y="357192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еличина спрос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– это количество товара (услуг), которое покупатели готовы купить по данной цене в определенное время и в определен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69613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=&gt;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∞)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962680" cy="335304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4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Абсолютно неэластичный спрос (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Е</a:t>
            </a:r>
            <a:r>
              <a:rPr b="0" lang="en-US" sz="4000" spc="-1" strike="noStrike" baseline="30000">
                <a:solidFill>
                  <a:srgbClr val="04617b"/>
                </a:solidFill>
                <a:latin typeface="Calibri"/>
              </a:rPr>
              <a:t>p</a:t>
            </a:r>
            <a:r>
              <a:rPr b="0" lang="en-US" sz="4000" spc="-1" strike="noStrike" baseline="-25000">
                <a:solidFill>
                  <a:srgbClr val="04617b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=0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364080" cy="3697200"/>
          </a:xfrm>
          <a:prstGeom prst="rect">
            <a:avLst/>
          </a:prstGeom>
          <a:ln w="0">
            <a:noFill/>
          </a:ln>
        </p:spPr>
      </p:pic>
      <p:sp>
        <p:nvSpPr>
          <p:cNvPr id="322" name="Управляющая кнопка: назад 5"/>
          <p:cNvSpPr/>
          <p:nvPr/>
        </p:nvSpPr>
        <p:spPr>
          <a:xfrm>
            <a:off x="8501040" y="6286680"/>
            <a:ext cx="285840" cy="21420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3" y="3794"/>
                </a:lnTo>
                <a:lnTo>
                  <a:pt x="2141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висимость величины спроса от уровня цены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шкал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14680" y="2286000"/>
          <a:ext cx="5405400" cy="2225520"/>
        </p:xfrm>
        <a:graphic>
          <a:graphicData uri="http://schemas.openxmlformats.org/drawingml/2006/table">
            <a:tbl>
              <a:tblPr/>
              <a:tblGrid>
                <a:gridCol w="2703240"/>
                <a:gridCol w="2702160"/>
              </a:tblGrid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Установленную зависимость между ценой и величиной спроса можно изобразить и в виде графика. Полученная на графике кривая DD (от англ.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demand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 – "спрос") называется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кривой спрос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Program Files\Образовательные комплексы\Экономика, 9-11 кл. Практикум\edu_ep\data\res\res19507240-3846-493E-A055-48393A3F50E6"/>
          <p:cNvPicPr/>
          <p:nvPr/>
        </p:nvPicPr>
        <p:blipFill>
          <a:blip r:embed="rId1"/>
          <a:stretch/>
        </p:blipFill>
        <p:spPr>
          <a:xfrm>
            <a:off x="3643200" y="2214720"/>
            <a:ext cx="504828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28760" y="2500200"/>
            <a:ext cx="2714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ая из точек кривой отображает зависимость величины спроса от уровня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кон спро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1600200"/>
            <a:ext cx="8472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aw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f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emand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ыше величина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иже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6"/>
          <p:cNvSpPr/>
          <p:nvPr/>
        </p:nvSpPr>
        <p:spPr>
          <a:xfrm rot="1528200">
            <a:off x="2936520" y="3648240"/>
            <a:ext cx="1087560" cy="285480"/>
          </a:xfrm>
          <a:prstGeom prst="rightArrow">
            <a:avLst>
              <a:gd name="adj1" fmla="val 50000"/>
              <a:gd name="adj2" fmla="val 5005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7"/>
          <p:cNvSpPr/>
          <p:nvPr/>
        </p:nvSpPr>
        <p:spPr>
          <a:xfrm rot="20366400">
            <a:off x="3008160" y="4862520"/>
            <a:ext cx="1087560" cy="285840"/>
          </a:xfrm>
          <a:prstGeom prst="rightArrow">
            <a:avLst>
              <a:gd name="adj1" fmla="val 50000"/>
              <a:gd name="adj2" fmla="val 49991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1760" y="692280"/>
            <a:ext cx="79311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ъясняется действием 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эффектов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42960" y="1071720"/>
            <a:ext cx="78580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замещения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на благо покупатель старается заменить его другим схожим бла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onstantia"/>
              </a:rPr>
              <a:t>Эффект доход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при росте цены реальный доход потребителя снижается, то есть на свой доход он уже может купить меньше бла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50004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й спрос зависит от фактор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Ценовой фактор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: изменение цены ведет к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зменению величины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вижением вдоль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Неценовые факторы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едут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к изменению спроса,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графически изображается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двигом кривой спрос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99"/>
              </a:spcBef>
              <a:buClr>
                <a:srgbClr val="009d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214200"/>
          <a:ext cx="8429400" cy="6291360"/>
        </p:xfrm>
        <a:graphic>
          <a:graphicData uri="http://schemas.openxmlformats.org/drawingml/2006/table">
            <a:tbl>
              <a:tblPr/>
              <a:tblGrid>
                <a:gridCol w="3786120"/>
                <a:gridCol w="46432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личина с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, е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14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ется количество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доходы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цены товаров, связанных с данны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меняющих данны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полняющих дан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зменяются вкусы и предпочтения покуп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жидаются изменения в доходах покупателей или в ценах товаров и услу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43"/>
          <p:cNvGrpSpPr/>
          <p:nvPr/>
        </p:nvGrpSpPr>
        <p:grpSpPr>
          <a:xfrm>
            <a:off x="5060880" y="3950640"/>
            <a:ext cx="2805480" cy="1967760"/>
            <a:chOff x="5060880" y="3950640"/>
            <a:chExt cx="2805480" cy="1967760"/>
          </a:xfrm>
        </p:grpSpPr>
        <p:grpSp>
          <p:nvGrpSpPr>
            <p:cNvPr id="227" name="Группа 43"/>
            <p:cNvGrpSpPr/>
            <p:nvPr/>
          </p:nvGrpSpPr>
          <p:grpSpPr>
            <a:xfrm>
              <a:off x="5060880" y="3950640"/>
              <a:ext cx="2805480" cy="1967760"/>
              <a:chOff x="5060880" y="3950640"/>
              <a:chExt cx="2805480" cy="1967760"/>
            </a:xfrm>
          </p:grpSpPr>
          <p:sp>
            <p:nvSpPr>
              <p:cNvPr id="228" name="Прямая соединительная линия 30"/>
              <p:cNvSpPr/>
              <p:nvPr/>
            </p:nvSpPr>
            <p:spPr>
              <a:xfrm>
                <a:off x="5610960" y="4044960"/>
                <a:ext cx="1870200" cy="163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Группа 46"/>
              <p:cNvGrpSpPr/>
              <p:nvPr/>
            </p:nvGrpSpPr>
            <p:grpSpPr>
              <a:xfrm>
                <a:off x="5060880" y="3950640"/>
                <a:ext cx="2805480" cy="1967760"/>
                <a:chOff x="5060880" y="3950640"/>
                <a:chExt cx="2805480" cy="1967760"/>
              </a:xfrm>
            </p:grpSpPr>
            <p:grpSp>
              <p:nvGrpSpPr>
                <p:cNvPr id="230" name="Группа 47"/>
                <p:cNvGrpSpPr/>
                <p:nvPr/>
              </p:nvGrpSpPr>
              <p:grpSpPr>
                <a:xfrm>
                  <a:off x="5060880" y="3950640"/>
                  <a:ext cx="2805480" cy="1967760"/>
                  <a:chOff x="5060880" y="3950640"/>
                  <a:chExt cx="2805480" cy="1967760"/>
                </a:xfrm>
              </p:grpSpPr>
              <p:cxnSp>
                <p:nvCxnSpPr>
                  <p:cNvPr id="231" name="Прямая со стрелкой 34"/>
                  <p:cNvCxnSpPr/>
                  <p:nvPr/>
                </p:nvCxnSpPr>
                <p:spPr>
                  <a:xfrm flipV="1">
                    <a:off x="5060880" y="3950640"/>
                    <a:ext cx="2160" cy="19674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232" name="Прямая со стрелкой 35"/>
                  <p:cNvCxnSpPr/>
                  <p:nvPr/>
                </p:nvCxnSpPr>
                <p:spPr>
                  <a:xfrm>
                    <a:off x="5060880" y="5916600"/>
                    <a:ext cx="2805840" cy="21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</p:grpSp>
            <p:sp>
              <p:nvSpPr>
                <p:cNvPr id="233" name="Прямая соединительная линия 33"/>
                <p:cNvSpPr/>
                <p:nvPr/>
              </p:nvSpPr>
              <p:spPr>
                <a:xfrm flipV="1">
                  <a:off x="5071680" y="5071680"/>
                  <a:ext cx="2357640" cy="1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Прямая соединительная линия 29"/>
            <p:cNvSpPr/>
            <p:nvPr/>
          </p:nvSpPr>
          <p:spPr>
            <a:xfrm>
              <a:off x="6215040" y="5072040"/>
              <a:ext cx="17280" cy="84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5"/>
          <p:cNvSpPr/>
          <p:nvPr/>
        </p:nvSpPr>
        <p:spPr>
          <a:xfrm>
            <a:off x="4786200" y="38577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1"/>
          <p:cNvSpPr/>
          <p:nvPr/>
        </p:nvSpPr>
        <p:spPr>
          <a:xfrm>
            <a:off x="7766640" y="5964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9"/>
          <p:cNvSpPr/>
          <p:nvPr/>
        </p:nvSpPr>
        <p:spPr>
          <a:xfrm>
            <a:off x="6215040" y="4000680"/>
            <a:ext cx="1785960" cy="1571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>
            <a:off x="5072040" y="4143240"/>
            <a:ext cx="1785960" cy="15004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50"/>
          <p:cNvSpPr/>
          <p:nvPr/>
        </p:nvSpPr>
        <p:spPr>
          <a:xfrm>
            <a:off x="6786720" y="5072040"/>
            <a:ext cx="0" cy="85896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60"/>
          <p:cNvSpPr/>
          <p:nvPr/>
        </p:nvSpPr>
        <p:spPr>
          <a:xfrm flipH="1">
            <a:off x="7429680" y="5073480"/>
            <a:ext cx="1440" cy="857520"/>
          </a:xfrm>
          <a:prstGeom prst="line">
            <a:avLst/>
          </a:prstGeom>
          <a:ln w="9360">
            <a:solidFill>
              <a:srgbClr val="065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62"/>
          <p:cNvCxnSpPr/>
          <p:nvPr/>
        </p:nvCxnSpPr>
        <p:spPr>
          <a:xfrm>
            <a:off x="6286320" y="4642920"/>
            <a:ext cx="6433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64"/>
          <p:cNvCxnSpPr/>
          <p:nvPr/>
        </p:nvCxnSpPr>
        <p:spPr>
          <a:xfrm flipH="1" flipV="1">
            <a:off x="5571720" y="457164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TextBox 65"/>
          <p:cNvSpPr/>
          <p:nvPr/>
        </p:nvSpPr>
        <p:spPr>
          <a:xfrm>
            <a:off x="6286680" y="42148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6"/>
          <p:cNvSpPr/>
          <p:nvPr/>
        </p:nvSpPr>
        <p:spPr>
          <a:xfrm>
            <a:off x="5643720" y="40719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7"/>
          <p:cNvSpPr/>
          <p:nvPr/>
        </p:nvSpPr>
        <p:spPr>
          <a:xfrm>
            <a:off x="5342760" y="41432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8"/>
          <p:cNvSpPr/>
          <p:nvPr/>
        </p:nvSpPr>
        <p:spPr>
          <a:xfrm>
            <a:off x="5991120" y="40719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9"/>
          <p:cNvSpPr/>
          <p:nvPr/>
        </p:nvSpPr>
        <p:spPr>
          <a:xfrm>
            <a:off x="6557040" y="40719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0"/>
          <p:cNvSpPr/>
          <p:nvPr/>
        </p:nvSpPr>
        <p:spPr>
          <a:xfrm>
            <a:off x="4707000" y="4929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1"/>
          <p:cNvSpPr/>
          <p:nvPr/>
        </p:nvSpPr>
        <p:spPr>
          <a:xfrm>
            <a:off x="5993280" y="5929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1      Q        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72"/>
          <p:cNvGrpSpPr/>
          <p:nvPr/>
        </p:nvGrpSpPr>
        <p:grpSpPr>
          <a:xfrm>
            <a:off x="708480" y="3786120"/>
            <a:ext cx="3206160" cy="2826360"/>
            <a:chOff x="708480" y="3786120"/>
            <a:chExt cx="3206160" cy="2826360"/>
          </a:xfrm>
        </p:grpSpPr>
        <p:grpSp>
          <p:nvGrpSpPr>
            <p:cNvPr id="251" name="Группа 51"/>
            <p:cNvGrpSpPr/>
            <p:nvPr/>
          </p:nvGrpSpPr>
          <p:grpSpPr>
            <a:xfrm>
              <a:off x="708480" y="3786120"/>
              <a:ext cx="3206160" cy="2504880"/>
              <a:chOff x="708480" y="3786120"/>
              <a:chExt cx="3206160" cy="2504880"/>
            </a:xfrm>
          </p:grpSpPr>
          <p:sp>
            <p:nvSpPr>
              <p:cNvPr id="252" name="TextBox 78"/>
              <p:cNvSpPr/>
              <p:nvPr/>
            </p:nvSpPr>
            <p:spPr>
              <a:xfrm>
                <a:off x="708480" y="43081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79"/>
              <p:cNvSpPr/>
              <p:nvPr/>
            </p:nvSpPr>
            <p:spPr>
              <a:xfrm>
                <a:off x="708480" y="530532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nstantia"/>
                  </a:rPr>
                  <a:t>Р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Группа 33"/>
              <p:cNvGrpSpPr/>
              <p:nvPr/>
            </p:nvGrpSpPr>
            <p:grpSpPr>
              <a:xfrm>
                <a:off x="885240" y="3786120"/>
                <a:ext cx="3029400" cy="2504880"/>
                <a:chOff x="885240" y="3786120"/>
                <a:chExt cx="3029400" cy="2504880"/>
              </a:xfrm>
            </p:grpSpPr>
            <p:grpSp>
              <p:nvGrpSpPr>
                <p:cNvPr id="255" name="Группа 32"/>
                <p:cNvGrpSpPr/>
                <p:nvPr/>
              </p:nvGrpSpPr>
              <p:grpSpPr>
                <a:xfrm>
                  <a:off x="885240" y="3786120"/>
                  <a:ext cx="2785680" cy="2090520"/>
                  <a:chOff x="885240" y="3786120"/>
                  <a:chExt cx="2785680" cy="2090520"/>
                </a:xfrm>
              </p:grpSpPr>
              <p:sp>
                <p:nvSpPr>
                  <p:cNvPr id="256" name="Прямая соединительная линия 83"/>
                  <p:cNvSpPr/>
                  <p:nvPr/>
                </p:nvSpPr>
                <p:spPr>
                  <a:xfrm>
                    <a:off x="1135080" y="5399640"/>
                    <a:ext cx="1938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7" name="Группа 31"/>
                  <p:cNvGrpSpPr/>
                  <p:nvPr/>
                </p:nvGrpSpPr>
                <p:grpSpPr>
                  <a:xfrm>
                    <a:off x="885240" y="3786120"/>
                    <a:ext cx="2785680" cy="2090520"/>
                    <a:chOff x="885240" y="3786120"/>
                    <a:chExt cx="2785680" cy="2090520"/>
                  </a:xfrm>
                </p:grpSpPr>
                <p:grpSp>
                  <p:nvGrpSpPr>
                    <p:cNvPr id="258" name="Группа 30"/>
                    <p:cNvGrpSpPr/>
                    <p:nvPr/>
                  </p:nvGrpSpPr>
                  <p:grpSpPr>
                    <a:xfrm>
                      <a:off x="1132920" y="3880800"/>
                      <a:ext cx="2538000" cy="1995840"/>
                      <a:chOff x="1132920" y="3880800"/>
                      <a:chExt cx="2538000" cy="1995840"/>
                    </a:xfrm>
                  </p:grpSpPr>
                  <p:grpSp>
                    <p:nvGrpSpPr>
                      <p:cNvPr id="259" name="Группа 29"/>
                      <p:cNvGrpSpPr/>
                      <p:nvPr/>
                    </p:nvGrpSpPr>
                    <p:grpSpPr>
                      <a:xfrm>
                        <a:off x="1132920" y="3880800"/>
                        <a:ext cx="2538000" cy="1995840"/>
                        <a:chOff x="1132920" y="3880800"/>
                        <a:chExt cx="2538000" cy="1995840"/>
                      </a:xfrm>
                    </p:grpSpPr>
                    <p:grpSp>
                      <p:nvGrpSpPr>
                        <p:cNvPr id="260" name="Группа 28"/>
                        <p:cNvGrpSpPr/>
                        <p:nvPr/>
                      </p:nvGrpSpPr>
                      <p:grpSpPr>
                        <a:xfrm>
                          <a:off x="1132920" y="3880800"/>
                          <a:ext cx="2538000" cy="1995840"/>
                          <a:chOff x="1132920" y="3880800"/>
                          <a:chExt cx="2538000" cy="1995840"/>
                        </a:xfrm>
                      </p:grpSpPr>
                      <p:sp>
                        <p:nvSpPr>
                          <p:cNvPr id="261" name="Прямая соединительная линия 9"/>
                          <p:cNvSpPr/>
                          <p:nvPr/>
                        </p:nvSpPr>
                        <p:spPr>
                          <a:xfrm>
                            <a:off x="1631160" y="3974760"/>
                            <a:ext cx="1690920" cy="16628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62" name="Группа 92"/>
                          <p:cNvGrpSpPr/>
                          <p:nvPr/>
                        </p:nvGrpSpPr>
                        <p:grpSpPr>
                          <a:xfrm>
                            <a:off x="1132920" y="3880800"/>
                            <a:ext cx="2538000" cy="1995840"/>
                            <a:chOff x="1132920" y="3880800"/>
                            <a:chExt cx="2538000" cy="1995840"/>
                          </a:xfrm>
                        </p:grpSpPr>
                        <p:grpSp>
                          <p:nvGrpSpPr>
                            <p:cNvPr id="263" name="Группа 7"/>
                            <p:cNvGrpSpPr/>
                            <p:nvPr/>
                          </p:nvGrpSpPr>
                          <p:grpSpPr>
                            <a:xfrm>
                              <a:off x="1132920" y="3880800"/>
                              <a:ext cx="2538000" cy="1995840"/>
                              <a:chOff x="1132920" y="3880800"/>
                              <a:chExt cx="2538000" cy="1995840"/>
                            </a:xfrm>
                          </p:grpSpPr>
                          <p:cxnSp>
                            <p:nvCxnSpPr>
                              <p:cNvPr id="264" name="Прямая со стрелкой 95"/>
                              <p:cNvCxnSpPr/>
                              <p:nvPr/>
                            </p:nvCxnSpPr>
                            <p:spPr>
                              <a:xfrm flipV="1">
                                <a:off x="1133280" y="3880800"/>
                                <a:ext cx="2160" cy="199548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  <p:cxnSp>
                            <p:nvCxnSpPr>
                              <p:cNvPr id="265" name="Прямая со стрелкой 96"/>
                              <p:cNvCxnSpPr/>
                              <p:nvPr/>
                            </p:nvCxnSpPr>
                            <p:spPr>
                              <a:xfrm>
                                <a:off x="1132920" y="5874840"/>
                                <a:ext cx="2538360" cy="2160"/>
                              </a:xfrm>
                              <a:prstGeom prst="straightConnector1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arrow" w="med"/>
                              </a:ln>
                            </p:spPr>
                          </p:cxnSp>
                        </p:grpSp>
                        <p:sp>
                          <p:nvSpPr>
                            <p:cNvPr id="266" name="Прямая соединительная линия 94"/>
                            <p:cNvSpPr/>
                            <p:nvPr/>
                          </p:nvSpPr>
                          <p:spPr>
                            <a:xfrm>
                              <a:off x="1133280" y="4449600"/>
                              <a:ext cx="995400" cy="14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prstDash val="lgDash"/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67" name="Прямая соединительная линия 13"/>
                        <p:cNvSpPr/>
                        <p:nvPr/>
                      </p:nvSpPr>
                      <p:spPr>
                        <a:xfrm>
                          <a:off x="2129040" y="4451400"/>
                          <a:ext cx="0" cy="142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prstDash val="lg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8" name="Прямая соединительная линия 88"/>
                      <p:cNvSpPr/>
                      <p:nvPr/>
                    </p:nvSpPr>
                    <p:spPr>
                      <a:xfrm>
                        <a:off x="3073680" y="5401080"/>
                        <a:ext cx="0" cy="474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9" name="TextBox 86"/>
                    <p:cNvSpPr/>
                    <p:nvPr/>
                  </p:nvSpPr>
                  <p:spPr>
                    <a:xfrm>
                      <a:off x="885240" y="3786120"/>
                      <a:ext cx="149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0" name="TextBox 82"/>
                <p:cNvSpPr/>
                <p:nvPr/>
              </p:nvSpPr>
              <p:spPr>
                <a:xfrm>
                  <a:off x="3564720" y="59227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nstantia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TextBox 74"/>
            <p:cNvSpPr/>
            <p:nvPr/>
          </p:nvSpPr>
          <p:spPr>
            <a:xfrm>
              <a:off x="1929960" y="5969880"/>
              <a:ext cx="3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75"/>
            <p:cNvSpPr/>
            <p:nvPr/>
          </p:nvSpPr>
          <p:spPr>
            <a:xfrm>
              <a:off x="2844720" y="596988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Q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76"/>
            <p:cNvSpPr/>
            <p:nvPr/>
          </p:nvSpPr>
          <p:spPr>
            <a:xfrm>
              <a:off x="2167920" y="4308120"/>
              <a:ext cx="34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77"/>
            <p:cNvSpPr/>
            <p:nvPr/>
          </p:nvSpPr>
          <p:spPr>
            <a:xfrm>
              <a:off x="3071160" y="52578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857160" y="317880"/>
            <a:ext cx="46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ИЗМЕНЕНИЯ С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http://conteconomics.narod.ru/Urok4/f1_4.jpg"/>
          <p:cNvPicPr/>
          <p:nvPr/>
        </p:nvPicPr>
        <p:blipFill>
          <a:blip r:embed="rId1"/>
          <a:stretch/>
        </p:blipFill>
        <p:spPr>
          <a:xfrm>
            <a:off x="357120" y="64296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3357720" y="423360"/>
            <a:ext cx="52862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А ГОВЯДИНЫ УВЕЛИЧИ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ЛЛИОНЫ ИММИГРАНТОВ УВЕЛИЧИВАЮТ НАСЕЛЕНИЕ С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АЮТ ЦЕНЫ НА СВИНИН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АВНЫЙ ХИРУРГ ПРЕДУПРЕЖДАЕТ, ЧТО УПОТРЕБЛЕНИЕ В ПИЩУ ГОВЯДИНЫ МОЖЕТ БЫТЬ ВРЕДНО ДЛЯ ЗДОРОВЬ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ЫЙ ЗАРАБОТОК АМЕРИКАНЦЕВ ПАДАЕТ ТРЕТИЙ МЕСЯЦ ПОДРЯД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РИЗ НАЦИИ: РЭП-БУРГЕ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 _________Кривая 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ЕЛИЧЕНИЕ ЦЕН НА ДРЕВЕСНЫЙ УГОЛЬ СТАВИТ ПОД УГРОЗУ ПРИГОТОВЛЕНИЕ ПИЩИ НА СВЕЖЕМ ВОЗДУХЕ В ДЕНЬ ПОМИНОВ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ос_________Кривая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2000160" y="4143240"/>
            <a:ext cx="6715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несите каждое изменение спроса из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Части I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к одной из приведенных ниже категорий в зависимости от причины этого изменения. Напишите номер заголовка(ков) рядом с соответствующей причиной изменения спро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вкус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доходов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числа потребителей на ры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товара-замен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_______ Изменение цены дополняющего тов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6:09Z</dcterms:created>
  <dc:creator>inna</dc:creator>
  <dc:description/>
  <dc:language>en-US</dc:language>
  <cp:lastModifiedBy>LEGION</cp:lastModifiedBy>
  <dcterms:modified xsi:type="dcterms:W3CDTF">2016-01-04T08:16:07Z</dcterms:modified>
  <cp:revision>41</cp:revision>
  <dc:subject/>
  <dc:title>Спрос. Величина спроса. Факторы влияющие на спрос</dc:title>
</cp:coreProperties>
</file>