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97A2-E79D-46A3-9985-50735307695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проса. Факторы влияющие на спр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спроса. Факторы влияющие на спр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0igr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ая эластичность спроса –показывает степень количественного изменения величины спроса под влиянием  изменения цены, дохода.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носительное изменение объема спроса под влиянием изменения цены на 1 %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ая эластичность спроса –показывает степень количественного изменения величины спроса под влиянием  изменения цены, дохода.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носительное изменение объема спроса под влиянием изменения цены на 1 %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угов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угов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ценовой эластичности с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спрос (E Pd &gt; 1): цена изменяется меньше, чем изменяется величина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спрос (E Pd &lt;1): цена изменяется больше, чем изменяется величина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чная эластичность спроса (E Pd =1): цена и величина спроса изменятся одинако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эластичный спрос (E Pd =∞): цена постоянна – величина спроса меняет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неэластичный спрос (E Pd =0): цена меняется – спрос постоян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ценовой эластичности с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ый спрос (E Pd &gt; 1): цена изменяется меньше, чем изменяется величина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эластичный спрос (E Pd &lt;1): цена изменяется больше, чем изменяется величина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ая эластичность спроса (E Pd =1): цена и величина спроса изменятся одинако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но эластичный спрос (E Pd =∞): цена постоянна – величина спроса меняет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но неэластичный спрос (E Pd =0): цена меняется – спрос постоян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товарам с эластичным спросом обычно относя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роскоши (ковры, драгоценности, деликатесы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, стоимость которых ощутима для семейного бюджета (мебель, телевизор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заменяемые товары (отдельные виды продуктов пита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с неэластичным спросом включа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первой необходимости (лекарства, обувь, электричество, телефон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, стоимость которых незначительна для семейного бюджета (карандаш, зубная щетк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заменяемые товары (электрические лампочки, бензин, клавиатура и т. 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варам с эластичным спросом обычно относя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роскоши (ковры, драгоценности, деликатесы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, стоимость которых ощутима для семейного бюджета (мебель, телевизор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озаменяемые товары (отдельные виды продуктов пита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с неэластичным спросом включа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первой необходимости (лекарства, обувь, электричество, телефон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, стоимость которых незначительна для семейного бюджета (карандаш, зубная щетка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заменяемые товары (электрические лампочки, бензин, клавиатура и т. 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или неэластичный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Определите, эластичен или нет спрос по цене на перечисленные ниже продукты. Запишите свой ответ рядом с названием продукта. Объясните причины своего отв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ь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автомобили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иные отбивные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уск в Европе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улин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улин в одной из четырех аптек большого торгового центра_____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ин, покупаемый через день после увеличения его цены на 20%__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ин, покупаемый через год после увеличения его цены на 20%___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ый или неэластичный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Определите, эластичен или нет спрос по цене на перечисленные ниже продукты. Запишите свой ответ рядом с названием продукта. Объясните причины своего отв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автомобили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иные отбивные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уск в Европе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улин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улин в одной из четырех аптек большого торгового центра_____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нзин, покупаемый через день после увеличения его цены на 20%__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нзин, покупаемый через год после увеличения его цены на 20%___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линейной функции спро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аксимум выруч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линейной функции спро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аксимум выруч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&gt;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&gt;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&lt;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&lt;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Единичная эластичность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=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диничная эластичность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=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 – это зависимость между количеством товара, который покупатели хотят и могут купить, и ценами на этот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проса – это количество товара (услуг), которое покупатели готовы купить по данной цене в определенное время и в определенном ме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 – это зависимость между количеством товара, который покупатели хотят и могут купить, и ценами на этот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спроса – это количество товара (услуг), которое покупатели готовы купить по данной цене в определенное время и в определенном 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бсолютно 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 =&gt;∞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бсолютно 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 =&gt;∞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бсолютно 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=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бсолютно 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=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величины спроса от уровня цены называется шкал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величины спроса от уровня цены называется шкал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ную зависимость между ценой и величиной спроса можно изобразить и в виде графика. Полученная на графике кривая DD (от англ. demand – "спрос") называется кривой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точек кривой отображает зависимость величины спроса от уровня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ую зависимость между ценой и величиной спроса можно изобразить и в виде графика. Полученная на графике кривая DD (от англ. demand – "спрос") называется кривой спр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точек кривой отображает зависимость величины спроса от уровня ц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law of demand) — величина спроса находится в обратн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величина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 величина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demand) — величина спроса находится в обратн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величина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величина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 объясняется действием эффектов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замещения – при росте цены на благо покупатель старается заменить его другим схожим благ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дохода – при росте цены реальный доход потребителя снижается, то есть на свой доход он уже может купить меньше бл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 объясняется действием эффектов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замещения – при росте цены на благо покупатель старается заменить его другим схожим благ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дохода – при росте цены реальный доход потребителя снижается, то есть на свой доход он уже может купить меньше бла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ый спрос зависит от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ой фактор: изменение цены ведет к изменению величины спроса, что графически изображается движением вдоль крив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ведут к изменению спроса, что графически изображается сдвигом кривой спроса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ый спрос зависит от факт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фактор: изменение цены ведет к изменению величины спроса, что графически изображается движением вдоль крив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 ведут к изменению спроса, что графически изображается сдвигом кривой спроса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1      Q         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1      Q         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ИЗМЕНЕНИЯ СПР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ГОВЯДИНЫ УВЕЛИЧИ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ЛИОНЫ ИММИГРАНТОВ УВЕЛИЧИВАЮТ НАСЕЛЕНИЕ С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ДАЮТ ЦЕНЫ НА СВИНИН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ХИРУРГ ПРЕДУПРЕЖДАЕТ, ЧТО УПОТРЕБЛЕНИЕ В ПИЩУ ГОВЯДИНЫ МОЖЕТ БЫТЬ ВРЕДНО ДЛЯ ЗДОРОВЬ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ЗАРАБОТОК АМЕРИКАНЦЕВ ПАДАЕТ ТРЕТИЙ МЕСЯЦ ПОДРЯД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РИЗ НАЦИИ: РЭП-БУРГЕ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ЦЕН НА ДРЕВЕСНЫЙ УГОЛЬ СТАВИТ ПОД УГРОЗУ ПРИГОТОВЛЕНИЕ ПИЩИ НА СВЕЖЕМ ВОЗДУХЕ В ДЕНЬ ПОМИНОВ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_________Кривая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есите каждое изменение спроса из Части I к одной из приведенных ниже категорий в зависимости от причины этого изменения. Напишите номер заголовка(ков) рядом с соответствующей причиной изменения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вкусов потреб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доходов потреб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числа потребителей на рын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цены товара-замените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цены дополняюще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ИЗМЕНЕНИЯ СПРО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ГОВЯДИНЫ УВЕЛИЧИ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ЛЛИОНЫ ИММИГРАНТОВ УВЕЛИЧИВАЮТ НАСЕЛЕНИЕ С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ДАЮТ ЦЕНЫ НА СВИНИН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Й ХИРУРГ ПРЕДУПРЕЖДАЕТ, ЧТО УПОТРЕБЛЕНИЕ В ПИЩУ ГОВЯДИНЫ МОЖЕТ БЫТЬ ВРЕДНО ДЛЯ ЗДОРОВЬ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ЗАРАБОТОК АМЕРИКАНЦЕВ ПАДАЕТ ТРЕТИЙ МЕСЯЦ ПОДРЯД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РИЗ НАЦИИ: РЭП-БУРГЕ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ЦЕН НА ДРЕВЕСНЫЙ УГОЛЬ СТАВИТ ПОД УГРОЗУ ПРИГОТОВЛЕНИЕ ПИЩИ НА СВЕЖЕМ ВОЗДУХЕ В ДЕНЬ ПОМИНОВ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_________Кривая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есите каждое изменение спроса из Части I к одной из приведенных ниже категорий в зависимости от причины этого изменения. Напишите номер заголовка(ков) рядом с соответствующей причиной изменения спр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вкусов потреб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доходов потреб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числа потребителей на рын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цены товара-замените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цены дополняющего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EB6B-AF17-424A-8AF5-7B5FC401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87F5-B56F-4ACF-AC33-D70B4BFD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070F-7211-44E4-B2CD-3D4E2F36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63CC-6269-44E3-858C-77DC59B3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B502-2C38-4852-A211-CB1A18F08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E84C-053E-42F3-98AB-73EFD53D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503E-9E83-4956-9A78-0DE3A61F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1B6F-F9DF-4F33-BA4F-CEDA38DA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0B14-5341-427C-9240-F2C0A022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99F1-971E-4BA6-A6F0-923758FC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6788-9997-4C42-B62C-F6EEED38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591-A952-46B6-9389-A426E403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6515-EBDD-456A-A90C-6F82B067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9C4F-C04E-43C4-9196-9FDAD29E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15E7-CD8D-4D63-B567-76C14AC0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3A5C-5E77-47DC-86EA-B13D12E2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A558-E5B8-4BC1-B83C-F9EABC74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08B56-86A2-400A-958D-D8683004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BE1E0-C5DE-4F63-A2B9-DAA3F296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F5485-57F5-41B2-8D14-D6D5BA15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8A2D2-3E56-46EC-B50D-07D60201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3CA24-06A7-42BE-8DAD-90533B35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78FD-5A7E-4F45-A67F-CA0E72FD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3CF62-50F1-4977-9244-17B117FE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BB3B7-14E5-4B54-BACF-89D6BD21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1C89E-C924-41A1-9D7F-EF9EC7E9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71F2F-18C4-4678-93ED-78F325E3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EFAE4-6BA0-49E3-AF60-036919E6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84886-083D-42AE-BD55-C88A0795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0E0D6-0A1E-423A-A56D-F174698D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46294-A9EF-46F5-86C0-D47F329C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50BE3-D232-4E72-ABA3-AF54C770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6C731-73CD-4055-890F-189B7C33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981-23BF-4EAA-9461-07C07CEA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264A1-06DD-4FEC-9D2D-E4B43E17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C47E0-50D9-47B6-AF08-F504E074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9CF36-89A5-4479-B12D-E75C64CF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BFFC1-7948-4738-80F2-6E16B32D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0C569-BBE4-4018-8251-9F44F21A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18B89-EA05-4E40-A677-2B9001CE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E47F1-BF37-4FCA-A017-8C8DC68A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5047E-7AD8-4D12-98F0-D0262BE7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C8C9C-C7C1-4450-BB9D-DDEFBC7C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131-72AD-488A-B75C-D0147E49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C116-C464-48FF-8431-31EA1F1B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2121-B2B2-4846-80DB-8D01A4B6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56C2-C394-4E4D-8A03-F00388C6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E829-62A1-4E9B-9531-92B1AB12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438F-5496-4A1C-82F8-573022CCFB70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4384-9A82-4FBF-929F-D81D1A1EF7B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5F22-CC56-42BB-8026-A900A8384939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008A-09E4-4599-BECB-6F80FEB431B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8753-D41E-48FE-A4FE-4631A854EE61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EE43-A98C-442C-9550-5CC1DD2FF74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419C-CB90-42DB-9595-252A3D5FD415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F41B-4E15-475B-87EC-C146E28491E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719280" y="1073160"/>
            <a:ext cx="7364160" cy="370692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28440" y="400032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alibri"/>
              </a:rPr>
              <a:t>Ценовая эластичность спроса </a:t>
            </a:r>
            <a:r>
              <a:rPr b="0" lang="ru-RU" sz="3600" spc="-1" strike="noStrike">
                <a:solidFill>
                  <a:srgbClr val="3333cc"/>
                </a:solidFill>
                <a:latin typeface="Calibri"/>
              </a:rPr>
              <a:t>–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казывает степень количественного изменения величины спроса под влиянием  изменения цены, дохода.  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(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носительное изменение объема спроса под влиянием изменения цены на 1 %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)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2857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очечная эластичнос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714240" y="1285920"/>
                <a:ext cx="7218360" cy="20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d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1000080" y="3571920"/>
                <a:ext cx="4281480" cy="27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-эластичность  спроса  по  цене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ая  цена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ая  цен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ый  объем  спрос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ый  объем  спрос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уговая эластичность спрос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1"/>
              <p:cNvSpPr txBox="1"/>
              <p:nvPr/>
            </p:nvSpPr>
            <p:spPr>
              <a:xfrm>
                <a:off x="714240" y="1357200"/>
                <a:ext cx="7358040" cy="24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d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3"/>
              <p:cNvSpPr txBox="1"/>
              <p:nvPr/>
            </p:nvSpPr>
            <p:spPr>
              <a:xfrm>
                <a:off x="1000080" y="3857760"/>
                <a:ext cx="4281480" cy="27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-эластичность  спроса  по  цене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ая  цена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ая  цен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ый  объем  спрос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ый  объем  спрос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06472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Виды ценовой эластичности спроса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685800" y="1052640"/>
            <a:ext cx="817236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Эластичный спрос 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&gt; 1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цена изменяется меньше, чем изменяется величина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еэластичный спрос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&lt;1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цена изменяется больше, чем изменяется величина с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Единичная эластичность спрос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цена и величина спроса изменятся одинако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овершенно эластичный спрос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∞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цена постоянна – величина спроса меняет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овершенно неэластичный спрос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цена меняется – спрос постоян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53"/>
          <p:cNvSpPr/>
          <p:nvPr/>
        </p:nvSpPr>
        <p:spPr>
          <a:xfrm>
            <a:off x="571680" y="1166760"/>
            <a:ext cx="814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товарам с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эластичным спросом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ычно относя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меты роскоши (ковры, драгоценности, деликатесы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вары, стоимость которых ощутима для семейного бюджета (мебель, телевизор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егкозаменяемые товары (отдельные виды продуктов пита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вары с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неэластичным спросом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ключа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меты первой необходимости (лекарства, обувь, электричество, телефон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вары, стоимость которых незначительна для семейного бюджета (карандаш, зубная щетка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руднозаменяемые товары (электрические лампочки, бензин, клавиатура и т. 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285840" y="173520"/>
            <a:ext cx="87152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Эластичный или неэластичный?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ние: Определите, эластичен или нет спрос по цене на перечисленные ниже продукты. Запишите свой ответ рядом с названием продукта. Объясните причины своего от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ль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вые автомобили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иные отбивные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пуск в Европе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 в одной из четырех аптек большого торгового центра___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нзин, покупаемый через день после увеличения его цены на 20%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нзин, покупаемый через год после увеличения его цены на 20%_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Object 3"/>
          <p:cNvGraphicFramePr/>
          <p:nvPr/>
        </p:nvGraphicFramePr>
        <p:xfrm>
          <a:off x="214200" y="571680"/>
          <a:ext cx="864072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571680"/>
                    <a:ext cx="864072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Эластичность линейной функции спроса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и максимум выручки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.</a:t>
            </a:r>
            <a:br>
              <a:rPr sz="45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Эластичный спрос (</a:t>
            </a: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8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8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&gt;</a:t>
            </a: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1)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1500120" y="2428920"/>
            <a:ext cx="5861160" cy="3429000"/>
          </a:xfrm>
          <a:prstGeom prst="rect">
            <a:avLst/>
          </a:prstGeom>
          <a:ln w="0">
            <a:noFill/>
          </a:ln>
        </p:spPr>
      </p:pic>
      <p:sp>
        <p:nvSpPr>
          <p:cNvPr id="306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эластичный спрос (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5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5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&lt;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1)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1143000" y="1928880"/>
            <a:ext cx="6586560" cy="3771720"/>
          </a:xfrm>
          <a:prstGeom prst="rect">
            <a:avLst/>
          </a:prstGeom>
          <a:ln w="0">
            <a:noFill/>
          </a:ln>
        </p:spPr>
      </p:pic>
      <p:sp>
        <p:nvSpPr>
          <p:cNvPr id="310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Единичная эластичность (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=1)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684360" y="1714680"/>
            <a:ext cx="7594560" cy="4479840"/>
          </a:xfrm>
          <a:prstGeom prst="rect">
            <a:avLst/>
          </a:prstGeom>
          <a:ln w="0">
            <a:noFill/>
          </a:ln>
        </p:spPr>
      </p:pic>
      <p:sp>
        <p:nvSpPr>
          <p:cNvPr id="314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1000080" y="1071720"/>
            <a:ext cx="72151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ПРОС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 –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это зависимость между количеством товара, который покупатели хотят и могут купить, и ценами на этот тов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1071720" y="3571920"/>
            <a:ext cx="7072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еличина спрос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 – это количество товара (услуг), которое покупатели готовы купить по данной цене в определенное время и в определенном 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3920" y="428760"/>
            <a:ext cx="69613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Абсолютно эластичный спрос (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=&gt;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∞)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1857240" y="2643120"/>
            <a:ext cx="5962680" cy="3353040"/>
          </a:xfrm>
          <a:prstGeom prst="rect">
            <a:avLst/>
          </a:prstGeom>
          <a:ln w="0">
            <a:noFill/>
          </a:ln>
        </p:spPr>
      </p:pic>
      <p:sp>
        <p:nvSpPr>
          <p:cNvPr id="318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000" y="457200"/>
            <a:ext cx="8064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Абсолютно неэластичный спрос (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=0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1071720" y="2143080"/>
            <a:ext cx="6364080" cy="3697200"/>
          </a:xfrm>
          <a:prstGeom prst="rect">
            <a:avLst/>
          </a:prstGeom>
          <a:ln w="0">
            <a:noFill/>
          </a:ln>
        </p:spPr>
      </p:pic>
      <p:sp>
        <p:nvSpPr>
          <p:cNvPr id="322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Зависимость величины спроса от уровня цены называется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шкалой спроса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14680" y="2286000"/>
          <a:ext cx="5405400" cy="2225520"/>
        </p:xfrm>
        <a:graphic>
          <a:graphicData uri="http://schemas.openxmlformats.org/drawingml/2006/table">
            <a:tbl>
              <a:tblPr/>
              <a:tblGrid>
                <a:gridCol w="2703240"/>
                <a:gridCol w="2702160"/>
              </a:tblGrid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Цена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личина спроса,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8400" y="7855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Установленную зависимость между ценой и величиной спроса можно изобразить и в виде графика. Полученная на графике кривая DD (от англ. </a:t>
            </a:r>
            <a:r>
              <a:rPr b="0" i="1" lang="ru-RU" sz="2800" spc="-1" strike="noStrike">
                <a:solidFill>
                  <a:srgbClr val="04617b"/>
                </a:solidFill>
                <a:latin typeface="Calibri"/>
              </a:rPr>
              <a:t>demand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 – "спрос") называется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кривой спроса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3" descr="C:\Program Files\Образовательные комплексы\Экономика, 9-11 кл. Практикум\edu_ep\data\res\res19507240-3846-493E-A055-48393A3F50E6"/>
          <p:cNvPicPr/>
          <p:nvPr/>
        </p:nvPicPr>
        <p:blipFill>
          <a:blip r:embed="rId1"/>
          <a:stretch/>
        </p:blipFill>
        <p:spPr>
          <a:xfrm>
            <a:off x="3643200" y="2214720"/>
            <a:ext cx="5048280" cy="34290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>
            <a:off x="428760" y="2500200"/>
            <a:ext cx="2714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ждая из точек кривой отображает зависимость величины спроса от уровня ц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акон спрос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457200" y="1600200"/>
            <a:ext cx="8472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law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f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demand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) — величина спроса находится в обратной зависимости от цен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ыше 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иже величина с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ыше величина с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иже 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трелка вправо 6"/>
          <p:cNvSpPr/>
          <p:nvPr/>
        </p:nvSpPr>
        <p:spPr>
          <a:xfrm rot="1528200">
            <a:off x="2936520" y="3648240"/>
            <a:ext cx="1087560" cy="285480"/>
          </a:xfrm>
          <a:prstGeom prst="rightArrow">
            <a:avLst>
              <a:gd name="adj1" fmla="val 50000"/>
              <a:gd name="adj2" fmla="val 50054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трелка вправо 7"/>
          <p:cNvSpPr/>
          <p:nvPr/>
        </p:nvSpPr>
        <p:spPr>
          <a:xfrm rot="20366400">
            <a:off x="3008160" y="4862520"/>
            <a:ext cx="1087560" cy="285840"/>
          </a:xfrm>
          <a:prstGeom prst="rightArrow">
            <a:avLst>
              <a:gd name="adj1" fmla="val 50000"/>
              <a:gd name="adj2" fmla="val 49991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1760" y="692280"/>
            <a:ext cx="793116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Закон спроса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объясняется действием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эффектов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: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642960" y="1071720"/>
            <a:ext cx="785808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onstantia"/>
              </a:rPr>
              <a:t>Эффект замещения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– при росте цены на благо покупатель старается заменить его другим схожим благ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onstantia"/>
              </a:rPr>
              <a:t>Эффект дохода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– при росте цены реальный доход потребителя снижается, то есть на свой доход он уже может купить меньше бла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500040" y="142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ыночный спрос зависит от фактор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9d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dd9"/>
                </a:solidFill>
                <a:latin typeface="Constantia"/>
              </a:rPr>
              <a:t>Ценовой фактор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: изменение цены ведет к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изменению величины спрос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, что графически изображается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движением вдоль кривой спрос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9d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dd9"/>
                </a:solidFill>
                <a:latin typeface="Constantia"/>
              </a:rPr>
              <a:t>Неценовые факторы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едут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к изменению спроса,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что графически изображается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двигом кривой спрос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9dd9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9d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428760" y="214200"/>
          <a:ext cx="8429400" cy="6291360"/>
        </p:xfrm>
        <a:graphic>
          <a:graphicData uri="http://schemas.openxmlformats.org/drawingml/2006/table">
            <a:tbl>
              <a:tblPr/>
              <a:tblGrid>
                <a:gridCol w="3786120"/>
                <a:gridCol w="46432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личина спро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ется, есл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14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ется цена данного това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ется количество покуп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ются доходы покуп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ются цены товаров, связанных с данным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меняющих данны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полняющих данны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ются вкусы и предпочтения покуп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жидаются изменения в доходах покупателей или в ценах товаров и услу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6" name="Группа 43"/>
          <p:cNvGrpSpPr/>
          <p:nvPr/>
        </p:nvGrpSpPr>
        <p:grpSpPr>
          <a:xfrm>
            <a:off x="5060880" y="3950640"/>
            <a:ext cx="2805480" cy="1967760"/>
            <a:chOff x="5060880" y="3950640"/>
            <a:chExt cx="2805480" cy="1967760"/>
          </a:xfrm>
        </p:grpSpPr>
        <p:grpSp>
          <p:nvGrpSpPr>
            <p:cNvPr id="227" name="Группа 43"/>
            <p:cNvGrpSpPr/>
            <p:nvPr/>
          </p:nvGrpSpPr>
          <p:grpSpPr>
            <a:xfrm>
              <a:off x="5060880" y="3950640"/>
              <a:ext cx="2805480" cy="1967760"/>
              <a:chOff x="5060880" y="3950640"/>
              <a:chExt cx="2805480" cy="1967760"/>
            </a:xfrm>
          </p:grpSpPr>
          <p:sp>
            <p:nvSpPr>
              <p:cNvPr id="228" name="Прямая соединительная линия 30"/>
              <p:cNvSpPr/>
              <p:nvPr/>
            </p:nvSpPr>
            <p:spPr>
              <a:xfrm>
                <a:off x="5610960" y="4044960"/>
                <a:ext cx="1870200" cy="163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" name="Группа 46"/>
              <p:cNvGrpSpPr/>
              <p:nvPr/>
            </p:nvGrpSpPr>
            <p:grpSpPr>
              <a:xfrm>
                <a:off x="5060880" y="3950640"/>
                <a:ext cx="2805480" cy="1967760"/>
                <a:chOff x="5060880" y="3950640"/>
                <a:chExt cx="2805480" cy="1967760"/>
              </a:xfrm>
            </p:grpSpPr>
            <p:grpSp>
              <p:nvGrpSpPr>
                <p:cNvPr id="230" name="Группа 47"/>
                <p:cNvGrpSpPr/>
                <p:nvPr/>
              </p:nvGrpSpPr>
              <p:grpSpPr>
                <a:xfrm>
                  <a:off x="5060880" y="3950640"/>
                  <a:ext cx="2805480" cy="1967760"/>
                  <a:chOff x="5060880" y="3950640"/>
                  <a:chExt cx="2805480" cy="1967760"/>
                </a:xfrm>
              </p:grpSpPr>
              <p:cxnSp>
                <p:nvCxnSpPr>
                  <p:cNvPr id="231" name="Прямая со стрелкой 34"/>
                  <p:cNvCxnSpPr/>
                  <p:nvPr/>
                </p:nvCxnSpPr>
                <p:spPr>
                  <a:xfrm flipV="1">
                    <a:off x="5060880" y="3950640"/>
                    <a:ext cx="2160" cy="19674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232" name="Прямая со стрелкой 35"/>
                  <p:cNvCxnSpPr/>
                  <p:nvPr/>
                </p:nvCxnSpPr>
                <p:spPr>
                  <a:xfrm>
                    <a:off x="5060880" y="5916600"/>
                    <a:ext cx="2805840" cy="21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</p:grpSp>
            <p:sp>
              <p:nvSpPr>
                <p:cNvPr id="233" name="Прямая соединительная линия 33"/>
                <p:cNvSpPr/>
                <p:nvPr/>
              </p:nvSpPr>
              <p:spPr>
                <a:xfrm flipV="1">
                  <a:off x="5071680" y="5071680"/>
                  <a:ext cx="2357640" cy="12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Прямая соединительная линия 29"/>
            <p:cNvSpPr/>
            <p:nvPr/>
          </p:nvSpPr>
          <p:spPr>
            <a:xfrm>
              <a:off x="6215040" y="5072040"/>
              <a:ext cx="17280" cy="846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Box 25"/>
          <p:cNvSpPr/>
          <p:nvPr/>
        </p:nvSpPr>
        <p:spPr>
          <a:xfrm>
            <a:off x="4786200" y="3857760"/>
            <a:ext cx="1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1"/>
          <p:cNvSpPr/>
          <p:nvPr/>
        </p:nvSpPr>
        <p:spPr>
          <a:xfrm>
            <a:off x="7766640" y="596412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39"/>
          <p:cNvSpPr/>
          <p:nvPr/>
        </p:nvSpPr>
        <p:spPr>
          <a:xfrm>
            <a:off x="6215040" y="4000680"/>
            <a:ext cx="1785960" cy="1571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42"/>
          <p:cNvSpPr/>
          <p:nvPr/>
        </p:nvSpPr>
        <p:spPr>
          <a:xfrm>
            <a:off x="5072040" y="4143240"/>
            <a:ext cx="1785960" cy="15004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50"/>
          <p:cNvSpPr/>
          <p:nvPr/>
        </p:nvSpPr>
        <p:spPr>
          <a:xfrm>
            <a:off x="6786720" y="5072040"/>
            <a:ext cx="0" cy="85896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60"/>
          <p:cNvSpPr/>
          <p:nvPr/>
        </p:nvSpPr>
        <p:spPr>
          <a:xfrm flipH="1">
            <a:off x="7429680" y="5073480"/>
            <a:ext cx="1440" cy="85752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Прямая со стрелкой 62"/>
          <p:cNvCxnSpPr/>
          <p:nvPr/>
        </p:nvCxnSpPr>
        <p:spPr>
          <a:xfrm>
            <a:off x="6286320" y="4642920"/>
            <a:ext cx="64332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2" name="Прямая со стрелкой 64"/>
          <p:cNvCxnSpPr/>
          <p:nvPr/>
        </p:nvCxnSpPr>
        <p:spPr>
          <a:xfrm flipH="1" flipV="1">
            <a:off x="5571720" y="4571640"/>
            <a:ext cx="5724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43" name="TextBox 65"/>
          <p:cNvSpPr/>
          <p:nvPr/>
        </p:nvSpPr>
        <p:spPr>
          <a:xfrm>
            <a:off x="6286680" y="421488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6"/>
          <p:cNvSpPr/>
          <p:nvPr/>
        </p:nvSpPr>
        <p:spPr>
          <a:xfrm>
            <a:off x="5643720" y="407196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7"/>
          <p:cNvSpPr/>
          <p:nvPr/>
        </p:nvSpPr>
        <p:spPr>
          <a:xfrm>
            <a:off x="5342760" y="414324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8"/>
          <p:cNvSpPr/>
          <p:nvPr/>
        </p:nvSpPr>
        <p:spPr>
          <a:xfrm>
            <a:off x="5991120" y="407196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69"/>
          <p:cNvSpPr/>
          <p:nvPr/>
        </p:nvSpPr>
        <p:spPr>
          <a:xfrm>
            <a:off x="6557040" y="40719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0"/>
          <p:cNvSpPr/>
          <p:nvPr/>
        </p:nvSpPr>
        <p:spPr>
          <a:xfrm>
            <a:off x="4707000" y="4929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71"/>
          <p:cNvSpPr/>
          <p:nvPr/>
        </p:nvSpPr>
        <p:spPr>
          <a:xfrm>
            <a:off x="5993280" y="592920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1      Q         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Группа 72"/>
          <p:cNvGrpSpPr/>
          <p:nvPr/>
        </p:nvGrpSpPr>
        <p:grpSpPr>
          <a:xfrm>
            <a:off x="708480" y="3786120"/>
            <a:ext cx="3206160" cy="2826360"/>
            <a:chOff x="708480" y="3786120"/>
            <a:chExt cx="3206160" cy="2826360"/>
          </a:xfrm>
        </p:grpSpPr>
        <p:grpSp>
          <p:nvGrpSpPr>
            <p:cNvPr id="251" name="Группа 51"/>
            <p:cNvGrpSpPr/>
            <p:nvPr/>
          </p:nvGrpSpPr>
          <p:grpSpPr>
            <a:xfrm>
              <a:off x="708480" y="3786120"/>
              <a:ext cx="3206160" cy="2504880"/>
              <a:chOff x="708480" y="3786120"/>
              <a:chExt cx="3206160" cy="2504880"/>
            </a:xfrm>
          </p:grpSpPr>
          <p:sp>
            <p:nvSpPr>
              <p:cNvPr id="252" name="TextBox 78"/>
              <p:cNvSpPr/>
              <p:nvPr/>
            </p:nvSpPr>
            <p:spPr>
              <a:xfrm>
                <a:off x="708480" y="4308120"/>
                <a:ext cx="44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nstantia"/>
                  </a:rPr>
                  <a:t>Р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Box 79"/>
              <p:cNvSpPr/>
              <p:nvPr/>
            </p:nvSpPr>
            <p:spPr>
              <a:xfrm>
                <a:off x="708480" y="5305320"/>
                <a:ext cx="44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nstantia"/>
                  </a:rPr>
                  <a:t>Р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4" name="Группа 33"/>
              <p:cNvGrpSpPr/>
              <p:nvPr/>
            </p:nvGrpSpPr>
            <p:grpSpPr>
              <a:xfrm>
                <a:off x="885240" y="3786120"/>
                <a:ext cx="3029400" cy="2504880"/>
                <a:chOff x="885240" y="3786120"/>
                <a:chExt cx="3029400" cy="2504880"/>
              </a:xfrm>
            </p:grpSpPr>
            <p:grpSp>
              <p:nvGrpSpPr>
                <p:cNvPr id="255" name="Группа 32"/>
                <p:cNvGrpSpPr/>
                <p:nvPr/>
              </p:nvGrpSpPr>
              <p:grpSpPr>
                <a:xfrm>
                  <a:off x="885240" y="3786120"/>
                  <a:ext cx="2785680" cy="2090520"/>
                  <a:chOff x="885240" y="3786120"/>
                  <a:chExt cx="2785680" cy="2090520"/>
                </a:xfrm>
              </p:grpSpPr>
              <p:sp>
                <p:nvSpPr>
                  <p:cNvPr id="256" name="Прямая соединительная линия 83"/>
                  <p:cNvSpPr/>
                  <p:nvPr/>
                </p:nvSpPr>
                <p:spPr>
                  <a:xfrm>
                    <a:off x="1135080" y="5399640"/>
                    <a:ext cx="19386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7" name="Группа 31"/>
                  <p:cNvGrpSpPr/>
                  <p:nvPr/>
                </p:nvGrpSpPr>
                <p:grpSpPr>
                  <a:xfrm>
                    <a:off x="885240" y="3786120"/>
                    <a:ext cx="2785680" cy="2090520"/>
                    <a:chOff x="885240" y="3786120"/>
                    <a:chExt cx="2785680" cy="2090520"/>
                  </a:xfrm>
                </p:grpSpPr>
                <p:grpSp>
                  <p:nvGrpSpPr>
                    <p:cNvPr id="258" name="Группа 30"/>
                    <p:cNvGrpSpPr/>
                    <p:nvPr/>
                  </p:nvGrpSpPr>
                  <p:grpSpPr>
                    <a:xfrm>
                      <a:off x="1132920" y="3880800"/>
                      <a:ext cx="2538000" cy="1995840"/>
                      <a:chOff x="1132920" y="3880800"/>
                      <a:chExt cx="2538000" cy="1995840"/>
                    </a:xfrm>
                  </p:grpSpPr>
                  <p:grpSp>
                    <p:nvGrpSpPr>
                      <p:cNvPr id="259" name="Группа 29"/>
                      <p:cNvGrpSpPr/>
                      <p:nvPr/>
                    </p:nvGrpSpPr>
                    <p:grpSpPr>
                      <a:xfrm>
                        <a:off x="1132920" y="3880800"/>
                        <a:ext cx="2538000" cy="1995840"/>
                        <a:chOff x="1132920" y="3880800"/>
                        <a:chExt cx="2538000" cy="1995840"/>
                      </a:xfrm>
                    </p:grpSpPr>
                    <p:grpSp>
                      <p:nvGrpSpPr>
                        <p:cNvPr id="260" name="Группа 28"/>
                        <p:cNvGrpSpPr/>
                        <p:nvPr/>
                      </p:nvGrpSpPr>
                      <p:grpSpPr>
                        <a:xfrm>
                          <a:off x="1132920" y="3880800"/>
                          <a:ext cx="2538000" cy="1995840"/>
                          <a:chOff x="1132920" y="3880800"/>
                          <a:chExt cx="2538000" cy="1995840"/>
                        </a:xfrm>
                      </p:grpSpPr>
                      <p:sp>
                        <p:nvSpPr>
                          <p:cNvPr id="261" name="Прямая соединительная линия 9"/>
                          <p:cNvSpPr/>
                          <p:nvPr/>
                        </p:nvSpPr>
                        <p:spPr>
                          <a:xfrm>
                            <a:off x="1631160" y="3974760"/>
                            <a:ext cx="1690920" cy="16628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62" name="Группа 92"/>
                          <p:cNvGrpSpPr/>
                          <p:nvPr/>
                        </p:nvGrpSpPr>
                        <p:grpSpPr>
                          <a:xfrm>
                            <a:off x="1132920" y="3880800"/>
                            <a:ext cx="2538000" cy="1995840"/>
                            <a:chOff x="1132920" y="3880800"/>
                            <a:chExt cx="2538000" cy="1995840"/>
                          </a:xfrm>
                        </p:grpSpPr>
                        <p:grpSp>
                          <p:nvGrpSpPr>
                            <p:cNvPr id="263" name="Группа 7"/>
                            <p:cNvGrpSpPr/>
                            <p:nvPr/>
                          </p:nvGrpSpPr>
                          <p:grpSpPr>
                            <a:xfrm>
                              <a:off x="1132920" y="3880800"/>
                              <a:ext cx="2538000" cy="1995840"/>
                              <a:chOff x="1132920" y="3880800"/>
                              <a:chExt cx="2538000" cy="1995840"/>
                            </a:xfrm>
                          </p:grpSpPr>
                          <p:cxnSp>
                            <p:nvCxnSpPr>
                              <p:cNvPr id="264" name="Прямая со стрелкой 95"/>
                              <p:cNvCxnSpPr/>
                              <p:nvPr/>
                            </p:nvCxnSpPr>
                            <p:spPr>
                              <a:xfrm flipV="1">
                                <a:off x="1133280" y="3880800"/>
                                <a:ext cx="2160" cy="1995480"/>
                              </a:xfrm>
                              <a:prstGeom prst="straightConnector1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  <p:cxnSp>
                            <p:nvCxnSpPr>
                              <p:cNvPr id="265" name="Прямая со стрелкой 96"/>
                              <p:cNvCxnSpPr/>
                              <p:nvPr/>
                            </p:nvCxnSpPr>
                            <p:spPr>
                              <a:xfrm>
                                <a:off x="1132920" y="5874840"/>
                                <a:ext cx="2538360" cy="2160"/>
                              </a:xfrm>
                              <a:prstGeom prst="straightConnector1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</p:grpSp>
                        <p:sp>
                          <p:nvSpPr>
                            <p:cNvPr id="266" name="Прямая соединительная линия 94"/>
                            <p:cNvSpPr/>
                            <p:nvPr/>
                          </p:nvSpPr>
                          <p:spPr>
                            <a:xfrm>
                              <a:off x="1133280" y="4449600"/>
                              <a:ext cx="99540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prstDash val="lgDash"/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267" name="Прямая соединительная линия 13"/>
                        <p:cNvSpPr/>
                        <p:nvPr/>
                      </p:nvSpPr>
                      <p:spPr>
                        <a:xfrm>
                          <a:off x="2129040" y="4451400"/>
                          <a:ext cx="0" cy="142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lg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68" name="Прямая соединительная линия 88"/>
                      <p:cNvSpPr/>
                      <p:nvPr/>
                    </p:nvSpPr>
                    <p:spPr>
                      <a:xfrm>
                        <a:off x="3073680" y="5401080"/>
                        <a:ext cx="0" cy="474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69" name="TextBox 86"/>
                    <p:cNvSpPr/>
                    <p:nvPr/>
                  </p:nvSpPr>
                  <p:spPr>
                    <a:xfrm>
                      <a:off x="885240" y="3786120"/>
                      <a:ext cx="1490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0" name="TextBox 82"/>
                <p:cNvSpPr/>
                <p:nvPr/>
              </p:nvSpPr>
              <p:spPr>
                <a:xfrm>
                  <a:off x="3564720" y="59227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nstantia"/>
                    </a:rPr>
                    <a:t>Q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1" name="TextBox 74"/>
            <p:cNvSpPr/>
            <p:nvPr/>
          </p:nvSpPr>
          <p:spPr>
            <a:xfrm>
              <a:off x="1929960" y="5969880"/>
              <a:ext cx="34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Q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75"/>
            <p:cNvSpPr/>
            <p:nvPr/>
          </p:nvSpPr>
          <p:spPr>
            <a:xfrm>
              <a:off x="2844720" y="5969880"/>
              <a:ext cx="47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Q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76"/>
            <p:cNvSpPr/>
            <p:nvPr/>
          </p:nvSpPr>
          <p:spPr>
            <a:xfrm>
              <a:off x="2167920" y="4308120"/>
              <a:ext cx="34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77"/>
            <p:cNvSpPr/>
            <p:nvPr/>
          </p:nvSpPr>
          <p:spPr>
            <a:xfrm>
              <a:off x="3071160" y="5257800"/>
              <a:ext cx="3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857160" y="317880"/>
            <a:ext cx="464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ИЗМЕНЕНИЯ СПРО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http://conteconomics.narod.ru/Urok4/f1_4.jpg"/>
          <p:cNvPicPr/>
          <p:nvPr/>
        </p:nvPicPr>
        <p:blipFill>
          <a:blip r:embed="rId1"/>
          <a:stretch/>
        </p:blipFill>
        <p:spPr>
          <a:xfrm>
            <a:off x="357120" y="64296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5"/>
          <p:cNvSpPr/>
          <p:nvPr/>
        </p:nvSpPr>
        <p:spPr>
          <a:xfrm>
            <a:off x="3357720" y="423360"/>
            <a:ext cx="528624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Часть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ЦЕНА ГОВЯДИНЫ УВЕЛИЧИ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ИЛЛИОНЫ ИММИГРАНТОВ УВЕЛИЧИВАЮТ НАСЕЛЕНИЕ С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ДАЮТ ЦЕНЫ НА СВИНИН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ГЛАВНЫЙ ХИРУРГ ПРЕДУПРЕЖДАЕТ, ЧТО УПОТРЕБЛЕНИЕ В ПИЩУ ГОВЯДИНЫ МОЖЕТ БЫТЬ ВРЕДНО ДЛЯ ЗДОРОВЬ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ЧИСТЫЙ ЗАРАБОТОК АМЕРИКАНЦЕВ ПАДАЕТ ТРЕТИЙ МЕСЯЦ ПОДРЯД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ПРИЗ НАЦИИ: РЭП-БУРГЕ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ЕЛИЧЕНИЕ ЦЕН НА ДРЕВЕСНЫЙ УГОЛЬ СТАВИТ ПОД УГРОЗУ ПРИГОТОВЛЕНИЕ ПИЩИ НА СВЕЖЕМ ВОЗДУХЕ В ДЕНЬ ПОМИНОВ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_________Кривая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8"/>
          <p:cNvSpPr/>
          <p:nvPr/>
        </p:nvSpPr>
        <p:spPr>
          <a:xfrm>
            <a:off x="2000160" y="4143240"/>
            <a:ext cx="6715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Часть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тнесите каждое изменение спроса из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Части I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к одной из приведенных ниже категорий в зависимости от причины этого изменения. Напишите номер заголовка(ков) рядом с соответствующей причиной изменения спро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вкусов потреб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доходов потреб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числа потребителей на рынк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цены товара-замените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цены дополняющего тов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0:36:09Z</dcterms:created>
  <dc:creator>inna</dc:creator>
  <dc:description/>
  <dc:language>en-US</dc:language>
  <cp:lastModifiedBy>LEGION</cp:lastModifiedBy>
  <dcterms:modified xsi:type="dcterms:W3CDTF">2016-01-04T08:16:07Z</dcterms:modified>
  <cp:revision>41</cp:revision>
  <dc:subject/>
  <dc:title>Спрос. Величина спроса. Факторы влияющие на спрос</dc:title>
</cp:coreProperties>
</file>