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3.jpeg" ContentType="image/jpeg"/>
  <Override PartName="/ppt/media/image22.jpeg" ContentType="image/jpeg"/>
  <Override PartName="/ppt/media/cashreg.wav" ContentType="audio/x-wav"/>
  <Override PartName="/ppt/media/image21.jpeg" ContentType="image/jpeg"/>
  <Override PartName="/ppt/media/image20.jpeg" ContentType="image/jpeg"/>
  <Override PartName="/ppt/media/image26.jpeg" ContentType="image/jpeg"/>
  <Override PartName="/ppt/media/image5.jpeg" ContentType="image/jpeg"/>
  <Override PartName="/ppt/media/image32.jpeg" ContentType="image/jpeg"/>
  <Override PartName="/ppt/media/image10.jpeg" ContentType="image/jpeg"/>
  <Override PartName="/ppt/media/image7.gif" ContentType="image/gif"/>
  <Override PartName="/ppt/media/image29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png" ContentType="image/png"/>
  <Override PartName="/ppt/media/image14.jpeg" ContentType="image/jpeg"/>
  <Override PartName="/ppt/media/image34.jpeg" ContentType="image/jpeg"/>
  <Override PartName="/ppt/media/image6.jpeg" ContentType="image/jpeg"/>
  <Override PartName="/ppt/media/image27.jpeg" ContentType="image/jpeg"/>
  <Override PartName="/ppt/media/image12.jpeg" ContentType="image/jpeg"/>
  <Override PartName="/ppt/media/image1.png" ContentType="image/png"/>
  <Override PartName="/ppt/media/image13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.gif" ContentType="image/gif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E5BEC-63FF-4B95-9DEF-54BACB9C681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ми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Наши потребности в пище всегда ограничены стенками нашего желудка»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ъясните смысл выраж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мин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«Наши потребности в пище всегда ограничены стенками нашего желудка»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ъясните смысл выражения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900igr.n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вень доходов населения зависит от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епени насыщенности потребительског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ка товар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ровень доходов населения зависит от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епени насыщенности потребительского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ка товарам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ы 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сумма денежных средств и материальных благ, полученных или произведенных домашними хозяйствами за определенный промежуток времен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оходы насел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- сумма денежных средств и материальных благ, полученных или произведенных домашними хозяйствами за определенный промежуток времени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минальный дох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количество денег, полученное отдельными лицами в течение определенного период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оминальный доход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- количество денег, полученное отдельными лицами в течение определенного периода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олагаемый дох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доход, который может быть использован на личное потребление и личные сбережен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олагаемый доход меньше номинального дохода на сумму налогов и обязательных платеж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сполагаемый доход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- доход, который может быть использован на личное потребление и личные сбережения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сполагаемый доход меньше номинального дохода на сумму налогов и обязательных платежей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альный дох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располагаемый доход с учетом инфля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альный доход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то располагаемый доход с учетом инфляции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точники доходов 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 от предпринимательско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ятель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сточники доходов насел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оход от предпринимательской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еятельност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точники доходов 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нс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ипенди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сточники доходов насел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енси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ипендии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точники доходов 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личные пособ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ы о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бствен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сточники доходов насел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личные пособ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оходы от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бственност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точники доходов 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виден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н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сточники доходов насел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ивиденд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нт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точники доходов 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едства от продажи ценных бумаг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движимости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дукции сельского хозяйства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личных издел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сточники доходов насел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редства от продажи ценных бумаг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движимости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дукции сельского хозяйства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личных издели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ми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 человека - это поток денежных поступлений в единицу времен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огатство - это запас материальных и финансовых активов, которыми данный человек владеет в данный момент времени: наличные деньги, акции, дома, земля, предприят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вы думаете, доход 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огатство связан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руг с друго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им-либо образо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если связаны, то каким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мин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оход человека - это поток денежных поступлений в единицу времени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Богатство - это запас материальных и финансовых активов, которыми данный человек владеет в данный момент времени: наличные деньги, акции, дома, земля, предприятии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ак вы думаете, доход и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богатство связаны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руг с другом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аким-либо образом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 если связаны, то каким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точники доходов 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ы от различных услуг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казанных на сторон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сточники доходов насел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оходы от различных услуг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казанных на сторон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фференциация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разница в уровне денежных доходов различных слоев и групп населен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ифференциация доходо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- разница в уровне денежных доходов различных слоев и групп населения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ная ценность, принадлежащих людям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чины дифференциации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ная успешность использования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ный объем, принадлежащих людям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ная ценность, принадлежащих людям факторов производ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ичины дифференциации доходо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ная успешность использования факторов производ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ный объем, принадлежащих людям факторов производ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личия во врожденных способностях люд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чины дифференциации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личия в производительности тру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скриминация на рынке тру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личия во врожденных способностях люде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ичины дифференциации доходо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личия в производительности труд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искриминация на рынке труд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оложенность людей к риск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чины дифференциации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дача и несчасть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мущественные различ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сположенность людей к риску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ичины дифференциации доходо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дача и несчасть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мущественные различ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Последствия сильной дифференциации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следствия сильной дифференциации доходо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рения дифференциации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методы измерения доли дохода или богатства, приходящейся на различные группы насел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змерения дифференциации доходо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- методы измерения доли дохода или богатства, приходящейся на различные группы населения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ивая Лоренц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ивая, которая показывает, какую часть совокупного денежного дохода страны получает каждая доля низкодоходных и высокодоходных семей, то есть отражает в процентах распределение дохода между семьями с разным достатк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ривая Лоренц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—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ривая, которая показывает, какую часть совокупного денежного дохода страны получает каждая доля низкодоходных и высокодоходных семей, то есть отражает в процентах распределение дохода между семьями с разным достатко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Кривая Лоренц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ривая Лоренц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эффициент Джин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казывает степень отклонения фактического объема распределения доходов населения от линии их равномерного распределен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оэффициент Джин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казывает степень отклонения фактического объема распределения доходов населения от линии их равномерного распределения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ми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чень часто говорят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«богатство - понят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носительное»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гласны ли вы с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им утверждением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мин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чень часто говорят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что «богатство - понятие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носительное»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гласны ли вы с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тим утверждением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деление функций работодателей и государ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ое регулирование неравенства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грессивное обложение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государственной и социальной поддержки граждан (трансферты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деление функций работодателей и государ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осударственное регулирование неравенства доходо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грессивное обложение доходо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истема государственной и социальной поддержки граждан (трансферты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равнивание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целенаправленная политика государства по нивелированию разницы в личных доходах различных категорий насел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ыравнивание доходо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- целенаправленная политика государства по нивелированию разницы в личных доходах различных категорий населения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 всем цивилизованном мире, чем выше образование, тем выше уровень доход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жно ли сказать, что в России доход, получаемый работником, зависит от уровня образования этого работника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чем тогда люд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емятс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учить высше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ование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опрос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о всем цивилизованном мире, чем выше образование, тем выше уровень доходов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ожно ли сказать, что в России доход, получаемый работником, зависит от уровня образования этого работника?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чем тогда люд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ремятся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лучить высшее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разование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жно ли считат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грессивно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огообложе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чных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ов абсолютн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аведливы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обретение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ловечества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опрос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ожно ли считать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грессивное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логообложение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личных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оходов абсолютно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праведливым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зобретением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человечества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60-х - 70-х годах 20 в. в Швеции возникло довольно странное явление: наиболее квалифицированные работники различных профессий, имея законодательно установленный четырехнедельный оплачиваемый отпуск, стали брать еще один месяц отпуска за свой счет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ругими словами, шведы вместо 11 трудовых месяцев в году стали работать только 10 месяцев, теряя при этом месячную заработную плату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чем связан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явление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опрос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 60-х - 70-х годах 20 в. в Швеции возникло довольно странное явление: наиболее квалифицированные работники различных профессий, имея законодательно установленный четырехнедельный оплачиваемый отпуск, стали брать еще один месяц отпуска за свой счет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ругими словами, шведы вместо 11 трудовых месяцев в году стали работать только 10 месяцев, теряя при этом месячную заработную плату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 чем связано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то явление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Экономическая лаборатория «Богатство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кономическая лаборатория «Богатство»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дач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усть в тридевятом царстве проживают только 5 граждан: Иванушка-дурачок, Василиса Премудрая, Баба Яга, Кощей Бессмертный и Андрей-стрелок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этом доходы между ними распределяются следующим образом: Иванушка-дурачок получает в месяц 50 руб., Андрей стрелок – 75 руб., Баба Яга - 125 руб., Василиса Премудрая 250 руб. и Кощей - 500 руб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ройте кривую Лоренца для этого цар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дач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усть в тридевятом царстве проживают только 5 граждан: Иванушка-дурачок, Василиса Премудрая, Баба Яга, Кощей Бессмертный и Андрей-стрелок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и этом доходы между ними распределяются следующим образом: Иванушка-дурачок получает в месяц 50 руб., Андрей стрелок – 75 руб., Баба Яга - 125 руб., Василиса Премудрая 250 руб. и Кощей - 500 руб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стройте кривую Лоренца для этого царства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ми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Количество товаров и услуг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торые мы можем купить, определяются исключительн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шим доходом»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аведливо ли эт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тверждение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мин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«Количество товаров и услуг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оторые мы можем купить, определяются исключительно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шим доходом»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праведливо ли это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тверждение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ми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м скупость отличаетс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 экономности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им образом можн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ыстре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работать богатство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купостью ил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ностью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мин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Чем скупость отличается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 экономности?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аким образом можно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быстрее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работать богатство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купостью или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кономностью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вень доходов населения является важнейшим индикатором благосостояния общества, определяющим фактором в отношении социальных возможностей населения: отдыха, получения образования, поддержания здоровь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ровень доходов населения является важнейшим индикатором благосостояния общества, определяющим фактором в отношении социальных возможностей населения: отдыха, получения образования, поддержания здоровья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Распределение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04.01.20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спределение доходо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04.01.201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вень потребления населения напрямую зависит от уровня доходов, поэтому одной из приоритетных задач стимулирования экономики является повышение доходов населен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ровень потребления населения напрямую зависит от уровня доходов, поэтому одной из приоритетных задач стимулирования экономики является повышение доходов населения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вень доходов населения зависит от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намики розничных ц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ровень доходов населения зависит от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инамики розничных цен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C005-DC03-4826-9258-E8CBC7C40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6F0E-C73B-42F7-B68F-EF1D746C7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3428-119D-4764-AD82-825E1A97C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8376-3556-4C81-81A8-B3313B1B8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99433-E736-4535-B798-9E2D1B121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42F4B-33BD-40CD-89DD-5F0323282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1C65D-5BE4-4DE8-A664-7E5EE0D7F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482AC-6B49-458C-A97E-29964A4EA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66698-193E-4CDA-A399-23EAC616F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E8064-DA9D-45BE-8CAD-D2A6AD5D9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71E56-87FD-4CDF-B472-839C5DB7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45D5-1C1E-46D3-9F30-58BF6BCE3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9435C-79F4-43CF-AD48-49945BB8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A9503-8C08-446D-BC0B-8CA36733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31166-D253-436B-B106-72E8A3C11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8C20F-52F8-499C-8BA9-E0D1635A2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331C4-70E3-4051-A59F-E801F970F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5412-7960-499F-8B1C-EA1F7C34E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0592-87A1-4A22-A0DD-6865020C6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7B90-4481-4A56-B414-46FF214D3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3E67-8EAF-4975-8ECB-ECEA9C682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390E-B12F-42ED-9A76-B9FE0BB34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8284-11B8-418D-A6DD-EB7E5F44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2041-54E0-41D0-84A8-6586CD01E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2C307-7C12-4FE2-954F-0E23AA9366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4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5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6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7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8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9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0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1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2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3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4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15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16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17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19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0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1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22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23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24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25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26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27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28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29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30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31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32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72D1E-159D-407C-BAD9-996900C5236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kvnru.ru/img/razminka006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day.az/pictures/pic174255.jpg" TargetMode="External"/><Relationship Id="rId4" Type="http://schemas.openxmlformats.org/officeDocument/2006/relationships/image" Target="../media/image4.jpeg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perm.aif.ru/application/public/news/936/065c56d7a2037771b3c3dab16b173a87_big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aif.ru/application/public/news/289/f4d2ecdd672952bce23c992d05143e85_big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static2.aif.ru/public/news/813/ea4b9fc02de54d413edaef5c571a2491_big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sergeynikolaev.com/lj/zarplata-1.jpg" TargetMode="External"/><Relationship Id="rId2" Type="http://schemas.openxmlformats.org/officeDocument/2006/relationships/image" Target="../media/image20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deeside.ac.uk/img/money.jpg" TargetMode="External"/><Relationship Id="rId2" Type="http://schemas.openxmlformats.org/officeDocument/2006/relationships/image" Target="../media/image21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kyivsta.gov.ua/news/2008/11/1121_5.jpg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kerb.ru/index.php?option=com_datsogallery&amp;Itemid=6&amp;func=download&amp;file=B361B5330C70-4.jpg" TargetMode="External"/><Relationship Id="rId4" Type="http://schemas.openxmlformats.org/officeDocument/2006/relationships/image" Target="../media/image22.jpeg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smolensk2.ru/images/img_9519.jpg" TargetMode="External"/><Relationship Id="rId2" Type="http://schemas.openxmlformats.org/officeDocument/2006/relationships/image" Target="../media/image23.jpeg"/><Relationship Id="rId3" Type="http://schemas.openxmlformats.org/officeDocument/2006/relationships/hyperlink" Target="http://kampk.ucoz.ru/Novosti/News2009-2010/Stypendija_miskrady.jpg" TargetMode="External"/><Relationship Id="rId4" Type="http://schemas.openxmlformats.org/officeDocument/2006/relationships/image" Target="../media/image24.jpeg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kvnru.ru/img/razminka006.jpg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g1.liveinternet.ru/images/foto/b/3/97/3012097/f_16919489.jpg" TargetMode="External"/><Relationship Id="rId4" Type="http://schemas.openxmlformats.org/officeDocument/2006/relationships/image" Target="../media/image6.jpeg"/><Relationship Id="rId5" Type="http://schemas.openxmlformats.org/officeDocument/2006/relationships/image" Target="../media/image7.gif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kvnru.ru/img/razminka006.jpg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7.gif"/><Relationship Id="rId4" Type="http://schemas.openxmlformats.org/officeDocument/2006/relationships/hyperlink" Target="http://stat8.blog.ru/lr/0a0279ca3f244fe11d1e3d749d76bdbf" TargetMode="External"/><Relationship Id="rId5" Type="http://schemas.openxmlformats.org/officeDocument/2006/relationships/image" Target="../media/image8.jpeg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7.gif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7.gif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7.gif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kvnru.ru/img/razminka006.jpg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7.gif"/><Relationship Id="rId4" Type="http://schemas.openxmlformats.org/officeDocument/2006/relationships/hyperlink" Target="http://www.ru-boss.com/uploads/posts/2007-12/thumbs/1198344203_39705.jpg" TargetMode="External"/><Relationship Id="rId5" Type="http://schemas.openxmlformats.org/officeDocument/2006/relationships/image" Target="../media/image9.jpeg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kvnru.ru/img/razminka006.jpg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7.gif"/><Relationship Id="rId4" Type="http://schemas.openxmlformats.org/officeDocument/2006/relationships/hyperlink" Target="http://karikaturist.ru/images/karikaturist/w1.jpg" TargetMode="External"/><Relationship Id="rId5" Type="http://schemas.openxmlformats.org/officeDocument/2006/relationships/image" Target="../media/image10.jpeg"/><Relationship Id="rId6" Type="http://schemas.openxmlformats.org/officeDocument/2006/relationships/hyperlink" Target="http://www.aif.ru/application/public/opinion/905/0b9d6c7710ec3d137963260f74bc17e1_big.jpg" TargetMode="External"/><Relationship Id="rId7" Type="http://schemas.openxmlformats.org/officeDocument/2006/relationships/image" Target="../media/image11.jpeg"/><Relationship Id="rId8" Type="http://schemas.openxmlformats.org/officeDocument/2006/relationships/audio" Target="../media/cashreg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gazeta.a42.ru/images/lenta/2792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gemplayer.files.wordpress.com/2008/12/revenue.jpg?w=300&amp;h=245" TargetMode="External"/><Relationship Id="rId2" Type="http://schemas.openxmlformats.org/officeDocument/2006/relationships/image" Target="../media/image13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inus.vl.ru/mtravel/america/photo/album/2/gamburger.jpg" TargetMode="External"/><Relationship Id="rId2" Type="http://schemas.openxmlformats.org/officeDocument/2006/relationships/image" Target="../media/image14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kyivsta.gov.ua/news/2008/11/1121_5.jpg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s48.radikal.ru/i121/0911/7a/57f9955d05e5.jpg" TargetMode="External"/><Relationship Id="rId4" Type="http://schemas.openxmlformats.org/officeDocument/2006/relationships/image" Target="../media/image16.jpeg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Разминк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2608200" y="3994200"/>
            <a:ext cx="1843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395280" y="901800"/>
            <a:ext cx="8353440" cy="20714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«Наши потребности в пище всегда ограничены стенками нашего желудка»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Объясните смысл выражен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Picture 5" descr="Картинка 1 из 1701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035000" cy="7668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Картинка 14 из 1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340000" y="30448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5" name="cashreg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Уровень доходов населения зависит от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3" name="Picture 6" descr="Картинка 13 из 5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1285920"/>
            <a:ext cx="7424640" cy="5572080"/>
          </a:xfrm>
          <a:prstGeom prst="rect">
            <a:avLst/>
          </a:prstGeom>
          <a:ln w="0">
            <a:noFill/>
          </a:ln>
        </p:spPr>
      </p:pic>
      <p:sp>
        <p:nvSpPr>
          <p:cNvPr id="204" name="TextBox 7"/>
          <p:cNvSpPr/>
          <p:nvPr/>
        </p:nvSpPr>
        <p:spPr>
          <a:xfrm>
            <a:off x="2268360" y="5288040"/>
            <a:ext cx="6356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Степени насыщенности потребительского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рынка товарам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Доходы населен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684360" y="907920"/>
            <a:ext cx="7921440" cy="26654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- сумма денежных средств и материальных благ, полученных или произведенных домашними хозяйствами за определенный промежуток времен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8" name="Picture 2" descr="Картинка 14 из 789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00720" y="3440160"/>
            <a:ext cx="4643280" cy="3417840"/>
          </a:xfrm>
          <a:prstGeom prst="rect">
            <a:avLst/>
          </a:prstGeom>
          <a:ln w="0">
            <a:noFill/>
          </a:ln>
        </p:spPr>
      </p:pic>
      <p:sp>
        <p:nvSpPr>
          <p:cNvPr id="209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Номинальный доход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684360" y="907920"/>
            <a:ext cx="7921440" cy="180036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- количество денег, полученное отдельными лицами в течение определенного период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2" name="Picture 2" descr="Картинка 1 из 789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2708280"/>
            <a:ext cx="5327640" cy="3922560"/>
          </a:xfrm>
          <a:prstGeom prst="rect">
            <a:avLst/>
          </a:prstGeom>
          <a:ln w="0">
            <a:noFill/>
          </a:ln>
        </p:spPr>
      </p:pic>
      <p:sp>
        <p:nvSpPr>
          <p:cNvPr id="213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Располагаемый доход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684360" y="907920"/>
            <a:ext cx="7921440" cy="21607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- доход, который может быть использован на личное потребление и личные сбережения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611280" y="4437000"/>
            <a:ext cx="7921440" cy="21607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Располагаемый доход меньше номинального дохода на сумму налогов и обязательных платеже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7" name="Picture 2" descr="Картинка 18 из 248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84720" y="2421000"/>
            <a:ext cx="2500560" cy="2000160"/>
          </a:xfrm>
          <a:prstGeom prst="rect">
            <a:avLst/>
          </a:prstGeom>
          <a:ln w="0">
            <a:noFill/>
          </a:ln>
        </p:spPr>
      </p:pic>
      <p:sp>
        <p:nvSpPr>
          <p:cNvPr id="218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Реальный доход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684360" y="907920"/>
            <a:ext cx="7921440" cy="12258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– </a:t>
            </a: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это располагаемый доход с учетом инфляци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1" name="Picture 2" descr="http://www.deeside.ac.uk/img/money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35280" y="2565360"/>
            <a:ext cx="5413320" cy="4059360"/>
          </a:xfrm>
          <a:prstGeom prst="rect">
            <a:avLst/>
          </a:prstGeom>
          <a:ln w="0">
            <a:noFill/>
          </a:ln>
        </p:spPr>
      </p:pic>
      <p:sp>
        <p:nvSpPr>
          <p:cNvPr id="222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Источники доходов населен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" name="Picture 2" descr="Картинка 10 из 293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052640"/>
            <a:ext cx="3687840" cy="33843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" descr="Картинка 36 из 138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51280" y="2060640"/>
            <a:ext cx="4537080" cy="3286080"/>
          </a:xfrm>
          <a:prstGeom prst="rect">
            <a:avLst/>
          </a:prstGeom>
          <a:ln w="0">
            <a:noFill/>
          </a:ln>
        </p:spPr>
      </p:pic>
      <p:sp>
        <p:nvSpPr>
          <p:cNvPr id="226" name="TextBox 7"/>
          <p:cNvSpPr/>
          <p:nvPr/>
        </p:nvSpPr>
        <p:spPr>
          <a:xfrm>
            <a:off x="3247920" y="5445000"/>
            <a:ext cx="550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Доход от предпринимательской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деятельно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5" name="cashreg.wav"/>
      </p:stSnd>
    </p:sndAc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Источники доходов населен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9" name="Picture 2" descr="Картинка 1 из 5896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836640"/>
            <a:ext cx="3911760" cy="4643280"/>
          </a:xfrm>
          <a:prstGeom prst="rect">
            <a:avLst/>
          </a:prstGeom>
          <a:ln w="0">
            <a:noFill/>
          </a:ln>
        </p:spPr>
      </p:pic>
      <p:sp>
        <p:nvSpPr>
          <p:cNvPr id="230" name="TextBox 9"/>
          <p:cNvSpPr/>
          <p:nvPr/>
        </p:nvSpPr>
        <p:spPr>
          <a:xfrm>
            <a:off x="1186920" y="5589720"/>
            <a:ext cx="19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пенси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1" name="Picture 4" descr="Картинка 3 из 5208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3280" y="836640"/>
            <a:ext cx="3907080" cy="4608360"/>
          </a:xfrm>
          <a:prstGeom prst="rect">
            <a:avLst/>
          </a:prstGeom>
          <a:ln w="0">
            <a:noFill/>
          </a:ln>
        </p:spPr>
      </p:pic>
      <p:sp>
        <p:nvSpPr>
          <p:cNvPr id="232" name="TextBox 11"/>
          <p:cNvSpPr/>
          <p:nvPr/>
        </p:nvSpPr>
        <p:spPr>
          <a:xfrm>
            <a:off x="5226840" y="5516640"/>
            <a:ext cx="294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стипендии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5" name="cashreg.wav"/>
      </p:stSnd>
    </p:sndAc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Источники доходов населен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5" name="Picture 2" descr="Картинка 9 из 312481"/>
          <p:cNvPicPr/>
          <p:nvPr/>
        </p:nvPicPr>
        <p:blipFill>
          <a:blip r:embed="rId1"/>
          <a:stretch/>
        </p:blipFill>
        <p:spPr>
          <a:xfrm>
            <a:off x="324000" y="765000"/>
            <a:ext cx="5076720" cy="3372120"/>
          </a:xfrm>
          <a:prstGeom prst="rect">
            <a:avLst/>
          </a:prstGeom>
          <a:ln w="0">
            <a:noFill/>
          </a:ln>
        </p:spPr>
      </p:pic>
      <p:sp>
        <p:nvSpPr>
          <p:cNvPr id="236" name="TextBox 8"/>
          <p:cNvSpPr/>
          <p:nvPr/>
        </p:nvSpPr>
        <p:spPr>
          <a:xfrm>
            <a:off x="687600" y="4214880"/>
            <a:ext cx="391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Различные пособ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7" name="Picture 4" descr="Картинка 7 из 3606806"/>
          <p:cNvPicPr/>
          <p:nvPr/>
        </p:nvPicPr>
        <p:blipFill>
          <a:blip r:embed="rId2"/>
          <a:stretch/>
        </p:blipFill>
        <p:spPr>
          <a:xfrm>
            <a:off x="4643280" y="2637000"/>
            <a:ext cx="4283280" cy="3214440"/>
          </a:xfrm>
          <a:prstGeom prst="rect">
            <a:avLst/>
          </a:prstGeom>
          <a:ln w="0">
            <a:noFill/>
          </a:ln>
        </p:spPr>
      </p:pic>
      <p:sp>
        <p:nvSpPr>
          <p:cNvPr id="238" name="TextBox 14"/>
          <p:cNvSpPr/>
          <p:nvPr/>
        </p:nvSpPr>
        <p:spPr>
          <a:xfrm>
            <a:off x="5839560" y="6027840"/>
            <a:ext cx="255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Доходы о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собственно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Источники доходов населен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1" name="Picture 2" descr="Картинка 7 из 9113"/>
          <p:cNvPicPr/>
          <p:nvPr/>
        </p:nvPicPr>
        <p:blipFill>
          <a:blip r:embed="rId1"/>
          <a:stretch/>
        </p:blipFill>
        <p:spPr>
          <a:xfrm>
            <a:off x="250920" y="907920"/>
            <a:ext cx="5554440" cy="3429000"/>
          </a:xfrm>
          <a:prstGeom prst="rect">
            <a:avLst/>
          </a:prstGeom>
          <a:ln w="0">
            <a:noFill/>
          </a:ln>
        </p:spPr>
      </p:pic>
      <p:sp>
        <p:nvSpPr>
          <p:cNvPr id="242" name="TextBox 9"/>
          <p:cNvSpPr/>
          <p:nvPr/>
        </p:nvSpPr>
        <p:spPr>
          <a:xfrm>
            <a:off x="443160" y="907920"/>
            <a:ext cx="299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44"/>
                </a:solidFill>
                <a:latin typeface="Arial Black"/>
              </a:rPr>
              <a:t>дивиденд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3" name="Picture 4" descr="Картинка 16 из 63130"/>
          <p:cNvPicPr/>
          <p:nvPr/>
        </p:nvPicPr>
        <p:blipFill>
          <a:blip r:embed="rId2"/>
          <a:stretch/>
        </p:blipFill>
        <p:spPr>
          <a:xfrm>
            <a:off x="5003640" y="3048120"/>
            <a:ext cx="3924360" cy="3809880"/>
          </a:xfrm>
          <a:prstGeom prst="rect">
            <a:avLst/>
          </a:prstGeom>
          <a:ln w="0">
            <a:noFill/>
          </a:ln>
        </p:spPr>
      </p:pic>
      <p:sp>
        <p:nvSpPr>
          <p:cNvPr id="244" name="TextBox 13"/>
          <p:cNvSpPr/>
          <p:nvPr/>
        </p:nvSpPr>
        <p:spPr>
          <a:xfrm>
            <a:off x="5053320" y="2997360"/>
            <a:ext cx="157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рент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Источники доходов населен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7" name="Picture 2" descr="Картинка 4 из 586181"/>
          <p:cNvPicPr/>
          <p:nvPr/>
        </p:nvPicPr>
        <p:blipFill>
          <a:blip r:embed="rId1"/>
          <a:stretch/>
        </p:blipFill>
        <p:spPr>
          <a:xfrm>
            <a:off x="539640" y="836640"/>
            <a:ext cx="8089920" cy="5616720"/>
          </a:xfrm>
          <a:prstGeom prst="rect">
            <a:avLst/>
          </a:prstGeom>
          <a:ln w="0">
            <a:noFill/>
          </a:ln>
        </p:spPr>
      </p:pic>
      <p:sp>
        <p:nvSpPr>
          <p:cNvPr id="248" name="TextBox 7"/>
          <p:cNvSpPr/>
          <p:nvPr/>
        </p:nvSpPr>
        <p:spPr>
          <a:xfrm>
            <a:off x="997560" y="4221000"/>
            <a:ext cx="7064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средства от продажи ценных бумаг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недвижимости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родукции сельского хозяйства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различных издели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2" name="cashreg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Разминк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2608200" y="402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395280" y="907920"/>
            <a:ext cx="8353440" cy="30974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Доход человека - это поток денежных поступлений в единицу времен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Богатство - это запас материальных и финансовых активов, которыми данный человек владеет в данный момент времени: наличные деньги, акции, дома, земля, предприяти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Picture 5" descr="Картинка 1 из 1701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042920" cy="7732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Картинка 18 из 1547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08720" y="907920"/>
            <a:ext cx="1403640" cy="14306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D:\marina\картинки\человек\Рисунок1.gif"/>
          <p:cNvPicPr/>
          <p:nvPr/>
        </p:nvPicPr>
        <p:blipFill>
          <a:blip r:embed="rId5"/>
          <a:stretch/>
        </p:blipFill>
        <p:spPr>
          <a:xfrm>
            <a:off x="250920" y="4653000"/>
            <a:ext cx="1038240" cy="1333440"/>
          </a:xfrm>
          <a:prstGeom prst="rect">
            <a:avLst/>
          </a:prstGeom>
          <a:ln w="0">
            <a:noFill/>
          </a:ln>
        </p:spPr>
      </p:pic>
      <p:sp>
        <p:nvSpPr>
          <p:cNvPr id="160" name="Выноска-облако 9"/>
          <p:cNvSpPr/>
          <p:nvPr/>
        </p:nvSpPr>
        <p:spPr>
          <a:xfrm>
            <a:off x="2124000" y="3716280"/>
            <a:ext cx="6769080" cy="2808360"/>
          </a:xfrm>
          <a:prstGeom prst="cloudCallout">
            <a:avLst>
              <a:gd name="adj1" fmla="val -61500"/>
              <a:gd name="adj2" fmla="val 11796"/>
            </a:avLst>
          </a:prstGeom>
          <a:solidFill>
            <a:srgbClr val="adad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Как вы думаете, доход 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богатство связаны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друг с другом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каким-либо образом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и если связаны, то каким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Місце для нижнього колонтитула 2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6" name="cashreg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Источники доходов населен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1" name="Picture 2" descr="Картинка 13 из 1665348"/>
          <p:cNvPicPr/>
          <p:nvPr/>
        </p:nvPicPr>
        <p:blipFill>
          <a:blip r:embed="rId1"/>
          <a:stretch/>
        </p:blipFill>
        <p:spPr>
          <a:xfrm>
            <a:off x="971640" y="836640"/>
            <a:ext cx="7210440" cy="4286160"/>
          </a:xfrm>
          <a:prstGeom prst="rect">
            <a:avLst/>
          </a:prstGeom>
          <a:ln w="0">
            <a:noFill/>
          </a:ln>
        </p:spPr>
      </p:pic>
      <p:sp>
        <p:nvSpPr>
          <p:cNvPr id="252" name="TextBox 6"/>
          <p:cNvSpPr/>
          <p:nvPr/>
        </p:nvSpPr>
        <p:spPr>
          <a:xfrm>
            <a:off x="2073600" y="5229360"/>
            <a:ext cx="480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доходы от различных услуг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оказанных на сторон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2" name="cashreg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Дифференциация доходо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684360" y="836640"/>
            <a:ext cx="7921440" cy="17287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- разница в уровне денежных доходов различных слоев и групп населения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Picture 7" descr="http://s60.radikal.ru/i170/0911/d5/70e33d3c3c32.jpg"/>
          <p:cNvPicPr/>
          <p:nvPr/>
        </p:nvPicPr>
        <p:blipFill>
          <a:blip r:embed="rId1"/>
          <a:srcRect l="887" t="30236" r="0" b="3780"/>
          <a:stretch/>
        </p:blipFill>
        <p:spPr>
          <a:xfrm>
            <a:off x="2556000" y="2492280"/>
            <a:ext cx="4417920" cy="4143600"/>
          </a:xfrm>
          <a:prstGeom prst="rect">
            <a:avLst/>
          </a:prstGeom>
          <a:ln w="0">
            <a:noFill/>
          </a:ln>
        </p:spPr>
      </p:pic>
      <p:sp>
        <p:nvSpPr>
          <p:cNvPr id="257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2" name="cashreg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4"/>
          <p:cNvSpPr/>
          <p:nvPr/>
        </p:nvSpPr>
        <p:spPr>
          <a:xfrm>
            <a:off x="179280" y="1052640"/>
            <a:ext cx="8640720" cy="115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разная ценность, принадлежащих людям факторов производств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Text Box 2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Причины дифференциации доход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250920" y="2924280"/>
            <a:ext cx="8640720" cy="115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разная успешность использования факторов производств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324000" y="4797360"/>
            <a:ext cx="8640720" cy="1152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разный объем, принадлежащих людям факторов производств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cashreg.wav"/>
      </p:stSnd>
    </p:sndAc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4"/>
          <p:cNvSpPr/>
          <p:nvPr/>
        </p:nvSpPr>
        <p:spPr>
          <a:xfrm>
            <a:off x="179280" y="1052640"/>
            <a:ext cx="8640720" cy="115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различия во врожденных способностях люде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Причины дифференциации доход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250920" y="2924280"/>
            <a:ext cx="8640720" cy="115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различия в производительности труд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250920" y="4797360"/>
            <a:ext cx="8640720" cy="1152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дискриминация на рынке труд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cashreg.wav"/>
      </p:stSnd>
    </p:sndAc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4"/>
          <p:cNvSpPr/>
          <p:nvPr/>
        </p:nvSpPr>
        <p:spPr>
          <a:xfrm>
            <a:off x="179280" y="1052640"/>
            <a:ext cx="8640720" cy="115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расположенность людей к риск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Text Box 2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Причины дифференциации доход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250920" y="2924280"/>
            <a:ext cx="8640720" cy="115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удача и несчасть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Rectangle 4"/>
          <p:cNvSpPr/>
          <p:nvPr/>
        </p:nvSpPr>
        <p:spPr>
          <a:xfrm>
            <a:off x="250920" y="4797360"/>
            <a:ext cx="8640720" cy="1152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имущественные различ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cashreg.wav"/>
      </p:stSnd>
    </p:sndAc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Последствия сильной дифференциации доход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4" name="Picture 2" descr="Картинка 39 из 197"/>
          <p:cNvPicPr/>
          <p:nvPr/>
        </p:nvPicPr>
        <p:blipFill>
          <a:blip r:embed="rId1"/>
          <a:stretch/>
        </p:blipFill>
        <p:spPr>
          <a:xfrm>
            <a:off x="1692360" y="1484280"/>
            <a:ext cx="5763960" cy="5113440"/>
          </a:xfrm>
          <a:prstGeom prst="rect">
            <a:avLst/>
          </a:prstGeom>
          <a:ln w="0">
            <a:noFill/>
          </a:ln>
        </p:spPr>
      </p:pic>
      <p:sp>
        <p:nvSpPr>
          <p:cNvPr id="275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2" name="cashreg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2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Измерения дифференциации доходо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Rectangle 3"/>
          <p:cNvSpPr/>
          <p:nvPr/>
        </p:nvSpPr>
        <p:spPr>
          <a:xfrm>
            <a:off x="468360" y="1700280"/>
            <a:ext cx="7921440" cy="17287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- методы измерения доли дохода или богатства, приходящейся на различные группы населен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8" name="Picture 6" descr="http://gemplayer.files.wordpress.com/2008/12/revenue.jpg?w=300&amp;h=245"/>
          <p:cNvPicPr/>
          <p:nvPr/>
        </p:nvPicPr>
        <p:blipFill>
          <a:blip r:embed="rId1"/>
          <a:stretch/>
        </p:blipFill>
        <p:spPr>
          <a:xfrm>
            <a:off x="2771640" y="3645000"/>
            <a:ext cx="3438720" cy="2809800"/>
          </a:xfrm>
          <a:prstGeom prst="rect">
            <a:avLst/>
          </a:prstGeom>
          <a:ln w="0">
            <a:noFill/>
          </a:ln>
        </p:spPr>
      </p:pic>
      <p:sp>
        <p:nvSpPr>
          <p:cNvPr id="279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2" name="cashreg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Кривая Лоренц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Rectangle 3"/>
          <p:cNvSpPr/>
          <p:nvPr/>
        </p:nvSpPr>
        <p:spPr>
          <a:xfrm>
            <a:off x="468360" y="1125360"/>
            <a:ext cx="7921440" cy="4607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— </a:t>
            </a: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кривая, которая показывает, какую часть совокупного денежного дохода страны получает каждая доля низкодоходных и высокодоходных семей, то есть отражает в процентах распределение дохода между семьями с разным достатко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cashreg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Кривая Лоренц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4" name="Picture 3" descr="E:\marina\10 класс экономика\Несостоятельность рынка и государственное регулирование\Кривая_Лоренца_и_коэффициент_Робин_Гуда[1].jpg"/>
          <p:cNvPicPr/>
          <p:nvPr/>
        </p:nvPicPr>
        <p:blipFill>
          <a:blip r:embed="rId1"/>
          <a:stretch/>
        </p:blipFill>
        <p:spPr>
          <a:xfrm>
            <a:off x="682560" y="743040"/>
            <a:ext cx="7985160" cy="5713200"/>
          </a:xfrm>
          <a:prstGeom prst="rect">
            <a:avLst/>
          </a:prstGeom>
          <a:ln w="0">
            <a:noFill/>
          </a:ln>
        </p:spPr>
      </p:pic>
      <p:sp>
        <p:nvSpPr>
          <p:cNvPr id="285" name="Прямая соединительная линия 12"/>
          <p:cNvSpPr/>
          <p:nvPr/>
        </p:nvSpPr>
        <p:spPr>
          <a:xfrm flipH="1">
            <a:off x="1618920" y="5444280"/>
            <a:ext cx="431640" cy="287640"/>
          </a:xfrm>
          <a:prstGeom prst="line">
            <a:avLst/>
          </a:prstGeom>
          <a:ln w="8568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86" name="Прямая соединительная линия 29"/>
          <p:cNvCxnSpPr/>
          <p:nvPr/>
        </p:nvCxnSpPr>
        <p:spPr>
          <a:xfrm flipV="1">
            <a:off x="1692360" y="5444280"/>
            <a:ext cx="1296000" cy="288360"/>
          </a:xfrm>
          <a:prstGeom prst="straightConnector1">
            <a:avLst/>
          </a:prstGeom>
          <a:ln w="63360">
            <a:solidFill>
              <a:srgbClr val="ff0000"/>
            </a:solidFill>
            <a:miter/>
          </a:ln>
        </p:spPr>
      </p:cxnSp>
      <p:cxnSp>
        <p:nvCxnSpPr>
          <p:cNvPr id="287" name="Прямая соединительная линия 29"/>
          <p:cNvCxnSpPr/>
          <p:nvPr/>
        </p:nvCxnSpPr>
        <p:spPr>
          <a:xfrm flipV="1">
            <a:off x="2987280" y="4796640"/>
            <a:ext cx="1297800" cy="648360"/>
          </a:xfrm>
          <a:prstGeom prst="straightConnector1">
            <a:avLst/>
          </a:prstGeom>
          <a:ln w="63360">
            <a:solidFill>
              <a:srgbClr val="ff0000"/>
            </a:solidFill>
            <a:miter/>
          </a:ln>
        </p:spPr>
      </p:cxnSp>
      <p:cxnSp>
        <p:nvCxnSpPr>
          <p:cNvPr id="288" name="Прямая соединительная линия 29"/>
          <p:cNvCxnSpPr/>
          <p:nvPr/>
        </p:nvCxnSpPr>
        <p:spPr>
          <a:xfrm flipV="1">
            <a:off x="4284360" y="3789000"/>
            <a:ext cx="1367640" cy="1008720"/>
          </a:xfrm>
          <a:prstGeom prst="straightConnector1">
            <a:avLst/>
          </a:prstGeom>
          <a:ln w="63360">
            <a:solidFill>
              <a:srgbClr val="ff0000"/>
            </a:solidFill>
            <a:miter/>
          </a:ln>
        </p:spPr>
      </p:cxnSp>
      <p:cxnSp>
        <p:nvCxnSpPr>
          <p:cNvPr id="289" name="Прямая соединительная линия 29"/>
          <p:cNvCxnSpPr/>
          <p:nvPr/>
        </p:nvCxnSpPr>
        <p:spPr>
          <a:xfrm flipV="1">
            <a:off x="5651280" y="2707560"/>
            <a:ext cx="1369080" cy="1081800"/>
          </a:xfrm>
          <a:prstGeom prst="straightConnector1">
            <a:avLst/>
          </a:prstGeom>
          <a:ln w="63360">
            <a:solidFill>
              <a:srgbClr val="ff0000"/>
            </a:solidFill>
            <a:miter/>
          </a:ln>
        </p:spPr>
      </p:cxnSp>
      <p:cxnSp>
        <p:nvCxnSpPr>
          <p:cNvPr id="290" name="Прямая соединительная линия 29"/>
          <p:cNvCxnSpPr/>
          <p:nvPr/>
        </p:nvCxnSpPr>
        <p:spPr>
          <a:xfrm flipV="1">
            <a:off x="7018920" y="1051920"/>
            <a:ext cx="1152720" cy="1656360"/>
          </a:xfrm>
          <a:prstGeom prst="straightConnector1">
            <a:avLst/>
          </a:prstGeom>
          <a:ln w="63360">
            <a:solidFill>
              <a:srgbClr val="ff0000"/>
            </a:solidFill>
            <a:miter/>
          </a:ln>
        </p:spPr>
      </p:cxnSp>
      <p:sp>
        <p:nvSpPr>
          <p:cNvPr id="291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2" name="cashreg.wav"/>
      </p:stSnd>
    </p:sndAc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Коэффициент Джин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Rectangle 3"/>
          <p:cNvSpPr/>
          <p:nvPr/>
        </p:nvSpPr>
        <p:spPr>
          <a:xfrm>
            <a:off x="468360" y="1125360"/>
            <a:ext cx="7921440" cy="3167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показывает степень отклонения фактического объема распределения доходов населения от линии их равномерного распределения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cashreg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Разминк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2608200" y="402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395280" y="1268280"/>
            <a:ext cx="8353440" cy="158616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Очень часто говорят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что «богатство - поняти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относительное»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Picture 5" descr="Картинка 1 из 1701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042920" cy="7732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D:\marina\картинки\человек\Рисунок1.gif"/>
          <p:cNvPicPr/>
          <p:nvPr/>
        </p:nvPicPr>
        <p:blipFill>
          <a:blip r:embed="rId3"/>
          <a:stretch/>
        </p:blipFill>
        <p:spPr>
          <a:xfrm>
            <a:off x="468360" y="4797360"/>
            <a:ext cx="1038240" cy="1333440"/>
          </a:xfrm>
          <a:prstGeom prst="rect">
            <a:avLst/>
          </a:prstGeom>
          <a:ln w="0">
            <a:noFill/>
          </a:ln>
        </p:spPr>
      </p:pic>
      <p:sp>
        <p:nvSpPr>
          <p:cNvPr id="167" name="Выноска-облако 9"/>
          <p:cNvSpPr/>
          <p:nvPr/>
        </p:nvSpPr>
        <p:spPr>
          <a:xfrm>
            <a:off x="2340000" y="3716280"/>
            <a:ext cx="6264360" cy="1657440"/>
          </a:xfrm>
          <a:prstGeom prst="cloudCallout">
            <a:avLst>
              <a:gd name="adj1" fmla="val -65425"/>
              <a:gd name="adj2" fmla="val 58009"/>
            </a:avLst>
          </a:prstGeom>
          <a:solidFill>
            <a:srgbClr val="adad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44"/>
                </a:solidFill>
                <a:latin typeface="Arial Black"/>
              </a:rPr>
              <a:t>Согласны ли вы с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44"/>
                </a:solidFill>
                <a:latin typeface="Arial Black"/>
              </a:rPr>
              <a:t>этим утверждением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Picture 10" descr="Картинка 20 из 78680">
            <a:hlinkClick r:id="rId4"/>
          </p:cNvPr>
          <p:cNvPicPr/>
          <p:nvPr/>
        </p:nvPicPr>
        <p:blipFill>
          <a:blip r:embed="rId5"/>
          <a:srcRect l="9976" t="10919" r="0" b="22678"/>
          <a:stretch/>
        </p:blipFill>
        <p:spPr>
          <a:xfrm>
            <a:off x="7164360" y="1270080"/>
            <a:ext cx="1571760" cy="153180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6" name="cashreg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4"/>
          <p:cNvSpPr/>
          <p:nvPr/>
        </p:nvSpPr>
        <p:spPr>
          <a:xfrm>
            <a:off x="324000" y="1341360"/>
            <a:ext cx="8640720" cy="1152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разделение функций работодателей и государств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Text Box 2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Государственное регулирование неравенства доход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250920" y="2924280"/>
            <a:ext cx="8640720" cy="115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прогрессивное обложение доход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Rectangle 4"/>
          <p:cNvSpPr/>
          <p:nvPr/>
        </p:nvSpPr>
        <p:spPr>
          <a:xfrm>
            <a:off x="250920" y="4365720"/>
            <a:ext cx="8640720" cy="1584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система государственной и социальной поддержки граждан (трансферты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cashreg.wav"/>
      </p:stSnd>
    </p:sndAc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Выравнивание доходо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468360" y="1125360"/>
            <a:ext cx="7921440" cy="28800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- целенаправленная политика государства по нивелированию разницы в личных доходах различных категорий населен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cashreg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Вопрос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2608200" y="402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395280" y="1197000"/>
            <a:ext cx="8209080" cy="158436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Во всем цивилизованном мире, чем выше образование, тем выше уровень доходов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395280" y="3068640"/>
            <a:ext cx="8209080" cy="15127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Можно ли сказать, что в России доход, получаемый работником, зависит от уровня образования этого работника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7" name="Picture 5" descr="E:\marina\картинки\разное\Vopros[1].jpg"/>
          <p:cNvPicPr/>
          <p:nvPr/>
        </p:nvPicPr>
        <p:blipFill>
          <a:blip r:embed="rId1"/>
          <a:stretch/>
        </p:blipFill>
        <p:spPr>
          <a:xfrm>
            <a:off x="8317080" y="0"/>
            <a:ext cx="826920" cy="7840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D:\marina\картинки\человек\Рисунок1.gif"/>
          <p:cNvPicPr/>
          <p:nvPr/>
        </p:nvPicPr>
        <p:blipFill>
          <a:blip r:embed="rId2"/>
          <a:stretch/>
        </p:blipFill>
        <p:spPr>
          <a:xfrm>
            <a:off x="1547640" y="5229360"/>
            <a:ext cx="1038240" cy="1333440"/>
          </a:xfrm>
          <a:prstGeom prst="rect">
            <a:avLst/>
          </a:prstGeom>
          <a:ln w="0">
            <a:noFill/>
          </a:ln>
        </p:spPr>
      </p:pic>
      <p:sp>
        <p:nvSpPr>
          <p:cNvPr id="309" name="Выноска-облако 9"/>
          <p:cNvSpPr/>
          <p:nvPr/>
        </p:nvSpPr>
        <p:spPr>
          <a:xfrm>
            <a:off x="3132000" y="4365720"/>
            <a:ext cx="4392720" cy="2232000"/>
          </a:xfrm>
          <a:prstGeom prst="cloudCallout">
            <a:avLst>
              <a:gd name="adj1" fmla="val -67115"/>
              <a:gd name="adj2" fmla="val 14384"/>
            </a:avLst>
          </a:prstGeom>
          <a:solidFill>
            <a:srgbClr val="adad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Зачем тогда люд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стремятся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получить высше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образование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Вопрос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2608200" y="402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3" name="Picture 5" descr="E:\marina\картинки\разное\Vopros[1].jpg"/>
          <p:cNvPicPr/>
          <p:nvPr/>
        </p:nvPicPr>
        <p:blipFill>
          <a:blip r:embed="rId1"/>
          <a:stretch/>
        </p:blipFill>
        <p:spPr>
          <a:xfrm>
            <a:off x="8317080" y="0"/>
            <a:ext cx="826920" cy="7840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2" descr="D:\marina\картинки\человек\Рисунок1.gif"/>
          <p:cNvPicPr/>
          <p:nvPr/>
        </p:nvPicPr>
        <p:blipFill>
          <a:blip r:embed="rId2"/>
          <a:stretch/>
        </p:blipFill>
        <p:spPr>
          <a:xfrm>
            <a:off x="755640" y="2637000"/>
            <a:ext cx="1038240" cy="1333440"/>
          </a:xfrm>
          <a:prstGeom prst="rect">
            <a:avLst/>
          </a:prstGeom>
          <a:ln w="0">
            <a:noFill/>
          </a:ln>
        </p:spPr>
      </p:pic>
      <p:sp>
        <p:nvSpPr>
          <p:cNvPr id="315" name="Выноска-облако 9"/>
          <p:cNvSpPr/>
          <p:nvPr/>
        </p:nvSpPr>
        <p:spPr>
          <a:xfrm>
            <a:off x="2843280" y="1268280"/>
            <a:ext cx="5400720" cy="4392720"/>
          </a:xfrm>
          <a:prstGeom prst="cloudCallout">
            <a:avLst>
              <a:gd name="adj1" fmla="val -67662"/>
              <a:gd name="adj2" fmla="val -3745"/>
            </a:avLst>
          </a:prstGeom>
          <a:solidFill>
            <a:srgbClr val="adad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Можно ли считать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прогрессивно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налогообложени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личных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доходов абсолютно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справедливым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изобретением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человечества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Вопрос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2608200" y="402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Rectangle 3"/>
          <p:cNvSpPr/>
          <p:nvPr/>
        </p:nvSpPr>
        <p:spPr>
          <a:xfrm>
            <a:off x="250920" y="907920"/>
            <a:ext cx="8424720" cy="26654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В 60-х - 70-х годах 20 в. в Швеции возникло довольно странное явление: наиболее квалифицированные работники различных профессий, имея законодательно установленный четырехнедельный оплачиваемый отпуск, стали брать еще один месяц отпуска за свой счет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Rectangle 3"/>
          <p:cNvSpPr/>
          <p:nvPr/>
        </p:nvSpPr>
        <p:spPr>
          <a:xfrm>
            <a:off x="250920" y="3716280"/>
            <a:ext cx="8424720" cy="15130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Другими словами, шведы вместо 11 трудовых месяцев в году стали работать только 10 месяцев, теряя при этом месячную заработную плату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1" name="Picture 5" descr="E:\marina\картинки\разное\Vopros[1].jpg"/>
          <p:cNvPicPr/>
          <p:nvPr/>
        </p:nvPicPr>
        <p:blipFill>
          <a:blip r:embed="rId1"/>
          <a:stretch/>
        </p:blipFill>
        <p:spPr>
          <a:xfrm>
            <a:off x="8317080" y="0"/>
            <a:ext cx="826920" cy="7840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" descr="D:\marina\картинки\человек\Рисунок1.gif"/>
          <p:cNvPicPr/>
          <p:nvPr/>
        </p:nvPicPr>
        <p:blipFill>
          <a:blip r:embed="rId2"/>
          <a:stretch/>
        </p:blipFill>
        <p:spPr>
          <a:xfrm>
            <a:off x="1547640" y="5229360"/>
            <a:ext cx="1038240" cy="1333440"/>
          </a:xfrm>
          <a:prstGeom prst="rect">
            <a:avLst/>
          </a:prstGeom>
          <a:ln w="0">
            <a:noFill/>
          </a:ln>
        </p:spPr>
      </p:pic>
      <p:sp>
        <p:nvSpPr>
          <p:cNvPr id="323" name="Выноска-облако 9"/>
          <p:cNvSpPr/>
          <p:nvPr/>
        </p:nvSpPr>
        <p:spPr>
          <a:xfrm>
            <a:off x="3348000" y="5229360"/>
            <a:ext cx="4392720" cy="1079280"/>
          </a:xfrm>
          <a:prstGeom prst="cloudCallout">
            <a:avLst>
              <a:gd name="adj1" fmla="val -67115"/>
              <a:gd name="adj2" fmla="val 14384"/>
            </a:avLst>
          </a:prstGeom>
          <a:solidFill>
            <a:srgbClr val="adad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С чем связано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это явление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2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 Black"/>
              </a:rPr>
              <a:t>Экономическая лаборатория «Богатство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Text Box 3"/>
          <p:cNvSpPr/>
          <p:nvPr/>
        </p:nvSpPr>
        <p:spPr>
          <a:xfrm>
            <a:off x="2608200" y="402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7" name="Picture 2" descr="Картинка 4 из 586181"/>
          <p:cNvPicPr/>
          <p:nvPr/>
        </p:nvPicPr>
        <p:blipFill>
          <a:blip r:embed="rId1"/>
          <a:stretch/>
        </p:blipFill>
        <p:spPr>
          <a:xfrm>
            <a:off x="538200" y="1341360"/>
            <a:ext cx="7948440" cy="5516640"/>
          </a:xfrm>
          <a:prstGeom prst="rect">
            <a:avLst/>
          </a:prstGeom>
          <a:ln w="0">
            <a:noFill/>
          </a:ln>
        </p:spPr>
      </p:pic>
      <p:sp>
        <p:nvSpPr>
          <p:cNvPr id="328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2" name="cashreg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Задач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2608200" y="402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Rectangle 3"/>
          <p:cNvSpPr/>
          <p:nvPr/>
        </p:nvSpPr>
        <p:spPr>
          <a:xfrm>
            <a:off x="250920" y="907920"/>
            <a:ext cx="8424720" cy="51850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Пусть в тридевятом царстве проживают только 5 граждан: Иванушка-дурачок, Василиса Премудрая, Баба Яга, Кощей Бессмертный и Андрей-стрелок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При этом доходы между ними распределяются следующим образом: Иванушка-дурачок получает в месяц 50 руб., Андрей стрелок – 75 руб., Баба Яга - 125 руб., Василиса Премудрая 250 руб. и Кощей - 500 руб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Постройте кривую Лоренца для этого царств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cashreg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Разминк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2608200" y="402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395280" y="1052640"/>
            <a:ext cx="8353440" cy="18018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«Количество товаров и услуг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которые мы можем купить, определяются исключительно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нашим доходом»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Picture 5" descr="Картинка 1 из 1701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042920" cy="773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" descr="D:\marina\картинки\человек\Рисунок1.gif"/>
          <p:cNvPicPr/>
          <p:nvPr/>
        </p:nvPicPr>
        <p:blipFill>
          <a:blip r:embed="rId3"/>
          <a:stretch/>
        </p:blipFill>
        <p:spPr>
          <a:xfrm>
            <a:off x="468360" y="4797360"/>
            <a:ext cx="1038240" cy="1333440"/>
          </a:xfrm>
          <a:prstGeom prst="rect">
            <a:avLst/>
          </a:prstGeom>
          <a:ln w="0">
            <a:noFill/>
          </a:ln>
        </p:spPr>
      </p:pic>
      <p:sp>
        <p:nvSpPr>
          <p:cNvPr id="175" name="Выноска-облако 9"/>
          <p:cNvSpPr/>
          <p:nvPr/>
        </p:nvSpPr>
        <p:spPr>
          <a:xfrm>
            <a:off x="2340000" y="3716280"/>
            <a:ext cx="6264360" cy="1657440"/>
          </a:xfrm>
          <a:prstGeom prst="cloudCallout">
            <a:avLst>
              <a:gd name="adj1" fmla="val -65425"/>
              <a:gd name="adj2" fmla="val 58009"/>
            </a:avLst>
          </a:prstGeom>
          <a:solidFill>
            <a:srgbClr val="adad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44"/>
                </a:solidFill>
                <a:latin typeface="Arial Black"/>
              </a:rPr>
              <a:t>Справедливо ли это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44"/>
                </a:solidFill>
                <a:latin typeface="Arial Black"/>
              </a:rPr>
              <a:t>утверждение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Picture 8" descr="Картинка 7 из 78680">
            <a:hlinkClick r:id="rId4"/>
          </p:cNvPr>
          <p:cNvPicPr/>
          <p:nvPr/>
        </p:nvPicPr>
        <p:blipFill>
          <a:blip r:embed="rId5"/>
          <a:srcRect l="0" t="0" r="0" b="10079"/>
          <a:stretch/>
        </p:blipFill>
        <p:spPr>
          <a:xfrm>
            <a:off x="7236000" y="1125360"/>
            <a:ext cx="1498320" cy="172116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6" name="cashreg.wav"/>
      </p:stSnd>
    </p:sndAc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Разминк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2608200" y="402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Picture 5" descr="Картинка 1 из 1701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042920" cy="773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D:\marina\картинки\человек\Рисунок1.gif"/>
          <p:cNvPicPr/>
          <p:nvPr/>
        </p:nvPicPr>
        <p:blipFill>
          <a:blip r:embed="rId3"/>
          <a:stretch/>
        </p:blipFill>
        <p:spPr>
          <a:xfrm>
            <a:off x="611280" y="1484280"/>
            <a:ext cx="1038240" cy="1333440"/>
          </a:xfrm>
          <a:prstGeom prst="rect">
            <a:avLst/>
          </a:prstGeom>
          <a:ln w="0">
            <a:noFill/>
          </a:ln>
        </p:spPr>
      </p:pic>
      <p:sp>
        <p:nvSpPr>
          <p:cNvPr id="182" name="Выноска-облако 9"/>
          <p:cNvSpPr/>
          <p:nvPr/>
        </p:nvSpPr>
        <p:spPr>
          <a:xfrm>
            <a:off x="2556000" y="836640"/>
            <a:ext cx="6264000" cy="1655640"/>
          </a:xfrm>
          <a:prstGeom prst="cloudCallout">
            <a:avLst>
              <a:gd name="adj1" fmla="val -62129"/>
              <a:gd name="adj2" fmla="val 32185"/>
            </a:avLst>
          </a:prstGeom>
          <a:solidFill>
            <a:srgbClr val="adad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44"/>
                </a:solidFill>
                <a:latin typeface="Arial Black"/>
              </a:rPr>
              <a:t>Чем скупость отличается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44"/>
                </a:solidFill>
                <a:latin typeface="Arial Black"/>
              </a:rPr>
              <a:t>от экономности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Выноска-облако 10"/>
          <p:cNvSpPr/>
          <p:nvPr/>
        </p:nvSpPr>
        <p:spPr>
          <a:xfrm>
            <a:off x="2340000" y="476280"/>
            <a:ext cx="6553080" cy="3457440"/>
          </a:xfrm>
          <a:prstGeom prst="cloudCallout">
            <a:avLst>
              <a:gd name="adj1" fmla="val -62129"/>
              <a:gd name="adj2" fmla="val -1652"/>
            </a:avLst>
          </a:prstGeom>
          <a:solidFill>
            <a:srgbClr val="adad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44"/>
                </a:solidFill>
                <a:latin typeface="Arial Black"/>
              </a:rPr>
              <a:t>Каким образом можно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44"/>
                </a:solidFill>
                <a:latin typeface="Arial Black"/>
              </a:rPr>
              <a:t>быстре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44"/>
                </a:solidFill>
                <a:latin typeface="Arial Black"/>
              </a:rPr>
              <a:t>заработать богатство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44"/>
                </a:solidFill>
                <a:latin typeface="Arial Black"/>
              </a:rPr>
              <a:t>скупостью ил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44"/>
                </a:solidFill>
                <a:latin typeface="Arial Black"/>
              </a:rPr>
              <a:t>экономностью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Picture 9" descr="Картинка 53 из 99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55640" y="3716280"/>
            <a:ext cx="2000160" cy="27399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Картинка 39 из 378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140360" y="3933720"/>
            <a:ext cx="4119480" cy="273528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8" name="cashreg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3"/>
          <p:cNvSpPr/>
          <p:nvPr/>
        </p:nvSpPr>
        <p:spPr>
          <a:xfrm>
            <a:off x="611280" y="476280"/>
            <a:ext cx="7921440" cy="26636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Уровень доходов населения является важнейшим индикатором благосостояния общества, определяющим фактором в отношении социальных возможностей населения: отдыха, получения образования, поддержания здоровь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Picture 7" descr="Картинка 20 из 218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00360" y="3573360"/>
            <a:ext cx="3860640" cy="284184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55640" y="1068120"/>
            <a:ext cx="8137440" cy="17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c00"/>
                </a:solidFill>
                <a:latin typeface="Arial Black"/>
              </a:rPr>
              <a:t>Распределение доходов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6732720" y="0"/>
            <a:ext cx="2411280" cy="6206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65F4E-F6D5-4D86-81D6-30963D5277DA}" type="datetime">
              <a:rPr b="1" lang="ru-RU" sz="3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Picture 6" descr="http://gemplayer.files.wordpress.com/2008/12/revenue.jpg?w=300&amp;h=24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56000" y="3141720"/>
            <a:ext cx="4230720" cy="345600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3"/>
          <p:cNvSpPr/>
          <p:nvPr/>
        </p:nvSpPr>
        <p:spPr>
          <a:xfrm>
            <a:off x="611280" y="476280"/>
            <a:ext cx="7921440" cy="23050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Уровень потребления населения напрямую зависит от уровня доходов, поэтому одной из приоритетных задач стимулирования экономики является повышение доходов населения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Picture 37" descr="Картинка 14 из 8610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68360" y="3141720"/>
            <a:ext cx="4667400" cy="350028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Уровень доходов населения зависит от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8" name="Picture 2" descr="Картинка 10 из 293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844640"/>
            <a:ext cx="3814920" cy="3500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Картинка 1 из 279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356000" y="2349360"/>
            <a:ext cx="4500720" cy="2470320"/>
          </a:xfrm>
          <a:prstGeom prst="rect">
            <a:avLst/>
          </a:prstGeom>
          <a:ln w="0">
            <a:noFill/>
          </a:ln>
        </p:spPr>
      </p:pic>
      <p:sp>
        <p:nvSpPr>
          <p:cNvPr id="200" name="TextBox 15"/>
          <p:cNvSpPr/>
          <p:nvPr/>
        </p:nvSpPr>
        <p:spPr>
          <a:xfrm>
            <a:off x="4772520" y="2349360"/>
            <a:ext cx="375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Динамики розничных це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5" name="cashreg.wav"/>
      </p:stSnd>
    </p:sndAc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08:21:54Z</dcterms:created>
  <dc:creator>SVG</dc:creator>
  <dc:description/>
  <dc:language>en-US</dc:language>
  <cp:lastModifiedBy>LEGION</cp:lastModifiedBy>
  <dcterms:modified xsi:type="dcterms:W3CDTF">2016-01-04T08:16:17Z</dcterms:modified>
  <cp:revision>239</cp:revision>
  <dc:subject/>
  <dc:title>Разминка</dc:title>
</cp:coreProperties>
</file>