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2.jpeg" ContentType="image/jpeg"/>
  <Override PartName="/ppt/media/cashreg.wav" ContentType="audio/x-wav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038E-DC43-4658-8F17-C3C963C85A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B54-E72C-49E1-A0FC-04BDDA19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B41-A6F8-418F-8B31-CFA72A12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D1E-371D-48FD-BC2C-F5E11CCF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23E-37F1-4389-8F8E-195AB68B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D73F-C215-4EF2-A9EB-B1FD3588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1B60-DB0F-4768-A5E9-30E3410A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F224-6FD5-4021-991A-941454B5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D41A-106B-4950-B395-D22CC21C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0F19-9B88-4A16-9BA6-75F81299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F9A9-9E87-4220-9E2D-B3950D78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1A7A-AAD9-4912-A9B7-B711BAB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0AD-584D-44BC-A634-D831A913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37AC-0FA6-477D-8E8B-0B18C35E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55DC-5CDC-4B81-9155-336A08BE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0160-89C8-4FBB-B53A-0307D281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3CE2-5934-4401-9D13-7CD8C777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1B0F-3755-401C-B298-8468DD7A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A6E-88EC-4874-9A9E-0538D77F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ADF-6923-47A8-B734-ED1FF52F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E18-3B60-4E28-A68B-78D02A8F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9B6-D79B-4829-A86C-E1452633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7A6-10AE-4C3A-B97C-1D794D0E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87C-8C51-4B9C-989D-FE6FE9EF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351-8EA8-4DEC-A115-E29C1A40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CD12-096F-4947-ABDD-8EB754852F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AB18-645A-469B-BC03-A8567B5531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day.az/pictures/pic174255.jpg" TargetMode="External"/><Relationship Id="rId4" Type="http://schemas.openxmlformats.org/officeDocument/2006/relationships/image" Target="../media/image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erm.aif.ru/application/public/news/936/065c56d7a2037771b3c3dab16b173a87_big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289/f4d2ecdd672952bce23c992d05143e85_big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ic2.aif.ru/public/news/813/ea4b9fc02de54d413edaef5c571a2491_bi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ergeynikolaev.com/lj/zarplata-1.jpg" TargetMode="External"/><Relationship Id="rId2" Type="http://schemas.openxmlformats.org/officeDocument/2006/relationships/image" Target="../media/image2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eside.ac.uk/img/money.jpg" TargetMode="External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kerb.ru/index.php?option=com_datsogallery&amp;Itemid=6&amp;func=download&amp;file=B361B5330C70-4.jpg" TargetMode="External"/><Relationship Id="rId4" Type="http://schemas.openxmlformats.org/officeDocument/2006/relationships/image" Target="../media/image22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molensk2.ru/images/img_9519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kampk.ucoz.ru/Novosti/News2009-2010/Stypendija_miskrady.jpg" TargetMode="External"/><Relationship Id="rId4" Type="http://schemas.openxmlformats.org/officeDocument/2006/relationships/image" Target="../media/image2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1.liveinternet.ru/images/foto/b/3/97/3012097/f_16919489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stat8.blog.ru/lr/0a0279ca3f244fe11d1e3d749d76bdbf" TargetMode="External"/><Relationship Id="rId5" Type="http://schemas.openxmlformats.org/officeDocument/2006/relationships/image" Target="../media/image8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www.ru-boss.com/uploads/posts/2007-12/thumbs/1198344203_39705.jpg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karikaturist.ru/images/karikaturist/w1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aif.ru/application/public/opinion/905/0b9d6c7710ec3d137963260f74bc17e1_big.jpg" TargetMode="External"/><Relationship Id="rId7" Type="http://schemas.openxmlformats.org/officeDocument/2006/relationships/image" Target="../media/image11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zeta.a42.ru/images/lenta/2792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mplayer.files.wordpress.com/2008/12/revenue.jpg?w=300&amp;h=245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inus.vl.ru/mtravel/america/photo/album/2/gamburger.jpg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s48.radikal.ru/i121/0911/7a/57f9955d05e5.jpg" TargetMode="External"/><Relationship Id="rId4" Type="http://schemas.openxmlformats.org/officeDocument/2006/relationships/image" Target="../media/image16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608200" y="3994200"/>
            <a:ext cx="184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95280" y="901800"/>
            <a:ext cx="8353440" cy="207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«Наши потребности в пище всегда ограничены стенками нашего желудка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Объясните смысл выра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35000" cy="766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Картинка 14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044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Картинка 13 из 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285920"/>
            <a:ext cx="74246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268360" y="5288040"/>
            <a:ext cx="63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тепени насыщенности потребитель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ынка товар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оходы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84360" y="907920"/>
            <a:ext cx="792144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Картинка 14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440160"/>
            <a:ext cx="4643280" cy="34178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Номин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84360" y="907920"/>
            <a:ext cx="7921440" cy="180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количество денег, полученное отдельными лицами в течение определенного пери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Картинка 1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708280"/>
            <a:ext cx="5327640" cy="39225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асполагаем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84360" y="90792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доход, который может быть использован на личное потребление и личные сбереж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11280" y="443700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" descr="Картинка 18 из 2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21000"/>
            <a:ext cx="2500560" cy="200016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е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4360" y="907920"/>
            <a:ext cx="7921440" cy="1225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это располагаемый доход с учетом инфля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2" descr="http://www.deeside.ac.uk/img/mon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565360"/>
            <a:ext cx="5413320" cy="405936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052640"/>
            <a:ext cx="3687840" cy="33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Картинка 36 из 1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060640"/>
            <a:ext cx="4537080" cy="3286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7"/>
          <p:cNvSpPr/>
          <p:nvPr/>
        </p:nvSpPr>
        <p:spPr>
          <a:xfrm>
            <a:off x="3247920" y="5445000"/>
            <a:ext cx="55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от предприниматель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2" descr="Картинка 1 из 589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836640"/>
            <a:ext cx="3911760" cy="4643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9"/>
          <p:cNvSpPr/>
          <p:nvPr/>
        </p:nvSpPr>
        <p:spPr>
          <a:xfrm>
            <a:off x="1186920" y="558972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енс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Картинка 3 из 520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836640"/>
            <a:ext cx="3907080" cy="4608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5226840" y="551664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типенди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Картинка 9 из 312481"/>
          <p:cNvPicPr/>
          <p:nvPr/>
        </p:nvPicPr>
        <p:blipFill>
          <a:blip r:embed="rId1"/>
          <a:stretch/>
        </p:blipFill>
        <p:spPr>
          <a:xfrm>
            <a:off x="324000" y="765000"/>
            <a:ext cx="5076720" cy="3372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8"/>
          <p:cNvSpPr/>
          <p:nvPr/>
        </p:nvSpPr>
        <p:spPr>
          <a:xfrm>
            <a:off x="687600" y="421488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е пособ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Картинка 7 из 3606806"/>
          <p:cNvPicPr/>
          <p:nvPr/>
        </p:nvPicPr>
        <p:blipFill>
          <a:blip r:embed="rId2"/>
          <a:stretch/>
        </p:blipFill>
        <p:spPr>
          <a:xfrm>
            <a:off x="4643280" y="2637000"/>
            <a:ext cx="4283280" cy="3214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4"/>
          <p:cNvSpPr/>
          <p:nvPr/>
        </p:nvSpPr>
        <p:spPr>
          <a:xfrm>
            <a:off x="5839560" y="602784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обств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2" descr="Картинка 7 из 9113"/>
          <p:cNvPicPr/>
          <p:nvPr/>
        </p:nvPicPr>
        <p:blipFill>
          <a:blip r:embed="rId1"/>
          <a:stretch/>
        </p:blipFill>
        <p:spPr>
          <a:xfrm>
            <a:off x="250920" y="907920"/>
            <a:ext cx="5554440" cy="3429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443160" y="9079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44"/>
                </a:solidFill>
                <a:latin typeface="Arial Black"/>
              </a:rPr>
              <a:t>дивиден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4" descr="Картинка 16 из 63130"/>
          <p:cNvPicPr/>
          <p:nvPr/>
        </p:nvPicPr>
        <p:blipFill>
          <a:blip r:embed="rId2"/>
          <a:stretch/>
        </p:blipFill>
        <p:spPr>
          <a:xfrm>
            <a:off x="5003640" y="3048120"/>
            <a:ext cx="3924360" cy="3809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3"/>
          <p:cNvSpPr/>
          <p:nvPr/>
        </p:nvSpPr>
        <p:spPr>
          <a:xfrm>
            <a:off x="5053320" y="299736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9640" y="836640"/>
            <a:ext cx="8089920" cy="56167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997560" y="4221000"/>
            <a:ext cx="706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редства от продажи ценных бума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движимос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укции сельского хозяйств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х издел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95280" y="907920"/>
            <a:ext cx="8353440" cy="3097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человека - это поток денежных поступлений в единицу врем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Картинка 18 из 154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907920"/>
            <a:ext cx="1403640" cy="143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D:\marina\картинки\человек\Рисунок1.gif"/>
          <p:cNvPicPr/>
          <p:nvPr/>
        </p:nvPicPr>
        <p:blipFill>
          <a:blip r:embed="rId5"/>
          <a:stretch/>
        </p:blipFill>
        <p:spPr>
          <a:xfrm>
            <a:off x="250920" y="4653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0" name="Выноска-облако 9"/>
          <p:cNvSpPr/>
          <p:nvPr/>
        </p:nvSpPr>
        <p:spPr>
          <a:xfrm>
            <a:off x="2124000" y="3716280"/>
            <a:ext cx="6769080" cy="2808360"/>
          </a:xfrm>
          <a:prstGeom prst="cloudCallout">
            <a:avLst>
              <a:gd name="adj1" fmla="val -61500"/>
              <a:gd name="adj2" fmla="val 11796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 вы думаете, доход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богатство связа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руг с друг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им-либо образ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 если связаны, то каки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2" descr="Картинка 13 из 1665348"/>
          <p:cNvPicPr/>
          <p:nvPr/>
        </p:nvPicPr>
        <p:blipFill>
          <a:blip r:embed="rId1"/>
          <a:stretch/>
        </p:blipFill>
        <p:spPr>
          <a:xfrm>
            <a:off x="971640" y="836640"/>
            <a:ext cx="7210440" cy="42861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2073600" y="5229360"/>
            <a:ext cx="48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различных услуг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казанных на стор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ифференциация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84360" y="83664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разница в уровне денежных доходов различных слоев и групп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http://s60.radikal.ru/i170/0911/d5/70e33d3c3c32.jpg"/>
          <p:cNvPicPr/>
          <p:nvPr/>
        </p:nvPicPr>
        <p:blipFill>
          <a:blip r:embed="rId1"/>
          <a:srcRect l="887" t="30236" r="0" b="3780"/>
          <a:stretch/>
        </p:blipFill>
        <p:spPr>
          <a:xfrm>
            <a:off x="2556000" y="2492280"/>
            <a:ext cx="4417920" cy="41436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ценность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успешность использования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2400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ый объем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о врожденных способностях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 производительности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дискриминация на рынке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сположенность людей к рис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удача и несчаст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имущественные различ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оследствия сильной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" descr="Картинка 39 из 197"/>
          <p:cNvPicPr/>
          <p:nvPr/>
        </p:nvPicPr>
        <p:blipFill>
          <a:blip r:embed="rId1"/>
          <a:stretch/>
        </p:blipFill>
        <p:spPr>
          <a:xfrm>
            <a:off x="1692360" y="1484280"/>
            <a:ext cx="5763960" cy="51134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змерения дифференциации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68360" y="170028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6" descr="http://gemplayer.files.wordpress.com/2008/12/revenue.jpg?w=300&amp;h=245"/>
          <p:cNvPicPr/>
          <p:nvPr/>
        </p:nvPicPr>
        <p:blipFill>
          <a:blip r:embed="rId1"/>
          <a:stretch/>
        </p:blipFill>
        <p:spPr>
          <a:xfrm>
            <a:off x="2771640" y="3645000"/>
            <a:ext cx="3438720" cy="28098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68360" y="1125360"/>
            <a:ext cx="7921440" cy="460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3" descr="E:\marina\10 класс экономика\Несостоятельность рынка и государственное регулирование\Кривая_Лоренца_и_коэффициент_Робин_Гуда[1].jpg"/>
          <p:cNvPicPr/>
          <p:nvPr/>
        </p:nvPicPr>
        <p:blipFill>
          <a:blip r:embed="rId1"/>
          <a:stretch/>
        </p:blipFill>
        <p:spPr>
          <a:xfrm>
            <a:off x="682560" y="743040"/>
            <a:ext cx="7985160" cy="5713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12"/>
          <p:cNvSpPr/>
          <p:nvPr/>
        </p:nvSpPr>
        <p:spPr>
          <a:xfrm flipH="1">
            <a:off x="1618920" y="5444280"/>
            <a:ext cx="431640" cy="287640"/>
          </a:xfrm>
          <a:prstGeom prst="line">
            <a:avLst/>
          </a:prstGeom>
          <a:ln w="8568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Прямая соединительная линия 29"/>
          <p:cNvCxnSpPr/>
          <p:nvPr/>
        </p:nvCxnSpPr>
        <p:spPr>
          <a:xfrm flipV="1">
            <a:off x="1692360" y="5444280"/>
            <a:ext cx="1296000" cy="28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7" name="Прямая соединительная линия 29"/>
          <p:cNvCxnSpPr/>
          <p:nvPr/>
        </p:nvCxnSpPr>
        <p:spPr>
          <a:xfrm flipV="1">
            <a:off x="2987280" y="4796640"/>
            <a:ext cx="1297800" cy="64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8" name="Прямая соединительная линия 29"/>
          <p:cNvCxnSpPr/>
          <p:nvPr/>
        </p:nvCxnSpPr>
        <p:spPr>
          <a:xfrm flipV="1">
            <a:off x="4284360" y="3789000"/>
            <a:ext cx="1367640" cy="100872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9" name="Прямая соединительная линия 29"/>
          <p:cNvCxnSpPr/>
          <p:nvPr/>
        </p:nvCxnSpPr>
        <p:spPr>
          <a:xfrm flipV="1">
            <a:off x="5651280" y="2707560"/>
            <a:ext cx="1369080" cy="10818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90" name="Прямая соединительная линия 29"/>
          <p:cNvCxnSpPr/>
          <p:nvPr/>
        </p:nvCxnSpPr>
        <p:spPr>
          <a:xfrm flipV="1">
            <a:off x="7018920" y="1051920"/>
            <a:ext cx="1152720" cy="1656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оэффициент Джин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68360" y="1125360"/>
            <a:ext cx="7921440" cy="316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5280" y="1268280"/>
            <a:ext cx="8353440" cy="15861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чень часто говоря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«богатство - понят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носительн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7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огласны ли вы 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тим утверждение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0" descr="Картинка 20 из 78680">
            <a:hlinkClick r:id="rId4"/>
          </p:cNvPr>
          <p:cNvPicPr/>
          <p:nvPr/>
        </p:nvPicPr>
        <p:blipFill>
          <a:blip r:embed="rId5"/>
          <a:srcRect l="9976" t="10919" r="0" b="22678"/>
          <a:stretch/>
        </p:blipFill>
        <p:spPr>
          <a:xfrm>
            <a:off x="7164360" y="1270080"/>
            <a:ext cx="1571760" cy="1531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324000" y="1341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деление функций работодателей и государ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осударственное регулирование неравенства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прогрессивное обложение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4365720"/>
            <a:ext cx="86407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система государственной и социальной поддержки граждан (трансферт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Выравнивание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68360" y="1125360"/>
            <a:ext cx="7921440" cy="2880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95280" y="1197000"/>
            <a:ext cx="8209080" cy="1584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о всем цивилизованном мире, чем выше образование, тем выше уровень дохо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95280" y="3068640"/>
            <a:ext cx="8209080" cy="1512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09" name="Выноска-облако 9"/>
          <p:cNvSpPr/>
          <p:nvPr/>
        </p:nvSpPr>
        <p:spPr>
          <a:xfrm>
            <a:off x="3132000" y="4365720"/>
            <a:ext cx="4392720" cy="223200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Зачем тогда лю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тремя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олучить высше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образова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755640" y="2637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15" name="Выноска-облако 9"/>
          <p:cNvSpPr/>
          <p:nvPr/>
        </p:nvSpPr>
        <p:spPr>
          <a:xfrm>
            <a:off x="2843280" y="1268280"/>
            <a:ext cx="5400720" cy="4392720"/>
          </a:xfrm>
          <a:prstGeom prst="cloudCallout">
            <a:avLst>
              <a:gd name="adj1" fmla="val -67662"/>
              <a:gd name="adj2" fmla="val -374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Можно ли счит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рогрессивно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налогооблож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л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оходов абсолют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праведливы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зобретени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чест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907920"/>
            <a:ext cx="842472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50920" y="3716280"/>
            <a:ext cx="8424720" cy="151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23" name="Выноска-облако 9"/>
          <p:cNvSpPr/>
          <p:nvPr/>
        </p:nvSpPr>
        <p:spPr>
          <a:xfrm>
            <a:off x="3348000" y="5229360"/>
            <a:ext cx="4392720" cy="107928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 чем связа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это явле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Экономическая лаборатория «Богатство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8200" y="1341360"/>
            <a:ext cx="7948440" cy="55166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50920" y="907920"/>
            <a:ext cx="8424720" cy="518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остройте кривую Лоренца для этого ц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95280" y="1052640"/>
            <a:ext cx="8353440" cy="1801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Количество товаров и услу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оторые мы можем купить, определяются исключитель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шим доходом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праведливо ли э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утвержден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8" descr="Картинка 7 из 78680">
            <a:hlinkClick r:id="rId4"/>
          </p:cNvPr>
          <p:cNvPicPr/>
          <p:nvPr/>
        </p:nvPicPr>
        <p:blipFill>
          <a:blip r:embed="rId5"/>
          <a:srcRect l="0" t="0" r="0" b="10079"/>
          <a:stretch/>
        </p:blipFill>
        <p:spPr>
          <a:xfrm>
            <a:off x="7236000" y="1125360"/>
            <a:ext cx="1498320" cy="1721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611280" y="148428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82" name="Выноска-облако 9"/>
          <p:cNvSpPr/>
          <p:nvPr/>
        </p:nvSpPr>
        <p:spPr>
          <a:xfrm>
            <a:off x="2556000" y="836640"/>
            <a:ext cx="6264000" cy="1655640"/>
          </a:xfrm>
          <a:prstGeom prst="cloudCallout">
            <a:avLst>
              <a:gd name="adj1" fmla="val -62129"/>
              <a:gd name="adj2" fmla="val 3218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Чем скупость отличае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от экономност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Выноска-облако 10"/>
          <p:cNvSpPr/>
          <p:nvPr/>
        </p:nvSpPr>
        <p:spPr>
          <a:xfrm>
            <a:off x="2340000" y="476280"/>
            <a:ext cx="6553080" cy="3457440"/>
          </a:xfrm>
          <a:prstGeom prst="cloudCallout">
            <a:avLst>
              <a:gd name="adj1" fmla="val -62129"/>
              <a:gd name="adj2" fmla="val -1652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Каким образом мо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быстре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заработать богатство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купостью 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кономность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9" descr="Картинка 53 из 9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3716280"/>
            <a:ext cx="2000160" cy="2739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Картинка 39 из 37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40360" y="3933720"/>
            <a:ext cx="4119480" cy="2735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611280" y="476280"/>
            <a:ext cx="7921440" cy="26636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7" descr="Картинка 20 из 21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73360"/>
            <a:ext cx="3860640" cy="2841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068120"/>
            <a:ext cx="8137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Распределение доходо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732720" y="0"/>
            <a:ext cx="2411280" cy="620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81F5-2CA6-4C03-B87B-DAF3D6D16E1C}" type="datetime">
              <a:rPr b="1" lang="ru-RU" sz="3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gemplayer.files.wordpress.com/2008/12/revenue.jpg?w=300&amp;h=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141720"/>
            <a:ext cx="423072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611280" y="476280"/>
            <a:ext cx="792144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7" descr="Картинка 14 из 86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3141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14920" cy="3500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артинка 1 из 27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349360"/>
            <a:ext cx="4500720" cy="24703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"/>
          <p:cNvSpPr/>
          <p:nvPr/>
        </p:nvSpPr>
        <p:spPr>
          <a:xfrm>
            <a:off x="4772520" y="2349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инамики розничны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6:17Z</dcterms:modified>
  <cp:revision>239</cp:revision>
  <dc:subject/>
  <dc:title>Разминка</dc:title>
</cp:coreProperties>
</file>