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3.jpeg" ContentType="image/jpeg"/>
  <Override PartName="/ppt/media/image22.jpeg" ContentType="image/jpeg"/>
  <Override PartName="/ppt/media/cashreg.wav" ContentType="audio/x-wav"/>
  <Override PartName="/ppt/media/image21.jpeg" ContentType="image/jpeg"/>
  <Override PartName="/ppt/media/image20.jpeg" ContentType="image/jpeg"/>
  <Override PartName="/ppt/media/image26.jpeg" ContentType="image/jpeg"/>
  <Override PartName="/ppt/media/image5.jpeg" ContentType="image/jpeg"/>
  <Override PartName="/ppt/media/image32.jpeg" ContentType="image/jpeg"/>
  <Override PartName="/ppt/media/image10.jpeg" ContentType="image/jpeg"/>
  <Override PartName="/ppt/media/image7.gif" ContentType="image/gif"/>
  <Override PartName="/ppt/media/image29.jpeg" ContentType="image/jpeg"/>
  <Override PartName="/ppt/media/image8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3.png" ContentType="image/png"/>
  <Override PartName="/ppt/media/image14.jpeg" ContentType="image/jpeg"/>
  <Override PartName="/ppt/media/image34.jpeg" ContentType="image/jpeg"/>
  <Override PartName="/ppt/media/image6.jpeg" ContentType="image/jpeg"/>
  <Override PartName="/ppt/media/image27.jpeg" ContentType="image/jpeg"/>
  <Override PartName="/ppt/media/image12.jpeg" ContentType="image/jpeg"/>
  <Override PartName="/ppt/media/image1.png" ContentType="image/png"/>
  <Override PartName="/ppt/media/image13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2.gif" ContentType="image/gif"/>
  <Override PartName="/ppt/media/image1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A3619-A92D-4DA9-8F26-78436D0F5A9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мин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Наши потребности в пище всегда ограничены стенками нашего желудка»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ъясните смысл выраж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зминк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«Наши потребности в пище всегда ограничены стенками нашего желудка»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ъясните смысл выражения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900igr.ne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ровень доходов населения зависит от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епени насыщенности потребительского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ка товар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ровень доходов населения зависит от: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тепени насыщенности потребительского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ынка товарам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ходы насе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сумма денежных средств и материальных благ, полученных или произведенных домашними хозяйствами за определенный промежуток времен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оходы населен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- сумма денежных средств и материальных благ, полученных или произведенных домашними хозяйствами за определенный промежуток времени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минальный дохо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количество денег, полученное отдельными лицами в течение определенного период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оминальный доход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- количество денег, полученное отдельными лицами в течение определенного периода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полагаемый дохо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доход, который может быть использован на личное потребление и личные сбережения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полагаемый доход меньше номинального дохода на сумму налогов и обязательных платеже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сполагаемый доход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- доход, который может быть использован на личное потребление и личные сбережения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сполагаемый доход меньше номинального дохода на сумму налогов и обязательных платежей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альный дохо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располагаемый доход с учетом инфляц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еальный доход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–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это располагаемый доход с учетом инфляции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сточники доходов насе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ход от предпринимательской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ятель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сточники доходов населен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оход от предпринимательской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еятельност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сточники доходов насе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нс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ипенди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сточники доходов населен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енси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типендии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сточники доходов насе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личные пособ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ходы от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бствен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сточники доходов населен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зличные пособ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оходы от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обственност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сточники доходов насе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ивиденд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н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сточники доходов населен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ивиденды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ент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сточники доходов насе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редства от продажи ценных бумаг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движимости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дукции сельского хозяйства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личных издел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сточники доходов населен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редства от продажи ценных бумаг,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едвижимости,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одукции сельского хозяйства,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зличных изделий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мин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ход человека - это поток денежных поступлений в единицу времен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огатство - это запас материальных и финансовых активов, которыми данный человек владеет в данный момент времени: наличные деньги, акции, дома, земля, предприяти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 вы думаете, доход 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огатство связаны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руг с другом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им-либо образом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если связаны, то каким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зминк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оход человека - это поток денежных поступлений в единицу времени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Богатство - это запас материальных и финансовых активов, которыми данный человек владеет в данный момент времени: наличные деньги, акции, дома, земля, предприятии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ак вы думаете, доход и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богатство связаны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руг с другом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аким-либо образом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 если связаны, то каким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сточники доходов насе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ходы от различных услуг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казанных на сторон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сточники доходов населен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оходы от различных услуг,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казанных на сторон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ифференциация доход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разница в уровне денежных доходов различных слоев и групп населения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ифференциация доходов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- разница в уровне денежных доходов различных слоев и групп населения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ная ценность, принадлежащих людям факторов производ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чины дифференциации доход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ная успешность использования факторов производ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ный объем, принадлежащих людям факторов производ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зная ценность, принадлежащих людям факторов производств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ичины дифференциации доходов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зная успешность использования факторов производств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зный объем, принадлежащих людям факторов производств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личия во врожденных способностях люд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чины дифференциации доход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личия в производительности тру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искриминация на рынке тру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зличия во врожденных способностях людей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ичины дифференциации доходов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зличия в производительности труд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искриминация на рынке труд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положенность людей к риск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чины дифференциации доход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дача и несчасть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мущественные различ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сположенность людей к риску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ичины дифференциации доходов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дача и несчасть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мущественные различ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Последствия сильной дифференциации доход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оследствия сильной дифференциации доходов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мерения дифференциации доход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методы измерения доли дохода или богатства, приходящейся на различные группы насел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змерения дифференциации доходов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- методы измерения доли дохода или богатства, приходящейся на различные группы населения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ивая Лоренц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ивая, которая показывает, какую часть совокупного денежного дохода страны получает каждая доля низкодоходных и высокодоходных семей, то есть отражает в процентах распределение дохода между семьями с разным достатк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ривая Лоренц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—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ривая, которая показывает, какую часть совокупного денежного дохода страны получает каждая доля низкодоходных и высокодоходных семей, то есть отражает в процентах распределение дохода между семьями с разным достатко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Кривая Лоренц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ривая Лоренц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эффициент Джин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казывает степень отклонения фактического объема распределения доходов населения от линии их равномерного распределения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оэффициент Джин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оказывает степень отклонения фактического объема распределения доходов населения от линии их равномерного распределения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мин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чень часто говорят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то «богатство - поняти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носительное»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гласны ли вы с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им утверждением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зминк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чень часто говорят,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что «богатство - понятие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тносительное»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огласны ли вы с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этим утверждением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деление функций работодателей и государ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енное регулирование неравенства доход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грессивное обложение доход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стема государственной и социальной поддержки граждан (трансферты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зделение функций работодателей и государств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Государственное регулирование неравенства доходов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огрессивное обложение доходов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истема государственной и социальной поддержки граждан (трансферты)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равнивание доход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целенаправленная политика государства по нивелированию разницы в личных доходах различных категорий насел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ыравнивание доходов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- целенаправленная политика государства по нивелированию разницы в личных доходах различных категорий населения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про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 всем цивилизованном мире, чем выше образование, тем выше уровень доходо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жно ли сказать, что в России доход, получаемый работником, зависит от уровня образования этого работника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чем тогда люд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ремятс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лучить высше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разование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опрос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о всем цивилизованном мире, чем выше образование, тем выше уровень доходов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Можно ли сказать, что в России доход, получаемый работником, зависит от уровня образования этого работника?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Зачем тогда люд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тремятся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олучить высшее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разование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про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жно ли считать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грессивно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логообложени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ичных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ходов абсолютно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раведливым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обретением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еловечества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опрос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Можно ли считать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огрессивное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алогообложение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личных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оходов абсолютно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праведливым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зобретением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человечества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про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60-х - 70-х годах 20 в. в Швеции возникло довольно странное явление: наиболее квалифицированные работники различных профессий, имея законодательно установленный четырехнедельный оплачиваемый отпуск, стали брать еще один месяц отпуска за свой счет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ругими словами, шведы вместо 11 трудовых месяцев в году стали работать только 10 месяцев, теряя при этом месячную заработную плату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 чем связано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явление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опрос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 60-х - 70-х годах 20 в. в Швеции возникло довольно странное явление: наиболее квалифицированные работники различных профессий, имея законодательно установленный четырехнедельный оплачиваемый отпуск, стали брать еще один месяц отпуска за свой счет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ругими словами, шведы вместо 11 трудовых месяцев в году стали работать только 10 месяцев, теряя при этом месячную заработную плату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 чем связано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это явление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Экономическая лаборатория «Богатство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Экономическая лаборатория «Богатство»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дач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усть в тридевятом царстве проживают только 5 граждан: Иванушка-дурачок, Василиса Премудрая, Баба Яга, Кощей Бессмертный и Андрей-стрелок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 этом доходы между ними распределяются следующим образом: Иванушка-дурачок получает в месяц 50 руб., Андрей стрелок – 75 руб., Баба Яга - 125 руб., Василиса Премудрая 250 руб. и Кощей - 500 руб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стройте кривую Лоренца для этого царств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Задач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усть в тридевятом царстве проживают только 5 граждан: Иванушка-дурачок, Василиса Премудрая, Баба Яга, Кощей Бессмертный и Андрей-стрелок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и этом доходы между ними распределяются следующим образом: Иванушка-дурачок получает в месяц 50 руб., Андрей стрелок – 75 руб., Баба Яга - 125 руб., Василиса Премудрая 250 руб. и Кощей - 500 руб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остройте кривую Лоренца для этого царства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мин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Количество товаров и услуг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торые мы можем купить, определяются исключительно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шим доходом»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раведливо ли это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тверждение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зминк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«Количество товаров и услуг,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оторые мы можем купить, определяются исключительно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ашим доходом»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праведливо ли это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тверждение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мин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ем скупость отличаетс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 экономности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им образом можно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ыстре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работать богатство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купостью ил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ономностью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зминк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Чем скупость отличается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т экономности?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аким образом можно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быстрее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заработать богатство: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купостью или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экономностью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ровень доходов населения является важнейшим индикатором благосостояния общества, определяющим фактором в отношении социальных возможностей населения: отдыха, получения образования, поддержания здоровь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ровень доходов населения является важнейшим индикатором благосостояния общества, определяющим фактором в отношении социальных возможностей населения: отдыха, получения образования, поддержания здоровья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Распределение доход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04.01.20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спределение доходов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04.01.201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ровень потребления населения напрямую зависит от уровня доходов, поэтому одной из приоритетных задач стимулирования экономики является повышение доходов населения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ровень потребления населения напрямую зависит от уровня доходов, поэтому одной из приоритетных задач стимулирования экономики является повышение доходов населения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ровень доходов населения зависит от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инамики розничных це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ровень доходов населения зависит от: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инамики розничных цен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A9F7-8836-4354-9957-8B6B85595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7E1B-8DFE-4CAE-9843-96FA608F8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B603-DD8A-48AF-8686-7AAAC5FD3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06C2-F65A-42F5-B25F-4B61C2671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AD407-0071-4FBA-A6D4-59FC53917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6D80A-617D-4442-8AA6-A29085A52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75356-9330-4512-AB71-735D0EBD1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A0842-DFF9-4118-8787-169A66338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CCCB9-F2C3-4306-AE8F-D298DE654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9B3A2-94DD-4811-85AD-3E3DD40D1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C4CA3-D0AD-48F2-A169-CDC824CC0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64A6-D159-4F32-84D4-551C16CAF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BA66E-EE7A-4728-ACDB-2BF07460B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9BFAE-9D5A-473A-A330-D2C585A86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43679-FAB2-4424-984D-AD661414B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6C836-C815-4FC7-95A9-C7C9FC135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3FEEA-57E6-4791-B5FD-5DD0463DA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F829-1BC0-4559-8242-A43864DAB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B64D-9A01-4B0E-8173-1DA0E42CB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ADB4-9A70-45D1-8964-2066E5571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03E1-8EB3-4116-8C4C-856D3D36E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4D99-C476-42FE-92C5-989BB5CF2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91A1-185E-44AF-A825-CA643F2DA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0628-129D-46A8-B367-05038A3EC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3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4FC0B-40EC-42FE-A894-D5A8790414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2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3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Freeform 4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5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6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7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8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9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0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11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Freeform 12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Freeform 13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Rectangle 14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Freeform 15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Freeform 16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Freeform 17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Freeform 18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Rectangle 19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Freeform 20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21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Freeform 22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Freeform 23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Freeform 24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Freeform 25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Freeform 26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Freeform 27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Freeform 28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Rectangle 29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Rectangle 30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Rectangle 31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Picture 32" descr="BTZBUL1A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E9A10-BE7A-45DD-A604-A3FBBE52286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kvnru.ru/img/razminka006.jpg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day.az/pictures/pic174255.jpg" TargetMode="External"/><Relationship Id="rId4" Type="http://schemas.openxmlformats.org/officeDocument/2006/relationships/image" Target="../media/image4.jpeg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perm.aif.ru/application/public/news/936/065c56d7a2037771b3c3dab16b173a87_big.jpg" TargetMode="External"/><Relationship Id="rId2" Type="http://schemas.openxmlformats.org/officeDocument/2006/relationships/image" Target="../media/image17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aif.ru/application/public/news/289/f4d2ecdd672952bce23c992d05143e85_big.jpg" TargetMode="External"/><Relationship Id="rId2" Type="http://schemas.openxmlformats.org/officeDocument/2006/relationships/image" Target="../media/image18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static2.aif.ru/public/news/813/ea4b9fc02de54d413edaef5c571a2491_big.jpg" TargetMode="External"/><Relationship Id="rId2" Type="http://schemas.openxmlformats.org/officeDocument/2006/relationships/image" Target="../media/image19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sergeynikolaev.com/lj/zarplata-1.jpg" TargetMode="External"/><Relationship Id="rId2" Type="http://schemas.openxmlformats.org/officeDocument/2006/relationships/image" Target="../media/image20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deeside.ac.uk/img/money.jpg" TargetMode="External"/><Relationship Id="rId2" Type="http://schemas.openxmlformats.org/officeDocument/2006/relationships/image" Target="../media/image21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kyivsta.gov.ua/news/2008/11/1121_5.jpg" TargetMode="External"/><Relationship Id="rId2" Type="http://schemas.openxmlformats.org/officeDocument/2006/relationships/image" Target="../media/image15.jpeg"/><Relationship Id="rId3" Type="http://schemas.openxmlformats.org/officeDocument/2006/relationships/hyperlink" Target="http://kerb.ru/index.php?option=com_datsogallery&amp;Itemid=6&amp;func=download&amp;file=B361B5330C70-4.jpg" TargetMode="External"/><Relationship Id="rId4" Type="http://schemas.openxmlformats.org/officeDocument/2006/relationships/image" Target="../media/image22.jpeg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smolensk2.ru/images/img_9519.jpg" TargetMode="External"/><Relationship Id="rId2" Type="http://schemas.openxmlformats.org/officeDocument/2006/relationships/image" Target="../media/image23.jpeg"/><Relationship Id="rId3" Type="http://schemas.openxmlformats.org/officeDocument/2006/relationships/hyperlink" Target="http://kampk.ucoz.ru/Novosti/News2009-2010/Stypendija_miskrady.jpg" TargetMode="External"/><Relationship Id="rId4" Type="http://schemas.openxmlformats.org/officeDocument/2006/relationships/image" Target="../media/image24.jpeg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kvnru.ru/img/razminka006.jpg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img1.liveinternet.ru/images/foto/b/3/97/3012097/f_16919489.jpg" TargetMode="External"/><Relationship Id="rId4" Type="http://schemas.openxmlformats.org/officeDocument/2006/relationships/image" Target="../media/image6.jpeg"/><Relationship Id="rId5" Type="http://schemas.openxmlformats.org/officeDocument/2006/relationships/image" Target="../media/image7.gif"/><Relationship Id="rId6" Type="http://schemas.openxmlformats.org/officeDocument/2006/relationships/audio" Target="../media/cashreg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kvnru.ru/img/razminka006.jpg" TargetMode="External"/><Relationship Id="rId2" Type="http://schemas.openxmlformats.org/officeDocument/2006/relationships/image" Target="../media/image5.jpeg"/><Relationship Id="rId3" Type="http://schemas.openxmlformats.org/officeDocument/2006/relationships/image" Target="../media/image7.gif"/><Relationship Id="rId4" Type="http://schemas.openxmlformats.org/officeDocument/2006/relationships/hyperlink" Target="http://stat8.blog.ru/lr/0a0279ca3f244fe11d1e3d749d76bdbf" TargetMode="External"/><Relationship Id="rId5" Type="http://schemas.openxmlformats.org/officeDocument/2006/relationships/image" Target="../media/image8.jpeg"/><Relationship Id="rId6" Type="http://schemas.openxmlformats.org/officeDocument/2006/relationships/audio" Target="../media/cashreg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7.gif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7.gif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7.gif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kvnru.ru/img/razminka006.jpg" TargetMode="External"/><Relationship Id="rId2" Type="http://schemas.openxmlformats.org/officeDocument/2006/relationships/image" Target="../media/image5.jpeg"/><Relationship Id="rId3" Type="http://schemas.openxmlformats.org/officeDocument/2006/relationships/image" Target="../media/image7.gif"/><Relationship Id="rId4" Type="http://schemas.openxmlformats.org/officeDocument/2006/relationships/hyperlink" Target="http://www.ru-boss.com/uploads/posts/2007-12/thumbs/1198344203_39705.jpg" TargetMode="External"/><Relationship Id="rId5" Type="http://schemas.openxmlformats.org/officeDocument/2006/relationships/image" Target="../media/image9.jpeg"/><Relationship Id="rId6" Type="http://schemas.openxmlformats.org/officeDocument/2006/relationships/audio" Target="../media/cashreg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kvnru.ru/img/razminka006.jpg" TargetMode="External"/><Relationship Id="rId2" Type="http://schemas.openxmlformats.org/officeDocument/2006/relationships/image" Target="../media/image5.jpeg"/><Relationship Id="rId3" Type="http://schemas.openxmlformats.org/officeDocument/2006/relationships/image" Target="../media/image7.gif"/><Relationship Id="rId4" Type="http://schemas.openxmlformats.org/officeDocument/2006/relationships/hyperlink" Target="http://karikaturist.ru/images/karikaturist/w1.jpg" TargetMode="External"/><Relationship Id="rId5" Type="http://schemas.openxmlformats.org/officeDocument/2006/relationships/image" Target="../media/image10.jpeg"/><Relationship Id="rId6" Type="http://schemas.openxmlformats.org/officeDocument/2006/relationships/hyperlink" Target="http://www.aif.ru/application/public/opinion/905/0b9d6c7710ec3d137963260f74bc17e1_big.jpg" TargetMode="External"/><Relationship Id="rId7" Type="http://schemas.openxmlformats.org/officeDocument/2006/relationships/image" Target="../media/image11.jpeg"/><Relationship Id="rId8" Type="http://schemas.openxmlformats.org/officeDocument/2006/relationships/audio" Target="../media/cashreg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gazeta.a42.ru/images/lenta/2792.jpg" TargetMode="External"/><Relationship Id="rId2" Type="http://schemas.openxmlformats.org/officeDocument/2006/relationships/image" Target="../media/image12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gemplayer.files.wordpress.com/2008/12/revenue.jpg?w=300&amp;h=245" TargetMode="External"/><Relationship Id="rId2" Type="http://schemas.openxmlformats.org/officeDocument/2006/relationships/image" Target="../media/image13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inus.vl.ru/mtravel/america/photo/album/2/gamburger.jpg" TargetMode="External"/><Relationship Id="rId2" Type="http://schemas.openxmlformats.org/officeDocument/2006/relationships/image" Target="../media/image14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kyivsta.gov.ua/news/2008/11/1121_5.jpg" TargetMode="External"/><Relationship Id="rId2" Type="http://schemas.openxmlformats.org/officeDocument/2006/relationships/image" Target="../media/image15.jpeg"/><Relationship Id="rId3" Type="http://schemas.openxmlformats.org/officeDocument/2006/relationships/hyperlink" Target="http://s48.radikal.ru/i121/0911/7a/57f9955d05e5.jpg" TargetMode="External"/><Relationship Id="rId4" Type="http://schemas.openxmlformats.org/officeDocument/2006/relationships/image" Target="../media/image16.jpeg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 Black"/>
              </a:rPr>
              <a:t>Разминк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2608200" y="3994200"/>
            <a:ext cx="1843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395280" y="901800"/>
            <a:ext cx="8353440" cy="207144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«Наши потребности в пище всегда ограничены стенками нашего желудка»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Объясните смысл выражени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Picture 5" descr="Картинка 1 из 1701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1035000" cy="7668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7" descr="Картинка 14 из 1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340000" y="304488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153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5" name="cashreg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2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 Black"/>
              </a:rPr>
              <a:t>Уровень доходов населения зависит от: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3" name="Picture 6" descr="Картинка 13 из 5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71640" y="1285920"/>
            <a:ext cx="7424640" cy="5572080"/>
          </a:xfrm>
          <a:prstGeom prst="rect">
            <a:avLst/>
          </a:prstGeom>
          <a:ln w="0">
            <a:noFill/>
          </a:ln>
        </p:spPr>
      </p:pic>
      <p:sp>
        <p:nvSpPr>
          <p:cNvPr id="204" name="TextBox 7"/>
          <p:cNvSpPr/>
          <p:nvPr/>
        </p:nvSpPr>
        <p:spPr>
          <a:xfrm>
            <a:off x="2268360" y="5288040"/>
            <a:ext cx="6356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Степени насыщенности потребительского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рынка товарам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3" name="cashreg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2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 Black"/>
              </a:rPr>
              <a:t>Доходы населени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Rectangle 3"/>
          <p:cNvSpPr/>
          <p:nvPr/>
        </p:nvSpPr>
        <p:spPr>
          <a:xfrm>
            <a:off x="684360" y="907920"/>
            <a:ext cx="7921440" cy="266544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- сумма денежных средств и материальных благ, полученных или произведенных домашними хозяйствами за определенный промежуток времен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8" name="Picture 2" descr="Картинка 14 из 789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00720" y="3440160"/>
            <a:ext cx="4643280" cy="3417840"/>
          </a:xfrm>
          <a:prstGeom prst="rect">
            <a:avLst/>
          </a:prstGeom>
          <a:ln w="0">
            <a:noFill/>
          </a:ln>
        </p:spPr>
      </p:pic>
      <p:sp>
        <p:nvSpPr>
          <p:cNvPr id="209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3" name="cashreg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2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 Black"/>
              </a:rPr>
              <a:t>Номинальный доход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Rectangle 3"/>
          <p:cNvSpPr/>
          <p:nvPr/>
        </p:nvSpPr>
        <p:spPr>
          <a:xfrm>
            <a:off x="684360" y="907920"/>
            <a:ext cx="7921440" cy="180036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- количество денег, полученное отдельными лицами в течение определенного период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2" name="Picture 2" descr="Картинка 1 из 789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2708280"/>
            <a:ext cx="5327640" cy="3922560"/>
          </a:xfrm>
          <a:prstGeom prst="rect">
            <a:avLst/>
          </a:prstGeom>
          <a:ln w="0">
            <a:noFill/>
          </a:ln>
        </p:spPr>
      </p:pic>
      <p:sp>
        <p:nvSpPr>
          <p:cNvPr id="213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3" name="cashreg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2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 Black"/>
              </a:rPr>
              <a:t>Располагаемый доход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Rectangle 3"/>
          <p:cNvSpPr/>
          <p:nvPr/>
        </p:nvSpPr>
        <p:spPr>
          <a:xfrm>
            <a:off x="684360" y="907920"/>
            <a:ext cx="7921440" cy="216072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- доход, который может быть использован на личное потребление и личные сбережения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611280" y="4437000"/>
            <a:ext cx="7921440" cy="216072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Располагаемый доход меньше номинального дохода на сумму налогов и обязательных платежей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7" name="Picture 2" descr="Картинка 18 из 248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84720" y="2421000"/>
            <a:ext cx="2500560" cy="2000160"/>
          </a:xfrm>
          <a:prstGeom prst="rect">
            <a:avLst/>
          </a:prstGeom>
          <a:ln w="0">
            <a:noFill/>
          </a:ln>
        </p:spPr>
      </p:pic>
      <p:sp>
        <p:nvSpPr>
          <p:cNvPr id="218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3" name="cashreg.wav"/>
      </p:stSnd>
    </p:sndAc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2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 Black"/>
              </a:rPr>
              <a:t>Реальный доход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Rectangle 3"/>
          <p:cNvSpPr/>
          <p:nvPr/>
        </p:nvSpPr>
        <p:spPr>
          <a:xfrm>
            <a:off x="684360" y="907920"/>
            <a:ext cx="7921440" cy="122580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– </a:t>
            </a: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это располагаемый доход с учетом инфляци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1" name="Picture 2" descr="http://www.deeside.ac.uk/img/money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835280" y="2565360"/>
            <a:ext cx="5413320" cy="4059360"/>
          </a:xfrm>
          <a:prstGeom prst="rect">
            <a:avLst/>
          </a:prstGeom>
          <a:ln w="0">
            <a:noFill/>
          </a:ln>
        </p:spPr>
      </p:pic>
      <p:sp>
        <p:nvSpPr>
          <p:cNvPr id="222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3" name="cashreg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2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 Black"/>
              </a:rPr>
              <a:t>Источники доходов населени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4" name="Picture 2" descr="Картинка 10 из 293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1052640"/>
            <a:ext cx="3687840" cy="33843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2" descr="Картинка 36 из 1389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851280" y="2060640"/>
            <a:ext cx="4537080" cy="3286080"/>
          </a:xfrm>
          <a:prstGeom prst="rect">
            <a:avLst/>
          </a:prstGeom>
          <a:ln w="0">
            <a:noFill/>
          </a:ln>
        </p:spPr>
      </p:pic>
      <p:sp>
        <p:nvSpPr>
          <p:cNvPr id="226" name="TextBox 7"/>
          <p:cNvSpPr/>
          <p:nvPr/>
        </p:nvSpPr>
        <p:spPr>
          <a:xfrm>
            <a:off x="3247920" y="5445000"/>
            <a:ext cx="550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Доход от предпринимательской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деятельност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5" name="cashreg.wav"/>
      </p:stSnd>
    </p:sndAc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2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 Black"/>
              </a:rPr>
              <a:t>Источники доходов населени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9" name="Picture 2" descr="Картинка 1 из 5896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836640"/>
            <a:ext cx="3911760" cy="4643280"/>
          </a:xfrm>
          <a:prstGeom prst="rect">
            <a:avLst/>
          </a:prstGeom>
          <a:ln w="0">
            <a:noFill/>
          </a:ln>
        </p:spPr>
      </p:pic>
      <p:sp>
        <p:nvSpPr>
          <p:cNvPr id="230" name="TextBox 9"/>
          <p:cNvSpPr/>
          <p:nvPr/>
        </p:nvSpPr>
        <p:spPr>
          <a:xfrm>
            <a:off x="1186920" y="5589720"/>
            <a:ext cx="19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пенсии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1" name="Picture 4" descr="Картинка 3 из 52083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643280" y="836640"/>
            <a:ext cx="3907080" cy="4608360"/>
          </a:xfrm>
          <a:prstGeom prst="rect">
            <a:avLst/>
          </a:prstGeom>
          <a:ln w="0">
            <a:noFill/>
          </a:ln>
        </p:spPr>
      </p:pic>
      <p:sp>
        <p:nvSpPr>
          <p:cNvPr id="232" name="TextBox 11"/>
          <p:cNvSpPr/>
          <p:nvPr/>
        </p:nvSpPr>
        <p:spPr>
          <a:xfrm>
            <a:off x="5226840" y="5516640"/>
            <a:ext cx="294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стипендии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5" name="cashreg.wav"/>
      </p:stSnd>
    </p:sndAc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2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 Black"/>
              </a:rPr>
              <a:t>Источники доходов населени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5" name="Picture 2" descr="Картинка 9 из 312481"/>
          <p:cNvPicPr/>
          <p:nvPr/>
        </p:nvPicPr>
        <p:blipFill>
          <a:blip r:embed="rId1"/>
          <a:stretch/>
        </p:blipFill>
        <p:spPr>
          <a:xfrm>
            <a:off x="324000" y="765000"/>
            <a:ext cx="5076720" cy="3372120"/>
          </a:xfrm>
          <a:prstGeom prst="rect">
            <a:avLst/>
          </a:prstGeom>
          <a:ln w="0">
            <a:noFill/>
          </a:ln>
        </p:spPr>
      </p:pic>
      <p:sp>
        <p:nvSpPr>
          <p:cNvPr id="236" name="TextBox 8"/>
          <p:cNvSpPr/>
          <p:nvPr/>
        </p:nvSpPr>
        <p:spPr>
          <a:xfrm>
            <a:off x="687600" y="4214880"/>
            <a:ext cx="391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Различные пособи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7" name="Picture 4" descr="Картинка 7 из 3606806"/>
          <p:cNvPicPr/>
          <p:nvPr/>
        </p:nvPicPr>
        <p:blipFill>
          <a:blip r:embed="rId2"/>
          <a:stretch/>
        </p:blipFill>
        <p:spPr>
          <a:xfrm>
            <a:off x="4643280" y="2637000"/>
            <a:ext cx="4283280" cy="3214440"/>
          </a:xfrm>
          <a:prstGeom prst="rect">
            <a:avLst/>
          </a:prstGeom>
          <a:ln w="0">
            <a:noFill/>
          </a:ln>
        </p:spPr>
      </p:pic>
      <p:sp>
        <p:nvSpPr>
          <p:cNvPr id="238" name="TextBox 14"/>
          <p:cNvSpPr/>
          <p:nvPr/>
        </p:nvSpPr>
        <p:spPr>
          <a:xfrm>
            <a:off x="5839560" y="6027840"/>
            <a:ext cx="255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Доходы от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собственност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3" name="cashreg.wav"/>
      </p:stSnd>
    </p:sndAc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2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 Black"/>
              </a:rPr>
              <a:t>Источники доходов населени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1" name="Picture 2" descr="Картинка 7 из 9113"/>
          <p:cNvPicPr/>
          <p:nvPr/>
        </p:nvPicPr>
        <p:blipFill>
          <a:blip r:embed="rId1"/>
          <a:stretch/>
        </p:blipFill>
        <p:spPr>
          <a:xfrm>
            <a:off x="250920" y="907920"/>
            <a:ext cx="5554440" cy="3429000"/>
          </a:xfrm>
          <a:prstGeom prst="rect">
            <a:avLst/>
          </a:prstGeom>
          <a:ln w="0">
            <a:noFill/>
          </a:ln>
        </p:spPr>
      </p:pic>
      <p:sp>
        <p:nvSpPr>
          <p:cNvPr id="242" name="TextBox 9"/>
          <p:cNvSpPr/>
          <p:nvPr/>
        </p:nvSpPr>
        <p:spPr>
          <a:xfrm>
            <a:off x="443160" y="907920"/>
            <a:ext cx="299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44"/>
                </a:solidFill>
                <a:latin typeface="Arial Black"/>
              </a:rPr>
              <a:t>дивиденды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3" name="Picture 4" descr="Картинка 16 из 63130"/>
          <p:cNvPicPr/>
          <p:nvPr/>
        </p:nvPicPr>
        <p:blipFill>
          <a:blip r:embed="rId2"/>
          <a:stretch/>
        </p:blipFill>
        <p:spPr>
          <a:xfrm>
            <a:off x="5003640" y="3048120"/>
            <a:ext cx="3924360" cy="3809880"/>
          </a:xfrm>
          <a:prstGeom prst="rect">
            <a:avLst/>
          </a:prstGeom>
          <a:ln w="0">
            <a:noFill/>
          </a:ln>
        </p:spPr>
      </p:pic>
      <p:sp>
        <p:nvSpPr>
          <p:cNvPr id="244" name="TextBox 13"/>
          <p:cNvSpPr/>
          <p:nvPr/>
        </p:nvSpPr>
        <p:spPr>
          <a:xfrm>
            <a:off x="5053320" y="2997360"/>
            <a:ext cx="157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 Black"/>
              </a:rPr>
              <a:t>рент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3" name="cashreg.wav"/>
      </p:stSnd>
    </p:sndAc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2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 Black"/>
              </a:rPr>
              <a:t>Источники доходов населени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7" name="Picture 2" descr="Картинка 4 из 586181"/>
          <p:cNvPicPr/>
          <p:nvPr/>
        </p:nvPicPr>
        <p:blipFill>
          <a:blip r:embed="rId1"/>
          <a:stretch/>
        </p:blipFill>
        <p:spPr>
          <a:xfrm>
            <a:off x="539640" y="836640"/>
            <a:ext cx="8089920" cy="5616720"/>
          </a:xfrm>
          <a:prstGeom prst="rect">
            <a:avLst/>
          </a:prstGeom>
          <a:ln w="0">
            <a:noFill/>
          </a:ln>
        </p:spPr>
      </p:pic>
      <p:sp>
        <p:nvSpPr>
          <p:cNvPr id="248" name="TextBox 7"/>
          <p:cNvSpPr/>
          <p:nvPr/>
        </p:nvSpPr>
        <p:spPr>
          <a:xfrm>
            <a:off x="997560" y="4221000"/>
            <a:ext cx="7064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средства от продажи ценных бумаг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недвижимости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продукции сельского хозяйства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различных издели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2" name="cashreg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2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 Black"/>
              </a:rPr>
              <a:t>Разминк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2608200" y="4025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Rectangle 3"/>
          <p:cNvSpPr/>
          <p:nvPr/>
        </p:nvSpPr>
        <p:spPr>
          <a:xfrm>
            <a:off x="395280" y="907920"/>
            <a:ext cx="8353440" cy="309744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Доход человека - это поток денежных поступлений в единицу времени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Богатство - это запас материальных и финансовых активов, которыми данный человек владеет в данный момент времени: наличные деньги, акции, дома, земля, предприятии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7" name="Picture 5" descr="Картинка 1 из 1701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1042920" cy="7732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Картинка 18 из 1547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308720" y="907920"/>
            <a:ext cx="1403640" cy="14306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2" descr="D:\marina\картинки\человек\Рисунок1.gif"/>
          <p:cNvPicPr/>
          <p:nvPr/>
        </p:nvPicPr>
        <p:blipFill>
          <a:blip r:embed="rId5"/>
          <a:stretch/>
        </p:blipFill>
        <p:spPr>
          <a:xfrm>
            <a:off x="250920" y="4653000"/>
            <a:ext cx="1038240" cy="1333440"/>
          </a:xfrm>
          <a:prstGeom prst="rect">
            <a:avLst/>
          </a:prstGeom>
          <a:ln w="0">
            <a:noFill/>
          </a:ln>
        </p:spPr>
      </p:pic>
      <p:sp>
        <p:nvSpPr>
          <p:cNvPr id="160" name="Выноска-облако 9"/>
          <p:cNvSpPr/>
          <p:nvPr/>
        </p:nvSpPr>
        <p:spPr>
          <a:xfrm>
            <a:off x="2124000" y="3716280"/>
            <a:ext cx="6769080" cy="2808360"/>
          </a:xfrm>
          <a:prstGeom prst="cloudCallout">
            <a:avLst>
              <a:gd name="adj1" fmla="val -61500"/>
              <a:gd name="adj2" fmla="val 11796"/>
            </a:avLst>
          </a:prstGeom>
          <a:solidFill>
            <a:srgbClr val="adad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44"/>
                </a:solidFill>
                <a:latin typeface="Arial Black"/>
              </a:rPr>
              <a:t>Как вы думаете, доход и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44"/>
                </a:solidFill>
                <a:latin typeface="Arial Black"/>
              </a:rPr>
              <a:t>богатство связаны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44"/>
                </a:solidFill>
                <a:latin typeface="Arial Black"/>
              </a:rPr>
              <a:t>друг с другом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44"/>
                </a:solidFill>
                <a:latin typeface="Arial Black"/>
              </a:rPr>
              <a:t>каким-либо образом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44"/>
                </a:solidFill>
                <a:latin typeface="Arial Black"/>
              </a:rPr>
              <a:t>и если связаны, то каким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Місце для нижнього колонтитула 2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6" name="cashreg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2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 Black"/>
              </a:rPr>
              <a:t>Источники доходов населени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1" name="Picture 2" descr="Картинка 13 из 1665348"/>
          <p:cNvPicPr/>
          <p:nvPr/>
        </p:nvPicPr>
        <p:blipFill>
          <a:blip r:embed="rId1"/>
          <a:stretch/>
        </p:blipFill>
        <p:spPr>
          <a:xfrm>
            <a:off x="971640" y="836640"/>
            <a:ext cx="7210440" cy="4286160"/>
          </a:xfrm>
          <a:prstGeom prst="rect">
            <a:avLst/>
          </a:prstGeom>
          <a:ln w="0">
            <a:noFill/>
          </a:ln>
        </p:spPr>
      </p:pic>
      <p:sp>
        <p:nvSpPr>
          <p:cNvPr id="252" name="TextBox 6"/>
          <p:cNvSpPr/>
          <p:nvPr/>
        </p:nvSpPr>
        <p:spPr>
          <a:xfrm>
            <a:off x="2073600" y="5229360"/>
            <a:ext cx="480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доходы от различных услуг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оказанных на сторон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2" name="cashreg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ext Box 2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 Black"/>
              </a:rPr>
              <a:t>Дифференциация доходов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Rectangle 3"/>
          <p:cNvSpPr/>
          <p:nvPr/>
        </p:nvSpPr>
        <p:spPr>
          <a:xfrm>
            <a:off x="684360" y="836640"/>
            <a:ext cx="7921440" cy="172872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- разница в уровне денежных доходов различных слоев и групп населения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6" name="Picture 7" descr="http://s60.radikal.ru/i170/0911/d5/70e33d3c3c32.jpg"/>
          <p:cNvPicPr/>
          <p:nvPr/>
        </p:nvPicPr>
        <p:blipFill>
          <a:blip r:embed="rId1"/>
          <a:srcRect l="887" t="30236" r="0" b="3780"/>
          <a:stretch/>
        </p:blipFill>
        <p:spPr>
          <a:xfrm>
            <a:off x="2556000" y="2492280"/>
            <a:ext cx="4417920" cy="4143600"/>
          </a:xfrm>
          <a:prstGeom prst="rect">
            <a:avLst/>
          </a:prstGeom>
          <a:ln w="0">
            <a:noFill/>
          </a:ln>
        </p:spPr>
      </p:pic>
      <p:sp>
        <p:nvSpPr>
          <p:cNvPr id="257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2" name="cashreg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4"/>
          <p:cNvSpPr/>
          <p:nvPr/>
        </p:nvSpPr>
        <p:spPr>
          <a:xfrm>
            <a:off x="179280" y="1052640"/>
            <a:ext cx="8640720" cy="1152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 Black"/>
              </a:rPr>
              <a:t>разная ценность, принадлежащих людям факторов производств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Text Box 2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 Black"/>
              </a:rPr>
              <a:t>Причины дифференциации доходо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Rectangle 4"/>
          <p:cNvSpPr/>
          <p:nvPr/>
        </p:nvSpPr>
        <p:spPr>
          <a:xfrm>
            <a:off x="250920" y="2924280"/>
            <a:ext cx="8640720" cy="1152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 Black"/>
              </a:rPr>
              <a:t>разная успешность использования факторов производств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Rectangle 4"/>
          <p:cNvSpPr/>
          <p:nvPr/>
        </p:nvSpPr>
        <p:spPr>
          <a:xfrm>
            <a:off x="324000" y="4797360"/>
            <a:ext cx="8640720" cy="1152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 Black"/>
              </a:rPr>
              <a:t>разный объем, принадлежащих людям факторов производств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1" name="cashreg.wav"/>
      </p:stSnd>
    </p:sndAc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4"/>
          <p:cNvSpPr/>
          <p:nvPr/>
        </p:nvSpPr>
        <p:spPr>
          <a:xfrm>
            <a:off x="179280" y="1052640"/>
            <a:ext cx="8640720" cy="1152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 Black"/>
              </a:rPr>
              <a:t>различия во врожденных способностях люде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Text Box 2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 Black"/>
              </a:rPr>
              <a:t>Причины дифференциации доходо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Rectangle 4"/>
          <p:cNvSpPr/>
          <p:nvPr/>
        </p:nvSpPr>
        <p:spPr>
          <a:xfrm>
            <a:off x="250920" y="2924280"/>
            <a:ext cx="8640720" cy="1152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 Black"/>
              </a:rPr>
              <a:t>различия в производительности труд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Rectangle 4"/>
          <p:cNvSpPr/>
          <p:nvPr/>
        </p:nvSpPr>
        <p:spPr>
          <a:xfrm>
            <a:off x="250920" y="4797360"/>
            <a:ext cx="8640720" cy="1152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 Black"/>
              </a:rPr>
              <a:t>дискриминация на рынке труд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1" name="cashreg.wav"/>
      </p:stSnd>
    </p:sndAc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4"/>
          <p:cNvSpPr/>
          <p:nvPr/>
        </p:nvSpPr>
        <p:spPr>
          <a:xfrm>
            <a:off x="179280" y="1052640"/>
            <a:ext cx="8640720" cy="1152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 Black"/>
              </a:rPr>
              <a:t>расположенность людей к риску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Text Box 2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 Black"/>
              </a:rPr>
              <a:t>Причины дифференциации доходо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Rectangle 4"/>
          <p:cNvSpPr/>
          <p:nvPr/>
        </p:nvSpPr>
        <p:spPr>
          <a:xfrm>
            <a:off x="250920" y="2924280"/>
            <a:ext cx="8640720" cy="1152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 Black"/>
              </a:rPr>
              <a:t>удача и несчасть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Rectangle 4"/>
          <p:cNvSpPr/>
          <p:nvPr/>
        </p:nvSpPr>
        <p:spPr>
          <a:xfrm>
            <a:off x="250920" y="4797360"/>
            <a:ext cx="8640720" cy="1152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 Black"/>
              </a:rPr>
              <a:t>имущественные различ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1" name="cashreg.wav"/>
      </p:stSnd>
    </p:sndAc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2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 Black"/>
              </a:rPr>
              <a:t>Последствия сильной дифференциации доходо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4" name="Picture 2" descr="Картинка 39 из 197"/>
          <p:cNvPicPr/>
          <p:nvPr/>
        </p:nvPicPr>
        <p:blipFill>
          <a:blip r:embed="rId1"/>
          <a:stretch/>
        </p:blipFill>
        <p:spPr>
          <a:xfrm>
            <a:off x="1692360" y="1484280"/>
            <a:ext cx="5763960" cy="5113440"/>
          </a:xfrm>
          <a:prstGeom prst="rect">
            <a:avLst/>
          </a:prstGeom>
          <a:ln w="0">
            <a:noFill/>
          </a:ln>
        </p:spPr>
      </p:pic>
      <p:sp>
        <p:nvSpPr>
          <p:cNvPr id="275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2" name="cashreg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Text Box 2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 Black"/>
              </a:rPr>
              <a:t>Измерения дифференциации доходов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Rectangle 3"/>
          <p:cNvSpPr/>
          <p:nvPr/>
        </p:nvSpPr>
        <p:spPr>
          <a:xfrm>
            <a:off x="468360" y="1700280"/>
            <a:ext cx="7921440" cy="172872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- методы измерения доли дохода или богатства, приходящейся на различные группы населени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8" name="Picture 6" descr="http://gemplayer.files.wordpress.com/2008/12/revenue.jpg?w=300&amp;h=245"/>
          <p:cNvPicPr/>
          <p:nvPr/>
        </p:nvPicPr>
        <p:blipFill>
          <a:blip r:embed="rId1"/>
          <a:stretch/>
        </p:blipFill>
        <p:spPr>
          <a:xfrm>
            <a:off x="2771640" y="3645000"/>
            <a:ext cx="3438720" cy="2809800"/>
          </a:xfrm>
          <a:prstGeom prst="rect">
            <a:avLst/>
          </a:prstGeom>
          <a:ln w="0">
            <a:noFill/>
          </a:ln>
        </p:spPr>
      </p:pic>
      <p:sp>
        <p:nvSpPr>
          <p:cNvPr id="279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2" name="cashreg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 Box 2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 Black"/>
              </a:rPr>
              <a:t>Кривая Лоренц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Rectangle 3"/>
          <p:cNvSpPr/>
          <p:nvPr/>
        </p:nvSpPr>
        <p:spPr>
          <a:xfrm>
            <a:off x="468360" y="1125360"/>
            <a:ext cx="7921440" cy="460728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— </a:t>
            </a: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кривая, которая показывает, какую часть совокупного денежного дохода страны получает каждая доля низкодоходных и высокодоходных семей, то есть отражает в процентах распределение дохода между семьями с разным достатком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1" name="cashreg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Text Box 2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 Black"/>
              </a:rPr>
              <a:t>Кривая Лоренц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4" name="Picture 3" descr="E:\marina\10 класс экономика\Несостоятельность рынка и государственное регулирование\Кривая_Лоренца_и_коэффициент_Робин_Гуда[1].jpg"/>
          <p:cNvPicPr/>
          <p:nvPr/>
        </p:nvPicPr>
        <p:blipFill>
          <a:blip r:embed="rId1"/>
          <a:stretch/>
        </p:blipFill>
        <p:spPr>
          <a:xfrm>
            <a:off x="682560" y="743040"/>
            <a:ext cx="7985160" cy="5713200"/>
          </a:xfrm>
          <a:prstGeom prst="rect">
            <a:avLst/>
          </a:prstGeom>
          <a:ln w="0">
            <a:noFill/>
          </a:ln>
        </p:spPr>
      </p:pic>
      <p:sp>
        <p:nvSpPr>
          <p:cNvPr id="285" name="Прямая соединительная линия 12"/>
          <p:cNvSpPr/>
          <p:nvPr/>
        </p:nvSpPr>
        <p:spPr>
          <a:xfrm flipH="1">
            <a:off x="1618920" y="5444280"/>
            <a:ext cx="431640" cy="287640"/>
          </a:xfrm>
          <a:prstGeom prst="line">
            <a:avLst/>
          </a:prstGeom>
          <a:ln w="85680">
            <a:solidFill>
              <a:srgbClr val="0000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86" name="Прямая соединительная линия 29"/>
          <p:cNvCxnSpPr/>
          <p:nvPr/>
        </p:nvCxnSpPr>
        <p:spPr>
          <a:xfrm flipV="1">
            <a:off x="1692360" y="5444280"/>
            <a:ext cx="1296000" cy="288360"/>
          </a:xfrm>
          <a:prstGeom prst="straightConnector1">
            <a:avLst/>
          </a:prstGeom>
          <a:ln w="63360">
            <a:solidFill>
              <a:srgbClr val="ff0000"/>
            </a:solidFill>
            <a:miter/>
          </a:ln>
        </p:spPr>
      </p:cxnSp>
      <p:cxnSp>
        <p:nvCxnSpPr>
          <p:cNvPr id="287" name="Прямая соединительная линия 29"/>
          <p:cNvCxnSpPr/>
          <p:nvPr/>
        </p:nvCxnSpPr>
        <p:spPr>
          <a:xfrm flipV="1">
            <a:off x="2987280" y="4796640"/>
            <a:ext cx="1297800" cy="648360"/>
          </a:xfrm>
          <a:prstGeom prst="straightConnector1">
            <a:avLst/>
          </a:prstGeom>
          <a:ln w="63360">
            <a:solidFill>
              <a:srgbClr val="ff0000"/>
            </a:solidFill>
            <a:miter/>
          </a:ln>
        </p:spPr>
      </p:cxnSp>
      <p:cxnSp>
        <p:nvCxnSpPr>
          <p:cNvPr id="288" name="Прямая соединительная линия 29"/>
          <p:cNvCxnSpPr/>
          <p:nvPr/>
        </p:nvCxnSpPr>
        <p:spPr>
          <a:xfrm flipV="1">
            <a:off x="4284360" y="3789000"/>
            <a:ext cx="1367640" cy="1008720"/>
          </a:xfrm>
          <a:prstGeom prst="straightConnector1">
            <a:avLst/>
          </a:prstGeom>
          <a:ln w="63360">
            <a:solidFill>
              <a:srgbClr val="ff0000"/>
            </a:solidFill>
            <a:miter/>
          </a:ln>
        </p:spPr>
      </p:cxnSp>
      <p:cxnSp>
        <p:nvCxnSpPr>
          <p:cNvPr id="289" name="Прямая соединительная линия 29"/>
          <p:cNvCxnSpPr/>
          <p:nvPr/>
        </p:nvCxnSpPr>
        <p:spPr>
          <a:xfrm flipV="1">
            <a:off x="5651280" y="2707560"/>
            <a:ext cx="1369080" cy="1081800"/>
          </a:xfrm>
          <a:prstGeom prst="straightConnector1">
            <a:avLst/>
          </a:prstGeom>
          <a:ln w="63360">
            <a:solidFill>
              <a:srgbClr val="ff0000"/>
            </a:solidFill>
            <a:miter/>
          </a:ln>
        </p:spPr>
      </p:cxnSp>
      <p:cxnSp>
        <p:nvCxnSpPr>
          <p:cNvPr id="290" name="Прямая соединительная линия 29"/>
          <p:cNvCxnSpPr/>
          <p:nvPr/>
        </p:nvCxnSpPr>
        <p:spPr>
          <a:xfrm flipV="1">
            <a:off x="7018920" y="1051920"/>
            <a:ext cx="1152720" cy="1656360"/>
          </a:xfrm>
          <a:prstGeom prst="straightConnector1">
            <a:avLst/>
          </a:prstGeom>
          <a:ln w="63360">
            <a:solidFill>
              <a:srgbClr val="ff0000"/>
            </a:solidFill>
            <a:miter/>
          </a:ln>
        </p:spPr>
      </p:cxnSp>
      <p:sp>
        <p:nvSpPr>
          <p:cNvPr id="291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2" name="cashreg.wav"/>
      </p:stSnd>
    </p:sndAc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Text Box 2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 Black"/>
              </a:rPr>
              <a:t>Коэффициент Джини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Rectangle 3"/>
          <p:cNvSpPr/>
          <p:nvPr/>
        </p:nvSpPr>
        <p:spPr>
          <a:xfrm>
            <a:off x="468360" y="1125360"/>
            <a:ext cx="7921440" cy="316728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показывает степень отклонения фактического объема распределения доходов населения от линии их равномерного распределения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1" name="cashreg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2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 Black"/>
              </a:rPr>
              <a:t>Разминк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2608200" y="4025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395280" y="1268280"/>
            <a:ext cx="8353440" cy="158616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Очень часто говорят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что «богатство - понятие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относительное»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5" name="Picture 5" descr="Картинка 1 из 1701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1042920" cy="7732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2" descr="D:\marina\картинки\человек\Рисунок1.gif"/>
          <p:cNvPicPr/>
          <p:nvPr/>
        </p:nvPicPr>
        <p:blipFill>
          <a:blip r:embed="rId3"/>
          <a:stretch/>
        </p:blipFill>
        <p:spPr>
          <a:xfrm>
            <a:off x="468360" y="4797360"/>
            <a:ext cx="1038240" cy="1333440"/>
          </a:xfrm>
          <a:prstGeom prst="rect">
            <a:avLst/>
          </a:prstGeom>
          <a:ln w="0">
            <a:noFill/>
          </a:ln>
        </p:spPr>
      </p:pic>
      <p:sp>
        <p:nvSpPr>
          <p:cNvPr id="167" name="Выноска-облако 9"/>
          <p:cNvSpPr/>
          <p:nvPr/>
        </p:nvSpPr>
        <p:spPr>
          <a:xfrm>
            <a:off x="2340000" y="3716280"/>
            <a:ext cx="6264360" cy="1657440"/>
          </a:xfrm>
          <a:prstGeom prst="cloudCallout">
            <a:avLst>
              <a:gd name="adj1" fmla="val -65425"/>
              <a:gd name="adj2" fmla="val 58009"/>
            </a:avLst>
          </a:prstGeom>
          <a:solidFill>
            <a:srgbClr val="adad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44"/>
                </a:solidFill>
                <a:latin typeface="Arial Black"/>
              </a:rPr>
              <a:t>Согласны ли вы с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44"/>
                </a:solidFill>
                <a:latin typeface="Arial Black"/>
              </a:rPr>
              <a:t>этим утверждением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8" name="Picture 10" descr="Картинка 20 из 78680">
            <a:hlinkClick r:id="rId4"/>
          </p:cNvPr>
          <p:cNvPicPr/>
          <p:nvPr/>
        </p:nvPicPr>
        <p:blipFill>
          <a:blip r:embed="rId5"/>
          <a:srcRect l="9976" t="10919" r="0" b="22678"/>
          <a:stretch/>
        </p:blipFill>
        <p:spPr>
          <a:xfrm>
            <a:off x="7164360" y="1270080"/>
            <a:ext cx="1571760" cy="1531800"/>
          </a:xfrm>
          <a:prstGeom prst="rect">
            <a:avLst/>
          </a:prstGeom>
          <a:ln w="0">
            <a:noFill/>
          </a:ln>
        </p:spPr>
      </p:pic>
      <p:sp>
        <p:nvSpPr>
          <p:cNvPr id="169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6" name="cashreg.wav"/>
      </p:stSnd>
    </p:sndAc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4"/>
          <p:cNvSpPr/>
          <p:nvPr/>
        </p:nvSpPr>
        <p:spPr>
          <a:xfrm>
            <a:off x="324000" y="1341360"/>
            <a:ext cx="8640720" cy="1152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 Black"/>
              </a:rPr>
              <a:t>разделение функций работодателей и государств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Text Box 2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 Black"/>
              </a:rPr>
              <a:t>Государственное регулирование неравенства доходо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Rectangle 4"/>
          <p:cNvSpPr/>
          <p:nvPr/>
        </p:nvSpPr>
        <p:spPr>
          <a:xfrm>
            <a:off x="250920" y="2924280"/>
            <a:ext cx="8640720" cy="1152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 Black"/>
              </a:rPr>
              <a:t>прогрессивное обложение доходо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Rectangle 4"/>
          <p:cNvSpPr/>
          <p:nvPr/>
        </p:nvSpPr>
        <p:spPr>
          <a:xfrm>
            <a:off x="250920" y="4365720"/>
            <a:ext cx="8640720" cy="1584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 Black"/>
              </a:rPr>
              <a:t>система государственной и социальной поддержки граждан (трансферты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1" name="cashreg.wav"/>
      </p:stSnd>
    </p:sndAc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Text Box 2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 Black"/>
              </a:rPr>
              <a:t>Выравнивание доходов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Rectangle 3"/>
          <p:cNvSpPr/>
          <p:nvPr/>
        </p:nvSpPr>
        <p:spPr>
          <a:xfrm>
            <a:off x="468360" y="1125360"/>
            <a:ext cx="7921440" cy="288000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- целенаправленная политика государства по нивелированию разницы в личных доходах различных категорий населени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1" name="cashreg.wav"/>
      </p:stSnd>
    </p:sndAc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Text Box 2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 Black"/>
              </a:rPr>
              <a:t>Вопрос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Text Box 3"/>
          <p:cNvSpPr/>
          <p:nvPr/>
        </p:nvSpPr>
        <p:spPr>
          <a:xfrm>
            <a:off x="2608200" y="4025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Rectangle 3"/>
          <p:cNvSpPr/>
          <p:nvPr/>
        </p:nvSpPr>
        <p:spPr>
          <a:xfrm>
            <a:off x="395280" y="1197000"/>
            <a:ext cx="8209080" cy="158436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Во всем цивилизованном мире, чем выше образование, тем выше уровень доходов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Rectangle 3"/>
          <p:cNvSpPr/>
          <p:nvPr/>
        </p:nvSpPr>
        <p:spPr>
          <a:xfrm>
            <a:off x="395280" y="3068640"/>
            <a:ext cx="8209080" cy="151272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Можно ли сказать, что в России доход, получаемый работником, зависит от уровня образования этого работника?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7" name="Picture 5" descr="E:\marina\картинки\разное\Vopros[1].jpg"/>
          <p:cNvPicPr/>
          <p:nvPr/>
        </p:nvPicPr>
        <p:blipFill>
          <a:blip r:embed="rId1"/>
          <a:stretch/>
        </p:blipFill>
        <p:spPr>
          <a:xfrm>
            <a:off x="8317080" y="0"/>
            <a:ext cx="826920" cy="78408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2" descr="D:\marina\картинки\человек\Рисунок1.gif"/>
          <p:cNvPicPr/>
          <p:nvPr/>
        </p:nvPicPr>
        <p:blipFill>
          <a:blip r:embed="rId2"/>
          <a:stretch/>
        </p:blipFill>
        <p:spPr>
          <a:xfrm>
            <a:off x="1547640" y="5229360"/>
            <a:ext cx="1038240" cy="1333440"/>
          </a:xfrm>
          <a:prstGeom prst="rect">
            <a:avLst/>
          </a:prstGeom>
          <a:ln w="0">
            <a:noFill/>
          </a:ln>
        </p:spPr>
      </p:pic>
      <p:sp>
        <p:nvSpPr>
          <p:cNvPr id="309" name="Выноска-облако 9"/>
          <p:cNvSpPr/>
          <p:nvPr/>
        </p:nvSpPr>
        <p:spPr>
          <a:xfrm>
            <a:off x="3132000" y="4365720"/>
            <a:ext cx="4392720" cy="2232000"/>
          </a:xfrm>
          <a:prstGeom prst="cloudCallout">
            <a:avLst>
              <a:gd name="adj1" fmla="val -67115"/>
              <a:gd name="adj2" fmla="val 14384"/>
            </a:avLst>
          </a:prstGeom>
          <a:solidFill>
            <a:srgbClr val="adad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44"/>
                </a:solidFill>
                <a:latin typeface="Arial Black"/>
              </a:rPr>
              <a:t>Зачем тогда люд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44"/>
                </a:solidFill>
                <a:latin typeface="Arial Black"/>
              </a:rPr>
              <a:t> </a:t>
            </a:r>
            <a:r>
              <a:rPr b="0" lang="ru-RU" sz="2400" spc="-1" strike="noStrike">
                <a:solidFill>
                  <a:srgbClr val="000044"/>
                </a:solidFill>
                <a:latin typeface="Arial Black"/>
              </a:rPr>
              <a:t>стремятся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44"/>
                </a:solidFill>
                <a:latin typeface="Arial Black"/>
              </a:rPr>
              <a:t>получить высшее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44"/>
                </a:solidFill>
                <a:latin typeface="Arial Black"/>
              </a:rPr>
              <a:t>образование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3" name="cashreg.wav"/>
      </p:stSnd>
    </p:sndAc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Text Box 2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 Black"/>
              </a:rPr>
              <a:t>Вопрос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Text Box 3"/>
          <p:cNvSpPr/>
          <p:nvPr/>
        </p:nvSpPr>
        <p:spPr>
          <a:xfrm>
            <a:off x="2608200" y="4025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3" name="Picture 5" descr="E:\marina\картинки\разное\Vopros[1].jpg"/>
          <p:cNvPicPr/>
          <p:nvPr/>
        </p:nvPicPr>
        <p:blipFill>
          <a:blip r:embed="rId1"/>
          <a:stretch/>
        </p:blipFill>
        <p:spPr>
          <a:xfrm>
            <a:off x="8317080" y="0"/>
            <a:ext cx="826920" cy="78408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2" descr="D:\marina\картинки\человек\Рисунок1.gif"/>
          <p:cNvPicPr/>
          <p:nvPr/>
        </p:nvPicPr>
        <p:blipFill>
          <a:blip r:embed="rId2"/>
          <a:stretch/>
        </p:blipFill>
        <p:spPr>
          <a:xfrm>
            <a:off x="755640" y="2637000"/>
            <a:ext cx="1038240" cy="1333440"/>
          </a:xfrm>
          <a:prstGeom prst="rect">
            <a:avLst/>
          </a:prstGeom>
          <a:ln w="0">
            <a:noFill/>
          </a:ln>
        </p:spPr>
      </p:pic>
      <p:sp>
        <p:nvSpPr>
          <p:cNvPr id="315" name="Выноска-облако 9"/>
          <p:cNvSpPr/>
          <p:nvPr/>
        </p:nvSpPr>
        <p:spPr>
          <a:xfrm>
            <a:off x="2843280" y="1268280"/>
            <a:ext cx="5400720" cy="4392720"/>
          </a:xfrm>
          <a:prstGeom prst="cloudCallout">
            <a:avLst>
              <a:gd name="adj1" fmla="val -67662"/>
              <a:gd name="adj2" fmla="val -3745"/>
            </a:avLst>
          </a:prstGeom>
          <a:solidFill>
            <a:srgbClr val="adad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44"/>
                </a:solidFill>
                <a:latin typeface="Arial Black"/>
              </a:rPr>
              <a:t>Можно ли считать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44"/>
                </a:solidFill>
                <a:latin typeface="Arial Black"/>
              </a:rPr>
              <a:t>прогрессивное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44"/>
                </a:solidFill>
                <a:latin typeface="Arial Black"/>
              </a:rPr>
              <a:t>налогообложение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44"/>
                </a:solidFill>
                <a:latin typeface="Arial Black"/>
              </a:rPr>
              <a:t>личных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44"/>
                </a:solidFill>
                <a:latin typeface="Arial Black"/>
              </a:rPr>
              <a:t>доходов абсолютно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44"/>
                </a:solidFill>
                <a:latin typeface="Arial Black"/>
              </a:rPr>
              <a:t>справедливым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44"/>
                </a:solidFill>
                <a:latin typeface="Arial Black"/>
              </a:rPr>
              <a:t>изобретением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44"/>
                </a:solidFill>
                <a:latin typeface="Arial Black"/>
              </a:rPr>
              <a:t>человечества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3" name="cashreg.wav"/>
      </p:stSnd>
    </p:sndAc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Text Box 2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 Black"/>
              </a:rPr>
              <a:t>Вопрос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Text Box 3"/>
          <p:cNvSpPr/>
          <p:nvPr/>
        </p:nvSpPr>
        <p:spPr>
          <a:xfrm>
            <a:off x="2608200" y="4025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Rectangle 3"/>
          <p:cNvSpPr/>
          <p:nvPr/>
        </p:nvSpPr>
        <p:spPr>
          <a:xfrm>
            <a:off x="250920" y="907920"/>
            <a:ext cx="8424720" cy="266544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В 60-х - 70-х годах 20 в. в Швеции возникло довольно странное явление: наиболее квалифицированные работники различных профессий, имея законодательно установленный четырехнедельный оплачиваемый отпуск, стали брать еще один месяц отпуска за свой счет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Rectangle 3"/>
          <p:cNvSpPr/>
          <p:nvPr/>
        </p:nvSpPr>
        <p:spPr>
          <a:xfrm>
            <a:off x="250920" y="3716280"/>
            <a:ext cx="8424720" cy="151308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Другими словами, шведы вместо 11 трудовых месяцев в году стали работать только 10 месяцев, теряя при этом месячную заработную плату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1" name="Picture 5" descr="E:\marina\картинки\разное\Vopros[1].jpg"/>
          <p:cNvPicPr/>
          <p:nvPr/>
        </p:nvPicPr>
        <p:blipFill>
          <a:blip r:embed="rId1"/>
          <a:stretch/>
        </p:blipFill>
        <p:spPr>
          <a:xfrm>
            <a:off x="8317080" y="0"/>
            <a:ext cx="826920" cy="78408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2" descr="D:\marina\картинки\человек\Рисунок1.gif"/>
          <p:cNvPicPr/>
          <p:nvPr/>
        </p:nvPicPr>
        <p:blipFill>
          <a:blip r:embed="rId2"/>
          <a:stretch/>
        </p:blipFill>
        <p:spPr>
          <a:xfrm>
            <a:off x="1547640" y="5229360"/>
            <a:ext cx="1038240" cy="1333440"/>
          </a:xfrm>
          <a:prstGeom prst="rect">
            <a:avLst/>
          </a:prstGeom>
          <a:ln w="0">
            <a:noFill/>
          </a:ln>
        </p:spPr>
      </p:pic>
      <p:sp>
        <p:nvSpPr>
          <p:cNvPr id="323" name="Выноска-облако 9"/>
          <p:cNvSpPr/>
          <p:nvPr/>
        </p:nvSpPr>
        <p:spPr>
          <a:xfrm>
            <a:off x="3348000" y="5229360"/>
            <a:ext cx="4392720" cy="1079280"/>
          </a:xfrm>
          <a:prstGeom prst="cloudCallout">
            <a:avLst>
              <a:gd name="adj1" fmla="val -67115"/>
              <a:gd name="adj2" fmla="val 14384"/>
            </a:avLst>
          </a:prstGeom>
          <a:solidFill>
            <a:srgbClr val="adad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44"/>
                </a:solidFill>
                <a:latin typeface="Arial Black"/>
              </a:rPr>
              <a:t>С чем связано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44"/>
                </a:solidFill>
                <a:latin typeface="Arial Black"/>
              </a:rPr>
              <a:t>это явление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3" name="cashreg.wav"/>
      </p:stSnd>
    </p:sndAc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Text Box 2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 Black"/>
              </a:rPr>
              <a:t>Экономическая лаборатория «Богатство»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Text Box 3"/>
          <p:cNvSpPr/>
          <p:nvPr/>
        </p:nvSpPr>
        <p:spPr>
          <a:xfrm>
            <a:off x="2608200" y="4025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7" name="Picture 2" descr="Картинка 4 из 586181"/>
          <p:cNvPicPr/>
          <p:nvPr/>
        </p:nvPicPr>
        <p:blipFill>
          <a:blip r:embed="rId1"/>
          <a:stretch/>
        </p:blipFill>
        <p:spPr>
          <a:xfrm>
            <a:off x="538200" y="1341360"/>
            <a:ext cx="7948440" cy="5516640"/>
          </a:xfrm>
          <a:prstGeom prst="rect">
            <a:avLst/>
          </a:prstGeom>
          <a:ln w="0">
            <a:noFill/>
          </a:ln>
        </p:spPr>
      </p:pic>
      <p:sp>
        <p:nvSpPr>
          <p:cNvPr id="328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2" name="cashreg.wav"/>
      </p:stSnd>
    </p:sndAc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Text Box 2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 Black"/>
              </a:rPr>
              <a:t>Задач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Text Box 3"/>
          <p:cNvSpPr/>
          <p:nvPr/>
        </p:nvSpPr>
        <p:spPr>
          <a:xfrm>
            <a:off x="2608200" y="4025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Rectangle 3"/>
          <p:cNvSpPr/>
          <p:nvPr/>
        </p:nvSpPr>
        <p:spPr>
          <a:xfrm>
            <a:off x="250920" y="907920"/>
            <a:ext cx="8424720" cy="518508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Пусть в тридевятом царстве проживают только 5 граждан: Иванушка-дурачок, Василиса Премудрая, Баба Яга, Кощей Бессмертный и Андрей-стрелок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При этом доходы между ними распределяются следующим образом: Иванушка-дурачок получает в месяц 50 руб., Андрей стрелок – 75 руб., Баба Яга - 125 руб., Василиса Премудрая 250 руб. и Кощей - 500 руб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Постройте кривую Лоренца для этого царств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1" name="cashreg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2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 Black"/>
              </a:rPr>
              <a:t>Разминк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2608200" y="4025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Rectangle 3"/>
          <p:cNvSpPr/>
          <p:nvPr/>
        </p:nvSpPr>
        <p:spPr>
          <a:xfrm>
            <a:off x="395280" y="1052640"/>
            <a:ext cx="8353440" cy="180180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«Количество товаров и услуг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которые мы можем купить, определяются исключительно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нашим доходом»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3" name="Picture 5" descr="Картинка 1 из 1701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1042920" cy="7732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2" descr="D:\marina\картинки\человек\Рисунок1.gif"/>
          <p:cNvPicPr/>
          <p:nvPr/>
        </p:nvPicPr>
        <p:blipFill>
          <a:blip r:embed="rId3"/>
          <a:stretch/>
        </p:blipFill>
        <p:spPr>
          <a:xfrm>
            <a:off x="468360" y="4797360"/>
            <a:ext cx="1038240" cy="1333440"/>
          </a:xfrm>
          <a:prstGeom prst="rect">
            <a:avLst/>
          </a:prstGeom>
          <a:ln w="0">
            <a:noFill/>
          </a:ln>
        </p:spPr>
      </p:pic>
      <p:sp>
        <p:nvSpPr>
          <p:cNvPr id="175" name="Выноска-облако 9"/>
          <p:cNvSpPr/>
          <p:nvPr/>
        </p:nvSpPr>
        <p:spPr>
          <a:xfrm>
            <a:off x="2340000" y="3716280"/>
            <a:ext cx="6264360" cy="1657440"/>
          </a:xfrm>
          <a:prstGeom prst="cloudCallout">
            <a:avLst>
              <a:gd name="adj1" fmla="val -65425"/>
              <a:gd name="adj2" fmla="val 58009"/>
            </a:avLst>
          </a:prstGeom>
          <a:solidFill>
            <a:srgbClr val="adad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44"/>
                </a:solidFill>
                <a:latin typeface="Arial Black"/>
              </a:rPr>
              <a:t>Справедливо ли это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44"/>
                </a:solidFill>
                <a:latin typeface="Arial Black"/>
              </a:rPr>
              <a:t>утверждение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6" name="Picture 8" descr="Картинка 7 из 78680">
            <a:hlinkClick r:id="rId4"/>
          </p:cNvPr>
          <p:cNvPicPr/>
          <p:nvPr/>
        </p:nvPicPr>
        <p:blipFill>
          <a:blip r:embed="rId5"/>
          <a:srcRect l="0" t="0" r="0" b="10079"/>
          <a:stretch/>
        </p:blipFill>
        <p:spPr>
          <a:xfrm>
            <a:off x="7236000" y="1125360"/>
            <a:ext cx="1498320" cy="1721160"/>
          </a:xfrm>
          <a:prstGeom prst="rect">
            <a:avLst/>
          </a:prstGeom>
          <a:ln w="0">
            <a:noFill/>
          </a:ln>
        </p:spPr>
      </p:pic>
      <p:sp>
        <p:nvSpPr>
          <p:cNvPr id="177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6" name="cashreg.wav"/>
      </p:stSnd>
    </p:sndAc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2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 Black"/>
              </a:rPr>
              <a:t>Разминк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2608200" y="4025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0" name="Picture 5" descr="Картинка 1 из 1701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1042920" cy="7732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2" descr="D:\marina\картинки\человек\Рисунок1.gif"/>
          <p:cNvPicPr/>
          <p:nvPr/>
        </p:nvPicPr>
        <p:blipFill>
          <a:blip r:embed="rId3"/>
          <a:stretch/>
        </p:blipFill>
        <p:spPr>
          <a:xfrm>
            <a:off x="611280" y="1484280"/>
            <a:ext cx="1038240" cy="1333440"/>
          </a:xfrm>
          <a:prstGeom prst="rect">
            <a:avLst/>
          </a:prstGeom>
          <a:ln w="0">
            <a:noFill/>
          </a:ln>
        </p:spPr>
      </p:pic>
      <p:sp>
        <p:nvSpPr>
          <p:cNvPr id="182" name="Выноска-облако 9"/>
          <p:cNvSpPr/>
          <p:nvPr/>
        </p:nvSpPr>
        <p:spPr>
          <a:xfrm>
            <a:off x="2556000" y="836640"/>
            <a:ext cx="6264000" cy="1655640"/>
          </a:xfrm>
          <a:prstGeom prst="cloudCallout">
            <a:avLst>
              <a:gd name="adj1" fmla="val -62129"/>
              <a:gd name="adj2" fmla="val 32185"/>
            </a:avLst>
          </a:prstGeom>
          <a:solidFill>
            <a:srgbClr val="adad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44"/>
                </a:solidFill>
                <a:latin typeface="Arial Black"/>
              </a:rPr>
              <a:t>Чем скупость отличается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44"/>
                </a:solidFill>
                <a:latin typeface="Arial Black"/>
              </a:rPr>
              <a:t>от экономности?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Выноска-облако 10"/>
          <p:cNvSpPr/>
          <p:nvPr/>
        </p:nvSpPr>
        <p:spPr>
          <a:xfrm>
            <a:off x="2340000" y="476280"/>
            <a:ext cx="6553080" cy="3457440"/>
          </a:xfrm>
          <a:prstGeom prst="cloudCallout">
            <a:avLst>
              <a:gd name="adj1" fmla="val -62129"/>
              <a:gd name="adj2" fmla="val -1652"/>
            </a:avLst>
          </a:prstGeom>
          <a:solidFill>
            <a:srgbClr val="adad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44"/>
                </a:solidFill>
                <a:latin typeface="Arial Black"/>
              </a:rPr>
              <a:t>Каким образом можно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44"/>
                </a:solidFill>
                <a:latin typeface="Arial Black"/>
              </a:rPr>
              <a:t>быстрее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44"/>
                </a:solidFill>
                <a:latin typeface="Arial Black"/>
              </a:rPr>
              <a:t>заработать богатство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44"/>
                </a:solidFill>
                <a:latin typeface="Arial Black"/>
              </a:rPr>
              <a:t>скупостью или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44"/>
                </a:solidFill>
                <a:latin typeface="Arial Black"/>
              </a:rPr>
              <a:t>экономностью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4" name="Picture 9" descr="Картинка 53 из 991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55640" y="3716280"/>
            <a:ext cx="2000160" cy="27399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Картинка 39 из 378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140360" y="3933720"/>
            <a:ext cx="4119480" cy="2735280"/>
          </a:xfrm>
          <a:prstGeom prst="rect">
            <a:avLst/>
          </a:prstGeom>
          <a:ln w="0">
            <a:noFill/>
          </a:ln>
        </p:spPr>
      </p:pic>
      <p:sp>
        <p:nvSpPr>
          <p:cNvPr id="186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8" name="cashreg.wav"/>
      </p:stSnd>
    </p:sndAc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3"/>
          <p:cNvSpPr/>
          <p:nvPr/>
        </p:nvSpPr>
        <p:spPr>
          <a:xfrm>
            <a:off x="611280" y="476280"/>
            <a:ext cx="7921440" cy="266364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Monotype Corsiva"/>
              </a:rPr>
              <a:t>Уровень доходов населения является важнейшим индикатором благосостояния общества, определяющим фактором в отношении социальных возможностей населения: отдыха, получения образования, поддержания здоровь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8" name="Picture 7" descr="Картинка 20 из 218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00360" y="3573360"/>
            <a:ext cx="3860640" cy="2841840"/>
          </a:xfrm>
          <a:prstGeom prst="rect">
            <a:avLst/>
          </a:prstGeom>
          <a:ln w="0">
            <a:noFill/>
          </a:ln>
        </p:spPr>
      </p:pic>
      <p:sp>
        <p:nvSpPr>
          <p:cNvPr id="189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3" name="cashreg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55640" y="1068120"/>
            <a:ext cx="8137440" cy="175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cc00"/>
                </a:solidFill>
                <a:latin typeface="Arial Black"/>
              </a:rPr>
              <a:t>Распределение доходов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1" name="Rectangle 7"/>
          <p:cNvSpPr/>
          <p:nvPr/>
        </p:nvSpPr>
        <p:spPr>
          <a:xfrm>
            <a:off x="6732720" y="0"/>
            <a:ext cx="2411280" cy="6206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787FD-4230-4AC7-8BD9-F70F9E99B5B9}" type="datetime">
              <a:rPr b="1" lang="ru-RU" sz="3200" spc="-1" strike="noStrike">
                <a:solidFill>
                  <a:srgbClr val="ffffff"/>
                </a:solidFill>
                <a:latin typeface="Arial"/>
              </a:rPr>
              <a:t>28.07.26</a:t>
            </a:fld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2" name="Picture 6" descr="http://gemplayer.files.wordpress.com/2008/12/revenue.jpg?w=300&amp;h=24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56000" y="3141720"/>
            <a:ext cx="4230720" cy="3456000"/>
          </a:xfrm>
          <a:prstGeom prst="rect">
            <a:avLst/>
          </a:prstGeom>
          <a:ln w="0">
            <a:noFill/>
          </a:ln>
        </p:spPr>
      </p:pic>
      <p:sp>
        <p:nvSpPr>
          <p:cNvPr id="193" name="Місце для нижнього колонтитула 1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3" name="cashreg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3"/>
          <p:cNvSpPr/>
          <p:nvPr/>
        </p:nvSpPr>
        <p:spPr>
          <a:xfrm>
            <a:off x="611280" y="476280"/>
            <a:ext cx="7921440" cy="230508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Monotype Corsiva"/>
              </a:rPr>
              <a:t>Уровень потребления населения напрямую зависит от уровня доходов, поэтому одной из приоритетных задач стимулирования экономики является повышение доходов населения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5" name="Picture 37" descr="Картинка 14 из 8610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68360" y="3141720"/>
            <a:ext cx="4667400" cy="3500280"/>
          </a:xfrm>
          <a:prstGeom prst="rect">
            <a:avLst/>
          </a:prstGeom>
          <a:ln w="0">
            <a:noFill/>
          </a:ln>
        </p:spPr>
      </p:pic>
      <p:sp>
        <p:nvSpPr>
          <p:cNvPr id="196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3" name="cashreg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2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solidFill>
            <a:srgbClr val="0000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 Black"/>
              </a:rPr>
              <a:t>Уровень доходов населения зависит от: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8" name="Picture 2" descr="Картинка 10 из 293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5280" y="1844640"/>
            <a:ext cx="3814920" cy="35006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4" descr="Картинка 1 из 279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356000" y="2349360"/>
            <a:ext cx="4500720" cy="2470320"/>
          </a:xfrm>
          <a:prstGeom prst="rect">
            <a:avLst/>
          </a:prstGeom>
          <a:ln w="0">
            <a:noFill/>
          </a:ln>
        </p:spPr>
      </p:pic>
      <p:sp>
        <p:nvSpPr>
          <p:cNvPr id="200" name="TextBox 15"/>
          <p:cNvSpPr/>
          <p:nvPr/>
        </p:nvSpPr>
        <p:spPr>
          <a:xfrm>
            <a:off x="4772520" y="2349360"/>
            <a:ext cx="375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Black"/>
              </a:rPr>
              <a:t>Динамики розничных цен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pull dir="r"/>
    <p:sndAc>
      <p:stSnd>
        <p:snd r:embed="rId5" name="cashreg.wav"/>
      </p:stSnd>
    </p:sndAc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3T08:21:54Z</dcterms:created>
  <dc:creator>SVG</dc:creator>
  <dc:description/>
  <dc:language>en-US</dc:language>
  <cp:lastModifiedBy>LEGION</cp:lastModifiedBy>
  <dcterms:modified xsi:type="dcterms:W3CDTF">2016-01-04T08:16:17Z</dcterms:modified>
  <cp:revision>239</cp:revision>
  <dc:subject/>
  <dc:title>Разминка</dc:title>
</cp:coreProperties>
</file>