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cashreg.wav" ContentType="audio/x-wav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F447-1EB8-4E9F-81C5-A1E5B41F00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FFE-FC1F-4D02-911F-F7543F04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06A-C235-4E8F-95DB-DC09B4DE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22C-25F8-4DAE-9760-7133FA7C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B0F-3877-42D4-9D62-732DE867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C820-9224-4BAE-AE9E-77926BBA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B717-3A46-4A7F-9D62-29F1362B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CA3C-802C-4E2A-9517-4E0B6518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78C1-2098-4BE5-850C-A39ACB9D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0783-FA0F-467B-9994-D4106414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6C71-0AE1-4786-8B7B-DA714CAE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50B6-7E99-4C68-8922-93CD259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8B8-5774-44A6-B1AE-50C3D15C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115F-5651-4727-9BDE-2EA4A3A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14C2-138B-4AC8-A6A3-09FAA8B4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59E2-B141-48A6-83A7-7EB32884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72FC-362C-46C9-8F87-921B9BE8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9995-9DAC-4D78-AE64-7B04453D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963-23CD-44B2-AD84-4331C4F5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1BC-175F-4C92-B2EF-7DC344B9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642-06F1-4EEE-AB45-A7EE77D4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E7F-88B4-4C64-90AA-FD4C89B6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A16-76FB-4DEE-9646-1D659480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015-EE76-4B9D-BAE6-15961EAF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DA0-B39A-49A1-8497-4098D25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3183-7B81-4C5C-AED5-9E17CC8BE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9D0F-401D-4761-9DB1-DC5E1A82E5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ay.az/pictures/pic174255.jpg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rm.aif.ru/application/public/news/936/065c56d7a2037771b3c3dab16b173a87_bi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289/f4d2ecdd672952bce23c992d05143e85_big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2.aif.ru/public/news/813/ea4b9fc02de54d413edaef5c571a2491_bi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rgeynikolaev.com/lj/zarplata-1.jpg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eside.ac.uk/img/money.jpg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erb.ru/index.php?option=com_datsogallery&amp;Itemid=6&amp;func=download&amp;file=B361B5330C70-4.jpg" TargetMode="External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olensk2.ru/images/img_9519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kampk.ucoz.ru/Novosti/News2009-2010/Stypendija_miskrady.jpg" TargetMode="External"/><Relationship Id="rId4" Type="http://schemas.openxmlformats.org/officeDocument/2006/relationships/image" Target="../media/image2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foto/b/3/97/3012097/f_16919489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stat8.blog.ru/lr/0a0279ca3f244fe11d1e3d749d76bdbf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www.ru-boss.com/uploads/posts/2007-12/thumbs/1198344203_39705.jpg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karikaturist.ru/images/karikaturist/w1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if.ru/application/public/opinion/905/0b9d6c7710ec3d137963260f74bc17e1_big.jpg" TargetMode="External"/><Relationship Id="rId7" Type="http://schemas.openxmlformats.org/officeDocument/2006/relationships/image" Target="../media/image11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792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mplayer.files.wordpress.com/2008/12/revenue.jpg?w=300&amp;h=245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nus.vl.ru/mtravel/america/photo/album/2/gamburger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48.radikal.ru/i121/0911/7a/57f9955d05e5.jpg" TargetMode="External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08200" y="399420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901800"/>
            <a:ext cx="8353440" cy="207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«Наши потребности в пище всегда ограничены стенками нашего желудк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бъясните смысл выра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5000" cy="76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Картинка 14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044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Картинка 13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85920"/>
            <a:ext cx="74246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268360" y="5288040"/>
            <a:ext cx="63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тепени насыщенности потребитель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ынка това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оходы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4360" y="907920"/>
            <a:ext cx="792144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Картинка 14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440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Номин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84360" y="907920"/>
            <a:ext cx="7921440" cy="180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количество денег, полученное отдельными лицами в течение определенного пери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1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5327640" cy="39225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асполагаем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84360" y="90792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доход, который может быть использован на личное потребление и личные сбереж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280" y="443700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Картинка 18 из 2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2100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е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907920"/>
            <a:ext cx="7921440" cy="1225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это располагаемый доход с учетом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2" descr="http://www.deeside.ac.uk/img/mo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413320" cy="405936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368784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Картинка 36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060640"/>
            <a:ext cx="4537080" cy="3286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3247920" y="544500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от предпринимате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Картинка 1 из 589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3911760" cy="46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1186920" y="5589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нс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Картинка 3 из 52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36640"/>
            <a:ext cx="3907080" cy="4608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5226840" y="5516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типенд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Картинка 9 из 312481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3372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687600" y="42148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е пособ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Картинка 7 из 3606806"/>
          <p:cNvPicPr/>
          <p:nvPr/>
        </p:nvPicPr>
        <p:blipFill>
          <a:blip r:embed="rId2"/>
          <a:stretch/>
        </p:blipFill>
        <p:spPr>
          <a:xfrm>
            <a:off x="4643280" y="2637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4"/>
          <p:cNvSpPr/>
          <p:nvPr/>
        </p:nvSpPr>
        <p:spPr>
          <a:xfrm>
            <a:off x="5839560" y="6027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бств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Картинка 7 из 9113"/>
          <p:cNvPicPr/>
          <p:nvPr/>
        </p:nvPicPr>
        <p:blipFill>
          <a:blip r:embed="rId1"/>
          <a:stretch/>
        </p:blipFill>
        <p:spPr>
          <a:xfrm>
            <a:off x="250920" y="907920"/>
            <a:ext cx="555444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443160" y="9079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4"/>
                </a:solidFill>
                <a:latin typeface="Arial Black"/>
              </a:rPr>
              <a:t>дивиден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Картинка 16 из 63130"/>
          <p:cNvPicPr/>
          <p:nvPr/>
        </p:nvPicPr>
        <p:blipFill>
          <a:blip r:embed="rId2"/>
          <a:stretch/>
        </p:blipFill>
        <p:spPr>
          <a:xfrm>
            <a:off x="5003640" y="3048120"/>
            <a:ext cx="392436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5053320" y="299736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9640" y="836640"/>
            <a:ext cx="808992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997560" y="4221000"/>
            <a:ext cx="706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редства от продажи ценных бума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движимос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укции сельского хозяйств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907920"/>
            <a:ext cx="8353440" cy="3097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человека - это поток денежных поступлений в единицу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18 из 15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907920"/>
            <a:ext cx="1403640" cy="143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:\marina\картинки\человек\Рисунок1.gif"/>
          <p:cNvPicPr/>
          <p:nvPr/>
        </p:nvPicPr>
        <p:blipFill>
          <a:blip r:embed="rId5"/>
          <a:stretch/>
        </p:blipFill>
        <p:spPr>
          <a:xfrm>
            <a:off x="250920" y="4653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0" name="Выноска-облако 9"/>
          <p:cNvSpPr/>
          <p:nvPr/>
        </p:nvSpPr>
        <p:spPr>
          <a:xfrm>
            <a:off x="2124000" y="3716280"/>
            <a:ext cx="6769080" cy="2808360"/>
          </a:xfrm>
          <a:prstGeom prst="cloudCallout">
            <a:avLst>
              <a:gd name="adj1" fmla="val -61500"/>
              <a:gd name="adj2" fmla="val 11796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 вы думаете, доход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богатство связа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руг с друг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им-либо образ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 если связаны, то как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Картинка 13 из 1665348"/>
          <p:cNvPicPr/>
          <p:nvPr/>
        </p:nvPicPr>
        <p:blipFill>
          <a:blip r:embed="rId1"/>
          <a:stretch/>
        </p:blipFill>
        <p:spPr>
          <a:xfrm>
            <a:off x="971640" y="836640"/>
            <a:ext cx="7210440" cy="4286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2073600" y="5229360"/>
            <a:ext cx="48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различных услуг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казанных на стор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ифференциация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83664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разница в уровне денежных доходов различных слоев и групп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http://s60.radikal.ru/i170/0911/d5/70e33d3c3c32.jpg"/>
          <p:cNvPicPr/>
          <p:nvPr/>
        </p:nvPicPr>
        <p:blipFill>
          <a:blip r:embed="rId1"/>
          <a:srcRect l="887" t="30236" r="0" b="3780"/>
          <a:stretch/>
        </p:blipFill>
        <p:spPr>
          <a:xfrm>
            <a:off x="2556000" y="2492280"/>
            <a:ext cx="4417920" cy="41436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ценность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успешность использования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ый объем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о врожденных способностя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 производительности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дискриминация на рынке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сположенность людей к ри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удача и несчас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имущественные раз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оследствия сильной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" descr="Картинка 39 из 197"/>
          <p:cNvPicPr/>
          <p:nvPr/>
        </p:nvPicPr>
        <p:blipFill>
          <a:blip r:embed="rId1"/>
          <a:stretch/>
        </p:blipFill>
        <p:spPr>
          <a:xfrm>
            <a:off x="1692360" y="1484280"/>
            <a:ext cx="5763960" cy="51134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змерения дифференциации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68360" y="170028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6" descr="http://gemplayer.files.wordpress.com/2008/12/revenue.jpg?w=300&amp;h=245"/>
          <p:cNvPicPr/>
          <p:nvPr/>
        </p:nvPicPr>
        <p:blipFill>
          <a:blip r:embed="rId1"/>
          <a:stretch/>
        </p:blipFill>
        <p:spPr>
          <a:xfrm>
            <a:off x="2771640" y="3645000"/>
            <a:ext cx="3438720" cy="28098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7921440" cy="460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:\marina\10 класс экономика\Несостоятельность рынка и государственное регулирование\Кривая_Лоренца_и_коэффициент_Робин_Гуда[1].jpg"/>
          <p:cNvPicPr/>
          <p:nvPr/>
        </p:nvPicPr>
        <p:blipFill>
          <a:blip r:embed="rId1"/>
          <a:stretch/>
        </p:blipFill>
        <p:spPr>
          <a:xfrm>
            <a:off x="682560" y="743040"/>
            <a:ext cx="7985160" cy="5713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2"/>
          <p:cNvSpPr/>
          <p:nvPr/>
        </p:nvSpPr>
        <p:spPr>
          <a:xfrm flipH="1">
            <a:off x="1618920" y="5444280"/>
            <a:ext cx="431640" cy="287640"/>
          </a:xfrm>
          <a:prstGeom prst="line">
            <a:avLst/>
          </a:prstGeom>
          <a:ln w="8568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Прямая соединительная линия 29"/>
          <p:cNvCxnSpPr/>
          <p:nvPr/>
        </p:nvCxnSpPr>
        <p:spPr>
          <a:xfrm flipV="1">
            <a:off x="1692360" y="5444280"/>
            <a:ext cx="1296000" cy="28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7" name="Прямая соединительная линия 29"/>
          <p:cNvCxnSpPr/>
          <p:nvPr/>
        </p:nvCxnSpPr>
        <p:spPr>
          <a:xfrm flipV="1">
            <a:off x="2987280" y="4796640"/>
            <a:ext cx="1297800" cy="64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8" name="Прямая соединительная линия 29"/>
          <p:cNvCxnSpPr/>
          <p:nvPr/>
        </p:nvCxnSpPr>
        <p:spPr>
          <a:xfrm flipV="1">
            <a:off x="4284360" y="3789000"/>
            <a:ext cx="1367640" cy="100872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9" name="Прямая соединительная линия 29"/>
          <p:cNvCxnSpPr/>
          <p:nvPr/>
        </p:nvCxnSpPr>
        <p:spPr>
          <a:xfrm flipV="1">
            <a:off x="5651280" y="2707560"/>
            <a:ext cx="1369080" cy="10818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90" name="Прямая соединительная линия 29"/>
          <p:cNvCxnSpPr/>
          <p:nvPr/>
        </p:nvCxnSpPr>
        <p:spPr>
          <a:xfrm flipV="1">
            <a:off x="7018920" y="1051920"/>
            <a:ext cx="1152720" cy="1656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оэффициент Джи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1125360"/>
            <a:ext cx="7921440" cy="316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268280"/>
            <a:ext cx="8353440" cy="15861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чень часто говоря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«богатство - пон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носитель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огласны ли вы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тим утверждение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" descr="Картинка 20 из 78680">
            <a:hlinkClick r:id="rId4"/>
          </p:cNvPr>
          <p:cNvPicPr/>
          <p:nvPr/>
        </p:nvPicPr>
        <p:blipFill>
          <a:blip r:embed="rId5"/>
          <a:srcRect l="9976" t="10919" r="0" b="22678"/>
          <a:stretch/>
        </p:blipFill>
        <p:spPr>
          <a:xfrm>
            <a:off x="7164360" y="1270080"/>
            <a:ext cx="1571760" cy="1531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24000" y="1341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деление функций работодателей и государ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осударственное регулирование неравенства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прогрессивное обложение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4365720"/>
            <a:ext cx="8640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система государственной и социальной поддержки граждан (трансферт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ыравнивание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1125360"/>
            <a:ext cx="7921440" cy="2880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95280" y="1197000"/>
            <a:ext cx="8209080" cy="1584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 всем цивилизованном мире, чем выше образование, тем выше уровень дох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95280" y="3068640"/>
            <a:ext cx="8209080" cy="1512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09" name="Выноска-облако 9"/>
          <p:cNvSpPr/>
          <p:nvPr/>
        </p:nvSpPr>
        <p:spPr>
          <a:xfrm>
            <a:off x="3132000" y="4365720"/>
            <a:ext cx="4392720" cy="223200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ачем тогда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тремя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олучить высше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образова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755640" y="2637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15" name="Выноска-облако 9"/>
          <p:cNvSpPr/>
          <p:nvPr/>
        </p:nvSpPr>
        <p:spPr>
          <a:xfrm>
            <a:off x="2843280" y="1268280"/>
            <a:ext cx="5400720" cy="4392720"/>
          </a:xfrm>
          <a:prstGeom prst="cloudCallout">
            <a:avLst>
              <a:gd name="adj1" fmla="val -67662"/>
              <a:gd name="adj2" fmla="val -374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Можно ли счит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огрессив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налогооблож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л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оходов абсолют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праведлив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зобрет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ч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907920"/>
            <a:ext cx="842472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3716280"/>
            <a:ext cx="8424720" cy="151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23" name="Выноска-облако 9"/>
          <p:cNvSpPr/>
          <p:nvPr/>
        </p:nvSpPr>
        <p:spPr>
          <a:xfrm>
            <a:off x="3348000" y="5229360"/>
            <a:ext cx="4392720" cy="107928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 чем связа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это явле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Экономическая лаборатория «Богатств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8200" y="1341360"/>
            <a:ext cx="7948440" cy="55166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50920" y="907920"/>
            <a:ext cx="8424720" cy="518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тройте кривую Лоренца для этого ц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95280" y="1052640"/>
            <a:ext cx="8353440" cy="1801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Количество товаров и услу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торые мы можем купить, определяются исключитель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шим доход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праведливо ли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утвержд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8" descr="Картинка 7 из 78680">
            <a:hlinkClick r:id="rId4"/>
          </p:cNvPr>
          <p:cNvPicPr/>
          <p:nvPr/>
        </p:nvPicPr>
        <p:blipFill>
          <a:blip r:embed="rId5"/>
          <a:srcRect l="0" t="0" r="0" b="10079"/>
          <a:stretch/>
        </p:blipFill>
        <p:spPr>
          <a:xfrm>
            <a:off x="7236000" y="1125360"/>
            <a:ext cx="1498320" cy="1721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61128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82" name="Выноска-облако 9"/>
          <p:cNvSpPr/>
          <p:nvPr/>
        </p:nvSpPr>
        <p:spPr>
          <a:xfrm>
            <a:off x="2556000" y="836640"/>
            <a:ext cx="6264000" cy="1655640"/>
          </a:xfrm>
          <a:prstGeom prst="cloudCallout">
            <a:avLst>
              <a:gd name="adj1" fmla="val -62129"/>
              <a:gd name="adj2" fmla="val 3218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Чем скупость отлича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от экономност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Выноска-облако 10"/>
          <p:cNvSpPr/>
          <p:nvPr/>
        </p:nvSpPr>
        <p:spPr>
          <a:xfrm>
            <a:off x="2340000" y="476280"/>
            <a:ext cx="6553080" cy="3457440"/>
          </a:xfrm>
          <a:prstGeom prst="cloudCallout">
            <a:avLst>
              <a:gd name="adj1" fmla="val -62129"/>
              <a:gd name="adj2" fmla="val -1652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Каким образом мо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быстр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заработать богатств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купостью 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кономность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9" descr="Картинка 53 из 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000160" cy="27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Картинка 39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3933720"/>
            <a:ext cx="4119480" cy="2735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611280" y="476280"/>
            <a:ext cx="7921440" cy="26636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" descr="Картинка 20 из 21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73360"/>
            <a:ext cx="3860640" cy="2841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068120"/>
            <a:ext cx="8137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Распределение доход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732720" y="0"/>
            <a:ext cx="2411280" cy="62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A7B-1A5C-44AB-8064-C5814CF5E160}" type="datetime">
              <a:rPr b="1" lang="ru-RU" sz="3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gemplayer.files.wordpress.com/2008/12/revenue.jpg?w=300&amp;h=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141720"/>
            <a:ext cx="42307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611280" y="476280"/>
            <a:ext cx="792144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7" descr="Картинка 14 из 86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141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14920" cy="350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артинка 1 из 27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349360"/>
            <a:ext cx="4500720" cy="2470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772520" y="2349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намики розничны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6:17Z</dcterms:modified>
  <cp:revision>239</cp:revision>
  <dc:subject/>
  <dc:title>Разминка</dc:title>
</cp:coreProperties>
</file>