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ACC0D-DB07-48A5-9136-1888F56CAF9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урока №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ходы. Виды дохо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Тема урока № 1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оходы. Виды доход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держки производст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енда помещений ( 20кв.м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кв.м – 500 руб.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 х 500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000 руб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здержки производства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Аренда помещений ( 20кв.м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1 кв.м – 500 руб.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20 х 500 =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10000 руб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мортизация (износ) оборудован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2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оимость оборудования  500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0000 х 2%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00 руб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Амортизация (износ) оборудован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         2%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тоимость оборудования  5000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50000 х 2% =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1000 руб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териальные затраты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мастер  - 10 руб.(1 работа)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 мастер  - 3 руб. ( 1 работа)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6 х 10 = 160 руб. (за 1 день)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2 х 3 = 96 руб. (за 1 день)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(160 + 96) х 25 =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6400 руб. (за месяц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атериальные затраты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1 мастер  - 10 руб.(1 работа)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2 мастер  - 3 руб. ( 1 работа)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16 х 10 = 160 руб. (за 1 день)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32 х 3 = 96 руб. (за 1 день)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(160 + 96) х 25 =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6400 руб. (за месяц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овый дох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1200 – (10000 + 1000 + 6400)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3800 руб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/плата                  прибы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аловый дох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61200 – (10000 + 1000 + 6400) =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43800 руб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з/плата                  прибыл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работная пла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мастер – 10000 руб.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 мастер – 8000 руб.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помогательный персонал – 6000 руб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000 + 8000 + 6000 =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4000 руб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числения в социальные фонды (30%)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4000 х 30% =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200 руб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3800 – (24000 + 7200)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2600 руб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Заработная плат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1 мастер – 10000 руб.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2 мастер – 8000 руб.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спомогательный персонал – 6000 руб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10000 + 8000 + 6000 =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24000 руб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тчисления в социальные фонды (30%) –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24000 х 30% =                           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7200 руб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43800 – (24000 + 7200) =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12600 руб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ределение прибыл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налог на прибыль 32 %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Материальное стимулирование   2000 ру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Социальные нужды    2000 руб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Развитие производства     5000 руб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Резервный фонд     1200 руб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2600 – 5000 =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600 х 32% =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400руб.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600 – 2400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200 руб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спределение прибыл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налог на прибыль 32 %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1.Материальное стимулирование   2000 руб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2.Социальные нужды    2000 руб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3.Развитие производства     5000 руб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4.Резервный фонд     1200 руб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12600 – 5000 =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7600 х 32% =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2400руб.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7600 – 2400 =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5200 руб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читься распределять доходы, прибыль предприя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Цель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учиться распределять доходы, прибыль предприят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ХОДЫ 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жнейший экономический показатель работы предприятия (фирмы), выраженный в форме денежных поступлений от всех видов деятельности, за определенный период времени. Доходы подразделяются на общий, средний и предельный дохо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ОХОДЫ -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ажнейший экономический показатель работы предприятия (фирмы), выраженный в форме денежных поступлений от всех видов деятельности, за определенный период времени. Доходы подразделяются на общий, средний и предельный доходы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ий доход (До)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нежная сумма, полученная от  продажи определенного количества товара (оказание услуг, выполненных работ). Он определяется произведение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 = Ц х К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де  Ц – цена единицы товара, руб.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– количество проданных единиц товара(продукции), е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бщий доход (До)-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енежная сумма, полученная от  продажи определенного количества товара (оказание услуг, выполненных работ). Он определяется произведением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о = Ц х К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Где  Ц – цена единицы товара, руб.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 – количество проданных единиц товара(продукции), ед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ний доход (Дс) 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азывает величину денежных средств, полученных за единицу проданной продукц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с=Д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редний доход (Дс) -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казывает величину денежных средств, полученных за единицу проданной продукции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с=До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        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ельный доход (Дпр) 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ращивание общего дохода в рублях (^До) при увеличении объема продаж на единицу товара (^К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пр = ^Д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^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едельный доход (Дпр) -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иращивание общего дохода в рублях (^До) при увеличении объема продаж на единицу товара (^К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пр = ^До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^К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ределение дохода, прибыл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предприя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экономический практикум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арикмахерской «Фантазия»  работает два мастера 25 дней в неделю по 8 ча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мастер  выполняет работу за 30 мин.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 мастер выполняет работу за 15 ми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оимость одной рабо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мастер – 100 руб.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 мастер – 40 руб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спределение дохода, прибыл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предприят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экономический практикум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 парикмахерской «Фантазия»  работает два мастера 25 дней в неделю по 8 час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1 мастер  выполняет работу за 30 мин.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2 мастер выполняет работу за 15 мин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тоимость одной работы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1 мастер – 100 руб.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2 мастер – 40 руб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мастер: 8часов : 0,5 часа(30мин.)=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16 работ  (за 1 день)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 мастер: 8часов : 0,25 часа (15мин.)=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32 работы (за 1 день)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мастер: 16 х 100 = 1600 (руб. за день)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 мастер: 32 х 40 = 1280 (руб. за день)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600 + 1280 = 2880 (руб. за день)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880 х 25 = 72000 руб. (доход за месяц)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1 мастер: 8часов : 0,5 часа(30мин.)=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16 работ  (за 1 день)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2 мастер: 8часов : 0,25 часа (15мин.)=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32 работы (за 1 день)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1 мастер: 16 х 100 = 1600 (руб. за день)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2 мастер: 32 х 40 = 1280 (руб. за день)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1600 + 1280 = 2880 (руб. за день)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2880 х 25 = 72000 руб. (доход за месяц)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 В БЮДЖЕ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( 15%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2000 Х 15%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800 РУБ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ЛОГ В БЮДЖЕ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      ( 15%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72000 Х 15% =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10800 РУБ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B507-7C70-45B2-B928-FF5CB79E2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C6AA-F086-437F-B377-010BC153A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0135-4A3C-4DA7-BD17-9A166A914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713A-1E0F-4310-AAD7-8DB62BC08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6273C-C343-42E8-815D-8E0178177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9F4A7-F156-494F-9476-43FBF60E5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9A930-7B80-46D0-B570-4A8532E9A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25163-9FA5-426E-B900-D05C3B506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CEF59-D6A0-4655-98D0-F7EB19F87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FC78B-9363-4222-AFA0-9B5F89257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A3D8C-4D11-4775-9E92-725F43FC0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D1A1-686E-43E4-A127-D6F680084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D8DA7-3F01-4A3B-97E2-CAC339677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CA8A3-B658-4BBE-B17B-A5A88FFE7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578FE-290D-4EEA-8ABF-9533E4227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49BC1-C0EB-49C2-8747-DD32228F9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A8684-31E1-43A2-9C53-14AE4C566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4AF418-0CD5-4EDF-A9CB-0E7DBD67E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A50572-3231-4FA9-BC14-9D54904DA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7FB0A6-EDF5-45D9-A149-105D8E5C5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1B13BA-0AD8-4AFD-B34C-312E812B9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C58846-BF8E-4925-8D27-1A9697799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720D-E6E0-4C3D-B337-06A0AA30A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C2F90B-E8E8-41BD-996A-474874527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E2876B-E703-47DF-A654-17E5E026E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E2338E-D6F2-44A0-BFEF-4F12B6070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FBD21A-0F0F-47BF-80AE-1C17239BB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9C9013-03F1-4B63-A96C-F47F23557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63DC4F-5F14-455C-A8BD-9B21CFAD9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27CECA-96FC-44F2-A944-B515EF19B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7805C4-145F-4CDB-9323-96D994782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83D8CC-5136-40EB-B9DB-B0D5394E3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B963AD-BE9E-48D7-AD91-26F54836B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A617-07C4-481A-B8E3-E4AC3F401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A82FED-C200-49F0-B4CF-0AEA01285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F6A20A-F4B0-479E-ADF6-F93146FA9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633324-6BCB-430C-A157-0EF5D71EC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165E54-B508-4EB9-9563-7A7DA7B06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CDE76D-AA59-485D-B0F1-287C081F1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A6F425-58E6-4BF5-8748-93615E3BD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A1B760-A1C9-4086-B6D1-E87806258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38448D-36F4-4681-9C00-C47BE2173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466F5F-7B76-4283-B8B3-38CD7AE9D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008229-12AD-4511-A136-F06ED66A5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DABD-20D5-482D-85BD-A81A73460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26655E-7C55-4E02-B1B7-9139B73B0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24EAD3-29BC-4E85-9A1F-DC6754C04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DDBA45-9224-44AE-9CE6-3D813225C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DEE1CD-3792-4FA1-A48F-7F328C537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B82BC8-8C2B-47F9-A180-0C46A4AAD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38CD4B-FD77-4C37-95A0-F83CE8AB3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E106BE-618D-44B5-B20C-0761F5364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F86E5F-C855-4139-9BE2-2459C454C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5D2C67-FF88-49EB-B510-8CDE19563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BF58F5-3A11-45BD-B7B3-8F6C3BEEB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0C0F-DF26-4EA7-9EB1-300E32F28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11036D-DA1C-4B48-82AD-99A2604CC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148BCB-79D9-4C8C-B3E5-EC88D99AA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0131C2-23DA-4A40-A785-4320B72C8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8C1F60-6E77-48AB-828E-D7B57C3A3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BE11F4-AE21-41B6-9F40-9A3248165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1704E6-D97C-40CF-8F4A-FA3EE2C93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9EBC32-D4D4-4415-9021-B8601EC33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7C7B50-3B15-4B79-BF42-4244E25F5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05B46C-4632-47F7-98F4-D704A097A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BA7573-1DF6-4595-99E2-1D461CACA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939E-7F95-4CBE-A92A-12ABD9BC2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89BC30-772B-4D20-8C49-91A93B11B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09EAA7-66DC-459D-BB97-E6567A27C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17BB06-B50F-4A17-B8AD-A6191E877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7B5E-F11A-4DF5-8B9B-7AD0501A5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F8BD-B123-411D-BB82-45DE03FEA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5CE93-AFD3-4ACE-9070-0A5A598A116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44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5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46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9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0" name="Group 9"/>
            <p:cNvGrpSpPr/>
            <p:nvPr/>
          </p:nvGrpSpPr>
          <p:grpSpPr>
            <a:xfrm>
              <a:off x="-1080" y="2601000"/>
              <a:ext cx="2687400" cy="3117960"/>
              <a:chOff x="-1080" y="2601000"/>
              <a:chExt cx="2687400" cy="3117960"/>
            </a:xfrm>
          </p:grpSpPr>
          <p:sp>
            <p:nvSpPr>
              <p:cNvPr id="51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2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3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4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Freeform 14"/>
              <p:cNvSpPr/>
              <p:nvPr/>
            </p:nvSpPr>
            <p:spPr>
              <a:xfrm flipH="1" rot="789600">
                <a:off x="807840" y="385056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56" name="Group 15"/>
              <p:cNvGrpSpPr/>
              <p:nvPr/>
            </p:nvGrpSpPr>
            <p:grpSpPr>
              <a:xfrm>
                <a:off x="852120" y="4055040"/>
                <a:ext cx="1834200" cy="1663920"/>
                <a:chOff x="852120" y="4055040"/>
                <a:chExt cx="1834200" cy="1663920"/>
              </a:xfrm>
            </p:grpSpPr>
            <p:sp>
              <p:nvSpPr>
                <p:cNvPr id="57" name="Freeform 16"/>
                <p:cNvSpPr/>
                <p:nvPr/>
              </p:nvSpPr>
              <p:spPr>
                <a:xfrm flipH="1" rot="7102800">
                  <a:off x="1263600" y="3943800"/>
                  <a:ext cx="475560" cy="121932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8" name="Freeform 17"/>
                <p:cNvSpPr/>
                <p:nvPr/>
              </p:nvSpPr>
              <p:spPr>
                <a:xfrm flipH="1" rot="7102800">
                  <a:off x="2333880" y="4975200"/>
                  <a:ext cx="109800" cy="50040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9" name="Freeform 18"/>
                <p:cNvSpPr/>
                <p:nvPr/>
              </p:nvSpPr>
              <p:spPr>
                <a:xfrm flipH="1" rot="7102800">
                  <a:off x="2502000" y="5569200"/>
                  <a:ext cx="199080" cy="8424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60" name="Group 19"/>
            <p:cNvGrpSpPr/>
            <p:nvPr/>
          </p:nvGrpSpPr>
          <p:grpSpPr>
            <a:xfrm>
              <a:off x="467280" y="6173640"/>
              <a:ext cx="790920" cy="634680"/>
              <a:chOff x="467280" y="6173640"/>
              <a:chExt cx="790920" cy="634680"/>
            </a:xfrm>
          </p:grpSpPr>
          <p:sp>
            <p:nvSpPr>
              <p:cNvPr id="61" name="Freeform 20"/>
              <p:cNvSpPr/>
              <p:nvPr/>
            </p:nvSpPr>
            <p:spPr>
              <a:xfrm rot="6248400">
                <a:off x="1012680" y="6172560"/>
                <a:ext cx="196560" cy="2541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Freeform 21"/>
              <p:cNvSpPr/>
              <p:nvPr/>
            </p:nvSpPr>
            <p:spPr>
              <a:xfrm rot="6248400">
                <a:off x="759600" y="6513480"/>
                <a:ext cx="336600" cy="2109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Freeform 22"/>
              <p:cNvSpPr/>
              <p:nvPr/>
            </p:nvSpPr>
            <p:spPr>
              <a:xfrm rot="6248400">
                <a:off x="386280" y="6410880"/>
                <a:ext cx="352080" cy="1072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4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65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6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8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69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0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1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72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3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4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8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9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0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3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4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CE750-9D49-4BD7-89BC-8AA447A5ED1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B317E-F427-42C7-80EF-9E6E1835DF4C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65B47-E5FF-4A3B-9178-DFA7A32C89F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Group 2"/>
          <p:cNvGrpSpPr/>
          <p:nvPr/>
        </p:nvGrpSpPr>
        <p:grpSpPr>
          <a:xfrm>
            <a:off x="-20160" y="0"/>
            <a:ext cx="9051120" cy="6858000"/>
            <a:chOff x="-20160" y="0"/>
            <a:chExt cx="9051120" cy="6858000"/>
          </a:xfrm>
        </p:grpSpPr>
        <p:grpSp>
          <p:nvGrpSpPr>
            <p:cNvPr id="213" name="Group 3"/>
            <p:cNvGrpSpPr/>
            <p:nvPr/>
          </p:nvGrpSpPr>
          <p:grpSpPr>
            <a:xfrm>
              <a:off x="5407200" y="63000"/>
              <a:ext cx="3623760" cy="6129000"/>
              <a:chOff x="5407200" y="63000"/>
              <a:chExt cx="3623760" cy="6129000"/>
            </a:xfrm>
          </p:grpSpPr>
          <p:sp>
            <p:nvSpPr>
              <p:cNvPr id="214" name="Freeform 4"/>
              <p:cNvSpPr/>
              <p:nvPr/>
            </p:nvSpPr>
            <p:spPr>
              <a:xfrm flipV="1" rot="11970000">
                <a:off x="6581520" y="348120"/>
                <a:ext cx="2116800" cy="235656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5" name="Freeform 5"/>
              <p:cNvSpPr/>
              <p:nvPr/>
            </p:nvSpPr>
            <p:spPr>
              <a:xfrm flipV="1" rot="11970000">
                <a:off x="7421040" y="1960560"/>
                <a:ext cx="906840" cy="84276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6" name="Freeform 6"/>
              <p:cNvSpPr/>
              <p:nvPr/>
            </p:nvSpPr>
            <p:spPr>
              <a:xfrm flipV="1" rot="11970000">
                <a:off x="6825600" y="2592360"/>
                <a:ext cx="439560" cy="39492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7" name="Freeform 7"/>
              <p:cNvSpPr/>
              <p:nvPr/>
            </p:nvSpPr>
            <p:spPr>
              <a:xfrm flipV="1" rot="11970000">
                <a:off x="7251480" y="674280"/>
                <a:ext cx="38880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8" name="Freeform 8"/>
              <p:cNvSpPr/>
              <p:nvPr/>
            </p:nvSpPr>
            <p:spPr>
              <a:xfrm flipV="1" rot="11970000">
                <a:off x="7154280" y="2645280"/>
                <a:ext cx="163440" cy="33156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9" name="Freeform 9"/>
              <p:cNvSpPr/>
              <p:nvPr/>
            </p:nvSpPr>
            <p:spPr>
              <a:xfrm flipV="1" rot="11970000">
                <a:off x="7140240" y="1243080"/>
                <a:ext cx="190800" cy="14256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0" name="Freeform 10"/>
              <p:cNvSpPr/>
              <p:nvPr/>
            </p:nvSpPr>
            <p:spPr>
              <a:xfrm flipV="1" rot="11970000">
                <a:off x="5937480" y="2930400"/>
                <a:ext cx="523800" cy="326772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21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2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3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4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5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6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27" name="Group 17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228" name="Freeform 18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9" name="Freeform 19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0" name="Freeform 20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31" name="Group 21"/>
            <p:cNvGrpSpPr/>
            <p:nvPr/>
          </p:nvGrpSpPr>
          <p:grpSpPr>
            <a:xfrm>
              <a:off x="5645880" y="302760"/>
              <a:ext cx="888480" cy="829080"/>
              <a:chOff x="5645880" y="302760"/>
              <a:chExt cx="888480" cy="829080"/>
            </a:xfrm>
          </p:grpSpPr>
          <p:sp>
            <p:nvSpPr>
              <p:cNvPr id="232" name="Freeform 22"/>
              <p:cNvSpPr/>
              <p:nvPr/>
            </p:nvSpPr>
            <p:spPr>
              <a:xfrm rot="14908200">
                <a:off x="5757840" y="802080"/>
                <a:ext cx="17712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3" name="Freeform 23"/>
              <p:cNvSpPr/>
              <p:nvPr/>
            </p:nvSpPr>
            <p:spPr>
              <a:xfrm rot="14908200">
                <a:off x="5706360" y="480240"/>
                <a:ext cx="3042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4" name="Freeform 24"/>
              <p:cNvSpPr/>
              <p:nvPr/>
            </p:nvSpPr>
            <p:spPr>
              <a:xfrm rot="14908200">
                <a:off x="6246720" y="401760"/>
                <a:ext cx="31716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35" name="Group 25"/>
            <p:cNvGrpSpPr/>
            <p:nvPr/>
          </p:nvGrpSpPr>
          <p:grpSpPr>
            <a:xfrm>
              <a:off x="954000" y="5283000"/>
              <a:ext cx="1062360" cy="836640"/>
              <a:chOff x="954000" y="5283000"/>
              <a:chExt cx="1062360" cy="836640"/>
            </a:xfrm>
          </p:grpSpPr>
          <p:sp>
            <p:nvSpPr>
              <p:cNvPr id="236" name="Freeform 26"/>
              <p:cNvSpPr/>
              <p:nvPr/>
            </p:nvSpPr>
            <p:spPr>
              <a:xfrm rot="8524800">
                <a:off x="1698840" y="5548320"/>
                <a:ext cx="251640" cy="3006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7" name="Freeform 27"/>
              <p:cNvSpPr/>
              <p:nvPr/>
            </p:nvSpPr>
            <p:spPr>
              <a:xfrm rot="8524800">
                <a:off x="1183320" y="5763600"/>
                <a:ext cx="430560" cy="2498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8" name="Freeform 28"/>
              <p:cNvSpPr/>
              <p:nvPr/>
            </p:nvSpPr>
            <p:spPr>
              <a:xfrm rot="8524800">
                <a:off x="945360" y="5407560"/>
                <a:ext cx="450000" cy="1270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39" name="Group 29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240" name="Freeform 30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1" name="Freeform 31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2" name="Freeform 32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43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244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5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6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47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8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9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0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1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2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3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18CB4-7F50-4381-AA6C-236D58C8AAA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 type="ftr" idx="17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45CF9-3768-4EE6-8B16-30740498AE92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Verdana"/>
              </a:rPr>
              <a:t>Тема урока № 10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Verdana"/>
              </a:rPr>
              <a:t>Доходы. Виды доходов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Garamond"/>
              </a:rPr>
              <a:t>Издержки производства: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3399"/>
                </a:solidFill>
                <a:latin typeface="Arial"/>
              </a:rPr>
              <a:t>Аренда помещений ( 20кв.м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3399"/>
                </a:solidFill>
                <a:latin typeface="Arial"/>
              </a:rPr>
              <a:t>1 кв.м – 500 руб.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3399"/>
                </a:solidFill>
                <a:latin typeface="Arial"/>
              </a:rPr>
              <a:t>                 </a:t>
            </a:r>
            <a:r>
              <a:rPr b="1" i="1" lang="ru-RU" sz="4000" spc="-1" strike="noStrike">
                <a:solidFill>
                  <a:srgbClr val="003399"/>
                </a:solidFill>
                <a:latin typeface="Arial"/>
              </a:rPr>
              <a:t>20 х 500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40639"/>
                </a:solidFill>
                <a:latin typeface="Arial"/>
              </a:rPr>
              <a:t>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40639"/>
                </a:solidFill>
                <a:latin typeface="Arial"/>
              </a:rPr>
              <a:t>            </a:t>
            </a:r>
            <a:r>
              <a:rPr b="1" i="1" lang="ru-RU" sz="4000" spc="-1" strike="noStrike">
                <a:solidFill>
                  <a:srgbClr val="f40639"/>
                </a:solidFill>
                <a:latin typeface="Arial"/>
              </a:rPr>
              <a:t>10000 руб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edge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0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768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5" dur="768" fill="hold"/>
                                        <p:tgtEl>
                                          <p:spTgt spid="3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7" dur="768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9" dur="768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Garamond"/>
              </a:rPr>
              <a:t>Амортизация (износ) оборудования</a:t>
            </a: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Garamond"/>
              </a:rPr>
              <a:t>                          2%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33"/>
                </a:solidFill>
                <a:latin typeface="Arial"/>
              </a:rPr>
              <a:t>Стоимость оборудования  500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33"/>
                </a:solidFill>
                <a:latin typeface="Arial"/>
              </a:rPr>
              <a:t>                  </a:t>
            </a:r>
            <a:r>
              <a:rPr b="1" i="1" lang="ru-RU" sz="3600" spc="-1" strike="noStrike">
                <a:solidFill>
                  <a:srgbClr val="006633"/>
                </a:solidFill>
                <a:latin typeface="Arial"/>
              </a:rPr>
              <a:t>50000 х 2%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33"/>
                </a:solidFill>
                <a:latin typeface="Arial"/>
              </a:rPr>
              <a:t>                          </a:t>
            </a:r>
            <a:r>
              <a:rPr b="1" i="1" lang="ru-RU" sz="3600" spc="-1" strike="noStrike">
                <a:solidFill>
                  <a:srgbClr val="f40639"/>
                </a:solidFill>
                <a:latin typeface="Arial"/>
              </a:rPr>
              <a:t>1000 руб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33"/>
                </a:solidFill>
                <a:latin typeface="Garamond"/>
              </a:rPr>
              <a:t>Материальные затраты:</a:t>
            </a:r>
            <a:br>
              <a:rPr sz="4000"/>
            </a:br>
            <a:r>
              <a:rPr b="1" i="1" lang="ru-RU" sz="4000" spc="-1" strike="noStrike">
                <a:solidFill>
                  <a:srgbClr val="006633"/>
                </a:solidFill>
                <a:latin typeface="Garamond"/>
              </a:rPr>
              <a:t>1 мастер  - 10 руб.(1 работа)</a:t>
            </a:r>
            <a:br>
              <a:rPr sz="4000"/>
            </a:br>
            <a:r>
              <a:rPr b="1" i="1" lang="ru-RU" sz="4000" spc="-1" strike="noStrike">
                <a:solidFill>
                  <a:srgbClr val="006633"/>
                </a:solidFill>
                <a:latin typeface="Garamond"/>
              </a:rPr>
              <a:t>2 мастер  - 3 руб. ( 1 работа)</a:t>
            </a:r>
            <a:br>
              <a:rPr sz="4000"/>
            </a:br>
            <a:br>
              <a:rPr sz="4000"/>
            </a:br>
            <a:r>
              <a:rPr b="1" i="1" lang="ru-RU" sz="4000" spc="-1" strike="noStrike">
                <a:solidFill>
                  <a:srgbClr val="006633"/>
                </a:solidFill>
                <a:latin typeface="Garamond"/>
              </a:rPr>
              <a:t>16 х 10 = 160 руб. (за 1 день)</a:t>
            </a:r>
            <a:br>
              <a:rPr sz="4000"/>
            </a:br>
            <a:r>
              <a:rPr b="1" i="1" lang="ru-RU" sz="4000" spc="-1" strike="noStrike">
                <a:solidFill>
                  <a:srgbClr val="006633"/>
                </a:solidFill>
                <a:latin typeface="Garamond"/>
              </a:rPr>
              <a:t>32 х 3 = 96 руб. (за 1 день)</a:t>
            </a:r>
            <a:br>
              <a:rPr sz="4000"/>
            </a:br>
            <a:br>
              <a:rPr sz="4000"/>
            </a:br>
            <a:r>
              <a:rPr b="1" i="1" lang="ru-RU" sz="4000" spc="-1" strike="noStrike">
                <a:solidFill>
                  <a:srgbClr val="006633"/>
                </a:solidFill>
                <a:latin typeface="Garamond"/>
              </a:rPr>
              <a:t>                 (160 + 96) х 25 =</a:t>
            </a:r>
            <a:br>
              <a:rPr sz="4000"/>
            </a:br>
            <a:r>
              <a:rPr b="1" i="1" lang="ru-RU" sz="4000" spc="-1" strike="noStrike">
                <a:solidFill>
                  <a:srgbClr val="006633"/>
                </a:solidFill>
                <a:latin typeface="Garamond"/>
              </a:rPr>
              <a:t>              </a:t>
            </a:r>
            <a:r>
              <a:rPr b="1" i="1" lang="ru-RU" sz="4000" spc="-1" strike="noStrike">
                <a:solidFill>
                  <a:srgbClr val="f40639"/>
                </a:solidFill>
                <a:latin typeface="Garamond"/>
              </a:rPr>
              <a:t>6400 руб. (за месяц)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0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6633"/>
                </a:solidFill>
                <a:latin typeface="Garamond"/>
              </a:rPr>
              <a:t>            </a:t>
            </a:r>
            <a:r>
              <a:rPr b="1" i="1" lang="ru-RU" sz="4400" spc="-1" strike="noStrike">
                <a:solidFill>
                  <a:srgbClr val="006633"/>
                </a:solidFill>
                <a:latin typeface="Garamond"/>
              </a:rPr>
              <a:t>Валовый доход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33"/>
                </a:solidFill>
                <a:latin typeface="Arial"/>
              </a:rPr>
              <a:t>61200 – (10000 + 1000 + 6400)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33"/>
                </a:solidFill>
                <a:latin typeface="Arial"/>
              </a:rPr>
              <a:t>                  </a:t>
            </a:r>
            <a:r>
              <a:rPr b="0" lang="ru-RU" sz="4800" spc="-1" strike="noStrike">
                <a:solidFill>
                  <a:srgbClr val="f40639"/>
                </a:solidFill>
                <a:latin typeface="Arial"/>
              </a:rPr>
              <a:t>43800 руб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40639"/>
                </a:solidFill>
                <a:latin typeface="Arial"/>
              </a:rPr>
              <a:t>з/плата                  прибыл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6"/>
          <p:cNvSpPr/>
          <p:nvPr/>
        </p:nvSpPr>
        <p:spPr>
          <a:xfrm flipH="1">
            <a:off x="1618920" y="3716280"/>
            <a:ext cx="2089080" cy="12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Line 7"/>
          <p:cNvSpPr/>
          <p:nvPr/>
        </p:nvSpPr>
        <p:spPr>
          <a:xfrm>
            <a:off x="3708360" y="3716280"/>
            <a:ext cx="2664000" cy="12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edge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0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768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6" dur="768" fill="hold"/>
                                        <p:tgtEl>
                                          <p:spTgt spid="38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8" dur="768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50" dur="768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6633"/>
                </a:solidFill>
                <a:latin typeface="Garamond"/>
              </a:rPr>
              <a:t>Заработная плата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33"/>
                </a:solidFill>
                <a:latin typeface="Arial"/>
              </a:rPr>
              <a:t>1 мастер – 10000 руб.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33"/>
                </a:solidFill>
                <a:latin typeface="Arial"/>
              </a:rPr>
              <a:t>2 мастер – 8000 руб.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33"/>
                </a:solidFill>
                <a:latin typeface="Arial"/>
              </a:rPr>
              <a:t>Вспомогательный персонал – 6000 ру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33"/>
                </a:solidFill>
                <a:latin typeface="Arial"/>
              </a:rPr>
              <a:t>               </a:t>
            </a:r>
            <a:r>
              <a:rPr b="1" i="1" lang="ru-RU" sz="2400" spc="-1" strike="noStrike">
                <a:solidFill>
                  <a:srgbClr val="006633"/>
                </a:solidFill>
                <a:latin typeface="Arial"/>
              </a:rPr>
              <a:t>10000 + 8000 + 6000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33"/>
                </a:solidFill>
                <a:latin typeface="Arial"/>
              </a:rPr>
              <a:t>                           </a:t>
            </a:r>
            <a:r>
              <a:rPr b="1" i="1" lang="ru-RU" sz="2400" spc="-1" strike="noStrike">
                <a:solidFill>
                  <a:srgbClr val="f40639"/>
                </a:solidFill>
                <a:latin typeface="Arial"/>
              </a:rPr>
              <a:t>24000 ру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Arial"/>
              </a:rPr>
              <a:t>    </a:t>
            </a:r>
            <a:r>
              <a:rPr b="1" i="1" lang="ru-RU" sz="2400" spc="-1" strike="noStrike">
                <a:solidFill>
                  <a:srgbClr val="006600"/>
                </a:solidFill>
                <a:latin typeface="Arial"/>
              </a:rPr>
              <a:t>отчисления в социальные фонды (30%)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Arial"/>
              </a:rPr>
              <a:t>                         </a:t>
            </a:r>
            <a:r>
              <a:rPr b="1" i="1" lang="ru-RU" sz="2400" spc="-1" strike="noStrike">
                <a:solidFill>
                  <a:srgbClr val="006600"/>
                </a:solidFill>
                <a:latin typeface="Arial"/>
              </a:rPr>
              <a:t>24000 х 30% =                       </a:t>
            </a:r>
            <a:r>
              <a:rPr b="1" i="1" lang="ru-RU" sz="2400" spc="-1" strike="noStrike">
                <a:solidFill>
                  <a:srgbClr val="f4063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40639"/>
                </a:solidFill>
                <a:latin typeface="Arial"/>
              </a:rPr>
              <a:t>                           </a:t>
            </a:r>
            <a:r>
              <a:rPr b="1" i="1" lang="ru-RU" sz="2400" spc="-1" strike="noStrike">
                <a:solidFill>
                  <a:srgbClr val="f40639"/>
                </a:solidFill>
                <a:latin typeface="Arial"/>
              </a:rPr>
              <a:t>7200 ру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Arial"/>
              </a:rPr>
              <a:t>43800 – (24000 + 7200)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Arial"/>
              </a:rPr>
              <a:t>                           </a:t>
            </a:r>
            <a:r>
              <a:rPr b="1" i="1" lang="ru-RU" sz="2400" spc="-1" strike="noStrike">
                <a:solidFill>
                  <a:srgbClr val="f40639"/>
                </a:solidFill>
                <a:latin typeface="Arial"/>
              </a:rPr>
              <a:t>12600 ру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push dir="r"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nodeType="clickEffect" fill="hold">
                      <p:stCondLst>
                        <p:cond delay="0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3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3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3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3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3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3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3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3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3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3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3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3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3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3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3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006633"/>
                </a:solidFill>
                <a:latin typeface="Garamond"/>
              </a:rPr>
              <a:t>Распределение прибыли</a:t>
            </a:r>
            <a:br>
              <a:rPr sz="4200"/>
            </a:br>
            <a:r>
              <a:rPr b="1" i="1" lang="ru-RU" sz="4200" spc="-1" strike="noStrike">
                <a:solidFill>
                  <a:srgbClr val="006633"/>
                </a:solidFill>
                <a:latin typeface="Garamond"/>
              </a:rPr>
              <a:t>(налог на прибыль 32 %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1.Материальное стимулирование   2000 ру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2.Социальные нужды    2000 ру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3.Развитие производства     </a:t>
            </a:r>
            <a:r>
              <a:rPr b="0" lang="ru-RU" sz="2400" spc="-1" strike="noStrike">
                <a:solidFill>
                  <a:srgbClr val="f40639"/>
                </a:solidFill>
                <a:latin typeface="Arial"/>
              </a:rPr>
              <a:t>5000 ру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4.Резервный фонд     1200 ру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           </a:t>
            </a: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12600 – 5000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40639"/>
                </a:solidFill>
                <a:latin typeface="Arial"/>
              </a:rPr>
              <a:t>           </a:t>
            </a:r>
            <a:r>
              <a:rPr b="0" lang="ru-RU" sz="2400" spc="-1" strike="noStrike">
                <a:solidFill>
                  <a:srgbClr val="f40639"/>
                </a:solidFill>
                <a:latin typeface="Arial"/>
              </a:rPr>
              <a:t>7600</a:t>
            </a: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 х 32%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                  </a:t>
            </a:r>
            <a:r>
              <a:rPr b="0" lang="ru-RU" sz="2400" spc="-1" strike="noStrike">
                <a:solidFill>
                  <a:srgbClr val="f40639"/>
                </a:solidFill>
                <a:latin typeface="Arial"/>
              </a:rPr>
              <a:t>2400руб.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           </a:t>
            </a: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7600 – 2400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                  </a:t>
            </a:r>
            <a:r>
              <a:rPr b="0" lang="ru-RU" sz="2400" spc="-1" strike="noStrike">
                <a:solidFill>
                  <a:srgbClr val="f40639"/>
                </a:solidFill>
                <a:latin typeface="Arial"/>
              </a:rPr>
              <a:t>5200 ру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push dir="r"/>
  </p:transition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nodeType="clickEffect" fill="hold">
                      <p:stCondLst>
                        <p:cond delay="0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1000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1000"/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3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3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3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1000"/>
                                        <p:tgtEl>
                                          <p:spTgt spid="3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3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3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1000"/>
                                        <p:tgtEl>
                                          <p:spTgt spid="3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3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3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3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3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3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1000"/>
                                        <p:tgtEl>
                                          <p:spTgt spid="3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3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3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0000"/>
                </a:solidFill>
                <a:latin typeface="Verdana"/>
              </a:rPr>
              <a:t>                </a:t>
            </a:r>
            <a:r>
              <a:rPr b="1" i="1" lang="ru-RU" sz="4800" spc="-1" strike="noStrike">
                <a:solidFill>
                  <a:srgbClr val="cc0000"/>
                </a:solidFill>
                <a:latin typeface="Verdana"/>
              </a:rPr>
              <a:t>Цель: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10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Verdana"/>
              </a:rPr>
              <a:t>Научиться распределять доходы, прибыль предприятия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push dir="r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cc00"/>
                </a:solidFill>
                <a:latin typeface="Verdana"/>
              </a:rPr>
              <a:t>ДОХОДЫ -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Verdana"/>
              </a:rPr>
              <a:t>Важнейший экономический показатель работы предприятия (фирмы), выраженный в форме денежных поступлений от всех видов деятельности, за определенный период времени. Доходы подразделяются на общий, средний и предельный доходы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6600"/>
                </a:solidFill>
                <a:latin typeface="Verdana"/>
              </a:rPr>
              <a:t>Общий доход (До)-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66"/>
                </a:solidFill>
                <a:latin typeface="Verdana"/>
              </a:rPr>
              <a:t>Денежная сумма, полученная от  продажи определенного количества товара (оказание услуг, выполненных работ). Он определяется произведением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66"/>
                </a:solidFill>
                <a:latin typeface="Verdana"/>
              </a:rPr>
              <a:t>                </a:t>
            </a:r>
            <a:r>
              <a:rPr b="1" i="1" lang="ru-RU" sz="2800" spc="-1" strike="noStrike">
                <a:solidFill>
                  <a:srgbClr val="006666"/>
                </a:solidFill>
                <a:latin typeface="Verdana"/>
              </a:rPr>
              <a:t>До = Ц х К,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66"/>
                </a:solidFill>
                <a:latin typeface="Verdana"/>
              </a:rPr>
              <a:t>Где  Ц – цена единицы товара, руб.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66"/>
                </a:solidFill>
                <a:latin typeface="Verdana"/>
              </a:rPr>
              <a:t>        </a:t>
            </a:r>
            <a:r>
              <a:rPr b="1" i="1" lang="ru-RU" sz="2800" spc="-1" strike="noStrike">
                <a:solidFill>
                  <a:srgbClr val="006666"/>
                </a:solidFill>
                <a:latin typeface="Verdana"/>
              </a:rPr>
              <a:t>К – количество проданных единиц товара(продукции), ед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6666"/>
                </a:solidFill>
                <a:latin typeface="Verdana"/>
              </a:rPr>
              <a:t>Средний доход (Дс) -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99"/>
                </a:solidFill>
                <a:latin typeface="Verdana"/>
              </a:rPr>
              <a:t>Показывает величину денежных средств, полученных за единицу проданной продукции: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99"/>
                </a:solidFill>
                <a:latin typeface="Verdana"/>
              </a:rPr>
              <a:t>                    </a:t>
            </a:r>
            <a:r>
              <a:rPr b="1" i="1" lang="ru-RU" sz="3600" spc="-1" strike="noStrike">
                <a:solidFill>
                  <a:srgbClr val="006699"/>
                </a:solidFill>
                <a:latin typeface="Verdana"/>
              </a:rPr>
              <a:t>Дс=</a:t>
            </a:r>
            <a:r>
              <a:rPr b="1" i="1" lang="ru-RU" sz="3600" spc="-1" strike="noStrike" u="sng">
                <a:solidFill>
                  <a:srgbClr val="006699"/>
                </a:solidFill>
                <a:uFillTx/>
                <a:latin typeface="Verdana"/>
              </a:rPr>
              <a:t>До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99"/>
                </a:solidFill>
                <a:latin typeface="Verdana"/>
              </a:rPr>
              <a:t>                           </a:t>
            </a:r>
            <a:r>
              <a:rPr b="1" i="1" lang="ru-RU" sz="3600" spc="-1" strike="noStrike">
                <a:solidFill>
                  <a:srgbClr val="006699"/>
                </a:solidFill>
                <a:latin typeface="Verdana"/>
              </a:rPr>
              <a:t>К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006699"/>
                </a:solidFill>
                <a:uFillTx/>
                <a:latin typeface="Verdana"/>
              </a:rPr>
              <a:t>                          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6666"/>
                </a:solidFill>
                <a:latin typeface="Verdana"/>
              </a:rPr>
              <a:t>Предельный доход (Дпр) -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99"/>
                </a:solidFill>
                <a:latin typeface="Verdana"/>
              </a:rPr>
              <a:t>Приращивание общего дохода в рублях (</a:t>
            </a:r>
            <a:r>
              <a:rPr b="1" lang="en-US" sz="3200" spc="-1" strike="noStrike" u="sng">
                <a:solidFill>
                  <a:srgbClr val="006699"/>
                </a:solidFill>
                <a:uFillTx/>
                <a:latin typeface="Verdana"/>
              </a:rPr>
              <a:t>^</a:t>
            </a:r>
            <a:r>
              <a:rPr b="1" i="1" lang="ru-RU" sz="3200" spc="-1" strike="noStrike">
                <a:solidFill>
                  <a:srgbClr val="006699"/>
                </a:solidFill>
                <a:latin typeface="Verdana"/>
              </a:rPr>
              <a:t>До) при увеличении объема продаж на единицу товара (</a:t>
            </a:r>
            <a:r>
              <a:rPr b="1" i="1" lang="en-US" sz="3200" spc="-1" strike="noStrike" u="sng">
                <a:solidFill>
                  <a:srgbClr val="006699"/>
                </a:solidFill>
                <a:uFillTx/>
                <a:latin typeface="Verdana"/>
              </a:rPr>
              <a:t>^</a:t>
            </a:r>
            <a:r>
              <a:rPr b="1" i="1" lang="ru-RU" sz="3200" spc="-1" strike="noStrike">
                <a:solidFill>
                  <a:srgbClr val="006699"/>
                </a:solidFill>
                <a:latin typeface="Verdana"/>
              </a:rPr>
              <a:t>К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99"/>
                </a:solidFill>
                <a:latin typeface="Verdana"/>
              </a:rPr>
              <a:t>                     </a:t>
            </a:r>
            <a:r>
              <a:rPr b="1" i="1" lang="ru-RU" sz="3200" spc="-1" strike="noStrike">
                <a:solidFill>
                  <a:srgbClr val="006699"/>
                </a:solidFill>
                <a:latin typeface="Verdana"/>
              </a:rPr>
              <a:t>Дпр = </a:t>
            </a:r>
            <a:r>
              <a:rPr b="1" i="1" lang="en-US" sz="3200" spc="-1" strike="noStrike" u="sng">
                <a:solidFill>
                  <a:srgbClr val="006699"/>
                </a:solidFill>
                <a:uFillTx/>
                <a:latin typeface="Verdana"/>
              </a:rPr>
              <a:t>^</a:t>
            </a:r>
            <a:r>
              <a:rPr b="1" i="1" lang="ru-RU" sz="3200" spc="-1" strike="noStrike" u="sng">
                <a:solidFill>
                  <a:srgbClr val="006699"/>
                </a:solidFill>
                <a:uFillTx/>
                <a:latin typeface="Verdana"/>
              </a:rPr>
              <a:t>До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99"/>
                </a:solidFill>
                <a:latin typeface="Verdana"/>
              </a:rPr>
              <a:t>                                </a:t>
            </a:r>
            <a:r>
              <a:rPr b="1" i="1" lang="en-US" sz="3200" spc="-1" strike="noStrike" u="sng">
                <a:solidFill>
                  <a:srgbClr val="006699"/>
                </a:solidFill>
                <a:uFillTx/>
                <a:latin typeface="Verdana"/>
              </a:rPr>
              <a:t>^</a:t>
            </a:r>
            <a:r>
              <a:rPr b="1" i="1" lang="ru-RU" sz="3200" spc="-1" strike="noStrike">
                <a:solidFill>
                  <a:srgbClr val="006699"/>
                </a:solidFill>
                <a:latin typeface="Verdana"/>
              </a:rPr>
              <a:t>К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0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006633"/>
                </a:solidFill>
                <a:latin typeface="Garamond"/>
              </a:rPr>
              <a:t>Распределение дохода, прибыли</a:t>
            </a:r>
            <a:br>
              <a:rPr sz="4200"/>
            </a:br>
            <a:r>
              <a:rPr b="1" i="1" lang="ru-RU" sz="4200" spc="-1" strike="noStrike">
                <a:solidFill>
                  <a:srgbClr val="006633"/>
                </a:solidFill>
                <a:latin typeface="Garamond"/>
              </a:rPr>
              <a:t>                предприятия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(экономический практикум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В парикмахерской «Фантазия»  работает два мастера 25 дней в неделю по 8 час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1 мастер  выполняет работу за 30 мин.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2 мастер выполняет работу за 15 мин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стоимость одной работы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1 мастер – 100 руб.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2 мастер – 40 руб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0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72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898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898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898" fill="hold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898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898" fill="hold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898" fill="hold"/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898" fill="hold"/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33"/>
                </a:solidFill>
                <a:latin typeface="Garamond"/>
              </a:rPr>
              <a:t>1 мастер: 8часов : 0,5 часа(30мин.)=</a:t>
            </a:r>
            <a:br>
              <a:rPr sz="3600"/>
            </a:br>
            <a:r>
              <a:rPr b="1" i="1" lang="ru-RU" sz="3600" spc="-1" strike="noStrike">
                <a:solidFill>
                  <a:srgbClr val="006633"/>
                </a:solidFill>
                <a:latin typeface="Garamond"/>
              </a:rPr>
              <a:t>                 16 работ  (за 1 день)</a:t>
            </a:r>
            <a:br>
              <a:rPr sz="3600"/>
            </a:br>
            <a:r>
              <a:rPr b="1" i="1" lang="ru-RU" sz="3600" spc="-1" strike="noStrike">
                <a:solidFill>
                  <a:srgbClr val="006633"/>
                </a:solidFill>
                <a:latin typeface="Garamond"/>
              </a:rPr>
              <a:t>2 мастер: 8часов : 0,25 часа (15мин.)=</a:t>
            </a:r>
            <a:br>
              <a:rPr sz="3600"/>
            </a:br>
            <a:r>
              <a:rPr b="1" i="1" lang="ru-RU" sz="3600" spc="-1" strike="noStrike">
                <a:solidFill>
                  <a:srgbClr val="006633"/>
                </a:solidFill>
                <a:latin typeface="Garamond"/>
              </a:rPr>
              <a:t>                 32 работы (за 1 день)</a:t>
            </a:r>
            <a:br>
              <a:rPr sz="3600"/>
            </a:br>
            <a:br>
              <a:rPr sz="3600"/>
            </a:br>
            <a:r>
              <a:rPr b="1" i="1" lang="ru-RU" sz="3600" spc="-1" strike="noStrike">
                <a:solidFill>
                  <a:srgbClr val="006633"/>
                </a:solidFill>
                <a:latin typeface="Garamond"/>
              </a:rPr>
              <a:t>1 мастер: 16 х 100 = 1600 (руб. за день)</a:t>
            </a:r>
            <a:br>
              <a:rPr sz="3600"/>
            </a:br>
            <a:r>
              <a:rPr b="1" i="1" lang="ru-RU" sz="3600" spc="-1" strike="noStrike">
                <a:solidFill>
                  <a:srgbClr val="006633"/>
                </a:solidFill>
                <a:latin typeface="Garamond"/>
              </a:rPr>
              <a:t>2 мастер: 32 х 40 = 1280 (руб. за день)</a:t>
            </a:r>
            <a:br>
              <a:rPr sz="3600"/>
            </a:br>
            <a:br>
              <a:rPr sz="3600"/>
            </a:br>
            <a:r>
              <a:rPr b="1" i="1" lang="ru-RU" sz="3600" spc="-1" strike="noStrike">
                <a:solidFill>
                  <a:srgbClr val="006633"/>
                </a:solidFill>
                <a:latin typeface="Garamond"/>
              </a:rPr>
              <a:t>1600 + 1280 = 2880 (руб. за день)</a:t>
            </a:r>
            <a:br>
              <a:rPr sz="3600"/>
            </a:br>
            <a:r>
              <a:rPr b="1" i="1" lang="ru-RU" sz="3600" spc="-1" strike="noStrike">
                <a:solidFill>
                  <a:srgbClr val="006633"/>
                </a:solidFill>
                <a:latin typeface="Garamond"/>
              </a:rPr>
              <a:t>2880 х 25 = 72000 руб. </a:t>
            </a:r>
            <a:r>
              <a:rPr b="1" i="1" lang="ru-RU" sz="3600" spc="-1" strike="noStrike">
                <a:solidFill>
                  <a:srgbClr val="f40639"/>
                </a:solidFill>
                <a:latin typeface="Garamond"/>
              </a:rPr>
              <a:t>(доход за месяц)</a:t>
            </a:r>
            <a:br>
              <a:rPr sz="3600"/>
            </a:br>
            <a:r>
              <a:rPr b="1" i="1" lang="ru-RU" sz="42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edge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0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768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6" dur="768" fill="hold"/>
                                        <p:tgtEl>
                                          <p:spTgt spid="36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8" dur="768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0" dur="768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33"/>
                </a:solidFill>
                <a:latin typeface="Garamond"/>
              </a:rPr>
              <a:t>НАЛОГ В БЮДЖЕТ</a:t>
            </a:r>
            <a:br>
              <a:rPr sz="4000"/>
            </a:br>
            <a:r>
              <a:rPr b="1" i="1" lang="ru-RU" sz="4000" spc="-1" strike="noStrike">
                <a:solidFill>
                  <a:srgbClr val="006633"/>
                </a:solidFill>
                <a:latin typeface="Garamond"/>
              </a:rPr>
              <a:t>                       ( 15%)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990000"/>
                </a:solidFill>
                <a:latin typeface="Arial"/>
              </a:rPr>
              <a:t>                </a:t>
            </a:r>
            <a:r>
              <a:rPr b="1" i="1" lang="ru-RU" sz="4400" spc="-1" strike="noStrike">
                <a:solidFill>
                  <a:srgbClr val="990000"/>
                </a:solidFill>
                <a:latin typeface="Arial"/>
              </a:rPr>
              <a:t>72000 Х 15% 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90000"/>
                </a:solidFill>
                <a:latin typeface="Arial"/>
              </a:rPr>
              <a:t>               </a:t>
            </a:r>
            <a:r>
              <a:rPr b="1" i="1" lang="ru-RU" sz="4400" spc="-1" strike="noStrike">
                <a:solidFill>
                  <a:srgbClr val="f40639"/>
                </a:solidFill>
                <a:latin typeface="Arial"/>
              </a:rPr>
              <a:t>10800 РУБ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2T00:40:04Z</dcterms:created>
  <dc:creator>user</dc:creator>
  <dc:description/>
  <dc:language>en-US</dc:language>
  <cp:lastModifiedBy>LEGION</cp:lastModifiedBy>
  <dcterms:modified xsi:type="dcterms:W3CDTF">2016-01-04T08:16:49Z</dcterms:modified>
  <cp:revision>6</cp:revision>
  <dc:subject/>
  <dc:title>Тема урока № 10</dc:title>
</cp:coreProperties>
</file>