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3E5E-D8A6-4E3D-93D1-D5A48BF4268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 №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. Виды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ма урока № 1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ходы. Виды доход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и производ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енда помещений ( 20кв.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в.м – 500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 х 50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держки производ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ренда помещений ( 20кв.м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кв.м – 500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0 х 500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я (износ) оборуд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оборудования  50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000 х 2%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мортизация (износ) оборуд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2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оимость оборудования  500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0000 х 2%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затра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 - 10 руб.(1 работа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 - 3 руб. ( 1 работа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х 10 = 160 руб.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2 х 3 = 96 руб.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(160 + 96) х 25 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6400 руб. (за месяц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териальные затра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 - 10 руб.(1 работа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 - 3 руб. ( 1 работа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6 х 10 = 160 руб.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2 х 3 = 96 руб.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(160 + 96) х 25 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6400 руб. (за месяц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1200 – (10000 + 1000 + 6400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38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/плата                 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ловый дох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1200 – (10000 + 1000 + 6400)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38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/плата                  прибы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– 10000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– 8000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огательный персонал – 6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00 + 8000 + 6000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исления в социальные фонды (30%)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0 х 30% =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2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3800 – (24000 + 7200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6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– 10000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– 8000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помогательный персонал – 6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000 + 8000 + 6000 =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4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числения в социальные фонды (30%) –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4000 х 30% =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2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3800 – (24000 + 7200)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26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лог на прибыль 32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Материальное стимулирование   2000 ру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оциальные нужды    2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Развитие производства     5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Резервный фонд     12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600 – 5000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00 х 32%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00 – 240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ределение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налог на прибыль 32 %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Материальное стимулирование   2000 руб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Социальные нужды    2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Развитие производства     5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Резервный фонд     12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2600 – 5000 =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600 х 32% =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400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600 – 2400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2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ся распределять доходы, прибыль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учиться распределять доходы, прибыль пред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й экономический показатель работы предприятия (фирмы), выраженный в форме денежных поступлений от всех видов деятельности, за определенный период времени. Доходы подразделяются на общий, средний и предельный до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ХОДЫ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ейший экономический показатель работы предприятия (фирмы), выраженный в форме денежных поступлений от всех видов деятельности, за определенный период времени. Доходы подразделяются на общий, средний и предельный доход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доход (До)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сумма, полученная от  продажи определенного количества товара (оказание услуг, выполненных работ). Он определяется произведени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= Ц х 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 Ц – цена единицы товара,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– количество проданных единиц товара(продукции), 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й доход (До)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нежная сумма, полученная от  продажи определенного количества товара (оказание услуг, выполненных работ). Он определяется произведением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 = Ц х К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де  Ц – цена единицы товара,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 – количество проданных единиц товара(продукции), е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й доход (Дс)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ывает величину денежных средств, полученных за единицу проданной проду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с=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редний доход (Дс)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казывает величину денежных средств, полученных за единицу проданной продукци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с=Д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й доход (Дпр)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ащивание общего дохода в рублях (^До) при увеличении объема продаж на единицу товара (^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пр = ^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^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ельный доход (Дпр)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ращивание общего дохода в рублях (^До) при увеличении объема продаж на единицу товара (^К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пр = ^Д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^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дохода,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кономический практику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арикмахерской «Фантазия»  работает два мастера 25 дней в неделю по 8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 выполняет работу за 30 мин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выполняет работу за 15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одной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– 100 руб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– 4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ределение дохода,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пред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экономический практикум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парикмахерской «Фантазия»  работает два мастера 25 дней в неделю по 8 ча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 выполняет работу за 30 мин.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выполняет работу за 15 ми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оимость одной работ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– 100 руб.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– 4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: 8часов : 0,5 часа(30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16 работ 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: 8часов : 0,25 часа (15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32 работы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: 16 х 100 = 160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: 32 х 40 = 1280 (руб. за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00 + 1280 = 288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80 х 25 = 72000 руб. (доход за месяц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: 8часов : 0,5 часа(30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16 работ 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: 8часов : 0,25 часа (15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32 работы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: 16 х 100 = 160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: 32 х 40 = 1280 (руб. за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600 + 1280 = 288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880 х 25 = 72000 руб. (доход за месяц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В БЮДЖ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( 15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2000 Х 15%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8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ОГ В БЮДЖ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( 15%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2000 Х 15%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8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76A2-0DE2-4943-9051-A2C32857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3159-D402-499B-9C2A-D023FB76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BAFF-9353-4B5E-8B4D-45DE4E0C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8EBB-77F1-43AA-8EFC-EFEB7C80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FAC9-3C68-4D98-BC5E-BA527DA1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FF66-34E0-4043-A73D-A3565B27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2430-F256-4C66-A516-34C630C4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683E-0E69-49F4-8B4A-46B4C82C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0F7C-6DE8-4559-B6F1-A86B9ADA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8891-42BE-4107-B9FD-A7918E49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F98F-1C1E-43FA-A317-4ECE1960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638-993B-4486-BAE0-974C159B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9D36-A6C3-4E9E-A397-00B95271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3E36-9ABB-494B-9476-6133C354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E242-00F1-4F56-81A7-283F6031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A9BA-B070-4CF4-A6E0-EC098760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6B05-631F-4F19-8F67-434F10AE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33358-A1B9-43C8-BCFC-24D9F459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59308-F11A-46E6-AD82-BBEEAC82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553B9-AA3D-45CA-BBE9-9871178C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58342-BF87-4BD3-86B3-2CD4B90F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AAECC-929D-47CE-ACA2-2606D77F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0C05-F762-409A-B92C-B30E9D95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28102-9917-4162-A767-7AA67C3F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99A49-9478-4ECC-89D3-83B520BF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858A5-416C-48AD-A4EE-006F1DA4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55358-3832-473F-A4B0-BE4977DC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EF4CC-9323-4759-9295-14667689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8B251-1E45-4A67-AD2F-0FCBA950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F46CB-7DB8-49F8-8B0C-1A3EEA14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999D0-3E47-4993-BB42-65E5182D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961AD-F82A-40E3-8714-B3C08A8E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AB8DA-FD66-41DA-AC8D-B50CD4BF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1575-0143-4F9A-85A5-0ACBDBFD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B6268-EDC1-4628-BBDE-CEBAA3EE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2CFD7-C4C2-46E1-903B-135F4CE4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F4CF0-C39A-4678-BF07-66C37613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EACE1-2B36-4A0B-B7D3-BB7DA489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8C606-5C1C-4E24-9A39-682F902E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A1857-02B7-4B76-9B70-F39A4B2A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FE741-22AA-4ECE-9A09-06D6442E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C3A1F-68DE-4097-90F0-299799A3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31F99-28C8-4538-8561-0AF59D97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97661-1C93-4BC8-ABD6-323FCFA6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D6D2-E90F-4A5A-8688-75C8757F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7406D-402F-4521-A48C-D28DE680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A0E14-4205-4773-91FA-E647EC76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E7C1A-3816-4195-B495-EC3EE166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3A6B7-7F47-410D-B9B8-F4A69BCA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65605-A115-4C01-BCC3-7234DB43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35E29-BDA9-4CD4-A228-E231CA88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F33F7-8367-4AF6-B1D9-466CAAB3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08B2F-3D19-4D80-82F4-6ECC1445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0A9E0-1372-4B1A-BE31-903B07A8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BA4D1-058F-40C6-840D-5A6B6C4C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8A74-F03C-4AD1-850A-D1E4C952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A5BAD-9311-46DB-9F98-23EBA393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E5005-A28F-4422-861A-0F795B07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F957E-D949-4C63-8B81-F5EC031B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98717-09E4-41BB-82CA-3CB5C59A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660A7-2B43-455E-A708-16DC464D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B5BB2-7B8C-4CAB-8645-2D773619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3A99A-BC82-4485-A4AD-73D3BD18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880E2-9C4E-4804-9B87-D95993E4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50143-047A-485E-A91B-983522F7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72343-4A5B-4D27-B808-07D81134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D726-5AE8-4859-8380-0869D20E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C0649-2720-454A-8D36-AC11BEE3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592EF-EA5F-4E18-B8E8-D32B9EA3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028DE-55D2-415B-BC2F-4468697E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6AC2-D464-41AF-B6DF-0F18A88B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541-604C-455A-849D-502D4C4D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02BF-88B1-4D7C-9C74-EA01D103FF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44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6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51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6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57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8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0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61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4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5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9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A1F5-022B-43BA-857C-753F597FD5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6B21-0946-447D-811D-DEEE118B91D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1597-94F7-4E2D-96A6-2D8715B09F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213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214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21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27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28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1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232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5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236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9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40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3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44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7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F195-7A60-46E3-908A-58FCC39092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E0C7-373A-4036-A0A3-E7FECE664C1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Verdana"/>
              </a:rPr>
              <a:t>Тема урока № 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Verdana"/>
              </a:rPr>
              <a:t>Доходы. Виды доход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Garamond"/>
              </a:rPr>
              <a:t>Издержки производства: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Arial"/>
              </a:rPr>
              <a:t>Аренда помещений ( 20кв.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Arial"/>
              </a:rPr>
              <a:t>1 кв.м – 500 руб.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Arial"/>
              </a:rPr>
              <a:t>                 </a:t>
            </a: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20 х 500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0639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0639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f40639"/>
                </a:solidFill>
                <a:latin typeface="Arial"/>
              </a:rPr>
              <a:t>10000 ру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68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68" fill="hold"/>
                                        <p:tgtEl>
                                          <p:spTgt spid="3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68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68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Амортизация (износ) оборудования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                          2%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Стоимость оборудования  5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                  </a:t>
            </a: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50000 х 2%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                          </a:t>
            </a:r>
            <a:r>
              <a:rPr b="1" i="1" lang="ru-RU" sz="3600" spc="-1" strike="noStrike">
                <a:solidFill>
                  <a:srgbClr val="f40639"/>
                </a:solidFill>
                <a:latin typeface="Arial"/>
              </a:rPr>
              <a:t>1000 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Материальные затраты: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1 мастер  - 10 руб.(1 работа)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2 мастер  - 3 руб. ( 1 работа)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16 х 10 = 160 руб. (за 1 день)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32 х 3 = 96 руб. (за 1 день)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                 (160 + 96) х 25 =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              </a:t>
            </a:r>
            <a:r>
              <a:rPr b="1" i="1" lang="ru-RU" sz="4000" spc="-1" strike="noStrike">
                <a:solidFill>
                  <a:srgbClr val="f40639"/>
                </a:solidFill>
                <a:latin typeface="Garamond"/>
              </a:rPr>
              <a:t>6400 руб. (за месяц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Валовый доход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Arial"/>
              </a:rPr>
              <a:t>61200 – (10000 + 1000 + 6400)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Arial"/>
              </a:rPr>
              <a:t>                  </a:t>
            </a:r>
            <a:r>
              <a:rPr b="0" lang="ru-RU" sz="4800" spc="-1" strike="noStrike">
                <a:solidFill>
                  <a:srgbClr val="f40639"/>
                </a:solidFill>
                <a:latin typeface="Arial"/>
              </a:rPr>
              <a:t>43800 руб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40639"/>
                </a:solidFill>
                <a:latin typeface="Arial"/>
              </a:rPr>
              <a:t>з/плата                  прибы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6"/>
          <p:cNvSpPr/>
          <p:nvPr/>
        </p:nvSpPr>
        <p:spPr>
          <a:xfrm flipH="1">
            <a:off x="1618920" y="3716280"/>
            <a:ext cx="208908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3708360" y="3716280"/>
            <a:ext cx="266400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768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6" dur="768" fill="hold"/>
                                        <p:tgtEl>
                                          <p:spTgt spid="3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8" dur="768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0" dur="768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Заработная плата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1 мастер – 10000 руб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2 мастер – 8000 руб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Вспомогательный персонал – 6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               </a:t>
            </a: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10000 + 8000 + 6000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24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отчисления в социальные фонды (30%)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                     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24000 х 30% =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72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43800 – (24000 + 720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126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Распределение прибыли</a:t>
            </a:r>
            <a:br>
              <a:rPr sz="4200"/>
            </a:b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(налог на прибыль 32 %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.Материальное стимулирование   2000 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2.Социальные нужды    2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3.Развитие производства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5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4.Резервный фонд     12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2600 – 5000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7600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х 32%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2400руб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7600 – 24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52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Verdana"/>
              </a:rPr>
              <a:t>                </a:t>
            </a:r>
            <a:r>
              <a:rPr b="1" i="1" lang="ru-RU" sz="4800" spc="-1" strike="noStrike">
                <a:solidFill>
                  <a:srgbClr val="cc0000"/>
                </a:solidFill>
                <a:latin typeface="Verdana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Verdana"/>
              </a:rPr>
              <a:t>Научиться распределять доходы, прибыль предприят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cc00"/>
                </a:solidFill>
                <a:latin typeface="Verdana"/>
              </a:rPr>
              <a:t>ДОХОДЫ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Verdana"/>
              </a:rPr>
              <a:t>Важнейший экономический показатель работы предприятия (фирмы), выраженный в форме денежных поступлений от всех видов деятельности, за определенный период времени. Доходы подразделяются на общий, средний и предельный доход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Verdana"/>
              </a:rPr>
              <a:t>Общий доход (До)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Денежная сумма, полученная от  продажи определенного количества товара (оказание услуг, выполненных работ). Он определяется произведением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                </a:t>
            </a: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До = Ц х К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Где  Ц – цена единицы товара, руб.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        </a:t>
            </a: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К – количество проданных единиц товара(продукции), ед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Средний доход (Дс)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Показывает величину денежных средств, полученных за единицу проданной продукции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                    </a:t>
            </a: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Дс=</a:t>
            </a:r>
            <a:r>
              <a:rPr b="1" i="1" lang="ru-RU" sz="3600" spc="-1" strike="noStrike" u="sng">
                <a:solidFill>
                  <a:srgbClr val="006699"/>
                </a:solidFill>
                <a:uFillTx/>
                <a:latin typeface="Verdana"/>
              </a:rPr>
              <a:t>До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                           </a:t>
            </a: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6699"/>
                </a:solidFill>
                <a:uFillTx/>
                <a:latin typeface="Verdana"/>
              </a:rPr>
              <a:t>       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Предельный доход (Дпр)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Приращивание общего дохода в рублях (</a:t>
            </a:r>
            <a:r>
              <a:rPr b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До) при увеличении объема продаж на единицу товара (</a:t>
            </a:r>
            <a:r>
              <a:rPr b="1" i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                   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Дпр = </a:t>
            </a:r>
            <a:r>
              <a:rPr b="1" i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Д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                               </a:t>
            </a:r>
            <a:r>
              <a:rPr b="1" i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Распределение дохода, прибыли</a:t>
            </a:r>
            <a:br>
              <a:rPr sz="4200"/>
            </a:b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                предприят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(экономический практику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 парикмахерской «Фантазия»  работает два мастера 25 дней в неделю по 8 ча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1 мастер  выполняет работу за 30 мин.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2 мастер выполняет работу за 15 м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стоимость одной работ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1 мастер – 100 руб.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2 мастер – 40 ру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7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1 мастер: 8часов : 0,5 часа(30мин.)=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                 16 работ  (за 1 день)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2 мастер: 8часов : 0,25 часа (15мин.)=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                 32 работы (за 1 день)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1 мастер: 16 х 100 = 1600 (руб. за день)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2 мастер: 32 х 40 = 1280 (руб. за день)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1600 + 1280 = 2880 (руб. за день)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2880 х 25 = 72000 руб. </a:t>
            </a:r>
            <a:r>
              <a:rPr b="1" i="1" lang="ru-RU" sz="3600" spc="-1" strike="noStrike">
                <a:solidFill>
                  <a:srgbClr val="f40639"/>
                </a:solidFill>
                <a:latin typeface="Garamond"/>
              </a:rPr>
              <a:t>(доход за месяц)</a:t>
            </a:r>
            <a:br>
              <a:rPr sz="3600"/>
            </a:b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68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68" fill="hold"/>
                                        <p:tgtEl>
                                          <p:spTgt spid="3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68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68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НАЛОГ В БЮДЖЕТ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                       ( 15%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0000"/>
                </a:solidFill>
                <a:latin typeface="Arial"/>
              </a:rPr>
              <a:t>                </a:t>
            </a:r>
            <a:r>
              <a:rPr b="1" i="1" lang="ru-RU" sz="4400" spc="-1" strike="noStrike">
                <a:solidFill>
                  <a:srgbClr val="990000"/>
                </a:solidFill>
                <a:latin typeface="Arial"/>
              </a:rPr>
              <a:t>72000 Х 15%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Arial"/>
              </a:rPr>
              <a:t>               </a:t>
            </a:r>
            <a:r>
              <a:rPr b="1" i="1" lang="ru-RU" sz="4400" spc="-1" strike="noStrike">
                <a:solidFill>
                  <a:srgbClr val="f40639"/>
                </a:solidFill>
                <a:latin typeface="Arial"/>
              </a:rPr>
              <a:t>10800 РУБ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0:40:04Z</dcterms:created>
  <dc:creator>user</dc:creator>
  <dc:description/>
  <dc:language>en-US</dc:language>
  <cp:lastModifiedBy>LEGION</cp:lastModifiedBy>
  <dcterms:modified xsi:type="dcterms:W3CDTF">2016-01-04T08:16:49Z</dcterms:modified>
  <cp:revision>6</cp:revision>
  <dc:subject/>
  <dc:title>Тема урока № 10</dc:title>
</cp:coreProperties>
</file>