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A390-C151-4557-AE48-E171D6622D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AAD-075F-4DE3-AFA4-00A1D99B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559-20E8-42CB-A5E7-D3C36BE4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04B-CEA6-4D23-AEE3-78B7EED3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A70-6EC0-44B2-990E-8C464F5E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97E7-74EC-48F5-9423-AD7BB1BC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37B4-5E08-43EB-9EB1-1153126B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8E80-7B1B-4838-878C-635988CB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FE04-DF3D-4C2B-AA67-B4436148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F0F2-9A87-4F88-B62A-3D4E854C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B93B-8A6F-484E-9D33-76EBDD5C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1EFD-E07D-4BAF-9616-A91321DD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DAD-5F55-4AE8-BA59-081B125C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99F5-6608-4660-BEA2-AA7C5DC3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C10F-BD9A-4B8E-BFD9-5D285853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D4E8-4AEE-469D-A798-54EBF506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93C9-FEB9-4D1F-9774-DCEE3871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EBF8-1D67-48AF-99FF-F698DB94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D80B-C334-4B48-A77A-3F074765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82F86-162C-497B-81DE-13420642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57F3-F00D-4A7D-BCB2-8DF44962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36C42-209D-4C20-9BE2-3FB60AD8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9031-B952-4DC4-8568-E66F2874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077-39B2-4398-8E19-6CEA7E8E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F5F23-8176-43FD-A547-CB69A456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2EFBE-8F13-4AB5-A7A2-88CB8074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3C20C-BBA4-4367-98DD-7916747C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32E7-A61D-4E81-8F7B-108D7CA8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F6D1-E74B-44C9-BED9-7656D44E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D530E-DC9E-46D1-BA2C-DC49661C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F5CD2-C603-4886-9A21-AC6518FD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4F2D2-F725-4C78-985F-9B0C6CE2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B0689-A794-4CA2-B07C-C4F3718B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46CF4-CA08-4449-8AFC-E2EF57AF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DE4-36FC-4D58-9868-BD4A709A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D52D5-CC95-4E58-B95C-E22FDBA1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934D1-DAFA-491B-BE0A-A8E53179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D086A-22AF-41F4-AE1E-888C5397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19462-84C9-4E79-9276-F9458B8E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A6103-D58D-4FE4-BA2C-24707DB4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9DBFA-4C85-402F-BBBF-0B00A3DE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CA191-384D-4F68-A00E-BCA7C036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2075D-CEFA-4545-9D6D-1EB3C074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2E5C-7746-4646-843C-1B645DAF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107C1-07DC-48A6-A900-707F42AB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B16-C3D1-49FE-86A3-E0495761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F12C5-F67F-4559-9E98-F28475DB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690DD-905C-4CFA-9889-F4533BC7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1591D-3C30-491E-BF1B-7CD70F12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55075-9A85-4D54-B5C3-A5E4BDD1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7B280-4F33-4D2D-BD74-8AF26BD1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6EC7D-5E0F-4663-A0D5-D3481A0D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ECFC3-A2FF-4B2F-81CB-F6CF8650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12410-DF51-4727-B9D5-B151F5E0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34ADE-FC29-47BF-810A-EE4EA3A2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32389-E975-442B-853C-D6757AE5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B7C-3939-4A35-88C1-D52DE779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4AF47-7D11-4D23-B5C7-7760B1E3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D1EAC-CB55-4B4A-9664-8994930E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CD685-09EE-4D5B-AE3D-B484AD76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588F5-ECF1-4D75-AC42-489AA23A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C184B-26FC-49CA-98BE-35088DE2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32F09-80EE-47D7-A89F-AB5D9FEC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CC605-4972-40AC-9978-CC139485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04FCD-B02E-46D0-AF38-D0895AF5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22A75-A3F0-40F4-BEC8-9C634704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14BD6-2A5F-4337-AB07-3DD560F8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5FD-0AF6-4E7D-A987-8678587B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4FAFC-CC1C-4863-A675-16286641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414F0-1732-4542-8910-BF425B34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43880-5AAB-4FBB-AA6A-EE0EBA50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C96-BD6B-4237-86EB-5F445A03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1D3-A319-4F61-9F63-DD68F20A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2414-1DEB-4F42-8C85-DB8C4B5BDB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4B05-47FA-4EFA-82E1-1F4EF35C29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1FD4-3978-4688-8215-FC344E99B12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F441-0C9C-4D78-9B27-856BD18273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13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214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1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7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28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1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232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5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236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9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40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3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44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7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34CC-E5DE-44A4-80B6-8E4A326570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C5F3-D3CE-4C49-A59F-9145DADA7C8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Verdana"/>
              </a:rPr>
              <a:t>Тема урока № 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Verdana"/>
              </a:rPr>
              <a:t>Доходы. Виды доход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aramond"/>
              </a:rPr>
              <a:t>Издержки производства: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Аренда помещений ( 20кв.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1 кв.м – 500 руб.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                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20 х 50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10000 ру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Амортизация (износ) оборудования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                          2%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Стоимость оборудования  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50000 х 2%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        </a:t>
            </a:r>
            <a:r>
              <a:rPr b="1" i="1" lang="ru-RU" sz="3600" spc="-1" strike="noStrike">
                <a:solidFill>
                  <a:srgbClr val="f40639"/>
                </a:solidFill>
                <a:latin typeface="Arial"/>
              </a:rPr>
              <a:t>1000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Материальные затраты: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 мастер  - 10 руб.(1 работа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2 мастер  - 3 руб. ( 1 работа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6 х 10 = 160 руб. (за 1 день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32 х 3 = 96 руб. (за 1 день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(160 + 96) х 25 =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Garamond"/>
              </a:rPr>
              <a:t>6400 руб. (за месяц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Валовый доход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61200 – (10000 + 1000 + 6400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43800 ру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з/плата                  прибы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 flipH="1">
            <a:off x="1618920" y="3716280"/>
            <a:ext cx="20890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3708360" y="3716280"/>
            <a:ext cx="2664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68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68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Заработная плата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 мастер – 10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2 мастер – 8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Вспомогательный персонал – 6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0000 + 8000 + 6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24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тчисления в социальные фонды (30%)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24000 х 30% =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7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43800 – (24000 + 720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126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(налог на прибыль 32 %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.Материальное стимулирование   2000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.Социальные нужды    2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.Развитие производства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.Резервный фонд     1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2600 – 5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7600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х 32%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2400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7600 – 24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Verdana"/>
              </a:rPr>
              <a:t>                </a:t>
            </a:r>
            <a:r>
              <a:rPr b="1" i="1" lang="ru-RU" sz="4800" spc="-1" strike="noStrike">
                <a:solidFill>
                  <a:srgbClr val="cc0000"/>
                </a:solidFill>
                <a:latin typeface="Verdana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Verdana"/>
              </a:rPr>
              <a:t>ДОХОДЫ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Verdana"/>
              </a:rPr>
              <a:t>Общий доход (До)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о = Ц х К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Где  Ц – цена единицы товара, руб.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Средний доход (Дс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Дс=</a:t>
            </a: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Предельный доход (Дпр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Приращивание общего дохода в рублях (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о) при увеличении объема продаж на единицу товара (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пр =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                              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дохода,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               предприят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экономический практику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 парикмахерской «Фантазия»  работает два мастера 25 дней в неделю по 8 ч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 выполняет работу за 30 мин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выполняет работу за 15 м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тоимость одной работ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– 100 руб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– 40 ру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8часов : 0,5 часа(30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16 работ  (за 1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8часов : 0,25 часа (15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32 работы (за 1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16 х 100 = 160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32 х 40 = 1280 (руб. за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600 + 1280 = 288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880 х 25 = 72000 руб. </a:t>
            </a:r>
            <a:r>
              <a:rPr b="1" i="1" lang="ru-RU" sz="3600" spc="-1" strike="noStrike">
                <a:solidFill>
                  <a:srgbClr val="f40639"/>
                </a:solidFill>
                <a:latin typeface="Garamond"/>
              </a:rPr>
              <a:t>(доход за месяц)</a:t>
            </a:r>
            <a:br>
              <a:rPr sz="36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68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68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НАЛОГ В БЮДЖЕТ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      ( 15%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00"/>
                </a:solidFill>
                <a:latin typeface="Arial"/>
              </a:rPr>
              <a:t>                </a:t>
            </a: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72000 Х 15%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               </a:t>
            </a:r>
            <a:r>
              <a:rPr b="1" i="1" lang="ru-RU" sz="4400" spc="-1" strike="noStrike">
                <a:solidFill>
                  <a:srgbClr val="f40639"/>
                </a:solidFill>
                <a:latin typeface="Arial"/>
              </a:rPr>
              <a:t>10800 РУБ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40:04Z</dcterms:created>
  <dc:creator>user</dc:creator>
  <dc:description/>
  <dc:language>en-US</dc:language>
  <cp:lastModifiedBy>LEGION</cp:lastModifiedBy>
  <dcterms:modified xsi:type="dcterms:W3CDTF">2016-01-04T08:16:49Z</dcterms:modified>
  <cp:revision>6</cp:revision>
  <dc:subject/>
  <dc:title>Тема урока № 10</dc:title>
</cp:coreProperties>
</file>