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BB3-04A9-461D-9B50-F96EF2692D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C16-CAA4-4B2E-9D5E-5F890BD3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F1D-A2E1-4BF2-937E-6DA25FA5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9F2-C5F5-4148-9E88-883BEBBE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410-469C-499D-89DC-620AA38B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1A49-2C2E-4DEF-85CB-D8E5AF47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11B3-BAD2-41EE-9D5A-3FE1A3FF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853D-9F34-4BEC-97F1-56371944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C56D-7A7F-4197-98DA-2824031E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E78E-2FBE-4204-8381-9A075942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227-2699-4BD7-B325-0FE3981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B5D6-0551-4A33-94B8-B4E8B1E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74F-6F0D-46E8-84F2-3EE41F54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DE64-EE60-4053-A700-4E6D97B7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FFC0-056B-444B-B8BA-23C45E21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C616-096A-4322-9A28-28ADD7EC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2FF5-3615-4C25-B7C2-ED8F6803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3FC3-B421-4776-B6EB-D9273865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00617-9BC6-411E-9F11-9FBBCDF4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9709-CB14-49DB-A1DF-F971DF03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35AF-8B29-42D7-AE18-D70F8370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B7FF-150C-4310-97D1-59EC47D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1206-EBAF-4794-A02F-21E50B4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476-E5B5-4A71-97C7-5B5A8C82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1085F-2AF5-47CB-ACCE-B449B890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D635-5D56-4ADF-BE87-E839848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AA08-8F8A-4819-9ACD-3876F29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0A30-6147-466A-8E6C-EA7BD10B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0DF7-BC44-4D04-ADF9-43BADB8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1FC6-C563-4DE2-BCAA-3E400AB0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65A6-4763-48BE-A5CD-6C47559D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58C8-8CEE-40C1-88E9-5DA40B31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2E49-C538-4A4C-A5A6-04F2CC74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B59A-4670-457B-B565-DA5F3ADA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961-6BC7-4488-B51F-E17ED4DF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0186-B016-457A-A7E3-9259081A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B518-9F19-4D15-B963-4F984549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5D1F2-B2DF-4A39-8060-C0C5D442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436F-8481-4BDD-B57F-B4A90E9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22B4-7E9E-4760-9555-55B67526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AE47C-0D84-4F9F-844D-25304C4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1FEE-34D0-40BA-A353-F962B567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E74B2-6477-49D6-8AC7-1B1533C1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26FAD-E00D-424C-9697-40305365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36742-A9A7-411F-9DCD-A40C5929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BB3-13F7-4849-AAFF-1BB13F0C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D98BD-7A29-428F-A943-EDC8626A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7B6E6-2437-4E32-AC53-5788338E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78E87-C2FB-4F92-8639-04C84980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D95F-A664-457E-B6AA-B7632116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04DC-381E-4025-9ABA-8DF26573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FCB9B-7BC3-4B6C-AB22-83E03E9F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87452-2AB1-4A9E-83D9-0860DE1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4AA14-23A4-465D-939E-7C7A45DB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CE7E-E911-4041-8FEF-70FC6A01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4B2C-4E47-4B62-B71D-00C3F420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5B8-C8BF-4D13-BFBE-BF7B8AE4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BBA99-6049-4576-9D77-23E41B5C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5B9E-A1E8-42B8-BDBF-081A332E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8AC08-4488-4434-BA59-A0D4B866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365E6-8A26-46FB-BDD4-F9EC5AE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6B41C-29AD-4DF0-A548-7A2CE8DA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49D5-4F08-4396-8E72-42EC5091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45B88-075F-489B-9D03-E70E98BC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7664A-9601-4166-9060-8F14FC35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29C25-EB79-4DA4-A080-40A117A2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EC206-23DA-4AAD-BCB6-C3A7E276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F8B-9362-403B-944A-BC960129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3879D-8F6D-4421-9219-30017EF8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B250-9B27-4776-A683-8F304D6E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C49AE-BF72-44ED-83F8-0202B46A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326-A7DD-4686-B5E0-BC2FD70C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76D-3792-45A8-BBA7-FF2D2571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1EB2-33B2-43E0-844D-04EA35CD18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6287-457E-42A3-B85C-A98980A148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897-BFD8-46C8-8BB0-D91BE60BC9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C8C8-9DDA-4A43-8C44-3DC32D4B47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14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32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36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D630-8B9E-4E48-9A84-7AB024BF49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F57C-2AE5-4A59-A44B-D5DF588554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Тема урока № 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Доходы. Виды доход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Издержки производств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Аренда помещений ( 20кв.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1 кв.м – 500 руб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20 х 50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10000 ру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Амортизация (износ) оборуд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2%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Стоимость оборудования 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50000 х 2%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f40639"/>
                </a:solidFill>
                <a:latin typeface="Arial"/>
              </a:rPr>
              <a:t>1000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Материальные затраты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 мастер  - 10 руб.(1 работа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2 мастер  - 3 руб. ( 1 работа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6 х 10 = 160 руб. (за 1 день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32 х 3 = 96 руб. (за 1 день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(160 + 96) х 25 =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Garamond"/>
              </a:rPr>
              <a:t>6400 руб. (за месяц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аловый доход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61200 – (10000 + 1000 + 640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43800 ру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з/плата                  прибы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H="1">
            <a:off x="1618920" y="3716280"/>
            <a:ext cx="20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708360" y="371628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68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6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Заработная пла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 мастер – 10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2 мастер – 8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спомогательный персонал – 6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0000 + 8000 + 6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2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тчисления в социальные фонды (30%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24000 х 30% =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7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43800 – (24000 + 72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12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(налог на прибыль 32 %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Материальное стимулирование   2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Социальные нужды    2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Развитие производства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Резервный фонд     1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2600 – 5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760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х 32%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2400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600 – 24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Verdana"/>
              </a:rPr>
              <a:t>  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ДОХОДЫ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Verdana"/>
              </a:rPr>
              <a:t>Общий доход (До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о = Ц х 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Где  Ц – цена единицы товара, руб.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редний доход (Дс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Дс=</a:t>
            </a: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едельный доход (Дпр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Приращивание общего дохода в рублях (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о) при увеличении объема продаж на единицу товара (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пр =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дохода,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               предпри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экономический практику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парикмахерской «Фантазия»  работает два мастера 25 дней в неделю по 8 ч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 выполняет работу за 30 мин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выполняет работу за 15 м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имость одной рабо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– 100 руб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– 40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8часов : 0,5 часа(30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16 работ  (за 1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8часов : 0,25 часа (15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32 работы (за 1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16 х 100 = 160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32 х 40 = 1280 (руб. за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600 + 1280 = 288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880 х 25 = 72000 руб. </a:t>
            </a:r>
            <a:r>
              <a:rPr b="1" i="1" lang="ru-RU" sz="3600" spc="-1" strike="noStrike">
                <a:solidFill>
                  <a:srgbClr val="f40639"/>
                </a:solidFill>
                <a:latin typeface="Garamond"/>
              </a:rPr>
              <a:t>(доход за месяц)</a:t>
            </a:r>
            <a:br>
              <a:rPr sz="36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НАЛОГ В БЮДЖЕТ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      ( 15%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72000 Х 15%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f40639"/>
                </a:solidFill>
                <a:latin typeface="Arial"/>
              </a:rPr>
              <a:t>10800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40:04Z</dcterms:created>
  <dc:creator>user</dc:creator>
  <dc:description/>
  <dc:language>en-US</dc:language>
  <cp:lastModifiedBy>LEGION</cp:lastModifiedBy>
  <dcterms:modified xsi:type="dcterms:W3CDTF">2016-01-04T08:16:49Z</dcterms:modified>
  <cp:revision>6</cp:revision>
  <dc:subject/>
  <dc:title>Тема урока № 10</dc:title>
</cp:coreProperties>
</file>