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13DC-0F55-41AF-9154-CB730FC55B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AF6-834F-4F60-B517-E2A188D3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3EC-13AB-47D8-B8FD-89CA585A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C4F-5304-4EA7-B489-9B3210EA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7CC-493D-408F-BC47-41322C8A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0E8F-212D-4639-B84A-657FE3FF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FB09-66FA-4628-AEB1-FB7A4240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6B47-7369-43E3-BAE7-96D256CD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0D27-8339-44DA-801F-24554C84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AEA9-F237-46D9-9689-EC1DA45F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9F9F-7C12-4109-AF4A-721DD34E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2D78-3832-4792-B61C-058AE5F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8D7-6743-4E11-816F-89FF7F56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9211-A8DA-401E-958E-A96B99D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D260-3816-4CEA-A075-0A90E276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8D10-7A12-452D-9D5E-86A783CB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312E-57CC-4A2F-AB14-7587CF7E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BD4D-08BA-4711-BA8F-DFD48D9B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0B57B-9064-4434-A39D-FEC407B5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F244-97E2-4CDB-AF95-9300393C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5C5E-3B4A-4D0B-BF78-6AD4749C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8BDF-94F6-40EB-8811-C7C39754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CA5F-DA0C-42EE-9BD9-F9965F39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08B-29E2-4CA4-A758-4A35315A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9E58-2521-4033-858E-4CF02C3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3685-28FD-48E6-9EBA-B3F43FB0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A8ECA-5686-4658-9D41-F02D937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DD08-3916-47D2-AE28-004B1928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3CDE-3EDE-447F-8518-D7A818E2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4F96-37EA-467F-9FE6-73ABE293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8D82-EDB1-45E8-9142-53053A65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6254-9498-4EE6-9B8F-D0FBD95E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216E3-445F-4F3F-9936-7ECBE4AF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7AD3-F61B-47D5-9C8D-C888B0F7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A95-F02F-4FDB-9612-4975B494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A7E17-C724-48D7-BBB2-0B167473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00D7-8C4A-436A-8FAA-BBC8D629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3307-0847-4365-AAF6-37EE6734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CD74B-443E-405E-8240-213E6CBA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FCB3B-C8E0-4909-86EA-C89625A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D9D9C-B779-445E-812A-2519B7EF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9E05-5D0E-4F9A-B681-2EB6E8AC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4405-48A6-49B8-86C5-46B8F7FA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AA95-5D0F-4FDF-A2D3-B51A7562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9BE4-1F2A-40B5-95D2-CA6EDBDE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7CA-8D68-4F5A-9C5A-E6189035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C9531-47F5-4EC1-A976-DC853378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9E66-AADF-4296-ACD0-5A086F6D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6918-6142-42A4-8686-A165C3DB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092C9-55AA-4B6D-B1FE-E8FC978F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B19FE-7854-44F4-8C03-309B589B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DB606-3BEA-45CE-8131-BD235CC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76053-50D8-48F9-8403-BCB57E3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5A133-F831-4D2E-998B-0935346A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C20A-F7A3-4B16-AE66-8D6AD28E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49450-A660-47AD-A41D-CD23A77C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D11-B462-47AA-9E30-17CF29CD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04C5D-206A-425F-9292-5CD48115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7FEFE-DD12-4283-86DC-BAF874CE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77FEF-7FB0-4106-BCED-12A1E408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F701-AE04-402F-84D8-48FFD9C8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23D44-0BA5-463E-9E51-C892B8F2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CBCC4-07C3-421A-AC4D-8391B2F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C5E7C-BDA7-4DFF-8BE8-8D40E82D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01B0A-226F-46FF-89D4-C662E9F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521CD-6C0E-4E0B-93FE-E5452BDE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2C8E3-0910-4939-AA3D-9D65A56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BF0-1816-4683-9DEF-F501656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0F75A-7C41-497D-AF86-7FE6520E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F66B5-0E71-4886-A15F-460624FD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5DCAC-A134-4769-A7B2-E688FC65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E92-0D60-4062-BEBC-1EA3F5D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F9A-9BA3-440E-8286-F24A7BB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6EB4-B3B3-40EF-8B30-7E2BF87108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EFB-7A63-4805-B3F4-3F0A721655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FCA1-5B95-43A8-AF69-8CC7E21E3F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80C3-3CDB-46FC-82A2-E0432044F0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14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32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36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F844-8C3A-49D8-AA54-AD9F29B342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6BA2-DE47-48F2-A288-7DF59E481B1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Тема урока № 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Доходы. Виды доход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Издержки производств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Аренда помещений ( 20кв.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1 кв.м – 500 руб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20 х 50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10000 ру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Амортизация (износ) оборуд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2%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Стоимость оборудования 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50000 х 2%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f40639"/>
                </a:solidFill>
                <a:latin typeface="Arial"/>
              </a:rPr>
              <a:t>1000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Материальные затраты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 мастер  - 10 руб.(1 работа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2 мастер  - 3 руб. ( 1 работа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6 х 10 = 160 руб. (за 1 день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32 х 3 = 96 руб. (за 1 день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(160 + 96) х 25 =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Garamond"/>
              </a:rPr>
              <a:t>6400 руб. (за месяц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аловый доход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61200 – (10000 + 1000 + 640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43800 ру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з/плата                  прибы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H="1">
            <a:off x="1618920" y="3716280"/>
            <a:ext cx="20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708360" y="371628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68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6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Заработная пла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 мастер – 10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2 мастер – 8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спомогательный персонал – 6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0000 + 8000 + 6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2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тчисления в социальные фонды (30%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24000 х 30% =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7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43800 – (24000 + 72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12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(налог на прибыль 32 %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Материальное стимулирование   2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Социальные нужды    2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Развитие производства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Резервный фонд     1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2600 – 5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760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х 32%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2400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600 – 24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Verdana"/>
              </a:rPr>
              <a:t>  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ДОХОДЫ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Verdana"/>
              </a:rPr>
              <a:t>Общий доход (До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о = Ц х 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Где  Ц – цена единицы товара, руб.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редний доход (Дс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Дс=</a:t>
            </a: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едельный доход (Дпр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Приращивание общего дохода в рублях (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о) при увеличении объема продаж на единицу товара (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пр =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дохода,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               предпри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экономический практику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парикмахерской «Фантазия»  работает два мастера 25 дней в неделю по 8 ч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 выполняет работу за 30 мин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выполняет работу за 15 м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имость одной рабо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– 100 руб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– 40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8часов : 0,5 часа(30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16 работ  (за 1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8часов : 0,25 часа (15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32 работы (за 1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16 х 100 = 160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32 х 40 = 1280 (руб. за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600 + 1280 = 288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880 х 25 = 72000 руб. </a:t>
            </a:r>
            <a:r>
              <a:rPr b="1" i="1" lang="ru-RU" sz="3600" spc="-1" strike="noStrike">
                <a:solidFill>
                  <a:srgbClr val="f40639"/>
                </a:solidFill>
                <a:latin typeface="Garamond"/>
              </a:rPr>
              <a:t>(доход за месяц)</a:t>
            </a:r>
            <a:br>
              <a:rPr sz="36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НАЛОГ В БЮДЖЕТ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      ( 15%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72000 Х 15%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f40639"/>
                </a:solidFill>
                <a:latin typeface="Arial"/>
              </a:rPr>
              <a:t>10800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40:04Z</dcterms:created>
  <dc:creator>user</dc:creator>
  <dc:description/>
  <dc:language>en-US</dc:language>
  <cp:lastModifiedBy>LEGION</cp:lastModifiedBy>
  <dcterms:modified xsi:type="dcterms:W3CDTF">2016-01-04T08:16:49Z</dcterms:modified>
  <cp:revision>6</cp:revision>
  <dc:subject/>
  <dc:title>Тема урока № 10</dc:title>
</cp:coreProperties>
</file>