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"Основы денежного механизма"   10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к 2. Доходы и расходы семьи. Стоимость жизни. Сбережения. Креди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2746-675F-4998-B138-DAE466AF52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0601-CE1A-4A28-88F6-32F2BA57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AB84-E158-4A49-A97D-1CD6AC59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4BEC-F5DF-45DB-BDE5-C2F554CD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BDBF-40F2-4F53-ADF7-0105A8A4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C42C-E02E-4729-9659-9FBD9731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0A0B-1DEC-4DE1-94F6-A88D8C36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C15B-EE7D-4CE4-975C-B1601BDB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D9DF-1F5D-4994-9665-4EFCEBD5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17C0-FE96-4EAF-89CD-3073403D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C049-82D7-4B24-89F4-5F11E00F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41E8-3C60-4B93-84FB-F9823495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C13D-5673-469D-B4B8-77B55D2C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ABB4-0D2C-4CCC-B2ED-31AF1DEB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0207-0467-40D1-8041-1433F055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BAC8-0238-485B-82D3-0ACDAA7C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73D6-A389-4652-BC79-E6CD08F8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977B-0756-4EB9-9896-A4BDE689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9BC9-0A22-45A3-A2FE-60FE172D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A95C-4833-4B12-A68C-D7830F8C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CD60-BE17-4B43-8BA6-BF96540A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F78D-6097-488E-947F-3D55E4E7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31F5-815F-418D-8110-40A750A2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B5C6-837A-43E6-AC5D-8CAE3107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AD02-2EAB-4197-84F8-EB9CA4E1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F880-A0DC-4D50-BDA3-A0F195032D1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3252-24B5-4FE1-9802-326450F4E3D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BF5E-1EC3-41D1-B538-1397952A32A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919E-4797-4A86-913B-404808CFE1A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7000" y="1463760"/>
            <a:ext cx="7772400" cy="16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Доходы и расходы семьи.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 Стоимость жизни.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-1944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аши доходы повысились на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974880" y="1057320"/>
          <a:ext cx="7439040" cy="4279680"/>
        </p:xfrm>
        <a:graphic>
          <a:graphicData uri="http://schemas.openxmlformats.org/drawingml/2006/table">
            <a:tbl>
              <a:tblPr/>
              <a:tblGrid>
                <a:gridCol w="3809880"/>
                <a:gridCol w="3629160"/>
              </a:tblGrid>
              <a:tr h="228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5,532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4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5,5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5,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0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AutoShape 24">
            <a:hlinkClick r:id="" action="ppaction://hlinkshowjump?jump=endshow"/>
          </p:cNvPr>
          <p:cNvSpPr/>
          <p:nvPr/>
        </p:nvSpPr>
        <p:spPr>
          <a:xfrm>
            <a:off x="4370400" y="5770440"/>
            <a:ext cx="839880" cy="630360"/>
          </a:xfrm>
          <a:custGeom>
            <a:avLst/>
            <a:gdLst>
              <a:gd name="textAreaLeft" fmla="*/ 40680 w 839880"/>
              <a:gd name="textAreaRight" fmla="*/ 799200 w 839880"/>
              <a:gd name="textAreaTop" fmla="*/ 40680 h 630360"/>
              <a:gd name="textAreaBottom" fmla="*/ 589680 h 63036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14388" y="3837"/>
                </a:moveTo>
                <a:lnTo>
                  <a:pt x="16964" y="6448"/>
                </a:lnTo>
                <a:lnTo>
                  <a:pt x="16964" y="4707"/>
                </a:lnTo>
                <a:lnTo>
                  <a:pt x="18740" y="4707"/>
                </a:lnTo>
                <a:lnTo>
                  <a:pt x="18740" y="8224"/>
                </a:lnTo>
                <a:lnTo>
                  <a:pt x="21351" y="10800"/>
                </a:lnTo>
                <a:lnTo>
                  <a:pt x="19697" y="10800"/>
                </a:lnTo>
                <a:lnTo>
                  <a:pt x="19697" y="17989"/>
                </a:lnTo>
                <a:lnTo>
                  <a:pt x="9078" y="17989"/>
                </a:lnTo>
                <a:lnTo>
                  <a:pt x="9078" y="10800"/>
                </a:lnTo>
                <a:lnTo>
                  <a:pt x="7425" y="10800"/>
                </a:lnTo>
                <a:close/>
              </a:path>
              <a:path fill="darkenLess" w="28775" h="21600">
                <a:moveTo>
                  <a:pt x="16964" y="6448"/>
                </a:moveTo>
                <a:lnTo>
                  <a:pt x="16964" y="4707"/>
                </a:lnTo>
                <a:lnTo>
                  <a:pt x="18740" y="4707"/>
                </a:lnTo>
                <a:lnTo>
                  <a:pt x="18740" y="8224"/>
                </a:lnTo>
                <a:close/>
              </a:path>
              <a:path fill="darkenLess" w="28775" h="21600">
                <a:moveTo>
                  <a:pt x="13465" y="14299"/>
                </a:moveTo>
                <a:lnTo>
                  <a:pt x="15310" y="14299"/>
                </a:lnTo>
                <a:lnTo>
                  <a:pt x="15310" y="17989"/>
                </a:lnTo>
                <a:lnTo>
                  <a:pt x="19697" y="17989"/>
                </a:lnTo>
                <a:lnTo>
                  <a:pt x="19697" y="10800"/>
                </a:lnTo>
                <a:lnTo>
                  <a:pt x="9078" y="10800"/>
                </a:lnTo>
                <a:lnTo>
                  <a:pt x="9078" y="17989"/>
                </a:lnTo>
                <a:lnTo>
                  <a:pt x="13465" y="17989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3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2560" y="127584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рансферты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доходы, которые не являются платой за произведенные товары или оказанные услуги и не связаны с владением собственностью.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579600" y="5349960"/>
            <a:ext cx="1157040" cy="776160"/>
          </a:xfrm>
          <a:custGeom>
            <a:avLst/>
            <a:gdLst>
              <a:gd name="textAreaLeft" fmla="*/ 50040 w 1157040"/>
              <a:gd name="textAreaRight" fmla="*/ 1107000 w 1157040"/>
              <a:gd name="textAreaTop" fmla="*/ 50040 h 776160"/>
              <a:gd name="textAreaBottom" fmla="*/ 726120 h 776160"/>
            </a:gdLst>
            <a:ahLst/>
            <a:rect l="textAreaLeft" t="textAreaTop" r="textAreaRight" b="textAreaBottom"/>
            <a:pathLst>
              <a:path w="32195" h="21600">
                <a:moveTo>
                  <a:pt x="0" y="0"/>
                </a:moveTo>
                <a:lnTo>
                  <a:pt x="32195" y="0"/>
                </a:lnTo>
                <a:lnTo>
                  <a:pt x="32195" y="21600"/>
                </a:lnTo>
                <a:lnTo>
                  <a:pt x="0" y="21600"/>
                </a:lnTo>
                <a:close/>
              </a:path>
              <a:path fill="lightenLess" w="32195" h="21600">
                <a:moveTo>
                  <a:pt x="0" y="0"/>
                </a:moveTo>
                <a:lnTo>
                  <a:pt x="32195" y="0"/>
                </a:lnTo>
                <a:lnTo>
                  <a:pt x="30795" y="1400"/>
                </a:lnTo>
                <a:lnTo>
                  <a:pt x="1400" y="1400"/>
                </a:lnTo>
                <a:close/>
              </a:path>
              <a:path fill="darken" w="32195" h="21600">
                <a:moveTo>
                  <a:pt x="32195" y="0"/>
                </a:moveTo>
                <a:lnTo>
                  <a:pt x="32195" y="21600"/>
                </a:lnTo>
                <a:lnTo>
                  <a:pt x="30795" y="20200"/>
                </a:lnTo>
                <a:lnTo>
                  <a:pt x="30795" y="1400"/>
                </a:lnTo>
                <a:close/>
              </a:path>
              <a:path fill="darkenLess" w="32195" h="21600">
                <a:moveTo>
                  <a:pt x="32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795" y="20200"/>
                </a:lnTo>
                <a:close/>
              </a:path>
              <a:path fill="lighten" w="32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195" h="21600">
                <a:moveTo>
                  <a:pt x="9091" y="7493"/>
                </a:moveTo>
                <a:lnTo>
                  <a:pt x="12598" y="7493"/>
                </a:lnTo>
                <a:lnTo>
                  <a:pt x="12598" y="12828"/>
                </a:lnTo>
                <a:cubicBezTo>
                  <a:pt x="12598" y="13751"/>
                  <a:pt x="13399" y="14482"/>
                  <a:pt x="14435" y="14482"/>
                </a:cubicBezTo>
                <a:lnTo>
                  <a:pt x="16097" y="14482"/>
                </a:lnTo>
                <a:cubicBezTo>
                  <a:pt x="17133" y="14482"/>
                  <a:pt x="17934" y="13751"/>
                  <a:pt x="17934" y="12828"/>
                </a:cubicBezTo>
                <a:lnTo>
                  <a:pt x="17934" y="7493"/>
                </a:lnTo>
                <a:lnTo>
                  <a:pt x="16097" y="7493"/>
                </a:lnTo>
                <a:lnTo>
                  <a:pt x="19605" y="3985"/>
                </a:lnTo>
                <a:lnTo>
                  <a:pt x="23278" y="7493"/>
                </a:lnTo>
                <a:lnTo>
                  <a:pt x="21441" y="7493"/>
                </a:lnTo>
                <a:lnTo>
                  <a:pt x="21441" y="12828"/>
                </a:lnTo>
                <a:cubicBezTo>
                  <a:pt x="21441" y="15596"/>
                  <a:pt x="18865" y="18155"/>
                  <a:pt x="16097" y="18155"/>
                </a:cubicBezTo>
                <a:lnTo>
                  <a:pt x="14435" y="18155"/>
                </a:lnTo>
                <a:cubicBezTo>
                  <a:pt x="11667" y="18155"/>
                  <a:pt x="9091" y="15596"/>
                  <a:pt x="9091" y="1282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4" descr="PE01194_"/>
          <p:cNvPicPr/>
          <p:nvPr/>
        </p:nvPicPr>
        <p:blipFill>
          <a:blip r:embed="rId1"/>
          <a:stretch/>
        </p:blipFill>
        <p:spPr>
          <a:xfrm>
            <a:off x="5045040" y="3300480"/>
            <a:ext cx="3478320" cy="22352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579600" y="3056040"/>
            <a:ext cx="455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2560" y="1657080"/>
            <a:ext cx="8080560" cy="19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оварная корзина (минимальный потребительский бюджет)– 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набор из наиболее представительных товаров и услуг, удовлетворяющих основные потребности населения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AutoShape 3">
            <a:hlinkClick r:id="" action="ppaction://hlinkshowjump?jump=previousslide"/>
          </p:cNvPr>
          <p:cNvSpPr/>
          <p:nvPr/>
        </p:nvSpPr>
        <p:spPr>
          <a:xfrm>
            <a:off x="1050840" y="5045040"/>
            <a:ext cx="1251000" cy="868320"/>
          </a:xfrm>
          <a:custGeom>
            <a:avLst/>
            <a:gdLst>
              <a:gd name="textAreaLeft" fmla="*/ 56160 w 1251000"/>
              <a:gd name="textAreaRight" fmla="*/ 1194840 w 125100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31115" h="21600">
                <a:moveTo>
                  <a:pt x="0" y="0"/>
                </a:moveTo>
                <a:lnTo>
                  <a:pt x="31115" y="0"/>
                </a:lnTo>
                <a:lnTo>
                  <a:pt x="31115" y="21600"/>
                </a:lnTo>
                <a:lnTo>
                  <a:pt x="0" y="21600"/>
                </a:lnTo>
                <a:close/>
              </a:path>
              <a:path fill="lightenLess" w="31115" h="21600">
                <a:moveTo>
                  <a:pt x="0" y="0"/>
                </a:moveTo>
                <a:lnTo>
                  <a:pt x="31115" y="0"/>
                </a:lnTo>
                <a:lnTo>
                  <a:pt x="29715" y="1400"/>
                </a:lnTo>
                <a:lnTo>
                  <a:pt x="1400" y="1400"/>
                </a:lnTo>
                <a:close/>
              </a:path>
              <a:path fill="darken" w="31115" h="21600">
                <a:moveTo>
                  <a:pt x="31115" y="0"/>
                </a:moveTo>
                <a:lnTo>
                  <a:pt x="31115" y="21600"/>
                </a:lnTo>
                <a:lnTo>
                  <a:pt x="29715" y="20200"/>
                </a:lnTo>
                <a:lnTo>
                  <a:pt x="29715" y="1400"/>
                </a:lnTo>
                <a:close/>
              </a:path>
              <a:path fill="darkenLess" w="31115" h="21600">
                <a:moveTo>
                  <a:pt x="31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15" y="20200"/>
                </a:lnTo>
                <a:close/>
              </a:path>
              <a:path fill="lighten" w="31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15" h="21600">
                <a:moveTo>
                  <a:pt x="8551" y="7493"/>
                </a:moveTo>
                <a:lnTo>
                  <a:pt x="12059" y="7493"/>
                </a:lnTo>
                <a:lnTo>
                  <a:pt x="12059" y="12828"/>
                </a:lnTo>
                <a:cubicBezTo>
                  <a:pt x="12059" y="13751"/>
                  <a:pt x="12860" y="14482"/>
                  <a:pt x="13895" y="14482"/>
                </a:cubicBezTo>
                <a:lnTo>
                  <a:pt x="15558" y="14482"/>
                </a:lnTo>
                <a:cubicBezTo>
                  <a:pt x="16593" y="14482"/>
                  <a:pt x="17394" y="13751"/>
                  <a:pt x="17394" y="12828"/>
                </a:cubicBezTo>
                <a:lnTo>
                  <a:pt x="17394" y="7493"/>
                </a:lnTo>
                <a:lnTo>
                  <a:pt x="15558" y="7493"/>
                </a:lnTo>
                <a:lnTo>
                  <a:pt x="19065" y="3985"/>
                </a:lnTo>
                <a:lnTo>
                  <a:pt x="22738" y="7493"/>
                </a:lnTo>
                <a:lnTo>
                  <a:pt x="20902" y="7493"/>
                </a:lnTo>
                <a:lnTo>
                  <a:pt x="20902" y="12828"/>
                </a:lnTo>
                <a:cubicBezTo>
                  <a:pt x="20902" y="15596"/>
                  <a:pt x="18326" y="18155"/>
                  <a:pt x="15558" y="18155"/>
                </a:cubicBezTo>
                <a:lnTo>
                  <a:pt x="13895" y="18155"/>
                </a:lnTo>
                <a:cubicBezTo>
                  <a:pt x="11128" y="18155"/>
                  <a:pt x="8551" y="15596"/>
                  <a:pt x="8551" y="1282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3440" y="688680"/>
            <a:ext cx="6632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66"/>
                </a:solidFill>
                <a:latin typeface="Times New Roman"/>
              </a:rPr>
              <a:t>S=P*(1</a:t>
            </a:r>
            <a:r>
              <a:rPr b="1" i="1" lang="en-US" sz="8000" spc="-1" strike="noStrike">
                <a:solidFill>
                  <a:srgbClr val="ffcc66"/>
                </a:solidFill>
                <a:latin typeface="Times New Roman"/>
              </a:rPr>
              <a:t>+i*</a:t>
            </a:r>
            <a:r>
              <a:rPr b="1" lang="en-US" sz="8000" spc="-1" strike="noStrike">
                <a:solidFill>
                  <a:srgbClr val="ffcc66"/>
                </a:solidFill>
                <a:latin typeface="Times New Roman"/>
              </a:rPr>
              <a:t>n)</a:t>
            </a:r>
            <a:endParaRPr b="0" lang="en-US" sz="8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517680" y="5470560"/>
            <a:ext cx="761760" cy="7779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77960"/>
              <a:gd name="textAreaBottom" fmla="*/ 728640 h 777960"/>
            </a:gdLst>
            <a:ahLst/>
            <a:rect l="textAreaLeft" t="textAreaTop" r="textAreaRight" b="textAreaBottom"/>
            <a:pathLst>
              <a:path w="21600" h="22059">
                <a:moveTo>
                  <a:pt x="0" y="0"/>
                </a:moveTo>
                <a:lnTo>
                  <a:pt x="21600" y="0"/>
                </a:lnTo>
                <a:lnTo>
                  <a:pt x="21600" y="22059"/>
                </a:lnTo>
                <a:lnTo>
                  <a:pt x="0" y="22059"/>
                </a:lnTo>
                <a:close/>
              </a:path>
              <a:path fill="lightenLess" w="21600" h="220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59">
                <a:moveTo>
                  <a:pt x="21600" y="0"/>
                </a:moveTo>
                <a:lnTo>
                  <a:pt x="21600" y="22059"/>
                </a:lnTo>
                <a:lnTo>
                  <a:pt x="20200" y="20659"/>
                </a:lnTo>
                <a:lnTo>
                  <a:pt x="20200" y="1400"/>
                </a:lnTo>
                <a:close/>
              </a:path>
              <a:path fill="darkenLess" w="21600" h="22059">
                <a:moveTo>
                  <a:pt x="21600" y="22059"/>
                </a:moveTo>
                <a:lnTo>
                  <a:pt x="0" y="22059"/>
                </a:lnTo>
                <a:lnTo>
                  <a:pt x="1400" y="20659"/>
                </a:lnTo>
                <a:lnTo>
                  <a:pt x="20200" y="20659"/>
                </a:lnTo>
                <a:close/>
              </a:path>
              <a:path fill="lighten" w="21600" h="22059">
                <a:moveTo>
                  <a:pt x="0" y="220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59"/>
                </a:lnTo>
                <a:close/>
              </a:path>
              <a:path fill="darken" w="21600" h="22059">
                <a:moveTo>
                  <a:pt x="3794" y="7722"/>
                </a:moveTo>
                <a:lnTo>
                  <a:pt x="7301" y="7722"/>
                </a:lnTo>
                <a:lnTo>
                  <a:pt x="7301" y="13058"/>
                </a:lnTo>
                <a:cubicBezTo>
                  <a:pt x="7301" y="13980"/>
                  <a:pt x="8102" y="14711"/>
                  <a:pt x="9138" y="14711"/>
                </a:cubicBezTo>
                <a:lnTo>
                  <a:pt x="10800" y="14711"/>
                </a:lnTo>
                <a:cubicBezTo>
                  <a:pt x="11836" y="14711"/>
                  <a:pt x="12636" y="13980"/>
                  <a:pt x="12636" y="13058"/>
                </a:cubicBezTo>
                <a:lnTo>
                  <a:pt x="12636" y="7722"/>
                </a:lnTo>
                <a:lnTo>
                  <a:pt x="10800" y="7722"/>
                </a:lnTo>
                <a:lnTo>
                  <a:pt x="14308" y="4215"/>
                </a:lnTo>
                <a:lnTo>
                  <a:pt x="17981" y="7722"/>
                </a:lnTo>
                <a:lnTo>
                  <a:pt x="16144" y="7722"/>
                </a:lnTo>
                <a:lnTo>
                  <a:pt x="16144" y="13058"/>
                </a:lnTo>
                <a:cubicBezTo>
                  <a:pt x="16144" y="15825"/>
                  <a:pt x="13568" y="18384"/>
                  <a:pt x="10800" y="18384"/>
                </a:cubicBezTo>
                <a:lnTo>
                  <a:pt x="9138" y="18384"/>
                </a:lnTo>
                <a:cubicBezTo>
                  <a:pt x="6370" y="18384"/>
                  <a:pt x="3794" y="15825"/>
                  <a:pt x="3794" y="1305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057320" y="247176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600360" y="2171880"/>
            <a:ext cx="2871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=502 M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9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=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,4 г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343160" y="457200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=502*(1+19/100*1.4)=635,532M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6" descr="PE02043_"/>
          <p:cNvPicPr/>
          <p:nvPr/>
        </p:nvPicPr>
        <p:blipFill>
          <a:blip r:embed="rId1"/>
          <a:stretch/>
        </p:blipFill>
        <p:spPr>
          <a:xfrm>
            <a:off x="4648320" y="3230640"/>
            <a:ext cx="1095120" cy="1600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PE01027_"/>
          <p:cNvPicPr/>
          <p:nvPr/>
        </p:nvPicPr>
        <p:blipFill>
          <a:blip r:embed="rId2"/>
          <a:stretch/>
        </p:blipFill>
        <p:spPr>
          <a:xfrm>
            <a:off x="5029200" y="1295280"/>
            <a:ext cx="865080" cy="1844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PE02002_"/>
          <p:cNvPicPr/>
          <p:nvPr/>
        </p:nvPicPr>
        <p:blipFill>
          <a:blip r:embed="rId3"/>
          <a:stretch/>
        </p:blipFill>
        <p:spPr>
          <a:xfrm>
            <a:off x="2936880" y="1552680"/>
            <a:ext cx="1731960" cy="1735200"/>
          </a:xfrm>
          <a:prstGeom prst="rect">
            <a:avLst/>
          </a:prstGeom>
          <a:ln w="0">
            <a:noFill/>
          </a:ln>
        </p:spPr>
      </p:pic>
      <p:sp>
        <p:nvSpPr>
          <p:cNvPr id="99" name="WordArt 20"/>
          <p:cNvSpPr txBox="1"/>
          <p:nvPr/>
        </p:nvSpPr>
        <p:spPr>
          <a:xfrm>
            <a:off x="2362320" y="638280"/>
            <a:ext cx="426708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Семья Сидоровы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pic>
        <p:nvPicPr>
          <p:cNvPr id="100" name="Picture 21" descr="BD07153_"/>
          <p:cNvPicPr/>
          <p:nvPr/>
        </p:nvPicPr>
        <p:blipFill>
          <a:blip r:embed="rId4"/>
          <a:stretch/>
        </p:blipFill>
        <p:spPr>
          <a:xfrm>
            <a:off x="3186000" y="3537000"/>
            <a:ext cx="12528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24"/>
          <p:cNvGrpSpPr/>
          <p:nvPr/>
        </p:nvGrpSpPr>
        <p:grpSpPr>
          <a:xfrm>
            <a:off x="289080" y="1868400"/>
            <a:ext cx="1600200" cy="916920"/>
            <a:chOff x="289080" y="1868400"/>
            <a:chExt cx="1600200" cy="916920"/>
          </a:xfrm>
        </p:grpSpPr>
        <p:sp>
          <p:nvSpPr>
            <p:cNvPr id="102" name="AutoShape 22"/>
            <p:cNvSpPr/>
            <p:nvPr/>
          </p:nvSpPr>
          <p:spPr>
            <a:xfrm>
              <a:off x="289080" y="186840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Text Box 23"/>
            <p:cNvSpPr/>
            <p:nvPr/>
          </p:nvSpPr>
          <p:spPr>
            <a:xfrm>
              <a:off x="517680" y="186840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Заработ-ная плат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Group 41"/>
          <p:cNvGrpSpPr/>
          <p:nvPr/>
        </p:nvGrpSpPr>
        <p:grpSpPr>
          <a:xfrm>
            <a:off x="595440" y="3776760"/>
            <a:ext cx="1600200" cy="916920"/>
            <a:chOff x="595440" y="3776760"/>
            <a:chExt cx="1600200" cy="916920"/>
          </a:xfrm>
        </p:grpSpPr>
        <p:sp>
          <p:nvSpPr>
            <p:cNvPr id="105" name="AutoShape 26"/>
            <p:cNvSpPr/>
            <p:nvPr/>
          </p:nvSpPr>
          <p:spPr>
            <a:xfrm>
              <a:off x="595440" y="377676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Text Box 27"/>
            <p:cNvSpPr/>
            <p:nvPr/>
          </p:nvSpPr>
          <p:spPr>
            <a:xfrm>
              <a:off x="744840" y="377676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оход от собст-венност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" name="Group 42"/>
          <p:cNvGrpSpPr/>
          <p:nvPr/>
        </p:nvGrpSpPr>
        <p:grpSpPr>
          <a:xfrm>
            <a:off x="1695600" y="5130720"/>
            <a:ext cx="1600200" cy="916920"/>
            <a:chOff x="1695600" y="5130720"/>
            <a:chExt cx="1600200" cy="916920"/>
          </a:xfrm>
        </p:grpSpPr>
        <p:sp>
          <p:nvSpPr>
            <p:cNvPr id="108" name="AutoShape 29"/>
            <p:cNvSpPr/>
            <p:nvPr/>
          </p:nvSpPr>
          <p:spPr>
            <a:xfrm>
              <a:off x="1695600" y="513072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Text Box 30"/>
            <p:cNvSpPr/>
            <p:nvPr/>
          </p:nvSpPr>
          <p:spPr>
            <a:xfrm>
              <a:off x="1924200" y="5130720"/>
              <a:ext cx="124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оциаль-ные транс-ферты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" name="Group 40"/>
          <p:cNvGrpSpPr/>
          <p:nvPr/>
        </p:nvGrpSpPr>
        <p:grpSpPr>
          <a:xfrm>
            <a:off x="7135920" y="1862280"/>
            <a:ext cx="1600200" cy="932760"/>
            <a:chOff x="7135920" y="1862280"/>
            <a:chExt cx="1600200" cy="932760"/>
          </a:xfrm>
        </p:grpSpPr>
        <p:sp>
          <p:nvSpPr>
            <p:cNvPr id="111" name="AutoShape 32"/>
            <p:cNvSpPr/>
            <p:nvPr/>
          </p:nvSpPr>
          <p:spPr>
            <a:xfrm>
              <a:off x="7135920" y="186228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Text Box 33"/>
            <p:cNvSpPr/>
            <p:nvPr/>
          </p:nvSpPr>
          <p:spPr>
            <a:xfrm>
              <a:off x="7317000" y="18781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оходы от сбереже-ний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Group 43"/>
          <p:cNvGrpSpPr/>
          <p:nvPr/>
        </p:nvGrpSpPr>
        <p:grpSpPr>
          <a:xfrm>
            <a:off x="6848640" y="3701880"/>
            <a:ext cx="1600200" cy="984600"/>
            <a:chOff x="6848640" y="3701880"/>
            <a:chExt cx="1600200" cy="984600"/>
          </a:xfrm>
        </p:grpSpPr>
        <p:sp>
          <p:nvSpPr>
            <p:cNvPr id="114" name="AutoShape 35"/>
            <p:cNvSpPr/>
            <p:nvPr/>
          </p:nvSpPr>
          <p:spPr>
            <a:xfrm>
              <a:off x="6848640" y="377208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Text Box 36"/>
            <p:cNvSpPr/>
            <p:nvPr/>
          </p:nvSpPr>
          <p:spPr>
            <a:xfrm>
              <a:off x="6986520" y="3701880"/>
              <a:ext cx="1325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Доход от предприма-тельской деятельности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Group 37"/>
          <p:cNvGrpSpPr/>
          <p:nvPr/>
        </p:nvGrpSpPr>
        <p:grpSpPr>
          <a:xfrm>
            <a:off x="5516640" y="5141880"/>
            <a:ext cx="1600200" cy="916920"/>
            <a:chOff x="5516640" y="5141880"/>
            <a:chExt cx="1600200" cy="916920"/>
          </a:xfrm>
        </p:grpSpPr>
        <p:sp>
          <p:nvSpPr>
            <p:cNvPr id="117" name="AutoShape 38"/>
            <p:cNvSpPr/>
            <p:nvPr/>
          </p:nvSpPr>
          <p:spPr>
            <a:xfrm>
              <a:off x="5516640" y="514188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Text Box 39"/>
            <p:cNvSpPr/>
            <p:nvPr/>
          </p:nvSpPr>
          <p:spPr>
            <a:xfrm>
              <a:off x="5745240" y="514188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оход в виде благ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AutoShape 46"/>
          <p:cNvSpPr/>
          <p:nvPr/>
        </p:nvSpPr>
        <p:spPr>
          <a:xfrm>
            <a:off x="2400480" y="6114960"/>
            <a:ext cx="258480" cy="366840"/>
          </a:xfrm>
          <a:custGeom>
            <a:avLst/>
            <a:gdLst>
              <a:gd name="textAreaLeft" fmla="*/ 16560 w 258480"/>
              <a:gd name="textAreaRight" fmla="*/ 241920 w 258480"/>
              <a:gd name="textAreaTop" fmla="*/ 16560 h 366840"/>
              <a:gd name="textAreaBottom" fmla="*/ 350280 h 366840"/>
            </a:gdLst>
            <a:ahLst/>
            <a:rect l="textAreaLeft" t="textAreaTop" r="textAreaRight" b="textAreaBottom"/>
            <a:pathLst>
              <a:path w="21600" h="30643">
                <a:moveTo>
                  <a:pt x="0" y="0"/>
                </a:moveTo>
                <a:lnTo>
                  <a:pt x="21600" y="0"/>
                </a:lnTo>
                <a:lnTo>
                  <a:pt x="21600" y="30643"/>
                </a:lnTo>
                <a:lnTo>
                  <a:pt x="0" y="30643"/>
                </a:lnTo>
                <a:close/>
              </a:path>
              <a:path fill="lightenLess" w="21600" h="30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643">
                <a:moveTo>
                  <a:pt x="21600" y="0"/>
                </a:moveTo>
                <a:lnTo>
                  <a:pt x="21600" y="30643"/>
                </a:lnTo>
                <a:lnTo>
                  <a:pt x="20200" y="29243"/>
                </a:lnTo>
                <a:lnTo>
                  <a:pt x="20200" y="1400"/>
                </a:lnTo>
                <a:close/>
              </a:path>
              <a:path fill="darkenLess" w="21600" h="30643">
                <a:moveTo>
                  <a:pt x="21600" y="30643"/>
                </a:moveTo>
                <a:lnTo>
                  <a:pt x="0" y="30643"/>
                </a:lnTo>
                <a:lnTo>
                  <a:pt x="1400" y="29243"/>
                </a:lnTo>
                <a:lnTo>
                  <a:pt x="20200" y="29243"/>
                </a:lnTo>
                <a:close/>
              </a:path>
              <a:path fill="lighten" w="21600" h="30643">
                <a:moveTo>
                  <a:pt x="0" y="30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9243"/>
                </a:lnTo>
                <a:close/>
              </a:path>
              <a:path fill="darken" w="21600" h="30643">
                <a:moveTo>
                  <a:pt x="10800" y="8315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30643">
                <a:moveTo>
                  <a:pt x="10800" y="8689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30643">
                <a:moveTo>
                  <a:pt x="8224" y="12745"/>
                </a:moveTo>
                <a:lnTo>
                  <a:pt x="12088" y="12745"/>
                </a:lnTo>
                <a:lnTo>
                  <a:pt x="12088" y="19743"/>
                </a:lnTo>
                <a:lnTo>
                  <a:pt x="13376" y="19743"/>
                </a:lnTo>
                <a:lnTo>
                  <a:pt x="13376" y="20665"/>
                </a:lnTo>
                <a:lnTo>
                  <a:pt x="8224" y="20665"/>
                </a:lnTo>
                <a:lnTo>
                  <a:pt x="8224" y="19743"/>
                </a:lnTo>
                <a:lnTo>
                  <a:pt x="9512" y="19743"/>
                </a:lnTo>
                <a:lnTo>
                  <a:pt x="9512" y="13650"/>
                </a:lnTo>
                <a:lnTo>
                  <a:pt x="8224" y="13650"/>
                </a:lnTo>
                <a:close/>
              </a:path>
            </a:pathLst>
          </a:custGeom>
          <a:solidFill>
            <a:srgbClr val="0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48"/>
          <p:cNvSpPr/>
          <p:nvPr/>
        </p:nvSpPr>
        <p:spPr>
          <a:xfrm flipH="1">
            <a:off x="2050560" y="2316240"/>
            <a:ext cx="762120" cy="144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49"/>
          <p:cNvSpPr/>
          <p:nvPr/>
        </p:nvSpPr>
        <p:spPr>
          <a:xfrm flipH="1">
            <a:off x="2355480" y="3260880"/>
            <a:ext cx="685800" cy="45864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50"/>
          <p:cNvSpPr/>
          <p:nvPr/>
        </p:nvSpPr>
        <p:spPr>
          <a:xfrm flipH="1">
            <a:off x="2599920" y="4570560"/>
            <a:ext cx="731880" cy="49032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51"/>
          <p:cNvSpPr/>
          <p:nvPr/>
        </p:nvSpPr>
        <p:spPr>
          <a:xfrm>
            <a:off x="5221440" y="4830840"/>
            <a:ext cx="382320" cy="42840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52"/>
          <p:cNvSpPr/>
          <p:nvPr/>
        </p:nvSpPr>
        <p:spPr>
          <a:xfrm>
            <a:off x="6135840" y="3200400"/>
            <a:ext cx="685800" cy="39672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53"/>
          <p:cNvSpPr/>
          <p:nvPr/>
        </p:nvSpPr>
        <p:spPr>
          <a:xfrm>
            <a:off x="6184800" y="2306520"/>
            <a:ext cx="852480" cy="1584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.   Семейные расходы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 flipH="1">
            <a:off x="2144520" y="1660680"/>
            <a:ext cx="1554120" cy="108252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5191200" y="1681200"/>
            <a:ext cx="1569960" cy="108252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WordArt 10"/>
          <p:cNvSpPr txBox="1"/>
          <p:nvPr/>
        </p:nvSpPr>
        <p:spPr>
          <a:xfrm>
            <a:off x="733320" y="2908440"/>
            <a:ext cx="3295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latin typeface="Arial"/>
              </a:rPr>
              <a:t>обязательны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1" name="WordArt 11"/>
          <p:cNvSpPr txBox="1"/>
          <p:nvPr/>
        </p:nvSpPr>
        <p:spPr>
          <a:xfrm>
            <a:off x="5251320" y="3060720"/>
            <a:ext cx="3295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latin typeface="Arial"/>
              </a:rPr>
              <a:t>произвольны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233280" y="4197240"/>
            <a:ext cx="15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1727280" y="3692520"/>
            <a:ext cx="122040" cy="2179800"/>
          </a:xfrm>
          <a:custGeom>
            <a:avLst/>
            <a:gdLst>
              <a:gd name="textAreaLeft" fmla="*/ 78120 w 122040"/>
              <a:gd name="textAreaRight" fmla="*/ 122040 w 122040"/>
              <a:gd name="textAreaTop" fmla="*/ 56520 h 2179800"/>
              <a:gd name="textAreaBottom" fmla="*/ 2123280 h 217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49"/>
                </a:lnTo>
                <a:cubicBezTo>
                  <a:pt x="10800" y="10049"/>
                  <a:pt x="5400" y="10949"/>
                  <a:pt x="0" y="10949"/>
                </a:cubicBezTo>
                <a:cubicBezTo>
                  <a:pt x="5400" y="10949"/>
                  <a:pt x="10800" y="11849"/>
                  <a:pt x="10800" y="1274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WordArt 16"/>
          <p:cNvSpPr txBox="1"/>
          <p:nvPr/>
        </p:nvSpPr>
        <p:spPr>
          <a:xfrm>
            <a:off x="1905120" y="3913200"/>
            <a:ext cx="303516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варплат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ммун. услуг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дежд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5" name="AutoShape 17"/>
          <p:cNvSpPr/>
          <p:nvPr/>
        </p:nvSpPr>
        <p:spPr>
          <a:xfrm>
            <a:off x="762120" y="5181480"/>
            <a:ext cx="288720" cy="32076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320760"/>
              <a:gd name="textAreaBottom" fmla="*/ 302040 h 320760"/>
            </a:gdLst>
            <a:ahLst/>
            <a:rect l="textAreaLeft" t="textAreaTop" r="textAreaRight" b="textAreaBottom"/>
            <a:pathLst>
              <a:path w="21600" h="23994">
                <a:moveTo>
                  <a:pt x="0" y="0"/>
                </a:moveTo>
                <a:lnTo>
                  <a:pt x="21600" y="0"/>
                </a:lnTo>
                <a:lnTo>
                  <a:pt x="21600" y="23994"/>
                </a:lnTo>
                <a:lnTo>
                  <a:pt x="0" y="23994"/>
                </a:lnTo>
                <a:close/>
              </a:path>
              <a:path fill="lightenLess" w="21600" h="23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4">
                <a:moveTo>
                  <a:pt x="21600" y="0"/>
                </a:moveTo>
                <a:lnTo>
                  <a:pt x="21600" y="23994"/>
                </a:lnTo>
                <a:lnTo>
                  <a:pt x="20200" y="22594"/>
                </a:lnTo>
                <a:lnTo>
                  <a:pt x="20200" y="1400"/>
                </a:lnTo>
                <a:close/>
              </a:path>
              <a:path fill="darkenLess" w="21600" h="23994">
                <a:moveTo>
                  <a:pt x="21600" y="23994"/>
                </a:moveTo>
                <a:lnTo>
                  <a:pt x="0" y="23994"/>
                </a:lnTo>
                <a:lnTo>
                  <a:pt x="1400" y="22594"/>
                </a:lnTo>
                <a:lnTo>
                  <a:pt x="20200" y="22594"/>
                </a:lnTo>
                <a:close/>
              </a:path>
              <a:path fill="lighten" w="21600" h="23994">
                <a:moveTo>
                  <a:pt x="0" y="23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4"/>
                </a:lnTo>
                <a:close/>
              </a:path>
              <a:path fill="darken" w="21600" h="23994">
                <a:moveTo>
                  <a:pt x="10800" y="4991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994">
                <a:moveTo>
                  <a:pt x="10800" y="5365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994">
                <a:moveTo>
                  <a:pt x="8224" y="9421"/>
                </a:moveTo>
                <a:lnTo>
                  <a:pt x="12088" y="9421"/>
                </a:lnTo>
                <a:lnTo>
                  <a:pt x="12088" y="16418"/>
                </a:lnTo>
                <a:lnTo>
                  <a:pt x="13376" y="16418"/>
                </a:lnTo>
                <a:lnTo>
                  <a:pt x="13376" y="17341"/>
                </a:lnTo>
                <a:lnTo>
                  <a:pt x="8224" y="17341"/>
                </a:lnTo>
                <a:lnTo>
                  <a:pt x="8224" y="16418"/>
                </a:lnTo>
                <a:lnTo>
                  <a:pt x="9512" y="16418"/>
                </a:lnTo>
                <a:lnTo>
                  <a:pt x="9512" y="10326"/>
                </a:lnTo>
                <a:lnTo>
                  <a:pt x="8224" y="10326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WordArt 18"/>
          <p:cNvSpPr txBox="1"/>
          <p:nvPr/>
        </p:nvSpPr>
        <p:spPr>
          <a:xfrm>
            <a:off x="5634000" y="3876840"/>
            <a:ext cx="2909880" cy="18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ультурно-бытов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ход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бел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ыт.техн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т.д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21240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Структура расходов семьи Сидоровых (в месяц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47760" y="1682640"/>
          <a:ext cx="8520120" cy="4608720"/>
        </p:xfrm>
        <a:graphic>
          <a:graphicData uri="http://schemas.openxmlformats.org/drawingml/2006/table">
            <a:tbl>
              <a:tblPr/>
              <a:tblGrid>
                <a:gridCol w="1703160"/>
                <a:gridCol w="1704960"/>
                <a:gridCol w="1703520"/>
                <a:gridCol w="1704960"/>
                <a:gridCol w="1703520"/>
              </a:tblGrid>
              <a:tr h="475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татьи расход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 меся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 меся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т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деж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ммун. услу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ульт. бы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ло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чие рас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AutoShape 129"/>
          <p:cNvSpPr/>
          <p:nvPr/>
        </p:nvSpPr>
        <p:spPr>
          <a:xfrm>
            <a:off x="7818480" y="6367320"/>
            <a:ext cx="471600" cy="411480"/>
          </a:xfrm>
          <a:custGeom>
            <a:avLst/>
            <a:gdLst>
              <a:gd name="textAreaLeft" fmla="*/ 26640 w 471600"/>
              <a:gd name="textAreaRight" fmla="*/ 444960 w 471600"/>
              <a:gd name="textAreaTop" fmla="*/ 26640 h 411480"/>
              <a:gd name="textAreaBottom" fmla="*/ 384840 h 411480"/>
            </a:gdLst>
            <a:ahLst/>
            <a:rect l="textAreaLeft" t="textAreaTop" r="textAreaRight" b="textAreaBottom"/>
            <a:pathLst>
              <a:path w="24753" h="21600">
                <a:moveTo>
                  <a:pt x="0" y="0"/>
                </a:moveTo>
                <a:lnTo>
                  <a:pt x="24753" y="0"/>
                </a:lnTo>
                <a:lnTo>
                  <a:pt x="24753" y="21600"/>
                </a:lnTo>
                <a:lnTo>
                  <a:pt x="0" y="21600"/>
                </a:lnTo>
                <a:close/>
              </a:path>
              <a:path fill="lightenLess" w="24753" h="21600">
                <a:moveTo>
                  <a:pt x="0" y="0"/>
                </a:moveTo>
                <a:lnTo>
                  <a:pt x="24753" y="0"/>
                </a:lnTo>
                <a:lnTo>
                  <a:pt x="23353" y="1400"/>
                </a:lnTo>
                <a:lnTo>
                  <a:pt x="1400" y="1400"/>
                </a:lnTo>
                <a:close/>
              </a:path>
              <a:path fill="darken" w="24753" h="21600">
                <a:moveTo>
                  <a:pt x="24753" y="0"/>
                </a:moveTo>
                <a:lnTo>
                  <a:pt x="24753" y="21600"/>
                </a:lnTo>
                <a:lnTo>
                  <a:pt x="23353" y="20200"/>
                </a:lnTo>
                <a:lnTo>
                  <a:pt x="23353" y="1400"/>
                </a:lnTo>
                <a:close/>
              </a:path>
              <a:path fill="darkenLess" w="24753" h="21600">
                <a:moveTo>
                  <a:pt x="24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53" y="20200"/>
                </a:lnTo>
                <a:close/>
              </a:path>
              <a:path fill="lighten" w="24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53" h="21600">
                <a:moveTo>
                  <a:pt x="5370" y="3794"/>
                </a:moveTo>
                <a:lnTo>
                  <a:pt x="19383" y="10800"/>
                </a:lnTo>
                <a:lnTo>
                  <a:pt x="5370" y="17806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247760" y="216000"/>
            <a:ext cx="6942240" cy="38210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309600" y="4336920"/>
            <a:ext cx="84549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9200" y="3507840"/>
            <a:ext cx="41785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Закон Энгел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AutoShape 78"/>
          <p:cNvSpPr/>
          <p:nvPr/>
        </p:nvSpPr>
        <p:spPr>
          <a:xfrm>
            <a:off x="8001000" y="6156360"/>
            <a:ext cx="655560" cy="457200"/>
          </a:xfrm>
          <a:custGeom>
            <a:avLst/>
            <a:gdLst>
              <a:gd name="textAreaLeft" fmla="*/ 29520 w 655560"/>
              <a:gd name="textAreaRight" fmla="*/ 626040 w 6555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964" h="21600">
                <a:moveTo>
                  <a:pt x="0" y="0"/>
                </a:moveTo>
                <a:lnTo>
                  <a:pt x="30964" y="0"/>
                </a:lnTo>
                <a:lnTo>
                  <a:pt x="30964" y="21600"/>
                </a:lnTo>
                <a:lnTo>
                  <a:pt x="0" y="21600"/>
                </a:lnTo>
                <a:close/>
              </a:path>
              <a:path fill="lightenLess" w="30964" h="21600">
                <a:moveTo>
                  <a:pt x="0" y="0"/>
                </a:moveTo>
                <a:lnTo>
                  <a:pt x="30964" y="0"/>
                </a:lnTo>
                <a:lnTo>
                  <a:pt x="29564" y="1400"/>
                </a:lnTo>
                <a:lnTo>
                  <a:pt x="1400" y="1400"/>
                </a:lnTo>
                <a:close/>
              </a:path>
              <a:path fill="darken" w="30964" h="21600">
                <a:moveTo>
                  <a:pt x="30964" y="0"/>
                </a:moveTo>
                <a:lnTo>
                  <a:pt x="30964" y="21600"/>
                </a:lnTo>
                <a:lnTo>
                  <a:pt x="29564" y="20200"/>
                </a:lnTo>
                <a:lnTo>
                  <a:pt x="29564" y="1400"/>
                </a:lnTo>
                <a:close/>
              </a:path>
              <a:path fill="darkenLess" w="30964" h="21600">
                <a:moveTo>
                  <a:pt x="30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64" y="20200"/>
                </a:lnTo>
                <a:close/>
              </a:path>
              <a:path fill="lighten" w="30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64" h="21600">
                <a:moveTo>
                  <a:pt x="8476" y="7493"/>
                </a:moveTo>
                <a:lnTo>
                  <a:pt x="11983" y="7493"/>
                </a:lnTo>
                <a:lnTo>
                  <a:pt x="11983" y="12828"/>
                </a:lnTo>
                <a:cubicBezTo>
                  <a:pt x="11983" y="13751"/>
                  <a:pt x="12784" y="14482"/>
                  <a:pt x="13820" y="14482"/>
                </a:cubicBezTo>
                <a:lnTo>
                  <a:pt x="15482" y="14482"/>
                </a:lnTo>
                <a:cubicBezTo>
                  <a:pt x="16518" y="14482"/>
                  <a:pt x="17318" y="13751"/>
                  <a:pt x="17318" y="12828"/>
                </a:cubicBezTo>
                <a:lnTo>
                  <a:pt x="17318" y="7493"/>
                </a:lnTo>
                <a:lnTo>
                  <a:pt x="15482" y="7493"/>
                </a:lnTo>
                <a:lnTo>
                  <a:pt x="18990" y="3985"/>
                </a:lnTo>
                <a:lnTo>
                  <a:pt x="22663" y="7493"/>
                </a:lnTo>
                <a:lnTo>
                  <a:pt x="20826" y="7493"/>
                </a:lnTo>
                <a:lnTo>
                  <a:pt x="20826" y="12828"/>
                </a:lnTo>
                <a:cubicBezTo>
                  <a:pt x="20826" y="15596"/>
                  <a:pt x="18250" y="18155"/>
                  <a:pt x="15482" y="18155"/>
                </a:cubicBezTo>
                <a:lnTo>
                  <a:pt x="13820" y="18155"/>
                </a:lnTo>
                <a:cubicBezTo>
                  <a:pt x="11052" y="18155"/>
                  <a:pt x="8476" y="15596"/>
                  <a:pt x="8476" y="1282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6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41520"/>
            <a:ext cx="80805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Индекс </a:t>
            </a:r>
            <a:br>
              <a:rPr sz="4800"/>
            </a:b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потребительских  цен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99880" y="2392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1322280" y="2606760"/>
            <a:ext cx="6934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289160" y="2203560"/>
            <a:ext cx="69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1298520" y="2610000"/>
            <a:ext cx="691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8215200" y="2451240"/>
            <a:ext cx="13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325440" y="32432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24"/>
          <p:cNvSpPr/>
          <p:nvPr/>
        </p:nvSpPr>
        <p:spPr>
          <a:xfrm>
            <a:off x="1417680" y="3517920"/>
            <a:ext cx="4300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6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7"/>
          <p:cNvSpPr/>
          <p:nvPr/>
        </p:nvSpPr>
        <p:spPr>
          <a:xfrm>
            <a:off x="1616040" y="3022560"/>
            <a:ext cx="46418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…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8"/>
          <p:cNvSpPr/>
          <p:nvPr/>
        </p:nvSpPr>
        <p:spPr>
          <a:xfrm>
            <a:off x="1612800" y="3606840"/>
            <a:ext cx="50468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…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9"/>
          <p:cNvSpPr/>
          <p:nvPr/>
        </p:nvSpPr>
        <p:spPr>
          <a:xfrm>
            <a:off x="5951520" y="3368520"/>
            <a:ext cx="148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31" descr="PE01561_"/>
          <p:cNvPicPr/>
          <p:nvPr/>
        </p:nvPicPr>
        <p:blipFill>
          <a:blip r:embed="rId2"/>
          <a:stretch/>
        </p:blipFill>
        <p:spPr>
          <a:xfrm>
            <a:off x="5186520" y="4035600"/>
            <a:ext cx="3549600" cy="23558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75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511600" y="96660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42920" y="355680"/>
          <a:ext cx="4922640" cy="3635280"/>
        </p:xfrm>
        <a:graphic>
          <a:graphicData uri="http://schemas.openxmlformats.org/drawingml/2006/table">
            <a:tbl>
              <a:tblPr/>
              <a:tblGrid>
                <a:gridCol w="1317600"/>
                <a:gridCol w="1074600"/>
                <a:gridCol w="808200"/>
                <a:gridCol w="884160"/>
                <a:gridCol w="83808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ва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-ление в 1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а в 1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-ление в 2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а в 2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ле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к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фет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к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к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106"/>
          <p:cNvSpPr/>
          <p:nvPr/>
        </p:nvSpPr>
        <p:spPr>
          <a:xfrm>
            <a:off x="5389560" y="3170160"/>
            <a:ext cx="311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108"/>
          <p:cNvSpPr/>
          <p:nvPr/>
        </p:nvSpPr>
        <p:spPr>
          <a:xfrm>
            <a:off x="3138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110"/>
          <p:cNvSpPr/>
          <p:nvPr/>
        </p:nvSpPr>
        <p:spPr>
          <a:xfrm>
            <a:off x="3200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112"/>
          <p:cNvSpPr/>
          <p:nvPr/>
        </p:nvSpPr>
        <p:spPr>
          <a:xfrm>
            <a:off x="270504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111" descr=""/>
          <p:cNvPicPr/>
          <p:nvPr/>
        </p:nvPicPr>
        <p:blipFill>
          <a:blip r:embed="rId1"/>
          <a:stretch/>
        </p:blipFill>
        <p:spPr>
          <a:xfrm>
            <a:off x="1060560" y="4232160"/>
            <a:ext cx="7680240" cy="938160"/>
          </a:xfrm>
          <a:prstGeom prst="rect">
            <a:avLst/>
          </a:prstGeom>
          <a:ln w="0">
            <a:noFill/>
          </a:ln>
        </p:spPr>
      </p:pic>
      <p:sp>
        <p:nvSpPr>
          <p:cNvPr id="168" name="WordArt 113"/>
          <p:cNvSpPr txBox="1"/>
          <p:nvPr/>
        </p:nvSpPr>
        <p:spPr>
          <a:xfrm>
            <a:off x="642960" y="5508720"/>
            <a:ext cx="26337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cc66"/>
                  </a:solidFill>
                  <a:prstDash val="dash"/>
                  <a:miter/>
                </a:ln>
                <a:solidFill>
                  <a:srgbClr val="ffff00"/>
                </a:solidFill>
                <a:latin typeface="Arial"/>
              </a:rPr>
              <a:t>ИПЦ=147,78%</a:t>
            </a:r>
            <a:endParaRPr b="0" i="1" lang="en-US" sz="1800" spc="1" strike="noStrike">
              <a:ln w="9360">
                <a:solidFill>
                  <a:srgbClr val="ffcc66"/>
                </a:solidFill>
                <a:prstDash val="dash"/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9" name="Text Box 114"/>
          <p:cNvSpPr/>
          <p:nvPr/>
        </p:nvSpPr>
        <p:spPr>
          <a:xfrm>
            <a:off x="4054320" y="5454720"/>
            <a:ext cx="34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Ответ: цены увеличились на 47,78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7120" y="1186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Задача.</a:t>
            </a:r>
            <a:br>
              <a:rPr sz="2400"/>
            </a:b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27080" y="2386080"/>
            <a:ext cx="451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 Е Ш Е Н И 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ПЦ   был     -   100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511200" y="34257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ПЦ  стал   -  112,5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66800" y="3843360"/>
            <a:ext cx="66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оминальный доход   был   -   100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757080" y="4363920"/>
            <a:ext cx="68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оминальный доход   стал   -   108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760320" y="5062680"/>
            <a:ext cx="35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еальный доход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38624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1"/>
          <a:stretch/>
        </p:blipFill>
        <p:spPr>
          <a:xfrm>
            <a:off x="3835440" y="4821120"/>
            <a:ext cx="4716360" cy="10684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1"/>
          <p:cNvSpPr/>
          <p:nvPr/>
        </p:nvSpPr>
        <p:spPr>
          <a:xfrm>
            <a:off x="430200" y="5897520"/>
            <a:ext cx="79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твет:  реальный доход уменьшился на 4%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16"/>
          <p:cNvGrpSpPr/>
          <p:nvPr/>
        </p:nvGrpSpPr>
        <p:grpSpPr>
          <a:xfrm>
            <a:off x="1079640" y="244440"/>
            <a:ext cx="6228720" cy="868680"/>
            <a:chOff x="1079640" y="244440"/>
            <a:chExt cx="6228720" cy="868680"/>
          </a:xfrm>
        </p:grpSpPr>
        <p:sp>
          <p:nvSpPr>
            <p:cNvPr id="181" name="Text Box 17"/>
            <p:cNvSpPr/>
            <p:nvPr/>
          </p:nvSpPr>
          <p:spPr>
            <a:xfrm>
              <a:off x="1079640" y="449280"/>
              <a:ext cx="26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еальный доход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>
              <a:off x="3590640" y="647640"/>
              <a:ext cx="2512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Text Box 19"/>
            <p:cNvSpPr/>
            <p:nvPr/>
          </p:nvSpPr>
          <p:spPr>
            <a:xfrm>
              <a:off x="3584520" y="244440"/>
              <a:ext cx="293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Номинальный доход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20"/>
            <p:cNvSpPr/>
            <p:nvPr/>
          </p:nvSpPr>
          <p:spPr>
            <a:xfrm>
              <a:off x="4479840" y="714240"/>
              <a:ext cx="11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ИПЦ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6195960" y="426960"/>
              <a:ext cx="111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*100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86" nodeType="afterEffect" fill="hold" presetClass="entr" presetID="16" presetSubtype="2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87160" y="16488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Увеличьте свои средств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44440" y="1397160"/>
          <a:ext cx="8580600" cy="4705200"/>
        </p:xfrm>
        <a:graphic>
          <a:graphicData uri="http://schemas.openxmlformats.org/drawingml/2006/table">
            <a:tbl>
              <a:tblPr/>
              <a:tblGrid>
                <a:gridCol w="4291200"/>
                <a:gridCol w="4289400"/>
              </a:tblGrid>
              <a:tr h="236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№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2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4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19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№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7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2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21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6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 №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5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3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18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 №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9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5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20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AutoShape 21"/>
          <p:cNvSpPr/>
          <p:nvPr/>
        </p:nvSpPr>
        <p:spPr>
          <a:xfrm>
            <a:off x="7696080" y="6248520"/>
            <a:ext cx="473040" cy="426960"/>
          </a:xfrm>
          <a:custGeom>
            <a:avLst/>
            <a:gdLst>
              <a:gd name="textAreaLeft" fmla="*/ 27360 w 473040"/>
              <a:gd name="textAreaRight" fmla="*/ 445680 w 473040"/>
              <a:gd name="textAreaTop" fmla="*/ 27360 h 426960"/>
              <a:gd name="textAreaBottom" fmla="*/ 399600 h 426960"/>
            </a:gdLst>
            <a:ahLst/>
            <a:rect l="textAreaLeft" t="textAreaTop" r="textAreaRight" b="textAreaBottom"/>
            <a:pathLst>
              <a:path w="23929" h="21600">
                <a:moveTo>
                  <a:pt x="0" y="0"/>
                </a:moveTo>
                <a:lnTo>
                  <a:pt x="23929" y="0"/>
                </a:lnTo>
                <a:lnTo>
                  <a:pt x="23929" y="21600"/>
                </a:lnTo>
                <a:lnTo>
                  <a:pt x="0" y="21600"/>
                </a:lnTo>
                <a:close/>
              </a:path>
              <a:path fill="lightenLess" w="23929" h="21600">
                <a:moveTo>
                  <a:pt x="0" y="0"/>
                </a:moveTo>
                <a:lnTo>
                  <a:pt x="23929" y="0"/>
                </a:lnTo>
                <a:lnTo>
                  <a:pt x="22529" y="1400"/>
                </a:lnTo>
                <a:lnTo>
                  <a:pt x="1400" y="1400"/>
                </a:lnTo>
                <a:close/>
              </a:path>
              <a:path fill="darken" w="23929" h="21600">
                <a:moveTo>
                  <a:pt x="23929" y="0"/>
                </a:moveTo>
                <a:lnTo>
                  <a:pt x="23929" y="21600"/>
                </a:lnTo>
                <a:lnTo>
                  <a:pt x="22529" y="20200"/>
                </a:lnTo>
                <a:lnTo>
                  <a:pt x="22529" y="1400"/>
                </a:lnTo>
                <a:close/>
              </a:path>
              <a:path fill="darkenLess" w="23929" h="21600">
                <a:moveTo>
                  <a:pt x="23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29" y="20200"/>
                </a:lnTo>
                <a:close/>
              </a:path>
              <a:path fill="lighten" w="23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29" h="21600">
                <a:moveTo>
                  <a:pt x="1196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929" h="21600">
                <a:moveTo>
                  <a:pt x="13070" y="14281"/>
                </a:moveTo>
                <a:lnTo>
                  <a:pt x="13070" y="12323"/>
                </a:lnTo>
                <a:cubicBezTo>
                  <a:pt x="13070" y="11496"/>
                  <a:pt x="13401" y="10800"/>
                  <a:pt x="14001" y="10800"/>
                </a:cubicBezTo>
                <a:cubicBezTo>
                  <a:pt x="15133" y="10800"/>
                  <a:pt x="16029" y="9434"/>
                  <a:pt x="16029" y="7849"/>
                </a:cubicBezTo>
                <a:cubicBezTo>
                  <a:pt x="16029" y="5534"/>
                  <a:pt x="14175" y="3794"/>
                  <a:pt x="11965" y="3794"/>
                </a:cubicBezTo>
                <a:cubicBezTo>
                  <a:pt x="9754" y="3794"/>
                  <a:pt x="8083" y="5534"/>
                  <a:pt x="8083" y="7849"/>
                </a:cubicBezTo>
                <a:lnTo>
                  <a:pt x="9937" y="7849"/>
                </a:lnTo>
                <a:cubicBezTo>
                  <a:pt x="9937" y="6709"/>
                  <a:pt x="10859" y="5821"/>
                  <a:pt x="11965" y="5821"/>
                </a:cubicBezTo>
                <a:cubicBezTo>
                  <a:pt x="13070" y="5821"/>
                  <a:pt x="14001" y="6709"/>
                  <a:pt x="14001" y="7849"/>
                </a:cubicBezTo>
                <a:cubicBezTo>
                  <a:pt x="14001" y="8589"/>
                  <a:pt x="13531" y="9320"/>
                  <a:pt x="13070" y="9320"/>
                </a:cubicBezTo>
                <a:cubicBezTo>
                  <a:pt x="11965" y="9320"/>
                  <a:pt x="10859" y="10800"/>
                  <a:pt x="10859" y="12323"/>
                </a:cubicBezTo>
                <a:lnTo>
                  <a:pt x="10859" y="14281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7:04Z</dcterms:modified>
  <cp:revision>31</cp:revision>
  <dc:subject/>
  <dc:title>Доходы семь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3000000000001024140</vt:lpwstr>
  </property>
</Properties>
</file>