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80E6-C23F-4538-955B-9E92CBAE2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DB8A-B95E-431C-ADD6-8DCE4C361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A471-7E16-458F-87D4-355F5A5005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6E1A-A07E-4F0E-A952-E15E8AD63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B07E-3875-4973-B7D6-545BECF62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1FEC-C77A-4A8E-91B1-250FE63EC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4547-AD35-47EA-A8F2-F15B9B656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743D-2C08-405B-9104-0CCA9AD66D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655C-1F74-4D14-8F82-112E7C5A6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A1B1-FFFD-469B-B768-83D9582C1F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7023-F8B9-4CBB-B87D-9643E6EE0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9755-4076-4799-98B6-1A98C7B3E5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1ED-AB5C-444E-946A-9D5976D2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1CC-45DD-4860-8748-C08720AD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8EF9-EF8D-4F30-9607-08650287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D3F-D819-4C66-A9AA-0AF7442C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6BC-E28D-4061-B822-32691028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F78-5CCB-44F3-B4B6-401C803E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E41-A690-41FF-AD54-515652CE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6DB-FE53-4CAD-8806-80874A81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21E-0FA3-4E8F-B84B-B8D36787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60F-1596-4B78-A1D7-554A3B0C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EE4-56EB-4C40-8F6D-D9A93BF0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DF4-D853-43DE-ABEC-B8CAF0F5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59F8-0436-4884-B6B0-FED11DDF7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185688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2"/>
          <p:cNvSpPr/>
          <p:nvPr/>
        </p:nvSpPr>
        <p:spPr>
          <a:xfrm>
            <a:off x="6656400" y="401148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4356000" y="2320920"/>
            <a:ext cx="17964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7899480" y="4786200"/>
            <a:ext cx="0" cy="17964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1241280" y="3057480"/>
            <a:ext cx="0" cy="17928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3579840" y="4786200"/>
            <a:ext cx="0" cy="17964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5595840" y="3057480"/>
            <a:ext cx="0" cy="17928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3"/>
          <p:cNvSpPr/>
          <p:nvPr/>
        </p:nvSpPr>
        <p:spPr>
          <a:xfrm>
            <a:off x="6656400" y="2320920"/>
            <a:ext cx="1241280" cy="90000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216000" y="1546200"/>
            <a:ext cx="413856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 не есть что-то самосущ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дставляет собой прос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едостаток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517840" y="323856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называемые «недостатки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ствуют высшему благ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ние же о реальност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следств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из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й точки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821120" y="496584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, творимое своб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ше добра, творимог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 необходимости,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ло ж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употреб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4533840" y="1546200"/>
            <a:ext cx="2124000" cy="15480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 де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6837480" y="3238560"/>
            <a:ext cx="2124000" cy="1547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ё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ом мир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чши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216000" y="323856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опус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2517840" y="496584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ем же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во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14"/>
          <p:cNvSpPr/>
          <p:nvPr/>
        </p:nvSpPr>
        <p:spPr>
          <a:xfrm flipH="1" rot="16200000">
            <a:off x="1420560" y="4653000"/>
            <a:ext cx="935280" cy="1224000"/>
          </a:xfrm>
          <a:custGeom>
            <a:avLst/>
            <a:gdLst>
              <a:gd name="textAreaLeft" fmla="*/ 360 w 935280"/>
              <a:gd name="textAreaRight" fmla="*/ 936000 w 93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340000" y="404820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641840" y="573876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5" descr="Августин (Гоццоли-16-red)"/>
          <p:cNvPicPr/>
          <p:nvPr/>
        </p:nvPicPr>
        <p:blipFill>
          <a:blip r:embed="rId1"/>
          <a:stretch/>
        </p:blipFill>
        <p:spPr>
          <a:xfrm>
            <a:off x="7269120" y="287280"/>
            <a:ext cx="163368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Leibniz (5-red)"/>
          <p:cNvPicPr/>
          <p:nvPr/>
        </p:nvPicPr>
        <p:blipFill>
          <a:blip r:embed="rId2"/>
          <a:stretch/>
        </p:blipFill>
        <p:spPr>
          <a:xfrm>
            <a:off x="179280" y="5218200"/>
            <a:ext cx="144324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7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924200" y="284148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6297480" y="280656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полог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085840" y="363384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ти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04/20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085840" y="442584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фир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3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301/3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2085840" y="521820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кл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2-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6477120" y="359892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ртуллиа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6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после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6477120" y="438948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иг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 253/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6297480" y="554184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32400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23056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ифагоре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138560" y="1690560"/>
            <a:ext cx="172728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6477120" y="169056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н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-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18"/>
          <p:cNvCxnSpPr/>
          <p:nvPr/>
        </p:nvCxnSpPr>
        <p:spPr>
          <a:xfrm>
            <a:off x="3094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9"/>
          <p:cNvCxnSpPr/>
          <p:nvPr/>
        </p:nvCxnSpPr>
        <p:spPr>
          <a:xfrm>
            <a:off x="1186920" y="251748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0"/>
          <p:cNvCxnSpPr/>
          <p:nvPr/>
        </p:nvCxnSpPr>
        <p:spPr>
          <a:xfrm>
            <a:off x="5002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1"/>
          <p:cNvSpPr/>
          <p:nvPr/>
        </p:nvSpPr>
        <p:spPr>
          <a:xfrm>
            <a:off x="1187280" y="2662200"/>
            <a:ext cx="190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3094200" y="2662200"/>
            <a:ext cx="19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23"/>
          <p:cNvCxnSpPr/>
          <p:nvPr/>
        </p:nvCxnSpPr>
        <p:spPr>
          <a:xfrm>
            <a:off x="3094200" y="2662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" name="AutoShape 25"/>
          <p:cNvCxnSpPr/>
          <p:nvPr/>
        </p:nvCxnSpPr>
        <p:spPr>
          <a:xfrm>
            <a:off x="7467120" y="518112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6" name="Line 27"/>
          <p:cNvSpPr/>
          <p:nvPr/>
        </p:nvSpPr>
        <p:spPr>
          <a:xfrm>
            <a:off x="4264200" y="3238560"/>
            <a:ext cx="10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28"/>
          <p:cNvCxnSpPr/>
          <p:nvPr/>
        </p:nvCxnSpPr>
        <p:spPr>
          <a:xfrm>
            <a:off x="5272200" y="3238200"/>
            <a:ext cx="2160" cy="91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29"/>
          <p:cNvSpPr/>
          <p:nvPr/>
        </p:nvSpPr>
        <p:spPr>
          <a:xfrm>
            <a:off x="5272200" y="5937120"/>
            <a:ext cx="102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0"/>
          <p:cNvCxnSpPr/>
          <p:nvPr/>
        </p:nvCxnSpPr>
        <p:spPr>
          <a:xfrm>
            <a:off x="5272200" y="5019840"/>
            <a:ext cx="2160" cy="91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" name="Line 31"/>
          <p:cNvSpPr/>
          <p:nvPr/>
        </p:nvSpPr>
        <p:spPr>
          <a:xfrm>
            <a:off x="5272200" y="2662200"/>
            <a:ext cx="219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32"/>
          <p:cNvCxnSpPr/>
          <p:nvPr/>
        </p:nvCxnSpPr>
        <p:spPr>
          <a:xfrm>
            <a:off x="7467120" y="2482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33"/>
          <p:cNvCxnSpPr/>
          <p:nvPr/>
        </p:nvCxnSpPr>
        <p:spPr>
          <a:xfrm>
            <a:off x="5272200" y="2661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3" name="Rectangle 26"/>
          <p:cNvSpPr/>
          <p:nvPr/>
        </p:nvSpPr>
        <p:spPr>
          <a:xfrm>
            <a:off x="4371840" y="4192560"/>
            <a:ext cx="180036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Христианск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2787480" y="1619280"/>
            <a:ext cx="2340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62856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латин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566748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осток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гре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4065480" y="334656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падокийс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438200" y="201456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5127480" y="2014560"/>
            <a:ext cx="13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6"/>
          <p:cNvCxnSpPr/>
          <p:nvPr/>
        </p:nvCxnSpPr>
        <p:spPr>
          <a:xfrm>
            <a:off x="6477120" y="2014560"/>
            <a:ext cx="216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3" name="AutoShape 17"/>
          <p:cNvCxnSpPr/>
          <p:nvPr/>
        </p:nvCxnSpPr>
        <p:spPr>
          <a:xfrm>
            <a:off x="1437840" y="2014560"/>
            <a:ext cx="252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4" name="AutoShape 18"/>
          <p:cNvSpPr/>
          <p:nvPr/>
        </p:nvSpPr>
        <p:spPr>
          <a:xfrm>
            <a:off x="4065480" y="4210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силий Вели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4065480" y="4929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азианз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4065480" y="564984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исс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5 - ок. 3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6548400" y="363384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тр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2"/>
          <p:cNvSpPr/>
          <p:nvPr/>
        </p:nvSpPr>
        <p:spPr>
          <a:xfrm>
            <a:off x="6548400" y="5937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оанн Дамаск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675 - до 7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>
            <a:off x="65484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севдо-Дионисий </a:t>
            </a:r>
            <a:br>
              <a:rPr sz="16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5"/>
          <p:cNvSpPr/>
          <p:nvPr/>
        </p:nvSpPr>
        <p:spPr>
          <a:xfrm>
            <a:off x="65484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аксим Исповедник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80 – 6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6"/>
          <p:cNvSpPr/>
          <p:nvPr/>
        </p:nvSpPr>
        <p:spPr>
          <a:xfrm>
            <a:off x="2700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врелий Август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54 - ок. 4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7"/>
          <p:cNvSpPr/>
          <p:nvPr/>
        </p:nvSpPr>
        <p:spPr>
          <a:xfrm>
            <a:off x="2700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еверин Боэц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480 - 5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5235480" y="2770200"/>
            <a:ext cx="432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7286760" y="2781360"/>
            <a:ext cx="431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30"/>
          <p:cNvCxnSpPr/>
          <p:nvPr/>
        </p:nvCxnSpPr>
        <p:spPr>
          <a:xfrm>
            <a:off x="5235120" y="2769840"/>
            <a:ext cx="252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31"/>
          <p:cNvCxnSpPr/>
          <p:nvPr/>
        </p:nvCxnSpPr>
        <p:spPr>
          <a:xfrm>
            <a:off x="7718400" y="2769840"/>
            <a:ext cx="2160" cy="864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AutoShape 32"/>
          <p:cNvCxnSpPr/>
          <p:nvPr/>
        </p:nvCxnSpPr>
        <p:spPr>
          <a:xfrm>
            <a:off x="1437840" y="3130200"/>
            <a:ext cx="2520" cy="13676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1" name="Oval 6"/>
          <p:cNvSpPr/>
          <p:nvPr/>
        </p:nvSpPr>
        <p:spPr>
          <a:xfrm>
            <a:off x="6548400" y="3706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08680" y="3273480"/>
            <a:ext cx="865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858480" y="3525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0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4503960" y="586584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4"/>
          <p:cNvSpPr/>
          <p:nvPr/>
        </p:nvSpPr>
        <p:spPr>
          <a:xfrm>
            <a:off x="6804000" y="5516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6956640" y="5516640"/>
            <a:ext cx="14457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еруса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6"/>
          <p:cNvSpPr/>
          <p:nvPr/>
        </p:nvSpPr>
        <p:spPr>
          <a:xfrm>
            <a:off x="18352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1851480" y="449748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9"/>
          <p:cNvSpPr/>
          <p:nvPr/>
        </p:nvSpPr>
        <p:spPr>
          <a:xfrm>
            <a:off x="145728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545760" y="384984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п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6908760" y="3670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7094880" y="3489480"/>
            <a:ext cx="1114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с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4"/>
          <p:cNvSpPr/>
          <p:nvPr/>
        </p:nvSpPr>
        <p:spPr>
          <a:xfrm>
            <a:off x="5541840" y="3184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4720320" y="2733840"/>
            <a:ext cx="2197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станти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6"/>
          <p:cNvSpPr/>
          <p:nvPr/>
        </p:nvSpPr>
        <p:spPr>
          <a:xfrm>
            <a:off x="7088040" y="4994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7243560" y="456552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1528920" y="4491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692280" y="4653000"/>
            <a:ext cx="9061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г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1"/>
          <p:cNvSpPr/>
          <p:nvPr/>
        </p:nvSpPr>
        <p:spPr>
          <a:xfrm>
            <a:off x="1601640" y="2060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2"/>
          <p:cNvSpPr/>
          <p:nvPr/>
        </p:nvSpPr>
        <p:spPr>
          <a:xfrm>
            <a:off x="1760040" y="1700280"/>
            <a:ext cx="88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85480" y="2158560"/>
            <a:ext cx="4930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770200" y="133020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092000" y="341784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релий Авгус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7800" y="62247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оанн Дамаск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Августин (Гоццоли-16-red)"/>
          <p:cNvPicPr/>
          <p:nvPr/>
        </p:nvPicPr>
        <p:blipFill>
          <a:blip r:embed="rId1"/>
          <a:stretch/>
        </p:blipFill>
        <p:spPr>
          <a:xfrm>
            <a:off x="7197840" y="971640"/>
            <a:ext cx="1800000" cy="238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nb_pinacoteca_unknown_greek_xiv_st_john_of_damascus_red4"/>
          <p:cNvPicPr/>
          <p:nvPr/>
        </p:nvPicPr>
        <p:blipFill>
          <a:blip r:embed="rId2"/>
          <a:stretch/>
        </p:blipFill>
        <p:spPr>
          <a:xfrm>
            <a:off x="96840" y="3778200"/>
            <a:ext cx="1666800" cy="239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Рафаэль, Боэций_3"/>
          <p:cNvPicPr/>
          <p:nvPr/>
        </p:nvPicPr>
        <p:blipFill>
          <a:blip r:embed="rId3"/>
          <a:stretch/>
        </p:blipFill>
        <p:spPr>
          <a:xfrm>
            <a:off x="250920" y="1438200"/>
            <a:ext cx="107640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38880" y="334656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верин Боэ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nb_pinacoteca_raphael_st_paul_preaching_in_athens_st_dionysius_the_areopagite_red"/>
          <p:cNvPicPr/>
          <p:nvPr/>
        </p:nvPicPr>
        <p:blipFill>
          <a:blip r:embed="rId4"/>
          <a:stretch/>
        </p:blipFill>
        <p:spPr>
          <a:xfrm>
            <a:off x="6945480" y="3886200"/>
            <a:ext cx="2143080" cy="2228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7187400" y="622476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евдо-Дионис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50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nb_pinacoteca_vasnetsov_v_orthodox_bishops"/>
          <p:cNvPicPr/>
          <p:nvPr/>
        </p:nvPicPr>
        <p:blipFill>
          <a:blip r:embed="rId1"/>
          <a:stretch/>
        </p:blipFill>
        <p:spPr>
          <a:xfrm>
            <a:off x="5037120" y="1438200"/>
            <a:ext cx="33321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0" name="Picture 6" descr="nb_pinacoteca_gozzoli_fresco_cycle_of_st_augustine_16_cut"/>
          <p:cNvPicPr/>
          <p:nvPr/>
        </p:nvPicPr>
        <p:blipFill>
          <a:blip r:embed="rId2"/>
          <a:stretch/>
        </p:blipFill>
        <p:spPr>
          <a:xfrm>
            <a:off x="898560" y="1438200"/>
            <a:ext cx="28288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1" name="Text Box 7"/>
          <p:cNvSpPr/>
          <p:nvPr/>
        </p:nvSpPr>
        <p:spPr>
          <a:xfrm>
            <a:off x="872640" y="593712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Гоццол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ние св. Авгу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189400" y="593712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Васнец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ые еписк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5400000">
            <a:off x="527148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Василий Велик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 rot="5400000">
            <a:off x="599076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Григорий Назианз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6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85840" y="1798560"/>
            <a:ext cx="503892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дице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θεός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,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δίκη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аведливость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«оправдание Бога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обо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их доктри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емящихся соглас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благого и разум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жественного управления мир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личием мирового зл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авдать» это упра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 лицом тёмных сторон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Leibniz (5-red)"/>
          <p:cNvPicPr/>
          <p:nvPr/>
        </p:nvPicPr>
        <p:blipFill>
          <a:blip r:embed="rId1"/>
          <a:stretch/>
        </p:blipFill>
        <p:spPr>
          <a:xfrm>
            <a:off x="7377120" y="1690560"/>
            <a:ext cx="1658880" cy="169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Эпикур (Рим - Капитолийский музей - red5)"/>
          <p:cNvPicPr/>
          <p:nvPr/>
        </p:nvPicPr>
        <p:blipFill>
          <a:blip r:embed="rId2"/>
          <a:stretch/>
        </p:blipFill>
        <p:spPr>
          <a:xfrm>
            <a:off x="250920" y="1690560"/>
            <a:ext cx="1514520" cy="18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Августин (Гоццоли-16-red)"/>
          <p:cNvPicPr/>
          <p:nvPr/>
        </p:nvPicPr>
        <p:blipFill>
          <a:blip r:embed="rId3"/>
          <a:stretch/>
        </p:blipFill>
        <p:spPr>
          <a:xfrm>
            <a:off x="7269120" y="4216320"/>
            <a:ext cx="1800360" cy="2381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Цицерон (Уффици - red)"/>
          <p:cNvPicPr/>
          <p:nvPr/>
        </p:nvPicPr>
        <p:blipFill>
          <a:blip r:embed="rId4"/>
          <a:stretch/>
        </p:blipFill>
        <p:spPr>
          <a:xfrm>
            <a:off x="250920" y="4317840"/>
            <a:ext cx="1571400" cy="20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9"/>
          <p:cNvSpPr/>
          <p:nvPr/>
        </p:nvSpPr>
        <p:spPr>
          <a:xfrm>
            <a:off x="7704360" y="35258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468000" y="367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981440" y="59371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941440" y="5937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1"/>
          <p:cNvSpPr/>
          <p:nvPr/>
        </p:nvSpPr>
        <p:spPr>
          <a:xfrm flipH="1">
            <a:off x="4894200" y="5433840"/>
            <a:ext cx="611280" cy="900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/>
          <p:cNvSpPr/>
          <p:nvPr/>
        </p:nvSpPr>
        <p:spPr>
          <a:xfrm>
            <a:off x="3706920" y="5433840"/>
            <a:ext cx="610920" cy="900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6585120" y="4371840"/>
            <a:ext cx="610920" cy="1008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014560" y="4371840"/>
            <a:ext cx="611280" cy="1008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701120" y="3489480"/>
            <a:ext cx="610920" cy="900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898560" y="3489480"/>
            <a:ext cx="611280" cy="900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894200" y="2428920"/>
            <a:ext cx="611280" cy="1008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06920" y="2428920"/>
            <a:ext cx="610920" cy="1008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625840" y="1258920"/>
            <a:ext cx="3959280" cy="8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огущ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в мире с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647640" y="2770200"/>
            <a:ext cx="30592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жела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505480" y="2770200"/>
            <a:ext cx="305892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в сила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51128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590076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мог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3346560" y="2085840"/>
            <a:ext cx="251928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ходит, что Б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2625840" y="4713120"/>
            <a:ext cx="3959280" cy="93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как то, так и друг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т понятию Бога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отриц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1690560" y="579276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 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5505480" y="579276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з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3" descr="Эпикур (Рим - Капитолийский музей - red5)"/>
          <p:cNvPicPr/>
          <p:nvPr/>
        </p:nvPicPr>
        <p:blipFill>
          <a:blip r:embed="rId1"/>
          <a:stretch/>
        </p:blipFill>
        <p:spPr>
          <a:xfrm>
            <a:off x="358920" y="539640"/>
            <a:ext cx="1504800" cy="1873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Цицерон (Уффици - red)"/>
          <p:cNvPicPr/>
          <p:nvPr/>
        </p:nvPicPr>
        <p:blipFill>
          <a:blip r:embed="rId2"/>
          <a:stretch/>
        </p:blipFill>
        <p:spPr>
          <a:xfrm>
            <a:off x="7340760" y="539640"/>
            <a:ext cx="1465200" cy="1873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5:43:35Z</dcterms:created>
  <dc:creator>Николай Бирюков / Nikolai Biryukov</dc:creator>
  <dc:description>Редакция декабря 2008 г.</dc:description>
  <dc:language>en-US</dc:language>
  <cp:lastModifiedBy>LEGION</cp:lastModifiedBy>
  <dcterms:modified xsi:type="dcterms:W3CDTF">2014-11-11T10:17:39Z</dcterms:modified>
  <cp:revision>201</cp:revision>
  <dc:subject>Основы философии - Тема 8</dc:subject>
  <dc:title>Средневековая философия: Патристика</dc:title>
</cp:coreProperties>
</file>