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D225-383C-4501-9FC1-9A0EA6024E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8C48-9CBC-4FE4-B16C-8D98CB4290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редневековая философ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BDAB-6950-43CD-807E-34563D74CE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ариант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8EF6-95CC-4BD5-B16E-A35DD72CC8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8F4F-5544-4E08-A4C4-58A39F5913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вековая философ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ское осмысление христианской дог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триединства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Боговопло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иконопо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недостаток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я зла как следствие абсолютизации частной точки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злоупотребление свобод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и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Смена цикличной парадигмы лине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История как мистическая д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26D8-73EE-479A-94CA-5FCEBE9DE4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днеантичная и раннехристианская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A687-B89A-47F7-AA7D-910BA7266C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7DF3-DC62-4AF8-BCFD-C5542136BF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E505-F609-4A40-8BCE-9F2B87AF63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Против академ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Испов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граде Божие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Комментарии к Порфи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Утешение философ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евдо-Дионисий. Ареопаги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именах Божи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инственное бого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бесной иерарх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церковной иерарх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оанн Дамаскин. Источник 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чное изложение православной в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3B42-40A9-48C1-A079-9781BBBCB2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608E-47F7-45F4-BDE7-61C16886BC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1263-E157-4793-BA7A-2CF5D75419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E21-DB80-40E7-BC43-F30EB69F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178-0962-4CC6-A022-1B132510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B85B-743E-4DE8-A830-9AF426BB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1509-158F-43D2-8A4E-4D2AEA9F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B39-FFDA-478F-B5AB-9794FBD2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36B-3F1C-474A-8ED6-3B9915B7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15A1-1F7F-40AD-AF2E-3FB6DC64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2252-F278-498E-A9AA-2DF1CB4D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5B0D-CFDF-469D-9D5D-054B0837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80C5-AD8E-4F8D-97E2-C98A1217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3E0-F63E-40CF-9665-28A217B6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AA48-106F-4F16-84EC-007E00A2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C5B5-D9C3-443D-93B0-CB4D6CC797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185688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редневековая философ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22"/>
          <p:cNvSpPr/>
          <p:nvPr/>
        </p:nvSpPr>
        <p:spPr>
          <a:xfrm>
            <a:off x="6656400" y="401148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1"/>
          <p:cNvSpPr/>
          <p:nvPr/>
        </p:nvSpPr>
        <p:spPr>
          <a:xfrm>
            <a:off x="4356000" y="2320920"/>
            <a:ext cx="17964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9"/>
          <p:cNvSpPr/>
          <p:nvPr/>
        </p:nvSpPr>
        <p:spPr>
          <a:xfrm>
            <a:off x="7899480" y="4786200"/>
            <a:ext cx="0" cy="17964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>
            <a:off x="1241280" y="3057480"/>
            <a:ext cx="0" cy="17928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3579840" y="4786200"/>
            <a:ext cx="0" cy="17964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5595840" y="3057480"/>
            <a:ext cx="0" cy="17928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13"/>
          <p:cNvSpPr/>
          <p:nvPr/>
        </p:nvSpPr>
        <p:spPr>
          <a:xfrm>
            <a:off x="6656400" y="2320920"/>
            <a:ext cx="1241280" cy="90000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вариант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216000" y="1546200"/>
            <a:ext cx="413856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ло не есть что-то самосущ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редставляет собой прос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недостаток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517840" y="3238560"/>
            <a:ext cx="4138560" cy="15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называемые «недостатки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ствуют высшему благ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ение же о реальност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следств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изац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ой точки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821120" y="4965840"/>
            <a:ext cx="4138560" cy="15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, творимое свобод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ше добра, творимого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 необходимости,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ло ж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ульта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оупотреб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ной в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4533840" y="1546200"/>
            <a:ext cx="2124000" cy="154800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м дел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6837480" y="3238560"/>
            <a:ext cx="2124000" cy="1547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ё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ом мир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учший и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мо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0"/>
          <p:cNvSpPr/>
          <p:nvPr/>
        </p:nvSpPr>
        <p:spPr>
          <a:xfrm>
            <a:off x="216000" y="3238560"/>
            <a:ext cx="2124000" cy="15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допус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2517840" y="4965840"/>
            <a:ext cx="2124000" cy="15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чем же Бо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ил ми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во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ершен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14"/>
          <p:cNvSpPr/>
          <p:nvPr/>
        </p:nvSpPr>
        <p:spPr>
          <a:xfrm flipH="1" rot="16200000">
            <a:off x="1420560" y="4653000"/>
            <a:ext cx="935280" cy="1224000"/>
          </a:xfrm>
          <a:custGeom>
            <a:avLst/>
            <a:gdLst>
              <a:gd name="textAreaLeft" fmla="*/ 360 w 935280"/>
              <a:gd name="textAreaRight" fmla="*/ 936000 w 9352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2340000" y="404820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4641840" y="573876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5" descr="Августин (Гоццоли-16-red)"/>
          <p:cNvPicPr/>
          <p:nvPr/>
        </p:nvPicPr>
        <p:blipFill>
          <a:blip r:embed="rId1"/>
          <a:stretch/>
        </p:blipFill>
        <p:spPr>
          <a:xfrm>
            <a:off x="7269120" y="287280"/>
            <a:ext cx="1633680" cy="2160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6" descr="Leibniz (5-red)"/>
          <p:cNvPicPr/>
          <p:nvPr/>
        </p:nvPicPr>
        <p:blipFill>
          <a:blip r:embed="rId2"/>
          <a:stretch/>
        </p:blipFill>
        <p:spPr>
          <a:xfrm>
            <a:off x="179280" y="5218200"/>
            <a:ext cx="1443240" cy="14778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8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0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2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7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7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9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1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вековая философ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ское осмысление христианской дог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триединства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Боговопло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иконопо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недостаток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я зла как следствие абсолютизации частной точки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злоупотребление свобод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и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Смена цикличной парадигмы лине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История как мистическая д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зднеантичная и раннехристианская филосо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924200" y="284148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6297480" y="280656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полог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2085840" y="363384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ти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04/20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2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2085840" y="4425840"/>
            <a:ext cx="197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фир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34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301/3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2085840" y="521820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кл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12-4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6477120" y="359892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ртуллиа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6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после 2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6477120" y="438948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иге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8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 253/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6297480" y="554184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324000" y="1690560"/>
            <a:ext cx="172692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2230560" y="1690560"/>
            <a:ext cx="172692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-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ифагоре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4138560" y="1690560"/>
            <a:ext cx="172728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ристот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7"/>
          <p:cNvSpPr/>
          <p:nvPr/>
        </p:nvSpPr>
        <p:spPr>
          <a:xfrm>
            <a:off x="6477120" y="1690560"/>
            <a:ext cx="197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лон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-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18"/>
          <p:cNvCxnSpPr/>
          <p:nvPr/>
        </p:nvCxnSpPr>
        <p:spPr>
          <a:xfrm>
            <a:off x="3094200" y="2517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0" name="AutoShape 19"/>
          <p:cNvCxnSpPr/>
          <p:nvPr/>
        </p:nvCxnSpPr>
        <p:spPr>
          <a:xfrm>
            <a:off x="1186920" y="251748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1" name="AutoShape 20"/>
          <p:cNvCxnSpPr/>
          <p:nvPr/>
        </p:nvCxnSpPr>
        <p:spPr>
          <a:xfrm>
            <a:off x="5002200" y="2517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2" name="Line 21"/>
          <p:cNvSpPr/>
          <p:nvPr/>
        </p:nvSpPr>
        <p:spPr>
          <a:xfrm>
            <a:off x="1187280" y="2662200"/>
            <a:ext cx="190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2"/>
          <p:cNvSpPr/>
          <p:nvPr/>
        </p:nvSpPr>
        <p:spPr>
          <a:xfrm>
            <a:off x="3094200" y="2662200"/>
            <a:ext cx="190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23"/>
          <p:cNvCxnSpPr/>
          <p:nvPr/>
        </p:nvCxnSpPr>
        <p:spPr>
          <a:xfrm>
            <a:off x="3094200" y="2662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5" name="AutoShape 25"/>
          <p:cNvCxnSpPr/>
          <p:nvPr/>
        </p:nvCxnSpPr>
        <p:spPr>
          <a:xfrm>
            <a:off x="7467120" y="518112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6" name="Line 27"/>
          <p:cNvSpPr/>
          <p:nvPr/>
        </p:nvSpPr>
        <p:spPr>
          <a:xfrm>
            <a:off x="4264200" y="3238560"/>
            <a:ext cx="100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28"/>
          <p:cNvCxnSpPr/>
          <p:nvPr/>
        </p:nvCxnSpPr>
        <p:spPr>
          <a:xfrm>
            <a:off x="5272200" y="3238200"/>
            <a:ext cx="2160" cy="91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8" name="Line 29"/>
          <p:cNvSpPr/>
          <p:nvPr/>
        </p:nvSpPr>
        <p:spPr>
          <a:xfrm>
            <a:off x="5272200" y="5937120"/>
            <a:ext cx="10252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0"/>
          <p:cNvCxnSpPr/>
          <p:nvPr/>
        </p:nvCxnSpPr>
        <p:spPr>
          <a:xfrm>
            <a:off x="5272200" y="5019840"/>
            <a:ext cx="2160" cy="91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0" name="Line 31"/>
          <p:cNvSpPr/>
          <p:nvPr/>
        </p:nvSpPr>
        <p:spPr>
          <a:xfrm>
            <a:off x="5272200" y="2662200"/>
            <a:ext cx="219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32"/>
          <p:cNvCxnSpPr/>
          <p:nvPr/>
        </p:nvCxnSpPr>
        <p:spPr>
          <a:xfrm>
            <a:off x="7467120" y="2482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2" name="AutoShape 33"/>
          <p:cNvCxnSpPr/>
          <p:nvPr/>
        </p:nvCxnSpPr>
        <p:spPr>
          <a:xfrm>
            <a:off x="5272200" y="266184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3" name="Rectangle 26"/>
          <p:cNvSpPr/>
          <p:nvPr/>
        </p:nvSpPr>
        <p:spPr>
          <a:xfrm>
            <a:off x="4371840" y="4192560"/>
            <a:ext cx="180036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Христиански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2787480" y="1619280"/>
            <a:ext cx="2340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628560" y="2409840"/>
            <a:ext cx="16192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апа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латин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5667480" y="2409840"/>
            <a:ext cx="16192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осток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гре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4065480" y="3346560"/>
            <a:ext cx="234000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падокийск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1438200" y="201456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5127480" y="2014560"/>
            <a:ext cx="13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16"/>
          <p:cNvCxnSpPr/>
          <p:nvPr/>
        </p:nvCxnSpPr>
        <p:spPr>
          <a:xfrm>
            <a:off x="6477120" y="2014560"/>
            <a:ext cx="2160" cy="396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3" name="AutoShape 17"/>
          <p:cNvCxnSpPr/>
          <p:nvPr/>
        </p:nvCxnSpPr>
        <p:spPr>
          <a:xfrm>
            <a:off x="1437840" y="2014560"/>
            <a:ext cx="2520" cy="396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4" name="AutoShape 18"/>
          <p:cNvSpPr/>
          <p:nvPr/>
        </p:nvSpPr>
        <p:spPr>
          <a:xfrm>
            <a:off x="4065480" y="4210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асилий Велик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0 - 3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4065480" y="492912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игорий Назианз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0 - 3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4065480" y="564984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игорий Нисск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5 - ок. 3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1"/>
          <p:cNvSpPr/>
          <p:nvPr/>
        </p:nvSpPr>
        <p:spPr>
          <a:xfrm>
            <a:off x="6548400" y="3633840"/>
            <a:ext cx="234000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дн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тр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2"/>
          <p:cNvSpPr/>
          <p:nvPr/>
        </p:nvSpPr>
        <p:spPr>
          <a:xfrm>
            <a:off x="6548400" y="593712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оанн Дамаск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675 - до 7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4"/>
          <p:cNvSpPr/>
          <p:nvPr/>
        </p:nvSpPr>
        <p:spPr>
          <a:xfrm>
            <a:off x="6548400" y="449748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севдо-Дионисий </a:t>
            </a:r>
            <a:br>
              <a:rPr sz="16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5"/>
          <p:cNvSpPr/>
          <p:nvPr/>
        </p:nvSpPr>
        <p:spPr>
          <a:xfrm>
            <a:off x="6548400" y="5218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аксим Исповедник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580 – 6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6"/>
          <p:cNvSpPr/>
          <p:nvPr/>
        </p:nvSpPr>
        <p:spPr>
          <a:xfrm>
            <a:off x="270000" y="449748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врелий Август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54 - ок. 4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7"/>
          <p:cNvSpPr/>
          <p:nvPr/>
        </p:nvSpPr>
        <p:spPr>
          <a:xfrm>
            <a:off x="270000" y="5218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еверин Боэц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480 - 5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5235480" y="2770200"/>
            <a:ext cx="432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7286760" y="2781360"/>
            <a:ext cx="431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30"/>
          <p:cNvCxnSpPr/>
          <p:nvPr/>
        </p:nvCxnSpPr>
        <p:spPr>
          <a:xfrm>
            <a:off x="5235120" y="2769840"/>
            <a:ext cx="252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6" name="AutoShape 31"/>
          <p:cNvCxnSpPr/>
          <p:nvPr/>
        </p:nvCxnSpPr>
        <p:spPr>
          <a:xfrm>
            <a:off x="7718400" y="2769840"/>
            <a:ext cx="2160" cy="864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AutoShape 32"/>
          <p:cNvCxnSpPr/>
          <p:nvPr/>
        </p:nvCxnSpPr>
        <p:spPr>
          <a:xfrm>
            <a:off x="1437840" y="3130200"/>
            <a:ext cx="2520" cy="13676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1" name="Oval 6"/>
          <p:cNvSpPr/>
          <p:nvPr/>
        </p:nvSpPr>
        <p:spPr>
          <a:xfrm>
            <a:off x="6548400" y="3706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908680" y="3273480"/>
            <a:ext cx="865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858480" y="352584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0"/>
          <p:cNvSpPr/>
          <p:nvPr/>
        </p:nvSpPr>
        <p:spPr>
          <a:xfrm>
            <a:off x="5757840" y="56847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4503960" y="5865840"/>
            <a:ext cx="1681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екса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4"/>
          <p:cNvSpPr/>
          <p:nvPr/>
        </p:nvSpPr>
        <p:spPr>
          <a:xfrm>
            <a:off x="6804000" y="5516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5"/>
          <p:cNvSpPr/>
          <p:nvPr/>
        </p:nvSpPr>
        <p:spPr>
          <a:xfrm>
            <a:off x="6956640" y="5516640"/>
            <a:ext cx="14457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ерусал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6"/>
          <p:cNvSpPr/>
          <p:nvPr/>
        </p:nvSpPr>
        <p:spPr>
          <a:xfrm>
            <a:off x="18352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1851480" y="4497480"/>
            <a:ext cx="1273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фа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9"/>
          <p:cNvSpPr/>
          <p:nvPr/>
        </p:nvSpPr>
        <p:spPr>
          <a:xfrm>
            <a:off x="1457280" y="4292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545760" y="3849840"/>
            <a:ext cx="100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пп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2"/>
          <p:cNvSpPr/>
          <p:nvPr/>
        </p:nvSpPr>
        <p:spPr>
          <a:xfrm>
            <a:off x="6908760" y="3670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7094880" y="3489480"/>
            <a:ext cx="1114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ес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4"/>
          <p:cNvSpPr/>
          <p:nvPr/>
        </p:nvSpPr>
        <p:spPr>
          <a:xfrm>
            <a:off x="5541840" y="31845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4720320" y="2733840"/>
            <a:ext cx="2197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стантин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6"/>
          <p:cNvSpPr/>
          <p:nvPr/>
        </p:nvSpPr>
        <p:spPr>
          <a:xfrm>
            <a:off x="7088040" y="4994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7243560" y="4565520"/>
            <a:ext cx="100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ама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9"/>
          <p:cNvSpPr/>
          <p:nvPr/>
        </p:nvSpPr>
        <p:spPr>
          <a:xfrm>
            <a:off x="1528920" y="4491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0"/>
          <p:cNvSpPr/>
          <p:nvPr/>
        </p:nvSpPr>
        <p:spPr>
          <a:xfrm>
            <a:off x="692280" y="4653000"/>
            <a:ext cx="9061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г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1"/>
          <p:cNvSpPr/>
          <p:nvPr/>
        </p:nvSpPr>
        <p:spPr>
          <a:xfrm>
            <a:off x="1601640" y="2060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2"/>
          <p:cNvSpPr/>
          <p:nvPr/>
        </p:nvSpPr>
        <p:spPr>
          <a:xfrm>
            <a:off x="1760040" y="1700280"/>
            <a:ext cx="88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85480" y="2158560"/>
            <a:ext cx="49309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Против академ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Испов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граде Божие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Комментарии к Порфи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Утешение философ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евдо-Дионисий. Ареопаги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именах Божи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инственное бого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бесной иерарх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церковной иерарх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оанн Дамаскин. Источник 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чное изложение православной в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770200" y="133020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092000" y="341784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релий Август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7800" y="622476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оанн Дамаск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Августин (Гоццоли-16-red)"/>
          <p:cNvPicPr/>
          <p:nvPr/>
        </p:nvPicPr>
        <p:blipFill>
          <a:blip r:embed="rId1"/>
          <a:stretch/>
        </p:blipFill>
        <p:spPr>
          <a:xfrm>
            <a:off x="7197840" y="971640"/>
            <a:ext cx="1800000" cy="2381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nb_pinacoteca_unknown_greek_xiv_st_john_of_damascus_red4"/>
          <p:cNvPicPr/>
          <p:nvPr/>
        </p:nvPicPr>
        <p:blipFill>
          <a:blip r:embed="rId2"/>
          <a:stretch/>
        </p:blipFill>
        <p:spPr>
          <a:xfrm>
            <a:off x="96840" y="3778200"/>
            <a:ext cx="1666800" cy="2390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Рафаэль, Боэций_3"/>
          <p:cNvPicPr/>
          <p:nvPr/>
        </p:nvPicPr>
        <p:blipFill>
          <a:blip r:embed="rId3"/>
          <a:stretch/>
        </p:blipFill>
        <p:spPr>
          <a:xfrm>
            <a:off x="250920" y="1438200"/>
            <a:ext cx="1076400" cy="1800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38880" y="3346560"/>
            <a:ext cx="186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верин Боэ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nb_pinacoteca_raphael_st_paul_preaching_in_athens_st_dionysius_the_areopagite_red"/>
          <p:cNvPicPr/>
          <p:nvPr/>
        </p:nvPicPr>
        <p:blipFill>
          <a:blip r:embed="rId4"/>
          <a:stretch/>
        </p:blipFill>
        <p:spPr>
          <a:xfrm>
            <a:off x="6945480" y="3886200"/>
            <a:ext cx="2143080" cy="2228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7187400" y="6224760"/>
            <a:ext cx="199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севдо-Дионис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504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05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50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nb_pinacoteca_vasnetsov_v_orthodox_bishops"/>
          <p:cNvPicPr/>
          <p:nvPr/>
        </p:nvPicPr>
        <p:blipFill>
          <a:blip r:embed="rId1"/>
          <a:stretch/>
        </p:blipFill>
        <p:spPr>
          <a:xfrm>
            <a:off x="5037120" y="1438200"/>
            <a:ext cx="33321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0" name="Picture 6" descr="nb_pinacoteca_gozzoli_fresco_cycle_of_st_augustine_16_cut"/>
          <p:cNvPicPr/>
          <p:nvPr/>
        </p:nvPicPr>
        <p:blipFill>
          <a:blip r:embed="rId2"/>
          <a:stretch/>
        </p:blipFill>
        <p:spPr>
          <a:xfrm>
            <a:off x="898560" y="1438200"/>
            <a:ext cx="28288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1" name="Text Box 7"/>
          <p:cNvSpPr/>
          <p:nvPr/>
        </p:nvSpPr>
        <p:spPr>
          <a:xfrm>
            <a:off x="872640" y="5937120"/>
            <a:ext cx="285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Гоццоли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ение св. Авгус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189400" y="5937120"/>
            <a:ext cx="31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Васнец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ые еписк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 rot="5400000">
            <a:off x="5271480" y="176184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Василий Велик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 rot="5400000">
            <a:off x="5990760" y="176184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Григорий Назианзи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6" dur="1" fill="hold"/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085840" y="1798560"/>
            <a:ext cx="503892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дице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θεός</a:t>
            </a:r>
            <a:r>
              <a:rPr b="1" lang="ru-RU" sz="1800" spc="-1" strike="noStrike">
                <a:solidFill>
                  <a:srgbClr val="66ff33"/>
                </a:solidFill>
                <a:latin typeface="Times New Roman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,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δίκη</a:t>
            </a:r>
            <a:r>
              <a:rPr b="1" lang="ru-RU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раведливость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ук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«оправдание Бога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обозна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лигиозно-философских доктрин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емящихся согласова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ю благого и разум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жественного управления мир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наличием мирового зл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правдать» это управл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 лицом тёмных сторон 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Leibniz (5-red)"/>
          <p:cNvPicPr/>
          <p:nvPr/>
        </p:nvPicPr>
        <p:blipFill>
          <a:blip r:embed="rId1"/>
          <a:stretch/>
        </p:blipFill>
        <p:spPr>
          <a:xfrm>
            <a:off x="7377120" y="1690560"/>
            <a:ext cx="1658880" cy="1698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Эпикур (Рим - Капитолийский музей - red5)"/>
          <p:cNvPicPr/>
          <p:nvPr/>
        </p:nvPicPr>
        <p:blipFill>
          <a:blip r:embed="rId2"/>
          <a:stretch/>
        </p:blipFill>
        <p:spPr>
          <a:xfrm>
            <a:off x="250920" y="1690560"/>
            <a:ext cx="1514520" cy="188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Августин (Гоццоли-16-red)"/>
          <p:cNvPicPr/>
          <p:nvPr/>
        </p:nvPicPr>
        <p:blipFill>
          <a:blip r:embed="rId3"/>
          <a:stretch/>
        </p:blipFill>
        <p:spPr>
          <a:xfrm>
            <a:off x="7269120" y="4216320"/>
            <a:ext cx="1800360" cy="2381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" descr="Цицерон (Уффици - red)"/>
          <p:cNvPicPr/>
          <p:nvPr/>
        </p:nvPicPr>
        <p:blipFill>
          <a:blip r:embed="rId4"/>
          <a:stretch/>
        </p:blipFill>
        <p:spPr>
          <a:xfrm>
            <a:off x="250920" y="4317840"/>
            <a:ext cx="1571400" cy="2009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9"/>
          <p:cNvSpPr/>
          <p:nvPr/>
        </p:nvSpPr>
        <p:spPr>
          <a:xfrm>
            <a:off x="7704360" y="35258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йб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468000" y="367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981440" y="59371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иц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941440" y="59371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1"/>
          <p:cNvSpPr/>
          <p:nvPr/>
        </p:nvSpPr>
        <p:spPr>
          <a:xfrm flipH="1">
            <a:off x="4894200" y="5433840"/>
            <a:ext cx="611280" cy="900360"/>
          </a:xfrm>
          <a:custGeom>
            <a:avLst/>
            <a:gdLst>
              <a:gd name="textAreaLeft" fmla="*/ 81720 w 611280"/>
              <a:gd name="textAreaRight" fmla="*/ 529560 w 611280"/>
              <a:gd name="textAreaTop" fmla="*/ 157320 h 900360"/>
              <a:gd name="textAreaBottom" fmla="*/ 65268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0"/>
          <p:cNvSpPr/>
          <p:nvPr/>
        </p:nvSpPr>
        <p:spPr>
          <a:xfrm>
            <a:off x="3706920" y="5433840"/>
            <a:ext cx="610920" cy="900360"/>
          </a:xfrm>
          <a:custGeom>
            <a:avLst/>
            <a:gdLst>
              <a:gd name="textAreaLeft" fmla="*/ 81720 w 610920"/>
              <a:gd name="textAreaRight" fmla="*/ 529200 w 610920"/>
              <a:gd name="textAreaTop" fmla="*/ 157320 h 900360"/>
              <a:gd name="textAreaBottom" fmla="*/ 65268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"/>
          <p:cNvSpPr/>
          <p:nvPr/>
        </p:nvSpPr>
        <p:spPr>
          <a:xfrm>
            <a:off x="6585120" y="4371840"/>
            <a:ext cx="610920" cy="1008360"/>
          </a:xfrm>
          <a:custGeom>
            <a:avLst/>
            <a:gdLst>
              <a:gd name="textAreaLeft" fmla="*/ 81720 w 610920"/>
              <a:gd name="textAreaRight" fmla="*/ 529200 w 61092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014560" y="4371840"/>
            <a:ext cx="611280" cy="1008360"/>
          </a:xfrm>
          <a:custGeom>
            <a:avLst/>
            <a:gdLst>
              <a:gd name="textAreaLeft" fmla="*/ 81720 w 611280"/>
              <a:gd name="textAreaRight" fmla="*/ 529560 w 61128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7701120" y="3489480"/>
            <a:ext cx="610920" cy="900000"/>
          </a:xfrm>
          <a:custGeom>
            <a:avLst/>
            <a:gdLst>
              <a:gd name="textAreaLeft" fmla="*/ 81720 w 610920"/>
              <a:gd name="textAreaRight" fmla="*/ 529200 w 610920"/>
              <a:gd name="textAreaTop" fmla="*/ 157320 h 900000"/>
              <a:gd name="textAreaBottom" fmla="*/ 652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898560" y="3489480"/>
            <a:ext cx="611280" cy="900000"/>
          </a:xfrm>
          <a:custGeom>
            <a:avLst/>
            <a:gdLst>
              <a:gd name="textAreaLeft" fmla="*/ 81720 w 611280"/>
              <a:gd name="textAreaRight" fmla="*/ 529560 w 611280"/>
              <a:gd name="textAreaTop" fmla="*/ 157320 h 900000"/>
              <a:gd name="textAreaBottom" fmla="*/ 652680 h 9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894200" y="2428920"/>
            <a:ext cx="611280" cy="1008000"/>
          </a:xfrm>
          <a:custGeom>
            <a:avLst/>
            <a:gdLst>
              <a:gd name="textAreaLeft" fmla="*/ 81720 w 611280"/>
              <a:gd name="textAreaRight" fmla="*/ 529560 w 611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706920" y="2428920"/>
            <a:ext cx="610920" cy="1008000"/>
          </a:xfrm>
          <a:custGeom>
            <a:avLst/>
            <a:gdLst>
              <a:gd name="textAreaLeft" fmla="*/ 81720 w 610920"/>
              <a:gd name="textAreaRight" fmla="*/ 529200 w 61092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2625840" y="1258920"/>
            <a:ext cx="3959280" cy="82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о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благ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огущ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в мире с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647640" y="2770200"/>
            <a:ext cx="305928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ить зло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желает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505480" y="2770200"/>
            <a:ext cx="305892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л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ить зло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в силах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1511280" y="38498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да 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себла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5900760" y="38498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да 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семог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3346560" y="2085840"/>
            <a:ext cx="2519280" cy="5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ходит, что Б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2625840" y="4713120"/>
            <a:ext cx="3959280" cy="93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как то, так и друг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т понятию Бога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ходится отриц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1690560" y="5792760"/>
            <a:ext cx="201636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 Бо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2"/>
          <p:cNvSpPr/>
          <p:nvPr/>
        </p:nvSpPr>
        <p:spPr>
          <a:xfrm>
            <a:off x="5505480" y="579276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з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3" descr="Эпикур (Рим - Капитолийский музей - red5)"/>
          <p:cNvPicPr/>
          <p:nvPr/>
        </p:nvPicPr>
        <p:blipFill>
          <a:blip r:embed="rId1"/>
          <a:stretch/>
        </p:blipFill>
        <p:spPr>
          <a:xfrm>
            <a:off x="358920" y="539640"/>
            <a:ext cx="1504800" cy="1873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Цицерон (Уффици - red)"/>
          <p:cNvPicPr/>
          <p:nvPr/>
        </p:nvPicPr>
        <p:blipFill>
          <a:blip r:embed="rId2"/>
          <a:stretch/>
        </p:blipFill>
        <p:spPr>
          <a:xfrm>
            <a:off x="7340760" y="539640"/>
            <a:ext cx="1465200" cy="1873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5:43:35Z</dcterms:created>
  <dc:creator>Николай Бирюков / Nikolai Biryukov</dc:creator>
  <dc:description>Редакция декабря 2008 г.</dc:description>
  <dc:language>en-US</dc:language>
  <cp:lastModifiedBy>LEGION</cp:lastModifiedBy>
  <dcterms:modified xsi:type="dcterms:W3CDTF">2014-11-11T10:17:39Z</dcterms:modified>
  <cp:revision>201</cp:revision>
  <dc:subject>Основы философии - Тема 8</dc:subject>
  <dc:title>Средневековая философия: Патристика</dc:title>
</cp:coreProperties>
</file>