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2.wmf" ContentType="image/x-wmf"/>
  <Override PartName="/ppt/media/image3.wmf" ContentType="image/x-wmf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8.png" ContentType="image/png"/>
  <Override PartName="/ppt/media/image5.gif" ContentType="image/gif"/>
  <Override PartName="/ppt/media/image10.gif" ContentType="image/gif"/>
  <Override PartName="/ppt/media/image14.wmf" ContentType="image/x-wmf"/>
  <Override PartName="/ppt/media/image6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439A-3162-4816-B96C-6C3C2E14B6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лекций по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 класс. Учитель Гришакина О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 – товары,  спрос на которые увеличивается при увеличении доходов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 –разновидность нормальных                                товаров, с особо высокой ценой, которые люди покупают в основном чтобы продемонстрировать свою успеш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пример очень дорогие и не всегда удобные автомоби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 -  спрос на которые снижается при  рост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спроса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разных типов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рмальны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престижного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Доходы покупателей обычно увеличивают спрос, но возникают ситуации когда спрос может и снизиться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ется полезность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зменяются цены на дополняющие или заменяющие това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яющие товары – конкурентные блага, удовлетворяющие те же потребности              (например, разные прохладительные и алкогольные напит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яющие товары – вместе удовлетворяющие потребность (например теннисные корты, ракетки, мячи, форм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жидание относительно динамики цен              в будущ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Численность и возраст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величение численности увеличивает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Привычки, вкусы, традиции и предпочтения населения – наименее предсказуемый фактор и очень изменчи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мода – может увеличить и уменьшить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кономика в лицах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ал  людские склонности, потребности и мотивы поведения в выборе това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ил такие товаропокупающие силы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овлетворение основных материальных потребностей для выжи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нстративное расточительство для показа своего благосостоя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ление получения от жизни максимального у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нкт материнства, родительские чув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здное любопытство, инстинкт себялю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ндивидуальный спрос каждого отдельного покупателя в основном формируется на его субъективной оценки полезности товар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Рыночный спрос  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много бедных людей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трана, где доходы более равномерн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уменьшается       при общем росте уровня цен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90-х годах в России был катастрофически высок уровень инфляции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принять 1990г - цены за 1, то 1992 г – цены выросли в 68 раз,  2000 г – в 12181 раз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желаемыми товарами, «мечтами»             и реальными  возможностями есть грань – платежеспособный спр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числа покупок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зменение  цены  в 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Коэффициент  ценовой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деляют товары эластичного спроса с коэфф. больше единицы , например: предметы роскоши и  товары неэластичного спроса, с коэфф. меньше единицы, например: предметы первой необходим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определенный товар для увеличения доходов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ак например, повышая цену на товары неэластичного спроса, можно увеличить выручку (их все равно надо покупать, например - зубную пасту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а  повышая цену товары эластичного спроса – можно потерять выручку (потому что в них нет особой и постоянной необходимости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) наличие товаров-заменителей (чем их больше, тем хуже основному товару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«эффект дохода»: 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хотя эти акцизы повышают цены, объемы покупок не падают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то резко возрастают  доходы                   в казну государств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опросы для проверки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и обсуждения темы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 чем отличие величины спроса от величины потребност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 чем гласит 1-й закон экономик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Могут ли продукты питания относиться к категории престижных товаров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фирмы во всем мире ищут  рынки товаров, которые являются новинками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Целесообразен ли акциз на сливочное масло?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</a:t>
            </a:r>
            <a:br>
              <a:rPr sz="1200"/>
            </a:b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реагирует на уменьшение цены с различной эластичностью. 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–масштаб изменения величины спроса в % при изменении цены на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Формула эластичности спроса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 – эластичность спроса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q –величина спроса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p – цена (2 – новая, 1- прежняя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спроса  больше единицы, то величина спроса меняется быстрее, чем цена – спрос 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Если эластичность меньше единицы, то величина спроса меняется медленнее, чем цена,  то спрос неэластич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проса показывает объем товара, который покупатели готовы купить               за определенный период  (месяц, год)                     при определенной цене на н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зависимость величины спроса на данном рынке от цен на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(1-ый закон экономики) -  повышение цен на товары  обычно ведет                  к уменьшение спроса на них,  а снижение –                 к увелич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предложения -  повышение цен на товары обычно ведет к росту величины предложения, а снижение цен – к уменьшению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учка от продаж – денежная сумма, получаемая при продаже и равная произведению числа проданных товаров          на цену по которой их купи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FA2-6A85-472F-A92A-5263795B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B6C-9361-4CF7-B6D3-223614D0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19C-984F-4EC2-859D-B2EB3054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FE7-9EC8-4AE7-8B01-CA9D53F5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038F-F90C-4EB8-8811-C1C96641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E853-DCEC-4A77-94B0-725495E2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0D5A-1DE6-4015-B1A9-D8423011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18D8-4FA2-4A5C-93CA-DBB972B0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BC9F-8C87-4FB5-8AAE-23CDFBAF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20A7-4217-4BAD-8640-F1674D57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B05A-9486-4B62-9E0F-CA23F98E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354-B380-4541-B07F-276680B0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57C6-416F-4F9D-8353-1102EA9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A17C-163B-4244-98F2-9369A39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2EF4-AB02-417E-843C-FFEE1F48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BA15-B676-4527-BF26-A34CA2E2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06A4-18D3-4688-AF88-F12DDF1E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7F5-9992-4957-9AA1-2C27F0D5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67A-4EFD-4495-A55B-5EC07E16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C51-42DE-4338-BDE7-A10E5346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872-DF37-444F-B880-73974772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956-8D55-4E49-9008-912EC51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0B9-DDB1-482A-82CF-BB9C0FDF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78C-A534-4FBB-8131-37349525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CA1-AB94-4D11-9D8A-A418BFD898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7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0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3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3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3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3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3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3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4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3DC7-6B70-466F-A238-1B5B6828A43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28960" y="498240"/>
            <a:ext cx="5619600" cy="2323800"/>
          </a:xfrm>
          <a:prstGeom prst="rect">
            <a:avLst/>
          </a:prstGeom>
          <a:solidFill>
            <a:srgbClr val="f5eed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спроса                     и поведение покупателе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14680" y="5337000"/>
            <a:ext cx="710712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урс лекций по экономике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11 класс. Учитель Гришакина О.П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icture 4" descr="7"/>
          <p:cNvPicPr/>
          <p:nvPr/>
        </p:nvPicPr>
        <p:blipFill>
          <a:blip r:embed="rId1"/>
          <a:stretch/>
        </p:blipFill>
        <p:spPr>
          <a:xfrm>
            <a:off x="4357800" y="2846520"/>
            <a:ext cx="2774880" cy="2603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Товары можно классифицировать              по типам в зависимости от их реакции на  изменения доходов покупа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71400" y="1643040"/>
            <a:ext cx="741996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рмальны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товары,  спрос на которые увеличивается при увеличении доходов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престиж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разновидность нормальных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товаров, с особо высокой ценой, которые люди покупают в основном чтобы продемонстрировать свою успешность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(например очень дорогие и не всегда удобные автомобил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овары низшей категории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спрос на которые снижается при  росте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8" name="Picture 4" descr="C:\Documents and Settings\Администратор\Мои документы\уроки ЭКОНОМИКИ\значки  и картины для презентаций\рисунки и анимашки для презентаций\1 (77).png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е спрос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зных типов това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Дуга 6"/>
          <p:cNvSpPr/>
          <p:nvPr/>
        </p:nvSpPr>
        <p:spPr>
          <a:xfrm rot="20043600">
            <a:off x="815760" y="5301720"/>
            <a:ext cx="6402240" cy="1941840"/>
          </a:xfrm>
          <a:custGeom>
            <a:avLst/>
            <a:gdLst/>
            <a:ahLst/>
            <a:rect l="l" t="t" r="r" b="b"/>
            <a:pathLst>
              <a:path stroke="0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  <a:lnTo>
                  <a:pt x="3201194" y="970757"/>
                </a:lnTo>
                <a:lnTo>
                  <a:pt x="2108342" y="58321"/>
                </a:lnTo>
                <a:close/>
              </a:path>
              <a:path fill="none" w="6402388" h="1941513">
                <a:moveTo>
                  <a:pt x="2108342" y="58321"/>
                </a:moveTo>
                <a:cubicBezTo>
                  <a:pt x="2571129" y="7348"/>
                  <a:pt x="3066452" y="-10565"/>
                  <a:pt x="3555789" y="5974"/>
                </a:cubicBezTo>
                <a:cubicBezTo>
                  <a:pt x="5211683" y="61941"/>
                  <a:pt x="6449145" y="493730"/>
                  <a:pt x="6401055" y="99877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Дуга 7"/>
          <p:cNvSpPr/>
          <p:nvPr/>
        </p:nvSpPr>
        <p:spPr>
          <a:xfrm rot="3603000">
            <a:off x="1262880" y="1449720"/>
            <a:ext cx="2928960" cy="5267520"/>
          </a:xfrm>
          <a:custGeom>
            <a:avLst/>
            <a:gdLst/>
            <a:ahLst/>
            <a:rect l="l" t="t" r="r" b="b"/>
            <a:pathLst>
              <a:path stroke="0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  <a:lnTo>
                  <a:pt x="1464469" y="2633663"/>
                </a:lnTo>
                <a:lnTo>
                  <a:pt x="1464469" y="0"/>
                </a:lnTo>
                <a:close/>
              </a:path>
              <a:path fill="none" w="2928938" h="5267325">
                <a:moveTo>
                  <a:pt x="1464469" y="0"/>
                </a:moveTo>
                <a:cubicBezTo>
                  <a:pt x="2135134" y="0"/>
                  <a:pt x="2720094" y="819294"/>
                  <a:pt x="2884342" y="1988673"/>
                </a:cubicBezTo>
                <a:cubicBezTo>
                  <a:pt x="2968843" y="2590290"/>
                  <a:pt x="2932511" y="3226245"/>
                  <a:pt x="2781751" y="3784393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Дуга 8"/>
          <p:cNvSpPr/>
          <p:nvPr/>
        </p:nvSpPr>
        <p:spPr>
          <a:xfrm rot="14358000">
            <a:off x="4945680" y="-1562760"/>
            <a:ext cx="2489040" cy="9288360"/>
          </a:xfrm>
          <a:custGeom>
            <a:avLst/>
            <a:gdLst/>
            <a:ahLst/>
            <a:rect l="l" t="t" r="r" b="b"/>
            <a:pathLst>
              <a:path stroke="0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  <a:lnTo>
                  <a:pt x="1244600" y="4644232"/>
                </a:lnTo>
                <a:lnTo>
                  <a:pt x="1152536" y="12723"/>
                </a:lnTo>
                <a:close/>
              </a:path>
              <a:path fill="none" w="2489200" h="9288463">
                <a:moveTo>
                  <a:pt x="1152536" y="12723"/>
                </a:moveTo>
                <a:cubicBezTo>
                  <a:pt x="1858632" y="-182711"/>
                  <a:pt x="2466122" y="1856247"/>
                  <a:pt x="2488574" y="449695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Хорда 9"/>
          <p:cNvSpPr/>
          <p:nvPr/>
        </p:nvSpPr>
        <p:spPr>
          <a:xfrm>
            <a:off x="2143080" y="542916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609757" y="609757"/>
                </a:moveTo>
                <a:cubicBezTo>
                  <a:pt x="495442" y="724072"/>
                  <a:pt x="318599" y="747353"/>
                  <a:pt x="178593" y="666521"/>
                </a:cubicBezTo>
                <a:cubicBezTo>
                  <a:pt x="38587" y="585688"/>
                  <a:pt x="-29672" y="420897"/>
                  <a:pt x="12170" y="264740"/>
                </a:cubicBezTo>
                <a:cubicBezTo>
                  <a:pt x="54012" y="108583"/>
                  <a:pt x="195522" y="-1"/>
                  <a:pt x="357187" y="-1"/>
                </a:cubicBezTo>
                <a:lnTo>
                  <a:pt x="609757" y="609757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28960" y="14288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ормальные товары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4786200" y="3000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вары престижного спрос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929280" y="457200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Товары низшей категори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429000" y="58579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TextBox 15"/>
          <p:cNvSpPr/>
          <p:nvPr/>
        </p:nvSpPr>
        <p:spPr>
          <a:xfrm rot="16200000">
            <a:off x="1019880" y="298044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еличина спрос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72" name="Picture 14" descr="C:\Documents and Settings\Администратор\Мои документы\уроки ЭКОНОМИКИ\значки  и картины для презентаций\рисунки и анимашки для презентаций\1 (33).gif"/>
          <p:cNvPicPr/>
          <p:nvPr/>
        </p:nvPicPr>
        <p:blipFill>
          <a:blip r:embed="rId1"/>
          <a:stretch/>
        </p:blipFill>
        <p:spPr>
          <a:xfrm>
            <a:off x="7215120" y="428760"/>
            <a:ext cx="127656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6840" y="1499760"/>
            <a:ext cx="76345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Доходы покупателей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ычно увеличивают спрос, но возникают ситуации когда спрос может и снизиться есл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ется полезность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изменяются цены на дополняющие или заменяющие товар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ме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конкурентные блага, удовлетворяющие те же потребности              (например, разные прохладительные и алкогольные напитк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полняющие товары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– вместе удовлетворяющие потребность (например теннисные корты, ракетки, мячи, форма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6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8001000" y="2571840"/>
            <a:ext cx="800280" cy="657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Ожидание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тносительно динамики цен              в будущем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фактор сказывается, когда бывает ситуация, что люди опасаются скачка цен            и покупают больше в запа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Численность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возраст покупателе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увеличение численности увеличивает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старение нации (пенсионные доходы) уменьшает спрос в целом, и особенно на детские и молодежные товары, увеличивает на фармацевтические и медицински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0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786800" y="2000160"/>
            <a:ext cx="79992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лияние общерыночных факторов формирования спро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0012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Привычки,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кусы, традиции и предпочтения населения – наименее предсказуемый фактор и очень изменчивый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мода – может увеличить и уменьшить спрос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религиозные предпочтения                  в продуктах питания и их составляющих могут сделать товар полностью непродаваемым в регионе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пример, усиленная реклама профилактических средств и здорового образа жизни породила огромный рынок сопутствующих товар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4" name="Picture 4" descr="C:\Documents and Settings\Администратор\Мои документы\уроки ЭКОНОМИКИ\значки  и картины для презентаций\рисунки и анимашки для презентаций\1 (35).gif"/>
          <p:cNvPicPr/>
          <p:nvPr/>
        </p:nvPicPr>
        <p:blipFill>
          <a:blip r:embed="rId1"/>
          <a:stretch/>
        </p:blipFill>
        <p:spPr>
          <a:xfrm>
            <a:off x="7358040" y="4143240"/>
            <a:ext cx="800280" cy="657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3920" y="228600"/>
            <a:ext cx="7929720" cy="127152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Экономика в лицах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зучения спроса.  Торстейн ВЕБЛЕН – аналитик людских склон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643880" cy="51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Американский экономист Торстейн Веблен (1857-1929) происходил из бедной норвежской семьи фермеров, переехавшей в США, стал доктором наук, но закончил жизнь в крайней бедност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зучал  людские склонности, потребности и мотивы поведения в выборе товар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делил такие товаропокупающие силы как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довлетворение основных материальных потребностей для выжива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емонстративное расточительство для показа своего благосостоян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ремление получения от жизни максимального удовольств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стинкт материнства, родительские чув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раздное любопытство, инстинкт себялюбия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88" name="Picture 4" descr="C:\Documents and Settings\Администратор\Мои документы\уроки ЭКОНОМИКИ\значки  и картины для презентаций\рисунки и анимашки для презентаций\1 (29).gif"/>
          <p:cNvPicPr/>
          <p:nvPr/>
        </p:nvPicPr>
        <p:blipFill>
          <a:blip r:embed="rId1"/>
          <a:stretch/>
        </p:blipFill>
        <p:spPr>
          <a:xfrm>
            <a:off x="7572240" y="3429000"/>
            <a:ext cx="13338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ндивидуальный, рыночный                  и совокупный спр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ндивидуаль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ого отдельного покупателя в основном формируется на его субъективной оценки полезности товара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ыночный спрос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формируется в масштабах рынка определенного вида товара или экономики в целом всеми покупателями             в сумме их численности, возможностей с разными доходами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овокупный спрос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общее количество  конечных товаров и услуг всех видов, которое все покупатели страны готовы приобрести в течение определенного периода при сложившемся уровне ц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92" name="Picture 4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8001000" y="5000760"/>
            <a:ext cx="955800" cy="137304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висимость спроса от доли покупателей с разными доход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Стрелка вверх 3"/>
          <p:cNvSpPr/>
          <p:nvPr/>
        </p:nvSpPr>
        <p:spPr>
          <a:xfrm>
            <a:off x="1928880" y="1571760"/>
            <a:ext cx="214200" cy="478620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Стрелка вправо 5"/>
          <p:cNvSpPr/>
          <p:nvPr/>
        </p:nvSpPr>
        <p:spPr>
          <a:xfrm>
            <a:off x="2000160" y="6215040"/>
            <a:ext cx="6357960" cy="2142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Дуга 8"/>
          <p:cNvSpPr/>
          <p:nvPr/>
        </p:nvSpPr>
        <p:spPr>
          <a:xfrm rot="10374000">
            <a:off x="2239560" y="-3122640"/>
            <a:ext cx="4950000" cy="8820000"/>
          </a:xfrm>
          <a:custGeom>
            <a:avLst/>
            <a:gdLst/>
            <a:ahLst/>
            <a:rect l="l" t="t" r="r" b="b"/>
            <a:pathLst>
              <a:path stroke="0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  <a:lnTo>
                  <a:pt x="2474913" y="4410076"/>
                </a:lnTo>
                <a:lnTo>
                  <a:pt x="2387305" y="2764"/>
                </a:lnTo>
                <a:close/>
              </a:path>
              <a:path fill="none" w="4949825" h="8820151">
                <a:moveTo>
                  <a:pt x="2387305" y="2764"/>
                </a:moveTo>
                <a:cubicBezTo>
                  <a:pt x="3723518" y="-81573"/>
                  <a:pt x="4855743" y="1740449"/>
                  <a:pt x="4944381" y="4117714"/>
                </a:cubicBezTo>
              </a:path>
            </a:pathLst>
          </a:custGeom>
          <a:solidFill>
            <a:srgbClr val="e5d58a"/>
          </a:solidFill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286000" y="14288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трана, где много бедных людей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5715000" y="32860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ана, где доходы более равномерны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4857840" y="58579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количество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 rot="16200000">
            <a:off x="765360" y="2020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Дуга 13"/>
          <p:cNvSpPr/>
          <p:nvPr/>
        </p:nvSpPr>
        <p:spPr>
          <a:xfrm rot="9076200">
            <a:off x="3374280" y="574200"/>
            <a:ext cx="2894040" cy="4086360"/>
          </a:xfrm>
          <a:custGeom>
            <a:avLst/>
            <a:gdLst/>
            <a:ahLst/>
            <a:rect l="l" t="t" r="r" b="b"/>
            <a:pathLst>
              <a:path stroke="0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  <a:lnTo>
                  <a:pt x="1447007" y="2043113"/>
                </a:lnTo>
                <a:cubicBezTo>
                  <a:pt x="1447007" y="1362075"/>
                  <a:pt x="1447006" y="681038"/>
                  <a:pt x="1447006" y="0"/>
                </a:cubicBezTo>
                <a:close/>
              </a:path>
              <a:path fill="none" w="2894013" h="4086225">
                <a:moveTo>
                  <a:pt x="1447006" y="0"/>
                </a:moveTo>
                <a:cubicBezTo>
                  <a:pt x="2075431" y="0"/>
                  <a:pt x="2632017" y="572711"/>
                  <a:pt x="2824480" y="1417383"/>
                </a:cubicBezTo>
                <a:cubicBezTo>
                  <a:pt x="2954338" y="1987294"/>
                  <a:pt x="2900627" y="2608948"/>
                  <a:pt x="2677543" y="3118066"/>
                </a:cubicBezTo>
              </a:path>
            </a:pathLst>
          </a:custGeom>
          <a:solidFill>
            <a:srgbClr val="e5d58a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2071800" y="4572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8"/>
          <p:cNvSpPr/>
          <p:nvPr/>
        </p:nvSpPr>
        <p:spPr>
          <a:xfrm>
            <a:off x="2071800" y="5715000"/>
            <a:ext cx="371448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Кольцо 20"/>
          <p:cNvSpPr/>
          <p:nvPr/>
        </p:nvSpPr>
        <p:spPr>
          <a:xfrm>
            <a:off x="3571920" y="3429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Кольцо 21"/>
          <p:cNvSpPr/>
          <p:nvPr/>
        </p:nvSpPr>
        <p:spPr>
          <a:xfrm>
            <a:off x="3214800" y="4572000"/>
            <a:ext cx="1285920" cy="1071720"/>
          </a:xfrm>
          <a:custGeom>
            <a:avLst/>
            <a:gdLst/>
            <a:ahLst/>
            <a:rect l="l" t="t" r="r" b="b"/>
            <a:pathLst>
              <a:path w="1285875" h="1071563">
                <a:moveTo>
                  <a:pt x="0" y="535782"/>
                </a:moveTo>
                <a:cubicBezTo>
                  <a:pt x="0" y="239878"/>
                  <a:pt x="287853" y="0"/>
                  <a:pt x="642938" y="0"/>
                </a:cubicBezTo>
                <a:cubicBezTo>
                  <a:pt x="998023" y="0"/>
                  <a:pt x="1285876" y="239878"/>
                  <a:pt x="1285876" y="535782"/>
                </a:cubicBezTo>
                <a:cubicBezTo>
                  <a:pt x="1285876" y="831686"/>
                  <a:pt x="998023" y="1071564"/>
                  <a:pt x="642938" y="1071564"/>
                </a:cubicBezTo>
                <a:cubicBezTo>
                  <a:pt x="287853" y="1071564"/>
                  <a:pt x="0" y="831686"/>
                  <a:pt x="0" y="535782"/>
                </a:cubicBezTo>
                <a:close/>
                <a:moveTo>
                  <a:pt x="49571" y="535782"/>
                </a:moveTo>
                <a:cubicBezTo>
                  <a:pt x="49571" y="804309"/>
                  <a:pt x="315230" y="1021993"/>
                  <a:pt x="642938" y="1021993"/>
                </a:cubicBezTo>
                <a:cubicBezTo>
                  <a:pt x="970646" y="1021993"/>
                  <a:pt x="1236305" y="804309"/>
                  <a:pt x="1236305" y="535782"/>
                </a:cubicBezTo>
                <a:cubicBezTo>
                  <a:pt x="1236305" y="267255"/>
                  <a:pt x="970646" y="49571"/>
                  <a:pt x="642938" y="49571"/>
                </a:cubicBezTo>
                <a:cubicBezTo>
                  <a:pt x="315230" y="49571"/>
                  <a:pt x="49571" y="267255"/>
                  <a:pt x="49571" y="535782"/>
                </a:cubicBez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1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2148480" y="52862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цена2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5429160" y="4857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низ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Прямоугольник 25"/>
          <p:cNvSpPr/>
          <p:nvPr/>
        </p:nvSpPr>
        <p:spPr>
          <a:xfrm>
            <a:off x="3949200" y="30002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Больше покупается по более высоким ценам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Прямая со стрелкой 27"/>
          <p:cNvCxnSpPr/>
          <p:nvPr/>
        </p:nvCxnSpPr>
        <p:spPr>
          <a:xfrm flipH="1">
            <a:off x="4928400" y="3357720"/>
            <a:ext cx="429480" cy="42912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312" name="Прямая со стрелкой 28"/>
          <p:cNvCxnSpPr/>
          <p:nvPr/>
        </p:nvCxnSpPr>
        <p:spPr>
          <a:xfrm flipH="1" flipV="1">
            <a:off x="4571280" y="5071680"/>
            <a:ext cx="786600" cy="2160"/>
          </a:xfrm>
          <a:prstGeom prst="straightConnector1">
            <a:avLst/>
          </a:prstGeom>
          <a:ln w="57240">
            <a:solidFill>
              <a:srgbClr val="333300"/>
            </a:solidFill>
            <a:miter/>
            <a:tailEnd len="med" type="arrow" w="med"/>
          </a:ln>
        </p:spPr>
      </p:cxnSp>
      <p:sp>
        <p:nvSpPr>
          <p:cNvPr id="31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571760" y="642960"/>
            <a:ext cx="734832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овокупный спрос уменьшается       при общем росте уровня цен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Чем выше цены, тем меньше покупается этот товар и  спрос покупателей переключается на товары- аналоги, заменители               или другие услуги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а также доходы населения  больше переводятся не в товары, а в сбережения в банках или просто накопление дома (на будущее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15" name="Picture 3" descr="C:\Documents and Settings\Администратор\Мои документы\уроки ЭКОНОМИКИ\значки  и картины для презентаций\рисунки и анимашки для презентаций\1 (14).wmf"/>
          <p:cNvPicPr/>
          <p:nvPr/>
        </p:nvPicPr>
        <p:blipFill>
          <a:blip r:embed="rId1"/>
          <a:stretch/>
        </p:blipFill>
        <p:spPr>
          <a:xfrm>
            <a:off x="7858080" y="1857240"/>
            <a:ext cx="955800" cy="13734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Пример из недавней экономической истори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500120" y="1428480"/>
            <a:ext cx="7491600" cy="48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90-х годах в России был катастрофически высок уровень инфляции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принять 1990г - цены за 1, то 1992 г – цены выросли в 68 раз,  2000 г – в 12181 раз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вокупный спрос  на товары упал, россияне стали переводить доходы                        в валюту, так сберегая их, спрос на нее вырос. ( в 1992-1997 годах общие расходы выросли в 260 раз, на  валюту  в 8640 раз и составили 18-20% от расходов семьи)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 1998 году инфляция уменьшилась, стали больше покупать товары, с 1999 года опять выросла, стали больше покупать валюты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спрос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42680" y="1213920"/>
            <a:ext cx="7348680" cy="50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Каждый человек имеет потребности.                      За необходимым он выходит на рынок товаров и услуг. Он должен обладать для этого деньгами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жду желаемыми товарами, «мечтами»             и реальными  возможностями есть грань 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тежеспособный спрос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рыночных процессов важны только те желания покупателей, которые могут быть подкреплены деньгам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рос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характеризует  состояние рынка, связь массы товаров, которую люди готовы купить с величиной цен, по которой они могут совершить покупку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5" name="Picture 4" descr="C:\Documents and Settings\Администратор\Мои документы\уроки ЭКОНОМИКИ\значки  и картины для презентаций\рисунки и анимашки для презентаций\1 (6).wmf"/>
          <p:cNvPicPr/>
          <p:nvPr/>
        </p:nvPicPr>
        <p:blipFill>
          <a:blip r:embed="rId1"/>
          <a:stretch/>
        </p:blipFill>
        <p:spPr>
          <a:xfrm>
            <a:off x="7286760" y="214200"/>
            <a:ext cx="1657080" cy="10717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эластичности спроса                      и причины ее существ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99760" y="1523520"/>
            <a:ext cx="73580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озможность  трудностей сбыта товаров заставляет изучать спрос и прогнозировать его изменения, отдельно занимаясь эластичностью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071800" y="3500280"/>
            <a:ext cx="371448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2080440" y="300024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числа покупок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2214720" y="357192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Изменение  цены  в %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6072120" y="3357720"/>
            <a:ext cx="428760" cy="144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11"/>
          <p:cNvSpPr/>
          <p:nvPr/>
        </p:nvSpPr>
        <p:spPr>
          <a:xfrm>
            <a:off x="6072120" y="3643200"/>
            <a:ext cx="428760" cy="180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6715080" y="300024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эффициент  ценовой эластичност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3214800" y="4071960"/>
            <a:ext cx="4000320" cy="52056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Например: 8 : 5= 1.6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5"/>
          <p:cNvSpPr/>
          <p:nvPr/>
        </p:nvSpPr>
        <p:spPr>
          <a:xfrm flipH="1">
            <a:off x="1926720" y="3143160"/>
            <a:ext cx="180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0" name="Прямая соединительная линия 16"/>
          <p:cNvSpPr/>
          <p:nvPr/>
        </p:nvSpPr>
        <p:spPr>
          <a:xfrm flipH="1">
            <a:off x="1928880" y="3643200"/>
            <a:ext cx="1440" cy="35748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 flipH="1">
            <a:off x="5857920" y="307188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 flipH="1">
            <a:off x="5857920" y="3571920"/>
            <a:ext cx="1440" cy="3571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1357200" y="485784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Выделяют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товары эластичного спроса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с коэфф. больше единицы , например: предметы роскоши и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вары не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, с коэфф. меньше единицы, например: предметы первой необходимост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85840"/>
            <a:ext cx="7500960" cy="59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 помощью точных подсчетов и детального изучения эластичности спроса экономисты могут  повысить обоснованность решений фирмы стоит ли увеличивать цены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определенный товар для увеличения доход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ак например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на товары неэластичного спроса,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можно увеличить выручку (их все равно надо покупать, например - зубную пасту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вышая цену товары эластичного спрос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– можно потерять выручку (потому что в них нет особой и постоянной необходимости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36" name="Picture 4" descr="C:\Documents and Settings\Администратор\Мои документы\уроки ЭКОНОМИКИ\значки  и картины для презентаций\рисунки и анимашки для презентаций\1 (62).gif"/>
          <p:cNvPicPr/>
          <p:nvPr/>
        </p:nvPicPr>
        <p:blipFill>
          <a:blip r:embed="rId1"/>
          <a:stretch/>
        </p:blipFill>
        <p:spPr>
          <a:xfrm>
            <a:off x="7929720" y="5715000"/>
            <a:ext cx="895320" cy="7714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84312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акторы, определяющие уровни коэффициентов эласт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00120" y="1142640"/>
            <a:ext cx="749160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) наличие товаров-заменителей (чем их больше, тем хуже основному товару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) размер доходов покупателей (если на товар тратится значительная часть дохода, то изменение цены значимо сильнее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эффект дохода»: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снижении цены (или росте доходов) товар становится по отношению к общей доле  дохода человека более дешевым и поэтому покупатель покупает его больше, не отказываясь от других привычных покупок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) время (чем больше проходит время  с повышения цены, тем легче найти заменитель товара  больше падает спрос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0" name="Picture 4" descr="C:\Documents and Settings\Администратор\Мои документы\уроки ЭКОНОМИКИ\значки  и картины для презентаций\рисунки и анимашки для презентаций\1 (8).wmf"/>
          <p:cNvPicPr/>
          <p:nvPr/>
        </p:nvPicPr>
        <p:blipFill>
          <a:blip r:embed="rId1"/>
          <a:stretch/>
        </p:blipFill>
        <p:spPr>
          <a:xfrm>
            <a:off x="7597800" y="214200"/>
            <a:ext cx="1235160" cy="107172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р использования  понятия об эластичности спроса налоговыми служб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8480" y="142848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ная, что  спрос например,  на соль, алкоголь, табак – мало эластичны, правительства разных стран  издавна устанавливают на них особые налоги в пользу государства, добавляемые к цене – акцизы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 хотя эти акцизы повышают цены, объемы покупок не падают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то резко возрастают  доходы                   в казну государства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44" name="Picture 4" descr="C:\Documents and Settings\Администратор\Мои документы\уроки ЭКОНОМИКИ\значки  и картины для презентаций\рисунки и анимашки для презентаций\1 (15).wmf"/>
          <p:cNvPicPr/>
          <p:nvPr/>
        </p:nvPicPr>
        <p:blipFill>
          <a:blip r:embed="rId1"/>
          <a:stretch/>
        </p:blipFill>
        <p:spPr>
          <a:xfrm>
            <a:off x="5891040" y="5538960"/>
            <a:ext cx="3252960" cy="1319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2"/>
          <a:stretch/>
        </p:blipFill>
        <p:spPr>
          <a:xfrm>
            <a:off x="5500800" y="5581800"/>
            <a:ext cx="1542960" cy="127620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57400" y="228240"/>
            <a:ext cx="5133960" cy="1143000"/>
          </a:xfrm>
          <a:prstGeom prst="rect">
            <a:avLst/>
          </a:prstGeom>
          <a:solidFill>
            <a:srgbClr val="ffff8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опросы для проверк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обсуждения те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 чем отличие величины спроса от величины потребност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 чем гласит 1-й закон экономик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гут ли продукты питания относиться к категории престижных товаров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фирмы во всем мире ищут  рынки товаров, которые являются новинками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чему в Москве в 1992 году  рыба (самый дешевый изначально продукт) подорожала в 27,4 раза,  сахар   в 19 раз, молоко в 9,3 раза, а мясо только 3, 1 раз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Если выручка фирмы от продаж возросла  за год на 30%, а количество проданных товаров на 15%, на сколько изменилась цена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Целесообразен ли акциз на сливочное масло?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4960" y="428760"/>
            <a:ext cx="7348680" cy="115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личина спрос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импортные качественные спортивные велосип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85960" y="2071800"/>
          <a:ext cx="7000920" cy="4572000"/>
        </p:xfrm>
        <a:graphic>
          <a:graphicData uri="http://schemas.openxmlformats.org/drawingml/2006/table">
            <a:tbl>
              <a:tblPr/>
              <a:tblGrid>
                <a:gridCol w="3579840"/>
                <a:gridCol w="3421080"/>
              </a:tblGrid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велосипеда  в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$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ые покупки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d58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6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3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f7ed"/>
                    </a:solidFill>
                  </a:tcPr>
                </a:tc>
              </a:tr>
              <a:tr h="457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00"/>
                          </a:solidFill>
                          <a:latin typeface="Arial"/>
                        </a:rPr>
                        <a:t>145</a:t>
                      </a: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da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4"/>
          <p:cNvSpPr/>
          <p:nvPr/>
        </p:nvSpPr>
        <p:spPr>
          <a:xfrm>
            <a:off x="4500720" y="3429000"/>
            <a:ext cx="1857240" cy="2014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На каждый 1% снижения цены приходится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Times New Roman"/>
              </a:rPr>
              <a:t>2,04% увеличения спроса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6"/>
          <p:cNvSpPr/>
          <p:nvPr/>
        </p:nvSpPr>
        <p:spPr>
          <a:xfrm>
            <a:off x="2000160" y="3429000"/>
            <a:ext cx="6357960" cy="1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9"/>
          <p:cNvSpPr/>
          <p:nvPr/>
        </p:nvSpPr>
        <p:spPr>
          <a:xfrm>
            <a:off x="2071800" y="4429080"/>
            <a:ext cx="6357960" cy="18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Двойная стрелка вверх/вниз 11"/>
          <p:cNvSpPr/>
          <p:nvPr/>
        </p:nvSpPr>
        <p:spPr>
          <a:xfrm>
            <a:off x="4143240" y="3429000"/>
            <a:ext cx="142920" cy="10000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e5d58a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Picture 42" descr="C:\Documents and Settings\Администратор\Мои документы\уроки ЭКОНОМИКИ\значки  и картины для презентаций\рисунки и анимашки для презентаций\1 (34).gif"/>
          <p:cNvPicPr/>
          <p:nvPr/>
        </p:nvPicPr>
        <p:blipFill>
          <a:blip r:embed="rId1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7643880" cy="1343160"/>
          </a:xfrm>
          <a:prstGeom prst="rect">
            <a:avLst/>
          </a:prstGeom>
          <a:solidFill>
            <a:srgbClr val="ffff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покупок (величина спроса) зависит от цены, чем ниже цена, тем больше товаров будет купл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00120" y="1643040"/>
            <a:ext cx="7491600" cy="45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ля показа  картины спроса рисуют кривую спроса в виде графика и шкалу спроса                   в виде таблицы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реагирует на уменьшение цены с различной эластичностью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эффициент эластичности определяют путем  деления разницы (в %) в величинах спроса на разницу между прежним  и новым  уровнем цен в %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ластичность спроса –масштаб изменения величины спроса в % при изменении цены на 1%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17" name="Picture 4" descr="C:\Documents and Settings\Администратор\Мои документы\уроки ЭКОНОМИКИ\значки  и картины для презентаций\рисунки и анимашки для презентаций\1 (41).gif"/>
          <p:cNvPicPr/>
          <p:nvPr/>
        </p:nvPicPr>
        <p:blipFill>
          <a:blip r:embed="rId1"/>
          <a:stretch/>
        </p:blipFill>
        <p:spPr>
          <a:xfrm>
            <a:off x="8072280" y="1000080"/>
            <a:ext cx="87660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ула эластичности с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4"/>
          <p:cNvSpPr/>
          <p:nvPr/>
        </p:nvSpPr>
        <p:spPr>
          <a:xfrm>
            <a:off x="3643200" y="2786040"/>
            <a:ext cx="135756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5"/>
          <p:cNvSpPr/>
          <p:nvPr/>
        </p:nvSpPr>
        <p:spPr>
          <a:xfrm>
            <a:off x="5643720" y="2786040"/>
            <a:ext cx="135720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5286240" y="264312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5286240" y="2928960"/>
            <a:ext cx="142920" cy="142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3143160" y="264312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>
            <a:off x="3143160" y="2928960"/>
            <a:ext cx="357120" cy="144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2071800" y="200016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00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44330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4075920" y="26431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364716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5718960" y="1571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6504840" y="16430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5933160" y="27147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1571760" y="400068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Е – эластичность спроса,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q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величина спроса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(2 – новая, 1- прежняя),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– цена (2 – новая, 1- прежняя)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4075200" y="214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47178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678960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457524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6289920" y="3143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5932080" y="2143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Прямая соединительная линия 28"/>
          <p:cNvSpPr/>
          <p:nvPr/>
        </p:nvSpPr>
        <p:spPr>
          <a:xfrm>
            <a:off x="4143240" y="2143080"/>
            <a:ext cx="35748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29"/>
          <p:cNvSpPr/>
          <p:nvPr/>
        </p:nvSpPr>
        <p:spPr>
          <a:xfrm>
            <a:off x="6215040" y="2143080"/>
            <a:ext cx="357120" cy="1800"/>
          </a:xfrm>
          <a:prstGeom prst="line">
            <a:avLst/>
          </a:prstGeom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00120" y="18360"/>
            <a:ext cx="75009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00120" y="856800"/>
            <a:ext cx="7491600" cy="53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спроса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быстрее, чем цена – спрос 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сли эластично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ьше единицы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то величина спроса меняется медленнее, чем цена,  то спрос неэластичен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эластичным спросом: предметы роскоши, драгоценности, шампанское, деликатесы,  мебель, телевизоры, легкозаменяемые товары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овары с неэластичным спросом:  предметы первой необходимости, лекарства, обувь, электричество, телефон, зубные щетки, лампочки, бензин…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228600"/>
            <a:ext cx="8143920" cy="84312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личина спроса и спрос раз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792972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еличина спроса показывает объем товара, который покупатели готовы купить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за определенный период  (месяц, год)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ной цене на него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прос - зависимость величины спроса на данном рынке от цен на определенный период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проса (1-ый закон экономики)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 обычно ведет                  к уменьшение спроса на них,  а снижение –                 к увеличению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предложения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-  повышение цен на товары обычно ведет к росту величины предложения, а снижение цен – к уменьшению предложен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вышение цен не всегда гарантирует увеличение выручки от продаж, а снижение цен               не всегда  грозит падением выру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00120" y="1357200"/>
            <a:ext cx="7491600" cy="48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ри определении цены на свой товар коммерсант  обязательно должен прикинуть, сколько он может выручить  при такой цене исходя из существующей эластичности спрос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ручка от продаж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– денежная сумма, получаемая при продаже и равная произведению числа проданных товаров          на цену по которой их купил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 формирование спроса кроме его цены влияют:  полезность товара, цены на другие товары, уровень доходов покупателей, численность и возраст покупателей, вкусы, традиции, реклама, ожидания динамики цен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54" name="Picture 4" descr="C:\Documents and Settings\Администратор\Мои документы\уроки ЭКОНОМИКИ\значки  и картины для презентаций\рисунки и анимашки для презентаций\1 (23).gif"/>
          <p:cNvPicPr/>
          <p:nvPr/>
        </p:nvPicPr>
        <p:blipFill>
          <a:blip r:embed="rId1"/>
          <a:stretch/>
        </p:blipFill>
        <p:spPr>
          <a:xfrm>
            <a:off x="7786800" y="2500200"/>
            <a:ext cx="1357200" cy="11224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7:17:40Z</dcterms:created>
  <dc:creator>XTreme</dc:creator>
  <dc:description/>
  <dc:language>en-US</dc:language>
  <cp:lastModifiedBy>LEGION</cp:lastModifiedBy>
  <dcterms:modified xsi:type="dcterms:W3CDTF">2016-01-04T08:17:15Z</dcterms:modified>
  <cp:revision>49</cp:revision>
  <dc:subject/>
  <dc:title>Закон спроса и поведение покупател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