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1.gif" ContentType="image/gif"/>
  <Override PartName="/ppt/media/image2.wmf" ContentType="image/x-wmf"/>
  <Override PartName="/ppt/media/image3.wmf" ContentType="image/x-wmf"/>
  <Override PartName="/ppt/media/image7.gif" ContentType="image/gif"/>
  <Override PartName="/ppt/media/image15.wmf" ContentType="image/x-wmf"/>
  <Override PartName="/ppt/media/image1.jpeg" ContentType="image/jpeg"/>
  <Override PartName="/ppt/media/image4.gif" ContentType="image/gif"/>
  <Override PartName="/ppt/media/image12.wmf" ContentType="image/x-wmf"/>
  <Override PartName="/ppt/media/image8.png" ContentType="image/png"/>
  <Override PartName="/ppt/media/image5.gif" ContentType="image/gif"/>
  <Override PartName="/ppt/media/image10.gif" ContentType="image/gif"/>
  <Override PartName="/ppt/media/image14.wmf" ContentType="image/x-wmf"/>
  <Override PartName="/ppt/media/image6.png" ContentType="image/png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8EA4-0F4C-473E-8130-C32C1D7A93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акон спроса                     и поведение покупателей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Курс лекций по экономике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1 класс. Учитель Гришакина О.П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                     и поведение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рс лекций по экономи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 класс. Учитель Гришакина О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можно классифицировать              по типам в зависимости от их реакции на  изменения доходов покупателей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ормальные товары – товары,  спрос на которые увеличивается при увеличении доходов покупателей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престижного спроса –разновидность нормальных                                товаров, с особо высокой ценой, которые люди покупают в основном чтобы продемонстрировать свою успешность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(например очень дорогие и не всегда удобные автомобили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низшей категории -  спрос на которые снижается при  росте доходов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можно классифицировать              по типам в зависимости от их реакции на  изменения доходов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льные товары – товары,  спрос на которые увеличивается при увеличении доходов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престижного спроса –разновидность нормальных                                товаров, с особо высокой ценой, которые люди покупают в основном чтобы продемонстрировать свою успеш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например очень дорогие и не всегда удобные автомобил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низшей категории -  спрос на которые снижается при  росте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спро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азных типов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льные това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престижного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низшей катего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зменение спроса</a:t>
            </a:r>
            <a:br>
              <a:rPr sz="1200"/>
            </a:b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разных типов товаров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ормальные товары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престижного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низшей категори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Доходы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еличина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. Доходы покупателей обычно увеличивают спрос, но возникают ситуации когда спрос может и снизиться если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- изменяется полезность товар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- изменяются цены на дополняющие или заменяющие товары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аменяющие товары – конкурентные блага, удовлетворяющие те же потребности              (например, разные прохладительные и алкогольные напитки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Дополняющие товары – вместе удовлетворяющие потребность (например теннисные корты, ракетки, мячи, форма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Доходы покупателей обычно увеличивают спрос, но возникают ситуации когда спрос может и снизиться ес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изменяется полезность това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изменяются цены на дополняющие или заменяющие това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меняющие товары – конкурентные блага, удовлетворяющие те же потребности              (например, разные прохладительные и алкогольные напитк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полняющие товары – вместе удовлетворяющие потребность (например теннисные корты, ракетки, мячи, форм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2. Ожидание относительно динамики цен              в будущем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- фактор сказывается, когда бывает ситуация, что люди опасаются скачка цен            и покупают больше в запас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3. Численность и возраст покупателей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- увеличение численности увеличивает спрос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- старение нации (пенсионные доходы) уменьшает спрос в целом, и особенно на детские и молодежные товары, увеличивает на фармацевтические и медицинские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жидание относительно динамики цен              в будущ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фактор сказывается, когда бывает ситуация, что люди опасаются скачка цен            и покупают больше в запа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Численность и возраст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увеличение численности увеличивает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тарение нации (пенсионные доходы) уменьшает спрос в целом, и особенно на детские и молодежные товары, увеличивает на фармацевтические и медицинск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4. Привычки, вкусы, традиции и предпочтения населения – наименее предсказуемый фактор и очень изменчивый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пример, мода – может увеличить и уменьшить спрос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пример, религиозные предпочтения                  в продуктах питания и их составляющих могут сделать товар полностью непродаваемым в регионе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пример, усиленная реклама профилактических средств и здорового образа жизни породила огромный рынок сопутствующих товаров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Привычки, вкусы, традиции и предпочтения населения – наименее предсказуемый фактор и очень изменчив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имер, мода – может увеличить и уменьшить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имер, религиозные предпочтения                  в продуктах питания и их составляющих могут сделать товар полностью непродаваемым в регио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имер, усиленная реклама профилактических средств и здорового образа жизни породила огромный рынок сопутствующих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«Экономика в лицах»</a:t>
            </a:r>
            <a:br>
              <a:rPr sz="1200"/>
            </a:b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ример изучения спроса.  Торстейн ВЕБЛЕН – аналитик людских склонностей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Американский экономист Торстейн Веблен (1857-1929) происходил из бедной норвежской семьи фермеров, переехавшей в США, стал доктором наук, но закончил жизнь в крайней бедности.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зучал  людские склонности, потребности и мотивы поведения в выборе товаров.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ыделил такие товаропокупающие силы как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удовлетворение основных материальных потребностей для выживан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демонстративное расточительство для показа своего благосостоян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тремление получения от жизни максимального удовольств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нстинкт материнства, родительские чувств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раздное любопытство, инстинкт себялюб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Экономика в лицах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изучения спроса.  Торстейн ВЕБЛЕН – аналитик людских склонност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мериканский экономист Торстейн Веблен (1857-1929) происходил из бедной норвежской семьи фермеров, переехавшей в США, стал доктором наук, но закончил жизнь в крайней бедност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ал  людские склонности, потребности и мотивы поведения в выборе товар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лил такие товаропокупающие силы ка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довлетворение основных материальных потребностей для выжи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монстративное расточительство для показа своего благосостоя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емление получения от жизни максимального удовольств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стинкт материнства, родительские чув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здное любопытство, инстинкт себялюб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ивидуальный, рыночный                  и совокупный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ивидуальный спрос каждого отдельного покупателя в основном формируется на его субъективной оценки полезности това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й спрос  формируется в масштабах рынка определенного вида товара или экономики в целом всеми покупателями             в сумме их численности, возможностей с разными доход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спрос -  общее количество  конечных товаров и услуг всех видов, которое все покупатели страны готовы приобрести в течение определенного периода при сложившемся уровне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ндивидуальный, рыночный                  и совокупный спрос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ндивидуальный спрос каждого отдельного покупателя в основном формируется на его субъективной оценки полезности товар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Рыночный спрос  формируется в масштабах рынка определенного вида товара или экономики в целом всеми покупателями             в сумме их численности, возможностей с разными доходам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овокупный спрос -  общее количество  конечных товаров и услуг всех видов, которое все покупатели страны готовы приобрести в течение определенного периода при сложившемся уровне цен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исимость спроса от доли покупателей с разными доход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на, где много бедных люд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на, где доходы более равномер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ьше покупается по низким цен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ьше покупается по более высоким цен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ависимость спроса от доли покупателей с разными доходам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трана, где много бедных людей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трана, где доходы более равномерны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количество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цен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цена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цена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Больше покупается по низким ценам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Больше покупается по более высоким ценам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спрос уменьшается       при общем росте уровня це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выше цены, тем меньше покупается этот товар и  спрос покупателей переключается на товары- аналоги, заменители               или другие услуг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также доходы населения  больше переводятся не в товары, а в сбережения в банках или просто накопление дома (на будуще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овокупный спрос уменьшается       при общем росте уровня цен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Чем выше цены, тем меньше покупается этот товар и  спрос покупателей переключается на товары- аналоги, заменители               или другие услуги,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а также доходы населения  больше переводятся не в товары, а в сбережения в банках или просто накопление дома (на будущее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из недавней экономической истории Рос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90-х годах в России был катастрофически высок уровень инфля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ринять 1990г - цены за 1, то 1992 г – цены выросли в 68 раз,  2000 г – в 12181 раз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спрос  на товары упал, россияне стали переводить доходы                        в валюту, так сберегая их, спрос на нее вырос. ( в 1992-1997 годах общие расходы выросли в 260 раз, на  валюту  в 8640 раз и составили 18-20% от расходов семь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98 году инфляция уменьшилась, стали больше покупать товары, с 1999 года опять выросла, стали больше покупать валю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ример из недавней экономической истории Росси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 90-х годах в России был катастрофически высок уровень инфляции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если принять 1990г - цены за 1, то 1992 г – цены выросли в 68 раз,  2000 г – в 12181 раз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овокупный спрос  на товары упал, россияне стали переводить доходы                        в валюту, так сберегая их, спрос на нее вырос. ( в 1992-1997 годах общие расходы выросли в 260 раз, на  валюту  в 8640 раз и составили 18-20% от расходов семьи)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 1998 году инфляция уменьшилась, стали больше покупать товары, с 1999 года опять выросла, стали больше покупать валюты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Что такое спрос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Каждый человек имеет потребности.                      За необходимым он выходит на рынок товаров и услуг. Он должен обладать для этого деньгами.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Между желаемыми товарами, «мечтами»             и реальными  возможностями есть грань – платежеспособный спрос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Для рыночных процессов важны только те желания покупателей, которые могут быть подкреплены деньгами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прос характеризует  состояние рынка, связь массы товаров, которую люди готовы купить с величиной цен, по которой они могут совершить покупку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такое спрос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человек имеет потребности.                      За необходимым он выходит на рынок товаров и услуг. Он должен обладать для этого деньг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 желаемыми товарами, «мечтами»             и реальными  возможностями есть грань – платежеспособный спро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рыночных процессов важны только те желания покупателей, которые могут быть подкреплены деньг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характеризует  состояние рынка, связь массы товаров, которую люди готовы купить с величиной цен, по которой они могут совершить покуп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эластичности спроса                      и причины ее существ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 трудностей сбыта товаров заставляет изучать спрос и прогнозировать его изменения, отдельно занимаясь эластичностью спро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числа покупок в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 цены  в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эффициент  ценовой эласти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имер: 8 : 5= 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ляют товары эластичного спроса с коэфф. больше единицы , например: предметы роскоши и  товары неэластичного спроса, с коэфф. меньше единицы, например: предметы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иды эластичности спроса                      и причины ее существован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озможность  трудностей сбыта товаров заставляет изучать спрос и прогнозировать его изменения, отдельно занимаясь эластичностью спроса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зменение числа покупок в %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зменение  цены  в %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Коэффициент  ценовой эластичност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пример: 8 : 5= 1.6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ыделяют товары эластичного спроса с коэфф. больше единицы , например: предметы роскоши и  товары неэластичного спроса, с коэфф. меньше единицы, например: предметы первой необходимост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точных подсчетов и детального изучения эластичности спроса экономисты могут  повысить обоснованность решений фирмы стоит ли увеличивать цен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определенный товар для увеличения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 например, повышая цену на товары неэластичного спроса, можно увеличить выручку (их все равно надо покупать, например - зубную пасту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 повышая цену товары эластичного спроса – можно потерять выручку (потому что в них нет особой и постоянной необходимост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 помощью точных подсчетов и детального изучения эластичности спроса экономисты могут  повысить обоснованность решений фирмы стоит ли увеличивать цены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 определенный товар для увеличения доходов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ак например, повышая цену на товары неэластичного спроса, можно увеличить выручку (их все равно надо покупать, например - зубную пасту),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а  повышая цену товары эластичного спроса – можно потерять выручку (потому что в них нет особой и постоянной необходимости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, определяющие уровни коэффициентов эласти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наличие товаров-заменителей (чем их больше, тем хуже основному товару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размер доходов покупателей (если на товар тратится значительная часть дохода, то изменение цены значимо сильне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эффект дохода»: при снижении цены (или росте доходов) товар становится по отношению к общей доле  дохода человека более дешевым и поэтому покупатель покупает его больше, не отказываясь от других привычных покуп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) время (чем больше проходит время  с повышения цены, тем легче найти заменитель товара  больше падает спро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Факторы, определяющие уровни коэффициентов эластичност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) наличие товаров-заменителей (чем их больше, тем хуже основному товару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2) размер доходов покупателей (если на товар тратится значительная часть дохода, то изменение цены значимо сильнее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«эффект дохода»: при снижении цены (или росте доходов) товар становится по отношению к общей доле  дохода человека более дешевым и поэтому покупатель покупает его больше, не отказываясь от других привычных покупок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3) время (чем больше проходит время  с повышения цены, тем легче найти заменитель товара  больше падает спрос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использования  понятия об эластичности спроса налоговыми служб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я, что  спрос например,  на соль, алкоголь, табак – мало эластичны, правительства разных стран  издавна устанавливают на них особые налоги в пользу государства, добавляемые к цене – акциз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хотя эти акцизы повышают цены, объемы покупок не падают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то резко возрастают  доходы                   в казну 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ример использования  понятия об эластичности спроса налоговыми службам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ная, что  спрос например,  на соль, алкоголь, табак – мало эластичны, правительства разных стран  издавна устанавливают на них особые налоги в пользу государства, добавляемые к цене – акцизы.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 хотя эти акцизы повышают цены, объемы покупок не падают,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ато резко возрастают  доходы                   в казну государств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для проверк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обсуждения те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ем отличие величины спроса от величины потребност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 чем гласит 1-й закон экономик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гут ли продукты питания относиться к категории престижных товар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фирмы во всем мире ищут  рынки товаров, которые являются новинкам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в Москве в 1992 году  рыба (самый дешевый изначально продукт) подорожала в 27,4 раза,  сахар   в 19 раз, молоко в 9,3 раза, а мясо только 3, 1 раз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выручка фирмы от продаж возросла  за год на 30%, а количество проданных товаров на 15%, на сколько изменилась цен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есообразен ли акциз на сливочное масло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опросы для проверки </a:t>
            </a:r>
            <a:br>
              <a:rPr sz="1200"/>
            </a:b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 обсуждения темы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 чем отличие величины спроса от величины потребности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О чем гласит 1-й закон экономики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Могут ли продукты питания относиться к категории престижных товаров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очему фирмы во всем мире ищут  рынки товаров, которые являются новинками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очему в Москве в 1992 году  рыба (самый дешевый изначально продукт) подорожала в 27,4 раза,  сахар   в 19 раз, молоко в 9,3 раза, а мясо только 3, 1 раза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Если выручка фирмы от продаж возросла  за год на 30%, а количество проданных товаров на 15%, на сколько изменилась цена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Целесообразен ли акциз на сливочное масло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спрос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импортные качественные спортивные велосипе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каждый 1% снижения цены приходи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,04% увеличения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еличина спроса </a:t>
            </a:r>
            <a:br>
              <a:rPr sz="1200"/>
            </a:b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 импортные качественные спортивные велосипеды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 каждый 1% снижения цены приходится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2,04% увеличения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Объем покупок (величина спроса) зависит от цены, чем ниже цена, тем больше товаров будет куплено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Для показа  картины спроса рисуют кривую спроса в виде графика и шкалу спроса                   в виде таблицы.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еличина спроса реагирует на уменьшение цены с различной эластичностью. Коэффициент эластичности определяют путем  деления разницы (в %) в величинах спроса на разницу между прежним  и новым  уровнем цен в %.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Эластичность спроса –масштаб изменения величины спроса в % при изменении цены на 1%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м покупок (величина спроса) зависит от цены, чем ниже цена, тем больше товаров будет купле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оказа  картины спроса рисуют кривую спроса в виде графика и шкалу спроса                   в виде таблиц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спроса реагирует на уменьшение цены с различной эластичностью. Коэффициент эластичности определяют путем  деления разницы (в %) в величинах спроса на разницу между прежним  и новым  уровнем цен в %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спроса –масштаб изменения величины спроса в % при изменении цены на 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ула эластичности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 – эластичность спрос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 –величина спрос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2 – новая, 1- прежняя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 – цена (2 – новая, 1- прежня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Формула эластичности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Е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Е – эластичность спроса,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q –величина спроса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(2 – новая, 1- прежняя),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p – цена (2 – новая, 1- прежняя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эластичность спроса  больше единицы, то величина спроса меняется быстрее, чем цена – спрос эластич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эластичность меньше единицы, то величина спроса меняется медленнее, чем цена,  то спрос неэластич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с эластичным спросом: предметы роскоши, драгоценности, шампанское, деликатесы,  мебель, телевизоры, легкозаменяемые товары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с неэластичным спросом:  предметы первой необходимости, лекарства, обувь, электричество, телефон, зубные щетки, лампочки, бензин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Если эластичность спроса  больше единицы, то величина спроса меняется быстрее, чем цена – спрос эластичен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Если эластичность меньше единицы, то величина спроса меняется медленнее, чем цена,  то спрос неэластичен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с эластичным спросом: предметы роскоши, драгоценности, шампанское, деликатесы,  мебель, телевизоры, легкозаменяемые товары…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с неэластичным спросом:  предметы первой необходимости, лекарства, обувь, электричество, телефон, зубные щетки, лампочки, бензин…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еличина спроса и спрос разные понят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еличина спроса показывает объем товара, который покупатели готовы купить               за определенный период  (месяц, год)                     при определенной цене на него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прос - зависимость величины спроса на данном рынке от цен на определенный период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акон спроса (1-ый закон экономики) -  повышение цен на товары  обычно ведет                  к уменьшение спроса на них,  а снижение –                 к увеличению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акон предложения -  повышение цен на товары обычно ведет к росту величины предложения, а снижение цен – к уменьшению предложен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спроса и спрос разные пон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спроса показывает объем товара, который покупатели готовы купить               за определенный период  (месяц, год)                     при определенной цене на н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- зависимость величины спроса на данном рынке от цен на определенный пери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 (1-ый закон экономики) -  повышение цен на товары  обычно ведет                  к уменьшение спроса на них,  а снижение –                 к увеличен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предложения -  повышение цен на товары обычно ведет к росту величины предложения, а снижение цен – к уменьшению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о повышение цен не всегда гарантирует увеличение выручки от продаж, а снижение цен               не всегда  грозит падением выручк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ри определении цены на свой товар коммерсант  обязательно должен прикинуть, сколько он может выручить  при такой цене исходя из существующей эластичности спроса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ыручка от продаж – денежная сумма, получаемая при продаже и равная произведению числа проданных товаров          на цену по которой их купили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 формирование спроса кроме его цены влияют:  полезность товара, цены на другие товары, уровень доходов покупателей, численность и возраст покупателей, вкусы, традиции, реклама, ожидания динамики цен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повышение цен не всегда гарантирует увеличение выручки от продаж, а снижение цен               не всегда  грозит падением выруч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определении цены на свой товар коммерсант  обязательно должен прикинуть, сколько он может выручить  при такой цене исходя из существующей эластичности спро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учка от продаж – денежная сумма, получаемая при продаже и равная произведению числа проданных товаров          на цену по которой их купи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формирование спроса кроме его цены влияют:  полезность товара, цены на другие товары, уровень доходов покупателей, численность и возраст покупателей, вкусы, традиции, реклама, ожидания динамики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C31C-AF45-4C89-8FBE-2DF1009CC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6CE8-35F0-445D-9C4F-75A8415F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209E-7D4C-484C-8839-D37AEF28B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6EF8-0448-44E0-8551-CB9AE67E6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9025-EFA2-47AF-9826-020B1937E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A23F-B2DF-4608-B958-11F3FF37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96BA-9D17-48DA-B164-61E2A511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B6CE-B439-4A47-858F-5DE29F8F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029D-655C-45EB-8BF1-C25666C2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511C-30C8-4F8D-8BC9-B31BA35D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4C8E-88B8-41A2-97AF-2EACFC73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8464-23FF-4E0B-BF6B-B480087E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A80E-3EB9-4F51-A677-D2C44132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888A-F560-4859-922D-47597A54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6799-A410-460C-9723-B3DD80F5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CA57-189F-4A8D-9E5F-299EC883D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DAC0-3A92-465C-A0B3-643A1FBD9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FF99-B054-4176-B158-ACB0E971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BF93-8224-473D-BE83-6486AFEE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EB36-E9DC-484A-B881-8F1166C6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102B-41CE-4626-95D4-2873673A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8A24-9EBC-45D7-8A94-0163F5B4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A8EB-2329-4F9B-8D70-6C317B6F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F44B-0A0B-4995-8AD3-83D1186E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4687-5832-4CA5-A92D-50EE491432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72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0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3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3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3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3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3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3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4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890E-C675-4904-9257-2FFC693C455E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928960" y="498240"/>
            <a:ext cx="5619600" cy="2323800"/>
          </a:xfrm>
          <a:prstGeom prst="rect">
            <a:avLst/>
          </a:prstGeom>
          <a:solidFill>
            <a:srgbClr val="f5eed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Закон спроса                     и поведение покупателе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14680" y="5337000"/>
            <a:ext cx="7107120" cy="113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Курс лекций по экономике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11 класс. Учитель Гришакина О.П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01" name="Picture 4" descr="7"/>
          <p:cNvPicPr/>
          <p:nvPr/>
        </p:nvPicPr>
        <p:blipFill>
          <a:blip r:embed="rId1"/>
          <a:stretch/>
        </p:blipFill>
        <p:spPr>
          <a:xfrm>
            <a:off x="4357800" y="2846520"/>
            <a:ext cx="2774880" cy="260352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Товары можно классифицировать              по типам в зависимости от их реакции на  изменения доходов покупателе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71400" y="1643040"/>
            <a:ext cx="7419960" cy="459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Нормальные товары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– товары,  спрос на которые увеличивается при увеличении доходов покупателей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Товары престижного спроса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–разновидность нормальных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товаров, с особо высокой ценой, которые люди покупают в основном чтобы продемонстрировать свою успешность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(например очень дорогие и не всегда удобные автомобили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Товары низшей категории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 спрос на которые снижается при  росте доходов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58" name="Picture 4" descr="C:\Documents and Settings\Администратор\Мои документы\уроки ЭКОНОМИКИ\значки  и картины для презентаций\рисунки и анимашки для презентаций\1 (77).png"/>
          <p:cNvPicPr/>
          <p:nvPr/>
        </p:nvPicPr>
        <p:blipFill>
          <a:blip r:embed="rId1"/>
          <a:stretch/>
        </p:blipFill>
        <p:spPr>
          <a:xfrm>
            <a:off x="6929280" y="2428920"/>
            <a:ext cx="1428840" cy="114300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менение спрос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разных типов товар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Стрелка вверх 3"/>
          <p:cNvSpPr/>
          <p:nvPr/>
        </p:nvSpPr>
        <p:spPr>
          <a:xfrm>
            <a:off x="1928880" y="1571760"/>
            <a:ext cx="214200" cy="4786200"/>
          </a:xfrm>
          <a:prstGeom prst="upArrow">
            <a:avLst>
              <a:gd name="adj1" fmla="val 50000"/>
              <a:gd name="adj2" fmla="val 50068"/>
            </a:avLst>
          </a:prstGeom>
          <a:solidFill>
            <a:srgbClr val="7f7f7f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Стрелка вправо 5"/>
          <p:cNvSpPr/>
          <p:nvPr/>
        </p:nvSpPr>
        <p:spPr>
          <a:xfrm>
            <a:off x="2000160" y="6215040"/>
            <a:ext cx="6357960" cy="21420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7f7f7f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Дуга 6"/>
          <p:cNvSpPr/>
          <p:nvPr/>
        </p:nvSpPr>
        <p:spPr>
          <a:xfrm rot="20043600">
            <a:off x="815760" y="5301720"/>
            <a:ext cx="6402240" cy="1941840"/>
          </a:xfrm>
          <a:custGeom>
            <a:avLst/>
            <a:gdLst/>
            <a:ahLst/>
            <a:rect l="l" t="t" r="r" b="b"/>
            <a:pathLst>
              <a:path stroke="0" w="6402388" h="1941513">
                <a:moveTo>
                  <a:pt x="2108342" y="58321"/>
                </a:moveTo>
                <a:cubicBezTo>
                  <a:pt x="2571129" y="7348"/>
                  <a:pt x="3066452" y="-10565"/>
                  <a:pt x="3555789" y="5974"/>
                </a:cubicBezTo>
                <a:cubicBezTo>
                  <a:pt x="5211683" y="61941"/>
                  <a:pt x="6449145" y="493730"/>
                  <a:pt x="6401055" y="998776"/>
                </a:cubicBezTo>
                <a:lnTo>
                  <a:pt x="3201194" y="970757"/>
                </a:lnTo>
                <a:lnTo>
                  <a:pt x="2108342" y="58321"/>
                </a:lnTo>
                <a:close/>
              </a:path>
              <a:path fill="none" w="6402388" h="1941513">
                <a:moveTo>
                  <a:pt x="2108342" y="58321"/>
                </a:moveTo>
                <a:cubicBezTo>
                  <a:pt x="2571129" y="7348"/>
                  <a:pt x="3066452" y="-10565"/>
                  <a:pt x="3555789" y="5974"/>
                </a:cubicBezTo>
                <a:cubicBezTo>
                  <a:pt x="5211683" y="61941"/>
                  <a:pt x="6449145" y="493730"/>
                  <a:pt x="6401055" y="998776"/>
                </a:cubicBezTo>
              </a:path>
            </a:pathLst>
          </a:custGeom>
          <a:solidFill>
            <a:srgbClr val="e5d58a"/>
          </a:solidFill>
          <a:ln w="5724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4" name="Дуга 7"/>
          <p:cNvSpPr/>
          <p:nvPr/>
        </p:nvSpPr>
        <p:spPr>
          <a:xfrm rot="3603000">
            <a:off x="1262880" y="1449720"/>
            <a:ext cx="2928960" cy="5267520"/>
          </a:xfrm>
          <a:custGeom>
            <a:avLst/>
            <a:gdLst/>
            <a:ahLst/>
            <a:rect l="l" t="t" r="r" b="b"/>
            <a:pathLst>
              <a:path stroke="0" w="2928938" h="5267325">
                <a:moveTo>
                  <a:pt x="1464469" y="0"/>
                </a:moveTo>
                <a:cubicBezTo>
                  <a:pt x="2135134" y="0"/>
                  <a:pt x="2720094" y="819294"/>
                  <a:pt x="2884342" y="1988673"/>
                </a:cubicBezTo>
                <a:cubicBezTo>
                  <a:pt x="2968843" y="2590290"/>
                  <a:pt x="2932511" y="3226245"/>
                  <a:pt x="2781751" y="3784393"/>
                </a:cubicBezTo>
                <a:lnTo>
                  <a:pt x="1464469" y="2633663"/>
                </a:lnTo>
                <a:lnTo>
                  <a:pt x="1464469" y="0"/>
                </a:lnTo>
                <a:close/>
              </a:path>
              <a:path fill="none" w="2928938" h="5267325">
                <a:moveTo>
                  <a:pt x="1464469" y="0"/>
                </a:moveTo>
                <a:cubicBezTo>
                  <a:pt x="2135134" y="0"/>
                  <a:pt x="2720094" y="819294"/>
                  <a:pt x="2884342" y="1988673"/>
                </a:cubicBezTo>
                <a:cubicBezTo>
                  <a:pt x="2968843" y="2590290"/>
                  <a:pt x="2932511" y="3226245"/>
                  <a:pt x="2781751" y="3784393"/>
                </a:cubicBezTo>
              </a:path>
            </a:pathLst>
          </a:custGeom>
          <a:solidFill>
            <a:srgbClr val="e5d58a"/>
          </a:solidFill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Дуга 8"/>
          <p:cNvSpPr/>
          <p:nvPr/>
        </p:nvSpPr>
        <p:spPr>
          <a:xfrm rot="14358000">
            <a:off x="4945680" y="-1562760"/>
            <a:ext cx="2489040" cy="9288360"/>
          </a:xfrm>
          <a:custGeom>
            <a:avLst/>
            <a:gdLst/>
            <a:ahLst/>
            <a:rect l="l" t="t" r="r" b="b"/>
            <a:pathLst>
              <a:path stroke="0" w="2489200" h="9288463">
                <a:moveTo>
                  <a:pt x="1152536" y="12723"/>
                </a:moveTo>
                <a:cubicBezTo>
                  <a:pt x="1858632" y="-182711"/>
                  <a:pt x="2466122" y="1856247"/>
                  <a:pt x="2488574" y="4496956"/>
                </a:cubicBezTo>
                <a:lnTo>
                  <a:pt x="1244600" y="4644232"/>
                </a:lnTo>
                <a:lnTo>
                  <a:pt x="1152536" y="12723"/>
                </a:lnTo>
                <a:close/>
              </a:path>
              <a:path fill="none" w="2489200" h="9288463">
                <a:moveTo>
                  <a:pt x="1152536" y="12723"/>
                </a:moveTo>
                <a:cubicBezTo>
                  <a:pt x="1858632" y="-182711"/>
                  <a:pt x="2466122" y="1856247"/>
                  <a:pt x="2488574" y="4496956"/>
                </a:cubicBezTo>
              </a:path>
            </a:pathLst>
          </a:custGeom>
          <a:solidFill>
            <a:srgbClr val="e5d58a"/>
          </a:solidFill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Хорда 9"/>
          <p:cNvSpPr/>
          <p:nvPr/>
        </p:nvSpPr>
        <p:spPr>
          <a:xfrm>
            <a:off x="2143080" y="5429160"/>
            <a:ext cx="714600" cy="714600"/>
          </a:xfrm>
          <a:custGeom>
            <a:avLst/>
            <a:gdLst/>
            <a:ahLst/>
            <a:rect l="l" t="t" r="r" b="b"/>
            <a:pathLst>
              <a:path w="714375" h="714375">
                <a:moveTo>
                  <a:pt x="609757" y="609757"/>
                </a:moveTo>
                <a:cubicBezTo>
                  <a:pt x="495442" y="724072"/>
                  <a:pt x="318599" y="747353"/>
                  <a:pt x="178593" y="666521"/>
                </a:cubicBezTo>
                <a:cubicBezTo>
                  <a:pt x="38587" y="585688"/>
                  <a:pt x="-29672" y="420897"/>
                  <a:pt x="12170" y="264740"/>
                </a:cubicBezTo>
                <a:cubicBezTo>
                  <a:pt x="54012" y="108583"/>
                  <a:pt x="195522" y="-1"/>
                  <a:pt x="357187" y="-1"/>
                </a:cubicBezTo>
                <a:lnTo>
                  <a:pt x="609757" y="609757"/>
                </a:lnTo>
                <a:close/>
              </a:path>
            </a:pathLst>
          </a:custGeom>
          <a:solidFill>
            <a:srgbClr val="e5d58a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TextBox 10"/>
          <p:cNvSpPr/>
          <p:nvPr/>
        </p:nvSpPr>
        <p:spPr>
          <a:xfrm>
            <a:off x="2928960" y="1428840"/>
            <a:ext cx="300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Нормальные товары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TextBox 11"/>
          <p:cNvSpPr/>
          <p:nvPr/>
        </p:nvSpPr>
        <p:spPr>
          <a:xfrm>
            <a:off x="4786200" y="300024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овары престижного спроса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6929280" y="4572000"/>
            <a:ext cx="192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Товары низшей категории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3429000" y="585792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Доходы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TextBox 15"/>
          <p:cNvSpPr/>
          <p:nvPr/>
        </p:nvSpPr>
        <p:spPr>
          <a:xfrm rot="16200000">
            <a:off x="1019880" y="2980440"/>
            <a:ext cx="19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Величина спроса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72" name="Picture 14" descr="C:\Documents and Settings\Администратор\Мои документы\уроки ЭКОНОМИКИ\значки  и картины для презентаций\рисунки и анимашки для презентаций\1 (33).gif"/>
          <p:cNvPicPr/>
          <p:nvPr/>
        </p:nvPicPr>
        <p:blipFill>
          <a:blip r:embed="rId1"/>
          <a:stretch/>
        </p:blipFill>
        <p:spPr>
          <a:xfrm>
            <a:off x="7215120" y="428760"/>
            <a:ext cx="1276560" cy="91440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28480" y="2138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56840" y="1499760"/>
            <a:ext cx="7634520" cy="47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 Доходы покупателей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бычно увеличивают спрос, но возникают ситуации когда спрос может и снизиться если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изменяется полезность товара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изменяются цены на дополняющие или заменяющие товары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меняющие товары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– конкурентные блага, удовлетворяющие те же потребности              (например, разные прохладительные и алкогольные напитки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ополняющие товары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– вместе удовлетворяющие потребность (например теннисные корты, ракетки, мячи, форма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76" name="Picture 4" descr="C:\Documents and Settings\Администратор\Мои документы\уроки ЭКОНОМИКИ\значки  и картины для презентаций\рисунки и анимашки для презентаций\1 (35).gif"/>
          <p:cNvPicPr/>
          <p:nvPr/>
        </p:nvPicPr>
        <p:blipFill>
          <a:blip r:embed="rId1"/>
          <a:stretch/>
        </p:blipFill>
        <p:spPr>
          <a:xfrm>
            <a:off x="8001000" y="2571840"/>
            <a:ext cx="800280" cy="65700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. Ожидание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тносительно динамики цен              в будущем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фактор сказывается, когда бывает ситуация, что люди опасаются скачка цен            и покупают больше в запас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. Численность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и возраст покупателей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увеличение численности увеличивает спрос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старение нации (пенсионные доходы) уменьшает спрос в целом, и особенно на детские и молодежные товары, увеличивает на фармацевтические и медицинские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80" name="Picture 4" descr="C:\Documents and Settings\Администратор\Мои документы\уроки ЭКОНОМИКИ\значки  и картины для презентаций\рисунки и анимашки для презентаций\1 (35).gif"/>
          <p:cNvPicPr/>
          <p:nvPr/>
        </p:nvPicPr>
        <p:blipFill>
          <a:blip r:embed="rId1"/>
          <a:stretch/>
        </p:blipFill>
        <p:spPr>
          <a:xfrm>
            <a:off x="7786800" y="2000160"/>
            <a:ext cx="799920" cy="65736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00120" y="137124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. Привычки,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кусы, традиции и предпочтения населения – наименее предсказуемый фактор и очень изменчивый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апример, мода – может увеличить и уменьшить спрос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апример, религиозные предпочтения                  в продуктах питания и их составляющих могут сделать товар полностью непродаваемым в регионе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апример, усиленная реклама профилактических средств и здорового образа жизни породила огромный рынок сопутствующих товаров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84" name="Picture 4" descr="C:\Documents and Settings\Администратор\Мои документы\уроки ЭКОНОМИКИ\значки  и картины для презентаций\рисунки и анимашки для презентаций\1 (35).gif"/>
          <p:cNvPicPr/>
          <p:nvPr/>
        </p:nvPicPr>
        <p:blipFill>
          <a:blip r:embed="rId1"/>
          <a:stretch/>
        </p:blipFill>
        <p:spPr>
          <a:xfrm>
            <a:off x="7358040" y="4143240"/>
            <a:ext cx="800280" cy="65736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13920" y="228600"/>
            <a:ext cx="7929720" cy="1271520"/>
          </a:xfrm>
          <a:prstGeom prst="rect">
            <a:avLst/>
          </a:prstGeom>
          <a:solidFill>
            <a:srgbClr val="ffffc2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«Экономика в лицах»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имер изучения спроса.  Торстейн ВЕБЛЕН – аналитик людских склоннос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99760" y="1523880"/>
            <a:ext cx="7643880" cy="51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Американский экономист Торстейн Веблен (1857-1929) происходил из бедной норвежской семьи фермеров, переехавшей в США, стал доктором наук, но закончил жизнь в крайней бедности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Изучал  людские склонности, потребности и мотивы поведения в выборе товаров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ыделил такие товаропокупающие силы как: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довлетворение основных материальных потребностей для выживания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демонстративное расточительство для показа своего благосостояния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стремление получения от жизни максимального удовольствия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инстинкт материнства, родительские чувства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праздное любопытство, инстинкт себялюбия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88" name="Picture 4" descr="C:\Documents and Settings\Администратор\Мои документы\уроки ЭКОНОМИКИ\значки  и картины для презентаций\рисунки и анимашки для презентаций\1 (29).gif"/>
          <p:cNvPicPr/>
          <p:nvPr/>
        </p:nvPicPr>
        <p:blipFill>
          <a:blip r:embed="rId1"/>
          <a:stretch/>
        </p:blipFill>
        <p:spPr>
          <a:xfrm>
            <a:off x="7572240" y="3429000"/>
            <a:ext cx="1333800" cy="114300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Индивидуальный, рыночный                  и совокупный спро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Индивидуальный спрос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каждого отдельного покупателя в основном формируется на его субъективной оценки полезности товара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Рыночный спрос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формируется в масштабах рынка определенного вида товара или экономики в целом всеми покупателями             в сумме их численности, возможностей с разными доходами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Совокупный спрос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 общее количество  конечных товаров и услуг всех видов, которое все покупатели страны готовы приобрести в течение определенного периода при сложившемся уровне цен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92" name="Picture 4" descr="C:\Documents and Settings\Администратор\Мои документы\уроки ЭКОНОМИКИ\значки  и картины для презентаций\рисунки и анимашки для презентаций\1 (14).wmf"/>
          <p:cNvPicPr/>
          <p:nvPr/>
        </p:nvPicPr>
        <p:blipFill>
          <a:blip r:embed="rId1"/>
          <a:stretch/>
        </p:blipFill>
        <p:spPr>
          <a:xfrm>
            <a:off x="8001000" y="5000760"/>
            <a:ext cx="955800" cy="1373040"/>
          </a:xfrm>
          <a:prstGeom prst="rect">
            <a:avLst/>
          </a:prstGeom>
          <a:ln w="0">
            <a:noFill/>
          </a:ln>
        </p:spPr>
      </p:pic>
      <p:sp>
        <p:nvSpPr>
          <p:cNvPr id="29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висимость спроса от доли покупателей с разными доход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Стрелка вверх 3"/>
          <p:cNvSpPr/>
          <p:nvPr/>
        </p:nvSpPr>
        <p:spPr>
          <a:xfrm>
            <a:off x="1928880" y="1571760"/>
            <a:ext cx="214200" cy="4786200"/>
          </a:xfrm>
          <a:prstGeom prst="upArrow">
            <a:avLst>
              <a:gd name="adj1" fmla="val 50000"/>
              <a:gd name="adj2" fmla="val 50068"/>
            </a:avLst>
          </a:prstGeom>
          <a:solidFill>
            <a:srgbClr val="7f7f7f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Стрелка вправо 5"/>
          <p:cNvSpPr/>
          <p:nvPr/>
        </p:nvSpPr>
        <p:spPr>
          <a:xfrm>
            <a:off x="2000160" y="6215040"/>
            <a:ext cx="6357960" cy="21420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7f7f7f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Дуга 8"/>
          <p:cNvSpPr/>
          <p:nvPr/>
        </p:nvSpPr>
        <p:spPr>
          <a:xfrm rot="10374000">
            <a:off x="2239560" y="-3122640"/>
            <a:ext cx="4950000" cy="8820000"/>
          </a:xfrm>
          <a:custGeom>
            <a:avLst/>
            <a:gdLst/>
            <a:ahLst/>
            <a:rect l="l" t="t" r="r" b="b"/>
            <a:pathLst>
              <a:path stroke="0" w="4949825" h="8820151">
                <a:moveTo>
                  <a:pt x="2387305" y="2764"/>
                </a:moveTo>
                <a:cubicBezTo>
                  <a:pt x="3723518" y="-81573"/>
                  <a:pt x="4855743" y="1740449"/>
                  <a:pt x="4944381" y="4117714"/>
                </a:cubicBezTo>
                <a:lnTo>
                  <a:pt x="2474913" y="4410076"/>
                </a:lnTo>
                <a:lnTo>
                  <a:pt x="2387305" y="2764"/>
                </a:lnTo>
                <a:close/>
              </a:path>
              <a:path fill="none" w="4949825" h="8820151">
                <a:moveTo>
                  <a:pt x="2387305" y="2764"/>
                </a:moveTo>
                <a:cubicBezTo>
                  <a:pt x="3723518" y="-81573"/>
                  <a:pt x="4855743" y="1740449"/>
                  <a:pt x="4944381" y="4117714"/>
                </a:cubicBezTo>
              </a:path>
            </a:pathLst>
          </a:custGeom>
          <a:solidFill>
            <a:srgbClr val="e5d58a"/>
          </a:solidFill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TextBox 10"/>
          <p:cNvSpPr/>
          <p:nvPr/>
        </p:nvSpPr>
        <p:spPr>
          <a:xfrm>
            <a:off x="2286000" y="142884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Страна, где много бедных людей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TextBox 11"/>
          <p:cNvSpPr/>
          <p:nvPr/>
        </p:nvSpPr>
        <p:spPr>
          <a:xfrm>
            <a:off x="5715000" y="32860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трана, где доходы более равномерны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TextBox 14"/>
          <p:cNvSpPr/>
          <p:nvPr/>
        </p:nvSpPr>
        <p:spPr>
          <a:xfrm>
            <a:off x="4857840" y="585792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количество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TextBox 15"/>
          <p:cNvSpPr/>
          <p:nvPr/>
        </p:nvSpPr>
        <p:spPr>
          <a:xfrm rot="16200000">
            <a:off x="765360" y="20203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цена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Дуга 13"/>
          <p:cNvSpPr/>
          <p:nvPr/>
        </p:nvSpPr>
        <p:spPr>
          <a:xfrm rot="9076200">
            <a:off x="3374280" y="574200"/>
            <a:ext cx="2894040" cy="4086360"/>
          </a:xfrm>
          <a:custGeom>
            <a:avLst/>
            <a:gdLst/>
            <a:ahLst/>
            <a:rect l="l" t="t" r="r" b="b"/>
            <a:pathLst>
              <a:path stroke="0" w="2894013" h="4086225">
                <a:moveTo>
                  <a:pt x="1447006" y="0"/>
                </a:moveTo>
                <a:cubicBezTo>
                  <a:pt x="2075431" y="0"/>
                  <a:pt x="2632017" y="572711"/>
                  <a:pt x="2824480" y="1417383"/>
                </a:cubicBezTo>
                <a:cubicBezTo>
                  <a:pt x="2954338" y="1987294"/>
                  <a:pt x="2900627" y="2608948"/>
                  <a:pt x="2677543" y="3118066"/>
                </a:cubicBezTo>
                <a:lnTo>
                  <a:pt x="1447007" y="2043113"/>
                </a:lnTo>
                <a:cubicBezTo>
                  <a:pt x="1447007" y="1362075"/>
                  <a:pt x="1447006" y="681038"/>
                  <a:pt x="1447006" y="0"/>
                </a:cubicBezTo>
                <a:close/>
              </a:path>
              <a:path fill="none" w="2894013" h="4086225">
                <a:moveTo>
                  <a:pt x="1447006" y="0"/>
                </a:moveTo>
                <a:cubicBezTo>
                  <a:pt x="2075431" y="0"/>
                  <a:pt x="2632017" y="572711"/>
                  <a:pt x="2824480" y="1417383"/>
                </a:cubicBezTo>
                <a:cubicBezTo>
                  <a:pt x="2954338" y="1987294"/>
                  <a:pt x="2900627" y="2608948"/>
                  <a:pt x="2677543" y="3118066"/>
                </a:cubicBezTo>
              </a:path>
            </a:pathLst>
          </a:custGeom>
          <a:solidFill>
            <a:srgbClr val="e5d58a"/>
          </a:solidFill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Прямая соединительная линия 15"/>
          <p:cNvSpPr/>
          <p:nvPr/>
        </p:nvSpPr>
        <p:spPr>
          <a:xfrm>
            <a:off x="2071800" y="4572000"/>
            <a:ext cx="3714480" cy="144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Прямая соединительная линия 18"/>
          <p:cNvSpPr/>
          <p:nvPr/>
        </p:nvSpPr>
        <p:spPr>
          <a:xfrm>
            <a:off x="2071800" y="5715000"/>
            <a:ext cx="3714480" cy="144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Кольцо 20"/>
          <p:cNvSpPr/>
          <p:nvPr/>
        </p:nvSpPr>
        <p:spPr>
          <a:xfrm>
            <a:off x="3571920" y="3429000"/>
            <a:ext cx="1285920" cy="1071720"/>
          </a:xfrm>
          <a:custGeom>
            <a:avLst/>
            <a:gdLst/>
            <a:ahLst/>
            <a:rect l="l" t="t" r="r" b="b"/>
            <a:pathLst>
              <a:path w="1285875" h="1071563">
                <a:moveTo>
                  <a:pt x="0" y="535782"/>
                </a:moveTo>
                <a:cubicBezTo>
                  <a:pt x="0" y="239878"/>
                  <a:pt x="287853" y="0"/>
                  <a:pt x="642938" y="0"/>
                </a:cubicBezTo>
                <a:cubicBezTo>
                  <a:pt x="998023" y="0"/>
                  <a:pt x="1285876" y="239878"/>
                  <a:pt x="1285876" y="535782"/>
                </a:cubicBezTo>
                <a:cubicBezTo>
                  <a:pt x="1285876" y="831686"/>
                  <a:pt x="998023" y="1071564"/>
                  <a:pt x="642938" y="1071564"/>
                </a:cubicBezTo>
                <a:cubicBezTo>
                  <a:pt x="287853" y="1071564"/>
                  <a:pt x="0" y="831686"/>
                  <a:pt x="0" y="535782"/>
                </a:cubicBezTo>
                <a:close/>
                <a:moveTo>
                  <a:pt x="49571" y="535782"/>
                </a:moveTo>
                <a:cubicBezTo>
                  <a:pt x="49571" y="804309"/>
                  <a:pt x="315230" y="1021993"/>
                  <a:pt x="642938" y="1021993"/>
                </a:cubicBezTo>
                <a:cubicBezTo>
                  <a:pt x="970646" y="1021993"/>
                  <a:pt x="1236305" y="804309"/>
                  <a:pt x="1236305" y="535782"/>
                </a:cubicBezTo>
                <a:cubicBezTo>
                  <a:pt x="1236305" y="267255"/>
                  <a:pt x="970646" y="49571"/>
                  <a:pt x="642938" y="49571"/>
                </a:cubicBezTo>
                <a:cubicBezTo>
                  <a:pt x="315230" y="49571"/>
                  <a:pt x="49571" y="267255"/>
                  <a:pt x="49571" y="535782"/>
                </a:cubicBezTo>
                <a:close/>
              </a:path>
            </a:pathLst>
          </a:custGeom>
          <a:solidFill>
            <a:srgbClr val="e5d58a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Кольцо 21"/>
          <p:cNvSpPr/>
          <p:nvPr/>
        </p:nvSpPr>
        <p:spPr>
          <a:xfrm>
            <a:off x="3214800" y="4572000"/>
            <a:ext cx="1285920" cy="1071720"/>
          </a:xfrm>
          <a:custGeom>
            <a:avLst/>
            <a:gdLst/>
            <a:ahLst/>
            <a:rect l="l" t="t" r="r" b="b"/>
            <a:pathLst>
              <a:path w="1285875" h="1071563">
                <a:moveTo>
                  <a:pt x="0" y="535782"/>
                </a:moveTo>
                <a:cubicBezTo>
                  <a:pt x="0" y="239878"/>
                  <a:pt x="287853" y="0"/>
                  <a:pt x="642938" y="0"/>
                </a:cubicBezTo>
                <a:cubicBezTo>
                  <a:pt x="998023" y="0"/>
                  <a:pt x="1285876" y="239878"/>
                  <a:pt x="1285876" y="535782"/>
                </a:cubicBezTo>
                <a:cubicBezTo>
                  <a:pt x="1285876" y="831686"/>
                  <a:pt x="998023" y="1071564"/>
                  <a:pt x="642938" y="1071564"/>
                </a:cubicBezTo>
                <a:cubicBezTo>
                  <a:pt x="287853" y="1071564"/>
                  <a:pt x="0" y="831686"/>
                  <a:pt x="0" y="535782"/>
                </a:cubicBezTo>
                <a:close/>
                <a:moveTo>
                  <a:pt x="49571" y="535782"/>
                </a:moveTo>
                <a:cubicBezTo>
                  <a:pt x="49571" y="804309"/>
                  <a:pt x="315230" y="1021993"/>
                  <a:pt x="642938" y="1021993"/>
                </a:cubicBezTo>
                <a:cubicBezTo>
                  <a:pt x="970646" y="1021993"/>
                  <a:pt x="1236305" y="804309"/>
                  <a:pt x="1236305" y="535782"/>
                </a:cubicBezTo>
                <a:cubicBezTo>
                  <a:pt x="1236305" y="267255"/>
                  <a:pt x="970646" y="49571"/>
                  <a:pt x="642938" y="49571"/>
                </a:cubicBezTo>
                <a:cubicBezTo>
                  <a:pt x="315230" y="49571"/>
                  <a:pt x="49571" y="267255"/>
                  <a:pt x="49571" y="535782"/>
                </a:cubicBezTo>
                <a:close/>
              </a:path>
            </a:pathLst>
          </a:custGeom>
          <a:solidFill>
            <a:srgbClr val="e5d58a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TextBox 22"/>
          <p:cNvSpPr/>
          <p:nvPr/>
        </p:nvSpPr>
        <p:spPr>
          <a:xfrm>
            <a:off x="2143080" y="39290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цена1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8" name="Прямоугольник 23"/>
          <p:cNvSpPr/>
          <p:nvPr/>
        </p:nvSpPr>
        <p:spPr>
          <a:xfrm>
            <a:off x="2148480" y="5286240"/>
            <a:ext cx="7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цена2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TextBox 24"/>
          <p:cNvSpPr/>
          <p:nvPr/>
        </p:nvSpPr>
        <p:spPr>
          <a:xfrm>
            <a:off x="5429160" y="48578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Больше покупается по низким ценам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Прямоугольник 25"/>
          <p:cNvSpPr/>
          <p:nvPr/>
        </p:nvSpPr>
        <p:spPr>
          <a:xfrm>
            <a:off x="3949200" y="3000240"/>
            <a:ext cx="48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Больше покупается по более высоким ценам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Прямая со стрелкой 27"/>
          <p:cNvCxnSpPr/>
          <p:nvPr/>
        </p:nvCxnSpPr>
        <p:spPr>
          <a:xfrm flipH="1">
            <a:off x="4928400" y="3357720"/>
            <a:ext cx="429480" cy="429120"/>
          </a:xfrm>
          <a:prstGeom prst="straightConnector1">
            <a:avLst/>
          </a:prstGeom>
          <a:ln w="57240">
            <a:solidFill>
              <a:srgbClr val="333300"/>
            </a:solidFill>
            <a:miter/>
            <a:tailEnd len="med" type="arrow" w="med"/>
          </a:ln>
        </p:spPr>
      </p:cxnSp>
      <p:cxnSp>
        <p:nvCxnSpPr>
          <p:cNvPr id="312" name="Прямая со стрелкой 28"/>
          <p:cNvCxnSpPr/>
          <p:nvPr/>
        </p:nvCxnSpPr>
        <p:spPr>
          <a:xfrm flipH="1" flipV="1">
            <a:off x="4571280" y="5071680"/>
            <a:ext cx="786600" cy="2160"/>
          </a:xfrm>
          <a:prstGeom prst="straightConnector1">
            <a:avLst/>
          </a:prstGeom>
          <a:ln w="57240">
            <a:solidFill>
              <a:srgbClr val="333300"/>
            </a:solidFill>
            <a:miter/>
            <a:tailEnd len="med" type="arrow" w="med"/>
          </a:ln>
        </p:spPr>
      </p:cxnSp>
      <p:sp>
        <p:nvSpPr>
          <p:cNvPr id="31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571760" y="642960"/>
            <a:ext cx="7348320" cy="59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Совокупный спрос уменьшается       при общем росте уровня цен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Чем выше цены, тем меньше покупается этот товар и  спрос покупателей переключается на товары- аналоги, заменители               или другие услуги,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а также доходы населения  больше переводятся не в товары, а в сбережения в банках или просто накопление дома (на будущее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15" name="Picture 3" descr="C:\Documents and Settings\Администратор\Мои документы\уроки ЭКОНОМИКИ\значки  и картины для презентаций\рисунки и анимашки для презентаций\1 (14).wmf"/>
          <p:cNvPicPr/>
          <p:nvPr/>
        </p:nvPicPr>
        <p:blipFill>
          <a:blip r:embed="rId1"/>
          <a:stretch/>
        </p:blipFill>
        <p:spPr>
          <a:xfrm>
            <a:off x="7858080" y="1857240"/>
            <a:ext cx="955800" cy="137340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Пример из недавней экономической истории Росс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500120" y="1428480"/>
            <a:ext cx="7491600" cy="480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 90-х годах в России был катастрофически высок уровень инфляции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если принять 1990г - цены за 1, то 1992 г – цены выросли в 68 раз,  2000 г – в 12181 раз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овокупный спрос  на товары упал, россияне стали переводить доходы                        в валюту, так сберегая их, спрос на нее вырос. ( в 1992-1997 годах общие расходы выросли в 260 раз, на  валюту  в 8640 раз и составили 18-20% от расходов семьи)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 1998 году инфляция уменьшилась, стали больше покупать товары, с 1999 года опять выросла, стали больше покупать валюты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Что такое спрос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642680" y="1213920"/>
            <a:ext cx="7348680" cy="502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Каждый человек имеет потребности.                      За необходимым он выходит на рынок товаров и услуг. Он должен обладать для этого деньгами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Между желаемыми товарами, «мечтами»             и реальными  возможностями есть грань –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латежеспособный спрос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ля рыночных процессов важны только те желания покупателей, которые могут быть подкреплены деньгами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прос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характеризует  состояние рынка, связь массы товаров, которую люди готовы купить с величиной цен, по которой они могут совершить покупку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05" name="Picture 4" descr="C:\Documents and Settings\Администратор\Мои документы\уроки ЭКОНОМИКИ\значки  и картины для презентаций\рисунки и анимашки для презентаций\1 (6).wmf"/>
          <p:cNvPicPr/>
          <p:nvPr/>
        </p:nvPicPr>
        <p:blipFill>
          <a:blip r:embed="rId1"/>
          <a:stretch/>
        </p:blipFill>
        <p:spPr>
          <a:xfrm>
            <a:off x="7286760" y="214200"/>
            <a:ext cx="1657080" cy="107172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иды эластичности спроса                      и причины ее существ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99760" y="1523520"/>
            <a:ext cx="7358040" cy="14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озможность  трудностей сбыта товаров заставляет изучать спрос и прогнозировать его изменения, отдельно занимаясь эластичностью спроса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2" name="Прямая соединительная линия 4"/>
          <p:cNvSpPr/>
          <p:nvPr/>
        </p:nvSpPr>
        <p:spPr>
          <a:xfrm>
            <a:off x="2071800" y="3500280"/>
            <a:ext cx="3714480" cy="180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TextBox 5"/>
          <p:cNvSpPr/>
          <p:nvPr/>
        </p:nvSpPr>
        <p:spPr>
          <a:xfrm>
            <a:off x="2080440" y="3000240"/>
            <a:ext cx="372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Изменение числа покупок в %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TextBox 8"/>
          <p:cNvSpPr/>
          <p:nvPr/>
        </p:nvSpPr>
        <p:spPr>
          <a:xfrm>
            <a:off x="2214720" y="3571920"/>
            <a:ext cx="30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Изменение  цены  в %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Прямая соединительная линия 10"/>
          <p:cNvSpPr/>
          <p:nvPr/>
        </p:nvSpPr>
        <p:spPr>
          <a:xfrm>
            <a:off x="6072120" y="3357720"/>
            <a:ext cx="428760" cy="144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Прямая соединительная линия 11"/>
          <p:cNvSpPr/>
          <p:nvPr/>
        </p:nvSpPr>
        <p:spPr>
          <a:xfrm>
            <a:off x="6072120" y="3643200"/>
            <a:ext cx="428760" cy="180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TextBox 12"/>
          <p:cNvSpPr/>
          <p:nvPr/>
        </p:nvSpPr>
        <p:spPr>
          <a:xfrm>
            <a:off x="6715080" y="3000240"/>
            <a:ext cx="192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оэффициент  ценовой эластичности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8" name="TextBox 13"/>
          <p:cNvSpPr/>
          <p:nvPr/>
        </p:nvSpPr>
        <p:spPr>
          <a:xfrm>
            <a:off x="3214800" y="4071960"/>
            <a:ext cx="4000320" cy="520560"/>
          </a:xfrm>
          <a:prstGeom prst="rect">
            <a:avLst/>
          </a:prstGeom>
          <a:solidFill>
            <a:srgbClr val="fff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Например: 8 : 5= 1.6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Прямая соединительная линия 15"/>
          <p:cNvSpPr/>
          <p:nvPr/>
        </p:nvSpPr>
        <p:spPr>
          <a:xfrm flipH="1">
            <a:off x="1926720" y="3143160"/>
            <a:ext cx="1800" cy="35892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0" name="Прямая соединительная линия 16"/>
          <p:cNvSpPr/>
          <p:nvPr/>
        </p:nvSpPr>
        <p:spPr>
          <a:xfrm flipH="1">
            <a:off x="1928880" y="3643200"/>
            <a:ext cx="1440" cy="35748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Прямая соединительная линия 18"/>
          <p:cNvSpPr/>
          <p:nvPr/>
        </p:nvSpPr>
        <p:spPr>
          <a:xfrm flipH="1">
            <a:off x="5857920" y="3071880"/>
            <a:ext cx="1440" cy="35712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Прямая соединительная линия 19"/>
          <p:cNvSpPr/>
          <p:nvPr/>
        </p:nvSpPr>
        <p:spPr>
          <a:xfrm flipH="1">
            <a:off x="5857920" y="3571920"/>
            <a:ext cx="1440" cy="35712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TextBox 20"/>
          <p:cNvSpPr/>
          <p:nvPr/>
        </p:nvSpPr>
        <p:spPr>
          <a:xfrm>
            <a:off x="1357200" y="485784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Выделяют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товары эластичного спроса </a:t>
            </a: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с коэфф. больше единицы , например: предметы роскоши и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овары неэластичного спроса</a:t>
            </a: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, с коэфф. меньше единицы, например: предметы первой необходимости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214280" y="285840"/>
            <a:ext cx="7500960" cy="59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 помощью точных подсчетов и детального изучения эластичности спроса экономисты могут  повысить обоснованность решений фирмы стоит ли увеличивать цены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а определенный товар для увеличения доходов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Так например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вышая цену на товары неэластичного спроса,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можно увеличить выручку (их все равно надо покупать, например - зубную пасту)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а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вышая цену товары эластичного спроса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– можно потерять выручку (потому что в них нет особой и постоянной необходимости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36" name="Picture 4" descr="C:\Documents and Settings\Администратор\Мои документы\уроки ЭКОНОМИКИ\значки  и картины для презентаций\рисунки и анимашки для презентаций\1 (62).gif"/>
          <p:cNvPicPr/>
          <p:nvPr/>
        </p:nvPicPr>
        <p:blipFill>
          <a:blip r:embed="rId1"/>
          <a:stretch/>
        </p:blipFill>
        <p:spPr>
          <a:xfrm>
            <a:off x="7929720" y="5715000"/>
            <a:ext cx="895320" cy="771480"/>
          </a:xfrm>
          <a:prstGeom prst="rect">
            <a:avLst/>
          </a:prstGeom>
          <a:ln w="0">
            <a:noFill/>
          </a:ln>
        </p:spPr>
      </p:pic>
      <p:sp>
        <p:nvSpPr>
          <p:cNvPr id="337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843120"/>
          </a:xfrm>
          <a:prstGeom prst="rect">
            <a:avLst/>
          </a:prstGeom>
          <a:solidFill>
            <a:srgbClr val="ffff85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Факторы, определяющие уровни коэффициентов эластич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500120" y="1142640"/>
            <a:ext cx="749160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1) наличие товаров-заменителей (чем их больше, тем хуже основному товару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2) размер доходов покупателей (если на товар тратится значительная часть дохода, то изменение цены значимо сильнее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эффект дохода»: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при снижении цены (или росте доходов) товар становится по отношению к общей доле  дохода человека более дешевым и поэтому покупатель покупает его больше, не отказываясь от других привычных покупок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3) время (чем больше проходит время  с повышения цены, тем легче найти заменитель товара  больше падает спрос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40" name="Picture 4" descr="C:\Documents and Settings\Администратор\Мои документы\уроки ЭКОНОМИКИ\значки  и картины для презентаций\рисунки и анимашки для презентаций\1 (8).wmf"/>
          <p:cNvPicPr/>
          <p:nvPr/>
        </p:nvPicPr>
        <p:blipFill>
          <a:blip r:embed="rId1"/>
          <a:stretch/>
        </p:blipFill>
        <p:spPr>
          <a:xfrm>
            <a:off x="7597800" y="214200"/>
            <a:ext cx="1235160" cy="1071720"/>
          </a:xfrm>
          <a:prstGeom prst="rect">
            <a:avLst/>
          </a:prstGeom>
          <a:ln w="0">
            <a:noFill/>
          </a:ln>
        </p:spPr>
      </p:pic>
      <p:sp>
        <p:nvSpPr>
          <p:cNvPr id="341" name="Місце для нижнього колонтитула 2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solidFill>
            <a:srgbClr val="ffffd1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имер использования  понятия об эластичности спроса налоговыми служб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28480" y="142848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Зная, что  спрос например,  на соль, алкоголь, табак – мало эластичны, правительства разных стран  издавна устанавливают на них особые налоги в пользу государства, добавляемые к цене – акцизы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И хотя эти акцизы повышают цены, объемы покупок не падают,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зато резко возрастают  доходы                   в казну государства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44" name="Picture 4" descr="C:\Documents and Settings\Администратор\Мои документы\уроки ЭКОНОМИКИ\значки  и картины для презентаций\рисунки и анимашки для презентаций\1 (15).wmf"/>
          <p:cNvPicPr/>
          <p:nvPr/>
        </p:nvPicPr>
        <p:blipFill>
          <a:blip r:embed="rId1"/>
          <a:stretch/>
        </p:blipFill>
        <p:spPr>
          <a:xfrm>
            <a:off x="5891040" y="5538960"/>
            <a:ext cx="3252960" cy="13190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C:\Documents and Settings\Администратор\Мои документы\уроки ЭКОНОМИКИ\значки  и картины для презентаций\рисунки и анимашки для презентаций\1 (23).gif"/>
          <p:cNvPicPr/>
          <p:nvPr/>
        </p:nvPicPr>
        <p:blipFill>
          <a:blip r:embed="rId2"/>
          <a:stretch/>
        </p:blipFill>
        <p:spPr>
          <a:xfrm>
            <a:off x="5500800" y="5581800"/>
            <a:ext cx="1542960" cy="1276200"/>
          </a:xfrm>
          <a:prstGeom prst="rect">
            <a:avLst/>
          </a:prstGeom>
          <a:ln w="0">
            <a:noFill/>
          </a:ln>
        </p:spPr>
      </p:pic>
      <p:sp>
        <p:nvSpPr>
          <p:cNvPr id="346" name="Місце для нижнього колонтитула 2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57400" y="228240"/>
            <a:ext cx="5133960" cy="1143000"/>
          </a:xfrm>
          <a:prstGeom prst="rect">
            <a:avLst/>
          </a:prstGeom>
          <a:solidFill>
            <a:srgbClr val="ffff85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опросы для проверки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и обсуждения тем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В чем отличие величины спроса от величины потребности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О чем гласит 1-й закон экономики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Могут ли продукты питания относиться к категории престижных товаров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Почему фирмы во всем мире ищут  рынки товаров, которые являются новинками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Почему в Москве в 1992 году  рыба (самый дешевый изначально продукт) подорожала в 27,4 раза,  сахар   в 19 раз, молоко в 9,3 раза, а мясо только 3, 1 раза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Если выручка фирмы от продаж возросла  за год на 30%, а количество проданных товаров на 15%, на сколько изменилась цена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Целесообразен ли акциз на сливочное масло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49" name="Місце для нижнього колонтитула 2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4960" y="428760"/>
            <a:ext cx="7348680" cy="115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еличина спроса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 импортные качественные спортивные велосипед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785960" y="2071800"/>
          <a:ext cx="7000920" cy="4572000"/>
        </p:xfrm>
        <a:graphic>
          <a:graphicData uri="http://schemas.openxmlformats.org/drawingml/2006/table">
            <a:tbl>
              <a:tblPr/>
              <a:tblGrid>
                <a:gridCol w="3579840"/>
                <a:gridCol w="3421080"/>
              </a:tblGrid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а велосипеда  в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d58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можные покупки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d58a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35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30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24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65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3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66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0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75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5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45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</a:tr>
            </a:tbl>
          </a:graphicData>
        </a:graphic>
      </p:graphicFrame>
      <p:sp>
        <p:nvSpPr>
          <p:cNvPr id="209" name="TextBox 4"/>
          <p:cNvSpPr/>
          <p:nvPr/>
        </p:nvSpPr>
        <p:spPr>
          <a:xfrm>
            <a:off x="4500720" y="3429000"/>
            <a:ext cx="1857240" cy="20142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На каждый 1% снижения цены приходится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2,04% увеличения спроса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6"/>
          <p:cNvSpPr/>
          <p:nvPr/>
        </p:nvSpPr>
        <p:spPr>
          <a:xfrm>
            <a:off x="2000160" y="3429000"/>
            <a:ext cx="6357960" cy="144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9"/>
          <p:cNvSpPr/>
          <p:nvPr/>
        </p:nvSpPr>
        <p:spPr>
          <a:xfrm>
            <a:off x="2071800" y="4429080"/>
            <a:ext cx="6357960" cy="180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Двойная стрелка вверх/вниз 11"/>
          <p:cNvSpPr/>
          <p:nvPr/>
        </p:nvSpPr>
        <p:spPr>
          <a:xfrm>
            <a:off x="4143240" y="3429000"/>
            <a:ext cx="142920" cy="1000080"/>
          </a:xfrm>
          <a:prstGeom prst="upDownArrow">
            <a:avLst>
              <a:gd name="adj1" fmla="val 50000"/>
              <a:gd name="adj2" fmla="val 49987"/>
            </a:avLst>
          </a:prstGeom>
          <a:solidFill>
            <a:srgbClr val="e5d58a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Picture 42" descr="C:\Documents and Settings\Администратор\Мои документы\уроки ЭКОНОМИКИ\значки  и картины для презентаций\рисунки и анимашки для презентаций\1 (34).gif"/>
          <p:cNvPicPr/>
          <p:nvPr/>
        </p:nvPicPr>
        <p:blipFill>
          <a:blip r:embed="rId1"/>
          <a:stretch/>
        </p:blipFill>
        <p:spPr>
          <a:xfrm>
            <a:off x="7524720" y="5572080"/>
            <a:ext cx="1619280" cy="12859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99760" y="228240"/>
            <a:ext cx="7643880" cy="1343160"/>
          </a:xfrm>
          <a:prstGeom prst="rect">
            <a:avLst/>
          </a:prstGeom>
          <a:solidFill>
            <a:srgbClr val="ffffc2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ъем покупок (величина спроса) зависит от цены, чем ниже цена, тем больше товаров будет купле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00120" y="1643040"/>
            <a:ext cx="7491600" cy="459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ля показа  картины спроса рисуют кривую спроса в виде графика и шкалу спроса                   в виде таблицы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еличина спроса реагирует на уменьшение цены с различной эластичностью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эффициент эластичности определяют путем  деления разницы (в %) в величинах спроса на разницу между прежним  и новым  уровнем цен в %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Эластичность спроса –масштаб изменения величины спроса в % при изменении цены на 1%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17" name="Picture 4" descr="C:\Documents and Settings\Администратор\Мои документы\уроки ЭКОНОМИКИ\значки  и картины для презентаций\рисунки и анимашки для презентаций\1 (41).gif"/>
          <p:cNvPicPr/>
          <p:nvPr/>
        </p:nvPicPr>
        <p:blipFill>
          <a:blip r:embed="rId1"/>
          <a:stretch/>
        </p:blipFill>
        <p:spPr>
          <a:xfrm>
            <a:off x="8072280" y="1000080"/>
            <a:ext cx="876600" cy="76212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ормула эластичности спро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ая соединительная линия 4"/>
          <p:cNvSpPr/>
          <p:nvPr/>
        </p:nvSpPr>
        <p:spPr>
          <a:xfrm>
            <a:off x="3643200" y="2786040"/>
            <a:ext cx="1357560" cy="144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Прямая соединительная линия 5"/>
          <p:cNvSpPr/>
          <p:nvPr/>
        </p:nvSpPr>
        <p:spPr>
          <a:xfrm>
            <a:off x="5643720" y="2786040"/>
            <a:ext cx="1357200" cy="144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Овал 6"/>
          <p:cNvSpPr/>
          <p:nvPr/>
        </p:nvSpPr>
        <p:spPr>
          <a:xfrm>
            <a:off x="5286240" y="2643120"/>
            <a:ext cx="142920" cy="142920"/>
          </a:xfrm>
          <a:prstGeom prst="ellipse">
            <a:avLst/>
          </a:prstGeom>
          <a:solidFill>
            <a:srgbClr val="3333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Овал 7"/>
          <p:cNvSpPr/>
          <p:nvPr/>
        </p:nvSpPr>
        <p:spPr>
          <a:xfrm>
            <a:off x="5286240" y="2928960"/>
            <a:ext cx="142920" cy="142920"/>
          </a:xfrm>
          <a:prstGeom prst="ellipse">
            <a:avLst/>
          </a:prstGeom>
          <a:solidFill>
            <a:srgbClr val="3333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Прямая соединительная линия 9"/>
          <p:cNvSpPr/>
          <p:nvPr/>
        </p:nvSpPr>
        <p:spPr>
          <a:xfrm>
            <a:off x="3143160" y="2643120"/>
            <a:ext cx="357120" cy="180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Прямая соединительная линия 10"/>
          <p:cNvSpPr/>
          <p:nvPr/>
        </p:nvSpPr>
        <p:spPr>
          <a:xfrm>
            <a:off x="3143160" y="2928960"/>
            <a:ext cx="357120" cy="144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TextBox 11"/>
          <p:cNvSpPr/>
          <p:nvPr/>
        </p:nvSpPr>
        <p:spPr>
          <a:xfrm>
            <a:off x="2071800" y="2000160"/>
            <a:ext cx="78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333300"/>
                </a:solidFill>
                <a:latin typeface="Times New Roman"/>
              </a:rPr>
              <a:t>Е</a:t>
            </a:r>
            <a:endParaRPr b="0" lang="en-US" sz="8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Прямоугольник 13"/>
          <p:cNvSpPr/>
          <p:nvPr/>
        </p:nvSpPr>
        <p:spPr>
          <a:xfrm>
            <a:off x="4433040" y="164304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Times New Roman"/>
              </a:rPr>
              <a:t>q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Прямоугольник 14"/>
          <p:cNvSpPr/>
          <p:nvPr/>
        </p:nvSpPr>
        <p:spPr>
          <a:xfrm>
            <a:off x="4075920" y="26431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Times New Roman"/>
              </a:rPr>
              <a:t>q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9" name="Прямоугольник 16"/>
          <p:cNvSpPr/>
          <p:nvPr/>
        </p:nvSpPr>
        <p:spPr>
          <a:xfrm>
            <a:off x="3647160" y="164304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Times New Roman"/>
              </a:rPr>
              <a:t>q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Прямоугольник 17"/>
          <p:cNvSpPr/>
          <p:nvPr/>
        </p:nvSpPr>
        <p:spPr>
          <a:xfrm>
            <a:off x="5718960" y="15717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Times New Roman"/>
              </a:rPr>
              <a:t>p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Прямоугольник 18"/>
          <p:cNvSpPr/>
          <p:nvPr/>
        </p:nvSpPr>
        <p:spPr>
          <a:xfrm>
            <a:off x="6504840" y="164304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Times New Roman"/>
              </a:rPr>
              <a:t>p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Прямоугольник 19"/>
          <p:cNvSpPr/>
          <p:nvPr/>
        </p:nvSpPr>
        <p:spPr>
          <a:xfrm>
            <a:off x="5933160" y="27147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Times New Roman"/>
              </a:rPr>
              <a:t>p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TextBox 20"/>
          <p:cNvSpPr/>
          <p:nvPr/>
        </p:nvSpPr>
        <p:spPr>
          <a:xfrm>
            <a:off x="1571760" y="4000680"/>
            <a:ext cx="7572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Е – эластичность спроса,</a:t>
            </a:r>
            <a:r>
              <a:rPr b="1" lang="en-US" sz="40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Times New Roman"/>
              </a:rPr>
              <a:t>q</a:t>
            </a: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 –величина спроса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(2 – новая, 1- прежняя),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Times New Roman"/>
              </a:rPr>
              <a:t>p</a:t>
            </a: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 – цена (2 – новая, 1- прежняя)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Прямоугольник 21"/>
          <p:cNvSpPr/>
          <p:nvPr/>
        </p:nvSpPr>
        <p:spPr>
          <a:xfrm>
            <a:off x="4075200" y="2143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Прямоугольник 22"/>
          <p:cNvSpPr/>
          <p:nvPr/>
        </p:nvSpPr>
        <p:spPr>
          <a:xfrm>
            <a:off x="4717800" y="2071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Прямоугольник 23"/>
          <p:cNvSpPr/>
          <p:nvPr/>
        </p:nvSpPr>
        <p:spPr>
          <a:xfrm>
            <a:off x="6789600" y="2071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Прямоугольник 24"/>
          <p:cNvSpPr/>
          <p:nvPr/>
        </p:nvSpPr>
        <p:spPr>
          <a:xfrm>
            <a:off x="4575240" y="31431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Прямоугольник 25"/>
          <p:cNvSpPr/>
          <p:nvPr/>
        </p:nvSpPr>
        <p:spPr>
          <a:xfrm>
            <a:off x="6289920" y="31431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Прямоугольник 26"/>
          <p:cNvSpPr/>
          <p:nvPr/>
        </p:nvSpPr>
        <p:spPr>
          <a:xfrm>
            <a:off x="5932080" y="21430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Прямая соединительная линия 28"/>
          <p:cNvSpPr/>
          <p:nvPr/>
        </p:nvSpPr>
        <p:spPr>
          <a:xfrm>
            <a:off x="4143240" y="2143080"/>
            <a:ext cx="357480" cy="180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Прямая соединительная линия 29"/>
          <p:cNvSpPr/>
          <p:nvPr/>
        </p:nvSpPr>
        <p:spPr>
          <a:xfrm>
            <a:off x="6215040" y="2143080"/>
            <a:ext cx="357120" cy="180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00120" y="18360"/>
            <a:ext cx="75009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500120" y="856800"/>
            <a:ext cx="7491600" cy="53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Если эластичность спроса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ольше единицы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, то величина спроса меняется быстрее, чем цена – спрос эластичен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Если эластичность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еньше единицы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, то величина спроса меняется медленнее, чем цена,  то спрос неэластичен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Товары с эластичным спросом: предметы роскоши, драгоценности, шампанское, деликатесы,  мебель, телевизоры, легкозаменяемые товары…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Товары с неэластичным спросом:  предметы первой необходимости, лекарства, обувь, электричество, телефон, зубные щетки, лампочки, бензин…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00080" y="228600"/>
            <a:ext cx="8143920" cy="843120"/>
          </a:xfrm>
          <a:prstGeom prst="rect">
            <a:avLst/>
          </a:prstGeom>
          <a:solidFill>
            <a:srgbClr val="ffffd1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еличина спроса и спрос разные поня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13920" y="1213920"/>
            <a:ext cx="7929720" cy="564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еличина спроса показывает объем товара, который покупатели готовы купить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за определенный период  (месяц, год)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при определенной цене на него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прос - зависимость величины спроса на данном рынке от цен на определенный период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он спроса (1-ый закон экономики)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 повышение цен на товары  обычно ведет                  к уменьшение спроса на них,  а снижение –                 к увеличению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он предложения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 повышение цен на товары обычно ведет к росту величины предложения, а снижение цен – к уменьшению предложения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solidFill>
            <a:srgbClr val="ffffd1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 повышение цен не всегда гарантирует увеличение выручки от продаж, а снижение цен               не всегда  грозит падением выруч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00120" y="1357200"/>
            <a:ext cx="7491600" cy="488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При определении цены на свой товар коммерсант  обязательно должен прикинуть, сколько он может выручить  при такой цене исходя из существующей эластичности спроса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ыручка от продаж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– денежная сумма, получаемая при продаже и равная произведению числа проданных товаров          на цену по которой их купили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На формирование спроса кроме его цены влияют:  полезность товара, цены на другие товары, уровень доходов покупателей, численность и возраст покупателей, вкусы, традиции, реклама, ожидания динамики цен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54" name="Picture 4" descr="C:\Documents and Settings\Администратор\Мои документы\уроки ЭКОНОМИКИ\значки  и картины для презентаций\рисунки и анимашки для презентаций\1 (23).gif"/>
          <p:cNvPicPr/>
          <p:nvPr/>
        </p:nvPicPr>
        <p:blipFill>
          <a:blip r:embed="rId1"/>
          <a:stretch/>
        </p:blipFill>
        <p:spPr>
          <a:xfrm>
            <a:off x="7786800" y="2500200"/>
            <a:ext cx="1357200" cy="112248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07:17:40Z</dcterms:created>
  <dc:creator>XTreme</dc:creator>
  <dc:description/>
  <dc:language>en-US</dc:language>
  <cp:lastModifiedBy>LEGION</cp:lastModifiedBy>
  <dcterms:modified xsi:type="dcterms:W3CDTF">2016-01-04T08:17:15Z</dcterms:modified>
  <cp:revision>49</cp:revision>
  <dc:subject/>
  <dc:title>Закон спроса и поведение покупател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