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A81BC-6D53-403A-9C3F-01B993029F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ужны ли  школьни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е день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ужны ли  школьник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е день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ИНТЕРЕС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8% родителей Великобритании выдаю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тям карманные деньги строго по плану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6,5 лет - в среднем 1,5$ в недел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-летнему  подростку  - 10$ в недел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10 лет – дети начинают подрабатыва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ИНТЕРЕС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8% родителей Великобритании выдаю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тям карманные деньги строго по план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6,5 лет - в среднем 1,5$ в недел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-летнему  подростку  - 10$ в недел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10 лет – дети начинают подрабатыва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ИНТЕРЕС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Германии законодательно реш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 о количестве карманных денег в неделю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 6 лет- 50 цент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лет  -1,5-2 евр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лет - 10-12 евр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 лет –  20 евро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 лет –   25-30 евр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тельная способность дете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реднем 7,5 млрд евро в г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ИНТЕРЕС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Германии законодательно реш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 о количестве карманных денег в неделю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 6 лет- 50 цент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лет  -1,5-2 евр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лет - 10-12 евр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 лет –  20 евро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 лет –   25-30 евр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тельная способность дет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реднем 7,5 млрд евро в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е день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е деньги- это не награ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 хорошие оценки и хорошее поведени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плата за помощь по д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ая  их цель – научить ребенка тратить деньги, делая различные покупки и не неся ответственности за свой выбо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е день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е деньги- это не награ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 хорошие оценки и хорошее поведени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плата за помощь по дом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ая  их цель – научить ребенка тратить деньги, делая различные покупки и не неся ответственности за свой выбо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ОР ВСЕГДА СВЯЗАН С ОТВЕТСТВЕННОСТЬЮ И САМОСТОЯТЕЛЬНОСТ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вать деньги можно, если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аваемая сумма разум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дители в своих действиях последователь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бенок имеет возможность получать деньги регуляр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практикуется лишение карманных денег по поводу и без пов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е деньги не имеют статуса подарка и не являются способом покупки доверия ребенка и его хорошего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дители способны доверять своему ребенку в том, что касается траты выданной сум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ОР ВСЕГДА СВЯЗАН С ОТВЕТСТВЕННОСТЬЮ И САМОСТОЯТЕЛЬНОСТЬ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вать деньги можно, если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аваемая сумма разум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дители в своих действиях последователь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бенок имеет возможность получать деньги регуляр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практикуется лишение карманных денег по поводу и без пов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е деньги не имеют статуса подарка и не являются способом покупки доверия ребенка и его хорошего отнош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дители способны доверять своему ребенку в том, что касается траты выданной сум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мма зависит от вашего бюдж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инать нужно с малых сумм, например 100 рублей в недел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х денег не должно быть мн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жно определить, сколько денег ребенок сможет потратить «с умом»в соответствии с возраст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ленная сумма не должна увеличиваться под предлогом того, что ребенок уже все истрати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изменения в правилах выпла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х денег должны с ребенко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овывать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ую сумму давать ребенк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мма зависит от вашего бюдже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инать нужно с малых сумм, например 100 рублей в недел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х денег не должно быть мног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жно определить, сколько денег ребенок сможет потратить «с умом»в соответствии с возраст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ленная сумма не должна увеличиваться под предлогом того, что ребенок уже все истрати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изменения в правилах выпла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х денег должны с ребенко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овыватьс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ую сумму давать ребенку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часто давать деньг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учше руководствоваться принципо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меньше возраст, тем чаще выдава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большие суммы, например 1 раз в недел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ршеклассникам целесообразн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авать  карманные деньг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раз в меся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часто давать деньг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учше руководствоваться принципо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меньше возраст, тем чаще выдават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большие суммы, например 1 раз в недел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ршеклассникам целесообразн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авать  карманные деньг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раз в меся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регулярность получения ребенк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х денег, отсутств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тко оговоренной суммы, на котору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бенок может рассчитывать, приводя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тому, что практика карманных денег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азывается совершенно бесполезн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экономического воспитания ребе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часто давать деньг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регулярность получения ребенк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х денег, отсутств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тко оговоренной суммы, на которую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бенок может рассчитывать, приводя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тому, что практика карманных денег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азывается совершенно бесполезно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экономического воспитания ребе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часто давать деньг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жно давать карманные деньги ребенку с шести-семи л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самого начала нужно объяснить ребенку смысл выплат и договориться о том, какие расходы ребенка они будут покрыва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мма должна быть разумной и увеличиваться с возрас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леньким детям деньги нужно выдавать еженедельно в определенный день, а подросткам можно выдавать деньги раз в месяц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ача карманных денег не должна ставиться в зависимость от поведения и оценок и не должна отменяться в качестве наказ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ленная сумма денег не должна увеличиваться под предлогом того, что ребенок уже все истрати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бенку нужно позволить тратить свои деньги по собственному выбор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ребенка должны быть обязанности по дому, которые он выполняет бесплат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жегодно (в день рождения ребенка) сумма карманных денег и обязанности ребенка должны увеличиваться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ты родител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жно давать карманные деньги ребенку с шести-семи ле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самого начала нужно объяснить ребенку смысл выплат и договориться о том, какие расходы ребенка они будут покрыва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мма должна быть разумной и увеличиваться с возраст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леньким детям деньги нужно выдавать еженедельно в определенный день, а подросткам можно выдавать деньги раз в месяц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ача карманных денег не должна ставиться в зависимость от поведения и оценок и не должна отменяться в качестве наказ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ленная сумма денег не должна увеличиваться под предлогом того, что ребенок уже все истрати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бенку нужно позволить тратить свои деньги по собственному выбор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ребенка должны быть обязанности по дому, которые он выполняет бесплатн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жегодно (в день рождения ребенка) сумма карманных денег и обязанности ребенка должны увеличиваться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ты родителя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ты родител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карманных денег эффективная только в том случае, когда она сочетается с обсуждением финансовых вопросов в семь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мысл выдачи родителями карманных денег должен меняться по мере взросления ребенка и служит для контроля его растущих потребнос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 главное, необходимо помнить, чт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ьги, выдаваемые ребенку, это средство обучени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омощи которого родители помогают ребенку освоить все финансовые навыки, которые понадобятся ему во взрослой жиз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ты родителя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карманных денег эффективная только в том случае, когда она сочетается с обсуждением финансовых вопросов в семь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мысл выдачи родителями карманных денег должен меняться по мере взросления ребенка и служит для контроля его растущих потребност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 главное, необходимо помнить, чт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ьги, выдаваемые ребенку, это средство обучения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омощи которого родители помогают ребенку освоить все финансовые навыки, которые понадобятся ему во взрослой жизн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. Харрисон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  Корыстное материалистическое общество постоянно нас обучает,  причем  учит нас  не мышлению, а потреблени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детей, которым была дана  ответствен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 свобода  эту  ответственность   реализовать, развито критическое мышле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и научились сами решать, что приносит им удовлетворение, а что - не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тот ребенок, чья проницательность и воля на протяжении многих лет подавлялись... вырастает идеальным кандидатом на роль незадачливого потребителя всего, что поступает в продажу"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ты родител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. Харрисон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  Корыстное материалистическое общество постоянно нас обучает,  причем  учит нас  не мышлению, а потреблению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детей, которым была дана  ответственност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 свобода  эту  ответственность   реализовать, развито критическое мышлени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и научились сами решать, что приносит им удовлетворение, а что - нет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тот ребенок, чья проницательность и воля на протяжении многих лет подавлялись... вырастает идеальным кандидатом на роль незадачливого потребителя всего, что поступает в продажу"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ты родителя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е  деньг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е   деньги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сумма, выделяемая детям    на их собственные нужд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е  деньг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е   деньги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сумма, выделяемая детям    на их собственные нуж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берт Кийосаки   «Богатый ребенок, умный ребенок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нига американского бизнесмена, инвестора, писателя и преподавателя Роберта Кийосаки  «Богатый ребенок, умный ребенок» написана для родителей, которые ценят образование, мечтают, чтобы их ребенок на старте жизни совершил рывок в финансовом и академическом направлениях, и желают принять активное участие в воплощении этой меч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ржки из книги может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читать на наше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кольном сайт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chool3.uncnet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туем прочита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берт Кийосаки   «Богатый ребенок, умный ребенок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нига американского бизнесмена, инвестора, писателя и преподавателя Роберта Кийосаки  «Богатый ребенок, умный ребенок» написана для родителей, которые ценят образование, мечтают, чтобы их ребенок на старте жизни совершил рывок в финансовом и академическом направлениях, и желают принять активное участие в воплощении этой меч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ржки из книги может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читать на наше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кольном сайте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chool3.uncnet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туем прочита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ая ответственность в сочетании с дух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тва может стать могучей сил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могите вашим детям развить в себе оба этих качества, а затем расслабьтесь и наблюдайте за тем, как они будут покорять одну финансовую вершину за друг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ая ответственность в сочетании с дух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тва может стать могучей силой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могите вашим детям развить в себе оба этих качества, а затем расслабьтесь и наблюдайте за тем, как они будут покорять одну финансовую вершину за другой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ЕМ РЕБЕНКУ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КАРМАННЫЕ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ДЕНЬГИ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ВСЕ  ЗА  И  ПРОТИВ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ЕМ РЕБЕНКУ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КАРМАННЫЕ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ДЕНЬГИ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ВСЕ  ЗА  И  ПРОТИВ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а ребенок мал, все необходимое ему должны покупать взросл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бенок не сможет сделать правильный выб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ьги могут  «испортят» ребен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 может их тратить на ненужные ве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ему давать деньги регулярно он станет капризным, балованным, не способным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держивать свои жел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е деньги не нуж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а ребенок мал, все необходимое ему должны покупать взросл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бенок не сможет сделать правильный выб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ьги могут  «испортят» ребен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 может их тратить на ненужные вещ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ему давать деньги регулярно он станет капризным, балованным, не способным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держивать свои жел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е деньги не нуж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вать детям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арманные   деньги   надо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чувствовать себя личностью, которой неунизительно жить в мире самодостаточных взросл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тя бы для того, чтобы он смо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овлетворить свои потребности, которые взрослые не всегда могут предусмотре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лько когда дети получают деньги, они учатся  их копить, тратить, рассчитыва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вать детям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арманные   деньги   надо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чувствовать себя личностью, которой неунизительно жить в мире самодостаточных взросл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тя бы для того, чтобы он смо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овлетворить свои потребности, которые взрослые не всегда могут предусмотре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лько когда дети получают деньги, они учатся  их копить, тратить, рассчитыва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вать или не давать детям    карманные деньги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ому родителю придется искать золотую середину в этой дилемме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вать или не давать детям    карманные деньги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ому родителю придется искать золотую середину в этой дилемме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олько карманных денег имеют дет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Нужны ли тебе карманные деньг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 -      85 %              НЕТ – 15 % ( 1-5 кл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Как часто тебе дают деньг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когда  - 1 чел.  ( но очень хочется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жедневно -38%               ( от  10 до 150 руб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-2 раза неделю – 25 %   ( от 100 до 600 руб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-2 раза в месяц – 8 %     ( от 200 до 1000 руб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праздникам, в день рожденья – 19 % (до 2500 руб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огда – 9 % ( от 100 до 500 руб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олько карманных денег имеют дет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Нужны ли тебе карманные деньг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 -      85 %              НЕТ – 15 % ( 1-5 кл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Как часто тебе дают деньг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когда  - 1 чел.  ( но очень хочется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жедневно -38%               ( от  10 до 150 руб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-2 раза неделю – 25 %   ( от 100 до 600 руб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-2 раза в месяц – 8 %     ( от 200 до 1000 руб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праздникам, в день рожденья – 19 % (до 2500 руб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огда – 9 % ( от 100 до 500 руб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ем нужны деньги детя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Хватает ли тебе карманных денег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 -  72 %     НЕТ-  8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На что ты тратишь карманные деньг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еду, проезд –  45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личные нужды ( телефон, канцтовары, диски, сладости, игрушки, косметику) -    28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ираю, коплю – 18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арки родным, друзьям – 9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ем нужны деньги дет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Хватает ли тебе карманных денег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 -  72 %     НЕТ-  8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На что ты тратишь карманные деньг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еду, проезд –  45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личные нужды ( телефон, канцтовары, диски, сладости, игрушки, косметику) -    28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ираю, коплю – 18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арки родным, друзьям – 9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е  день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Объясняют ли тебе  родители как правильно тратить деньг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 – 65 %        НЕТ-  32%      ИНОГДА – 3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Если тебя наказывают, то лишают ли тебя карманных денег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-  26 %        НЕТ -  70 %    ИНОГДА – 4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Дают ли родители тебе деньги за хорошие оценки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-  16 %        НЕТ -  59 %    ИНОГДА – 25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Отчитываешь ли ты родителям о тратах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-  21%        НЕТ -  67 %    ИНОГДА – 12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е  день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Объясняют ли тебе  родители как правильно тратить деньг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 – 65 %        НЕТ-  32%      ИНОГДА – 3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Если тебя наказывают, то лишают ли тебя карманных денег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-  26 %        НЕТ -  70 %    ИНОГДА – 4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Дают ли родители тебе деньги за хорошие оценки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-  16 %        НЕТ -  59 %    ИНОГДА – 25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Отчитываешь ли ты родителям о тратах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-  21%        НЕТ -  67 %    ИНОГДА – 12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F746-CAC8-4461-AB1F-8CC872682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A031-8C01-48D5-AAD2-221C6F340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522D3C-5B42-4DDE-BE30-C020E78AC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601B53-6103-4BEB-92AD-D2FCE94A4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1B3B2D-CC21-4BDE-9399-3A9F067EB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EE0F8F-6AC3-4F96-98B2-B9C398151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592A35-FEB7-4A36-8F93-D9EBCFEFF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105AE0-D2C9-4ED3-B232-D1DE6A395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9E6F5D-7DA1-4001-9985-24BDF672A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0E12E6-5A8B-4682-A448-D115D9DDE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B731B2-45B9-4DB2-AFA8-06A9280CE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555C38-6AA2-42B3-9658-5E7459E71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C85D-3C03-4380-96D2-7726D2505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29838A-1717-43DA-8221-A2AB68014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128DF2-B019-4D5B-B56A-A1E33AA69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C34F67-951A-42CB-B356-4D50B1B24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E0D8D4-36FC-4757-B318-F4F271F53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86B542-3095-46C6-B062-1CB711DC2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02F72F-9BB3-4161-91B4-5670EB90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FAB9B7-2CDF-4FFD-88D0-EA159AC7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B0EDE5-B82C-4220-97BE-81446BE2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7F775F-EBCE-44BF-8B9E-80F00F94F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BADB4A-85D6-4B4D-8208-F3A913236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2FD4-654A-4D8B-A0E2-AD6AB24E3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A8F5B0-2E2D-4D11-A07C-02EF0D740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28988-A192-4AA8-9AF2-0E7A7DD6B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E456C-D0AC-4689-8C8D-3FB544472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653E5-14A2-4C2B-B240-41C56C696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A5A93-58BA-41C0-B394-E176F5D5E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EDC8E-5142-420E-811C-D3A99C834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2E760-7706-4560-A4FC-212BBD07A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3EBC5-EADB-47BC-B323-6F86A615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58CF-2F5C-47E7-B854-CD24863F6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40704-BBA2-4058-9C5C-11CE1C29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71F2B-73D6-4144-89CD-9B4EAC7F6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E664C-0A58-4DA9-925C-F11A9517A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281E4-D80A-4BB4-85E4-46EE5D714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130ED-888F-49E2-BD53-EC2F80A8F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B3639-0750-44F4-9327-782836F03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FB50C-6827-4379-BEDF-55C71DA29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D291B-49B2-4D54-A458-F296A41D6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F6F0C-9F20-4D7F-9DCD-47F53DF7F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FB102-153F-4082-AA7C-C5C7BF7E3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C421-25AE-44C2-8E22-321512C9A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8994D-2AE2-4508-88C8-6C926F68D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C1A49-0BCF-4A6F-9BE5-C98F272DE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D4150-2E4B-4F03-8A5D-D06DC804E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C7E4D-5243-470F-A0B1-5759A38C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3720C-1DFA-4EB1-B3B8-740014BFE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0FE5B-4508-4F0C-A23A-AAEB8B05C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A0F99-2BE5-4462-B08F-CED33720F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F6363-8A5A-4B60-ACC4-3EC306645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CEAFB-D509-4DDA-91BD-A75B45F7E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12A2F-2C80-4109-9343-39A1CE4C7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85ED-2AB0-4560-A2C7-8A1E10656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11539-BE22-4B23-A992-551A5BFCB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0B01A-75E9-4B61-A33A-6C7A87373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BE6BC-613C-4575-9866-47FD2B6CF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6D2E0-0B23-4F3F-BB13-8043110E1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3674C-30A3-43AA-9ABA-FCA29441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32C00-58D0-4B98-8F6A-2119ABA20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D8544-03F0-4CAD-9502-97864060F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7BB9C-C0B8-41BA-B188-8A4608882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93C6B-EF0D-4637-90D6-F96352C09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3C7EE-601E-4347-BE2F-51B6B1712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6ABD-A0D6-408B-A9C1-CD49A1E08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4D63D2-60D5-4F6D-9209-0CE136881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D56906-8535-4F94-B7AD-C94A6412D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D4A8A-B36E-40CD-8FCC-2814E8C2B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25EAE7-40BF-4884-AF19-53C049B9E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0D94F1-3093-499A-BA01-8DCA0390C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5A7B6F-47A5-4F6E-AF92-DDC2206E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B39E70-1CC8-489D-A642-31F6FEF5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83E331-01D8-4172-850B-B3B0ECD34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AD102-C9CE-4178-8882-9CA20A8A5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198B9A-41FF-406B-B79F-A63BA0300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8E41-23F6-4B2F-93C7-5DFDC084A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BE4A36-6573-4324-93C3-CC0F25C4E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7A1FE7-EC57-44CB-9EE9-2B7400C07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753ECC-7B1E-45AB-9E10-CE8539CFC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A91380-4229-4FC6-B7BB-AD40BB8C7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FCA8C7-EF79-4BB9-8275-A34E443BB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3E1FCD-3CB2-48AA-A99B-6FBE5831F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5C7E61-615D-4DC5-860A-7D3769948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225C9-EE19-4DBF-B268-C7EA9C69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C8979-F709-4155-85C0-A1DC451A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49A85A-89C0-4D58-B7C7-F2E5DE4A0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2202-CB86-4376-B970-7FF6FF9C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0D0786-0CF6-4F31-BC71-EFA4E7AAC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0B5CF0-778D-44B2-9B5E-01DF16F03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D497B-7CCF-49F2-887A-F3E50019E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879501-CB3C-473F-AA77-1C1CE4688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7CC42A-03DE-4843-AC8D-EF93C8D04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10B58B-A6F3-43AD-9568-457AE8ED4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B2AAEB-80D0-4124-A206-0BF9BE3ED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17CAB5-F33C-43C7-BD93-CE1A4B36B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74ACBD-EBA0-4F4D-8654-935F94D8A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CADCDB-C899-46BC-A14D-ADADC910F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5124-EE8E-4123-BD71-BFD516A2C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8C1734-CE6D-4BE3-888C-08978CB36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1D45DE-5BAF-4A86-95C2-DD7B97E2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0246A5-8988-4096-8EB2-2448743C6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2B29E0-FF19-42F8-974D-F07574201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0C308E-CC6D-4E89-AB3E-6C7552EFF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FA6C189-7151-44BF-B9E8-19E3A3D27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D00499B-2FBD-4C5A-B53F-E091BDCBE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C9DF825-0546-400A-8B35-51F95001C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53D50D6-9A2A-4894-AB75-EF3A43258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9C9B260-2BBB-482E-A955-2EC282B01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71C3-3865-4732-9189-E062F4C28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3A41CBB-9C98-4A57-9E91-9F7EEC6FE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A43E8C1-2BB2-476A-A202-EB91726A8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25AEEF8-1707-47A9-9652-F5E9CEAA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2C4D126-F1CF-459A-8C51-F6087649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8A9E8A3-D36B-4572-8B0F-B1FF1D4CE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20C2C51-5DFD-4154-B12E-56E8E8AAB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BB6CCEB-5925-4D9E-B0D7-12AE6E6FF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0AEAF1-E057-43CD-B6C4-856ABF347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7C190B-AA06-47E4-8EAC-A20B1D40A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43D41F-CDAB-4626-8AD7-2A6F362BF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prite 10"/>
          <p:cNvPicPr/>
          <p:nvPr/>
        </p:nvPicPr>
        <p:blipFill>
          <a:blip r:embed="rId2"/>
          <a:srcRect l="0" t="0" r="416" b="1937"/>
          <a:stretch/>
        </p:blipFill>
        <p:spPr>
          <a:xfrm>
            <a:off x="0" y="0"/>
            <a:ext cx="9144000" cy="1130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4B18F-5C23-406C-8E43-C8762D46564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113040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8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09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28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29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7B17E-A4E7-46E4-872C-275854F867A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44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6B60D-C7C1-4344-824C-DD6B384DA8A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Freeform 3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reeform 4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reeform 6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dt" idx="7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ftr" idx="8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Freeform 10"/>
          <p:cNvSpPr/>
          <p:nvPr/>
        </p:nvSpPr>
        <p:spPr>
          <a:xfrm>
            <a:off x="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73A33-BB61-4D37-9925-7804A38CB9A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35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36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39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FD002-CDCF-4BEA-B635-13E4EAA833E4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83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E2701-2373-41BF-AB97-9904668E794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Sprite 10"/>
          <p:cNvPicPr/>
          <p:nvPr/>
        </p:nvPicPr>
        <p:blipFill>
          <a:blip r:embed="rId2"/>
          <a:srcRect l="-31" t="0" r="416" b="1937"/>
          <a:stretch/>
        </p:blipFill>
        <p:spPr>
          <a:xfrm>
            <a:off x="-3240" y="2895480"/>
            <a:ext cx="9147240" cy="113040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8"/>
          <p:cNvSpPr/>
          <p:nvPr/>
        </p:nvSpPr>
        <p:spPr>
          <a:xfrm>
            <a:off x="0" y="402588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9"/>
          <p:cNvSpPr/>
          <p:nvPr/>
        </p:nvSpPr>
        <p:spPr>
          <a:xfrm>
            <a:off x="0" y="2743200"/>
            <a:ext cx="9142560" cy="15228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E0681-E452-4BBA-BDD3-420BBCF5086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9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2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C176A-4C53-4BFA-8017-C1A6E2E0098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1568520" y="4454640"/>
            <a:ext cx="7574040" cy="952560"/>
          </a:xfrm>
          <a:prstGeom prst="rect">
            <a:avLst/>
          </a:prstGeom>
          <a:solidFill>
            <a:srgbClr val="8686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Freeform 4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Freeform 5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Freeform 7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Freeform 9"/>
          <p:cNvSpPr/>
          <p:nvPr/>
        </p:nvSpPr>
        <p:spPr>
          <a:xfrm>
            <a:off x="324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22"/>
          </p:nvPr>
        </p:nvSpPr>
        <p:spPr>
          <a:xfrm>
            <a:off x="7772400" y="6414840"/>
            <a:ext cx="13716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FF882-9701-4511-B9E1-CE3A5AB98B6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23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dt" idx="24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362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365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5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6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7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64D67-7484-4272-B41E-BE45E7F179D7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68360" y="2019960"/>
            <a:ext cx="763272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2362320" y="5301360"/>
            <a:ext cx="6400800" cy="3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3" name="WordArt 4"/>
          <p:cNvSpPr txBox="1"/>
          <p:nvPr/>
        </p:nvSpPr>
        <p:spPr>
          <a:xfrm rot="21318000">
            <a:off x="793440" y="618840"/>
            <a:ext cx="7175520" cy="20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4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ужны ли  школьнику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4" name="WordArt 5"/>
          <p:cNvSpPr txBox="1"/>
          <p:nvPr/>
        </p:nvSpPr>
        <p:spPr>
          <a:xfrm>
            <a:off x="2987640" y="4581360"/>
            <a:ext cx="597708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арманные деньг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465" name="Picture 6" descr=""/>
          <p:cNvPicPr/>
          <p:nvPr/>
        </p:nvPicPr>
        <p:blipFill>
          <a:blip r:embed="rId1"/>
          <a:stretch/>
        </p:blipFill>
        <p:spPr>
          <a:xfrm>
            <a:off x="468360" y="3213000"/>
            <a:ext cx="2630520" cy="3429000"/>
          </a:xfrm>
          <a:prstGeom prst="rect">
            <a:avLst/>
          </a:prstGeom>
          <a:ln w="0">
            <a:noFill/>
          </a:ln>
        </p:spPr>
      </p:pic>
      <p:sp>
        <p:nvSpPr>
          <p:cNvPr id="466" name="Місце для нижнього колонтитула 1"/>
          <p:cNvSpPr/>
          <p:nvPr/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2326320" y="246960"/>
            <a:ext cx="6317640" cy="80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3" name="WordArt 3"/>
          <p:cNvSpPr txBox="1"/>
          <p:nvPr/>
        </p:nvSpPr>
        <p:spPr>
          <a:xfrm>
            <a:off x="2411280" y="189000"/>
            <a:ext cx="648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ТО ИНТЕРЕСНО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10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88% родителей Великобритании выдаю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детям карманные деньги строго по плану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с 6,5 лет - в среднем 1,5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$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в неделю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17-летнему  подростку  - 10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$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в неделю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С 10 лет – дети начинают подрабатыват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05" name="Picture 7" descr="SM_S-4_03-1"/>
          <p:cNvPicPr/>
          <p:nvPr/>
        </p:nvPicPr>
        <p:blipFill>
          <a:blip r:embed="rId3"/>
          <a:stretch/>
        </p:blipFill>
        <p:spPr>
          <a:xfrm>
            <a:off x="250920" y="333360"/>
            <a:ext cx="2143080" cy="1438200"/>
          </a:xfrm>
          <a:prstGeom prst="rect">
            <a:avLst/>
          </a:prstGeom>
          <a:ln w="0">
            <a:noFill/>
          </a:ln>
        </p:spPr>
      </p:pic>
      <p:sp>
        <p:nvSpPr>
          <p:cNvPr id="50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2326320" y="246960"/>
            <a:ext cx="6317640" cy="80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8" name="WordArt 3"/>
          <p:cNvSpPr txBox="1"/>
          <p:nvPr/>
        </p:nvSpPr>
        <p:spPr>
          <a:xfrm>
            <a:off x="2411280" y="189000"/>
            <a:ext cx="648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ТО ИНТЕРЕСНО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/>
          </p:nvPr>
        </p:nvSpPr>
        <p:spPr>
          <a:xfrm>
            <a:off x="179280" y="2361960"/>
            <a:ext cx="83520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В Германии законодательно решен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вопрос о количестве карманных денег в неделю: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до 6 лет- 50 центов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7лет  -1,5-2 евро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10лет - 10-12 евро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13 лет –  20 евро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15 лет –   25-30 евро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Покупательная способность детей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в среднем 7,5 млрд евро в год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10" name="Picture 5" descr="SM_S-4_03-1"/>
          <p:cNvPicPr/>
          <p:nvPr/>
        </p:nvPicPr>
        <p:blipFill>
          <a:blip r:embed="rId3"/>
          <a:stretch/>
        </p:blipFill>
        <p:spPr>
          <a:xfrm>
            <a:off x="250920" y="333360"/>
            <a:ext cx="2143080" cy="1438200"/>
          </a:xfrm>
          <a:prstGeom prst="rect">
            <a:avLst/>
          </a:prstGeom>
          <a:ln w="0">
            <a:noFill/>
          </a:ln>
        </p:spPr>
      </p:pic>
      <p:sp>
        <p:nvSpPr>
          <p:cNvPr id="51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WordArt 4"/>
          <p:cNvSpPr txBox="1"/>
          <p:nvPr/>
        </p:nvSpPr>
        <p:spPr>
          <a:xfrm>
            <a:off x="2124000" y="404640"/>
            <a:ext cx="551340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арманные деньг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Карманные деньги- это не награ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за хорошие оценки и хорошее поведен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не плата за помощь по до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Главная  их цел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– научить ребенка тратить деньги, делая различные покупки и не неся ответственности за свой выбо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10" descr=""/>
          <p:cNvPicPr/>
          <p:nvPr/>
        </p:nvPicPr>
        <p:blipFill>
          <a:blip r:embed="rId1"/>
          <a:stretch/>
        </p:blipFill>
        <p:spPr>
          <a:xfrm>
            <a:off x="5364000" y="4896000"/>
            <a:ext cx="1656000" cy="1773000"/>
          </a:xfrm>
          <a:prstGeom prst="rect">
            <a:avLst/>
          </a:prstGeom>
          <a:ln w="0">
            <a:noFill/>
          </a:ln>
        </p:spPr>
      </p:pic>
      <p:sp>
        <p:nvSpPr>
          <p:cNvPr id="515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ЫБОР ВСЕГДА СВЯЗАН С ОТВЕТСТВЕННОСТЬЮ И САМОСТОЯТЕЛЬНОСТЬ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Давать деньги можно, если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выдаваемая сумма разум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родители в своих действиях последователь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ребенок имеет возможность получать деньги регуляр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не практикуется лишение карманных денег по поводу и без по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карманные деньги не имеют статуса подарка и не являются способом покупки доверия ребенка и его хорошего отно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родители способны доверять своему ребенку в том, что касается траты выданной су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569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мма зависит от вашего бюдж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чинать нужно с малых сумм, например 100 рублей в недел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рманных денег не должно быть м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жно определить, сколько денег ребенок сможет потратить «с умом»в соответствии с возрас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ленная сумма не должна увеличиваться под предлогом того, что ребенок уже все истрат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изменения в правилах выпл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рманных денег должны с ребенк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гласовыва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WordArt 5"/>
          <p:cNvSpPr txBox="1"/>
          <p:nvPr/>
        </p:nvSpPr>
        <p:spPr>
          <a:xfrm>
            <a:off x="468360" y="476280"/>
            <a:ext cx="74167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акую сумму давать ребенку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23" name="Picture 6" descr=""/>
          <p:cNvPicPr/>
          <p:nvPr/>
        </p:nvPicPr>
        <p:blipFill>
          <a:blip r:embed="rId1"/>
          <a:stretch/>
        </p:blipFill>
        <p:spPr>
          <a:xfrm>
            <a:off x="7093080" y="4581360"/>
            <a:ext cx="1431720" cy="2082960"/>
          </a:xfrm>
          <a:prstGeom prst="rect">
            <a:avLst/>
          </a:prstGeom>
          <a:ln w="0">
            <a:noFill/>
          </a:ln>
        </p:spPr>
      </p:pic>
      <p:sp>
        <p:nvSpPr>
          <p:cNvPr id="5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569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WordArt 4"/>
          <p:cNvSpPr txBox="1"/>
          <p:nvPr/>
        </p:nvSpPr>
        <p:spPr>
          <a:xfrm>
            <a:off x="468360" y="476280"/>
            <a:ext cx="74167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ак часто давать деньги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8" name="Rectangle 7"/>
          <p:cNvSpPr/>
          <p:nvPr/>
        </p:nvSpPr>
        <p:spPr>
          <a:xfrm>
            <a:off x="539640" y="1116720"/>
            <a:ext cx="13187520" cy="39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Лучше руководствоваться принципом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чем меньше возраст, тем чаще выдават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большие суммы, например 1 раз в недел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аршеклассникам целесообразн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ыдавать  карманные деньг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 раз в меся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9" name="Picture 8" descr=""/>
          <p:cNvPicPr/>
          <p:nvPr/>
        </p:nvPicPr>
        <p:blipFill>
          <a:blip r:embed="rId1"/>
          <a:stretch/>
        </p:blipFill>
        <p:spPr>
          <a:xfrm>
            <a:off x="3492360" y="5067360"/>
            <a:ext cx="2087640" cy="1560600"/>
          </a:xfrm>
          <a:prstGeom prst="rect">
            <a:avLst/>
          </a:prstGeom>
          <a:ln w="0">
            <a:noFill/>
          </a:ln>
        </p:spPr>
      </p:pic>
      <p:sp>
        <p:nvSpPr>
          <p:cNvPr id="5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424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Нерегулярность получения ребен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карманных денег, отсутств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четко оговоренной суммы, на котору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ребенок может рассчитывать, приводя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к тому, что практика карманных денег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оказывается совершенно бесполезн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для экономического воспитания ребе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WordArt 4"/>
          <p:cNvSpPr txBox="1"/>
          <p:nvPr/>
        </p:nvSpPr>
        <p:spPr>
          <a:xfrm>
            <a:off x="468360" y="476280"/>
            <a:ext cx="74167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ак часто давать деньги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4" name="Rectangle 5"/>
          <p:cNvSpPr/>
          <p:nvPr/>
        </p:nvSpPr>
        <p:spPr>
          <a:xfrm>
            <a:off x="539640" y="2817000"/>
            <a:ext cx="1318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Picture 6" descr=""/>
          <p:cNvPicPr/>
          <p:nvPr/>
        </p:nvPicPr>
        <p:blipFill>
          <a:blip r:embed="rId1"/>
          <a:stretch/>
        </p:blipFill>
        <p:spPr>
          <a:xfrm>
            <a:off x="3492360" y="5157720"/>
            <a:ext cx="2087640" cy="1560600"/>
          </a:xfrm>
          <a:prstGeom prst="rect">
            <a:avLst/>
          </a:prstGeom>
          <a:ln w="0">
            <a:noFill/>
          </a:ln>
        </p:spPr>
      </p:pic>
      <p:sp>
        <p:nvSpPr>
          <p:cNvPr id="5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250560" y="1412640"/>
            <a:ext cx="856908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Berlin Sans FB Demi"/>
              </a:rPr>
              <a:t>Можно давать карманные деньги ребенку с шести-семи л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erlin Sans FB Demi"/>
              </a:rPr>
              <a:t>С самого начала нужно объяснить ребенку смысл выплат и договориться о том, какие расходы ребенка они будут покрыв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erlin Sans FB Demi"/>
              </a:rPr>
              <a:t>Сумма должна быть разумной и увеличиваться с возрас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Berlin Sans FB Demi"/>
              </a:rPr>
              <a:t>Маленьким детям деньги нужно выдавать еженедельно в определенный день, а подросткам можно выдавать деньги раз в меся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erlin Sans FB Demi"/>
              </a:rPr>
              <a:t>Выдача карманных денег не должна ставиться в зависимость от поведения и оценок и не должна отменяться в качестве наказ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erlin Sans FB Demi"/>
              </a:rPr>
              <a:t>Установленная сумма денег не должна увеличиваться под предлогом того, что ребенок уже все истрати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Berlin Sans FB Demi"/>
              </a:rPr>
              <a:t>Ребенку нужно позволить тратить свои деньги по собственному выбор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erlin Sans FB Demi"/>
              </a:rPr>
              <a:t>У ребенка должны быть обязанности по дому, которые он выполняет бесплат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Berlin Sans FB Demi"/>
              </a:rPr>
              <a:t>Ежегодно (в день рождения ребенка) сумма карманных денег и обязанности ребенка должны увеличиваться.</a:t>
            </a:r>
            <a:br>
              <a:rPr sz="18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Berlin Sans FB Dem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WordArt 6"/>
          <p:cNvSpPr txBox="1"/>
          <p:nvPr/>
        </p:nvSpPr>
        <p:spPr>
          <a:xfrm>
            <a:off x="1403280" y="404640"/>
            <a:ext cx="6191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оветы родителя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539" name="Picture 11" descr=""/>
          <p:cNvPicPr/>
          <p:nvPr/>
        </p:nvPicPr>
        <p:blipFill>
          <a:blip r:embed="rId1"/>
          <a:stretch/>
        </p:blipFill>
        <p:spPr>
          <a:xfrm>
            <a:off x="395280" y="115920"/>
            <a:ext cx="1081080" cy="1081080"/>
          </a:xfrm>
          <a:prstGeom prst="rect">
            <a:avLst/>
          </a:prstGeom>
          <a:ln w="0">
            <a:noFill/>
          </a:ln>
        </p:spPr>
      </p:pic>
      <p:sp>
        <p:nvSpPr>
          <p:cNvPr id="5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250560" y="1412640"/>
            <a:ext cx="856908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WordArt 4"/>
          <p:cNvSpPr txBox="1"/>
          <p:nvPr/>
        </p:nvSpPr>
        <p:spPr>
          <a:xfrm>
            <a:off x="1403280" y="404640"/>
            <a:ext cx="6191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оветы родителя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543" name="Picture 5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292040" cy="969840"/>
          </a:xfrm>
          <a:prstGeom prst="rect">
            <a:avLst/>
          </a:prstGeom>
          <a:ln w="0">
            <a:noFill/>
          </a:ln>
        </p:spPr>
      </p:pic>
      <p:sp>
        <p:nvSpPr>
          <p:cNvPr id="544" name="Rectangle 7"/>
          <p:cNvSpPr/>
          <p:nvPr/>
        </p:nvSpPr>
        <p:spPr>
          <a:xfrm>
            <a:off x="684360" y="1773360"/>
            <a:ext cx="7343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Система карманных денег эффективная только в том случае, когда она сочетается с обсуждением финансовых вопросов в семь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Смысл выдачи родителями карманных денег должен меняться по мере взросления ребенка и служит для контроля его растущих потребност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        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Но главное, необходимо помнить, чт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деньги, выдаваемые ребенку, это средство обучения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при помощи которого родители помогают ребенку освоить все финансовые навыки, которые понадобятся ему во взрослой жизн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250560" y="1412640"/>
            <a:ext cx="856908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С. Харрисон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2400" spc="-1" strike="noStrike">
                <a:solidFill>
                  <a:srgbClr val="0033cc"/>
                </a:solidFill>
                <a:latin typeface="Britannic Bold"/>
              </a:rPr>
              <a:t>«  Корыстное материалистическое общество постоянно нас обучает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33cc"/>
                </a:solidFill>
                <a:latin typeface="Arial"/>
              </a:rPr>
              <a:t>причем  учит нас  не мышлению, а потреблени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0" i="1" lang="ru-RU" sz="2400" spc="-1" strike="noStrike">
                <a:solidFill>
                  <a:srgbClr val="0033cc"/>
                </a:solidFill>
                <a:latin typeface="Arial"/>
              </a:rPr>
              <a:t>У детей, которым была дана  ответствен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33cc"/>
                </a:solidFill>
                <a:latin typeface="Arial"/>
              </a:rPr>
              <a:t>и  свобода  эту  ответственность   реализовать, развито критическое мышл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0" i="1" lang="ru-RU" sz="2400" spc="-1" strike="noStrike">
                <a:solidFill>
                  <a:srgbClr val="0033cc"/>
                </a:solidFill>
                <a:latin typeface="Arial"/>
              </a:rPr>
              <a:t>Они научились сами решать, что приносит им удовлетворение, а что - н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0" i="1" lang="ru-RU" sz="2400" spc="-1" strike="noStrike">
                <a:solidFill>
                  <a:srgbClr val="0033cc"/>
                </a:solidFill>
                <a:latin typeface="Arial"/>
              </a:rPr>
              <a:t>А тот ребенок, чья проницательность и воля на протяжении многих лет подавлялись... вырастает идеальным кандидатом на роль незадачливого потребителя всего, что поступает в продажу"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WordArt 4"/>
          <p:cNvSpPr txBox="1"/>
          <p:nvPr/>
        </p:nvSpPr>
        <p:spPr>
          <a:xfrm>
            <a:off x="1403280" y="404640"/>
            <a:ext cx="6191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оветы родителя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548" name="Picture 5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297080" cy="973080"/>
          </a:xfrm>
          <a:prstGeom prst="rect">
            <a:avLst/>
          </a:prstGeom>
          <a:ln w="0">
            <a:noFill/>
          </a:ln>
        </p:spPr>
      </p:pic>
      <p:sp>
        <p:nvSpPr>
          <p:cNvPr id="5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268000" y="1258920"/>
            <a:ext cx="6434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8" name="WordArt 11"/>
          <p:cNvSpPr txBox="1"/>
          <p:nvPr/>
        </p:nvSpPr>
        <p:spPr>
          <a:xfrm>
            <a:off x="2268360" y="189000"/>
            <a:ext cx="648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арманные  деньги?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Карманные   деньги 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это сумма, выделяемая детям    на их собственные нужд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16" descr=""/>
          <p:cNvPicPr/>
          <p:nvPr/>
        </p:nvPicPr>
        <p:blipFill>
          <a:blip r:embed="rId3"/>
          <a:stretch/>
        </p:blipFill>
        <p:spPr>
          <a:xfrm>
            <a:off x="0" y="1916280"/>
            <a:ext cx="2340000" cy="3025440"/>
          </a:xfrm>
          <a:prstGeom prst="rect">
            <a:avLst/>
          </a:prstGeom>
          <a:ln w="0">
            <a:noFill/>
          </a:ln>
        </p:spPr>
      </p:pic>
      <p:sp>
        <p:nvSpPr>
          <p:cNvPr id="4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56908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Роберт Кийосаки   «Богатый ребенок, умный ребено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нига американского бизнесмена, инвестора, писателя и преподавателя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оберта Кийосаки  «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Богатый ребенок, умный ребенок»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написана для родителей, которые ценят образование, мечтают, чтобы их ребенок на старте жизни совершил рывок в финансовом и академическом направлениях, и желают принять активное участие в воплощении этой меч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Britannic Bold"/>
              </a:rPr>
              <a:t>  </a:t>
            </a:r>
            <a:r>
              <a:rPr b="1" i="1" lang="en-US" sz="2400" spc="-1" strike="noStrike">
                <a:solidFill>
                  <a:srgbClr val="0033cc"/>
                </a:solidFill>
                <a:latin typeface="Britannic Bold"/>
              </a:rPr>
              <a:t>   </a:t>
            </a:r>
            <a:r>
              <a:rPr b="1" i="1" lang="ru-RU" sz="1800" spc="-1" strike="noStrike">
                <a:solidFill>
                  <a:srgbClr val="0033cc"/>
                </a:solidFill>
                <a:latin typeface="Britannic Bold"/>
              </a:rPr>
              <a:t>Выдержки из книги може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Britannic Bold"/>
              </a:rPr>
              <a:t>      </a:t>
            </a:r>
            <a:r>
              <a:rPr b="1" i="1" lang="ru-RU" sz="1800" spc="-1" strike="noStrike">
                <a:solidFill>
                  <a:srgbClr val="0033cc"/>
                </a:solidFill>
                <a:latin typeface="Britannic Bold"/>
              </a:rPr>
              <a:t>прочитать на наш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Britannic Bold"/>
              </a:rPr>
              <a:t>      </a:t>
            </a:r>
            <a:r>
              <a:rPr b="1" i="1" lang="ru-RU" sz="1800" spc="-1" strike="noStrike">
                <a:solidFill>
                  <a:srgbClr val="0033cc"/>
                </a:solidFill>
                <a:latin typeface="Britannic Bold"/>
              </a:rPr>
              <a:t>школьном сайт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cc"/>
                </a:solidFill>
                <a:latin typeface="Britannic Bold"/>
              </a:rPr>
              <a:t>   </a:t>
            </a:r>
            <a:r>
              <a:rPr b="1" i="1" lang="en-US" sz="1800" spc="-1" strike="noStrike">
                <a:solidFill>
                  <a:srgbClr val="0033cc"/>
                </a:solidFill>
                <a:latin typeface="Britannic Bold"/>
              </a:rPr>
              <a:t>   </a:t>
            </a:r>
            <a:r>
              <a:rPr b="1" lang="en-US" sz="2400" spc="-1" strike="noStrike">
                <a:solidFill>
                  <a:srgbClr val="0033cc"/>
                </a:solidFill>
                <a:latin typeface="Britannic Bold"/>
              </a:rPr>
              <a:t>school3.uncnet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WordArt 4"/>
          <p:cNvSpPr txBox="1"/>
          <p:nvPr/>
        </p:nvSpPr>
        <p:spPr>
          <a:xfrm>
            <a:off x="1403280" y="404640"/>
            <a:ext cx="6191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оветуем прочита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553" name="Picture 5" descr=""/>
          <p:cNvPicPr/>
          <p:nvPr/>
        </p:nvPicPr>
        <p:blipFill>
          <a:blip r:embed="rId1"/>
          <a:stretch/>
        </p:blipFill>
        <p:spPr>
          <a:xfrm>
            <a:off x="4932360" y="3933720"/>
            <a:ext cx="3301920" cy="2438640"/>
          </a:xfrm>
          <a:prstGeom prst="rect">
            <a:avLst/>
          </a:prstGeom>
          <a:ln w="0">
            <a:noFill/>
          </a:ln>
        </p:spPr>
      </p:pic>
      <p:sp>
        <p:nvSpPr>
          <p:cNvPr id="5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Финансовая ответственность в сочетании с дух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предпринимательства может стать могучей сило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Помогите вашим детям развить в себе оба этих качества, а затем расслабьтесь и наблюдайте за тем, как они будут покорять одну финансовую вершину за другой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WordArt 4"/>
          <p:cNvSpPr txBox="1"/>
          <p:nvPr/>
        </p:nvSpPr>
        <p:spPr>
          <a:xfrm>
            <a:off x="1979640" y="476280"/>
            <a:ext cx="5616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пасибо за вним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686800" cy="48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1" lang="ru-RU" sz="3400" spc="-1" strike="noStrike">
                <a:solidFill>
                  <a:srgbClr val="ff3300"/>
                </a:solidFill>
                <a:latin typeface="comic"/>
              </a:rPr>
              <a:t>          </a:t>
            </a: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1" lang="ru-RU" sz="3400" spc="-1" strike="noStrike">
                <a:solidFill>
                  <a:srgbClr val="ff3300"/>
                </a:solidFill>
                <a:latin typeface="comic"/>
              </a:rPr>
              <a:t>           </a:t>
            </a:r>
            <a:br>
              <a:rPr sz="3400"/>
            </a:br>
            <a:br>
              <a:rPr sz="3400"/>
            </a:br>
            <a:br>
              <a:rPr sz="3400"/>
            </a:br>
            <a:r>
              <a:rPr b="1" lang="ru-RU" sz="3400" spc="-1" strike="noStrike">
                <a:solidFill>
                  <a:srgbClr val="ff3300"/>
                </a:solidFill>
                <a:latin typeface="comic"/>
              </a:rPr>
              <a:t>              </a:t>
            </a: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1" lang="ru-RU" sz="3400" spc="-1" strike="noStrike">
                <a:solidFill>
                  <a:srgbClr val="ff3300"/>
                </a:solidFill>
                <a:latin typeface="comic"/>
              </a:rPr>
              <a:t>                </a:t>
            </a:r>
            <a:r>
              <a:rPr b="1" lang="ru-RU" sz="4800" spc="-1" strike="noStrike">
                <a:solidFill>
                  <a:srgbClr val="ff3300"/>
                </a:solidFill>
                <a:latin typeface="comic"/>
              </a:rPr>
              <a:t>ЗАЧЕМ РЕБЕНКУ </a:t>
            </a:r>
            <a:br>
              <a:rPr sz="4800"/>
            </a:br>
            <a:r>
              <a:rPr b="1" lang="ru-RU" sz="4800" spc="-1" strike="noStrike">
                <a:solidFill>
                  <a:srgbClr val="ff3300"/>
                </a:solidFill>
                <a:latin typeface="comic"/>
              </a:rPr>
              <a:t>               КАРМАННЫЕ   </a:t>
            </a:r>
            <a:br>
              <a:rPr sz="4800"/>
            </a:br>
            <a:r>
              <a:rPr b="1" lang="ru-RU" sz="4800" spc="-1" strike="noStrike">
                <a:solidFill>
                  <a:srgbClr val="ff3300"/>
                </a:solidFill>
                <a:latin typeface="comic"/>
              </a:rPr>
              <a:t>                   ДЕНЬГИ?</a:t>
            </a:r>
            <a:br>
              <a:rPr sz="4800"/>
            </a:br>
            <a:r>
              <a:rPr b="1" lang="ru-RU" sz="4800" spc="-1" strike="noStrike">
                <a:solidFill>
                  <a:srgbClr val="ff3300"/>
                </a:solidFill>
                <a:latin typeface="comic"/>
              </a:rPr>
              <a:t>         ВСЕ  ЗА  И  ПРОТИВ</a:t>
            </a:r>
            <a:br>
              <a:rPr sz="3800"/>
            </a:b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2209320" y="2085480"/>
            <a:ext cx="6775560" cy="39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Picture 5" descr=""/>
          <p:cNvPicPr/>
          <p:nvPr/>
        </p:nvPicPr>
        <p:blipFill>
          <a:blip r:embed="rId1"/>
          <a:stretch/>
        </p:blipFill>
        <p:spPr>
          <a:xfrm>
            <a:off x="3924360" y="4508640"/>
            <a:ext cx="1706400" cy="1893600"/>
          </a:xfrm>
          <a:prstGeom prst="rect">
            <a:avLst/>
          </a:prstGeom>
          <a:ln w="0">
            <a:noFill/>
          </a:ln>
        </p:spPr>
      </p:pic>
      <p:sp>
        <p:nvSpPr>
          <p:cNvPr id="475" name="Місце для нижнього колонтитула 1"/>
          <p:cNvSpPr/>
          <p:nvPr/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/>
          </p:nvPr>
        </p:nvSpPr>
        <p:spPr>
          <a:xfrm>
            <a:off x="2209320" y="1413000"/>
            <a:ext cx="6775560" cy="466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Пока ребенок мал, все необходимое ему должны покупать взросл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Ребенок не сможет сделать правильный выбо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Деньги могут  «испортят» ребен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Он может их тратить на ненужные вещ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Если ему давать деньги регулярно он станет капризным, балованным, не способным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        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сдерживать свои жел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7" name="Picture 4" descr="SM_S-4_03-1"/>
          <p:cNvPicPr/>
          <p:nvPr/>
        </p:nvPicPr>
        <p:blipFill>
          <a:blip r:embed="rId1"/>
          <a:stretch/>
        </p:blipFill>
        <p:spPr>
          <a:xfrm>
            <a:off x="179280" y="4724280"/>
            <a:ext cx="2808360" cy="1884600"/>
          </a:xfrm>
          <a:prstGeom prst="rect">
            <a:avLst/>
          </a:prstGeom>
          <a:ln w="0">
            <a:noFill/>
          </a:ln>
        </p:spPr>
      </p:pic>
      <p:sp>
        <p:nvSpPr>
          <p:cNvPr id="478" name="WordArt 6"/>
          <p:cNvSpPr txBox="1"/>
          <p:nvPr/>
        </p:nvSpPr>
        <p:spPr>
          <a:xfrm>
            <a:off x="2556000" y="189000"/>
            <a:ext cx="6183360" cy="85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арманные деньги не нужны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9" name="Місце для нижнього колонтитула 1"/>
          <p:cNvSpPr/>
          <p:nvPr/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br>
              <a:rPr sz="4100"/>
            </a:br>
            <a:br>
              <a:rPr sz="4100"/>
            </a:br>
            <a:br>
              <a:rPr sz="4100"/>
            </a:br>
            <a:br>
              <a:rPr sz="4100"/>
            </a:br>
            <a:br>
              <a:rPr sz="4100"/>
            </a:br>
            <a:r>
              <a:rPr b="1" lang="ru-RU" sz="4500" spc="-1" strike="noStrike">
                <a:solidFill>
                  <a:srgbClr val="ff3300"/>
                </a:solidFill>
                <a:latin typeface="comic"/>
              </a:rPr>
              <a:t>Давать детям</a:t>
            </a:r>
            <a:br>
              <a:rPr sz="4500"/>
            </a:br>
            <a:r>
              <a:rPr b="1" lang="ru-RU" sz="4500" spc="-1" strike="noStrike">
                <a:solidFill>
                  <a:srgbClr val="ff3300"/>
                </a:solidFill>
                <a:latin typeface="comic"/>
              </a:rPr>
              <a:t> карманные   деньги   надо</a:t>
            </a:r>
            <a:br>
              <a:rPr sz="4500"/>
            </a:br>
            <a:br>
              <a:rPr sz="4500"/>
            </a:br>
            <a:endParaRPr b="0" lang="en-US" sz="45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86800" cy="461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 Black"/>
              </a:rPr>
              <a:t>   </a:t>
            </a:r>
            <a:r>
              <a:rPr b="0" lang="ru-RU" sz="2400" spc="-1" strike="noStrike">
                <a:solidFill>
                  <a:srgbClr val="0033cc"/>
                </a:solidFill>
                <a:latin typeface="Arial Black"/>
              </a:rPr>
              <a:t>Чтобы чувствовать себя личностью, которой неунизительно жить в мире самодостаточных взрослых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 Black"/>
              </a:rPr>
              <a:t>    </a:t>
            </a:r>
            <a:r>
              <a:rPr b="0" lang="ru-RU" sz="2400" spc="-1" strike="noStrike">
                <a:solidFill>
                  <a:srgbClr val="0033cc"/>
                </a:solidFill>
                <a:latin typeface="Arial Black"/>
              </a:rPr>
              <a:t>Хотя бы для того, чтобы он смог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 Black"/>
              </a:rPr>
              <a:t>   </a:t>
            </a:r>
            <a:r>
              <a:rPr b="0" lang="ru-RU" sz="2400" spc="-1" strike="noStrike">
                <a:solidFill>
                  <a:srgbClr val="0033cc"/>
                </a:solidFill>
                <a:latin typeface="Arial Black"/>
              </a:rPr>
              <a:t>удовлетворить свои потребности, которые взрослые не всегда могут предусмотреть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 Black"/>
              </a:rPr>
              <a:t>    </a:t>
            </a:r>
            <a:r>
              <a:rPr b="0" lang="ru-RU" sz="2400" spc="-1" strike="noStrike">
                <a:solidFill>
                  <a:srgbClr val="0033cc"/>
                </a:solidFill>
                <a:latin typeface="Arial Black"/>
              </a:rPr>
              <a:t>Только когда дети получают деньги, они учатся  их копить, тратить, рассчитывать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2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686800" cy="43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1" lang="ru-RU" sz="3400" spc="-1" strike="noStrike">
                <a:solidFill>
                  <a:srgbClr val="ff3300"/>
                </a:solidFill>
                <a:latin typeface="comic"/>
              </a:rPr>
              <a:t>          </a:t>
            </a: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1" lang="ru-RU" sz="3400" spc="-1" strike="noStrike">
                <a:solidFill>
                  <a:srgbClr val="ff3300"/>
                </a:solidFill>
                <a:latin typeface="comic"/>
              </a:rPr>
              <a:t>           </a:t>
            </a:r>
            <a:br>
              <a:rPr sz="3400"/>
            </a:br>
            <a:br>
              <a:rPr sz="3400"/>
            </a:br>
            <a:br>
              <a:rPr sz="3400"/>
            </a:br>
            <a:r>
              <a:rPr b="1" lang="ru-RU" sz="3400" spc="-1" strike="noStrike">
                <a:solidFill>
                  <a:srgbClr val="ff3300"/>
                </a:solidFill>
                <a:latin typeface="comic"/>
              </a:rPr>
              <a:t>              </a:t>
            </a: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1" lang="ru-RU" sz="3400" spc="-1" strike="noStrike">
                <a:solidFill>
                  <a:srgbClr val="ff3300"/>
                </a:solidFill>
                <a:latin typeface="comic"/>
              </a:rPr>
              <a:t>                </a:t>
            </a: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1" lang="ru-RU" sz="3400" spc="-1" strike="noStrike">
                <a:solidFill>
                  <a:srgbClr val="ff3300"/>
                </a:solidFill>
                <a:latin typeface="comic"/>
              </a:rPr>
              <a:t>   </a:t>
            </a:r>
            <a:r>
              <a:rPr b="1" lang="ru-RU" sz="4800" spc="-1" strike="noStrike">
                <a:solidFill>
                  <a:srgbClr val="ff3300"/>
                </a:solidFill>
                <a:latin typeface="comic"/>
              </a:rPr>
              <a:t>Давать или не давать детям    карманные деньги?</a:t>
            </a:r>
            <a:br>
              <a:rPr sz="4800"/>
            </a:br>
            <a:r>
              <a:rPr b="1" lang="ru-RU" sz="4800" spc="-1" strike="noStrike">
                <a:solidFill>
                  <a:srgbClr val="ff3300"/>
                </a:solidFill>
                <a:latin typeface="comic"/>
              </a:rPr>
              <a:t>Каждому родителю придется искать золотую середину в этой дилемме</a:t>
            </a:r>
            <a:r>
              <a:rPr b="1" lang="ru-RU" sz="3800" spc="-1" strike="noStrike">
                <a:solidFill>
                  <a:srgbClr val="ff3300"/>
                </a:solidFill>
                <a:latin typeface="comic"/>
              </a:rPr>
              <a:t>…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2209320" y="2085480"/>
            <a:ext cx="6775560" cy="39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Picture 5" descr=""/>
          <p:cNvPicPr/>
          <p:nvPr/>
        </p:nvPicPr>
        <p:blipFill>
          <a:blip r:embed="rId1"/>
          <a:stretch/>
        </p:blipFill>
        <p:spPr>
          <a:xfrm>
            <a:off x="5796000" y="4365720"/>
            <a:ext cx="2158920" cy="2158920"/>
          </a:xfrm>
          <a:prstGeom prst="rect">
            <a:avLst/>
          </a:prstGeom>
          <a:ln w="0">
            <a:noFill/>
          </a:ln>
        </p:spPr>
      </p:pic>
      <p:sp>
        <p:nvSpPr>
          <p:cNvPr id="486" name="Місце для нижнього колонтитула 1"/>
          <p:cNvSpPr/>
          <p:nvPr/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268000" y="188640"/>
            <a:ext cx="6434280" cy="92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WordArt 4"/>
          <p:cNvSpPr txBox="1"/>
          <p:nvPr/>
        </p:nvSpPr>
        <p:spPr>
          <a:xfrm>
            <a:off x="2124000" y="189000"/>
            <a:ext cx="6624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колько карманных денег имеют дети?</a:t>
            </a:r>
            <a:endParaRPr b="0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692000" y="1628640"/>
            <a:ext cx="74516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        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1. Нужны ли тебе карманные деньги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 -      85 %              НЕТ – 15 % ( 1-5 кл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        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2. Как часто тебе дают деньги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икогда  - 1 чел.  ( но очень хочется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жедневно -38%               ( от  10 до 150 руб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-2 раза неделю – 25 %   ( от 100 до 600 руб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-2 раза в месяц – 8 %     ( от 200 до 1000 руб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 праздникам, в день рожденья – 19 % (до 2500 руб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огда – 9 % ( от 100 до 500 руб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0" name="Picture 7" descr=""/>
          <p:cNvPicPr/>
          <p:nvPr/>
        </p:nvPicPr>
        <p:blipFill>
          <a:blip r:embed="rId3"/>
          <a:stretch/>
        </p:blipFill>
        <p:spPr>
          <a:xfrm>
            <a:off x="179280" y="1268280"/>
            <a:ext cx="1943280" cy="2590920"/>
          </a:xfrm>
          <a:prstGeom prst="rect">
            <a:avLst/>
          </a:prstGeom>
          <a:ln w="0">
            <a:noFill/>
          </a:ln>
        </p:spPr>
      </p:pic>
      <p:sp>
        <p:nvSpPr>
          <p:cNvPr id="491" name="Місце для нижнього колонтитула 1"/>
          <p:cNvSpPr/>
          <p:nvPr/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384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" dur="384" fill="hold"/>
                                        <p:tgtEl>
                                          <p:spTgt spid="4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" dur="616" fill="hold">
                                          <p:stCondLst>
                                            <p:cond delay="384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" dur="384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" dur="616" fill="hold">
                                          <p:stCondLst>
                                            <p:cond delay="384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" dur="384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" dur="616" fill="hold">
                                          <p:stCondLst>
                                            <p:cond delay="384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4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4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4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4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4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4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4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4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4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4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4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4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4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4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4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268000" y="188640"/>
            <a:ext cx="6696360" cy="92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WordArt 3"/>
          <p:cNvSpPr txBox="1"/>
          <p:nvPr/>
        </p:nvSpPr>
        <p:spPr>
          <a:xfrm>
            <a:off x="2268360" y="189000"/>
            <a:ext cx="5904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чем нужны деньги детям</a:t>
            </a:r>
            <a:endParaRPr b="0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979280" y="162864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3. Хватает ли тебе карманных денег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 -  72 %     НЕТ-  8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4.На что ты тратишь карманные деньги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еду, проезд –  45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личные нужды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 телефон, канцтовары, диски, сладости, игрушки, косметику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8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бираю, коплю – 18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арки родным, друзьям – 9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5" name="Picture 5" descr=""/>
          <p:cNvPicPr/>
          <p:nvPr/>
        </p:nvPicPr>
        <p:blipFill>
          <a:blip r:embed="rId3"/>
          <a:stretch/>
        </p:blipFill>
        <p:spPr>
          <a:xfrm>
            <a:off x="7093080" y="1125360"/>
            <a:ext cx="2050920" cy="165600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6" descr=""/>
          <p:cNvPicPr/>
          <p:nvPr/>
        </p:nvPicPr>
        <p:blipFill>
          <a:blip r:embed="rId4"/>
          <a:stretch/>
        </p:blipFill>
        <p:spPr>
          <a:xfrm>
            <a:off x="324000" y="4581360"/>
            <a:ext cx="1584000" cy="1584360"/>
          </a:xfrm>
          <a:prstGeom prst="rect">
            <a:avLst/>
          </a:prstGeom>
          <a:ln w="0">
            <a:noFill/>
          </a:ln>
        </p:spPr>
      </p:pic>
      <p:sp>
        <p:nvSpPr>
          <p:cNvPr id="497" name="Місце для нижнього колонтитула 1"/>
          <p:cNvSpPr/>
          <p:nvPr/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268000" y="188640"/>
            <a:ext cx="6434280" cy="92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WordArt 3"/>
          <p:cNvSpPr txBox="1"/>
          <p:nvPr/>
        </p:nvSpPr>
        <p:spPr>
          <a:xfrm>
            <a:off x="2268360" y="189000"/>
            <a:ext cx="648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арманные  деньги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979280" y="1628640"/>
            <a:ext cx="6775560" cy="460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. Объясняют ли тебе  родители как правильно тратить деньги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ДА – 65 %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НЕТ-  32%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ИНОГДА – 3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.Если тебя наказывают, то лишают ли тебя карманных денег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ДА-  26 %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НЕТ -  70 %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ИНОГДА – 4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7. Дают ли родители тебе деньги за хорошие оценки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ДА-  16 %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НЕТ -  59 %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ИНОГДА – 25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8. Отчитываешь ли ты родителям о тратах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ДА-  21%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НЕТ -  67 %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ИНОГДА – 12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Місце для нижнього колонтитула 1"/>
          <p:cNvSpPr/>
          <p:nvPr/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9T12:38:44Z</dcterms:created>
  <dc:creator>USER</dc:creator>
  <dc:description/>
  <dc:language>en-US</dc:language>
  <cp:lastModifiedBy>LEGION</cp:lastModifiedBy>
  <dcterms:modified xsi:type="dcterms:W3CDTF">2016-01-04T11:45:49Z</dcterms:modified>
  <cp:revision>176</cp:revision>
  <dc:subject/>
  <dc:title>Слайд 1</dc:title>
</cp:coreProperties>
</file>