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15.png" ContentType="image/pn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D5133-535D-4668-9AE9-B4D830A955F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ы ли  школьник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8% родителей Великобритании выдаю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тям карманные деньги строго по план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6,5 лет - в среднем 1,5$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7-летнему  подростку  - 10$ в нед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10 лет – дети начинают подраба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ИНТЕРЕС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Германии законодательно реше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 о количестве карманных денег в неделю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о 6 лет- 50 цент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лет  -1,5-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лет - 10-12 евр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 лет –  20 евро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 лет –   25-30 евр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упательная способность дет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среднем 7,5 млрд евро в го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- это не нагр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хорошие оценки и хорошее поведение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лата за помощь по дом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лавная  их цель – научить ребенка тратить деньги, делая различные покупки и не неся ответственности за свой выбо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ньги можно, если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емая сумма разум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в своих действиях последователь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ую сумму давать ребенку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учше руководствоваться принципом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меньше возраст, тем чаще выда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большие суммы, например 1 раз в неделю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ршеклассникам целесообразн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вать  карманные деньг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 раз в месяц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регулярность получения ребенк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х денег, отсутств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тко оговоренной суммы, на котор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может рассчитывать, приводя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тому, что практика карманных денег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азывается совершенно бесполез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экономического воспитания ребе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часто дава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ожно давать карманные деньги ребенку с шести-семи лет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мма должна быть разумной и увеличиваться с возраст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ку нужно позволить тратить свои деньги по собственному выбор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ребенка должны быть обязанности по дому, которые он выполняет бесплат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главное, необходимо помнить, чт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, выдаваемые ребенку, это средство обучен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. Харрисон 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  Корыстное материалистическое общество постоянно нас обучает,  причем  учит нас  не мышлению, а потреблению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 детей, которым была дана  ответственнос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ы родител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 деньги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сумма, выделяемая детям    на их собственные нуж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Роберта Кийосаки  «Богатый ребенок, умный ребенок»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держки из книги может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читать на наше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ьном сайте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school3.uncnet.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етуем прочит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асибо за вним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РЕБЕНКУ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КАРМАННЫЕ  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ВСЕ  ЗА  И  ПРОТИВ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ка ребенок мал, все необходимое ему должны покупать взросл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сможет сделать правильный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ьги могут  «испортят» ребенк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 может их тратить на ненужные вещ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ему давать деньги регулярно он станет капризным, балованным, не способным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держивать свои жел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деньги не нуж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детям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карманные   деньги   надо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отя бы для того, чтобы он смо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довлетворить свои потребности, которые взрослые не всегда могут предусмотре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когда дети получают деньги, они учатся  их копить, тратить, рассчитыва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</a:t>
            </a: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вать или не давать детям    карманные деньги?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ому родителю придется искать золотую середину в этой дилемме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олько карманных денег имеют дет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Нужны ли тебе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    85 %              НЕТ – 15 % ( 1-5 кл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Как часто тебе дают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огда  - 1 чел.  ( но очень хочется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жедневно -38%               ( от  10 до 15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неделю – 25 %   ( от 100 до 6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-2 раза в месяц – 8 %     ( от 200 до 10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праздникам, в день рожденья – 19 % (до 2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огда – 9 % ( от 100 до 500 руб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чем нужны деньги д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Хватает ли тебе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-  72 %     НЕТ-  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На что ты тратишь карманные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еду, проезд –  4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личные нужды ( телефон, канцтовары, диски, сладости, игрушки, косметику) -    2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бираю, коплю – 18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арки родным, друзьям – 9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рманные  деньг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Объясняют ли тебе  родители как правильно тратить деньг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 – 65 %        НЕТ-  32%      ИНОГДА – 3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Если тебя наказывают, то лишают ли тебя карманных денег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6 %        НЕТ -  70 %    ИНОГДА – 4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Дают ли родители тебе деньги за хорошие оценки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16 %        НЕТ -  59 %    ИНОГДА – 25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Отчитываешь ли ты родителям о тратах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-  21%        НЕТ -  67 %    ИНОГДА – 12 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6A25-9284-49A9-A1BD-ED20E5FC7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EC7C5-3800-475D-8E0D-BD2D98AD0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0F267E-93A5-4F8C-BD7B-71C7828BE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CEBB55-AAAB-4911-8F02-6A4A23FD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88C5BDD-7B6F-4E70-AA31-244AEA504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E41FD9-8F2B-4BEA-B53E-D8044003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F707B-C33C-45B2-A6EE-564081436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2DE837-2192-4DAD-AB5B-27D80850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1F8286-314D-4D69-8EEB-E3684EAEF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63F307-C26C-4AB6-AD5F-6DCF31CA3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4F4C201-350B-419F-BF22-955A8F20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00A1CA-F3BB-48FF-8BFC-629733B1B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D859-B5F6-410E-8372-6D85D90DA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25694B-DB17-463A-9A19-536A8A5C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84E540-3F5E-4487-AE46-6008018FB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E0A78E-147E-447D-8DB8-9A7F4DC7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EDA3F9-99D4-4368-992A-26784C320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A81CC0-3888-441C-964E-52600005A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F96DE4-B869-4482-9FF9-36AD0F7B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7B5DCA-C4C9-4278-AC45-643D04CA3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A8F9FA-33FC-46B4-BC44-A6838D99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173B1D-CA28-43D2-A5FC-A630719F8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4FC48D-CB20-4345-83D2-88BD4AF28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25828-BF6E-4BE4-89F0-2161461A3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B886A5-012D-41B1-893D-862554020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23797-462A-4F57-B8ED-0A38A42DF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C833D-DA24-4800-B8D3-1E38CFE82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7E37-79C2-4E44-83C9-525B942B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3014-42DA-425D-87D8-97021D00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FE9-6318-476D-92A7-92FF31617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E2F1-EA20-4311-A444-491D32C91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C422C-46F6-470D-A5A0-F000402BB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2A41-1325-4CF0-BB18-9BCE1CBD4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56ADE-1056-407B-97C9-EA49EF57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7094F-A890-470A-824C-DB500391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68425-881A-46FA-AE4F-26056BAA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7A573-F945-42C0-A0B6-EC486847F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FE2CE-8C8F-444C-A23D-BC73F4F01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70B5F0-CC26-4285-BBC9-BDE3465E45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28605-851A-4111-B1EF-7541D4184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340D84-FE50-4529-A7B6-6ED1C9E89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727E87-2342-4117-8455-8187642EF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1FA654-7B1E-4DCC-81B0-2B50BB2F3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38C6-E1CE-44F9-88BF-450E227A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61A528-3673-4416-B747-BE6564B4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D89D8-B14A-4C33-A1B4-0DC5A8E9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C511B-4CD4-4C9E-A8D1-6B70BE099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4AE642-2748-4D8B-A37C-76D2F24F6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F9099-C673-4E51-AB4A-174A7D64B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C7965-4841-45FB-8897-76EE5BFC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E31DD-183D-422E-87F1-B4D51AD758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7D498F-914D-410F-8CF8-1182B3F94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2332F6-B2E9-46F6-9A96-748BDEA60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EFB712-587C-4957-B3E5-843F89817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F90A9-2D17-45CF-88F1-ED15C4A8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4FFEE4-C5AE-47B1-A5B5-C6CAB67F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78315-9044-4894-A282-38CEB24D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3C1259-B3EF-43F6-B590-DC96A74F0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36A86B-BABC-4C69-8D8F-37ECF5C3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D13C02-76DC-4218-A951-AFEC73220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49D53B-FBE0-461E-BADD-D58946BD0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25071A-F9D8-4343-8A81-2F33FEE52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1CE49-8D82-46F9-BF32-C9A70F2E9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21EA88-5A28-4DBF-9982-77F442501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145283-3387-4A61-8A2C-0D9ED0A32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62B7-29AB-40EF-9646-C44F57A69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BB69DA-6D29-4645-AB73-0F71243AE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1880CEC-441D-4A01-AA7F-8FDD03D19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244887-5FEC-4696-86CD-E36003AE1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F5724C6-BCE2-40B1-BEF9-20DD0CC55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1BAD10-7A9D-4F81-98F3-BC6BFABDD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5A9A25-10C9-437F-A83C-F20FFA51C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ACFCB-A2A2-4837-ADCE-6C5907A5D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914B0-EEA9-43BE-BF08-556D83FAA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99E18B9-0802-4324-8D0B-A81F80122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21EB0C-ECA0-4C6B-9762-8C83E67FA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AEE-00D7-4D1E-BB5E-37F55D108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E22464-10BF-4B6D-974A-545059809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1ED64A-B09F-4AEB-9595-C5B6C5463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043A11-762A-4A2C-8D54-42A57134B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D744F-1F75-4C1B-A599-B2DBA032C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5E624E-7EFB-43C3-A1A5-CEBD25288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8C48B6-2C21-4970-9835-4ABDBF90B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F7311F-DB65-452D-9944-5DA01D4C7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37224D-64BE-4A46-81D7-440C5756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810375-80F9-4E38-9BE6-8527A8A84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F79D1E-526E-438F-BC41-1933E9F9F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4E43-7148-42AE-BF77-8474405FA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C11F1F-38D6-4F0F-80B3-F1C5FC4A3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9FD9B5-B43E-4493-A15E-20162CF27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17E366-6E4C-4491-8725-B4F2DE3F8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03F720-3466-40F3-9190-A87BCE342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3A23E0-FA9B-4676-8835-AF025CD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5AD8DC-B6D3-4D5B-B117-17A86592B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6920FA-C774-498A-A655-1AB11C59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4E90D-B179-42A8-B11F-142D3604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D3FF50-62E6-4196-A4DD-DA544920A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97E19-3345-4FEC-B987-0D0402F65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E08E-F343-4DE1-9611-2B7E5EDA3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A6769D-0F9A-4DE1-BB7F-B26C3E2BB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1B503A-7932-4EE4-AB39-ABAAE8379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A3DA43-2BFB-417C-8D4C-291CE85E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C7CDF92-8B34-4D97-A383-FF0B4506C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FAB56F-A8BB-4C70-96A4-C7B983BB29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A61A841-4AA5-4A12-AF8C-B28F61104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24551EC-6411-4B61-BD0D-1AA36027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2A989F6-FFE7-43CD-9BF5-3FD8F9AE2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9EABDC-1C22-4ECB-833D-2426A8034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B3C6765-E543-49C7-9AC7-0424B0FB6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F7C5-15D6-4971-865E-C154ACC4E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C20B29-CC76-4D72-A7D1-289AACDE3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A93D012-28FD-4838-9FC4-952C664D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D5435AA-4D1D-4CAF-923B-E49918FB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E0F9AC5-FFE5-4F7A-B734-2DBE00460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8391972-63A2-44A7-A543-A5195EA0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5144538-DAFE-4EE1-A2A9-3FE57234E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477B7E-5A5D-4B2F-AD68-17D207038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F7D687-D63C-4CA1-A869-AC2FF8CA6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7F8C70-4EDB-4891-B1D4-13197C6B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840ECF-DF6B-4ACC-A92A-23783385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prite 10"/>
          <p:cNvPicPr/>
          <p:nvPr/>
        </p:nvPicPr>
        <p:blipFill>
          <a:blip r:embed="rId2"/>
          <a:srcRect l="0" t="0" r="416" b="1937"/>
          <a:stretch/>
        </p:blipFill>
        <p:spPr>
          <a:xfrm>
            <a:off x="0" y="0"/>
            <a:ext cx="9144000" cy="11304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3389-B182-4180-AECF-106CBB2624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0" y="113040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8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09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28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29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A136F-FE23-4672-8E97-8F18A67F2BC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4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5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7C3D1-A7AF-4876-9C5D-1AF8F224BD9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Freeform 3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reeform 4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reeform 6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dt" idx="7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ftr" idx="8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Freeform 10"/>
          <p:cNvSpPr/>
          <p:nvPr/>
        </p:nvSpPr>
        <p:spPr>
          <a:xfrm>
            <a:off x="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sldNum" idx="9"/>
          </p:nvPr>
        </p:nvSpPr>
        <p:spPr>
          <a:xfrm>
            <a:off x="7923240" y="6414840"/>
            <a:ext cx="96984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3E879-FE34-434F-9FDF-30CB158465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35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36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8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39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AFA3F-EBED-423D-985D-014861AB7AF2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8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F381C-D2C1-4A30-97C6-BB6A58553D5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Sprite 10"/>
          <p:cNvPicPr/>
          <p:nvPr/>
        </p:nvPicPr>
        <p:blipFill>
          <a:blip r:embed="rId2"/>
          <a:srcRect l="-31" t="0" r="416" b="1937"/>
          <a:stretch/>
        </p:blipFill>
        <p:spPr>
          <a:xfrm>
            <a:off x="-3240" y="2895480"/>
            <a:ext cx="9147240" cy="113040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8"/>
          <p:cNvSpPr/>
          <p:nvPr/>
        </p:nvSpPr>
        <p:spPr>
          <a:xfrm>
            <a:off x="0" y="4025880"/>
            <a:ext cx="9142560" cy="152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0066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Rectangle 9"/>
          <p:cNvSpPr/>
          <p:nvPr/>
        </p:nvSpPr>
        <p:spPr>
          <a:xfrm>
            <a:off x="0" y="2743200"/>
            <a:ext cx="9142560" cy="15228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228600" y="144756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68580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30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35851-5D1E-4BD3-BAAE-0E00C8E2EF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D9D646-48A8-4DFE-A093-88B7AC9322F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2"/>
          <p:cNvSpPr/>
          <p:nvPr/>
        </p:nvSpPr>
        <p:spPr>
          <a:xfrm>
            <a:off x="1568520" y="4454640"/>
            <a:ext cx="7574040" cy="952560"/>
          </a:xfrm>
          <a:prstGeom prst="rect">
            <a:avLst/>
          </a:prstGeom>
          <a:solidFill>
            <a:srgbClr val="8686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0" y="6415200"/>
            <a:ext cx="9142560" cy="44136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Freeform 4"/>
          <p:cNvSpPr/>
          <p:nvPr/>
        </p:nvSpPr>
        <p:spPr>
          <a:xfrm>
            <a:off x="7574040" y="5902200"/>
            <a:ext cx="1569960" cy="955800"/>
          </a:xfrm>
          <a:custGeom>
            <a:avLst/>
            <a:gdLst/>
            <a:ahLst/>
            <a:rect l="l" t="t" r="r" b="b"/>
            <a:pathLst>
              <a:path w="989" h="602">
                <a:moveTo>
                  <a:pt x="243" y="0"/>
                </a:moveTo>
                <a:lnTo>
                  <a:pt x="988" y="346"/>
                </a:lnTo>
                <a:lnTo>
                  <a:pt x="953" y="600"/>
                </a:lnTo>
                <a:lnTo>
                  <a:pt x="0" y="601"/>
                </a:lnTo>
                <a:lnTo>
                  <a:pt x="243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Freeform 5"/>
          <p:cNvSpPr/>
          <p:nvPr/>
        </p:nvSpPr>
        <p:spPr>
          <a:xfrm>
            <a:off x="7575480" y="6176880"/>
            <a:ext cx="1568520" cy="681120"/>
          </a:xfrm>
          <a:custGeom>
            <a:avLst/>
            <a:gdLst/>
            <a:ahLst/>
            <a:rect l="l" t="t" r="r" b="b"/>
            <a:pathLst>
              <a:path w="988" h="429">
                <a:moveTo>
                  <a:pt x="0" y="428"/>
                </a:moveTo>
                <a:lnTo>
                  <a:pt x="427" y="0"/>
                </a:lnTo>
                <a:lnTo>
                  <a:pt x="987" y="219"/>
                </a:lnTo>
                <a:lnTo>
                  <a:pt x="987" y="428"/>
                </a:lnTo>
                <a:lnTo>
                  <a:pt x="0" y="428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6"/>
          <p:cNvSpPr/>
          <p:nvPr/>
        </p:nvSpPr>
        <p:spPr>
          <a:xfrm>
            <a:off x="0" y="0"/>
            <a:ext cx="9142560" cy="1295280"/>
          </a:xfrm>
          <a:prstGeom prst="rect">
            <a:avLst/>
          </a:prstGeom>
          <a:gradFill rotWithShape="0">
            <a:gsLst>
              <a:gs pos="0">
                <a:srgbClr val="99ccff"/>
              </a:gs>
              <a:gs pos="100000">
                <a:srgbClr val="0099cc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7"/>
          <p:cNvSpPr/>
          <p:nvPr/>
        </p:nvSpPr>
        <p:spPr>
          <a:xfrm>
            <a:off x="0" y="0"/>
            <a:ext cx="2211480" cy="6858000"/>
          </a:xfrm>
          <a:custGeom>
            <a:avLst/>
            <a:gdLst/>
            <a:ahLst/>
            <a:rect l="l" t="t" r="r" b="b"/>
            <a:pathLst>
              <a:path w="1393" h="4320">
                <a:moveTo>
                  <a:pt x="0" y="0"/>
                </a:moveTo>
                <a:lnTo>
                  <a:pt x="1392" y="240"/>
                </a:lnTo>
                <a:lnTo>
                  <a:pt x="288" y="4319"/>
                </a:lnTo>
                <a:lnTo>
                  <a:pt x="0" y="4319"/>
                </a:lnTo>
                <a:lnTo>
                  <a:pt x="0" y="0"/>
                </a:lnTo>
              </a:path>
            </a:pathLst>
          </a:custGeom>
          <a:solidFill>
            <a:srgbClr val="00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Freeform 9"/>
          <p:cNvSpPr/>
          <p:nvPr/>
        </p:nvSpPr>
        <p:spPr>
          <a:xfrm>
            <a:off x="3240" y="-15840"/>
            <a:ext cx="1522440" cy="6873840"/>
          </a:xfrm>
          <a:custGeom>
            <a:avLst/>
            <a:gdLst/>
            <a:ahLst/>
            <a:rect l="l" t="t" r="r" b="b"/>
            <a:pathLst>
              <a:path w="959" h="4330">
                <a:moveTo>
                  <a:pt x="0" y="0"/>
                </a:moveTo>
                <a:lnTo>
                  <a:pt x="958" y="346"/>
                </a:lnTo>
                <a:lnTo>
                  <a:pt x="286" y="4329"/>
                </a:lnTo>
                <a:lnTo>
                  <a:pt x="0" y="4329"/>
                </a:lnTo>
                <a:lnTo>
                  <a:pt x="0" y="0"/>
                </a:lnTo>
              </a:path>
            </a:pathLst>
          </a:cu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117880" y="-360"/>
            <a:ext cx="6867360" cy="1065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2209320" y="192708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601"/>
              </a:spcBef>
              <a:buClr>
                <a:srgbClr val="99cc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 type="sldNum" idx="22"/>
          </p:nvPr>
        </p:nvSpPr>
        <p:spPr>
          <a:xfrm>
            <a:off x="7772400" y="6414840"/>
            <a:ext cx="1371600" cy="42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B4F08-D9B4-45E6-857C-571AF77A3D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 type="ftr" idx="23"/>
          </p:nvPr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 type="dt" idx="24"/>
          </p:nvPr>
        </p:nvSpPr>
        <p:spPr>
          <a:xfrm>
            <a:off x="579240" y="6415200"/>
            <a:ext cx="1593720" cy="44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362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365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5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6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7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276D8-B8E7-412D-ADCD-7F1EFC14FF1B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1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360" y="2019960"/>
            <a:ext cx="763272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2362320" y="5301360"/>
            <a:ext cx="6400800" cy="37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63" name="WordArt 4"/>
          <p:cNvSpPr txBox="1"/>
          <p:nvPr/>
        </p:nvSpPr>
        <p:spPr>
          <a:xfrm rot="21318000">
            <a:off x="793440" y="618840"/>
            <a:ext cx="7175520" cy="2031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Нужны ли  школьнику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4" name="WordArt 5"/>
          <p:cNvSpPr txBox="1"/>
          <p:nvPr/>
        </p:nvSpPr>
        <p:spPr>
          <a:xfrm>
            <a:off x="2987640" y="4581360"/>
            <a:ext cx="5977080" cy="16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465" name="Picture 6" descr=""/>
          <p:cNvPicPr/>
          <p:nvPr/>
        </p:nvPicPr>
        <p:blipFill>
          <a:blip r:embed="rId1"/>
          <a:stretch/>
        </p:blipFill>
        <p:spPr>
          <a:xfrm>
            <a:off x="468360" y="3213000"/>
            <a:ext cx="2630520" cy="3429000"/>
          </a:xfrm>
          <a:prstGeom prst="rect">
            <a:avLst/>
          </a:prstGeom>
          <a:ln w="0">
            <a:noFill/>
          </a:ln>
        </p:spPr>
      </p:pic>
      <p:sp>
        <p:nvSpPr>
          <p:cNvPr id="466" name="Місце для нижнього колонтитула 1"/>
          <p:cNvSpPr/>
          <p:nvPr/>
        </p:nvSpPr>
        <p:spPr>
          <a:xfrm>
            <a:off x="3124080" y="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3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88% родителей Великобритании выдают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етям карманные деньги строго по плану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6,5 лет - в среднем 1,5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7-летнему  подростку  - 10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$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в неделю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С 10 лет – дети начинают подрабатывать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05" name="Picture 7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06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 txBox="1"/>
          <p:nvPr/>
        </p:nvSpPr>
        <p:spPr>
          <a:xfrm>
            <a:off x="2326320" y="246960"/>
            <a:ext cx="6317640" cy="80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08" name="WordArt 3"/>
          <p:cNvSpPr txBox="1"/>
          <p:nvPr/>
        </p:nvSpPr>
        <p:spPr>
          <a:xfrm>
            <a:off x="241128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ЭТО ИНТЕРЕСНО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/>
          </p:nvPr>
        </p:nvSpPr>
        <p:spPr>
          <a:xfrm>
            <a:off x="179280" y="2361960"/>
            <a:ext cx="8352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 Германии законодательно реше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       </a:t>
            </a:r>
            <a:r>
              <a:rPr b="1" lang="ru-RU" sz="2000" spc="-1" strike="noStrike">
                <a:solidFill>
                  <a:srgbClr val="003366"/>
                </a:solidFill>
                <a:latin typeface="Arial"/>
              </a:rPr>
              <a:t>вопрос о количестве карманных денег в неделю:</a:t>
            </a:r>
            <a:r>
              <a:rPr b="1" lang="ru-RU" sz="24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до 6 лет- 50 центов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7лет  -1,5-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0лет - 10-12 евро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3 лет –  20 евро,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66"/>
                </a:solidFill>
                <a:latin typeface="Arial"/>
              </a:rPr>
              <a:t>15 лет –   25-30 евро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Покупательная способность детей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в среднем 7,5 млрд евро в год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510" name="Picture 5" descr="SM_S-4_03-1"/>
          <p:cNvPicPr/>
          <p:nvPr/>
        </p:nvPicPr>
        <p:blipFill>
          <a:blip r:embed="rId3"/>
          <a:stretch/>
        </p:blipFill>
        <p:spPr>
          <a:xfrm>
            <a:off x="250920" y="333360"/>
            <a:ext cx="2143080" cy="1438200"/>
          </a:xfrm>
          <a:prstGeom prst="rect">
            <a:avLst/>
          </a:prstGeom>
          <a:ln w="0">
            <a:noFill/>
          </a:ln>
        </p:spPr>
      </p:pic>
      <p:sp>
        <p:nvSpPr>
          <p:cNvPr id="511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WordArt 4"/>
          <p:cNvSpPr txBox="1"/>
          <p:nvPr/>
        </p:nvSpPr>
        <p:spPr>
          <a:xfrm>
            <a:off x="2124000" y="404640"/>
            <a:ext cx="551340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арманные деньг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/>
          </p:nvPr>
        </p:nvSpPr>
        <p:spPr>
          <a:xfrm>
            <a:off x="609120" y="1599840"/>
            <a:ext cx="82105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Карманные деньги- это не награ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за хорошие оценки и хорошее поведение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не плата за помощь по до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Главная  их 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– научить ребенка тратить деньги, делая различные покупки и не неся ответственности за свой выб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4" name="Picture 10" descr=""/>
          <p:cNvPicPr/>
          <p:nvPr/>
        </p:nvPicPr>
        <p:blipFill>
          <a:blip r:embed="rId1"/>
          <a:stretch/>
        </p:blipFill>
        <p:spPr>
          <a:xfrm>
            <a:off x="5364000" y="4896000"/>
            <a:ext cx="1656000" cy="1773000"/>
          </a:xfrm>
          <a:prstGeom prst="rect">
            <a:avLst/>
          </a:prstGeom>
          <a:ln w="0">
            <a:noFill/>
          </a:ln>
        </p:spPr>
      </p:pic>
      <p:sp>
        <p:nvSpPr>
          <p:cNvPr id="515" name="PlaceHolder 2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ВЫБОР ВСЕГДА СВЯЗАН С ОТВЕТСТВЕННОСТЬЮ И САМОСТОЯТЕЛЬНОСТЬ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Давать деньги можно, если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выдаваемая сумма разум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в своих действиях последователь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ебенок имеет возможность получать деньги регуляр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не практикуется лишение карманных денег по поводу и без по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карманные деньги не имеют статуса подарка и не являются способом покупки доверия ребенка и его хорошего отнош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cc"/>
                </a:solidFill>
                <a:latin typeface="Arial"/>
              </a:rPr>
              <a:t>родители способны доверять своему ребенку в том, что касается траты выданной сум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зависит от вашего бюдж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чинать нужно с малых сумм, например 100 рублей в недел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не должно быть мн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ажно определить, сколько денег ребенок сможет потратить «с умом»в соответствии с возрас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становленная сумма не должна увеличиваться под предлогом того, что ребенок уже все истрати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изменения в правилах выпл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нных денег должны с ребенком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гласовыв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WordArt 5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ую сумму давать ребенку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523" name="Picture 6" descr=""/>
          <p:cNvPicPr/>
          <p:nvPr/>
        </p:nvPicPr>
        <p:blipFill>
          <a:blip r:embed="rId1"/>
          <a:stretch/>
        </p:blipFill>
        <p:spPr>
          <a:xfrm>
            <a:off x="7093080" y="4581360"/>
            <a:ext cx="1431720" cy="2082960"/>
          </a:xfrm>
          <a:prstGeom prst="rect">
            <a:avLst/>
          </a:prstGeom>
          <a:ln w="0">
            <a:noFill/>
          </a:ln>
        </p:spPr>
      </p:pic>
      <p:sp>
        <p:nvSpPr>
          <p:cNvPr id="5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569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539640" y="1116720"/>
            <a:ext cx="13187520" cy="39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Лучше руководствоваться принципом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чем меньше возраст, тем чаще выдават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небольшие суммы, например 1 раз в недел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таршеклассникам целесообразно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ыдавать  карманные деньги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 раз в меся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Picture 8" descr=""/>
          <p:cNvPicPr/>
          <p:nvPr/>
        </p:nvPicPr>
        <p:blipFill>
          <a:blip r:embed="rId1"/>
          <a:stretch/>
        </p:blipFill>
        <p:spPr>
          <a:xfrm>
            <a:off x="3492360" y="506736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395280" y="1599840"/>
            <a:ext cx="8424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Нерегулярность получения ребен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арманных денег, отсутств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четко оговоренной суммы, на котору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ребенок может рассчитывать, приводя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к тому, что практика карманных денег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оказывается совершенно бесполезно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cc"/>
                </a:solidFill>
                <a:latin typeface="Arial"/>
              </a:rPr>
              <a:t>для экономического воспитания реб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WordArt 4"/>
          <p:cNvSpPr txBox="1"/>
          <p:nvPr/>
        </p:nvSpPr>
        <p:spPr>
          <a:xfrm>
            <a:off x="468360" y="476280"/>
            <a:ext cx="741672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Как часто давать деньги?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34" name="Rectangle 5"/>
          <p:cNvSpPr/>
          <p:nvPr/>
        </p:nvSpPr>
        <p:spPr>
          <a:xfrm>
            <a:off x="539640" y="2817000"/>
            <a:ext cx="13187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6" descr=""/>
          <p:cNvPicPr/>
          <p:nvPr/>
        </p:nvPicPr>
        <p:blipFill>
          <a:blip r:embed="rId1"/>
          <a:stretch/>
        </p:blipFill>
        <p:spPr>
          <a:xfrm>
            <a:off x="3492360" y="5157720"/>
            <a:ext cx="2087640" cy="1560600"/>
          </a:xfrm>
          <a:prstGeom prst="rect">
            <a:avLst/>
          </a:prstGeom>
          <a:ln w="0">
            <a:noFill/>
          </a:ln>
        </p:spPr>
      </p:pic>
      <p:sp>
        <p:nvSpPr>
          <p:cNvPr id="53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ожно давать карманные деньги ребенку с шести-семи ле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 самого начала нужно объяснить ребенку смысл выплат и договориться о том, какие расходы ребенка они будут покры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Сумма должна быть разумной и увеличиваться с возрас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Маленьким детям деньги нужно выдавать еженедельно в определенный день, а подросткам можно выдавать деньги раз в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Выдача карманных денег не должна ставиться в зависимость от поведения и оценок и не должна отменяться в качестве наказан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становленная сумма денег не должна увеличиваться под предлогом того, что ребенок уже все истрати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Ребенку нужно позволить тратить свои деньги по собственному выбор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У ребенка должны быть обязанности по дому, которые он выполняет бесплат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Berlin Sans FB Demi"/>
              </a:rPr>
              <a:t>Ежегодно (в день рождения ребенка) сумма карманных денег и обязанности ребенка должны увеличиваться.</a:t>
            </a:r>
            <a:br>
              <a:rPr sz="18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Berlin Sans FB Dem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WordArt 6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39" name="Picture 11" descr=""/>
          <p:cNvPicPr/>
          <p:nvPr/>
        </p:nvPicPr>
        <p:blipFill>
          <a:blip r:embed="rId1"/>
          <a:stretch/>
        </p:blipFill>
        <p:spPr>
          <a:xfrm>
            <a:off x="395280" y="115920"/>
            <a:ext cx="1081080" cy="1081080"/>
          </a:xfrm>
          <a:prstGeom prst="rect">
            <a:avLst/>
          </a:prstGeom>
          <a:ln w="0">
            <a:noFill/>
          </a:ln>
        </p:spPr>
      </p:pic>
      <p:sp>
        <p:nvSpPr>
          <p:cNvPr id="54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3" name="Picture 5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292040" cy="969840"/>
          </a:xfrm>
          <a:prstGeom prst="rect">
            <a:avLst/>
          </a:prstGeom>
          <a:ln w="0">
            <a:noFill/>
          </a:ln>
        </p:spPr>
      </p:pic>
      <p:sp>
        <p:nvSpPr>
          <p:cNvPr id="544" name="Rectangle 7"/>
          <p:cNvSpPr/>
          <p:nvPr/>
        </p:nvSpPr>
        <p:spPr>
          <a:xfrm>
            <a:off x="684360" y="1773360"/>
            <a:ext cx="7343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истема карманных денег эффективная только в том случае, когда она сочетается с обсуждением финансовых вопросов в семь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Смысл выдачи родителями карманных денег должен меняться по мере взросления ребенка и служит для контроля его растущих потребностей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о главное, необходимо помнить, чт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еньги, выдаваемые ребенку, это средство обучения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при помощи которого родители помогают ребенку освоить все финансовые навыки, которые понадобятся ему во взрослой жизн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С. Харрисон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Britannic Bold"/>
              </a:rPr>
              <a:t>«  Корыстное материалистическое общество постоянно нас обучает,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причем  учит нас  не мышлению, а потребле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У детей, которым была дана  ответственност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и  свобода  эту  ответственность   реализовать, развито критическое мышление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Они научились сами решать, что приносит им удовлетворение, а что - нет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      </a:t>
            </a:r>
            <a:r>
              <a:rPr b="0" i="1" lang="ru-RU" sz="2400" spc="-1" strike="noStrike">
                <a:solidFill>
                  <a:srgbClr val="0033cc"/>
                </a:solidFill>
                <a:latin typeface="Arial"/>
              </a:rPr>
              <a:t>А тот ребенок, чья проницательность и воля на протяжении многих лет подавлялись... вырастает идеальным кандидатом на роль незадачливого потребителя всего, что поступает в продажу"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ы родителям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48" name="Picture 5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1297080" cy="973080"/>
          </a:xfrm>
          <a:prstGeom prst="rect">
            <a:avLst/>
          </a:prstGeom>
          <a:ln w="0">
            <a:noFill/>
          </a:ln>
        </p:spPr>
      </p:pic>
      <p:sp>
        <p:nvSpPr>
          <p:cNvPr id="5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268000" y="1258920"/>
            <a:ext cx="6434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68" name="WordArt 11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?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Карманные   деньги –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ru-RU" sz="4000" spc="-1" strike="noStrike">
                <a:solidFill>
                  <a:srgbClr val="ff3300"/>
                </a:solidFill>
                <a:latin typeface="Arial"/>
              </a:rPr>
              <a:t>это сумма, выделяемая детям    на их собственные нужды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0" name="Picture 16" descr=""/>
          <p:cNvPicPr/>
          <p:nvPr/>
        </p:nvPicPr>
        <p:blipFill>
          <a:blip r:embed="rId3"/>
          <a:stretch/>
        </p:blipFill>
        <p:spPr>
          <a:xfrm>
            <a:off x="0" y="1916280"/>
            <a:ext cx="2340000" cy="3025440"/>
          </a:xfrm>
          <a:prstGeom prst="rect">
            <a:avLst/>
          </a:prstGeom>
          <a:ln w="0">
            <a:noFill/>
          </a:ln>
        </p:spPr>
      </p:pic>
      <p:sp>
        <p:nvSpPr>
          <p:cNvPr id="4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250560" y="1412640"/>
            <a:ext cx="856908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Роберт Кийосаки   «Богатый ребенок, умный ребенок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Книга американского бизнесмена, инвестора, писателя и преподава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Роберта Кийосаки  «</a:t>
            </a:r>
            <a:r>
              <a:rPr b="1" i="1" lang="ru-RU" sz="2000" spc="-1" strike="noStrike">
                <a:solidFill>
                  <a:srgbClr val="ff3300"/>
                </a:solidFill>
                <a:latin typeface="Arial"/>
              </a:rPr>
              <a:t>Богатый ребенок, умный ребенок»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написана для родителей, которые ценят образование, мечтают, чтобы их ребенок на старте жизни совершил рывок в финансовом и академическом направлениях, и желают принять активное участие в воплощении этой меч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cc"/>
                </a:solidFill>
                <a:latin typeface="Britannic Bold"/>
              </a:rPr>
              <a:t>  </a:t>
            </a:r>
            <a:r>
              <a:rPr b="1" i="1" lang="en-US" sz="24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Выдержки из книги может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прочитать на наше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   </a:t>
            </a: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школьном сай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i="1" lang="en-US" sz="1800" spc="-1" strike="noStrike">
                <a:solidFill>
                  <a:srgbClr val="0033cc"/>
                </a:solidFill>
                <a:latin typeface="Britannic Bold"/>
              </a:rPr>
              <a:t>   </a:t>
            </a:r>
            <a:r>
              <a:rPr b="1" lang="en-US" sz="2400" spc="-1" strike="noStrike">
                <a:solidFill>
                  <a:srgbClr val="0033cc"/>
                </a:solidFill>
                <a:latin typeface="Britannic Bold"/>
              </a:rPr>
              <a:t>school3.uncnet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WordArt 4"/>
          <p:cNvSpPr txBox="1"/>
          <p:nvPr/>
        </p:nvSpPr>
        <p:spPr>
          <a:xfrm>
            <a:off x="1403280" y="404640"/>
            <a:ext cx="619128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оветуем прочитат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553" name="Picture 5" descr=""/>
          <p:cNvPicPr/>
          <p:nvPr/>
        </p:nvPicPr>
        <p:blipFill>
          <a:blip r:embed="rId1"/>
          <a:stretch/>
        </p:blipFill>
        <p:spPr>
          <a:xfrm>
            <a:off x="4932360" y="3933720"/>
            <a:ext cx="3301920" cy="2438640"/>
          </a:xfrm>
          <a:prstGeom prst="rect">
            <a:avLst/>
          </a:prstGeom>
          <a:ln w="0">
            <a:noFill/>
          </a:ln>
        </p:spPr>
      </p:pic>
      <p:sp>
        <p:nvSpPr>
          <p:cNvPr id="5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Финансовая ответственность в сочетании с дух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редпринимательства может стать могучей силой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0033cc"/>
                </a:solidFill>
                <a:latin typeface="Arial"/>
              </a:rPr>
              <a:t>Помогите вашим детям развить в себе оба этих качества, а затем расслабьтесь и наблюдайте за тем, как они будут покорять одну финансовую вершину за друг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WordArt 4"/>
          <p:cNvSpPr txBox="1"/>
          <p:nvPr/>
        </p:nvSpPr>
        <p:spPr>
          <a:xfrm>
            <a:off x="1979640" y="476280"/>
            <a:ext cx="5616720" cy="874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Спасибо за внима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5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686800" cy="4824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ЗАЧЕМ РЕБЕНКУ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КАРМАННЫЕ   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         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         ВСЕ  ЗА  И  ПРОТИВ</a:t>
            </a:r>
            <a:br>
              <a:rPr sz="3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4" name="Picture 5" descr=""/>
          <p:cNvPicPr/>
          <p:nvPr/>
        </p:nvPicPr>
        <p:blipFill>
          <a:blip r:embed="rId1"/>
          <a:stretch/>
        </p:blipFill>
        <p:spPr>
          <a:xfrm>
            <a:off x="3924360" y="4508640"/>
            <a:ext cx="1706400" cy="1893600"/>
          </a:xfrm>
          <a:prstGeom prst="rect">
            <a:avLst/>
          </a:prstGeom>
          <a:ln w="0">
            <a:noFill/>
          </a:ln>
        </p:spPr>
      </p:pic>
      <p:sp>
        <p:nvSpPr>
          <p:cNvPr id="475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/>
          </p:nvPr>
        </p:nvSpPr>
        <p:spPr>
          <a:xfrm>
            <a:off x="2209320" y="1413000"/>
            <a:ext cx="6775560" cy="466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Пока ребенок мал, все необходимое ему должны покупать взросл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Ребенок не сможет сделать правильный выб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Деньги могут  «испортят» ребенк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Он может их тратить на ненужные вещ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Если ему давать деньги регулярно он станет капризным, балованным, не способным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              </a:t>
            </a:r>
            <a:r>
              <a:rPr b="1" lang="ru-RU" sz="2400" spc="-1" strike="noStrike">
                <a:solidFill>
                  <a:srgbClr val="0033cc"/>
                </a:solidFill>
                <a:latin typeface="Times New Roman"/>
              </a:rPr>
              <a:t>сдерживать свои жела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Picture 4" descr="SM_S-4_03-1"/>
          <p:cNvPicPr/>
          <p:nvPr/>
        </p:nvPicPr>
        <p:blipFill>
          <a:blip r:embed="rId1"/>
          <a:stretch/>
        </p:blipFill>
        <p:spPr>
          <a:xfrm>
            <a:off x="179280" y="4724280"/>
            <a:ext cx="2808360" cy="1884600"/>
          </a:xfrm>
          <a:prstGeom prst="rect">
            <a:avLst/>
          </a:prstGeom>
          <a:ln w="0">
            <a:noFill/>
          </a:ln>
        </p:spPr>
      </p:pic>
      <p:sp>
        <p:nvSpPr>
          <p:cNvPr id="478" name="WordArt 6"/>
          <p:cNvSpPr txBox="1"/>
          <p:nvPr/>
        </p:nvSpPr>
        <p:spPr>
          <a:xfrm>
            <a:off x="2556000" y="189000"/>
            <a:ext cx="6183360" cy="858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деньги не нужны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79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br>
              <a:rPr sz="41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Давать детям</a:t>
            </a:r>
            <a:br>
              <a:rPr sz="4500"/>
            </a:br>
            <a:r>
              <a:rPr b="1" lang="ru-RU" sz="4500" spc="-1" strike="noStrike">
                <a:solidFill>
                  <a:srgbClr val="ff3300"/>
                </a:solidFill>
                <a:latin typeface="comic"/>
              </a:rPr>
              <a:t> карманные   деньги   надо</a:t>
            </a:r>
            <a:br>
              <a:rPr sz="4500"/>
            </a:br>
            <a:br>
              <a:rPr sz="4500"/>
            </a:br>
            <a:endParaRPr b="0" lang="en-US" sz="45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86800" cy="461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Чтобы чувствовать себя личностью, которой неунизительно жить в мире самодостаточных взрослы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Хотя бы для того, чтобы он смог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удовлетворить свои потребности, которые взрослые не всегда могут предусмотре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    </a:t>
            </a:r>
            <a:r>
              <a:rPr b="0" lang="ru-RU" sz="2400" spc="-1" strike="noStrike">
                <a:solidFill>
                  <a:srgbClr val="0033cc"/>
                </a:solidFill>
                <a:latin typeface="Arial Black"/>
              </a:rPr>
              <a:t>Только когда дети получают деньги, они учатся  их копить, тратить, рассчитывать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2" name="Місце для нижнього колонтитула 1"/>
          <p:cNvSpPr/>
          <p:nvPr/>
        </p:nvSpPr>
        <p:spPr>
          <a:xfrm>
            <a:off x="3124080" y="6399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764640"/>
            <a:ext cx="8686800" cy="431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3640"/>
                <a:tab algn="l" pos="1727280"/>
                <a:tab algn="l" pos="2590920"/>
                <a:tab algn="l" pos="3454560"/>
                <a:tab algn="l" pos="4317840"/>
                <a:tab algn="l" pos="5181480"/>
                <a:tab algn="l" pos="6045120"/>
                <a:tab algn="l" pos="6908760"/>
                <a:tab algn="l" pos="7772400"/>
                <a:tab algn="l" pos="8636040"/>
                <a:tab algn="l" pos="9499680"/>
                <a:tab algn="l" pos="10363320"/>
              </a:tabLst>
            </a:pP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</a:t>
            </a: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             </a:t>
            </a: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br>
              <a:rPr sz="3400"/>
            </a:br>
            <a:r>
              <a:rPr b="1" lang="ru-RU" sz="3400" spc="-1" strike="noStrike">
                <a:solidFill>
                  <a:srgbClr val="ff3300"/>
                </a:solidFill>
                <a:latin typeface="comic"/>
              </a:rPr>
              <a:t>   </a:t>
            </a: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Давать или не давать детям    карманные деньги?</a:t>
            </a:r>
            <a:br>
              <a:rPr sz="4800"/>
            </a:br>
            <a:r>
              <a:rPr b="1" lang="ru-RU" sz="4800" spc="-1" strike="noStrike">
                <a:solidFill>
                  <a:srgbClr val="ff3300"/>
                </a:solidFill>
                <a:latin typeface="comic"/>
              </a:rPr>
              <a:t>Каждому родителю придется искать золотую середину в этой дилемме</a:t>
            </a:r>
            <a:r>
              <a:rPr b="1" lang="ru-RU" sz="3800" spc="-1" strike="noStrike">
                <a:solidFill>
                  <a:srgbClr val="ff3300"/>
                </a:solidFill>
                <a:latin typeface="comic"/>
              </a:rPr>
              <a:t>…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2209320" y="2085480"/>
            <a:ext cx="6775560" cy="399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5" descr=""/>
          <p:cNvPicPr/>
          <p:nvPr/>
        </p:nvPicPr>
        <p:blipFill>
          <a:blip r:embed="rId1"/>
          <a:stretch/>
        </p:blipFill>
        <p:spPr>
          <a:xfrm>
            <a:off x="5796000" y="4365720"/>
            <a:ext cx="2158920" cy="2158920"/>
          </a:xfrm>
          <a:prstGeom prst="rect">
            <a:avLst/>
          </a:prstGeom>
          <a:ln w="0">
            <a:noFill/>
          </a:ln>
        </p:spPr>
      </p:pic>
      <p:sp>
        <p:nvSpPr>
          <p:cNvPr id="486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WordArt 4"/>
          <p:cNvSpPr txBox="1"/>
          <p:nvPr/>
        </p:nvSpPr>
        <p:spPr>
          <a:xfrm>
            <a:off x="2124000" y="189000"/>
            <a:ext cx="6624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колько карманных денег имеют дети?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692000" y="1628640"/>
            <a:ext cx="745164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1. Нужны ли тебе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    85 %              НЕТ – 15 % ( 1-5 кл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  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2. Как часто тебе дают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когда  - 1 чел.  ( но очень хочется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жедневно -38%               ( от  10 до 15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неделю – 25 %   ( от 100 до 6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-2 раза в месяц – 8 %     ( от 200 до 10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 праздникам, в день рожденья – 19 % (до 2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ногда – 9 % ( от 100 до 500 руб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7" descr=""/>
          <p:cNvPicPr/>
          <p:nvPr/>
        </p:nvPicPr>
        <p:blipFill>
          <a:blip r:embed="rId3"/>
          <a:stretch/>
        </p:blipFill>
        <p:spPr>
          <a:xfrm>
            <a:off x="179280" y="1268280"/>
            <a:ext cx="1943280" cy="2590920"/>
          </a:xfrm>
          <a:prstGeom prst="rect">
            <a:avLst/>
          </a:prstGeom>
          <a:ln w="0">
            <a:noFill/>
          </a:ln>
        </p:spPr>
      </p:pic>
      <p:sp>
        <p:nvSpPr>
          <p:cNvPr id="49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384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384" fill="hold"/>
                                        <p:tgtEl>
                                          <p:spTgt spid="48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7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8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9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0" dur="384" fill="hold"/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1" dur="616" fill="hold">
                                          <p:stCondLst>
                                            <p:cond delay="384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4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2000"/>
                                        <p:tgtEl>
                                          <p:spTgt spid="4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4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4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4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4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4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2000"/>
                                        <p:tgtEl>
                                          <p:spTgt spid="4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69636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WordArt 3"/>
          <p:cNvSpPr txBox="1"/>
          <p:nvPr/>
        </p:nvSpPr>
        <p:spPr>
          <a:xfrm>
            <a:off x="2268360" y="189000"/>
            <a:ext cx="590400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ачем нужны деньги детям</a:t>
            </a:r>
            <a:endParaRPr b="0" lang="en-US" sz="32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151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3. Хватает ли тебе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А -  72 %     НЕТ-  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4.На что ты тратишь карманные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еду, проезд –  4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 личные нужд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( телефон, канцтовары, диски, сладости, игрушки, косметику)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бираю, коплю – 18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601"/>
              </a:spcBef>
              <a:buClr>
                <a:srgbClr val="99ccff"/>
              </a:buClr>
              <a:buSzPct val="8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дарки родным, друзьям – 9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5" descr=""/>
          <p:cNvPicPr/>
          <p:nvPr/>
        </p:nvPicPr>
        <p:blipFill>
          <a:blip r:embed="rId3"/>
          <a:stretch/>
        </p:blipFill>
        <p:spPr>
          <a:xfrm>
            <a:off x="7093080" y="1125360"/>
            <a:ext cx="2050920" cy="16560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"/>
          <p:cNvPicPr/>
          <p:nvPr/>
        </p:nvPicPr>
        <p:blipFill>
          <a:blip r:embed="rId4"/>
          <a:stretch/>
        </p:blipFill>
        <p:spPr>
          <a:xfrm>
            <a:off x="324000" y="4581360"/>
            <a:ext cx="1584000" cy="1584360"/>
          </a:xfrm>
          <a:prstGeom prst="rect">
            <a:avLst/>
          </a:prstGeom>
          <a:ln w="0">
            <a:noFill/>
          </a:ln>
        </p:spPr>
      </p:pic>
      <p:sp>
        <p:nvSpPr>
          <p:cNvPr id="497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268000" y="188640"/>
            <a:ext cx="6434280" cy="92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WordArt 3"/>
          <p:cNvSpPr txBox="1"/>
          <p:nvPr/>
        </p:nvSpPr>
        <p:spPr>
          <a:xfrm>
            <a:off x="2268360" y="189000"/>
            <a:ext cx="6480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Карманные  деньги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979280" y="1628640"/>
            <a:ext cx="6775560" cy="46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. Объясняют ли тебе  родители как правильно тратить деньги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 – 65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-  32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3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6.Если тебя наказывают, то лишают ли тебя карманных дене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70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4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7. Дают ли родители тебе деньги за хорошие оценки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16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59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25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8. Отчитываешь ли ты родителям о тратах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Times New Roman"/>
              </a:rPr>
              <a:t>ДА-  21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400" spc="-1" strike="noStrike">
                <a:solidFill>
                  <a:srgbClr val="0033cc"/>
                </a:solidFill>
                <a:latin typeface="Times New Roman"/>
              </a:rPr>
              <a:t>НЕТ -  67 %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>
                <a:solidFill>
                  <a:srgbClr val="33cc33"/>
                </a:solidFill>
                <a:latin typeface="Times New Roman"/>
              </a:rPr>
              <a:t>ИНОГДА – 12 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Місце для нижнього колонтитула 1"/>
          <p:cNvSpPr/>
          <p:nvPr/>
        </p:nvSpPr>
        <p:spPr>
          <a:xfrm>
            <a:off x="2227320" y="6415200"/>
            <a:ext cx="50911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9T12:38:44Z</dcterms:created>
  <dc:creator>USER</dc:creator>
  <dc:description/>
  <dc:language>en-US</dc:language>
  <cp:lastModifiedBy>LEGION</cp:lastModifiedBy>
  <dcterms:modified xsi:type="dcterms:W3CDTF">2016-01-04T11:45:49Z</dcterms:modified>
  <cp:revision>176</cp:revision>
  <dc:subject/>
  <dc:title>Слайд 1</dc:title>
</cp:coreProperties>
</file>