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A79ED-1E5F-4E06-9E81-3C9FC3AE74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ы ли  школьни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ы ли  школьни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ИНТЕРЕС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8% родителей Великобритании выдаю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тям карманные деньги строго по плану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6,5 лет - в среднем 1,5$ в недел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-летнему  подростку  - 10$ в недел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10 лет – дети начинают подрабатыв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ИНТЕРЕС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8% родителей Великобритании выдаю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тям карманные деньги строго по план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6,5 лет - в среднем 1,5$ в нед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-летнему  подростку  - 10$ в неде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10 лет – дети начинают подрабатыв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ИНТЕРЕС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ермании законодательно реш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 о количестве карманных денег в неделю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6 лет- 50 цент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лет  -1,5-2 евр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лет - 10-12 евр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 лет –  20 евро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 лет –   25-30 евр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ьная способность дете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реднем 7,5 млрд евро в г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ИНТЕРЕС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ермании законодательно реш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 о количестве карманных денег в неделю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6 лет- 50 цент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лет  -1,5-2 евр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лет - 10-12 евр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 лет –  20 евр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 лет –   25-30 евр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ьная способность дет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реднем 7,5 млрд евро в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- это не награ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хорошие оценки и хорошее поведени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лата за помощь по д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ая  их цель – научить ребенка тратить деньги, делая различные покупки и не неся ответственности за свой выбо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- это не награ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хорошие оценки и хорошее поведени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лата за помощь по дом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ая  их цель – научить ребенка тратить деньги, делая различные покупки и не неся ответственности за свой выбо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ВСЕГДА СВЯЗАН С ОТВЕТСТВЕННОСТЬЮ И САМОСТОЯТЕЛЬ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вать деньги можно, если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аваемая сумма разум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тели в своих действиях последователь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имеет возможность получать деньги регуляр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рактикуется лишение карманных денег по поводу и без пов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 не имеют статуса подарка и не являются способом покупки доверия ребенка и его хорошего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тели способны доверять своему ребенку в том, что касается траты выданной су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ВСЕГДА СВЯЗАН С ОТВЕТСТВЕННОСТЬЮ И САМОСТОЯТЕЛЬНОСТ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вать деньги можно, если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аваемая сумма разум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тели в своих действиях последователь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имеет возможность получать деньги регуляр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рактикуется лишение карманных денег по поводу и без пов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 не имеют статуса подарка и не являются способом покупки доверия ребенка и его хорошего отнош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тели способны доверять своему ребенку в том, что касается траты выданной сум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мма зависит от вашего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инать нужно с малых сумм, например 100 рублей в нед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х денег не должно быть м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о определить, сколько денег ребенок сможет потратить «с умом»в соответствии с возрас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ная сумма не должна увеличиваться под предлогом того, что ребенок уже все истрати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изменения в правилах выпл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х денег должны с ребенк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овывать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ую сумму давать ребенк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мма зависит от вашего бюдже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инать нужно с малых сумм, например 100 рублей в недел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х денег не должно быть мн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о определить, сколько денег ребенок сможет потратить «с умом»в соответствии с возрас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ная сумма не должна увеличиваться под предлогом того, что ребенок уже все истрати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изменения в правилах выпл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х денег должны с ребенко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овыватьс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ую сумму давать ребенку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часто давать деньг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учше руководствоваться принцип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меньше возраст, тем чаще выдава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большие суммы, например 1 раз в нед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ршеклассникам целесообразн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авать  карманные деньг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раз в меся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часто давать деньг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учше руководствоваться принципо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меньше возраст, тем чаще выдава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большие суммы, например 1 раз в недел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ршеклассникам целесообразн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авать  карманные деньг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раз в меся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егулярность получения ребенк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х денег, отсутств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тко оговоренной суммы, на котору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может рассчитывать, приводя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тому, что практика карманных дене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азывается совершенно бесполез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экономического воспитания реб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часто давать деньг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егулярность получения ребенк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х денег, отсутств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тко оговоренной суммы, на которую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может рассчитывать, приводя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тому, что практика карманных денег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азывается совершенно бесполезно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экономического воспитания ребе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часто давать деньг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давать карманные деньги ребенку с шести-семи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самого начала нужно объяснить ребенку смысл выплат и договориться о том, какие расходы ребенка они будут покрыв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мма должна быть разумной и увеличиваться с возрас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еньким детям деньги нужно выдавать еженедельно в определенный день, а подросткам можно выдавать деньги раз в меся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ача карманных денег не должна ставиться в зависимость от поведения и оценок и не должна отменяться в качестве наказ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ная сумма денег не должна увеличиваться под предлогом того, что ребенок уже все истрати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ку нужно позволить тратить свои деньги по собственному выбо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ребенка должны быть обязанности по дому, которые он выполняет бесплат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жегодно (в день рождения ребенка) сумма карманных денег и обязанности ребенка должны увеличиваться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давать карманные деньги ребенку с шести-семи л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самого начала нужно объяснить ребенку смысл выплат и договориться о том, какие расходы ребенка они будут покрыва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мма должна быть разумной и увеличиваться с возраст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еньким детям деньги нужно выдавать еженедельно в определенный день, а подросткам можно выдавать деньги раз в месяц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ача карманных денег не должна ставиться в зависимость от поведения и оценок и не должна отменяться в качестве наказ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ная сумма денег не должна увеличиваться под предлогом того, что ребенок уже все истрати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ку нужно позволить тратить свои деньги по собственному выбор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ребенка должны быть обязанности по дому, которые он выполняет бесплат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жегодно (в день рождения ребенка) сумма карманных денег и обязанности ребенка должны увеличиваться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карманных денег эффективная только в том случае, когда она сочетается с обсуждением финансовых вопросов в семь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ысл выдачи родителями карманных денег должен меняться по мере взросления ребенка и служит для контроля его растущих потреб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главное, необходимо помнить, чт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ьги, выдаваемые ребенку, это средство обуче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мощи которого родители помогают ребенку освоить все финансовые навыки, которые понадобятся ему во взрослой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карманных денег эффективная только в том случае, когда она сочетается с обсуждением финансовых вопросов в семь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ысл выдачи родителями карманных денег должен меняться по мере взросления ребенка и служит для контроля его растущих потребност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главное, необходимо помнить, чт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ьги, выдаваемые ребенку, это средство обучени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мощи которого родители помогают ребенку освоить все финансовые навыки, которые понадобятся ему во взрослой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 Харрисон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 Корыстное материалистическое общество постоянно нас обучает,  причем  учит нас  не мышлению, а потребле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детей, которым была дана  ответствен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 свобода  эту  ответственность   реализовать, развито критическое мышл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научились сами решать, что приносит им удовлетворение, а что - н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тот ребенок, чья проницательность и воля на протяжении многих лет подавлялись... вырастает идеальным кандидатом на роль незадачливого потребителя всего, что поступает в продажу"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 Харрисон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 Корыстное материалистическое общество постоянно нас обучает,  причем  учит нас  не мышлению, а потреблению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детей, которым была дана  ответственн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 свобода  эту  ответственность   реализовать, развито критическое мышлен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научились сами решать, что приносит им удовлетворение, а что - н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тот ребенок, чья проницательность и воля на протяжении многих лет подавлялись... вырастает идеальным кандидатом на роль незадачливого потребителя всего, что поступает в продажу"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 деньг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  деньги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умма, выделяемая детям    на их собственные нужд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 деньг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  деньги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умма, выделяемая детям    на их собственные нуж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берт Кийосаки   «Богатый ребенок, умный ребено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нига американского бизнесмена, инвестора, писателя и преподавателя Роберта Кийосаки  «Богатый ребенок, умный ребенок» написана для родителей, которые ценят образование, мечтают, чтобы их ребенок на старте жизни совершил рывок в финансовом и академическом направлениях, и желают принять активное участие в воплощении этой меч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ржки из книги может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итать на наш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ьном сайт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chool3.uncnet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уем прочит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берт Кийосаки   «Богатый ребенок, умный ребенок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нига американского бизнесмена, инвестора, писателя и преподавателя Роберта Кийосаки  «Богатый ребенок, умный ребенок» написана для родителей, которые ценят образование, мечтают, чтобы их ребенок на старте жизни совершил рывок в финансовом и академическом направлениях, и желают принять активное участие в воплощении этой меч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ржки из книги может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итать на наше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ьном сайт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chool3.uncnet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уем прочит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ответственность в сочетании с дух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тва может стать могучей сил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огите вашим детям развить в себе оба этих качества, а затем расслабьтесь и наблюдайте за тем, как они будут покорять одну финансовую вершину за друг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ответственность в сочетании с дух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тва может стать могучей сил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огите вашим детям развить в себе оба этих качества, а затем расслабьтесь и наблюдайте за тем, как они будут покорять одну финансовую вершину за друг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РЕБЕНКУ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КАРМАННЫЕ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ДЕНЬГ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ВСЕ  ЗА  И  ПРОТИ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РЕБЕНКУ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КАРМАННЫЕ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ДЕНЬГ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ВСЕ  ЗА  И  ПРОТИ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 ребенок мал, все необходимое ему должны покупать взросл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не сможет сделать правильный выб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ьги могут  «испортят» ребе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 может их тратить на ненужные ве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ему давать деньги регулярно он станет капризным, балованным, не способным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рживать свои жел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 не нуж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 ребенок мал, все необходимое ему должны покупать взросл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не сможет сделать правильный выб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ьги могут  «испортят» ребен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 может их тратить на ненужные вещ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ему давать деньги регулярно он станет капризным, балованным, не способным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рживать свои жел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 не нуж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вать детя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рманные   деньги   надо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чувствовать себя личностью, которой неунизительно жить в мире самодостаточных взросл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тя бы для того, чтобы он смо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овлетворить свои потребности, которые взрослые не всегда могут предусмотре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лько когда дети получают деньги, они учатся  их копить, тратить, рассчитыв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вать детя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рманные   деньги   надо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чувствовать себя личностью, которой неунизительно жить в мире самодостаточных взросл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тя бы для того, чтобы он смо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овлетворить свои потребности, которые взрослые не всегда могут предусмотре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лько когда дети получают деньги, они учатся  их копить, тратить, рассчитыв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вать или не давать детям    карманные деньг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ому родителю придется искать золотую середину в этой дилемме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вать или не давать детям    карманные деньг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ому родителю придется искать золотую середину в этой дилемме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лько карманных денег имеют дет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Нужны ли тебе карманные деньг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 -      85 %              НЕТ – 15 % ( 1-5 кл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Как часто тебе дают деньг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когда  - 1 чел.  ( но очень хочется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жедневно -38%               ( от  10 до 150 руб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2 раза неделю – 25 %   ( от 100 до 600 руб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2 раза в месяц – 8 %     ( от 200 до 1000 руб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праздникам, в день рожденья – 19 % (до 2500 руб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огда – 9 % ( от 100 до 500 руб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лько карманных денег имеют дет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Нужны ли тебе карманные деньг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 -      85 %              НЕТ – 15 % ( 1-5 кл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Как часто тебе дают деньг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когда  - 1 чел.  ( но очень хочется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жедневно -38%               ( от  10 до 150 руб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2 раза неделю – 25 %   ( от 100 до 600 руб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2 раза в месяц – 8 %     ( от 200 до 1000 руб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праздникам, в день рожденья – 19 % (до 2500 руб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огда – 9 % ( от 100 до 500 руб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нужны деньги дет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Хватает ли тебе карманных денег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 -  72 %     НЕТ-  8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На что ты тратишь карманные деньг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еду, проезд –  45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личные нужды ( телефон, канцтовары, диски, сладости, игрушки, косметику) -    28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ираю, коплю – 18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арки родным, друзьям – 9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нужны деньги дет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Хватает ли тебе карманных денег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 -  72 %     НЕТ-  8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На что ты тратишь карманные деньг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еду, проезд –  45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личные нужды ( телефон, канцтовары, диски, сладости, игрушки, косметику) -    28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ираю, коплю – 18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арки родным, друзьям – 9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 день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Объясняют ли тебе  родители как правильно тратить деньг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 – 65 %        НЕТ-  32%      ИНОГДА – 3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Если тебя наказывают, то лишают ли тебя карманных денег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-  26 %        НЕТ -  70 %    ИНОГДА – 4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Дают ли родители тебе деньги за хорошие оценки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-  16 %        НЕТ -  59 %    ИНОГДА – 25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Отчитываешь ли ты родителям о тратах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-  21%        НЕТ -  67 %    ИНОГДА – 12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 день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Объясняют ли тебе  родители как правильно тратить деньг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 – 65 %        НЕТ-  32%      ИНОГДА – 3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Если тебя наказывают, то лишают ли тебя карманных денег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-  26 %        НЕТ -  70 %    ИНОГДА – 4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Дают ли родители тебе деньги за хорошие оценки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-  16 %        НЕТ -  59 %    ИНОГДА – 25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Отчитываешь ли ты родителям о трата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-  21%        НЕТ -  67 %    ИНОГДА – 12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BB3A-B165-4F80-BFB4-609BBB77E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33B3-1616-45F3-B931-CFFA88E2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DCA018-B794-405A-B1E2-900D1189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C7568-0A31-4830-A7A0-42274D8A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CA6811-D752-43A2-AA94-76657DA2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C2BE86-6659-407F-9004-984CB0CE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EB8DF0-A48F-4F7C-B8CB-75BF3C11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3ACDA3-AF09-4A7B-B9BA-A26B7A44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58161C-709E-440A-8D7B-99121022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72DC70-5ED4-481E-88FB-D82933423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0AEFB6-EC60-4BB6-972D-AFBF54447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00032A-2CB9-429F-93EC-B2B310237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7B7A-FE3E-480D-B427-A4A9CAC7B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3430F8-F6AF-47CE-AE2E-905F3F38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DB65B7-D1D0-444E-BAF4-048F0C50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9AB6EC-B126-48C0-B80E-51A8FCCB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146FB1-B6B1-4CC0-A1BF-2795B9E7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8043B5-8451-4AB7-9453-F3B42E95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9DA393-F5EB-4AA3-9DEB-E544BD11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1CCB27-8E4D-4B79-8761-7F766557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D09B08-B030-4EFC-B100-BAD4B52B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F7F39C-B073-44FC-AD9B-05E21610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6DE327-4113-4DE5-9B73-B5116DD47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0A85-DF42-493E-A647-C5CCE5FCE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71E156-4533-4DAB-8AD1-414ABBED8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89A25-7BE3-4AC3-A7E5-E90947003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21CD-9F31-4489-AD45-B06AD0DB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F108-9315-4B1B-9046-31C3318C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9C2F-D4A7-4E7A-AC40-29B77B0C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1463D-64A1-43DA-9AE8-6DCB7894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05AB-B157-40FC-B9AB-4704990A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48A0-AB16-4F73-8BF1-59577FC6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6158-39D9-47F5-9C98-B4066FEC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F20AF-2926-4D18-B178-0E9E1EFD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04ADB-E94D-418F-A9C7-6B7916BB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B130-B8D9-4B18-94E8-03A8B425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837B-A9EE-4A89-BE3E-F6F36E00A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20CF-C1FD-461D-9AFD-A28A35B2E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162B7-7A07-438A-9E7E-E93F94791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45307-6D39-4DA6-BA16-B24E8707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EC52C-042F-499E-87FD-191E7087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85F8B-4A0C-4AAB-A646-D33B0769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4A6E1-931E-4417-B35D-17BF0CDE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8CA1-D3D6-475F-9A6F-0C7CAAFD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83558-949C-4E92-B613-6517FD9E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B9411-7FE6-42F0-8EF0-9FAFF8B7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1AC99-94D9-481A-9945-3488DDE2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F5428-144F-4F1B-A5A4-33297569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F12DE-4758-4730-BA1A-3FF1FA35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D56C2-D486-4AA5-8E37-0BDA9D228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4EB0A-20A5-41C6-8C09-0386C2849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D9758-D4CF-4EAC-8958-318C16F37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4889F-E017-4190-BCAB-D596FFFF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20DE1-C6AD-48C5-AB2B-7FCA6B2A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5312-14C8-4F16-8461-9D9DECE9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7E7CE-E6C5-4EAD-938B-3503E99E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53D78-3EDD-4C3B-A3EC-D5AABCC9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0E395-E21B-4180-A852-85BD2B22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35F00-0207-4D84-ABB0-00765BE2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84AA6-D710-4DBF-BF20-0C73BBF2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7A174-2DCB-4EBA-AF1A-5BA97B41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4894D-185F-427B-987D-3D3DA870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F1AF2-CD74-4069-8021-B39967C09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F5C80-DA5E-4EC1-A429-D90595810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4EF47-3DCC-42C5-A6D2-89E3BA812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7DBD-6CC3-41DF-88FA-095E8162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2994D-0476-4E83-9BCE-C1BBEBC3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04EE0-2C57-46E7-9D66-66A85247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2647D-F83A-4FD0-B0F2-CC33D347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EE966-2543-4342-B05D-8B6C129E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F96ED-C16B-4766-BACD-333A0654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025FB-48FE-46DA-A908-D24FA5AD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433F8-9D67-41BC-BA0D-B08C6F15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5722A-20A4-4382-A4BB-171EA91A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C81A6-0C76-4E7D-8AC5-A7A2ADDE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667E2-F5E4-4676-A681-270B1612F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2A14-18E5-4262-97EA-C4031C1C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ADFF3-6D87-4938-938B-33F89ACDA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1B58A-8AD9-48D7-AFDB-DC0E24F70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7A4E1-7F6C-46F5-A91B-6C720212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7DED8-2F51-4035-9456-12214DAA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0E85D-A4AC-4849-8A88-BF4220DC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6FC65-C609-4A84-9083-E0117B33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3711A-B925-44B7-9ADC-5EBB60D3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5ABBA-9B77-4541-90D5-6896204E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F73AC-FDC6-4EE2-B1BB-E9B98D56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62B42-03B2-4276-AD8C-90356118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A877-CF71-4F55-A37E-7B48A763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6BF86-E5C0-4759-B332-B54FECE2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85472-8201-49FC-8AAB-2F3E2CEA2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8FE28-284B-47B1-9E7F-69904E153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B317F-8E1B-4DC7-B3D4-8A753A27C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CAB7A-55CE-41F8-951C-29B5A874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D9D9D-E5EC-48BC-9B8D-9B028701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4A2DD-159F-470B-AF1E-D1763FC1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9568C-CEB0-4DEB-8515-9802E17A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523AC-B159-4F89-A413-5C21F8EB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6650C-1FCE-4C4D-BB91-2FBC6487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9A76-F47C-4B35-8210-113493E3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79141-CC1E-4BDC-9A56-923EA8D0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E9CBA-749D-4DD1-9DF2-6AD48781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6BB5F-4286-43BC-AA5B-577069B4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AF9BB-BDDE-4D91-8DAE-9913CA85E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10E82-1958-43FB-AD87-FE1791CFB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24F936-B953-4207-A48B-BCBF20D7E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EEE483-66C2-4E75-AD74-BB4BEE0F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B1C87B-C91A-43CE-B576-66DAE4B4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349D03-3BEE-40FB-B49C-7A1F3B6D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E03E5A-F6E3-424C-AB0B-58B3AAF3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83DD-2225-42A0-B360-1774C3AA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FB2AEA-949C-4CA6-9876-0E51D8E1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E46630-1024-4970-B138-121737C1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F1366A-20FA-46AB-A88E-4EACFD09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FA27AC-6120-42FA-ABEB-33031F21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53C4C9-E189-49CA-81C7-B6804E00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E00A41-1959-4844-991E-36BB738EB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6FCD93-9524-4A06-A8B4-F5DBBF677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35CDCF-59AF-4BBF-B64D-624BDF9DA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C668F6-3F27-4475-9C39-F5C7B12E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4D34FC-CA33-4384-B14E-A9915B9A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prite 10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E3D9-CBF3-448B-B040-5E0D5E0265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09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9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3B37-D747-40A7-8909-A217B07D7CC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4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63DF-C6F3-468B-AAC7-7638C4C7E04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dt" idx="7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8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5731-051B-4E1C-8FD8-639E6002AC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35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36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39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E3D0-A8CD-444E-936E-EC6476195BB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8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6C5D-9DD3-481B-81F6-9D9D7B509EB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Sprite 10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3240" y="2895480"/>
            <a:ext cx="9147240" cy="11304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8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A5F8-D687-4131-AEBA-7DF3868623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BB83-557E-4E19-B232-A937BB92F37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Freeform 4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reeform 5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Freeform 7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Freeform 9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2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FE6E-EC5E-46F2-BACF-EA0C1AA8F5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3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dt" idx="24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362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365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7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051D-58F6-4934-8B1F-DDF26FAC74F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8360" y="2019960"/>
            <a:ext cx="763272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2362320" y="5301360"/>
            <a:ext cx="640080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3" name="WordArt 4"/>
          <p:cNvSpPr txBox="1"/>
          <p:nvPr/>
        </p:nvSpPr>
        <p:spPr>
          <a:xfrm rot="21318000">
            <a:off x="793440" y="618840"/>
            <a:ext cx="7175520" cy="20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ужны ли  школьнику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4" name="WordArt 5"/>
          <p:cNvSpPr txBox="1"/>
          <p:nvPr/>
        </p:nvSpPr>
        <p:spPr>
          <a:xfrm>
            <a:off x="2987640" y="4581360"/>
            <a:ext cx="59770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рманные деньг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65" name="Picture 6" descr=""/>
          <p:cNvPicPr/>
          <p:nvPr/>
        </p:nvPicPr>
        <p:blipFill>
          <a:blip r:embed="rId1"/>
          <a:stretch/>
        </p:blipFill>
        <p:spPr>
          <a:xfrm>
            <a:off x="468360" y="3213000"/>
            <a:ext cx="2630520" cy="3429000"/>
          </a:xfrm>
          <a:prstGeom prst="rect">
            <a:avLst/>
          </a:prstGeom>
          <a:ln w="0">
            <a:noFill/>
          </a:ln>
        </p:spPr>
      </p:pic>
      <p:sp>
        <p:nvSpPr>
          <p:cNvPr id="466" name="Місце для нижнього колонтитула 1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2326320" y="246960"/>
            <a:ext cx="6317640" cy="80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3" name="WordArt 3"/>
          <p:cNvSpPr txBox="1"/>
          <p:nvPr/>
        </p:nvSpPr>
        <p:spPr>
          <a:xfrm>
            <a:off x="2411280" y="189000"/>
            <a:ext cx="64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ТО ИНТЕРЕСНО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88% родителей Великобритании выдаю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детям карманные деньги строго по плану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 6,5 лет - в среднем 1,5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$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в неделю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7-летнему  подростку  - 10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$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в неделю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 10 лет – дети начинают подрабатыва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05" name="Picture 7" descr="SM_S-4_03-1"/>
          <p:cNvPicPr/>
          <p:nvPr/>
        </p:nvPicPr>
        <p:blipFill>
          <a:blip r:embed="rId3"/>
          <a:stretch/>
        </p:blipFill>
        <p:spPr>
          <a:xfrm>
            <a:off x="250920" y="333360"/>
            <a:ext cx="2143080" cy="1438200"/>
          </a:xfrm>
          <a:prstGeom prst="rect">
            <a:avLst/>
          </a:prstGeom>
          <a:ln w="0">
            <a:noFill/>
          </a:ln>
        </p:spPr>
      </p:pic>
      <p:sp>
        <p:nvSpPr>
          <p:cNvPr id="50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2326320" y="246960"/>
            <a:ext cx="6317640" cy="80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8" name="WordArt 3"/>
          <p:cNvSpPr txBox="1"/>
          <p:nvPr/>
        </p:nvSpPr>
        <p:spPr>
          <a:xfrm>
            <a:off x="2411280" y="189000"/>
            <a:ext cx="64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ТО ИНТЕРЕСНО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179280" y="2361960"/>
            <a:ext cx="8352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В Германии законодательно решен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вопрос о количестве карманных денег в неделю: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до 6 лет- 50 центов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7лет  -1,5-2 евро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0лет - 10-12 евро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3 лет –  20 евро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5 лет –   25-30 евр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окупательная способность детей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 среднем 7,5 млрд евро в год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10" name="Picture 5" descr="SM_S-4_03-1"/>
          <p:cNvPicPr/>
          <p:nvPr/>
        </p:nvPicPr>
        <p:blipFill>
          <a:blip r:embed="rId3"/>
          <a:stretch/>
        </p:blipFill>
        <p:spPr>
          <a:xfrm>
            <a:off x="250920" y="333360"/>
            <a:ext cx="2143080" cy="1438200"/>
          </a:xfrm>
          <a:prstGeom prst="rect">
            <a:avLst/>
          </a:prstGeom>
          <a:ln w="0">
            <a:noFill/>
          </a:ln>
        </p:spPr>
      </p:pic>
      <p:sp>
        <p:nvSpPr>
          <p:cNvPr id="51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WordArt 4"/>
          <p:cNvSpPr txBox="1"/>
          <p:nvPr/>
        </p:nvSpPr>
        <p:spPr>
          <a:xfrm>
            <a:off x="2124000" y="404640"/>
            <a:ext cx="55134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рманные деньг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Карманные деньги- это не нагр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за хорошие оценки и хорошее повед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не плата за помощь по д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Главная  их це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– научить ребенка тратить деньги, делая различные покупки и не неся ответственности за свой выб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10" descr=""/>
          <p:cNvPicPr/>
          <p:nvPr/>
        </p:nvPicPr>
        <p:blipFill>
          <a:blip r:embed="rId1"/>
          <a:stretch/>
        </p:blipFill>
        <p:spPr>
          <a:xfrm>
            <a:off x="5364000" y="4896000"/>
            <a:ext cx="1656000" cy="177300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БОР ВСЕГДА СВЯЗАН С ОТВЕТСТВЕННОСТЬЮ И САМОСТОЯТЕЛЬНОСТ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Давать деньги можно, если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выдаваемая сумма разум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родители в своих действиях последователь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ребенок имеет возможность получать деньги регуляр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не практикуется лишение карманных денег по поводу и без по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карманные деньги не имеют статуса подарка и не являются способом покупки доверия ребенка и его хорошего отно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родители способны доверять своему ребенку в том, что касается траты выданной су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569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а зависит от вашего бюдж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инать нужно с малых сумм, например 100 рублей в нед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манных денег не должно быть м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жно определить, сколько денег ребенок сможет потратить «с умом»в соответствии с возрас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ленная сумма не должна увеличиваться под предлогом того, что ребенок уже все истрат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изменения в правилах выпл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манных денег должны с ребенк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гласовыв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WordArt 5"/>
          <p:cNvSpPr txBox="1"/>
          <p:nvPr/>
        </p:nvSpPr>
        <p:spPr>
          <a:xfrm>
            <a:off x="468360" y="476280"/>
            <a:ext cx="74167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акую сумму давать ребенку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3" name="Picture 6" descr=""/>
          <p:cNvPicPr/>
          <p:nvPr/>
        </p:nvPicPr>
        <p:blipFill>
          <a:blip r:embed="rId1"/>
          <a:stretch/>
        </p:blipFill>
        <p:spPr>
          <a:xfrm>
            <a:off x="7093080" y="4581360"/>
            <a:ext cx="1431720" cy="2082960"/>
          </a:xfrm>
          <a:prstGeom prst="rect">
            <a:avLst/>
          </a:prstGeom>
          <a:ln w="0">
            <a:noFill/>
          </a:ln>
        </p:spPr>
      </p:pic>
      <p:sp>
        <p:nvSpPr>
          <p:cNvPr id="5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569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WordArt 4"/>
          <p:cNvSpPr txBox="1"/>
          <p:nvPr/>
        </p:nvSpPr>
        <p:spPr>
          <a:xfrm>
            <a:off x="468360" y="476280"/>
            <a:ext cx="74167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ак часто давать деньги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539640" y="1116720"/>
            <a:ext cx="1318752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Лучше руководствоваться принципом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ем меньше возраст, тем чаще выдава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большие суммы, например 1 раз в недел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аршеклассникам целесообразн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ыдавать  карманные деньг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 раз в меся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Picture 8" descr=""/>
          <p:cNvPicPr/>
          <p:nvPr/>
        </p:nvPicPr>
        <p:blipFill>
          <a:blip r:embed="rId1"/>
          <a:stretch/>
        </p:blipFill>
        <p:spPr>
          <a:xfrm>
            <a:off x="3492360" y="5067360"/>
            <a:ext cx="2087640" cy="1560600"/>
          </a:xfrm>
          <a:prstGeom prst="rect">
            <a:avLst/>
          </a:prstGeom>
          <a:ln w="0">
            <a:noFill/>
          </a:ln>
        </p:spPr>
      </p:pic>
      <p:sp>
        <p:nvSpPr>
          <p:cNvPr id="5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424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Нерегулярность получения ребен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карманных денег, отсутств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четко оговоренной суммы, на котор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ребенок может рассчитывать, приводя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к тому, что практика карманных дене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оказывается совершенно бесполез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для экономического воспитания реб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WordArt 4"/>
          <p:cNvSpPr txBox="1"/>
          <p:nvPr/>
        </p:nvSpPr>
        <p:spPr>
          <a:xfrm>
            <a:off x="468360" y="476280"/>
            <a:ext cx="74167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ак часто давать деньги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4" name="Rectangle 5"/>
          <p:cNvSpPr/>
          <p:nvPr/>
        </p:nvSpPr>
        <p:spPr>
          <a:xfrm>
            <a:off x="539640" y="2817000"/>
            <a:ext cx="131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Picture 6" descr=""/>
          <p:cNvPicPr/>
          <p:nvPr/>
        </p:nvPicPr>
        <p:blipFill>
          <a:blip r:embed="rId1"/>
          <a:stretch/>
        </p:blipFill>
        <p:spPr>
          <a:xfrm>
            <a:off x="3492360" y="5157720"/>
            <a:ext cx="2087640" cy="1560600"/>
          </a:xfrm>
          <a:prstGeom prst="rect">
            <a:avLst/>
          </a:prstGeom>
          <a:ln w="0">
            <a:noFill/>
          </a:ln>
        </p:spPr>
      </p:pic>
      <p:sp>
        <p:nvSpPr>
          <p:cNvPr id="5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250560" y="1412640"/>
            <a:ext cx="856908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Можно давать карманные деньги ребенку с шести-семи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С самого начала нужно объяснить ребенку смысл выплат и договориться о том, какие расходы ребенка они будут покры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Сумма должна быть разумной и увеличиваться с возрас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Маленьким детям деньги нужно выдавать еженедельно в определенный день, а подросткам можно выдавать деньги раз в меся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Выдача карманных денег не должна ставиться в зависимость от поведения и оценок и не должна отменяться в качестве наказ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Установленная сумма денег не должна увеличиваться под предлогом того, что ребенок уже все истрат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Ребенку нужно позволить тратить свои деньги по собственному выбо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У ребенка должны быть обязанности по дому, которые он выполняет бесплат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Ежегодно (в день рождения ребенка) сумма карманных денег и обязанности ребенка должны увеличиваться.</a:t>
            </a:r>
            <a:br>
              <a:rPr sz="18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Berlin Sans FB Dem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WordArt 6"/>
          <p:cNvSpPr txBox="1"/>
          <p:nvPr/>
        </p:nvSpPr>
        <p:spPr>
          <a:xfrm>
            <a:off x="1403280" y="404640"/>
            <a:ext cx="6191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 родителя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39" name="Picture 11" descr=""/>
          <p:cNvPicPr/>
          <p:nvPr/>
        </p:nvPicPr>
        <p:blipFill>
          <a:blip r:embed="rId1"/>
          <a:stretch/>
        </p:blipFill>
        <p:spPr>
          <a:xfrm>
            <a:off x="395280" y="11592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5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250560" y="1412640"/>
            <a:ext cx="856908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WordArt 4"/>
          <p:cNvSpPr txBox="1"/>
          <p:nvPr/>
        </p:nvSpPr>
        <p:spPr>
          <a:xfrm>
            <a:off x="1403280" y="404640"/>
            <a:ext cx="6191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 родителя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43" name="Picture 5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292040" cy="96984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7"/>
          <p:cNvSpPr/>
          <p:nvPr/>
        </p:nvSpPr>
        <p:spPr>
          <a:xfrm>
            <a:off x="684360" y="1773360"/>
            <a:ext cx="7343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Система карманных денег эффективная только в том случае, когда она сочетается с обсуждением финансовых вопросов в семь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Смысл выдачи родителями карманных денег должен меняться по мере взросления ребенка и служит для контроля его растущих потребнос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Но главное, необходимо помнить, чт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деньги, выдаваемые ребенку, это средство обучени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при помощи которого родители помогают ребенку освоить все финансовые навыки, которые понадобятся ему во взрослой жиз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250560" y="1412640"/>
            <a:ext cx="856908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С. Харрисон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400" spc="-1" strike="noStrike">
                <a:solidFill>
                  <a:srgbClr val="0033cc"/>
                </a:solidFill>
                <a:latin typeface="Britannic Bold"/>
              </a:rPr>
              <a:t>«  Корыстное материалистическое общество постоянно нас обучает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причем  учит нас  не мышлению, а потреблен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У детей, которым была дана  ответствен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и  свобода  эту  ответственность   реализовать, развито критическое мышл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Они научились сами решать, что приносит им удовлетворение, а что - н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А тот ребенок, чья проницательность и воля на протяжении многих лет подавлялись... вырастает идеальным кандидатом на роль незадачливого потребителя всего, что поступает в продажу"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WordArt 4"/>
          <p:cNvSpPr txBox="1"/>
          <p:nvPr/>
        </p:nvSpPr>
        <p:spPr>
          <a:xfrm>
            <a:off x="1403280" y="404640"/>
            <a:ext cx="6191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 родителя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48" name="Picture 5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297080" cy="973080"/>
          </a:xfrm>
          <a:prstGeom prst="rect">
            <a:avLst/>
          </a:prstGeom>
          <a:ln w="0">
            <a:noFill/>
          </a:ln>
        </p:spPr>
      </p:pic>
      <p:sp>
        <p:nvSpPr>
          <p:cNvPr id="5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268000" y="1258920"/>
            <a:ext cx="6434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8" name="WordArt 11"/>
          <p:cNvSpPr txBox="1"/>
          <p:nvPr/>
        </p:nvSpPr>
        <p:spPr>
          <a:xfrm>
            <a:off x="2268360" y="189000"/>
            <a:ext cx="64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рманные  деньги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Карманные   деньги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это сумма, выделяемая детям    на их собственные нужд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16" descr=""/>
          <p:cNvPicPr/>
          <p:nvPr/>
        </p:nvPicPr>
        <p:blipFill>
          <a:blip r:embed="rId3"/>
          <a:stretch/>
        </p:blipFill>
        <p:spPr>
          <a:xfrm>
            <a:off x="0" y="1916280"/>
            <a:ext cx="2340000" cy="3025440"/>
          </a:xfrm>
          <a:prstGeom prst="rect">
            <a:avLst/>
          </a:prstGeom>
          <a:ln w="0">
            <a:noFill/>
          </a:ln>
        </p:spPr>
      </p:pic>
      <p:sp>
        <p:nvSpPr>
          <p:cNvPr id="4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56908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Роберт Кийосаки   «Богатый ребенок, умный ребено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нига американского бизнесмена, инвестора, писателя и преподавател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оберта Кийосаки  «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Богатый ребенок, умный ребенок»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написана для родителей, которые ценят образование, мечтают, чтобы их ребенок на старте жизни совершил рывок в финансовом и академическом направлениях, и желают принять активное участие в воплощении этой меч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Britannic Bold"/>
              </a:rPr>
              <a:t>  </a:t>
            </a:r>
            <a:r>
              <a:rPr b="1" i="1" lang="en-US" sz="2400" spc="-1" strike="noStrike">
                <a:solidFill>
                  <a:srgbClr val="0033cc"/>
                </a:solidFill>
                <a:latin typeface="Britannic Bold"/>
              </a:rPr>
              <a:t>   </a:t>
            </a:r>
            <a:r>
              <a:rPr b="1" i="1" lang="ru-RU" sz="1800" spc="-1" strike="noStrike">
                <a:solidFill>
                  <a:srgbClr val="0033cc"/>
                </a:solidFill>
                <a:latin typeface="Britannic Bold"/>
              </a:rPr>
              <a:t>Выдержки из книги може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Britannic Bold"/>
              </a:rPr>
              <a:t>      </a:t>
            </a:r>
            <a:r>
              <a:rPr b="1" i="1" lang="ru-RU" sz="1800" spc="-1" strike="noStrike">
                <a:solidFill>
                  <a:srgbClr val="0033cc"/>
                </a:solidFill>
                <a:latin typeface="Britannic Bold"/>
              </a:rPr>
              <a:t>прочитать на наш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Britannic Bold"/>
              </a:rPr>
              <a:t>      </a:t>
            </a:r>
            <a:r>
              <a:rPr b="1" i="1" lang="ru-RU" sz="1800" spc="-1" strike="noStrike">
                <a:solidFill>
                  <a:srgbClr val="0033cc"/>
                </a:solidFill>
                <a:latin typeface="Britannic Bold"/>
              </a:rPr>
              <a:t>школьном сайт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Britannic Bold"/>
              </a:rPr>
              <a:t>   </a:t>
            </a:r>
            <a:r>
              <a:rPr b="1" i="1" lang="en-US" sz="1800" spc="-1" strike="noStrike">
                <a:solidFill>
                  <a:srgbClr val="0033cc"/>
                </a:solidFill>
                <a:latin typeface="Britannic Bold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Britannic Bold"/>
              </a:rPr>
              <a:t>school3.uncnet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WordArt 4"/>
          <p:cNvSpPr txBox="1"/>
          <p:nvPr/>
        </p:nvSpPr>
        <p:spPr>
          <a:xfrm>
            <a:off x="1403280" y="404640"/>
            <a:ext cx="6191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уем прочита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53" name="Picture 5" descr=""/>
          <p:cNvPicPr/>
          <p:nvPr/>
        </p:nvPicPr>
        <p:blipFill>
          <a:blip r:embed="rId1"/>
          <a:stretch/>
        </p:blipFill>
        <p:spPr>
          <a:xfrm>
            <a:off x="4932360" y="3933720"/>
            <a:ext cx="3301920" cy="2438640"/>
          </a:xfrm>
          <a:prstGeom prst="rect">
            <a:avLst/>
          </a:prstGeom>
          <a:ln w="0">
            <a:noFill/>
          </a:ln>
        </p:spPr>
      </p:pic>
      <p:sp>
        <p:nvSpPr>
          <p:cNvPr id="5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Финансовая ответственность в сочетании с дух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предпринимательства может стать могучей сил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Помогите вашим детям развить в себе оба этих качества, а затем расслабьтесь и наблюдайте за тем, как они будут покорять одну финансовую вершину за другой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WordArt 4"/>
          <p:cNvSpPr txBox="1"/>
          <p:nvPr/>
        </p:nvSpPr>
        <p:spPr>
          <a:xfrm>
            <a:off x="1979640" y="476280"/>
            <a:ext cx="5616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68680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       </a:t>
            </a: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        </a:t>
            </a: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           </a:t>
            </a: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             </a:t>
            </a:r>
            <a:r>
              <a:rPr b="1" lang="ru-RU" sz="4800" spc="-1" strike="noStrike">
                <a:solidFill>
                  <a:srgbClr val="ff3300"/>
                </a:solidFill>
                <a:latin typeface="comic"/>
              </a:rPr>
              <a:t>ЗАЧЕМ РЕБЕНКУ </a:t>
            </a: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comic"/>
              </a:rPr>
              <a:t>               КАРМАННЫЕ   </a:t>
            </a: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comic"/>
              </a:rPr>
              <a:t>                   ДЕНЬГИ?</a:t>
            </a: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comic"/>
              </a:rPr>
              <a:t>         ВСЕ  ЗА  И  ПРОТИВ</a:t>
            </a:r>
            <a:br>
              <a:rPr sz="3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209320" y="2085480"/>
            <a:ext cx="6775560" cy="39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Picture 5" descr=""/>
          <p:cNvPicPr/>
          <p:nvPr/>
        </p:nvPicPr>
        <p:blipFill>
          <a:blip r:embed="rId1"/>
          <a:stretch/>
        </p:blipFill>
        <p:spPr>
          <a:xfrm>
            <a:off x="3924360" y="4508640"/>
            <a:ext cx="1706400" cy="1893600"/>
          </a:xfrm>
          <a:prstGeom prst="rect">
            <a:avLst/>
          </a:prstGeom>
          <a:ln w="0">
            <a:noFill/>
          </a:ln>
        </p:spPr>
      </p:pic>
      <p:sp>
        <p:nvSpPr>
          <p:cNvPr id="475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2209320" y="1413000"/>
            <a:ext cx="6775560" cy="466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Пока ребенок мал, все необходимое ему должны покупать взросл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Ребенок не сможет сделать правильный выб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Деньги могут  «испортят» ребен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Он может их тратить на ненужные вещ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Если ему давать деньги регулярно он станет капризным, балованным, не способным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сдерживать свои жел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Picture 4" descr="SM_S-4_03-1"/>
          <p:cNvPicPr/>
          <p:nvPr/>
        </p:nvPicPr>
        <p:blipFill>
          <a:blip r:embed="rId1"/>
          <a:stretch/>
        </p:blipFill>
        <p:spPr>
          <a:xfrm>
            <a:off x="179280" y="4724280"/>
            <a:ext cx="2808360" cy="1884600"/>
          </a:xfrm>
          <a:prstGeom prst="rect">
            <a:avLst/>
          </a:prstGeom>
          <a:ln w="0">
            <a:noFill/>
          </a:ln>
        </p:spPr>
      </p:pic>
      <p:sp>
        <p:nvSpPr>
          <p:cNvPr id="478" name="WordArt 6"/>
          <p:cNvSpPr txBox="1"/>
          <p:nvPr/>
        </p:nvSpPr>
        <p:spPr>
          <a:xfrm>
            <a:off x="2556000" y="189000"/>
            <a:ext cx="6183360" cy="85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рманные деньги не нужны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9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r>
              <a:rPr b="1" lang="ru-RU" sz="4500" spc="-1" strike="noStrike">
                <a:solidFill>
                  <a:srgbClr val="ff3300"/>
                </a:solidFill>
                <a:latin typeface="comic"/>
              </a:rPr>
              <a:t>Давать детям</a:t>
            </a:r>
            <a:br>
              <a:rPr sz="4500"/>
            </a:br>
            <a:r>
              <a:rPr b="1" lang="ru-RU" sz="4500" spc="-1" strike="noStrike">
                <a:solidFill>
                  <a:srgbClr val="ff3300"/>
                </a:solidFill>
                <a:latin typeface="comic"/>
              </a:rPr>
              <a:t> карманные   деньги   надо</a:t>
            </a:r>
            <a:br>
              <a:rPr sz="4500"/>
            </a:br>
            <a:br>
              <a:rPr sz="4500"/>
            </a:br>
            <a:endParaRPr b="0" lang="en-US" sz="45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86800" cy="461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0033cc"/>
                </a:solidFill>
                <a:latin typeface="Arial Black"/>
              </a:rPr>
              <a:t>Чтобы чувствовать себя личностью, которой неунизительно жить в мире самодостаточных взрослых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 Black"/>
              </a:rPr>
              <a:t>    </a:t>
            </a:r>
            <a:r>
              <a:rPr b="0" lang="ru-RU" sz="2400" spc="-1" strike="noStrike">
                <a:solidFill>
                  <a:srgbClr val="0033cc"/>
                </a:solidFill>
                <a:latin typeface="Arial Black"/>
              </a:rPr>
              <a:t>Хотя бы для того, чтобы он смог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0033cc"/>
                </a:solidFill>
                <a:latin typeface="Arial Black"/>
              </a:rPr>
              <a:t>удовлетворить свои потребности, которые взрослые не всегда могут предусмотреть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 Black"/>
              </a:rPr>
              <a:t>    </a:t>
            </a:r>
            <a:r>
              <a:rPr b="0" lang="ru-RU" sz="2400" spc="-1" strike="noStrike">
                <a:solidFill>
                  <a:srgbClr val="0033cc"/>
                </a:solidFill>
                <a:latin typeface="Arial Black"/>
              </a:rPr>
              <a:t>Только когда дети получают деньги, они учатся  их копить, тратить, рассчитывать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68680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       </a:t>
            </a: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        </a:t>
            </a: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           </a:t>
            </a: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             </a:t>
            </a: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</a:t>
            </a:r>
            <a:r>
              <a:rPr b="1" lang="ru-RU" sz="4800" spc="-1" strike="noStrike">
                <a:solidFill>
                  <a:srgbClr val="ff3300"/>
                </a:solidFill>
                <a:latin typeface="comic"/>
              </a:rPr>
              <a:t>Давать или не давать детям    карманные деньги?</a:t>
            </a: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comic"/>
              </a:rPr>
              <a:t>Каждому родителю придется искать золотую середину в этой дилемме</a:t>
            </a:r>
            <a:r>
              <a:rPr b="1" lang="ru-RU" sz="3800" spc="-1" strike="noStrike">
                <a:solidFill>
                  <a:srgbClr val="ff3300"/>
                </a:solidFill>
                <a:latin typeface="comic"/>
              </a:rPr>
              <a:t>…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209320" y="2085480"/>
            <a:ext cx="6775560" cy="39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Picture 5" descr=""/>
          <p:cNvPicPr/>
          <p:nvPr/>
        </p:nvPicPr>
        <p:blipFill>
          <a:blip r:embed="rId1"/>
          <a:stretch/>
        </p:blipFill>
        <p:spPr>
          <a:xfrm>
            <a:off x="5796000" y="4365720"/>
            <a:ext cx="2158920" cy="2158920"/>
          </a:xfrm>
          <a:prstGeom prst="rect">
            <a:avLst/>
          </a:prstGeom>
          <a:ln w="0">
            <a:noFill/>
          </a:ln>
        </p:spPr>
      </p:pic>
      <p:sp>
        <p:nvSpPr>
          <p:cNvPr id="486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268000" y="188640"/>
            <a:ext cx="6434280" cy="92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WordArt 4"/>
          <p:cNvSpPr txBox="1"/>
          <p:nvPr/>
        </p:nvSpPr>
        <p:spPr>
          <a:xfrm>
            <a:off x="2124000" y="189000"/>
            <a:ext cx="662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колько карманных денег имеют дети?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692000" y="1628640"/>
            <a:ext cx="74516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1. Нужны ли тебе карманные деньг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 -      85 %              НЕТ – 15 % ( 1-5 кл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2. Как часто тебе дают деньг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когда  - 1 чел.  ( но очень хочется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жедневно -38%               ( от  10 до 150 руб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-2 раза неделю – 25 %   ( от 100 до 600 руб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-2 раза в месяц – 8 %     ( от 200 до 1000 руб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праздникам, в день рожденья – 19 % (до 2500 руб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огда – 9 % ( от 100 до 500 руб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Picture 7" descr=""/>
          <p:cNvPicPr/>
          <p:nvPr/>
        </p:nvPicPr>
        <p:blipFill>
          <a:blip r:embed="rId3"/>
          <a:stretch/>
        </p:blipFill>
        <p:spPr>
          <a:xfrm>
            <a:off x="179280" y="1268280"/>
            <a:ext cx="1943280" cy="2590920"/>
          </a:xfrm>
          <a:prstGeom prst="rect">
            <a:avLst/>
          </a:prstGeom>
          <a:ln w="0">
            <a:noFill/>
          </a:ln>
        </p:spPr>
      </p:pic>
      <p:sp>
        <p:nvSpPr>
          <p:cNvPr id="491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84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384" fill="hold"/>
                                        <p:tgtEl>
                                          <p:spTgt spid="4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" dur="384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384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268000" y="188640"/>
            <a:ext cx="6696360" cy="92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WordArt 3"/>
          <p:cNvSpPr txBox="1"/>
          <p:nvPr/>
        </p:nvSpPr>
        <p:spPr>
          <a:xfrm>
            <a:off x="2268360" y="189000"/>
            <a:ext cx="5904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чем нужны деньги детям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979280" y="162864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3. Хватает ли тебе карманных денег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 -  72 %     НЕТ-  8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4.На что ты тратишь карманные деньг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еду, проезд –  45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личные нужд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 телефон, канцтовары, диски, сладости, игрушки, косметику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8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бираю, коплю – 18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арки родным, друзьям – 9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Picture 5" descr=""/>
          <p:cNvPicPr/>
          <p:nvPr/>
        </p:nvPicPr>
        <p:blipFill>
          <a:blip r:embed="rId3"/>
          <a:stretch/>
        </p:blipFill>
        <p:spPr>
          <a:xfrm>
            <a:off x="7093080" y="1125360"/>
            <a:ext cx="2050920" cy="16560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6" descr=""/>
          <p:cNvPicPr/>
          <p:nvPr/>
        </p:nvPicPr>
        <p:blipFill>
          <a:blip r:embed="rId4"/>
          <a:stretch/>
        </p:blipFill>
        <p:spPr>
          <a:xfrm>
            <a:off x="324000" y="4581360"/>
            <a:ext cx="1584000" cy="1584360"/>
          </a:xfrm>
          <a:prstGeom prst="rect">
            <a:avLst/>
          </a:prstGeom>
          <a:ln w="0">
            <a:noFill/>
          </a:ln>
        </p:spPr>
      </p:pic>
      <p:sp>
        <p:nvSpPr>
          <p:cNvPr id="497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268000" y="188640"/>
            <a:ext cx="6434280" cy="92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WordArt 3"/>
          <p:cNvSpPr txBox="1"/>
          <p:nvPr/>
        </p:nvSpPr>
        <p:spPr>
          <a:xfrm>
            <a:off x="2268360" y="189000"/>
            <a:ext cx="64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рманные  деньг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979280" y="1628640"/>
            <a:ext cx="6775560" cy="46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Объясняют ли тебе  родители как правильно тратить деньг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ДА – 65 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НЕТ-  32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ИНОГДА – 3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Если тебя наказывают, то лишают ли тебя карманных денег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ДА-  26 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НЕТ -  70 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ИНОГДА – 4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. Дают ли родители тебе деньги за хорошие оценки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ДА-  16 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НЕТ -  59 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ИНОГДА – 25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. Отчитываешь ли ты родителям о тратах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ДА-  21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НЕТ -  67 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ИНОГДА – 12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12:38:44Z</dcterms:created>
  <dc:creator>USER</dc:creator>
  <dc:description/>
  <dc:language>en-US</dc:language>
  <cp:lastModifiedBy>LEGION</cp:lastModifiedBy>
  <dcterms:modified xsi:type="dcterms:W3CDTF">2016-01-04T11:45:49Z</dcterms:modified>
  <cp:revision>176</cp:revision>
  <dc:subject/>
  <dc:title>Слайд 1</dc:title>
</cp:coreProperties>
</file>