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490-8739-4F48-963B-FC740D45AA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кла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икро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анкт-Петербургский парадокс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: индивиды оценивают игру не по ее ожидаемой стоимости, а по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3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к: понятие, характеризующее изменчивость исходов в ситуации неопределен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есклонные к риску индивиды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клонные к риску индивиды, наоборот, выберут игру с большей изменчивостью доходност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2 Полезность индивида, не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m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1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2-й игры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ля несклонного к риску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3 Полезность индивида,  склон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4 Полезность индивида,  нейтрального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4 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5 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(W*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теории потребительского выбора 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оизводства, издержек и выбора максимизирующей прибыль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е структуры несовершен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 – богатство индивида при «хороше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 – богатство индивида при «плохом» исход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индивида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1 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6 Кривые безразлич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дельная норма замещения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 Wg=Wb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7 Карты кривых безразличия для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2 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усть W* – исходный уровень богатства индивид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ую стоимость, равную W* индивиду могут принести все комбинации Wg и Wb, удовлетворяющие условию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8 Бюджетные ограничения в пространстве обусловленных благ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3 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max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устойчив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2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Линия ожидаемой стоим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ные состояния как обусловлен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ы кривых безразлич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ая линия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бор потребителя в условиях неопределенности и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 условиях неопределенности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9 Оптимальный выбор индивидов с разным отношением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0 Выбор не склонного к риску индивида в условиях справедливой и несправедливой игры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*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1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2.4 Оптимальный выбор индивидов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решения – точка дерева решений, в которой индивид сталкивается с необходимостью выбора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зел случая – точка дерева решений, движение из которой по исходящим ветвям обусловлено случайным процессом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Конечный узел – точка дерева решений, представляющая конечный исход, связываемый с данной ветвью дерева решений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1 Дерево решений и максимизация полезности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fm=24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gm=239,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1 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f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g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2 Дерево решений с последовательным принятием решений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6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,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80 000 (U=282,8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120 000 (U=346,4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45 000 (U=212,1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Построение деревьев решений и выбор в условиях неопреде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деревьев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полной информации – разность между ожидаемыми ценностями выбора при наличии и отсутствии полной информации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Таблица 2.1 Ожидаемая прибыл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не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3.2 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рибыль при полной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Ценность информаци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ение от уплаты нал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благоприятном исходе: W=W0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Богатство при неблагоприятном исходе: W=W0-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полезность при совместном несении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Условие эффективности совместного несения рисков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Или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3 Оптимальное объединение рисков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1 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/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Прикладные аспекты модели выбора в пространстве обусловленных бл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несение р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Эквивалент уверенности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Максимальная сумма, которую индивид готов заплатить за полное страховое покрытие в размере L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4 Спрос индивида на страхование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-I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4.2 Рынок страховых услуг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-(1-p)L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Wce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озможно n исходов какого-либо события, сумма вероятностей реализации этих исходов равна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ая стоимость (математическое ожидани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рс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ое отклон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у равны ожидаемая стоимость, дисперсия и стандартное отклонение, если существует только два возможных исхода: X1=100, X2=200; и их вероятности, соответственно: p1=0,4 и p2=0,6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Рисунок 2.1 Ожидаемая стоимость и дисперси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1 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Вероятность, ожидаемая стоимость и 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, ожидаемая стоимость и отклонения от 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ожидаем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фон Неймана – Моргенштерна и типы отношения к рис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ия за р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 Актуарно справедлив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рно справедливые игры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FB7-37E4-467B-A037-F42618AC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F2C-276D-4820-8E0F-247A5A44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8A7-6A9A-4FB9-A219-012F2E7C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5DA-B88A-4138-9EB0-A078706C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5904-BAF0-4F02-81D4-49C47D83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77BC-1EE6-4A3A-93A1-3F457C63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3D75-B0EF-4993-A131-06206A7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E74A-86DB-4620-AD2F-0CE08DD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11E2-B593-4836-831A-59C58E64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B749-F60C-4499-B016-F6B295D6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08A5-225B-4BB3-AB4C-E4DA8F8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A3F-7A26-42C0-B3EC-EB43BC98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312-D073-4671-8D98-7EEBADE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383D-C8BF-4C00-AFC3-2C7A95CA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D71-86E4-43EF-82D9-2D2EE05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B69-D887-4D53-93CF-3D293044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7F04-7D41-4693-B21C-59A3D42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564-4B93-4674-82ED-B2E2064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9DC-8ADE-4209-A7D4-982AE44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D80-5274-496C-B02F-9E5AC39D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C73-D381-4E96-B194-2924B1B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D13-39AE-4699-B7F0-7A92E770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24F-5941-4FEC-8384-CEB2627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6C3-B8C5-4282-830D-B10670A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D0C-52F7-4780-A4B3-F5F05E2AF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7AD5-2B84-4F3E-B41B-2A0D8315E3C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92000" y="596520"/>
            <a:ext cx="6956280" cy="18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икладная эконом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2636640"/>
            <a:ext cx="61470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икроэконом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анкт-Петербургский парадокс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: индивиды оценивают игру не по ее ожидаемой стоимости, а по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2268360" y="1268280"/>
                <a:ext cx="4664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3 Гипотеза ожидаемой полез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2"/>
              <p:cNvSpPr txBox="1"/>
              <p:nvPr/>
            </p:nvSpPr>
            <p:spPr>
              <a:xfrm>
                <a:off x="2233440" y="1916280"/>
                <a:ext cx="46213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1282680" y="2997360"/>
                <a:ext cx="65912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4"/>
              <p:cNvSpPr txBox="1"/>
              <p:nvPr/>
            </p:nvSpPr>
            <p:spPr>
              <a:xfrm>
                <a:off x="2781360" y="5856120"/>
                <a:ext cx="3593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1557360"/>
            <a:ext cx="9144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Риск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: понятие, характеризующее изменчивость исходов в ситуации неопределен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Не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 выберут из двух игр с одинаковой ожидаемой стоимостью ту, которая характеризуется мен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1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99"/>
                </a:solidFill>
                <a:latin typeface="Verdana"/>
              </a:rPr>
              <a:t>Склонные к риску индивиды</a:t>
            </a:r>
            <a:r>
              <a:rPr b="0" lang="ru-RU" sz="2900" spc="-1" strike="noStrike">
                <a:solidFill>
                  <a:srgbClr val="006699"/>
                </a:solidFill>
                <a:latin typeface="Verdana"/>
              </a:rPr>
              <a:t>, наоборот, выберут игру с большей изменчивостью доходности.</a:t>
            </a:r>
            <a:endParaRPr b="0" lang="en-US" sz="2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3280" y="90972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не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Line 29"/>
          <p:cNvSpPr/>
          <p:nvPr/>
        </p:nvSpPr>
        <p:spPr>
          <a:xfrm>
            <a:off x="1403280" y="299736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Line 30"/>
          <p:cNvSpPr/>
          <p:nvPr/>
        </p:nvSpPr>
        <p:spPr>
          <a:xfrm flipV="1">
            <a:off x="2700360" y="2276280"/>
            <a:ext cx="2232000" cy="143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851280" y="2708280"/>
            <a:ext cx="0" cy="360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3448080" y="2997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Line 3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Line 3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4932360" y="2276640"/>
            <a:ext cx="0" cy="403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Oval 4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Oval 41"/>
          <p:cNvSpPr/>
          <p:nvPr/>
        </p:nvSpPr>
        <p:spPr>
          <a:xfrm>
            <a:off x="3376440" y="2924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Oval 42"/>
          <p:cNvSpPr/>
          <p:nvPr/>
        </p:nvSpPr>
        <p:spPr>
          <a:xfrm>
            <a:off x="3780000" y="29242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3"/>
          <p:cNvSpPr/>
          <p:nvPr/>
        </p:nvSpPr>
        <p:spPr>
          <a:xfrm flipH="1">
            <a:off x="1403280" y="2708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Text Box 44"/>
          <p:cNvSpPr/>
          <p:nvPr/>
        </p:nvSpPr>
        <p:spPr>
          <a:xfrm>
            <a:off x="360360" y="23954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Text Box 46"/>
          <p:cNvSpPr/>
          <p:nvPr/>
        </p:nvSpPr>
        <p:spPr>
          <a:xfrm>
            <a:off x="179280" y="28274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Text Box 47"/>
          <p:cNvSpPr/>
          <p:nvPr/>
        </p:nvSpPr>
        <p:spPr>
          <a:xfrm>
            <a:off x="71280" y="350028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m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5361120" y="6272280"/>
                <a:ext cx="13716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53"/>
              <p:cNvSpPr txBox="1"/>
              <p:nvPr/>
            </p:nvSpPr>
            <p:spPr>
              <a:xfrm>
                <a:off x="4340160" y="5805360"/>
                <a:ext cx="1168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54"/>
              <p:cNvSpPr txBox="1"/>
              <p:nvPr/>
            </p:nvSpPr>
            <p:spPr>
              <a:xfrm>
                <a:off x="3708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5"/>
              <p:cNvSpPr txBox="1"/>
              <p:nvPr/>
            </p:nvSpPr>
            <p:spPr>
              <a:xfrm>
                <a:off x="3267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6"/>
              <p:cNvSpPr txBox="1"/>
              <p:nvPr/>
            </p:nvSpPr>
            <p:spPr>
              <a:xfrm>
                <a:off x="2179800" y="5805360"/>
                <a:ext cx="11682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57"/>
              <p:cNvSpPr txBox="1"/>
              <p:nvPr/>
            </p:nvSpPr>
            <p:spPr>
              <a:xfrm>
                <a:off x="981000" y="6272280"/>
                <a:ext cx="1359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1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2-й игры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ля несклонного к риску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1328760" y="1773360"/>
                <a:ext cx="6432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2"/>
              <p:cNvSpPr txBox="1"/>
              <p:nvPr/>
            </p:nvSpPr>
            <p:spPr>
              <a:xfrm>
                <a:off x="1042920" y="3522600"/>
                <a:ext cx="706140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3"/>
              <p:cNvSpPr txBox="1"/>
              <p:nvPr/>
            </p:nvSpPr>
            <p:spPr>
              <a:xfrm>
                <a:off x="2073240" y="5415120"/>
                <a:ext cx="49482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Line 23"/>
          <p:cNvSpPr/>
          <p:nvPr/>
        </p:nvSpPr>
        <p:spPr>
          <a:xfrm flipH="1">
            <a:off x="1403280" y="4906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6372360" y="177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90756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склон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rc 8"/>
          <p:cNvSpPr/>
          <p:nvPr/>
        </p:nvSpPr>
        <p:spPr>
          <a:xfrm rot="5400000">
            <a:off x="1682280" y="684000"/>
            <a:ext cx="4465440" cy="505620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5056200"/>
              <a:gd name="textAreaBottom" fmla="*/ 5056200 h 5056200"/>
            </a:gdLst>
            <a:ahLst/>
            <a:rect l="textAreaLeft" t="textAreaTop" r="textAreaRight" b="textAreaBottom"/>
            <a:pathLst>
              <a:path fill="none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</a:path>
              <a:path stroke="0" w="21599" h="21054">
                <a:moveTo>
                  <a:pt x="4827" y="0"/>
                </a:moveTo>
                <a:cubicBezTo>
                  <a:pt x="14573" y="2235"/>
                  <a:pt x="21511" y="10866"/>
                  <a:pt x="21599" y="20863"/>
                </a:cubicBezTo>
                <a:lnTo>
                  <a:pt x="0" y="21054"/>
                </a:lnTo>
                <a:lnTo>
                  <a:pt x="4827" y="0"/>
                </a:lnTo>
                <a:close/>
              </a:path>
            </a:pathLst>
          </a:custGeom>
          <a:noFill/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403280" y="4221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771640" y="4220640"/>
            <a:ext cx="2160720" cy="10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38512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1692360" y="2924280"/>
            <a:ext cx="4319640" cy="25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 flipH="1">
            <a:off x="1403280" y="4724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1692360" y="5445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277164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493236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6012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Oval 20"/>
          <p:cNvSpPr/>
          <p:nvPr/>
        </p:nvSpPr>
        <p:spPr>
          <a:xfrm>
            <a:off x="3780000" y="4840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Oval 21"/>
          <p:cNvSpPr/>
          <p:nvPr/>
        </p:nvSpPr>
        <p:spPr>
          <a:xfrm>
            <a:off x="3780000" y="4653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3780000" y="4149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7"/>
              <p:cNvSpPr txBox="1"/>
              <p:nvPr/>
            </p:nvSpPr>
            <p:spPr>
              <a:xfrm>
                <a:off x="552132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8"/>
              <p:cNvSpPr txBox="1"/>
              <p:nvPr/>
            </p:nvSpPr>
            <p:spPr>
              <a:xfrm>
                <a:off x="449424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1"/>
              <p:cNvSpPr txBox="1"/>
              <p:nvPr/>
            </p:nvSpPr>
            <p:spPr>
              <a:xfrm>
                <a:off x="2351160" y="5850000"/>
                <a:ext cx="100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2"/>
              <p:cNvSpPr txBox="1"/>
              <p:nvPr/>
            </p:nvSpPr>
            <p:spPr>
              <a:xfrm>
                <a:off x="1198440" y="6316560"/>
                <a:ext cx="11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3"/>
              <p:cNvSpPr txBox="1"/>
              <p:nvPr/>
            </p:nvSpPr>
            <p:spPr>
              <a:xfrm>
                <a:off x="4502160" y="4759200"/>
                <a:ext cx="45338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4"/>
              <p:cNvSpPr txBox="1"/>
              <p:nvPr/>
            </p:nvSpPr>
            <p:spPr>
              <a:xfrm>
                <a:off x="495360" y="4843440"/>
                <a:ext cx="888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5"/>
              <p:cNvSpPr txBox="1"/>
              <p:nvPr/>
            </p:nvSpPr>
            <p:spPr>
              <a:xfrm>
                <a:off x="82440" y="378936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6"/>
              <p:cNvSpPr txBox="1"/>
              <p:nvPr/>
            </p:nvSpPr>
            <p:spPr>
              <a:xfrm>
                <a:off x="250920" y="4292640"/>
                <a:ext cx="115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34"/>
          <p:cNvSpPr/>
          <p:nvPr/>
        </p:nvSpPr>
        <p:spPr>
          <a:xfrm>
            <a:off x="2195640" y="530064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32"/>
          <p:cNvSpPr/>
          <p:nvPr/>
        </p:nvSpPr>
        <p:spPr>
          <a:xfrm flipV="1">
            <a:off x="2195640" y="2349360"/>
            <a:ext cx="5329080" cy="3959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752472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838836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692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403280" y="83772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олезность индивида,  нейтрального к рис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19564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219384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4 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195640" y="45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Line 13"/>
          <p:cNvSpPr/>
          <p:nvPr/>
        </p:nvSpPr>
        <p:spPr>
          <a:xfrm>
            <a:off x="4643280" y="4508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Line 17"/>
          <p:cNvSpPr/>
          <p:nvPr/>
        </p:nvSpPr>
        <p:spPr>
          <a:xfrm>
            <a:off x="3564000" y="5300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04000" y="2924280"/>
            <a:ext cx="0" cy="3384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Oval 20"/>
          <p:cNvSpPr/>
          <p:nvPr/>
        </p:nvSpPr>
        <p:spPr>
          <a:xfrm>
            <a:off x="3490920" y="5229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Oval 21"/>
          <p:cNvSpPr/>
          <p:nvPr/>
        </p:nvSpPr>
        <p:spPr>
          <a:xfrm>
            <a:off x="4572000" y="4437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3"/>
              <p:cNvSpPr txBox="1"/>
              <p:nvPr/>
            </p:nvSpPr>
            <p:spPr>
              <a:xfrm>
                <a:off x="6168960" y="6272280"/>
                <a:ext cx="1282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5"/>
              <p:cNvSpPr txBox="1"/>
              <p:nvPr/>
            </p:nvSpPr>
            <p:spPr>
              <a:xfrm>
                <a:off x="4424400" y="6316560"/>
                <a:ext cx="5079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6"/>
              <p:cNvSpPr txBox="1"/>
              <p:nvPr/>
            </p:nvSpPr>
            <p:spPr>
              <a:xfrm>
                <a:off x="3022560" y="6308640"/>
                <a:ext cx="11178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8"/>
              <p:cNvSpPr txBox="1"/>
              <p:nvPr/>
            </p:nvSpPr>
            <p:spPr>
              <a:xfrm>
                <a:off x="4073400" y="4759200"/>
                <a:ext cx="4962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9"/>
              <p:cNvSpPr txBox="1"/>
              <p:nvPr/>
            </p:nvSpPr>
            <p:spPr>
              <a:xfrm>
                <a:off x="536400" y="5040360"/>
                <a:ext cx="1587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1"/>
              <p:cNvSpPr txBox="1"/>
              <p:nvPr/>
            </p:nvSpPr>
            <p:spPr>
              <a:xfrm>
                <a:off x="1120680" y="4292640"/>
                <a:ext cx="1003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Line 33"/>
          <p:cNvSpPr/>
          <p:nvPr/>
        </p:nvSpPr>
        <p:spPr>
          <a:xfrm>
            <a:off x="2195640" y="28526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6732720" y="2800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5"/>
              <p:cNvSpPr txBox="1"/>
              <p:nvPr/>
            </p:nvSpPr>
            <p:spPr>
              <a:xfrm>
                <a:off x="385920" y="2492280"/>
                <a:ext cx="1752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1.5 Премия за риск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608472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7812000" y="6222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55640" y="836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03280" y="764640"/>
            <a:ext cx="7740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5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Премия за риск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1403280" y="981000"/>
            <a:ext cx="0" cy="53276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403280" y="6308640"/>
            <a:ext cx="64818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Arc 9"/>
          <p:cNvSpPr/>
          <p:nvPr/>
        </p:nvSpPr>
        <p:spPr>
          <a:xfrm rot="16200000">
            <a:off x="1078560" y="2383200"/>
            <a:ext cx="5473800" cy="4824360"/>
          </a:xfrm>
          <a:custGeom>
            <a:avLst/>
            <a:gdLst>
              <a:gd name="textAreaLeft" fmla="*/ 0 w 5473800"/>
              <a:gd name="textAreaRight" fmla="*/ 5474160 w 5473800"/>
              <a:gd name="textAreaTop" fmla="*/ 0 h 4824360"/>
              <a:gd name="textAreaBottom" fmla="*/ 4824720 h 4824360"/>
            </a:gdLst>
            <a:ahLst/>
            <a:rect l="textAreaLeft" t="textAreaTop" r="textAreaRight" b="textAreaBottom"/>
            <a:pathLst>
              <a:path fill="none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</a:path>
              <a:path stroke="0" w="21599" h="21043">
                <a:moveTo>
                  <a:pt x="4874" y="0"/>
                </a:moveTo>
                <a:cubicBezTo>
                  <a:pt x="14597" y="2252"/>
                  <a:pt x="21511" y="10873"/>
                  <a:pt x="21599" y="20852"/>
                </a:cubicBezTo>
                <a:lnTo>
                  <a:pt x="0" y="21043"/>
                </a:lnTo>
                <a:lnTo>
                  <a:pt x="4874" y="0"/>
                </a:ln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85128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Line 14"/>
          <p:cNvSpPr/>
          <p:nvPr/>
        </p:nvSpPr>
        <p:spPr>
          <a:xfrm flipV="1">
            <a:off x="1692360" y="2060280"/>
            <a:ext cx="4319640" cy="3313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1403280" y="371628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1692360" y="537372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700360" y="371628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601200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Oval 20"/>
          <p:cNvSpPr/>
          <p:nvPr/>
        </p:nvSpPr>
        <p:spPr>
          <a:xfrm>
            <a:off x="378000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Oval 21"/>
          <p:cNvSpPr/>
          <p:nvPr/>
        </p:nvSpPr>
        <p:spPr>
          <a:xfrm>
            <a:off x="2627280" y="3645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26"/>
          <p:cNvSpPr/>
          <p:nvPr/>
        </p:nvSpPr>
        <p:spPr>
          <a:xfrm>
            <a:off x="216000" y="3500280"/>
            <a:ext cx="13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7"/>
              <p:cNvSpPr txBox="1"/>
              <p:nvPr/>
            </p:nvSpPr>
            <p:spPr>
              <a:xfrm>
                <a:off x="553248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9"/>
              <p:cNvSpPr txBox="1"/>
              <p:nvPr/>
            </p:nvSpPr>
            <p:spPr>
              <a:xfrm>
                <a:off x="2484360" y="6272280"/>
                <a:ext cx="507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0"/>
              <p:cNvSpPr txBox="1"/>
              <p:nvPr/>
            </p:nvSpPr>
            <p:spPr>
              <a:xfrm>
                <a:off x="3699000" y="6361200"/>
                <a:ext cx="3682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2"/>
              <p:cNvSpPr txBox="1"/>
              <p:nvPr/>
            </p:nvSpPr>
            <p:spPr>
              <a:xfrm>
                <a:off x="1146240" y="6316560"/>
                <a:ext cx="1028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кладные аспекты теории потребительского выбора и спро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2f0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ория производства, издержек и выбора максимизирующей прибыль фир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ыночные структуры несовершенной конкурен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хороше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–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огатство индивида при «плохом» исход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полезность индивида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Verdana"/>
              </a:rPr>
              <a:t>2.2.1 Вероятностные состояния как обусловленные блага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5"/>
              <p:cNvSpPr txBox="1"/>
              <p:nvPr/>
            </p:nvSpPr>
            <p:spPr>
              <a:xfrm>
                <a:off x="985680" y="4594320"/>
                <a:ext cx="71740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6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50920" y="155736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500" spc="-1" strike="noStrike">
                <a:solidFill>
                  <a:srgbClr val="006699"/>
                </a:solidFill>
                <a:latin typeface="Verdana"/>
              </a:rPr>
              <a:t>6</a:t>
            </a: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 Кривые безразлич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971640" y="1844640"/>
            <a:ext cx="0" cy="4464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Arc 13"/>
          <p:cNvSpPr/>
          <p:nvPr/>
        </p:nvSpPr>
        <p:spPr>
          <a:xfrm rot="11032200">
            <a:off x="2064960" y="1847520"/>
            <a:ext cx="4932360" cy="3441600"/>
          </a:xfrm>
          <a:custGeom>
            <a:avLst/>
            <a:gdLst>
              <a:gd name="textAreaLeft" fmla="*/ 0 w 4932360"/>
              <a:gd name="textAreaRight" fmla="*/ 4932720 w 4932360"/>
              <a:gd name="textAreaTop" fmla="*/ 0 h 3441600"/>
              <a:gd name="textAreaBottom" fmla="*/ 3441960 h 3441600"/>
            </a:gdLst>
            <a:ahLst/>
            <a:rect l="textAreaLeft" t="textAreaTop" r="textAreaRight" b="textAreaBottom"/>
            <a:pathLst>
              <a:path fill="none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</a:path>
              <a:path stroke="0" w="21442" h="20245">
                <a:moveTo>
                  <a:pt x="7529" y="0"/>
                </a:moveTo>
                <a:cubicBezTo>
                  <a:pt x="15099" y="2815"/>
                  <a:pt x="20465" y="9617"/>
                  <a:pt x="21441" y="17634"/>
                </a:cubicBezTo>
                <a:lnTo>
                  <a:pt x="0" y="20245"/>
                </a:lnTo>
                <a:lnTo>
                  <a:pt x="7529" y="0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076720" y="508464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Line 2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1908000" y="2924280"/>
            <a:ext cx="2664000" cy="2665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Arc 37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38"/>
              <p:cNvSpPr txBox="1"/>
              <p:nvPr/>
            </p:nvSpPr>
            <p:spPr>
              <a:xfrm>
                <a:off x="2604960" y="479736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Line 39"/>
          <p:cNvSpPr/>
          <p:nvPr/>
        </p:nvSpPr>
        <p:spPr>
          <a:xfrm flipV="1">
            <a:off x="3132000" y="429264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40"/>
              <p:cNvSpPr txBox="1"/>
              <p:nvPr/>
            </p:nvSpPr>
            <p:spPr>
              <a:xfrm>
                <a:off x="197964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едельная норма замещ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показывает пропорцию, в которой индивид готов заместить товар, количество которого отложено по вертикальной оси (богатство при «плохом» исходе), товаром, количество которого отложено по горизонтальной оси (богатство при «хорошем» исходе)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4"/>
              <p:cNvSpPr txBox="1"/>
              <p:nvPr/>
            </p:nvSpPr>
            <p:spPr>
              <a:xfrm>
                <a:off x="2768760" y="4076640"/>
                <a:ext cx="36082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8"/>
              <p:cNvSpPr txBox="1"/>
              <p:nvPr/>
            </p:nvSpPr>
            <p:spPr>
              <a:xfrm>
                <a:off x="3276720" y="5479920"/>
                <a:ext cx="24541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Line 5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630072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Line 27"/>
          <p:cNvSpPr/>
          <p:nvPr/>
        </p:nvSpPr>
        <p:spPr>
          <a:xfrm>
            <a:off x="971640" y="3357720"/>
            <a:ext cx="1439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rc 30"/>
          <p:cNvSpPr/>
          <p:nvPr/>
        </p:nvSpPr>
        <p:spPr>
          <a:xfrm flipV="1" rot="16596600">
            <a:off x="6809040" y="3938040"/>
            <a:ext cx="1368360" cy="150048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0480"/>
              <a:gd name="textAreaBottom" fmla="*/ 1501200 h 150048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rc 33"/>
          <p:cNvSpPr/>
          <p:nvPr/>
        </p:nvSpPr>
        <p:spPr>
          <a:xfrm flipV="1" rot="5911200">
            <a:off x="2944440" y="29851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rc 35"/>
          <p:cNvSpPr/>
          <p:nvPr/>
        </p:nvSpPr>
        <p:spPr>
          <a:xfrm flipV="1" rot="16392000">
            <a:off x="7166880" y="3359520"/>
            <a:ext cx="1368360" cy="150552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505520"/>
              <a:gd name="textAreaBottom" fmla="*/ 1506240 h 150552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7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Карты кривых безразличия для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2 Карты кривых безразлич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838836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45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Text Box 46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Line 47"/>
          <p:cNvSpPr/>
          <p:nvPr/>
        </p:nvSpPr>
        <p:spPr>
          <a:xfrm>
            <a:off x="1187280" y="285264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Line 48"/>
          <p:cNvSpPr/>
          <p:nvPr/>
        </p:nvSpPr>
        <p:spPr>
          <a:xfrm>
            <a:off x="1403280" y="2421000"/>
            <a:ext cx="144000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49"/>
          <p:cNvSpPr/>
          <p:nvPr/>
        </p:nvSpPr>
        <p:spPr>
          <a:xfrm>
            <a:off x="2556000" y="4508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Text Box 50"/>
          <p:cNvSpPr/>
          <p:nvPr/>
        </p:nvSpPr>
        <p:spPr>
          <a:xfrm>
            <a:off x="277164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1"/>
          <p:cNvSpPr/>
          <p:nvPr/>
        </p:nvSpPr>
        <p:spPr>
          <a:xfrm>
            <a:off x="2340000" y="5013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52"/>
              <p:cNvSpPr txBox="1"/>
              <p:nvPr/>
            </p:nvSpPr>
            <p:spPr>
              <a:xfrm>
                <a:off x="693720" y="5052960"/>
                <a:ext cx="1574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u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Arc 53"/>
          <p:cNvSpPr/>
          <p:nvPr/>
        </p:nvSpPr>
        <p:spPr>
          <a:xfrm flipV="1" rot="5911200">
            <a:off x="3160440" y="247392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Arc 54"/>
          <p:cNvSpPr/>
          <p:nvPr/>
        </p:nvSpPr>
        <p:spPr>
          <a:xfrm flipV="1" rot="5911200">
            <a:off x="3376440" y="1897560"/>
            <a:ext cx="3665520" cy="183060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830600"/>
              <a:gd name="textAreaBottom" fmla="*/ 1830600 h 183060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Text Box 55"/>
          <p:cNvSpPr/>
          <p:nvPr/>
        </p:nvSpPr>
        <p:spPr>
          <a:xfrm>
            <a:off x="5365800" y="5589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56"/>
          <p:cNvSpPr/>
          <p:nvPr/>
        </p:nvSpPr>
        <p:spPr>
          <a:xfrm>
            <a:off x="55800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7"/>
          <p:cNvSpPr/>
          <p:nvPr/>
        </p:nvSpPr>
        <p:spPr>
          <a:xfrm>
            <a:off x="5796000" y="4437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Arc 58"/>
          <p:cNvSpPr/>
          <p:nvPr/>
        </p:nvSpPr>
        <p:spPr>
          <a:xfrm flipV="1" rot="16392000">
            <a:off x="7382880" y="2783520"/>
            <a:ext cx="1368360" cy="1505160"/>
          </a:xfrm>
          <a:custGeom>
            <a:avLst/>
            <a:gdLst>
              <a:gd name="textAreaLeft" fmla="*/ 0 w 1368360"/>
              <a:gd name="textAreaRight" fmla="*/ 1368720 w 1368360"/>
              <a:gd name="textAreaTop" fmla="*/ -360 h 1505160"/>
              <a:gd name="textAreaBottom" fmla="*/ 1505160 h 1505160"/>
            </a:gdLst>
            <a:ahLst/>
            <a:rect l="textAreaLeft" t="textAreaTop" r="textAreaRight" b="textAreaBottom"/>
            <a:pathLst>
              <a:path fill="none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</a:path>
              <a:path stroke="0" w="21600" h="23763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70"/>
                  <a:pt x="21523" y="22721"/>
                  <a:pt x="21369" y="23762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Text Box 59"/>
          <p:cNvSpPr/>
          <p:nvPr/>
        </p:nvSpPr>
        <p:spPr>
          <a:xfrm>
            <a:off x="637236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60"/>
          <p:cNvSpPr/>
          <p:nvPr/>
        </p:nvSpPr>
        <p:spPr>
          <a:xfrm>
            <a:off x="6661080" y="314172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6948360" y="256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усть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сходный уровень богатства индив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ую стоимость, равную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6699"/>
                </a:solidFill>
                <a:latin typeface="Verdana"/>
              </a:rPr>
              <a:t>*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ндивиду могут принести все комбинаци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g</a:t>
            </a:r>
            <a:r>
              <a:rPr b="0" lang="ru-RU" sz="2800" spc="-1" strike="noStrike" baseline="-25000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удовлетворяющие условию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2647800" y="3500280"/>
                <a:ext cx="3851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W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6"/>
              <p:cNvSpPr txBox="1"/>
              <p:nvPr/>
            </p:nvSpPr>
            <p:spPr>
              <a:xfrm>
                <a:off x="3011400" y="4776840"/>
                <a:ext cx="3081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W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8 Бюджетные ограничения в пространстве обусловленных благ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Line 9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Line 10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3 Бюджетная линия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Arc 12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3639960" y="5300640"/>
                <a:ext cx="787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5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Arc 16"/>
          <p:cNvSpPr/>
          <p:nvPr/>
        </p:nvSpPr>
        <p:spPr>
          <a:xfrm rot="16518000">
            <a:off x="4428720" y="566208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971640" y="3429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2268360" y="342900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Line 21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Line 23"/>
          <p:cNvSpPr/>
          <p:nvPr/>
        </p:nvSpPr>
        <p:spPr>
          <a:xfrm flipH="1">
            <a:off x="971640" y="5013360"/>
            <a:ext cx="295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3924360" y="501336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2195640" y="2997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9" name="Text Box 27"/>
          <p:cNvSpPr/>
          <p:nvPr/>
        </p:nvSpPr>
        <p:spPr>
          <a:xfrm>
            <a:off x="385272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493236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3348000" y="62946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1763640" y="629460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Text Box 33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5003640" y="2565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устойчив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Line 35"/>
          <p:cNvSpPr/>
          <p:nvPr/>
        </p:nvSpPr>
        <p:spPr>
          <a:xfrm flipH="1" flipV="1">
            <a:off x="4571640" y="278100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179280" y="3284640"/>
            <a:ext cx="107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Text Box 37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9" name="Text Box 38"/>
          <p:cNvSpPr/>
          <p:nvPr/>
        </p:nvSpPr>
        <p:spPr>
          <a:xfrm>
            <a:off x="179280" y="479736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0" name="Text Box 39"/>
          <p:cNvSpPr/>
          <p:nvPr/>
        </p:nvSpPr>
        <p:spPr>
          <a:xfrm>
            <a:off x="2773440" y="4437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1" name="Text Box 40"/>
          <p:cNvSpPr/>
          <p:nvPr/>
        </p:nvSpPr>
        <p:spPr>
          <a:xfrm>
            <a:off x="3203640" y="4916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2" name="Text Box 41"/>
          <p:cNvSpPr/>
          <p:nvPr/>
        </p:nvSpPr>
        <p:spPr>
          <a:xfrm>
            <a:off x="5506920" y="51991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ия ожидаемой стоим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3" name="Line 42"/>
          <p:cNvSpPr/>
          <p:nvPr/>
        </p:nvSpPr>
        <p:spPr>
          <a:xfrm flipH="1">
            <a:off x="4932000" y="5661000"/>
            <a:ext cx="647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Line 43"/>
          <p:cNvSpPr/>
          <p:nvPr/>
        </p:nvSpPr>
        <p:spPr>
          <a:xfrm>
            <a:off x="971640" y="1700280"/>
            <a:ext cx="4968720" cy="460836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Text Box 44"/>
          <p:cNvSpPr/>
          <p:nvPr/>
        </p:nvSpPr>
        <p:spPr>
          <a:xfrm>
            <a:off x="5867280" y="5877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1042920" y="148428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059280" y="32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cc33"/>
                </a:solidFill>
                <a:latin typeface="Verdana"/>
              </a:rPr>
              <a:t>II. </a:t>
            </a:r>
            <a:r>
              <a:rPr b="0" lang="ru-RU" sz="39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ные состояния как обусловленные блага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Карты кривых безразлич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Бюджетная линия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Оптимальный выбор индивидов в пространстве обусловленных благ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Выбор потребителя в условиях неопределенности и рис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cc33"/>
                </a:solidFill>
                <a:latin typeface="Verdana"/>
              </a:rPr>
              <a:t>Выбор в условиях неопределенности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2"/>
          <p:cNvSpPr/>
          <p:nvPr/>
        </p:nvSpPr>
        <p:spPr>
          <a:xfrm flipV="1">
            <a:off x="611280" y="1915920"/>
            <a:ext cx="0" cy="43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Line 3"/>
          <p:cNvSpPr/>
          <p:nvPr/>
        </p:nvSpPr>
        <p:spPr>
          <a:xfrm>
            <a:off x="611280" y="630864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Line 4"/>
          <p:cNvSpPr/>
          <p:nvPr/>
        </p:nvSpPr>
        <p:spPr>
          <a:xfrm flipV="1">
            <a:off x="3419640" y="1988640"/>
            <a:ext cx="0" cy="431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Line 5"/>
          <p:cNvSpPr/>
          <p:nvPr/>
        </p:nvSpPr>
        <p:spPr>
          <a:xfrm flipV="1">
            <a:off x="6300720" y="2060640"/>
            <a:ext cx="0" cy="424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419640" y="6308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6300720" y="6308640"/>
            <a:ext cx="27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971640" y="3357720"/>
            <a:ext cx="172872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Arc 9"/>
          <p:cNvSpPr/>
          <p:nvPr/>
        </p:nvSpPr>
        <p:spPr>
          <a:xfrm flipV="1" rot="16993200">
            <a:off x="6666480" y="4586400"/>
            <a:ext cx="1368360" cy="1499760"/>
          </a:xfrm>
          <a:custGeom>
            <a:avLst/>
            <a:gdLst>
              <a:gd name="textAreaLeft" fmla="*/ 0 w 1368360"/>
              <a:gd name="textAreaRight" fmla="*/ 1368720 w 1368360"/>
              <a:gd name="textAreaTop" fmla="*/ 360 h 1499760"/>
              <a:gd name="textAreaBottom" fmla="*/ 1500480 h 1499760"/>
            </a:gdLst>
            <a:ahLst/>
            <a:rect l="textAreaLeft" t="textAreaTop" r="textAreaRight" b="textAreaBottom"/>
            <a:pathLst>
              <a:path fill="none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</a:path>
              <a:path stroke="0" w="21600" h="2368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645"/>
                  <a:pt x="21526" y="22671"/>
                  <a:pt x="21380" y="2368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0" name="Arc 10"/>
          <p:cNvSpPr/>
          <p:nvPr/>
        </p:nvSpPr>
        <p:spPr>
          <a:xfrm flipV="1" rot="5911200">
            <a:off x="3293640" y="2288160"/>
            <a:ext cx="3665520" cy="1830240"/>
          </a:xfrm>
          <a:custGeom>
            <a:avLst/>
            <a:gdLst>
              <a:gd name="textAreaLeft" fmla="*/ 0 w 3665520"/>
              <a:gd name="textAreaRight" fmla="*/ 3665880 w 366552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</a:path>
              <a:path stroke="0" w="21600" h="21309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0848"/>
                  <a:pt x="21596" y="21078"/>
                  <a:pt x="21588" y="21308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Arc 11"/>
          <p:cNvSpPr/>
          <p:nvPr/>
        </p:nvSpPr>
        <p:spPr>
          <a:xfrm flipV="1" rot="16392000">
            <a:off x="6793920" y="4110120"/>
            <a:ext cx="1517760" cy="1866600"/>
          </a:xfrm>
          <a:custGeom>
            <a:avLst/>
            <a:gdLst>
              <a:gd name="textAreaLeft" fmla="*/ 0 w 1517760"/>
              <a:gd name="textAreaRight" fmla="*/ 1518120 w 1517760"/>
              <a:gd name="textAreaTop" fmla="*/ -360 h 1866600"/>
              <a:gd name="textAreaBottom" fmla="*/ 1866600 h 1866600"/>
            </a:gdLst>
            <a:ahLst/>
            <a:rect l="textAreaLeft" t="textAreaTop" r="textAreaRight" b="textAreaBottom"/>
            <a:pathLst>
              <a:path fill="none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</a:path>
              <a:path stroke="0" w="23950" h="24745">
                <a:moveTo>
                  <a:pt x="0" y="128"/>
                </a:moveTo>
                <a:cubicBezTo>
                  <a:pt x="780" y="42"/>
                  <a:pt x="1564" y="-1"/>
                  <a:pt x="2350" y="0"/>
                </a:cubicBezTo>
                <a:cubicBezTo>
                  <a:pt x="14279" y="0"/>
                  <a:pt x="23950" y="9670"/>
                  <a:pt x="23950" y="21600"/>
                </a:cubicBezTo>
                <a:cubicBezTo>
                  <a:pt x="23950" y="22652"/>
                  <a:pt x="23873" y="23703"/>
                  <a:pt x="23719" y="24744"/>
                </a:cubicBezTo>
                <a:lnTo>
                  <a:pt x="2350" y="21600"/>
                </a:lnTo>
                <a:lnTo>
                  <a:pt x="0" y="128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0676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9 Оптимальный выбор индивидов с разным отношением к рис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-36360" y="16858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Text Box 15"/>
          <p:cNvSpPr/>
          <p:nvPr/>
        </p:nvSpPr>
        <p:spPr>
          <a:xfrm>
            <a:off x="2771640" y="177336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5578560" y="177336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531280" y="6237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5437080" y="6308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2629080" y="62946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629080" y="54928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30360" y="5479920"/>
                <a:ext cx="5205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2" name="Text Box 28"/>
          <p:cNvSpPr/>
          <p:nvPr/>
        </p:nvSpPr>
        <p:spPr>
          <a:xfrm>
            <a:off x="5726160" y="5157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Text Box 29"/>
          <p:cNvSpPr/>
          <p:nvPr/>
        </p:nvSpPr>
        <p:spPr>
          <a:xfrm>
            <a:off x="5724360" y="4797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485928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Arc 31"/>
          <p:cNvSpPr/>
          <p:nvPr/>
        </p:nvSpPr>
        <p:spPr>
          <a:xfrm flipV="1" rot="16392000">
            <a:off x="6541560" y="3887640"/>
            <a:ext cx="2222640" cy="2429280"/>
          </a:xfrm>
          <a:custGeom>
            <a:avLst/>
            <a:gdLst>
              <a:gd name="textAreaLeft" fmla="*/ 0 w 2222640"/>
              <a:gd name="textAreaRight" fmla="*/ 2223000 w 2222640"/>
              <a:gd name="textAreaTop" fmla="*/ 0 h 2429280"/>
              <a:gd name="textAreaBottom" fmla="*/ 2429280 h 2429280"/>
            </a:gdLst>
            <a:ahLst/>
            <a:rect l="textAreaLeft" t="textAreaTop" r="textAreaRight" b="textAreaBottom"/>
            <a:pathLst>
              <a:path fill="none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</a:path>
              <a:path stroke="0" w="21561" h="21600">
                <a:moveTo>
                  <a:pt x="0" y="0"/>
                </a:moveTo>
                <a:cubicBezTo>
                  <a:pt x="15" y="0"/>
                  <a:pt x="30" y="-1"/>
                  <a:pt x="46" y="0"/>
                </a:cubicBezTo>
                <a:cubicBezTo>
                  <a:pt x="11233" y="0"/>
                  <a:pt x="20570" y="8542"/>
                  <a:pt x="21561" y="19686"/>
                </a:cubicBezTo>
                <a:lnTo>
                  <a:pt x="46" y="21600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Text Box 32"/>
          <p:cNvSpPr/>
          <p:nvPr/>
        </p:nvSpPr>
        <p:spPr>
          <a:xfrm>
            <a:off x="6372360" y="4292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Text Box 33"/>
          <p:cNvSpPr/>
          <p:nvPr/>
        </p:nvSpPr>
        <p:spPr>
          <a:xfrm>
            <a:off x="6300720" y="4005360"/>
            <a:ext cx="5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Text Box 34"/>
          <p:cNvSpPr/>
          <p:nvPr/>
        </p:nvSpPr>
        <p:spPr>
          <a:xfrm>
            <a:off x="6302520" y="3645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Arc 35"/>
          <p:cNvSpPr/>
          <p:nvPr/>
        </p:nvSpPr>
        <p:spPr>
          <a:xfrm rot="2215800">
            <a:off x="10800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Line 36"/>
          <p:cNvSpPr/>
          <p:nvPr/>
        </p:nvSpPr>
        <p:spPr>
          <a:xfrm flipV="1">
            <a:off x="611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Line 37"/>
          <p:cNvSpPr/>
          <p:nvPr/>
        </p:nvSpPr>
        <p:spPr>
          <a:xfrm flipV="1">
            <a:off x="341964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Arc 38"/>
          <p:cNvSpPr/>
          <p:nvPr/>
        </p:nvSpPr>
        <p:spPr>
          <a:xfrm rot="2215800">
            <a:off x="2903400" y="5535720"/>
            <a:ext cx="1381320" cy="1495440"/>
          </a:xfrm>
          <a:custGeom>
            <a:avLst/>
            <a:gdLst>
              <a:gd name="textAreaLeft" fmla="*/ 0 w 1381320"/>
              <a:gd name="textAreaRight" fmla="*/ 1381320 w 138132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39"/>
              <p:cNvSpPr txBox="1"/>
              <p:nvPr/>
            </p:nvSpPr>
            <p:spPr>
              <a:xfrm>
                <a:off x="441180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Line 40"/>
          <p:cNvSpPr/>
          <p:nvPr/>
        </p:nvSpPr>
        <p:spPr>
          <a:xfrm>
            <a:off x="3419640" y="3068640"/>
            <a:ext cx="2304720" cy="2519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Arc 41"/>
          <p:cNvSpPr/>
          <p:nvPr/>
        </p:nvSpPr>
        <p:spPr>
          <a:xfrm flipV="1" rot="5911200">
            <a:off x="3254400" y="2571480"/>
            <a:ext cx="3665520" cy="1947960"/>
          </a:xfrm>
          <a:custGeom>
            <a:avLst/>
            <a:gdLst>
              <a:gd name="textAreaLeft" fmla="*/ 0 w 3665520"/>
              <a:gd name="textAreaRight" fmla="*/ 3665880 w 3665520"/>
              <a:gd name="textAreaTop" fmla="*/ -360 h 1947960"/>
              <a:gd name="textAreaBottom" fmla="*/ 1947960 h 1947960"/>
            </a:gdLst>
            <a:ahLst/>
            <a:rect l="textAreaLeft" t="textAreaTop" r="textAreaRight" b="textAreaBottom"/>
            <a:pathLst>
              <a:path fill="none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</a:path>
              <a:path stroke="0" w="21600" h="22681">
                <a:moveTo>
                  <a:pt x="6437" y="-1"/>
                </a:moveTo>
                <a:cubicBezTo>
                  <a:pt x="15457" y="2815"/>
                  <a:pt x="21600" y="11168"/>
                  <a:pt x="21600" y="20618"/>
                </a:cubicBezTo>
                <a:cubicBezTo>
                  <a:pt x="21600" y="21306"/>
                  <a:pt x="21567" y="21995"/>
                  <a:pt x="21501" y="22681"/>
                </a:cubicBezTo>
                <a:lnTo>
                  <a:pt x="0" y="20618"/>
                </a:lnTo>
                <a:lnTo>
                  <a:pt x="6437" y="-1"/>
                </a:lnTo>
                <a:close/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292720" y="5419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Line 43"/>
          <p:cNvSpPr/>
          <p:nvPr/>
        </p:nvSpPr>
        <p:spPr>
          <a:xfrm flipV="1">
            <a:off x="6299280" y="4292640"/>
            <a:ext cx="2160360" cy="2016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Arc 44"/>
          <p:cNvSpPr/>
          <p:nvPr/>
        </p:nvSpPr>
        <p:spPr>
          <a:xfrm rot="2215800">
            <a:off x="5721480" y="5570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45"/>
              <p:cNvSpPr txBox="1"/>
              <p:nvPr/>
            </p:nvSpPr>
            <p:spPr>
              <a:xfrm>
                <a:off x="7147080" y="5734080"/>
                <a:ext cx="520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0" name="Line 46"/>
          <p:cNvSpPr/>
          <p:nvPr/>
        </p:nvSpPr>
        <p:spPr>
          <a:xfrm>
            <a:off x="6299280" y="3141720"/>
            <a:ext cx="2520720" cy="3166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Text Box 47"/>
          <p:cNvSpPr/>
          <p:nvPr/>
        </p:nvSpPr>
        <p:spPr>
          <a:xfrm>
            <a:off x="8101080" y="5734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Text Box 48"/>
          <p:cNvSpPr/>
          <p:nvPr/>
        </p:nvSpPr>
        <p:spPr>
          <a:xfrm>
            <a:off x="7453440" y="4987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Text Box 49"/>
          <p:cNvSpPr/>
          <p:nvPr/>
        </p:nvSpPr>
        <p:spPr>
          <a:xfrm>
            <a:off x="8750160" y="5924520"/>
            <a:ext cx="3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Line 48"/>
          <p:cNvSpPr/>
          <p:nvPr/>
        </p:nvSpPr>
        <p:spPr>
          <a:xfrm flipH="1">
            <a:off x="971280" y="4941720"/>
            <a:ext cx="331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437840" y="112536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1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0" i="1" lang="ru-RU" sz="2100" spc="-1" strike="noStrike">
                <a:solidFill>
                  <a:srgbClr val="006699"/>
                </a:solidFill>
                <a:latin typeface="Verdana"/>
              </a:rPr>
              <a:t> Выбор не склонного к риску индивида в условиях справедливой и несправедливой игры </a:t>
            </a:r>
            <a:endParaRPr b="0" lang="en-US" sz="2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3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4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9" name="Line 22"/>
          <p:cNvSpPr/>
          <p:nvPr/>
        </p:nvSpPr>
        <p:spPr>
          <a:xfrm>
            <a:off x="4211640" y="4941720"/>
            <a:ext cx="0" cy="1366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0" name="Text Box 24"/>
          <p:cNvSpPr/>
          <p:nvPr/>
        </p:nvSpPr>
        <p:spPr>
          <a:xfrm>
            <a:off x="4140360" y="4508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3780000" y="629460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2627280" y="629460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179280" y="3933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179280" y="46530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971640" y="3645000"/>
            <a:ext cx="6696000" cy="266364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0"/>
          <p:cNvSpPr/>
          <p:nvPr/>
        </p:nvSpPr>
        <p:spPr>
          <a:xfrm>
            <a:off x="7236000" y="5734080"/>
            <a:ext cx="64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41"/>
          <p:cNvSpPr/>
          <p:nvPr/>
        </p:nvSpPr>
        <p:spPr>
          <a:xfrm>
            <a:off x="900000" y="3213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2.4 Оптимальный выбор индивидов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0" name="Line 46"/>
          <p:cNvSpPr/>
          <p:nvPr/>
        </p:nvSpPr>
        <p:spPr>
          <a:xfrm flipH="1">
            <a:off x="971280" y="420228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Arc 47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2" name="Text Box 4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94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решени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в которой индивид сталкивается с необходимостью выбор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Узел случа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точка дерева решений, движение из которой по исходящим ветвям обусловлено случайным процесс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онечный узел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точка дерева решений, представляющая конечный исход, связываемый с данной ветвью дерева реш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1979640" y="198900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3" name="Line 6"/>
          <p:cNvSpPr/>
          <p:nvPr/>
        </p:nvSpPr>
        <p:spPr>
          <a:xfrm flipV="1">
            <a:off x="1403280" y="2276280"/>
            <a:ext cx="64764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Line 7"/>
          <p:cNvSpPr/>
          <p:nvPr/>
        </p:nvSpPr>
        <p:spPr>
          <a:xfrm flipV="1">
            <a:off x="2195640" y="1052280"/>
            <a:ext cx="50472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2268360" y="220500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Oval 9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Line 10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8" name="Line 11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9" name="Line 12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и максимизация полезност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2556000" y="20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2411280" y="1341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2700360" y="836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3060720" y="24670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0" name="Text Box 24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6012000" y="836640"/>
            <a:ext cx="288720" cy="2232000"/>
          </a:xfrm>
          <a:custGeom>
            <a:avLst/>
            <a:gdLst>
              <a:gd name="textAreaLeft" fmla="*/ 0 w 288720"/>
              <a:gd name="textAreaRight" fmla="*/ 104040 w 288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3" name="Text Box 27"/>
          <p:cNvSpPr/>
          <p:nvPr/>
        </p:nvSpPr>
        <p:spPr>
          <a:xfrm>
            <a:off x="6300720" y="17002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f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4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6084720" y="378936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Text Box 29"/>
          <p:cNvSpPr/>
          <p:nvPr/>
        </p:nvSpPr>
        <p:spPr>
          <a:xfrm>
            <a:off x="6372360" y="462744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gm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239,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1 Построение деревьев решений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1114560" y="3429000"/>
            <a:ext cx="43164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1763640" y="2349360"/>
            <a:ext cx="287280" cy="2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Line 5"/>
          <p:cNvSpPr/>
          <p:nvPr/>
        </p:nvSpPr>
        <p:spPr>
          <a:xfrm flipV="1">
            <a:off x="1403280" y="2637000"/>
            <a:ext cx="43200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Line 6"/>
          <p:cNvSpPr/>
          <p:nvPr/>
        </p:nvSpPr>
        <p:spPr>
          <a:xfrm flipV="1">
            <a:off x="1979640" y="1699920"/>
            <a:ext cx="36036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Line 7"/>
          <p:cNvSpPr/>
          <p:nvPr/>
        </p:nvSpPr>
        <p:spPr>
          <a:xfrm>
            <a:off x="2050920" y="2565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Oval 8"/>
          <p:cNvSpPr/>
          <p:nvPr/>
        </p:nvSpPr>
        <p:spPr>
          <a:xfrm>
            <a:off x="2195640" y="4724280"/>
            <a:ext cx="287280" cy="287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1332000" y="3860640"/>
            <a:ext cx="86364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2449440" y="4984920"/>
            <a:ext cx="79236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Line 11"/>
          <p:cNvSpPr/>
          <p:nvPr/>
        </p:nvSpPr>
        <p:spPr>
          <a:xfrm flipV="1">
            <a:off x="2411280" y="4005000"/>
            <a:ext cx="57636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042920" y="2421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f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1187280" y="41497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560" y="613872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2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ерево решений с последовательным принятием решений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Text Box 15"/>
          <p:cNvSpPr/>
          <p:nvPr/>
        </p:nvSpPr>
        <p:spPr>
          <a:xfrm>
            <a:off x="2411280" y="2421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844720" y="5132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Text Box 17"/>
          <p:cNvSpPr/>
          <p:nvPr/>
        </p:nvSpPr>
        <p:spPr>
          <a:xfrm>
            <a:off x="2844720" y="44370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Text Box 18"/>
          <p:cNvSpPr/>
          <p:nvPr/>
        </p:nvSpPr>
        <p:spPr>
          <a:xfrm>
            <a:off x="2124000" y="18194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Verdana"/>
              </a:rPr>
              <a:t>0,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2843280" y="523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0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82,8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2843280" y="2827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1751040" y="3382920"/>
                <a:ext cx="1308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W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97" name="Text Box 22"/>
          <p:cNvSpPr/>
          <p:nvPr/>
        </p:nvSpPr>
        <p:spPr>
          <a:xfrm>
            <a:off x="2987640" y="37638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346,4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3203640" y="5589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2124000" y="1268280"/>
            <a:ext cx="43200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Line 29"/>
          <p:cNvSpPr/>
          <p:nvPr/>
        </p:nvSpPr>
        <p:spPr>
          <a:xfrm flipV="1">
            <a:off x="2557440" y="764640"/>
            <a:ext cx="358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2556000" y="1557360"/>
            <a:ext cx="8636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2" name="Text Box 31"/>
          <p:cNvSpPr/>
          <p:nvPr/>
        </p:nvSpPr>
        <p:spPr>
          <a:xfrm>
            <a:off x="3348000" y="177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000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=212,1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5"/>
          <p:cNvSpPr/>
          <p:nvPr/>
        </p:nvSpPr>
        <p:spPr>
          <a:xfrm>
            <a:off x="0" y="103320"/>
            <a:ext cx="91440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ff"/>
                </a:solidFill>
                <a:latin typeface="Verdana"/>
              </a:rPr>
              <a:t>III. </a:t>
            </a:r>
            <a:r>
              <a:rPr b="0" lang="ru-RU" sz="3500" spc="-1" strike="noStrike">
                <a:solidFill>
                  <a:srgbClr val="ff00ff"/>
                </a:solidFill>
                <a:latin typeface="Verdana"/>
              </a:rPr>
              <a:t>Построение деревьев решений и выбор в условиях неопределенности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Построение деревьев решений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Ценность информации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Ценность полной информац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– разность между ожидаемыми ценностями выбора при наличии и отсутствии полной информа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7640" y="2278080"/>
            <a:ext cx="8785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аблица 2.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 Ожидаемая прибыл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08000" y="3116160"/>
          <a:ext cx="8924760" cy="2835360"/>
        </p:xfrm>
        <a:graphic>
          <a:graphicData uri="http://schemas.openxmlformats.org/drawingml/2006/table">
            <a:tbl>
              <a:tblPr/>
              <a:tblGrid>
                <a:gridCol w="1942920"/>
                <a:gridCol w="2327400"/>
                <a:gridCol w="2327400"/>
                <a:gridCol w="23270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ос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жидаемая прибыл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5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уплено 100 ед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750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012000" y="1484280"/>
                <a:ext cx="163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AutoShape 4"/>
          <p:cNvSpPr/>
          <p:nvPr/>
        </p:nvSpPr>
        <p:spPr>
          <a:xfrm>
            <a:off x="539640" y="981000"/>
            <a:ext cx="5184720" cy="151308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не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4427640" y="3205080"/>
                <a:ext cx="4518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3.2 Ценность информации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6" name="AutoShape 13"/>
          <p:cNvSpPr/>
          <p:nvPr/>
        </p:nvSpPr>
        <p:spPr>
          <a:xfrm>
            <a:off x="395280" y="2708280"/>
            <a:ext cx="3887640" cy="21607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жидаемая прибыль при полной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7" name="AutoShape 14"/>
          <p:cNvSpPr/>
          <p:nvPr/>
        </p:nvSpPr>
        <p:spPr>
          <a:xfrm>
            <a:off x="611280" y="5011560"/>
            <a:ext cx="3673440" cy="10814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нность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5"/>
              <p:cNvSpPr txBox="1"/>
              <p:nvPr/>
            </p:nvSpPr>
            <p:spPr>
              <a:xfrm>
                <a:off x="4500720" y="5275440"/>
                <a:ext cx="4263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Уклонение от уплаты налог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огатство при неблагоприятном исходе: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W=W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жидаемая полезность при совместном несении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814400" y="3360600"/>
                <a:ext cx="5521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6"/>
              <p:cNvSpPr txBox="1"/>
              <p:nvPr/>
            </p:nvSpPr>
            <p:spPr>
              <a:xfrm>
                <a:off x="453960" y="4967280"/>
                <a:ext cx="833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словие эффективности совместного несения рисков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1371600" y="4508640"/>
                <a:ext cx="6405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932040" y="2133720"/>
                <a:ext cx="754668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3 Оптимальное объединение рисков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rc 11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Object 13"/>
              <p:cNvSpPr txBox="1"/>
              <p:nvPr/>
            </p:nvSpPr>
            <p:spPr>
              <a:xfrm>
                <a:off x="1763640" y="5589720"/>
                <a:ext cx="520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3" name="Text Box 15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Text Box 16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5" name="Line 19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Line 21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8" name="Line 22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Text Box 24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108000" y="3716280"/>
            <a:ext cx="10429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1 Совместное несение рисков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2232000" y="629460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L/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Text Box 47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Arc 48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Arc 49"/>
          <p:cNvSpPr/>
          <p:nvPr/>
        </p:nvSpPr>
        <p:spPr>
          <a:xfrm flipV="1" rot="7012200">
            <a:off x="1906920" y="475560"/>
            <a:ext cx="4969080" cy="4104000"/>
          </a:xfrm>
          <a:custGeom>
            <a:avLst/>
            <a:gdLst>
              <a:gd name="textAreaLeft" fmla="*/ 0 w 4969080"/>
              <a:gd name="textAreaRight" fmla="*/ 4969440 w 4969080"/>
              <a:gd name="textAreaTop" fmla="*/ 360 h 4104000"/>
              <a:gd name="textAreaBottom" fmla="*/ 4104720 h 410400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50"/>
          <p:cNvSpPr/>
          <p:nvPr/>
        </p:nvSpPr>
        <p:spPr>
          <a:xfrm>
            <a:off x="5148360" y="522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51"/>
          <p:cNvSpPr/>
          <p:nvPr/>
        </p:nvSpPr>
        <p:spPr>
          <a:xfrm>
            <a:off x="5219640" y="494172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9900"/>
                </a:solidFill>
                <a:latin typeface="Verdana"/>
              </a:rPr>
              <a:t>IV. </a:t>
            </a:r>
            <a:r>
              <a:rPr b="0" lang="ru-RU" sz="3500" spc="-1" strike="noStrike">
                <a:solidFill>
                  <a:srgbClr val="ff9900"/>
                </a:solidFill>
                <a:latin typeface="Verdana"/>
              </a:rPr>
              <a:t>Прикладные аспекты модели выбора в пространстве обусловленных бла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99"/>
                </a:solidFill>
                <a:latin typeface="Verdana"/>
              </a:rPr>
              <a:t>Совместное несение рисков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8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ff"/>
                </a:solidFill>
                <a:latin typeface="Verdana"/>
              </a:rPr>
              <a:t>Рынок страховых услуг</a:t>
            </a:r>
            <a:endParaRPr b="0" lang="en-US" sz="3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692280"/>
            <a:ext cx="914400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Эквивалент уверенност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искового проекта – величина гарантированного богатства, при которой индивиду безразлично, покупать страховку или н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аксимальная сумма, которую индивид готов заплатить за полное страховое покрытие в размере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2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8"/>
              <p:cNvSpPr txBox="1"/>
              <p:nvPr/>
            </p:nvSpPr>
            <p:spPr>
              <a:xfrm>
                <a:off x="995400" y="2928960"/>
                <a:ext cx="7161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9"/>
              <p:cNvSpPr txBox="1"/>
              <p:nvPr/>
            </p:nvSpPr>
            <p:spPr>
              <a:xfrm>
                <a:off x="3138480" y="5376960"/>
                <a:ext cx="2825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7885080" y="6078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25092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43784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6699"/>
                </a:solidFill>
                <a:latin typeface="Verdana"/>
              </a:rPr>
              <a:t>Рисунок 2.14 Спрос индивида на страхование 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Line 5"/>
          <p:cNvSpPr/>
          <p:nvPr/>
        </p:nvSpPr>
        <p:spPr>
          <a:xfrm>
            <a:off x="971640" y="1484280"/>
            <a:ext cx="0" cy="482436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Line 6"/>
          <p:cNvSpPr/>
          <p:nvPr/>
        </p:nvSpPr>
        <p:spPr>
          <a:xfrm>
            <a:off x="971640" y="6308640"/>
            <a:ext cx="698508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5221440" y="58514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Line 8"/>
          <p:cNvSpPr/>
          <p:nvPr/>
        </p:nvSpPr>
        <p:spPr>
          <a:xfrm flipV="1">
            <a:off x="971640" y="1988640"/>
            <a:ext cx="4321080" cy="43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971640" y="2205000"/>
            <a:ext cx="4392360" cy="410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7" name="Arc 10"/>
          <p:cNvSpPr/>
          <p:nvPr/>
        </p:nvSpPr>
        <p:spPr>
          <a:xfrm rot="2215800">
            <a:off x="395280" y="5516280"/>
            <a:ext cx="1380960" cy="1495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495440"/>
              <a:gd name="textAreaBottom" fmla="*/ 1495800 h 1495440"/>
            </a:gdLst>
            <a:ahLst/>
            <a:rect l="textAreaLeft" t="textAreaTop" r="textAreaRight" b="textAreaBottom"/>
            <a:pathLst>
              <a:path fill="none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</a:path>
              <a:path stroke="0" w="12945" h="20400">
                <a:moveTo>
                  <a:pt x="7099" y="0"/>
                </a:moveTo>
                <a:cubicBezTo>
                  <a:pt x="9196" y="729"/>
                  <a:pt x="11167" y="1778"/>
                  <a:pt x="12944" y="3108"/>
                </a:cubicBezTo>
                <a:lnTo>
                  <a:pt x="0" y="20400"/>
                </a:lnTo>
                <a:lnTo>
                  <a:pt x="709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971640" y="189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291780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 flipH="1">
            <a:off x="971280" y="41925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3097080" y="4221000"/>
            <a:ext cx="0" cy="20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2" name="Line 16"/>
          <p:cNvSpPr/>
          <p:nvPr/>
        </p:nvSpPr>
        <p:spPr>
          <a:xfrm flipH="1">
            <a:off x="971640" y="5229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3" name="Line 17"/>
          <p:cNvSpPr/>
          <p:nvPr/>
        </p:nvSpPr>
        <p:spPr>
          <a:xfrm>
            <a:off x="4211640" y="5229360"/>
            <a:ext cx="0" cy="1079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3852720" y="5157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5" name="Text Box 19"/>
          <p:cNvSpPr/>
          <p:nvPr/>
        </p:nvSpPr>
        <p:spPr>
          <a:xfrm>
            <a:off x="612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6" name="Text Box 20"/>
          <p:cNvSpPr/>
          <p:nvPr/>
        </p:nvSpPr>
        <p:spPr>
          <a:xfrm>
            <a:off x="108000" y="3716280"/>
            <a:ext cx="1042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7" name="Text Box 21"/>
          <p:cNvSpPr/>
          <p:nvPr/>
        </p:nvSpPr>
        <p:spPr>
          <a:xfrm>
            <a:off x="-36360" y="4925880"/>
            <a:ext cx="122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.4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Рынок страховых услуг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1979640" y="62946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)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3924360" y="6237360"/>
            <a:ext cx="7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Arc 26"/>
          <p:cNvSpPr/>
          <p:nvPr/>
        </p:nvSpPr>
        <p:spPr>
          <a:xfrm flipV="1" rot="7012200">
            <a:off x="1978560" y="188640"/>
            <a:ext cx="4969080" cy="4104360"/>
          </a:xfrm>
          <a:custGeom>
            <a:avLst/>
            <a:gdLst>
              <a:gd name="textAreaLeft" fmla="*/ 0 w 4969080"/>
              <a:gd name="textAreaRight" fmla="*/ 4969440 w 4969080"/>
              <a:gd name="textAreaTop" fmla="*/ -360 h 4104360"/>
              <a:gd name="textAreaBottom" fmla="*/ 4104360 h 410436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Arc 27"/>
          <p:cNvSpPr/>
          <p:nvPr/>
        </p:nvSpPr>
        <p:spPr>
          <a:xfrm flipV="1" rot="6333000">
            <a:off x="1252440" y="-36360"/>
            <a:ext cx="5472000" cy="4751640"/>
          </a:xfrm>
          <a:custGeom>
            <a:avLst/>
            <a:gdLst>
              <a:gd name="textAreaLeft" fmla="*/ 0 w 5472000"/>
              <a:gd name="textAreaRight" fmla="*/ 5472360 w 5472000"/>
              <a:gd name="textAreaTop" fmla="*/ 0 h 4751640"/>
              <a:gd name="textAreaBottom" fmla="*/ 4751640 h 4751640"/>
            </a:gdLst>
            <a:ahLst/>
            <a:rect l="textAreaLeft" t="textAreaTop" r="textAreaRight" b="textAreaBottom"/>
            <a:pathLst>
              <a:path fill="none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</a:path>
              <a:path stroke="0" w="21600" h="21067">
                <a:moveTo>
                  <a:pt x="16114" y="-1"/>
                </a:moveTo>
                <a:cubicBezTo>
                  <a:pt x="19647" y="3957"/>
                  <a:pt x="21600" y="9077"/>
                  <a:pt x="21600" y="14383"/>
                </a:cubicBezTo>
                <a:cubicBezTo>
                  <a:pt x="21600" y="16652"/>
                  <a:pt x="21242" y="18908"/>
                  <a:pt x="20539" y="21066"/>
                </a:cubicBezTo>
                <a:lnTo>
                  <a:pt x="0" y="14383"/>
                </a:lnTo>
                <a:lnTo>
                  <a:pt x="16114" y="-1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5581800" y="508464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4" name="Text Box 29"/>
          <p:cNvSpPr/>
          <p:nvPr/>
        </p:nvSpPr>
        <p:spPr>
          <a:xfrm>
            <a:off x="5219640" y="486900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Line 30"/>
          <p:cNvSpPr/>
          <p:nvPr/>
        </p:nvSpPr>
        <p:spPr>
          <a:xfrm>
            <a:off x="2700360" y="458136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2266920" y="57895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Если возможно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n 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исходов какого-либо события, сумма вероятностей реализации этих исходов равна 1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Ожидаемая стоимость (математическое ожидание)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16440" y="2832120"/>
                <a:ext cx="12826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882720" y="5040360"/>
                <a:ext cx="73911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Дисперсия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Стандартное отклонение: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87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Чему равны ожидаемая стоимость, дисперсия и стандартное отклонение, если существует только два возможных исхода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100, X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200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; и их вероятности, соответственно: 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</a:t>
            </a: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4 и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 p</a:t>
            </a:r>
            <a:r>
              <a:rPr b="0" lang="en-US" sz="30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6699"/>
                </a:solidFill>
                <a:latin typeface="Verdana"/>
              </a:rPr>
              <a:t>=0,6?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2930400" y="1557360"/>
                <a:ext cx="32259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3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635280" y="317988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442764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2400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1280" y="1054080"/>
            <a:ext cx="77407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исунок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Ожидаемая стоимость и дисперс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2400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2400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.1.1 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539640" y="2744640"/>
            <a:ext cx="3745080" cy="3421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3421080"/>
              <a:gd name="textAreaBottom" fmla="*/ 3421440 h 3421080"/>
            </a:gdLst>
            <a:ahLst/>
            <a:rect l="textAreaLeft" t="textAreaTop" r="textAreaRight" b="textAreaBottom"/>
            <a:pathLst>
              <a:path w="2268" h="2155">
                <a:moveTo>
                  <a:pt x="0" y="2155"/>
                </a:moveTo>
                <a:cubicBezTo>
                  <a:pt x="366" y="1924"/>
                  <a:pt x="733" y="1693"/>
                  <a:pt x="952" y="1338"/>
                </a:cubicBezTo>
                <a:cubicBezTo>
                  <a:pt x="1171" y="983"/>
                  <a:pt x="1179" y="46"/>
                  <a:pt x="1315" y="23"/>
                </a:cubicBezTo>
                <a:cubicBezTo>
                  <a:pt x="1451" y="0"/>
                  <a:pt x="1610" y="877"/>
                  <a:pt x="1769" y="1202"/>
                </a:cubicBezTo>
                <a:cubicBezTo>
                  <a:pt x="1928" y="1527"/>
                  <a:pt x="2185" y="1845"/>
                  <a:pt x="2268" y="1973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29"/>
          <p:cNvSpPr/>
          <p:nvPr/>
        </p:nvSpPr>
        <p:spPr>
          <a:xfrm flipV="1">
            <a:off x="169236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476360" y="623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4859280" y="1628640"/>
            <a:ext cx="0" cy="468000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2"/>
          <p:cNvSpPr/>
          <p:nvPr/>
        </p:nvSpPr>
        <p:spPr>
          <a:xfrm>
            <a:off x="4861080" y="6308640"/>
            <a:ext cx="41036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747280" y="62946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4861080" y="126828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Line 35"/>
          <p:cNvSpPr/>
          <p:nvPr/>
        </p:nvSpPr>
        <p:spPr>
          <a:xfrm flipV="1">
            <a:off x="7667640" y="1915920"/>
            <a:ext cx="0" cy="4392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7451640" y="62946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Freeform 38"/>
          <p:cNvSpPr/>
          <p:nvPr/>
        </p:nvSpPr>
        <p:spPr>
          <a:xfrm>
            <a:off x="4932360" y="2324160"/>
            <a:ext cx="3743280" cy="3768840"/>
          </a:xfrm>
          <a:custGeom>
            <a:avLst/>
            <a:gdLst>
              <a:gd name="textAreaLeft" fmla="*/ 0 w 3743280"/>
              <a:gd name="textAreaRight" fmla="*/ 3743640 w 3743280"/>
              <a:gd name="textAreaTop" fmla="*/ 0 h 3768840"/>
              <a:gd name="textAreaBottom" fmla="*/ 3769200 h 3768840"/>
            </a:gdLst>
            <a:ahLst/>
            <a:rect l="textAreaLeft" t="textAreaTop" r="textAreaRight" b="textAreaBottom"/>
            <a:pathLst>
              <a:path w="2358" h="2374">
                <a:moveTo>
                  <a:pt x="0" y="2374"/>
                </a:moveTo>
                <a:cubicBezTo>
                  <a:pt x="174" y="2283"/>
                  <a:pt x="348" y="2192"/>
                  <a:pt x="499" y="1875"/>
                </a:cubicBezTo>
                <a:cubicBezTo>
                  <a:pt x="650" y="1558"/>
                  <a:pt x="763" y="741"/>
                  <a:pt x="907" y="469"/>
                </a:cubicBezTo>
                <a:cubicBezTo>
                  <a:pt x="1051" y="197"/>
                  <a:pt x="1187" y="0"/>
                  <a:pt x="1361" y="242"/>
                </a:cubicBezTo>
                <a:cubicBezTo>
                  <a:pt x="1535" y="484"/>
                  <a:pt x="1784" y="1566"/>
                  <a:pt x="1950" y="1921"/>
                </a:cubicBezTo>
                <a:cubicBezTo>
                  <a:pt x="2116" y="2276"/>
                  <a:pt x="2237" y="2325"/>
                  <a:pt x="2358" y="2374"/>
                </a:cubicBezTo>
              </a:path>
            </a:pathLst>
          </a:custGeom>
          <a:noFill/>
          <a:ln w="5724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I. </a:t>
            </a:r>
            <a:r>
              <a:rPr b="0" lang="ru-RU" sz="3600" spc="-1" strike="noStrike">
                <a:solidFill>
                  <a:srgbClr val="0000ff"/>
                </a:solidFill>
                <a:latin typeface="Verdana"/>
              </a:rPr>
              <a:t>Вероятность, ожидаемая стоимость и гипотеза ожидаемой полез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Вероятность, ожидаемая стоимость и отклонения от нее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ff"/>
                </a:solidFill>
                <a:latin typeface="Verdana"/>
              </a:rPr>
              <a:t>Актуарно справедливые игры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Гипотеза ожидаемой полез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Функция полезности фон Неймана – Моргенштерна и типы отношения к риску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5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99"/>
                </a:solidFill>
                <a:latin typeface="Verdana"/>
              </a:rPr>
              <a:t>Премия за риск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.1.</a:t>
            </a:r>
            <a:r>
              <a:rPr b="0" lang="en-US" sz="3500" spc="-1" strike="noStrike">
                <a:solidFill>
                  <a:srgbClr val="006666"/>
                </a:solidFill>
                <a:latin typeface="Verdana"/>
              </a:rPr>
              <a:t>2</a:t>
            </a:r>
            <a:r>
              <a:rPr b="0" lang="ru-RU" sz="3500" spc="-1" strike="noStrike">
                <a:solidFill>
                  <a:srgbClr val="006666"/>
                </a:solidFill>
                <a:latin typeface="Verdana"/>
              </a:rPr>
              <a:t> Актуарно справедливые игры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3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99"/>
                </a:solidFill>
                <a:latin typeface="Verdana"/>
              </a:rPr>
              <a:t>Актуарно справедливые игры</a:t>
            </a:r>
            <a:r>
              <a:rPr b="0" lang="ru-RU" sz="3100" spc="-1" strike="noStrike">
                <a:solidFill>
                  <a:srgbClr val="006699"/>
                </a:solidFill>
                <a:latin typeface="Verdana"/>
              </a:rPr>
              <a:t>: игры с нулевой ожидаемой стоимостью или игры, за участие в которых игроки готовы заплатить их ожидаемую стоимость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1077840" y="3679920"/>
                <a:ext cx="6832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833400" y="4713120"/>
                <a:ext cx="72518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+</m:t>
                    </m:r>
                    <m:r>
                      <m:t xml:space="preserve">0,4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8:58:50Z</dcterms:created>
  <dc:creator>Grisha</dc:creator>
  <dc:description/>
  <dc:language>en-US</dc:language>
  <cp:lastModifiedBy>LEGION</cp:lastModifiedBy>
  <dcterms:modified xsi:type="dcterms:W3CDTF">2016-01-04T08:17:41Z</dcterms:modified>
  <cp:revision>22</cp:revision>
  <dc:subject/>
  <dc:title>Прикладная экономика</dc:title>
</cp:coreProperties>
</file>