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1B7F-A40C-4CFA-83D1-D2D4D7872E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446-D595-4CB1-A4AB-C0178A6E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74C-6EB1-4E5D-8097-FD3C5EAE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CA7-AC64-4986-A1A4-F15A4ED3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588-A320-4715-B198-088405CC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CE81-0299-4D91-B41F-77C54584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3F4F-23B7-40D0-A0BC-C124CA49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CBDC-5726-45B5-A4BA-CDD41C09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4FDE-20D2-47A5-BFCE-B8C0BA06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FF9D-4DF1-4251-9755-58327922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6598-30CA-43ED-B689-0EDD2F64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2947-E05D-4907-AFAF-5DF2C20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A44-3D3D-4729-AA78-F350401E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ED24-BE0C-4C31-9E73-41F36A1A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8E2D-5D81-439F-A417-DE776CEA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17A2-B777-42AE-9F7D-E844D1F8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CDF1-987C-4827-BA44-FAF76AA4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72F3-F234-452B-9C31-A5328700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E7C-EF8C-41DD-8CEB-6F7C0DF4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35D-6C86-46F7-828B-EE7487EA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ECF-58D8-4F51-BC04-CBA82A4E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ACB-7DFD-49A2-87FC-7C6EED40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9CE-CF4A-400D-8403-FFB9519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689-FB1B-44EB-9382-29EDB725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16A-7B0A-4DF8-BAC1-3EEED1D1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ECC2-0342-4F1D-B436-B5A5F58C87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CAA1-57F4-4709-B5C9-BF10377A9E3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596520"/>
            <a:ext cx="6956280" cy="18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икладная экономи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2636640"/>
            <a:ext cx="61470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икроэконом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анкт-Петербургский парадокс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: индивиды оценивают игру не по ее ожидаемой стоимости, а по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2268360" y="1268280"/>
                <a:ext cx="4664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3 Гипотеза ожидаемой полез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2233440" y="1916280"/>
                <a:ext cx="46213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1282680" y="2997360"/>
                <a:ext cx="65912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2781360" y="5856120"/>
                <a:ext cx="3593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1557360"/>
            <a:ext cx="9144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Риск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: понятие, характеризующее изменчивость исходов в ситуации неопределен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Не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, наоборот, выберут игру с бол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31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90972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не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9"/>
          <p:cNvSpPr/>
          <p:nvPr/>
        </p:nvSpPr>
        <p:spPr>
          <a:xfrm>
            <a:off x="1403280" y="299736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 flipV="1">
            <a:off x="2700360" y="2276280"/>
            <a:ext cx="2232000" cy="143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851280" y="2708280"/>
            <a:ext cx="0" cy="360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3448080" y="2997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3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Line 3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4932360" y="2276640"/>
            <a:ext cx="0" cy="40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Oval 4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3376440" y="2924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3780000" y="292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43"/>
          <p:cNvSpPr/>
          <p:nvPr/>
        </p:nvSpPr>
        <p:spPr>
          <a:xfrm flipH="1">
            <a:off x="1403280" y="2708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44"/>
          <p:cNvSpPr/>
          <p:nvPr/>
        </p:nvSpPr>
        <p:spPr>
          <a:xfrm>
            <a:off x="360360" y="23954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179280" y="282744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47"/>
          <p:cNvSpPr/>
          <p:nvPr/>
        </p:nvSpPr>
        <p:spPr>
          <a:xfrm>
            <a:off x="71280" y="350028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2"/>
              <p:cNvSpPr txBox="1"/>
              <p:nvPr/>
            </p:nvSpPr>
            <p:spPr>
              <a:xfrm>
                <a:off x="5361120" y="6272280"/>
                <a:ext cx="1371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3"/>
              <p:cNvSpPr txBox="1"/>
              <p:nvPr/>
            </p:nvSpPr>
            <p:spPr>
              <a:xfrm>
                <a:off x="4340160" y="5805360"/>
                <a:ext cx="1168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08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267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6"/>
              <p:cNvSpPr txBox="1"/>
              <p:nvPr/>
            </p:nvSpPr>
            <p:spPr>
              <a:xfrm>
                <a:off x="2179800" y="5805360"/>
                <a:ext cx="116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57"/>
              <p:cNvSpPr txBox="1"/>
              <p:nvPr/>
            </p:nvSpPr>
            <p:spPr>
              <a:xfrm>
                <a:off x="981000" y="6272280"/>
                <a:ext cx="135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1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2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ля несклонного к риску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1328760" y="1773360"/>
                <a:ext cx="6432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042920" y="3522600"/>
                <a:ext cx="7061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3"/>
              <p:cNvSpPr txBox="1"/>
              <p:nvPr/>
            </p:nvSpPr>
            <p:spPr>
              <a:xfrm>
                <a:off x="2073240" y="5415120"/>
                <a:ext cx="49482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Line 23"/>
          <p:cNvSpPr/>
          <p:nvPr/>
        </p:nvSpPr>
        <p:spPr>
          <a:xfrm flipH="1">
            <a:off x="1403280" y="49068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6372360" y="177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rc 8"/>
          <p:cNvSpPr/>
          <p:nvPr/>
        </p:nvSpPr>
        <p:spPr>
          <a:xfrm rot="5400000">
            <a:off x="1682280" y="684000"/>
            <a:ext cx="4465440" cy="505620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5056200"/>
              <a:gd name="textAreaBottom" fmla="*/ 5056200 h 5056200"/>
            </a:gdLst>
            <a:ahLst/>
            <a:rect l="textAreaLeft" t="textAreaTop" r="textAreaRight" b="textAreaBottom"/>
            <a:pathLst>
              <a:path fill="none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</a:path>
              <a:path stroke="0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  <a:lnTo>
                  <a:pt x="0" y="21054"/>
                </a:lnTo>
                <a:lnTo>
                  <a:pt x="4827" y="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1403280" y="42210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2771640" y="4220640"/>
            <a:ext cx="2160720" cy="10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38512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1692360" y="2924280"/>
            <a:ext cx="4319640" cy="25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15"/>
          <p:cNvSpPr/>
          <p:nvPr/>
        </p:nvSpPr>
        <p:spPr>
          <a:xfrm flipH="1">
            <a:off x="1403280" y="4724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1692360" y="5445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277164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493236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6012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Oval 20"/>
          <p:cNvSpPr/>
          <p:nvPr/>
        </p:nvSpPr>
        <p:spPr>
          <a:xfrm>
            <a:off x="3780000" y="4840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Oval 21"/>
          <p:cNvSpPr/>
          <p:nvPr/>
        </p:nvSpPr>
        <p:spPr>
          <a:xfrm>
            <a:off x="3780000" y="4653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Oval 22"/>
          <p:cNvSpPr/>
          <p:nvPr/>
        </p:nvSpPr>
        <p:spPr>
          <a:xfrm>
            <a:off x="3780000" y="4149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7"/>
              <p:cNvSpPr txBox="1"/>
              <p:nvPr/>
            </p:nvSpPr>
            <p:spPr>
              <a:xfrm>
                <a:off x="552132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8"/>
              <p:cNvSpPr txBox="1"/>
              <p:nvPr/>
            </p:nvSpPr>
            <p:spPr>
              <a:xfrm>
                <a:off x="449424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1"/>
              <p:cNvSpPr txBox="1"/>
              <p:nvPr/>
            </p:nvSpPr>
            <p:spPr>
              <a:xfrm>
                <a:off x="235116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2"/>
              <p:cNvSpPr txBox="1"/>
              <p:nvPr/>
            </p:nvSpPr>
            <p:spPr>
              <a:xfrm>
                <a:off x="119844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3"/>
              <p:cNvSpPr txBox="1"/>
              <p:nvPr/>
            </p:nvSpPr>
            <p:spPr>
              <a:xfrm>
                <a:off x="4502160" y="4759200"/>
                <a:ext cx="4533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4"/>
              <p:cNvSpPr txBox="1"/>
              <p:nvPr/>
            </p:nvSpPr>
            <p:spPr>
              <a:xfrm>
                <a:off x="495360" y="4843440"/>
                <a:ext cx="888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5"/>
              <p:cNvSpPr txBox="1"/>
              <p:nvPr/>
            </p:nvSpPr>
            <p:spPr>
              <a:xfrm>
                <a:off x="82440" y="3789360"/>
                <a:ext cx="1320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6"/>
              <p:cNvSpPr txBox="1"/>
              <p:nvPr/>
            </p:nvSpPr>
            <p:spPr>
              <a:xfrm>
                <a:off x="250920" y="4292640"/>
                <a:ext cx="115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4"/>
          <p:cNvSpPr/>
          <p:nvPr/>
        </p:nvSpPr>
        <p:spPr>
          <a:xfrm>
            <a:off x="2195640" y="5300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Line 32"/>
          <p:cNvSpPr/>
          <p:nvPr/>
        </p:nvSpPr>
        <p:spPr>
          <a:xfrm flipV="1">
            <a:off x="2195640" y="2349360"/>
            <a:ext cx="5329080" cy="395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752472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38836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692360" y="76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03280" y="83772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нейтраль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19564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219384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195640" y="45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4643280" y="4508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356400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804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Oval 20"/>
          <p:cNvSpPr/>
          <p:nvPr/>
        </p:nvSpPr>
        <p:spPr>
          <a:xfrm>
            <a:off x="3490920" y="5229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Oval 21"/>
          <p:cNvSpPr/>
          <p:nvPr/>
        </p:nvSpPr>
        <p:spPr>
          <a:xfrm>
            <a:off x="4572000" y="4437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3"/>
              <p:cNvSpPr txBox="1"/>
              <p:nvPr/>
            </p:nvSpPr>
            <p:spPr>
              <a:xfrm>
                <a:off x="6168960" y="6272280"/>
                <a:ext cx="1282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5"/>
              <p:cNvSpPr txBox="1"/>
              <p:nvPr/>
            </p:nvSpPr>
            <p:spPr>
              <a:xfrm>
                <a:off x="4424400" y="6316560"/>
                <a:ext cx="507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6"/>
              <p:cNvSpPr txBox="1"/>
              <p:nvPr/>
            </p:nvSpPr>
            <p:spPr>
              <a:xfrm>
                <a:off x="3022560" y="6308640"/>
                <a:ext cx="1117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4073400" y="4759200"/>
                <a:ext cx="4962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9"/>
              <p:cNvSpPr txBox="1"/>
              <p:nvPr/>
            </p:nvSpPr>
            <p:spPr>
              <a:xfrm>
                <a:off x="536400" y="5040360"/>
                <a:ext cx="1587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1"/>
              <p:cNvSpPr txBox="1"/>
              <p:nvPr/>
            </p:nvSpPr>
            <p:spPr>
              <a:xfrm>
                <a:off x="1120680" y="4292640"/>
                <a:ext cx="1003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Line 33"/>
          <p:cNvSpPr/>
          <p:nvPr/>
        </p:nvSpPr>
        <p:spPr>
          <a:xfrm>
            <a:off x="2195640" y="2852640"/>
            <a:ext cx="460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6732720" y="2800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5"/>
              <p:cNvSpPr txBox="1"/>
              <p:nvPr/>
            </p:nvSpPr>
            <p:spPr>
              <a:xfrm>
                <a:off x="385920" y="2492280"/>
                <a:ext cx="1752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5 Премия за риск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03280" y="76464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ремия за рис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85128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Line 1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Oval 2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21"/>
          <p:cNvSpPr/>
          <p:nvPr/>
        </p:nvSpPr>
        <p:spPr>
          <a:xfrm>
            <a:off x="262728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216000" y="350028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7"/>
              <p:cNvSpPr txBox="1"/>
              <p:nvPr/>
            </p:nvSpPr>
            <p:spPr>
              <a:xfrm>
                <a:off x="553248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9"/>
              <p:cNvSpPr txBox="1"/>
              <p:nvPr/>
            </p:nvSpPr>
            <p:spPr>
              <a:xfrm>
                <a:off x="2484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2"/>
              <p:cNvSpPr txBox="1"/>
              <p:nvPr/>
            </p:nvSpPr>
            <p:spPr>
              <a:xfrm>
                <a:off x="114624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кладные аспекты теории потребительского выбора и спро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2f0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ория производства, издержек и выбора максимизирующей прибыль фир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ночные структуры несовершенной конкурен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хороше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плохо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2.1 Вероятностные состояния как обусловленные блага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985680" y="4594320"/>
                <a:ext cx="7174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6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50920" y="15573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5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 Кривые безразлич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971640" y="1844640"/>
            <a:ext cx="0" cy="4464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Arc 13"/>
          <p:cNvSpPr/>
          <p:nvPr/>
        </p:nvSpPr>
        <p:spPr>
          <a:xfrm rot="11032200">
            <a:off x="2064960" y="1847520"/>
            <a:ext cx="4932360" cy="3441600"/>
          </a:xfrm>
          <a:custGeom>
            <a:avLst/>
            <a:gdLst>
              <a:gd name="textAreaLeft" fmla="*/ 0 w 4932360"/>
              <a:gd name="textAreaRight" fmla="*/ 4932720 w 4932360"/>
              <a:gd name="textAreaTop" fmla="*/ 0 h 3441600"/>
              <a:gd name="textAreaBottom" fmla="*/ 3441960 h 3441600"/>
            </a:gdLst>
            <a:ahLst/>
            <a:rect l="textAreaLeft" t="textAreaTop" r="textAreaRight" b="textAreaBottom"/>
            <a:pathLst>
              <a:path fill="none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</a:path>
              <a:path stroke="0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  <a:lnTo>
                  <a:pt x="0" y="20245"/>
                </a:lnTo>
                <a:lnTo>
                  <a:pt x="7529" y="0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076720" y="508464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1908000" y="2924280"/>
            <a:ext cx="2664000" cy="2665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rc 37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8"/>
              <p:cNvSpPr txBox="1"/>
              <p:nvPr/>
            </p:nvSpPr>
            <p:spPr>
              <a:xfrm>
                <a:off x="2604960" y="479736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Line 39"/>
          <p:cNvSpPr/>
          <p:nvPr/>
        </p:nvSpPr>
        <p:spPr>
          <a:xfrm flipV="1">
            <a:off x="3132000" y="429264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0"/>
              <p:cNvSpPr txBox="1"/>
              <p:nvPr/>
            </p:nvSpPr>
            <p:spPr>
              <a:xfrm>
                <a:off x="197964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едельная норма замещ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2768760" y="4076640"/>
                <a:ext cx="360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3276720" y="5479920"/>
                <a:ext cx="24541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5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630072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971640" y="3357720"/>
            <a:ext cx="1439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rc 30"/>
          <p:cNvSpPr/>
          <p:nvPr/>
        </p:nvSpPr>
        <p:spPr>
          <a:xfrm flipV="1" rot="16596600">
            <a:off x="6809040" y="3938040"/>
            <a:ext cx="1368360" cy="150048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0480"/>
              <a:gd name="textAreaBottom" fmla="*/ 1501200 h 150048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rc 33"/>
          <p:cNvSpPr/>
          <p:nvPr/>
        </p:nvSpPr>
        <p:spPr>
          <a:xfrm flipV="1" rot="5911200">
            <a:off x="2944440" y="29851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rc 35"/>
          <p:cNvSpPr/>
          <p:nvPr/>
        </p:nvSpPr>
        <p:spPr>
          <a:xfrm flipV="1" rot="16392000">
            <a:off x="7166880" y="3359520"/>
            <a:ext cx="1368360" cy="150552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5520"/>
              <a:gd name="textAreaBottom" fmla="*/ 1506240 h 150552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Карты кривых безразличия для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Text Box 43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Text Box 44"/>
          <p:cNvSpPr/>
          <p:nvPr/>
        </p:nvSpPr>
        <p:spPr>
          <a:xfrm>
            <a:off x="838836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Text Box 45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Text Box 46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47"/>
          <p:cNvSpPr/>
          <p:nvPr/>
        </p:nvSpPr>
        <p:spPr>
          <a:xfrm>
            <a:off x="1187280" y="285264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48"/>
          <p:cNvSpPr/>
          <p:nvPr/>
        </p:nvSpPr>
        <p:spPr>
          <a:xfrm>
            <a:off x="1403280" y="242100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2556000" y="4508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Text Box 50"/>
          <p:cNvSpPr/>
          <p:nvPr/>
        </p:nvSpPr>
        <p:spPr>
          <a:xfrm>
            <a:off x="277164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Text Box 51"/>
          <p:cNvSpPr/>
          <p:nvPr/>
        </p:nvSpPr>
        <p:spPr>
          <a:xfrm>
            <a:off x="2340000" y="5013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2"/>
              <p:cNvSpPr txBox="1"/>
              <p:nvPr/>
            </p:nvSpPr>
            <p:spPr>
              <a:xfrm>
                <a:off x="693720" y="5052960"/>
                <a:ext cx="1574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Arc 53"/>
          <p:cNvSpPr/>
          <p:nvPr/>
        </p:nvSpPr>
        <p:spPr>
          <a:xfrm flipV="1" rot="5911200">
            <a:off x="3160440" y="24739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Arc 54"/>
          <p:cNvSpPr/>
          <p:nvPr/>
        </p:nvSpPr>
        <p:spPr>
          <a:xfrm flipV="1" rot="5911200">
            <a:off x="3376440" y="1897560"/>
            <a:ext cx="3665520" cy="183060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830600"/>
              <a:gd name="textAreaBottom" fmla="*/ 1830600 h 183060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5365800" y="5589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56"/>
          <p:cNvSpPr/>
          <p:nvPr/>
        </p:nvSpPr>
        <p:spPr>
          <a:xfrm>
            <a:off x="55800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7"/>
          <p:cNvSpPr/>
          <p:nvPr/>
        </p:nvSpPr>
        <p:spPr>
          <a:xfrm>
            <a:off x="5796000" y="4437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Arc 58"/>
          <p:cNvSpPr/>
          <p:nvPr/>
        </p:nvSpPr>
        <p:spPr>
          <a:xfrm flipV="1" rot="16392000">
            <a:off x="7382880" y="2783520"/>
            <a:ext cx="1368360" cy="1505160"/>
          </a:xfrm>
          <a:custGeom>
            <a:avLst/>
            <a:gdLst>
              <a:gd name="textAreaLeft" fmla="*/ 0 w 1368360"/>
              <a:gd name="textAreaRight" fmla="*/ 1368720 w 1368360"/>
              <a:gd name="textAreaTop" fmla="*/ -360 h 1505160"/>
              <a:gd name="textAreaBottom" fmla="*/ 1505160 h 150516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Text Box 59"/>
          <p:cNvSpPr/>
          <p:nvPr/>
        </p:nvSpPr>
        <p:spPr>
          <a:xfrm>
            <a:off x="637236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Text Box 60"/>
          <p:cNvSpPr/>
          <p:nvPr/>
        </p:nvSpPr>
        <p:spPr>
          <a:xfrm>
            <a:off x="6661080" y="314172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Text Box 61"/>
          <p:cNvSpPr/>
          <p:nvPr/>
        </p:nvSpPr>
        <p:spPr>
          <a:xfrm>
            <a:off x="6948360" y="256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усть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сходный уровень богатства индиви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ую стоимость, равную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ндивиду могут принести все комбинаци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ru-RU" sz="2800" spc="-1" strike="noStrike" baseline="-25000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удовлетворяющие условию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2647800" y="3500280"/>
                <a:ext cx="3851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6"/>
              <p:cNvSpPr txBox="1"/>
              <p:nvPr/>
            </p:nvSpPr>
            <p:spPr>
              <a:xfrm>
                <a:off x="3011400" y="4776840"/>
                <a:ext cx="3081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8 Бюджетные ограничен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9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Arc 12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3639960" y="530064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5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Arc 16"/>
          <p:cNvSpPr/>
          <p:nvPr/>
        </p:nvSpPr>
        <p:spPr>
          <a:xfrm rot="16518000">
            <a:off x="4428720" y="566208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971640" y="342900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2268360" y="3429000"/>
            <a:ext cx="0" cy="28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1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3"/>
          <p:cNvSpPr/>
          <p:nvPr/>
        </p:nvSpPr>
        <p:spPr>
          <a:xfrm flipH="1">
            <a:off x="971640" y="501336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3924360" y="501336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2195640" y="2997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Text Box 27"/>
          <p:cNvSpPr/>
          <p:nvPr/>
        </p:nvSpPr>
        <p:spPr>
          <a:xfrm>
            <a:off x="385272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Text Box 29"/>
          <p:cNvSpPr/>
          <p:nvPr/>
        </p:nvSpPr>
        <p:spPr>
          <a:xfrm>
            <a:off x="493236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334800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1763640" y="62946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5003640" y="2565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устойчив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35"/>
          <p:cNvSpPr/>
          <p:nvPr/>
        </p:nvSpPr>
        <p:spPr>
          <a:xfrm flipH="1" flipV="1">
            <a:off x="4571640" y="2781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179280" y="328464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Text Box 37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Text Box 38"/>
          <p:cNvSpPr/>
          <p:nvPr/>
        </p:nvSpPr>
        <p:spPr>
          <a:xfrm>
            <a:off x="179280" y="479736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Text Box 39"/>
          <p:cNvSpPr/>
          <p:nvPr/>
        </p:nvSpPr>
        <p:spPr>
          <a:xfrm>
            <a:off x="277344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Text Box 40"/>
          <p:cNvSpPr/>
          <p:nvPr/>
        </p:nvSpPr>
        <p:spPr>
          <a:xfrm>
            <a:off x="3203640" y="4916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Text Box 41"/>
          <p:cNvSpPr/>
          <p:nvPr/>
        </p:nvSpPr>
        <p:spPr>
          <a:xfrm>
            <a:off x="5506920" y="51991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ожидаемой стоим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42"/>
          <p:cNvSpPr/>
          <p:nvPr/>
        </p:nvSpPr>
        <p:spPr>
          <a:xfrm flipH="1">
            <a:off x="4932000" y="5661000"/>
            <a:ext cx="64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43"/>
          <p:cNvSpPr/>
          <p:nvPr/>
        </p:nvSpPr>
        <p:spPr>
          <a:xfrm>
            <a:off x="971640" y="1700280"/>
            <a:ext cx="4968720" cy="4608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Text Box 44"/>
          <p:cNvSpPr/>
          <p:nvPr/>
        </p:nvSpPr>
        <p:spPr>
          <a:xfrm>
            <a:off x="5867280" y="5877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1042920" y="148428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059280" y="32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4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5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6300720" y="630864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971640" y="3357720"/>
            <a:ext cx="172872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Arc 9"/>
          <p:cNvSpPr/>
          <p:nvPr/>
        </p:nvSpPr>
        <p:spPr>
          <a:xfrm flipV="1" rot="16993200">
            <a:off x="6666480" y="4586400"/>
            <a:ext cx="1368360" cy="149976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499760"/>
              <a:gd name="textAreaBottom" fmla="*/ 1500480 h 149976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Arc 10"/>
          <p:cNvSpPr/>
          <p:nvPr/>
        </p:nvSpPr>
        <p:spPr>
          <a:xfrm flipV="1" rot="5911200">
            <a:off x="3293640" y="228816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Arc 11"/>
          <p:cNvSpPr/>
          <p:nvPr/>
        </p:nvSpPr>
        <p:spPr>
          <a:xfrm flipV="1" rot="16392000">
            <a:off x="6793920" y="4110120"/>
            <a:ext cx="1517760" cy="1866600"/>
          </a:xfrm>
          <a:custGeom>
            <a:avLst/>
            <a:gdLst>
              <a:gd name="textAreaLeft" fmla="*/ 0 w 1517760"/>
              <a:gd name="textAreaRight" fmla="*/ 1518120 w 1517760"/>
              <a:gd name="textAreaTop" fmla="*/ -360 h 1866600"/>
              <a:gd name="textAreaBottom" fmla="*/ 1866600 h 1866600"/>
            </a:gdLst>
            <a:ahLst/>
            <a:rect l="textAreaLeft" t="textAreaTop" r="textAreaRight" b="textAreaBottom"/>
            <a:pathLst>
              <a:path fill="none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</a:path>
              <a:path stroke="0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  <a:lnTo>
                  <a:pt x="2350" y="21600"/>
                </a:lnTo>
                <a:lnTo>
                  <a:pt x="0" y="128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9 Оптимальный выбор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53128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629080" y="54928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30360" y="5479920"/>
                <a:ext cx="520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2" name="Text Box 28"/>
          <p:cNvSpPr/>
          <p:nvPr/>
        </p:nvSpPr>
        <p:spPr>
          <a:xfrm>
            <a:off x="5726160" y="5157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Text Box 29"/>
          <p:cNvSpPr/>
          <p:nvPr/>
        </p:nvSpPr>
        <p:spPr>
          <a:xfrm>
            <a:off x="5724360" y="4797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4859280" y="422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Arc 31"/>
          <p:cNvSpPr/>
          <p:nvPr/>
        </p:nvSpPr>
        <p:spPr>
          <a:xfrm flipV="1" rot="16392000">
            <a:off x="6541560" y="3887640"/>
            <a:ext cx="2222640" cy="2429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2429280"/>
              <a:gd name="textAreaBottom" fmla="*/ 2429280 h 2429280"/>
            </a:gdLst>
            <a:ahLst/>
            <a:rect l="textAreaLeft" t="textAreaTop" r="textAreaRight" b="textAreaBottom"/>
            <a:pathLst>
              <a:path fill="none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</a:path>
              <a:path stroke="0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  <a:lnTo>
                  <a:pt x="46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Text Box 32"/>
          <p:cNvSpPr/>
          <p:nvPr/>
        </p:nvSpPr>
        <p:spPr>
          <a:xfrm>
            <a:off x="6372360" y="4292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Text Box 33"/>
          <p:cNvSpPr/>
          <p:nvPr/>
        </p:nvSpPr>
        <p:spPr>
          <a:xfrm>
            <a:off x="630072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Text Box 34"/>
          <p:cNvSpPr/>
          <p:nvPr/>
        </p:nvSpPr>
        <p:spPr>
          <a:xfrm>
            <a:off x="630252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Arc 35"/>
          <p:cNvSpPr/>
          <p:nvPr/>
        </p:nvSpPr>
        <p:spPr>
          <a:xfrm rot="2215800">
            <a:off x="10800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36"/>
          <p:cNvSpPr/>
          <p:nvPr/>
        </p:nvSpPr>
        <p:spPr>
          <a:xfrm flipV="1">
            <a:off x="611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37"/>
          <p:cNvSpPr/>
          <p:nvPr/>
        </p:nvSpPr>
        <p:spPr>
          <a:xfrm flipV="1">
            <a:off x="341964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Arc 38"/>
          <p:cNvSpPr/>
          <p:nvPr/>
        </p:nvSpPr>
        <p:spPr>
          <a:xfrm rot="2215800">
            <a:off x="2903400" y="553572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9"/>
              <p:cNvSpPr txBox="1"/>
              <p:nvPr/>
            </p:nvSpPr>
            <p:spPr>
              <a:xfrm>
                <a:off x="441180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Line 40"/>
          <p:cNvSpPr/>
          <p:nvPr/>
        </p:nvSpPr>
        <p:spPr>
          <a:xfrm>
            <a:off x="3419640" y="3068640"/>
            <a:ext cx="2304720" cy="2519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Arc 41"/>
          <p:cNvSpPr/>
          <p:nvPr/>
        </p:nvSpPr>
        <p:spPr>
          <a:xfrm flipV="1" rot="5911200">
            <a:off x="3254400" y="2571480"/>
            <a:ext cx="3665520" cy="194796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947960"/>
              <a:gd name="textAreaBottom" fmla="*/ 1947960 h 1947960"/>
            </a:gdLst>
            <a:ahLst/>
            <a:rect l="textAreaLeft" t="textAreaTop" r="textAreaRight" b="textAreaBottom"/>
            <a:pathLst>
              <a:path fill="none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</a:path>
              <a:path stroke="0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5292720" y="5419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43"/>
          <p:cNvSpPr/>
          <p:nvPr/>
        </p:nvSpPr>
        <p:spPr>
          <a:xfrm flipV="1">
            <a:off x="6299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Arc 44"/>
          <p:cNvSpPr/>
          <p:nvPr/>
        </p:nvSpPr>
        <p:spPr>
          <a:xfrm rot="2215800">
            <a:off x="5721480" y="5570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5"/>
              <p:cNvSpPr txBox="1"/>
              <p:nvPr/>
            </p:nvSpPr>
            <p:spPr>
              <a:xfrm>
                <a:off x="714708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Line 46"/>
          <p:cNvSpPr/>
          <p:nvPr/>
        </p:nvSpPr>
        <p:spPr>
          <a:xfrm>
            <a:off x="6299280" y="3141720"/>
            <a:ext cx="2520720" cy="3166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Text Box 47"/>
          <p:cNvSpPr/>
          <p:nvPr/>
        </p:nvSpPr>
        <p:spPr>
          <a:xfrm>
            <a:off x="8101080" y="57340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Text Box 48"/>
          <p:cNvSpPr/>
          <p:nvPr/>
        </p:nvSpPr>
        <p:spPr>
          <a:xfrm>
            <a:off x="7453440" y="4987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Text Box 49"/>
          <p:cNvSpPr/>
          <p:nvPr/>
        </p:nvSpPr>
        <p:spPr>
          <a:xfrm>
            <a:off x="8750160" y="592452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48"/>
          <p:cNvSpPr/>
          <p:nvPr/>
        </p:nvSpPr>
        <p:spPr>
          <a:xfrm flipH="1">
            <a:off x="971280" y="494172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1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 Выбор не склонного к риску индивида в условиях справедливой и несправедливой игры 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Line 22"/>
          <p:cNvSpPr/>
          <p:nvPr/>
        </p:nvSpPr>
        <p:spPr>
          <a:xfrm>
            <a:off x="4211640" y="4941720"/>
            <a:ext cx="0" cy="1366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Text Box 24"/>
          <p:cNvSpPr/>
          <p:nvPr/>
        </p:nvSpPr>
        <p:spPr>
          <a:xfrm>
            <a:off x="414036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3780000" y="629460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179280" y="46530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971640" y="3645000"/>
            <a:ext cx="6696000" cy="26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0"/>
          <p:cNvSpPr/>
          <p:nvPr/>
        </p:nvSpPr>
        <p:spPr>
          <a:xfrm>
            <a:off x="7236000" y="57340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41"/>
          <p:cNvSpPr/>
          <p:nvPr/>
        </p:nvSpPr>
        <p:spPr>
          <a:xfrm>
            <a:off x="900000" y="3213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971280" y="420228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Arc 47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Text Box 4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реш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в которой индивид сталкивается с необходимостью выб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случа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движение из которой по исходящим ветвям обусловлено случайным процесс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Конечный узел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точка дерева решений, представляющая конечный исход, связываемый с данной ветвью дерева реш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1979640" y="198900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Line 6"/>
          <p:cNvSpPr/>
          <p:nvPr/>
        </p:nvSpPr>
        <p:spPr>
          <a:xfrm flipV="1">
            <a:off x="1403280" y="2276280"/>
            <a:ext cx="647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Line 7"/>
          <p:cNvSpPr/>
          <p:nvPr/>
        </p:nvSpPr>
        <p:spPr>
          <a:xfrm flipV="1">
            <a:off x="2195640" y="1052280"/>
            <a:ext cx="50472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2268360" y="220500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2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и максимизация полезност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255600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2411280" y="1341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70036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3060720" y="24670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3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0" name="Text Box 24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6012000" y="836640"/>
            <a:ext cx="288720" cy="2232000"/>
          </a:xfrm>
          <a:custGeom>
            <a:avLst/>
            <a:gdLst>
              <a:gd name="textAreaLeft" fmla="*/ 0 w 288720"/>
              <a:gd name="textAreaRight" fmla="*/ 10404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6300720" y="17002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f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4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6084720" y="3789360"/>
            <a:ext cx="289080" cy="223200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6372360" y="462744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g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39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1763640" y="234936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5"/>
          <p:cNvSpPr/>
          <p:nvPr/>
        </p:nvSpPr>
        <p:spPr>
          <a:xfrm flipV="1">
            <a:off x="1403280" y="2637000"/>
            <a:ext cx="432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6"/>
          <p:cNvSpPr/>
          <p:nvPr/>
        </p:nvSpPr>
        <p:spPr>
          <a:xfrm flipV="1">
            <a:off x="1979640" y="1699920"/>
            <a:ext cx="36036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050920" y="2565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с последовательным принятием решений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Text Box 15"/>
          <p:cNvSpPr/>
          <p:nvPr/>
        </p:nvSpPr>
        <p:spPr>
          <a:xfrm>
            <a:off x="241128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2124000" y="18194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2843280" y="523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2843280" y="2827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7" name="Text Box 22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2124000" y="1268280"/>
            <a:ext cx="4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Line 29"/>
          <p:cNvSpPr/>
          <p:nvPr/>
        </p:nvSpPr>
        <p:spPr>
          <a:xfrm flipV="1">
            <a:off x="2557440" y="764640"/>
            <a:ext cx="358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2556000" y="1557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3348000" y="177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0" y="103320"/>
            <a:ext cx="914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Ценность полной информ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разность между ожидаемыми ценностями выбора при наличии и отсутствии полной информа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7640" y="227808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аблица 2.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Ожидаемая прибы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8000" y="3116160"/>
          <a:ext cx="8924760" cy="2835360"/>
        </p:xfrm>
        <a:graphic>
          <a:graphicData uri="http://schemas.openxmlformats.org/drawingml/2006/table">
            <a:tbl>
              <a:tblPr/>
              <a:tblGrid>
                <a:gridCol w="1942920"/>
                <a:gridCol w="2327400"/>
                <a:gridCol w="2327400"/>
                <a:gridCol w="23270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жидаемая прибыл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012000" y="1484280"/>
                <a:ext cx="163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AutoShape 4"/>
          <p:cNvSpPr/>
          <p:nvPr/>
        </p:nvSpPr>
        <p:spPr>
          <a:xfrm>
            <a:off x="539640" y="981000"/>
            <a:ext cx="5184720" cy="15130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не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6"/>
              <p:cNvSpPr txBox="1"/>
              <p:nvPr/>
            </p:nvSpPr>
            <p:spPr>
              <a:xfrm>
                <a:off x="4427640" y="3205080"/>
                <a:ext cx="4518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395280" y="2708280"/>
            <a:ext cx="3887640" cy="216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611280" y="5011560"/>
            <a:ext cx="3673440" cy="1081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5"/>
              <p:cNvSpPr txBox="1"/>
              <p:nvPr/>
            </p:nvSpPr>
            <p:spPr>
              <a:xfrm>
                <a:off x="4500720" y="5275440"/>
                <a:ext cx="4263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Уклонение от уплаты налог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не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 при совместном несении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814400" y="3360600"/>
                <a:ext cx="5521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453960" y="4967280"/>
                <a:ext cx="83311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словие эффективности совместного несения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1371600" y="4508640"/>
                <a:ext cx="6405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932040" y="2133720"/>
                <a:ext cx="75466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3 Оптимальное объединение рисков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3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Line 19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21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22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108000" y="3716280"/>
            <a:ext cx="1042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2232000" y="6294600"/>
            <a:ext cx="16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Arc 48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Arc 49"/>
          <p:cNvSpPr/>
          <p:nvPr/>
        </p:nvSpPr>
        <p:spPr>
          <a:xfrm flipV="1" rot="7012200">
            <a:off x="1906920" y="475560"/>
            <a:ext cx="4969080" cy="4104000"/>
          </a:xfrm>
          <a:custGeom>
            <a:avLst/>
            <a:gdLst>
              <a:gd name="textAreaLeft" fmla="*/ 0 w 4969080"/>
              <a:gd name="textAreaRight" fmla="*/ 4969440 w 4969080"/>
              <a:gd name="textAreaTop" fmla="*/ 360 h 4104000"/>
              <a:gd name="textAreaBottom" fmla="*/ 4104720 h 410400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148360" y="522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5219640" y="4941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Эквивалент уверенност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ксимальная сумма, которую индивид готов заплатить за полное страховое покрытие в размере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2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28"/>
              <p:cNvSpPr txBox="1"/>
              <p:nvPr/>
            </p:nvSpPr>
            <p:spPr>
              <a:xfrm>
                <a:off x="995400" y="2928960"/>
                <a:ext cx="7161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9"/>
              <p:cNvSpPr txBox="1"/>
              <p:nvPr/>
            </p:nvSpPr>
            <p:spPr>
              <a:xfrm>
                <a:off x="3138480" y="5376960"/>
                <a:ext cx="2825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4 Спрос индивида на страхование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Arc 10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Text Box 12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14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Line 16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Text Box 1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108000" y="3716280"/>
            <a:ext cx="1042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Text Box 21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1979640" y="62946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)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Arc 26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Arc 27"/>
          <p:cNvSpPr/>
          <p:nvPr/>
        </p:nvSpPr>
        <p:spPr>
          <a:xfrm flipV="1" rot="6333000">
            <a:off x="1252440" y="-36360"/>
            <a:ext cx="5472000" cy="4751640"/>
          </a:xfrm>
          <a:custGeom>
            <a:avLst/>
            <a:gdLst>
              <a:gd name="textAreaLeft" fmla="*/ 0 w 5472000"/>
              <a:gd name="textAreaRight" fmla="*/ 5472360 w 5472000"/>
              <a:gd name="textAreaTop" fmla="*/ 0 h 4751640"/>
              <a:gd name="textAreaBottom" fmla="*/ 4751640 h 475164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55818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2700360" y="45813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2266920" y="57895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Если возможно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n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исходов какого-либо события, сумма вероятностей реализации этих исходов равна 1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стоимость (математическое ожидание)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16440" y="2832120"/>
                <a:ext cx="1282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882720" y="5040360"/>
                <a:ext cx="73911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исперсия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тандартное отклонение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Чему равны ожидаемая стоимость, дисперсия и стандартное отклонение, если существует только два возможных исхода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100, 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200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; и их вероятности, соответственно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4 и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6?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2930400" y="1557360"/>
                <a:ext cx="32259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3635280" y="317988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442764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105408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Ожидаемая стоимость и дисперс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2400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2400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539640" y="2744640"/>
            <a:ext cx="3745080" cy="3421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268" h="2155">
                <a:moveTo>
                  <a:pt x="0" y="2155"/>
                </a:moveTo>
                <a:cubicBezTo>
                  <a:pt x="366" y="1924"/>
                  <a:pt x="733" y="1693"/>
                  <a:pt x="952" y="1338"/>
                </a:cubicBezTo>
                <a:cubicBezTo>
                  <a:pt x="1171" y="983"/>
                  <a:pt x="1179" y="46"/>
                  <a:pt x="1315" y="23"/>
                </a:cubicBezTo>
                <a:cubicBezTo>
                  <a:pt x="1451" y="0"/>
                  <a:pt x="1610" y="877"/>
                  <a:pt x="1769" y="1202"/>
                </a:cubicBezTo>
                <a:cubicBezTo>
                  <a:pt x="1928" y="1527"/>
                  <a:pt x="2185" y="1845"/>
                  <a:pt x="2268" y="1973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29"/>
          <p:cNvSpPr/>
          <p:nvPr/>
        </p:nvSpPr>
        <p:spPr>
          <a:xfrm flipV="1">
            <a:off x="169236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47636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485928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486108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8747280" y="629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486108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35"/>
          <p:cNvSpPr/>
          <p:nvPr/>
        </p:nvSpPr>
        <p:spPr>
          <a:xfrm flipV="1">
            <a:off x="766764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7451640" y="6294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Freeform 38"/>
          <p:cNvSpPr/>
          <p:nvPr/>
        </p:nvSpPr>
        <p:spPr>
          <a:xfrm>
            <a:off x="4932360" y="2324160"/>
            <a:ext cx="3743280" cy="376884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3768840"/>
              <a:gd name="textAreaBottom" fmla="*/ 3769200 h 3768840"/>
            </a:gdLst>
            <a:ahLst/>
            <a:rect l="textAreaLeft" t="textAreaTop" r="textAreaRight" b="textAreaBottom"/>
            <a:pathLst>
              <a:path w="2358" h="2374">
                <a:moveTo>
                  <a:pt x="0" y="2374"/>
                </a:moveTo>
                <a:cubicBezTo>
                  <a:pt x="174" y="2283"/>
                  <a:pt x="348" y="2192"/>
                  <a:pt x="499" y="1875"/>
                </a:cubicBezTo>
                <a:cubicBezTo>
                  <a:pt x="650" y="1558"/>
                  <a:pt x="763" y="741"/>
                  <a:pt x="907" y="469"/>
                </a:cubicBezTo>
                <a:cubicBezTo>
                  <a:pt x="1051" y="197"/>
                  <a:pt x="1187" y="0"/>
                  <a:pt x="1361" y="242"/>
                </a:cubicBezTo>
                <a:cubicBezTo>
                  <a:pt x="1535" y="484"/>
                  <a:pt x="1784" y="1566"/>
                  <a:pt x="1950" y="1921"/>
                </a:cubicBezTo>
                <a:cubicBezTo>
                  <a:pt x="2116" y="2276"/>
                  <a:pt x="2237" y="2325"/>
                  <a:pt x="2358" y="2374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1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Актуарно справедливые игры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3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077840" y="3679920"/>
                <a:ext cx="68328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833400" y="4713120"/>
                <a:ext cx="7251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8:58:50Z</dcterms:created>
  <dc:creator>Grisha</dc:creator>
  <dc:description/>
  <dc:language>en-US</dc:language>
  <cp:lastModifiedBy>LEGION</cp:lastModifiedBy>
  <dcterms:modified xsi:type="dcterms:W3CDTF">2016-01-04T08:17:41Z</dcterms:modified>
  <cp:revision>22</cp:revision>
  <dc:subject/>
  <dc:title>Прикладная экономика</dc:title>
</cp:coreProperties>
</file>