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25846-F121-47EC-9FFA-5EEB609B65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рикладная экономик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Микроэкономик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икладн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икро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. Вероятность, ожидаемая стоимость и гипотеза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Вероятность, ожидаемая стоимость и отклонения от нее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Актуарно справедливые игры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Гипотеза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ремия за риск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. Вероятность, ожидаемая стоимость и гипотеза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ь, ожидаемая стоимость и отклонения от н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рно справедливые иг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теза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мия за ри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нкт-Петербургский парадокс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теза ожидаемой полезности: индивиды оценивают игру не по ее ожидаемой стоимости, а по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3 Гипотеза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анкт-Петербургский парадокс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Гипотеза ожидаемой полезности: индивиды оценивают игру не по ее ожидаемой стоимости, а по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1.3 Гипотеза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. Вероятность, ожидаемая стоимость и гипотеза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Вероятность, ожидаемая стоимость и отклонения от нее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Актуарно справедливые игры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Гипотеза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ремия за риск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. Вероятность, ожидаемая стоимость и гипотеза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ь, ожидаемая стоимость и отклонения от н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рно справедливые иг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теза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мия за ри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: понятие, характеризующее изменчивость исходов в ситуации неопределен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клонные к риску индивиды выберут из двух игр с одинаковой ожидаемой стоимостью ту, которая характеризуется меньшей изменчивостью доход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лонные к риску индивиды, наоборот, выберут игру с большей изменчивостью доход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4 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к: понятие, характеризующее изменчивость исходов в ситуации неопределенности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Несклонные к риску индивиды выберут из двух игр с одинаковой ожидаемой стоимостью ту, которая характеризуется меньшей изменчивостью доходности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клонные к риску индивиды, наоборот, выберут игру с большей изменчивостью доходности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1.4 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4 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(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2 Полезность индивида, не склонного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(W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m(W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2m(W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1.4 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(W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2 Полезность индивида, не склонного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(W*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m(W*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2m(W*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емая полезность 1-й игр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емая полезность 2-й игр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несклонного к риску индивид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4 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жидаемая полезность 1-й игры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жидаемая полезность 2-й игры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Для несклонного к риску индивида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1.4 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4 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(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3 Полезность индивида,  склонного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1.4 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(W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3 Полезность индивида,  склонного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(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4 Полезность индивида,  нейтрального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4 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(W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4 Полезность индивида,  нейтрального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1.4 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. Вероятность, ожидаемая стоимость и гипотеза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Вероятность, ожидаемая стоимость и отклонения от нее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Актуарно справедливые игры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Гипотеза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ремия за риск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. Вероятность, ожидаемая стоимость и гипотеза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ь, ожидаемая стоимость и отклонения от н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рно справедливые иг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теза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мия за ри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5 Премия за ри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(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5 Премия за ри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(W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1.5 Премия за риск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(W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5 Премия за риск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(W*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рикладные аспекты теории потребительского выбора и спрос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Выбор потребителя в условиях неопределенности и риск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Теория производства, издержек и выбора максимизирующей прибыль фирмы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ыночные структуры несовершенной конкуренци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кладные аспекты теории потребительского выбора и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 потребителя в условиях неопределенности и р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производства, издержек и выбора максимизирующей прибыль фир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ые структуры несовершенной конкурен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I. Выбор в условиях неопределенности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Вероятностные состояния как обусловленные благ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Бюджетная лин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птимальный выбор индивидов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. Выбор в условиях неопределенности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ные состояния как обусловленные бла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юджетная лин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ый выбор индивидов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g – богатство индивида при «хорошем» исхо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b – богатство индивида при «плохом» исхо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емая полезность индивид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2.1 Вероятностные состояния как обусловленные бла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g – богатство индивида при «хорошем» исходе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b – богатство индивида при «плохом» исходе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жидаемая полезность индивида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2.1 Вероятностные состояния как обусловленные благ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I. Выбор в условиях неопределенности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Вероятностные состояния как обусловленные благ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Бюджетная лин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птимальный выбор индивидов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. Выбор в условиях неопределенности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ные состояния как обусловленные бла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юджетная лин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ый выбор индивидов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6 Кривые безразличия в пространстве обусловленных благ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2.2 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6 Кривые безразличия в пространстве обусловленных благ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2.2 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ельная норма замещения показывает пропорцию, в которой индивид готов заместить товар, количество которого отложено по вертикальной оси (богатство при «плохом» исходе), товаром, количество которого отложено по горизонтальной оси (богатство при «хорошем» исходе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Wg=Wb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2.2 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редельная норма замещения показывает пропорцию, в которой индивид готов заместить товар, количество которого отложено по вертикальной оси (богатство при «плохом» исходе), товаром, количество которого отложено по горизонтальной оси (богатство при «хорошем» исходе)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ри Wg=Wb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2.2 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7 Карты кривых безразличия для индивидов с разным отношением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2.2 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7 Карты кривых безразличия для индивидов с разным отношением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2.2 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2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2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2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I. Выбор в условиях неопределенности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Вероятностные состояния как обусловленные благ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Бюджетная лин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птимальный выбор индивидов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. Выбор в условиях неопределенности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ные состояния как обусловленные бла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юджетная лин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ый выбор индивидов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сть W* – исходный уровень богатства индиви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емую стоимость, равную W* индивиду могут принести все комбинации Wg и Wb, удовлетворяющие условию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2.3 Бюджетная лин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усть W* – исходный уровень богатства индивида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жидаемую стоимость, равную W* индивиду могут принести все комбинации Wg и Wb, удовлетворяющие условию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Или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2.3 Бюджетная лин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8 Бюджетные ограничения в пространстве обусловленных благ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2.3 Бюджетная лин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max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1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2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*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ния устойчив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2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*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1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ния ожидаемой сто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8 Бюджетные ограничения в пространстве обусловленных благ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2.3 Бюджетная лин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max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1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2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*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Линия устойчив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2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*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1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Линия ожидаемой стоим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A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I. Выбор в условиях неопределенности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Вероятностные состояния как обусловленные благ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Бюджетная лин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птимальный выбор индивидов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. Выбор в условиях неопределенности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ные состояния как обусловленные бла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юджетная лин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ый выбор индивидов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 Выбор потребителя в условиях неопределенности и риск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Вероятность, ожидаемая стоимость и гипотеза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Выбор в условиях неопределенности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остроение деревьев решений и выбор в условиях неопределен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рикладные аспекты модели выбора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Выбор потребителя в условиях неопределенности и р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ь, ожидаемая стоимость и гипотеза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 в условиях неопределенности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роение деревьев решений и выбор в условиях неопредел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кладные аспекты модели выбора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9 Оптимальный выбор индивидов с разным отношением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2.4 Оптимальный выбор индивидов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9 Оптимальный выбор индивидов с разным отношением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2.4 Оптимальный выбор индивидов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2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10 Выбор не склонного к риску индивида в условиях справедливой и несправедливой игр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1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*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*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1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2.4 Оптимальный выбор индивидов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10 Выбор не склонного к риску индивида в условиях справедливой и несправедливой игры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1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*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*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1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2.4 Оптимальный выбор индивидов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II. Построение деревьев решений и выбор в условиях неопределен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остроение деревьев решени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Ценность информаци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I. Построение деревьев решений и выбор в условиях неопредел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роение деревьев ре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ность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зел решения – точка дерева решений, в которой индивид сталкивается с необходимостью выбо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зел случая – точка дерева решений, движение из которой по исходящим ветвям обусловлено случайным процесс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ечный узел – точка дерева решений, представляющая конечный исход, связываемый с данной ветвью дерева ре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3.1 Построение деревьев ре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Узел решения – точка дерева решений, в которой индивид сталкивается с необходимостью выбора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Узел случая – точка дерева решений, движение из которой по исходящим ветвям обусловлено случайным процессом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Конечный узел – точка дерева решений, представляющая конечный исход, связываемый с данной ветвью дерева решений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3.1 Построение деревьев решени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3.1 Построение деревьев ре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f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g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11 Дерево решений и максимизация полез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,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,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,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,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 000 (U=282,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5 000 (U=212,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0 000 (U=346,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5 000 (U=212,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fm=240,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gm=239,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3.1 Построение деревьев решени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fm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gm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11 Дерево решений и максимизация полезности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,6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,8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,2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,4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80 000 (U=282,8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45 000 (U=212,1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120 000 (U=346,4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45 000 (U=212,1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fm=240,4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gm=239,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3.1 Построение деревьев ре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f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g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12 Дерево решений с последовательным принятием реше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,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,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,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,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 000 (U=282,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5 000 (U=212,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0 000 (U=346,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5 000 (U=212,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5 000 (U=212,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3.1 Построение деревьев решени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fm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gm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12 Дерево решений с последовательным принятием решений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,6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,8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,2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,4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80 000 (U=282,8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45 000 (U=212,1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120 000 (U=346,4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45 000 (U=212,1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45 000 (U=212,1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II. Построение деревьев решений и выбор в условиях неопределен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остроение деревьев решени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Ценность информаци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I. Построение деревьев решений и выбор в условиях неопредел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роение деревьев ре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ность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ность полной информации – разность между ожидаемыми ценностями выбора при наличии и отсутствии полной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3.2 Ценность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2.1 Ожидаемая прибы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Ценность полной информации – разность между ожидаемыми ценностями выбора при наличии и отсутствии полной информации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3.2 Ценность информаци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Таблица 2.1 Ожидаемая прибыл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емая прибыль при неполной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3.2 Ценность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емая прибыль при полной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ность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жидаемая прибыль при неполной информаци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3.2 Ценность информаци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жидаемая прибыль при полной информаци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Ценность информаци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V. Прикладные аспекты модели выбора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овместное несение рисков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ынок страховых услу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Уклонение от уплаты налогов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V. Прикладные аспекты модели выбора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местное несение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страховых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клонение от уплаты налог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. Вероятность, ожидаемая стоимость и гипотеза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Вероятность, ожидаемая стоимость и отклонения от нее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Актуарно справедливые игры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Гипотеза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ремия за риск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. Вероятность, ожидаемая стоимость и гипотеза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ь, ожидаемая стоимость и отклонения от н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рно справедливые иг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теза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мия за ри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гатство при благоприятном исходе: W=W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гатство при неблагоприятном исходе: W=W0-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емая полезнос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емая полезность при совместном несении риск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4.1 Совместное несение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Богатство при благоприятном исходе: W=W0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Богатство при неблагоприятном исходе: W=W0-L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жидаемая полезность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жидаемая полезность при совместном несении рисков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4.1 Совместное несение рисков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е эффективности совместного несения риск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4.1 Совместное несение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Условие эффективности совместного несения рисков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Или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4.1 Совместное несение рисков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13 Оптимальное объединение рис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L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0-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4.1 Совместное несение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0-L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13 Оптимальное объединение рисков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0-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-L/2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0-L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4.1 Совместное несение рисков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0-L/2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V. Прикладные аспекты модели выбора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овместное несение рисков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ынок страховых услу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V. Прикладные аспекты модели выбора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местное несение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страховых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вивалент уверенности рискового проекта – величина гарантированного богатства, при которой индивиду безразлично, покупать страховку или н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симальная сумма, которую индивид готов заплатить за полное страховое покрытие в размере 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4.2 Рынок страховых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Эквивалент уверенности рискового проекта – величина гарантированного богатства, при которой индивиду безразлично, покупать страховку или нет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Максимальная сумма, которую индивид готов заплатить за полное страховое покрытие в размере L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4.2 Рынок страховых услу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14 Спрос индивида на страхов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0-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4.2 Рынок страховых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0-(1-p)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14 Спрос индивида на страхование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0-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-I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0-L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4.2 Рынок страховых услу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0-(1-p)L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ce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Если возможно n исходов какого-либо события, сумма вероятностей реализации этих исходов равна 1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жидаемая стоимость (математическое ожидание)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1.1 Вероятность, ожидаемая стоимость и отклонения от нее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возможно n исходов какого-либо события, сумма вероятностей реализации этих исходов равна 1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емая стоимость (математическое ожидание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1 Вероятность, ожидаемая стоимость и отклонения от н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Дисперсия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тандартное отклонение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Чему равны ожидаемая стоимость, дисперсия и стандартное отклонение, если существует только два возможных исхода: X1=100, X2=200; и их вероятности, соответственно: p1=0,4 и p2=0,6?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1.1 Вероятность, ожидаемая стоимость и отклонения от нее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перс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ндартное отклоне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у равны ожидаемая стоимость, дисперсия и стандартное отклонение, если существует только два возможных исхода: X1=100, X2=200; и их вероятности, соответственно: p1=0,4 и p2=0,6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1 Вероятность, ожидаемая стоимость и отклонения от н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1 Ожидаемая стоимость и диспер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1 Вероятность, ожидаемая стоимость и отклонения от н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1 Ожидаемая стоимость и дисперси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1.1 Вероятность, ожидаемая стоимость и отклонения от нее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. Вероятность, ожидаемая стоимость и гипотеза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Вероятность, ожидаемая стоимость и отклонения от нее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Актуарно справедливые игры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Гипотеза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ремия за риск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. Вероятность, ожидаемая стоимость и гипотеза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ь, ожидаемая стоимость и отклонения от н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рно справедливые иг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теза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мия за ри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1.2 Актуарно справедливые игры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Актуарно справедливые игры: игры с нулевой ожидаемой стоимостью или игры, за участие в которых игроки готовы заплатить их ожидаемую стоимост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2 Актуарно справедливые иг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рно справедливые игры: игры с нулевой ожидаемой стоимостью или игры, за участие в которых игроки готовы заплатить их ожидаемую стои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246B-344B-474A-93AC-D439F245C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1507-E539-4C84-B68A-5DA0D8A9E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22E1-F176-4513-B78A-B20EA96DF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1594-9FB3-4573-BD7E-FB281F37D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1F79F-9B51-478D-B3EF-D8FDBD923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F62DD-7EAD-4AD0-9E35-AA0337795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B9900-98F8-4451-AF82-2520E66ED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F0F18-6FC7-48AA-8266-51DF195D0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49A46-52FB-4FCE-9471-E634661E0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141EC-3FFD-4AE4-A441-A893ADE71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389A1-3612-4079-9585-C82828BB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89A2-18EA-4662-B18F-67B5476E3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ACE43-A592-449C-9883-2A2A0D45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FAFFC-BCFA-4B58-8B80-C7432B40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BA5AF-554B-4638-A1C9-A0195EDC1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83C90-2E44-4864-9913-F4D6992F5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A0505-4788-4CBF-B668-D09A5A74F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B6F4-812A-4D77-99BA-B2CBC4961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6E1D-80C1-4B1F-B10A-7B8A9ECAE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708C-97B1-4527-BD54-4A852014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751F-30D5-489C-BA31-75892EF0F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AA96-DC79-4803-B434-105AF3FD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063E-FF64-467A-9796-00891A52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8B66-366E-4095-B2AF-ADA6D83F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DA6D-EFC1-40A6-81A1-A20F45C8C0F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000"/>
              <a:ext cx="3623760" cy="6129000"/>
              <a:chOff x="5407200" y="63000"/>
              <a:chExt cx="362376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1520" y="348120"/>
                <a:ext cx="2116800" cy="235656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040" y="1960560"/>
                <a:ext cx="90684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5600" y="2592360"/>
                <a:ext cx="43956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480" y="674280"/>
                <a:ext cx="38880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4280" y="2645280"/>
                <a:ext cx="163440" cy="331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240" y="1243080"/>
                <a:ext cx="19080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480" y="2930400"/>
                <a:ext cx="52380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880" y="302760"/>
              <a:ext cx="888480" cy="829080"/>
              <a:chOff x="5645880" y="302760"/>
              <a:chExt cx="888480" cy="82908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7840" y="802080"/>
                <a:ext cx="17712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6360" y="480240"/>
                <a:ext cx="3042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6720" y="401760"/>
                <a:ext cx="31716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3000"/>
              <a:ext cx="1062360" cy="836640"/>
              <a:chOff x="954000" y="5283000"/>
              <a:chExt cx="1062360" cy="8366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8840" y="5548320"/>
                <a:ext cx="251640" cy="3006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3320" y="5763600"/>
                <a:ext cx="430560" cy="249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3264B-84D8-4921-B2AB-654C7B24B415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92000" y="596520"/>
            <a:ext cx="6956280" cy="182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6666"/>
                </a:solidFill>
                <a:latin typeface="Verdana"/>
              </a:rPr>
              <a:t>Прикладная экономика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2488680" y="2636640"/>
            <a:ext cx="6147000" cy="31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Микроэкономик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138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Verdana"/>
              </a:rPr>
              <a:t>I. </a:t>
            </a:r>
            <a:r>
              <a:rPr b="0" lang="ru-RU" sz="3600" spc="-1" strike="noStrike">
                <a:solidFill>
                  <a:srgbClr val="0000ff"/>
                </a:solidFill>
                <a:latin typeface="Verdana"/>
              </a:rPr>
              <a:t>Вероятность, ожидаемая стоимость и гипотеза ожидаемой полезности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Вероятность, ожидаемая стоимость и отклонения от нее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Актуарно справедливые игры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ff"/>
                </a:solidFill>
                <a:latin typeface="Verdana"/>
              </a:rPr>
              <a:t>Гипотеза ожидаемой полезности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Функция полезности фон Неймана – Моргенштерна и типы отношения к риску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Премия за риск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11"/>
          <p:cNvSpPr/>
          <p:nvPr/>
        </p:nvSpPr>
        <p:spPr>
          <a:xfrm>
            <a:off x="179280" y="765000"/>
            <a:ext cx="896472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Санкт-Петербургский парадокс: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6699"/>
                </a:solidFill>
                <a:latin typeface="Verdana"/>
              </a:rPr>
              <a:t>Гипотеза ожидаемой полезности</a:t>
            </a: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: индивиды оценивают игру не по ее ожидаемой стоимости, а по ожидаемой полезности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4"/>
              <p:cNvSpPr txBox="1"/>
              <p:nvPr/>
            </p:nvSpPr>
            <p:spPr>
              <a:xfrm>
                <a:off x="2268360" y="1268280"/>
                <a:ext cx="466416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1.3 Гипотеза ожидаемой полезности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12"/>
              <p:cNvSpPr txBox="1"/>
              <p:nvPr/>
            </p:nvSpPr>
            <p:spPr>
              <a:xfrm>
                <a:off x="2233440" y="1916280"/>
                <a:ext cx="462132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13"/>
              <p:cNvSpPr txBox="1"/>
              <p:nvPr/>
            </p:nvSpPr>
            <p:spPr>
              <a:xfrm>
                <a:off x="1282680" y="2997360"/>
                <a:ext cx="659124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14"/>
              <p:cNvSpPr txBox="1"/>
              <p:nvPr/>
            </p:nvSpPr>
            <p:spPr>
              <a:xfrm>
                <a:off x="2781360" y="5856120"/>
                <a:ext cx="35938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</m:e>
                    </m:d>
                    <m:r>
                      <m:t xml:space="preserve">≡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U</m:t>
                        </m:r>
                      </m:e>
                    </m:ba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138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Verdana"/>
              </a:rPr>
              <a:t>I. </a:t>
            </a:r>
            <a:r>
              <a:rPr b="0" lang="ru-RU" sz="3600" spc="-1" strike="noStrike">
                <a:solidFill>
                  <a:srgbClr val="0000ff"/>
                </a:solidFill>
                <a:latin typeface="Verdana"/>
              </a:rPr>
              <a:t>Вероятность, ожидаемая стоимость и гипотеза ожидаемой полезности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Вероятность, ожидаемая стоимость и отклонения от нее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Актуарно справедливые игры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Гипотеза ожидаемой полезности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ff"/>
                </a:solidFill>
                <a:latin typeface="Verdana"/>
              </a:rPr>
              <a:t>Функция полезности фон Неймана – Моргенштерна и типы отношения к риску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Премия за риск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0" y="1557360"/>
            <a:ext cx="914400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6699"/>
                </a:solidFill>
                <a:latin typeface="Verdana"/>
              </a:rPr>
              <a:t>Риск</a:t>
            </a:r>
            <a:r>
              <a:rPr b="0" lang="ru-RU" sz="2900" spc="-1" strike="noStrike">
                <a:solidFill>
                  <a:srgbClr val="006699"/>
                </a:solidFill>
                <a:latin typeface="Verdana"/>
              </a:rPr>
              <a:t>: понятие, характеризующее изменчивость исходов в ситуации неопределенности.</a:t>
            </a:r>
            <a:endParaRPr b="0" lang="en-US" sz="29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1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6699"/>
                </a:solidFill>
                <a:latin typeface="Verdana"/>
              </a:rPr>
              <a:t>Несклонные к риску индивиды</a:t>
            </a:r>
            <a:r>
              <a:rPr b="0" lang="ru-RU" sz="2900" spc="-1" strike="noStrike">
                <a:solidFill>
                  <a:srgbClr val="006699"/>
                </a:solidFill>
                <a:latin typeface="Verdana"/>
              </a:rPr>
              <a:t> выберут из двух игр с одинаковой ожидаемой стоимостью ту, которая характеризуется меньшей изменчивостью доходности.</a:t>
            </a:r>
            <a:endParaRPr b="0" lang="en-US" sz="29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1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6699"/>
                </a:solidFill>
                <a:latin typeface="Verdana"/>
              </a:rPr>
              <a:t>Склонные к риску индивиды</a:t>
            </a:r>
            <a:r>
              <a:rPr b="0" lang="ru-RU" sz="2900" spc="-1" strike="noStrike">
                <a:solidFill>
                  <a:srgbClr val="006699"/>
                </a:solidFill>
                <a:latin typeface="Verdana"/>
              </a:rPr>
              <a:t>, наоборот, выберут игру с большей изменчивостью доходности.</a:t>
            </a:r>
            <a:endParaRPr b="0" lang="en-US" sz="29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331560"/>
            <a:ext cx="914400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1.4 Функция полезности фон Неймана – Моргенштерна и типы отношения к риску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66"/>
                </a:solidFill>
                <a:latin typeface="Verdana"/>
              </a:rPr>
              <a:t>2.1.4 Функция полезности фон Неймана – Моргенштерна и типы отношения к риску</a:t>
            </a:r>
            <a:endParaRPr b="0" lang="en-US" sz="3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6084720" y="184464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7812000" y="62229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755640" y="836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403280" y="909720"/>
            <a:ext cx="774072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Рисунок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.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 Полезность индивида, не склонного к риску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Line 7"/>
          <p:cNvSpPr/>
          <p:nvPr/>
        </p:nvSpPr>
        <p:spPr>
          <a:xfrm>
            <a:off x="1403280" y="981000"/>
            <a:ext cx="0" cy="532764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" name="Line 8"/>
          <p:cNvSpPr/>
          <p:nvPr/>
        </p:nvSpPr>
        <p:spPr>
          <a:xfrm>
            <a:off x="1403280" y="6308640"/>
            <a:ext cx="648180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Arc 9"/>
          <p:cNvSpPr/>
          <p:nvPr/>
        </p:nvSpPr>
        <p:spPr>
          <a:xfrm rot="16200000">
            <a:off x="1078560" y="2383200"/>
            <a:ext cx="5473800" cy="4824360"/>
          </a:xfrm>
          <a:custGeom>
            <a:avLst/>
            <a:gdLst>
              <a:gd name="textAreaLeft" fmla="*/ 0 w 5473800"/>
              <a:gd name="textAreaRight" fmla="*/ 5474160 w 5473800"/>
              <a:gd name="textAreaTop" fmla="*/ 0 h 4824360"/>
              <a:gd name="textAreaBottom" fmla="*/ 4824720 h 4824360"/>
            </a:gdLst>
            <a:ahLst/>
            <a:rect l="textAreaLeft" t="textAreaTop" r="textAreaRight" b="textAreaBottom"/>
            <a:pathLst>
              <a:path fill="none" w="21599" h="21043">
                <a:moveTo>
                  <a:pt x="4874" y="0"/>
                </a:moveTo>
                <a:cubicBezTo>
                  <a:pt x="14597" y="2252"/>
                  <a:pt x="21511" y="10873"/>
                  <a:pt x="21599" y="20852"/>
                </a:cubicBezTo>
              </a:path>
              <a:path stroke="0" w="21599" h="21043">
                <a:moveTo>
                  <a:pt x="4874" y="0"/>
                </a:moveTo>
                <a:cubicBezTo>
                  <a:pt x="14597" y="2252"/>
                  <a:pt x="21511" y="10873"/>
                  <a:pt x="21599" y="20852"/>
                </a:cubicBezTo>
                <a:lnTo>
                  <a:pt x="0" y="21043"/>
                </a:lnTo>
                <a:lnTo>
                  <a:pt x="4874" y="0"/>
                </a:lnTo>
                <a:close/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Line 29"/>
          <p:cNvSpPr/>
          <p:nvPr/>
        </p:nvSpPr>
        <p:spPr>
          <a:xfrm>
            <a:off x="1403280" y="2997360"/>
            <a:ext cx="2448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Line 30"/>
          <p:cNvSpPr/>
          <p:nvPr/>
        </p:nvSpPr>
        <p:spPr>
          <a:xfrm flipV="1">
            <a:off x="2700360" y="2276280"/>
            <a:ext cx="2232000" cy="1439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Line 32"/>
          <p:cNvSpPr/>
          <p:nvPr/>
        </p:nvSpPr>
        <p:spPr>
          <a:xfrm>
            <a:off x="3851280" y="2708280"/>
            <a:ext cx="0" cy="36003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Line 33"/>
          <p:cNvSpPr/>
          <p:nvPr/>
        </p:nvSpPr>
        <p:spPr>
          <a:xfrm>
            <a:off x="3448080" y="2997360"/>
            <a:ext cx="0" cy="33112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" name="Line 34"/>
          <p:cNvSpPr/>
          <p:nvPr/>
        </p:nvSpPr>
        <p:spPr>
          <a:xfrm flipV="1">
            <a:off x="1692360" y="2060280"/>
            <a:ext cx="4319640" cy="33130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Line 35"/>
          <p:cNvSpPr/>
          <p:nvPr/>
        </p:nvSpPr>
        <p:spPr>
          <a:xfrm flipH="1">
            <a:off x="1403280" y="3716280"/>
            <a:ext cx="2448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Line 36"/>
          <p:cNvSpPr/>
          <p:nvPr/>
        </p:nvSpPr>
        <p:spPr>
          <a:xfrm>
            <a:off x="1692360" y="5373720"/>
            <a:ext cx="0" cy="9349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" name="Line 37"/>
          <p:cNvSpPr/>
          <p:nvPr/>
        </p:nvSpPr>
        <p:spPr>
          <a:xfrm>
            <a:off x="2700360" y="3716280"/>
            <a:ext cx="0" cy="25923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2" name="Line 38"/>
          <p:cNvSpPr/>
          <p:nvPr/>
        </p:nvSpPr>
        <p:spPr>
          <a:xfrm>
            <a:off x="4932360" y="2276640"/>
            <a:ext cx="0" cy="4032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3" name="Line 39"/>
          <p:cNvSpPr/>
          <p:nvPr/>
        </p:nvSpPr>
        <p:spPr>
          <a:xfrm>
            <a:off x="6012000" y="2060640"/>
            <a:ext cx="0" cy="4248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4" name="Oval 40"/>
          <p:cNvSpPr/>
          <p:nvPr/>
        </p:nvSpPr>
        <p:spPr>
          <a:xfrm>
            <a:off x="3780000" y="36450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5" name="Oval 41"/>
          <p:cNvSpPr/>
          <p:nvPr/>
        </p:nvSpPr>
        <p:spPr>
          <a:xfrm>
            <a:off x="3376440" y="292428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6" name="Oval 42"/>
          <p:cNvSpPr/>
          <p:nvPr/>
        </p:nvSpPr>
        <p:spPr>
          <a:xfrm>
            <a:off x="3780000" y="29242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7" name="Line 43"/>
          <p:cNvSpPr/>
          <p:nvPr/>
        </p:nvSpPr>
        <p:spPr>
          <a:xfrm flipH="1">
            <a:off x="1403280" y="2708280"/>
            <a:ext cx="2448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8" name="Text Box 44"/>
          <p:cNvSpPr/>
          <p:nvPr/>
        </p:nvSpPr>
        <p:spPr>
          <a:xfrm>
            <a:off x="360360" y="2395440"/>
            <a:ext cx="11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9" name="Text Box 46"/>
          <p:cNvSpPr/>
          <p:nvPr/>
        </p:nvSpPr>
        <p:spPr>
          <a:xfrm>
            <a:off x="179280" y="2827440"/>
            <a:ext cx="13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0" name="Text Box 47"/>
          <p:cNvSpPr/>
          <p:nvPr/>
        </p:nvSpPr>
        <p:spPr>
          <a:xfrm>
            <a:off x="71280" y="3500280"/>
            <a:ext cx="15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m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52"/>
              <p:cNvSpPr txBox="1"/>
              <p:nvPr/>
            </p:nvSpPr>
            <p:spPr>
              <a:xfrm>
                <a:off x="5361120" y="6272280"/>
                <a:ext cx="13716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/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53"/>
              <p:cNvSpPr txBox="1"/>
              <p:nvPr/>
            </p:nvSpPr>
            <p:spPr>
              <a:xfrm>
                <a:off x="4340160" y="5805360"/>
                <a:ext cx="116856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/>
                    </m:sSup>
                    <m:r>
                      <m:t xml:space="preserve">+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Object 54"/>
              <p:cNvSpPr txBox="1"/>
              <p:nvPr/>
            </p:nvSpPr>
            <p:spPr>
              <a:xfrm>
                <a:off x="3708360" y="6272280"/>
                <a:ext cx="5079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55"/>
              <p:cNvSpPr txBox="1"/>
              <p:nvPr/>
            </p:nvSpPr>
            <p:spPr>
              <a:xfrm>
                <a:off x="3267000" y="6361200"/>
                <a:ext cx="3682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W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56"/>
              <p:cNvSpPr txBox="1"/>
              <p:nvPr/>
            </p:nvSpPr>
            <p:spPr>
              <a:xfrm>
                <a:off x="2179800" y="5805360"/>
                <a:ext cx="11682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/>
                    </m:sSup>
                    <m:r>
                      <m:t xml:space="preserve">−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57"/>
              <p:cNvSpPr txBox="1"/>
              <p:nvPr/>
            </p:nvSpPr>
            <p:spPr>
              <a:xfrm>
                <a:off x="981000" y="6272280"/>
                <a:ext cx="13590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/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179280" y="1268280"/>
            <a:ext cx="896472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Ожидаемая полезность 1-й игры: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Ожидаемая полезность 2-й игры: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Для несклонного к риску индивида: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5"/>
              <p:cNvSpPr txBox="1"/>
              <p:nvPr/>
            </p:nvSpPr>
            <p:spPr>
              <a:xfrm>
                <a:off x="1328760" y="1773360"/>
                <a:ext cx="643248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  <m:r>
                          <m:t xml:space="preserve">+</m:t>
                        </m:r>
                        <m:r>
                          <m:t xml:space="preserve">m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  <m:r>
                          <m:t xml:space="preserve">−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66"/>
                </a:solidFill>
                <a:latin typeface="Verdana"/>
              </a:rPr>
              <a:t>2.1.4 Функция полезности фон Неймана – Моргенштерна и типы отношения к риску</a:t>
            </a:r>
            <a:endParaRPr b="0" lang="en-US" sz="3000" spc="-1" strike="noStrike">
              <a:solidFill>
                <a:srgbClr val="00666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12"/>
              <p:cNvSpPr txBox="1"/>
              <p:nvPr/>
            </p:nvSpPr>
            <p:spPr>
              <a:xfrm>
                <a:off x="1042920" y="3522600"/>
                <a:ext cx="7061400" cy="98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m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13"/>
              <p:cNvSpPr txBox="1"/>
              <p:nvPr/>
            </p:nvSpPr>
            <p:spPr>
              <a:xfrm>
                <a:off x="2073240" y="5415120"/>
                <a:ext cx="494820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e>
                    </m:d>
                    <m:r>
                      <m:t xml:space="preserve">&gt;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e>
                    </m:d>
                    <m:r>
                      <m:t xml:space="preserve">&gt;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m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66"/>
                </a:solidFill>
                <a:latin typeface="Verdana"/>
              </a:rPr>
              <a:t>2.1.4 Функция полезности фон Неймана – Моргенштерна и типы отношения к риску</a:t>
            </a:r>
            <a:endParaRPr b="0" lang="en-US" sz="3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5" name="Line 23"/>
          <p:cNvSpPr/>
          <p:nvPr/>
        </p:nvSpPr>
        <p:spPr>
          <a:xfrm flipH="1">
            <a:off x="1403280" y="4906800"/>
            <a:ext cx="2448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6" name="Text Box 2"/>
          <p:cNvSpPr/>
          <p:nvPr/>
        </p:nvSpPr>
        <p:spPr>
          <a:xfrm>
            <a:off x="6372360" y="1773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7812000" y="62229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755640" y="836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403280" y="907560"/>
            <a:ext cx="7740720" cy="5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Рисунок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.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3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 Полезность индивида,  склонного к риску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0" name="Line 6"/>
          <p:cNvSpPr/>
          <p:nvPr/>
        </p:nvSpPr>
        <p:spPr>
          <a:xfrm>
            <a:off x="1403280" y="981000"/>
            <a:ext cx="0" cy="532764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1" name="Line 7"/>
          <p:cNvSpPr/>
          <p:nvPr/>
        </p:nvSpPr>
        <p:spPr>
          <a:xfrm>
            <a:off x="1403280" y="6308640"/>
            <a:ext cx="648180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2" name="Arc 8"/>
          <p:cNvSpPr/>
          <p:nvPr/>
        </p:nvSpPr>
        <p:spPr>
          <a:xfrm rot="5400000">
            <a:off x="1682280" y="684000"/>
            <a:ext cx="4465440" cy="5056200"/>
          </a:xfrm>
          <a:custGeom>
            <a:avLst/>
            <a:gdLst>
              <a:gd name="textAreaLeft" fmla="*/ 0 w 4465440"/>
              <a:gd name="textAreaRight" fmla="*/ 4465800 w 4465440"/>
              <a:gd name="textAreaTop" fmla="*/ 0 h 5056200"/>
              <a:gd name="textAreaBottom" fmla="*/ 5056200 h 5056200"/>
            </a:gdLst>
            <a:ahLst/>
            <a:rect l="textAreaLeft" t="textAreaTop" r="textAreaRight" b="textAreaBottom"/>
            <a:pathLst>
              <a:path fill="none" w="21599" h="21054">
                <a:moveTo>
                  <a:pt x="4827" y="0"/>
                </a:moveTo>
                <a:cubicBezTo>
                  <a:pt x="14573" y="2235"/>
                  <a:pt x="21511" y="10866"/>
                  <a:pt x="21599" y="20863"/>
                </a:cubicBezTo>
              </a:path>
              <a:path stroke="0" w="21599" h="21054">
                <a:moveTo>
                  <a:pt x="4827" y="0"/>
                </a:moveTo>
                <a:cubicBezTo>
                  <a:pt x="14573" y="2235"/>
                  <a:pt x="21511" y="10866"/>
                  <a:pt x="21599" y="20863"/>
                </a:cubicBezTo>
                <a:lnTo>
                  <a:pt x="0" y="21054"/>
                </a:lnTo>
                <a:lnTo>
                  <a:pt x="4827" y="0"/>
                </a:lnTo>
                <a:close/>
              </a:path>
            </a:pathLst>
          </a:custGeom>
          <a:noFill/>
          <a:ln w="572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3" name="Line 10"/>
          <p:cNvSpPr/>
          <p:nvPr/>
        </p:nvSpPr>
        <p:spPr>
          <a:xfrm>
            <a:off x="1403280" y="4221000"/>
            <a:ext cx="2448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4" name="Line 11"/>
          <p:cNvSpPr/>
          <p:nvPr/>
        </p:nvSpPr>
        <p:spPr>
          <a:xfrm flipV="1">
            <a:off x="2771640" y="4220640"/>
            <a:ext cx="2160720" cy="1079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3851280" y="4221000"/>
            <a:ext cx="0" cy="2087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6" name="Line 14"/>
          <p:cNvSpPr/>
          <p:nvPr/>
        </p:nvSpPr>
        <p:spPr>
          <a:xfrm flipV="1">
            <a:off x="1692360" y="2924280"/>
            <a:ext cx="4319640" cy="25207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7" name="Line 15"/>
          <p:cNvSpPr/>
          <p:nvPr/>
        </p:nvSpPr>
        <p:spPr>
          <a:xfrm flipH="1">
            <a:off x="1403280" y="4724280"/>
            <a:ext cx="2448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8" name="Line 16"/>
          <p:cNvSpPr/>
          <p:nvPr/>
        </p:nvSpPr>
        <p:spPr>
          <a:xfrm>
            <a:off x="1692360" y="544500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9" name="Line 17"/>
          <p:cNvSpPr/>
          <p:nvPr/>
        </p:nvSpPr>
        <p:spPr>
          <a:xfrm>
            <a:off x="2771640" y="5300640"/>
            <a:ext cx="0" cy="1008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0" name="Line 18"/>
          <p:cNvSpPr/>
          <p:nvPr/>
        </p:nvSpPr>
        <p:spPr>
          <a:xfrm>
            <a:off x="4932360" y="4221000"/>
            <a:ext cx="0" cy="2087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1" name="Line 19"/>
          <p:cNvSpPr/>
          <p:nvPr/>
        </p:nvSpPr>
        <p:spPr>
          <a:xfrm>
            <a:off x="6012000" y="2924280"/>
            <a:ext cx="0" cy="33843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2" name="Oval 20"/>
          <p:cNvSpPr/>
          <p:nvPr/>
        </p:nvSpPr>
        <p:spPr>
          <a:xfrm>
            <a:off x="3780000" y="484020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3" name="Oval 21"/>
          <p:cNvSpPr/>
          <p:nvPr/>
        </p:nvSpPr>
        <p:spPr>
          <a:xfrm>
            <a:off x="3780000" y="46530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4" name="Oval 22"/>
          <p:cNvSpPr/>
          <p:nvPr/>
        </p:nvSpPr>
        <p:spPr>
          <a:xfrm>
            <a:off x="3780000" y="414972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27"/>
              <p:cNvSpPr txBox="1"/>
              <p:nvPr/>
            </p:nvSpPr>
            <p:spPr>
              <a:xfrm>
                <a:off x="5521320" y="6316560"/>
                <a:ext cx="11937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28"/>
              <p:cNvSpPr txBox="1"/>
              <p:nvPr/>
            </p:nvSpPr>
            <p:spPr>
              <a:xfrm>
                <a:off x="4494240" y="5850000"/>
                <a:ext cx="10033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+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30"/>
              <p:cNvSpPr txBox="1"/>
              <p:nvPr/>
            </p:nvSpPr>
            <p:spPr>
              <a:xfrm>
                <a:off x="3699000" y="6361200"/>
                <a:ext cx="3682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W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31"/>
              <p:cNvSpPr txBox="1"/>
              <p:nvPr/>
            </p:nvSpPr>
            <p:spPr>
              <a:xfrm>
                <a:off x="2351160" y="5850000"/>
                <a:ext cx="10033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−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32"/>
              <p:cNvSpPr txBox="1"/>
              <p:nvPr/>
            </p:nvSpPr>
            <p:spPr>
              <a:xfrm>
                <a:off x="1198440" y="6316560"/>
                <a:ext cx="11937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33"/>
              <p:cNvSpPr txBox="1"/>
              <p:nvPr/>
            </p:nvSpPr>
            <p:spPr>
              <a:xfrm>
                <a:off x="4502160" y="4759200"/>
                <a:ext cx="453384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</m:d>
                    <m:r>
                      <m:t xml:space="preserve">&lt;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</m:d>
                    <m:r>
                      <m:t xml:space="preserve">&lt;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m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34"/>
              <p:cNvSpPr txBox="1"/>
              <p:nvPr/>
            </p:nvSpPr>
            <p:spPr>
              <a:xfrm>
                <a:off x="495360" y="4843440"/>
                <a:ext cx="8888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35"/>
              <p:cNvSpPr txBox="1"/>
              <p:nvPr/>
            </p:nvSpPr>
            <p:spPr>
              <a:xfrm>
                <a:off x="82440" y="3789360"/>
                <a:ext cx="13208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m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36"/>
              <p:cNvSpPr txBox="1"/>
              <p:nvPr/>
            </p:nvSpPr>
            <p:spPr>
              <a:xfrm>
                <a:off x="250920" y="4292640"/>
                <a:ext cx="11556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Line 34"/>
          <p:cNvSpPr/>
          <p:nvPr/>
        </p:nvSpPr>
        <p:spPr>
          <a:xfrm>
            <a:off x="2195640" y="5300640"/>
            <a:ext cx="136836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6" name="Line 32"/>
          <p:cNvSpPr/>
          <p:nvPr/>
        </p:nvSpPr>
        <p:spPr>
          <a:xfrm flipV="1">
            <a:off x="2195640" y="2349360"/>
            <a:ext cx="5329080" cy="395928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7524720" y="206064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8" name="Text Box 4"/>
          <p:cNvSpPr/>
          <p:nvPr/>
        </p:nvSpPr>
        <p:spPr>
          <a:xfrm>
            <a:off x="8388360" y="62229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9" name="Text Box 5"/>
          <p:cNvSpPr/>
          <p:nvPr/>
        </p:nvSpPr>
        <p:spPr>
          <a:xfrm>
            <a:off x="1692360" y="7650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1403280" y="837720"/>
            <a:ext cx="7740720" cy="5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Рисунок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.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4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 Полезность индивида,  нейтрального к риску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1" name="Line 7"/>
          <p:cNvSpPr/>
          <p:nvPr/>
        </p:nvSpPr>
        <p:spPr>
          <a:xfrm>
            <a:off x="2195640" y="981000"/>
            <a:ext cx="0" cy="532764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2" name="Line 8"/>
          <p:cNvSpPr/>
          <p:nvPr/>
        </p:nvSpPr>
        <p:spPr>
          <a:xfrm>
            <a:off x="2193840" y="6308640"/>
            <a:ext cx="648180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66"/>
                </a:solidFill>
                <a:latin typeface="Verdana"/>
              </a:rPr>
              <a:t>2.1.4 Функция полезности фон Неймана – Моргенштерна и типы отношения к риску</a:t>
            </a:r>
            <a:endParaRPr b="0" lang="en-US" sz="3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4" name="Line 11"/>
          <p:cNvSpPr/>
          <p:nvPr/>
        </p:nvSpPr>
        <p:spPr>
          <a:xfrm>
            <a:off x="2195640" y="4508640"/>
            <a:ext cx="24476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5" name="Line 13"/>
          <p:cNvSpPr/>
          <p:nvPr/>
        </p:nvSpPr>
        <p:spPr>
          <a:xfrm>
            <a:off x="4643280" y="4508640"/>
            <a:ext cx="0" cy="1800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6" name="Line 17"/>
          <p:cNvSpPr/>
          <p:nvPr/>
        </p:nvSpPr>
        <p:spPr>
          <a:xfrm>
            <a:off x="3564000" y="5300640"/>
            <a:ext cx="0" cy="1008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7" name="Line 19"/>
          <p:cNvSpPr/>
          <p:nvPr/>
        </p:nvSpPr>
        <p:spPr>
          <a:xfrm>
            <a:off x="6804000" y="2924280"/>
            <a:ext cx="0" cy="33843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8" name="Oval 20"/>
          <p:cNvSpPr/>
          <p:nvPr/>
        </p:nvSpPr>
        <p:spPr>
          <a:xfrm>
            <a:off x="3490920" y="522936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9" name="Oval 21"/>
          <p:cNvSpPr/>
          <p:nvPr/>
        </p:nvSpPr>
        <p:spPr>
          <a:xfrm>
            <a:off x="4572000" y="44370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Object 23"/>
              <p:cNvSpPr txBox="1"/>
              <p:nvPr/>
            </p:nvSpPr>
            <p:spPr>
              <a:xfrm>
                <a:off x="6168960" y="6272280"/>
                <a:ext cx="12826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/>
                    </m:sSup>
                    <m:r>
                      <m:t xml:space="preserve">+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25"/>
              <p:cNvSpPr txBox="1"/>
              <p:nvPr/>
            </p:nvSpPr>
            <p:spPr>
              <a:xfrm>
                <a:off x="4424400" y="6316560"/>
                <a:ext cx="50796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26"/>
              <p:cNvSpPr txBox="1"/>
              <p:nvPr/>
            </p:nvSpPr>
            <p:spPr>
              <a:xfrm>
                <a:off x="3022560" y="6308640"/>
                <a:ext cx="11178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/>
                    </m:sSup>
                    <m:r>
                      <m:t xml:space="preserve">−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28"/>
              <p:cNvSpPr txBox="1"/>
              <p:nvPr/>
            </p:nvSpPr>
            <p:spPr>
              <a:xfrm>
                <a:off x="4073400" y="4759200"/>
                <a:ext cx="496260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m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29"/>
              <p:cNvSpPr txBox="1"/>
              <p:nvPr/>
            </p:nvSpPr>
            <p:spPr>
              <a:xfrm>
                <a:off x="536400" y="5040360"/>
                <a:ext cx="15876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  <m:r>
                          <m:t xml:space="preserve">−</m:t>
                        </m:r>
                        <m:r>
                          <m:t xml:space="preserve">L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Object 31"/>
              <p:cNvSpPr txBox="1"/>
              <p:nvPr/>
            </p:nvSpPr>
            <p:spPr>
              <a:xfrm>
                <a:off x="1120680" y="4292640"/>
                <a:ext cx="10033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6" name="Line 33"/>
          <p:cNvSpPr/>
          <p:nvPr/>
        </p:nvSpPr>
        <p:spPr>
          <a:xfrm>
            <a:off x="2195640" y="2852640"/>
            <a:ext cx="460836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7" name="Oval 22"/>
          <p:cNvSpPr/>
          <p:nvPr/>
        </p:nvSpPr>
        <p:spPr>
          <a:xfrm>
            <a:off x="6732720" y="280044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Object 35"/>
              <p:cNvSpPr txBox="1"/>
              <p:nvPr/>
            </p:nvSpPr>
            <p:spPr>
              <a:xfrm>
                <a:off x="385920" y="2492280"/>
                <a:ext cx="17524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  <m:r>
                          <m:t xml:space="preserve">+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138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Verdana"/>
              </a:rPr>
              <a:t>I. </a:t>
            </a:r>
            <a:r>
              <a:rPr b="0" lang="ru-RU" sz="3600" spc="-1" strike="noStrike">
                <a:solidFill>
                  <a:srgbClr val="0000ff"/>
                </a:solidFill>
                <a:latin typeface="Verdana"/>
              </a:rPr>
              <a:t>Вероятность, ожидаемая стоимость и гипотеза ожидаемой полезности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Вероятность, ожидаемая стоимость и отклонения от нее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Актуарно справедливые игры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Гипотеза ожидаемой полезности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Функция полезности фон Неймана – Моргенштерна и типы отношения к риску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ff"/>
                </a:solidFill>
                <a:latin typeface="Verdana"/>
              </a:rPr>
              <a:t>Премия за риск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66"/>
                </a:solidFill>
                <a:latin typeface="Verdana"/>
              </a:rPr>
              <a:t>2.1.5 Премия за риск</a:t>
            </a:r>
            <a:endParaRPr b="0" lang="en-US" sz="3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6084720" y="184464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7812000" y="62229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755640" y="836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03280" y="764640"/>
            <a:ext cx="7740720" cy="5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Рисунок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.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5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 Премия за риск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8" name="Line 7"/>
          <p:cNvSpPr/>
          <p:nvPr/>
        </p:nvSpPr>
        <p:spPr>
          <a:xfrm>
            <a:off x="1403280" y="981000"/>
            <a:ext cx="0" cy="532764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9" name="Line 8"/>
          <p:cNvSpPr/>
          <p:nvPr/>
        </p:nvSpPr>
        <p:spPr>
          <a:xfrm>
            <a:off x="1403280" y="6308640"/>
            <a:ext cx="648180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0" name="Arc 9"/>
          <p:cNvSpPr/>
          <p:nvPr/>
        </p:nvSpPr>
        <p:spPr>
          <a:xfrm rot="16200000">
            <a:off x="1078560" y="2383200"/>
            <a:ext cx="5473800" cy="4824360"/>
          </a:xfrm>
          <a:custGeom>
            <a:avLst/>
            <a:gdLst>
              <a:gd name="textAreaLeft" fmla="*/ 0 w 5473800"/>
              <a:gd name="textAreaRight" fmla="*/ 5474160 w 5473800"/>
              <a:gd name="textAreaTop" fmla="*/ 0 h 4824360"/>
              <a:gd name="textAreaBottom" fmla="*/ 4824720 h 4824360"/>
            </a:gdLst>
            <a:ahLst/>
            <a:rect l="textAreaLeft" t="textAreaTop" r="textAreaRight" b="textAreaBottom"/>
            <a:pathLst>
              <a:path fill="none" w="21599" h="21043">
                <a:moveTo>
                  <a:pt x="4874" y="0"/>
                </a:moveTo>
                <a:cubicBezTo>
                  <a:pt x="14597" y="2252"/>
                  <a:pt x="21511" y="10873"/>
                  <a:pt x="21599" y="20852"/>
                </a:cubicBezTo>
              </a:path>
              <a:path stroke="0" w="21599" h="21043">
                <a:moveTo>
                  <a:pt x="4874" y="0"/>
                </a:moveTo>
                <a:cubicBezTo>
                  <a:pt x="14597" y="2252"/>
                  <a:pt x="21511" y="10873"/>
                  <a:pt x="21599" y="20852"/>
                </a:cubicBezTo>
                <a:lnTo>
                  <a:pt x="0" y="21043"/>
                </a:lnTo>
                <a:lnTo>
                  <a:pt x="4874" y="0"/>
                </a:lnTo>
                <a:close/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1" name="Line 12"/>
          <p:cNvSpPr/>
          <p:nvPr/>
        </p:nvSpPr>
        <p:spPr>
          <a:xfrm>
            <a:off x="3851280" y="3716280"/>
            <a:ext cx="0" cy="25923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2" name="Line 14"/>
          <p:cNvSpPr/>
          <p:nvPr/>
        </p:nvSpPr>
        <p:spPr>
          <a:xfrm flipV="1">
            <a:off x="1692360" y="2060280"/>
            <a:ext cx="4319640" cy="33130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3" name="Line 15"/>
          <p:cNvSpPr/>
          <p:nvPr/>
        </p:nvSpPr>
        <p:spPr>
          <a:xfrm flipH="1">
            <a:off x="1403280" y="3716280"/>
            <a:ext cx="2448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4" name="Line 16"/>
          <p:cNvSpPr/>
          <p:nvPr/>
        </p:nvSpPr>
        <p:spPr>
          <a:xfrm>
            <a:off x="1692360" y="5373720"/>
            <a:ext cx="0" cy="9349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5" name="Line 17"/>
          <p:cNvSpPr/>
          <p:nvPr/>
        </p:nvSpPr>
        <p:spPr>
          <a:xfrm>
            <a:off x="2700360" y="3716280"/>
            <a:ext cx="0" cy="25923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6" name="Line 19"/>
          <p:cNvSpPr/>
          <p:nvPr/>
        </p:nvSpPr>
        <p:spPr>
          <a:xfrm>
            <a:off x="6012000" y="2060640"/>
            <a:ext cx="0" cy="4248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7" name="Oval 20"/>
          <p:cNvSpPr/>
          <p:nvPr/>
        </p:nvSpPr>
        <p:spPr>
          <a:xfrm>
            <a:off x="3780000" y="36450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8" name="Oval 21"/>
          <p:cNvSpPr/>
          <p:nvPr/>
        </p:nvSpPr>
        <p:spPr>
          <a:xfrm>
            <a:off x="2627280" y="36450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9" name="Text Box 26"/>
          <p:cNvSpPr/>
          <p:nvPr/>
        </p:nvSpPr>
        <p:spPr>
          <a:xfrm>
            <a:off x="216000" y="3500280"/>
            <a:ext cx="13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Object 27"/>
              <p:cNvSpPr txBox="1"/>
              <p:nvPr/>
            </p:nvSpPr>
            <p:spPr>
              <a:xfrm>
                <a:off x="5532480" y="6316560"/>
                <a:ext cx="10285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+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29"/>
              <p:cNvSpPr txBox="1"/>
              <p:nvPr/>
            </p:nvSpPr>
            <p:spPr>
              <a:xfrm>
                <a:off x="2484360" y="6272280"/>
                <a:ext cx="5079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Object 30"/>
              <p:cNvSpPr txBox="1"/>
              <p:nvPr/>
            </p:nvSpPr>
            <p:spPr>
              <a:xfrm>
                <a:off x="3699000" y="6361200"/>
                <a:ext cx="3682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W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32"/>
              <p:cNvSpPr txBox="1"/>
              <p:nvPr/>
            </p:nvSpPr>
            <p:spPr>
              <a:xfrm>
                <a:off x="1146240" y="6316560"/>
                <a:ext cx="10285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−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893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рикладные аспекты теории потребительского выбора и спрос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a2f06"/>
                </a:solidFill>
                <a:latin typeface="Verdana"/>
              </a:rPr>
              <a:t>Выбор потребителя в условиях неопределенности и риск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Теория производства, издержек и выбора максимизирующей прибыль фирмы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Рыночные структуры несовершенной конкуренци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138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cc33"/>
                </a:solidFill>
                <a:latin typeface="Verdana"/>
              </a:rPr>
              <a:t>II. </a:t>
            </a:r>
            <a:r>
              <a:rPr b="0" lang="ru-RU" sz="3500" spc="-1" strike="noStrike">
                <a:solidFill>
                  <a:srgbClr val="33cc33"/>
                </a:solidFill>
                <a:latin typeface="Verdana"/>
              </a:rPr>
              <a:t>Выбор в условиях неопределенности в пространстве обусловленных благ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ff"/>
                </a:solidFill>
                <a:latin typeface="Verdana"/>
              </a:rPr>
              <a:t>Вероятностные состояния как обусловленные блага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Карты кривых безразличия в пространстве обусловленных благ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Бюджетная линия в пространстве обусловленных благ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Оптимальный выбор индивидов в пространстве обусловленных благ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2"/>
          <p:cNvSpPr/>
          <p:nvPr/>
        </p:nvSpPr>
        <p:spPr>
          <a:xfrm>
            <a:off x="179280" y="1268280"/>
            <a:ext cx="896472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99"/>
                </a:solidFill>
                <a:latin typeface="Verdana"/>
              </a:rPr>
              <a:t>W</a:t>
            </a:r>
            <a:r>
              <a:rPr b="0" lang="en-US" sz="3000" spc="-1" strike="noStrike" baseline="-25000">
                <a:solidFill>
                  <a:srgbClr val="006699"/>
                </a:solidFill>
                <a:latin typeface="Verdana"/>
              </a:rPr>
              <a:t>g</a:t>
            </a:r>
            <a:r>
              <a:rPr b="0" lang="en-US" sz="3000" spc="-1" strike="noStrike">
                <a:solidFill>
                  <a:srgbClr val="006699"/>
                </a:solidFill>
                <a:latin typeface="Verdana"/>
              </a:rPr>
              <a:t> – </a:t>
            </a: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богатство индивида при «хорошем» исходе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99"/>
                </a:solidFill>
                <a:latin typeface="Verdana"/>
              </a:rPr>
              <a:t>W</a:t>
            </a:r>
            <a:r>
              <a:rPr b="0" lang="en-US" sz="3000" spc="-1" strike="noStrike" baseline="-25000">
                <a:solidFill>
                  <a:srgbClr val="006699"/>
                </a:solidFill>
                <a:latin typeface="Verdana"/>
              </a:rPr>
              <a:t>b</a:t>
            </a:r>
            <a:r>
              <a:rPr b="0" lang="en-US" sz="3000" spc="-1" strike="noStrike">
                <a:solidFill>
                  <a:srgbClr val="006699"/>
                </a:solidFill>
                <a:latin typeface="Verdana"/>
              </a:rPr>
              <a:t> – </a:t>
            </a: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богатство индивида при «плохом» исходе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Ожидаемая полезность индивида: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66"/>
                </a:solidFill>
                <a:latin typeface="Verdana"/>
              </a:rPr>
              <a:t>2.2.1 Вероятностные состояния как обусловленные блага</a:t>
            </a:r>
            <a:endParaRPr b="0" lang="en-US" sz="3000" spc="-1" strike="noStrike">
              <a:solidFill>
                <a:srgbClr val="00666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5"/>
              <p:cNvSpPr txBox="1"/>
              <p:nvPr/>
            </p:nvSpPr>
            <p:spPr>
              <a:xfrm>
                <a:off x="985680" y="4594320"/>
                <a:ext cx="71740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</m:d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cc33"/>
                </a:solidFill>
                <a:latin typeface="Verdana"/>
              </a:rPr>
              <a:t>II. </a:t>
            </a:r>
            <a:r>
              <a:rPr b="0" lang="ru-RU" sz="3900" spc="-1" strike="noStrike">
                <a:solidFill>
                  <a:srgbClr val="33cc33"/>
                </a:solidFill>
                <a:latin typeface="Verdana"/>
              </a:rPr>
              <a:t>Выбор в условиях неопределенности в пространстве обусловленных благ</a:t>
            </a:r>
            <a:endParaRPr b="0" lang="en-US" sz="39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Вероятностные состояния как обусловленные блага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ff"/>
                </a:solidFill>
                <a:latin typeface="Verdana"/>
              </a:rPr>
              <a:t>Карты кривых безразличия в пространстве обусловленных благ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Бюджетная линия в пространстве обусловленных благ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Оптимальный выбор индивидов в пространстве обусловленных благ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6"/>
          <p:cNvSpPr/>
          <p:nvPr/>
        </p:nvSpPr>
        <p:spPr>
          <a:xfrm>
            <a:off x="7885080" y="6078600"/>
            <a:ext cx="8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6" name="Text Box 7"/>
          <p:cNvSpPr/>
          <p:nvPr/>
        </p:nvSpPr>
        <p:spPr>
          <a:xfrm>
            <a:off x="250920" y="1557360"/>
            <a:ext cx="100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1437840" y="1125360"/>
            <a:ext cx="77058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6699"/>
                </a:solidFill>
                <a:latin typeface="Verdana"/>
              </a:rPr>
              <a:t>Рисунок 2.</a:t>
            </a:r>
            <a:r>
              <a:rPr b="0" i="1" lang="en-US" sz="2500" spc="-1" strike="noStrike">
                <a:solidFill>
                  <a:srgbClr val="006699"/>
                </a:solidFill>
                <a:latin typeface="Verdana"/>
              </a:rPr>
              <a:t>6</a:t>
            </a:r>
            <a:r>
              <a:rPr b="0" i="1" lang="ru-RU" sz="2500" spc="-1" strike="noStrike">
                <a:solidFill>
                  <a:srgbClr val="006699"/>
                </a:solidFill>
                <a:latin typeface="Verdana"/>
              </a:rPr>
              <a:t> Кривые безразличия в пространстве обусловленных благ </a:t>
            </a: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8" name="Line 10"/>
          <p:cNvSpPr/>
          <p:nvPr/>
        </p:nvSpPr>
        <p:spPr>
          <a:xfrm>
            <a:off x="971640" y="1844640"/>
            <a:ext cx="0" cy="446400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9" name="Line 11"/>
          <p:cNvSpPr/>
          <p:nvPr/>
        </p:nvSpPr>
        <p:spPr>
          <a:xfrm>
            <a:off x="971640" y="6308640"/>
            <a:ext cx="698508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0" name="Arc 13"/>
          <p:cNvSpPr/>
          <p:nvPr/>
        </p:nvSpPr>
        <p:spPr>
          <a:xfrm rot="11032200">
            <a:off x="2064960" y="1847520"/>
            <a:ext cx="4932360" cy="3441600"/>
          </a:xfrm>
          <a:custGeom>
            <a:avLst/>
            <a:gdLst>
              <a:gd name="textAreaLeft" fmla="*/ 0 w 4932360"/>
              <a:gd name="textAreaRight" fmla="*/ 4932720 w 4932360"/>
              <a:gd name="textAreaTop" fmla="*/ 0 h 3441600"/>
              <a:gd name="textAreaBottom" fmla="*/ 3441960 h 3441600"/>
            </a:gdLst>
            <a:ahLst/>
            <a:rect l="textAreaLeft" t="textAreaTop" r="textAreaRight" b="textAreaBottom"/>
            <a:pathLst>
              <a:path fill="none" w="21442" h="20245">
                <a:moveTo>
                  <a:pt x="7529" y="0"/>
                </a:moveTo>
                <a:cubicBezTo>
                  <a:pt x="15099" y="2815"/>
                  <a:pt x="20465" y="9617"/>
                  <a:pt x="21441" y="17634"/>
                </a:cubicBezTo>
              </a:path>
              <a:path stroke="0" w="21442" h="20245">
                <a:moveTo>
                  <a:pt x="7529" y="0"/>
                </a:moveTo>
                <a:cubicBezTo>
                  <a:pt x="15099" y="2815"/>
                  <a:pt x="20465" y="9617"/>
                  <a:pt x="21441" y="17634"/>
                </a:cubicBezTo>
                <a:lnTo>
                  <a:pt x="0" y="20245"/>
                </a:lnTo>
                <a:lnTo>
                  <a:pt x="7529" y="0"/>
                </a:lnTo>
                <a:close/>
              </a:path>
            </a:pathLst>
          </a:custGeom>
          <a:noFill/>
          <a:ln w="5724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1" name="Text Box 24"/>
          <p:cNvSpPr/>
          <p:nvPr/>
        </p:nvSpPr>
        <p:spPr>
          <a:xfrm>
            <a:off x="5076720" y="5084640"/>
            <a:ext cx="57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2" name="Line 28"/>
          <p:cNvSpPr/>
          <p:nvPr/>
        </p:nvSpPr>
        <p:spPr>
          <a:xfrm flipV="1">
            <a:off x="971640" y="1988640"/>
            <a:ext cx="4321080" cy="431964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3" name="Line 29"/>
          <p:cNvSpPr/>
          <p:nvPr/>
        </p:nvSpPr>
        <p:spPr>
          <a:xfrm>
            <a:off x="1908000" y="2924280"/>
            <a:ext cx="2664000" cy="266544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2.2 Карты кривых безразличия в пространстве обусловленных благ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5" name="Arc 37"/>
          <p:cNvSpPr/>
          <p:nvPr/>
        </p:nvSpPr>
        <p:spPr>
          <a:xfrm rot="2215800">
            <a:off x="395280" y="5516280"/>
            <a:ext cx="1380960" cy="1495440"/>
          </a:xfrm>
          <a:custGeom>
            <a:avLst/>
            <a:gdLst>
              <a:gd name="textAreaLeft" fmla="*/ 0 w 1380960"/>
              <a:gd name="textAreaRight" fmla="*/ 1381320 w 1380960"/>
              <a:gd name="textAreaTop" fmla="*/ 0 h 1495440"/>
              <a:gd name="textAreaBottom" fmla="*/ 1495800 h 1495440"/>
            </a:gdLst>
            <a:ahLst/>
            <a:rect l="textAreaLeft" t="textAreaTop" r="textAreaRight" b="textAreaBottom"/>
            <a:pathLst>
              <a:path fill="none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</a:path>
              <a:path stroke="0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  <a:lnTo>
                  <a:pt x="0" y="20400"/>
                </a:lnTo>
                <a:lnTo>
                  <a:pt x="7099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Object 38"/>
              <p:cNvSpPr txBox="1"/>
              <p:nvPr/>
            </p:nvSpPr>
            <p:spPr>
              <a:xfrm>
                <a:off x="2604960" y="4797360"/>
                <a:ext cx="7876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7" name="Line 39"/>
          <p:cNvSpPr/>
          <p:nvPr/>
        </p:nvSpPr>
        <p:spPr>
          <a:xfrm flipV="1">
            <a:off x="3132000" y="4292640"/>
            <a:ext cx="0" cy="50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Object 40"/>
              <p:cNvSpPr txBox="1"/>
              <p:nvPr/>
            </p:nvSpPr>
            <p:spPr>
              <a:xfrm>
                <a:off x="1979640" y="5734080"/>
                <a:ext cx="520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0" y="1052640"/>
            <a:ext cx="914400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Предельная норма замещения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показывает пропорцию, в которой индивид готов заместить товар, количество которого отложено по вертикальной оси (богатство при «плохом» исходе), товаром, количество которого отложено по горизонтальной оси (богатство при «хорошем» исходе)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ри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6699"/>
                </a:solidFill>
                <a:latin typeface="Verdana"/>
              </a:rPr>
              <a:t>g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=W</a:t>
            </a:r>
            <a:r>
              <a:rPr b="0" lang="en-US" sz="2800" spc="-1" strike="noStrike" baseline="-25000">
                <a:solidFill>
                  <a:srgbClr val="006699"/>
                </a:solidFill>
                <a:latin typeface="Verdana"/>
              </a:rPr>
              <a:t>b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Object 4"/>
              <p:cNvSpPr txBox="1"/>
              <p:nvPr/>
            </p:nvSpPr>
            <p:spPr>
              <a:xfrm>
                <a:off x="2768760" y="4076640"/>
                <a:ext cx="3608280" cy="11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R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u</m:t>
                        </m:r>
                        <m:r>
                          <m:t xml:space="preserve">'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  <m:r>
                          <m:t xml:space="preserve">u</m:t>
                        </m:r>
                        <m:r>
                          <m:t xml:space="preserve">'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2.2 Карты кривых безразличия в пространстве обусловленных благ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Object 8"/>
              <p:cNvSpPr txBox="1"/>
              <p:nvPr/>
            </p:nvSpPr>
            <p:spPr>
              <a:xfrm>
                <a:off x="3276720" y="5479920"/>
                <a:ext cx="245412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R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Line 3"/>
          <p:cNvSpPr/>
          <p:nvPr/>
        </p:nvSpPr>
        <p:spPr>
          <a:xfrm flipV="1">
            <a:off x="611280" y="1915920"/>
            <a:ext cx="0" cy="4392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6" name="Line 4"/>
          <p:cNvSpPr/>
          <p:nvPr/>
        </p:nvSpPr>
        <p:spPr>
          <a:xfrm>
            <a:off x="611280" y="6308640"/>
            <a:ext cx="2448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7" name="Line 5"/>
          <p:cNvSpPr/>
          <p:nvPr/>
        </p:nvSpPr>
        <p:spPr>
          <a:xfrm flipV="1">
            <a:off x="3419640" y="1988640"/>
            <a:ext cx="0" cy="4319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8" name="Line 6"/>
          <p:cNvSpPr/>
          <p:nvPr/>
        </p:nvSpPr>
        <p:spPr>
          <a:xfrm flipV="1">
            <a:off x="6300720" y="2060640"/>
            <a:ext cx="0" cy="4248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9" name="Line 7"/>
          <p:cNvSpPr/>
          <p:nvPr/>
        </p:nvSpPr>
        <p:spPr>
          <a:xfrm>
            <a:off x="3419640" y="6308640"/>
            <a:ext cx="2447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0" name="Line 8"/>
          <p:cNvSpPr/>
          <p:nvPr/>
        </p:nvSpPr>
        <p:spPr>
          <a:xfrm>
            <a:off x="6300720" y="6308640"/>
            <a:ext cx="2448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1" name="Line 27"/>
          <p:cNvSpPr/>
          <p:nvPr/>
        </p:nvSpPr>
        <p:spPr>
          <a:xfrm>
            <a:off x="971640" y="3357720"/>
            <a:ext cx="1439640" cy="187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2" name="Arc 30"/>
          <p:cNvSpPr/>
          <p:nvPr/>
        </p:nvSpPr>
        <p:spPr>
          <a:xfrm flipV="1" rot="16596600">
            <a:off x="6809040" y="3938040"/>
            <a:ext cx="1368360" cy="1500480"/>
          </a:xfrm>
          <a:custGeom>
            <a:avLst/>
            <a:gdLst>
              <a:gd name="textAreaLeft" fmla="*/ 0 w 1368360"/>
              <a:gd name="textAreaRight" fmla="*/ 1368720 w 1368360"/>
              <a:gd name="textAreaTop" fmla="*/ 360 h 1500480"/>
              <a:gd name="textAreaBottom" fmla="*/ 1501200 h 1500480"/>
            </a:gdLst>
            <a:ahLst/>
            <a:rect l="textAreaLeft" t="textAreaTop" r="textAreaRight" b="textAreaBottom"/>
            <a:pathLst>
              <a:path fill="none" w="21600" h="23689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1645"/>
                  <a:pt x="21526" y="22671"/>
                  <a:pt x="21380" y="23688"/>
                </a:cubicBezTo>
              </a:path>
              <a:path stroke="0" w="21600" h="23689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1645"/>
                  <a:pt x="21526" y="22671"/>
                  <a:pt x="21380" y="23688"/>
                </a:cubicBezTo>
                <a:lnTo>
                  <a:pt x="0" y="20618"/>
                </a:lnTo>
                <a:lnTo>
                  <a:pt x="6437" y="-1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3" name="Arc 33"/>
          <p:cNvSpPr/>
          <p:nvPr/>
        </p:nvSpPr>
        <p:spPr>
          <a:xfrm flipV="1" rot="5911200">
            <a:off x="2944440" y="2985120"/>
            <a:ext cx="3665520" cy="1830240"/>
          </a:xfrm>
          <a:custGeom>
            <a:avLst/>
            <a:gdLst>
              <a:gd name="textAreaLeft" fmla="*/ 0 w 3665520"/>
              <a:gd name="textAreaRight" fmla="*/ 3665880 w 3665520"/>
              <a:gd name="textAreaTop" fmla="*/ 360 h 1830240"/>
              <a:gd name="textAreaBottom" fmla="*/ 1830960 h 1830240"/>
            </a:gdLst>
            <a:ahLst/>
            <a:rect l="textAreaLeft" t="textAreaTop" r="textAreaRight" b="textAreaBottom"/>
            <a:pathLst>
              <a:path fill="none" w="21600" h="21309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0848"/>
                  <a:pt x="21596" y="21078"/>
                  <a:pt x="21588" y="21308"/>
                </a:cubicBezTo>
              </a:path>
              <a:path stroke="0" w="21600" h="21309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0848"/>
                  <a:pt x="21596" y="21078"/>
                  <a:pt x="21588" y="21308"/>
                </a:cubicBezTo>
                <a:lnTo>
                  <a:pt x="0" y="20618"/>
                </a:lnTo>
                <a:lnTo>
                  <a:pt x="6437" y="-1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4" name="Arc 35"/>
          <p:cNvSpPr/>
          <p:nvPr/>
        </p:nvSpPr>
        <p:spPr>
          <a:xfrm flipV="1" rot="16392000">
            <a:off x="7166880" y="3359520"/>
            <a:ext cx="1368360" cy="1505520"/>
          </a:xfrm>
          <a:custGeom>
            <a:avLst/>
            <a:gdLst>
              <a:gd name="textAreaLeft" fmla="*/ 0 w 1368360"/>
              <a:gd name="textAreaRight" fmla="*/ 1368720 w 1368360"/>
              <a:gd name="textAreaTop" fmla="*/ 360 h 1505520"/>
              <a:gd name="textAreaBottom" fmla="*/ 1506240 h 1505520"/>
            </a:gdLst>
            <a:ahLst/>
            <a:rect l="textAreaLeft" t="textAreaTop" r="textAreaRight" b="textAreaBottom"/>
            <a:pathLst>
              <a:path fill="none" w="21600" h="23763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1670"/>
                  <a:pt x="21523" y="22721"/>
                  <a:pt x="21369" y="23762"/>
                </a:cubicBezTo>
              </a:path>
              <a:path stroke="0" w="21600" h="23763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1670"/>
                  <a:pt x="21523" y="22721"/>
                  <a:pt x="21369" y="23762"/>
                </a:cubicBezTo>
                <a:lnTo>
                  <a:pt x="0" y="20618"/>
                </a:lnTo>
                <a:lnTo>
                  <a:pt x="6437" y="-1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9067680" cy="7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Рисунок </a:t>
            </a: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.</a:t>
            </a: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7</a:t>
            </a: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 Карты кривых безразличия для индивидов с разным отношением к риску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2.2 Карты кривых безразличия в пространстве обусловленных благ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7" name="Text Box 41"/>
          <p:cNvSpPr/>
          <p:nvPr/>
        </p:nvSpPr>
        <p:spPr>
          <a:xfrm>
            <a:off x="-36360" y="1685880"/>
            <a:ext cx="100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8" name="Text Box 42"/>
          <p:cNvSpPr/>
          <p:nvPr/>
        </p:nvSpPr>
        <p:spPr>
          <a:xfrm>
            <a:off x="2771640" y="1773360"/>
            <a:ext cx="1008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9" name="Text Box 43"/>
          <p:cNvSpPr/>
          <p:nvPr/>
        </p:nvSpPr>
        <p:spPr>
          <a:xfrm>
            <a:off x="5578560" y="1773360"/>
            <a:ext cx="86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0" name="Text Box 44"/>
          <p:cNvSpPr/>
          <p:nvPr/>
        </p:nvSpPr>
        <p:spPr>
          <a:xfrm>
            <a:off x="8388360" y="6237360"/>
            <a:ext cx="72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1" name="Text Box 45"/>
          <p:cNvSpPr/>
          <p:nvPr/>
        </p:nvSpPr>
        <p:spPr>
          <a:xfrm>
            <a:off x="5437080" y="6308640"/>
            <a:ext cx="8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2" name="Text Box 46"/>
          <p:cNvSpPr/>
          <p:nvPr/>
        </p:nvSpPr>
        <p:spPr>
          <a:xfrm>
            <a:off x="2629080" y="6294600"/>
            <a:ext cx="863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3" name="Line 47"/>
          <p:cNvSpPr/>
          <p:nvPr/>
        </p:nvSpPr>
        <p:spPr>
          <a:xfrm>
            <a:off x="1187280" y="2852640"/>
            <a:ext cx="1440000" cy="187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4" name="Line 48"/>
          <p:cNvSpPr/>
          <p:nvPr/>
        </p:nvSpPr>
        <p:spPr>
          <a:xfrm>
            <a:off x="1403280" y="2421000"/>
            <a:ext cx="1440000" cy="187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5" name="Text Box 49"/>
          <p:cNvSpPr/>
          <p:nvPr/>
        </p:nvSpPr>
        <p:spPr>
          <a:xfrm>
            <a:off x="2556000" y="450864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6" name="Text Box 50"/>
          <p:cNvSpPr/>
          <p:nvPr/>
        </p:nvSpPr>
        <p:spPr>
          <a:xfrm>
            <a:off x="2771640" y="4005360"/>
            <a:ext cx="57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7" name="Text Box 51"/>
          <p:cNvSpPr/>
          <p:nvPr/>
        </p:nvSpPr>
        <p:spPr>
          <a:xfrm>
            <a:off x="2340000" y="501336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Object 52"/>
              <p:cNvSpPr txBox="1"/>
              <p:nvPr/>
            </p:nvSpPr>
            <p:spPr>
              <a:xfrm>
                <a:off x="693720" y="5052960"/>
                <a:ext cx="157464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u</m:t>
                        </m:r>
                        <m:r>
                          <m:t xml:space="preserve">'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u</m:t>
                        </m:r>
                        <m:r>
                          <m:t xml:space="preserve">'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9" name="Arc 53"/>
          <p:cNvSpPr/>
          <p:nvPr/>
        </p:nvSpPr>
        <p:spPr>
          <a:xfrm flipV="1" rot="5911200">
            <a:off x="3160440" y="2473920"/>
            <a:ext cx="3665520" cy="1830240"/>
          </a:xfrm>
          <a:custGeom>
            <a:avLst/>
            <a:gdLst>
              <a:gd name="textAreaLeft" fmla="*/ 0 w 3665520"/>
              <a:gd name="textAreaRight" fmla="*/ 3665880 w 3665520"/>
              <a:gd name="textAreaTop" fmla="*/ 360 h 1830240"/>
              <a:gd name="textAreaBottom" fmla="*/ 1830960 h 1830240"/>
            </a:gdLst>
            <a:ahLst/>
            <a:rect l="textAreaLeft" t="textAreaTop" r="textAreaRight" b="textAreaBottom"/>
            <a:pathLst>
              <a:path fill="none" w="21600" h="21309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0848"/>
                  <a:pt x="21596" y="21078"/>
                  <a:pt x="21588" y="21308"/>
                </a:cubicBezTo>
              </a:path>
              <a:path stroke="0" w="21600" h="21309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0848"/>
                  <a:pt x="21596" y="21078"/>
                  <a:pt x="21588" y="21308"/>
                </a:cubicBezTo>
                <a:lnTo>
                  <a:pt x="0" y="20618"/>
                </a:lnTo>
                <a:lnTo>
                  <a:pt x="6437" y="-1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0" name="Arc 54"/>
          <p:cNvSpPr/>
          <p:nvPr/>
        </p:nvSpPr>
        <p:spPr>
          <a:xfrm flipV="1" rot="5911200">
            <a:off x="3376440" y="1897560"/>
            <a:ext cx="3665520" cy="1830600"/>
          </a:xfrm>
          <a:custGeom>
            <a:avLst/>
            <a:gdLst>
              <a:gd name="textAreaLeft" fmla="*/ 0 w 3665520"/>
              <a:gd name="textAreaRight" fmla="*/ 3665880 w 3665520"/>
              <a:gd name="textAreaTop" fmla="*/ -360 h 1830600"/>
              <a:gd name="textAreaBottom" fmla="*/ 1830600 h 1830600"/>
            </a:gdLst>
            <a:ahLst/>
            <a:rect l="textAreaLeft" t="textAreaTop" r="textAreaRight" b="textAreaBottom"/>
            <a:pathLst>
              <a:path fill="none" w="21600" h="21309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0848"/>
                  <a:pt x="21596" y="21078"/>
                  <a:pt x="21588" y="21308"/>
                </a:cubicBezTo>
              </a:path>
              <a:path stroke="0" w="21600" h="21309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0848"/>
                  <a:pt x="21596" y="21078"/>
                  <a:pt x="21588" y="21308"/>
                </a:cubicBezTo>
                <a:lnTo>
                  <a:pt x="0" y="20618"/>
                </a:lnTo>
                <a:lnTo>
                  <a:pt x="6437" y="-1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1" name="Text Box 55"/>
          <p:cNvSpPr/>
          <p:nvPr/>
        </p:nvSpPr>
        <p:spPr>
          <a:xfrm>
            <a:off x="5365800" y="558972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2" name="Text Box 56"/>
          <p:cNvSpPr/>
          <p:nvPr/>
        </p:nvSpPr>
        <p:spPr>
          <a:xfrm>
            <a:off x="5580000" y="508464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3" name="Text Box 57"/>
          <p:cNvSpPr/>
          <p:nvPr/>
        </p:nvSpPr>
        <p:spPr>
          <a:xfrm>
            <a:off x="5796000" y="443700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4" name="Arc 58"/>
          <p:cNvSpPr/>
          <p:nvPr/>
        </p:nvSpPr>
        <p:spPr>
          <a:xfrm flipV="1" rot="16392000">
            <a:off x="7382880" y="2783520"/>
            <a:ext cx="1368360" cy="1505160"/>
          </a:xfrm>
          <a:custGeom>
            <a:avLst/>
            <a:gdLst>
              <a:gd name="textAreaLeft" fmla="*/ 0 w 1368360"/>
              <a:gd name="textAreaRight" fmla="*/ 1368720 w 1368360"/>
              <a:gd name="textAreaTop" fmla="*/ -360 h 1505160"/>
              <a:gd name="textAreaBottom" fmla="*/ 1505160 h 1505160"/>
            </a:gdLst>
            <a:ahLst/>
            <a:rect l="textAreaLeft" t="textAreaTop" r="textAreaRight" b="textAreaBottom"/>
            <a:pathLst>
              <a:path fill="none" w="21600" h="23763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1670"/>
                  <a:pt x="21523" y="22721"/>
                  <a:pt x="21369" y="23762"/>
                </a:cubicBezTo>
              </a:path>
              <a:path stroke="0" w="21600" h="23763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1670"/>
                  <a:pt x="21523" y="22721"/>
                  <a:pt x="21369" y="23762"/>
                </a:cubicBezTo>
                <a:lnTo>
                  <a:pt x="0" y="20618"/>
                </a:lnTo>
                <a:lnTo>
                  <a:pt x="6437" y="-1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5" name="Text Box 59"/>
          <p:cNvSpPr/>
          <p:nvPr/>
        </p:nvSpPr>
        <p:spPr>
          <a:xfrm>
            <a:off x="6372360" y="364500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6" name="Text Box 60"/>
          <p:cNvSpPr/>
          <p:nvPr/>
        </p:nvSpPr>
        <p:spPr>
          <a:xfrm>
            <a:off x="6661080" y="3141720"/>
            <a:ext cx="57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7" name="Text Box 61"/>
          <p:cNvSpPr/>
          <p:nvPr/>
        </p:nvSpPr>
        <p:spPr>
          <a:xfrm>
            <a:off x="6948360" y="2565360"/>
            <a:ext cx="57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cc33"/>
                </a:solidFill>
                <a:latin typeface="Verdana"/>
              </a:rPr>
              <a:t>II. </a:t>
            </a:r>
            <a:r>
              <a:rPr b="0" lang="ru-RU" sz="3900" spc="-1" strike="noStrike">
                <a:solidFill>
                  <a:srgbClr val="33cc33"/>
                </a:solidFill>
                <a:latin typeface="Verdana"/>
              </a:rPr>
              <a:t>Выбор в условиях неопределенности в пространстве обусловленных благ</a:t>
            </a:r>
            <a:endParaRPr b="0" lang="en-US" sz="39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Вероятностные состояния как обусловленные блага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Карты кривых безразличия в пространстве обусловленных благ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ff"/>
                </a:solidFill>
                <a:latin typeface="Verdana"/>
              </a:rPr>
              <a:t>Бюджетная линия в пространстве обусловленных благ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Оптимальный выбор индивидов в пространстве обусловленных благ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2"/>
          <p:cNvSpPr/>
          <p:nvPr/>
        </p:nvSpPr>
        <p:spPr>
          <a:xfrm>
            <a:off x="0" y="1052640"/>
            <a:ext cx="914400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усть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6699"/>
                </a:solidFill>
                <a:latin typeface="Verdana"/>
              </a:rPr>
              <a:t>*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–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исходный уровень богатства индивид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Ожидаемую стоимость, равную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6699"/>
                </a:solidFill>
                <a:latin typeface="Verdana"/>
              </a:rPr>
              <a:t>*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индивиду могут принести все комбинации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6699"/>
                </a:solidFill>
                <a:latin typeface="Verdana"/>
              </a:rPr>
              <a:t>g</a:t>
            </a:r>
            <a:r>
              <a:rPr b="0" lang="ru-RU" sz="2800" spc="-1" strike="noStrike" baseline="-25000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и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6699"/>
                </a:solidFill>
                <a:latin typeface="Verdana"/>
              </a:rPr>
              <a:t>b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, удовлетворяющие условию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Или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3" name="Object 3"/>
              <p:cNvSpPr txBox="1"/>
              <p:nvPr/>
            </p:nvSpPr>
            <p:spPr>
              <a:xfrm>
                <a:off x="2647800" y="3500280"/>
                <a:ext cx="385128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/>
                    </m:sSup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W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</m:d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2.3 Бюджетная линия в пространстве обусловленных благ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5" name="Object 6"/>
              <p:cNvSpPr txBox="1"/>
              <p:nvPr/>
            </p:nvSpPr>
            <p:spPr>
              <a:xfrm>
                <a:off x="3011400" y="4776840"/>
                <a:ext cx="308160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W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2"/>
          <p:cNvSpPr/>
          <p:nvPr/>
        </p:nvSpPr>
        <p:spPr>
          <a:xfrm>
            <a:off x="7885080" y="6078600"/>
            <a:ext cx="8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250920" y="1197000"/>
            <a:ext cx="100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1437840" y="1125360"/>
            <a:ext cx="77058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6699"/>
                </a:solidFill>
                <a:latin typeface="Verdana"/>
              </a:rPr>
              <a:t>Рисунок 2.8 Бюджетные ограничения в пространстве обусловленных благ </a:t>
            </a: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0" name="Line 5"/>
          <p:cNvSpPr/>
          <p:nvPr/>
        </p:nvSpPr>
        <p:spPr>
          <a:xfrm>
            <a:off x="971640" y="1484280"/>
            <a:ext cx="0" cy="482436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1" name="Line 6"/>
          <p:cNvSpPr/>
          <p:nvPr/>
        </p:nvSpPr>
        <p:spPr>
          <a:xfrm>
            <a:off x="971640" y="6308640"/>
            <a:ext cx="698508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2" name="Text Box 8"/>
          <p:cNvSpPr/>
          <p:nvPr/>
        </p:nvSpPr>
        <p:spPr>
          <a:xfrm>
            <a:off x="5221440" y="585144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3" name="Line 9"/>
          <p:cNvSpPr/>
          <p:nvPr/>
        </p:nvSpPr>
        <p:spPr>
          <a:xfrm flipV="1">
            <a:off x="971640" y="1988640"/>
            <a:ext cx="4321080" cy="4319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4" name="Line 10"/>
          <p:cNvSpPr/>
          <p:nvPr/>
        </p:nvSpPr>
        <p:spPr>
          <a:xfrm>
            <a:off x="971640" y="2205000"/>
            <a:ext cx="4392360" cy="4103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2.3 Бюджетная линия в пространстве обусловленных благ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6" name="Arc 12"/>
          <p:cNvSpPr/>
          <p:nvPr/>
        </p:nvSpPr>
        <p:spPr>
          <a:xfrm rot="2215800">
            <a:off x="395280" y="5516280"/>
            <a:ext cx="1380960" cy="1495440"/>
          </a:xfrm>
          <a:custGeom>
            <a:avLst/>
            <a:gdLst>
              <a:gd name="textAreaLeft" fmla="*/ 0 w 1380960"/>
              <a:gd name="textAreaRight" fmla="*/ 1381320 w 1380960"/>
              <a:gd name="textAreaTop" fmla="*/ 0 h 1495440"/>
              <a:gd name="textAreaBottom" fmla="*/ 1495800 h 1495440"/>
            </a:gdLst>
            <a:ahLst/>
            <a:rect l="textAreaLeft" t="textAreaTop" r="textAreaRight" b="textAreaBottom"/>
            <a:pathLst>
              <a:path fill="none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</a:path>
              <a:path stroke="0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  <a:lnTo>
                  <a:pt x="0" y="20400"/>
                </a:lnTo>
                <a:lnTo>
                  <a:pt x="7099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Object 13"/>
              <p:cNvSpPr txBox="1"/>
              <p:nvPr/>
            </p:nvSpPr>
            <p:spPr>
              <a:xfrm>
                <a:off x="3639960" y="5300640"/>
                <a:ext cx="7876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Object 15"/>
              <p:cNvSpPr txBox="1"/>
              <p:nvPr/>
            </p:nvSpPr>
            <p:spPr>
              <a:xfrm>
                <a:off x="1763640" y="5589720"/>
                <a:ext cx="5209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39" name="Arc 16"/>
          <p:cNvSpPr/>
          <p:nvPr/>
        </p:nvSpPr>
        <p:spPr>
          <a:xfrm rot="16518000">
            <a:off x="4428720" y="5662080"/>
            <a:ext cx="1381320" cy="1495440"/>
          </a:xfrm>
          <a:custGeom>
            <a:avLst/>
            <a:gdLst>
              <a:gd name="textAreaLeft" fmla="*/ 0 w 1381320"/>
              <a:gd name="textAreaRight" fmla="*/ 1381320 w 1381320"/>
              <a:gd name="textAreaTop" fmla="*/ 0 h 1495440"/>
              <a:gd name="textAreaBottom" fmla="*/ 1495800 h 1495440"/>
            </a:gdLst>
            <a:ahLst/>
            <a:rect l="textAreaLeft" t="textAreaTop" r="textAreaRight" b="textAreaBottom"/>
            <a:pathLst>
              <a:path fill="none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</a:path>
              <a:path stroke="0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  <a:lnTo>
                  <a:pt x="0" y="20400"/>
                </a:lnTo>
                <a:lnTo>
                  <a:pt x="7099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0" name="Text Box 17"/>
          <p:cNvSpPr/>
          <p:nvPr/>
        </p:nvSpPr>
        <p:spPr>
          <a:xfrm>
            <a:off x="971640" y="189216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1" name="Text Box 18"/>
          <p:cNvSpPr/>
          <p:nvPr/>
        </p:nvSpPr>
        <p:spPr>
          <a:xfrm>
            <a:off x="291780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2" name="Line 19"/>
          <p:cNvSpPr/>
          <p:nvPr/>
        </p:nvSpPr>
        <p:spPr>
          <a:xfrm>
            <a:off x="971640" y="3429000"/>
            <a:ext cx="12967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3" name="Line 20"/>
          <p:cNvSpPr/>
          <p:nvPr/>
        </p:nvSpPr>
        <p:spPr>
          <a:xfrm>
            <a:off x="2268360" y="3429000"/>
            <a:ext cx="0" cy="2879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4" name="Line 21"/>
          <p:cNvSpPr/>
          <p:nvPr/>
        </p:nvSpPr>
        <p:spPr>
          <a:xfrm flipH="1">
            <a:off x="971280" y="4192560"/>
            <a:ext cx="20876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5" name="Line 22"/>
          <p:cNvSpPr/>
          <p:nvPr/>
        </p:nvSpPr>
        <p:spPr>
          <a:xfrm>
            <a:off x="3097080" y="4221000"/>
            <a:ext cx="0" cy="2087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6" name="Line 23"/>
          <p:cNvSpPr/>
          <p:nvPr/>
        </p:nvSpPr>
        <p:spPr>
          <a:xfrm flipH="1">
            <a:off x="971640" y="5013360"/>
            <a:ext cx="29527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7" name="Line 25"/>
          <p:cNvSpPr/>
          <p:nvPr/>
        </p:nvSpPr>
        <p:spPr>
          <a:xfrm>
            <a:off x="3924360" y="5013360"/>
            <a:ext cx="0" cy="12952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8" name="Text Box 26"/>
          <p:cNvSpPr/>
          <p:nvPr/>
        </p:nvSpPr>
        <p:spPr>
          <a:xfrm>
            <a:off x="2195640" y="299736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9" name="Text Box 27"/>
          <p:cNvSpPr/>
          <p:nvPr/>
        </p:nvSpPr>
        <p:spPr>
          <a:xfrm>
            <a:off x="3852720" y="458136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0" name="Text Box 29"/>
          <p:cNvSpPr/>
          <p:nvPr/>
        </p:nvSpPr>
        <p:spPr>
          <a:xfrm>
            <a:off x="4932360" y="6294600"/>
            <a:ext cx="122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ma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1" name="Text Box 30"/>
          <p:cNvSpPr/>
          <p:nvPr/>
        </p:nvSpPr>
        <p:spPr>
          <a:xfrm>
            <a:off x="3348000" y="6294600"/>
            <a:ext cx="122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2" name="Text Box 31"/>
          <p:cNvSpPr/>
          <p:nvPr/>
        </p:nvSpPr>
        <p:spPr>
          <a:xfrm>
            <a:off x="1763640" y="6294600"/>
            <a:ext cx="1079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3" name="Text Box 32"/>
          <p:cNvSpPr/>
          <p:nvPr/>
        </p:nvSpPr>
        <p:spPr>
          <a:xfrm>
            <a:off x="2627280" y="6294600"/>
            <a:ext cx="93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4" name="Text Box 33"/>
          <p:cNvSpPr/>
          <p:nvPr/>
        </p:nvSpPr>
        <p:spPr>
          <a:xfrm>
            <a:off x="612720" y="6093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5" name="Text Box 34"/>
          <p:cNvSpPr/>
          <p:nvPr/>
        </p:nvSpPr>
        <p:spPr>
          <a:xfrm>
            <a:off x="5003640" y="2565360"/>
            <a:ext cx="24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иния устойчивост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6" name="Line 35"/>
          <p:cNvSpPr/>
          <p:nvPr/>
        </p:nvSpPr>
        <p:spPr>
          <a:xfrm flipH="1" flipV="1">
            <a:off x="4571640" y="2781000"/>
            <a:ext cx="36036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7" name="Text Box 36"/>
          <p:cNvSpPr/>
          <p:nvPr/>
        </p:nvSpPr>
        <p:spPr>
          <a:xfrm>
            <a:off x="179280" y="3284640"/>
            <a:ext cx="1079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8" name="Text Box 37"/>
          <p:cNvSpPr/>
          <p:nvPr/>
        </p:nvSpPr>
        <p:spPr>
          <a:xfrm>
            <a:off x="179280" y="3933720"/>
            <a:ext cx="93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9" name="Text Box 38"/>
          <p:cNvSpPr/>
          <p:nvPr/>
        </p:nvSpPr>
        <p:spPr>
          <a:xfrm>
            <a:off x="179280" y="4797360"/>
            <a:ext cx="122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0" name="Text Box 39"/>
          <p:cNvSpPr/>
          <p:nvPr/>
        </p:nvSpPr>
        <p:spPr>
          <a:xfrm>
            <a:off x="2773440" y="4437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1" name="Text Box 40"/>
          <p:cNvSpPr/>
          <p:nvPr/>
        </p:nvSpPr>
        <p:spPr>
          <a:xfrm>
            <a:off x="3203640" y="491652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2" name="Text Box 41"/>
          <p:cNvSpPr/>
          <p:nvPr/>
        </p:nvSpPr>
        <p:spPr>
          <a:xfrm>
            <a:off x="5506920" y="5199120"/>
            <a:ext cx="31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иния ожидаемой стоимост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3" name="Line 42"/>
          <p:cNvSpPr/>
          <p:nvPr/>
        </p:nvSpPr>
        <p:spPr>
          <a:xfrm flipH="1">
            <a:off x="4932000" y="5661000"/>
            <a:ext cx="64764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4" name="Line 43"/>
          <p:cNvSpPr/>
          <p:nvPr/>
        </p:nvSpPr>
        <p:spPr>
          <a:xfrm>
            <a:off x="971640" y="1700280"/>
            <a:ext cx="4968720" cy="4608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5" name="Text Box 44"/>
          <p:cNvSpPr/>
          <p:nvPr/>
        </p:nvSpPr>
        <p:spPr>
          <a:xfrm>
            <a:off x="5867280" y="5877000"/>
            <a:ext cx="64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6" name="Text Box 45"/>
          <p:cNvSpPr/>
          <p:nvPr/>
        </p:nvSpPr>
        <p:spPr>
          <a:xfrm>
            <a:off x="1042920" y="1484280"/>
            <a:ext cx="64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7" name="Text Box 46"/>
          <p:cNvSpPr/>
          <p:nvPr/>
        </p:nvSpPr>
        <p:spPr>
          <a:xfrm>
            <a:off x="3059280" y="328464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cc33"/>
                </a:solidFill>
                <a:latin typeface="Verdana"/>
              </a:rPr>
              <a:t>II. </a:t>
            </a:r>
            <a:r>
              <a:rPr b="0" lang="ru-RU" sz="3900" spc="-1" strike="noStrike">
                <a:solidFill>
                  <a:srgbClr val="33cc33"/>
                </a:solidFill>
                <a:latin typeface="Verdana"/>
              </a:rPr>
              <a:t>Выбор в условиях неопределенности в пространстве обусловленных благ</a:t>
            </a:r>
            <a:endParaRPr b="0" lang="en-US" sz="39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Вероятностные состояния как обусловленные блага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Карты кривых безразличия в пространстве обусловленных благ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Бюджетная линия в пространстве обусловленных благ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ff"/>
                </a:solidFill>
                <a:latin typeface="Verdana"/>
              </a:rPr>
              <a:t>Оптимальный выбор индивидов в пространстве обусловленных благ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30240"/>
            <a:ext cx="9144000" cy="1022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2. </a:t>
            </a:r>
            <a:r>
              <a:rPr b="0" lang="ru-RU" sz="3600" spc="-1" strike="noStrike">
                <a:solidFill>
                  <a:srgbClr val="006666"/>
                </a:solidFill>
                <a:latin typeface="Verdana"/>
              </a:rPr>
              <a:t>Выбор потребителя в условиях неопределенности и риска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ff"/>
                </a:solidFill>
                <a:latin typeface="Verdana"/>
              </a:rPr>
              <a:t>Вероятность, ожидаемая стоимость и гипотеза ожидаемой полезности</a:t>
            </a:r>
            <a:endParaRPr b="0" lang="en-US" sz="3500" spc="-1" strike="noStrike">
              <a:solidFill>
                <a:srgbClr val="006699"/>
              </a:solidFill>
              <a:latin typeface="Verdana"/>
            </a:endParaRPr>
          </a:p>
          <a:p>
            <a:pPr marL="812880" indent="-8128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33cc33"/>
                </a:solidFill>
                <a:latin typeface="Verdana"/>
              </a:rPr>
              <a:t>Выбор в условиях неопределенности в пространстве обусловленных благ</a:t>
            </a:r>
            <a:endParaRPr b="0" lang="en-US" sz="3500" spc="-1" strike="noStrike">
              <a:solidFill>
                <a:srgbClr val="006699"/>
              </a:solidFill>
              <a:latin typeface="Verdana"/>
            </a:endParaRPr>
          </a:p>
          <a:p>
            <a:pPr marL="812880" indent="-8128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00ff"/>
                </a:solidFill>
                <a:latin typeface="Verdana"/>
              </a:rPr>
              <a:t>Построение деревьев решений и выбор в условиях неопределенности</a:t>
            </a:r>
            <a:endParaRPr b="0" lang="en-US" sz="3500" spc="-1" strike="noStrike">
              <a:solidFill>
                <a:srgbClr val="006699"/>
              </a:solidFill>
              <a:latin typeface="Verdana"/>
            </a:endParaRPr>
          </a:p>
          <a:p>
            <a:pPr marL="812880" indent="-8128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9900"/>
                </a:solidFill>
                <a:latin typeface="Verdana"/>
              </a:rPr>
              <a:t>Прикладные аспекты модели выбора в пространстве обусловленных благ</a:t>
            </a:r>
            <a:endParaRPr b="0" lang="en-US" sz="3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Line 2"/>
          <p:cNvSpPr/>
          <p:nvPr/>
        </p:nvSpPr>
        <p:spPr>
          <a:xfrm flipV="1">
            <a:off x="611280" y="1915920"/>
            <a:ext cx="0" cy="4392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3" name="Line 3"/>
          <p:cNvSpPr/>
          <p:nvPr/>
        </p:nvSpPr>
        <p:spPr>
          <a:xfrm>
            <a:off x="611280" y="6308640"/>
            <a:ext cx="2448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4" name="Line 4"/>
          <p:cNvSpPr/>
          <p:nvPr/>
        </p:nvSpPr>
        <p:spPr>
          <a:xfrm flipV="1">
            <a:off x="3419640" y="1988640"/>
            <a:ext cx="0" cy="4319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5" name="Line 5"/>
          <p:cNvSpPr/>
          <p:nvPr/>
        </p:nvSpPr>
        <p:spPr>
          <a:xfrm flipV="1">
            <a:off x="6300720" y="2060640"/>
            <a:ext cx="0" cy="4248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6" name="Line 6"/>
          <p:cNvSpPr/>
          <p:nvPr/>
        </p:nvSpPr>
        <p:spPr>
          <a:xfrm>
            <a:off x="3419640" y="6308640"/>
            <a:ext cx="2447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7" name="Line 7"/>
          <p:cNvSpPr/>
          <p:nvPr/>
        </p:nvSpPr>
        <p:spPr>
          <a:xfrm>
            <a:off x="6300720" y="6308640"/>
            <a:ext cx="27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8" name="Line 8"/>
          <p:cNvSpPr/>
          <p:nvPr/>
        </p:nvSpPr>
        <p:spPr>
          <a:xfrm>
            <a:off x="971640" y="3357720"/>
            <a:ext cx="1728720" cy="230328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9" name="Arc 9"/>
          <p:cNvSpPr/>
          <p:nvPr/>
        </p:nvSpPr>
        <p:spPr>
          <a:xfrm flipV="1" rot="16993200">
            <a:off x="6666480" y="4586400"/>
            <a:ext cx="1368360" cy="1499760"/>
          </a:xfrm>
          <a:custGeom>
            <a:avLst/>
            <a:gdLst>
              <a:gd name="textAreaLeft" fmla="*/ 0 w 1368360"/>
              <a:gd name="textAreaRight" fmla="*/ 1368720 w 1368360"/>
              <a:gd name="textAreaTop" fmla="*/ 360 h 1499760"/>
              <a:gd name="textAreaBottom" fmla="*/ 1500480 h 1499760"/>
            </a:gdLst>
            <a:ahLst/>
            <a:rect l="textAreaLeft" t="textAreaTop" r="textAreaRight" b="textAreaBottom"/>
            <a:pathLst>
              <a:path fill="none" w="21600" h="23689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1645"/>
                  <a:pt x="21526" y="22671"/>
                  <a:pt x="21380" y="23688"/>
                </a:cubicBezTo>
              </a:path>
              <a:path stroke="0" w="21600" h="23689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1645"/>
                  <a:pt x="21526" y="22671"/>
                  <a:pt x="21380" y="23688"/>
                </a:cubicBezTo>
                <a:lnTo>
                  <a:pt x="0" y="20618"/>
                </a:lnTo>
                <a:lnTo>
                  <a:pt x="6437" y="-1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0" name="Arc 10"/>
          <p:cNvSpPr/>
          <p:nvPr/>
        </p:nvSpPr>
        <p:spPr>
          <a:xfrm flipV="1" rot="5911200">
            <a:off x="3293640" y="2288160"/>
            <a:ext cx="3665520" cy="1830240"/>
          </a:xfrm>
          <a:custGeom>
            <a:avLst/>
            <a:gdLst>
              <a:gd name="textAreaLeft" fmla="*/ 0 w 3665520"/>
              <a:gd name="textAreaRight" fmla="*/ 3665880 w 3665520"/>
              <a:gd name="textAreaTop" fmla="*/ 360 h 1830240"/>
              <a:gd name="textAreaBottom" fmla="*/ 1830960 h 1830240"/>
            </a:gdLst>
            <a:ahLst/>
            <a:rect l="textAreaLeft" t="textAreaTop" r="textAreaRight" b="textAreaBottom"/>
            <a:pathLst>
              <a:path fill="none" w="21600" h="21309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0848"/>
                  <a:pt x="21596" y="21078"/>
                  <a:pt x="21588" y="21308"/>
                </a:cubicBezTo>
              </a:path>
              <a:path stroke="0" w="21600" h="21309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0848"/>
                  <a:pt x="21596" y="21078"/>
                  <a:pt x="21588" y="21308"/>
                </a:cubicBezTo>
                <a:lnTo>
                  <a:pt x="0" y="20618"/>
                </a:lnTo>
                <a:lnTo>
                  <a:pt x="6437" y="-1"/>
                </a:lnTo>
                <a:close/>
              </a:path>
            </a:pathLst>
          </a:custGeom>
          <a:noFill/>
          <a:ln w="5724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1" name="Arc 11"/>
          <p:cNvSpPr/>
          <p:nvPr/>
        </p:nvSpPr>
        <p:spPr>
          <a:xfrm flipV="1" rot="16392000">
            <a:off x="6793920" y="4110120"/>
            <a:ext cx="1517760" cy="1866600"/>
          </a:xfrm>
          <a:custGeom>
            <a:avLst/>
            <a:gdLst>
              <a:gd name="textAreaLeft" fmla="*/ 0 w 1517760"/>
              <a:gd name="textAreaRight" fmla="*/ 1518120 w 1517760"/>
              <a:gd name="textAreaTop" fmla="*/ -360 h 1866600"/>
              <a:gd name="textAreaBottom" fmla="*/ 1866600 h 1866600"/>
            </a:gdLst>
            <a:ahLst/>
            <a:rect l="textAreaLeft" t="textAreaTop" r="textAreaRight" b="textAreaBottom"/>
            <a:pathLst>
              <a:path fill="none" w="23950" h="24745">
                <a:moveTo>
                  <a:pt x="0" y="128"/>
                </a:moveTo>
                <a:cubicBezTo>
                  <a:pt x="780" y="42"/>
                  <a:pt x="1564" y="-1"/>
                  <a:pt x="2350" y="0"/>
                </a:cubicBezTo>
                <a:cubicBezTo>
                  <a:pt x="14279" y="0"/>
                  <a:pt x="23950" y="9670"/>
                  <a:pt x="23950" y="21600"/>
                </a:cubicBezTo>
                <a:cubicBezTo>
                  <a:pt x="23950" y="22652"/>
                  <a:pt x="23873" y="23703"/>
                  <a:pt x="23719" y="24744"/>
                </a:cubicBezTo>
              </a:path>
              <a:path stroke="0" w="23950" h="24745">
                <a:moveTo>
                  <a:pt x="0" y="128"/>
                </a:moveTo>
                <a:cubicBezTo>
                  <a:pt x="780" y="42"/>
                  <a:pt x="1564" y="-1"/>
                  <a:pt x="2350" y="0"/>
                </a:cubicBezTo>
                <a:cubicBezTo>
                  <a:pt x="14279" y="0"/>
                  <a:pt x="23950" y="9670"/>
                  <a:pt x="23950" y="21600"/>
                </a:cubicBezTo>
                <a:cubicBezTo>
                  <a:pt x="23950" y="22652"/>
                  <a:pt x="23873" y="23703"/>
                  <a:pt x="23719" y="24744"/>
                </a:cubicBezTo>
                <a:lnTo>
                  <a:pt x="2350" y="21600"/>
                </a:lnTo>
                <a:lnTo>
                  <a:pt x="0" y="128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9067680" cy="7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Рисунок </a:t>
            </a: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.9 Оптимальный выбор индивидов с разным отношением к риску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2.4 Оптимальный выбор индивидов в пространстве обусловленных благ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4" name="Text Box 14"/>
          <p:cNvSpPr/>
          <p:nvPr/>
        </p:nvSpPr>
        <p:spPr>
          <a:xfrm>
            <a:off x="-36360" y="1685880"/>
            <a:ext cx="100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5" name="Text Box 15"/>
          <p:cNvSpPr/>
          <p:nvPr/>
        </p:nvSpPr>
        <p:spPr>
          <a:xfrm>
            <a:off x="2771640" y="1773360"/>
            <a:ext cx="1008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6" name="Text Box 16"/>
          <p:cNvSpPr/>
          <p:nvPr/>
        </p:nvSpPr>
        <p:spPr>
          <a:xfrm>
            <a:off x="5578560" y="1773360"/>
            <a:ext cx="86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7" name="Text Box 17"/>
          <p:cNvSpPr/>
          <p:nvPr/>
        </p:nvSpPr>
        <p:spPr>
          <a:xfrm>
            <a:off x="8531280" y="6237360"/>
            <a:ext cx="72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8" name="Text Box 18"/>
          <p:cNvSpPr/>
          <p:nvPr/>
        </p:nvSpPr>
        <p:spPr>
          <a:xfrm>
            <a:off x="5437080" y="6308640"/>
            <a:ext cx="8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9" name="Text Box 19"/>
          <p:cNvSpPr/>
          <p:nvPr/>
        </p:nvSpPr>
        <p:spPr>
          <a:xfrm>
            <a:off x="2629080" y="6294600"/>
            <a:ext cx="863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0" name="Text Box 24"/>
          <p:cNvSpPr/>
          <p:nvPr/>
        </p:nvSpPr>
        <p:spPr>
          <a:xfrm>
            <a:off x="2629080" y="549288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1" name="Object 25"/>
              <p:cNvSpPr txBox="1"/>
              <p:nvPr/>
            </p:nvSpPr>
            <p:spPr>
              <a:xfrm>
                <a:off x="1530360" y="5479920"/>
                <a:ext cx="52056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92" name="Text Box 28"/>
          <p:cNvSpPr/>
          <p:nvPr/>
        </p:nvSpPr>
        <p:spPr>
          <a:xfrm>
            <a:off x="5726160" y="515772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3" name="Text Box 29"/>
          <p:cNvSpPr/>
          <p:nvPr/>
        </p:nvSpPr>
        <p:spPr>
          <a:xfrm>
            <a:off x="5724360" y="4797360"/>
            <a:ext cx="57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4" name="Text Box 30"/>
          <p:cNvSpPr/>
          <p:nvPr/>
        </p:nvSpPr>
        <p:spPr>
          <a:xfrm>
            <a:off x="4859280" y="422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5" name="Arc 31"/>
          <p:cNvSpPr/>
          <p:nvPr/>
        </p:nvSpPr>
        <p:spPr>
          <a:xfrm flipV="1" rot="16392000">
            <a:off x="6541560" y="3887640"/>
            <a:ext cx="2222640" cy="2429280"/>
          </a:xfrm>
          <a:custGeom>
            <a:avLst/>
            <a:gdLst>
              <a:gd name="textAreaLeft" fmla="*/ 0 w 2222640"/>
              <a:gd name="textAreaRight" fmla="*/ 2223000 w 2222640"/>
              <a:gd name="textAreaTop" fmla="*/ 0 h 2429280"/>
              <a:gd name="textAreaBottom" fmla="*/ 2429280 h 2429280"/>
            </a:gdLst>
            <a:ahLst/>
            <a:rect l="textAreaLeft" t="textAreaTop" r="textAreaRight" b="textAreaBottom"/>
            <a:pathLst>
              <a:path fill="none" w="21561" h="21600">
                <a:moveTo>
                  <a:pt x="0" y="0"/>
                </a:moveTo>
                <a:cubicBezTo>
                  <a:pt x="15" y="0"/>
                  <a:pt x="30" y="-1"/>
                  <a:pt x="46" y="0"/>
                </a:cubicBezTo>
                <a:cubicBezTo>
                  <a:pt x="11233" y="0"/>
                  <a:pt x="20570" y="8542"/>
                  <a:pt x="21561" y="19686"/>
                </a:cubicBezTo>
              </a:path>
              <a:path stroke="0" w="21561" h="21600">
                <a:moveTo>
                  <a:pt x="0" y="0"/>
                </a:moveTo>
                <a:cubicBezTo>
                  <a:pt x="15" y="0"/>
                  <a:pt x="30" y="-1"/>
                  <a:pt x="46" y="0"/>
                </a:cubicBezTo>
                <a:cubicBezTo>
                  <a:pt x="11233" y="0"/>
                  <a:pt x="20570" y="8542"/>
                  <a:pt x="21561" y="19686"/>
                </a:cubicBezTo>
                <a:lnTo>
                  <a:pt x="46" y="21600"/>
                </a:lnTo>
                <a:lnTo>
                  <a:pt x="0" y="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6" name="Text Box 32"/>
          <p:cNvSpPr/>
          <p:nvPr/>
        </p:nvSpPr>
        <p:spPr>
          <a:xfrm>
            <a:off x="6372360" y="429264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7" name="Text Box 33"/>
          <p:cNvSpPr/>
          <p:nvPr/>
        </p:nvSpPr>
        <p:spPr>
          <a:xfrm>
            <a:off x="6300720" y="4005360"/>
            <a:ext cx="57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8" name="Text Box 34"/>
          <p:cNvSpPr/>
          <p:nvPr/>
        </p:nvSpPr>
        <p:spPr>
          <a:xfrm>
            <a:off x="6302520" y="364500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9" name="Arc 35"/>
          <p:cNvSpPr/>
          <p:nvPr/>
        </p:nvSpPr>
        <p:spPr>
          <a:xfrm rot="2215800">
            <a:off x="108000" y="5516280"/>
            <a:ext cx="1380960" cy="1495440"/>
          </a:xfrm>
          <a:custGeom>
            <a:avLst/>
            <a:gdLst>
              <a:gd name="textAreaLeft" fmla="*/ 0 w 1380960"/>
              <a:gd name="textAreaRight" fmla="*/ 1381320 w 1380960"/>
              <a:gd name="textAreaTop" fmla="*/ 0 h 1495440"/>
              <a:gd name="textAreaBottom" fmla="*/ 1495800 h 1495440"/>
            </a:gdLst>
            <a:ahLst/>
            <a:rect l="textAreaLeft" t="textAreaTop" r="textAreaRight" b="textAreaBottom"/>
            <a:pathLst>
              <a:path fill="none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</a:path>
              <a:path stroke="0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  <a:lnTo>
                  <a:pt x="0" y="20400"/>
                </a:lnTo>
                <a:lnTo>
                  <a:pt x="7099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0" name="Line 36"/>
          <p:cNvSpPr/>
          <p:nvPr/>
        </p:nvSpPr>
        <p:spPr>
          <a:xfrm flipV="1">
            <a:off x="611280" y="4292640"/>
            <a:ext cx="2160360" cy="201600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1" name="Line 37"/>
          <p:cNvSpPr/>
          <p:nvPr/>
        </p:nvSpPr>
        <p:spPr>
          <a:xfrm flipV="1">
            <a:off x="3419640" y="4292640"/>
            <a:ext cx="2160360" cy="201600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2" name="Arc 38"/>
          <p:cNvSpPr/>
          <p:nvPr/>
        </p:nvSpPr>
        <p:spPr>
          <a:xfrm rot="2215800">
            <a:off x="2903400" y="5535720"/>
            <a:ext cx="1381320" cy="1495440"/>
          </a:xfrm>
          <a:custGeom>
            <a:avLst/>
            <a:gdLst>
              <a:gd name="textAreaLeft" fmla="*/ 0 w 1381320"/>
              <a:gd name="textAreaRight" fmla="*/ 1381320 w 1381320"/>
              <a:gd name="textAreaTop" fmla="*/ 0 h 1495440"/>
              <a:gd name="textAreaBottom" fmla="*/ 1495800 h 1495440"/>
            </a:gdLst>
            <a:ahLst/>
            <a:rect l="textAreaLeft" t="textAreaTop" r="textAreaRight" b="textAreaBottom"/>
            <a:pathLst>
              <a:path fill="none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</a:path>
              <a:path stroke="0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  <a:lnTo>
                  <a:pt x="0" y="20400"/>
                </a:lnTo>
                <a:lnTo>
                  <a:pt x="7099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3" name="Object 39"/>
              <p:cNvSpPr txBox="1"/>
              <p:nvPr/>
            </p:nvSpPr>
            <p:spPr>
              <a:xfrm>
                <a:off x="4411800" y="5734080"/>
                <a:ext cx="520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04" name="Line 40"/>
          <p:cNvSpPr/>
          <p:nvPr/>
        </p:nvSpPr>
        <p:spPr>
          <a:xfrm>
            <a:off x="3419640" y="3068640"/>
            <a:ext cx="2304720" cy="251928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5" name="Arc 41"/>
          <p:cNvSpPr/>
          <p:nvPr/>
        </p:nvSpPr>
        <p:spPr>
          <a:xfrm flipV="1" rot="5911200">
            <a:off x="3254400" y="2571480"/>
            <a:ext cx="3665520" cy="1947960"/>
          </a:xfrm>
          <a:custGeom>
            <a:avLst/>
            <a:gdLst>
              <a:gd name="textAreaLeft" fmla="*/ 0 w 3665520"/>
              <a:gd name="textAreaRight" fmla="*/ 3665880 w 3665520"/>
              <a:gd name="textAreaTop" fmla="*/ -360 h 1947960"/>
              <a:gd name="textAreaBottom" fmla="*/ 1947960 h 1947960"/>
            </a:gdLst>
            <a:ahLst/>
            <a:rect l="textAreaLeft" t="textAreaTop" r="textAreaRight" b="textAreaBottom"/>
            <a:pathLst>
              <a:path fill="none" w="21600" h="22681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1306"/>
                  <a:pt x="21567" y="21995"/>
                  <a:pt x="21501" y="22681"/>
                </a:cubicBezTo>
              </a:path>
              <a:path stroke="0" w="21600" h="22681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1306"/>
                  <a:pt x="21567" y="21995"/>
                  <a:pt x="21501" y="22681"/>
                </a:cubicBezTo>
                <a:lnTo>
                  <a:pt x="0" y="20618"/>
                </a:lnTo>
                <a:lnTo>
                  <a:pt x="6437" y="-1"/>
                </a:lnTo>
                <a:close/>
              </a:path>
            </a:pathLst>
          </a:custGeom>
          <a:noFill/>
          <a:ln w="5724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6" name="Text Box 42"/>
          <p:cNvSpPr/>
          <p:nvPr/>
        </p:nvSpPr>
        <p:spPr>
          <a:xfrm>
            <a:off x="5292720" y="54198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7" name="Line 43"/>
          <p:cNvSpPr/>
          <p:nvPr/>
        </p:nvSpPr>
        <p:spPr>
          <a:xfrm flipV="1">
            <a:off x="6299280" y="4292640"/>
            <a:ext cx="2160360" cy="201600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8" name="Arc 44"/>
          <p:cNvSpPr/>
          <p:nvPr/>
        </p:nvSpPr>
        <p:spPr>
          <a:xfrm rot="2215800">
            <a:off x="5721480" y="5570280"/>
            <a:ext cx="1380960" cy="1495440"/>
          </a:xfrm>
          <a:custGeom>
            <a:avLst/>
            <a:gdLst>
              <a:gd name="textAreaLeft" fmla="*/ 0 w 1380960"/>
              <a:gd name="textAreaRight" fmla="*/ 1381320 w 1380960"/>
              <a:gd name="textAreaTop" fmla="*/ 0 h 1495440"/>
              <a:gd name="textAreaBottom" fmla="*/ 1495800 h 1495440"/>
            </a:gdLst>
            <a:ahLst/>
            <a:rect l="textAreaLeft" t="textAreaTop" r="textAreaRight" b="textAreaBottom"/>
            <a:pathLst>
              <a:path fill="none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</a:path>
              <a:path stroke="0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  <a:lnTo>
                  <a:pt x="0" y="20400"/>
                </a:lnTo>
                <a:lnTo>
                  <a:pt x="7099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Object 45"/>
              <p:cNvSpPr txBox="1"/>
              <p:nvPr/>
            </p:nvSpPr>
            <p:spPr>
              <a:xfrm>
                <a:off x="7147080" y="5734080"/>
                <a:ext cx="520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10" name="Line 46"/>
          <p:cNvSpPr/>
          <p:nvPr/>
        </p:nvSpPr>
        <p:spPr>
          <a:xfrm>
            <a:off x="6299280" y="3141720"/>
            <a:ext cx="2520720" cy="316692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1" name="Text Box 47"/>
          <p:cNvSpPr/>
          <p:nvPr/>
        </p:nvSpPr>
        <p:spPr>
          <a:xfrm>
            <a:off x="8101080" y="573408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2" name="Text Box 48"/>
          <p:cNvSpPr/>
          <p:nvPr/>
        </p:nvSpPr>
        <p:spPr>
          <a:xfrm>
            <a:off x="7453440" y="49878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3" name="Text Box 49"/>
          <p:cNvSpPr/>
          <p:nvPr/>
        </p:nvSpPr>
        <p:spPr>
          <a:xfrm>
            <a:off x="8750160" y="5924520"/>
            <a:ext cx="39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Line 48"/>
          <p:cNvSpPr/>
          <p:nvPr/>
        </p:nvSpPr>
        <p:spPr>
          <a:xfrm flipH="1">
            <a:off x="971280" y="4941720"/>
            <a:ext cx="33130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6" name="Text Box 2"/>
          <p:cNvSpPr/>
          <p:nvPr/>
        </p:nvSpPr>
        <p:spPr>
          <a:xfrm>
            <a:off x="7885080" y="6078600"/>
            <a:ext cx="8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7" name="Text Box 3"/>
          <p:cNvSpPr/>
          <p:nvPr/>
        </p:nvSpPr>
        <p:spPr>
          <a:xfrm>
            <a:off x="250920" y="1197000"/>
            <a:ext cx="100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1437840" y="1125360"/>
            <a:ext cx="77058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6699"/>
                </a:solidFill>
                <a:latin typeface="Verdana"/>
              </a:rPr>
              <a:t>Рисунок 2.</a:t>
            </a:r>
            <a:r>
              <a:rPr b="0" i="1" lang="en-US" sz="2100" spc="-1" strike="noStrike">
                <a:solidFill>
                  <a:srgbClr val="006699"/>
                </a:solidFill>
                <a:latin typeface="Verdana"/>
              </a:rPr>
              <a:t>10</a:t>
            </a:r>
            <a:r>
              <a:rPr b="0" i="1" lang="ru-RU" sz="2100" spc="-1" strike="noStrike">
                <a:solidFill>
                  <a:srgbClr val="006699"/>
                </a:solidFill>
                <a:latin typeface="Verdana"/>
              </a:rPr>
              <a:t> Выбор не склонного к риску индивида в условиях справедливой и несправедливой игры </a:t>
            </a:r>
            <a:endParaRPr b="0" lang="en-US" sz="21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9" name="Line 5"/>
          <p:cNvSpPr/>
          <p:nvPr/>
        </p:nvSpPr>
        <p:spPr>
          <a:xfrm>
            <a:off x="971640" y="1484280"/>
            <a:ext cx="0" cy="482436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0" name="Line 6"/>
          <p:cNvSpPr/>
          <p:nvPr/>
        </p:nvSpPr>
        <p:spPr>
          <a:xfrm>
            <a:off x="971640" y="6308640"/>
            <a:ext cx="698508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1" name="Text Box 7"/>
          <p:cNvSpPr/>
          <p:nvPr/>
        </p:nvSpPr>
        <p:spPr>
          <a:xfrm>
            <a:off x="5221440" y="585144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2" name="Line 8"/>
          <p:cNvSpPr/>
          <p:nvPr/>
        </p:nvSpPr>
        <p:spPr>
          <a:xfrm flipV="1">
            <a:off x="971640" y="1988640"/>
            <a:ext cx="4321080" cy="4319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3" name="Line 9"/>
          <p:cNvSpPr/>
          <p:nvPr/>
        </p:nvSpPr>
        <p:spPr>
          <a:xfrm>
            <a:off x="971640" y="2205000"/>
            <a:ext cx="4392360" cy="4103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4" name="Arc 11"/>
          <p:cNvSpPr/>
          <p:nvPr/>
        </p:nvSpPr>
        <p:spPr>
          <a:xfrm rot="2215800">
            <a:off x="395280" y="5516280"/>
            <a:ext cx="1380960" cy="1495440"/>
          </a:xfrm>
          <a:custGeom>
            <a:avLst/>
            <a:gdLst>
              <a:gd name="textAreaLeft" fmla="*/ 0 w 1380960"/>
              <a:gd name="textAreaRight" fmla="*/ 1381320 w 1380960"/>
              <a:gd name="textAreaTop" fmla="*/ 0 h 1495440"/>
              <a:gd name="textAreaBottom" fmla="*/ 1495800 h 1495440"/>
            </a:gdLst>
            <a:ahLst/>
            <a:rect l="textAreaLeft" t="textAreaTop" r="textAreaRight" b="textAreaBottom"/>
            <a:pathLst>
              <a:path fill="none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</a:path>
              <a:path stroke="0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  <a:lnTo>
                  <a:pt x="0" y="20400"/>
                </a:lnTo>
                <a:lnTo>
                  <a:pt x="7099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5" name="Object 13"/>
              <p:cNvSpPr txBox="1"/>
              <p:nvPr/>
            </p:nvSpPr>
            <p:spPr>
              <a:xfrm>
                <a:off x="1763640" y="5589720"/>
                <a:ext cx="5209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26" name="Text Box 15"/>
          <p:cNvSpPr/>
          <p:nvPr/>
        </p:nvSpPr>
        <p:spPr>
          <a:xfrm>
            <a:off x="971640" y="189216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7" name="Text Box 16"/>
          <p:cNvSpPr/>
          <p:nvPr/>
        </p:nvSpPr>
        <p:spPr>
          <a:xfrm>
            <a:off x="291780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8" name="Line 20"/>
          <p:cNvSpPr/>
          <p:nvPr/>
        </p:nvSpPr>
        <p:spPr>
          <a:xfrm>
            <a:off x="3097080" y="4221000"/>
            <a:ext cx="0" cy="2087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9" name="Line 22"/>
          <p:cNvSpPr/>
          <p:nvPr/>
        </p:nvSpPr>
        <p:spPr>
          <a:xfrm>
            <a:off x="4211640" y="4941720"/>
            <a:ext cx="0" cy="13669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0" name="Text Box 24"/>
          <p:cNvSpPr/>
          <p:nvPr/>
        </p:nvSpPr>
        <p:spPr>
          <a:xfrm>
            <a:off x="4140360" y="450864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1" name="Text Box 26"/>
          <p:cNvSpPr/>
          <p:nvPr/>
        </p:nvSpPr>
        <p:spPr>
          <a:xfrm>
            <a:off x="3780000" y="6294600"/>
            <a:ext cx="122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2" name="Text Box 28"/>
          <p:cNvSpPr/>
          <p:nvPr/>
        </p:nvSpPr>
        <p:spPr>
          <a:xfrm>
            <a:off x="2627280" y="6294600"/>
            <a:ext cx="93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3" name="Text Box 29"/>
          <p:cNvSpPr/>
          <p:nvPr/>
        </p:nvSpPr>
        <p:spPr>
          <a:xfrm>
            <a:off x="612720" y="6093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4" name="Text Box 33"/>
          <p:cNvSpPr/>
          <p:nvPr/>
        </p:nvSpPr>
        <p:spPr>
          <a:xfrm>
            <a:off x="179280" y="3933720"/>
            <a:ext cx="93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5" name="Text Box 34"/>
          <p:cNvSpPr/>
          <p:nvPr/>
        </p:nvSpPr>
        <p:spPr>
          <a:xfrm>
            <a:off x="179280" y="4653000"/>
            <a:ext cx="122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6" name="Line 39"/>
          <p:cNvSpPr/>
          <p:nvPr/>
        </p:nvSpPr>
        <p:spPr>
          <a:xfrm>
            <a:off x="971640" y="3645000"/>
            <a:ext cx="6696000" cy="2663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7" name="Text Box 40"/>
          <p:cNvSpPr/>
          <p:nvPr/>
        </p:nvSpPr>
        <p:spPr>
          <a:xfrm>
            <a:off x="7236000" y="5734080"/>
            <a:ext cx="649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8" name="Text Box 41"/>
          <p:cNvSpPr/>
          <p:nvPr/>
        </p:nvSpPr>
        <p:spPr>
          <a:xfrm>
            <a:off x="900000" y="3213000"/>
            <a:ext cx="64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2.4 Оптимальный выбор индивидов в пространстве обусловленных благ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0" name="Line 46"/>
          <p:cNvSpPr/>
          <p:nvPr/>
        </p:nvSpPr>
        <p:spPr>
          <a:xfrm flipH="1">
            <a:off x="971280" y="4202280"/>
            <a:ext cx="20876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1" name="Arc 47"/>
          <p:cNvSpPr/>
          <p:nvPr/>
        </p:nvSpPr>
        <p:spPr>
          <a:xfrm flipV="1" rot="7012200">
            <a:off x="1978560" y="188640"/>
            <a:ext cx="4969080" cy="4104360"/>
          </a:xfrm>
          <a:custGeom>
            <a:avLst/>
            <a:gdLst>
              <a:gd name="textAreaLeft" fmla="*/ 0 w 4969080"/>
              <a:gd name="textAreaRight" fmla="*/ 4969440 w 4969080"/>
              <a:gd name="textAreaTop" fmla="*/ -360 h 4104360"/>
              <a:gd name="textAreaBottom" fmla="*/ 4104360 h 4104360"/>
            </a:gdLst>
            <a:ahLst/>
            <a:rect l="textAreaLeft" t="textAreaTop" r="textAreaRight" b="textAreaBottom"/>
            <a:pathLst>
              <a:path fill="none" w="21600" h="21067">
                <a:moveTo>
                  <a:pt x="16114" y="-1"/>
                </a:moveTo>
                <a:cubicBezTo>
                  <a:pt x="19647" y="3957"/>
                  <a:pt x="21600" y="9077"/>
                  <a:pt x="21600" y="14383"/>
                </a:cubicBezTo>
                <a:cubicBezTo>
                  <a:pt x="21600" y="16652"/>
                  <a:pt x="21242" y="18908"/>
                  <a:pt x="20539" y="21066"/>
                </a:cubicBezTo>
              </a:path>
              <a:path stroke="0" w="21600" h="21067">
                <a:moveTo>
                  <a:pt x="16114" y="-1"/>
                </a:moveTo>
                <a:cubicBezTo>
                  <a:pt x="19647" y="3957"/>
                  <a:pt x="21600" y="9077"/>
                  <a:pt x="21600" y="14383"/>
                </a:cubicBezTo>
                <a:cubicBezTo>
                  <a:pt x="21600" y="16652"/>
                  <a:pt x="21242" y="18908"/>
                  <a:pt x="20539" y="21066"/>
                </a:cubicBezTo>
                <a:lnTo>
                  <a:pt x="0" y="14383"/>
                </a:lnTo>
                <a:lnTo>
                  <a:pt x="16114" y="-1"/>
                </a:lnTo>
                <a:close/>
              </a:path>
            </a:pathLst>
          </a:custGeom>
          <a:noFill/>
          <a:ln w="572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2" name="Text Box 49"/>
          <p:cNvSpPr/>
          <p:nvPr/>
        </p:nvSpPr>
        <p:spPr>
          <a:xfrm>
            <a:off x="5219640" y="486900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914400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ff"/>
                </a:solidFill>
                <a:latin typeface="Verdana"/>
              </a:rPr>
              <a:t>III. </a:t>
            </a:r>
            <a:r>
              <a:rPr b="0" lang="ru-RU" sz="3500" spc="-1" strike="noStrike">
                <a:solidFill>
                  <a:srgbClr val="ff00ff"/>
                </a:solidFill>
                <a:latin typeface="Verdana"/>
              </a:rPr>
              <a:t>Построение деревьев решений и выбор в условиях неопределенности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85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00ff"/>
                </a:solidFill>
                <a:latin typeface="Verdana"/>
              </a:rPr>
              <a:t>Построение деревьев решений</a:t>
            </a:r>
            <a:endParaRPr b="0" lang="en-US" sz="3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85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6699"/>
                </a:solidFill>
                <a:latin typeface="Verdana"/>
              </a:rPr>
              <a:t>Ценность информации</a:t>
            </a:r>
            <a:endParaRPr b="0" lang="en-US" sz="3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2"/>
          <p:cNvSpPr/>
          <p:nvPr/>
        </p:nvSpPr>
        <p:spPr>
          <a:xfrm>
            <a:off x="0" y="1052640"/>
            <a:ext cx="914400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Узел решения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– точка дерева решений, в которой индивид сталкивается с необходимостью выбор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Узел случая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– точка дерева решений, движение из которой по исходящим ветвям обусловлено случайным процессом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Конечный узел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– точка дерева решений, представляющая конечный исход, связываемый с данной ветвью дерева решений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3.1 Построение деревьев решений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3.1 Построение деревьев решений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1" name="Rectangle 4"/>
          <p:cNvSpPr/>
          <p:nvPr/>
        </p:nvSpPr>
        <p:spPr>
          <a:xfrm>
            <a:off x="1114560" y="3429000"/>
            <a:ext cx="431640" cy="43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2" name="Oval 5"/>
          <p:cNvSpPr/>
          <p:nvPr/>
        </p:nvSpPr>
        <p:spPr>
          <a:xfrm>
            <a:off x="1979640" y="1989000"/>
            <a:ext cx="287280" cy="287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3" name="Line 6"/>
          <p:cNvSpPr/>
          <p:nvPr/>
        </p:nvSpPr>
        <p:spPr>
          <a:xfrm flipV="1">
            <a:off x="1403280" y="2276280"/>
            <a:ext cx="64764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4" name="Line 7"/>
          <p:cNvSpPr/>
          <p:nvPr/>
        </p:nvSpPr>
        <p:spPr>
          <a:xfrm flipV="1">
            <a:off x="2195640" y="1052280"/>
            <a:ext cx="50472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5" name="Line 8"/>
          <p:cNvSpPr/>
          <p:nvPr/>
        </p:nvSpPr>
        <p:spPr>
          <a:xfrm>
            <a:off x="2268360" y="2205000"/>
            <a:ext cx="86364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6" name="Oval 9"/>
          <p:cNvSpPr/>
          <p:nvPr/>
        </p:nvSpPr>
        <p:spPr>
          <a:xfrm>
            <a:off x="2195640" y="4724280"/>
            <a:ext cx="287280" cy="287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7" name="Line 10"/>
          <p:cNvSpPr/>
          <p:nvPr/>
        </p:nvSpPr>
        <p:spPr>
          <a:xfrm>
            <a:off x="1332000" y="3860640"/>
            <a:ext cx="863640" cy="93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8" name="Line 11"/>
          <p:cNvSpPr/>
          <p:nvPr/>
        </p:nvSpPr>
        <p:spPr>
          <a:xfrm>
            <a:off x="2449440" y="4984920"/>
            <a:ext cx="792360" cy="86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9" name="Line 12"/>
          <p:cNvSpPr/>
          <p:nvPr/>
        </p:nvSpPr>
        <p:spPr>
          <a:xfrm flipV="1">
            <a:off x="2411280" y="4005000"/>
            <a:ext cx="576360" cy="71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0" name="Text Box 14"/>
          <p:cNvSpPr/>
          <p:nvPr/>
        </p:nvSpPr>
        <p:spPr>
          <a:xfrm>
            <a:off x="1042920" y="242100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Verdana"/>
              </a:rPr>
              <a:t>fm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1" name="Text Box 15"/>
          <p:cNvSpPr/>
          <p:nvPr/>
        </p:nvSpPr>
        <p:spPr>
          <a:xfrm>
            <a:off x="1187280" y="414972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Verdana"/>
              </a:rPr>
              <a:t>gm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250560" y="6138720"/>
            <a:ext cx="8785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Рисунок 2.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11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 Дерево решений и максимизация полезности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3" name="Text Box 17"/>
          <p:cNvSpPr/>
          <p:nvPr/>
        </p:nvSpPr>
        <p:spPr>
          <a:xfrm>
            <a:off x="2556000" y="2060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Verdana"/>
              </a:rPr>
              <a:t>0,6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4" name="Text Box 18"/>
          <p:cNvSpPr/>
          <p:nvPr/>
        </p:nvSpPr>
        <p:spPr>
          <a:xfrm>
            <a:off x="2844720" y="513252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Verdana"/>
              </a:rPr>
              <a:t>0,8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5" name="Text Box 19"/>
          <p:cNvSpPr/>
          <p:nvPr/>
        </p:nvSpPr>
        <p:spPr>
          <a:xfrm>
            <a:off x="2844720" y="443700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Verdana"/>
              </a:rPr>
              <a:t>0,2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6" name="Text Box 20"/>
          <p:cNvSpPr/>
          <p:nvPr/>
        </p:nvSpPr>
        <p:spPr>
          <a:xfrm>
            <a:off x="2411280" y="134136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Verdana"/>
              </a:rPr>
              <a:t>0,4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7" name="Text Box 21"/>
          <p:cNvSpPr/>
          <p:nvPr/>
        </p:nvSpPr>
        <p:spPr>
          <a:xfrm>
            <a:off x="2700360" y="83664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80 000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=282,8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8" name="Text Box 22"/>
          <p:cNvSpPr/>
          <p:nvPr/>
        </p:nvSpPr>
        <p:spPr>
          <a:xfrm>
            <a:off x="3060720" y="246708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5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000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=212,1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9" name="Object 23"/>
              <p:cNvSpPr txBox="1"/>
              <p:nvPr/>
            </p:nvSpPr>
            <p:spPr>
              <a:xfrm>
                <a:off x="1751040" y="3382920"/>
                <a:ext cx="13082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W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70" name="Text Box 24"/>
          <p:cNvSpPr/>
          <p:nvPr/>
        </p:nvSpPr>
        <p:spPr>
          <a:xfrm>
            <a:off x="2987640" y="376380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20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000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=346,4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1" name="Text Box 25"/>
          <p:cNvSpPr/>
          <p:nvPr/>
        </p:nvSpPr>
        <p:spPr>
          <a:xfrm>
            <a:off x="3203640" y="558972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5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000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=212,1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2" name="AutoShape 26"/>
          <p:cNvSpPr/>
          <p:nvPr/>
        </p:nvSpPr>
        <p:spPr>
          <a:xfrm>
            <a:off x="6012000" y="836640"/>
            <a:ext cx="288720" cy="2232000"/>
          </a:xfrm>
          <a:custGeom>
            <a:avLst/>
            <a:gdLst>
              <a:gd name="textAreaLeft" fmla="*/ 0 w 288720"/>
              <a:gd name="textAreaRight" fmla="*/ 104040 w 28872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3" name="Text Box 27"/>
          <p:cNvSpPr/>
          <p:nvPr/>
        </p:nvSpPr>
        <p:spPr>
          <a:xfrm>
            <a:off x="6300720" y="1700280"/>
            <a:ext cx="201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6699"/>
                </a:solidFill>
                <a:latin typeface="Verdana"/>
              </a:rPr>
              <a:t>fm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=240,4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4" name="AutoShape 28"/>
          <p:cNvSpPr/>
          <p:nvPr/>
        </p:nvSpPr>
        <p:spPr>
          <a:xfrm>
            <a:off x="6084720" y="3789360"/>
            <a:ext cx="289080" cy="2232000"/>
          </a:xfrm>
          <a:custGeom>
            <a:avLst/>
            <a:gdLst>
              <a:gd name="textAreaLeft" fmla="*/ 0 w 289080"/>
              <a:gd name="textAreaRight" fmla="*/ 104400 w 28908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5" name="Text Box 29"/>
          <p:cNvSpPr/>
          <p:nvPr/>
        </p:nvSpPr>
        <p:spPr>
          <a:xfrm>
            <a:off x="6372360" y="4627440"/>
            <a:ext cx="201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6699"/>
                </a:solidFill>
                <a:latin typeface="Verdana"/>
              </a:rPr>
              <a:t>gm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=239,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3.1 Построение деревьев решений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78" name="Rectangle 3"/>
          <p:cNvSpPr/>
          <p:nvPr/>
        </p:nvSpPr>
        <p:spPr>
          <a:xfrm>
            <a:off x="1114560" y="3429000"/>
            <a:ext cx="431640" cy="43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9" name="Oval 4"/>
          <p:cNvSpPr/>
          <p:nvPr/>
        </p:nvSpPr>
        <p:spPr>
          <a:xfrm>
            <a:off x="1763640" y="2349360"/>
            <a:ext cx="287280" cy="287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0" name="Line 5"/>
          <p:cNvSpPr/>
          <p:nvPr/>
        </p:nvSpPr>
        <p:spPr>
          <a:xfrm flipV="1">
            <a:off x="1403280" y="2637000"/>
            <a:ext cx="432000" cy="79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1" name="Line 6"/>
          <p:cNvSpPr/>
          <p:nvPr/>
        </p:nvSpPr>
        <p:spPr>
          <a:xfrm flipV="1">
            <a:off x="1979640" y="1699920"/>
            <a:ext cx="360360" cy="64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2" name="Line 7"/>
          <p:cNvSpPr/>
          <p:nvPr/>
        </p:nvSpPr>
        <p:spPr>
          <a:xfrm>
            <a:off x="2050920" y="2565360"/>
            <a:ext cx="86364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3" name="Oval 8"/>
          <p:cNvSpPr/>
          <p:nvPr/>
        </p:nvSpPr>
        <p:spPr>
          <a:xfrm>
            <a:off x="2195640" y="4724280"/>
            <a:ext cx="287280" cy="287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4" name="Line 9"/>
          <p:cNvSpPr/>
          <p:nvPr/>
        </p:nvSpPr>
        <p:spPr>
          <a:xfrm>
            <a:off x="1332000" y="3860640"/>
            <a:ext cx="863640" cy="93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5" name="Line 10"/>
          <p:cNvSpPr/>
          <p:nvPr/>
        </p:nvSpPr>
        <p:spPr>
          <a:xfrm>
            <a:off x="2449440" y="4984920"/>
            <a:ext cx="792360" cy="86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6" name="Line 11"/>
          <p:cNvSpPr/>
          <p:nvPr/>
        </p:nvSpPr>
        <p:spPr>
          <a:xfrm flipV="1">
            <a:off x="2411280" y="4005000"/>
            <a:ext cx="576360" cy="71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7" name="Text Box 12"/>
          <p:cNvSpPr/>
          <p:nvPr/>
        </p:nvSpPr>
        <p:spPr>
          <a:xfrm>
            <a:off x="1042920" y="242100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Verdana"/>
              </a:rPr>
              <a:t>fm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8" name="Text Box 13"/>
          <p:cNvSpPr/>
          <p:nvPr/>
        </p:nvSpPr>
        <p:spPr>
          <a:xfrm>
            <a:off x="1187280" y="414972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Verdana"/>
              </a:rPr>
              <a:t>gm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50560" y="6138720"/>
            <a:ext cx="8785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Рисунок 2.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12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 Дерево решений с последовательным принятием решений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0" name="Text Box 15"/>
          <p:cNvSpPr/>
          <p:nvPr/>
        </p:nvSpPr>
        <p:spPr>
          <a:xfrm>
            <a:off x="2411280" y="242100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Verdana"/>
              </a:rPr>
              <a:t>0,6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1" name="Text Box 16"/>
          <p:cNvSpPr/>
          <p:nvPr/>
        </p:nvSpPr>
        <p:spPr>
          <a:xfrm>
            <a:off x="2844720" y="513252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Verdana"/>
              </a:rPr>
              <a:t>0,8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2" name="Text Box 17"/>
          <p:cNvSpPr/>
          <p:nvPr/>
        </p:nvSpPr>
        <p:spPr>
          <a:xfrm>
            <a:off x="2844720" y="443700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Verdana"/>
              </a:rPr>
              <a:t>0,2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3" name="Text Box 18"/>
          <p:cNvSpPr/>
          <p:nvPr/>
        </p:nvSpPr>
        <p:spPr>
          <a:xfrm>
            <a:off x="2124000" y="181944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Verdana"/>
              </a:rPr>
              <a:t>0,4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4" name="Text Box 19"/>
          <p:cNvSpPr/>
          <p:nvPr/>
        </p:nvSpPr>
        <p:spPr>
          <a:xfrm>
            <a:off x="2843280" y="52380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80 000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=282,8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5" name="Text Box 20"/>
          <p:cNvSpPr/>
          <p:nvPr/>
        </p:nvSpPr>
        <p:spPr>
          <a:xfrm>
            <a:off x="2843280" y="282744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5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000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=212,1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6" name="Object 21"/>
              <p:cNvSpPr txBox="1"/>
              <p:nvPr/>
            </p:nvSpPr>
            <p:spPr>
              <a:xfrm>
                <a:off x="1751040" y="3382920"/>
                <a:ext cx="13082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W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97" name="Text Box 22"/>
          <p:cNvSpPr/>
          <p:nvPr/>
        </p:nvSpPr>
        <p:spPr>
          <a:xfrm>
            <a:off x="2987640" y="376380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20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000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=346,4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8" name="Text Box 23"/>
          <p:cNvSpPr/>
          <p:nvPr/>
        </p:nvSpPr>
        <p:spPr>
          <a:xfrm>
            <a:off x="3203640" y="558972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5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000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=212,1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9" name="Rectangle 28"/>
          <p:cNvSpPr/>
          <p:nvPr/>
        </p:nvSpPr>
        <p:spPr>
          <a:xfrm>
            <a:off x="2124000" y="1268280"/>
            <a:ext cx="432000" cy="43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0" name="Line 29"/>
          <p:cNvSpPr/>
          <p:nvPr/>
        </p:nvSpPr>
        <p:spPr>
          <a:xfrm flipV="1">
            <a:off x="2557440" y="764640"/>
            <a:ext cx="358920" cy="50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1" name="Line 30"/>
          <p:cNvSpPr/>
          <p:nvPr/>
        </p:nvSpPr>
        <p:spPr>
          <a:xfrm>
            <a:off x="2556000" y="1557360"/>
            <a:ext cx="86364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2" name="Text Box 31"/>
          <p:cNvSpPr/>
          <p:nvPr/>
        </p:nvSpPr>
        <p:spPr>
          <a:xfrm>
            <a:off x="3348000" y="177336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5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000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=212,1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5"/>
          <p:cNvSpPr/>
          <p:nvPr/>
        </p:nvSpPr>
        <p:spPr>
          <a:xfrm>
            <a:off x="0" y="103320"/>
            <a:ext cx="914400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9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ff"/>
                </a:solidFill>
                <a:latin typeface="Verdana"/>
              </a:rPr>
              <a:t>III. </a:t>
            </a:r>
            <a:r>
              <a:rPr b="0" lang="ru-RU" sz="3500" spc="-1" strike="noStrike">
                <a:solidFill>
                  <a:srgbClr val="ff00ff"/>
                </a:solidFill>
                <a:latin typeface="Verdana"/>
              </a:rPr>
              <a:t>Построение деревьев решений и выбор в условиях неопределенности</a:t>
            </a:r>
            <a:endParaRPr b="0" lang="en-US" sz="3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85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6699"/>
                </a:solidFill>
                <a:latin typeface="Verdana"/>
              </a:rPr>
              <a:t>Построение деревьев решений</a:t>
            </a:r>
            <a:endParaRPr b="0" lang="en-US" sz="3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85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00ff"/>
                </a:solidFill>
                <a:latin typeface="Verdana"/>
              </a:rPr>
              <a:t>Ценность информации</a:t>
            </a:r>
            <a:endParaRPr b="0" lang="en-US" sz="3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2"/>
          <p:cNvSpPr/>
          <p:nvPr/>
        </p:nvSpPr>
        <p:spPr>
          <a:xfrm>
            <a:off x="0" y="692280"/>
            <a:ext cx="9144000" cy="60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Ценность полной информации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– разность между ожидаемыми ценностями выбора при наличии и отсутствии полной информации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3.2 Ценность информации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07640" y="2278080"/>
            <a:ext cx="8785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Verdana"/>
              </a:rPr>
              <a:t>Таблица 2.</a:t>
            </a:r>
            <a:r>
              <a:rPr b="0" i="1" lang="en-US" sz="3200" spc="-1" strike="noStrike">
                <a:solidFill>
                  <a:srgbClr val="006699"/>
                </a:solidFill>
                <a:latin typeface="Verdana"/>
              </a:rPr>
              <a:t>1</a:t>
            </a:r>
            <a:r>
              <a:rPr b="0" i="1" lang="ru-RU" sz="3200" spc="-1" strike="noStrike">
                <a:solidFill>
                  <a:srgbClr val="006699"/>
                </a:solidFill>
                <a:latin typeface="Verdana"/>
              </a:rPr>
              <a:t> Ожидаемая прибыл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610" name=""/>
          <p:cNvGraphicFramePr/>
          <p:nvPr/>
        </p:nvGraphicFramePr>
        <p:xfrm>
          <a:off x="108000" y="3116160"/>
          <a:ext cx="8924760" cy="2835360"/>
        </p:xfrm>
        <a:graphic>
          <a:graphicData uri="http://schemas.openxmlformats.org/drawingml/2006/table">
            <a:tbl>
              <a:tblPr/>
              <a:tblGrid>
                <a:gridCol w="1942920"/>
                <a:gridCol w="2327400"/>
                <a:gridCol w="2327400"/>
                <a:gridCol w="232704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Спрос 50 ед.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Спрос 100 ед.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Ожидаемая прибыль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945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Куплено 50 ед.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500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500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500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Куплено 100 ед.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50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200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675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12" name="Object 2"/>
              <p:cNvSpPr txBox="1"/>
              <p:nvPr/>
            </p:nvSpPr>
            <p:spPr>
              <a:xfrm>
                <a:off x="6012000" y="1484280"/>
                <a:ext cx="16318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75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3" name="AutoShape 4"/>
          <p:cNvSpPr/>
          <p:nvPr/>
        </p:nvSpPr>
        <p:spPr>
          <a:xfrm>
            <a:off x="539640" y="981000"/>
            <a:ext cx="5184720" cy="151308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жидаемая прибыль при неполной информаци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4" name="Object 6"/>
              <p:cNvSpPr txBox="1"/>
              <p:nvPr/>
            </p:nvSpPr>
            <p:spPr>
              <a:xfrm>
                <a:off x="4427640" y="3205080"/>
                <a:ext cx="451800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5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3.2 Ценность информации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16" name="AutoShape 13"/>
          <p:cNvSpPr/>
          <p:nvPr/>
        </p:nvSpPr>
        <p:spPr>
          <a:xfrm>
            <a:off x="395280" y="2708280"/>
            <a:ext cx="3887640" cy="216072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жидаемая прибыль при полной информаци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7" name="AutoShape 14"/>
          <p:cNvSpPr/>
          <p:nvPr/>
        </p:nvSpPr>
        <p:spPr>
          <a:xfrm>
            <a:off x="611280" y="5011560"/>
            <a:ext cx="3673440" cy="108144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Ценность информаци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8" name="Object 15"/>
              <p:cNvSpPr txBox="1"/>
              <p:nvPr/>
            </p:nvSpPr>
            <p:spPr>
              <a:xfrm>
                <a:off x="4500720" y="5275440"/>
                <a:ext cx="42638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500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750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75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9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015920" indent="0" algn="ctr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9900"/>
                </a:solidFill>
                <a:latin typeface="Verdana"/>
              </a:rPr>
              <a:t>IV. </a:t>
            </a:r>
            <a:r>
              <a:rPr b="0" lang="ru-RU" sz="3500" spc="-1" strike="noStrike">
                <a:solidFill>
                  <a:srgbClr val="ff9900"/>
                </a:solidFill>
                <a:latin typeface="Verdana"/>
              </a:rPr>
              <a:t>Прикладные аспекты модели выбора в пространстве обусловленных благ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0" y="2060280"/>
            <a:ext cx="9144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85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00ff"/>
                </a:solidFill>
                <a:latin typeface="Verdana"/>
              </a:rPr>
              <a:t>Совместное несение рисков</a:t>
            </a:r>
            <a:endParaRPr b="0" lang="en-US" sz="3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85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6699"/>
                </a:solidFill>
                <a:latin typeface="Verdana"/>
              </a:rPr>
              <a:t>Рынок страховых услуг</a:t>
            </a:r>
            <a:endParaRPr b="0" lang="en-US" sz="3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85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6699"/>
                </a:solidFill>
                <a:latin typeface="Verdana"/>
              </a:rPr>
              <a:t>Уклонение от уплаты налогов</a:t>
            </a:r>
            <a:endParaRPr b="0" lang="en-US" sz="3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138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Verdana"/>
              </a:rPr>
              <a:t>I. </a:t>
            </a:r>
            <a:r>
              <a:rPr b="0" lang="ru-RU" sz="3600" spc="-1" strike="noStrike">
                <a:solidFill>
                  <a:srgbClr val="0000ff"/>
                </a:solidFill>
                <a:latin typeface="Verdana"/>
              </a:rPr>
              <a:t>Вероятность, ожидаемая стоимость и гипотеза ожидаемой полезности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ff"/>
                </a:solidFill>
                <a:latin typeface="Verdana"/>
              </a:rPr>
              <a:t>Вероятность, ожидаемая стоимость и отклонения от нее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Актуарно справедливые игры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Гипотеза ожидаемой полезности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Функция полезности фон Неймана – Моргенштерна и типы отношения к риску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Премия за риск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2"/>
          <p:cNvSpPr/>
          <p:nvPr/>
        </p:nvSpPr>
        <p:spPr>
          <a:xfrm>
            <a:off x="0" y="1052640"/>
            <a:ext cx="914400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Богатство при благоприятном исходе: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W=W</a:t>
            </a:r>
            <a:r>
              <a:rPr b="0" lang="en-US" sz="2800" spc="-1" strike="noStrike" baseline="-25000">
                <a:solidFill>
                  <a:srgbClr val="006699"/>
                </a:solidFill>
                <a:latin typeface="Verdana"/>
              </a:rPr>
              <a:t>0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Богатство при неблагоприятном исходе: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W=W</a:t>
            </a:r>
            <a:r>
              <a:rPr b="0" lang="en-US" sz="2800" spc="-1" strike="noStrike" baseline="-25000">
                <a:solidFill>
                  <a:srgbClr val="006699"/>
                </a:solidFill>
                <a:latin typeface="Verdana"/>
              </a:rPr>
              <a:t>0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L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Ожидаемая полезность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Ожидаемая полезность при совместном несении рисков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4" name="Object 3"/>
              <p:cNvSpPr txBox="1"/>
              <p:nvPr/>
            </p:nvSpPr>
            <p:spPr>
              <a:xfrm>
                <a:off x="1814400" y="3360600"/>
                <a:ext cx="55213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</m:d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L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4.1 Совместное несение рисков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6" name="Object 6"/>
              <p:cNvSpPr txBox="1"/>
              <p:nvPr/>
            </p:nvSpPr>
            <p:spPr>
              <a:xfrm>
                <a:off x="453960" y="4967280"/>
                <a:ext cx="8331120" cy="14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2"/>
          <p:cNvSpPr/>
          <p:nvPr/>
        </p:nvSpPr>
        <p:spPr>
          <a:xfrm>
            <a:off x="0" y="1052640"/>
            <a:ext cx="914400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Условие эффективности совместного несения рисков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Или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9" name="Object 3"/>
              <p:cNvSpPr txBox="1"/>
              <p:nvPr/>
            </p:nvSpPr>
            <p:spPr>
              <a:xfrm>
                <a:off x="1371600" y="4508640"/>
                <a:ext cx="640548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L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&g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L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4.1 Совместное несение рисков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1" name="Object 5"/>
              <p:cNvSpPr txBox="1"/>
              <p:nvPr/>
            </p:nvSpPr>
            <p:spPr>
              <a:xfrm>
                <a:off x="932040" y="2133720"/>
                <a:ext cx="7546680" cy="14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p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Text Box 2"/>
          <p:cNvSpPr/>
          <p:nvPr/>
        </p:nvSpPr>
        <p:spPr>
          <a:xfrm>
            <a:off x="7885080" y="6078600"/>
            <a:ext cx="8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4" name="Text Box 3"/>
          <p:cNvSpPr/>
          <p:nvPr/>
        </p:nvSpPr>
        <p:spPr>
          <a:xfrm>
            <a:off x="250920" y="1197000"/>
            <a:ext cx="100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/>
          </p:nvPr>
        </p:nvSpPr>
        <p:spPr>
          <a:xfrm>
            <a:off x="1437840" y="765000"/>
            <a:ext cx="77058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6699"/>
                </a:solidFill>
                <a:latin typeface="Verdana"/>
              </a:rPr>
              <a:t>Рисунок 2.13 Оптимальное объединение рисков </a:t>
            </a: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6" name="Line 5"/>
          <p:cNvSpPr/>
          <p:nvPr/>
        </p:nvSpPr>
        <p:spPr>
          <a:xfrm>
            <a:off x="971640" y="1484280"/>
            <a:ext cx="0" cy="482436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7" name="Line 6"/>
          <p:cNvSpPr/>
          <p:nvPr/>
        </p:nvSpPr>
        <p:spPr>
          <a:xfrm>
            <a:off x="971640" y="6308640"/>
            <a:ext cx="698508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8" name="Text Box 7"/>
          <p:cNvSpPr/>
          <p:nvPr/>
        </p:nvSpPr>
        <p:spPr>
          <a:xfrm>
            <a:off x="5221440" y="585144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9" name="Line 8"/>
          <p:cNvSpPr/>
          <p:nvPr/>
        </p:nvSpPr>
        <p:spPr>
          <a:xfrm flipV="1">
            <a:off x="971640" y="1988640"/>
            <a:ext cx="4321080" cy="4319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0" name="Line 9"/>
          <p:cNvSpPr/>
          <p:nvPr/>
        </p:nvSpPr>
        <p:spPr>
          <a:xfrm>
            <a:off x="971640" y="2205000"/>
            <a:ext cx="4392360" cy="4103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1" name="Arc 11"/>
          <p:cNvSpPr/>
          <p:nvPr/>
        </p:nvSpPr>
        <p:spPr>
          <a:xfrm rot="2215800">
            <a:off x="395280" y="5516280"/>
            <a:ext cx="1380960" cy="1495440"/>
          </a:xfrm>
          <a:custGeom>
            <a:avLst/>
            <a:gdLst>
              <a:gd name="textAreaLeft" fmla="*/ 0 w 1380960"/>
              <a:gd name="textAreaRight" fmla="*/ 1381320 w 1380960"/>
              <a:gd name="textAreaTop" fmla="*/ 0 h 1495440"/>
              <a:gd name="textAreaBottom" fmla="*/ 1495800 h 1495440"/>
            </a:gdLst>
            <a:ahLst/>
            <a:rect l="textAreaLeft" t="textAreaTop" r="textAreaRight" b="textAreaBottom"/>
            <a:pathLst>
              <a:path fill="none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</a:path>
              <a:path stroke="0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  <a:lnTo>
                  <a:pt x="0" y="20400"/>
                </a:lnTo>
                <a:lnTo>
                  <a:pt x="7099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2" name="Object 13"/>
              <p:cNvSpPr txBox="1"/>
              <p:nvPr/>
            </p:nvSpPr>
            <p:spPr>
              <a:xfrm>
                <a:off x="1763640" y="5589720"/>
                <a:ext cx="5209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43" name="Text Box 15"/>
          <p:cNvSpPr/>
          <p:nvPr/>
        </p:nvSpPr>
        <p:spPr>
          <a:xfrm>
            <a:off x="971640" y="189216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4" name="Text Box 16"/>
          <p:cNvSpPr/>
          <p:nvPr/>
        </p:nvSpPr>
        <p:spPr>
          <a:xfrm>
            <a:off x="291780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5" name="Line 19"/>
          <p:cNvSpPr/>
          <p:nvPr/>
        </p:nvSpPr>
        <p:spPr>
          <a:xfrm flipH="1">
            <a:off x="971280" y="4192560"/>
            <a:ext cx="20876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6" name="Line 20"/>
          <p:cNvSpPr/>
          <p:nvPr/>
        </p:nvSpPr>
        <p:spPr>
          <a:xfrm>
            <a:off x="3097080" y="4221000"/>
            <a:ext cx="0" cy="2087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7" name="Line 21"/>
          <p:cNvSpPr/>
          <p:nvPr/>
        </p:nvSpPr>
        <p:spPr>
          <a:xfrm flipH="1">
            <a:off x="971640" y="5229360"/>
            <a:ext cx="3240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8" name="Line 22"/>
          <p:cNvSpPr/>
          <p:nvPr/>
        </p:nvSpPr>
        <p:spPr>
          <a:xfrm>
            <a:off x="4211640" y="5229360"/>
            <a:ext cx="0" cy="10792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9" name="Text Box 24"/>
          <p:cNvSpPr/>
          <p:nvPr/>
        </p:nvSpPr>
        <p:spPr>
          <a:xfrm>
            <a:off x="3852720" y="515772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0" name="Text Box 29"/>
          <p:cNvSpPr/>
          <p:nvPr/>
        </p:nvSpPr>
        <p:spPr>
          <a:xfrm>
            <a:off x="612720" y="6093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1" name="Text Box 33"/>
          <p:cNvSpPr/>
          <p:nvPr/>
        </p:nvSpPr>
        <p:spPr>
          <a:xfrm>
            <a:off x="108000" y="3716280"/>
            <a:ext cx="10429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L/2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2" name="Text Box 34"/>
          <p:cNvSpPr/>
          <p:nvPr/>
        </p:nvSpPr>
        <p:spPr>
          <a:xfrm>
            <a:off x="-36360" y="4925880"/>
            <a:ext cx="122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4.1 Совместное несение рисков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4" name="Text Box 46"/>
          <p:cNvSpPr/>
          <p:nvPr/>
        </p:nvSpPr>
        <p:spPr>
          <a:xfrm>
            <a:off x="2232000" y="6294600"/>
            <a:ext cx="161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L/2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5" name="Text Box 47"/>
          <p:cNvSpPr/>
          <p:nvPr/>
        </p:nvSpPr>
        <p:spPr>
          <a:xfrm>
            <a:off x="3924360" y="6237360"/>
            <a:ext cx="79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6" name="Arc 48"/>
          <p:cNvSpPr/>
          <p:nvPr/>
        </p:nvSpPr>
        <p:spPr>
          <a:xfrm flipV="1" rot="7012200">
            <a:off x="1978560" y="188640"/>
            <a:ext cx="4969080" cy="4104360"/>
          </a:xfrm>
          <a:custGeom>
            <a:avLst/>
            <a:gdLst>
              <a:gd name="textAreaLeft" fmla="*/ 0 w 4969080"/>
              <a:gd name="textAreaRight" fmla="*/ 4969440 w 4969080"/>
              <a:gd name="textAreaTop" fmla="*/ -360 h 4104360"/>
              <a:gd name="textAreaBottom" fmla="*/ 4104360 h 4104360"/>
            </a:gdLst>
            <a:ahLst/>
            <a:rect l="textAreaLeft" t="textAreaTop" r="textAreaRight" b="textAreaBottom"/>
            <a:pathLst>
              <a:path fill="none" w="21600" h="21067">
                <a:moveTo>
                  <a:pt x="16114" y="-1"/>
                </a:moveTo>
                <a:cubicBezTo>
                  <a:pt x="19647" y="3957"/>
                  <a:pt x="21600" y="9077"/>
                  <a:pt x="21600" y="14383"/>
                </a:cubicBezTo>
                <a:cubicBezTo>
                  <a:pt x="21600" y="16652"/>
                  <a:pt x="21242" y="18908"/>
                  <a:pt x="20539" y="21066"/>
                </a:cubicBezTo>
              </a:path>
              <a:path stroke="0" w="21600" h="21067">
                <a:moveTo>
                  <a:pt x="16114" y="-1"/>
                </a:moveTo>
                <a:cubicBezTo>
                  <a:pt x="19647" y="3957"/>
                  <a:pt x="21600" y="9077"/>
                  <a:pt x="21600" y="14383"/>
                </a:cubicBezTo>
                <a:cubicBezTo>
                  <a:pt x="21600" y="16652"/>
                  <a:pt x="21242" y="18908"/>
                  <a:pt x="20539" y="21066"/>
                </a:cubicBezTo>
                <a:lnTo>
                  <a:pt x="0" y="14383"/>
                </a:lnTo>
                <a:lnTo>
                  <a:pt x="16114" y="-1"/>
                </a:lnTo>
                <a:close/>
              </a:path>
            </a:pathLst>
          </a:custGeom>
          <a:noFill/>
          <a:ln w="572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7" name="Arc 49"/>
          <p:cNvSpPr/>
          <p:nvPr/>
        </p:nvSpPr>
        <p:spPr>
          <a:xfrm flipV="1" rot="7012200">
            <a:off x="1906920" y="475560"/>
            <a:ext cx="4969080" cy="4104000"/>
          </a:xfrm>
          <a:custGeom>
            <a:avLst/>
            <a:gdLst>
              <a:gd name="textAreaLeft" fmla="*/ 0 w 4969080"/>
              <a:gd name="textAreaRight" fmla="*/ 4969440 w 4969080"/>
              <a:gd name="textAreaTop" fmla="*/ 360 h 4104000"/>
              <a:gd name="textAreaBottom" fmla="*/ 4104720 h 4104000"/>
            </a:gdLst>
            <a:ahLst/>
            <a:rect l="textAreaLeft" t="textAreaTop" r="textAreaRight" b="textAreaBottom"/>
            <a:pathLst>
              <a:path fill="none" w="21600" h="21067">
                <a:moveTo>
                  <a:pt x="16114" y="-1"/>
                </a:moveTo>
                <a:cubicBezTo>
                  <a:pt x="19647" y="3957"/>
                  <a:pt x="21600" y="9077"/>
                  <a:pt x="21600" y="14383"/>
                </a:cubicBezTo>
                <a:cubicBezTo>
                  <a:pt x="21600" y="16652"/>
                  <a:pt x="21242" y="18908"/>
                  <a:pt x="20539" y="21066"/>
                </a:cubicBezTo>
              </a:path>
              <a:path stroke="0" w="21600" h="21067">
                <a:moveTo>
                  <a:pt x="16114" y="-1"/>
                </a:moveTo>
                <a:cubicBezTo>
                  <a:pt x="19647" y="3957"/>
                  <a:pt x="21600" y="9077"/>
                  <a:pt x="21600" y="14383"/>
                </a:cubicBezTo>
                <a:cubicBezTo>
                  <a:pt x="21600" y="16652"/>
                  <a:pt x="21242" y="18908"/>
                  <a:pt x="20539" y="21066"/>
                </a:cubicBezTo>
                <a:lnTo>
                  <a:pt x="0" y="14383"/>
                </a:lnTo>
                <a:lnTo>
                  <a:pt x="16114" y="-1"/>
                </a:lnTo>
                <a:close/>
              </a:path>
            </a:pathLst>
          </a:custGeom>
          <a:noFill/>
          <a:ln w="572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8" name="Text Box 50"/>
          <p:cNvSpPr/>
          <p:nvPr/>
        </p:nvSpPr>
        <p:spPr>
          <a:xfrm>
            <a:off x="5148360" y="522936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9" name="Text Box 51"/>
          <p:cNvSpPr/>
          <p:nvPr/>
        </p:nvSpPr>
        <p:spPr>
          <a:xfrm>
            <a:off x="5219640" y="494172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9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015920" indent="0" algn="ctr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9900"/>
                </a:solidFill>
                <a:latin typeface="Verdana"/>
              </a:rPr>
              <a:t>IV. </a:t>
            </a:r>
            <a:r>
              <a:rPr b="0" lang="ru-RU" sz="3500" spc="-1" strike="noStrike">
                <a:solidFill>
                  <a:srgbClr val="ff9900"/>
                </a:solidFill>
                <a:latin typeface="Verdana"/>
              </a:rPr>
              <a:t>Прикладные аспекты модели выбора в пространстве обусловленных благ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0" y="2060280"/>
            <a:ext cx="9144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85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6699"/>
                </a:solidFill>
                <a:latin typeface="Verdana"/>
              </a:rPr>
              <a:t>Совместное несение рисков</a:t>
            </a:r>
            <a:endParaRPr b="0" lang="en-US" sz="3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85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00ff"/>
                </a:solidFill>
                <a:latin typeface="Verdana"/>
              </a:rPr>
              <a:t>Рынок страховых услуг</a:t>
            </a:r>
            <a:endParaRPr b="0" lang="en-US" sz="3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2"/>
          <p:cNvSpPr/>
          <p:nvPr/>
        </p:nvSpPr>
        <p:spPr>
          <a:xfrm>
            <a:off x="0" y="692280"/>
            <a:ext cx="9144000" cy="60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Эквивалент уверенности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рискового проекта – величина гарантированного богатства, при которой индивиду безразлично, покупать страховку или нет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Максимальная сумма, которую индивид готов заплатить за полное страховое покрытие в размере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L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</a:t>
            </a:r>
            <a:r>
              <a:rPr b="0" lang="en-US" sz="3500" spc="-1" strike="noStrike">
                <a:solidFill>
                  <a:srgbClr val="006666"/>
                </a:solidFill>
                <a:latin typeface="Verdana"/>
              </a:rPr>
              <a:t>4</a:t>
            </a: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.2 Рынок страховых услуг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6" name="Object 28"/>
              <p:cNvSpPr txBox="1"/>
              <p:nvPr/>
            </p:nvSpPr>
            <p:spPr>
              <a:xfrm>
                <a:off x="995400" y="2928960"/>
                <a:ext cx="71611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</m:d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L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Object 29"/>
              <p:cNvSpPr txBox="1"/>
              <p:nvPr/>
            </p:nvSpPr>
            <p:spPr>
              <a:xfrm>
                <a:off x="3138480" y="5376960"/>
                <a:ext cx="28256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Text Box 2"/>
          <p:cNvSpPr/>
          <p:nvPr/>
        </p:nvSpPr>
        <p:spPr>
          <a:xfrm>
            <a:off x="7885080" y="6078600"/>
            <a:ext cx="8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0" name="Text Box 3"/>
          <p:cNvSpPr/>
          <p:nvPr/>
        </p:nvSpPr>
        <p:spPr>
          <a:xfrm>
            <a:off x="250920" y="1197000"/>
            <a:ext cx="100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/>
          </p:nvPr>
        </p:nvSpPr>
        <p:spPr>
          <a:xfrm>
            <a:off x="1437840" y="765000"/>
            <a:ext cx="77058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6699"/>
                </a:solidFill>
                <a:latin typeface="Verdana"/>
              </a:rPr>
              <a:t>Рисунок 2.14 Спрос индивида на страхование </a:t>
            </a: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2" name="Line 5"/>
          <p:cNvSpPr/>
          <p:nvPr/>
        </p:nvSpPr>
        <p:spPr>
          <a:xfrm>
            <a:off x="971640" y="1484280"/>
            <a:ext cx="0" cy="482436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3" name="Line 6"/>
          <p:cNvSpPr/>
          <p:nvPr/>
        </p:nvSpPr>
        <p:spPr>
          <a:xfrm>
            <a:off x="971640" y="6308640"/>
            <a:ext cx="698508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4" name="Text Box 7"/>
          <p:cNvSpPr/>
          <p:nvPr/>
        </p:nvSpPr>
        <p:spPr>
          <a:xfrm>
            <a:off x="5221440" y="585144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5" name="Line 8"/>
          <p:cNvSpPr/>
          <p:nvPr/>
        </p:nvSpPr>
        <p:spPr>
          <a:xfrm flipV="1">
            <a:off x="971640" y="1988640"/>
            <a:ext cx="4321080" cy="4319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6" name="Line 9"/>
          <p:cNvSpPr/>
          <p:nvPr/>
        </p:nvSpPr>
        <p:spPr>
          <a:xfrm>
            <a:off x="971640" y="2205000"/>
            <a:ext cx="4392360" cy="4103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7" name="Arc 10"/>
          <p:cNvSpPr/>
          <p:nvPr/>
        </p:nvSpPr>
        <p:spPr>
          <a:xfrm rot="2215800">
            <a:off x="395280" y="5516280"/>
            <a:ext cx="1380960" cy="1495440"/>
          </a:xfrm>
          <a:custGeom>
            <a:avLst/>
            <a:gdLst>
              <a:gd name="textAreaLeft" fmla="*/ 0 w 1380960"/>
              <a:gd name="textAreaRight" fmla="*/ 1381320 w 1380960"/>
              <a:gd name="textAreaTop" fmla="*/ 0 h 1495440"/>
              <a:gd name="textAreaBottom" fmla="*/ 1495800 h 1495440"/>
            </a:gdLst>
            <a:ahLst/>
            <a:rect l="textAreaLeft" t="textAreaTop" r="textAreaRight" b="textAreaBottom"/>
            <a:pathLst>
              <a:path fill="none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</a:path>
              <a:path stroke="0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  <a:lnTo>
                  <a:pt x="0" y="20400"/>
                </a:lnTo>
                <a:lnTo>
                  <a:pt x="7099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8" name="Text Box 12"/>
          <p:cNvSpPr/>
          <p:nvPr/>
        </p:nvSpPr>
        <p:spPr>
          <a:xfrm>
            <a:off x="971640" y="189216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9" name="Text Box 13"/>
          <p:cNvSpPr/>
          <p:nvPr/>
        </p:nvSpPr>
        <p:spPr>
          <a:xfrm>
            <a:off x="291780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0" name="Line 14"/>
          <p:cNvSpPr/>
          <p:nvPr/>
        </p:nvSpPr>
        <p:spPr>
          <a:xfrm flipH="1">
            <a:off x="971280" y="4192560"/>
            <a:ext cx="20876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1" name="Line 15"/>
          <p:cNvSpPr/>
          <p:nvPr/>
        </p:nvSpPr>
        <p:spPr>
          <a:xfrm>
            <a:off x="3097080" y="4221000"/>
            <a:ext cx="0" cy="2087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2" name="Line 16"/>
          <p:cNvSpPr/>
          <p:nvPr/>
        </p:nvSpPr>
        <p:spPr>
          <a:xfrm flipH="1">
            <a:off x="971640" y="5229360"/>
            <a:ext cx="3240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3" name="Line 17"/>
          <p:cNvSpPr/>
          <p:nvPr/>
        </p:nvSpPr>
        <p:spPr>
          <a:xfrm>
            <a:off x="4211640" y="5229360"/>
            <a:ext cx="0" cy="10792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4" name="Text Box 18"/>
          <p:cNvSpPr/>
          <p:nvPr/>
        </p:nvSpPr>
        <p:spPr>
          <a:xfrm>
            <a:off x="3852720" y="515772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5" name="Text Box 19"/>
          <p:cNvSpPr/>
          <p:nvPr/>
        </p:nvSpPr>
        <p:spPr>
          <a:xfrm>
            <a:off x="612720" y="6093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6" name="Text Box 20"/>
          <p:cNvSpPr/>
          <p:nvPr/>
        </p:nvSpPr>
        <p:spPr>
          <a:xfrm>
            <a:off x="108000" y="3716280"/>
            <a:ext cx="10429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7" name="Text Box 21"/>
          <p:cNvSpPr/>
          <p:nvPr/>
        </p:nvSpPr>
        <p:spPr>
          <a:xfrm>
            <a:off x="-36360" y="4925880"/>
            <a:ext cx="122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4.</a:t>
            </a:r>
            <a:r>
              <a:rPr b="0" lang="en-US" sz="3500" spc="-1" strike="noStrike">
                <a:solidFill>
                  <a:srgbClr val="006666"/>
                </a:solidFill>
                <a:latin typeface="Verdana"/>
              </a:rPr>
              <a:t>2</a:t>
            </a: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 Рынок страховых услуг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89" name="Text Box 24"/>
          <p:cNvSpPr/>
          <p:nvPr/>
        </p:nvSpPr>
        <p:spPr>
          <a:xfrm>
            <a:off x="1979640" y="6294600"/>
            <a:ext cx="223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(1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)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0" name="Text Box 25"/>
          <p:cNvSpPr/>
          <p:nvPr/>
        </p:nvSpPr>
        <p:spPr>
          <a:xfrm>
            <a:off x="3924360" y="6237360"/>
            <a:ext cx="79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1" name="Arc 26"/>
          <p:cNvSpPr/>
          <p:nvPr/>
        </p:nvSpPr>
        <p:spPr>
          <a:xfrm flipV="1" rot="7012200">
            <a:off x="1978560" y="188640"/>
            <a:ext cx="4969080" cy="4104360"/>
          </a:xfrm>
          <a:custGeom>
            <a:avLst/>
            <a:gdLst>
              <a:gd name="textAreaLeft" fmla="*/ 0 w 4969080"/>
              <a:gd name="textAreaRight" fmla="*/ 4969440 w 4969080"/>
              <a:gd name="textAreaTop" fmla="*/ -360 h 4104360"/>
              <a:gd name="textAreaBottom" fmla="*/ 4104360 h 4104360"/>
            </a:gdLst>
            <a:ahLst/>
            <a:rect l="textAreaLeft" t="textAreaTop" r="textAreaRight" b="textAreaBottom"/>
            <a:pathLst>
              <a:path fill="none" w="21600" h="21067">
                <a:moveTo>
                  <a:pt x="16114" y="-1"/>
                </a:moveTo>
                <a:cubicBezTo>
                  <a:pt x="19647" y="3957"/>
                  <a:pt x="21600" y="9077"/>
                  <a:pt x="21600" y="14383"/>
                </a:cubicBezTo>
                <a:cubicBezTo>
                  <a:pt x="21600" y="16652"/>
                  <a:pt x="21242" y="18908"/>
                  <a:pt x="20539" y="21066"/>
                </a:cubicBezTo>
              </a:path>
              <a:path stroke="0" w="21600" h="21067">
                <a:moveTo>
                  <a:pt x="16114" y="-1"/>
                </a:moveTo>
                <a:cubicBezTo>
                  <a:pt x="19647" y="3957"/>
                  <a:pt x="21600" y="9077"/>
                  <a:pt x="21600" y="14383"/>
                </a:cubicBezTo>
                <a:cubicBezTo>
                  <a:pt x="21600" y="16652"/>
                  <a:pt x="21242" y="18908"/>
                  <a:pt x="20539" y="21066"/>
                </a:cubicBezTo>
                <a:lnTo>
                  <a:pt x="0" y="14383"/>
                </a:lnTo>
                <a:lnTo>
                  <a:pt x="16114" y="-1"/>
                </a:lnTo>
                <a:close/>
              </a:path>
            </a:pathLst>
          </a:custGeom>
          <a:noFill/>
          <a:ln w="572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2" name="Arc 27"/>
          <p:cNvSpPr/>
          <p:nvPr/>
        </p:nvSpPr>
        <p:spPr>
          <a:xfrm flipV="1" rot="6333000">
            <a:off x="1252440" y="-36360"/>
            <a:ext cx="5472000" cy="4751640"/>
          </a:xfrm>
          <a:custGeom>
            <a:avLst/>
            <a:gdLst>
              <a:gd name="textAreaLeft" fmla="*/ 0 w 5472000"/>
              <a:gd name="textAreaRight" fmla="*/ 5472360 w 5472000"/>
              <a:gd name="textAreaTop" fmla="*/ 0 h 4751640"/>
              <a:gd name="textAreaBottom" fmla="*/ 4751640 h 4751640"/>
            </a:gdLst>
            <a:ahLst/>
            <a:rect l="textAreaLeft" t="textAreaTop" r="textAreaRight" b="textAreaBottom"/>
            <a:pathLst>
              <a:path fill="none" w="21600" h="21067">
                <a:moveTo>
                  <a:pt x="16114" y="-1"/>
                </a:moveTo>
                <a:cubicBezTo>
                  <a:pt x="19647" y="3957"/>
                  <a:pt x="21600" y="9077"/>
                  <a:pt x="21600" y="14383"/>
                </a:cubicBezTo>
                <a:cubicBezTo>
                  <a:pt x="21600" y="16652"/>
                  <a:pt x="21242" y="18908"/>
                  <a:pt x="20539" y="21066"/>
                </a:cubicBezTo>
              </a:path>
              <a:path stroke="0" w="21600" h="21067">
                <a:moveTo>
                  <a:pt x="16114" y="-1"/>
                </a:moveTo>
                <a:cubicBezTo>
                  <a:pt x="19647" y="3957"/>
                  <a:pt x="21600" y="9077"/>
                  <a:pt x="21600" y="14383"/>
                </a:cubicBezTo>
                <a:cubicBezTo>
                  <a:pt x="21600" y="16652"/>
                  <a:pt x="21242" y="18908"/>
                  <a:pt x="20539" y="21066"/>
                </a:cubicBezTo>
                <a:lnTo>
                  <a:pt x="0" y="14383"/>
                </a:lnTo>
                <a:lnTo>
                  <a:pt x="16114" y="-1"/>
                </a:lnTo>
                <a:close/>
              </a:path>
            </a:pathLst>
          </a:custGeom>
          <a:noFill/>
          <a:ln w="572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3" name="Text Box 28"/>
          <p:cNvSpPr/>
          <p:nvPr/>
        </p:nvSpPr>
        <p:spPr>
          <a:xfrm>
            <a:off x="5581800" y="508464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4" name="Text Box 29"/>
          <p:cNvSpPr/>
          <p:nvPr/>
        </p:nvSpPr>
        <p:spPr>
          <a:xfrm>
            <a:off x="5219640" y="486900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5" name="Line 30"/>
          <p:cNvSpPr/>
          <p:nvPr/>
        </p:nvSpPr>
        <p:spPr>
          <a:xfrm>
            <a:off x="2700360" y="4581360"/>
            <a:ext cx="0" cy="17272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6" name="Text Box 31"/>
          <p:cNvSpPr/>
          <p:nvPr/>
        </p:nvSpPr>
        <p:spPr>
          <a:xfrm>
            <a:off x="2266920" y="5789520"/>
            <a:ext cx="93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c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178920" y="1125360"/>
            <a:ext cx="87138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Если возможно </a:t>
            </a:r>
            <a:r>
              <a:rPr b="0" lang="en-US" sz="3000" spc="-1" strike="noStrike">
                <a:solidFill>
                  <a:srgbClr val="006699"/>
                </a:solidFill>
                <a:latin typeface="Verdana"/>
              </a:rPr>
              <a:t>n </a:t>
            </a: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исходов какого-либо события, сумма вероятностей реализации этих исходов равна 1: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Ожидаемая стоимость (математическое ожидание):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4"/>
              <p:cNvSpPr txBox="1"/>
              <p:nvPr/>
            </p:nvSpPr>
            <p:spPr>
              <a:xfrm>
                <a:off x="3916440" y="2832120"/>
                <a:ext cx="128268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3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</a:t>
            </a:r>
            <a:r>
              <a:rPr b="0" lang="en-US" sz="3500" spc="-1" strike="noStrike">
                <a:solidFill>
                  <a:srgbClr val="006666"/>
                </a:solidFill>
                <a:latin typeface="Verdana"/>
              </a:rPr>
              <a:t>.1.1 </a:t>
            </a: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Вероятность, ожидаемая стоимость и отклонения от нее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7"/>
              <p:cNvSpPr txBox="1"/>
              <p:nvPr/>
            </p:nvSpPr>
            <p:spPr>
              <a:xfrm>
                <a:off x="882720" y="5040360"/>
                <a:ext cx="739116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≡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178920" y="112536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Дисперсия: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Стандартное отклонение: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Чему равны ожидаемая стоимость, дисперсия и стандартное отклонение, если существует только два возможных исхода: </a:t>
            </a:r>
            <a:r>
              <a:rPr b="0" lang="en-US" sz="3000" spc="-1" strike="noStrike">
                <a:solidFill>
                  <a:srgbClr val="006699"/>
                </a:solidFill>
                <a:latin typeface="Verdana"/>
              </a:rPr>
              <a:t>X</a:t>
            </a:r>
            <a:r>
              <a:rPr b="0" lang="en-US" sz="30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0" lang="en-US" sz="3000" spc="-1" strike="noStrike">
                <a:solidFill>
                  <a:srgbClr val="006699"/>
                </a:solidFill>
                <a:latin typeface="Verdana"/>
              </a:rPr>
              <a:t>=100, X</a:t>
            </a:r>
            <a:r>
              <a:rPr b="0" lang="en-US" sz="3000" spc="-1" strike="noStrike" baseline="-25000">
                <a:solidFill>
                  <a:srgbClr val="006699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6699"/>
                </a:solidFill>
                <a:latin typeface="Verdana"/>
              </a:rPr>
              <a:t>=200</a:t>
            </a: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; и их вероятности, соответственно: </a:t>
            </a:r>
            <a:r>
              <a:rPr b="0" lang="en-US" sz="3000" spc="-1" strike="noStrike">
                <a:solidFill>
                  <a:srgbClr val="006699"/>
                </a:solidFill>
                <a:latin typeface="Verdana"/>
              </a:rPr>
              <a:t>p</a:t>
            </a:r>
            <a:r>
              <a:rPr b="0" lang="en-US" sz="30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0" lang="en-US" sz="3000" spc="-1" strike="noStrike">
                <a:solidFill>
                  <a:srgbClr val="006699"/>
                </a:solidFill>
                <a:latin typeface="Verdana"/>
              </a:rPr>
              <a:t>=0,</a:t>
            </a: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4 и</a:t>
            </a:r>
            <a:r>
              <a:rPr b="0" lang="en-US" sz="3000" spc="-1" strike="noStrike">
                <a:solidFill>
                  <a:srgbClr val="006699"/>
                </a:solidFill>
                <a:latin typeface="Verdana"/>
              </a:rPr>
              <a:t> p</a:t>
            </a:r>
            <a:r>
              <a:rPr b="0" lang="en-US" sz="3000" spc="-1" strike="noStrike" baseline="-25000">
                <a:solidFill>
                  <a:srgbClr val="006699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6699"/>
                </a:solidFill>
                <a:latin typeface="Verdana"/>
              </a:rPr>
              <a:t>=0,6?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3"/>
              <p:cNvSpPr txBox="1"/>
              <p:nvPr/>
            </p:nvSpPr>
            <p:spPr>
              <a:xfrm>
                <a:off x="2930400" y="1557360"/>
                <a:ext cx="322596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3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</a:t>
            </a:r>
            <a:r>
              <a:rPr b="0" lang="en-US" sz="3500" spc="-1" strike="noStrike">
                <a:solidFill>
                  <a:srgbClr val="006666"/>
                </a:solidFill>
                <a:latin typeface="Verdana"/>
              </a:rPr>
              <a:t>.1.1 </a:t>
            </a: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Вероятность, ожидаемая стоимость и отклонения от нее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6"/>
              <p:cNvSpPr txBox="1"/>
              <p:nvPr/>
            </p:nvSpPr>
            <p:spPr>
              <a:xfrm>
                <a:off x="3635280" y="3179880"/>
                <a:ext cx="17654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5"/>
          <p:cNvSpPr/>
          <p:nvPr/>
        </p:nvSpPr>
        <p:spPr>
          <a:xfrm>
            <a:off x="4427640" y="62373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324000" y="126828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11280" y="1054080"/>
            <a:ext cx="774072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Рисунок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.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1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 Ожидаемая стоимость и дисперсия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Line 8"/>
          <p:cNvSpPr/>
          <p:nvPr/>
        </p:nvSpPr>
        <p:spPr>
          <a:xfrm>
            <a:off x="324000" y="1628640"/>
            <a:ext cx="0" cy="468000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Line 9"/>
          <p:cNvSpPr/>
          <p:nvPr/>
        </p:nvSpPr>
        <p:spPr>
          <a:xfrm>
            <a:off x="324000" y="6308640"/>
            <a:ext cx="410364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</a:t>
            </a:r>
            <a:r>
              <a:rPr b="0" lang="en-US" sz="3500" spc="-1" strike="noStrike">
                <a:solidFill>
                  <a:srgbClr val="006666"/>
                </a:solidFill>
                <a:latin typeface="Verdana"/>
              </a:rPr>
              <a:t>.1.1 </a:t>
            </a: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Вероятность, ожидаемая стоимость и отклонения от нее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1" name="Freeform 28"/>
          <p:cNvSpPr/>
          <p:nvPr/>
        </p:nvSpPr>
        <p:spPr>
          <a:xfrm>
            <a:off x="539640" y="2744640"/>
            <a:ext cx="3745080" cy="3421080"/>
          </a:xfrm>
          <a:custGeom>
            <a:avLst/>
            <a:gdLst>
              <a:gd name="textAreaLeft" fmla="*/ 0 w 3745080"/>
              <a:gd name="textAreaRight" fmla="*/ 3745440 w 3745080"/>
              <a:gd name="textAreaTop" fmla="*/ 0 h 3421080"/>
              <a:gd name="textAreaBottom" fmla="*/ 3421440 h 3421080"/>
            </a:gdLst>
            <a:ahLst/>
            <a:rect l="textAreaLeft" t="textAreaTop" r="textAreaRight" b="textAreaBottom"/>
            <a:pathLst>
              <a:path w="2268" h="2155">
                <a:moveTo>
                  <a:pt x="0" y="2155"/>
                </a:moveTo>
                <a:cubicBezTo>
                  <a:pt x="366" y="1924"/>
                  <a:pt x="733" y="1693"/>
                  <a:pt x="952" y="1338"/>
                </a:cubicBezTo>
                <a:cubicBezTo>
                  <a:pt x="1171" y="983"/>
                  <a:pt x="1179" y="46"/>
                  <a:pt x="1315" y="23"/>
                </a:cubicBezTo>
                <a:cubicBezTo>
                  <a:pt x="1451" y="0"/>
                  <a:pt x="1610" y="877"/>
                  <a:pt x="1769" y="1202"/>
                </a:cubicBezTo>
                <a:cubicBezTo>
                  <a:pt x="1928" y="1527"/>
                  <a:pt x="2185" y="1845"/>
                  <a:pt x="2268" y="1973"/>
                </a:cubicBezTo>
              </a:path>
            </a:pathLst>
          </a:custGeom>
          <a:noFill/>
          <a:ln w="5724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Line 29"/>
          <p:cNvSpPr/>
          <p:nvPr/>
        </p:nvSpPr>
        <p:spPr>
          <a:xfrm flipV="1">
            <a:off x="1692360" y="1915920"/>
            <a:ext cx="0" cy="439236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Text Box 30"/>
          <p:cNvSpPr/>
          <p:nvPr/>
        </p:nvSpPr>
        <p:spPr>
          <a:xfrm>
            <a:off x="1476360" y="62373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Line 31"/>
          <p:cNvSpPr/>
          <p:nvPr/>
        </p:nvSpPr>
        <p:spPr>
          <a:xfrm>
            <a:off x="4859280" y="1628640"/>
            <a:ext cx="0" cy="468000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Line 32"/>
          <p:cNvSpPr/>
          <p:nvPr/>
        </p:nvSpPr>
        <p:spPr>
          <a:xfrm>
            <a:off x="4861080" y="6308640"/>
            <a:ext cx="410364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Text Box 33"/>
          <p:cNvSpPr/>
          <p:nvPr/>
        </p:nvSpPr>
        <p:spPr>
          <a:xfrm>
            <a:off x="8747280" y="62946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Text Box 34"/>
          <p:cNvSpPr/>
          <p:nvPr/>
        </p:nvSpPr>
        <p:spPr>
          <a:xfrm>
            <a:off x="4861080" y="126828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" name="Line 35"/>
          <p:cNvSpPr/>
          <p:nvPr/>
        </p:nvSpPr>
        <p:spPr>
          <a:xfrm flipV="1">
            <a:off x="7667640" y="1915920"/>
            <a:ext cx="0" cy="439236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Text Box 36"/>
          <p:cNvSpPr/>
          <p:nvPr/>
        </p:nvSpPr>
        <p:spPr>
          <a:xfrm>
            <a:off x="7451640" y="629460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" name="Freeform 38"/>
          <p:cNvSpPr/>
          <p:nvPr/>
        </p:nvSpPr>
        <p:spPr>
          <a:xfrm>
            <a:off x="4932360" y="2324160"/>
            <a:ext cx="3743280" cy="3768840"/>
          </a:xfrm>
          <a:custGeom>
            <a:avLst/>
            <a:gdLst>
              <a:gd name="textAreaLeft" fmla="*/ 0 w 3743280"/>
              <a:gd name="textAreaRight" fmla="*/ 3743640 w 3743280"/>
              <a:gd name="textAreaTop" fmla="*/ 0 h 3768840"/>
              <a:gd name="textAreaBottom" fmla="*/ 3769200 h 3768840"/>
            </a:gdLst>
            <a:ahLst/>
            <a:rect l="textAreaLeft" t="textAreaTop" r="textAreaRight" b="textAreaBottom"/>
            <a:pathLst>
              <a:path w="2358" h="2374">
                <a:moveTo>
                  <a:pt x="0" y="2374"/>
                </a:moveTo>
                <a:cubicBezTo>
                  <a:pt x="174" y="2283"/>
                  <a:pt x="348" y="2192"/>
                  <a:pt x="499" y="1875"/>
                </a:cubicBezTo>
                <a:cubicBezTo>
                  <a:pt x="650" y="1558"/>
                  <a:pt x="763" y="741"/>
                  <a:pt x="907" y="469"/>
                </a:cubicBezTo>
                <a:cubicBezTo>
                  <a:pt x="1051" y="197"/>
                  <a:pt x="1187" y="0"/>
                  <a:pt x="1361" y="242"/>
                </a:cubicBezTo>
                <a:cubicBezTo>
                  <a:pt x="1535" y="484"/>
                  <a:pt x="1784" y="1566"/>
                  <a:pt x="1950" y="1921"/>
                </a:cubicBezTo>
                <a:cubicBezTo>
                  <a:pt x="2116" y="2276"/>
                  <a:pt x="2237" y="2325"/>
                  <a:pt x="2358" y="2374"/>
                </a:cubicBezTo>
              </a:path>
            </a:pathLst>
          </a:custGeom>
          <a:noFill/>
          <a:ln w="5724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138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Verdana"/>
              </a:rPr>
              <a:t>I. </a:t>
            </a:r>
            <a:r>
              <a:rPr b="0" lang="ru-RU" sz="3600" spc="-1" strike="noStrike">
                <a:solidFill>
                  <a:srgbClr val="0000ff"/>
                </a:solidFill>
                <a:latin typeface="Verdana"/>
              </a:rPr>
              <a:t>Вероятность, ожидаемая стоимость и гипотеза ожидаемой полезности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Вероятность, ожидаемая стоимость и отклонения от нее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ff"/>
                </a:solidFill>
                <a:latin typeface="Verdana"/>
              </a:rPr>
              <a:t>Актуарно справедливые игры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Гипотеза ожидаемой полезности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Функция полезности фон Неймана – Моргенштерна и типы отношения к риску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Премия за риск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6666"/>
                </a:solidFill>
                <a:latin typeface="Verdana"/>
              </a:rPr>
              <a:t>2</a:t>
            </a: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.1.</a:t>
            </a:r>
            <a:r>
              <a:rPr b="0" lang="en-US" sz="3500" spc="-1" strike="noStrike">
                <a:solidFill>
                  <a:srgbClr val="006666"/>
                </a:solidFill>
                <a:latin typeface="Verdana"/>
              </a:rPr>
              <a:t>2</a:t>
            </a: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 Актуарно справедливые игры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9647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3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6699"/>
                </a:solidFill>
                <a:latin typeface="Verdana"/>
              </a:rPr>
              <a:t>Актуарно справедливые игры</a:t>
            </a:r>
            <a:r>
              <a:rPr b="0" lang="ru-RU" sz="3100" spc="-1" strike="noStrike">
                <a:solidFill>
                  <a:srgbClr val="006699"/>
                </a:solidFill>
                <a:latin typeface="Verdana"/>
              </a:rPr>
              <a:t>: игры с нулевой ожидаемой стоимостью или игры, за участие в которых игроки готовы заплатить их ожидаемую стоимость</a:t>
            </a:r>
            <a:endParaRPr b="0" lang="en-US" sz="31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4"/>
              <p:cNvSpPr txBox="1"/>
              <p:nvPr/>
            </p:nvSpPr>
            <p:spPr>
              <a:xfrm>
                <a:off x="1077840" y="3679920"/>
                <a:ext cx="683280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,5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+</m:t>
                    </m:r>
                    <m:r>
                      <m:t xml:space="preserve">0,5</m:t>
                    </m:r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6"/>
              <p:cNvSpPr txBox="1"/>
              <p:nvPr/>
            </p:nvSpPr>
            <p:spPr>
              <a:xfrm>
                <a:off x="833400" y="4713120"/>
                <a:ext cx="725184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,6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+</m:t>
                    </m:r>
                    <m:r>
                      <m:t xml:space="preserve">0,4</m:t>
                    </m:r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1T18:58:50Z</dcterms:created>
  <dc:creator>Grisha</dc:creator>
  <dc:description/>
  <dc:language>en-US</dc:language>
  <cp:lastModifiedBy>LEGION</cp:lastModifiedBy>
  <dcterms:modified xsi:type="dcterms:W3CDTF">2016-01-04T08:17:41Z</dcterms:modified>
  <cp:revision>22</cp:revision>
  <dc:subject/>
  <dc:title>Прикладная экономика</dc:title>
</cp:coreProperties>
</file>