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9.wmf" ContentType="image/x-wmf"/>
  <Override PartName="/ppt/media/image1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A6B6-2D9F-4988-A8BE-9EAB4539BBE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о обществ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ушина Е.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рок по обществознанию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8 класс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читель истории и обществозн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епушина Е.Ю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ерераспределение 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еравенств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ая 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врожд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й объ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ая успешность 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ить деньги в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хран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 в чул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владельц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чи за гор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земельного уча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нтре Моск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в насле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 или трехколес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осипед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решать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изике или выу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у умн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три года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ичины неравенства 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ичин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еравен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ая ценнос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Фактор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ые врожденный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пособност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ый объе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Фактор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ая успешность их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спользо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ложить деньги в акци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ли храни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ма в чулке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ыть владельцем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ачи за городо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ли земельного участк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центре Москвы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лучить в наследство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м или трехколесный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елосипед7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меть решать задач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 физике или выучи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таблицу умноже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За три года?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 профессий по результатам общественного 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ейтинг профессий по результатам общественного мне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цильный коэффициент в России(соотношение 10% богатых к 10% бедн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ецильный коэффициент в России(соотношение 10% богатых к 10% бедных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цильный коэффици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сты считают оптималь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от 5 до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олько децильный коэффици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ает 1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ане появляются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циальных беспоряд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ецильный коэффициен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экономисты считают оптимальным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оотношение от 5 до 7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ак только децильный коэффициент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стигает 10,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стране появляются услов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ля социальных беспорядков.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редь безработных за тарелкой с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чередь безработных за тарелкой суп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рабь награбленно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Грабь награбленное!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детные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сион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о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и, потерявш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миль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ал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чему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удент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ногодетные семь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енсионер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динокие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атер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емьи, потерявши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ормильц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езработны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нвалид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плат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Кто платит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ним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Кто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принимае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решения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средней зарплаты по России в долларах и в рублях в 1996—2006 го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инамика средней зарплаты по России в долларах и в рублях в 1996—2006 годах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ст М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Рост МРО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потребительской корзины: данные за 3 год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укты ,весь набор товаров и услу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точный минимум (Иркутская обла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71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оимость потребительской корзины: данные за 3 года</a:t>
            </a:r>
            <a:br>
              <a:rPr sz="1200"/>
            </a:b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(продукты ,весь набор товаров и услуг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житочный минимум (Иркутская область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4 710 руб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признаки богат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лищных усло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овести отпуск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приобретения дорогой мебели и бытовой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медицинского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получения хорош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уверенность в завтрашнем д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проведения досуга (посещение дорогостоящих дискотек, ресторанов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иобретения недвижимости за рубеж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орогого автомоби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меть интересную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к ним окружаю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щищенность от физического насилия и посягательств на их соб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Главные признаки богат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ачество жилищных условий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провести отпуск за границей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ступность приобретения дорогой мебели и бытовой техник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ровень медицинского обслужи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и получения хорошего образо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ольшая уверенность в завтрашнем дн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и проведения досуга (посещение дорогостоящих дискотек, ресторанов и т.д.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приобретения недвижимости за рубежо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аличие дорогого автомобил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иметь интересную работу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тношение к ним окружающих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езащищенность от физического насилия и посягательств на их собственность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иллионеры России 200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Миллионеры России 2008 г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не 2010 года среднемесячная начисленная заработная плата составляла 21597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на март 2010 года, средняя начисленная заработная плата в России составляла 20383 руб/мес, в том числе 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атывающих производствах            18297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машин и оборудования     19057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нефтепродуктов                 45228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пищевых продуктов и табака    16982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ильном и швейном производстве   10074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кожи, изделий из кожи и производство обуви                                                              10616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ом производстве                          21956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ическом производстве              23258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полезных ископаемых                   39742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топливно-энергетических полез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паемых                                                      47559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полезных ископаемых (кроме топливно-энергетических)                                        25361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июне 2010 года среднемесячная начисленная заработная плата составляла 21597 руб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 данным на март 2010 года, средняя начисленная заработная плата в России составляла 20383 руб/мес, в том числе в: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брабатывающих производствах            18297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машин и оборудования     19057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нефтепродуктов                 45228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пищевых продуктов и табака    16982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текстильном и швейном производстве   10074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кожи, изделий из кожи и производство обуви                                                              10616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химическом производстве                          21956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еталлургическом производстве              23258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полезных ископаемых                   39742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топливно-энергетических полезных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скопаемых                                                      47559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полезных ископаемых (кроме топливно-энергетических)                                        25361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3F9-B3EB-4FA5-AB53-CF836FE9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E9A-A2FC-44D6-9459-C2A454B5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28D-3401-4583-875E-71D97764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56A-2D37-4B28-B5F7-3F3111D3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4727-CB24-4867-BA1F-FC7BE8F1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2BDD-8419-46EF-93BB-C3B6B227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EE45-D0E0-4BE0-9034-753195DE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5E80-7018-4B4B-9F88-42C15D59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4CD3-5FEE-4E48-9445-3882476B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3B6D-656E-4A25-9799-022B8AC1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D61D-A66A-4BB6-8DEA-E47F9C47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DBF-950F-48EE-BC40-972A3B83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E615-2351-4CBB-B4EC-901CFDF2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7830-0EBC-49BB-9E0A-34CFFC34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8974-1B11-40D3-A026-C3357F5B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BFD8-C4C5-4F0B-B843-5EF5C41E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49E6-F8E5-4C7A-8657-CECD92A7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EFE-ED45-4960-A99F-78D841D6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389-FC8A-41EE-8E76-330C80B2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769-F935-4958-B951-16BB871A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D91-331C-4566-A467-119A43CB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2C6-DA3F-4368-BD49-4D25F778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195-71C7-42FE-B0F1-61AB6BB2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0EE-CA10-4E4C-BD00-5DB7017C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1AB9-103B-4D21-A101-1EFD071FEE37}" type="slidenum">
              <a:rPr b="0" lang="ru-RU" sz="1000" spc="-1" strike="noStrike">
                <a:solidFill>
                  <a:srgbClr val="fff9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1DDE-2656-4343-B428-864AD779AFE0}" type="slidenum">
              <a:rPr b="0" lang="ru-RU" sz="10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4471920" cy="18622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Урок по обществознанию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8 класс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учитель истории и обществозн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Степушина Е.Ю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OCR A Extended"/>
              </a:rPr>
              <a:t>Перераспределение доходов</a:t>
            </a:r>
            <a:endParaRPr b="0" lang="en-US" sz="4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08000" y="765000"/>
          <a:ext cx="9036000" cy="5680080"/>
        </p:xfrm>
        <a:graphic>
          <a:graphicData uri="http://schemas.openxmlformats.org/drawingml/2006/table">
            <a:tbl>
              <a:tblPr/>
              <a:tblGrid>
                <a:gridCol w="1079280"/>
                <a:gridCol w="1729080"/>
                <a:gridCol w="1368360"/>
                <a:gridCol w="1727280"/>
                <a:gridCol w="1512720"/>
                <a:gridCol w="1619280"/>
              </a:tblGrid>
              <a:tr h="19220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едушевые доходы населе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ий размер назначенных пенс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яя номинальная начисленная зарплата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Зарплата депутатов Госдум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Зарплата федераль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ных министров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06740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 023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2 364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 55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85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0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  <a:tr h="106740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6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9 947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2 72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0 727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0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2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  <a:tr h="16232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2 901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3 01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2 791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15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4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</a:tbl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925040" cy="1311120"/>
          </a:xfrm>
          <a:prstGeom prst="rect">
            <a:avLst/>
          </a:prstGeom>
          <a:solidFill>
            <a:srgbClr val="fff9cf"/>
          </a:solidFill>
          <a:ln w="9360">
            <a:solidFill>
              <a:srgbClr val="f8fd1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OCR A Extended"/>
              </a:rPr>
              <a:t>Причины </a:t>
            </a:r>
            <a:r>
              <a:rPr b="1" lang="ru-RU" sz="3200" spc="-1" strike="noStrike">
                <a:solidFill>
                  <a:srgbClr val="62139e"/>
                </a:solidFill>
                <a:latin typeface="OCR A Extended"/>
              </a:rPr>
              <a:t>неравенства</a:t>
            </a:r>
            <a:r>
              <a:rPr b="1" lang="ru-RU" sz="3200" spc="-1" strike="noStrike">
                <a:solidFill>
                  <a:srgbClr val="333399"/>
                </a:solidFill>
                <a:latin typeface="OCR A Extended"/>
              </a:rPr>
              <a:t> доходов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21" name="Oval 3"/>
          <p:cNvSpPr/>
          <p:nvPr/>
        </p:nvSpPr>
        <p:spPr>
          <a:xfrm>
            <a:off x="3059280" y="2565360"/>
            <a:ext cx="2952720" cy="1943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Причины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 </a:t>
            </a: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неравенства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 </a:t>
            </a: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доходов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468360" y="1557360"/>
            <a:ext cx="2592360" cy="165744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ая ценнос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Факторов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роизводств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468360" y="4221000"/>
            <a:ext cx="3024000" cy="1727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ые врожденный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пособност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5508720" y="4221000"/>
            <a:ext cx="2881080" cy="17290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ый объем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Факторов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роизводств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5867280" y="1700280"/>
            <a:ext cx="2881440" cy="1800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ая успешность их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спользован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6156360" y="3068640"/>
            <a:ext cx="2987640" cy="100800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ложить деньги в акци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ли храни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ома в чулке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651640" y="5661000"/>
            <a:ext cx="3492360" cy="119700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Быть владельцем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ачи за городом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ли земельного участк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 центре Москвы</a:t>
            </a:r>
            <a:r>
              <a:rPr b="0" lang="ru-RU" sz="18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0" y="3213000"/>
            <a:ext cx="2843280" cy="93672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олучить в наследство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ом или трехколесный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елосипед7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611280" y="5705640"/>
            <a:ext cx="3386160" cy="115236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Уметь решать задач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о физике или выучи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таблицу умножен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За три года?</a:t>
            </a:r>
            <a:r>
              <a:rPr b="0" lang="ru-RU" sz="18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solidFill>
            <a:srgbClr val="f8fd1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9797"/>
                </a:solidFill>
                <a:latin typeface="Sylfaen"/>
              </a:rPr>
              <a:t>Рейтинг профессий по результатам общественного мнения</a:t>
            </a:r>
            <a:endParaRPr b="0" lang="en-US" sz="2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836640"/>
          <a:ext cx="8675640" cy="6089760"/>
        </p:xfrm>
        <a:graphic>
          <a:graphicData uri="http://schemas.openxmlformats.org/drawingml/2006/table">
            <a:tbl>
              <a:tblPr/>
              <a:tblGrid>
                <a:gridCol w="4319640"/>
                <a:gridCol w="4356000"/>
              </a:tblGrid>
              <a:tr h="10883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.Банкир                            39,9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.Преступный авторитет 28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3.Звезда эстрады               22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.Депутат                           21,7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.Министр                        15, 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.Юрист                             14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.Губернатор                     13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.Предприниматель        13, 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9.Политик                         11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0.Проститутка                   9,1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1.Фотомодель                   8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2.Имиджмейкер              3,7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3.Врач                               3,0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4.Священник                     2,2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5.Артист                             2,0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6.Журналист                     1,7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.Фермер                            1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8.Милиционер                  1,2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9.Сотрудник спецслужб 1,2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.Нищий                            1,1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1.Учитель                          0,8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2.Ученый                           0,8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3.Писатель                         0,6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4.Спортсмен                       0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5.Квалифицированный рабочий                                0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6.Офицер армии               0,1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067600" cy="220500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3130"/>
                </a:solidFill>
                <a:latin typeface="OCR A Extended"/>
              </a:rPr>
              <a:t>Децильный коэффициент в России(соотношение 10% богатых к 10% бедных)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2708280"/>
          <a:ext cx="7924680" cy="3529080"/>
        </p:xfrm>
        <a:graphic>
          <a:graphicData uri="http://schemas.openxmlformats.org/drawingml/2006/table">
            <a:tbl>
              <a:tblPr/>
              <a:tblGrid>
                <a:gridCol w="1133280"/>
                <a:gridCol w="1130400"/>
                <a:gridCol w="1133280"/>
                <a:gridCol w="1130400"/>
                <a:gridCol w="1133640"/>
                <a:gridCol w="1130040"/>
                <a:gridCol w="1133640"/>
              </a:tblGrid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998</a:t>
                      </a: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5,2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6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6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16,7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924680" cy="1052640"/>
          </a:xfrm>
          <a:prstGeom prst="rect">
            <a:avLst/>
          </a:prstGeom>
          <a:solidFill>
            <a:srgbClr val="b5eb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3130"/>
                </a:solidFill>
                <a:latin typeface="OCR A Extended"/>
              </a:rPr>
              <a:t>Децильный коэффициент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1700280"/>
          <a:ext cx="8964720" cy="244944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5440"/>
                <a:gridCol w="1494000"/>
                <a:gridCol w="1493640"/>
                <a:gridCol w="1494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Д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Норвег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74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5-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5-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9" name="Oval 26"/>
          <p:cNvSpPr/>
          <p:nvPr/>
        </p:nvSpPr>
        <p:spPr>
          <a:xfrm>
            <a:off x="1258920" y="3284640"/>
            <a:ext cx="7273800" cy="2879640"/>
          </a:xfrm>
          <a:prstGeom prst="ellipse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3130"/>
                </a:solidFill>
                <a:latin typeface="OCR A Extended"/>
              </a:rPr>
              <a:t> </a:t>
            </a:r>
            <a:r>
              <a:rPr b="1" lang="ru-RU" sz="2400" spc="-1" strike="noStrike">
                <a:solidFill>
                  <a:srgbClr val="0a3130"/>
                </a:solidFill>
                <a:latin typeface="OCR A Extended"/>
              </a:rPr>
              <a:t>экономисты считают оптимальным 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3130"/>
                </a:solidFill>
                <a:latin typeface="OCR A Extended"/>
              </a:rPr>
              <a:t>соотношение от 5 до 7.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0" name="Oval 27"/>
          <p:cNvSpPr/>
          <p:nvPr/>
        </p:nvSpPr>
        <p:spPr>
          <a:xfrm>
            <a:off x="1835280" y="4869000"/>
            <a:ext cx="6192720" cy="1800000"/>
          </a:xfrm>
          <a:prstGeom prst="ellipse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Как только децильный коэффициент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достигает 10,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в стране появляются услов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для социальных беспорядков</a:t>
            </a:r>
            <a:r>
              <a:rPr b="0" lang="ru-RU" sz="1800" spc="-1" strike="noStrike">
                <a:solidFill>
                  <a:srgbClr val="0a3130"/>
                </a:solidFill>
                <a:latin typeface="OCR A Extended"/>
              </a:rPr>
              <a:t>.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116000" y="0"/>
            <a:ext cx="5688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47" name="Picture 4" descr="%5bIS9NI_3-1%5d_%5bPF_04-r%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4343400" y="0"/>
            <a:ext cx="3733920" cy="2297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fff9c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CR A Extended"/>
              </a:rPr>
              <a:t>Очередь безработных за тарелкой супа</a:t>
            </a: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Рисунок5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6308640"/>
          </a:xfrm>
          <a:prstGeom prst="rect">
            <a:avLst/>
          </a:prstGeom>
          <a:ln w="76320">
            <a:solidFill>
              <a:srgbClr val="fff9cf"/>
            </a:solidFill>
            <a:miter/>
          </a:ln>
        </p:spPr>
      </p:pic>
      <p:sp>
        <p:nvSpPr>
          <p:cNvPr id="151" name="Rectangle 3"/>
          <p:cNvSpPr/>
          <p:nvPr/>
        </p:nvSpPr>
        <p:spPr>
          <a:xfrm>
            <a:off x="1908000" y="765000"/>
            <a:ext cx="3024360" cy="122400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OCR A Extended"/>
              </a:rPr>
              <a:t>Грабь награбленное</a:t>
            </a:r>
            <a:r>
              <a:rPr b="0" lang="ru-RU" sz="2400" spc="-1" strike="noStrike">
                <a:solidFill>
                  <a:srgbClr val="333399"/>
                </a:solidFill>
                <a:latin typeface="Baskerville Old Face"/>
              </a:rPr>
              <a:t>!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4"/>
          <p:cNvSpPr/>
          <p:nvPr/>
        </p:nvSpPr>
        <p:spPr>
          <a:xfrm>
            <a:off x="2987640" y="2205000"/>
            <a:ext cx="3384720" cy="2592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2139e"/>
                </a:solidFill>
                <a:latin typeface="OCR A Extended"/>
              </a:rPr>
              <a:t>Почему?</a:t>
            </a: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258920" y="1413000"/>
            <a:ext cx="2521080" cy="7189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тудент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395280" y="3213000"/>
            <a:ext cx="230364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Многодетные семь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684360" y="4869000"/>
            <a:ext cx="2519280" cy="86364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енсионер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5508720" y="1341360"/>
            <a:ext cx="309708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Одинокие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матер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6588000" y="2997360"/>
            <a:ext cx="2556000" cy="936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емьи, потерявшие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кормильц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6300720" y="4581360"/>
            <a:ext cx="244800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Безработные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3780000" y="5300640"/>
            <a:ext cx="2160360" cy="792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нвалид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556000" y="2060640"/>
            <a:ext cx="1295280" cy="863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2627280" y="3789360"/>
            <a:ext cx="86508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3" name="Line 14"/>
          <p:cNvSpPr/>
          <p:nvPr/>
        </p:nvSpPr>
        <p:spPr>
          <a:xfrm flipV="1">
            <a:off x="2843280" y="4220640"/>
            <a:ext cx="865080" cy="863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4716360" y="4365720"/>
            <a:ext cx="0" cy="1224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5" name="Line 16"/>
          <p:cNvSpPr/>
          <p:nvPr/>
        </p:nvSpPr>
        <p:spPr>
          <a:xfrm flipH="1" flipV="1">
            <a:off x="5508720" y="4365360"/>
            <a:ext cx="1511280" cy="431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6" name="Line 17"/>
          <p:cNvSpPr/>
          <p:nvPr/>
        </p:nvSpPr>
        <p:spPr>
          <a:xfrm flipH="1">
            <a:off x="6011640" y="3645000"/>
            <a:ext cx="93636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7" name="Line 18"/>
          <p:cNvSpPr/>
          <p:nvPr/>
        </p:nvSpPr>
        <p:spPr>
          <a:xfrm flipH="1">
            <a:off x="5363640" y="1916280"/>
            <a:ext cx="1008360" cy="792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M4502"/>
          <p:cNvPicPr/>
          <p:nvPr/>
        </p:nvPicPr>
        <p:blipFill>
          <a:blip r:embed="rId1"/>
          <a:stretch/>
        </p:blipFill>
        <p:spPr>
          <a:xfrm>
            <a:off x="971640" y="2708280"/>
            <a:ext cx="3614760" cy="3529080"/>
          </a:xfrm>
          <a:prstGeom prst="rect">
            <a:avLst/>
          </a:prstGeom>
          <a:ln w="0">
            <a:noFill/>
          </a:ln>
        </p:spPr>
      </p:pic>
      <p:sp>
        <p:nvSpPr>
          <p:cNvPr id="170" name="Oval 8"/>
          <p:cNvSpPr/>
          <p:nvPr/>
        </p:nvSpPr>
        <p:spPr>
          <a:xfrm>
            <a:off x="1042920" y="1341360"/>
            <a:ext cx="3240000" cy="1224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OCR A Extended"/>
              </a:rPr>
              <a:t>Кто платит?</a:t>
            </a:r>
            <a:endParaRPr b="0" lang="en-US" sz="2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6084720" y="1773360"/>
            <a:ext cx="2087640" cy="1008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6012000" y="3213000"/>
            <a:ext cx="2087280" cy="93672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6084720" y="4581360"/>
            <a:ext cx="2232360" cy="100836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996600"/>
              </a:solidFill>
              <a:latin typeface="OCR A Extended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686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LOADS_"/>
          <p:cNvPicPr/>
          <p:nvPr/>
        </p:nvPicPr>
        <p:blipFill>
          <a:blip r:embed="rId1"/>
          <a:stretch/>
        </p:blipFill>
        <p:spPr>
          <a:xfrm>
            <a:off x="4427640" y="2565360"/>
            <a:ext cx="4105080" cy="388800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55640" y="1557360"/>
            <a:ext cx="3457440" cy="237636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Кто 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принимает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решения</a:t>
            </a:r>
            <a:r>
              <a:rPr b="0" lang="ru-RU" sz="36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848720" cy="54007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askerville Old Face"/>
              </a:rPr>
              <a:t>Динамика средней зарплаты по России в долларах и в рублях в 1996—2006 годах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626160" cy="40323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4356000" y="3232080"/>
            <a:ext cx="5648400" cy="362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-252360" y="0"/>
            <a:ext cx="5183280" cy="3098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-468360" y="3284640"/>
            <a:ext cx="4896000" cy="308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4"/>
          <a:stretch/>
        </p:blipFill>
        <p:spPr>
          <a:xfrm>
            <a:off x="4932360" y="549360"/>
            <a:ext cx="4896000" cy="27558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9"/>
          <p:cNvSpPr/>
          <p:nvPr/>
        </p:nvSpPr>
        <p:spPr>
          <a:xfrm>
            <a:off x="4859280" y="333360"/>
            <a:ext cx="4032360" cy="36036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Рост МРОТ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44280"/>
          <a:ext cx="9144000" cy="6971040"/>
        </p:xfrm>
        <a:graphic>
          <a:graphicData uri="http://schemas.openxmlformats.org/drawingml/2006/table">
            <a:tbl>
              <a:tblPr/>
              <a:tblGrid>
                <a:gridCol w="3787920"/>
                <a:gridCol w="1722240"/>
                <a:gridCol w="1882800"/>
                <a:gridCol w="175104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Все населени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наш класс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ы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едны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</a:tr>
              <a:tr h="9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Трудом праведным не наживешь палат каменных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едность - не порок, а несчастье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ство - вода, пришла и ушла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Чем беднее, тем щедрее, чем богаче, тем скупее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чи едят калачи, да не спят ни днем, ни в ночи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ством ума не купишь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 в деньгах счастье</a:t>
                      </a:r>
                      <a:r>
                        <a:rPr b="1" lang="ru-RU" sz="2400" spc="-1" strike="noStrike">
                          <a:solidFill>
                            <a:srgbClr val="219797"/>
                          </a:solidFill>
                          <a:latin typeface="Sylfaen"/>
                        </a:rPr>
                        <a:t> 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6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48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7,7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48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6,0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5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66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5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5,7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4,9</a:t>
                      </a:r>
                      <a:r>
                        <a:rPr b="0" lang="ru-RU" sz="3200" spc="-1" strike="noStrike">
                          <a:solidFill>
                            <a:srgbClr val="cc9900"/>
                          </a:solidFill>
                          <a:latin typeface="Sylfae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44,9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4,8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30,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1,2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84,2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7,0 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8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0,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3,9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8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8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82,8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5,9</a:t>
                      </a: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	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-36360" y="0"/>
          <a:ext cx="8501040" cy="6546960"/>
        </p:xfrm>
        <a:graphic>
          <a:graphicData uri="http://schemas.openxmlformats.org/drawingml/2006/table">
            <a:tbl>
              <a:tblPr/>
              <a:tblGrid>
                <a:gridCol w="5113080"/>
                <a:gridCol w="1943280"/>
                <a:gridCol w="14446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Причины бедности  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Наш  класс         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Европа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ed410"/>
                    </a:solidFill>
                  </a:tcPr>
                </a:tc>
              </a:tr>
              <a:tr h="788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Длительная безработица                   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1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выплаты з/п, задержка пенс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Семейные неурядицы, несчасть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лезнь, инвалидность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Алкоголизм, нарком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изкий уровень жизни их родителе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Проживание в бедном регионе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Отсутствие поддержки со сторон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достаток государственных пособ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Лень, неприспособленность к жизни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1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аличие большого числа иждивенцев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Плохое образование, низкая квалифика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Они мигранты, беженц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желание менять привычный образ жизни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Им просто не везет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       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Baskerville Old Face"/>
                        </a:rPr>
                        <a:t>15</a:t>
                      </a: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OCR A Extended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             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54,0(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-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26,7(3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23,8(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57,1(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2,7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,6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4(6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1,0(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9,7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,8(10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17,6(7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,4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4,5(1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41,2(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46,8(1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5,0(6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36,8(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35,0(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5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,3(1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1(10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37,1(3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2,6(7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,2(13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22,5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,5(1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19,3(1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3,7 (1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ed410"/>
                    </a:solidFill>
                  </a:tcPr>
                </a:tc>
              </a:tr>
            </a:tbl>
          </a:graphicData>
        </a:graphic>
      </p:graphicFrame>
      <p:sp>
        <p:nvSpPr>
          <p:cNvPr id="99" name="Line 25"/>
          <p:cNvSpPr/>
          <p:nvPr/>
        </p:nvSpPr>
        <p:spPr>
          <a:xfrm>
            <a:off x="3203640" y="404640"/>
            <a:ext cx="1224000" cy="432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0" name="Line 26"/>
          <p:cNvSpPr/>
          <p:nvPr/>
        </p:nvSpPr>
        <p:spPr>
          <a:xfrm>
            <a:off x="3276720" y="404640"/>
            <a:ext cx="1439640" cy="3888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1" name="Line 27"/>
          <p:cNvSpPr/>
          <p:nvPr/>
        </p:nvSpPr>
        <p:spPr>
          <a:xfrm>
            <a:off x="3348000" y="476280"/>
            <a:ext cx="1511280" cy="583236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4032360" cy="595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3995640" y="198900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925040" cy="2158920"/>
          </a:xfrm>
          <a:prstGeom prst="rect">
            <a:avLst/>
          </a:prstGeom>
          <a:solidFill>
            <a:srgbClr val="f8fd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Стоимость потребительской корзины: данные за </a:t>
            </a:r>
            <a:r>
              <a:rPr b="1" lang="ru-RU" sz="3600" spc="-1" strike="noStrike">
                <a:solidFill>
                  <a:srgbClr val="0a3130"/>
                </a:solidFill>
                <a:latin typeface="Baskerville Old Face"/>
              </a:rPr>
              <a:t>3</a:t>
            </a: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 года</a:t>
            </a:r>
            <a:br>
              <a:rPr sz="3600"/>
            </a:b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(продукты</a:t>
            </a:r>
            <a:r>
              <a:rPr b="1" lang="ru-RU" sz="3600" spc="-1" strike="noStrike">
                <a:solidFill>
                  <a:srgbClr val="0a313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,</a:t>
            </a:r>
            <a:r>
              <a:rPr b="1" lang="ru-RU" sz="3600" spc="-1" strike="noStrike">
                <a:solidFill>
                  <a:srgbClr val="62139e"/>
                </a:solidFill>
                <a:latin typeface="OCR A Extended"/>
              </a:rPr>
              <a:t>весь набор товаров и услуг)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2708280"/>
          <a:ext cx="7924680" cy="298764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10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24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1801,95 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5421,2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16,42 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6334,12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31,01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292,01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92,72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014,17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08" name="Oval 29"/>
          <p:cNvSpPr/>
          <p:nvPr/>
        </p:nvSpPr>
        <p:spPr>
          <a:xfrm>
            <a:off x="1763640" y="5373720"/>
            <a:ext cx="6408720" cy="1484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3130"/>
                </a:solidFill>
                <a:latin typeface="Baskerville Old Face"/>
              </a:rPr>
              <a:t>Прожиточный минимум (Иркутская область)</a:t>
            </a:r>
            <a:endParaRPr b="0" lang="en-US" sz="20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3130"/>
                </a:solidFill>
                <a:latin typeface="Baskerville Old Face"/>
              </a:rPr>
              <a:t>4 710 руб.</a:t>
            </a:r>
            <a:endParaRPr b="0" lang="en-US" sz="2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566120" cy="7192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OCR A Extended"/>
              </a:rPr>
              <a:t>Главные признаки богатства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Качество жилищных услов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провести отпуск за границе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Доступность приобретения дорогой мебели и бытовой техники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Уровень медицинского обслужив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и получения хорошего образов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Большая уверенность в завтрашнем дне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Возможности проведения досуга (посещение дорогостоящих дискотек, ресторанов и т.д.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приобретения недвижимости за рубежом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Наличие дорогого автомобил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Возможность иметь интересную работу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Отношение к ним окружающих</a:t>
            </a: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Незащищенность от физического насилия и посягательств на их собственность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0"/>
          <a:ext cx="9144000" cy="8607600"/>
        </p:xfrm>
        <a:graphic>
          <a:graphicData uri="http://schemas.openxmlformats.org/drawingml/2006/table">
            <a:tbl>
              <a:tblPr/>
              <a:tblGrid>
                <a:gridCol w="225360"/>
                <a:gridCol w="1913040"/>
                <a:gridCol w="1401840"/>
                <a:gridCol w="1326960"/>
                <a:gridCol w="4276800"/>
              </a:tblGrid>
              <a:tr h="11746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Имя</a:t>
                      </a:r>
                      <a:r>
                        <a:rPr b="1" lang="ru-RU" sz="24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Оценка, $ млрд. 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Оценка, млрд .руб .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Статус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0256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5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Михаил Прохор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4,1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414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Друг моделей. Узник Куршевеля. Сноб. Одним словом, Global Russian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38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Роман Абрамович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3,9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408,4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Поклонник красоты модельера Дарьи Жуковой и акционер Evraz Group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56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5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имир Лисин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7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6,2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елец заводов (НЛМК), газет («Газета»), пароходов (UCL Holding)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555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50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агит Алекпер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6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3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Начинал буровиком, теперь владеет пятой частью «Лукойла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1167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улейман Керим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5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0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Член Совета федерации, разбогатевший на инвестициях в акции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1620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4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Михаил Фридман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6,1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79,2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овладелец «Альфа-групп», не уживающийся с западными партнерами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34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1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имир Потанин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5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46,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Лицо тандема 2П (Потанин – Прохоров). Теперь работает только на себя 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</a:tbl>
          </a:graphicData>
        </a:graphic>
      </p:graphicFrame>
      <p:sp>
        <p:nvSpPr>
          <p:cNvPr id="114" name="Oval 203"/>
          <p:cNvSpPr/>
          <p:nvPr/>
        </p:nvSpPr>
        <p:spPr>
          <a:xfrm>
            <a:off x="1835280" y="2205000"/>
            <a:ext cx="5472000" cy="1295280"/>
          </a:xfrm>
          <a:prstGeom prst="ellipse">
            <a:avLst/>
          </a:prstGeom>
          <a:solidFill>
            <a:srgbClr val="fff9c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OCR A Extended"/>
              </a:rPr>
              <a:t>Миллионеры России 2008 г.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648640" cy="685800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В июне 2010 года среднемесячная начисленная заработная плата составляла </a:t>
            </a:r>
            <a:r>
              <a:rPr b="1" lang="ru-RU" sz="2400" spc="-1" strike="noStrike">
                <a:solidFill>
                  <a:srgbClr val="ff3300"/>
                </a:solidFill>
                <a:latin typeface="Baskerville Old Face"/>
              </a:rPr>
              <a:t>21597 руб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о данным на март 2010 года, средняя начисленная заработная плата в России составляла </a:t>
            </a:r>
            <a:r>
              <a:rPr b="1" lang="ru-RU" sz="2400" spc="-1" strike="noStrike">
                <a:solidFill>
                  <a:srgbClr val="ff3300"/>
                </a:solidFill>
                <a:latin typeface="Baskerville Old Face"/>
              </a:rPr>
              <a:t>20383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, в том числе в: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обрабатывающих производствах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8297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машин и оборудования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9057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нефтепродуктов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45228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пищевых продуктов и табака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6982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текстильном и швейном производстве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0074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кожи, изделий из кожи и производство обуви                      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0616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химическом производстве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1956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металлургическом производстве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3258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полезных ископаемых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39742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топливно-энергетических полезных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ископаемых              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47559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полезных ископаемых (кроме топливно-энергетических)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5361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3:02:56Z</dcterms:created>
  <dc:creator>Лена</dc:creator>
  <dc:description/>
  <cp:keywords/>
  <dc:language>en-US</dc:language>
  <cp:lastModifiedBy>LEGION</cp:lastModifiedBy>
  <dcterms:modified xsi:type="dcterms:W3CDTF">2016-01-04T08:17:50Z</dcterms:modified>
  <cp:revision>22</cp:revision>
  <dc:subject/>
  <dc:title>Перераспределение дох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