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8.jpeg" ContentType="image/jpeg"/>
  <Override PartName="/ppt/media/image15.png" ContentType="image/png"/>
  <Override PartName="/ppt/media/image5.jpeg" ContentType="image/jpeg"/>
  <Override PartName="/ppt/media/image1.png" ContentType="image/png"/>
  <Override PartName="/ppt/media/image3.png" ContentType="image/png"/>
  <Override PartName="/ppt/media/image9.wmf" ContentType="image/x-wmf"/>
  <Override PartName="/ppt/media/image14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9949-788E-43FD-AB54-C735F8C1444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по обществозна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истории и общество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ушина Е.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распределение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Урок по обществознанию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8 класс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учитель истории и обществознания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Степушина Е.Ю.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ерераспределение доходов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неравенства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ве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ая ц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ые врожден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ый объ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ая успешность 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ожить деньги в а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хран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 в чул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ть владельц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чи за горо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земельного учас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ентре Москв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ить в насле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 или трехколес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осипед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ть решать 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физике или выуч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блицу умн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три года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ричины неравенства доходов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ричины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неравенства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оходов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Разная ценность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Факторов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роизводства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Разные врожденный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способности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Разный объем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Факторов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роизводства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Разная успешность их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использования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ложить деньги в акции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или хранить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ома в чулке?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Быть владельцем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ачи за городом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Или земельного участка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 центре Москвы?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олучить в наследство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ом или трехколесный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елосипед7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Уметь решать задачи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о физике или выучить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таблицу умножения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За три года??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йтинг профессий по результатам общественного м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Рейтинг профессий по результатам общественного мнения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цильный коэффициент в России(соотношение 10% богатых к 10% бедны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ецильный коэффициент в России(соотношение 10% богатых к 10% бедных)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цильный коэффици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сты считают оптимальны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от 5 до 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только децильный коэффициен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гает 10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ране появляются усло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оциальных беспоряд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ецильный коэффициент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экономисты считают оптимальным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соотношение от 5 до 7.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Как только децильный коэффициент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остигает 10,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 стране появляются условия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ля социальных беспорядков.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редь безработных за тарелкой су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Очередь безработных за тарелкой супа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Грабь награбленно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Грабь награбленное!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уд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детные сем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нсион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о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и, потерявш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миль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рабо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али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очему?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Студенты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Многодетные семьи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енсионеры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Одинокие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матери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Семьи, потерявшие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кормильца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Безработные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Инвалиды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то плати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Кто платит?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?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?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?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т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иним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еш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Кто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принимает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решения?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ка средней зарплаты по России в долларах и в рублях в 1996—2006 год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инамика средней зарплаты по России в долларах и в рублях в 1996—2006 годах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ост МР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Рост МРОТ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потребительской корзины: данные за 3 год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дукты ,весь набор товаров и услу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житочный минимум (Иркутская обла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71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Стоимость потребительской корзины: данные за 3 года</a:t>
            </a:r>
            <a:br>
              <a:rPr sz="1200"/>
            </a:b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(продукты ,весь набор товаров и услуг)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рожиточный минимум (Иркутская область)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4 710 руб.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е признаки богат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жилищных усло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провести отпуск за гран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упность приобретения дорогой мебели и бытовой тех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медицинского обслу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для детей добиться в жизни намного большего, чем большинство их сверс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и получения хороше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ая уверенность в завтрашнем д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и проведения досуга (посещение дорогостоящих дискотек, ресторанов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приобретения недвижимости за рубеж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дорогого автомоби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иметь интересную рабо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е к ним окружающ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щищенность от физического насилия и посягательств на их собствен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Главные признаки богатства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Качество жилищных условий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озможность провести отпуск за границей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оступность приобретения дорогой мебели и бытовой техники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Уровень медицинского обслуживания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озможность для детей добиться в жизни намного большего, чем большинство их сверстников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озможности получения хорошего образования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Большая уверенность в завтрашнем дне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озможности проведения досуга (посещение дорогостоящих дискотек, ресторанов и т.д.)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озможность приобретения недвижимости за рубежом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Наличие дорогого автомобиля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озможность иметь интересную работу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Отношение к ним окружающих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Незащищенность от физического насилия и посягательств на их собственность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иллионеры России 2008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Миллионеры России 2008 г.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юне 2010 года среднемесячная начисленная заработная плата составляла 21597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данным на март 2010 года, средняя начисленная заработная плата в России составляла 20383 руб/мес, в том числе 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атывающих производствах            18297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 машин и оборудования     19057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 нефтепродуктов                 45228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 пищевых продуктов и табака    16982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ильном и швейном производстве   10074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 кожи, изделий из кожи и производство обуви                                                              10616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ом производстве                          21956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ургическом производстве              23258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ыче полезных ископаемых                   39742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ыче топливно-энергетических полез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опаемых                                                      47559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ыче полезных ископаемых (кроме топливно-энергетических)                                        25361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 июне 2010 года среднемесячная начисленная заработная плата составляла 21597 руб.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о данным на март 2010 года, средняя начисленная заработная плата в России составляла 20383 руб/мес, в том числе в: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обрабатывающих производствах            18297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роизводстве машин и оборудования     19057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роизводстве нефтепродуктов                 45228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роизводстве пищевых продуктов и табака    16982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текстильном и швейном производстве   10074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роизводстве кожи, изделий из кожи и производство обуви                                                              10616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химическом производстве                          21956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металлургическом производстве              23258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обыче полезных ископаемых                   39742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обыче топливно-энергетических полезных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ископаемых                                                      47559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обыче полезных ископаемых (кроме топливно-энергетических)                                        25361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36D8-4CB0-41BC-A3A6-D3A5AB3CF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6A7D-B2E0-4173-935A-D5B98DCD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B9CC-E2AC-44B9-9EA7-CEC1B6A41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264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2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264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2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7F10-944B-48C1-BE7A-09E1BDC12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1B52-63D1-4D3E-8DE5-655B343EA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A0B8-F822-46C3-A2EF-7896C079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43C35-28AF-4292-847E-11A08709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4085-4FCF-43B4-97FB-DEE09E58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A6AD-86A7-4D4A-865F-EE4BD18D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867960"/>
            <a:ext cx="79246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CC97-BDCF-44CC-9FD1-3ED160C9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930D-8D79-4F1B-86BE-D2C21A4B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C863-320C-4265-92D7-6E718FFC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23AA3-D654-448F-B630-D9EDBC45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72BA-9599-4E9F-BEAF-A6670330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14E8-C9CD-43B9-9694-E818EE64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7BCB-B653-497A-871F-D525CB680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264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92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264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92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6A6F-6707-4BD0-A3F2-E09143641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E577-2A88-4DC6-BE81-562AB3AD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6E9F-A13D-4EE4-B7DB-04EB2D68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5AAB-BE0F-4435-8AC4-780F687C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867960"/>
            <a:ext cx="79246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448C-32C2-40F1-A322-6A99B294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7909-55F5-46EF-AAAC-67D65A2B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9DE0-6DE3-4DBB-8FDF-348A1612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9BF0-0008-436C-96D1-EAD86A1B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9c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3553-2C21-412E-9588-FA5DA274166E}" type="slidenum">
              <a:rPr b="0" lang="ru-RU" sz="1000" spc="-1" strike="noStrike">
                <a:solidFill>
                  <a:srgbClr val="fff9c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80B1-2E34-4C41-A749-EF1ADBC02B70}" type="slidenum">
              <a:rPr b="0" lang="ru-RU" sz="10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3352320"/>
            <a:ext cx="4471920" cy="1862280"/>
          </a:xfrm>
          <a:prstGeom prst="rect">
            <a:avLst/>
          </a:prstGeom>
          <a:solidFill>
            <a:srgbClr val="fff9cf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OCR A Extended"/>
              </a:rPr>
              <a:t>Урок по обществознанию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OCR A Extended"/>
              </a:rPr>
              <a:t>8 класс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OCR A Extended"/>
              </a:rPr>
              <a:t>учитель истории и обществознания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OCR A Extended"/>
              </a:rPr>
              <a:t>Степушина Е.Ю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solidFill>
            <a:srgbClr val="fff9c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OCR A Extended"/>
              </a:rPr>
              <a:t>Перераспределение доходов</a:t>
            </a:r>
            <a:endParaRPr b="0" lang="en-US" sz="44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08000" y="765000"/>
          <a:ext cx="9036000" cy="5680080"/>
        </p:xfrm>
        <a:graphic>
          <a:graphicData uri="http://schemas.openxmlformats.org/drawingml/2006/table">
            <a:tbl>
              <a:tblPr/>
              <a:tblGrid>
                <a:gridCol w="1079280"/>
                <a:gridCol w="1729080"/>
                <a:gridCol w="1368360"/>
                <a:gridCol w="1727280"/>
                <a:gridCol w="1512720"/>
                <a:gridCol w="1619280"/>
              </a:tblGrid>
              <a:tr h="192204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Среднедушевые доходы населен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Средний размер назначенных пенсий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Средняя номинальная начисленная зарплата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Зарплата депутатов Госдумы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Зарплата федераль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ных министров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</a:tr>
              <a:tr h="106740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2005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8 023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2 364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8 555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85 000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3cd74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100 000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3cd74"/>
                    </a:solidFill>
                  </a:tcPr>
                </a:tc>
              </a:tr>
              <a:tr h="106740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2006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9 947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2 726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0 727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100 000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3cd74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120 000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3cd74"/>
                    </a:solidFill>
                  </a:tcPr>
                </a:tc>
              </a:tr>
              <a:tr h="162324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2007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2 901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3 015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2 791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115 000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3cd74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140 000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3cd74"/>
                    </a:solidFill>
                  </a:tcPr>
                </a:tc>
              </a:tr>
            </a:tbl>
          </a:graphicData>
        </a:graphic>
      </p:graphicFrame>
      <p:sp>
        <p:nvSpPr>
          <p:cNvPr id="119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925040" cy="1311120"/>
          </a:xfrm>
          <a:prstGeom prst="rect">
            <a:avLst/>
          </a:prstGeom>
          <a:solidFill>
            <a:srgbClr val="fff9cf"/>
          </a:solidFill>
          <a:ln w="9360">
            <a:solidFill>
              <a:srgbClr val="f8fd1f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OCR A Extended"/>
              </a:rPr>
              <a:t>Причины </a:t>
            </a:r>
            <a:r>
              <a:rPr b="1" lang="ru-RU" sz="3200" spc="-1" strike="noStrike">
                <a:solidFill>
                  <a:srgbClr val="62139e"/>
                </a:solidFill>
                <a:latin typeface="OCR A Extended"/>
              </a:rPr>
              <a:t>неравенства</a:t>
            </a:r>
            <a:r>
              <a:rPr b="1" lang="ru-RU" sz="3200" spc="-1" strike="noStrike">
                <a:solidFill>
                  <a:srgbClr val="333399"/>
                </a:solidFill>
                <a:latin typeface="OCR A Extended"/>
              </a:rPr>
              <a:t> доходов</a:t>
            </a:r>
            <a:endParaRPr b="0" lang="en-US" sz="32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21" name="Oval 3"/>
          <p:cNvSpPr/>
          <p:nvPr/>
        </p:nvSpPr>
        <p:spPr>
          <a:xfrm>
            <a:off x="3059280" y="2565360"/>
            <a:ext cx="2952720" cy="194328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2139e"/>
                </a:solidFill>
                <a:latin typeface="Sylfaen"/>
              </a:rPr>
              <a:t>Причины</a:t>
            </a:r>
            <a:endParaRPr b="0" lang="en-US" sz="24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2139e"/>
                </a:solidFill>
                <a:latin typeface="Sylfaen"/>
              </a:rPr>
              <a:t> </a:t>
            </a:r>
            <a:r>
              <a:rPr b="1" lang="ru-RU" sz="2400" spc="-1" strike="noStrike">
                <a:solidFill>
                  <a:srgbClr val="62139e"/>
                </a:solidFill>
                <a:latin typeface="Sylfaen"/>
              </a:rPr>
              <a:t>неравенства</a:t>
            </a:r>
            <a:endParaRPr b="0" lang="en-US" sz="24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2139e"/>
                </a:solidFill>
                <a:latin typeface="Sylfaen"/>
              </a:rPr>
              <a:t> </a:t>
            </a:r>
            <a:r>
              <a:rPr b="1" lang="ru-RU" sz="2400" spc="-1" strike="noStrike">
                <a:solidFill>
                  <a:srgbClr val="62139e"/>
                </a:solidFill>
                <a:latin typeface="Sylfaen"/>
              </a:rPr>
              <a:t>доходов</a:t>
            </a:r>
            <a:endParaRPr b="0" lang="en-US" sz="24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22" name="Oval 4"/>
          <p:cNvSpPr/>
          <p:nvPr/>
        </p:nvSpPr>
        <p:spPr>
          <a:xfrm>
            <a:off x="468360" y="1557360"/>
            <a:ext cx="2592360" cy="165744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Разная ценность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Факторов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 </a:t>
            </a: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производства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23" name="Oval 5"/>
          <p:cNvSpPr/>
          <p:nvPr/>
        </p:nvSpPr>
        <p:spPr>
          <a:xfrm>
            <a:off x="468360" y="4221000"/>
            <a:ext cx="3024000" cy="172728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Разные врожденный 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способности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24" name="Oval 6"/>
          <p:cNvSpPr/>
          <p:nvPr/>
        </p:nvSpPr>
        <p:spPr>
          <a:xfrm>
            <a:off x="5508720" y="4221000"/>
            <a:ext cx="2881080" cy="172908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Разный объем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Факторов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производства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25" name="Oval 7"/>
          <p:cNvSpPr/>
          <p:nvPr/>
        </p:nvSpPr>
        <p:spPr>
          <a:xfrm>
            <a:off x="5867280" y="1700280"/>
            <a:ext cx="2881440" cy="180000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Разная успешность их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использования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6156360" y="3068640"/>
            <a:ext cx="2987640" cy="1008000"/>
          </a:xfrm>
          <a:prstGeom prst="rect">
            <a:avLst/>
          </a:prstGeom>
          <a:solidFill>
            <a:srgbClr val="f8fd1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Вложить деньги в акции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или хранить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 </a:t>
            </a: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дома в чулке?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5651640" y="5661000"/>
            <a:ext cx="3492360" cy="1197000"/>
          </a:xfrm>
          <a:prstGeom prst="rect">
            <a:avLst/>
          </a:prstGeom>
          <a:solidFill>
            <a:srgbClr val="f8fd1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Быть владельцем 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дачи за городом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Или земельного участка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 </a:t>
            </a: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в центре Москвы</a:t>
            </a:r>
            <a:r>
              <a:rPr b="0" lang="ru-RU" sz="1800" spc="-1" strike="noStrike">
                <a:solidFill>
                  <a:srgbClr val="cc9900"/>
                </a:solidFill>
                <a:latin typeface="OCR A Extended"/>
              </a:rPr>
              <a:t>?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0" y="3213000"/>
            <a:ext cx="2843280" cy="936720"/>
          </a:xfrm>
          <a:prstGeom prst="rect">
            <a:avLst/>
          </a:prstGeom>
          <a:solidFill>
            <a:srgbClr val="f8fd1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Получить в наследство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Дом или трехколесный 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велосипед7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611280" y="5705640"/>
            <a:ext cx="3386160" cy="1152360"/>
          </a:xfrm>
          <a:prstGeom prst="rect">
            <a:avLst/>
          </a:prstGeom>
          <a:solidFill>
            <a:srgbClr val="f8fd1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Уметь решать задачи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 </a:t>
            </a: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по физике или выучить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 </a:t>
            </a: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таблицу умножения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За три года?</a:t>
            </a:r>
            <a:r>
              <a:rPr b="0" lang="ru-RU" sz="1800" spc="-1" strike="noStrike">
                <a:solidFill>
                  <a:srgbClr val="cc9900"/>
                </a:solidFill>
                <a:latin typeface="OCR A Extended"/>
              </a:rPr>
              <a:t>?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765000"/>
          </a:xfrm>
          <a:prstGeom prst="rect">
            <a:avLst/>
          </a:prstGeom>
          <a:solidFill>
            <a:srgbClr val="f8fd1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9797"/>
                </a:solidFill>
                <a:latin typeface="Sylfaen"/>
              </a:rPr>
              <a:t>Рейтинг профессий по результатам общественного мнения</a:t>
            </a:r>
            <a:endParaRPr b="0" lang="en-US" sz="2000" spc="-1" strike="noStrike">
              <a:solidFill>
                <a:srgbClr val="996600"/>
              </a:solidFill>
              <a:latin typeface="Arial Black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68360" y="836640"/>
          <a:ext cx="8675640" cy="6089760"/>
        </p:xfrm>
        <a:graphic>
          <a:graphicData uri="http://schemas.openxmlformats.org/drawingml/2006/table">
            <a:tbl>
              <a:tblPr/>
              <a:tblGrid>
                <a:gridCol w="4319640"/>
                <a:gridCol w="4356000"/>
              </a:tblGrid>
              <a:tr h="10883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.Банкир                            39,9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.Преступный авторитет 28,3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3.Звезда эстрады               22,5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4.Депутат                           21,7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4.Министр                        15, 3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6.Юрист                             14,3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7.Губернатор                     13,5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8.Предприниматель        13, 3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9.Политик                         11,0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0.Проститутка                   9,1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1.Фотомодель                   8,0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2.Имиджмейкер              3,7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3.Врач                               3,0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4.Священник                     2,2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5.Артист                             2,0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6.Журналист                     1,7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7.Фермер                            1,3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8.Милиционер                  1,2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9.Сотрудник спецслужб 1,2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0.Нищий                            1,1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1.Учитель                          0,8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2.Ученый                           0,8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3.Писатель                         0,6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4.Спортсмен                       0,5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5.Квалифицированный рабочий                                0,5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6.Офицер армии               0,1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</a:tr>
            </a:tbl>
          </a:graphicData>
        </a:graphic>
      </p:graphicFrame>
      <p:sp>
        <p:nvSpPr>
          <p:cNvPr id="133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067600" cy="2205000"/>
          </a:xfrm>
          <a:prstGeom prst="rect">
            <a:avLst/>
          </a:prstGeom>
          <a:solidFill>
            <a:srgbClr val="fff9c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a3130"/>
                </a:solidFill>
                <a:latin typeface="OCR A Extended"/>
              </a:rPr>
              <a:t>Децильный коэффициент в России(соотношение 10% богатых к 10% бедных)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33520" y="2708280"/>
          <a:ext cx="7924680" cy="3529080"/>
        </p:xfrm>
        <a:graphic>
          <a:graphicData uri="http://schemas.openxmlformats.org/drawingml/2006/table">
            <a:tbl>
              <a:tblPr/>
              <a:tblGrid>
                <a:gridCol w="1133280"/>
                <a:gridCol w="1130400"/>
                <a:gridCol w="1133280"/>
                <a:gridCol w="1130400"/>
                <a:gridCol w="1133640"/>
                <a:gridCol w="1130040"/>
                <a:gridCol w="1133640"/>
              </a:tblGrid>
              <a:tr h="12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1998</a:t>
                      </a: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2001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2004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2007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2008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2009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</a:tr>
              <a:tr h="22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13,5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13,8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13,9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15,2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16,8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16,8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 u="sng">
                          <a:solidFill>
                            <a:srgbClr val="ff3300"/>
                          </a:solidFill>
                          <a:uFillTx/>
                          <a:latin typeface="Arial"/>
                        </a:rPr>
                        <a:t>16,7</a:t>
                      </a:r>
                      <a:endParaRPr b="0" lang="en-US" sz="3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</a:tr>
            </a:tbl>
          </a:graphicData>
        </a:graphic>
      </p:graphicFrame>
      <p:sp>
        <p:nvSpPr>
          <p:cNvPr id="136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7924680" cy="1052640"/>
          </a:xfrm>
          <a:prstGeom prst="rect">
            <a:avLst/>
          </a:prstGeom>
          <a:solidFill>
            <a:srgbClr val="b5eb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a3130"/>
                </a:solidFill>
                <a:latin typeface="OCR A Extended"/>
              </a:rPr>
              <a:t>Децильный коэффициент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79280" y="1700280"/>
          <a:ext cx="8964720" cy="244944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5440"/>
                <a:gridCol w="1494000"/>
                <a:gridCol w="1493640"/>
                <a:gridCol w="1494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Дан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Швец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Норвег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Франц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Герман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Бразил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</a:tr>
              <a:tr h="174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3-4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3-4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3-4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5-7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5-7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</a:tr>
            </a:tbl>
          </a:graphicData>
        </a:graphic>
      </p:graphicFrame>
      <p:sp>
        <p:nvSpPr>
          <p:cNvPr id="139" name="Oval 26"/>
          <p:cNvSpPr/>
          <p:nvPr/>
        </p:nvSpPr>
        <p:spPr>
          <a:xfrm>
            <a:off x="1258920" y="3284640"/>
            <a:ext cx="7273800" cy="2879640"/>
          </a:xfrm>
          <a:prstGeom prst="ellipse">
            <a:avLst/>
          </a:prstGeom>
          <a:solidFill>
            <a:srgbClr val="f8fd1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a3130"/>
                </a:solidFill>
                <a:latin typeface="OCR A Extended"/>
              </a:rPr>
              <a:t> </a:t>
            </a:r>
            <a:r>
              <a:rPr b="1" lang="ru-RU" sz="2400" spc="-1" strike="noStrike">
                <a:solidFill>
                  <a:srgbClr val="0a3130"/>
                </a:solidFill>
                <a:latin typeface="OCR A Extended"/>
              </a:rPr>
              <a:t>экономисты считают оптимальным </a:t>
            </a:r>
            <a:endParaRPr b="0" lang="en-US" sz="24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3130"/>
                </a:solidFill>
                <a:latin typeface="OCR A Extended"/>
              </a:rPr>
              <a:t>соотношение от 5 до 7.</a:t>
            </a:r>
            <a:endParaRPr b="0" lang="en-US" sz="24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40" name="Oval 27"/>
          <p:cNvSpPr/>
          <p:nvPr/>
        </p:nvSpPr>
        <p:spPr>
          <a:xfrm>
            <a:off x="1835280" y="4869000"/>
            <a:ext cx="6192720" cy="1800000"/>
          </a:xfrm>
          <a:prstGeom prst="ellipse">
            <a:avLst/>
          </a:prstGeom>
          <a:solidFill>
            <a:srgbClr val="f8fd1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a3130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a3130"/>
                </a:solidFill>
                <a:latin typeface="OCR A Extended"/>
              </a:rPr>
              <a:t>Как только децильный коэффициент 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a3130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a3130"/>
                </a:solidFill>
                <a:latin typeface="OCR A Extended"/>
              </a:rPr>
              <a:t>достигает 10, 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a3130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a3130"/>
                </a:solidFill>
                <a:latin typeface="OCR A Extended"/>
              </a:rPr>
              <a:t>в стране появляются условия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a3130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a3130"/>
                </a:solidFill>
                <a:latin typeface="OCR A Extended"/>
              </a:rPr>
              <a:t> </a:t>
            </a:r>
            <a:r>
              <a:rPr b="1" lang="ru-RU" sz="1800" spc="-1" strike="noStrike">
                <a:solidFill>
                  <a:srgbClr val="0a3130"/>
                </a:solidFill>
                <a:latin typeface="OCR A Extended"/>
              </a:rPr>
              <a:t>для социальных беспорядков</a:t>
            </a:r>
            <a:r>
              <a:rPr b="0" lang="ru-RU" sz="1800" spc="-1" strike="noStrike">
                <a:solidFill>
                  <a:srgbClr val="0a3130"/>
                </a:solidFill>
                <a:latin typeface="OCR A Extended"/>
              </a:rPr>
              <a:t>. 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996600"/>
              </a:solidFill>
              <a:latin typeface="Arial Black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116000" y="0"/>
            <a:ext cx="5688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cc9900"/>
              </a:solidFill>
              <a:latin typeface="Arial"/>
            </a:endParaRPr>
          </a:p>
        </p:txBody>
      </p:sp>
      <p:pic>
        <p:nvPicPr>
          <p:cNvPr id="147" name="Picture 4" descr="%5bIS9NI_3-1%5d_%5bPF_04-r%5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4343400" y="0"/>
            <a:ext cx="3733920" cy="2297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fff9c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OCR A Extended"/>
              </a:rPr>
              <a:t>Очередь безработных за тарелкой супа</a:t>
            </a:r>
            <a:endParaRPr b="0" lang="en-US" sz="3200" spc="-1" strike="noStrike">
              <a:solidFill>
                <a:srgbClr val="cc9900"/>
              </a:solidFill>
              <a:latin typeface="OCR A Extende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Рисунок5"/>
          <p:cNvPicPr/>
          <p:nvPr/>
        </p:nvPicPr>
        <p:blipFill>
          <a:blip r:embed="rId1"/>
          <a:stretch/>
        </p:blipFill>
        <p:spPr>
          <a:xfrm>
            <a:off x="611280" y="549360"/>
            <a:ext cx="8064360" cy="6308640"/>
          </a:xfrm>
          <a:prstGeom prst="rect">
            <a:avLst/>
          </a:prstGeom>
          <a:ln w="76320">
            <a:solidFill>
              <a:srgbClr val="fff9cf"/>
            </a:solidFill>
            <a:miter/>
          </a:ln>
        </p:spPr>
      </p:pic>
      <p:sp>
        <p:nvSpPr>
          <p:cNvPr id="151" name="Rectangle 3"/>
          <p:cNvSpPr/>
          <p:nvPr/>
        </p:nvSpPr>
        <p:spPr>
          <a:xfrm>
            <a:off x="1908000" y="765000"/>
            <a:ext cx="3024360" cy="1224000"/>
          </a:xfrm>
          <a:prstGeom prst="rect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OCR A Extended"/>
              </a:rPr>
              <a:t>Грабь награбленное</a:t>
            </a:r>
            <a:r>
              <a:rPr b="0" lang="ru-RU" sz="2400" spc="-1" strike="noStrike">
                <a:solidFill>
                  <a:srgbClr val="333399"/>
                </a:solidFill>
                <a:latin typeface="Baskerville Old Face"/>
              </a:rPr>
              <a:t>!</a:t>
            </a:r>
            <a:endParaRPr b="0" lang="en-US" sz="24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Oval 4"/>
          <p:cNvSpPr/>
          <p:nvPr/>
        </p:nvSpPr>
        <p:spPr>
          <a:xfrm>
            <a:off x="2987640" y="2205000"/>
            <a:ext cx="3384720" cy="2592360"/>
          </a:xfrm>
          <a:prstGeom prst="ellipse">
            <a:avLst/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2139e"/>
                </a:solidFill>
                <a:latin typeface="OCR A Extended"/>
              </a:rPr>
              <a:t>Почему?</a:t>
            </a:r>
            <a:endParaRPr b="0" lang="en-US" sz="32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54" name="Oval 5"/>
          <p:cNvSpPr/>
          <p:nvPr/>
        </p:nvSpPr>
        <p:spPr>
          <a:xfrm>
            <a:off x="1258920" y="1413000"/>
            <a:ext cx="2521080" cy="718920"/>
          </a:xfrm>
          <a:prstGeom prst="ellipse">
            <a:avLst/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Студенты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55" name="Oval 6"/>
          <p:cNvSpPr/>
          <p:nvPr/>
        </p:nvSpPr>
        <p:spPr>
          <a:xfrm>
            <a:off x="395280" y="3213000"/>
            <a:ext cx="2303640" cy="936720"/>
          </a:xfrm>
          <a:prstGeom prst="ellipse">
            <a:avLst/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Многодетные семьи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56" name="Oval 7"/>
          <p:cNvSpPr/>
          <p:nvPr/>
        </p:nvSpPr>
        <p:spPr>
          <a:xfrm>
            <a:off x="684360" y="4869000"/>
            <a:ext cx="2519280" cy="863640"/>
          </a:xfrm>
          <a:prstGeom prst="ellipse">
            <a:avLst/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Пенсионеры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57" name="Oval 8"/>
          <p:cNvSpPr/>
          <p:nvPr/>
        </p:nvSpPr>
        <p:spPr>
          <a:xfrm>
            <a:off x="5508720" y="1341360"/>
            <a:ext cx="3097080" cy="936720"/>
          </a:xfrm>
          <a:prstGeom prst="ellipse">
            <a:avLst/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Одинокие 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матери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58" name="Oval 9"/>
          <p:cNvSpPr/>
          <p:nvPr/>
        </p:nvSpPr>
        <p:spPr>
          <a:xfrm>
            <a:off x="6588000" y="2997360"/>
            <a:ext cx="2556000" cy="936360"/>
          </a:xfrm>
          <a:prstGeom prst="ellipse">
            <a:avLst/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Семьи, потерявшие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кормильца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6300720" y="4581360"/>
            <a:ext cx="2448000" cy="936720"/>
          </a:xfrm>
          <a:prstGeom prst="ellipse">
            <a:avLst/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Безработные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60" name="Oval 11"/>
          <p:cNvSpPr/>
          <p:nvPr/>
        </p:nvSpPr>
        <p:spPr>
          <a:xfrm>
            <a:off x="3780000" y="5300640"/>
            <a:ext cx="2160360" cy="792360"/>
          </a:xfrm>
          <a:prstGeom prst="ellipse">
            <a:avLst/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Инвалиды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61" name="Line 12"/>
          <p:cNvSpPr/>
          <p:nvPr/>
        </p:nvSpPr>
        <p:spPr>
          <a:xfrm>
            <a:off x="2556000" y="2060640"/>
            <a:ext cx="1295280" cy="86364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62" name="Line 13"/>
          <p:cNvSpPr/>
          <p:nvPr/>
        </p:nvSpPr>
        <p:spPr>
          <a:xfrm>
            <a:off x="2627280" y="3789360"/>
            <a:ext cx="865080" cy="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63" name="Line 14"/>
          <p:cNvSpPr/>
          <p:nvPr/>
        </p:nvSpPr>
        <p:spPr>
          <a:xfrm flipV="1">
            <a:off x="2843280" y="4220640"/>
            <a:ext cx="865080" cy="86364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64" name="Line 15"/>
          <p:cNvSpPr/>
          <p:nvPr/>
        </p:nvSpPr>
        <p:spPr>
          <a:xfrm flipV="1">
            <a:off x="4716360" y="4365720"/>
            <a:ext cx="0" cy="122400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65" name="Line 16"/>
          <p:cNvSpPr/>
          <p:nvPr/>
        </p:nvSpPr>
        <p:spPr>
          <a:xfrm flipH="1" flipV="1">
            <a:off x="5508720" y="4365360"/>
            <a:ext cx="1511280" cy="43164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66" name="Line 17"/>
          <p:cNvSpPr/>
          <p:nvPr/>
        </p:nvSpPr>
        <p:spPr>
          <a:xfrm flipH="1">
            <a:off x="6011640" y="3645000"/>
            <a:ext cx="936360" cy="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67" name="Line 18"/>
          <p:cNvSpPr/>
          <p:nvPr/>
        </p:nvSpPr>
        <p:spPr>
          <a:xfrm flipH="1">
            <a:off x="5363640" y="1916280"/>
            <a:ext cx="1008360" cy="79200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6" descr="M4502"/>
          <p:cNvPicPr/>
          <p:nvPr/>
        </p:nvPicPr>
        <p:blipFill>
          <a:blip r:embed="rId1"/>
          <a:stretch/>
        </p:blipFill>
        <p:spPr>
          <a:xfrm>
            <a:off x="971640" y="2708280"/>
            <a:ext cx="3614760" cy="3529080"/>
          </a:xfrm>
          <a:prstGeom prst="rect">
            <a:avLst/>
          </a:prstGeom>
          <a:ln w="0">
            <a:noFill/>
          </a:ln>
        </p:spPr>
      </p:pic>
      <p:sp>
        <p:nvSpPr>
          <p:cNvPr id="170" name="Oval 8"/>
          <p:cNvSpPr/>
          <p:nvPr/>
        </p:nvSpPr>
        <p:spPr>
          <a:xfrm>
            <a:off x="1042920" y="1341360"/>
            <a:ext cx="3240000" cy="122400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OCR A Extended"/>
              </a:rPr>
              <a:t>Кто платит?</a:t>
            </a:r>
            <a:endParaRPr b="0" lang="en-US" sz="2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6084720" y="1773360"/>
            <a:ext cx="2087640" cy="100800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OCR A Extended"/>
              </a:rPr>
              <a:t>?</a:t>
            </a:r>
            <a:endParaRPr b="0" lang="en-US" sz="40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72" name="Oval 11"/>
          <p:cNvSpPr/>
          <p:nvPr/>
        </p:nvSpPr>
        <p:spPr>
          <a:xfrm>
            <a:off x="6012000" y="3213000"/>
            <a:ext cx="2087280" cy="93672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OCR A Extended"/>
              </a:rPr>
              <a:t>?</a:t>
            </a:r>
            <a:endParaRPr b="0" lang="en-US" sz="40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73" name="Oval 12"/>
          <p:cNvSpPr/>
          <p:nvPr/>
        </p:nvSpPr>
        <p:spPr>
          <a:xfrm>
            <a:off x="6084720" y="4581360"/>
            <a:ext cx="2232360" cy="100836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OCR A Extended"/>
              </a:rPr>
              <a:t>?</a:t>
            </a:r>
            <a:endParaRPr b="0" lang="en-US" sz="40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996600"/>
              </a:solidFill>
              <a:latin typeface="OCR A Extended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6912000" cy="568656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LOADS_"/>
          <p:cNvPicPr/>
          <p:nvPr/>
        </p:nvPicPr>
        <p:blipFill>
          <a:blip r:embed="rId1"/>
          <a:stretch/>
        </p:blipFill>
        <p:spPr>
          <a:xfrm>
            <a:off x="4427640" y="2565360"/>
            <a:ext cx="4105080" cy="3888000"/>
          </a:xfrm>
          <a:prstGeom prst="rect">
            <a:avLst/>
          </a:prstGeom>
          <a:ln w="0">
            <a:noFill/>
          </a:ln>
        </p:spPr>
      </p:pic>
      <p:sp>
        <p:nvSpPr>
          <p:cNvPr id="176" name="Oval 5"/>
          <p:cNvSpPr/>
          <p:nvPr/>
        </p:nvSpPr>
        <p:spPr>
          <a:xfrm>
            <a:off x="755640" y="1557360"/>
            <a:ext cx="3457440" cy="237636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OCR A Extended"/>
              </a:rPr>
              <a:t>Кто </a:t>
            </a:r>
            <a:endParaRPr b="0" lang="en-US" sz="36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OCR A Extended"/>
              </a:rPr>
              <a:t>принимает</a:t>
            </a:r>
            <a:endParaRPr b="0" lang="en-US" sz="36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OCR A Extende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OCR A Extended"/>
              </a:rPr>
              <a:t>решения</a:t>
            </a:r>
            <a:r>
              <a:rPr b="0" lang="ru-RU" sz="3600" spc="-1" strike="noStrike">
                <a:solidFill>
                  <a:srgbClr val="000000"/>
                </a:solidFill>
                <a:latin typeface="OCR A Extended"/>
              </a:rPr>
              <a:t>?</a:t>
            </a:r>
            <a:endParaRPr b="0" lang="en-US" sz="36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996600"/>
              </a:solidFill>
              <a:latin typeface="Arial Black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7848720" cy="540072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solidFill>
            <a:srgbClr val="fff9c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Baskerville Old Face"/>
              </a:rPr>
              <a:t>Динамика средней зарплаты по России в долларах и в рублях в 1996—2006 годах</a:t>
            </a:r>
            <a:endParaRPr b="0" lang="en-US" sz="3200" spc="-1" strike="noStrike">
              <a:solidFill>
                <a:srgbClr val="996600"/>
              </a:solidFill>
              <a:latin typeface="Arial Black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1258920" y="2349360"/>
            <a:ext cx="6626160" cy="403236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996600"/>
              </a:solidFill>
              <a:latin typeface="Arial Black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4356000" y="3232080"/>
            <a:ext cx="5648400" cy="3625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"/>
          <p:cNvPicPr/>
          <p:nvPr/>
        </p:nvPicPr>
        <p:blipFill>
          <a:blip r:embed="rId2"/>
          <a:stretch/>
        </p:blipFill>
        <p:spPr>
          <a:xfrm>
            <a:off x="-252360" y="0"/>
            <a:ext cx="5183280" cy="30988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"/>
          <p:cNvPicPr/>
          <p:nvPr/>
        </p:nvPicPr>
        <p:blipFill>
          <a:blip r:embed="rId3"/>
          <a:stretch/>
        </p:blipFill>
        <p:spPr>
          <a:xfrm>
            <a:off x="-468360" y="3284640"/>
            <a:ext cx="4896000" cy="3085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"/>
          <p:cNvPicPr/>
          <p:nvPr/>
        </p:nvPicPr>
        <p:blipFill>
          <a:blip r:embed="rId4"/>
          <a:stretch/>
        </p:blipFill>
        <p:spPr>
          <a:xfrm>
            <a:off x="4932360" y="549360"/>
            <a:ext cx="4896000" cy="27558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9"/>
          <p:cNvSpPr/>
          <p:nvPr/>
        </p:nvSpPr>
        <p:spPr>
          <a:xfrm>
            <a:off x="4859280" y="333360"/>
            <a:ext cx="4032360" cy="360360"/>
          </a:xfrm>
          <a:prstGeom prst="rect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a3130"/>
                </a:solidFill>
                <a:latin typeface="OCR A Extended"/>
              </a:rPr>
              <a:t>Рост МРОТ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0" y="44280"/>
          <a:ext cx="9144000" cy="6971040"/>
        </p:xfrm>
        <a:graphic>
          <a:graphicData uri="http://schemas.openxmlformats.org/drawingml/2006/table">
            <a:tbl>
              <a:tblPr/>
              <a:tblGrid>
                <a:gridCol w="3787920"/>
                <a:gridCol w="1722240"/>
                <a:gridCol w="1882800"/>
                <a:gridCol w="1751040"/>
              </a:tblGrid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Все население %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(наш класс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Богатые %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Бедные %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</a:tr>
              <a:tr h="929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Трудом праведным не наживешь палат каменных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Бедность - не порок, а несчастье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Богатство - вода, пришла и ушла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Чем беднее, тем щедрее, чем богаче, тем скупее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Богачи едят калачи, да не спят ни днем, ни в ночи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Богатством ума не купишь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Не в деньгах счастье</a:t>
                      </a:r>
                      <a:r>
                        <a:rPr b="1" lang="ru-RU" sz="2400" spc="-1" strike="noStrike">
                          <a:solidFill>
                            <a:srgbClr val="219797"/>
                          </a:solidFill>
                          <a:latin typeface="Sylfaen"/>
                        </a:rPr>
                        <a:t> 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76,3 </a:t>
                      </a: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(48)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77,7 </a:t>
                      </a: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(48)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66,0 </a:t>
                      </a: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(72)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75,3 </a:t>
                      </a: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(66)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65,3 </a:t>
                      </a: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(72)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85,7</a:t>
                      </a: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(72</a:t>
                      </a: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)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64,9</a:t>
                      </a:r>
                      <a:r>
                        <a:rPr b="0" lang="ru-RU" sz="3200" spc="-1" strike="noStrike">
                          <a:solidFill>
                            <a:srgbClr val="cc9900"/>
                          </a:solidFill>
                          <a:latin typeface="Sylfaen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(72)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ff3300"/>
                          </a:solidFill>
                          <a:uFillTx/>
                          <a:latin typeface="Sylfaen"/>
                        </a:rPr>
                        <a:t>44,9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73,6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54,8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ff3300"/>
                          </a:solidFill>
                          <a:uFillTx/>
                          <a:latin typeface="Sylfaen"/>
                        </a:rPr>
                        <a:t>30,0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51,2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219797"/>
                          </a:solidFill>
                          <a:uFillTx/>
                          <a:latin typeface="Sylfaen"/>
                        </a:rPr>
                        <a:t>84,2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67,0 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ff3300"/>
                          </a:solidFill>
                          <a:uFillTx/>
                          <a:latin typeface="Sylfaen"/>
                        </a:rPr>
                        <a:t>83,6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80,5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63,9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ff3300"/>
                          </a:solidFill>
                          <a:uFillTx/>
                          <a:latin typeface="Sylfaen"/>
                        </a:rPr>
                        <a:t>83,6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68,6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219797"/>
                          </a:solidFill>
                          <a:uFillTx/>
                          <a:latin typeface="Sylfaen"/>
                        </a:rPr>
                        <a:t>82,8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55,9</a:t>
                      </a:r>
                      <a:r>
                        <a:rPr b="0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	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</a:tr>
            </a:tbl>
          </a:graphicData>
        </a:graphic>
      </p:graphicFrame>
      <p:sp>
        <p:nvSpPr>
          <p:cNvPr id="96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996600"/>
              </a:solidFill>
              <a:latin typeface="Arial Black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-36360" y="0"/>
          <a:ext cx="8501040" cy="6546960"/>
        </p:xfrm>
        <a:graphic>
          <a:graphicData uri="http://schemas.openxmlformats.org/drawingml/2006/table">
            <a:tbl>
              <a:tblPr/>
              <a:tblGrid>
                <a:gridCol w="5113080"/>
                <a:gridCol w="1943280"/>
                <a:gridCol w="14446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OCR A Extended"/>
                        </a:rPr>
                        <a:t>Причины бедности  </a:t>
                      </a: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OCR A Extended"/>
                        </a:rPr>
                        <a:t> Наш  класс          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OCR A Extended"/>
                        </a:rPr>
                        <a:t>Европа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OCR A Extended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ed410"/>
                    </a:solidFill>
                  </a:tcPr>
                </a:tc>
              </a:tr>
              <a:tr h="7882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Длительная безработица                           </a:t>
                      </a:r>
                      <a:r>
                        <a:rPr b="1" lang="ru-RU" sz="24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1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Невыплаты з/п, задержка пенсий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Семейные неурядицы, несчасть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Болезнь, инвалидность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Алкоголизм, наркоман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Низкий уровень жизни их родителей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Проживание в бедном регионе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Отсутствие поддержки со стороны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Недостаток государственных пособий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Лень, неприспособленность к жизни        </a:t>
                      </a:r>
                      <a:r>
                        <a:rPr b="1" lang="ru-RU" sz="24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1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Наличие большого числа иждивенцев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Плохое образование, низкая квалификац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Они мигранты, беженцы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Нежелание менять привычный образ жизни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Им просто не везет</a:t>
                      </a: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OCR A Extended"/>
                        </a:rPr>
                        <a:t>                </a:t>
                      </a:r>
                      <a:r>
                        <a:rPr b="1" lang="ru-RU" sz="2400" spc="-1" strike="noStrike">
                          <a:solidFill>
                            <a:srgbClr val="990033"/>
                          </a:solidFill>
                          <a:latin typeface="Baskerville Old Face"/>
                        </a:rPr>
                        <a:t>15</a:t>
                      </a:r>
                      <a:r>
                        <a:rPr b="1" lang="ru-RU" sz="2000" spc="-1" strike="noStrike">
                          <a:solidFill>
                            <a:srgbClr val="990033"/>
                          </a:solidFill>
                          <a:latin typeface="OCR A Extended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OCR A Extended"/>
                        </a:rPr>
                        <a:t>              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Sylfaen"/>
                        </a:rPr>
                        <a:t>54,0(2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-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Sylfaen"/>
                        </a:rPr>
                        <a:t>26,7(3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9999"/>
                          </a:solidFill>
                          <a:uFillTx/>
                          <a:latin typeface="Sylfaen"/>
                        </a:rPr>
                        <a:t>23,8(4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Sylfaen"/>
                        </a:rPr>
                        <a:t>57,1(1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2,7(8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8,6(8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0,4(6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1,0(5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9,7(9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4,8(10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9999"/>
                          </a:solidFill>
                          <a:uFillTx/>
                          <a:latin typeface="Sylfaen"/>
                        </a:rPr>
                        <a:t>17,6(7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6,4(9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219797"/>
                          </a:solidFill>
                          <a:uFillTx/>
                          <a:latin typeface="Sylfaen"/>
                        </a:rPr>
                        <a:t>4,5(11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	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Sylfaen"/>
                        </a:rPr>
                        <a:t>41,2(2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Sylfaen"/>
                        </a:rPr>
                        <a:t>46,8(1</a:t>
                      </a: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Sylfaen"/>
                        </a:rPr>
                        <a:t>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5,0(6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9999"/>
                          </a:solidFill>
                          <a:uFillTx/>
                          <a:latin typeface="Sylfaen"/>
                        </a:rPr>
                        <a:t>36,8(4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35,0(5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0,5(9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7,3(12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0,1(10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Sylfaen"/>
                        </a:rPr>
                        <a:t>37,1(3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2,6(7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7,2(13</a:t>
                      </a: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9999"/>
                          </a:solidFill>
                          <a:uFillTx/>
                          <a:latin typeface="Sylfaen"/>
                        </a:rPr>
                        <a:t>22,5(8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5,5(15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219797"/>
                          </a:solidFill>
                          <a:uFillTx/>
                          <a:latin typeface="Sylfaen"/>
                        </a:rPr>
                        <a:t>19,3(11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3,7 (14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ed410"/>
                    </a:solidFill>
                  </a:tcPr>
                </a:tc>
              </a:tr>
            </a:tbl>
          </a:graphicData>
        </a:graphic>
      </p:graphicFrame>
      <p:sp>
        <p:nvSpPr>
          <p:cNvPr id="99" name="Line 25"/>
          <p:cNvSpPr/>
          <p:nvPr/>
        </p:nvSpPr>
        <p:spPr>
          <a:xfrm>
            <a:off x="3203640" y="404640"/>
            <a:ext cx="1224000" cy="43200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00" name="Line 26"/>
          <p:cNvSpPr/>
          <p:nvPr/>
        </p:nvSpPr>
        <p:spPr>
          <a:xfrm>
            <a:off x="3276720" y="404640"/>
            <a:ext cx="1439640" cy="388800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01" name="Line 27"/>
          <p:cNvSpPr/>
          <p:nvPr/>
        </p:nvSpPr>
        <p:spPr>
          <a:xfrm>
            <a:off x="3348000" y="476280"/>
            <a:ext cx="1511280" cy="583236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0" y="907920"/>
            <a:ext cx="4032360" cy="5950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3995640" y="1989000"/>
            <a:ext cx="5715000" cy="34290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925040" cy="2158920"/>
          </a:xfrm>
          <a:prstGeom prst="rect">
            <a:avLst/>
          </a:prstGeom>
          <a:solidFill>
            <a:srgbClr val="f8fd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a3130"/>
                </a:solidFill>
                <a:latin typeface="OCR A Extended"/>
              </a:rPr>
              <a:t>Стоимость потребительской корзины: данные за </a:t>
            </a:r>
            <a:r>
              <a:rPr b="1" lang="ru-RU" sz="3600" spc="-1" strike="noStrike">
                <a:solidFill>
                  <a:srgbClr val="0a3130"/>
                </a:solidFill>
                <a:latin typeface="Baskerville Old Face"/>
              </a:rPr>
              <a:t>3</a:t>
            </a:r>
            <a:r>
              <a:rPr b="1" lang="ru-RU" sz="3600" spc="-1" strike="noStrike">
                <a:solidFill>
                  <a:srgbClr val="0a3130"/>
                </a:solidFill>
                <a:latin typeface="OCR A Extended"/>
              </a:rPr>
              <a:t> года</a:t>
            </a:r>
            <a:br>
              <a:rPr sz="3600"/>
            </a:br>
            <a:r>
              <a:rPr b="1" lang="ru-RU" sz="3600" spc="-1" strike="noStrike">
                <a:solidFill>
                  <a:srgbClr val="0a3130"/>
                </a:solidFill>
                <a:latin typeface="OCR A Extended"/>
              </a:rPr>
              <a:t>(продукты</a:t>
            </a:r>
            <a:r>
              <a:rPr b="1" lang="ru-RU" sz="3600" spc="-1" strike="noStrike">
                <a:solidFill>
                  <a:srgbClr val="0a3130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0a3130"/>
                </a:solidFill>
                <a:latin typeface="OCR A Extended"/>
              </a:rPr>
              <a:t>,</a:t>
            </a:r>
            <a:r>
              <a:rPr b="1" lang="ru-RU" sz="3600" spc="-1" strike="noStrike">
                <a:solidFill>
                  <a:srgbClr val="62139e"/>
                </a:solidFill>
                <a:latin typeface="OCR A Extended"/>
              </a:rPr>
              <a:t>весь набор товаров и услуг)</a:t>
            </a:r>
            <a:endParaRPr b="0" lang="en-US" sz="3600" spc="-1" strike="noStrike">
              <a:solidFill>
                <a:srgbClr val="996600"/>
              </a:solidFill>
              <a:latin typeface="Arial Blac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33520" y="2708280"/>
          <a:ext cx="7924680" cy="2987640"/>
        </p:xfrm>
        <a:graphic>
          <a:graphicData uri="http://schemas.openxmlformats.org/drawingml/2006/table">
            <a:tbl>
              <a:tblPr/>
              <a:tblGrid>
                <a:gridCol w="1981080"/>
                <a:gridCol w="1981080"/>
                <a:gridCol w="1981440"/>
                <a:gridCol w="19810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2139e"/>
                          </a:solidFill>
                          <a:latin typeface="Baskerville Old Face"/>
                        </a:rPr>
                        <a:t>2007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2139e"/>
                          </a:solidFill>
                          <a:latin typeface="Baskerville Old Face"/>
                        </a:rPr>
                        <a:t>2008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2139e"/>
                          </a:solidFill>
                          <a:latin typeface="Baskerville Old Face"/>
                        </a:rPr>
                        <a:t>2009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2139e"/>
                          </a:solidFill>
                          <a:latin typeface="Baskerville Old Face"/>
                        </a:rPr>
                        <a:t>2010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</a:tr>
              <a:tr h="246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1801,95 </a:t>
                      </a:r>
                      <a:endParaRPr b="0" lang="en-US" sz="3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5421,2</a:t>
                      </a: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 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2116,42 </a:t>
                      </a:r>
                      <a:endParaRPr b="0" lang="en-US" sz="3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6334,12</a:t>
                      </a: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 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2131,01</a:t>
                      </a:r>
                      <a:endParaRPr b="0" lang="en-US" sz="3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7292,01</a:t>
                      </a: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 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2192,72</a:t>
                      </a:r>
                      <a:endParaRPr b="0" lang="en-US" sz="3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8014,17</a:t>
                      </a: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 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</a:tr>
            </a:tbl>
          </a:graphicData>
        </a:graphic>
      </p:graphicFrame>
      <p:sp>
        <p:nvSpPr>
          <p:cNvPr id="108" name="Oval 29"/>
          <p:cNvSpPr/>
          <p:nvPr/>
        </p:nvSpPr>
        <p:spPr>
          <a:xfrm>
            <a:off x="1763640" y="5373720"/>
            <a:ext cx="6408720" cy="148428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3130"/>
                </a:solidFill>
                <a:latin typeface="Baskerville Old Face"/>
              </a:rPr>
              <a:t>Прожиточный минимум (Иркутская область)</a:t>
            </a:r>
            <a:endParaRPr b="0" lang="en-US" sz="20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3130"/>
                </a:solidFill>
                <a:latin typeface="Baskerville Old Face"/>
              </a:rPr>
              <a:t>4 710 руб.</a:t>
            </a:r>
            <a:endParaRPr b="0" lang="en-US" sz="2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7566120" cy="719280"/>
          </a:xfrm>
          <a:prstGeom prst="rect">
            <a:avLst/>
          </a:prstGeom>
          <a:solidFill>
            <a:srgbClr val="fff9c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OCR A Extended"/>
              </a:rPr>
              <a:t>Главные признаки богатства</a:t>
            </a:r>
            <a:endParaRPr b="0" lang="en-US" sz="36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solidFill>
            <a:srgbClr val="fff9c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OCR A Extended"/>
              </a:rPr>
              <a:t>Качество жилищных условий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OCR A Extended"/>
              </a:rPr>
              <a:t>Возможность провести отпуск за границей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OCR A Extended"/>
              </a:rPr>
              <a:t>Доступность приобретения дорогой мебели и бытовой техники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OCR A Extended"/>
              </a:rPr>
              <a:t>Уровень медицинского обслуживания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OCR A Extended"/>
              </a:rPr>
              <a:t>Возможность для детей добиться в жизни намного большего, чем большинство их сверстников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OCR A Extended"/>
              </a:rPr>
              <a:t>Возможности получения хорошего образования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OCR A Extended"/>
              </a:rPr>
              <a:t>Большая уверенность в завтрашнем дне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OCR A Extended"/>
              </a:rPr>
              <a:t>Возможности проведения досуга (посещение дорогостоящих дискотек, ресторанов и т.д.)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OCR A Extended"/>
              </a:rPr>
              <a:t>Возможность приобретения недвижимости за рубежом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OCR A Extended"/>
              </a:rPr>
              <a:t>Наличие дорогого автомобиля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OCR A Extended"/>
              </a:rPr>
              <a:t>Возможность иметь интересную работу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OCR A Extended"/>
              </a:rPr>
              <a:t>Отношение к ним окружающих</a:t>
            </a:r>
            <a:r>
              <a:rPr b="1" lang="ru-RU" sz="2400" spc="-1" strike="noStrike">
                <a:solidFill>
                  <a:srgbClr val="333399"/>
                </a:solidFill>
                <a:latin typeface="OCR A Extended"/>
              </a:rPr>
              <a:t>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OCR A Extended"/>
              </a:rPr>
              <a:t>Незащищенность от физического насилия и посягательств на их собственность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0" y="0"/>
          <a:ext cx="9144000" cy="8607600"/>
        </p:xfrm>
        <a:graphic>
          <a:graphicData uri="http://schemas.openxmlformats.org/drawingml/2006/table">
            <a:tbl>
              <a:tblPr/>
              <a:tblGrid>
                <a:gridCol w="225360"/>
                <a:gridCol w="1913040"/>
                <a:gridCol w="1401840"/>
                <a:gridCol w="1326960"/>
                <a:gridCol w="4276800"/>
              </a:tblGrid>
              <a:tr h="117468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Имя</a:t>
                      </a:r>
                      <a:r>
                        <a:rPr b="1" lang="ru-RU" sz="24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	</a:t>
                      </a:r>
                      <a:r>
                        <a:rPr b="1" lang="ru-RU" sz="16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 </a:t>
                      </a:r>
                      <a:endParaRPr b="0" lang="en-US" sz="1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Оценка, $ млрд. 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Оценка, млрд .руб .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Статус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</a:tr>
              <a:tr h="102564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965</a:t>
                      </a:r>
                      <a:endParaRPr b="0" lang="en-US" sz="1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Михаил Прохоров 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4,10</a:t>
                      </a: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	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414,3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Друг моделей. Узник Куршевеля. Сноб. Одним словом, Global Russian </a:t>
                      </a:r>
                      <a:endParaRPr b="0" lang="en-US" sz="1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</a:tr>
              <a:tr h="102384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966</a:t>
                      </a:r>
                      <a:endParaRPr b="0" lang="en-US" sz="1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Роман Абрамович 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3,9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408,4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Поклонник красоты модельера Дарьи Жуковой и акционер Evraz Group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	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 </a:t>
                      </a:r>
                      <a:endParaRPr b="0" lang="en-US" sz="1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</a:tr>
              <a:tr h="102564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956</a:t>
                      </a:r>
                      <a:endParaRPr b="0" lang="en-US" sz="1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Владимир Лисин 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7,7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226,2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Владелец заводов (НЛМК), газет («Газета»), пароходов (UCL Holding)</a:t>
                      </a:r>
                      <a:endParaRPr b="0" lang="en-US" sz="1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</a:tr>
              <a:tr h="105552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950</a:t>
                      </a:r>
                      <a:endParaRPr b="0" lang="en-US" sz="1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Вагит Алекперов 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7,60</a:t>
                      </a: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	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223,3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Начинал буровиком, теперь владеет пятой частью «Лукойла 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</a:tr>
              <a:tr h="111672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966</a:t>
                      </a:r>
                      <a:endParaRPr b="0" lang="en-US" sz="1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Сулейман Керимов 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7,50</a:t>
                      </a: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	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220,3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Член Совета федерации, разбогатевший на инвестициях в акции </a:t>
                      </a:r>
                      <a:endParaRPr b="0" lang="en-US" sz="1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</a:tr>
              <a:tr h="116208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964</a:t>
                      </a:r>
                      <a:endParaRPr b="0" lang="en-US" sz="1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Михаил Фридман</a:t>
                      </a: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	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6,10</a:t>
                      </a: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	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179,2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Совладелец «Альфа-групп», не уживающийся с западными партнерами</a:t>
                      </a: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	</a:t>
                      </a: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 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</a:tr>
              <a:tr h="102348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961</a:t>
                      </a:r>
                      <a:endParaRPr b="0" lang="en-US" sz="1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Владимир Потанин 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5,0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146,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Лицо тандема 2П (Потанин – Прохоров). Теперь работает только на себя </a:t>
                      </a:r>
                      <a:endParaRPr b="0" lang="en-US" sz="1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</a:tr>
            </a:tbl>
          </a:graphicData>
        </a:graphic>
      </p:graphicFrame>
      <p:sp>
        <p:nvSpPr>
          <p:cNvPr id="114" name="Oval 203"/>
          <p:cNvSpPr/>
          <p:nvPr/>
        </p:nvSpPr>
        <p:spPr>
          <a:xfrm>
            <a:off x="1835280" y="2205000"/>
            <a:ext cx="5472000" cy="1295280"/>
          </a:xfrm>
          <a:prstGeom prst="ellipse">
            <a:avLst/>
          </a:prstGeom>
          <a:solidFill>
            <a:srgbClr val="fff9c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OCR A Extended"/>
              </a:rPr>
              <a:t>Миллионеры России 2008 г.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648640" cy="6858000"/>
          </a:xfrm>
          <a:prstGeom prst="rect">
            <a:avLst/>
          </a:prstGeom>
          <a:solidFill>
            <a:srgbClr val="fff9cf"/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В июне 2010 года среднемесячная начисленная заработная плата составляла </a:t>
            </a:r>
            <a:r>
              <a:rPr b="1" lang="ru-RU" sz="2400" spc="-1" strike="noStrike">
                <a:solidFill>
                  <a:srgbClr val="ff3300"/>
                </a:solidFill>
                <a:latin typeface="Baskerville Old Face"/>
              </a:rPr>
              <a:t>21597 руб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По данным на март 2010 года, средняя начисленная заработная плата в России составляла </a:t>
            </a:r>
            <a:r>
              <a:rPr b="1" lang="ru-RU" sz="2400" spc="-1" strike="noStrike">
                <a:solidFill>
                  <a:srgbClr val="ff3300"/>
                </a:solidFill>
                <a:latin typeface="Baskerville Old Face"/>
              </a:rPr>
              <a:t>20383 руб/мес</a:t>
            </a: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, в том числе в: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обрабатывающих производствах        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18297 руб/мес</a:t>
            </a: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производстве машин и оборудования 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19057 руб/мес</a:t>
            </a: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производстве нефтепродуктов             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45228 руб/мес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производстве пищевых продуктов и табака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16982 руб/мес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текстильном и швейном производстве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10074 руб/мес</a:t>
            </a: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производстве кожи, изделий из кожи и производство обуви                                                          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10616 руб/мес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химическом производстве                      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21956 руб/мес</a:t>
            </a: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металлургическом производстве          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23258 руб/мес</a:t>
            </a: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добыче полезных ископаемых               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39742 руб/мес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добыче топливно-энергетических полезных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ископаемых                                                  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47559 руб/мес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добыче полезных ископаемых (кроме топливно-энергетических)                                    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25361 руб/мес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3:02:56Z</dcterms:created>
  <dc:creator>Лена</dc:creator>
  <dc:description/>
  <cp:keywords/>
  <dc:language>en-US</dc:language>
  <cp:lastModifiedBy>LEGION</cp:lastModifiedBy>
  <dcterms:modified xsi:type="dcterms:W3CDTF">2016-01-04T08:17:50Z</dcterms:modified>
  <cp:revision>22</cp:revision>
  <dc:subject/>
  <dc:title>Перераспределение доход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51049</vt:lpwstr>
  </property>
</Properties>
</file>