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B21F-5BEB-432D-87FF-217A044EA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353-5679-439B-9697-64E7B30A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547-5A70-4357-AB60-B59C34A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8A8-56AB-4660-8041-C2F6729A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3E8-B155-4F56-8B08-A1502874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8B7-F4B7-46D5-B726-F5D019C5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1A8-6CA8-4A44-AA9F-DA6A079D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D22-5AF8-4557-9319-C153112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CC4-F6B2-486E-9CD7-91BAF83F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EE2-83B0-4546-BF93-B0E59D9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B41-B129-41CE-8FEF-959C29C0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069-CCED-4E6A-A53B-D0F4AC6C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D4E-7395-4771-95DE-758BBD9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E5A-24B4-4D39-B712-17E8559FE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1447920"/>
            <a:ext cx="4390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РО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71800" y="4114800"/>
            <a:ext cx="66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номика  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19320" y="2286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 flipV="1">
            <a:off x="1828800" y="838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0984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8640" y="415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828800" y="1676520"/>
            <a:ext cx="1981080" cy="23619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33720" y="1676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050280" y="533520"/>
            <a:ext cx="50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Q= a-b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я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O01380_"/>
          <p:cNvPicPr/>
          <p:nvPr/>
        </p:nvPicPr>
        <p:blipFill>
          <a:blip r:embed="rId1"/>
          <a:stretch/>
        </p:blipFill>
        <p:spPr>
          <a:xfrm>
            <a:off x="5638680" y="1905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5320080" y="17859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28800" y="2590920"/>
            <a:ext cx="1219320" cy="14475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891080" y="217332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H="1">
            <a:off x="2209680" y="28954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3880" y="2895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915120" y="30481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194920" y="2859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828800" y="327672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2362320" y="32767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200400" y="3276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952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1096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652480" y="407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9144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Ценовая эластичность спрос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54360" y="29376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ак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лияющие на ценовую эластичность спрос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9120" y="1716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Наличие заме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7680" y="26668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39625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3520" y="533412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 Фактор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03000" y="293760"/>
            <a:ext cx="80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Коэффициент эластичности спроса по 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2280" y="304812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94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050120" y="26305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1143000" y="3048120"/>
            <a:ext cx="99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432800" y="3011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120400" y="2782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143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09840" y="37735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119680" y="3544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514600" y="274320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590920" y="35053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429000" y="304812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4038480" y="3429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021920" y="29354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115520" y="3429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09148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56272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563440" y="34290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095880" y="30481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6629400" y="30481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3"/>
          <p:cNvSpPr/>
          <p:nvPr/>
        </p:nvSpPr>
        <p:spPr>
          <a:xfrm>
            <a:off x="67816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5"/>
          <p:cNvSpPr/>
          <p:nvPr/>
        </p:nvSpPr>
        <p:spPr>
          <a:xfrm>
            <a:off x="6629400" y="36576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685944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223040" y="31640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696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76960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7698240" y="3429000"/>
            <a:ext cx="6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1295280" y="48769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1591560" y="461484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 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295280" y="52578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16765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9"/>
          <p:cNvSpPr/>
          <p:nvPr/>
        </p:nvSpPr>
        <p:spPr>
          <a:xfrm>
            <a:off x="1681200" y="5410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– первоначальная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1682640" y="5791320"/>
            <a:ext cx="65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- первоначальный объем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18960" y="354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3429000" y="304812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181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6668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9"/>
          <p:cNvSpPr/>
          <p:nvPr/>
        </p:nvSpPr>
        <p:spPr>
          <a:xfrm>
            <a:off x="3276720" y="28954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4290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3200400" y="35812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430440" y="3352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9625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419720" y="2743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4343400" y="3352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6"/>
          <p:cNvSpPr/>
          <p:nvPr/>
        </p:nvSpPr>
        <p:spPr>
          <a:xfrm>
            <a:off x="1447920" y="0"/>
            <a:ext cx="69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чения коэффициента элас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287440" y="2871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8"/>
          <p:cNvSpPr/>
          <p:nvPr/>
        </p:nvSpPr>
        <p:spPr>
          <a:xfrm>
            <a:off x="25909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0"/>
          <p:cNvSpPr/>
          <p:nvPr/>
        </p:nvSpPr>
        <p:spPr>
          <a:xfrm>
            <a:off x="259092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0" y="4114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&gt;1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спрос эласти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65040" y="5221440"/>
            <a:ext cx="816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0" y="4876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&lt; 1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– спрос неэластич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304920" y="5562720"/>
            <a:ext cx="24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Е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7"/>
          <p:cNvSpPr/>
          <p:nvPr/>
        </p:nvSpPr>
        <p:spPr>
          <a:xfrm flipH="1">
            <a:off x="3351960" y="5562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6095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6629400" y="5943600"/>
            <a:ext cx="457200" cy="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 rot="5400000">
            <a:off x="6842880" y="5728680"/>
            <a:ext cx="10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350" name="Line 5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9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833480" y="312588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210200" y="5013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554200" y="3284640"/>
            <a:ext cx="396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4498920" y="1413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010200" y="27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1840" y="119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0840" y="5322960"/>
            <a:ext cx="82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не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64400" y="58672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015160" y="298440"/>
            <a:ext cx="13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6689880" y="308772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 rot="5400000">
            <a:off x="7682400" y="31359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8f8f8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8380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ктическое применение теории эласт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965240" y="423072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70160" y="43070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6480" y="423072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руч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о това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278520" y="3886200"/>
            <a:ext cx="30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339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137680" y="50292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38080" y="914400"/>
            <a:ext cx="80168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 И дорого продают, да проживаю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и дешево продают, да наживаются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з заповедей русских ку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9"/>
          <p:cNvGrpSpPr/>
          <p:nvPr/>
        </p:nvGrpSpPr>
        <p:grpSpPr>
          <a:xfrm>
            <a:off x="3059280" y="1893960"/>
            <a:ext cx="3240000" cy="3058560"/>
            <a:chOff x="3059280" y="1893960"/>
            <a:chExt cx="3240000" cy="3058560"/>
          </a:xfrm>
        </p:grpSpPr>
        <p:sp>
          <p:nvSpPr>
            <p:cNvPr id="382" name="Line 10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059280" y="4952520"/>
              <a:ext cx="32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059280" y="49525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4"/>
          <p:cNvSpPr/>
          <p:nvPr/>
        </p:nvSpPr>
        <p:spPr>
          <a:xfrm>
            <a:off x="2990880" y="390672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2990880" y="32241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2990880" y="254016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3349800" y="48420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406836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478908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50980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990880" y="459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3708000" y="484488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>
            <a:off x="442764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4"/>
          <p:cNvSpPr/>
          <p:nvPr/>
        </p:nvSpPr>
        <p:spPr>
          <a:xfrm flipH="1">
            <a:off x="514836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2970360" y="4268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2989440" y="3583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2989440" y="290052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6299280" y="4916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2556000" y="1590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698920" y="23544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2698920" y="2712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2698920" y="304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2698920" y="340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2698920" y="37209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9"/>
          <p:cNvSpPr/>
          <p:nvPr/>
        </p:nvSpPr>
        <p:spPr>
          <a:xfrm>
            <a:off x="2698920" y="4070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2698920" y="44067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320364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5003640" y="4989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64328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28292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392256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3564000" y="4989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362560" y="4981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V="1">
            <a:off x="5148360" y="3548160"/>
            <a:ext cx="0" cy="129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0"/>
          <p:cNvSpPr/>
          <p:nvPr/>
        </p:nvSpPr>
        <p:spPr>
          <a:xfrm>
            <a:off x="3130560" y="3584520"/>
            <a:ext cx="20178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 flipV="1">
            <a:off x="4067280" y="2900160"/>
            <a:ext cx="0" cy="194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3"/>
          <p:cNvSpPr/>
          <p:nvPr/>
        </p:nvSpPr>
        <p:spPr>
          <a:xfrm>
            <a:off x="3130560" y="290052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3"/>
          <p:cNvSpPr/>
          <p:nvPr/>
        </p:nvSpPr>
        <p:spPr>
          <a:xfrm rot="60000">
            <a:off x="3563640" y="2349000"/>
            <a:ext cx="3024000" cy="1800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05" h="1134">
                <a:moveTo>
                  <a:pt x="0" y="0"/>
                </a:moveTo>
                <a:cubicBezTo>
                  <a:pt x="75" y="117"/>
                  <a:pt x="151" y="235"/>
                  <a:pt x="317" y="363"/>
                </a:cubicBezTo>
                <a:cubicBezTo>
                  <a:pt x="483" y="491"/>
                  <a:pt x="733" y="643"/>
                  <a:pt x="998" y="771"/>
                </a:cubicBezTo>
                <a:cubicBezTo>
                  <a:pt x="1263" y="899"/>
                  <a:pt x="1754" y="1074"/>
                  <a:pt x="1905" y="113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4"/>
          <p:cNvSpPr/>
          <p:nvPr/>
        </p:nvSpPr>
        <p:spPr>
          <a:xfrm>
            <a:off x="5075280" y="3116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4067280" y="2443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3851280" y="52768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2195640" y="26589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8"/>
          <p:cNvSpPr/>
          <p:nvPr/>
        </p:nvSpPr>
        <p:spPr>
          <a:xfrm>
            <a:off x="2195640" y="33084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9"/>
          <p:cNvSpPr/>
          <p:nvPr/>
        </p:nvSpPr>
        <p:spPr>
          <a:xfrm>
            <a:off x="4930920" y="52768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1"/>
          <p:cNvSpPr/>
          <p:nvPr/>
        </p:nvSpPr>
        <p:spPr>
          <a:xfrm>
            <a:off x="5111640" y="3549600"/>
            <a:ext cx="71640" cy="7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4"/>
          <p:cNvSpPr/>
          <p:nvPr/>
        </p:nvSpPr>
        <p:spPr>
          <a:xfrm>
            <a:off x="4030560" y="28656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3"/>
          <p:cNvSpPr/>
          <p:nvPr/>
        </p:nvSpPr>
        <p:spPr>
          <a:xfrm>
            <a:off x="2770200" y="4916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4"/>
          <p:cNvSpPr/>
          <p:nvPr/>
        </p:nvSpPr>
        <p:spPr>
          <a:xfrm>
            <a:off x="2346480" y="450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прос эласти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3032280" y="560232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955960" y="567864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9"/>
          <p:cNvSpPr/>
          <p:nvPr/>
        </p:nvSpPr>
        <p:spPr>
          <a:xfrm flipV="1">
            <a:off x="1828800" y="2819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84"/>
          <p:cNvSpPr/>
          <p:nvPr/>
        </p:nvSpPr>
        <p:spPr>
          <a:xfrm rot="21480000">
            <a:off x="3580920" y="1828800"/>
            <a:ext cx="1828800" cy="3048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52" h="1769">
                <a:moveTo>
                  <a:pt x="38" y="0"/>
                </a:moveTo>
                <a:cubicBezTo>
                  <a:pt x="19" y="230"/>
                  <a:pt x="0" y="461"/>
                  <a:pt x="83" y="680"/>
                </a:cubicBezTo>
                <a:cubicBezTo>
                  <a:pt x="166" y="899"/>
                  <a:pt x="242" y="1134"/>
                  <a:pt x="537" y="1316"/>
                </a:cubicBezTo>
                <a:cubicBezTo>
                  <a:pt x="832" y="1498"/>
                  <a:pt x="1633" y="1694"/>
                  <a:pt x="1852" y="176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3352680" y="1676520"/>
            <a:ext cx="3095640" cy="3276000"/>
            <a:chOff x="3352680" y="1676520"/>
            <a:chExt cx="3095640" cy="3276000"/>
          </a:xfrm>
        </p:grpSpPr>
        <p:sp>
          <p:nvSpPr>
            <p:cNvPr id="437" name="Line 38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3352680" y="4952520"/>
              <a:ext cx="30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3352680" y="4952520"/>
              <a:ext cx="30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42"/>
          <p:cNvSpPr/>
          <p:nvPr/>
        </p:nvSpPr>
        <p:spPr>
          <a:xfrm>
            <a:off x="3279600" y="391644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3279600" y="323388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>
            <a:off x="3279600" y="254952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 flipH="1">
            <a:off x="3638520" y="4851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435780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 flipH="1">
            <a:off x="507852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 flipH="1">
            <a:off x="579924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3279600" y="4600440"/>
            <a:ext cx="1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3997440" y="48546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 flipH="1">
            <a:off x="471600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 flipH="1">
            <a:off x="543672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3"/>
          <p:cNvSpPr/>
          <p:nvPr/>
        </p:nvSpPr>
        <p:spPr>
          <a:xfrm>
            <a:off x="3259080" y="42782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4"/>
          <p:cNvSpPr/>
          <p:nvPr/>
        </p:nvSpPr>
        <p:spPr>
          <a:xfrm>
            <a:off x="3278160" y="35924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278160" y="2909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644508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844720" y="139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87640" y="2363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2987640" y="2722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2987640" y="3054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2987640" y="3414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2987640" y="3730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2987640" y="40798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2987640" y="4416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349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5292720" y="499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493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457200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9"/>
          <p:cNvSpPr/>
          <p:nvPr/>
        </p:nvSpPr>
        <p:spPr>
          <a:xfrm>
            <a:off x="421164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0"/>
          <p:cNvSpPr/>
          <p:nvPr/>
        </p:nvSpPr>
        <p:spPr>
          <a:xfrm>
            <a:off x="3852720" y="49989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1"/>
          <p:cNvSpPr/>
          <p:nvPr/>
        </p:nvSpPr>
        <p:spPr>
          <a:xfrm>
            <a:off x="5651640" y="4991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2"/>
          <p:cNvSpPr/>
          <p:nvPr/>
        </p:nvSpPr>
        <p:spPr>
          <a:xfrm>
            <a:off x="3276720" y="2205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3"/>
          <p:cNvSpPr/>
          <p:nvPr/>
        </p:nvSpPr>
        <p:spPr>
          <a:xfrm>
            <a:off x="3062160" y="49514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886200" y="3886200"/>
            <a:ext cx="7128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2"/>
          <p:cNvSpPr/>
          <p:nvPr/>
        </p:nvSpPr>
        <p:spPr>
          <a:xfrm>
            <a:off x="3637080" y="28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7"/>
          <p:cNvSpPr/>
          <p:nvPr/>
        </p:nvSpPr>
        <p:spPr>
          <a:xfrm>
            <a:off x="3421080" y="2924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8"/>
          <p:cNvSpPr/>
          <p:nvPr/>
        </p:nvSpPr>
        <p:spPr>
          <a:xfrm>
            <a:off x="3637080" y="2924280"/>
            <a:ext cx="0" cy="2017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9"/>
          <p:cNvSpPr/>
          <p:nvPr/>
        </p:nvSpPr>
        <p:spPr>
          <a:xfrm>
            <a:off x="2627280" y="5740560"/>
            <a:ext cx="522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0"/>
          <p:cNvSpPr/>
          <p:nvPr/>
        </p:nvSpPr>
        <p:spPr>
          <a:xfrm>
            <a:off x="2557440" y="26370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1"/>
          <p:cNvSpPr/>
          <p:nvPr/>
        </p:nvSpPr>
        <p:spPr>
          <a:xfrm>
            <a:off x="2556000" y="36925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2"/>
          <p:cNvSpPr/>
          <p:nvPr/>
        </p:nvSpPr>
        <p:spPr>
          <a:xfrm>
            <a:off x="3421080" y="5203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3"/>
          <p:cNvSpPr/>
          <p:nvPr/>
        </p:nvSpPr>
        <p:spPr>
          <a:xfrm>
            <a:off x="4140360" y="52038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3708360" y="2540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5"/>
          <p:cNvSpPr/>
          <p:nvPr/>
        </p:nvSpPr>
        <p:spPr>
          <a:xfrm>
            <a:off x="4356000" y="34034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6"/>
          <p:cNvSpPr/>
          <p:nvPr/>
        </p:nvSpPr>
        <p:spPr>
          <a:xfrm>
            <a:off x="2514240" y="284040"/>
            <a:ext cx="5301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ичная э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Е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7"/>
          <p:cNvSpPr/>
          <p:nvPr/>
        </p:nvSpPr>
        <p:spPr>
          <a:xfrm>
            <a:off x="33526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8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9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0"/>
          <p:cNvSpPr/>
          <p:nvPr/>
        </p:nvSpPr>
        <p:spPr>
          <a:xfrm>
            <a:off x="220968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62320" y="30492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19320" y="1447920"/>
            <a:ext cx="700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93"/>
          <p:cNvSpPr/>
          <p:nvPr/>
        </p:nvSpPr>
        <p:spPr>
          <a:xfrm flipV="1">
            <a:off x="4429080" y="2611440"/>
            <a:ext cx="0" cy="201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0"/>
          <p:cNvSpPr/>
          <p:nvPr/>
        </p:nvSpPr>
        <p:spPr>
          <a:xfrm>
            <a:off x="3492360" y="26114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8"/>
          <p:cNvSpPr/>
          <p:nvPr/>
        </p:nvSpPr>
        <p:spPr>
          <a:xfrm>
            <a:off x="3492360" y="3619440"/>
            <a:ext cx="129564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7"/>
          <p:cNvGrpSpPr/>
          <p:nvPr/>
        </p:nvGrpSpPr>
        <p:grpSpPr>
          <a:xfrm>
            <a:off x="3421080" y="1557360"/>
            <a:ext cx="3166920" cy="3106440"/>
            <a:chOff x="3421080" y="1557360"/>
            <a:chExt cx="3166920" cy="3106440"/>
          </a:xfrm>
        </p:grpSpPr>
        <p:sp>
          <p:nvSpPr>
            <p:cNvPr id="494" name="Line 8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3421080" y="4663800"/>
              <a:ext cx="31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>
              <a:off x="3421080" y="46638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2"/>
          <p:cNvSpPr/>
          <p:nvPr/>
        </p:nvSpPr>
        <p:spPr>
          <a:xfrm>
            <a:off x="3351240" y="361800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3351240" y="2935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3351240" y="225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H="1">
            <a:off x="3710160" y="455292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 flipH="1">
            <a:off x="442872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H="1">
            <a:off x="514944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587016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3351240" y="4302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"/>
          <p:cNvSpPr/>
          <p:nvPr/>
        </p:nvSpPr>
        <p:spPr>
          <a:xfrm flipH="1">
            <a:off x="4068360" y="455616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 flipH="1">
            <a:off x="478800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 flipH="1">
            <a:off x="550872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3330720" y="39798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4"/>
          <p:cNvSpPr/>
          <p:nvPr/>
        </p:nvSpPr>
        <p:spPr>
          <a:xfrm>
            <a:off x="3349800" y="3294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>
            <a:off x="3349800" y="2611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516720" y="4627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2916360" y="11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059280" y="2065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3059280" y="2424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059280" y="275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3059280" y="31161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3059280" y="3432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3059280" y="3781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059280" y="4118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356400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5364000" y="4700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500364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64328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28292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0"/>
          <p:cNvSpPr/>
          <p:nvPr/>
        </p:nvSpPr>
        <p:spPr>
          <a:xfrm>
            <a:off x="3924360" y="4700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1"/>
          <p:cNvSpPr/>
          <p:nvPr/>
        </p:nvSpPr>
        <p:spPr>
          <a:xfrm>
            <a:off x="5722920" y="4692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87"/>
          <p:cNvSpPr/>
          <p:nvPr/>
        </p:nvSpPr>
        <p:spPr>
          <a:xfrm>
            <a:off x="4213080" y="1674720"/>
            <a:ext cx="1295640" cy="2665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816" h="1679">
                <a:moveTo>
                  <a:pt x="0" y="0"/>
                </a:moveTo>
                <a:cubicBezTo>
                  <a:pt x="38" y="193"/>
                  <a:pt x="76" y="386"/>
                  <a:pt x="136" y="590"/>
                </a:cubicBezTo>
                <a:cubicBezTo>
                  <a:pt x="196" y="794"/>
                  <a:pt x="249" y="1043"/>
                  <a:pt x="362" y="1225"/>
                </a:cubicBezTo>
                <a:cubicBezTo>
                  <a:pt x="475" y="1407"/>
                  <a:pt x="740" y="1603"/>
                  <a:pt x="816" y="167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4390920" y="257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0"/>
          <p:cNvSpPr/>
          <p:nvPr/>
        </p:nvSpPr>
        <p:spPr>
          <a:xfrm>
            <a:off x="4751280" y="3583080"/>
            <a:ext cx="7164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9"/>
          <p:cNvSpPr/>
          <p:nvPr/>
        </p:nvSpPr>
        <p:spPr>
          <a:xfrm flipV="1">
            <a:off x="4788000" y="3619440"/>
            <a:ext cx="0" cy="93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4"/>
          <p:cNvSpPr/>
          <p:nvPr/>
        </p:nvSpPr>
        <p:spPr>
          <a:xfrm>
            <a:off x="4789440" y="3235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5"/>
          <p:cNvSpPr/>
          <p:nvPr/>
        </p:nvSpPr>
        <p:spPr>
          <a:xfrm>
            <a:off x="4429080" y="21798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6"/>
          <p:cNvSpPr/>
          <p:nvPr/>
        </p:nvSpPr>
        <p:spPr>
          <a:xfrm>
            <a:off x="2557440" y="23241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7"/>
          <p:cNvSpPr/>
          <p:nvPr/>
        </p:nvSpPr>
        <p:spPr>
          <a:xfrm>
            <a:off x="2556000" y="33782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8"/>
          <p:cNvSpPr/>
          <p:nvPr/>
        </p:nvSpPr>
        <p:spPr>
          <a:xfrm>
            <a:off x="421164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9"/>
          <p:cNvSpPr/>
          <p:nvPr/>
        </p:nvSpPr>
        <p:spPr>
          <a:xfrm>
            <a:off x="457200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0"/>
          <p:cNvSpPr/>
          <p:nvPr/>
        </p:nvSpPr>
        <p:spPr>
          <a:xfrm>
            <a:off x="2666880" y="5410080"/>
            <a:ext cx="4464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1"/>
          <p:cNvSpPr/>
          <p:nvPr/>
        </p:nvSpPr>
        <p:spPr>
          <a:xfrm>
            <a:off x="31338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7"/>
          <p:cNvSpPr/>
          <p:nvPr/>
        </p:nvSpPr>
        <p:spPr>
          <a:xfrm>
            <a:off x="2133720" y="457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рос неэластич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9"/>
          <p:cNvSpPr/>
          <p:nvPr/>
        </p:nvSpPr>
        <p:spPr>
          <a:xfrm flipV="1">
            <a:off x="2514600" y="251424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203480" y="13352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66680" y="1371600"/>
          <a:ext cx="7010640" cy="339552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52424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Line 73"/>
          <p:cNvSpPr/>
          <p:nvPr/>
        </p:nvSpPr>
        <p:spPr>
          <a:xfrm flipV="1">
            <a:off x="106668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5"/>
          <p:cNvSpPr/>
          <p:nvPr/>
        </p:nvSpPr>
        <p:spPr>
          <a:xfrm flipV="1">
            <a:off x="8077320" y="685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6"/>
          <p:cNvSpPr/>
          <p:nvPr/>
        </p:nvSpPr>
        <p:spPr>
          <a:xfrm flipV="1">
            <a:off x="297180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1434240" y="725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656880" y="83808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щая выручк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9"/>
          <p:cNvSpPr/>
          <p:nvPr/>
        </p:nvSpPr>
        <p:spPr>
          <a:xfrm flipV="1">
            <a:off x="1905120" y="2362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1"/>
          <p:cNvSpPr/>
          <p:nvPr/>
        </p:nvSpPr>
        <p:spPr>
          <a:xfrm flipV="1">
            <a:off x="7086600" y="228600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1905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4"/>
          <p:cNvSpPr/>
          <p:nvPr/>
        </p:nvSpPr>
        <p:spPr>
          <a:xfrm flipV="1">
            <a:off x="3581280" y="3580920"/>
            <a:ext cx="0" cy="838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09480" y="380880"/>
          <a:ext cx="5639040" cy="49626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251460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(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ъем с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 (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ту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59"/>
          <p:cNvSpPr/>
          <p:nvPr/>
        </p:nvSpPr>
        <p:spPr>
          <a:xfrm>
            <a:off x="6172200" y="3808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6172200" y="1676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32448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324480" y="2743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632448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632448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>
            <a:off x="63244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32448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>
            <a:off x="6248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0"/>
          <p:cNvSpPr/>
          <p:nvPr/>
        </p:nvSpPr>
        <p:spPr>
          <a:xfrm>
            <a:off x="7848720" y="380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172200" y="380880"/>
            <a:ext cx="191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ластич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2"/>
          <p:cNvSpPr/>
          <p:nvPr/>
        </p:nvSpPr>
        <p:spPr>
          <a:xfrm>
            <a:off x="7845480" y="53352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3"/>
          <p:cNvSpPr/>
          <p:nvPr/>
        </p:nvSpPr>
        <p:spPr>
          <a:xfrm rot="5400000">
            <a:off x="6838560" y="175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4"/>
          <p:cNvSpPr/>
          <p:nvPr/>
        </p:nvSpPr>
        <p:spPr>
          <a:xfrm>
            <a:off x="68598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5"/>
          <p:cNvSpPr/>
          <p:nvPr/>
        </p:nvSpPr>
        <p:spPr>
          <a:xfrm>
            <a:off x="6859800" y="269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685980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781680" y="38862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8"/>
          <p:cNvSpPr/>
          <p:nvPr/>
        </p:nvSpPr>
        <p:spPr>
          <a:xfrm>
            <a:off x="6783480" y="4343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9"/>
          <p:cNvSpPr/>
          <p:nvPr/>
        </p:nvSpPr>
        <p:spPr>
          <a:xfrm>
            <a:off x="6934320" y="4800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0"/>
          <p:cNvSpPr/>
          <p:nvPr/>
        </p:nvSpPr>
        <p:spPr>
          <a:xfrm>
            <a:off x="8229600" y="1752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1"/>
          <p:cNvSpPr/>
          <p:nvPr/>
        </p:nvSpPr>
        <p:spPr>
          <a:xfrm>
            <a:off x="8079480" y="2209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2"/>
          <p:cNvSpPr/>
          <p:nvPr/>
        </p:nvSpPr>
        <p:spPr>
          <a:xfrm>
            <a:off x="8079480" y="27432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3"/>
          <p:cNvSpPr/>
          <p:nvPr/>
        </p:nvSpPr>
        <p:spPr>
          <a:xfrm>
            <a:off x="8077320" y="32767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4"/>
          <p:cNvSpPr/>
          <p:nvPr/>
        </p:nvSpPr>
        <p:spPr>
          <a:xfrm>
            <a:off x="8077320" y="380988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8079480" y="4343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8305920" y="4800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666160" y="5256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04920" y="1143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828440" y="4572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22860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280" y="2590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б  2-в  3-в  4-б  5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876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г  2-б  3-а  4-б  5-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0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7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730320" y="255600"/>
            <a:ext cx="19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83240" y="193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90920" y="4114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8088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19051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783840" y="1905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5867280" y="457200"/>
            <a:ext cx="53352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37920" y="1981080"/>
            <a:ext cx="381240" cy="68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6781680" y="1981080"/>
            <a:ext cx="457200" cy="762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4572000" y="26668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487480" y="28195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172200" y="3048120"/>
            <a:ext cx="16002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6629400" y="2895480"/>
            <a:ext cx="685800" cy="30492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6"/>
          <p:cNvSpPr/>
          <p:nvPr/>
        </p:nvSpPr>
        <p:spPr>
          <a:xfrm>
            <a:off x="826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116000" y="1982880"/>
            <a:ext cx="3384720" cy="2881080"/>
            <a:chOff x="1116000" y="1982880"/>
            <a:chExt cx="3384720" cy="2881080"/>
          </a:xfrm>
        </p:grpSpPr>
        <p:sp>
          <p:nvSpPr>
            <p:cNvPr id="72" name="Line 4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116000" y="4863960"/>
              <a:ext cx="33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116000" y="486396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11"/>
          <p:cNvSpPr/>
          <p:nvPr/>
        </p:nvSpPr>
        <p:spPr>
          <a:xfrm>
            <a:off x="1044720" y="399888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044720" y="342252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044720" y="2847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333080" y="477684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190764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248400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306072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363384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971640" y="371160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971640" y="313524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>
            <a:off x="971640" y="255888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971640" y="428796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1044720" y="457524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>
            <a:off x="1619280" y="4724280"/>
            <a:ext cx="1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219564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 flipH="1">
            <a:off x="277128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 flipH="1">
            <a:off x="334764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 flipH="1">
            <a:off x="392436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39640" y="2371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539640" y="4100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539640" y="3524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39640" y="2948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40328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97964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255600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313056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370836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498920" y="4765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09"/>
          <p:cNvGrpSpPr/>
          <p:nvPr/>
        </p:nvGrpSpPr>
        <p:grpSpPr>
          <a:xfrm>
            <a:off x="1332000" y="2125800"/>
            <a:ext cx="3095640" cy="2305080"/>
            <a:chOff x="1332000" y="2125800"/>
            <a:chExt cx="3095640" cy="2305080"/>
          </a:xfrm>
        </p:grpSpPr>
        <p:sp>
          <p:nvSpPr>
            <p:cNvPr id="105" name="Freeform 74"/>
            <p:cNvSpPr/>
            <p:nvPr/>
          </p:nvSpPr>
          <p:spPr>
            <a:xfrm>
              <a:off x="1619280" y="2558880"/>
              <a:ext cx="2305080" cy="172908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729080"/>
                <a:gd name="textAreaBottom" fmla="*/ 1729440 h 1729080"/>
              </a:gdLst>
              <a:ahLst/>
              <a:rect l="textAreaLeft" t="textAreaTop" r="textAreaRight" b="textAreaBottom"/>
              <a:pathLst>
                <a:path w="1452" h="1089">
                  <a:moveTo>
                    <a:pt x="0" y="0"/>
                  </a:moveTo>
                  <a:cubicBezTo>
                    <a:pt x="151" y="181"/>
                    <a:pt x="303" y="363"/>
                    <a:pt x="545" y="544"/>
                  </a:cubicBezTo>
                  <a:cubicBezTo>
                    <a:pt x="787" y="725"/>
                    <a:pt x="1119" y="907"/>
                    <a:pt x="1452" y="108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5"/>
            <p:cNvSpPr/>
            <p:nvPr/>
          </p:nvSpPr>
          <p:spPr>
            <a:xfrm>
              <a:off x="1619280" y="2558880"/>
              <a:ext cx="36360" cy="367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3922560" y="4272120"/>
              <a:ext cx="36720" cy="36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9"/>
            <p:cNvSpPr/>
            <p:nvPr/>
          </p:nvSpPr>
          <p:spPr>
            <a:xfrm>
              <a:off x="1332000" y="2125800"/>
              <a:ext cx="287280" cy="433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81" h="273">
                  <a:moveTo>
                    <a:pt x="181" y="273"/>
                  </a:moveTo>
                  <a:cubicBezTo>
                    <a:pt x="128" y="204"/>
                    <a:pt x="75" y="136"/>
                    <a:pt x="45" y="91"/>
                  </a:cubicBezTo>
                  <a:cubicBezTo>
                    <a:pt x="15" y="46"/>
                    <a:pt x="7" y="23"/>
                    <a:pt x="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0"/>
            <p:cNvSpPr/>
            <p:nvPr/>
          </p:nvSpPr>
          <p:spPr>
            <a:xfrm>
              <a:off x="3924360" y="4286160"/>
              <a:ext cx="503280" cy="144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17" h="91">
                  <a:moveTo>
                    <a:pt x="0" y="0"/>
                  </a:moveTo>
                  <a:cubicBezTo>
                    <a:pt x="41" y="15"/>
                    <a:pt x="83" y="31"/>
                    <a:pt x="136" y="46"/>
                  </a:cubicBezTo>
                  <a:cubicBezTo>
                    <a:pt x="189" y="61"/>
                    <a:pt x="253" y="76"/>
                    <a:pt x="317" y="91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91"/>
          <p:cNvSpPr/>
          <p:nvPr/>
        </p:nvSpPr>
        <p:spPr>
          <a:xfrm>
            <a:off x="684360" y="1668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1619280" y="2101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3922560" y="3782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1332000" y="1741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3490920" y="3686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07"/>
          <p:cNvGrpSpPr/>
          <p:nvPr/>
        </p:nvGrpSpPr>
        <p:grpSpPr>
          <a:xfrm>
            <a:off x="5830920" y="3933720"/>
            <a:ext cx="2592360" cy="365040"/>
            <a:chOff x="5830920" y="3933720"/>
            <a:chExt cx="2592360" cy="365040"/>
          </a:xfrm>
        </p:grpSpPr>
        <p:sp>
          <p:nvSpPr>
            <p:cNvPr id="116" name="Rectangle 128"/>
            <p:cNvSpPr/>
            <p:nvPr/>
          </p:nvSpPr>
          <p:spPr>
            <a:xfrm>
              <a:off x="6983280" y="39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7"/>
            <p:cNvSpPr/>
            <p:nvPr/>
          </p:nvSpPr>
          <p:spPr>
            <a:xfrm>
              <a:off x="5830920" y="39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6"/>
          <p:cNvGrpSpPr/>
          <p:nvPr/>
        </p:nvGrpSpPr>
        <p:grpSpPr>
          <a:xfrm>
            <a:off x="5830920" y="3573360"/>
            <a:ext cx="2592360" cy="365040"/>
            <a:chOff x="5830920" y="3573360"/>
            <a:chExt cx="2592360" cy="365040"/>
          </a:xfrm>
        </p:grpSpPr>
        <p:sp>
          <p:nvSpPr>
            <p:cNvPr id="119" name="Rectangle 126"/>
            <p:cNvSpPr/>
            <p:nvPr/>
          </p:nvSpPr>
          <p:spPr>
            <a:xfrm>
              <a:off x="6983280" y="357336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5830920" y="357336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5"/>
          <p:cNvGrpSpPr/>
          <p:nvPr/>
        </p:nvGrpSpPr>
        <p:grpSpPr>
          <a:xfrm>
            <a:off x="5830920" y="3213000"/>
            <a:ext cx="2592360" cy="365400"/>
            <a:chOff x="5830920" y="3213000"/>
            <a:chExt cx="2592360" cy="365400"/>
          </a:xfrm>
        </p:grpSpPr>
        <p:sp>
          <p:nvSpPr>
            <p:cNvPr id="122" name="Rectangle 124"/>
            <p:cNvSpPr/>
            <p:nvPr/>
          </p:nvSpPr>
          <p:spPr>
            <a:xfrm>
              <a:off x="6983280" y="3213000"/>
              <a:ext cx="144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5830920" y="3213000"/>
              <a:ext cx="11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04"/>
          <p:cNvGrpSpPr/>
          <p:nvPr/>
        </p:nvGrpSpPr>
        <p:grpSpPr>
          <a:xfrm>
            <a:off x="5830920" y="2852640"/>
            <a:ext cx="2592360" cy="365040"/>
            <a:chOff x="5830920" y="2852640"/>
            <a:chExt cx="2592360" cy="365040"/>
          </a:xfrm>
        </p:grpSpPr>
        <p:sp>
          <p:nvSpPr>
            <p:cNvPr id="125" name="Rectangle 122"/>
            <p:cNvSpPr/>
            <p:nvPr/>
          </p:nvSpPr>
          <p:spPr>
            <a:xfrm>
              <a:off x="6983280" y="285264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1"/>
            <p:cNvSpPr/>
            <p:nvPr/>
          </p:nvSpPr>
          <p:spPr>
            <a:xfrm>
              <a:off x="5830920" y="285264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03"/>
          <p:cNvGrpSpPr/>
          <p:nvPr/>
        </p:nvGrpSpPr>
        <p:grpSpPr>
          <a:xfrm>
            <a:off x="5830920" y="2492280"/>
            <a:ext cx="2592360" cy="365040"/>
            <a:chOff x="5830920" y="2492280"/>
            <a:chExt cx="2592360" cy="365040"/>
          </a:xfrm>
        </p:grpSpPr>
        <p:sp>
          <p:nvSpPr>
            <p:cNvPr id="128" name="Rectangle 120"/>
            <p:cNvSpPr/>
            <p:nvPr/>
          </p:nvSpPr>
          <p:spPr>
            <a:xfrm>
              <a:off x="6983280" y="249228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9"/>
            <p:cNvSpPr/>
            <p:nvPr/>
          </p:nvSpPr>
          <p:spPr>
            <a:xfrm>
              <a:off x="5830920" y="249228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01"/>
          <p:cNvGrpSpPr/>
          <p:nvPr/>
        </p:nvGrpSpPr>
        <p:grpSpPr>
          <a:xfrm>
            <a:off x="5830920" y="2133720"/>
            <a:ext cx="2592360" cy="365040"/>
            <a:chOff x="5830920" y="2133720"/>
            <a:chExt cx="2592360" cy="365040"/>
          </a:xfrm>
        </p:grpSpPr>
        <p:sp>
          <p:nvSpPr>
            <p:cNvPr id="131" name="Rectangle 118"/>
            <p:cNvSpPr/>
            <p:nvPr/>
          </p:nvSpPr>
          <p:spPr>
            <a:xfrm>
              <a:off x="6983280" y="21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7"/>
            <p:cNvSpPr/>
            <p:nvPr/>
          </p:nvSpPr>
          <p:spPr>
            <a:xfrm>
              <a:off x="5830920" y="21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00"/>
          <p:cNvGrpSpPr/>
          <p:nvPr/>
        </p:nvGrpSpPr>
        <p:grpSpPr>
          <a:xfrm>
            <a:off x="5830920" y="1773360"/>
            <a:ext cx="2592360" cy="395280"/>
            <a:chOff x="5830920" y="1773360"/>
            <a:chExt cx="2592360" cy="395280"/>
          </a:xfrm>
        </p:grpSpPr>
        <p:sp>
          <p:nvSpPr>
            <p:cNvPr id="134" name="Rectangle 116"/>
            <p:cNvSpPr/>
            <p:nvPr/>
          </p:nvSpPr>
          <p:spPr>
            <a:xfrm>
              <a:off x="6983280" y="1773360"/>
              <a:ext cx="144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5830920" y="1773360"/>
              <a:ext cx="115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8"/>
          <p:cNvGrpSpPr/>
          <p:nvPr/>
        </p:nvGrpSpPr>
        <p:grpSpPr>
          <a:xfrm>
            <a:off x="5791320" y="380880"/>
            <a:ext cx="3097080" cy="3961080"/>
            <a:chOff x="5791320" y="380880"/>
            <a:chExt cx="3097080" cy="3961080"/>
          </a:xfrm>
        </p:grpSpPr>
        <p:sp>
          <p:nvSpPr>
            <p:cNvPr id="137" name="Rectangle 114"/>
            <p:cNvSpPr/>
            <p:nvPr/>
          </p:nvSpPr>
          <p:spPr>
            <a:xfrm>
              <a:off x="6978600" y="1074960"/>
              <a:ext cx="1440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Величина спроса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Q)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"/>
                </a:rPr>
                <a:t>ш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3"/>
            <p:cNvSpPr/>
            <p:nvPr/>
          </p:nvSpPr>
          <p:spPr>
            <a:xfrm>
              <a:off x="5826240" y="1074960"/>
              <a:ext cx="1152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Цена 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)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7"/>
            <p:cNvSpPr/>
            <p:nvPr/>
          </p:nvSpPr>
          <p:spPr>
            <a:xfrm>
              <a:off x="6978600" y="1074960"/>
              <a:ext cx="0" cy="32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>
              <a:off x="5826240" y="2475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7"/>
            <p:cNvSpPr/>
            <p:nvPr/>
          </p:nvSpPr>
          <p:spPr>
            <a:xfrm>
              <a:off x="5826240" y="284004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65"/>
            <p:cNvSpPr/>
            <p:nvPr/>
          </p:nvSpPr>
          <p:spPr>
            <a:xfrm>
              <a:off x="5826240" y="32050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3"/>
            <p:cNvSpPr/>
            <p:nvPr/>
          </p:nvSpPr>
          <p:spPr>
            <a:xfrm>
              <a:off x="5826240" y="35704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1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>
              <a:off x="5826240" y="10749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>
              <a:off x="582624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2"/>
            <p:cNvSpPr/>
            <p:nvPr/>
          </p:nvSpPr>
          <p:spPr>
            <a:xfrm>
              <a:off x="841860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0"/>
            <p:cNvSpPr/>
            <p:nvPr/>
          </p:nvSpPr>
          <p:spPr>
            <a:xfrm>
              <a:off x="5826240" y="43005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0"/>
            <p:cNvSpPr/>
            <p:nvPr/>
          </p:nvSpPr>
          <p:spPr>
            <a:xfrm>
              <a:off x="6978600" y="1101600"/>
              <a:ext cx="0" cy="3168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9"/>
            <p:cNvSpPr/>
            <p:nvPr/>
          </p:nvSpPr>
          <p:spPr>
            <a:xfrm>
              <a:off x="5826240" y="1101600"/>
              <a:ext cx="2590920" cy="3168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3"/>
            <p:cNvSpPr/>
            <p:nvPr/>
          </p:nvSpPr>
          <p:spPr>
            <a:xfrm>
              <a:off x="5826240" y="24703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5"/>
            <p:cNvSpPr/>
            <p:nvPr/>
          </p:nvSpPr>
          <p:spPr>
            <a:xfrm>
              <a:off x="5826240" y="28447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7"/>
            <p:cNvSpPr/>
            <p:nvPr/>
          </p:nvSpPr>
          <p:spPr>
            <a:xfrm>
              <a:off x="5826240" y="320364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8"/>
            <p:cNvSpPr/>
            <p:nvPr/>
          </p:nvSpPr>
          <p:spPr>
            <a:xfrm>
              <a:off x="5826240" y="35719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89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0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1"/>
            <p:cNvSpPr/>
            <p:nvPr/>
          </p:nvSpPr>
          <p:spPr>
            <a:xfrm>
              <a:off x="5826240" y="1066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2"/>
            <p:cNvSpPr/>
            <p:nvPr/>
          </p:nvSpPr>
          <p:spPr>
            <a:xfrm>
              <a:off x="5826240" y="4305240"/>
              <a:ext cx="259236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3"/>
            <p:cNvSpPr/>
            <p:nvPr/>
          </p:nvSpPr>
          <p:spPr>
            <a:xfrm>
              <a:off x="579132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4"/>
            <p:cNvSpPr/>
            <p:nvPr/>
          </p:nvSpPr>
          <p:spPr>
            <a:xfrm>
              <a:off x="845496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6"/>
            <p:cNvSpPr/>
            <p:nvPr/>
          </p:nvSpPr>
          <p:spPr>
            <a:xfrm>
              <a:off x="5791320" y="3808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Шкала с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311"/>
          <p:cNvSpPr/>
          <p:nvPr/>
        </p:nvSpPr>
        <p:spPr>
          <a:xfrm>
            <a:off x="1830240" y="457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График с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4"/>
          <p:cNvSpPr/>
          <p:nvPr/>
        </p:nvSpPr>
        <p:spPr>
          <a:xfrm>
            <a:off x="579132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price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5"/>
          <p:cNvSpPr/>
          <p:nvPr/>
        </p:nvSpPr>
        <p:spPr>
          <a:xfrm>
            <a:off x="5851440" y="54864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quant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6"/>
          <p:cNvSpPr/>
          <p:nvPr/>
        </p:nvSpPr>
        <p:spPr>
          <a:xfrm>
            <a:off x="1355760" y="52974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emand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7760" y="609480"/>
            <a:ext cx="30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38480" y="9907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3"/>
          <p:cNvSpPr/>
          <p:nvPr/>
        </p:nvSpPr>
        <p:spPr>
          <a:xfrm flipV="1">
            <a:off x="1676520" y="1676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6765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28600" y="123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6360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828800" y="2209680"/>
            <a:ext cx="1752480" cy="1905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058840" y="190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22076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он спро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95680" y="228600"/>
            <a:ext cx="426744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716800" y="3557520"/>
            <a:ext cx="21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f(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119320" y="220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255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1599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2860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159984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2767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348280" y="240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3339000" y="33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219320" y="2401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20760" y="35053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058120" y="4343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1143000" y="2590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2286000" y="4876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 flipV="1">
            <a:off x="167652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76520" y="3809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05120" y="1447920"/>
            <a:ext cx="175248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32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81240" y="244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252320" y="3597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080" y="1522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. Принцип убывания предельной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01480" y="1295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. Эффек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80132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. Эффект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422440" y="26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4572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Эффект Гиф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нглийский экономист и статистик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оберт Гиффе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(1837-19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95240" y="2743200"/>
            <a:ext cx="502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вышение ц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дет к повыше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личины с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58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212" name="Line 59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3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2"/>
          <p:cNvSpPr/>
          <p:nvPr/>
        </p:nvSpPr>
        <p:spPr>
          <a:xfrm>
            <a:off x="2914560" y="155736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3849840" y="1557360"/>
            <a:ext cx="1944360" cy="3240000"/>
          </a:xfrm>
          <a:custGeom>
            <a:avLst/>
            <a:gdLst>
              <a:gd name="textAreaLeft" fmla="*/ 0 w 1944360"/>
              <a:gd name="textAreaRight" fmla="*/ 1944360 w 1944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4786200" y="1557360"/>
            <a:ext cx="1843200" cy="31669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5"/>
          <p:cNvSpPr/>
          <p:nvPr/>
        </p:nvSpPr>
        <p:spPr>
          <a:xfrm flipV="1">
            <a:off x="2482920" y="25909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91456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478620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385128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4498920" y="314172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4714920" y="364500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4"/>
          <p:cNvSpPr/>
          <p:nvPr/>
        </p:nvSpPr>
        <p:spPr>
          <a:xfrm flipH="1">
            <a:off x="3417840" y="2924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5"/>
          <p:cNvSpPr/>
          <p:nvPr/>
        </p:nvSpPr>
        <p:spPr>
          <a:xfrm flipH="1">
            <a:off x="3273120" y="23493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2895480" y="152280"/>
            <a:ext cx="58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8"/>
          <p:cNvSpPr/>
          <p:nvPr/>
        </p:nvSpPr>
        <p:spPr>
          <a:xfrm>
            <a:off x="1981080" y="217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4782240" y="8380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5257800" y="148752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1.Уровень доход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5257800" y="198108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2.Вкусы и предпочт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5334120" y="27432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3.Цены на взаимозамен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5565960" y="35053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4.Ожидан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65530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54:04Z</dcterms:created>
  <dc:creator>Андрей</dc:creator>
  <dc:description/>
  <dc:language>en-US</dc:language>
  <cp:lastModifiedBy>LEGION</cp:lastModifiedBy>
  <dcterms:modified xsi:type="dcterms:W3CDTF">2016-01-04T12:21:52Z</dcterms:modified>
  <cp:revision>44</cp:revision>
  <dc:subject/>
  <dc:title>Спрос</dc:title>
</cp:coreProperties>
</file>