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66E1-A656-4598-9A49-CDA3F900B3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ТЕОРИИ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 4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Ы ТЕОРИИ СПРОСА И ПРЕДЛОЖЕ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ое изображение функции спроса от цены на координатной плоскости получило название крив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й спрос на рынке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афическое изображение функции спроса от цены на координатной плоскости получило название криво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требительский спрос на рынке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проса на рынке бытовых пылесо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ивая спроса на рынке бытовых пылесосов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 наблюдается при изменении цены рассматриваемого товара и неизменности всех прочих парамет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величины спроса наблюдается при изменении цены рассматриваемого товара и неизменности всех прочих параметров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спроса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спроса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мещающие кривую спроса, называют детерминантами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детерминантами спроса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(предпочтения)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требителей на рынк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сопряженные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ожидания относительно будущих цен и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смещающие кривую спроса, называют детерминантами спроса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ми детерминантами спроса являются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кусы (предпочтения) потребителей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число потребителей на рынке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оходы потребителей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сопряженные товар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требительские ожидания относительно будущих цен и доходов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: существует обратная зависимость между ценой и величин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 –  изменение величины спроса на товар в результате замещения (замены) более дорогих товаров менее дорог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 спрос: существует обратная зависимость между ценой и величино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дохода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замещения –  изменение величины спроса на товар в результате замещения (замены) более дорогих товаров менее дорогим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предложения (Qs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ложение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еличина предложения (Qs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предложения (Рs) показывает минимальную цену за данное количество товара по которой продавец еще готов продать свой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а предложения (Рs) показывает минимальную цену за данное количество товара по которой продавец еще готов продать свой товар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редложения от ц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s = ƒ Qs(Р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Qs – величина предл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предложение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ункция предложения от цены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Qs = ƒ Qs(Р)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Qs – величина предложения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предложение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предложения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ивая предложения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сновы теор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спроса. Цена спроса. Закон спроса. Кривая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. Вмешательство государства в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 4. Основы теории спроса и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ая характеристика спроса. Цена спроса. Закон спроса. Кривая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равновесие. Вмешательство государства в рыночное равновеси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предложения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предложения,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величины предложения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предложения,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мещающие кривую предложения, называют детерминантами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детерминантам предложения можно отне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родавцов на рынк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 и субсид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 производителей изменения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смещающие кривую предложения, называют детерминантами предложения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 основным детерминантам предложения можно отнести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ресурс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число продавцов на рынке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хнология производства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логи и субсидии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другие товар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жидания производителей изменения цен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точке соответствует равновесная цена (Ре = Рd = Рs) и равновесный объем (Qe = Qd = Q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равновесие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той точке соответствует равновесная цена (Ре = Рd = Рs) и равновесный объем (Qe = Qd = Qs)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толок цены» 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Потолок цены» 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л цены»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Пол цены»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– это платежеспособная потребность в каком-либо товаре или услуг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й спрос на товар отражает желания и возможности отдельного потребителя, общий рыночный спрос будет суммированным отражением спроса на какой-либо товар со стороны всех потенциальных потребите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рос – это платежеспособная потребность в каком-либо товаре или услуг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ндивидуальный спрос на товар отражает желания и возможности отдельного потребителя, общий рыночный спрос будет суммированным отражением спроса на какой-либо товар со стороны всех потенциальных потребителей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о принято выделять две специфические разновидности рыночного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функциональный спрос, обусловленный присущими данному благу потребительскими качеств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нефункциональный спрос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радиционно принято выделять две специфические разновидности рыночного спроса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*функциональный спрос, обусловленный присущими данному благу потребительскими качествами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*нефункциональный спрос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присоединения к большинству (эффект ваго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присоединения к большинству (эффект вагон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сноб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сноба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показательного потребления (эффект Вебле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показательного потребления (эффект Веблен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(объём) спроса (Qd, quantity of demand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ая цена, которую покупатели готовы заплатить за определенное количество данного товара или услуги называется ценой спроса (Р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еличина (объём) спроса (Qd, quantity of demand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ксимальная цена, которую покупатели готовы заплатить за определенное количество данного товара или услуги называется ценой спроса (Рd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между величиной спроса и определяющими его факторами (детерминантами) называют функцие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 = ƒQd(Р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Qd – величина спроса на това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висимость между величиной спроса и определяющими его факторами (детерминантами) называют функцие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Qd = ƒQd(Р)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Qd – величина спроса на товар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76C-DFAB-46D3-84FB-1232702B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280-893D-4FF3-9578-21790A5E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67A-984F-4200-A8EC-3F18347C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EA6D-43E6-414D-AC59-5AEEEBF9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D044-D6B9-4D35-976D-CA686577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58A9-C715-4F68-B6DB-F1EE53AE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EFCB-813C-434C-8227-514EB21D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B92F-0EA9-4B53-AB08-0EE6B2D9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042D-F699-4186-A428-EDFCE6B7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269880" y="66600"/>
            <a:ext cx="580716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443E-741A-4DB7-8C4F-DA8C19B6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E843-0773-4728-B73A-4EBFEA5E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7B3-A84C-4AA3-8E1F-728CB342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FAC6-335C-47C5-A071-40F54EBF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0B3B-C663-431D-8042-E5C316EE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1A00-7A14-4320-AB05-19F3066E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72E7-3CD4-4509-A45A-31F7AD81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4891-BA60-4882-A3E8-E62951E8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217-F5F4-47B4-A363-FB12502A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25D-458A-4A7A-8990-D5F49FDA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A21-1FCA-44D0-A746-19B4FDC6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269880" y="66600"/>
            <a:ext cx="580716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9B0-AF37-4FEB-BAA8-1FAEE30B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8E3D-C27A-4A9E-80E4-9BF465AC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6E92-98D6-4B7A-9E18-C542604E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137-4EB0-4ADD-BC91-8AC73013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250560" y="1125360"/>
            <a:ext cx="7391160" cy="319320"/>
            <a:chOff x="250560" y="1125360"/>
            <a:chExt cx="7391160" cy="319320"/>
          </a:xfrm>
        </p:grpSpPr>
        <p:sp>
          <p:nvSpPr>
            <p:cNvPr id="4" name="AutoShape 7"/>
            <p:cNvSpPr/>
            <p:nvPr/>
          </p:nvSpPr>
          <p:spPr>
            <a:xfrm>
              <a:off x="631440" y="1125360"/>
              <a:ext cx="701028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250200" y="1125360"/>
              <a:ext cx="39348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38B8-DDA7-4239-B9C1-21595852CEB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BC2F-5F50-43FB-B5FF-737AAEDF85F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21680" y="1101960"/>
            <a:ext cx="7556400" cy="16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round/>
          </a:ln>
          <a:effectLst>
            <a:outerShdw dist="107932" dir="18900000" blurRad="0" rotWithShape="0">
              <a:srgbClr val="99cc99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Times New Roman"/>
              </a:rPr>
              <a:t>ТЕМА 4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СНОВЫ ТЕОРИИ СПРОСА И ПРЕДЛОЖЕНИЯ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971640" y="438984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фическое изображение функции спроса от цены на координатной плоскости получило название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криво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46376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Потребительский спрос на рынке бытовых пылесо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71640" y="2205000"/>
          <a:ext cx="7704000" cy="1620720"/>
        </p:xfrm>
        <a:graphic>
          <a:graphicData uri="http://schemas.openxmlformats.org/drawingml/2006/table">
            <a:tbl>
              <a:tblPr/>
              <a:tblGrid>
                <a:gridCol w="2058840"/>
                <a:gridCol w="1128600"/>
                <a:gridCol w="1128960"/>
                <a:gridCol w="1130400"/>
                <a:gridCol w="1128600"/>
                <a:gridCol w="1128600"/>
              </a:tblGrid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у.е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d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тыс. ш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2935440" y="2060640"/>
          <a:ext cx="42289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5440" y="2060640"/>
                    <a:ext cx="42289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7"/>
          <p:cNvSpPr/>
          <p:nvPr/>
        </p:nvSpPr>
        <p:spPr>
          <a:xfrm>
            <a:off x="1553040" y="165456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ривая спроса на рынке бытовых пылесосов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971640" y="15544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менение величины спрос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наблюдается при изменении цены рассматриваемого товара и неизменности всех прочих параметров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2987640" y="3645000"/>
          <a:ext cx="3457440" cy="30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645000"/>
                    <a:ext cx="34574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971640" y="15544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менение спрос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3" name="Object 7"/>
          <p:cNvGraphicFramePr/>
          <p:nvPr/>
        </p:nvGraphicFramePr>
        <p:xfrm>
          <a:off x="3203640" y="3500280"/>
          <a:ext cx="3384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500280"/>
                    <a:ext cx="3384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971640" y="1630800"/>
            <a:ext cx="7705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Факторы, смещающие кривую спроса, называют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детерминантами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Times New Roman"/>
              </a:rPr>
              <a:t>Основными детерминантами спроса являются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вкусы (предпочтения) потребите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число потребителей на рынке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оходы потребите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цены на сопряженные товары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требительские ожидания относительно будущих цен и доходов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900000" y="1698840"/>
            <a:ext cx="7705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Закон спрос: 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существует обратная зависимость между ценой и величиной спроса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971640" y="2865240"/>
            <a:ext cx="7705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Эффект дохода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900000" y="4883040"/>
            <a:ext cx="7705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Эффект замещения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 –  изменение величины спроса на товар в результате замещения (замены) более дорогих товаров менее дорогими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900000" y="1627560"/>
            <a:ext cx="777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редложени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900000" y="448200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личина предложения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971640" y="235008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Цена предложения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(Р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) показывает минимальную цену за данное количество товара по которой продавец еще готов продать свой товар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042920" y="14274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Функция предложения от цены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= ƒ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(Р)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– величина предложения;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Р</a:t>
            </a:r>
            <a:r>
              <a:rPr b="0" i="1" lang="ru-RU" sz="36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цена товара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50160" y="422208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Рыночное предложение бытовых пылесосов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14560" y="4799160"/>
          <a:ext cx="7489800" cy="1366560"/>
        </p:xfrm>
        <a:graphic>
          <a:graphicData uri="http://schemas.openxmlformats.org/drawingml/2006/table">
            <a:tbl>
              <a:tblPr/>
              <a:tblGrid>
                <a:gridCol w="2641320"/>
                <a:gridCol w="970200"/>
                <a:gridCol w="968400"/>
                <a:gridCol w="969840"/>
                <a:gridCol w="969840"/>
                <a:gridCol w="970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у.е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s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тыс. ш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Rectangle 88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6" name="Object 87"/>
          <p:cNvGraphicFramePr/>
          <p:nvPr/>
        </p:nvGraphicFramePr>
        <p:xfrm>
          <a:off x="2340000" y="2060640"/>
          <a:ext cx="447048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8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060640"/>
                    <a:ext cx="447048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89"/>
          <p:cNvSpPr/>
          <p:nvPr/>
        </p:nvSpPr>
        <p:spPr>
          <a:xfrm>
            <a:off x="1549800" y="1727640"/>
            <a:ext cx="59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ривая предложения бытовых пылесо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Тема 4. Основы теории спроса и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187280" y="2106720"/>
            <a:ext cx="748836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Общая характеристика спроса. Цена спроса. Закон спроса. Кривая спроса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Рыночное равновесие. Вмешательство государства в рыночное равновесие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Rectangle 232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Rectangle 674"/>
          <p:cNvSpPr/>
          <p:nvPr/>
        </p:nvSpPr>
        <p:spPr>
          <a:xfrm>
            <a:off x="3419640" y="14086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ла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00000" y="1629360"/>
            <a:ext cx="60501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Изменение величины предложения</a:t>
            </a:r>
            <a:r>
              <a:rPr b="0" lang="ru-RU" sz="2300" spc="-1" strike="noStrike">
                <a:solidFill>
                  <a:srgbClr val="003366"/>
                </a:solidFill>
                <a:latin typeface="Times New Roman"/>
              </a:rPr>
              <a:t>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6600960" y="1484280"/>
          <a:ext cx="2363760" cy="22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0960" y="1484280"/>
                    <a:ext cx="236376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6588000" y="4292640"/>
          <a:ext cx="244800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4292640"/>
                    <a:ext cx="2448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9"/>
          <p:cNvSpPr/>
          <p:nvPr/>
        </p:nvSpPr>
        <p:spPr>
          <a:xfrm>
            <a:off x="826920" y="4581720"/>
            <a:ext cx="605016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Изменение предложения,</a:t>
            </a:r>
            <a:r>
              <a:rPr b="0" lang="ru-RU" sz="2300" spc="-1" strike="noStrike">
                <a:solidFill>
                  <a:srgbClr val="003366"/>
                </a:solidFill>
                <a:latin typeface="Times New Roman"/>
              </a:rPr>
              <a:t>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971640" y="1580400"/>
            <a:ext cx="7777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Факторы, смещающие кривую предложения, называют </a:t>
            </a:r>
            <a:r>
              <a:rPr b="1" lang="ru-RU" sz="3000" spc="-1" strike="noStrike">
                <a:solidFill>
                  <a:srgbClr val="003366"/>
                </a:solidFill>
                <a:latin typeface="Times New Roman"/>
              </a:rPr>
              <a:t>детерминантами предложения</a:t>
            </a: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3366"/>
                </a:solidFill>
                <a:uFillTx/>
                <a:latin typeface="Times New Roman"/>
              </a:rPr>
              <a:t>К основным детерминантам предложения можно отнести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цены на ресурсы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число продавцов на рынке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технология производства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налоги и субсидии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цены на другие товары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ожидания производителей изменения цен.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042920" y="155736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ыночное равновеси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5938920" y="3500280"/>
          <a:ext cx="309708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8920" y="3500280"/>
                    <a:ext cx="30970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42920" y="3436920"/>
            <a:ext cx="51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Этой точке соответствует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равновесная цен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Ре = Рd = Р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) и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равновесный объем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e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 =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 =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6000" y="1484280"/>
            <a:ext cx="73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Потолок цены»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5" name="Object 7"/>
          <p:cNvGraphicFramePr/>
          <p:nvPr/>
        </p:nvGraphicFramePr>
        <p:xfrm>
          <a:off x="2627280" y="3500280"/>
          <a:ext cx="4465800" cy="33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500280"/>
                    <a:ext cx="446580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116000" y="169776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Пол цены»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4" name="Object 8"/>
          <p:cNvGraphicFramePr/>
          <p:nvPr/>
        </p:nvGraphicFramePr>
        <p:xfrm>
          <a:off x="2411280" y="3357720"/>
          <a:ext cx="424836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357720"/>
                    <a:ext cx="424836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021680" y="1101960"/>
            <a:ext cx="7556400" cy="16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round/>
          </a:ln>
          <a:effectLst>
            <a:outerShdw dist="107932" dir="18900000" blurRad="0" rotWithShape="0">
              <a:srgbClr val="99cc99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ПАСИБО ЗА ВНИМАНИЕ!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042920" y="155628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Спрос –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это платежеспособная потребность в каком-либо товаре или услуге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042920" y="3140640"/>
            <a:ext cx="748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ндивидуальный спрос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на товар отражает желания и возможности отдельного потребителя, общий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рыночный спрос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будет суммированным отражением спроса на какой-либо товар со стороны всех потенциальных потребителей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042920" y="1875960"/>
            <a:ext cx="770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Традиционно принято 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выделять две специфические разновидности рыночного спрос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*функциональный спрос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обусловленный присущими данному благу потребительскими качествами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*нефункциональный спрос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963000" y="1654560"/>
            <a:ext cx="79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ффект присоединения к большинству (эффект вагона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1619280" y="2336760"/>
          <a:ext cx="6840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336760"/>
                    <a:ext cx="6840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711600" y="1627920"/>
            <a:ext cx="25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Эффект сноб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985080" cy="4233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122480" y="1654560"/>
            <a:ext cx="78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ффект показательного потребления (эффект Веблена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Object 8"/>
          <p:cNvGraphicFramePr/>
          <p:nvPr/>
        </p:nvGraphicFramePr>
        <p:xfrm>
          <a:off x="2268360" y="2276640"/>
          <a:ext cx="561672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276640"/>
                    <a:ext cx="56167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69128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личина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объём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ntity of deman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42920" y="441072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Максимальная цена, которую покупатели готовы заплатить за определенное количество данного товара или услуги называется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цено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Р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042920" y="18435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висимость между величиной спроса и определяющими его факторами (детерминантами) называют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функцие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= ƒ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(Р),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величина спроса на товар;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цена товар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6:47:00Z</dcterms:created>
  <dc:creator>JR</dc:creator>
  <dc:description/>
  <dc:language>en-US</dc:language>
  <cp:lastModifiedBy>LEGION</cp:lastModifiedBy>
  <dcterms:modified xsi:type="dcterms:W3CDTF">2016-01-04T08:18:06Z</dcterms:modified>
  <cp:revision>80</cp:revision>
  <dc:subject/>
  <dc:title>Тема 4 основы теории спроса и предложения</dc:title>
</cp:coreProperties>
</file>