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685-9AF9-4560-B38F-1F267051BD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Ы ТЕОРИИ СПРОСА И ПРЕДЛОЖЕ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рафическое изображение функции спроса от цены на координатной плоскости получило название крив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й спрос на рынк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спроса на рынке бытовых пылесосов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спроса наблюдается при изменении цены рассматриваемого товара и неизменности всех прочих параметр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спроса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спроса, называют детерминантами спроса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сновными детерминантами спроса являются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кусы (предпочтения)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отребителей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оходы потребителей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сопряженны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отребительские ожидания относительно будущих цен и доходов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кон спрос: существует обратная зависимость между ценой и величино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дохода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замещения –  изменение величины спроса на товар в результате замещения (замены) более дорогих товаров менее дорогим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едложение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предложения (Qs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а предложения (Рs) показывает минимальную цену за данное количество товара по которой продавец еще готов продать свой това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ункция предложения от цены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s = ƒ Qs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s – величина предложения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предложение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ривая предложения бытовых пылесос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ма 4. Основы теории спроса и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спроса. Цена спроса. Закон спроса. Кривая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. Вмешательство государства в рыночное равновеси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величины предложения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зменение предложения,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Общая характеристика предложения. Цена предложения. Закон и кривая предложе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Факторы, смещающие кривую предложения, называют детерминантами предложен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К основным детерминантам предложения можно отнести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ресурс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число продавцов на рынке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ехнология производства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налоги и субсиди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цены на другие товары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ожидания производителей изменения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ыночное равновесие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той точке соответствует равновесная цена (Ре = Рd = Рs) и равновесный объем (Qe = Qd = Qs)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толок цены» 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Рыночное равновесие. Вмешательство государства в рыночное равновеси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«Пол цены»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прос – это платежеспособная потребность в каком-либо товаре или услуге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Индивидуальный спрос на товар отражает желания и возможности отдельного потребителя, общий рыночный спрос будет суммированным отражением спроса на какой-либо товар со стороны всех потенциальных потребителей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радиционно принято выделять две специфические разновидности рыночного спроса: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функциональный спрос, обусловленный присущими данному благу потребительскими качествами;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*нефункциональный спрос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рисоединения к большинству (эффект ваго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сноба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Эффект показательного потребления (эффект Веблен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еличина (объём) спроса (Qd, quantity of demand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Максимальная цена, которую покупатели готовы заплатить за определенное количество данного товара или услуги называется ценой спроса (Рd)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Общая характеристика спроса. Цена спроса. Закон спроса. Кривая спрос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Зависимость между величиной спроса и определяющими его факторами (детерминантами) называют функцией спрос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Qd = ƒQd(Р),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Qd – величина спроса на товар;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Р – цена товар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E8B4-5283-472D-9099-A2DD5FAE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746-38AF-4F72-B745-21A2AE5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66B-AA8B-4F98-A3CC-41609C08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1DB-8304-47F7-A668-FD1260B0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B74F-B192-4EFE-8C25-D7F7AE2F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A4DF-0DDC-4542-A754-CE61BA2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CAB-99F8-4DEF-9E9D-3695C00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A418-68B1-420E-96D4-C666038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5D5D-8930-4F09-8B0E-E6631EEA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C672-E799-49B3-A105-F8B6304C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698D-C4D4-4EA7-8374-FE7A3D9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51E-E7E0-4E21-9A7A-7603DF7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CB7A-D2DD-4DB6-A8A1-2E7B7454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9493-2A87-421F-8580-5D19827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C66-A2ED-4C86-B79C-2DA69202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5D7A-500C-4506-9D8C-1653E3A4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155700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3922920"/>
            <a:ext cx="247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6D37-8532-483C-A1D0-CAC6A77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79A-E545-4F52-A119-E93083C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397-AE97-4379-971E-AD835D6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FA2-0918-4C3B-B844-BFFF6039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69880" y="66600"/>
            <a:ext cx="5807160" cy="426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99ED-01F4-455E-A39C-BD9314B3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A48-6624-4C05-BAEC-BAA879AB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0080" y="392292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428-4233-423C-B5B8-F71A1686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557000"/>
            <a:ext cx="3754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22920"/>
            <a:ext cx="76932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300-2A77-449E-8067-7D549CA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125360"/>
            <a:ext cx="7391160" cy="319320"/>
            <a:chOff x="250560" y="1125360"/>
            <a:chExt cx="7391160" cy="319320"/>
          </a:xfrm>
        </p:grpSpPr>
        <p:sp>
          <p:nvSpPr>
            <p:cNvPr id="4" name="AutoShape 7"/>
            <p:cNvSpPr/>
            <p:nvPr/>
          </p:nvSpPr>
          <p:spPr>
            <a:xfrm>
              <a:off x="631440" y="1125360"/>
              <a:ext cx="701028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125360"/>
              <a:ext cx="39348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969B-13A8-41E1-8020-39CE8F4768D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69880" y="66600"/>
            <a:ext cx="58071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557000"/>
            <a:ext cx="76932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C91-813E-46D2-9394-6FF90E5CF41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66"/>
                </a:solidFill>
                <a:uFillTx/>
                <a:latin typeface="Times New Roman"/>
              </a:rPr>
              <a:t>ТЕМА 4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СНОВЫ ТЕОРИИ СПРОСА И ПРЕДЛОЖЕНИЯ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71640" y="43898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фическое изображение функции спроса от цены на координатной плоскости получило название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крив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46376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требительский спрос на рынке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205000"/>
          <a:ext cx="7704000" cy="1620720"/>
        </p:xfrm>
        <a:graphic>
          <a:graphicData uri="http://schemas.openxmlformats.org/drawingml/2006/table">
            <a:tbl>
              <a:tblPr/>
              <a:tblGrid>
                <a:gridCol w="2058840"/>
                <a:gridCol w="1128600"/>
                <a:gridCol w="1128960"/>
                <a:gridCol w="1130400"/>
                <a:gridCol w="1128600"/>
                <a:gridCol w="1128600"/>
              </a:tblGrid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d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2935440" y="2060640"/>
          <a:ext cx="42289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2060640"/>
                    <a:ext cx="42289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Rectangle 7"/>
          <p:cNvSpPr/>
          <p:nvPr/>
        </p:nvSpPr>
        <p:spPr>
          <a:xfrm>
            <a:off x="1553040" y="165456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спроса на рынке бытовых пылесосов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величины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ости всех прочих параметров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 графике подобное изменение отражается движением вдоль кривой спроса, например, из точки А в точку В (и в обратном направлении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2987640" y="3645000"/>
          <a:ext cx="345744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645000"/>
                    <a:ext cx="345744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971640" y="155448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менение спрос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происходит при неизменности рыночных цен на рассматриваемый товар, т.е. под воздействием каких-либо неценовых факторов, и на графике отражается смещением всей кривой спроса вправо и вверх (если спрос растет) или влево и вниз (если падает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3203640" y="3500280"/>
          <a:ext cx="3384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500280"/>
                    <a:ext cx="3384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971640" y="1630800"/>
            <a:ext cx="7705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спроса, называют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детерминантами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Основными детерминантами спроса являютс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вкусы (предпочтения)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число потребителей на рынке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ходы потребителей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ы на сопряженные товары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требительские ожидания относительно будущих цен и доходов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900000" y="1698840"/>
            <a:ext cx="7705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Закон спрос: 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существует обратная зависимость между ценой и величиной спроса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971640" y="28652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дохода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изменение величины спроса на товар в результате изменения реальных доходов вследствие повышения или понижение уровня цен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00000" y="4883040"/>
            <a:ext cx="77058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Times New Roman"/>
              </a:rPr>
              <a:t>Эффект замещения</a:t>
            </a:r>
            <a:r>
              <a:rPr b="0" lang="ru-RU" sz="2900" spc="-1" strike="noStrike">
                <a:solidFill>
                  <a:srgbClr val="003366"/>
                </a:solidFill>
                <a:latin typeface="Times New Roman"/>
              </a:rPr>
              <a:t> –  изменение величины спроса на товар в результате замещения (замены) более дорогих товаров менее дорогими.</a:t>
            </a:r>
            <a:endParaRPr b="0" lang="en-US" sz="2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00000" y="162756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редложение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- совокупность товаров и услуг, которые находятся в данный момент на рынке, и которые продавцы (производители) готовы продать при существующи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00000" y="4482000"/>
            <a:ext cx="77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 предложения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- количество товаров и услуг, которое продавцы готовы продать в данное время, в данном месте и при данных ценах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971640" y="2350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Цена предложения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) показывает минимальную цену за данное количество товара по которой продавец еще готов продать свой товар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1042920" y="14274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Функция предложения от цен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= ƒ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еличина предложения;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6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Rectangle 81"/>
          <p:cNvSpPr/>
          <p:nvPr/>
        </p:nvSpPr>
        <p:spPr>
          <a:xfrm>
            <a:off x="650160" y="422208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Рыночное предложение бытовых пылесосов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14560" y="4799160"/>
          <a:ext cx="7489800" cy="1366560"/>
        </p:xfrm>
        <a:graphic>
          <a:graphicData uri="http://schemas.openxmlformats.org/drawingml/2006/table">
            <a:tbl>
              <a:tblPr/>
              <a:tblGrid>
                <a:gridCol w="2641320"/>
                <a:gridCol w="970200"/>
                <a:gridCol w="968400"/>
                <a:gridCol w="969840"/>
                <a:gridCol w="969840"/>
                <a:gridCol w="970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у.е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144116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s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, тыс. шт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Rectangle 88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Object 87"/>
          <p:cNvGraphicFramePr/>
          <p:nvPr/>
        </p:nvGraphicFramePr>
        <p:xfrm>
          <a:off x="2340000" y="2060640"/>
          <a:ext cx="4470480" cy="47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60640"/>
                    <a:ext cx="44704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89"/>
          <p:cNvSpPr/>
          <p:nvPr/>
        </p:nvSpPr>
        <p:spPr>
          <a:xfrm>
            <a:off x="1549800" y="172764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ривая предложения бытовых пылесосов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Тема 4. Основы теории спроса и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187280" y="2106720"/>
            <a:ext cx="748836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спроса. Цена спроса. Закон спроса. Кривая спроса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Общая характеристика предложения. Цена предложения. Закон предложения. Кривая предложения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3366"/>
                </a:solidFill>
                <a:latin typeface="Times New Roman"/>
              </a:rPr>
              <a:t>Рыночное равновесие. Вмешательство государства в рыночное равновесие.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Rectangle 232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Rectangle 674"/>
          <p:cNvSpPr/>
          <p:nvPr/>
        </p:nvSpPr>
        <p:spPr>
          <a:xfrm>
            <a:off x="3419640" y="14086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Пла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00000" y="1629360"/>
            <a:ext cx="60501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величины предложения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блюдается при изменении цены рассматриваемого товара и неизменных прочих факторах рыночной конъюнктуры и предполагает движение вдоль кривой предложения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6600960" y="1484280"/>
          <a:ext cx="2363760" cy="22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1484280"/>
                    <a:ext cx="236376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6588000" y="4292640"/>
          <a:ext cx="244800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4292640"/>
                    <a:ext cx="2448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9"/>
          <p:cNvSpPr/>
          <p:nvPr/>
        </p:nvSpPr>
        <p:spPr>
          <a:xfrm>
            <a:off x="826920" y="4581720"/>
            <a:ext cx="605016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66"/>
                </a:solidFill>
                <a:latin typeface="Times New Roman"/>
              </a:rPr>
              <a:t>Изменение предложения,</a:t>
            </a:r>
            <a:r>
              <a:rPr b="0" lang="ru-RU" sz="2300" spc="-1" strike="noStrike">
                <a:solidFill>
                  <a:srgbClr val="003366"/>
                </a:solidFill>
                <a:latin typeface="Times New Roman"/>
              </a:rPr>
              <a:t> напротив, означает изменение всей функции предложения за счет изменения каких-либо неценовых факторов при неизменной цене, и изображается путем смещения всей кривой.</a:t>
            </a:r>
            <a:endParaRPr b="0" lang="en-US" sz="2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. Общая характеристика предложения. Цена предложения. Закон и кривая предложения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971640" y="1580400"/>
            <a:ext cx="777708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Факторы, смещающие кривую предложения, называют </a:t>
            </a:r>
            <a:r>
              <a:rPr b="1" lang="ru-RU" sz="3000" spc="-1" strike="noStrike">
                <a:solidFill>
                  <a:srgbClr val="003366"/>
                </a:solidFill>
                <a:latin typeface="Times New Roman"/>
              </a:rPr>
              <a:t>детерминантами предложения</a:t>
            </a: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3366"/>
                </a:solidFill>
                <a:uFillTx/>
                <a:latin typeface="Times New Roman"/>
              </a:rPr>
              <a:t>К основным детерминантам предложения можно отнести: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ресурс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число продавцов на рынке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технология производства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налоги и субсидии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цены на другие товары;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Times New Roman"/>
              </a:rPr>
              <a:t>ожидания производителей изменения цен. 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42920" y="155736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ыночное равновес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можно определить как состояние, при котором ни у кого из экономических субъектов не возникает побуждений к его изменению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5938920" y="3500280"/>
          <a:ext cx="30970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3500280"/>
                    <a:ext cx="30970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42920" y="3436920"/>
            <a:ext cx="518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Применительно к спросу и предложению точка рыночного равновесия будет находится в точке пересечения кривых спроса и предложения, т.е. в точке Е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Этой точке соответствует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ая цена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Ре = Рd = Р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 и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равновесный объем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e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 = 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Qs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116000" y="148428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толок цены»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едставляет собой законодательно установленную максимальную цену, которую продавцу разрешается запрашивать за свой товар. «Потолки цен» всегда ниже цен равновесия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Object 7"/>
          <p:cNvGraphicFramePr/>
          <p:nvPr/>
        </p:nvGraphicFramePr>
        <p:xfrm>
          <a:off x="2627280" y="3500280"/>
          <a:ext cx="4465800" cy="33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500280"/>
                    <a:ext cx="446580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. Рыночное равновесие. Вмешательство государства в рыночное равновесие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116000" y="169776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«Пол цены»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это, наоборот, минимальная цена, установленная государством и превышающая цену равновесия. То есть производителям не разрешается продавать товары ниже этих цен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Object 8"/>
          <p:cNvGraphicFramePr/>
          <p:nvPr/>
        </p:nvGraphicFramePr>
        <p:xfrm>
          <a:off x="2411280" y="3357720"/>
          <a:ext cx="4248360" cy="35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357720"/>
                    <a:ext cx="4248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021680" y="1101960"/>
            <a:ext cx="7556400" cy="16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9966"/>
            </a:solidFill>
            <a:round/>
          </a:ln>
          <a:effectLst>
            <a:outerShdw dist="107932" dir="18900000" blurRad="0" rotWithShape="0">
              <a:srgbClr val="99cc99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ПАСИБО ЗА ВНИМАНИЕ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042920" y="155628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Спрос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это платежеспособная потребность в каком-либо товаре или услуг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042920" y="314064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ндивидуаль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на товар отражает желания и возможности отдельного потребителя, общий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рыночный спрос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будет суммированным отражением спроса на какой-либо товар со стороны всех потенциальных потребителе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042920" y="187596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Традиционно принято </a:t>
            </a:r>
            <a:r>
              <a:rPr b="0" i="1" lang="ru-RU" sz="2800" spc="-1" strike="noStrike">
                <a:solidFill>
                  <a:srgbClr val="003366"/>
                </a:solidFill>
                <a:latin typeface="Times New Roman"/>
              </a:rPr>
              <a:t>выделять две специфические разновидности рыночного спрос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обусловленный присущими данному благу потребительскими качествами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*нефункциональный спрос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, возникающий у потребителя не в силу потребительских характеристик товара, а под влиянием каких-либо других факторо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63000" y="1654560"/>
            <a:ext cx="79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рисоединения к большинству (эффект ваго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619280" y="2336760"/>
          <a:ext cx="68403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36760"/>
                    <a:ext cx="68403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11600" y="1627920"/>
            <a:ext cx="25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ффект сноба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985080" cy="4233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122480" y="16545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Эффект показательного потребления (эффект Веблена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Object 8"/>
          <p:cNvGraphicFramePr/>
          <p:nvPr/>
        </p:nvGraphicFramePr>
        <p:xfrm>
          <a:off x="2268360" y="2276640"/>
          <a:ext cx="5616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76640"/>
                    <a:ext cx="5616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69128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Величина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объём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ntity of deman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 – количество товаров и услуг, которое покупатели готовы приобрести в данное время, в данном месте, при данных цен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42920" y="441072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Максимальная цена, которую покупатели готовы заплатить за определенное количество данного товара или услуги называетс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цено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(Р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51880" y="48600"/>
            <a:ext cx="584316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. Общая характеристика спроса. Цена спроса. Закон спроса. Кривая спроса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18435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висимость между величиной спроса и определяющими его факторами (детерминантами) называют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функцией спроса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= ƒ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(Р)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д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d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– величина спроса на товар;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</a:t>
            </a:r>
            <a:r>
              <a:rPr b="0" i="1" lang="ru-RU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цена товар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03360" y="50346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6:47:00Z</dcterms:created>
  <dc:creator>JR</dc:creator>
  <dc:description/>
  <dc:language>en-US</dc:language>
  <cp:lastModifiedBy>LEGION</cp:lastModifiedBy>
  <dcterms:modified xsi:type="dcterms:W3CDTF">2016-01-04T08:18:06Z</dcterms:modified>
  <cp:revision>80</cp:revision>
  <dc:subject/>
  <dc:title>Тема 4 основы теории спроса и предложения</dc:title>
</cp:coreProperties>
</file>