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54228-1DF9-4A0F-8CD6-FCC4EB5EA6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Ы ТЕОРИИ СПРОСА И ПРЕДЛОЖ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ТЕМА 4</a:t>
            </a:r>
            <a:br>
              <a:rPr sz="1200"/>
            </a:b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СНОВЫ ТЕОРИИ СПРОСА И ПРЕДЛОЖЕНИЯ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фическое изображение функции спроса от цены на координатной плоскости получило название кривой с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ительский спрос на рынке бытовых пылесо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Графическое изображение функции спроса от цены на координатной плоскости получило название кривой спроса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отребительский спрос на рынке бытовых пылесосов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вая спроса на рынке бытовых пылесос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ривая спроса на рынке бытовых пылесосов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величины спроса наблюдается при изменении цены рассматриваемого товара и неизменности всех прочих параметр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графике подобное изменение отражается движением вдоль кривой спроса, например, из точки А в точку В (и в обратном направлени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Изменение величины спроса наблюдается при изменении цены рассматриваемого товара и неизменности всех прочих параметров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а графике подобное изменение отражается движением вдоль кривой спроса, например, из точки А в точку В (и в обратном направлении)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спроса происходит при неизменности рыночных цен на рассматриваемый товар, т.е. под воздействием каких-либо неценовых факторов, и на графике отражается смещением всей кривой спроса вправо и вверх (если спрос растет) или влево и вниз (если падает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Изменение спроса происходит при неизменности рыночных цен на рассматриваемый товар, т.е. под воздействием каких-либо неценовых факторов, и на графике отражается смещением всей кривой спроса вправо и вверх (если спрос растет) или влево и вниз (если падает)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смещающие кривую спроса, называют детерминантами спро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и детерминантами спроса являю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усы (предпочтения) потребите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ло потребителей на рынк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ходы потребите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ы на сопряженные товар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ительские ожидания относительно будущих цен и доход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Факторы, смещающие кривую спроса, называют детерминантами спроса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сновными детерминантами спроса являются: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кусы (предпочтения) потребителей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число потребителей на рынке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доходы потребителей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цены на сопряженные товары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отребительские ожидания относительно будущих цен и доходов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спрос: существует обратная зависимость между ценой и величиной с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дохода – изменение величины спроса на товар в результате изменения реальных доходов вследствие повышения или понижение уровня ц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замещения –  изменение величины спроса на товар в результате замещения (замены) более дорогих товаров менее дороги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акон спрос: существует обратная зависимость между ценой и величиной спроса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Эффект дохода – изменение величины спроса на товар в результате изменения реальных доходов вследствие повышения или понижение уровня цен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Эффект замещения –  изменение величины спроса на товар в результате замещения (замены) более дорогих товаров менее дорогими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бщая характеристика предложения. Цена предложения. Закон и кривая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 - совокупность товаров и услуг, которые находятся в данный момент на рынке, и которые продавцы (производители) готовы продать при существующих це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личина предложения (Qs) - количество товаров и услуг, которое продавцы готовы продать в данное время, в данном месте и при данных цен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Общая характеристика предложения. Цена предложения. Закон и кривая предложени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едложение - совокупность товаров и услуг, которые находятся в данный момент на рынке, и которые продавцы (производители) готовы продать при существующих ценах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еличина предложения (Qs) - количество товаров и услуг, которое продавцы готовы продать в данное время, в данном месте и при данных ценах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бщая характеристика предложения. Цена предложения. Закон и кривая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а предложения (Рs) показывает минимальную цену за данное количество товара по которой продавец еще готов продать свой това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Общая характеристика предложения. Цена предложения. Закон и кривая предложени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Цена предложения (Рs) показывает минимальную цену за данное количество товара по которой продавец еще готов продать свой товар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бщая характеристика предложения. Цена предложения. Закон и кривая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я предложения от цен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s = ƒ Qs(Р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Qs – величина предлож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 – цена това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ое предложение бытовых пылесо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Общая характеристика предложения. Цена предложения. Закон и кривая предложени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Функция предложения от цены: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Qs = ƒ Qs(Р),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где Qs – величина предложения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 – цена товара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чное предложение бытовых пылесосов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бщая характеристика предложения. Цена предложения. Закон и кривая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вая предложения бытовых пылесо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Общая характеристика предложения. Цена предложения. Закон и кривая предложени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ривая предложения бытовых пылесосов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Основы теории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ая характеристика спроса. Цена спроса. Закон спроса. Кривая с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ая характеристика предложения. Цена предложения. Закон предложения. Кривая предло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ое равновесие. Вмешательство государства в рыночное равновес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Тема 4. Основы теории спроса и предложени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бщая характеристика спроса. Цена спроса. Закон спроса. Кривая спроса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бщая характеристика предложения. Цена предложения. Закон предложения. Кривая предложения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чное равновесие. Вмешательство государства в рыночное равновесие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бщая характеристика предложения. Цена предложения. Закон и кривая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величины предложения наблюдается при изменении цены рассматриваемого товара и неизменных прочих факторах рыночной конъюнктуры и предполагает движение вдоль кривой предло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предложения, напротив, означает изменение всей функции предложения за счет изменения каких-либо неценовых факторов при неизменной цене, и изображается путем смещения всей крив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Общая характеристика предложения. Цена предложения. Закон и кривая предложени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Изменение величины предложения наблюдается при изменении цены рассматриваемого товара и неизменных прочих факторах рыночной конъюнктуры и предполагает движение вдоль кривой предложения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Изменение предложения, напротив, означает изменение всей функции предложения за счет изменения каких-либо неценовых факторов при неизменной цене, и изображается путем смещения всей кривой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бщая характеристика предложения. Цена предложения. Закон и кривая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смещающие кривую предложения, называют детерминантами предлож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основным детерминантам предложения можно отне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ы на ресурс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ло продавцов на рынк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производ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оги и субсид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ы на другие товар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ния производителей изменения це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Общая характеристика предложения. Цена предложения. Закон и кривая предложени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Факторы, смещающие кривую предложения, называют детерминантами предложения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 основным детерминантам предложения можно отнести: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цены на ресурсы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число продавцов на рынке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технология производства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алоги и субсидии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цены на другие товары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жидания производителей изменения цен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ое равновесие. Вмешательство государства в рыночное равновес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ое равновесие можно определить как состояние, при котором ни у кого из экономических субъектов не возникает побуждений к его изменен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ительно к спросу и предложению точка рыночного равновесия будет находится в точке пересечения кривых спроса и предложения, т.е. в точке 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й точке соответствует равновесная цена (Ре = Рd = Рs) и равновесный объем (Qe = Qd = Qs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. Рыночное равновесие. Вмешательство государства в рыночное равновесие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чное равновесие можно определить как состояние, при котором ни у кого из экономических субъектов не возникает побуждений к его изменению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именительно к спросу и предложению точка рыночного равновесия будет находится в точке пересечения кривых спроса и предложения, т.е. в точке Е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Этой точке соответствует равновесная цена (Ре = Рd = Рs) и равновесный объем (Qe = Qd = Qs)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ое равновесие. Вмешательство государства в рыночное равновес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отолок цены» представляет собой законодательно установленную максимальную цену, которую продавцу разрешается запрашивать за свой товар. «Потолки цен» всегда ниже цен равновес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. Рыночное равновесие. Вмешательство государства в рыночное равновесие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«Потолок цены» представляет собой законодательно установленную максимальную цену, которую продавцу разрешается запрашивать за свой товар. «Потолки цен» всегда ниже цен равновесия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ое равновесие. Вмешательство государства в рыночное равновес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ол цены» это, наоборот, минимальная цена, установленная государством и превышающая цену равновесия. То есть производителям не разрешается продавать товары ниже этих це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. Рыночное равновесие. Вмешательство государства в рыночное равновесие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«Пол цены» это, наоборот, минимальная цена, установленная государством и превышающая цену равновесия. То есть производителям не разрешается продавать товары ниже этих цен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ПАСИБО ЗА ВНИМАНИЕ!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– это платежеспособная потребность в каком-либо товаре или услуг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ивидуальный спрос на товар отражает желания и возможности отдельного потребителя, общий рыночный спрос будет суммированным отражением спроса на какой-либо товар со стороны всех потенциальных потребител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прос – это платежеспособная потребность в каком-либо товаре или услуге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Индивидуальный спрос на товар отражает желания и возможности отдельного потребителя, общий рыночный спрос будет суммированным отражением спроса на какой-либо товар со стороны всех потенциальных потребителей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диционно принято выделять две специфические разновидности рыночного спрос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функциональный спрос, обусловленный присущими данному благу потребительскими качеств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нефункциональный спрос, возникающий у потребителя не в силу потребительских характеристик товара, а под влиянием каких-либо других фак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Традиционно принято выделять две специфические разновидности рыночного спроса: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*функциональный спрос, обусловленный присущими данному благу потребительскими качествами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*нефункциональный спрос, возникающий у потребителя не в силу потребительских характеристик товара, а под влиянием каких-либо других факторов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присоединения к большинству (эффект вагон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Эффект присоединения к большинству (эффект вагона)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сноб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Эффект сноба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показательного потребления (эффект Веблен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Эффект показательного потребления (эффект Веблена)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личина (объём) спроса (Qd, quantity of demand) – количество товаров и услуг, которое покупатели готовы приобрести в данное время, в данном месте, при данных це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симальная цена, которую покупатели готовы заплатить за определенное количество данного товара или услуги называется ценой спроса (Р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еличина (объём) спроса (Qd, quantity of demand) – количество товаров и услуг, которое покупатели готовы приобрести в данное время, в данном месте, при данных ценах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Максимальная цена, которую покупатели готовы заплатить за определенное количество данного товара или услуги называется ценой спроса (Рd)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исимость между величиной спроса и определяющими его факторами (детерминантами) называют функцией с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d = ƒQd(Р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Qd – величина спроса на товар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 – цена това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ависимость между величиной спроса и определяющими его факторами (детерминантами) называют функцией спроса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Qd = ƒQd(Р),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где Qd – величина спроса на товар;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 – цена товара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6FC3-28C8-489F-9642-5004A2DF9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76932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22920"/>
            <a:ext cx="76932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7D63-3B15-451E-B2CA-336FF84E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80080" y="155700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2292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80080" y="392292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A949-096A-48A8-8774-59E3D141C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2476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39080" y="1557000"/>
            <a:ext cx="2476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40080" y="1557000"/>
            <a:ext cx="2476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22920"/>
            <a:ext cx="2476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39080" y="3922920"/>
            <a:ext cx="2476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40080" y="3922920"/>
            <a:ext cx="2476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4FFB-C34B-498D-AF2E-7FA6E44E1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52F50-EACD-4D5E-8CDF-F1563FE01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1557000"/>
            <a:ext cx="769320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18579-2BEC-4ADE-AB10-7BD230ED9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76932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8CADF-E06A-45CD-A403-4EC64B1F4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3754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1557000"/>
            <a:ext cx="3754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1C888-58CA-4EB5-B94B-AB386AA59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61D32-9B74-4A61-8F93-72619F433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269880" y="66600"/>
            <a:ext cx="5807160" cy="426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01486-509C-4603-8DDC-89028748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1557000"/>
            <a:ext cx="3754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392292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F14A5-A01B-4146-B541-56A7B047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557000"/>
            <a:ext cx="769320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12DE-37D2-4B86-83EA-ABE9FE9EE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3754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155700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392292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0EC53-DB34-404D-BC6D-5194AF96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155700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922920"/>
            <a:ext cx="76932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B6C30-C996-4495-901F-7513B44D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76932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3922920"/>
            <a:ext cx="76932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E660C-4894-46BE-91E1-3977D9C63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155700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392292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392292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BA962-9FEF-429F-89D8-07E8C3FF7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2476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1557000"/>
            <a:ext cx="2476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1557000"/>
            <a:ext cx="2476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3922920"/>
            <a:ext cx="2476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3922920"/>
            <a:ext cx="2476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3922920"/>
            <a:ext cx="2476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809AB-B963-49AF-B0CF-DC9B74441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76932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7E29-5E35-40E8-9509-99631C034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3754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0080" y="1557000"/>
            <a:ext cx="3754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4092-C8E2-46BB-AEC6-83BFD2586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95F0-6EC4-48EF-9B71-D7DC5D5F6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3269880" y="66600"/>
            <a:ext cx="5807160" cy="426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3CA0-F653-4800-957F-1E00DE523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80080" y="1557000"/>
            <a:ext cx="3754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2292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4E2D-15FB-44E7-B338-FBB25FA6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3754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80080" y="155700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80080" y="392292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CE9D-09C7-4090-9B05-6A798027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0080" y="155700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22920"/>
            <a:ext cx="76932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C7AF-EFDE-4B7E-8E93-E4B78065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4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Freeform 5"/>
            <p:cNvSpPr/>
            <p:nvPr/>
          </p:nvSpPr>
          <p:spPr>
            <a:xfrm>
              <a:off x="457200" y="0"/>
              <a:ext cx="2743200" cy="1166760"/>
            </a:xfrm>
            <a:custGeom>
              <a:avLst/>
              <a:gdLst/>
              <a:ahLst/>
              <a:rect l="l" t="t" r="r" b="b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" name="Group 6"/>
          <p:cNvGrpSpPr/>
          <p:nvPr/>
        </p:nvGrpSpPr>
        <p:grpSpPr>
          <a:xfrm>
            <a:off x="250560" y="1125360"/>
            <a:ext cx="7391160" cy="319320"/>
            <a:chOff x="250560" y="1125360"/>
            <a:chExt cx="7391160" cy="319320"/>
          </a:xfrm>
        </p:grpSpPr>
        <p:sp>
          <p:nvSpPr>
            <p:cNvPr id="4" name="AutoShape 7"/>
            <p:cNvSpPr/>
            <p:nvPr/>
          </p:nvSpPr>
          <p:spPr>
            <a:xfrm>
              <a:off x="631440" y="1125360"/>
              <a:ext cx="701028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" name="AutoShape 8"/>
            <p:cNvSpPr/>
            <p:nvPr/>
          </p:nvSpPr>
          <p:spPr>
            <a:xfrm flipH="1">
              <a:off x="250200" y="1125360"/>
              <a:ext cx="39348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838080" y="1557000"/>
            <a:ext cx="76932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313D3-2F92-44F1-8BAA-9F3DEE93AB19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0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838080" y="1557000"/>
            <a:ext cx="76932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7377D-4F4A-4354-816E-EB7BA0B4A3DB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021680" y="1101960"/>
            <a:ext cx="7556400" cy="1629000"/>
          </a:xfrm>
          <a:prstGeom prst="rect">
            <a:avLst/>
          </a:prstGeom>
          <a:solidFill>
            <a:srgbClr val="ffffff"/>
          </a:solidFill>
          <a:ln w="76320">
            <a:solidFill>
              <a:srgbClr val="339966"/>
            </a:solidFill>
            <a:round/>
          </a:ln>
          <a:effectLst>
            <a:outerShdw dist="107932" dir="18900000" blurRad="0" rotWithShape="0">
              <a:srgbClr val="99cc99">
                <a:alpha val="50000"/>
              </a:srgbClr>
            </a:outerShdw>
          </a:effectLst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3366"/>
                </a:solidFill>
                <a:uFillTx/>
                <a:latin typeface="Times New Roman"/>
              </a:rPr>
              <a:t>ТЕМА 4</a:t>
            </a:r>
            <a:br>
              <a:rPr sz="3600"/>
            </a:b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ОСНОВЫ ТЕОРИИ СПРОСА И ПРЕДЛОЖЕНИЯ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971640" y="4389840"/>
            <a:ext cx="7705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Графическое изображение функции спроса от цены на координатной плоскости получило название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кривой спроса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900000" y="1463760"/>
            <a:ext cx="77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Потребительский спрос на рынке бытовых пылесосов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971640" y="2205000"/>
          <a:ext cx="7704000" cy="1620720"/>
        </p:xfrm>
        <a:graphic>
          <a:graphicData uri="http://schemas.openxmlformats.org/drawingml/2006/table">
            <a:tbl>
              <a:tblPr/>
              <a:tblGrid>
                <a:gridCol w="2058840"/>
                <a:gridCol w="1128600"/>
                <a:gridCol w="1128960"/>
                <a:gridCol w="1130400"/>
                <a:gridCol w="1128600"/>
                <a:gridCol w="1128600"/>
              </a:tblGrid>
              <a:tr h="675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10144116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, у.е.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8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6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10144116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Qd</a:t>
                      </a: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, тыс. шт.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59" name="Object 5"/>
          <p:cNvGraphicFramePr/>
          <p:nvPr/>
        </p:nvGraphicFramePr>
        <p:xfrm>
          <a:off x="2935440" y="2060640"/>
          <a:ext cx="422892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5440" y="2060640"/>
                    <a:ext cx="422892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Rectangle 7"/>
          <p:cNvSpPr/>
          <p:nvPr/>
        </p:nvSpPr>
        <p:spPr>
          <a:xfrm>
            <a:off x="1553040" y="1654560"/>
            <a:ext cx="653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Кривая спроса на рынке бытовых пылесосов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971640" y="1554480"/>
            <a:ext cx="7705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Изменение величины спроса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наблюдается при изменении цены рассматриваемого товара и неизменности всех прочих параметров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На графике подобное изменение отражается движением вдоль кривой спроса, например, из точки А в точку В (и в обратном направлении)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66" name="Object 5"/>
          <p:cNvGraphicFramePr/>
          <p:nvPr/>
        </p:nvGraphicFramePr>
        <p:xfrm>
          <a:off x="2987640" y="3645000"/>
          <a:ext cx="3457440" cy="300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3645000"/>
                    <a:ext cx="3457440" cy="30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971640" y="1554480"/>
            <a:ext cx="7705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Изменение спроса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происходит при неизменности рыночных цен на рассматриваемый товар, т.е. под воздействием каких-либо неценовых факторов, и на графике отражается смещением всей кривой спроса вправо и вверх (если спрос растет) или влево и вниз (если падает)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73" name="Object 7"/>
          <p:cNvGraphicFramePr/>
          <p:nvPr/>
        </p:nvGraphicFramePr>
        <p:xfrm>
          <a:off x="3203640" y="3500280"/>
          <a:ext cx="3384360" cy="31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3500280"/>
                    <a:ext cx="338436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971640" y="1630800"/>
            <a:ext cx="7705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Факторы, смещающие кривую спроса, называют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детерминантами спроса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3366"/>
                </a:solidFill>
                <a:uFillTx/>
                <a:latin typeface="Times New Roman"/>
              </a:rPr>
              <a:t>Основными детерминантами спроса являются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вкусы (предпочтения) потребителей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число потребителей на рынке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доходы потребителей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цены на сопряженные товары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потребительские ожидания относительно будущих цен и доходов.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900000" y="1698840"/>
            <a:ext cx="77058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3366"/>
                </a:solidFill>
                <a:latin typeface="Times New Roman"/>
              </a:rPr>
              <a:t>Закон спрос: </a:t>
            </a:r>
            <a:r>
              <a:rPr b="0" lang="ru-RU" sz="2900" spc="-1" strike="noStrike">
                <a:solidFill>
                  <a:srgbClr val="003366"/>
                </a:solidFill>
                <a:latin typeface="Times New Roman"/>
              </a:rPr>
              <a:t>существует обратная зависимость между ценой и величиной спроса.</a:t>
            </a:r>
            <a:endParaRPr b="0" lang="en-US" sz="2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971640" y="2865240"/>
            <a:ext cx="770580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3366"/>
                </a:solidFill>
                <a:latin typeface="Times New Roman"/>
              </a:rPr>
              <a:t>Эффект дохода</a:t>
            </a:r>
            <a:r>
              <a:rPr b="0" lang="ru-RU" sz="2900" spc="-1" strike="noStrike">
                <a:solidFill>
                  <a:srgbClr val="003366"/>
                </a:solidFill>
                <a:latin typeface="Times New Roman"/>
              </a:rPr>
              <a:t> – изменение величины спроса на товар в результате изменения реальных доходов вследствие повышения или понижение уровня цен.</a:t>
            </a:r>
            <a:endParaRPr b="0" lang="en-US" sz="2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900000" y="4883040"/>
            <a:ext cx="770580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3366"/>
                </a:solidFill>
                <a:latin typeface="Times New Roman"/>
              </a:rPr>
              <a:t>Эффект замещения</a:t>
            </a:r>
            <a:r>
              <a:rPr b="0" lang="ru-RU" sz="2900" spc="-1" strike="noStrike">
                <a:solidFill>
                  <a:srgbClr val="003366"/>
                </a:solidFill>
                <a:latin typeface="Times New Roman"/>
              </a:rPr>
              <a:t> –  изменение величины спроса на товар в результате замещения (замены) более дорогих товаров менее дорогими.</a:t>
            </a:r>
            <a:endParaRPr b="0" lang="en-US" sz="2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2. Общая характеристика предложения. Цена предложения. Закон и кривая предложения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900000" y="1627560"/>
            <a:ext cx="7777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Предложение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- совокупность товаров и услуг, которые находятся в данный момент на рынке, и которые продавцы (производители) готовы продать при существующих ценах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900000" y="4482000"/>
            <a:ext cx="7777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Величина предложения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s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) - количество товаров и услуг, которое продавцы готовы продать в данное время, в данном месте и при данных ценах.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2. Общая характеристика предложения. Цена предложения. Закон и кривая предложения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971640" y="2350080"/>
            <a:ext cx="777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Цена предложения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 (Р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s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) показывает минимальную цену за данное количество товара по которой продавец еще готов продать свой товар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2. Общая характеристика предложения. Цена предложения. Закон и кривая предложения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1042920" y="1427400"/>
            <a:ext cx="777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Функция предложения от цены: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Qs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 = ƒ 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Qs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(Р),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где 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Qs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 – величина предложения;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Р</a:t>
            </a:r>
            <a:r>
              <a:rPr b="0" i="1" lang="ru-RU" sz="3600" spc="-1" strike="noStrike">
                <a:solidFill>
                  <a:srgbClr val="003366"/>
                </a:solidFill>
                <a:latin typeface="Times New Roman"/>
              </a:rPr>
              <a:t> – 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цена товара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" name="Rectangle 81"/>
          <p:cNvSpPr/>
          <p:nvPr/>
        </p:nvSpPr>
        <p:spPr>
          <a:xfrm>
            <a:off x="650160" y="4222080"/>
            <a:ext cx="828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Рыночное предложение бытовых пылесосов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114560" y="4799160"/>
          <a:ext cx="7489800" cy="1366560"/>
        </p:xfrm>
        <a:graphic>
          <a:graphicData uri="http://schemas.openxmlformats.org/drawingml/2006/table">
            <a:tbl>
              <a:tblPr/>
              <a:tblGrid>
                <a:gridCol w="2641320"/>
                <a:gridCol w="970200"/>
                <a:gridCol w="968400"/>
                <a:gridCol w="969840"/>
                <a:gridCol w="969840"/>
                <a:gridCol w="970200"/>
              </a:tblGrid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0144116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, у.е.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0144116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Qs</a:t>
                      </a: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, тыс. шт.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2. Общая характеристика предложения. Цена предложения. Закон и кривая предложения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5" name="Rectangle 88"/>
          <p:cNvSpPr/>
          <p:nvPr/>
        </p:nvSpPr>
        <p:spPr>
          <a:xfrm>
            <a:off x="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06" name="Object 87"/>
          <p:cNvGraphicFramePr/>
          <p:nvPr/>
        </p:nvGraphicFramePr>
        <p:xfrm>
          <a:off x="2340000" y="2060640"/>
          <a:ext cx="4470480" cy="479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8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2060640"/>
                    <a:ext cx="4470480" cy="47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Rectangle 89"/>
          <p:cNvSpPr/>
          <p:nvPr/>
        </p:nvSpPr>
        <p:spPr>
          <a:xfrm>
            <a:off x="1549800" y="1727640"/>
            <a:ext cx="599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Кривая предложения бытовых пылесосов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Тема 4. Основы теории спроса и предложения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Rectangle 20"/>
          <p:cNvSpPr/>
          <p:nvPr/>
        </p:nvSpPr>
        <p:spPr>
          <a:xfrm>
            <a:off x="1187280" y="2106720"/>
            <a:ext cx="748836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3366"/>
                </a:solidFill>
                <a:latin typeface="Times New Roman"/>
              </a:rPr>
              <a:t>Общая характеристика спроса. Цена спроса. Закон спроса. Кривая спроса.</a:t>
            </a:r>
            <a:endParaRPr b="0" lang="en-US" sz="3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3366"/>
                </a:solidFill>
                <a:latin typeface="Times New Roman"/>
              </a:rPr>
              <a:t>Общая характеристика предложения. Цена предложения. Закон предложения. Кривая предложения.</a:t>
            </a:r>
            <a:endParaRPr b="0" lang="en-US" sz="3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3366"/>
                </a:solidFill>
                <a:latin typeface="Times New Roman"/>
              </a:rPr>
              <a:t>Рыночное равновесие. Вмешательство государства в рыночное равновесие.</a:t>
            </a:r>
            <a:endParaRPr b="0" lang="en-US" sz="3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Rectangle 232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Rectangle 674"/>
          <p:cNvSpPr/>
          <p:nvPr/>
        </p:nvSpPr>
        <p:spPr>
          <a:xfrm>
            <a:off x="3419640" y="140868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Пла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2. Общая характеристика предложения. Цена предложения. Закон и кривая предложения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900000" y="1629360"/>
            <a:ext cx="605016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3366"/>
                </a:solidFill>
                <a:latin typeface="Times New Roman"/>
              </a:rPr>
              <a:t>Изменение величины предложения</a:t>
            </a:r>
            <a:r>
              <a:rPr b="0" lang="ru-RU" sz="2300" spc="-1" strike="noStrike">
                <a:solidFill>
                  <a:srgbClr val="003366"/>
                </a:solidFill>
                <a:latin typeface="Times New Roman"/>
              </a:rPr>
              <a:t> наблюдается при изменении цены рассматриваемого товара и неизменных прочих факторах рыночной конъюнктуры и предполагает движение вдоль кривой предложения.</a:t>
            </a:r>
            <a:endParaRPr b="0" lang="en-US" sz="23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13" name="Object 5"/>
          <p:cNvGraphicFramePr/>
          <p:nvPr/>
        </p:nvGraphicFramePr>
        <p:xfrm>
          <a:off x="6600960" y="1484280"/>
          <a:ext cx="2363760" cy="228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00960" y="1484280"/>
                    <a:ext cx="2363760" cy="22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Object 7"/>
          <p:cNvGraphicFramePr/>
          <p:nvPr/>
        </p:nvGraphicFramePr>
        <p:xfrm>
          <a:off x="6588000" y="4292640"/>
          <a:ext cx="2448000" cy="23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88000" y="4292640"/>
                    <a:ext cx="2448000" cy="23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Rectangle 9"/>
          <p:cNvSpPr/>
          <p:nvPr/>
        </p:nvSpPr>
        <p:spPr>
          <a:xfrm>
            <a:off x="826920" y="4581720"/>
            <a:ext cx="6050160" cy="18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3366"/>
                </a:solidFill>
                <a:latin typeface="Times New Roman"/>
              </a:rPr>
              <a:t>Изменение предложения,</a:t>
            </a:r>
            <a:r>
              <a:rPr b="0" lang="ru-RU" sz="2300" spc="-1" strike="noStrike">
                <a:solidFill>
                  <a:srgbClr val="003366"/>
                </a:solidFill>
                <a:latin typeface="Times New Roman"/>
              </a:rPr>
              <a:t> напротив, означает изменение всей функции предложения за счет изменения каких-либо неценовых факторов при неизменной цене, и изображается путем смещения всей кривой.</a:t>
            </a:r>
            <a:endParaRPr b="0" lang="en-US" sz="23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2. Общая характеристика предложения. Цена предложения. Закон и кривая предложения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971640" y="1580400"/>
            <a:ext cx="777708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Times New Roman"/>
              </a:rPr>
              <a:t>Факторы, смещающие кривую предложения, называют </a:t>
            </a:r>
            <a:r>
              <a:rPr b="1" lang="ru-RU" sz="3000" spc="-1" strike="noStrike">
                <a:solidFill>
                  <a:srgbClr val="003366"/>
                </a:solidFill>
                <a:latin typeface="Times New Roman"/>
              </a:rPr>
              <a:t>детерминантами предложения</a:t>
            </a:r>
            <a:r>
              <a:rPr b="0" lang="ru-RU" sz="3000" spc="-1" strike="noStrike">
                <a:solidFill>
                  <a:srgbClr val="003366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3366"/>
                </a:solidFill>
                <a:uFillTx/>
                <a:latin typeface="Times New Roman"/>
              </a:rPr>
              <a:t>К основным детерминантам предложения можно отнести: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Times New Roman"/>
              </a:rPr>
              <a:t>цены на ресурсы;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Times New Roman"/>
              </a:rPr>
              <a:t>число продавцов на рынке;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Times New Roman"/>
              </a:rPr>
              <a:t>технология производства;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Times New Roman"/>
              </a:rPr>
              <a:t>налоги и субсидии;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Times New Roman"/>
              </a:rPr>
              <a:t>цены на другие товары;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Times New Roman"/>
              </a:rPr>
              <a:t>ожидания производителей изменения цен. 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3. Рыночное равновесие. Вмешательство государства в рыночное равновесие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1042920" y="1557360"/>
            <a:ext cx="7561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Рыночное равновесие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можно определить как состояние, при котором ни у кого из экономических субъектов не возникает побуждений к его изменению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26" name="Object 5"/>
          <p:cNvGraphicFramePr/>
          <p:nvPr/>
        </p:nvGraphicFramePr>
        <p:xfrm>
          <a:off x="5938920" y="3500280"/>
          <a:ext cx="3097080" cy="299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8920" y="3500280"/>
                    <a:ext cx="3097080" cy="29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Rectangle 7"/>
          <p:cNvSpPr/>
          <p:nvPr/>
        </p:nvSpPr>
        <p:spPr>
          <a:xfrm>
            <a:off x="1042920" y="3436920"/>
            <a:ext cx="51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Применительно к спросу и предложению точка рыночного равновесия будет находится в точке пересечения кривых спроса и предложения, т.е. в точке Е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Этой точке соответствует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равновесная цена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(Ре = Рd = Р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) и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равновесный объем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Qe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 = 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Qd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 = 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Qs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3. Рыночное равновесие. Вмешательство государства в рыночное равновесие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1116000" y="1484280"/>
            <a:ext cx="7345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«Потолок цены»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представляет собой законодательно установленную максимальную цену, которую продавцу разрешается запрашивать за свой товар. «Потолки цен» всегда ниже цен равновесия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4" name="Rectangle 8"/>
          <p:cNvSpPr/>
          <p:nvPr/>
        </p:nvSpPr>
        <p:spPr>
          <a:xfrm>
            <a:off x="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35" name="Object 7"/>
          <p:cNvGraphicFramePr/>
          <p:nvPr/>
        </p:nvGraphicFramePr>
        <p:xfrm>
          <a:off x="2627280" y="3500280"/>
          <a:ext cx="4465800" cy="33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3500280"/>
                    <a:ext cx="4465800" cy="33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3. Рыночное равновесие. Вмешательство государства в рыночное равновесие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1116000" y="1697760"/>
            <a:ext cx="7345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«Пол цены»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это, наоборот, минимальная цена, установленная государством и превышающая цену равновесия. То есть производителям не разрешается продавать товары ниже этих цен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3" name="Rectangle 9"/>
          <p:cNvSpPr/>
          <p:nvPr/>
        </p:nvSpPr>
        <p:spPr>
          <a:xfrm>
            <a:off x="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44" name="Object 8"/>
          <p:cNvGraphicFramePr/>
          <p:nvPr/>
        </p:nvGraphicFramePr>
        <p:xfrm>
          <a:off x="2411280" y="3357720"/>
          <a:ext cx="4248360" cy="35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3357720"/>
                    <a:ext cx="4248360" cy="35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1021680" y="1101960"/>
            <a:ext cx="7556400" cy="1629000"/>
          </a:xfrm>
          <a:prstGeom prst="rect">
            <a:avLst/>
          </a:prstGeom>
          <a:solidFill>
            <a:srgbClr val="ffffff"/>
          </a:solidFill>
          <a:ln w="76320">
            <a:solidFill>
              <a:srgbClr val="339966"/>
            </a:solidFill>
            <a:round/>
          </a:ln>
          <a:effectLst>
            <a:outerShdw dist="107932" dir="18900000" blurRad="0" rotWithShape="0">
              <a:srgbClr val="99cc99">
                <a:alpha val="50000"/>
              </a:srgbClr>
            </a:outerShdw>
          </a:effectLst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СПАСИБО ЗА ВНИМАНИЕ!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1042920" y="1556280"/>
            <a:ext cx="748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Спрос – 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это платежеспособная потребность в каком-либо товаре или услуге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1042920" y="3140640"/>
            <a:ext cx="7488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Индивидуальный спрос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на товар отражает желания и возможности отдельного потребителя, общий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 рыночный спрос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будет суммированным отражением спроса на какой-либо товар со стороны всех потенциальных потребителей.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1042920" y="1875960"/>
            <a:ext cx="7705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Традиционно принято </a:t>
            </a:r>
            <a:r>
              <a:rPr b="0" i="1" lang="ru-RU" sz="2800" spc="-1" strike="noStrike">
                <a:solidFill>
                  <a:srgbClr val="003366"/>
                </a:solidFill>
                <a:latin typeface="Times New Roman"/>
              </a:rPr>
              <a:t>выделять две специфические разновидности рыночного спроса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*функциональный спрос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, обусловленный присущими данному благу потребительскими качествами;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*нефункциональный спрос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, возникающий у потребителя не в силу потребительских характеристик товара, а под влиянием каких-либо других факторов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963000" y="1654560"/>
            <a:ext cx="79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Эффект присоединения к большинству (эффект вагона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22" name="Object 7"/>
          <p:cNvGraphicFramePr/>
          <p:nvPr/>
        </p:nvGraphicFramePr>
        <p:xfrm>
          <a:off x="1619280" y="2336760"/>
          <a:ext cx="6840360" cy="408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336760"/>
                    <a:ext cx="6840360" cy="408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3711600" y="1627920"/>
            <a:ext cx="252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Эффект сноба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0" name="Picture 8" descr=""/>
          <p:cNvPicPr/>
          <p:nvPr/>
        </p:nvPicPr>
        <p:blipFill>
          <a:blip r:embed="rId1"/>
          <a:stretch/>
        </p:blipFill>
        <p:spPr>
          <a:xfrm>
            <a:off x="1403280" y="2349360"/>
            <a:ext cx="6985080" cy="423396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1122480" y="1654560"/>
            <a:ext cx="783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Эффект показательного потребления (эффект Веблена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38" name="Object 8"/>
          <p:cNvGraphicFramePr/>
          <p:nvPr/>
        </p:nvGraphicFramePr>
        <p:xfrm>
          <a:off x="2268360" y="2276640"/>
          <a:ext cx="5616720" cy="44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2276640"/>
                    <a:ext cx="561672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971640" y="1691280"/>
            <a:ext cx="7705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Величина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(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объём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)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 спроса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d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uantity of demand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) – количество товаров и услуг, которое покупатели готовы приобрести в данное время, в данном месте, при данных ценах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1042920" y="4410720"/>
            <a:ext cx="7705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Максимальная цена, которую покупатели готовы заплатить за определенное количество данного товара или услуги называется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 ценой спроса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(Р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1042920" y="1843560"/>
            <a:ext cx="7705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Зависимость между величиной спроса и определяющими его факторами (детерминантами) называют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 функцией спроса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d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= ƒ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d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(Р),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где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d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– величина спроса на товар;</a:t>
            </a:r>
            <a:r>
              <a:rPr b="0" i="1" lang="ru-RU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Р</a:t>
            </a:r>
            <a:r>
              <a:rPr b="0" i="1" lang="ru-RU" sz="3200" spc="-1" strike="noStrike">
                <a:solidFill>
                  <a:srgbClr val="003366"/>
                </a:solidFill>
                <a:latin typeface="Times New Roman"/>
              </a:rPr>
              <a:t> – 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цена товар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6:47:00Z</dcterms:created>
  <dc:creator>JR</dc:creator>
  <dc:description/>
  <dc:language>en-US</dc:language>
  <cp:lastModifiedBy>LEGION</cp:lastModifiedBy>
  <dcterms:modified xsi:type="dcterms:W3CDTF">2016-01-04T08:18:06Z</dcterms:modified>
  <cp:revision>80</cp:revision>
  <dc:subject/>
  <dc:title>Тема 4 основы теории спроса и предложения</dc:title>
</cp:coreProperties>
</file>