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F8E0-AE6C-43EF-82D5-232142FBA4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ТЕОРИИ СПРОСА И ПРЕДЛОЖ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МА 4</a:t>
            </a:r>
            <a:br>
              <a:rPr sz="1200"/>
            </a:b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Ы ТЕОРИИ СПРОСА И ПРЕДЛОЖЕНИЯ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фическое изображение функции спроса от цены на координатной плоскости получило название кривой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ьский спрос на рынке бытовых пылесо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рафическое изображение функции спроса от цены на координатной плоскости получило название кривой спрос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требительский спрос на рынке бытовых пылесосов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спроса на рынке бытовых пылесо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ривая спроса на рынке бытовых пылесосов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величины спроса наблюдается при изменении цены рассматриваемого товара и неизменности всех прочих парамет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графике подобное изменение отражается движением вдоль кривой спроса, например, из точки А в точку В (и в обратном направлен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зменение величины спроса наблюдается при изменении цены рассматриваемого товара и неизменности всех прочих параметров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 графике подобное изменение отражается движением вдоль кривой спроса, например, из точки А в точку В (и в обратном направлении)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спроса происходит при неизменности рыночных цен на рассматриваемый товар, т.е. под воздействием каких-либо неценовых факторов, и на графике отражается смещением всей кривой спроса вправо и вверх (если спрос растет) или влево и вниз (если падае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зменение спроса происходит при неизменности рыночных цен на рассматриваемый товар, т.е. под воздействием каких-либо неценовых факторов, и на графике отражается смещением всей кривой спроса вправо и вверх (если спрос растет) или влево и вниз (если падает)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смещающие кривую спроса, называют детерминантами спро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детерминантами спроса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усы (предпочтения) потреби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потребителей на рынк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ы потреби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сопряженные това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ьские ожидания относительно будущих цен и дохо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Факторы, смещающие кривую спроса, называют детерминантами спроса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ными детерминантами спроса являются: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кусы (предпочтения) потребителей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число потребителей на рынке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оходы потребителей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цены на сопряженные товары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требительские ожидания относительно будущих цен и доходов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: существует обратная зависимость между ценой и величиной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дохода – изменение величины спроса на товар в результате изменения реальных доходов вследствие повышения или понижение уровня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замещения –  изменение величины спроса на товар в результате замещения (замены) более дорогих товаров менее дорог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акон спрос: существует обратная зависимость между ценой и величиной спрос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ффект дохода – изменение величины спроса на товар в результате изменения реальных доходов вследствие повышения или понижение уровня цен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ффект замещения –  изменение величины спроса на товар в результате замещения (замены) более дорогих товаров менее дорогими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- совокупность товаров и услуг, которые находятся в данный момент на рынке, и которые продавцы (производители) готовы продать при существующи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а предложения (Qs) - количество товаров и услуг, которое продавцы готовы продать в данное время, в данном месте и при данных цен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едложение - совокупность товаров и услуг, которые находятся в данный момент на рынке, и которые продавцы (производители) готовы продать при существующих ценах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еличина предложения (Qs) - количество товаров и услуг, которое продавцы готовы продать в данное время, в данном месте и при данных ценах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предложения (Рs) показывает минимальную цену за данное количество товара по которой продавец еще готов продать свой тов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Цена предложения (Рs) показывает минимальную цену за данное количество товара по которой продавец еще готов продать свой товар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редложения от це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s = ƒ Qs(Р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Qs – величина предлож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 – цена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предложение бытовых пылесо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Функция предложения от цены: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Qs = ƒ Qs(Р),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де Qs – величина предложения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 – цена товар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чное предложение бытовых пылесосов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предложения бытовых пылесо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ривая предложения бытовых пылесосов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Основы теории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характеристика спроса. Цена спроса. Закон спроса. Кривая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характеристика предложения. Цена предложения. Закон предложения. Кривая предло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. Вмешательство государства в рыночное равновес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ма 4. Основы теории спроса и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щая характеристика спроса. Цена спроса. Закон спроса. Кривая спрос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щая характеристика предложения. Цена предложения. Закон предложения. Кривая предложения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чное равновесие. Вмешательство государства в рыночное равновесие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величины предложения наблюдается при изменении цены рассматриваемого товара и неизменных прочих факторах рыночной конъюнктуры и предполагает движение вдоль кривой предло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предложения, напротив, означает изменение всей функции предложения за счет изменения каких-либо неценовых факторов при неизменной цене, и изображается путем смещения всей крив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зменение величины предложения наблюдается при изменении цены рассматриваемого товара и неизменных прочих факторах рыночной конъюнктуры и предполагает движение вдоль кривой предложения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зменение предложения, напротив, означает изменение всей функции предложения за счет изменения каких-либо неценовых факторов при неизменной цене, и изображается путем смещения всей кривой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смещающие кривую предложения, называют детерминантами предло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основным детерминантам предложения можно отне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ресур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продавцов на рынк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произво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оги и субсид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другие това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я производителей изменения ц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Факторы, смещающие кривую предложения, называют детерминантами предложения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 основным детерминантам предложения можно отнести: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цены на ресурсы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число продавцов на рынке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хнология производства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логи и субсидии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цены на другие товары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жидания производителей изменения цен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ое равновесие. Вмешательство государства в рыночн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 можно определить как состояние, при котором ни у кого из экономических субъектов не возникает побуждений к его измене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ительно к спросу и предложению точка рыночного равновесия будет находится в точке пересечения кривых спроса и предложения, т.е. в точке 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й точке соответствует равновесная цена (Ре = Рd = Рs) и равновесный объем (Qe = Qd = Q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Рыночное равновесие. Вмешательство государства в рыночное равновеси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чное равновесие можно определить как состояние, при котором ни у кого из экономических субъектов не возникает побуждений к его изменению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менительно к спросу и предложению точка рыночного равновесия будет находится в точке пересечения кривых спроса и предложения, т.е. в точке Е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той точке соответствует равновесная цена (Ре = Рd = Рs) и равновесный объем (Qe = Qd = Qs)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ое равновесие. Вмешательство государства в рыночн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толок цены» представляет собой законодательно установленную максимальную цену, которую продавцу разрешается запрашивать за свой товар. «Потолки цен» всегда ниже цен равновес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Рыночное равновесие. Вмешательство государства в рыночное равновеси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«Потолок цены» представляет собой законодательно установленную максимальную цену, которую продавцу разрешается запрашивать за свой товар. «Потолки цен» всегда ниже цен равновесия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ое равновесие. Вмешательство государства в рыночн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л цены» это, наоборот, минимальная цена, установленная государством и превышающая цену равновесия. То есть производителям не разрешается продавать товары ниже этих ц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Рыночное равновесие. Вмешательство государства в рыночное равновеси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«Пол цены» это, наоборот, минимальная цена, установленная государством и превышающая цену равновесия. То есть производителям не разрешается продавать товары ниже этих цен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– это платежеспособная потребность в каком-либо товаре или услуг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видуальный спрос на товар отражает желания и возможности отдельного потребителя, общий рыночный спрос будет суммированным отражением спроса на какой-либо товар со стороны всех потенциальных потребител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прос – это платежеспособная потребность в каком-либо товаре или услуге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ндивидуальный спрос на товар отражает желания и возможности отдельного потребителя, общий рыночный спрос будет суммированным отражением спроса на какой-либо товар со стороны всех потенциальных потребителей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диционно принято выделять две специфические разновидности рыночного спро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функциональный спрос, обусловленный присущими данному благу потребительскими качеств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нефункциональный спрос, возникающий у потребителя не в силу потребительских характеристик товара, а под влиянием каких-либо других фак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радиционно принято выделять две специфические разновидности рыночного спроса: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*функциональный спрос, обусловленный присущими данному благу потребительскими качествами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*нефункциональный спрос, возникающий у потребителя не в силу потребительских характеристик товара, а под влиянием каких-либо других факторов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присоединения к большинству (эффект ваго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ффект присоединения к большинству (эффект вагона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сноб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ффект сноба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показательного потребления (эффект Вебле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ффект показательного потребления (эффект Веблена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а (объём) спроса (Qd, quantity of demand) – количество товаров и услуг, которое покупатели готовы приобрести в данное время, в данном месте, при данны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имальная цена, которую покупатели готовы заплатить за определенное количество данного товара или услуги называется ценой спроса (Р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еличина (объём) спроса (Qd, quantity of demand) – количество товаров и услуг, которое покупатели готовы приобрести в данное время, в данном месте, при данных ценах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аксимальная цена, которую покупатели готовы заплатить за определенное количество данного товара или услуги называется ценой спроса (Рd)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между величиной спроса и определяющими его факторами (детерминантами) называют функцией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d = ƒQd(Р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Qd – величина спроса на товар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 – цена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ависимость между величиной спроса и определяющими его факторами (детерминантами) называют функцией спрос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Qd = ƒQd(Р),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де Qd – величина спроса на товар;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 – цена товар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B6E0-CE7B-460E-8BAE-6949AD595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6932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22920"/>
            <a:ext cx="76932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4B16-A1E7-4BFD-B490-3915355F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80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B07C-5E5F-473A-ABA6-D098E2EFB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39080" y="155700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0080" y="155700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2292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39080" y="392292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0080" y="392292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EBFD-AC3E-484E-9A7B-834202A9C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C738-FD70-4781-B4BA-2E935B8EF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1557000"/>
            <a:ext cx="769320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1493-FFF4-44C4-A9AD-D68614E0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6932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AF5A-FDD5-4DA7-8FEB-46C412AB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F934-CE65-4D50-9347-70DD8079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9106-0E9F-45D9-A571-1CB3075C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269880" y="66600"/>
            <a:ext cx="5807160" cy="42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CBD4-D4BC-4E38-8FB8-AB9F2A29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2FD5-0228-44D2-9958-F1681E9B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557000"/>
            <a:ext cx="769320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83E5-E2CC-4B57-9221-4046B162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39D1-A297-496E-A393-D52E87D7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22920"/>
            <a:ext cx="76932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9A14-3696-4F87-B064-4437C67B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6932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3922920"/>
            <a:ext cx="76932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1941-864A-4DE9-BFE0-5B1BB976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F0EA-4668-4BC3-A5B9-769B33383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155700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155700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392292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392292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392292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B893-3F24-49B1-89CA-58C72EE4F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6932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AA17-F5E0-471B-83DC-1D20642B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73FE-7B6D-435A-B7B7-240C5C38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A8D9-BF45-4390-A71A-72AEDD2A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269880" y="66600"/>
            <a:ext cx="5807160" cy="42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C8FD-C4EF-4BC8-B41D-E7720E02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E7EB-2BA6-4414-B3ED-451DD537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80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D9AD-C96A-4560-A12C-C075054A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22920"/>
            <a:ext cx="76932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6A17-97D1-4442-BD6D-F62521CE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4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Freeform 5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" name="Group 6"/>
          <p:cNvGrpSpPr/>
          <p:nvPr/>
        </p:nvGrpSpPr>
        <p:grpSpPr>
          <a:xfrm>
            <a:off x="250560" y="1125360"/>
            <a:ext cx="7391160" cy="319320"/>
            <a:chOff x="250560" y="1125360"/>
            <a:chExt cx="7391160" cy="319320"/>
          </a:xfrm>
        </p:grpSpPr>
        <p:sp>
          <p:nvSpPr>
            <p:cNvPr id="4" name="AutoShape 7"/>
            <p:cNvSpPr/>
            <p:nvPr/>
          </p:nvSpPr>
          <p:spPr>
            <a:xfrm>
              <a:off x="631440" y="1125360"/>
              <a:ext cx="701028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" name="AutoShape 8"/>
            <p:cNvSpPr/>
            <p:nvPr/>
          </p:nvSpPr>
          <p:spPr>
            <a:xfrm flipH="1">
              <a:off x="250200" y="1125360"/>
              <a:ext cx="39348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1557000"/>
            <a:ext cx="76932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F75B-8FD6-45D0-9550-C8B63490CCC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557000"/>
            <a:ext cx="76932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4252-34FB-49F9-805C-3C5B7BB6D90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021680" y="1101960"/>
            <a:ext cx="7556400" cy="162900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66"/>
            </a:solidFill>
            <a:round/>
          </a:ln>
          <a:effectLst>
            <a:outerShdw dist="107932" dir="18900000" blurRad="0" rotWithShape="0">
              <a:srgbClr val="99cc99">
                <a:alpha val="50000"/>
              </a:srgbClr>
            </a:outerShdw>
          </a:effectLst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3366"/>
                </a:solidFill>
                <a:uFillTx/>
                <a:latin typeface="Times New Roman"/>
              </a:rPr>
              <a:t>ТЕМА 4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ОСНОВЫ ТЕОРИИ СПРОСА И ПРЕДЛОЖЕНИЯ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971640" y="4389840"/>
            <a:ext cx="770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Графическое изображение функции спроса от цены на координатной плоскости получило название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кривой спроса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900000" y="146376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Потребительский спрос на рынке бытовых пылесосо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971640" y="2205000"/>
          <a:ext cx="7704000" cy="1620720"/>
        </p:xfrm>
        <a:graphic>
          <a:graphicData uri="http://schemas.openxmlformats.org/drawingml/2006/table">
            <a:tbl>
              <a:tblPr/>
              <a:tblGrid>
                <a:gridCol w="2058840"/>
                <a:gridCol w="1128600"/>
                <a:gridCol w="1128960"/>
                <a:gridCol w="1130400"/>
                <a:gridCol w="1128600"/>
                <a:gridCol w="1128600"/>
              </a:tblGrid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116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, у.е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116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Qd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, тыс. шт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59" name="Object 5"/>
          <p:cNvGraphicFramePr/>
          <p:nvPr/>
        </p:nvGraphicFramePr>
        <p:xfrm>
          <a:off x="2935440" y="2060640"/>
          <a:ext cx="422892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5440" y="2060640"/>
                    <a:ext cx="422892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Rectangle 7"/>
          <p:cNvSpPr/>
          <p:nvPr/>
        </p:nvSpPr>
        <p:spPr>
          <a:xfrm>
            <a:off x="1553040" y="1654560"/>
            <a:ext cx="65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Кривая спроса на рынке бытовых пылесосов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971640" y="1554480"/>
            <a:ext cx="770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Изменение величины спроса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наблюдается при изменении цены рассматриваемого товара и неизменности всех прочих параметров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 графике подобное изменение отражается движением вдоль кривой спроса, например, из точки А в точку В (и в обратном направлении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6" name="Object 5"/>
          <p:cNvGraphicFramePr/>
          <p:nvPr/>
        </p:nvGraphicFramePr>
        <p:xfrm>
          <a:off x="2987640" y="3645000"/>
          <a:ext cx="3457440" cy="30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3645000"/>
                    <a:ext cx="3457440" cy="30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971640" y="1554480"/>
            <a:ext cx="770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Изменение спроса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происходит при неизменности рыночных цен на рассматриваемый товар, т.е. под воздействием каких-либо неценовых факторов, и на графике отражается смещением всей кривой спроса вправо и вверх (если спрос растет) или влево и вниз (если падает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73" name="Object 7"/>
          <p:cNvGraphicFramePr/>
          <p:nvPr/>
        </p:nvGraphicFramePr>
        <p:xfrm>
          <a:off x="3203640" y="3500280"/>
          <a:ext cx="338436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3500280"/>
                    <a:ext cx="338436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971640" y="1630800"/>
            <a:ext cx="7705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Факторы, смещающие кривую спроса, называют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детерминантами спроса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3366"/>
                </a:solidFill>
                <a:uFillTx/>
                <a:latin typeface="Times New Roman"/>
              </a:rPr>
              <a:t>Основными детерминантами спроса являются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вкусы (предпочтения) потребителей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число потребителей на рынке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доходы потребителей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цены на сопряженные товары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потребительские ожидания относительно будущих цен и доходов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900000" y="1698840"/>
            <a:ext cx="77058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Times New Roman"/>
              </a:rPr>
              <a:t>Закон спрос: </a:t>
            </a:r>
            <a:r>
              <a:rPr b="0" lang="ru-RU" sz="2900" spc="-1" strike="noStrike">
                <a:solidFill>
                  <a:srgbClr val="003366"/>
                </a:solidFill>
                <a:latin typeface="Times New Roman"/>
              </a:rPr>
              <a:t>существует обратная зависимость между ценой и величиной спроса.</a:t>
            </a:r>
            <a:endParaRPr b="0" lang="en-US" sz="2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971640" y="2865240"/>
            <a:ext cx="77058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Times New Roman"/>
              </a:rPr>
              <a:t>Эффект дохода</a:t>
            </a:r>
            <a:r>
              <a:rPr b="0" lang="ru-RU" sz="2900" spc="-1" strike="noStrike">
                <a:solidFill>
                  <a:srgbClr val="003366"/>
                </a:solidFill>
                <a:latin typeface="Times New Roman"/>
              </a:rPr>
              <a:t> – изменение величины спроса на товар в результате изменения реальных доходов вследствие повышения или понижение уровня цен.</a:t>
            </a:r>
            <a:endParaRPr b="0" lang="en-US" sz="2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900000" y="4883040"/>
            <a:ext cx="77058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Times New Roman"/>
              </a:rPr>
              <a:t>Эффект замещения</a:t>
            </a:r>
            <a:r>
              <a:rPr b="0" lang="ru-RU" sz="2900" spc="-1" strike="noStrike">
                <a:solidFill>
                  <a:srgbClr val="003366"/>
                </a:solidFill>
                <a:latin typeface="Times New Roman"/>
              </a:rPr>
              <a:t> –  изменение величины спроса на товар в результате замещения (замены) более дорогих товаров менее дорогими.</a:t>
            </a:r>
            <a:endParaRPr b="0" lang="en-US" sz="2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. Общая характеристика предложения. Цена предложения. Закон и кривая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900000" y="1627560"/>
            <a:ext cx="7777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Предложение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- совокупность товаров и услуг, которые находятся в данный момент на рынке, и которые продавцы (производители) готовы продать при существующих ценах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900000" y="4482000"/>
            <a:ext cx="777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Величина предложения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s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) - количество товаров и услуг, которое продавцы готовы продать в данное время, в данном месте и при данных ценах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. Общая характеристика предложения. Цена предложения. Закон и кривая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971640" y="235008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Цена предложения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(Р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) показывает минимальную цену за данное количество товара по которой продавец еще готов продать свой товар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. Общая характеристика предложения. Цена предложения. Закон и кривая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1042920" y="142740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Функция предложения от цены: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Qs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= ƒ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Qs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(Р),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где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Qs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– величина предложения;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Р</a:t>
            </a:r>
            <a:r>
              <a:rPr b="0" i="1" lang="ru-RU" sz="3600" spc="-1" strike="noStrike">
                <a:solidFill>
                  <a:srgbClr val="003366"/>
                </a:solidFill>
                <a:latin typeface="Times New Roman"/>
              </a:rPr>
              <a:t> –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цена товара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Rectangle 81"/>
          <p:cNvSpPr/>
          <p:nvPr/>
        </p:nvSpPr>
        <p:spPr>
          <a:xfrm>
            <a:off x="650160" y="4222080"/>
            <a:ext cx="82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Рыночное предложение бытовых пылесосов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114560" y="4799160"/>
          <a:ext cx="7489800" cy="1366560"/>
        </p:xfrm>
        <a:graphic>
          <a:graphicData uri="http://schemas.openxmlformats.org/drawingml/2006/table">
            <a:tbl>
              <a:tblPr/>
              <a:tblGrid>
                <a:gridCol w="2641320"/>
                <a:gridCol w="970200"/>
                <a:gridCol w="968400"/>
                <a:gridCol w="969840"/>
                <a:gridCol w="969840"/>
                <a:gridCol w="97020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116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, у.е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116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Qs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, тыс. шт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. Общая характеристика предложения. Цена предложения. Закон и кривая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Rectangle 88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6" name="Object 87"/>
          <p:cNvGraphicFramePr/>
          <p:nvPr/>
        </p:nvGraphicFramePr>
        <p:xfrm>
          <a:off x="2340000" y="2060640"/>
          <a:ext cx="447048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8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060640"/>
                    <a:ext cx="447048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89"/>
          <p:cNvSpPr/>
          <p:nvPr/>
        </p:nvSpPr>
        <p:spPr>
          <a:xfrm>
            <a:off x="1549800" y="1727640"/>
            <a:ext cx="59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Кривая предложения бытовых пылесосо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Тема 4. Основы теории спроса и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Rectangle 20"/>
          <p:cNvSpPr/>
          <p:nvPr/>
        </p:nvSpPr>
        <p:spPr>
          <a:xfrm>
            <a:off x="1187280" y="2106720"/>
            <a:ext cx="748836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66"/>
                </a:solidFill>
                <a:latin typeface="Times New Roman"/>
              </a:rPr>
              <a:t>Общая характеристика спроса. Цена спроса. Закон спроса. Кривая спроса.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66"/>
                </a:solidFill>
                <a:latin typeface="Times New Roman"/>
              </a:rPr>
              <a:t>Общая характеристика предложения. Цена предложения. Закон предложения. Кривая предложения.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66"/>
                </a:solidFill>
                <a:latin typeface="Times New Roman"/>
              </a:rPr>
              <a:t>Рыночное равновесие. Вмешательство государства в рыночное равновесие.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Rectangle 232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Rectangle 674"/>
          <p:cNvSpPr/>
          <p:nvPr/>
        </p:nvSpPr>
        <p:spPr>
          <a:xfrm>
            <a:off x="3419640" y="140868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Пла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. Общая характеристика предложения. Цена предложения. Закон и кривая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00000" y="1629360"/>
            <a:ext cx="605016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66"/>
                </a:solidFill>
                <a:latin typeface="Times New Roman"/>
              </a:rPr>
              <a:t>Изменение величины предложения</a:t>
            </a:r>
            <a:r>
              <a:rPr b="0" lang="ru-RU" sz="2300" spc="-1" strike="noStrike">
                <a:solidFill>
                  <a:srgbClr val="003366"/>
                </a:solidFill>
                <a:latin typeface="Times New Roman"/>
              </a:rPr>
              <a:t> наблюдается при изменении цены рассматриваемого товара и неизменных прочих факторах рыночной конъюнктуры и предполагает движение вдоль кривой предложения.</a:t>
            </a:r>
            <a:endParaRPr b="0" lang="en-US" sz="23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13" name="Object 5"/>
          <p:cNvGraphicFramePr/>
          <p:nvPr/>
        </p:nvGraphicFramePr>
        <p:xfrm>
          <a:off x="6600960" y="1484280"/>
          <a:ext cx="2363760" cy="22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0960" y="1484280"/>
                    <a:ext cx="2363760" cy="22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7"/>
          <p:cNvGraphicFramePr/>
          <p:nvPr/>
        </p:nvGraphicFramePr>
        <p:xfrm>
          <a:off x="6588000" y="4292640"/>
          <a:ext cx="2448000" cy="23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4292640"/>
                    <a:ext cx="244800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Rectangle 9"/>
          <p:cNvSpPr/>
          <p:nvPr/>
        </p:nvSpPr>
        <p:spPr>
          <a:xfrm>
            <a:off x="826920" y="4581720"/>
            <a:ext cx="605016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66"/>
                </a:solidFill>
                <a:latin typeface="Times New Roman"/>
              </a:rPr>
              <a:t>Изменение предложения,</a:t>
            </a:r>
            <a:r>
              <a:rPr b="0" lang="ru-RU" sz="2300" spc="-1" strike="noStrike">
                <a:solidFill>
                  <a:srgbClr val="003366"/>
                </a:solidFill>
                <a:latin typeface="Times New Roman"/>
              </a:rPr>
              <a:t> напротив, означает изменение всей функции предложения за счет изменения каких-либо неценовых факторов при неизменной цене, и изображается путем смещения всей кривой.</a:t>
            </a:r>
            <a:endParaRPr b="0" lang="en-US" sz="2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. Общая характеристика предложения. Цена предложения. Закон и кривая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971640" y="1580400"/>
            <a:ext cx="777708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Факторы, смещающие кривую предложения, называют </a:t>
            </a:r>
            <a:r>
              <a:rPr b="1" lang="ru-RU" sz="3000" spc="-1" strike="noStrike">
                <a:solidFill>
                  <a:srgbClr val="003366"/>
                </a:solidFill>
                <a:latin typeface="Times New Roman"/>
              </a:rPr>
              <a:t>детерминантами предложения</a:t>
            </a: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3366"/>
                </a:solidFill>
                <a:uFillTx/>
                <a:latin typeface="Times New Roman"/>
              </a:rPr>
              <a:t>К основным детерминантам предложения можно отнести: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цены на ресурсы;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число продавцов на рынке;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технология производства;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налоги и субсидии;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цены на другие товары;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ожидания производителей изменения цен. 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3. Рыночное равновесие. Вмешательство государства в рыночное равновесие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1042920" y="1557360"/>
            <a:ext cx="756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Рыночное равновесие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можно определить как состояние, при котором ни у кого из экономических субъектов не возникает побуждений к его изменению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5938920" y="3500280"/>
          <a:ext cx="3097080" cy="29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8920" y="3500280"/>
                    <a:ext cx="309708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Rectangle 7"/>
          <p:cNvSpPr/>
          <p:nvPr/>
        </p:nvSpPr>
        <p:spPr>
          <a:xfrm>
            <a:off x="1042920" y="3436920"/>
            <a:ext cx="51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рименительно к спросу и предложению точка рыночного равновесия будет находится в точке пересечения кривых спроса и предложения, т.е. в точке Е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Этой точке соответствует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равновесная цена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(Ре = Рd = Р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) и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равновесный объем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Qe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 = 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Qd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 = 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Qs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3. Рыночное равновесие. Вмешательство государства в рыночное равновесие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1116000" y="1484280"/>
            <a:ext cx="734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«Потолок цены»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едставляет собой законодательно установленную максимальную цену, которую продавцу разрешается запрашивать за свой товар. «Потолки цен» всегда ниже цен равновесия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35" name="Object 7"/>
          <p:cNvGraphicFramePr/>
          <p:nvPr/>
        </p:nvGraphicFramePr>
        <p:xfrm>
          <a:off x="2627280" y="3500280"/>
          <a:ext cx="4465800" cy="33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3500280"/>
                    <a:ext cx="4465800" cy="33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3. Рыночное равновесие. Вмешательство государства в рыночное равновесие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1116000" y="1697760"/>
            <a:ext cx="734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«Пол цены»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это, наоборот, минимальная цена, установленная государством и превышающая цену равновесия. То есть производителям не разрешается продавать товары ниже этих цен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4" name="Object 8"/>
          <p:cNvGraphicFramePr/>
          <p:nvPr/>
        </p:nvGraphicFramePr>
        <p:xfrm>
          <a:off x="2411280" y="3357720"/>
          <a:ext cx="4248360" cy="35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3357720"/>
                    <a:ext cx="4248360" cy="35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021680" y="1101960"/>
            <a:ext cx="7556400" cy="162900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66"/>
            </a:solidFill>
            <a:round/>
          </a:ln>
          <a:effectLst>
            <a:outerShdw dist="107932" dir="18900000" blurRad="0" rotWithShape="0">
              <a:srgbClr val="99cc99">
                <a:alpha val="50000"/>
              </a:srgbClr>
            </a:outerShdw>
          </a:effectLst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СПАСИБО ЗА ВНИМАНИЕ!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042920" y="1556280"/>
            <a:ext cx="74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Спрос –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это платежеспособная потребность в каком-либо товаре или услуге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1042920" y="3140640"/>
            <a:ext cx="7488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Индивидуальный спрос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на товар отражает желания и возможности отдельного потребителя, общий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рыночный спрос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будет суммированным отражением спроса на какой-либо товар со стороны всех потенциальных потребителей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1042920" y="1875960"/>
            <a:ext cx="7705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Традиционно принято </a:t>
            </a:r>
            <a:r>
              <a:rPr b="0" i="1" lang="ru-RU" sz="2800" spc="-1" strike="noStrike">
                <a:solidFill>
                  <a:srgbClr val="003366"/>
                </a:solidFill>
                <a:latin typeface="Times New Roman"/>
              </a:rPr>
              <a:t>выделять две специфические разновидности рыночного спроса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*функциональный спрос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, обусловленный присущими данному благу потребительскими качествами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*нефункциональный спрос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, возникающий у потребителя не в силу потребительских характеристик товара, а под влиянием каких-либо других факторов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963000" y="1654560"/>
            <a:ext cx="79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Эффект присоединения к большинству (эффект вагона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22" name="Object 7"/>
          <p:cNvGraphicFramePr/>
          <p:nvPr/>
        </p:nvGraphicFramePr>
        <p:xfrm>
          <a:off x="1619280" y="2336760"/>
          <a:ext cx="6840360" cy="408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336760"/>
                    <a:ext cx="6840360" cy="40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711600" y="1627920"/>
            <a:ext cx="252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Эффект сноба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985080" cy="423396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1122480" y="1654560"/>
            <a:ext cx="78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Эффект показательного потребления (эффект Веблена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8" name="Object 8"/>
          <p:cNvGraphicFramePr/>
          <p:nvPr/>
        </p:nvGraphicFramePr>
        <p:xfrm>
          <a:off x="2268360" y="2276640"/>
          <a:ext cx="561672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276640"/>
                    <a:ext cx="561672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971640" y="169128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Величина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(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объём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)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спроса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d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antity of demand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) – количество товаров и услуг, которое покупатели готовы приобрести в данное время, в данном месте, при данных ценах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042920" y="4410720"/>
            <a:ext cx="7705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Максимальная цена, которую покупатели готовы заплатить за определенное количество данного товара или услуги называется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ценой спроса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(Р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042920" y="18435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Зависимость между величиной спроса и определяющими его факторами (детерминантами) называют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функцией спроса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d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= ƒ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d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(Р),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где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d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– величина спроса на товар;</a:t>
            </a:r>
            <a:r>
              <a:rPr b="0" i="1" lang="ru-RU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Р</a:t>
            </a:r>
            <a:r>
              <a:rPr b="0" i="1" lang="ru-RU" sz="3200" spc="-1" strike="noStrike">
                <a:solidFill>
                  <a:srgbClr val="003366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цена товар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6:47:00Z</dcterms:created>
  <dc:creator>JR</dc:creator>
  <dc:description/>
  <dc:language>en-US</dc:language>
  <cp:lastModifiedBy>LEGION</cp:lastModifiedBy>
  <dcterms:modified xsi:type="dcterms:W3CDTF">2016-01-04T08:18:06Z</dcterms:modified>
  <cp:revision>80</cp:revision>
  <dc:subject/>
  <dc:title>Тема 4 основы теории спроса и предложения</dc:title>
</cp:coreProperties>
</file>