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40CB-4C98-4EB5-9F2D-66AAC768D1E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э.н., ст.преп. Соколова 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ультет менеджмен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кт-Петербургский государственный университ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э.н., ст.преп. Соколова Е.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ультет менеджмен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нкт-Петербургский государственный университ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Введение в микроэкономи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Введение в микроэкономи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и задача выб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можность полного и одновременного удовлетворения всех потребностей всех люд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можность удовлетворения всех имеющихся альтернатив использования рес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выбора из нескольких доступных альтернати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енция за использование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енция между альтернативными ц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носительность ограниченности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и задача выб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сть полного и одновременного удовлетворения всех потребностей всех люд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сть удовлетворения всех имеющихся альтернатив использования рес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ость выбора из нескольких доступных альтернати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уренция за использование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уренция между альтернативными ц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ость ограниченности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задач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да можно сказать, что рассматриваемая задача является экономичес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айонел Роббинс («Предмет экономической науки»,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к стремится к различным цел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и средства, находящиеся в его распоряжении, огранич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и могут быть направлены  на достижение альтернатив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аждый момент времени разные цели обладают различной важност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задач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ожно сказать, что рассматриваемая задача является экономическо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айонел Роббинс («Предмет экономической науки»,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к стремится к различным цел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ремя и средства, находящиеся в его распоряжении, огранич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могут быть направлены  на достижение альтернативных ц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ждый момент времени разные цели обладают различной важ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задач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одновременного действия всех четырех услов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произойдет, если какое-то условие не выполн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инственная ц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жественность целей без ограниченности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без возможности их альтернативного исполь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альтернативных возможностей использования ресурсов без приоритетности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задач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ость одновременного действия всех четырех услов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оизойдет, если какое-то условие не выполняетс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ственная це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енность целей без ограниченности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без возможности их альтернативного использ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альтернативных возможностей использования ресурсов без приоритетности ц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затра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затраты (opportunity costs) – доход от наилучшей из оставшихся альтернатив использования рес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ние понятия альтернативных затрат при принятии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затра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затраты (opportunity costs) – доход от наилучшей из оставшихся альтернатив использования рес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ние понятия альтернативных затрат при принятии реш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даментальные задачи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кого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ль системы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как теория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даментальные задачи 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кого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системы ц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как теория ц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ханизмы распределения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он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анд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н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распределения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дицион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ч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ан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экономической нау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ы решения задачи выбора между конкурирующими целями использования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экономической нау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ы решения задачи выбора между конкурирующими целями использования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МА О НЕВИДИМОЙ РУ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человек имеет в виду лишь собственный интерес, преследует лишь собственную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А.Сми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МА О НЕВИДИМОЙ РУ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человек имеет в виду лишь собственный интерес, преследует лишь собственную выгод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А.Сми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и макро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роэкономика исследует функционирование экономической системы в целом и крупных ее сек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и макро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ка исследует функционирование экономической системы в целом и крупных ее секто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микроэкономической теории на вводном уров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отрение основных проблем, изучаемых в рамках микроэкономической те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основных понятий и рассмотрение базовых математических моделей, формализующих 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учение микроэкономической теории на вводном уров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ние основных проблем, изучаемых в рамках микроэкономической те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основных понятий и рассмотрение базовых математических моделей, формализующих 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условленное ограниченностью ресурсов поведение (принимаемые экономические решения) экономических аг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р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ашних хозяй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тельственных организац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кционирование отдельных рынков, проявляющееся в формировании цен, объемов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словленное ограниченностью ресурсов поведение (принимаемые экономические решения) экономических аген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реби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ашних хозяйст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тельственных организ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онирование отдельных рынков, проявляющееся в формировании цен, объемов спроса и предлож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ология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объектов познания не непосредственно, а посредством анализа некоторых вспомогательных объектов, которые называют мод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ология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объектов познания не непосредственно, а посредством анализа некоторых вспомогательных объектов, которые называют мод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dulus – мера, образе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отличный от исследуемого ориги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ощенное описание исходного объекта изу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исание, воспроизводящее существенные с точки зрения целей проводимого исследования свойства оригинал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odulus – мера, образе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отличный от исследуемого ориги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ощенное описание исходного объекта изуч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исание, воспроизводящее существенные с точки зрения целей проводимого исследования свойства оригинал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модел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 воспроизведение основных характеристик (в т.ч. фЫизических) моделируемого объе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альное – идеальная аналогия. Теоретический характер модел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моделир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ое – воспроизведение основных характеристик (в т.ч. фЫизических) моделируемого объек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деальное – идеальная аналогия. Теоретический характер моделир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моделей в экономи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баль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о-математическ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моделей в экономи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бальны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о-математическ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ие модел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тельность и реалистичность принятых посылок и допущ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казательная способ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ость информационного обеспечения и вер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 модел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тельность и реалистичность принятых посылок и допущ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сказательная способ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 информационного обеспечения и верифик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ие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поведения отдельных экономических аг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взаимоотношений между экономическими агент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 мод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тимизационны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поведения отдельных экономических аген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новесны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взаимоотношений между экономическими агента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оведение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ивид (фирма) всегда выбирает оптимальное (ЛУЧШЕЕ) при имеющихся ограничениях и информации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понятия «ЛУЧШЕ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ивиды максимизируют удовлетворение своих потребностей, называемое полезност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циональное поведение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ивид (фирма) всегда выбирает оптимальное (ЛУЧШЕЕ) при имеющихся ограничениях и информации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понятия «ЛУЧШЕ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ивиды максимизируют удовлетворение своих потребностей, называемое полез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оведение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максимизируют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м продаж (рыночная д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атство собствен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осы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деление между собственниками и менеджер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йствие менеджеров исходя из собстве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циональное поведение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максимизируют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продаж (рыночная до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ство собствен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осыл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деление между собственниками и менеджера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йствие менеджеров исходя из собственных интере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альная модель рационального выб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д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 - множество возможных альтернатив x использования ограниченного ресурса - x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 - показатель  (функция) полезного эффекта получаемого от реализации конкретной альтернативы использования ограниченного ресурса – F(x), x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альная модель рационального выб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д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D - множество возможных альтернатив x использования ограниченного ресурса - x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 - показатель  (функция) полезного эффекта получаемого от реализации конкретной альтернативы использования ограниченного ресурса – F(x), x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знакомление с методологией микроэкономического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основных понятий и моделей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основных положений микроэкономической теории в области производства, потребления и рыночного обм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ллюстрация возможностей применения теоретических конструкций для анализа эконом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знакомление с методологией микроэкономического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основных понятий и моделей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учение основных положений микроэкономической теории в области производства, потребления и рыночного обме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ллюстрация возможностей применения теоретических конструкций для анализа экономических процес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 рациональности поведения экономического аг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реализации альтернативы x необходимо, чтобы выгоды от ее реализации B(x) превышали сопряженные с ней издержки C(x)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рациональности поведения экономического аген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реализации альтернативы x необходимо, чтобы выгоды от ее реализации B(x) превышали сопряженные с ней издержки C(x)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держки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ые переменные издержки – издержки, уровень которых зависит от степени использования (интенсивности, масштаба реализации) альтерна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вратные издержки – издержки, связанные с обеспечением необходимых для реализации альтернативы услов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вмененные) издер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держки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е переменные издержки – издержки, уровень которых зависит от степени использования (интенсивности, масштаба реализации) альтернатив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вратные издержки – издержки, связанные с обеспечением необходимых для реализации альтернативы услов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вмененные) издерж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экономических сист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не заинтересованы  в его изменен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новесие экономических сист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не заинтересованы  в его изменен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ето-эффектив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ределение блага X является оптимальным по Парето, если увеличение количества блага, получаемого любым из участников дележа, не может быть достигнуто без уменьшения количества этого блага, приходящегося на долю хотя бы одного из остальных учас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ето-эффектив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пределение блага X является оптимальным по Парето, если увеличение количества блага, получаемого любым из участников дележа, не может быть достигнуто без уменьшения количества этого блага, приходящегося на долю хотя бы одного из остальных учас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вни социально-экономического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Инстит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е стереотипы (встроенные институ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итуциональная среда (социально-политическое устрой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итуты управления (организационно-правовое устрой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щение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и социально-экономического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Институ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е стереотипы (встроенные институ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циональная среда (социально-политическое устройств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ты управления (организационно-правовое устрой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щение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итивный и нормативный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итивные модели отвечают на вопрос: «Что е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ые модели отвечают на вопрос: «Что должно бы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й и нормативный анали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е модели отвечают на вопрос: «Что е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тивные модели отвечают на вопрос: «Что должно бы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 и отрас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 – совокупность покупателей и продавцов, взаимодействие которых обеспечивает обм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сль – совокупность фирм, торгующих одним и тем же или родственными видами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сль – сторона, предлагающая товар на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к и отрас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к – совокупность покупателей и продавцов, взаимодействие которых обеспечивает обм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ь – совокупность фирм, торгующих одним и тем же или родственными видами това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ь – сторона, предлагающая товар на рын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едение в микроэкономи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поведения потреб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ки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ки факторов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ства рынка и роль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 в микроэкономи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оведения потреб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ки това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ки факторов произ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овершенства рынка и роль государ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теория и приклад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стиля обучения микроэкономической те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стая те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с приложениями для управления бизнесом (managerial/business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рсы микроэкономики и макроэкономики в процессе подготовки менедж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а в учебном плане факульт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1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роэкономика (2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ы (3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ровая экономика (4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2: теория отраслевой организации (6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теория и приклад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стиля обучения микроэкономической те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тая те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с приложениями для управления бизнесом (managerial/business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ы микроэкономики и макроэкономики в процессе подготовки менедже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а в учебном плане факульте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1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ка (2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ы (3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экономика (4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2: теория отраслевой организации (6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кладные экономические нау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еждународная эконом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Internation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еория отраслевой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Industri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кономика общественного сект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Public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кономическая теория организ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Organizatio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инансов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Financi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Прикладные экономические нау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Международная эконом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Internation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Теория отраслевой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Industri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Экономика общественного сект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Public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Экономическая теория организ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Organizatio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Финансов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Financi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удиторные заня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кции (64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бор теоретического материала и обсуждение прим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минары (32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ние задач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статей, примеров, аналитических вопро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рабо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удиторные заня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кции (64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бор теоретического материала и обсуждение приме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инары (32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ние задач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уждение статей, примеров, аналитических вопро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рабо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рабо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любой отрасли народного хозяйства с использованием основных микроэкономических категор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м курсовой работы – не более 15 страни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 должна быть оформлена в соответствии с основными требованиями к оформлению курсовых раб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кается коллективная работа над проектом (не более 4-х челов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новой вариант курсовой работы должен быть предоставлен научному руководителю не позже 4 декабря 2006 г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язательным условием допуска к защите курсовой работы является наличие презентации основных результатов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рабо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любой отрасли народного хозяйства с использованием основных микроэкономических категор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курсовой работы – не более 15 страни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 должна быть оформлена в соответствии с основными требованиями к оформлению курсовых рабо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кается коллективная работа над проектом (не более 4-х челове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новой вариант курсовой работы должен быть предоставлен научному руководителю не позже 4 декабря 2006 г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ным условием допуска к защите курсовой работы является наличие презентации основных результатов исслед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ценка по кур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к к экзамен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заданий, полученных на семинарских и лекционных занят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письменной работы в ходе промежуточной аттес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ежуточная аттест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 итоговой оцен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ительность – 1 час 15 минут (во время ле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оговый письменный экзам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0% итоговой оцен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ительность – 3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экзаменационной и аттестационной раб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1. Вопросы на выбор правильного отв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2: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3: аналитические вопросы (применение теоретических знаний для ответа на поставленный вопр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по кур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к к экзамен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заданий, полученных на семинарских и лекционных занят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письменной работы в ходе промежуточной аттест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межуточная аттестац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 итоговой оцен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должительность – 1 час 15 минут (во время лек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ый письменный экзам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итоговой оцен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должительность – 3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экзаменационной и аттестационной рабо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1. Вопросы на выбор правильного отве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2: задач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3: аналитические вопросы (применение теоретических знаний для ответа на поставленный вопро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оговая оц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симальное количество баллов – 1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от 76 и выш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 от 66 до 7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от 56 до 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ый экзамен – в дополнительную сессию в февра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ая оцен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симальное количество баллов –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 от 76 и выш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 от 66 до 7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от 56 до 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торный экзамен – в дополнительную сессию в февра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уемая литерату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ендиум по кур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эриан Х.Л. Микроэкономика. Промежуточный уровень. Современный подход: Учебние для вузов /Пер. с англ. под. ред. Н.Д.Фроловой. – М.: ЮНИТИ, 19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анк Р.Х. Микроэкономика и поведение. – М.:ИНФРА-М, 2000. – 696 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ндайк Р.С., Рабинфельд Д.Л. Микроэкономика. /Пер. с англ. – СПб.: Питер, 2002. – 608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ьвов Ю.А. Основы экономики и организации бизнеса. – СПб.: 199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льперин В.М., Игнатьев С.М., Моргунов В.И. Микроэкономика. В 2-х т. СПб., 1994-2002. www.economicus.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школа. 50 лекций по микроэкономике. В 2-х т. СПб., 2000. www.economicus.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расевич Л., Гребенников П., Леусский А., Микроэкономика http://www.finec.ru/rus/parts/microeconomics/titul.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мая 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ендиум по кур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эриан Х.Л. Микроэкономика. Промежуточный уровень. Современный подход: Учебние для вузов /Пер. с англ. под. ред. Н.Д.Фроловой. – М.: ЮНИТИ, 19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к Р.Х. Микроэкономика и поведение. – М.:ИНФРА-М, 2000. – 696 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индайк Р.С., Рабинфельд Д.Л. Микроэкономика. /Пер. с англ. – СПб.: Питер, 2002. – 608 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ьвов Ю.А. Основы экономики и организации бизнеса. – СПб.: 199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ьперин В.М., Игнатьев С.М., Моргунов В.И. Микроэкономика. В 2-х т. СПб., 1994-2002. www.economicus.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школа. 50 лекций по микроэкономике. В 2-х т. СПб., 2000. www.economicus.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расевич Л., Гребенников П., Леусский А., Микроэкономика http://www.finec.ru/rus/parts/microeconomics/titul.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ции и конт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ции проводятся по средам после ле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колова Екатерина Владимировна (sokolova@som.pu.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ляр Татьяна Моисеевна (skliar@ts3924.spb.ed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ганова Анастасия Александровна (taganova@som.pu.r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рехин Александр Викторович (alexjva@mail.r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и конт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проводятся по средам после лек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колова Екатерина Владимировна (sokolova@som.pu.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ляр Татьяна Моисеевна (skliar@ts3924.spb.ed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ганова Анастасия Александровна (taganova@som.pu.r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рехин Александр Викторович (alexjva@mail.r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466F5-AE5F-4889-9EAA-E63582BF3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7548A-D0F7-4332-BEA7-3188653DC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A4EDB-7CE3-40A4-ABB8-CD82C7CB9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B2A6A-7B7C-489A-A0EF-0AB05601D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D361B-C6B0-49D8-B948-2E372B3AD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6FAC8-ABDF-41D6-A5F6-B8BBE7D4A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AA7D2-0DC7-4B4C-8D69-E60B7079D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B2A1D-C64B-4511-A13A-D808D563D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C4834-6531-438D-B7CE-A9157DCE9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B49D3-AD57-48DE-9392-3110AE466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8D555-94C8-4D1A-BAB5-922D81933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CD4F8-93C9-44AD-B75D-76D45324C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71E6-9165-428D-A291-CBC10F155C1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Микроэкономика</a:t>
            </a:r>
            <a:endParaRPr b="0"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э.н., ст.преп. Соколова Е.В.</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акультет менеджмента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анкт-Петербургский государственный университет</a:t>
            </a:r>
            <a:endParaRPr b="0" lang="en-US" sz="2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ма 1. Введение в микроэкономику</a:t>
            </a: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граниченность ресурсов и задача выбора</a:t>
            </a:r>
            <a:endParaRPr b="0" lang="en-US" sz="4000" spc="-1" strike="noStrike">
              <a:solidFill>
                <a:srgbClr val="000000"/>
              </a:solidFill>
              <a:latin typeface="Arial"/>
            </a:endParaRPr>
          </a:p>
        </p:txBody>
      </p:sp>
      <p:sp>
        <p:nvSpPr>
          <p:cNvPr id="7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граниченность ресурсов</a:t>
            </a:r>
            <a:r>
              <a:rPr b="1"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озможность полного и одновременного удовлетворения </a:t>
            </a:r>
            <a:r>
              <a:rPr b="1" lang="ru-RU" sz="1800" spc="-1" strike="noStrike">
                <a:solidFill>
                  <a:srgbClr val="333399"/>
                </a:solidFill>
                <a:latin typeface="Arial"/>
              </a:rPr>
              <a:t>всех</a:t>
            </a:r>
            <a:r>
              <a:rPr b="1" lang="ru-RU" sz="1800" spc="-1" strike="noStrike">
                <a:solidFill>
                  <a:srgbClr val="000000"/>
                </a:solidFill>
                <a:latin typeface="Arial"/>
              </a:rPr>
              <a:t> потребностей </a:t>
            </a:r>
            <a:r>
              <a:rPr b="1" lang="ru-RU" sz="1800" spc="-1" strike="noStrike">
                <a:solidFill>
                  <a:srgbClr val="333399"/>
                </a:solidFill>
                <a:latin typeface="Arial"/>
              </a:rPr>
              <a:t>всех</a:t>
            </a:r>
            <a:r>
              <a:rPr b="1" lang="ru-RU" sz="1800" spc="-1" strike="noStrike">
                <a:solidFill>
                  <a:srgbClr val="000000"/>
                </a:solidFill>
                <a:latin typeface="Arial"/>
              </a:rPr>
              <a:t> людей</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озможность удовлетворения </a:t>
            </a:r>
            <a:r>
              <a:rPr b="1" lang="ru-RU" sz="1800" spc="-1" strike="noStrike">
                <a:solidFill>
                  <a:srgbClr val="333399"/>
                </a:solidFill>
                <a:latin typeface="Arial"/>
              </a:rPr>
              <a:t>всех</a:t>
            </a:r>
            <a:r>
              <a:rPr b="1" lang="ru-RU" sz="1800" spc="-1" strike="noStrike">
                <a:solidFill>
                  <a:srgbClr val="000000"/>
                </a:solidFill>
                <a:latin typeface="Arial"/>
              </a:rPr>
              <a:t> имеющихся альтернатив использования ресурса</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обходимость </a:t>
            </a:r>
            <a:r>
              <a:rPr b="1" lang="ru-RU" sz="2000" spc="-1" strike="noStrike">
                <a:solidFill>
                  <a:srgbClr val="333399"/>
                </a:solidFill>
                <a:latin typeface="Arial"/>
              </a:rPr>
              <a:t>выбора</a:t>
            </a:r>
            <a:r>
              <a:rPr b="1" lang="ru-RU" sz="2000" spc="-1" strike="noStrike">
                <a:solidFill>
                  <a:srgbClr val="000000"/>
                </a:solidFill>
                <a:latin typeface="Arial"/>
              </a:rPr>
              <a:t> из нескольких </a:t>
            </a:r>
            <a:r>
              <a:rPr b="1" lang="ru-RU" sz="2000" spc="-1" strike="noStrike">
                <a:solidFill>
                  <a:srgbClr val="333399"/>
                </a:solidFill>
                <a:latin typeface="Arial"/>
              </a:rPr>
              <a:t>доступных</a:t>
            </a:r>
            <a:r>
              <a:rPr b="1" lang="ru-RU" sz="2000" spc="-1" strike="noStrike">
                <a:solidFill>
                  <a:srgbClr val="000000"/>
                </a:solidFill>
                <a:latin typeface="Arial"/>
              </a:rPr>
              <a:t> альтернати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Конкуренция</a:t>
            </a:r>
            <a:r>
              <a:rPr b="1" lang="ru-RU" sz="2000" spc="-1" strike="noStrike">
                <a:solidFill>
                  <a:srgbClr val="000000"/>
                </a:solidFill>
                <a:latin typeface="Arial"/>
              </a:rPr>
              <a:t> за использование ограниченных ресурсов</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нкуренция между </a:t>
            </a:r>
            <a:r>
              <a:rPr b="1" i="1" lang="ru-RU" sz="1800" spc="-1" strike="noStrike">
                <a:solidFill>
                  <a:srgbClr val="333399"/>
                </a:solidFill>
                <a:latin typeface="Arial"/>
              </a:rPr>
              <a:t>альтернативными целями</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носительность ограниченности ресурсов</a:t>
            </a:r>
            <a:endParaRPr b="0" lang="en-US" sz="20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ая задача</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гда можно сказать, что рассматриваемая задача является экономическо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айонел Роббинс («Предмет экономической науки», 193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ловек стремится к </a:t>
            </a:r>
            <a:r>
              <a:rPr b="1" lang="ru-RU" sz="2400" spc="-1" strike="noStrike">
                <a:solidFill>
                  <a:srgbClr val="333399"/>
                </a:solidFill>
                <a:latin typeface="Arial"/>
              </a:rPr>
              <a:t>различным</a:t>
            </a:r>
            <a:r>
              <a:rPr b="1" lang="ru-RU" sz="2400" spc="-1" strike="noStrike">
                <a:solidFill>
                  <a:srgbClr val="000000"/>
                </a:solidFill>
                <a:latin typeface="Arial"/>
              </a:rPr>
              <a:t> целя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ремя и средства, находящиеся в его распоряжении, </a:t>
            </a:r>
            <a:r>
              <a:rPr b="1" lang="ru-RU" sz="2400" spc="-1" strike="noStrike">
                <a:solidFill>
                  <a:srgbClr val="333399"/>
                </a:solidFill>
                <a:latin typeface="Arial"/>
              </a:rPr>
              <a:t>ограничен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и могут быть направлены  на достижение </a:t>
            </a:r>
            <a:r>
              <a:rPr b="1" lang="ru-RU" sz="2400" spc="-1" strike="noStrike">
                <a:solidFill>
                  <a:srgbClr val="333399"/>
                </a:solidFill>
                <a:latin typeface="Arial"/>
              </a:rPr>
              <a:t>альтернативных</a:t>
            </a:r>
            <a:r>
              <a:rPr b="1" lang="ru-RU" sz="2400" spc="-1" strike="noStrike">
                <a:solidFill>
                  <a:srgbClr val="000000"/>
                </a:solidFill>
                <a:latin typeface="Arial"/>
              </a:rPr>
              <a:t> целе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каждый момент времени разные цели обладают различной </a:t>
            </a:r>
            <a:r>
              <a:rPr b="1" lang="ru-RU" sz="2400" spc="-1" strike="noStrike">
                <a:solidFill>
                  <a:srgbClr val="333399"/>
                </a:solidFill>
                <a:latin typeface="Arial"/>
              </a:rPr>
              <a:t>важностью</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ая задача</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обходимость одновременного действия всех четырех условий</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произойдет, если какое-то условие не выполняетс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динственная цел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ножественность целей без ограниченности ресурсо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граниченность ресурсов без возможности их альтернативного использовани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личие альтернативных возможностей использования ресурсов без приоритетности целей</a:t>
            </a:r>
            <a:endParaRPr b="0" lang="en-US" sz="24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Альтернативные затраты</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льтернативные затраты (</a:t>
            </a:r>
            <a:r>
              <a:rPr b="1" lang="en-US" sz="2800" spc="-1" strike="noStrike">
                <a:solidFill>
                  <a:srgbClr val="000000"/>
                </a:solidFill>
                <a:latin typeface="Arial"/>
              </a:rPr>
              <a:t>opportunity costs) – </a:t>
            </a:r>
            <a:r>
              <a:rPr b="1" lang="ru-RU" sz="2800" spc="-1" strike="noStrike">
                <a:solidFill>
                  <a:srgbClr val="333399"/>
                </a:solidFill>
                <a:latin typeface="Arial"/>
              </a:rPr>
              <a:t>доход</a:t>
            </a:r>
            <a:r>
              <a:rPr b="1" lang="ru-RU" sz="2800" spc="-1" strike="noStrike">
                <a:solidFill>
                  <a:srgbClr val="000000"/>
                </a:solidFill>
                <a:latin typeface="Arial"/>
              </a:rPr>
              <a:t> от наилучшей из оставшихся альтернатив использования ресурс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пользование понятия альтернативных затрат при принятии решений</a:t>
            </a:r>
            <a:endParaRPr b="0" lang="en-US" sz="28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ундаментальные задачи экономики</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производи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производи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кого производит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оль системы цен</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икроэкономика как теория цен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еханизмы распределения ограниченных ресурсов</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Традицион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Команд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Рыноч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Смешан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едмет экономической науки</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Способы решения задачи выбора между конкурирующими </a:t>
            </a:r>
            <a:r>
              <a:rPr b="1" lang="ru-RU" sz="3200" spc="-1" strike="noStrike" u="sng">
                <a:solidFill>
                  <a:srgbClr val="333399"/>
                </a:solidFill>
                <a:uFillTx/>
                <a:latin typeface="Arial"/>
              </a:rPr>
              <a:t>целями использования</a:t>
            </a:r>
            <a:r>
              <a:rPr b="1" lang="ru-RU" sz="3200" spc="-1" strike="noStrike">
                <a:solidFill>
                  <a:srgbClr val="333399"/>
                </a:solidFill>
                <a:latin typeface="Arial"/>
              </a:rPr>
              <a:t> ограниченных ресурсо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ТЕОРЕМА О НЕВИДИМОЙ РУКЕ»</a:t>
            </a:r>
            <a:endParaRPr b="0" lang="en-US" sz="36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ждый человек имеет в виду лишь собственный интерес, преследует лишь собственную выгоду…</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r>
              <a:rPr b="1" i="1" lang="ru-RU" sz="2800" spc="-1" strike="noStrike">
                <a:solidFill>
                  <a:srgbClr val="000000"/>
                </a:solidFill>
                <a:latin typeface="Arial"/>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А.Смит </a:t>
            </a:r>
            <a:endParaRPr b="0" lang="en-US" sz="28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икроэкономика и макроэкономика</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Микроэкономика</a:t>
            </a:r>
            <a:r>
              <a:rPr b="1" lang="ru-RU" sz="2800" spc="-1" strike="noStrike">
                <a:solidFill>
                  <a:srgbClr val="000000"/>
                </a:solidFill>
                <a:latin typeface="Arial"/>
              </a:rPr>
              <a:t>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Макроэкономика</a:t>
            </a:r>
            <a:r>
              <a:rPr b="1" lang="ru-RU" sz="2800" spc="-1" strike="noStrike">
                <a:solidFill>
                  <a:srgbClr val="000000"/>
                </a:solidFill>
                <a:latin typeface="Arial"/>
              </a:rPr>
              <a:t> исследует функционирование экономической системы в целом и крупных ее секторов</a:t>
            </a:r>
            <a:endParaRPr b="0" lang="en-US" sz="28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Цель курса</a:t>
            </a:r>
            <a:endParaRPr b="0" lang="en-US" sz="4400" spc="-1" strike="noStrike">
              <a:solidFill>
                <a:srgbClr val="000000"/>
              </a:solidFill>
              <a:latin typeface="Arial"/>
            </a:endParaRPr>
          </a:p>
        </p:txBody>
      </p:sp>
      <p:sp>
        <p:nvSpPr>
          <p:cNvPr id="52" name="PlaceHolder 2"/>
          <p:cNvSpPr>
            <a:spLocks noGrp="1"/>
          </p:cNvSpPr>
          <p:nvPr>
            <p:ph/>
          </p:nvPr>
        </p:nvSpPr>
        <p:spPr>
          <a:xfrm>
            <a:off x="457200" y="1341000"/>
            <a:ext cx="8229600" cy="532764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учение микроэкономической теории на вводном уровне:</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смотрение основных проблем, изучаемых в рамках микроэкономической теории</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ределение основных понятий и рассмотрение базовых математических моделей, формализующих их</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2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 микроэкономики</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условленное ограниченностью ресурсов </a:t>
            </a:r>
            <a:r>
              <a:rPr b="1" lang="en-US" sz="2800" spc="-1" strike="noStrike">
                <a:solidFill>
                  <a:srgbClr val="333399"/>
                </a:solidFill>
                <a:latin typeface="Arial"/>
              </a:rPr>
              <a:t>поведение</a:t>
            </a:r>
            <a:r>
              <a:rPr b="1" lang="en-US" sz="2800" spc="-1" strike="noStrike">
                <a:solidFill>
                  <a:srgbClr val="000000"/>
                </a:solidFill>
                <a:latin typeface="Arial"/>
              </a:rPr>
              <a:t> (принимаемые экономические решения) </a:t>
            </a:r>
            <a:r>
              <a:rPr b="1" lang="en-US" sz="2800" spc="-1" strike="noStrike">
                <a:solidFill>
                  <a:srgbClr val="333399"/>
                </a:solidFill>
                <a:latin typeface="Arial"/>
              </a:rPr>
              <a:t>экономических агентов</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требителей</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ирм</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машних хозяйств</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равительственных организаций</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функционирование </a:t>
            </a:r>
            <a:r>
              <a:rPr b="1" lang="en-US" sz="2800" spc="-1" strike="noStrike">
                <a:solidFill>
                  <a:srgbClr val="000000"/>
                </a:solidFill>
                <a:latin typeface="Arial"/>
              </a:rPr>
              <a:t>отдельных</a:t>
            </a:r>
            <a:r>
              <a:rPr b="1" lang="en-US" sz="2800" spc="-1" strike="noStrike">
                <a:solidFill>
                  <a:srgbClr val="333399"/>
                </a:solidFill>
                <a:latin typeface="Arial"/>
              </a:rPr>
              <a:t> рынков</a:t>
            </a:r>
            <a:r>
              <a:rPr b="1" lang="ru-RU" sz="2800" spc="-1" strike="noStrike">
                <a:solidFill>
                  <a:srgbClr val="000000"/>
                </a:solidFill>
                <a:latin typeface="Arial"/>
              </a:rPr>
              <a:t>, проявляющееся в формировании цен, объемов спроса и предложения</a:t>
            </a:r>
            <a:endParaRPr b="0" lang="en-US" sz="28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етодология микроэкономики</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следование объектов познания не непосредственно, а посредством анализа некоторых вспомогательных объектов, которые называют </a:t>
            </a:r>
            <a:r>
              <a:rPr b="1" i="1" lang="ru-RU" sz="3200" spc="-1" strike="noStrike">
                <a:solidFill>
                  <a:srgbClr val="333399"/>
                </a:solidFill>
                <a:latin typeface="Arial"/>
              </a:rPr>
              <a:t>моделями</a:t>
            </a:r>
            <a:endParaRPr b="0" lang="en-US" sz="32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Модели</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modulus</a:t>
            </a:r>
            <a:r>
              <a:rPr b="1" lang="ru-RU" sz="2800" spc="-1" strike="noStrike">
                <a:solidFill>
                  <a:srgbClr val="000000"/>
                </a:solidFill>
                <a:latin typeface="Arial"/>
              </a:rPr>
              <a:t> – мера, образе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ъект, отличный от исследуемого оригинала</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прощенное описание исходного объекта изучени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писание, воспроизводящее существенные с точки зрения целей проводимого исследования свойства оригинала</a:t>
            </a:r>
            <a:r>
              <a:rPr b="1"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ные типы моделирования</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Материальное</a:t>
            </a:r>
            <a:r>
              <a:rPr b="0" lang="ru-RU" sz="3200" spc="-1" strike="noStrike">
                <a:solidFill>
                  <a:srgbClr val="000000"/>
                </a:solidFill>
                <a:latin typeface="Arial"/>
              </a:rPr>
              <a:t> – воспроизведение основных характеристик</a:t>
            </a:r>
            <a:r>
              <a:rPr b="0" lang="en-US" sz="3200" spc="-1" strike="noStrike">
                <a:solidFill>
                  <a:srgbClr val="000000"/>
                </a:solidFill>
                <a:latin typeface="Arial"/>
              </a:rPr>
              <a:t> (</a:t>
            </a:r>
            <a:r>
              <a:rPr b="0" lang="ru-RU" sz="3200" spc="-1" strike="noStrike">
                <a:solidFill>
                  <a:srgbClr val="000000"/>
                </a:solidFill>
                <a:latin typeface="Arial"/>
              </a:rPr>
              <a:t>в т.ч. фЫизических) моделируемого объект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Идеальное</a:t>
            </a:r>
            <a:r>
              <a:rPr b="0" lang="ru-RU" sz="3200" spc="-1" strike="noStrike">
                <a:solidFill>
                  <a:srgbClr val="000000"/>
                </a:solidFill>
                <a:latin typeface="Arial"/>
              </a:rPr>
              <a:t> – идеальная аналогия. Теоретический характер моделирова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сновные типы моделей в экономике</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бальны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кономико-математические</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ие модел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одержательность и реалистичность принятых посылок и допущений</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сказательная способност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зможность информационного обеспечения и верификаци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бщность</a:t>
            </a:r>
            <a:endParaRPr b="0" lang="en-US" sz="28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ие модели</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птимизационные</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следование поведения </a:t>
            </a:r>
            <a:r>
              <a:rPr b="1" i="1" lang="ru-RU" sz="2800" spc="-1" strike="noStrike">
                <a:solidFill>
                  <a:srgbClr val="333399"/>
                </a:solidFill>
                <a:latin typeface="Arial"/>
              </a:rPr>
              <a:t>отдельных</a:t>
            </a:r>
            <a:r>
              <a:rPr b="1" lang="ru-RU" sz="2800" spc="-1" strike="noStrike">
                <a:solidFill>
                  <a:srgbClr val="000000"/>
                </a:solidFill>
                <a:latin typeface="Arial"/>
              </a:rPr>
              <a:t> экономических агентов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авновесные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следование взаимоотношений </a:t>
            </a:r>
            <a:r>
              <a:rPr b="1" i="1" lang="ru-RU" sz="2800" spc="-1" strike="noStrike">
                <a:solidFill>
                  <a:srgbClr val="333399"/>
                </a:solidFill>
                <a:latin typeface="Arial"/>
              </a:rPr>
              <a:t>между</a:t>
            </a:r>
            <a:r>
              <a:rPr b="1" lang="ru-RU" sz="2800" spc="-1" strike="noStrike">
                <a:solidFill>
                  <a:srgbClr val="000000"/>
                </a:solidFill>
                <a:latin typeface="Arial"/>
              </a:rPr>
              <a:t> экономическими агентами </a:t>
            </a:r>
            <a:endParaRPr b="0" lang="en-US" sz="28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циональное поведение экономических агентов</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дивид (фирма) всегда выбирает оптимальное (ЛУЧШЕЕ) при имеющихся ограничениях и информации решение</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пределение понятия «ЛУЧШЕЕ»</a:t>
            </a: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дивиды максимизируют удовлетворение своих потребностей, называемое </a:t>
            </a:r>
            <a:r>
              <a:rPr b="1" i="1" lang="ru-RU" sz="2800" spc="-1" strike="noStrike">
                <a:solidFill>
                  <a:srgbClr val="333399"/>
                </a:solidFill>
                <a:latin typeface="Arial"/>
              </a:rPr>
              <a:t>полезностью</a:t>
            </a:r>
            <a:endParaRPr b="0" lang="en-US" sz="28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циональное поведение экономических агентов</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максимизируют фирм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был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ъем продаж (рыночная дол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гатство собственников</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едпосылки</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деление между собственниками и менеджерами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ействие менеджеров исходя из собственных интересов</a:t>
            </a:r>
            <a:endParaRPr b="0" lang="en-US" sz="20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ормальная модель рационального выбора</a:t>
            </a:r>
            <a:endParaRPr b="0" lang="en-US" sz="4000" spc="-1" strike="noStrike">
              <a:solidFill>
                <a:srgbClr val="000000"/>
              </a:solidFill>
              <a:latin typeface="Arial"/>
            </a:endParaRPr>
          </a:p>
        </p:txBody>
      </p:sp>
      <p:sp>
        <p:nvSpPr>
          <p:cNvPr id="133" name="PlaceHolder 2"/>
          <p:cNvSpPr>
            <a:spLocks noGrp="1"/>
          </p:cNvSpPr>
          <p:nvPr>
            <p:ph/>
          </p:nvPr>
        </p:nvSpPr>
        <p:spPr>
          <a:xfrm>
            <a:off x="457200" y="3789000"/>
            <a:ext cx="8229600" cy="2336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D -</a:t>
            </a:r>
            <a:r>
              <a:rPr b="0" lang="ru-RU" sz="2400" spc="-1" strike="noStrike">
                <a:solidFill>
                  <a:srgbClr val="000000"/>
                </a:solidFill>
                <a:latin typeface="Arial"/>
              </a:rPr>
              <a:t> множество возможных альтернатив </a:t>
            </a:r>
            <a:r>
              <a:rPr b="1" i="1" lang="ru-RU" sz="2400" spc="-1" strike="noStrike">
                <a:solidFill>
                  <a:srgbClr val="000000"/>
                </a:solidFill>
                <a:latin typeface="Arial"/>
              </a:rPr>
              <a:t>x</a:t>
            </a:r>
            <a:r>
              <a:rPr b="0" lang="ru-RU" sz="2400" spc="-1" strike="noStrike">
                <a:solidFill>
                  <a:srgbClr val="000000"/>
                </a:solidFill>
                <a:latin typeface="Arial"/>
              </a:rPr>
              <a:t> использования ограниченного ресурса - </a:t>
            </a:r>
            <a:r>
              <a:rPr b="0" i="1" lang="ru-RU" sz="2400" spc="-1" strike="noStrike">
                <a:solidFill>
                  <a:srgbClr val="000000"/>
                </a:solidFill>
                <a:latin typeface="Arial"/>
              </a:rPr>
              <a:t>x</a:t>
            </a:r>
            <a:r>
              <a:rPr b="0" lang="ru-RU" sz="2400" spc="-1" strike="noStrike">
                <a:solidFill>
                  <a:srgbClr val="000000"/>
                </a:solidFill>
                <a:latin typeface="Symbol"/>
                <a:ea typeface="Symbol"/>
              </a:rPr>
              <a:t></a:t>
            </a:r>
            <a:r>
              <a:rPr b="0" i="1" lang="ru-RU" sz="2400" spc="-1" strike="noStrike">
                <a:solidFill>
                  <a:srgbClr val="000000"/>
                </a:solidFill>
                <a:latin typeface="Arial"/>
              </a:rPr>
              <a:t>D</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F</a:t>
            </a:r>
            <a:r>
              <a:rPr b="0" lang="ru-RU" sz="2400" spc="-1" strike="noStrike">
                <a:solidFill>
                  <a:srgbClr val="000000"/>
                </a:solidFill>
                <a:latin typeface="Arial"/>
              </a:rPr>
              <a:t> - показатель  (функция) полезного эффекта получаемого от реализации конкретной альтернативы использования ограниченного ресурса – </a:t>
            </a:r>
            <a:r>
              <a:rPr b="1" i="1" lang="ru-RU" sz="2400" spc="-1" strike="noStrike">
                <a:solidFill>
                  <a:srgbClr val="000000"/>
                </a:solidFill>
                <a:latin typeface="Arial"/>
              </a:rPr>
              <a:t>F</a:t>
            </a:r>
            <a:r>
              <a:rPr b="1" lang="ru-RU" sz="2400" spc="-1" strike="noStrike">
                <a:solidFill>
                  <a:srgbClr val="000000"/>
                </a:solidFill>
                <a:latin typeface="Arial"/>
              </a:rPr>
              <a:t>(</a:t>
            </a:r>
            <a:r>
              <a:rPr b="1" i="1" lang="ru-RU" sz="2400" spc="-1" strike="noStrike">
                <a:solidFill>
                  <a:srgbClr val="000000"/>
                </a:solidFill>
                <a:latin typeface="Arial"/>
              </a:rPr>
              <a:t>x</a:t>
            </a:r>
            <a:r>
              <a:rPr b="1" lang="ru-RU" sz="2400" spc="-1" strike="noStrike">
                <a:solidFill>
                  <a:srgbClr val="000000"/>
                </a:solidFill>
                <a:latin typeface="Arial"/>
              </a:rPr>
              <a:t>)</a:t>
            </a:r>
            <a:r>
              <a:rPr b="0" lang="ru-RU" sz="2400" spc="-1" strike="noStrike">
                <a:solidFill>
                  <a:srgbClr val="000000"/>
                </a:solidFill>
                <a:latin typeface="Arial"/>
              </a:rPr>
              <a:t>, </a:t>
            </a:r>
            <a:r>
              <a:rPr b="1" i="1" lang="ru-RU" sz="2400" spc="-1" strike="noStrike">
                <a:solidFill>
                  <a:srgbClr val="000000"/>
                </a:solidFill>
                <a:latin typeface="Arial"/>
              </a:rPr>
              <a:t>x</a:t>
            </a:r>
            <a:r>
              <a:rPr b="0" lang="ru-RU" sz="2400" spc="-1" strike="noStrike">
                <a:solidFill>
                  <a:srgbClr val="000000"/>
                </a:solidFill>
                <a:latin typeface="Symbol"/>
                <a:ea typeface="Symbol"/>
              </a:rPr>
              <a:t></a:t>
            </a:r>
            <a:r>
              <a:rPr b="1" i="1" lang="ru-RU" sz="2400" spc="-1" strike="noStrike">
                <a:solidFill>
                  <a:srgbClr val="000000"/>
                </a:solidFill>
                <a:latin typeface="Arial"/>
              </a:rPr>
              <a:t>D</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5" name="Object 4"/>
              <p:cNvSpPr txBox="1"/>
              <p:nvPr/>
            </p:nvSpPr>
            <p:spPr>
              <a:xfrm>
                <a:off x="468360" y="1700280"/>
                <a:ext cx="3384360" cy="2100240"/>
              </a:xfrm>
              <a:prstGeom prst="rect">
                <a:avLst/>
              </a:prstGeom>
            </p:spPr>
            <p:txBody>
              <a:bodyPr/>
              <a:p>
                <a14:m>
                  <m:oMath xmlns:m="http://schemas.openxmlformats.org/officeDocument/2006/math">
                    <m:eqArr>
                      <m:e>
                        <m:d>
                          <m:dPr>
                            <m:begChr m:val="{"/>
                            <m:endChr m:val=""/>
                          </m:dPr>
                          <m:e>
                            <m:r>
                              <m:rPr>
                                <m:lit/>
                                <m:nor/>
                              </m:rPr>
                              <m:t xml:space="preserve">max</m:t>
                            </m:r>
                            <m:r>
                              <m:t xml:space="preserve"> </m:t>
                            </m:r>
                            <m:r>
                              <m:t xml:space="preserve">F</m:t>
                            </m:r>
                            <m:r>
                              <m:t xml:space="preserve">(</m:t>
                            </m:r>
                            <m:r>
                              <m:t xml:space="preserve">x</m:t>
                            </m:r>
                            <m:r>
                              <m:t xml:space="preserve">)</m:t>
                            </m:r>
                          </m:e>
                          <m:e/>
                        </m:d>
                      </m:e>
                    </m:eqArr>
                  </m:oMath>
                </a14:m>
              </a:p>
            </p:txBody>
          </p:sp>
        </mc:Choice>
        <mc:Fallback/>
      </mc:AlternateContent>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Задачи курса</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знакомление с методологией микроэкономического анализ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ение основных понятий и моделей микроэкономики</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учение основных положений микроэкономической теории в области производства, потребления и рыночного обмен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ллюстрация возможностей применения теоретических конструкций для анализа экономических процессов</a:t>
            </a:r>
            <a:endParaRPr b="0" lang="en-US" sz="2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инцип рациональности поведения экономического агента</a:t>
            </a:r>
            <a:endParaRPr b="0" lang="en-US" sz="36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ля реализации альтернативы </a:t>
            </a:r>
            <a:r>
              <a:rPr b="1" i="1" lang="ru-RU" sz="3200" spc="-1" strike="noStrike">
                <a:solidFill>
                  <a:srgbClr val="000000"/>
                </a:solidFill>
                <a:latin typeface="Arial"/>
              </a:rPr>
              <a:t>x</a:t>
            </a:r>
            <a:r>
              <a:rPr b="1" lang="ru-RU" sz="3200" spc="-1" strike="noStrike">
                <a:solidFill>
                  <a:srgbClr val="000000"/>
                </a:solidFill>
                <a:latin typeface="Arial"/>
              </a:rPr>
              <a:t> необходимо, чтобы выгоды от ее реализации </a:t>
            </a:r>
            <a:r>
              <a:rPr b="1" i="1" lang="ru-RU" sz="3200" spc="-1" strike="noStrike">
                <a:solidFill>
                  <a:srgbClr val="000000"/>
                </a:solidFill>
                <a:latin typeface="Arial"/>
              </a:rPr>
              <a:t>B(x)</a:t>
            </a:r>
            <a:r>
              <a:rPr b="1" lang="ru-RU" sz="3200" spc="-1" strike="noStrike">
                <a:solidFill>
                  <a:srgbClr val="000000"/>
                </a:solidFill>
                <a:latin typeface="Arial"/>
              </a:rPr>
              <a:t> превышали </a:t>
            </a:r>
            <a:r>
              <a:rPr b="1" i="1" lang="ru-RU" sz="3200" spc="-1" strike="noStrike">
                <a:solidFill>
                  <a:srgbClr val="000000"/>
                </a:solidFill>
                <a:latin typeface="Arial"/>
              </a:rPr>
              <a:t>сопряженные с ней</a:t>
            </a:r>
            <a:r>
              <a:rPr b="1" lang="ru-RU" sz="3200" spc="-1" strike="noStrike">
                <a:solidFill>
                  <a:srgbClr val="000000"/>
                </a:solidFill>
                <a:latin typeface="Arial"/>
              </a:rPr>
              <a:t> издержки </a:t>
            </a:r>
            <a:r>
              <a:rPr b="1" i="1" lang="ru-RU" sz="3200" spc="-1" strike="noStrike">
                <a:solidFill>
                  <a:srgbClr val="000000"/>
                </a:solidFill>
                <a:latin typeface="Arial"/>
              </a:rPr>
              <a:t>C(x)</a:t>
            </a:r>
            <a:r>
              <a:rPr b="1" lang="ru-RU" sz="3200" spc="-1" strike="noStrike">
                <a:solidFill>
                  <a:srgbClr val="000000"/>
                </a:solidFill>
                <a:latin typeface="Arial"/>
              </a:rPr>
              <a:t>  </a:t>
            </a:r>
            <a:br>
              <a:rPr sz="3200"/>
            </a:b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здержки экономических агентов</a:t>
            </a:r>
            <a:endParaRPr b="0" lang="en-US" sz="3600" spc="-1" strike="noStrike">
              <a:solidFill>
                <a:srgbClr val="000000"/>
              </a:solidFill>
              <a:latin typeface="Arial"/>
            </a:endParaRPr>
          </a:p>
        </p:txBody>
      </p:sp>
      <p:sp>
        <p:nvSpPr>
          <p:cNvPr id="141"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Прямые переменные</a:t>
            </a:r>
            <a:r>
              <a:rPr b="1" i="1" lang="ru-RU" sz="2800" spc="-1" strike="noStrike">
                <a:solidFill>
                  <a:srgbClr val="000000"/>
                </a:solidFill>
                <a:latin typeface="Arial"/>
              </a:rPr>
              <a:t> издержки</a:t>
            </a:r>
            <a:r>
              <a:rPr b="1" lang="ru-RU" sz="2800" spc="-1" strike="noStrike">
                <a:solidFill>
                  <a:srgbClr val="000000"/>
                </a:solidFill>
                <a:latin typeface="Arial"/>
              </a:rPr>
              <a:t> – издержки, уровень которых зависит от степени использования (интенсивности, масштаба реализации) альтернатив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Невозвратные </a:t>
            </a:r>
            <a:r>
              <a:rPr b="1" i="1" lang="ru-RU" sz="2800" spc="-1" strike="noStrike">
                <a:solidFill>
                  <a:srgbClr val="000000"/>
                </a:solidFill>
                <a:latin typeface="Arial"/>
              </a:rPr>
              <a:t>издержки</a:t>
            </a:r>
            <a:r>
              <a:rPr b="1" lang="ru-RU" sz="2800" spc="-1" strike="noStrike">
                <a:solidFill>
                  <a:srgbClr val="000000"/>
                </a:solidFill>
                <a:latin typeface="Arial"/>
              </a:rPr>
              <a:t> – издержки, связанные с обеспечением необходимых для реализации альтернативы услов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Альтернативные </a:t>
            </a:r>
            <a:r>
              <a:rPr b="1" lang="ru-RU" sz="2800" spc="-1" strike="noStrike">
                <a:solidFill>
                  <a:srgbClr val="000000"/>
                </a:solidFill>
                <a:latin typeface="Arial"/>
              </a:rPr>
              <a:t>(вмененные) издержки</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вновесие экономических систем</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a:t>
            </a:r>
            <a:r>
              <a:rPr b="1" lang="en-US" sz="3200" spc="-1" strike="noStrike">
                <a:solidFill>
                  <a:srgbClr val="333399"/>
                </a:solidFill>
                <a:latin typeface="Arial"/>
              </a:rPr>
              <a:t>не заинтересованы</a:t>
            </a:r>
            <a:r>
              <a:rPr b="1" lang="en-US" sz="3200" spc="-1" strike="noStrike">
                <a:solidFill>
                  <a:srgbClr val="000000"/>
                </a:solidFill>
                <a:latin typeface="Arial"/>
              </a:rPr>
              <a:t>  в его изменении</a:t>
            </a: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арето-эффективность</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пределение блага </a:t>
            </a:r>
            <a:r>
              <a:rPr b="1" i="1" lang="ru-RU" sz="2400" spc="-1" strike="noStrike">
                <a:solidFill>
                  <a:srgbClr val="000000"/>
                </a:solidFill>
                <a:latin typeface="Arial"/>
              </a:rPr>
              <a:t>X</a:t>
            </a:r>
            <a:r>
              <a:rPr b="1" lang="ru-RU" sz="2400" spc="-1" strike="noStrike">
                <a:solidFill>
                  <a:srgbClr val="000000"/>
                </a:solidFill>
                <a:latin typeface="Arial"/>
              </a:rPr>
              <a:t> является </a:t>
            </a:r>
            <a:r>
              <a:rPr b="1" lang="ru-RU" sz="2400" spc="-1" strike="noStrike" u="sng">
                <a:solidFill>
                  <a:srgbClr val="000000"/>
                </a:solidFill>
                <a:uFillTx/>
                <a:latin typeface="Arial"/>
              </a:rPr>
              <a:t>оптимальным по Парето</a:t>
            </a:r>
            <a:r>
              <a:rPr b="1" lang="ru-RU" sz="2400" spc="-1" strike="noStrike">
                <a:solidFill>
                  <a:srgbClr val="000000"/>
                </a:solidFill>
                <a:latin typeface="Arial"/>
              </a:rPr>
              <a:t>, если </a:t>
            </a:r>
            <a:r>
              <a:rPr b="1" lang="ru-RU" sz="2400" spc="-1" strike="noStrike">
                <a:solidFill>
                  <a:srgbClr val="333399"/>
                </a:solidFill>
                <a:latin typeface="Arial"/>
              </a:rPr>
              <a:t>увеличение количества блага</a:t>
            </a:r>
            <a:r>
              <a:rPr b="1" lang="ru-RU" sz="2400" spc="-1" strike="noStrike">
                <a:solidFill>
                  <a:srgbClr val="000000"/>
                </a:solidFill>
                <a:latin typeface="Arial"/>
              </a:rPr>
              <a:t>, получаемого любым из участников дележа, не может быть достигнуто </a:t>
            </a:r>
            <a:r>
              <a:rPr b="1" lang="ru-RU" sz="2400" spc="-1" strike="noStrike">
                <a:solidFill>
                  <a:srgbClr val="333399"/>
                </a:solidFill>
                <a:latin typeface="Arial"/>
              </a:rPr>
              <a:t>без уменьшения</a:t>
            </a:r>
            <a:r>
              <a:rPr b="1" lang="ru-RU" sz="2400" spc="-1" strike="noStrike">
                <a:solidFill>
                  <a:srgbClr val="000000"/>
                </a:solidFill>
                <a:latin typeface="Arial"/>
              </a:rPr>
              <a:t> количества этого блага, приходящегося на долю хотя бы одного из остальных участнико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24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ровни социально-экономического анализа</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нятие «Института»</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циальные стереотипы (встроенные институты)</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итуциональная среда (социально-политическое устройство)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итуты управления (организационно-правовое устройство)</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мещение ограниченных ресурсов</a:t>
            </a:r>
            <a:endParaRPr b="0" lang="en-US" sz="24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озитивный и нормативный анализ</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зитивные модели отвечают на вопрос: «</a:t>
            </a:r>
            <a:r>
              <a:rPr b="1" lang="ru-RU" sz="3200" spc="-1" strike="noStrike">
                <a:solidFill>
                  <a:srgbClr val="333399"/>
                </a:solidFill>
                <a:latin typeface="Arial"/>
              </a:rPr>
              <a:t>Что есть?</a:t>
            </a:r>
            <a:r>
              <a:rPr b="1"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рмативные модели отвечают на вопрос: «</a:t>
            </a:r>
            <a:r>
              <a:rPr b="1" lang="ru-RU" sz="3200" spc="-1" strike="noStrike">
                <a:solidFill>
                  <a:srgbClr val="333399"/>
                </a:solidFill>
                <a:latin typeface="Arial"/>
              </a:rPr>
              <a:t>Что должно быть?</a:t>
            </a:r>
            <a:r>
              <a:rPr b="1" lang="ru-RU" sz="3200" spc="-1" strike="noStrike">
                <a:solidFill>
                  <a:srgbClr val="000000"/>
                </a:solidFill>
                <a:latin typeface="Arial"/>
              </a:rPr>
              <a:t>»</a:t>
            </a:r>
            <a:endParaRPr b="0" lang="en-US" sz="32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ынок и отрасль</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Рынок</a:t>
            </a:r>
            <a:r>
              <a:rPr b="1" lang="ru-RU" sz="2800" spc="-1" strike="noStrike">
                <a:solidFill>
                  <a:srgbClr val="000000"/>
                </a:solidFill>
                <a:latin typeface="Arial"/>
              </a:rPr>
              <a:t> – совокупность покупателей и продавцов, взаимодействие которых обеспечивает обмен</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Отрасль</a:t>
            </a:r>
            <a:r>
              <a:rPr b="1" lang="ru-RU" sz="2800" spc="-1" strike="noStrike">
                <a:solidFill>
                  <a:srgbClr val="000000"/>
                </a:solidFill>
                <a:latin typeface="Arial"/>
              </a:rPr>
              <a:t> – совокупность фирм, торгующих одним и тем же или родственными видами товаро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трасль – сторона, предлагающая товар на рынке</a:t>
            </a:r>
            <a:endParaRPr b="0" lang="en-US" sz="24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труктура курса</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ведение в микроэкономику</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поведения потребителя</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фирмы</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ынки товаров</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ынки факторов производства</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совершенства рынка и роль государства</a:t>
            </a:r>
            <a:endParaRPr b="0" lang="en-US" sz="2400" spc="-1" strike="noStrike">
              <a:solidFill>
                <a:srgbClr val="000000"/>
              </a:solidFill>
              <a:latin typeface="Arial"/>
            </a:endParaRPr>
          </a:p>
        </p:txBody>
      </p:sp>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Экономическая теория и прикладная экономика</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ва стиля обучения микроэкономической теории:</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истая теори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ория с приложениями для управления бизнесом (</a:t>
            </a:r>
            <a:r>
              <a:rPr b="1" lang="en-US" sz="2000" spc="-1" strike="noStrike">
                <a:solidFill>
                  <a:srgbClr val="000000"/>
                </a:solidFill>
                <a:latin typeface="Arial"/>
              </a:rPr>
              <a:t>managerial/business economic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урсы микроэкономики и макроэкономики в процессе подготовки менеджеро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ка в учебном плане факультета</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кроэкономика (1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акроэкономика (2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нансы (3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ровая экономика (4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кроэкономика-2: теория отраслевой организации (6 семестр)</a:t>
            </a:r>
            <a:endParaRPr b="0" lang="en-US" sz="20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икладные экономические науки</a:t>
            </a:r>
            <a:endParaRPr b="0" lang="en-US" sz="4000" spc="-1" strike="noStrike">
              <a:solidFill>
                <a:srgbClr val="000000"/>
              </a:solidFill>
              <a:latin typeface="Arial"/>
            </a:endParaRPr>
          </a:p>
        </p:txBody>
      </p:sp>
      <p:sp>
        <p:nvSpPr>
          <p:cNvPr id="165" name="PlaceHolder 2"/>
          <p:cNvSpPr>
            <a:spLocks noGrp="1"/>
          </p:cNvSpPr>
          <p:nvPr>
            <p:ph/>
          </p:nvPr>
        </p:nvSpPr>
        <p:spPr>
          <a:xfrm>
            <a:off x="457200" y="1484280"/>
            <a:ext cx="8229600" cy="51134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ждународная экономика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International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отраслевой организации</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Industrial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ка общественного сектора</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Public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ческая теория организаций</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Organization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нансовая экономика</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Financial Economics</a:t>
            </a:r>
            <a:endParaRPr b="0" lang="en-US" sz="2400" spc="-1" strike="noStrike">
              <a:solidFill>
                <a:srgbClr val="000000"/>
              </a:solidFill>
              <a:latin typeface="Arial"/>
            </a:endParaRPr>
          </a:p>
        </p:txBody>
      </p:sp>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Аудиторные занятия</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екции (64 часа)</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бор теоретического материала и обсуждение примеров</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инары (32 часа)</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шение задач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суждение статей, примеров, аналитических вопросо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рупповая работа </a:t>
            </a:r>
            <a:endParaRPr b="0" lang="en-US" sz="2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Групповая работа</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нализ любой отрасли народного хозяйства с использованием основных микроэкономических категорий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ъем курсовой работы – не более 15 страниц</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а должна быть оформлена в соответствии с основными требованиями к оформлению курсовых работ</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пускается коллективная работа над проектом (не более 4-х человек)</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новой вариант курсовой работы должен быть предоставлен научному руководителю не позже 4 декабря 2006 года</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язательным условием допуска к защите курсовой работы является </a:t>
            </a:r>
            <a:r>
              <a:rPr b="1" lang="ru-RU" sz="2000" spc="-1" strike="noStrike">
                <a:solidFill>
                  <a:srgbClr val="000000"/>
                </a:solidFill>
                <a:latin typeface="Arial"/>
              </a:rPr>
              <a:t>наличие презентации</a:t>
            </a:r>
            <a:r>
              <a:rPr b="0" lang="ru-RU" sz="2000" spc="-1" strike="noStrike">
                <a:solidFill>
                  <a:srgbClr val="000000"/>
                </a:solidFill>
                <a:latin typeface="Arial"/>
              </a:rPr>
              <a:t> основных результатов исследования</a:t>
            </a:r>
            <a:endParaRPr b="0" lang="en-US" sz="20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ценка по курсу</a:t>
            </a:r>
            <a:endParaRPr b="0" lang="en-US" sz="4000" spc="-1" strike="noStrike">
              <a:solidFill>
                <a:srgbClr val="000000"/>
              </a:solidFill>
              <a:latin typeface="Arial"/>
            </a:endParaRPr>
          </a:p>
        </p:txBody>
      </p:sp>
      <p:sp>
        <p:nvSpPr>
          <p:cNvPr id="64" name="PlaceHolder 2"/>
          <p:cNvSpPr>
            <a:spLocks noGrp="1"/>
          </p:cNvSpPr>
          <p:nvPr>
            <p:ph/>
          </p:nvPr>
        </p:nvSpPr>
        <p:spPr>
          <a:xfrm>
            <a:off x="457200" y="1341000"/>
            <a:ext cx="8229600" cy="5327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пуск к экзамену:</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заданий, полученных на семинарских и лекционных занятиях</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письменной работы в ходе промежуточной аттестации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межуточная аттестация</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0% итоговой оценк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ительность – 1 час 15 минут (во время лекции)</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тоговый письменный экзамен</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80% итоговой оценк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ительность – 3 час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уктура экзаменационной и аттестационной работ</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1. Вопросы на выбор правильного ответа</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2: задач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3: аналитические вопросы (применение теоретических знаний для ответа на поставленный вопрос)</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Итоговая оценка</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ксимальное количество баллов – 1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 - от 76 и выше</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 - от 66 до 7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 от 56 до 65</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ный экзамен – в дополнительную сессию в феврале</a:t>
            </a:r>
            <a:endParaRPr b="0" lang="en-US" sz="32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комендуемая литература</a:t>
            </a:r>
            <a:endParaRPr b="0" lang="en-US" sz="4400" spc="-1" strike="noStrike">
              <a:solidFill>
                <a:srgbClr val="000000"/>
              </a:solidFill>
              <a:latin typeface="Arial"/>
            </a:endParaRPr>
          </a:p>
        </p:txBody>
      </p:sp>
      <p:sp>
        <p:nvSpPr>
          <p:cNvPr id="70" name="PlaceHolder 2"/>
          <p:cNvSpPr>
            <a:spLocks noGrp="1"/>
          </p:cNvSpPr>
          <p:nvPr>
            <p:ph/>
          </p:nvPr>
        </p:nvSpPr>
        <p:spPr>
          <a:xfrm>
            <a:off x="457200" y="1196640"/>
            <a:ext cx="8229600" cy="5545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ендиум по курс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эриан Х.Л. Микроэкономика. Промежуточный уровень. Современный подход: Учебние для вузов /Пер. с англ. под. ред. Н.Д.Фроловой. – М.: ЮНИТИ, 1997.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ранк Р.Х. Микроэкономика и поведение. – М.:ИНФРА-М, 2000. – 696 с.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ндайк Р.С., Рабинфельд Д.Л. Микроэкономика. /Пер. с англ. – СПб.: Питер, 2002. – 608 с.</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ьвов Ю.А. Основы экономики и организации бизнеса. – СПб.: 1992.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альперин В.М., Игнатьев С.М., Моргунов В.И. Микроэкономика. В 2-х т. СПб., 1994-2002. </a:t>
            </a:r>
            <a:r>
              <a:rPr b="0" i="1" lang="en-US" sz="2000" spc="-1" strike="noStrike">
                <a:solidFill>
                  <a:srgbClr val="000000"/>
                </a:solidFill>
                <a:latin typeface="Arial"/>
              </a:rPr>
              <a:t>www</a:t>
            </a:r>
            <a:r>
              <a:rPr b="0" i="1" lang="ru-RU" sz="2000" spc="-1" strike="noStrike">
                <a:solidFill>
                  <a:srgbClr val="000000"/>
                </a:solidFill>
                <a:latin typeface="Arial"/>
              </a:rPr>
              <a:t>.</a:t>
            </a:r>
            <a:r>
              <a:rPr b="0" i="1" lang="en-US" sz="2000" spc="-1" strike="noStrike">
                <a:solidFill>
                  <a:srgbClr val="000000"/>
                </a:solidFill>
                <a:latin typeface="Arial"/>
              </a:rPr>
              <a:t>economicus</a:t>
            </a:r>
            <a:r>
              <a:rPr b="0" i="1" lang="ru-RU" sz="2000" spc="-1" strike="noStrike">
                <a:solidFill>
                  <a:srgbClr val="000000"/>
                </a:solidFill>
                <a:latin typeface="Arial"/>
              </a:rPr>
              <a:t>.</a:t>
            </a:r>
            <a:r>
              <a:rPr b="0" i="1" lang="en-US" sz="2000" spc="-1" strike="noStrike">
                <a:solidFill>
                  <a:srgbClr val="000000"/>
                </a:solidFill>
                <a:latin typeface="Arial"/>
              </a:rPr>
              <a:t>r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ономическая школа. 50 лекций по микроэкономике. В 2-х т. СПб., 2000.</a:t>
            </a:r>
            <a:r>
              <a:rPr b="0" i="1" lang="ru-RU" sz="2000" spc="-1" strike="noStrike">
                <a:solidFill>
                  <a:srgbClr val="000000"/>
                </a:solidFill>
                <a:latin typeface="Arial"/>
              </a:rPr>
              <a:t> </a:t>
            </a:r>
            <a:r>
              <a:rPr b="0" i="1" lang="en-US" sz="2000" spc="-1" strike="noStrike">
                <a:solidFill>
                  <a:srgbClr val="000000"/>
                </a:solidFill>
                <a:latin typeface="Arial"/>
              </a:rPr>
              <a:t>www</a:t>
            </a:r>
            <a:r>
              <a:rPr b="0" i="1" lang="ru-RU" sz="2000" spc="-1" strike="noStrike">
                <a:solidFill>
                  <a:srgbClr val="000000"/>
                </a:solidFill>
                <a:latin typeface="Arial"/>
              </a:rPr>
              <a:t>.</a:t>
            </a:r>
            <a:r>
              <a:rPr b="0" i="1" lang="en-US" sz="2000" spc="-1" strike="noStrike">
                <a:solidFill>
                  <a:srgbClr val="000000"/>
                </a:solidFill>
                <a:latin typeface="Arial"/>
              </a:rPr>
              <a:t>economicus</a:t>
            </a:r>
            <a:r>
              <a:rPr b="0" i="1" lang="ru-RU" sz="2000" spc="-1" strike="noStrike">
                <a:solidFill>
                  <a:srgbClr val="000000"/>
                </a:solidFill>
                <a:latin typeface="Arial"/>
              </a:rPr>
              <a:t>.</a:t>
            </a:r>
            <a:r>
              <a:rPr b="0" i="1" lang="en-US" sz="2000" spc="-1" strike="noStrike">
                <a:solidFill>
                  <a:srgbClr val="000000"/>
                </a:solidFill>
                <a:latin typeface="Arial"/>
              </a:rPr>
              <a:t>ru</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расевич Л., Гребенников П., Леусский А., Микроэкономика http://www.finec.ru/rus/parts/microeconomics/titul.html</a:t>
            </a:r>
            <a:endParaRPr b="0" lang="en-US" sz="1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онсультации и контакты</a:t>
            </a: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сультации проводятся по средам после лекции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такт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колова Екатерина Владимировна (</a:t>
            </a:r>
            <a:r>
              <a:rPr b="0" lang="en-US" sz="2400" spc="-1" strike="noStrike">
                <a:solidFill>
                  <a:srgbClr val="000000"/>
                </a:solidFill>
                <a:latin typeface="Arial"/>
              </a:rPr>
              <a:t>sokolova@som.pu.r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ляр Татьяна Моисеевна (</a:t>
            </a:r>
            <a:r>
              <a:rPr b="0" lang="en-US" sz="2400" spc="-1" strike="noStrike">
                <a:solidFill>
                  <a:srgbClr val="000000"/>
                </a:solidFill>
                <a:latin typeface="Arial"/>
              </a:rPr>
              <a:t>skliar@ts3924.spb.ed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ганова Анастасия Александровна (</a:t>
            </a:r>
            <a:r>
              <a:rPr b="0" lang="en-US" sz="2400" spc="-1" strike="noStrike">
                <a:solidFill>
                  <a:srgbClr val="000000"/>
                </a:solidFill>
                <a:latin typeface="Arial"/>
              </a:rPr>
              <a:t>taganova@som.pu.ru)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арехин Александр Викторович (</a:t>
            </a:r>
            <a:r>
              <a:rPr b="0" lang="en-US" sz="2400" spc="-1" strike="noStrike">
                <a:solidFill>
                  <a:srgbClr val="000000"/>
                </a:solidFill>
                <a:latin typeface="Arial"/>
              </a:rPr>
              <a:t>alexjva@mail.ru) </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0:34:03Z</dcterms:created>
  <dc:creator>СоколоваЕВ</dc:creator>
  <dc:description/>
  <dc:language>en-US</dc:language>
  <cp:lastModifiedBy>LEGION</cp:lastModifiedBy>
  <dcterms:modified xsi:type="dcterms:W3CDTF">2016-01-04T08:18:14Z</dcterms:modified>
  <cp:revision>15</cp:revision>
  <dc:subject/>
  <dc:title>Микроэкономика</dc:title>
</cp:coreProperties>
</file>