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E7FB5-1588-46AC-833E-51DF421708B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кро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э.н., ст.преп. Соколова Е.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культет менеджмен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нкт-Петербургский государственный университ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э.н., ст.преп. Соколова Е.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ультет менеджмент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нкт-Петербургский государственный университе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1. Введение в микроэкономик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а 1. Введение в микроэкономик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граниченность ресурсов и задача выбо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граниченность ресурс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возможность полного и одновременного удовлетворения всех потребностей всех люд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возможность удовлетворения всех имеющихся альтернатив использования ресур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сть выбора из нескольких доступных альтернати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куренция за использование ограниченных ресур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куренция между альтернативными целя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носительность ограниченности ресур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аниченность ресурсов и задача выбо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аниченность ресурс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возможность полного и одновременного удовлетворения всех потребностей всех люд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возможность удовлетворения всех имеющихся альтернатив использования ресур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обходимость выбора из нескольких доступных альтернати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куренция за использование ограниченных ресур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куренция между альтернативными целя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носительность ограниченности ресур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ая задач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гда можно сказать, что рассматриваемая задача является экономическ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айонел Роббинс («Предмет экономической науки»,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ловек стремится к различным цел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емя и средства, находящиеся в его распоряжении, огранич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ни могут быть направлены  на достижение альтернативных ц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каждый момент времени разные цели обладают различной важность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ая задач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можно сказать, что рассматриваемая задача является экономическо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айонел Роббинс («Предмет экономической науки»,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к стремится к различным целя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ремя и средства, находящиеся в его распоряжении, ограничен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и могут быть направлены  на достижение альтернативных цел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каждый момент времени разные цели обладают различной важностью</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ая задач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сть одновременного действия всех четырех услов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произойдет, если какое-то условие не выполняе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динственная це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ножественность целей без ограниченности ресур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граниченность ресурсов без возможности их альтернативного использ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ичие альтернативных возможностей использования ресурсов без приоритетности ц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ая задач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обходимость одновременного действия всех четырех услов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произойдет, если какое-то условие не выполняетс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динственная цел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жественность целей без ограниченности ресур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аниченность ресурсов без возможности их альтернативного использов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альтернативных возможностей использования ресурсов без приоритетности цел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ьтернативные затра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ьтернативные затраты (opportunity costs) – доход от наилучшей из оставшихся альтернатив использования ресур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ользование понятия альтернативных затрат при принятии реш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льтернативные затра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льтернативные затраты (opportunity costs) – доход от наилучшей из оставшихся альтернатив использования ресур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пользование понятия альтернативных затрат при принятии реше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ундаментальные задачи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производ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производ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кого производ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ль системы це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кроэкономика как теория ц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даментальные задачи экономи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производи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производи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кого производи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ль системы це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экономика как теория цен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ханизмы распределения ограниченных ресур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диционная 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андная 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чная 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мешанная 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ханизмы распределения ограниченных ресур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адиционная 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ная 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ыночная 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ешанная 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мет экономической нау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ы решения задачи выбора между конкурирующими целями использования ограниченных ресур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мет экономической нау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ы решения задачи выбора между конкурирующими целями использования ограниченных ресур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ЕМА О НЕВИДИМОЙ РУ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ый человек имеет в виду лишь собственный интерес, преследует лишь собственную выгод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этом случае… он невидимой рукой направляется к цели, которая совсем и не входила в его намерения… Преследуя свои собственные интересы, он часто более действенным образом служит интересам общества, чем тогда, когда сознательно стремится делать эт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А.Сми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ЕМА О НЕВИДИМОЙ РУК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ый человек имеет в виду лишь собственный интерес, преследует лишь собственную выгод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этом случае… он невидимой рукой направляется к цели, которая совсем и не входила в его намерения… Преследуя свои собственные интересы, он часто более действенным образом служит интересам общества, чем тогда, когда сознательно стремится делать эт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А.Смит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кроэкономика и макро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кроэкономика изучает поведение отдельных экономических агентов: индивидуумов, домохозяйств, предприятий, владельцев первичных производственных ресур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кроэкономика исследует функционирование экономической системы в целом и крупных ее секто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экономика и макро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экономика изучает поведение отдельных экономических агентов: индивидуумов, домохозяйств, предприятий, владельцев первичных производственных ресур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кроэкономика исследует функционирование экономической системы в целом и крупных ее сектор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кур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микроэкономической теории на вводном уровн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смотрение основных проблем, изучаемых в рамках микроэкономической теор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ределение основных понятий и рассмотрение базовых математических моделей, формализующих и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монстрация возможностей применения микроэкономических моделей при решении задач управления в частном и общественном секторах, анализе государственной социальной и экономической политик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ь кур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учение микроэкономической теории на вводном уровн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ение основных проблем, изучаемых в рамках микроэкономической теор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е основных понятий и рассмотрение базовых математических моделей, формализующих и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монстрация возможностей применения микроэкономических моделей при решении задач управления в частном и общественном секторах, анализе государственной социальной и экономической политик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мет микро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условленное ограниченностью ресурсов поведение (принимаемые экономические решения) экономических аген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требит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р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машних хозяй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ительственных организаци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ункционирование отдельных рынков, проявляющееся в формировании цен, объемов спроса и пред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мет микроэкономи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условленное ограниченностью ресурсов поведение (принимаемые экономические решения) экономических агент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требител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р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машних хозяйст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ительственных организац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кционирование отдельных рынков, проявляющееся в формировании цен, объемов спроса и предложе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ология микро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объектов познания не непосредственно, а посредством анализа некоторых вспомогательных объектов, которые называют моделя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ология микроэкономи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следование объектов познания не непосредственно, а посредством анализа некоторых вспомогательных объектов, которые называют моделя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modulus – мера, образе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 отличный от исследуемого оригина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ощенное описание исходного объекта изуч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исание, воспроизводящее существенные с точки зрения целей проводимого исследования свойства оригинал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дел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modulus – мера, образец</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кт, отличный от исследуемого оригинал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ощенное описание исходного объекта изуче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исание, воспроизводящее существенные с точки зрения целей проводимого исследования свойства оригинал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типы моделир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ьное – воспроизведение основных характеристик (в т.ч. фЫизических) моделируемого объек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деальное – идеальная аналогия. Теоретический характер моделир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типы моделиров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териальное – воспроизведение основных характеристик (в т.ч. фЫизических) моделируемого объек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деальное – идеальная аналогия. Теоретический характер моделиров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типы моделей в экономи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баль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ко-математическ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типы моделей в экономик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рбальны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ко-математическ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ие модел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держательность и реалистичность принятых посылок и допущ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сказательная способ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можность информационного обеспечения и вериф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е модел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тельность и реалистичность принятых посылок и допуще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сказательная способно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можность информационного обеспечения и верифик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но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ие 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тимизацион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поведения отдельных экономических аген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вновесны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взаимоотношений между экономическими агента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е модел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тимизационны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следование поведения отдельных экономических агент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вновесны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следование взаимоотношений между экономическими агентам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циональное поведение экономических аг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дивид (фирма) всегда выбирает оптимальное (ЛУЧШЕЕ) при имеющихся ограничениях и информации реш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ределение понятия «ЛУЧШЕ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дивиды максимизируют удовлетворение своих потребностей, называемое полезность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циональное поведение экономических агент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дивид (фирма) всегда выбирает оптимальное (ЛУЧШЕЕ) при имеющихся ограничениях и информации реш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е понятия «ЛУЧШЕ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дивиды максимизируют удовлетворение своих потребностей, называемое полезностью</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циональное поведение экономических аг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максимизируют фир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бы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м продаж (рыночная до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гатство собствен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посыл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деление между собственниками и менеджера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йствие менеджеров исходя из собственных интере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циональное поведение экономических агент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максимизируют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был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м продаж (рыночная дол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гатство собствен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осыл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деление между собственниками и менеджерам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йствие менеджеров исходя из собственных интере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ормальная модель рационального выбо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д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D - множество возможных альтернатив x использования ограниченного ресурса - x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 - показатель  (функция) полезного эффекта получаемого от реализации конкретной альтернативы использования ограниченного ресурса – F(x), x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альная модель рационального выбо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д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D - множество возможных альтернатив x использования ограниченного ресурса - x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F - показатель  (функция) полезного эффекта получаемого от реализации конкретной альтернативы использования ограниченного ресурса – F(x), x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и кур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знакомление с методологией микроэкономического анализ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ределение основных понятий и моделей микро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основных положений микроэкономической теории в области производства, потребления и рыночного обме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ллюстрация возможностей применения теоретических конструкций для анализа экономических процес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дачи кур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знакомление с методологией микроэкономического анализ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е основных понятий и моделей микроэкономи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учение основных положений микроэкономической теории в области производства, потребления и рыночного обмен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ллюстрация возможностей применения теоретических конструкций для анализа экономических процес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цип рациональности поведения экономического аг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реализации альтернативы x необходимо, чтобы выгоды от ее реализации B(x) превышали сопряженные с ней издержки C(x)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 рациональности поведения экономического аген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реализации альтернативы x необходимо, чтобы выгоды от ее реализации B(x) превышали сопряженные с ней издержки C(x)  </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держки экономических аг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ямые переменные издержки – издержки, уровень которых зависит от степени использования (интенсивности, масштаба реализации) альтернатив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возвратные издержки – издержки, связанные с обеспечением необходимых для реализации альтернативы услов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ьтернативные (вмененные) издерж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держки экономических агент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ямые переменные издержки – издержки, уровень которых зависит от степени использования (интенсивности, масштаба реализации) альтернатив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возвратные издержки – издержки, связанные с обеспечением необходимых для реализации альтернативы услов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льтернативные (вмененные) издерж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вновесие экономических сист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тояние (значение экономических переменных), при котором составляющие ее элементы (хозяйственные единицы или альтернативы) и сама  система в целом будут не заинтересованы  в его изменен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вновесие экономических сист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ояние (значение экономических переменных), при котором составляющие ее элементы (хозяйственные единицы или альтернативы) и сама  система в целом будут не заинтересованы  в его изменен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рето-эффектив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пределение блага X является оптимальным по Парето, если увеличение количества блага, получаемого любым из участников дележа, не может быть достигнуто без уменьшения количества этого блага, приходящегося на долю хотя бы одного из остальных участ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распределение не является Парето-оптимальным, то это означает, что имеется возможность увеличения доли хотя бы одного из участников дележа без ущемления интересов остальны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ето-эффективно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пределение блага X является оптимальным по Парето, если увеличение количества блага, получаемого любым из участников дележа, не может быть достигнуто без уменьшения количества этого блага, приходящегося на долю хотя бы одного из остальных участ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распределение не является Парето-оптимальным, то это означает, что имеется возможность увеличения доли хотя бы одного из участников дележа без ущемления интересов остальны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ровни социально-экономического анализ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Институ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альные стереотипы (встроенные институ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ституциональная среда (социально-политическое устройств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ституты управления (организационно-правовое устрой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мещение ограниченных ресур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ни социально-экономического анализ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Институ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ые стереотипы (встроенные институ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ституциональная среда (социально-политическое устройство)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ституты управления (организационно-правовое устройств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мещение ограниченных ресур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зитивный и нормативный анали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зитивные модели отвечают на вопрос: «Что е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тивные модели отвечают на вопрос: «Что должно бы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зитивный и нормативный анализ</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зитивные модели отвечают на вопрос: «Что е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рмативные модели отвечают на вопрос: «Что должно бы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к и отрас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к – совокупность покупателей и продавцов, взаимодействие которых обеспечивает обме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расль – совокупность фирм, торгующих одним и тем же или родственными видами това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расль – сторона, предлагающая товар на рын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ынок и отрасл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ынок – совокупность покупателей и продавцов, взаимодействие которых обеспечивает обме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сль – совокупность фирм, торгующих одним и тем же или родственными видами товар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сль – сторона, предлагающая товар на рынк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уктура кур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ведение в микроэкономик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поведения потребите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фир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ки това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ки факторов произ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овершенства рынка и роль государ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кур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ведение в микроэкономик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поведения потребител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ынки товар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ынки факторов производ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совершенства рынка и роль государ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ая теория и прикладная 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стиля обучения микроэкономической теор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истая теор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с приложениями для управления бизнесом (managerial/business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урсы микроэкономики и макроэкономики в процессе подготовки менедже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ка в учебном плане факульт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кроэкономика (1 семест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кроэкономика (2 семест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ы (3 семест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ровая экономика (4 семест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кроэкономика-2: теория отраслевой организации (6 семест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ая теория и прикладная 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а стиля обучения микроэкономической теор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истая теор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с приложениями для управления бизнесом (managerial/business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урсы микроэкономики и макроэкономики в процессе подготовки менеджер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ка в учебном плане факульте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экономика (1 семест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кроэкономика (2 семест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ы (3 семест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экономика (4 семест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экономика-2: теория отраслевой организации (6 семест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икладные экономические нау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еждународная экономи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	</a:t>
            </a:r>
            <a:r>
              <a:rPr b="0" lang="pl-PL" sz="1200" spc="-1" strike="noStrike">
                <a:solidFill>
                  <a:srgbClr val="000000"/>
                </a:solidFill>
                <a:latin typeface="Calibri"/>
              </a:rPr>
              <a:t>International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еория отраслевой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	</a:t>
            </a:r>
            <a:r>
              <a:rPr b="0" lang="pl-PL" sz="1200" spc="-1" strike="noStrike">
                <a:solidFill>
                  <a:srgbClr val="000000"/>
                </a:solidFill>
                <a:latin typeface="Calibri"/>
              </a:rPr>
              <a:t>Industrial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Экономика общественного секто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	</a:t>
            </a:r>
            <a:r>
              <a:rPr b="0" lang="pl-PL" sz="1200" spc="-1" strike="noStrike">
                <a:solidFill>
                  <a:srgbClr val="000000"/>
                </a:solidFill>
                <a:latin typeface="Calibri"/>
              </a:rPr>
              <a:t>Public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Экономическая теория организац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	</a:t>
            </a:r>
            <a:r>
              <a:rPr b="0" lang="pl-PL" sz="1200" spc="-1" strike="noStrike">
                <a:solidFill>
                  <a:srgbClr val="000000"/>
                </a:solidFill>
                <a:latin typeface="Calibri"/>
              </a:rPr>
              <a:t>Organization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Финансовая 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	</a:t>
            </a:r>
            <a:r>
              <a:rPr b="0" lang="pl-PL" sz="1200" spc="-1" strike="noStrike">
                <a:solidFill>
                  <a:srgbClr val="000000"/>
                </a:solidFill>
                <a:latin typeface="Calibri"/>
              </a:rPr>
              <a:t>Financial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Прикладные экономические нау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Международная экономи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r>
              <a:rPr b="0" lang="uk-UA" sz="1200" spc="-1" strike="noStrike">
                <a:solidFill>
                  <a:srgbClr val="000000"/>
                </a:solidFill>
                <a:latin typeface="Arial"/>
              </a:rPr>
              <a:t>	</a:t>
            </a:r>
            <a:r>
              <a:rPr b="0" lang="pl-PL" sz="1200" spc="-1" strike="noStrike">
                <a:solidFill>
                  <a:srgbClr val="000000"/>
                </a:solidFill>
                <a:latin typeface="Arial"/>
              </a:rPr>
              <a:t>International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Теория отраслевой организ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r>
              <a:rPr b="0" lang="uk-UA" sz="1200" spc="-1" strike="noStrike">
                <a:solidFill>
                  <a:srgbClr val="000000"/>
                </a:solidFill>
                <a:latin typeface="Arial"/>
              </a:rPr>
              <a:t>	</a:t>
            </a:r>
            <a:r>
              <a:rPr b="0" lang="pl-PL" sz="1200" spc="-1" strike="noStrike">
                <a:solidFill>
                  <a:srgbClr val="000000"/>
                </a:solidFill>
                <a:latin typeface="Arial"/>
              </a:rPr>
              <a:t>Industrial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Экономика общественного секто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r>
              <a:rPr b="0" lang="uk-UA" sz="1200" spc="-1" strike="noStrike">
                <a:solidFill>
                  <a:srgbClr val="000000"/>
                </a:solidFill>
                <a:latin typeface="Arial"/>
              </a:rPr>
              <a:t>	</a:t>
            </a:r>
            <a:r>
              <a:rPr b="0" lang="pl-PL" sz="1200" spc="-1" strike="noStrike">
                <a:solidFill>
                  <a:srgbClr val="000000"/>
                </a:solidFill>
                <a:latin typeface="Arial"/>
              </a:rPr>
              <a:t>Public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Экономическая теория организац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r>
              <a:rPr b="0" lang="uk-UA" sz="1200" spc="-1" strike="noStrike">
                <a:solidFill>
                  <a:srgbClr val="000000"/>
                </a:solidFill>
                <a:latin typeface="Arial"/>
              </a:rPr>
              <a:t>	</a:t>
            </a:r>
            <a:r>
              <a:rPr b="0" lang="pl-PL" sz="1200" spc="-1" strike="noStrike">
                <a:solidFill>
                  <a:srgbClr val="000000"/>
                </a:solidFill>
                <a:latin typeface="Arial"/>
              </a:rPr>
              <a:t>Organization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Финансовая 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r>
              <a:rPr b="0" lang="uk-UA" sz="1200" spc="-1" strike="noStrike">
                <a:solidFill>
                  <a:srgbClr val="000000"/>
                </a:solidFill>
                <a:latin typeface="Arial"/>
              </a:rPr>
              <a:t>	</a:t>
            </a:r>
            <a:r>
              <a:rPr b="0" lang="pl-PL" sz="1200" spc="-1" strike="noStrike">
                <a:solidFill>
                  <a:srgbClr val="000000"/>
                </a:solidFill>
                <a:latin typeface="Arial"/>
              </a:rPr>
              <a:t>Financial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удиторные занят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кции (64 ча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бор теоретического материала и обсуждение приме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минары (32 ча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шение задач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суждение статей, примеров, аналитических вопро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упповая рабо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удиторные занят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екции (64 ча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бор теоретического материала и обсуждение пример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минары (32 ча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шение задач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уждение статей, примеров, аналитических вопро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упповая работ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упповая рабо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ализ любой отрасли народного хозяйства с использованием основных микроэкономических категори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м курсовой работы – не более 15 страни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а должна быть оформлена в соответствии с основными требованиями к оформлению курсовых раб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пускается коллективная работа над проектом (не более 4-х челове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рновой вариант курсовой работы должен быть предоставлен научному руководителю не позже 4 декабря 2006 г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язательным условием допуска к защите курсовой работы является наличие презентации основных результатов исслед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упповая рабо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ализ любой отрасли народного хозяйства с использованием основных микроэкономических категор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м курсовой работы – не более 15 страниц</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а должна быть оформлена в соответствии с основными требованиями к оформлению курсовых рабо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пускается коллективная работа над проектом (не более 4-х человек)</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рновой вариант курсовой работы должен быть предоставлен научному руководителю не позже 4 декабря 2006 го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язательным условием допуска к защите курсовой работы является наличие презентации основных результатов исследов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ценка по курс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пуск к экзамен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полнение заданий, полученных на семинарских и лекционных занят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полнение письменной работы в ходе промежуточной аттест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межуточная аттест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 итоговой оцен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олжительность – 1 час 15 минут (во время ле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тоговый письменный экзаме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80% итоговой оцен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олжительность – 3 ча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уктура экзаменационной и аттестационной раб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лок 1. Вопросы на выбор правильного отв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лок 2: задач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лок 3: аналитические вопросы (применение теоретических знаний для ответа на поставленный вопро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по курс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пуск к экзамен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олнение заданий, полученных на семинарских и лекционных занят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олнение письменной работы в ходе промежуточной аттеста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межуточная аттестац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 итоговой оцен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должительность – 1 час 15 минут (во время лек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тоговый письменный экзаме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0% итоговой оцен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должительность – 3 ча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экзаменационной и аттестационной рабо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ок 1. Вопросы на выбор правильного отве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ок 2: задач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ок 3: аналитические вопросы (применение теоретических знаний для ответа на поставленный вопрос)</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тоговая оце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ксимальное количество баллов – 1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 от 76 и выш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 от 66 до 7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 от 56 до 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торный экзамен – в дополнительную сессию в феврал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тоговая оцен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ксимальное количество баллов – 1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 от 76 и выш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 от 66 до 7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 от 56 до 6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торный экзамен – в дополнительную сессию в феврал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омендуемая литерату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пендиум по курс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эриан Х.Л. Микроэкономика. Промежуточный уровень. Современный подход: Учебние для вузов /Пер. с англ. под. ред. Н.Д.Фроловой. – М.: ЮНИТИ, 199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ранк Р.Х. Микроэкономика и поведение. – М.:ИНФРА-М, 2000. – 696 с.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индайк Р.С., Рабинфельд Д.Л. Микроэкономика. /Пер. с англ. – СПб.: Питер, 2002. – 608 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лгром П., Робертс Дж. Экономика, организация и менеджмент: В 2-х т./ Пер. с англ. под редакцией И.И.Елисеевой, В.Л.Тамбовцева. СПб.: Экономическая школа, 1999. Т.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ьвов Ю.А. Основы экономики и организации бизнеса. – СПб.: 199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льперин В.М., Игнатьев С.М., Моргунов В.И. Микроэкономика. В 2-х т. СПб., 1994-2002. www.economicus.r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ая школа. 50 лекций по микроэкономике. В 2-х т. СПб., 2000. www.economicus.r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расевич Л., Гребенников П., Леусский А., Микроэкономика http://www.finec.ru/rus/parts/microeconomics/titul.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комендуемая литерату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ендиум по курс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эриан Х.Л. Микроэкономика. Промежуточный уровень. Современный подход: Учебние для вузов /Пер. с англ. под. ред. Н.Д.Фроловой. – М.: ЮНИТИ, 1997.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анк Р.Х. Микроэкономика и поведение. – М.:ИНФРА-М, 2000. – 696 с.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индайк Р.С., Рабинфельд Д.Л. Микроэкономика. /Пер. с англ. – СПб.: Питер, 2002. – 608 с.</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лгром П., Робертс Дж. Экономика, организация и менеджмент: В 2-х т./ Пер. с англ. под редакцией И.И.Елисеевой, В.Л.Тамбовцева. СПб.: Экономическая школа, 1999. Т.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ьвов Ю.А. Основы экономики и организации бизнеса. – СПб.: 199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альперин В.М., Игнатьев С.М., Моргунов В.И. Микроэкономика. В 2-х т. СПб., 1994-2002. www.economicus.r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ая школа. 50 лекций по микроэкономике. В 2-х т. СПб., 2000. www.economicus.r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расевич Л., Гребенников П., Леусский А., Микроэкономика http://www.finec.ru/rus/parts/microeconomics/titul.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ультации и контак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ультации проводятся по средам после лек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ак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колова Екатерина Владимировна (sokolova@som.pu.r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кляр Татьяна Моисеевна (skliar@ts3924.spb.ed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ганова Анастасия Александровна (taganova@som.pu.r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арехин Александр Викторович (alexjva@mail.r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сультации и контак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сультации проводятся по средам после лек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ак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колова Екатерина Владимировна (sokolova@som.pu.r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ляр Татьяна Моисеевна (skliar@ts3924.spb.ed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ганова Анастасия Александровна (taganova@som.pu.r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арехин Александр Викторович (alexjva@mail.r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D65668-8A4B-49F4-85CC-5FC6507EA8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D0A88-5B87-40CB-9E4D-E75072C48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3EED5B-DC0C-45E7-8F12-484A4B97B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D361F-BBB4-4CE4-9464-5F6AFD08C6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90199-C8BC-4BB8-A0EB-802FD6D99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705EE-1704-40EE-A299-CC0E34E8C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9CA15-9A1E-4580-A44D-88571A30F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28FA1-7D3E-4601-A792-A2DE1DCD4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68EE4-92E4-485F-A64E-CB819F53F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D7B89-2A2B-4E9F-A2DB-3F0C690CA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DB3C7-9097-4F1F-9AFC-9F2331325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2DAC6-896B-42BD-99C6-EC0BC5F0CE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763F6-75E4-47A2-BF85-2301E8EAEBB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Arial"/>
              </a:rPr>
              <a:t>Микроэкономика</a:t>
            </a:r>
            <a:endParaRPr b="0" lang="en-US" sz="5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э.н., ст.преп. Соколова Е.В.</a:t>
            </a:r>
            <a:endParaRPr b="0" lang="en-US" sz="24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акультет менеджмента </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анкт-Петербургский государственный университет</a:t>
            </a:r>
            <a:endParaRPr b="0" lang="en-US" sz="20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Тема 1. Введение в микроэкономику</a:t>
            </a: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Ограниченность ресурсов и задача выбора</a:t>
            </a:r>
            <a:endParaRPr b="0" lang="en-US" sz="4000" spc="-1" strike="noStrike">
              <a:solidFill>
                <a:srgbClr val="000000"/>
              </a:solidFill>
              <a:latin typeface="Arial"/>
            </a:endParaRPr>
          </a:p>
        </p:txBody>
      </p:sp>
      <p:sp>
        <p:nvSpPr>
          <p:cNvPr id="79"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Ограниченность ресурсов</a:t>
            </a:r>
            <a:r>
              <a:rPr b="1" lang="ru-RU"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возможность полного и одновременного удовлетворения </a:t>
            </a:r>
            <a:r>
              <a:rPr b="1" lang="ru-RU" sz="1800" spc="-1" strike="noStrike">
                <a:solidFill>
                  <a:srgbClr val="333399"/>
                </a:solidFill>
                <a:latin typeface="Arial"/>
              </a:rPr>
              <a:t>всех</a:t>
            </a:r>
            <a:r>
              <a:rPr b="1" lang="ru-RU" sz="1800" spc="-1" strike="noStrike">
                <a:solidFill>
                  <a:srgbClr val="000000"/>
                </a:solidFill>
                <a:latin typeface="Arial"/>
              </a:rPr>
              <a:t> потребностей </a:t>
            </a:r>
            <a:r>
              <a:rPr b="1" lang="ru-RU" sz="1800" spc="-1" strike="noStrike">
                <a:solidFill>
                  <a:srgbClr val="333399"/>
                </a:solidFill>
                <a:latin typeface="Arial"/>
              </a:rPr>
              <a:t>всех</a:t>
            </a:r>
            <a:r>
              <a:rPr b="1" lang="ru-RU" sz="1800" spc="-1" strike="noStrike">
                <a:solidFill>
                  <a:srgbClr val="000000"/>
                </a:solidFill>
                <a:latin typeface="Arial"/>
              </a:rPr>
              <a:t> людей</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возможность удовлетворения </a:t>
            </a:r>
            <a:r>
              <a:rPr b="1" lang="ru-RU" sz="1800" spc="-1" strike="noStrike">
                <a:solidFill>
                  <a:srgbClr val="333399"/>
                </a:solidFill>
                <a:latin typeface="Arial"/>
              </a:rPr>
              <a:t>всех</a:t>
            </a:r>
            <a:r>
              <a:rPr b="1" lang="ru-RU" sz="1800" spc="-1" strike="noStrike">
                <a:solidFill>
                  <a:srgbClr val="000000"/>
                </a:solidFill>
                <a:latin typeface="Arial"/>
              </a:rPr>
              <a:t> имеющихся альтернатив использования ресурса</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еобходимость </a:t>
            </a:r>
            <a:r>
              <a:rPr b="1" lang="ru-RU" sz="2000" spc="-1" strike="noStrike">
                <a:solidFill>
                  <a:srgbClr val="333399"/>
                </a:solidFill>
                <a:latin typeface="Arial"/>
              </a:rPr>
              <a:t>выбора</a:t>
            </a:r>
            <a:r>
              <a:rPr b="1" lang="ru-RU" sz="2000" spc="-1" strike="noStrike">
                <a:solidFill>
                  <a:srgbClr val="000000"/>
                </a:solidFill>
                <a:latin typeface="Arial"/>
              </a:rPr>
              <a:t> из нескольких </a:t>
            </a:r>
            <a:r>
              <a:rPr b="1" lang="ru-RU" sz="2000" spc="-1" strike="noStrike">
                <a:solidFill>
                  <a:srgbClr val="333399"/>
                </a:solidFill>
                <a:latin typeface="Arial"/>
              </a:rPr>
              <a:t>доступных</a:t>
            </a:r>
            <a:r>
              <a:rPr b="1" lang="ru-RU" sz="2000" spc="-1" strike="noStrike">
                <a:solidFill>
                  <a:srgbClr val="000000"/>
                </a:solidFill>
                <a:latin typeface="Arial"/>
              </a:rPr>
              <a:t> альтернатив</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33399"/>
                </a:solidFill>
                <a:latin typeface="Arial"/>
              </a:rPr>
              <a:t>Конкуренция</a:t>
            </a:r>
            <a:r>
              <a:rPr b="1" lang="ru-RU" sz="2000" spc="-1" strike="noStrike">
                <a:solidFill>
                  <a:srgbClr val="000000"/>
                </a:solidFill>
                <a:latin typeface="Arial"/>
              </a:rPr>
              <a:t> за использование ограниченных ресурсов</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нкуренция между </a:t>
            </a:r>
            <a:r>
              <a:rPr b="1" i="1" lang="ru-RU" sz="1800" spc="-1" strike="noStrike">
                <a:solidFill>
                  <a:srgbClr val="333399"/>
                </a:solidFill>
                <a:latin typeface="Arial"/>
              </a:rPr>
              <a:t>альтернативными целями</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тносительность ограниченности ресурсов</a:t>
            </a:r>
            <a:endParaRPr b="0" lang="en-US" sz="2000" spc="-1" strike="noStrike">
              <a:solidFill>
                <a:srgbClr val="000000"/>
              </a:solidFill>
              <a:latin typeface="Arial"/>
            </a:endParaRPr>
          </a:p>
        </p:txBody>
      </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Экономическая задача</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гда можно сказать, что рассматриваемая задача является экономической?</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айонел Роббинс («Предмет экономической науки», 1932)</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еловек стремится к </a:t>
            </a:r>
            <a:r>
              <a:rPr b="1" lang="ru-RU" sz="2400" spc="-1" strike="noStrike">
                <a:solidFill>
                  <a:srgbClr val="333399"/>
                </a:solidFill>
                <a:latin typeface="Arial"/>
              </a:rPr>
              <a:t>различным</a:t>
            </a:r>
            <a:r>
              <a:rPr b="1" lang="ru-RU" sz="2400" spc="-1" strike="noStrike">
                <a:solidFill>
                  <a:srgbClr val="000000"/>
                </a:solidFill>
                <a:latin typeface="Arial"/>
              </a:rPr>
              <a:t> целям</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ремя и средства, находящиеся в его распоряжении, </a:t>
            </a:r>
            <a:r>
              <a:rPr b="1" lang="ru-RU" sz="2400" spc="-1" strike="noStrike">
                <a:solidFill>
                  <a:srgbClr val="333399"/>
                </a:solidFill>
                <a:latin typeface="Arial"/>
              </a:rPr>
              <a:t>ограничен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и могут быть направлены  на достижение </a:t>
            </a:r>
            <a:r>
              <a:rPr b="1" lang="ru-RU" sz="2400" spc="-1" strike="noStrike">
                <a:solidFill>
                  <a:srgbClr val="333399"/>
                </a:solidFill>
                <a:latin typeface="Arial"/>
              </a:rPr>
              <a:t>альтернативных</a:t>
            </a:r>
            <a:r>
              <a:rPr b="1" lang="ru-RU" sz="2400" spc="-1" strike="noStrike">
                <a:solidFill>
                  <a:srgbClr val="000000"/>
                </a:solidFill>
                <a:latin typeface="Arial"/>
              </a:rPr>
              <a:t> целей</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каждый момент времени разные цели обладают различной </a:t>
            </a:r>
            <a:r>
              <a:rPr b="1" lang="ru-RU" sz="2400" spc="-1" strike="noStrike">
                <a:solidFill>
                  <a:srgbClr val="333399"/>
                </a:solidFill>
                <a:latin typeface="Arial"/>
              </a:rPr>
              <a:t>важностью</a:t>
            </a:r>
            <a:endParaRPr b="0" lang="en-US" sz="24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Экономическая задача</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обходимость одновременного действия всех четырех условий</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то произойдет, если какое-то условие не выполняется?</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Единственная цель</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ножественность целей без ограниченности ресурсов</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граниченность ресурсов без возможности их альтернативного использования</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личие альтернативных возможностей использования ресурсов без приоритетности целей</a:t>
            </a:r>
            <a:endParaRPr b="0" lang="en-US" sz="2400" spc="-1" strike="noStrike">
              <a:solidFill>
                <a:srgbClr val="000000"/>
              </a:solidFill>
              <a:latin typeface="Arial"/>
            </a:endParaRPr>
          </a:p>
        </p:txBody>
      </p:sp>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Альтернативные затраты</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Альтернативные затраты (</a:t>
            </a:r>
            <a:r>
              <a:rPr b="1" lang="en-US" sz="2800" spc="-1" strike="noStrike">
                <a:solidFill>
                  <a:srgbClr val="000000"/>
                </a:solidFill>
                <a:latin typeface="Arial"/>
              </a:rPr>
              <a:t>opportunity costs) – </a:t>
            </a:r>
            <a:r>
              <a:rPr b="1" lang="ru-RU" sz="2800" spc="-1" strike="noStrike">
                <a:solidFill>
                  <a:srgbClr val="333399"/>
                </a:solidFill>
                <a:latin typeface="Arial"/>
              </a:rPr>
              <a:t>доход</a:t>
            </a:r>
            <a:r>
              <a:rPr b="1" lang="ru-RU" sz="2800" spc="-1" strike="noStrike">
                <a:solidFill>
                  <a:srgbClr val="000000"/>
                </a:solidFill>
                <a:latin typeface="Arial"/>
              </a:rPr>
              <a:t> от наилучшей из оставшихся альтернатив использования ресурса</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спользование понятия альтернативных затрат при принятии решений</a:t>
            </a:r>
            <a:endParaRPr b="0" lang="en-US" sz="2800" spc="-1" strike="noStrike">
              <a:solidFill>
                <a:srgbClr val="000000"/>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Фундаментальные задачи экономики</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 производит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 производит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ля кого производить?</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Роль системы цен</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икроэкономика как теория цен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Механизмы распределения ограниченных ресурсов</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Традиционная</a:t>
            </a:r>
            <a:r>
              <a:rPr b="1" lang="ru-RU" sz="2800" spc="-1" strike="noStrike">
                <a:solidFill>
                  <a:srgbClr val="000000"/>
                </a:solidFill>
                <a:latin typeface="Arial"/>
              </a:rPr>
              <a:t> экономика</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Командная</a:t>
            </a:r>
            <a:r>
              <a:rPr b="1" lang="ru-RU" sz="2800" spc="-1" strike="noStrike">
                <a:solidFill>
                  <a:srgbClr val="000000"/>
                </a:solidFill>
                <a:latin typeface="Arial"/>
              </a:rPr>
              <a:t> экономика</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Рыночная</a:t>
            </a:r>
            <a:r>
              <a:rPr b="1" lang="ru-RU" sz="2800" spc="-1" strike="noStrike">
                <a:solidFill>
                  <a:srgbClr val="000000"/>
                </a:solidFill>
                <a:latin typeface="Arial"/>
              </a:rPr>
              <a:t> экономика</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Смешанная</a:t>
            </a:r>
            <a:r>
              <a:rPr b="1" lang="ru-RU" sz="2800" spc="-1" strike="noStrike">
                <a:solidFill>
                  <a:srgbClr val="000000"/>
                </a:solidFill>
                <a:latin typeface="Arial"/>
              </a:rPr>
              <a:t> экономика</a:t>
            </a:r>
            <a:endParaRPr b="0" lang="en-US" sz="28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редмет экономической науки</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Arial"/>
              </a:rPr>
              <a:t>Способы решения задачи выбора между конкурирующими </a:t>
            </a:r>
            <a:r>
              <a:rPr b="1" lang="ru-RU" sz="3200" spc="-1" strike="noStrike" u="sng">
                <a:solidFill>
                  <a:srgbClr val="333399"/>
                </a:solidFill>
                <a:uFillTx/>
                <a:latin typeface="Arial"/>
              </a:rPr>
              <a:t>целями использования</a:t>
            </a:r>
            <a:r>
              <a:rPr b="1" lang="ru-RU" sz="3200" spc="-1" strike="noStrike">
                <a:solidFill>
                  <a:srgbClr val="333399"/>
                </a:solidFill>
                <a:latin typeface="Arial"/>
              </a:rPr>
              <a:t> ограниченных ресурсов</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ТЕОРЕМА О НЕВИДИМОЙ РУКЕ»</a:t>
            </a:r>
            <a:endParaRPr b="0" lang="en-US" sz="36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аждый человек имеет в виду лишь собственный интерес, преследует лишь собственную выгоду…</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a:t>
            </a:r>
            <a:r>
              <a:rPr b="1" i="1" lang="ru-RU" sz="2800" spc="-1" strike="noStrike">
                <a:solidFill>
                  <a:srgbClr val="000000"/>
                </a:solidFill>
                <a:latin typeface="Arial"/>
              </a:rPr>
              <a:t>в этом случае… он невидимой рукой направляется к цели, которая совсем и не входила в его намерения… Преследуя свои собственные интересы, он часто более действенным образом служит интересам общества, чем тогда, когда сознательно стремится делать это</a:t>
            </a:r>
            <a:r>
              <a:rPr b="1" lang="ru-RU" sz="2800" spc="-1" strike="noStrike">
                <a:solidFill>
                  <a:srgbClr val="000000"/>
                </a:solidFill>
                <a:latin typeface="Arial"/>
              </a:rPr>
              <a:t>»</a:t>
            </a: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А.Смит </a:t>
            </a:r>
            <a:endParaRPr b="0" lang="en-US" sz="2800" spc="-1" strike="noStrike">
              <a:solidFill>
                <a:srgbClr val="000000"/>
              </a:solidFill>
              <a:latin typeface="Arial"/>
            </a:endParaRPr>
          </a:p>
        </p:txBody>
      </p:sp>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Микроэкономика и макроэкономика</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99"/>
                </a:solidFill>
                <a:latin typeface="Arial"/>
              </a:rPr>
              <a:t>Микроэкономика</a:t>
            </a:r>
            <a:r>
              <a:rPr b="1" lang="ru-RU" sz="2800" spc="-1" strike="noStrike">
                <a:solidFill>
                  <a:srgbClr val="000000"/>
                </a:solidFill>
                <a:latin typeface="Arial"/>
              </a:rPr>
              <a:t> изучает поведение отдельных экономических агентов: индивидуумов, домохозяйств, предприятий, владельцев первичных производственных ресурсов</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99"/>
                </a:solidFill>
                <a:latin typeface="Arial"/>
              </a:rPr>
              <a:t>Макроэкономика</a:t>
            </a:r>
            <a:r>
              <a:rPr b="1" lang="ru-RU" sz="2800" spc="-1" strike="noStrike">
                <a:solidFill>
                  <a:srgbClr val="000000"/>
                </a:solidFill>
                <a:latin typeface="Arial"/>
              </a:rPr>
              <a:t> исследует функционирование экономической системы в целом и крупных ее секторов</a:t>
            </a:r>
            <a:endParaRPr b="0" lang="en-US" sz="2800" spc="-1" strike="noStrike">
              <a:solidFill>
                <a:srgbClr val="000000"/>
              </a:solidFill>
              <a:latin typeface="Arial"/>
            </a:endParaRPr>
          </a:p>
        </p:txBody>
      </p:sp>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Цель курса</a:t>
            </a:r>
            <a:endParaRPr b="0" lang="en-US" sz="4400" spc="-1" strike="noStrike">
              <a:solidFill>
                <a:srgbClr val="000000"/>
              </a:solidFill>
              <a:latin typeface="Arial"/>
            </a:endParaRPr>
          </a:p>
        </p:txBody>
      </p:sp>
      <p:sp>
        <p:nvSpPr>
          <p:cNvPr id="52" name="PlaceHolder 2"/>
          <p:cNvSpPr>
            <a:spLocks noGrp="1"/>
          </p:cNvSpPr>
          <p:nvPr>
            <p:ph/>
          </p:nvPr>
        </p:nvSpPr>
        <p:spPr>
          <a:xfrm>
            <a:off x="457200" y="1341000"/>
            <a:ext cx="8229600" cy="532764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зучение микроэкономической теории на вводном уровне:</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ссмотрение основных проблем, изучаемых в рамках микроэкономической теории</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пределение основных понятий и рассмотрение базовых математических моделей, формализующих их</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емонстрация возможностей применения микроэкономических моделей при решении задач управления в частном и общественном секторах, анализе государственной социальной и экономической политики </a:t>
            </a:r>
            <a:endParaRPr b="0" lang="en-US" sz="28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едмет микроэкономики</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обусловленное ограниченностью ресурсов </a:t>
            </a:r>
            <a:r>
              <a:rPr b="1" lang="en-US" sz="2800" spc="-1" strike="noStrike">
                <a:solidFill>
                  <a:srgbClr val="333399"/>
                </a:solidFill>
                <a:latin typeface="Arial"/>
              </a:rPr>
              <a:t>поведение</a:t>
            </a:r>
            <a:r>
              <a:rPr b="1" lang="en-US" sz="2800" spc="-1" strike="noStrike">
                <a:solidFill>
                  <a:srgbClr val="000000"/>
                </a:solidFill>
                <a:latin typeface="Arial"/>
              </a:rPr>
              <a:t> (принимаемые экономические решения) </a:t>
            </a:r>
            <a:r>
              <a:rPr b="1" lang="en-US" sz="2800" spc="-1" strike="noStrike">
                <a:solidFill>
                  <a:srgbClr val="333399"/>
                </a:solidFill>
                <a:latin typeface="Arial"/>
              </a:rPr>
              <a:t>экономических агентов</a:t>
            </a:r>
            <a:r>
              <a:rPr b="1"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отребителей</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фирм</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домашних хозяйств</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равительственных организаций</a:t>
            </a:r>
            <a:r>
              <a:rPr b="1" lang="ru-RU"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функционирование </a:t>
            </a:r>
            <a:r>
              <a:rPr b="1" lang="en-US" sz="2800" spc="-1" strike="noStrike">
                <a:solidFill>
                  <a:srgbClr val="000000"/>
                </a:solidFill>
                <a:latin typeface="Arial"/>
              </a:rPr>
              <a:t>отдельных</a:t>
            </a:r>
            <a:r>
              <a:rPr b="1" lang="en-US" sz="2800" spc="-1" strike="noStrike">
                <a:solidFill>
                  <a:srgbClr val="333399"/>
                </a:solidFill>
                <a:latin typeface="Arial"/>
              </a:rPr>
              <a:t> рынков</a:t>
            </a:r>
            <a:r>
              <a:rPr b="1" lang="ru-RU" sz="2800" spc="-1" strike="noStrike">
                <a:solidFill>
                  <a:srgbClr val="000000"/>
                </a:solidFill>
                <a:latin typeface="Arial"/>
              </a:rPr>
              <a:t>, проявляющееся в формировании цен, объемов спроса и предложения</a:t>
            </a:r>
            <a:endParaRPr b="0" lang="en-US" sz="2800" spc="-1" strike="noStrike">
              <a:solidFill>
                <a:srgbClr val="000000"/>
              </a:solidFill>
              <a:latin typeface="Arial"/>
            </a:endParaRPr>
          </a:p>
        </p:txBody>
      </p:sp>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Методология микроэкономики</a:t>
            </a:r>
            <a:endParaRPr b="0" lang="en-US" sz="40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сследование объектов познания не непосредственно, а посредством анализа некоторых вспомогательных объектов, которые называют </a:t>
            </a:r>
            <a:r>
              <a:rPr b="1" i="1" lang="ru-RU" sz="3200" spc="-1" strike="noStrike">
                <a:solidFill>
                  <a:srgbClr val="333399"/>
                </a:solidFill>
                <a:latin typeface="Arial"/>
              </a:rPr>
              <a:t>моделями</a:t>
            </a:r>
            <a:endParaRPr b="0" lang="en-US" sz="3200" spc="-1" strike="noStrike">
              <a:solidFill>
                <a:srgbClr val="000000"/>
              </a:solidFill>
              <a:latin typeface="Arial"/>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Модели</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rPr>
              <a:t>modulus</a:t>
            </a:r>
            <a:r>
              <a:rPr b="1" lang="ru-RU" sz="2800" spc="-1" strike="noStrike">
                <a:solidFill>
                  <a:srgbClr val="000000"/>
                </a:solidFill>
                <a:latin typeface="Arial"/>
              </a:rPr>
              <a:t> – мера, образец</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объект, отличный от исследуемого оригинала</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упрощенное описание исходного объекта изучения</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описание, воспроизводящее существенные с точки зрения целей проводимого исследования свойства оригинала</a:t>
            </a:r>
            <a:r>
              <a:rPr b="1" lang="ru-RU"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Основные типы моделирования</a:t>
            </a: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333399"/>
                </a:solidFill>
                <a:latin typeface="Arial"/>
              </a:rPr>
              <a:t>Материальное</a:t>
            </a:r>
            <a:r>
              <a:rPr b="0" lang="ru-RU" sz="3200" spc="-1" strike="noStrike">
                <a:solidFill>
                  <a:srgbClr val="000000"/>
                </a:solidFill>
                <a:latin typeface="Arial"/>
              </a:rPr>
              <a:t> – воспроизведение основных характеристик</a:t>
            </a:r>
            <a:r>
              <a:rPr b="0" lang="en-US" sz="3200" spc="-1" strike="noStrike">
                <a:solidFill>
                  <a:srgbClr val="000000"/>
                </a:solidFill>
                <a:latin typeface="Arial"/>
              </a:rPr>
              <a:t> (</a:t>
            </a:r>
            <a:r>
              <a:rPr b="0" lang="ru-RU" sz="3200" spc="-1" strike="noStrike">
                <a:solidFill>
                  <a:srgbClr val="000000"/>
                </a:solidFill>
                <a:latin typeface="Arial"/>
              </a:rPr>
              <a:t>в т.ч. фЫизических) моделируемого объекта</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333399"/>
                </a:solidFill>
                <a:latin typeface="Arial"/>
              </a:rPr>
              <a:t>Идеальное</a:t>
            </a:r>
            <a:r>
              <a:rPr b="0" lang="ru-RU" sz="3200" spc="-1" strike="noStrike">
                <a:solidFill>
                  <a:srgbClr val="000000"/>
                </a:solidFill>
                <a:latin typeface="Arial"/>
              </a:rPr>
              <a:t> – идеальная аналогия. Теоретический характер моделировани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Основные типы моделей в экономике</a:t>
            </a:r>
            <a:endParaRPr b="0" lang="en-US" sz="40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ербальные</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Экономико-математические</a:t>
            </a:r>
            <a:endParaRPr b="0" lang="en-US" sz="32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Экономические модел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одержательность и реалистичность принятых посылок и допущений</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едсказательная способность</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озможность информационного обеспечения и верификации</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бщность</a:t>
            </a:r>
            <a:endParaRPr b="0" lang="en-US" sz="2800" spc="-1" strike="noStrike">
              <a:solidFill>
                <a:srgbClr val="000000"/>
              </a:solidFill>
              <a:latin typeface="Arial"/>
            </a:endParaRPr>
          </a:p>
        </p:txBody>
      </p:sp>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Экономические модели</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птимизационные</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сследование поведения </a:t>
            </a:r>
            <a:r>
              <a:rPr b="1" i="1" lang="ru-RU" sz="2800" spc="-1" strike="noStrike">
                <a:solidFill>
                  <a:srgbClr val="333399"/>
                </a:solidFill>
                <a:latin typeface="Arial"/>
              </a:rPr>
              <a:t>отдельных</a:t>
            </a:r>
            <a:r>
              <a:rPr b="1" lang="ru-RU" sz="2800" spc="-1" strike="noStrike">
                <a:solidFill>
                  <a:srgbClr val="000000"/>
                </a:solidFill>
                <a:latin typeface="Arial"/>
              </a:rPr>
              <a:t> экономических агентов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Равновесные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сследование взаимоотношений </a:t>
            </a:r>
            <a:r>
              <a:rPr b="1" i="1" lang="ru-RU" sz="2800" spc="-1" strike="noStrike">
                <a:solidFill>
                  <a:srgbClr val="333399"/>
                </a:solidFill>
                <a:latin typeface="Arial"/>
              </a:rPr>
              <a:t>между</a:t>
            </a:r>
            <a:r>
              <a:rPr b="1" lang="ru-RU" sz="2800" spc="-1" strike="noStrike">
                <a:solidFill>
                  <a:srgbClr val="000000"/>
                </a:solidFill>
                <a:latin typeface="Arial"/>
              </a:rPr>
              <a:t> экономическими агентами </a:t>
            </a:r>
            <a:endParaRPr b="0" lang="en-US" sz="2800" spc="-1" strike="noStrike">
              <a:solidFill>
                <a:srgbClr val="000000"/>
              </a:solidFill>
              <a:latin typeface="Arial"/>
            </a:endParaRPr>
          </a:p>
        </p:txBody>
      </p:sp>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Рациональное поведение экономических агентов</a:t>
            </a:r>
            <a:endParaRPr b="0" lang="en-US" sz="40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ндивид (фирма) всегда выбирает оптимальное (ЛУЧШЕЕ) при имеющихся ограничениях и информации решение</a:t>
            </a:r>
            <a:endParaRPr b="0" lang="en-US" sz="28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пределение понятия «ЛУЧШЕЕ»</a:t>
            </a:r>
            <a:endParaRPr b="0" lang="en-US" sz="24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ндивиды максимизируют удовлетворение своих потребностей, называемое </a:t>
            </a:r>
            <a:r>
              <a:rPr b="1" i="1" lang="ru-RU" sz="2800" spc="-1" strike="noStrike">
                <a:solidFill>
                  <a:srgbClr val="333399"/>
                </a:solidFill>
                <a:latin typeface="Arial"/>
              </a:rPr>
              <a:t>полезностью</a:t>
            </a:r>
            <a:endParaRPr b="0" lang="en-US" sz="2800" spc="-1" strike="noStrike">
              <a:solidFill>
                <a:srgbClr val="000000"/>
              </a:solidFill>
              <a:latin typeface="Arial"/>
            </a:endParaRPr>
          </a:p>
        </p:txBody>
      </p:sp>
      <p:sp>
        <p:nvSpPr>
          <p:cNvPr id="1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Рациональное поведение экономических агентов</a:t>
            </a: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то максимизируют фирмы?</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ибыль</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бъем продаж (рыночная доля)</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огатство собственников</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едпосылки</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азделение между собственниками и менеджерами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ействие менеджеров исходя из собственных интересов</a:t>
            </a:r>
            <a:endParaRPr b="0" lang="en-US" sz="2000" spc="-1" strike="noStrike">
              <a:solidFill>
                <a:srgbClr val="000000"/>
              </a:solidFill>
              <a:latin typeface="Arial"/>
            </a:endParaRPr>
          </a:p>
        </p:txBody>
      </p:sp>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Формальная модель рационального выбора</a:t>
            </a:r>
            <a:endParaRPr b="0" lang="en-US" sz="4000" spc="-1" strike="noStrike">
              <a:solidFill>
                <a:srgbClr val="000000"/>
              </a:solidFill>
              <a:latin typeface="Arial"/>
            </a:endParaRPr>
          </a:p>
        </p:txBody>
      </p:sp>
      <p:sp>
        <p:nvSpPr>
          <p:cNvPr id="133" name="PlaceHolder 2"/>
          <p:cNvSpPr>
            <a:spLocks noGrp="1"/>
          </p:cNvSpPr>
          <p:nvPr>
            <p:ph/>
          </p:nvPr>
        </p:nvSpPr>
        <p:spPr>
          <a:xfrm>
            <a:off x="457200" y="3789000"/>
            <a:ext cx="8229600" cy="2336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де:</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D -</a:t>
            </a:r>
            <a:r>
              <a:rPr b="0" lang="ru-RU" sz="2400" spc="-1" strike="noStrike">
                <a:solidFill>
                  <a:srgbClr val="000000"/>
                </a:solidFill>
                <a:latin typeface="Arial"/>
              </a:rPr>
              <a:t> множество возможных альтернатив </a:t>
            </a:r>
            <a:r>
              <a:rPr b="1" i="1" lang="ru-RU" sz="2400" spc="-1" strike="noStrike">
                <a:solidFill>
                  <a:srgbClr val="000000"/>
                </a:solidFill>
                <a:latin typeface="Arial"/>
              </a:rPr>
              <a:t>x</a:t>
            </a:r>
            <a:r>
              <a:rPr b="0" lang="ru-RU" sz="2400" spc="-1" strike="noStrike">
                <a:solidFill>
                  <a:srgbClr val="000000"/>
                </a:solidFill>
                <a:latin typeface="Arial"/>
              </a:rPr>
              <a:t> использования ограниченного ресурса - </a:t>
            </a:r>
            <a:r>
              <a:rPr b="0" i="1" lang="ru-RU" sz="2400" spc="-1" strike="noStrike">
                <a:solidFill>
                  <a:srgbClr val="000000"/>
                </a:solidFill>
                <a:latin typeface="Arial"/>
              </a:rPr>
              <a:t>x</a:t>
            </a:r>
            <a:r>
              <a:rPr b="0" lang="ru-RU" sz="2400" spc="-1" strike="noStrike">
                <a:solidFill>
                  <a:srgbClr val="000000"/>
                </a:solidFill>
                <a:latin typeface="Symbol"/>
                <a:ea typeface="Symbol"/>
              </a:rPr>
              <a:t></a:t>
            </a:r>
            <a:r>
              <a:rPr b="0" i="1" lang="ru-RU" sz="2400" spc="-1" strike="noStrike">
                <a:solidFill>
                  <a:srgbClr val="000000"/>
                </a:solidFill>
                <a:latin typeface="Arial"/>
              </a:rPr>
              <a:t>D</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F</a:t>
            </a:r>
            <a:r>
              <a:rPr b="0" lang="ru-RU" sz="2400" spc="-1" strike="noStrike">
                <a:solidFill>
                  <a:srgbClr val="000000"/>
                </a:solidFill>
                <a:latin typeface="Arial"/>
              </a:rPr>
              <a:t> - показатель  (функция) полезного эффекта получаемого от реализации конкретной альтернативы использования ограниченного ресурса – </a:t>
            </a:r>
            <a:r>
              <a:rPr b="1" i="1" lang="ru-RU" sz="2400" spc="-1" strike="noStrike">
                <a:solidFill>
                  <a:srgbClr val="000000"/>
                </a:solidFill>
                <a:latin typeface="Arial"/>
              </a:rPr>
              <a:t>F</a:t>
            </a:r>
            <a:r>
              <a:rPr b="1" lang="ru-RU" sz="2400" spc="-1" strike="noStrike">
                <a:solidFill>
                  <a:srgbClr val="000000"/>
                </a:solidFill>
                <a:latin typeface="Arial"/>
              </a:rPr>
              <a:t>(</a:t>
            </a:r>
            <a:r>
              <a:rPr b="1" i="1" lang="ru-RU" sz="2400" spc="-1" strike="noStrike">
                <a:solidFill>
                  <a:srgbClr val="000000"/>
                </a:solidFill>
                <a:latin typeface="Arial"/>
              </a:rPr>
              <a:t>x</a:t>
            </a:r>
            <a:r>
              <a:rPr b="1" lang="ru-RU" sz="2400" spc="-1" strike="noStrike">
                <a:solidFill>
                  <a:srgbClr val="000000"/>
                </a:solidFill>
                <a:latin typeface="Arial"/>
              </a:rPr>
              <a:t>)</a:t>
            </a:r>
            <a:r>
              <a:rPr b="0" lang="ru-RU" sz="2400" spc="-1" strike="noStrike">
                <a:solidFill>
                  <a:srgbClr val="000000"/>
                </a:solidFill>
                <a:latin typeface="Arial"/>
              </a:rPr>
              <a:t>, </a:t>
            </a:r>
            <a:r>
              <a:rPr b="1" i="1" lang="ru-RU" sz="2400" spc="-1" strike="noStrike">
                <a:solidFill>
                  <a:srgbClr val="000000"/>
                </a:solidFill>
                <a:latin typeface="Arial"/>
              </a:rPr>
              <a:t>x</a:t>
            </a:r>
            <a:r>
              <a:rPr b="0" lang="ru-RU" sz="2400" spc="-1" strike="noStrike">
                <a:solidFill>
                  <a:srgbClr val="000000"/>
                </a:solidFill>
                <a:latin typeface="Symbol"/>
                <a:ea typeface="Symbol"/>
              </a:rPr>
              <a:t></a:t>
            </a:r>
            <a:r>
              <a:rPr b="1" i="1" lang="ru-RU" sz="2400" spc="-1" strike="noStrike">
                <a:solidFill>
                  <a:srgbClr val="000000"/>
                </a:solidFill>
                <a:latin typeface="Arial"/>
              </a:rPr>
              <a:t>D</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13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5" name="Object 4"/>
              <p:cNvSpPr txBox="1"/>
              <p:nvPr/>
            </p:nvSpPr>
            <p:spPr>
              <a:xfrm>
                <a:off x="468360" y="1700280"/>
                <a:ext cx="3384360" cy="2100240"/>
              </a:xfrm>
              <a:prstGeom prst="rect">
                <a:avLst/>
              </a:prstGeom>
            </p:spPr>
            <p:txBody>
              <a:bodyPr/>
              <a:p>
                <a14:m>
                  <m:oMath xmlns:m="http://schemas.openxmlformats.org/officeDocument/2006/math">
                    <m:eqArr>
                      <m:e>
                        <m:d>
                          <m:dPr>
                            <m:begChr m:val="{"/>
                            <m:endChr m:val=""/>
                          </m:dPr>
                          <m:e>
                            <m:r>
                              <m:rPr>
                                <m:lit/>
                                <m:nor/>
                              </m:rPr>
                              <m:t xml:space="preserve">max</m:t>
                            </m:r>
                            <m:r>
                              <m:t xml:space="preserve"> </m:t>
                            </m:r>
                            <m:r>
                              <m:t xml:space="preserve">F</m:t>
                            </m:r>
                            <m:r>
                              <m:t xml:space="preserve">(</m:t>
                            </m:r>
                            <m:r>
                              <m:t xml:space="preserve">x</m:t>
                            </m:r>
                            <m:r>
                              <m:t xml:space="preserve">)</m:t>
                            </m:r>
                          </m:e>
                          <m:e/>
                        </m:d>
                      </m:e>
                    </m:eqArr>
                  </m:oMath>
                </a14:m>
              </a:p>
            </p:txBody>
          </p:sp>
        </mc:Choice>
        <mc:Fallback/>
      </mc:AlternateContent>
      <p:sp>
        <p:nvSpPr>
          <p:cNvPr id="13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Задачи курса</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знакомление с методологией микроэкономического анализа</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пределение основных понятий и моделей микроэкономики</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зучение основных положений микроэкономической теории в области производства, потребления и рыночного обмена</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ллюстрация возможностей применения теоретических конструкций для анализа экономических процессов</a:t>
            </a:r>
            <a:endParaRPr b="0" lang="en-US" sz="24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Принцип рациональности поведения экономического агента</a:t>
            </a:r>
            <a:endParaRPr b="0" lang="en-US" sz="36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для реализации альтернативы </a:t>
            </a:r>
            <a:r>
              <a:rPr b="1" i="1" lang="ru-RU" sz="3200" spc="-1" strike="noStrike">
                <a:solidFill>
                  <a:srgbClr val="000000"/>
                </a:solidFill>
                <a:latin typeface="Arial"/>
              </a:rPr>
              <a:t>x</a:t>
            </a:r>
            <a:r>
              <a:rPr b="1" lang="ru-RU" sz="3200" spc="-1" strike="noStrike">
                <a:solidFill>
                  <a:srgbClr val="000000"/>
                </a:solidFill>
                <a:latin typeface="Arial"/>
              </a:rPr>
              <a:t> необходимо, чтобы выгоды от ее реализации </a:t>
            </a:r>
            <a:r>
              <a:rPr b="1" i="1" lang="ru-RU" sz="3200" spc="-1" strike="noStrike">
                <a:solidFill>
                  <a:srgbClr val="000000"/>
                </a:solidFill>
                <a:latin typeface="Arial"/>
              </a:rPr>
              <a:t>B(x)</a:t>
            </a:r>
            <a:r>
              <a:rPr b="1" lang="ru-RU" sz="3200" spc="-1" strike="noStrike">
                <a:solidFill>
                  <a:srgbClr val="000000"/>
                </a:solidFill>
                <a:latin typeface="Arial"/>
              </a:rPr>
              <a:t> превышали </a:t>
            </a:r>
            <a:r>
              <a:rPr b="1" i="1" lang="ru-RU" sz="3200" spc="-1" strike="noStrike">
                <a:solidFill>
                  <a:srgbClr val="000000"/>
                </a:solidFill>
                <a:latin typeface="Arial"/>
              </a:rPr>
              <a:t>сопряженные с ней</a:t>
            </a:r>
            <a:r>
              <a:rPr b="1" lang="ru-RU" sz="3200" spc="-1" strike="noStrike">
                <a:solidFill>
                  <a:srgbClr val="000000"/>
                </a:solidFill>
                <a:latin typeface="Arial"/>
              </a:rPr>
              <a:t> издержки </a:t>
            </a:r>
            <a:r>
              <a:rPr b="1" i="1" lang="ru-RU" sz="3200" spc="-1" strike="noStrike">
                <a:solidFill>
                  <a:srgbClr val="000000"/>
                </a:solidFill>
                <a:latin typeface="Arial"/>
              </a:rPr>
              <a:t>C(x)</a:t>
            </a:r>
            <a:r>
              <a:rPr b="1" lang="ru-RU" sz="3200" spc="-1" strike="noStrike">
                <a:solidFill>
                  <a:srgbClr val="000000"/>
                </a:solidFill>
                <a:latin typeface="Arial"/>
              </a:rPr>
              <a:t>  </a:t>
            </a:r>
            <a:br>
              <a:rPr sz="3200"/>
            </a:br>
            <a:r>
              <a:rPr b="1" lang="ru-RU" sz="3200" spc="-1" strike="noStrike">
                <a:solidFill>
                  <a:srgbClr val="000000"/>
                </a:solidFill>
                <a:latin typeface="Arial"/>
              </a:rPr>
              <a:t> </a:t>
            </a:r>
            <a:endParaRPr b="0" lang="en-US" sz="3200" spc="-1" strike="noStrike">
              <a:solidFill>
                <a:srgbClr val="000000"/>
              </a:solidFill>
              <a:latin typeface="Arial"/>
            </a:endParaRPr>
          </a:p>
        </p:txBody>
      </p:sp>
      <p:sp>
        <p:nvSpPr>
          <p:cNvPr id="1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Издержки экономических агентов</a:t>
            </a:r>
            <a:endParaRPr b="0" lang="en-US" sz="3600" spc="-1" strike="noStrike">
              <a:solidFill>
                <a:srgbClr val="000000"/>
              </a:solidFill>
              <a:latin typeface="Arial"/>
            </a:endParaRPr>
          </a:p>
        </p:txBody>
      </p:sp>
      <p:sp>
        <p:nvSpPr>
          <p:cNvPr id="141"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99"/>
                </a:solidFill>
                <a:latin typeface="Arial"/>
              </a:rPr>
              <a:t>Прямые переменные</a:t>
            </a:r>
            <a:r>
              <a:rPr b="1" i="1" lang="ru-RU" sz="2800" spc="-1" strike="noStrike">
                <a:solidFill>
                  <a:srgbClr val="000000"/>
                </a:solidFill>
                <a:latin typeface="Arial"/>
              </a:rPr>
              <a:t> издержки</a:t>
            </a:r>
            <a:r>
              <a:rPr b="1" lang="ru-RU" sz="2800" spc="-1" strike="noStrike">
                <a:solidFill>
                  <a:srgbClr val="000000"/>
                </a:solidFill>
                <a:latin typeface="Arial"/>
              </a:rPr>
              <a:t> – издержки, уровень которых зависит от степени использования (интенсивности, масштаба реализации) альтернативы</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99"/>
                </a:solidFill>
                <a:latin typeface="Arial"/>
              </a:rPr>
              <a:t>Невозвратные </a:t>
            </a:r>
            <a:r>
              <a:rPr b="1" i="1" lang="ru-RU" sz="2800" spc="-1" strike="noStrike">
                <a:solidFill>
                  <a:srgbClr val="000000"/>
                </a:solidFill>
                <a:latin typeface="Arial"/>
              </a:rPr>
              <a:t>издержки</a:t>
            </a:r>
            <a:r>
              <a:rPr b="1" lang="ru-RU" sz="2800" spc="-1" strike="noStrike">
                <a:solidFill>
                  <a:srgbClr val="000000"/>
                </a:solidFill>
                <a:latin typeface="Arial"/>
              </a:rPr>
              <a:t> – издержки, связанные с обеспечением необходимых для реализации альтернативы услови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99"/>
                </a:solidFill>
                <a:latin typeface="Arial"/>
              </a:rPr>
              <a:t>Альтернативные </a:t>
            </a:r>
            <a:r>
              <a:rPr b="1" lang="ru-RU" sz="2800" spc="-1" strike="noStrike">
                <a:solidFill>
                  <a:srgbClr val="000000"/>
                </a:solidFill>
                <a:latin typeface="Arial"/>
              </a:rPr>
              <a:t>(вмененные) издержки</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Равновесие экономических систем</a:t>
            </a:r>
            <a:endParaRPr b="0" lang="en-US" sz="40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состояние (значение экономических переменных), при котором составляющие ее элементы (хозяйственные единицы или альтернативы) и сама  система в целом будут </a:t>
            </a:r>
            <a:r>
              <a:rPr b="1" lang="en-US" sz="3200" spc="-1" strike="noStrike">
                <a:solidFill>
                  <a:srgbClr val="333399"/>
                </a:solidFill>
                <a:latin typeface="Arial"/>
              </a:rPr>
              <a:t>не заинтересованы</a:t>
            </a:r>
            <a:r>
              <a:rPr b="1" lang="en-US" sz="3200" spc="-1" strike="noStrike">
                <a:solidFill>
                  <a:srgbClr val="000000"/>
                </a:solidFill>
                <a:latin typeface="Arial"/>
              </a:rPr>
              <a:t>  в его изменении</a:t>
            </a:r>
            <a:r>
              <a:rPr b="1" lang="ru-RU" sz="3200" spc="-1" strike="noStrike">
                <a:solidFill>
                  <a:srgbClr val="000000"/>
                </a:solidFill>
                <a:latin typeface="Arial"/>
              </a:rPr>
              <a:t> </a:t>
            </a:r>
            <a:endParaRPr b="0" lang="en-US" sz="3200" spc="-1" strike="noStrike">
              <a:solidFill>
                <a:srgbClr val="000000"/>
              </a:solidFill>
              <a:latin typeface="Arial"/>
            </a:endParaRPr>
          </a:p>
        </p:txBody>
      </p:sp>
      <p:sp>
        <p:nvSpPr>
          <p:cNvPr id="1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арето-эффективность</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спределение блага </a:t>
            </a:r>
            <a:r>
              <a:rPr b="1" i="1" lang="ru-RU" sz="2400" spc="-1" strike="noStrike">
                <a:solidFill>
                  <a:srgbClr val="000000"/>
                </a:solidFill>
                <a:latin typeface="Arial"/>
              </a:rPr>
              <a:t>X</a:t>
            </a:r>
            <a:r>
              <a:rPr b="1" lang="ru-RU" sz="2400" spc="-1" strike="noStrike">
                <a:solidFill>
                  <a:srgbClr val="000000"/>
                </a:solidFill>
                <a:latin typeface="Arial"/>
              </a:rPr>
              <a:t> является </a:t>
            </a:r>
            <a:r>
              <a:rPr b="1" lang="ru-RU" sz="2400" spc="-1" strike="noStrike" u="sng">
                <a:solidFill>
                  <a:srgbClr val="000000"/>
                </a:solidFill>
                <a:uFillTx/>
                <a:latin typeface="Arial"/>
              </a:rPr>
              <a:t>оптимальным по Парето</a:t>
            </a:r>
            <a:r>
              <a:rPr b="1" lang="ru-RU" sz="2400" spc="-1" strike="noStrike">
                <a:solidFill>
                  <a:srgbClr val="000000"/>
                </a:solidFill>
                <a:latin typeface="Arial"/>
              </a:rPr>
              <a:t>, если </a:t>
            </a:r>
            <a:r>
              <a:rPr b="1" lang="ru-RU" sz="2400" spc="-1" strike="noStrike">
                <a:solidFill>
                  <a:srgbClr val="333399"/>
                </a:solidFill>
                <a:latin typeface="Arial"/>
              </a:rPr>
              <a:t>увеличение количества блага</a:t>
            </a:r>
            <a:r>
              <a:rPr b="1" lang="ru-RU" sz="2400" spc="-1" strike="noStrike">
                <a:solidFill>
                  <a:srgbClr val="000000"/>
                </a:solidFill>
                <a:latin typeface="Arial"/>
              </a:rPr>
              <a:t>, получаемого любым из участников дележа, не может быть достигнуто </a:t>
            </a:r>
            <a:r>
              <a:rPr b="1" lang="ru-RU" sz="2400" spc="-1" strike="noStrike">
                <a:solidFill>
                  <a:srgbClr val="333399"/>
                </a:solidFill>
                <a:latin typeface="Arial"/>
              </a:rPr>
              <a:t>без уменьшения</a:t>
            </a:r>
            <a:r>
              <a:rPr b="1" lang="ru-RU" sz="2400" spc="-1" strike="noStrike">
                <a:solidFill>
                  <a:srgbClr val="000000"/>
                </a:solidFill>
                <a:latin typeface="Arial"/>
              </a:rPr>
              <a:t> количества этого блага, приходящегося на долю хотя бы одного из остальных участников</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Если распределение не является Парето-оптимальным, то это означает, что имеется возможность увеличения доли хотя бы одного из участников дележа без ущемления интересов остальных</a:t>
            </a:r>
            <a:endParaRPr b="0" lang="en-US" sz="2400" spc="-1" strike="noStrike">
              <a:solidFill>
                <a:srgbClr val="000000"/>
              </a:solidFill>
              <a:latin typeface="Arial"/>
            </a:endParaRPr>
          </a:p>
        </p:txBody>
      </p:sp>
      <p:sp>
        <p:nvSpPr>
          <p:cNvPr id="1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Уровни социально-экономического анализа</a:t>
            </a:r>
            <a:endParaRPr b="0" lang="en-US" sz="40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нятие «Института»</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оциальные стереотипы (встроенные институты)</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нституциональная среда (социально-политическое устройство) </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нституты управления (организационно-правовое устройство)</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змещение ограниченных ресурсов</a:t>
            </a:r>
            <a:endParaRPr b="0" lang="en-US" sz="2400" spc="-1" strike="noStrike">
              <a:solidFill>
                <a:srgbClr val="000000"/>
              </a:solidFill>
              <a:latin typeface="Arial"/>
            </a:endParaRPr>
          </a:p>
        </p:txBody>
      </p:sp>
      <p:sp>
        <p:nvSpPr>
          <p:cNvPr id="1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озитивный и нормативный анализ</a:t>
            </a:r>
            <a:endParaRPr b="0" lang="en-US" sz="40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озитивные модели отвечают на вопрос: «</a:t>
            </a:r>
            <a:r>
              <a:rPr b="1" lang="ru-RU" sz="3200" spc="-1" strike="noStrike">
                <a:solidFill>
                  <a:srgbClr val="333399"/>
                </a:solidFill>
                <a:latin typeface="Arial"/>
              </a:rPr>
              <a:t>Что есть?</a:t>
            </a:r>
            <a:r>
              <a:rPr b="1" lang="ru-RU"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ормативные модели отвечают на вопрос: «</a:t>
            </a:r>
            <a:r>
              <a:rPr b="1" lang="ru-RU" sz="3200" spc="-1" strike="noStrike">
                <a:solidFill>
                  <a:srgbClr val="333399"/>
                </a:solidFill>
                <a:latin typeface="Arial"/>
              </a:rPr>
              <a:t>Что должно быть?</a:t>
            </a:r>
            <a:r>
              <a:rPr b="1" lang="ru-RU" sz="3200" spc="-1" strike="noStrike">
                <a:solidFill>
                  <a:srgbClr val="000000"/>
                </a:solidFill>
                <a:latin typeface="Arial"/>
              </a:rPr>
              <a:t>»</a:t>
            </a:r>
            <a:endParaRPr b="0" lang="en-US" sz="3200" spc="-1" strike="noStrike">
              <a:solidFill>
                <a:srgbClr val="000000"/>
              </a:solidFill>
              <a:latin typeface="Arial"/>
            </a:endParaRPr>
          </a:p>
        </p:txBody>
      </p:sp>
      <p:sp>
        <p:nvSpPr>
          <p:cNvPr id="1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Рынок и отрасль</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Рынок</a:t>
            </a:r>
            <a:r>
              <a:rPr b="1" lang="ru-RU" sz="2800" spc="-1" strike="noStrike">
                <a:solidFill>
                  <a:srgbClr val="000000"/>
                </a:solidFill>
                <a:latin typeface="Arial"/>
              </a:rPr>
              <a:t> – совокупность покупателей и продавцов, взаимодействие которых обеспечивает обмен</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Отрасль</a:t>
            </a:r>
            <a:r>
              <a:rPr b="1" lang="ru-RU" sz="2800" spc="-1" strike="noStrike">
                <a:solidFill>
                  <a:srgbClr val="000000"/>
                </a:solidFill>
                <a:latin typeface="Arial"/>
              </a:rPr>
              <a:t> – совокупность фирм, торгующих одним и тем же или родственными видами товаров</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трасль – сторона, предлагающая товар на рынке</a:t>
            </a:r>
            <a:endParaRPr b="0" lang="en-US" sz="2400" spc="-1" strike="noStrike">
              <a:solidFill>
                <a:srgbClr val="000000"/>
              </a:solidFill>
              <a:latin typeface="Arial"/>
            </a:endParaRPr>
          </a:p>
        </p:txBody>
      </p:sp>
      <p:sp>
        <p:nvSpPr>
          <p:cNvPr id="1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Структура курса</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ведение в микроэкономику</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еория поведения потребителя</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еория фирмы</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ынки товаров</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ынки факторов производства</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совершенства рынка и роль государства</a:t>
            </a:r>
            <a:endParaRPr b="0" lang="en-US" sz="2400" spc="-1" strike="noStrike">
              <a:solidFill>
                <a:srgbClr val="000000"/>
              </a:solidFill>
              <a:latin typeface="Arial"/>
            </a:endParaRPr>
          </a:p>
        </p:txBody>
      </p:sp>
      <p:sp>
        <p:nvSpPr>
          <p:cNvPr id="1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Экономическая теория и прикладная экономика</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ва стиля обучения микроэкономической теории:</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Чистая теория</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Теория с приложениями для управления бизнесом (</a:t>
            </a:r>
            <a:r>
              <a:rPr b="1" lang="en-US" sz="2000" spc="-1" strike="noStrike">
                <a:solidFill>
                  <a:srgbClr val="000000"/>
                </a:solidFill>
                <a:latin typeface="Arial"/>
              </a:rPr>
              <a:t>managerial/business economic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урсы микроэкономики и макроэкономики в процессе подготовки менеджеров</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Экономика в учебном плане факультета</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икроэкономика (1 семестр)</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акроэкономика (2 семестр)</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инансы (3 семестр)</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ировая экономика (4 семестр)</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икроэкономика-2: теория отраслевой организации (6 семестр)</a:t>
            </a:r>
            <a:endParaRPr b="0" lang="en-US" sz="2000" spc="-1" strike="noStrike">
              <a:solidFill>
                <a:srgbClr val="000000"/>
              </a:solidFill>
              <a:latin typeface="Arial"/>
            </a:endParaRPr>
          </a:p>
        </p:txBody>
      </p:sp>
      <p:sp>
        <p:nvSpPr>
          <p:cNvPr id="1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рикладные экономические науки</a:t>
            </a:r>
            <a:endParaRPr b="0" lang="en-US" sz="4000" spc="-1" strike="noStrike">
              <a:solidFill>
                <a:srgbClr val="000000"/>
              </a:solidFill>
              <a:latin typeface="Arial"/>
            </a:endParaRPr>
          </a:p>
        </p:txBody>
      </p:sp>
      <p:sp>
        <p:nvSpPr>
          <p:cNvPr id="165" name="PlaceHolder 2"/>
          <p:cNvSpPr>
            <a:spLocks noGrp="1"/>
          </p:cNvSpPr>
          <p:nvPr>
            <p:ph/>
          </p:nvPr>
        </p:nvSpPr>
        <p:spPr>
          <a:xfrm>
            <a:off x="457200" y="1484280"/>
            <a:ext cx="8229600" cy="511344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еждународная экономика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ru-RU" sz="2400" spc="-1" strike="noStrike">
                <a:solidFill>
                  <a:srgbClr val="000000"/>
                </a:solidFill>
                <a:latin typeface="Arial"/>
              </a:rPr>
              <a:t>	</a:t>
            </a:r>
            <a:r>
              <a:rPr b="1" i="1" lang="en-US" sz="2400" spc="-1" strike="noStrike">
                <a:solidFill>
                  <a:srgbClr val="000000"/>
                </a:solidFill>
                <a:latin typeface="Arial"/>
              </a:rPr>
              <a:t>International economic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еория отраслевой организации</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	</a:t>
            </a:r>
            <a:r>
              <a:rPr b="1" i="1" lang="en-US" sz="2400" spc="-1" strike="noStrike">
                <a:solidFill>
                  <a:srgbClr val="000000"/>
                </a:solidFill>
                <a:latin typeface="Arial"/>
              </a:rPr>
              <a:t>Industrial economic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Экономика общественного сектора</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ru-RU" sz="2400" spc="-1" strike="noStrike">
                <a:solidFill>
                  <a:srgbClr val="000000"/>
                </a:solidFill>
                <a:latin typeface="Arial"/>
              </a:rPr>
              <a:t>	</a:t>
            </a:r>
            <a:r>
              <a:rPr b="1" i="1" lang="en-US" sz="2400" spc="-1" strike="noStrike">
                <a:solidFill>
                  <a:srgbClr val="000000"/>
                </a:solidFill>
                <a:latin typeface="Arial"/>
              </a:rPr>
              <a:t>Public economic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Экономическая теория организаций</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	</a:t>
            </a:r>
            <a:r>
              <a:rPr b="1" i="1" lang="en-US" sz="2400" spc="-1" strike="noStrike">
                <a:solidFill>
                  <a:srgbClr val="000000"/>
                </a:solidFill>
                <a:latin typeface="Arial"/>
              </a:rPr>
              <a:t>Organization Economic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инансовая экономика</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	</a:t>
            </a:r>
            <a:r>
              <a:rPr b="1" i="1" lang="en-US" sz="2400" spc="-1" strike="noStrike">
                <a:solidFill>
                  <a:srgbClr val="000000"/>
                </a:solidFill>
                <a:latin typeface="Arial"/>
              </a:rPr>
              <a:t>Financial Economics</a:t>
            </a:r>
            <a:endParaRPr b="0" lang="en-US" sz="2400" spc="-1" strike="noStrike">
              <a:solidFill>
                <a:srgbClr val="000000"/>
              </a:solidFill>
              <a:latin typeface="Arial"/>
            </a:endParaRPr>
          </a:p>
        </p:txBody>
      </p:sp>
      <p:sp>
        <p:nvSpPr>
          <p:cNvPr id="1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Аудиторные занятия</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екции (64 часа)</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збор теоретического материала и обсуждение примеров</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еминары (32 часа)</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ешение задач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суждение статей, примеров, аналитических вопросов</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рупповая работа </a:t>
            </a:r>
            <a:endParaRPr b="0" lang="en-US" sz="28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Групповая работа</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нализ любой отрасли народного хозяйства с использованием основных микроэкономических категорий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ъем курсовой работы – не более 15 страниц</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бота должна быть оформлена в соответствии с основными требованиями к оформлению курсовых работ</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пускается коллективная работа над проектом (не более 4-х человек)</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ерновой вариант курсовой работы должен быть предоставлен научному руководителю не позже 4 декабря 2006 года</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язательным условием допуска к защите курсовой работы является </a:t>
            </a:r>
            <a:r>
              <a:rPr b="1" lang="ru-RU" sz="2000" spc="-1" strike="noStrike">
                <a:solidFill>
                  <a:srgbClr val="000000"/>
                </a:solidFill>
                <a:latin typeface="Arial"/>
              </a:rPr>
              <a:t>наличие презентации</a:t>
            </a:r>
            <a:r>
              <a:rPr b="0" lang="ru-RU" sz="2000" spc="-1" strike="noStrike">
                <a:solidFill>
                  <a:srgbClr val="000000"/>
                </a:solidFill>
                <a:latin typeface="Arial"/>
              </a:rPr>
              <a:t> основных результатов исследования</a:t>
            </a:r>
            <a:endParaRPr b="0" lang="en-US" sz="2000" spc="-1" strike="noStrike">
              <a:solidFill>
                <a:srgbClr val="000000"/>
              </a:solidFill>
              <a:latin typeface="Arial"/>
            </a:endParaRPr>
          </a:p>
        </p:txBody>
      </p:sp>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Оценка по курсу</a:t>
            </a:r>
            <a:endParaRPr b="0" lang="en-US" sz="4000" spc="-1" strike="noStrike">
              <a:solidFill>
                <a:srgbClr val="000000"/>
              </a:solidFill>
              <a:latin typeface="Arial"/>
            </a:endParaRPr>
          </a:p>
        </p:txBody>
      </p:sp>
      <p:sp>
        <p:nvSpPr>
          <p:cNvPr id="64" name="PlaceHolder 2"/>
          <p:cNvSpPr>
            <a:spLocks noGrp="1"/>
          </p:cNvSpPr>
          <p:nvPr>
            <p:ph/>
          </p:nvPr>
        </p:nvSpPr>
        <p:spPr>
          <a:xfrm>
            <a:off x="457200" y="1341000"/>
            <a:ext cx="8229600" cy="53276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опуск к экзамену:</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полнение заданий, полученных на семинарских и лекционных занятиях</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полнение письменной работы в ходе промежуточной аттестации </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межуточная аттестация</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0% итоговой оценки</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должительность – 1 час 15 минут (во время лекции)</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тоговый письменный экзамен</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80% итоговой оценки</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должительность – 3 часа</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руктура экзаменационной и аттестационной работ</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лок 1. Вопросы на выбор правильного ответа</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лок 2: задачи</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лок 3: аналитические вопросы (применение теоретических знаний для ответа на поставленный вопрос)</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Итоговая оценка</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аксимальное количество баллов – 100</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5» - от 76 и выше</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4» - от 66 до 75</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3» - от 56 до 65</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вторный экзамен – в дополнительную сессию в феврале</a:t>
            </a:r>
            <a:endParaRPr b="0" lang="en-US" sz="3200" spc="-1" strike="noStrike">
              <a:solidFill>
                <a:srgbClr val="000000"/>
              </a:solidFill>
              <a:latin typeface="Arial"/>
            </a:endParaRPr>
          </a:p>
        </p:txBody>
      </p:sp>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Рекомендуемая литература</a:t>
            </a:r>
            <a:endParaRPr b="0" lang="en-US" sz="4400" spc="-1" strike="noStrike">
              <a:solidFill>
                <a:srgbClr val="000000"/>
              </a:solidFill>
              <a:latin typeface="Arial"/>
            </a:endParaRPr>
          </a:p>
        </p:txBody>
      </p:sp>
      <p:sp>
        <p:nvSpPr>
          <p:cNvPr id="70" name="PlaceHolder 2"/>
          <p:cNvSpPr>
            <a:spLocks noGrp="1"/>
          </p:cNvSpPr>
          <p:nvPr>
            <p:ph/>
          </p:nvPr>
        </p:nvSpPr>
        <p:spPr>
          <a:xfrm>
            <a:off x="457200" y="1196640"/>
            <a:ext cx="8229600" cy="55450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омпендиум по курсу</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эриан Х.Л. Микроэкономика. Промежуточный уровень. Современный подход: Учебние для вузов /Пер. с англ. под. ред. Н.Д.Фроловой. – М.: ЮНИТИ, 1997.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ранк Р.Х. Микроэкономика и поведение. – М.:ИНФРА-М, 2000. – 696 с.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индайк Р.С., Рабинфельд Д.Л. Микроэкономика. /Пер. с англ. – СПб.: Питер, 2002. – 608 с.</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илгром П., Робертс Дж. Экономика, организация и менеджмент: В 2-х т./ Пер. с англ. под редакцией И.И.Елисеевой, В.Л.Тамбовцева. СПб.: Экономическая школа, 1999. Т.1.</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ьвов Ю.А. Основы экономики и организации бизнеса. – СПб.: 1992.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альперин В.М., Игнатьев С.М., Моргунов В.И. Микроэкономика. В 2-х т. СПб., 1994-2002. </a:t>
            </a:r>
            <a:r>
              <a:rPr b="0" i="1" lang="en-US" sz="2000" spc="-1" strike="noStrike">
                <a:solidFill>
                  <a:srgbClr val="000000"/>
                </a:solidFill>
                <a:latin typeface="Arial"/>
              </a:rPr>
              <a:t>www</a:t>
            </a:r>
            <a:r>
              <a:rPr b="0" i="1" lang="ru-RU" sz="2000" spc="-1" strike="noStrike">
                <a:solidFill>
                  <a:srgbClr val="000000"/>
                </a:solidFill>
                <a:latin typeface="Arial"/>
              </a:rPr>
              <a:t>.</a:t>
            </a:r>
            <a:r>
              <a:rPr b="0" i="1" lang="en-US" sz="2000" spc="-1" strike="noStrike">
                <a:solidFill>
                  <a:srgbClr val="000000"/>
                </a:solidFill>
                <a:latin typeface="Arial"/>
              </a:rPr>
              <a:t>economicus</a:t>
            </a:r>
            <a:r>
              <a:rPr b="0" i="1" lang="ru-RU" sz="2000" spc="-1" strike="noStrike">
                <a:solidFill>
                  <a:srgbClr val="000000"/>
                </a:solidFill>
                <a:latin typeface="Arial"/>
              </a:rPr>
              <a:t>.</a:t>
            </a:r>
            <a:r>
              <a:rPr b="0" i="1" lang="en-US" sz="2000" spc="-1" strike="noStrike">
                <a:solidFill>
                  <a:srgbClr val="000000"/>
                </a:solidFill>
                <a:latin typeface="Arial"/>
              </a:rPr>
              <a:t>ru</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кономическая школа. 50 лекций по микроэкономике. В 2-х т. СПб., 2000.</a:t>
            </a:r>
            <a:r>
              <a:rPr b="0" i="1" lang="ru-RU" sz="2000" spc="-1" strike="noStrike">
                <a:solidFill>
                  <a:srgbClr val="000000"/>
                </a:solidFill>
                <a:latin typeface="Arial"/>
              </a:rPr>
              <a:t> </a:t>
            </a:r>
            <a:r>
              <a:rPr b="0" i="1" lang="en-US" sz="2000" spc="-1" strike="noStrike">
                <a:solidFill>
                  <a:srgbClr val="000000"/>
                </a:solidFill>
                <a:latin typeface="Arial"/>
              </a:rPr>
              <a:t>www</a:t>
            </a:r>
            <a:r>
              <a:rPr b="0" i="1" lang="ru-RU" sz="2000" spc="-1" strike="noStrike">
                <a:solidFill>
                  <a:srgbClr val="000000"/>
                </a:solidFill>
                <a:latin typeface="Arial"/>
              </a:rPr>
              <a:t>.</a:t>
            </a:r>
            <a:r>
              <a:rPr b="0" i="1" lang="en-US" sz="2000" spc="-1" strike="noStrike">
                <a:solidFill>
                  <a:srgbClr val="000000"/>
                </a:solidFill>
                <a:latin typeface="Arial"/>
              </a:rPr>
              <a:t>economicus</a:t>
            </a:r>
            <a:r>
              <a:rPr b="0" i="1" lang="ru-RU" sz="2000" spc="-1" strike="noStrike">
                <a:solidFill>
                  <a:srgbClr val="000000"/>
                </a:solidFill>
                <a:latin typeface="Arial"/>
              </a:rPr>
              <a:t>.</a:t>
            </a:r>
            <a:r>
              <a:rPr b="0" i="1" lang="en-US" sz="2000" spc="-1" strike="noStrike">
                <a:solidFill>
                  <a:srgbClr val="000000"/>
                </a:solidFill>
                <a:latin typeface="Arial"/>
              </a:rPr>
              <a:t>ru</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расевич Л., Гребенников П., Леусский А., Микроэкономика http://www.finec.ru/rus/parts/microeconomics/titul.html</a:t>
            </a:r>
            <a:endParaRPr b="0" lang="en-US" sz="18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Консультации и контакты</a:t>
            </a:r>
            <a:endParaRPr b="0" lang="en-US" sz="4400" spc="-1" strike="noStrike">
              <a:solidFill>
                <a:srgbClr val="000000"/>
              </a:solidFill>
              <a:latin typeface="Arial"/>
            </a:endParaRPr>
          </a:p>
        </p:txBody>
      </p:sp>
      <p:sp>
        <p:nvSpPr>
          <p:cNvPr id="73"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нсультации проводятся по средам после лекции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нтакты</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колова Екатерина Владимировна (</a:t>
            </a:r>
            <a:r>
              <a:rPr b="0" lang="en-US" sz="2400" spc="-1" strike="noStrike">
                <a:solidFill>
                  <a:srgbClr val="000000"/>
                </a:solidFill>
                <a:latin typeface="Arial"/>
              </a:rPr>
              <a:t>sokolova@som.pu.ru)</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кляр Татьяна Моисеевна (</a:t>
            </a:r>
            <a:r>
              <a:rPr b="0" lang="en-US" sz="2400" spc="-1" strike="noStrike">
                <a:solidFill>
                  <a:srgbClr val="000000"/>
                </a:solidFill>
                <a:latin typeface="Arial"/>
              </a:rPr>
              <a:t>skliar@ts3924.spb.edu)</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аганова Анастасия Александровна (</a:t>
            </a:r>
            <a:r>
              <a:rPr b="0" lang="en-US" sz="2400" spc="-1" strike="noStrike">
                <a:solidFill>
                  <a:srgbClr val="000000"/>
                </a:solidFill>
                <a:latin typeface="Arial"/>
              </a:rPr>
              <a:t>taganova@som.pu.ru)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Жарехин Александр Викторович (</a:t>
            </a:r>
            <a:r>
              <a:rPr b="0" lang="en-US" sz="2400" spc="-1" strike="noStrike">
                <a:solidFill>
                  <a:srgbClr val="000000"/>
                </a:solidFill>
                <a:latin typeface="Arial"/>
              </a:rPr>
              <a:t>alexjva@mail.ru) </a:t>
            </a:r>
            <a:endParaRPr b="0" lang="en-US" sz="24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10:34:03Z</dcterms:created>
  <dc:creator>СоколоваЕВ</dc:creator>
  <dc:description/>
  <dc:language>en-US</dc:language>
  <cp:lastModifiedBy>LEGION</cp:lastModifiedBy>
  <dcterms:modified xsi:type="dcterms:W3CDTF">2016-01-04T08:18:14Z</dcterms:modified>
  <cp:revision>15</cp:revision>
  <dc:subject/>
  <dc:title>Микроэкономика</dc:title>
</cp:coreProperties>
</file>