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doni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ECE2-AC19-4CC7-9159-B67575248945}" type="slidenum">
              <a:rPr b="0" lang="uk-UA" sz="1200" spc="-1" strike="noStrike">
                <a:solidFill>
                  <a:srgbClr val="000000"/>
                </a:solidFill>
                <a:latin typeface="Bodoni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Урок обобщения зна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 тем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Деньги. Кредиты. Бюджет семьи.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Где лучше хранить деньги..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чем состоят причины дифференциации в оплате труда работник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айте ответ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юджет семьи-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труктура всех доходов и расходов за определенный период времени (месяц или год)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1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учитель, з/п за месяц – 2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медсестра, з/п за месяц – 1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абушка – пенсионерка, пенсия – 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очь – студентка, стипендия  - 2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5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домашний кинотеатр за 6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дание для 2 группы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остав семьи: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Отец – рабочий, з/п за месяц – 19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Мать – продавец, з/п за месяц – 10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душка – пенсионер, пенсия – 15 0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студент, стипендия  - 90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Сын – ученик 3 класса, пособие – 150 р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ь: купить компьютер за 35 000 р.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 какой период семья накопит данную сумму денег!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и урока: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обобщить и закрепить знания учащихся по теме « Деньги. Кредиты. Заработанная плата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воспитывать экономность, бережливость, предприимчивость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- побудить интерес к изучению экономики, применя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лученные знания на практик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одо Шефер. Мани, или азбука денег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Экономика от греческого слова «ОЙКОНОМИЯ»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ОЙКОС» - управлять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«НЕМ» (НОМ) – дом или хозяйство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родная мудрость гласи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е в деньгах счастье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опейка рубль береж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Деньги любят сче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Захочешь добра - посыпь серебра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т мудрен, у кого карман ядрен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Товарные деньги  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редит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Безналичные деньги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нег вы знаете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Что такое депозит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Какие виды депозитов вы знаете?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Потребительский кредит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Целево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Ли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Ипотечный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Расскажите об этих видах кредита!!!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doni MT"/>
              </a:rPr>
              <a:t>Назовите причины широкого распространения потребительских кредитов?</a:t>
            </a: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E78-0C40-4CB0-A372-3CDA4F72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872-B489-4615-9299-7CEAB937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FDB-D955-408C-82B3-4D84E1F8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7DC-BC4D-4859-A173-D13DFC29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8668-8EDD-4458-989B-DCAEB8C1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D13C-2433-4C75-AD7C-0F24335B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CB71-19A9-47C7-94D6-97DD5D31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108-8461-4F04-AF00-A17D5CE3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663-C3C4-4669-9DEB-6DAE5F68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C67-DD4E-4118-8EFC-15A3EF12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064-C4A2-4138-97E3-AB145E1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1A5-A6B8-4531-BC5B-DE3FD0BD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269E-DE66-4D5A-9B66-0E1A443E1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Урок обобщения знаний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Bodoni MT Black"/>
              </a:rPr>
              <a:t>по теме</a:t>
            </a:r>
            <a:br>
              <a:rPr sz="4800"/>
            </a:br>
            <a:r>
              <a:rPr b="1" lang="ru-RU" sz="4800" spc="-1" strike="noStrike" u="sng">
                <a:solidFill>
                  <a:srgbClr val="ff0000"/>
                </a:solidFill>
                <a:uFillTx/>
                <a:latin typeface="Bodoni MT Black"/>
              </a:rPr>
              <a:t>«Деньги. Кредиты. Бюджет семьи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457200" y="1143000"/>
            <a:ext cx="82677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де лучше хранить деньги...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Picture 5" descr="5624-17926796-______________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bank"/>
          <p:cNvPicPr/>
          <p:nvPr/>
        </p:nvPicPr>
        <p:blipFill>
          <a:blip r:embed="rId2"/>
          <a:stretch/>
        </p:blipFill>
        <p:spPr>
          <a:xfrm>
            <a:off x="4876920" y="3048120"/>
            <a:ext cx="3733560" cy="27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Picture 7" descr="question_mark_3d"/>
          <p:cNvPicPr/>
          <p:nvPr/>
        </p:nvPicPr>
        <p:blipFill>
          <a:blip r:embed="rId3"/>
          <a:stretch/>
        </p:blipFill>
        <p:spPr>
          <a:xfrm>
            <a:off x="3048120" y="228600"/>
            <a:ext cx="3660480" cy="70772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работная  плата                                                                                                (дайте определе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 чем состоят причины дифференциации в оплате труда работн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28600" y="-152280"/>
            <a:ext cx="513396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alibri"/>
              </a:rPr>
              <a:t>Дайте ответ!!!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Бюджет семь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структура всех доходов и расходов за определенный период времени (месяц или г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question"/>
          <p:cNvPicPr/>
          <p:nvPr/>
        </p:nvPicPr>
        <p:blipFill>
          <a:blip r:embed="rId2"/>
          <a:stretch/>
        </p:blipFill>
        <p:spPr>
          <a:xfrm>
            <a:off x="6541920" y="3962520"/>
            <a:ext cx="260208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QUESTION MARK 4"/>
          <p:cNvPicPr/>
          <p:nvPr/>
        </p:nvPicPr>
        <p:blipFill>
          <a:blip r:embed="rId2"/>
          <a:stretch/>
        </p:blipFill>
        <p:spPr>
          <a:xfrm>
            <a:off x="6662880" y="2209680"/>
            <a:ext cx="2481120" cy="4419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1206576288878508735yves_guillou_question"/>
          <p:cNvPicPr/>
          <p:nvPr/>
        </p:nvPicPr>
        <p:blipFill>
          <a:blip r:embed="rId2"/>
          <a:stretch/>
        </p:blipFill>
        <p:spPr>
          <a:xfrm rot="732000">
            <a:off x="7467480" y="4038480"/>
            <a:ext cx="1208160" cy="25956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1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ец – учитель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25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ать – медсестра, з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 за месяц – 1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бушка – пенсионерка, пенсия – 9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чь – студентка, стипендия  - 2 00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ын – ученик 5 класса, пособие – 150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ель: купить домашний кинотеатр за 65 000 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28600" y="152280"/>
            <a:ext cx="8534520" cy="152424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4240"/>
              <a:gd name="textAreaBottom" fmla="*/ 1326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Задание для 2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став семь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ец – рабочий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9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ть – продавец, 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 за месяц – 10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душка – пенсионер, пенсия – 15 0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студент, стипендия  - 90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ын – ученик 3 класса, пособие – 150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 купить компьютер за 35 000 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 какой период семья накопит данную сумму денег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28600" y="304920"/>
            <a:ext cx="8534520" cy="1523880"/>
          </a:xfrm>
          <a:custGeom>
            <a:avLst/>
            <a:gdLst>
              <a:gd name="textAreaLeft" fmla="*/ 0 w 8534520"/>
              <a:gd name="textAreaRight" fmla="*/ 8534880 w 8534520"/>
              <a:gd name="textAreaTop" fmla="*/ 197280 h 1523880"/>
              <a:gd name="textAreaBottom" fmla="*/ 13266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doni MT"/>
              </a:rPr>
              <a:t>Внимание!! Не забудьте о расходах на питание,  услуги ЖКХ, одежду, лекарства.</a:t>
            </a: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072"/>
          <p:cNvPicPr/>
          <p:nvPr/>
        </p:nvPicPr>
        <p:blipFill>
          <a:blip r:embed="rId2"/>
          <a:stretch/>
        </p:blipFill>
        <p:spPr>
          <a:xfrm>
            <a:off x="228600" y="228600"/>
            <a:ext cx="4114800" cy="27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1" name="Picture 7" descr="140905-01865122"/>
          <p:cNvPicPr/>
          <p:nvPr/>
        </p:nvPicPr>
        <p:blipFill>
          <a:blip r:embed="rId3"/>
          <a:stretch/>
        </p:blipFill>
        <p:spPr>
          <a:xfrm>
            <a:off x="2971800" y="1981080"/>
            <a:ext cx="3962520" cy="268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2" name="Picture 8" descr="a2bba1c554ba2e24c4341a1cf00151c2_XL"/>
          <p:cNvPicPr/>
          <p:nvPr/>
        </p:nvPicPr>
        <p:blipFill>
          <a:blip r:embed="rId4"/>
          <a:stretch/>
        </p:blipFill>
        <p:spPr>
          <a:xfrm>
            <a:off x="4724280" y="3505320"/>
            <a:ext cx="4191120" cy="3068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ели урока: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lonna MT"/>
              </a:rPr>
              <a:t> </a:t>
            </a:r>
            <a:br>
              <a:rPr sz="32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общить и закрепить знания учащихся по теме </a:t>
            </a:r>
            <a:r>
              <a:rPr b="1" lang="ru-RU" sz="2400" spc="-1" strike="noStrike" u="sng">
                <a:solidFill>
                  <a:srgbClr val="3333ff"/>
                </a:solidFill>
                <a:uFillTx/>
                <a:latin typeface="Bookman Old Style"/>
              </a:rPr>
              <a:t>« Деньги. Кредиты. Заработанная плата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формировать умение коллективно обсуждать рациональность тех или иных затрат и принимать разумное решени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воспитывать экономность, бережливость, предприимчивость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- побудить интерес к изучению экономики, применя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олученные знания на прак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до Шефер. Мани, или азбука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ного найдется людей, которые не хотели бы разбогатеть. Но некоторые осознают это желание отчетливее, чем большинство. Другие притворяются, что хотели бы быть богатыми лишь в определенных ситуациях. Но, в конечном счете, все хотят быть счастливее, успешнее и — чтобы у них было больше дене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этом желании нет ничего предосудительного. Ведь быть состоятельным — наше право от рождения. Человек, у которого достаточно денег, сам живет лучше и может принести больше пользы себе и другим. Мысль о том, что ты должен терпеть нехватку средств или даже вести нищенское существование, — одно из худших заблуждений челове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апп.mp3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65229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Экономика от греческого слова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Comic Sans MS"/>
              </a:rPr>
              <a:t>«ОЙКОНОМ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ОЙКОС»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- управл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«НЕМ» (НОМ)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 – дом или хозяй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Baskerville Old Face"/>
              </a:rPr>
              <a:t>Народная мудрость гласит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Не в деньгах счаст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Копейка рубль береж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Деньги любят с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Захочешь добра - посыпь сере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ff"/>
                </a:solidFill>
                <a:latin typeface="Bookman Old Style"/>
              </a:rPr>
              <a:t>Тот мудрен, у кого карман ядр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Группа 44 - Миром правят Деньги(OST Стритрейсеры)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98864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Organization Chart 18"/>
          <p:cNvGrpSpPr/>
          <p:nvPr/>
        </p:nvGrpSpPr>
        <p:grpSpPr>
          <a:xfrm>
            <a:off x="457200" y="304920"/>
            <a:ext cx="8228880" cy="5789160"/>
            <a:chOff x="457200" y="304920"/>
            <a:chExt cx="8228880" cy="578916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V="1" rot="16200000">
              <a:off x="5592600" y="1598760"/>
              <a:ext cx="1158480" cy="320076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V="1" rot="16200000">
              <a:off x="4525920" y="2665440"/>
              <a:ext cx="1158480" cy="106704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H="1" flipV="1" rot="5400000">
              <a:off x="3458880" y="2665440"/>
              <a:ext cx="1158480" cy="106740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H="1" flipV="1" rot="5400000">
              <a:off x="2392200" y="1598760"/>
              <a:ext cx="1158480" cy="3201120"/>
            </a:xfrm>
            <a:prstGeom prst="bentConnector3">
              <a:avLst>
                <a:gd name="adj1" fmla="val 98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2"/>
            <p:cNvSpPr/>
            <p:nvPr/>
          </p:nvSpPr>
          <p:spPr>
            <a:xfrm>
              <a:off x="3657600" y="30492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ФУНКЦИИ 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doni MT"/>
                </a:rPr>
                <a:t>ДЕНЕГ</a:t>
              </a:r>
              <a:endParaRPr b="0" lang="en-US" sz="24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7" name="_s1033"/>
            <p:cNvSpPr/>
            <p:nvPr/>
          </p:nvSpPr>
          <p:spPr>
            <a:xfrm>
              <a:off x="45720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doni MT"/>
                </a:rPr>
                <a:t>обмена</a:t>
              </a: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5" name="_s1034"/>
            <p:cNvSpPr/>
            <p:nvPr/>
          </p:nvSpPr>
          <p:spPr>
            <a:xfrm>
              <a:off x="259056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змер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тоимости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товаров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услуг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3" name="_s1035"/>
            <p:cNvSpPr/>
            <p:nvPr/>
          </p:nvSpPr>
          <p:spPr>
            <a:xfrm>
              <a:off x="472428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образования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и накопления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бережений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  <p:sp>
          <p:nvSpPr>
            <p:cNvPr id="60" name="_s1036"/>
            <p:cNvSpPr/>
            <p:nvPr/>
          </p:nvSpPr>
          <p:spPr>
            <a:xfrm>
              <a:off x="6857640" y="3778560"/>
              <a:ext cx="1828440" cy="2315520"/>
            </a:xfrm>
            <a:custGeom>
              <a:avLst/>
              <a:gdLst>
                <a:gd name="textAreaLeft" fmla="*/ 88920 w 1828440"/>
                <a:gd name="textAreaRight" fmla="*/ 1739520 w 1828440"/>
                <a:gd name="textAreaTop" fmla="*/ 88920 h 2315520"/>
                <a:gd name="textAreaBottom" fmla="*/ 2226600 h 2315520"/>
              </a:gdLst>
              <a:ahLst/>
              <a:rect l="textAreaLeft" t="textAreaTop" r="textAreaRight" b="textAreaBottom"/>
              <a:pathLst>
                <a:path w="21600" h="27353">
                  <a:moveTo>
                    <a:pt x="3600" y="0"/>
                  </a:moveTo>
                  <a:arcTo wR="3600" hR="3600" stAng="16200000" swAng="-5400000"/>
                  <a:lnTo>
                    <a:pt x="0" y="23753"/>
                  </a:lnTo>
                  <a:arcTo wR="3600" hR="3600" stAng="10800000" swAng="-5400000"/>
                  <a:lnTo>
                    <a:pt x="18000" y="273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Средство 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doni MT"/>
                </a:rPr>
                <a:t>платежа</a:t>
              </a: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doni MT"/>
              </a:endParaRPr>
            </a:p>
          </p:txBody>
        </p:sp>
      </p:grp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варные деньг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дит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зналичные день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114480" y="0"/>
            <a:ext cx="90295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виды денег вы знаете?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4267080" y="1828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44956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4343400" y="4114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4952880" y="5334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pic>
        <p:nvPicPr>
          <p:cNvPr id="75" name="Picture 10" descr="Internet-portal-8"/>
          <p:cNvPicPr/>
          <p:nvPr/>
        </p:nvPicPr>
        <p:blipFill>
          <a:blip r:embed="rId3"/>
          <a:stretch/>
        </p:blipFill>
        <p:spPr>
          <a:xfrm>
            <a:off x="7010280" y="3733920"/>
            <a:ext cx="1752840" cy="116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11" descr="1214_017"/>
          <p:cNvPicPr/>
          <p:nvPr/>
        </p:nvPicPr>
        <p:blipFill>
          <a:blip r:embed="rId4"/>
          <a:stretch/>
        </p:blipFill>
        <p:spPr>
          <a:xfrm>
            <a:off x="6781680" y="1143000"/>
            <a:ext cx="1981440" cy="14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Picture 12" descr="IMG_2009-12-24-Securities1"/>
          <p:cNvPicPr/>
          <p:nvPr/>
        </p:nvPicPr>
        <p:blipFill>
          <a:blip r:embed="rId5"/>
          <a:stretch/>
        </p:blipFill>
        <p:spPr>
          <a:xfrm>
            <a:off x="5562720" y="2438280"/>
            <a:ext cx="97128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3" descr="1268138901"/>
          <p:cNvPicPr/>
          <p:nvPr/>
        </p:nvPicPr>
        <p:blipFill>
          <a:blip r:embed="rId6"/>
          <a:stretch/>
        </p:blipFill>
        <p:spPr>
          <a:xfrm>
            <a:off x="5943600" y="4876920"/>
            <a:ext cx="1676520" cy="12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457200" y="457200"/>
            <a:ext cx="447660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такое депозит?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457200" y="5181480"/>
            <a:ext cx="817236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ие виды депозитов вы знаете?!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295280" y="228600"/>
            <a:ext cx="64296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d60093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ребительский кредит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d60093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AutoShape 22"/>
          <p:cNvSpPr/>
          <p:nvPr/>
        </p:nvSpPr>
        <p:spPr>
          <a:xfrm>
            <a:off x="121932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Целево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5" name="AutoShape 23"/>
          <p:cNvSpPr/>
          <p:nvPr/>
        </p:nvSpPr>
        <p:spPr>
          <a:xfrm>
            <a:off x="3657600" y="2362320"/>
            <a:ext cx="1752480" cy="23619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11">
                <a:moveTo>
                  <a:pt x="3600" y="0"/>
                </a:moveTo>
                <a:arcTo wR="3600" hR="3600" stAng="16200000" swAng="-5400000"/>
                <a:lnTo>
                  <a:pt x="0" y="25511"/>
                </a:lnTo>
                <a:arcTo wR="3600" hR="3600" stAng="10800000" swAng="-5400000"/>
                <a:lnTo>
                  <a:pt x="18000" y="29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Личный</a:t>
            </a:r>
            <a:endParaRPr b="0" lang="en-US" sz="2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6095880" y="2362320"/>
            <a:ext cx="1752840" cy="236196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361960"/>
              <a:gd name="textAreaBottom" fmla="*/ 2276640 h 2361960"/>
            </a:gdLst>
            <a:ahLst/>
            <a:rect l="textAreaLeft" t="textAreaTop" r="textAreaRight" b="textAreaBottom"/>
            <a:pathLst>
              <a:path w="21600" h="29105">
                <a:moveTo>
                  <a:pt x="3600" y="0"/>
                </a:moveTo>
                <a:arcTo wR="3600" hR="3600" stAng="16200000" swAng="-5400000"/>
                <a:lnTo>
                  <a:pt x="0" y="25505"/>
                </a:lnTo>
                <a:arcTo wR="3600" hR="3600" stAng="10800000" swAng="-5400000"/>
                <a:lnTo>
                  <a:pt x="18000" y="29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60093"/>
              </a:gs>
              <a:gs pos="50000">
                <a:srgbClr val="ffffff"/>
              </a:gs>
              <a:gs pos="100000">
                <a:srgbClr val="d60093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потечный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7" name="Oval 27"/>
          <p:cNvSpPr/>
          <p:nvPr/>
        </p:nvSpPr>
        <p:spPr>
          <a:xfrm>
            <a:off x="1752480" y="190512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doni M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8" name="Oval 28"/>
          <p:cNvSpPr/>
          <p:nvPr/>
        </p:nvSpPr>
        <p:spPr>
          <a:xfrm>
            <a:off x="4191120" y="1905120"/>
            <a:ext cx="685800" cy="685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89" name="Oval 29"/>
          <p:cNvSpPr/>
          <p:nvPr/>
        </p:nvSpPr>
        <p:spPr>
          <a:xfrm>
            <a:off x="6629400" y="1905120"/>
            <a:ext cx="685800" cy="685800"/>
          </a:xfrm>
          <a:prstGeom prst="ellipse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0" name="Rectangle 30"/>
          <p:cNvSpPr/>
          <p:nvPr/>
        </p:nvSpPr>
        <p:spPr>
          <a:xfrm>
            <a:off x="5245200" y="353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doni MT"/>
            </a:endParaRPr>
          </a:p>
        </p:txBody>
      </p:sp>
      <p:sp>
        <p:nvSpPr>
          <p:cNvPr id="91" name="WordArt 31"/>
          <p:cNvSpPr txBox="1"/>
          <p:nvPr/>
        </p:nvSpPr>
        <p:spPr>
          <a:xfrm>
            <a:off x="609480" y="5562720"/>
            <a:ext cx="765828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сскажите об этих видах кредита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aramond"/>
              </a:rPr>
              <a:t>Назовите причины широкого распространения потребительских кредит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odoni MT"/>
            </a:endParaRPr>
          </a:p>
        </p:txBody>
      </p:sp>
    </p:spTree>
  </p:cSld>
  <p:transition spd="med"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8:2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