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4795-E0D7-411D-B5C4-3CAD0BF6F418}" type="slidenum">
              <a:rPr b="0" lang="uk-UA" sz="1200" spc="-1" strike="noStrike">
                <a:solidFill>
                  <a:srgbClr val="000000"/>
                </a:solidFill>
                <a:latin typeface="Bodoni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9A1-FF7E-4BD6-BDAF-30216543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079-8055-4C18-B876-83DD3E1B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0A8-854E-41B1-BD2A-8D2E1F36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31E-D940-4FE6-979C-7647D503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349-97DF-4156-B562-BD598291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A75-ED8E-4DF5-A829-CDC971BF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7BB-CABA-4068-B21D-495D5CDD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A6C-FD1A-4302-8E2E-F23A0441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FB6-1489-4D85-B41A-B69667D0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0AC-895D-452E-9690-13CC19F2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22F-1464-42A1-B3F7-8740590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41F-EECF-40D3-AEAD-F831DDF5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D2DF-E6B1-4288-99BF-696A3232D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Урок обобщения знаний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по теме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Bodoni MT Black"/>
              </a:rPr>
              <a:t>«Деньги. Кредиты. Бюджет семьи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457200" y="1143000"/>
            <a:ext cx="8267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де лучше хранить деньги...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5" descr="5624-17926796-______________"/>
          <p:cNvPicPr/>
          <p:nvPr/>
        </p:nvPicPr>
        <p:blipFill>
          <a:blip r:embed="rId1"/>
          <a:stretch/>
        </p:blipFill>
        <p:spPr>
          <a:xfrm>
            <a:off x="838080" y="19810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bank"/>
          <p:cNvPicPr/>
          <p:nvPr/>
        </p:nvPicPr>
        <p:blipFill>
          <a:blip r:embed="rId2"/>
          <a:stretch/>
        </p:blipFill>
        <p:spPr>
          <a:xfrm>
            <a:off x="4876920" y="3048120"/>
            <a:ext cx="3733560" cy="27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7" descr="question_mark_3d"/>
          <p:cNvPicPr/>
          <p:nvPr/>
        </p:nvPicPr>
        <p:blipFill>
          <a:blip r:embed="rId3"/>
          <a:stretch/>
        </p:blipFill>
        <p:spPr>
          <a:xfrm>
            <a:off x="3048120" y="228600"/>
            <a:ext cx="3660480" cy="70772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228600" y="-152280"/>
            <a:ext cx="51339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libri"/>
              </a:rPr>
              <a:t>Дайте ответ!!!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структура всех доходов и расходов за определенный период времени (месяц или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question"/>
          <p:cNvPicPr/>
          <p:nvPr/>
        </p:nvPicPr>
        <p:blipFill>
          <a:blip r:embed="rId2"/>
          <a:stretch/>
        </p:blipFill>
        <p:spPr>
          <a:xfrm>
            <a:off x="6541920" y="3962520"/>
            <a:ext cx="2602080" cy="2895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QUESTION MARK 4"/>
          <p:cNvPicPr/>
          <p:nvPr/>
        </p:nvPicPr>
        <p:blipFill>
          <a:blip r:embed="rId2"/>
          <a:stretch/>
        </p:blipFill>
        <p:spPr>
          <a:xfrm>
            <a:off x="6662880" y="2209680"/>
            <a:ext cx="248112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1206576288878508735yves_guillou_question"/>
          <p:cNvPicPr/>
          <p:nvPr/>
        </p:nvPicPr>
        <p:blipFill>
          <a:blip r:embed="rId2"/>
          <a:stretch/>
        </p:blipFill>
        <p:spPr>
          <a:xfrm rot="732000">
            <a:off x="7467480" y="4038480"/>
            <a:ext cx="1208160" cy="25956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1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ец – учитель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25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ть – медсестра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1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бушка – пенсионерка, пенсия – 9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чь – студентка, стипендия  - 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ын – ученик 5 класса, пособие – 15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ь: купить домашний кинотеатр за 65 000 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28600" y="152280"/>
            <a:ext cx="8534520" cy="152424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4240"/>
              <a:gd name="textAreaBottom" fmla="*/ 13269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2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ец – рабочий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9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ь – продавец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0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душка – пенсионер, пенсия – 15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студент, стипендия  - 9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ученик 3 класса, пособие – 15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 купить компьютер за 35 000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28600" y="304920"/>
            <a:ext cx="8534520" cy="152388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072"/>
          <p:cNvPicPr/>
          <p:nvPr/>
        </p:nvPicPr>
        <p:blipFill>
          <a:blip r:embed="rId2"/>
          <a:stretch/>
        </p:blipFill>
        <p:spPr>
          <a:xfrm>
            <a:off x="228600" y="228600"/>
            <a:ext cx="4114800" cy="273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1" name="Picture 7" descr="140905-01865122"/>
          <p:cNvPicPr/>
          <p:nvPr/>
        </p:nvPicPr>
        <p:blipFill>
          <a:blip r:embed="rId3"/>
          <a:stretch/>
        </p:blipFill>
        <p:spPr>
          <a:xfrm>
            <a:off x="2971800" y="1981080"/>
            <a:ext cx="3962520" cy="268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2" name="Picture 8" descr="a2bba1c554ba2e24c4341a1cf00151c2_XL"/>
          <p:cNvPicPr/>
          <p:nvPr/>
        </p:nvPicPr>
        <p:blipFill>
          <a:blip r:embed="rId4"/>
          <a:stretch/>
        </p:blipFill>
        <p:spPr>
          <a:xfrm>
            <a:off x="4724280" y="3505320"/>
            <a:ext cx="4191120" cy="306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ели урока: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lonna MT"/>
              </a:rPr>
              <a:t> </a:t>
            </a:r>
            <a:br>
              <a:rPr sz="32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общить и закрепить знания учащихся по теме </a:t>
            </a:r>
            <a:r>
              <a:rPr b="1" lang="ru-RU" sz="2400" spc="-1" strike="noStrike" u="sng">
                <a:solidFill>
                  <a:srgbClr val="3333ff"/>
                </a:solidFill>
                <a:uFillTx/>
                <a:latin typeface="Bookman Old Style"/>
              </a:rPr>
              <a:t>« Деньги. Кредиты. Заработанная плата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воспитывать экономность, бережливость, предприимчивость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побудить интерес к изучению экономики, применя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лученные знания на прак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до Шефер. Мани, или азбука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апп.mp3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65229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Экономика от греческого слова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«ОЙКОНОМ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ОЙКОС»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- управл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НЕМ» (НОМ)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– дом или хозя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Baskerville Old Face"/>
              </a:rPr>
              <a:t>Народная мудрость гласит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Не в деньгах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Копейка рубль бере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Деньги любят с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Захочешь добра - посыпь сер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Тот мудрен, у кого карман ядр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Группа 44 - Миром правят Деньги(OST Стритрейсеры)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9886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Organization Chart 18"/>
          <p:cNvGrpSpPr/>
          <p:nvPr/>
        </p:nvGrpSpPr>
        <p:grpSpPr>
          <a:xfrm>
            <a:off x="457200" y="304920"/>
            <a:ext cx="8228880" cy="5789160"/>
            <a:chOff x="457200" y="304920"/>
            <a:chExt cx="8228880" cy="578916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V="1" rot="16200000">
              <a:off x="5592600" y="1598760"/>
              <a:ext cx="1158480" cy="320076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V="1" rot="16200000">
              <a:off x="4525920" y="2665440"/>
              <a:ext cx="1158480" cy="106704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H="1" flipV="1" rot="5400000">
              <a:off x="3458880" y="2665440"/>
              <a:ext cx="1158480" cy="106740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H="1" flipV="1" rot="5400000">
              <a:off x="2392200" y="1598760"/>
              <a:ext cx="1158480" cy="320112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2"/>
            <p:cNvSpPr/>
            <p:nvPr/>
          </p:nvSpPr>
          <p:spPr>
            <a:xfrm>
              <a:off x="3657600" y="30492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ФУНКЦИИ 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ДЕНЕГ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45720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обмена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5" name="_s1034"/>
            <p:cNvSpPr/>
            <p:nvPr/>
          </p:nvSpPr>
          <p:spPr>
            <a:xfrm>
              <a:off x="259056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змер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тоимости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товаров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услуг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472428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накопл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бережений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0" name="_s1036"/>
            <p:cNvSpPr/>
            <p:nvPr/>
          </p:nvSpPr>
          <p:spPr>
            <a:xfrm>
              <a:off x="685764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платежа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</p:grp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114480" y="0"/>
            <a:ext cx="90295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е виды денег вы знаете?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4267080" y="1828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44956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4343400" y="4114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4952880" y="5334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75" name="Picture 10" descr="Internet-portal-8"/>
          <p:cNvPicPr/>
          <p:nvPr/>
        </p:nvPicPr>
        <p:blipFill>
          <a:blip r:embed="rId3"/>
          <a:stretch/>
        </p:blipFill>
        <p:spPr>
          <a:xfrm>
            <a:off x="7010280" y="3733920"/>
            <a:ext cx="1752840" cy="116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11" descr="1214_017"/>
          <p:cNvPicPr/>
          <p:nvPr/>
        </p:nvPicPr>
        <p:blipFill>
          <a:blip r:embed="rId4"/>
          <a:stretch/>
        </p:blipFill>
        <p:spPr>
          <a:xfrm>
            <a:off x="6781680" y="1143000"/>
            <a:ext cx="1981440" cy="14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12" descr="IMG_2009-12-24-Securities1"/>
          <p:cNvPicPr/>
          <p:nvPr/>
        </p:nvPicPr>
        <p:blipFill>
          <a:blip r:embed="rId5"/>
          <a:stretch/>
        </p:blipFill>
        <p:spPr>
          <a:xfrm>
            <a:off x="5562720" y="2438280"/>
            <a:ext cx="9712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13" descr="1268138901"/>
          <p:cNvPicPr/>
          <p:nvPr/>
        </p:nvPicPr>
        <p:blipFill>
          <a:blip r:embed="rId6"/>
          <a:stretch/>
        </p:blipFill>
        <p:spPr>
          <a:xfrm>
            <a:off x="5943600" y="4876920"/>
            <a:ext cx="1676520" cy="12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457200" y="457200"/>
            <a:ext cx="447660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депозит?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457200" y="5181480"/>
            <a:ext cx="817236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ие виды депозитов вы знаете?!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295280" y="228600"/>
            <a:ext cx="64296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6009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требительский кредит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d6009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AutoShape 22"/>
          <p:cNvSpPr/>
          <p:nvPr/>
        </p:nvSpPr>
        <p:spPr>
          <a:xfrm>
            <a:off x="121932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Целево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365760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Личны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6095880" y="2362320"/>
            <a:ext cx="1752840" cy="236196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05">
                <a:moveTo>
                  <a:pt x="3600" y="0"/>
                </a:moveTo>
                <a:arcTo wR="3600" hR="3600" stAng="16200000" swAng="-5400000"/>
                <a:lnTo>
                  <a:pt x="0" y="25505"/>
                </a:lnTo>
                <a:arcTo wR="3600" hR="3600" stAng="10800000" swAng="-5400000"/>
                <a:lnTo>
                  <a:pt x="18000" y="29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60093"/>
              </a:gs>
              <a:gs pos="50000">
                <a:srgbClr val="ffffff"/>
              </a:gs>
              <a:gs pos="100000">
                <a:srgbClr val="d6009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потечный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Oval 27"/>
          <p:cNvSpPr/>
          <p:nvPr/>
        </p:nvSpPr>
        <p:spPr>
          <a:xfrm>
            <a:off x="175248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8" name="Oval 28"/>
          <p:cNvSpPr/>
          <p:nvPr/>
        </p:nvSpPr>
        <p:spPr>
          <a:xfrm>
            <a:off x="4191120" y="1905120"/>
            <a:ext cx="685800" cy="6858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9" name="Oval 29"/>
          <p:cNvSpPr/>
          <p:nvPr/>
        </p:nvSpPr>
        <p:spPr>
          <a:xfrm>
            <a:off x="6629400" y="1905120"/>
            <a:ext cx="685800" cy="6858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5245200" y="3537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WordArt 31"/>
          <p:cNvSpPr txBox="1"/>
          <p:nvPr/>
        </p:nvSpPr>
        <p:spPr>
          <a:xfrm>
            <a:off x="609480" y="5562720"/>
            <a:ext cx="765828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скажите об этих видах кредита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зовите причины широкого распространения потребительских кредито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8:2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