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CA70-7FB4-45B4-98FE-E194A3743499}" type="slidenum">
              <a:rPr b="0" lang="uk-UA" sz="1200" spc="-1" strike="noStrike">
                <a:solidFill>
                  <a:srgbClr val="000000"/>
                </a:solidFill>
                <a:latin typeface="Bodoni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D29-76F4-42DA-8623-E5C3B57A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F8D-963E-4650-AAE2-D8532C32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3EC-5887-4056-9CAA-E1B44DBB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268-CE65-4ADF-B790-CB665B5B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786-855C-4E88-B68A-FACC2D0A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104-A4D4-46A6-A84B-3F9B31A8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347-9F2D-48A3-9204-D0C08DC2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01A-9C31-48BC-8712-138DE503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6F7-3267-4350-A66D-28322BEC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0D7-DA23-4468-A4D1-99A9AFF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C3C-7C53-4EE3-A8A8-5C0721A1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017-9EBB-4132-9E69-454E6C3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8625-4E3B-4830-9310-AD76286E2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Урок обобщения знаний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по теме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Bodoni MT Black"/>
              </a:rPr>
              <a:t>«Деньги. Кредиты. Бюджет семьи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457200" y="1143000"/>
            <a:ext cx="8267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лучше хранить деньги...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5" descr="5624-17926796-______________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bank"/>
          <p:cNvPicPr/>
          <p:nvPr/>
        </p:nvPicPr>
        <p:blipFill>
          <a:blip r:embed="rId2"/>
          <a:stretch/>
        </p:blipFill>
        <p:spPr>
          <a:xfrm>
            <a:off x="4876920" y="3048120"/>
            <a:ext cx="3733560" cy="27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7" descr="question_mark_3d"/>
          <p:cNvPicPr/>
          <p:nvPr/>
        </p:nvPicPr>
        <p:blipFill>
          <a:blip r:embed="rId3"/>
          <a:stretch/>
        </p:blipFill>
        <p:spPr>
          <a:xfrm>
            <a:off x="3048120" y="228600"/>
            <a:ext cx="3660480" cy="70772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28600" y="-152280"/>
            <a:ext cx="51339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libri"/>
              </a:rPr>
              <a:t>Дайте ответ!!!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структура всех доходов и расходов за определенный период времени (месяц или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question"/>
          <p:cNvPicPr/>
          <p:nvPr/>
        </p:nvPicPr>
        <p:blipFill>
          <a:blip r:embed="rId2"/>
          <a:stretch/>
        </p:blipFill>
        <p:spPr>
          <a:xfrm>
            <a:off x="6541920" y="3962520"/>
            <a:ext cx="260208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QUESTION MARK 4"/>
          <p:cNvPicPr/>
          <p:nvPr/>
        </p:nvPicPr>
        <p:blipFill>
          <a:blip r:embed="rId2"/>
          <a:stretch/>
        </p:blipFill>
        <p:spPr>
          <a:xfrm>
            <a:off x="6662880" y="2209680"/>
            <a:ext cx="248112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1206576288878508735yves_guillou_question"/>
          <p:cNvPicPr/>
          <p:nvPr/>
        </p:nvPicPr>
        <p:blipFill>
          <a:blip r:embed="rId2"/>
          <a:stretch/>
        </p:blipFill>
        <p:spPr>
          <a:xfrm rot="732000">
            <a:off x="7467480" y="4038480"/>
            <a:ext cx="1208160" cy="2595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1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ец – учитель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25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ь – медсестра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1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ушка – пенсионерка, пенсия – 9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ь – студентка, стипендия  - 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н – ученик 5 класса, пособие – 15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 купить домашний кинотеатр за 65 000 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28600" y="152280"/>
            <a:ext cx="8534520" cy="152424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4240"/>
              <a:gd name="textAreaBottom" fmla="*/ 1326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2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ец – рабочий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9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ь – продавец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0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душка – пенсионер, пенсия – 15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студент, стипендия  - 9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ученик 3 класса, пособие – 15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купить компьютер за 35 000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28600" y="304920"/>
            <a:ext cx="8534520" cy="152388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072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27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1" name="Picture 7" descr="140905-01865122"/>
          <p:cNvPicPr/>
          <p:nvPr/>
        </p:nvPicPr>
        <p:blipFill>
          <a:blip r:embed="rId3"/>
          <a:stretch/>
        </p:blipFill>
        <p:spPr>
          <a:xfrm>
            <a:off x="2971800" y="1981080"/>
            <a:ext cx="3962520" cy="268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8" descr="a2bba1c554ba2e24c4341a1cf00151c2_XL"/>
          <p:cNvPicPr/>
          <p:nvPr/>
        </p:nvPicPr>
        <p:blipFill>
          <a:blip r:embed="rId4"/>
          <a:stretch/>
        </p:blipFill>
        <p:spPr>
          <a:xfrm>
            <a:off x="4724280" y="3505320"/>
            <a:ext cx="419112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ели урока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lonna MT"/>
              </a:rPr>
              <a:t> 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общить и закрепить знания учащихся по теме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Bookman Old Style"/>
              </a:rPr>
              <a:t>« Деньги. Кредиты. Заработанная плата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воспитывать экономность, бережливость, предприимчивость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побудить интерес к изучению экономики, применя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лученные знания на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до Шефер. Мани, или азбука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апп.mp3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65229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Экономика от греческого слова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«ОЙКОНОМ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ОЙКОС»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- управл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НЕМ» (НОМ)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– дом или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askerville Old Face"/>
              </a:rPr>
              <a:t>Народная мудрость гласит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Не в деньгах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Копейка рубль бере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Деньги любят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Захочешь добра - посыпь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Тот мудрен, у кого карман яд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Группа 44 - Миром правят Деньги(OST Стритрейсеры)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886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18"/>
          <p:cNvGrpSpPr/>
          <p:nvPr/>
        </p:nvGrpSpPr>
        <p:grpSpPr>
          <a:xfrm>
            <a:off x="457200" y="304920"/>
            <a:ext cx="8228880" cy="5789160"/>
            <a:chOff x="457200" y="304920"/>
            <a:chExt cx="8228880" cy="578916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592600" y="1598760"/>
              <a:ext cx="1158480" cy="320076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525920" y="2665440"/>
              <a:ext cx="1158480" cy="106704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458880" y="2665440"/>
              <a:ext cx="1158480" cy="106740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392200" y="1598760"/>
              <a:ext cx="1158480" cy="32011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657600" y="30492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ФУНКЦИИ 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ДЕНЕГ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45720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обмена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59056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змер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тоимости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товаров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2428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накопл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бережений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685764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платежа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</p:grp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14480" y="0"/>
            <a:ext cx="90295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виды денег вы знаете?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267080" y="1828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4956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343400" y="4114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952880" y="5334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5" name="Picture 10" descr="Internet-portal-8"/>
          <p:cNvPicPr/>
          <p:nvPr/>
        </p:nvPicPr>
        <p:blipFill>
          <a:blip r:embed="rId3"/>
          <a:stretch/>
        </p:blipFill>
        <p:spPr>
          <a:xfrm>
            <a:off x="7010280" y="3733920"/>
            <a:ext cx="1752840" cy="116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11" descr="1214_017"/>
          <p:cNvPicPr/>
          <p:nvPr/>
        </p:nvPicPr>
        <p:blipFill>
          <a:blip r:embed="rId4"/>
          <a:stretch/>
        </p:blipFill>
        <p:spPr>
          <a:xfrm>
            <a:off x="6781680" y="1143000"/>
            <a:ext cx="1981440" cy="14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2" descr="IMG_2009-12-24-Securities1"/>
          <p:cNvPicPr/>
          <p:nvPr/>
        </p:nvPicPr>
        <p:blipFill>
          <a:blip r:embed="rId5"/>
          <a:stretch/>
        </p:blipFill>
        <p:spPr>
          <a:xfrm>
            <a:off x="5562720" y="2438280"/>
            <a:ext cx="9712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3" descr="1268138901"/>
          <p:cNvPicPr/>
          <p:nvPr/>
        </p:nvPicPr>
        <p:blipFill>
          <a:blip r:embed="rId6"/>
          <a:stretch/>
        </p:blipFill>
        <p:spPr>
          <a:xfrm>
            <a:off x="5943600" y="4876920"/>
            <a:ext cx="1676520" cy="12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457200" y="457200"/>
            <a:ext cx="44766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депозит?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457200" y="5181480"/>
            <a:ext cx="817236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виды депозитов вы знаете?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95280" y="228600"/>
            <a:ext cx="64296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6009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ребительский кредит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d6009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AutoShape 22"/>
          <p:cNvSpPr/>
          <p:nvPr/>
        </p:nvSpPr>
        <p:spPr>
          <a:xfrm>
            <a:off x="121932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ево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365760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Личны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6095880" y="2362320"/>
            <a:ext cx="1752840" cy="236196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05">
                <a:moveTo>
                  <a:pt x="3600" y="0"/>
                </a:moveTo>
                <a:arcTo wR="3600" hR="3600" stAng="16200000" swAng="-5400000"/>
                <a:lnTo>
                  <a:pt x="0" y="25505"/>
                </a:lnTo>
                <a:arcTo wR="3600" hR="3600" stAng="10800000" swAng="-5400000"/>
                <a:lnTo>
                  <a:pt x="18000" y="29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60093"/>
              </a:gs>
              <a:gs pos="50000">
                <a:srgbClr val="ffffff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потечный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Oval 27"/>
          <p:cNvSpPr/>
          <p:nvPr/>
        </p:nvSpPr>
        <p:spPr>
          <a:xfrm>
            <a:off x="17524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8" name="Oval 28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9" name="Oval 29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5245200" y="353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WordArt 31"/>
          <p:cNvSpPr txBox="1"/>
          <p:nvPr/>
        </p:nvSpPr>
        <p:spPr>
          <a:xfrm>
            <a:off x="609480" y="5562720"/>
            <a:ext cx="7658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жите об этих видах кредита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зовите причины широкого распространения потребительских кредит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8:2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