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drumroll.wav" ContentType="audio/x-wav"/>
  <Override PartName="/ppt/media/push.wav" ContentType="audio/x-wav"/>
  <Override PartName="/ppt/media/whoosh.wav" ContentType="audio/x-wav"/>
  <Override PartName="/ppt/media/suction.wav" ContentType="audio/x-wav"/>
  <Override PartName="/ppt/media/image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FBE1-421C-4712-B8AB-FAAFAC17B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3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, предложение и 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3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, предложение и рыночное равновес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изшие»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рмальные»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усы и предпочтения потреб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заменяемые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яющие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е изменения доходов и ц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числ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изшие»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рмальные»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усы и предпочтения потребителей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заменяемые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яющие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е изменения доходов и цен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числа покупателей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supply, S) — количество товара, которое продавцы готовы продать на рынке по определенной це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supply, S) — количество товара, которое продавцы готовы продать на рынке по определенной цене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ны при неизменности других факторов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других факторов при неизменной цене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величину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функцию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ны при неизменности других факторов–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других факторов при неизменной цене–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величину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функцию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: изменени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: изменение цен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supply) — величина предложения находится в прямой зависим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це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 — выше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 — ниже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supply) — величина предложения находится в прямой зависим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цены: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 — выше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 — ниже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supply) — величина предложения находится в прям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ыше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 — ниже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supply) — величина предложения находится в прямой зависимости от цены: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ыше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 — ниже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ункци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ункции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объем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условий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объемов производ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условий производ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лиш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лишек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ки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енкин Флем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33-1885), английский инженер и экономист, впервые представил спрос и предлож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иде пересекающихся графиков. Он ж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л канатные дороги. На фоне эскиза такой дороги он показан на рису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ки спроса и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енкин Флеминг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33-1885), английский инженер и экономист, впервые представил спрос и предлож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иде пересекающихся графиков. Он ж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л канатные дороги. На фоне эскиза такой дороги он показан на рисунк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market) — сфера  устойчивого обмена эквивалентными ценност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, а не определенное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устойчивого  обм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обмена, а н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эквивалентными ценностями, ценность которых ра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market) — сфера  устойчивого обмена эквивалентными ценностями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, а не определенное место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устойчивого  обмена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обмена, а не производ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эквивалентными ценностями, ценность которых равн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рыночного равнове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кол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ая равновесная це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рыночного равновес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количе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цен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оличество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ая равновесная це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оличество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— сфера свобод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стойчивого обмена равноценными товарами, услугами и фактор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произво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возникает в результате разделения труда — специализ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оизводстве определенных товаров и услуг, которыми производители обмениваются для удовлетворения своих потреб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— сфера свобод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стойчивого обмена равноценными товарами, услугами и фактор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производства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возникает в результате разделения труда — специализ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оизводстве определенных товаров и услуг, которыми производители обмениваются для удовлетворения своих потребностей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— количество товара, которое продавцы готовы продать на рынке по определенной ц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ходится в обратной зависимости от цены товара: выше цена — ниже спр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— количество товара, которое поставляется на рынок при определенной це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о находится в прямой зависимости от цены: выше цена — больше предло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возникает, когда спрос равен предлож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ый механизм автоматически устраняет избыток и дефицит товаров и устанавливает равновесную це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— количество товара, которое продавцы готовы продать на рынке по определенной цен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ходится в обратной зависимости от цены товара: выше цена — ниже спрос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— количество товара, которое поставляется на рынок при определенной цене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о находится в прямой зависимости от цены: выше цена — больше предложени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возникает, когда спрос равен предложению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ый механизм автоматически устраняет избыток и дефицит товаров и устанавливает равновесную цену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означает степень чувствительности изменений одной величины на изменение другой велич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ффициент эластичности показывает на сколько процентов изменяется спрос в ответ на однопроцентное изменение це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означает степень чувствительности изменений одной величины на изменение другой величины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ффициент эластичности показывает на сколько процентов изменяется спрос в ответ на однопроцентное изменение цены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варианта ценовой эластичности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ый, когда изменение объема спроса больше изменения це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единичной эластичности, когда изменения объема спроса равны изменению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эластичный спрос, когда изменение объема спроса меньше изменения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варианта ценовой эластичности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ый, когда изменение объема спроса больше изменения цены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единичной эластичности, когда изменения объема спроса равны изменению цен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эластичный спрос, когда изменение объема спроса меньше изменения цен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менимость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мость товара для потреб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товара в структуре потре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эластичности спроса по цен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менимость товар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мость товара для потребител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товара в структуре потребл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(market) – сфера свободного и устойчивого обмена равноценными товарами, услугами и факторами их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(demand, D ) – количество товара, которое покупатели готовы приобрести на рынке по определенной ц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(law of demand) – величина спроса находится в обратной зависимости от цены: чем выше цена, тем ниже величина спроса, и на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(supply, S) – количество товара, которое продавцы готовы продать на рынке по определенной ц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 (law of supply) – величина предложения находится в прямой зависимости от цены: чем выше цена, тем выше предложение и на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(market) – сфера свободного и устойчивого обмена равноценными товарами, услугами и факторами их производ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(demand, D ) – количество товара, которое покупатели готовы приобрести на рынке по определенной цен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(law of demand) – величина спроса находится в обратной зависимости от цены: чем выше цена, тем ниже величина спроса, и наоборот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(supply, S) – количество товара, которое продавцы готовы продать на рынке по определенной цен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 (law of supply) – величина предложения находится в прямой зависимости от цены: чем выше цена, тем выше предложение и наоборот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(market equilibrium) - равенство спроса и предложения на рынке определенного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(price) – пропорция обмена товара на деньги, если цена выражена в деньгах, или альтернативная стоимость, если цена выражена в другом това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(market equilibrium) - равенство спроса и предложения на рынке определенного товара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(price) – пропорция обмена товара на деньги, если цена выражена в деньгах, или альтернативная стоимость, если цена выражена в другом товар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«Спро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Выберите правильный отв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ой увеличения спроса на роликовые коньки может бы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жидание наступления дож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цен на подшип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лижение летних каник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рожание апельсинового с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«Спрос»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Выберите правильный ответ: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ой увеличения спроса на роликовые коньки может быть: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жидание наступления дождей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цен на подшипн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лижение летних каникул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рожание апельсинового сок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пару товаров-замени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обильные покрышки и бенз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ьевые ручки и черн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инсы и футбо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и маргар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пару товаров-заменителей: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обильные покрышки и бензин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ьевые ручки и чернил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инсы и футбол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и маргарин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demand, D) — количество товара, которое покупатели готовы приобрести на рын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пределенной цене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demand, D) — количество товара, которое покупатели готовы приобрести на рын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пределенной цене. 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ны при неизменности других факторов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других факторов при неизменной цене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величину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функцию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спрос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ны при неизменности других факторов–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других факторов при неизменной цене–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величину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функцию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еличины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demand) — величина спроса находится в обратн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demand) — величина спроса находится в обратной зависимости от цены: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спрос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спрос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покуп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покуп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покупателей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покупателей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барь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до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заме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убывания предельн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ение из прави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Гиффена(повышение цены ведет к повышению величины спро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барьер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доход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замещ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убывания предельной полезност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ение из правила: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Гиффена(повышение цены ведет к повышению величины спроса)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ункции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ункции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E9915-5081-41AF-9A8D-5F44FB47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7D201-1F3D-48E0-BCDA-DBDE28F8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FCA0D-1DE5-4AE2-9E87-2D831082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80EAE-4F5E-47E6-8721-BD1D0C3C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2A11-AF0D-4717-9C1A-C9820B41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C92A-A655-493D-93C8-0AF80FB2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4A30-ADD2-44DD-B9F2-2BD88E1A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60D4-A79E-468F-A9BB-855BFE8E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A91D-D33E-4797-8D1B-286746F0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D611-D8A9-4C3A-9434-D9D2F169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B9E9-8068-4316-8A9F-D9D24EFB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2EFBE-8A79-4A19-BBCE-49FBB093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3343-5A07-4011-B7EA-AD7B552E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C2B5-9A14-4F8A-9D22-826B54B3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E11A-6A1D-42BD-B2A3-9061924F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4A76-F35F-4C37-9514-B176028E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E736-319F-4948-868C-E03957C3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1B30B-B911-4EDC-867E-46B7AFF0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71E19-13DA-407A-86A6-59880F32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A2BCB-DE76-4317-834E-346DDF0D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223F1-52FA-45A5-B477-D1B27F20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3A67A-DD72-4B3E-80A1-05493857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48A31-8B78-4AE0-9021-80804312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0C7E6-3187-4911-B2C1-67CFF4C7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2617-FDF4-416D-B308-FF4C69B109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477120"/>
            <a:ext cx="2590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5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0017-5C37-4E10-BC9E-284B50EC42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zt.ru/img/20070109213354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audio" Target="../media/push.wav"/><Relationship Id="rId4" Type="http://schemas.openxmlformats.org/officeDocument/2006/relationships/audio" Target="../media/whoosh.wav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Глава 3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прос, предложение и рыночное равновеси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52388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6" descr="2007010921335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3124080"/>
            <a:ext cx="373356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Низшие»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Нормальные»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кусы и предпочтения потребит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заимозаменяемые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полняющие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жидание изменения доходов и ц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менение числа покупател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едлож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pply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количество товара, которое продавцы готовы продать на рынке по определенной цене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Факторы, влияющие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на предложени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219320" y="2133720"/>
            <a:ext cx="3200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овые фактор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724280" y="2133720"/>
            <a:ext cx="3200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ценовые фактор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219320" y="3048120"/>
            <a:ext cx="32004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зменение цены при неизменности других факторов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724280" y="3048120"/>
            <a:ext cx="32004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зменение других факторов при неизменной цене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219320" y="4495680"/>
            <a:ext cx="3200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яю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еличин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едложения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4724280" y="4495680"/>
            <a:ext cx="3200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яю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ункци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едложения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едложение: изменение цен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3" name="Object 3"/>
          <p:cNvGraphicFramePr/>
          <p:nvPr/>
        </p:nvGraphicFramePr>
        <p:xfrm>
          <a:off x="1676520" y="914400"/>
          <a:ext cx="5790960" cy="54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9096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Line 4"/>
          <p:cNvSpPr/>
          <p:nvPr/>
        </p:nvSpPr>
        <p:spPr>
          <a:xfrm>
            <a:off x="2209680" y="472428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4724280" y="47242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5715000" y="38862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2286000" y="388620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9" name="Freeform 8"/>
          <p:cNvSpPr/>
          <p:nvPr/>
        </p:nvSpPr>
        <p:spPr>
          <a:xfrm rot="16468200">
            <a:off x="2740680" y="1373400"/>
            <a:ext cx="3963960" cy="3810240"/>
          </a:xfrm>
          <a:custGeom>
            <a:avLst/>
            <a:gdLst>
              <a:gd name="textAreaLeft" fmla="*/ 0 w 3963960"/>
              <a:gd name="textAreaRight" fmla="*/ 3964320 w 3963960"/>
              <a:gd name="textAreaTop" fmla="*/ 0 h 3810240"/>
              <a:gd name="textAreaBottom" fmla="*/ 3810600 h 381024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0" name="AutoShape 9"/>
          <p:cNvSpPr/>
          <p:nvPr/>
        </p:nvSpPr>
        <p:spPr>
          <a:xfrm>
            <a:off x="4648320" y="46483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1" name="AutoShape 11"/>
          <p:cNvSpPr/>
          <p:nvPr/>
        </p:nvSpPr>
        <p:spPr>
          <a:xfrm>
            <a:off x="5638680" y="38098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7391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>
            <a:off x="2209680" y="1676520"/>
            <a:ext cx="4343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>
            <a:off x="6705720" y="1676520"/>
            <a:ext cx="0" cy="4038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5334120" y="3581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6172200" y="1295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8" name="AutoShape 20"/>
          <p:cNvSpPr/>
          <p:nvPr/>
        </p:nvSpPr>
        <p:spPr>
          <a:xfrm>
            <a:off x="6629400" y="160020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2362320" y="45720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0" name="Line 33"/>
          <p:cNvSpPr/>
          <p:nvPr/>
        </p:nvSpPr>
        <p:spPr>
          <a:xfrm>
            <a:off x="6705720" y="1752480"/>
            <a:ext cx="0" cy="388620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1" name="Line 34"/>
          <p:cNvSpPr/>
          <p:nvPr/>
        </p:nvSpPr>
        <p:spPr>
          <a:xfrm flipV="1">
            <a:off x="2362320" y="1676520"/>
            <a:ext cx="4343400" cy="1584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2" name="Line 35"/>
          <p:cNvSpPr/>
          <p:nvPr/>
        </p:nvSpPr>
        <p:spPr>
          <a:xfrm>
            <a:off x="5715000" y="3962520"/>
            <a:ext cx="0" cy="167616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3" name="Line 36"/>
          <p:cNvSpPr/>
          <p:nvPr/>
        </p:nvSpPr>
        <p:spPr>
          <a:xfrm>
            <a:off x="2286000" y="3886200"/>
            <a:ext cx="3338640" cy="144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4" name="Line 37"/>
          <p:cNvSpPr/>
          <p:nvPr/>
        </p:nvSpPr>
        <p:spPr>
          <a:xfrm>
            <a:off x="2195640" y="4754520"/>
            <a:ext cx="2485800" cy="180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5" name="Line 38"/>
          <p:cNvSpPr/>
          <p:nvPr/>
        </p:nvSpPr>
        <p:spPr>
          <a:xfrm>
            <a:off x="4724280" y="4800600"/>
            <a:ext cx="0" cy="838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Закон предлож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w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f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pply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величина предложения находится в прямой зависимост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т цены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ше цена — выше предло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иже цена — ниже предло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Закон предлож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w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f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pply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величина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редложения находится в прямой зависимости от цены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ше цена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выше предло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иже цена — ниже предло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3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3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менение функции предложе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24" name="Object 3"/>
          <p:cNvGraphicFramePr/>
          <p:nvPr/>
        </p:nvGraphicFramePr>
        <p:xfrm>
          <a:off x="1676520" y="914400"/>
          <a:ext cx="5790960" cy="54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9096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6"/>
          <p:cNvSpPr/>
          <p:nvPr/>
        </p:nvSpPr>
        <p:spPr>
          <a:xfrm>
            <a:off x="5715000" y="38862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2286000" y="388620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8" name="Freeform 8"/>
          <p:cNvSpPr/>
          <p:nvPr/>
        </p:nvSpPr>
        <p:spPr>
          <a:xfrm rot="16468200">
            <a:off x="2704320" y="1409760"/>
            <a:ext cx="3963960" cy="3733560"/>
          </a:xfrm>
          <a:custGeom>
            <a:avLst/>
            <a:gdLst>
              <a:gd name="textAreaLeft" fmla="*/ 0 w 3963960"/>
              <a:gd name="textAreaRight" fmla="*/ 3964320 w 3963960"/>
              <a:gd name="textAreaTop" fmla="*/ 0 h 3733560"/>
              <a:gd name="textAreaBottom" fmla="*/ 3733920 h 373356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5638680" y="38098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7391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486400" y="3429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5943600" y="1600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4" name="Line 28"/>
          <p:cNvSpPr/>
          <p:nvPr/>
        </p:nvSpPr>
        <p:spPr>
          <a:xfrm>
            <a:off x="6705720" y="39625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6400800" y="342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6" name="Text Box 30"/>
          <p:cNvSpPr/>
          <p:nvPr/>
        </p:nvSpPr>
        <p:spPr>
          <a:xfrm>
            <a:off x="6629400" y="1981080"/>
            <a:ext cx="68580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6666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7" name="AutoShape 18"/>
          <p:cNvSpPr/>
          <p:nvPr/>
        </p:nvSpPr>
        <p:spPr>
          <a:xfrm>
            <a:off x="6629400" y="380988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8" name="Line 33"/>
          <p:cNvSpPr/>
          <p:nvPr/>
        </p:nvSpPr>
        <p:spPr>
          <a:xfrm>
            <a:off x="5791320" y="3886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9" name="Line 34"/>
          <p:cNvSpPr/>
          <p:nvPr/>
        </p:nvSpPr>
        <p:spPr>
          <a:xfrm>
            <a:off x="5791320" y="388620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40" name="AutoShape 35"/>
          <p:cNvSpPr/>
          <p:nvPr/>
        </p:nvSpPr>
        <p:spPr>
          <a:xfrm>
            <a:off x="2514600" y="2666880"/>
            <a:ext cx="2362320" cy="381240"/>
          </a:xfrm>
          <a:prstGeom prst="borderCallout1">
            <a:avLst>
              <a:gd name="adj1" fmla="val 18750"/>
              <a:gd name="adj2" fmla="val -8333"/>
              <a:gd name="adj3" fmla="val 320000"/>
              <a:gd name="adj4" fmla="val 154837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предложения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2.22222E-006 L 0.1125 2.22222E-006 E">
                                      <p:cBhvr>
                                        <p:cTn id="205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3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3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еценовые факто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ост объемов производ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лучшение условий производ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ны на другие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дпочт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жид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ыночное равновес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6" name="Object 3"/>
          <p:cNvGraphicFramePr/>
          <p:nvPr/>
        </p:nvGraphicFramePr>
        <p:xfrm>
          <a:off x="16765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Freeform 6"/>
          <p:cNvSpPr/>
          <p:nvPr/>
        </p:nvSpPr>
        <p:spPr>
          <a:xfrm>
            <a:off x="2743200" y="1676520"/>
            <a:ext cx="3962520" cy="350496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3504960"/>
              <a:gd name="textAreaBottom" fmla="*/ 3505320 h 350496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4648320" y="4267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6019920" y="3505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662940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2819520" y="1447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4" name="Freeform 18"/>
          <p:cNvSpPr/>
          <p:nvPr/>
        </p:nvSpPr>
        <p:spPr>
          <a:xfrm rot="16468200">
            <a:off x="2646360" y="1347480"/>
            <a:ext cx="3846600" cy="4113000"/>
          </a:xfrm>
          <a:custGeom>
            <a:avLst/>
            <a:gdLst>
              <a:gd name="textAreaLeft" fmla="*/ 0 w 3846600"/>
              <a:gd name="textAreaRight" fmla="*/ 3846960 w 3846600"/>
              <a:gd name="textAreaTop" fmla="*/ 0 h 4113000"/>
              <a:gd name="textAreaBottom" fmla="*/ 4113360 h 411300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>
            <a:off x="4602240" y="466236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6" name="Text Box 19"/>
          <p:cNvSpPr/>
          <p:nvPr/>
        </p:nvSpPr>
        <p:spPr>
          <a:xfrm>
            <a:off x="297180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7" name="AutoShape 20"/>
          <p:cNvSpPr/>
          <p:nvPr/>
        </p:nvSpPr>
        <p:spPr>
          <a:xfrm>
            <a:off x="6095880" y="3352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8" name="AutoShape 22"/>
          <p:cNvSpPr/>
          <p:nvPr/>
        </p:nvSpPr>
        <p:spPr>
          <a:xfrm>
            <a:off x="6568920" y="5075280"/>
            <a:ext cx="15264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640080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0" name="AutoShape 25"/>
          <p:cNvSpPr/>
          <p:nvPr/>
        </p:nvSpPr>
        <p:spPr>
          <a:xfrm rot="16200000">
            <a:off x="4572000" y="1828440"/>
            <a:ext cx="228600" cy="2667240"/>
          </a:xfrm>
          <a:custGeom>
            <a:avLst/>
            <a:gdLst>
              <a:gd name="textAreaLeft" fmla="*/ 0 w 228600"/>
              <a:gd name="textAreaRight" fmla="*/ 82440 w 22860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1" name="Text Box 28"/>
          <p:cNvSpPr/>
          <p:nvPr/>
        </p:nvSpPr>
        <p:spPr>
          <a:xfrm>
            <a:off x="4191120" y="4952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фицит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2" name="Text Box 29"/>
          <p:cNvSpPr/>
          <p:nvPr/>
        </p:nvSpPr>
        <p:spPr>
          <a:xfrm>
            <a:off x="7391520" y="571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3" name="Text Box 30"/>
          <p:cNvSpPr/>
          <p:nvPr/>
        </p:nvSpPr>
        <p:spPr>
          <a:xfrm>
            <a:off x="6095880" y="1600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2895480" y="1600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5" name="Line 32"/>
          <p:cNvSpPr/>
          <p:nvPr/>
        </p:nvSpPr>
        <p:spPr>
          <a:xfrm>
            <a:off x="2332080" y="4724280"/>
            <a:ext cx="231624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6" name="Line 33"/>
          <p:cNvSpPr/>
          <p:nvPr/>
        </p:nvSpPr>
        <p:spPr>
          <a:xfrm>
            <a:off x="4692600" y="4815000"/>
            <a:ext cx="0" cy="76176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7" name="AutoShape 35"/>
          <p:cNvSpPr/>
          <p:nvPr/>
        </p:nvSpPr>
        <p:spPr>
          <a:xfrm>
            <a:off x="5791320" y="4305240"/>
            <a:ext cx="2666880" cy="343080"/>
          </a:xfrm>
          <a:prstGeom prst="borderCallout1">
            <a:avLst>
              <a:gd name="adj1" fmla="val 18750"/>
              <a:gd name="adj2" fmla="val -8333"/>
              <a:gd name="adj3" fmla="val 118055"/>
              <a:gd name="adj4" fmla="val -35416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ыночное равновесие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8" name="Line 36"/>
          <p:cNvSpPr/>
          <p:nvPr/>
        </p:nvSpPr>
        <p:spPr>
          <a:xfrm>
            <a:off x="2255760" y="3398760"/>
            <a:ext cx="388620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3124080" y="3352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0" name="Line 37"/>
          <p:cNvSpPr/>
          <p:nvPr/>
        </p:nvSpPr>
        <p:spPr>
          <a:xfrm>
            <a:off x="3216240" y="3460680"/>
            <a:ext cx="0" cy="213372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1" name="Line 38"/>
          <p:cNvSpPr/>
          <p:nvPr/>
        </p:nvSpPr>
        <p:spPr>
          <a:xfrm>
            <a:off x="6156360" y="3444840"/>
            <a:ext cx="0" cy="213372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2" name="Text Box 39"/>
          <p:cNvSpPr/>
          <p:nvPr/>
        </p:nvSpPr>
        <p:spPr>
          <a:xfrm>
            <a:off x="4038480" y="2971800"/>
            <a:ext cx="1219320" cy="6426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злишек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3" name="Line 40"/>
          <p:cNvSpPr/>
          <p:nvPr/>
        </p:nvSpPr>
        <p:spPr>
          <a:xfrm>
            <a:off x="2255760" y="5149800"/>
            <a:ext cx="42814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4" name="AutoShape 21"/>
          <p:cNvSpPr/>
          <p:nvPr/>
        </p:nvSpPr>
        <p:spPr>
          <a:xfrm>
            <a:off x="3627360" y="5029200"/>
            <a:ext cx="15264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5" name="Text Box 41"/>
          <p:cNvSpPr/>
          <p:nvPr/>
        </p:nvSpPr>
        <p:spPr>
          <a:xfrm>
            <a:off x="4419720" y="5181480"/>
            <a:ext cx="1218960" cy="368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ефицит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6" name="Line 42"/>
          <p:cNvSpPr/>
          <p:nvPr/>
        </p:nvSpPr>
        <p:spPr>
          <a:xfrm>
            <a:off x="3276720" y="3429000"/>
            <a:ext cx="28191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7" name="Line 43"/>
          <p:cNvSpPr/>
          <p:nvPr/>
        </p:nvSpPr>
        <p:spPr>
          <a:xfrm>
            <a:off x="3733920" y="5135400"/>
            <a:ext cx="2865240" cy="18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8" name="Line 44"/>
          <p:cNvSpPr/>
          <p:nvPr/>
        </p:nvSpPr>
        <p:spPr>
          <a:xfrm flipH="1">
            <a:off x="3701520" y="5151600"/>
            <a:ext cx="1800" cy="487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9" name="Line 45"/>
          <p:cNvSpPr/>
          <p:nvPr/>
        </p:nvSpPr>
        <p:spPr>
          <a:xfrm>
            <a:off x="6629400" y="5181480"/>
            <a:ext cx="0" cy="45720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autoRev="1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38" dur="2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Нижний колонтитул 6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Графики спроса и предложе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женкин Флемин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1833-1885)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глийский инженер и экономист, впервые представил спрос и предложени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виде пересекающихся графиков. Он ж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обрел канатные дороги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фоне эскиза такой дороги он показан на рисунк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3" name="Picture 4" descr="jenkin2"/>
          <p:cNvPicPr/>
          <p:nvPr/>
        </p:nvPicPr>
        <p:blipFill>
          <a:blip r:embed="rId1"/>
          <a:stretch/>
        </p:blipFill>
        <p:spPr>
          <a:xfrm>
            <a:off x="5257800" y="1447920"/>
            <a:ext cx="340668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ыно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rket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сфера  устойчивого обмена эквивалентными ценностями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Сфера,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не определенное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фера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устойчивого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обмена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фера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бмена,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не производ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мен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эквивалентным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ценностями, ценность которых рав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менение рыночного равновес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86" name="Object 3"/>
          <p:cNvGraphicFramePr/>
          <p:nvPr/>
        </p:nvGraphicFramePr>
        <p:xfrm>
          <a:off x="16765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Freeform 4"/>
          <p:cNvSpPr/>
          <p:nvPr/>
        </p:nvSpPr>
        <p:spPr>
          <a:xfrm>
            <a:off x="2743200" y="1676520"/>
            <a:ext cx="3962520" cy="350496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3504960"/>
              <a:gd name="textAreaBottom" fmla="*/ 3505320 h 350496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7391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4648320" y="4267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5486400" y="28954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662940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4" name="Freeform 12"/>
          <p:cNvSpPr/>
          <p:nvPr/>
        </p:nvSpPr>
        <p:spPr>
          <a:xfrm rot="16468200">
            <a:off x="2742120" y="1464120"/>
            <a:ext cx="3583080" cy="4038480"/>
          </a:xfrm>
          <a:custGeom>
            <a:avLst/>
            <a:gdLst>
              <a:gd name="textAreaLeft" fmla="*/ 0 w 3583080"/>
              <a:gd name="textAreaRight" fmla="*/ 3583440 w 3583080"/>
              <a:gd name="textAreaTop" fmla="*/ 0 h 4038480"/>
              <a:gd name="textAreaBottom" fmla="*/ 4038840 h 403848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4648320" y="46483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6" name="AutoShape 15"/>
          <p:cNvSpPr/>
          <p:nvPr/>
        </p:nvSpPr>
        <p:spPr>
          <a:xfrm>
            <a:off x="6080040" y="3322800"/>
            <a:ext cx="15264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7" name="AutoShape 16"/>
          <p:cNvSpPr/>
          <p:nvPr/>
        </p:nvSpPr>
        <p:spPr>
          <a:xfrm>
            <a:off x="2179800" y="46483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8" name="Line 37"/>
          <p:cNvSpPr/>
          <p:nvPr/>
        </p:nvSpPr>
        <p:spPr>
          <a:xfrm>
            <a:off x="2362320" y="47242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9" name="Line 38"/>
          <p:cNvSpPr/>
          <p:nvPr/>
        </p:nvSpPr>
        <p:spPr>
          <a:xfrm>
            <a:off x="4724280" y="48006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0" name="Line 39"/>
          <p:cNvSpPr/>
          <p:nvPr/>
        </p:nvSpPr>
        <p:spPr>
          <a:xfrm>
            <a:off x="2286000" y="342900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1" name="Line 40"/>
          <p:cNvSpPr/>
          <p:nvPr/>
        </p:nvSpPr>
        <p:spPr>
          <a:xfrm>
            <a:off x="6172200" y="358128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2" name="AutoShape 43"/>
          <p:cNvSpPr/>
          <p:nvPr/>
        </p:nvSpPr>
        <p:spPr>
          <a:xfrm>
            <a:off x="2209680" y="6019920"/>
            <a:ext cx="2210040" cy="342720"/>
          </a:xfrm>
          <a:prstGeom prst="borderCallout1">
            <a:avLst>
              <a:gd name="adj1" fmla="val 18750"/>
              <a:gd name="adj2" fmla="val -8333"/>
              <a:gd name="adj3" fmla="val -122222"/>
              <a:gd name="adj4" fmla="val 110342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количеств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3" name="AutoShape 44"/>
          <p:cNvSpPr/>
          <p:nvPr/>
        </p:nvSpPr>
        <p:spPr>
          <a:xfrm>
            <a:off x="304920" y="4648320"/>
            <a:ext cx="1371600" cy="342720"/>
          </a:xfrm>
          <a:prstGeom prst="borderCallout1">
            <a:avLst>
              <a:gd name="adj1" fmla="val 18750"/>
              <a:gd name="adj2" fmla="val -8333"/>
              <a:gd name="adj3" fmla="val 18981"/>
              <a:gd name="adj4" fmla="val 130208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цен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4" name="AutoShape 45"/>
          <p:cNvSpPr/>
          <p:nvPr/>
        </p:nvSpPr>
        <p:spPr>
          <a:xfrm>
            <a:off x="3962520" y="2133720"/>
            <a:ext cx="1600200" cy="342720"/>
          </a:xfrm>
          <a:prstGeom prst="borderCallout1">
            <a:avLst>
              <a:gd name="adj1" fmla="val 18750"/>
              <a:gd name="adj2" fmla="val -8333"/>
              <a:gd name="adj3" fmla="val 277777"/>
              <a:gd name="adj4" fmla="val -54263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спрос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5" name="AutoShape 46"/>
          <p:cNvSpPr/>
          <p:nvPr/>
        </p:nvSpPr>
        <p:spPr>
          <a:xfrm>
            <a:off x="4587840" y="548640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6" name="Text Box 47"/>
          <p:cNvSpPr/>
          <p:nvPr/>
        </p:nvSpPr>
        <p:spPr>
          <a:xfrm>
            <a:off x="6172200" y="1600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7" name="Text Box 48"/>
          <p:cNvSpPr/>
          <p:nvPr/>
        </p:nvSpPr>
        <p:spPr>
          <a:xfrm>
            <a:off x="2743200" y="16002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8" name="Line 49"/>
          <p:cNvSpPr/>
          <p:nvPr/>
        </p:nvSpPr>
        <p:spPr>
          <a:xfrm>
            <a:off x="2332080" y="4724280"/>
            <a:ext cx="231624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9" name="Line 50"/>
          <p:cNvSpPr/>
          <p:nvPr/>
        </p:nvSpPr>
        <p:spPr>
          <a:xfrm>
            <a:off x="2286000" y="3429000"/>
            <a:ext cx="38098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0" name="Line 51"/>
          <p:cNvSpPr/>
          <p:nvPr/>
        </p:nvSpPr>
        <p:spPr>
          <a:xfrm>
            <a:off x="4694400" y="4768920"/>
            <a:ext cx="0" cy="73332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1" name="Line 52"/>
          <p:cNvSpPr/>
          <p:nvPr/>
        </p:nvSpPr>
        <p:spPr>
          <a:xfrm>
            <a:off x="6172200" y="3505320"/>
            <a:ext cx="0" cy="1981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2" name="AutoShape 53"/>
          <p:cNvSpPr/>
          <p:nvPr/>
        </p:nvSpPr>
        <p:spPr>
          <a:xfrm>
            <a:off x="6858000" y="4800600"/>
            <a:ext cx="1981080" cy="990720"/>
          </a:xfrm>
          <a:prstGeom prst="borderCallout1">
            <a:avLst>
              <a:gd name="adj1" fmla="val 18750"/>
              <a:gd name="adj2" fmla="val -8333"/>
              <a:gd name="adj3" fmla="val -7851"/>
              <a:gd name="adj4" fmla="val -97675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вновесная цен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 количество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3" name="AutoShape 54"/>
          <p:cNvSpPr/>
          <p:nvPr/>
        </p:nvSpPr>
        <p:spPr>
          <a:xfrm>
            <a:off x="6858000" y="3124080"/>
            <a:ext cx="1905120" cy="1295640"/>
          </a:xfrm>
          <a:prstGeom prst="borderCallout1">
            <a:avLst>
              <a:gd name="adj1" fmla="val 18750"/>
              <a:gd name="adj2" fmla="val -8333"/>
              <a:gd name="adj3" fmla="val 20587"/>
              <a:gd name="adj4" fmla="val -32000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овая равновесная цен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 количество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4335E-006 L 0.32084 -0.00277 E">
                                      <p:cBhvr>
                                        <p:cTn id="363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96532E-006 L 0.31666 -1.96532E-006 E">
                                      <p:cBhvr>
                                        <p:cTn id="365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68208E-006 L -3.33333E-006 -0.19145 E">
                                      <p:cBhvr>
                                        <p:cTn id="372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48555E-006 L -0.00503 -0.18867 E">
                                      <p:cBhvr>
                                        <p:cTn id="374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4.10405E-006 L 0.1625 -0.00277 E">
                                      <p:cBhvr>
                                        <p:cTn id="381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4104E-006 L 0.16493 -3.4104E-006 E">
                                      <p:cBhvr>
                                        <p:cTn id="383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ынок — сфера свободног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устойчивого обмена равноценными товарами, услугами и факторам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х производств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ынок возникает в результате разделения труда — специализаци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производстве определенных товаров и услуг, которыми производители обмениваются для удовлетворения своих потребнос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рос — количество товара, которое продавцы готовы продать на рынке по определенной цен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рос находится </a:t>
            </a: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в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обратной зависимости от цены товара: выше цена — ниже спрос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дложение — количество товара, которое поставляется </a:t>
            </a: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н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рынок при определенной цен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но находится в прямой зависимости от цены: выше цена — больше предложени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ыночное равновесие возникает, когда спрос равен предложению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ыночный механизм автоматически устраняет избыток и дефицит товаров и устанавливает равновесную цен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Нижний колонтитул 6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ластичность спро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астичность означает степень чувствительности изменений одной величины на изменение другой величин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эффициент эластичности показывает на сколько процентов изменяется спрос в ответ на однопроцентное изменение цен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4"/>
              <p:cNvSpPr txBox="1"/>
              <p:nvPr/>
            </p:nvSpPr>
            <p:spPr>
              <a:xfrm>
                <a:off x="0" y="0"/>
                <a:ext cx="2238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Q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ниеP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6"/>
              <p:cNvSpPr txBox="1"/>
              <p:nvPr/>
            </p:nvSpPr>
            <p:spPr>
              <a:xfrm>
                <a:off x="0" y="0"/>
                <a:ext cx="2238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Q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ниеP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8"/>
              <p:cNvSpPr txBox="1"/>
              <p:nvPr/>
            </p:nvSpPr>
            <p:spPr>
              <a:xfrm>
                <a:off x="0" y="0"/>
                <a:ext cx="2238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Q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ниеP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13"/>
              <p:cNvSpPr txBox="1"/>
              <p:nvPr/>
            </p:nvSpPr>
            <p:spPr>
              <a:xfrm>
                <a:off x="762120" y="4267080"/>
                <a:ext cx="694512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Q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ниеP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Три варианта ценовой эластичности спрос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ластичный, когда изменение объема спроса больше изменения цены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прос единичной эластичности, когда изменения объема спроса равны изменению цен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эластичный спрос, когда изменение объема спроса меньше изменения цен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Факторы эластичности спроса по цен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заменимость това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начимость товара для потребител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сто товара в структуре потребл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рем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Определения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ынок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(market)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сфера свободного и устойчивого обмена равноценными товарами, услугами и факторами их производст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прос 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mand, D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) – количество товара, которое покупатели готовы приобрести на рынке по определенной цен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акон спроса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w of demand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) – величина спроса находится в обратной зависимости от цены: чем выше цена, тем ниже величина спроса, и наоборо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едложение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pply, S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) – количество товара, которое продавцы готовы продать на рынке по определенной цен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акон предложения 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w of supply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) – величина предложения находится в прямой зависимости от цены: чем выше цена, тем выше предложение и наоборо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Определения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ыночное равновесие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rket equilibrium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равенство спроса и предложения на рынке определенного товар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Цена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ice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пропорция обмена товара на деньги, если цена выражена в деньгах, или альтернативная стоимость, если цена выражена в другом товар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дание «Спрос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Выберите правильный ответ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чиной увеличения спроса на роликовые коньки может быть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ожидание наступления дожд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нижение цен на подшипн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ближение летних канику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орожание апельсинового со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берите пару товаров-заменителей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втомобильные покрышки и бенз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рьевые ручки и черни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жинсы и футбол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асло и маргар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ро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mand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количество товара, которое покупатели готовы приобрести на рынке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о определенной цене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Факторы, влияющие на спрос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219320" y="2133720"/>
            <a:ext cx="3200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овые фактор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724280" y="2133720"/>
            <a:ext cx="3200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ценовые фактор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219320" y="3048120"/>
            <a:ext cx="32004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зменение цены при неизменности других факторов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724280" y="3048120"/>
            <a:ext cx="32004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зменение других факторов при неизменной цене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1219320" y="4495680"/>
            <a:ext cx="3200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яю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еличин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проса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4724280" y="4495680"/>
            <a:ext cx="3200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яю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ункци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проса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18637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37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менение величины спрос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2406600" y="47052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2482920" y="3409920"/>
            <a:ext cx="8380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0" name="Freeform 29"/>
          <p:cNvSpPr/>
          <p:nvPr/>
        </p:nvSpPr>
        <p:spPr>
          <a:xfrm>
            <a:off x="2895480" y="1447920"/>
            <a:ext cx="4248360" cy="3768480"/>
          </a:xfrm>
          <a:custGeom>
            <a:avLst/>
            <a:gdLst>
              <a:gd name="textAreaLeft" fmla="*/ 0 w 4248360"/>
              <a:gd name="textAreaRight" fmla="*/ 4248720 w 4248360"/>
              <a:gd name="textAreaTop" fmla="*/ 0 h 3768480"/>
              <a:gd name="textAreaBottom" fmla="*/ 3768840 h 376848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1" name="AutoShape 30"/>
          <p:cNvSpPr/>
          <p:nvPr/>
        </p:nvSpPr>
        <p:spPr>
          <a:xfrm>
            <a:off x="4786200" y="458460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2" name="AutoShape 21"/>
          <p:cNvSpPr/>
          <p:nvPr/>
        </p:nvSpPr>
        <p:spPr>
          <a:xfrm>
            <a:off x="2863800" y="15811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3" name="AutoShape 28"/>
          <p:cNvSpPr/>
          <p:nvPr/>
        </p:nvSpPr>
        <p:spPr>
          <a:xfrm>
            <a:off x="3321000" y="333360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144792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74674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6" name="Line 33"/>
          <p:cNvSpPr/>
          <p:nvPr/>
        </p:nvSpPr>
        <p:spPr>
          <a:xfrm>
            <a:off x="2438280" y="1676520"/>
            <a:ext cx="45720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3397320" y="30290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8" name="Text Box 36"/>
          <p:cNvSpPr/>
          <p:nvPr/>
        </p:nvSpPr>
        <p:spPr>
          <a:xfrm>
            <a:off x="4844880" y="4324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9" name="Freeform 47"/>
          <p:cNvSpPr/>
          <p:nvPr/>
        </p:nvSpPr>
        <p:spPr>
          <a:xfrm>
            <a:off x="3397320" y="3409920"/>
            <a:ext cx="1731960" cy="1271520"/>
          </a:xfrm>
          <a:custGeom>
            <a:avLst/>
            <a:gdLst>
              <a:gd name="textAreaLeft" fmla="*/ 0 w 1731960"/>
              <a:gd name="textAreaRight" fmla="*/ 1732320 w 1731960"/>
              <a:gd name="textAreaTop" fmla="*/ 0 h 1271520"/>
              <a:gd name="textAreaBottom" fmla="*/ 1271880 h 1271520"/>
            </a:gdLst>
            <a:ahLst/>
            <a:rect l="textAreaLeft" t="textAreaTop" r="textAreaRight" b="textAreaBottom"/>
            <a:pathLst>
              <a:path w="1091" h="801">
                <a:moveTo>
                  <a:pt x="0" y="0"/>
                </a:moveTo>
                <a:cubicBezTo>
                  <a:pt x="8" y="42"/>
                  <a:pt x="17" y="83"/>
                  <a:pt x="25" y="125"/>
                </a:cubicBezTo>
                <a:cubicBezTo>
                  <a:pt x="28" y="138"/>
                  <a:pt x="29" y="153"/>
                  <a:pt x="37" y="163"/>
                </a:cubicBezTo>
                <a:cubicBezTo>
                  <a:pt x="46" y="175"/>
                  <a:pt x="62" y="180"/>
                  <a:pt x="75" y="188"/>
                </a:cubicBezTo>
                <a:cubicBezTo>
                  <a:pt x="83" y="200"/>
                  <a:pt x="89" y="215"/>
                  <a:pt x="100" y="225"/>
                </a:cubicBezTo>
                <a:cubicBezTo>
                  <a:pt x="123" y="245"/>
                  <a:pt x="175" y="275"/>
                  <a:pt x="175" y="275"/>
                </a:cubicBezTo>
                <a:cubicBezTo>
                  <a:pt x="210" y="329"/>
                  <a:pt x="275" y="384"/>
                  <a:pt x="325" y="425"/>
                </a:cubicBezTo>
                <a:cubicBezTo>
                  <a:pt x="373" y="464"/>
                  <a:pt x="398" y="513"/>
                  <a:pt x="450" y="551"/>
                </a:cubicBezTo>
                <a:cubicBezTo>
                  <a:pt x="531" y="610"/>
                  <a:pt x="510" y="596"/>
                  <a:pt x="601" y="626"/>
                </a:cubicBezTo>
                <a:cubicBezTo>
                  <a:pt x="613" y="630"/>
                  <a:pt x="638" y="638"/>
                  <a:pt x="638" y="638"/>
                </a:cubicBezTo>
                <a:cubicBezTo>
                  <a:pt x="682" y="667"/>
                  <a:pt x="695" y="677"/>
                  <a:pt x="751" y="701"/>
                </a:cubicBezTo>
                <a:cubicBezTo>
                  <a:pt x="775" y="711"/>
                  <a:pt x="826" y="726"/>
                  <a:pt x="826" y="726"/>
                </a:cubicBezTo>
                <a:cubicBezTo>
                  <a:pt x="873" y="761"/>
                  <a:pt x="930" y="801"/>
                  <a:pt x="989" y="801"/>
                </a:cubicBezTo>
                <a:lnTo>
                  <a:pt x="1091" y="39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0" name="Text Box 49"/>
          <p:cNvSpPr/>
          <p:nvPr/>
        </p:nvSpPr>
        <p:spPr>
          <a:xfrm>
            <a:off x="6597720" y="4795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1" name="Line 52"/>
          <p:cNvSpPr/>
          <p:nvPr/>
        </p:nvSpPr>
        <p:spPr>
          <a:xfrm>
            <a:off x="2406600" y="4705200"/>
            <a:ext cx="24382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2" name="Line 53"/>
          <p:cNvSpPr/>
          <p:nvPr/>
        </p:nvSpPr>
        <p:spPr>
          <a:xfrm>
            <a:off x="2909880" y="1735200"/>
            <a:ext cx="0" cy="38098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3" name="Line 54"/>
          <p:cNvSpPr/>
          <p:nvPr/>
        </p:nvSpPr>
        <p:spPr>
          <a:xfrm>
            <a:off x="3397320" y="3486240"/>
            <a:ext cx="0" cy="205740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4" name="Line 55"/>
          <p:cNvSpPr/>
          <p:nvPr/>
        </p:nvSpPr>
        <p:spPr>
          <a:xfrm>
            <a:off x="4857840" y="4745160"/>
            <a:ext cx="19080" cy="811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5" name="Line 56"/>
          <p:cNvSpPr/>
          <p:nvPr/>
        </p:nvSpPr>
        <p:spPr>
          <a:xfrm>
            <a:off x="2468520" y="5148360"/>
            <a:ext cx="434340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6" name="AutoShape 57"/>
          <p:cNvSpPr/>
          <p:nvPr/>
        </p:nvSpPr>
        <p:spPr>
          <a:xfrm>
            <a:off x="6750000" y="508644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7" name="Line 58"/>
          <p:cNvSpPr/>
          <p:nvPr/>
        </p:nvSpPr>
        <p:spPr>
          <a:xfrm>
            <a:off x="6826320" y="5238720"/>
            <a:ext cx="0" cy="31284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2895480" y="14479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Закон спро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w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f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mand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величина спроса находится в обратной зависимости от цены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ше ц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иже спро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ше спро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иже ц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AutoShape 9"/>
          <p:cNvSpPr/>
          <p:nvPr/>
        </p:nvSpPr>
        <p:spPr>
          <a:xfrm rot="20623800">
            <a:off x="3276720" y="4800600"/>
            <a:ext cx="1600200" cy="38088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3" name="AutoShape 10"/>
          <p:cNvSpPr/>
          <p:nvPr/>
        </p:nvSpPr>
        <p:spPr>
          <a:xfrm rot="1093200">
            <a:off x="3276720" y="3581280"/>
            <a:ext cx="1600200" cy="38124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3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3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еценовые факто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исло покупат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ходы покупат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ны на другие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дпочт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жид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новой барье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ффект дохо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ффект замещ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нцип убывания предельной полез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ключение из правил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ффект Гиффена(повышение цены ведет к повышению величины спрос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менение функции спрос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2" name="Object 3"/>
          <p:cNvGraphicFramePr/>
          <p:nvPr/>
        </p:nvGraphicFramePr>
        <p:xfrm>
          <a:off x="16765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Line 10"/>
          <p:cNvSpPr/>
          <p:nvPr/>
        </p:nvSpPr>
        <p:spPr>
          <a:xfrm>
            <a:off x="3200400" y="3505320"/>
            <a:ext cx="0" cy="2133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5" name="Line 11"/>
          <p:cNvSpPr/>
          <p:nvPr/>
        </p:nvSpPr>
        <p:spPr>
          <a:xfrm>
            <a:off x="2209680" y="3429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6" name="Freeform 12"/>
          <p:cNvSpPr/>
          <p:nvPr/>
        </p:nvSpPr>
        <p:spPr>
          <a:xfrm>
            <a:off x="2743200" y="1676520"/>
            <a:ext cx="2971800" cy="31240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7" name="AutoShape 16"/>
          <p:cNvSpPr/>
          <p:nvPr/>
        </p:nvSpPr>
        <p:spPr>
          <a:xfrm>
            <a:off x="3124080" y="3352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7391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0" name="Line 25"/>
          <p:cNvSpPr/>
          <p:nvPr/>
        </p:nvSpPr>
        <p:spPr>
          <a:xfrm>
            <a:off x="3276720" y="3429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1" name="AutoShape 26"/>
          <p:cNvSpPr/>
          <p:nvPr/>
        </p:nvSpPr>
        <p:spPr>
          <a:xfrm>
            <a:off x="4114800" y="335268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2" name="Line 28"/>
          <p:cNvSpPr/>
          <p:nvPr/>
        </p:nvSpPr>
        <p:spPr>
          <a:xfrm>
            <a:off x="4191120" y="35053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3" name="Text Box 33"/>
          <p:cNvSpPr/>
          <p:nvPr/>
        </p:nvSpPr>
        <p:spPr>
          <a:xfrm>
            <a:off x="3733920" y="1600200"/>
            <a:ext cx="60948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</a:rPr>
              <a:t>D</a:t>
            </a:r>
            <a:r>
              <a:rPr b="1" lang="ru-RU" sz="2000" spc="-1" strike="noStrike" baseline="-25000">
                <a:solidFill>
                  <a:srgbClr val="00cc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4" name="Text Box 34"/>
          <p:cNvSpPr/>
          <p:nvPr/>
        </p:nvSpPr>
        <p:spPr>
          <a:xfrm>
            <a:off x="2743200" y="16002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5" name="Line 35"/>
          <p:cNvSpPr/>
          <p:nvPr/>
        </p:nvSpPr>
        <p:spPr>
          <a:xfrm>
            <a:off x="3306600" y="3414600"/>
            <a:ext cx="838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6" name="AutoShape 38"/>
          <p:cNvSpPr/>
          <p:nvPr/>
        </p:nvSpPr>
        <p:spPr>
          <a:xfrm>
            <a:off x="4952880" y="1714680"/>
            <a:ext cx="1752840" cy="419040"/>
          </a:xfrm>
          <a:prstGeom prst="borderCallout2">
            <a:avLst>
              <a:gd name="adj1" fmla="val 18750"/>
              <a:gd name="adj2" fmla="val -8333"/>
              <a:gd name="adj3" fmla="val 27273"/>
              <a:gd name="adj4" fmla="val -36324"/>
              <a:gd name="adj5" fmla="val 390907"/>
              <a:gd name="adj6" fmla="val -69564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спрос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0.10417 3.33333E-006 E">
                                      <p:cBhvr>
                                        <p:cTn id="111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3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19:40:43Z</dcterms:created>
  <dc:creator/>
  <dc:description/>
  <dc:language>en-US</dc:language>
  <cp:lastModifiedBy>LEGION</cp:lastModifiedBy>
  <dcterms:modified xsi:type="dcterms:W3CDTF">2016-01-04T08:18:30Z</dcterms:modified>
  <cp:revision>115</cp:revision>
  <dc:subject/>
  <dc:title>Тема 2. Рыночная система экономики</dc:title>
</cp:coreProperties>
</file>