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drumroll.wav" ContentType="audio/x-wav"/>
  <Override PartName="/ppt/media/push.wav" ContentType="audio/x-wav"/>
  <Override PartName="/ppt/media/whoosh.wav" ContentType="audio/x-wav"/>
  <Override PartName="/ppt/media/suction.wav" ContentType="audio/x-wav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6A1E-0F05-40A1-B67B-8BCB2B282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, предложение и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, предложение и 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изшие»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ые»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меняемы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яющ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изменения доходов и ц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изшие»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ые»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меняемы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яющ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изменения доходов и це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числа покупателей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supply, S) — количество товара, которое продавцы готовы продать на рынке по определе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supply, S) — количество товара, которое продавцы готовы продать на рынке по определенной цене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: измен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: изменение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— выш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— выш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ыш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ыш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ъем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условий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ъемов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условий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ишек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енкин Флем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3-1885), английский инженер и экономист, впервые представил спрос и предлож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иде пересекающихся графиков. Он 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л канатные дороги. На фоне эскиза такой дороги он показан на рису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и спроса и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енкин Флеминг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3-1885), английский инженер и экономист, впервые представил спрос и предлож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иде пересекающихся графиков. Он 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л канатные дороги. На фоне эскиза такой дороги он показан на рисунк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market) — сфера  устойчивого обмена эквивалентными цен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, а не определенное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устойчивого  обм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мена, а н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эквивалентными ценностями, ценность которых ра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market) — сфера  устойчивого обмена эквивалентными ценностями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, а не определенное мест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устойчивого  обмена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мена, а не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эквивалентными ценностями, ценность которых рав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рыночного равнове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кол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авновесная це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рыночного равновес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количе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авновесная це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— сфера свобод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обмена равноценными товарами, услугами и фактор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возникает в результате разделения труда — специализ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— сфера свобод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обмена равноценными товарами, услугами и фактор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оизводства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возникает в результате разделения труда — специализ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ходится в обратной зависимости от цены товара: выше цена — ниже спр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— количество товара, которое поставляется на рынок при определе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находится в прямой зависимости от цены: выше цена — больше предло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возникает, когда спрос равен предлож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ходится в обратной зависимости от цены товара: выше цена — ниже спрос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— количество товара, которое поставляется на рынок при определенной цене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находится в прямой зависимости от цены: выше цена — больше предложени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возникает, когда спрос равен предложению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арианта ценовой эластичност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, когда изменение объема спроса больше изменения це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единичной эластичности, когда изменения объема спроса равны изменению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, когда изменение объема спроса меньше изменения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арианта ценовой эластичности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, когда изменение объема спроса больше изменения цены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единичной эластичности, когда изменения объема спроса равны изменению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, когда изменение объема спроса меньше изменения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менимость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товара в структуре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ластичности спроса по цен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менимость товар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товара в структуре потреб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(market) – сфера свободного и устойчивого обмена равноценными товарами, услугами и факторами их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(demand, D ) – количество товара, которое покупатели готовы приобрести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(law of demand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(supply, S) –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 (law of supply) – величина предложения находится в прямой зависимости от цены: чем выше цена, тем выше предложение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(market) – сфера свободного и устойчивого обмена равноценными товарами, услугами и факторами их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(demand, D ) – количество товара, которое покупатели готовы приобрести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(law of demand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(supply, S) –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 (law of supply) – величина предложения находится в прямой зависимости от цены: чем выше цена, тем выше предложение и наоборот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(market equilibrium) - равенство спроса и предложения на рынке определенного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(price)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(market equilibrium) - равенство спроса и предложения на рынке определенного товара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(price)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«Спро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Выберите правильный отв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ой увеличения спроса на роликовые коньки может бы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жидание наступления дож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на подшип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летних каник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рожание апельсинового с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«Спрос»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Выберите правильный ответ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ой увеличения спроса на роликовые коньки может быть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жидание наступления дожд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на подшипн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летних каникул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рожание апельсинового сок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ару товаров-замен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обильные покрышки и бенз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ьевые ручки и черн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инсы и футбо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 мар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ару товаров-заменителей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обильные покрышки и бензи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ьевые ручки и чернил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инсы и футбол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 маргари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mand, D) — количество товара, которое покупатели готовы приобрести на рын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пределенной цен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mand, D) — количество товара, которое покупатели готовы приобрести на рын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пределенной цене. 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куп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куп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купа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купа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ба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ие из прави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(повышение цены ведет к повышению величин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барьер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бывания предельной полезност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ие из правила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(повышение цены ведет к повышению величины спроса)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EF4A0-5DBD-4535-BC43-E1CE6638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05704-D6D5-47C8-A618-A0C87BEA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D765E-5E1A-4DB6-B314-43FD915F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62AE7-30DB-4ABF-8676-EAD81383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A0AA-0156-42BA-938F-2862FD38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63AD-1870-4F42-B07A-A7A5945D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54E3-C572-4312-8DD9-4F184D8E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B17E-7CFA-418E-A9DA-ECFE4944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760F-5799-47F3-AF95-55CAB1C5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133A-A4F6-4F3C-95A3-457F93CE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93E7-37DE-48CF-B8E9-2B593968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D4CFA-660F-4EBD-B15D-E6601374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FAFD-F946-4982-9B49-E2D3E690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85B2-A4AA-4AEE-B1B0-7531042C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DE03-428C-46EB-9B22-B75199D2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FD3C-8800-4AA2-9544-51341264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4793-A15C-4AA6-AF94-5F4FF9B9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8CCEB-6098-4F29-8914-D5A79A59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C331-EF4D-4057-B79C-2083E8BD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2C388-2A69-4413-861F-39833AD0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1984E-DB12-42FE-BF5F-4928CAD8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294C8-4F23-441F-8DA8-27EE7F45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3C248-0843-4777-B332-CFD8FECD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B85B7-E309-4FFC-868F-C9AFB362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EE74-B889-4F0E-B975-46B8A9F2E2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477120"/>
            <a:ext cx="2590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83DB-68BE-4E6C-938F-D41AFA95C1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zt.ru/img/20070109213354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push.wav"/><Relationship Id="rId4" Type="http://schemas.openxmlformats.org/officeDocument/2006/relationships/audio" Target="../media/whoosh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лава 3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прос, предложение и рыночное равновес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238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200701092133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124080"/>
            <a:ext cx="37335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изшие»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ормальные»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кусы и предпочтения потреби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заимозаменяемы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полняющ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е изменения доходов и ц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менение числа покупател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едлож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количество товара, которое продавцы готовы продать на рынке по определенной цене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акторы, влияющие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а предложе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21932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72428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21932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цены при неизменности других факторов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72428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других факторов при неизменной цене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1932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личи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ложения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72428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ункци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ложения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едложение: изменение цен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1676520" y="914400"/>
          <a:ext cx="5790960" cy="54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9096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Line 4"/>
          <p:cNvSpPr/>
          <p:nvPr/>
        </p:nvSpPr>
        <p:spPr>
          <a:xfrm>
            <a:off x="2209680" y="47242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4724280" y="47242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5715000" y="38862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2286000" y="38862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9" name="Freeform 8"/>
          <p:cNvSpPr/>
          <p:nvPr/>
        </p:nvSpPr>
        <p:spPr>
          <a:xfrm rot="16468200">
            <a:off x="2740680" y="1373400"/>
            <a:ext cx="3963960" cy="381024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3810240"/>
              <a:gd name="textAreaBottom" fmla="*/ 3810600 h 381024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464832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5638680" y="38098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2209680" y="1676520"/>
            <a:ext cx="4343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6705720" y="167652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5334120" y="3581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17220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8" name="AutoShape 20"/>
          <p:cNvSpPr/>
          <p:nvPr/>
        </p:nvSpPr>
        <p:spPr>
          <a:xfrm>
            <a:off x="6629400" y="16002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2362320" y="4572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0" name="Line 33"/>
          <p:cNvSpPr/>
          <p:nvPr/>
        </p:nvSpPr>
        <p:spPr>
          <a:xfrm>
            <a:off x="6705720" y="1752480"/>
            <a:ext cx="0" cy="38862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1" name="Line 34"/>
          <p:cNvSpPr/>
          <p:nvPr/>
        </p:nvSpPr>
        <p:spPr>
          <a:xfrm flipV="1">
            <a:off x="2362320" y="1676520"/>
            <a:ext cx="4343400" cy="158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2" name="Line 35"/>
          <p:cNvSpPr/>
          <p:nvPr/>
        </p:nvSpPr>
        <p:spPr>
          <a:xfrm>
            <a:off x="5715000" y="3962520"/>
            <a:ext cx="0" cy="167616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3" name="Line 36"/>
          <p:cNvSpPr/>
          <p:nvPr/>
        </p:nvSpPr>
        <p:spPr>
          <a:xfrm>
            <a:off x="2286000" y="3886200"/>
            <a:ext cx="3338640" cy="14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4" name="Line 37"/>
          <p:cNvSpPr/>
          <p:nvPr/>
        </p:nvSpPr>
        <p:spPr>
          <a:xfrm>
            <a:off x="2195640" y="4754520"/>
            <a:ext cx="2485800" cy="18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5" name="Line 38"/>
          <p:cNvSpPr/>
          <p:nvPr/>
        </p:nvSpPr>
        <p:spPr>
          <a:xfrm>
            <a:off x="4724280" y="4800600"/>
            <a:ext cx="0" cy="838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 предложения находится в прямой зависим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 — выш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 — ниж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едложения находится в прямой зависимости 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выш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 — ниж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3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3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функции предло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4" name="Object 3"/>
          <p:cNvGraphicFramePr/>
          <p:nvPr/>
        </p:nvGraphicFramePr>
        <p:xfrm>
          <a:off x="1676520" y="914400"/>
          <a:ext cx="5790960" cy="54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9096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6"/>
          <p:cNvSpPr/>
          <p:nvPr/>
        </p:nvSpPr>
        <p:spPr>
          <a:xfrm>
            <a:off x="5715000" y="38862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2286000" y="38862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8" name="Freeform 8"/>
          <p:cNvSpPr/>
          <p:nvPr/>
        </p:nvSpPr>
        <p:spPr>
          <a:xfrm rot="16468200">
            <a:off x="2704320" y="1409760"/>
            <a:ext cx="3963960" cy="373356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3733560"/>
              <a:gd name="textAreaBottom" fmla="*/ 3733920 h 37335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5638680" y="38098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4864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594360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4" name="Line 28"/>
          <p:cNvSpPr/>
          <p:nvPr/>
        </p:nvSpPr>
        <p:spPr>
          <a:xfrm>
            <a:off x="6705720" y="39625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64008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6629400" y="1981080"/>
            <a:ext cx="68580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6666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7" name="AutoShape 18"/>
          <p:cNvSpPr/>
          <p:nvPr/>
        </p:nvSpPr>
        <p:spPr>
          <a:xfrm>
            <a:off x="6629400" y="380988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8" name="Line 33"/>
          <p:cNvSpPr/>
          <p:nvPr/>
        </p:nvSpPr>
        <p:spPr>
          <a:xfrm>
            <a:off x="5791320" y="3886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9" name="Line 34"/>
          <p:cNvSpPr/>
          <p:nvPr/>
        </p:nvSpPr>
        <p:spPr>
          <a:xfrm>
            <a:off x="5791320" y="388620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0" name="AutoShape 35"/>
          <p:cNvSpPr/>
          <p:nvPr/>
        </p:nvSpPr>
        <p:spPr>
          <a:xfrm>
            <a:off x="2514600" y="2666880"/>
            <a:ext cx="2362320" cy="381240"/>
          </a:xfrm>
          <a:prstGeom prst="borderCallout1">
            <a:avLst>
              <a:gd name="adj1" fmla="val 18750"/>
              <a:gd name="adj2" fmla="val -8333"/>
              <a:gd name="adj3" fmla="val 320000"/>
              <a:gd name="adj4" fmla="val 154837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предложения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2.22222E-006 L 0.1125 2.22222E-006 E">
                                      <p:cBhvr>
                                        <p:cTn id="205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ценовые факто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ост объемов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лучшение условий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почт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ыночное равновес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6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Freeform 6"/>
          <p:cNvSpPr/>
          <p:nvPr/>
        </p:nvSpPr>
        <p:spPr>
          <a:xfrm>
            <a:off x="2743200" y="1676520"/>
            <a:ext cx="3962520" cy="3504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4648320" y="4267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601992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662940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2819520" y="1447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4" name="Freeform 18"/>
          <p:cNvSpPr/>
          <p:nvPr/>
        </p:nvSpPr>
        <p:spPr>
          <a:xfrm rot="16468200">
            <a:off x="2646360" y="1347480"/>
            <a:ext cx="3846600" cy="4113000"/>
          </a:xfrm>
          <a:custGeom>
            <a:avLst/>
            <a:gdLst>
              <a:gd name="textAreaLeft" fmla="*/ 0 w 3846600"/>
              <a:gd name="textAreaRight" fmla="*/ 3846960 w 3846600"/>
              <a:gd name="textAreaTop" fmla="*/ 0 h 4113000"/>
              <a:gd name="textAreaBottom" fmla="*/ 4113360 h 411300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>
            <a:off x="4602240" y="466236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29718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7" name="AutoShape 20"/>
          <p:cNvSpPr/>
          <p:nvPr/>
        </p:nvSpPr>
        <p:spPr>
          <a:xfrm>
            <a:off x="60958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8" name="AutoShape 22"/>
          <p:cNvSpPr/>
          <p:nvPr/>
        </p:nvSpPr>
        <p:spPr>
          <a:xfrm>
            <a:off x="6568920" y="507528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640080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0" name="AutoShape 25"/>
          <p:cNvSpPr/>
          <p:nvPr/>
        </p:nvSpPr>
        <p:spPr>
          <a:xfrm rot="16200000">
            <a:off x="4572000" y="1828440"/>
            <a:ext cx="228600" cy="2667240"/>
          </a:xfrm>
          <a:custGeom>
            <a:avLst/>
            <a:gdLst>
              <a:gd name="textAreaLeft" fmla="*/ 0 w 228600"/>
              <a:gd name="textAreaRight" fmla="*/ 82440 w 2286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4191120" y="4952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фицит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73915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3" name="Text Box 30"/>
          <p:cNvSpPr/>
          <p:nvPr/>
        </p:nvSpPr>
        <p:spPr>
          <a:xfrm>
            <a:off x="6095880" y="1600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2895480" y="1600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2332080" y="4724280"/>
            <a:ext cx="2316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4692600" y="4815000"/>
            <a:ext cx="0" cy="76176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7" name="AutoShape 35"/>
          <p:cNvSpPr/>
          <p:nvPr/>
        </p:nvSpPr>
        <p:spPr>
          <a:xfrm>
            <a:off x="5791320" y="4305240"/>
            <a:ext cx="2666880" cy="343080"/>
          </a:xfrm>
          <a:prstGeom prst="borderCallout1">
            <a:avLst>
              <a:gd name="adj1" fmla="val 18750"/>
              <a:gd name="adj2" fmla="val -8333"/>
              <a:gd name="adj3" fmla="val 118055"/>
              <a:gd name="adj4" fmla="val -35416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ыночное равновесие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2255760" y="3398760"/>
            <a:ext cx="38862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1240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0" name="Line 37"/>
          <p:cNvSpPr/>
          <p:nvPr/>
        </p:nvSpPr>
        <p:spPr>
          <a:xfrm>
            <a:off x="3216240" y="3460680"/>
            <a:ext cx="0" cy="21337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1" name="Line 38"/>
          <p:cNvSpPr/>
          <p:nvPr/>
        </p:nvSpPr>
        <p:spPr>
          <a:xfrm>
            <a:off x="6156360" y="3444840"/>
            <a:ext cx="0" cy="21337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2" name="Text Box 39"/>
          <p:cNvSpPr/>
          <p:nvPr/>
        </p:nvSpPr>
        <p:spPr>
          <a:xfrm>
            <a:off x="4038480" y="2971800"/>
            <a:ext cx="1219320" cy="642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злишек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>
            <a:off x="2255760" y="5149800"/>
            <a:ext cx="42814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4" name="AutoShape 21"/>
          <p:cNvSpPr/>
          <p:nvPr/>
        </p:nvSpPr>
        <p:spPr>
          <a:xfrm>
            <a:off x="3627360" y="50292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5" name="Text Box 41"/>
          <p:cNvSpPr/>
          <p:nvPr/>
        </p:nvSpPr>
        <p:spPr>
          <a:xfrm>
            <a:off x="4419720" y="5181480"/>
            <a:ext cx="1218960" cy="368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фицит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6" name="Line 42"/>
          <p:cNvSpPr/>
          <p:nvPr/>
        </p:nvSpPr>
        <p:spPr>
          <a:xfrm>
            <a:off x="3276720" y="3429000"/>
            <a:ext cx="28191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7" name="Line 43"/>
          <p:cNvSpPr/>
          <p:nvPr/>
        </p:nvSpPr>
        <p:spPr>
          <a:xfrm>
            <a:off x="3733920" y="5135400"/>
            <a:ext cx="2865240" cy="1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8" name="Line 44"/>
          <p:cNvSpPr/>
          <p:nvPr/>
        </p:nvSpPr>
        <p:spPr>
          <a:xfrm flipH="1">
            <a:off x="3701520" y="5151600"/>
            <a:ext cx="1800" cy="487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9" name="Line 45"/>
          <p:cNvSpPr/>
          <p:nvPr/>
        </p:nvSpPr>
        <p:spPr>
          <a:xfrm>
            <a:off x="6629400" y="5181480"/>
            <a:ext cx="0" cy="4572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ижний колонтитул 6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Графики спроса и предло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женкин Флемин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833-1885)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инженер и экономист, впервые представил спрос и предложени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иде пересекающихся графиков. Он ж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обрел канатные дорог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фоне эскиза такой дороги он показан на рисунк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3" name="Picture 4" descr="jenkin2"/>
          <p:cNvPicPr/>
          <p:nvPr/>
        </p:nvPicPr>
        <p:blipFill>
          <a:blip r:embed="rId1"/>
          <a:stretch/>
        </p:blipFill>
        <p:spPr>
          <a:xfrm>
            <a:off x="5257800" y="1447920"/>
            <a:ext cx="34066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ыно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сфера  устойчивого обмена эквивалентными ценностя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Сфера,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е определенное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ера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устойчивого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бмен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ера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бмена,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е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мен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эквивалентным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ценностями, ценность которых ра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рыночного равновес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6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Freeform 4"/>
          <p:cNvSpPr/>
          <p:nvPr/>
        </p:nvSpPr>
        <p:spPr>
          <a:xfrm>
            <a:off x="2743200" y="1676520"/>
            <a:ext cx="3962520" cy="3504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4648320" y="4267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5486400" y="28954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662940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4" name="Freeform 12"/>
          <p:cNvSpPr/>
          <p:nvPr/>
        </p:nvSpPr>
        <p:spPr>
          <a:xfrm rot="16468200">
            <a:off x="2742120" y="1464120"/>
            <a:ext cx="3583080" cy="4038480"/>
          </a:xfrm>
          <a:custGeom>
            <a:avLst/>
            <a:gdLst>
              <a:gd name="textAreaLeft" fmla="*/ 0 w 3583080"/>
              <a:gd name="textAreaRight" fmla="*/ 3583440 w 3583080"/>
              <a:gd name="textAreaTop" fmla="*/ 0 h 4038480"/>
              <a:gd name="textAreaBottom" fmla="*/ 4038840 h 40384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464832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6" name="AutoShape 15"/>
          <p:cNvSpPr/>
          <p:nvPr/>
        </p:nvSpPr>
        <p:spPr>
          <a:xfrm>
            <a:off x="6080040" y="33228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7" name="AutoShape 16"/>
          <p:cNvSpPr/>
          <p:nvPr/>
        </p:nvSpPr>
        <p:spPr>
          <a:xfrm>
            <a:off x="217980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8" name="Line 37"/>
          <p:cNvSpPr/>
          <p:nvPr/>
        </p:nvSpPr>
        <p:spPr>
          <a:xfrm>
            <a:off x="2362320" y="47242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9" name="Line 38"/>
          <p:cNvSpPr/>
          <p:nvPr/>
        </p:nvSpPr>
        <p:spPr>
          <a:xfrm>
            <a:off x="4724280" y="48006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0" name="Line 39"/>
          <p:cNvSpPr/>
          <p:nvPr/>
        </p:nvSpPr>
        <p:spPr>
          <a:xfrm>
            <a:off x="2286000" y="342900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1" name="Line 40"/>
          <p:cNvSpPr/>
          <p:nvPr/>
        </p:nvSpPr>
        <p:spPr>
          <a:xfrm>
            <a:off x="6172200" y="35812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2" name="AutoShape 43"/>
          <p:cNvSpPr/>
          <p:nvPr/>
        </p:nvSpPr>
        <p:spPr>
          <a:xfrm>
            <a:off x="2209680" y="6019920"/>
            <a:ext cx="2210040" cy="342720"/>
          </a:xfrm>
          <a:prstGeom prst="borderCallout1">
            <a:avLst>
              <a:gd name="adj1" fmla="val 18750"/>
              <a:gd name="adj2" fmla="val -8333"/>
              <a:gd name="adj3" fmla="val -122222"/>
              <a:gd name="adj4" fmla="val 110342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количеств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3" name="AutoShape 44"/>
          <p:cNvSpPr/>
          <p:nvPr/>
        </p:nvSpPr>
        <p:spPr>
          <a:xfrm>
            <a:off x="304920" y="4648320"/>
            <a:ext cx="1371600" cy="342720"/>
          </a:xfrm>
          <a:prstGeom prst="borderCallout1">
            <a:avLst>
              <a:gd name="adj1" fmla="val 18750"/>
              <a:gd name="adj2" fmla="val -8333"/>
              <a:gd name="adj3" fmla="val 18981"/>
              <a:gd name="adj4" fmla="val 130208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цен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4" name="AutoShape 45"/>
          <p:cNvSpPr/>
          <p:nvPr/>
        </p:nvSpPr>
        <p:spPr>
          <a:xfrm>
            <a:off x="3962520" y="2133720"/>
            <a:ext cx="1600200" cy="342720"/>
          </a:xfrm>
          <a:prstGeom prst="borderCallout1">
            <a:avLst>
              <a:gd name="adj1" fmla="val 18750"/>
              <a:gd name="adj2" fmla="val -8333"/>
              <a:gd name="adj3" fmla="val 277777"/>
              <a:gd name="adj4" fmla="val -54263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спрос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5" name="AutoShape 46"/>
          <p:cNvSpPr/>
          <p:nvPr/>
        </p:nvSpPr>
        <p:spPr>
          <a:xfrm>
            <a:off x="4587840" y="54864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6" name="Text Box 47"/>
          <p:cNvSpPr/>
          <p:nvPr/>
        </p:nvSpPr>
        <p:spPr>
          <a:xfrm>
            <a:off x="617220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7" name="Text Box 48"/>
          <p:cNvSpPr/>
          <p:nvPr/>
        </p:nvSpPr>
        <p:spPr>
          <a:xfrm>
            <a:off x="274320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8" name="Line 49"/>
          <p:cNvSpPr/>
          <p:nvPr/>
        </p:nvSpPr>
        <p:spPr>
          <a:xfrm>
            <a:off x="2332080" y="4724280"/>
            <a:ext cx="2316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9" name="Line 50"/>
          <p:cNvSpPr/>
          <p:nvPr/>
        </p:nvSpPr>
        <p:spPr>
          <a:xfrm>
            <a:off x="2286000" y="3429000"/>
            <a:ext cx="38098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0" name="Line 51"/>
          <p:cNvSpPr/>
          <p:nvPr/>
        </p:nvSpPr>
        <p:spPr>
          <a:xfrm>
            <a:off x="4694400" y="4768920"/>
            <a:ext cx="0" cy="7333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1" name="Line 52"/>
          <p:cNvSpPr/>
          <p:nvPr/>
        </p:nvSpPr>
        <p:spPr>
          <a:xfrm>
            <a:off x="6172200" y="3505320"/>
            <a:ext cx="0" cy="1981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2" name="AutoShape 53"/>
          <p:cNvSpPr/>
          <p:nvPr/>
        </p:nvSpPr>
        <p:spPr>
          <a:xfrm>
            <a:off x="6858000" y="4800600"/>
            <a:ext cx="1981080" cy="990720"/>
          </a:xfrm>
          <a:prstGeom prst="borderCallout1">
            <a:avLst>
              <a:gd name="adj1" fmla="val 18750"/>
              <a:gd name="adj2" fmla="val -8333"/>
              <a:gd name="adj3" fmla="val -7851"/>
              <a:gd name="adj4" fmla="val -97675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вновесная цен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количество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3" name="AutoShape 54"/>
          <p:cNvSpPr/>
          <p:nvPr/>
        </p:nvSpPr>
        <p:spPr>
          <a:xfrm>
            <a:off x="6858000" y="3124080"/>
            <a:ext cx="1905120" cy="1295640"/>
          </a:xfrm>
          <a:prstGeom prst="borderCallout1">
            <a:avLst>
              <a:gd name="adj1" fmla="val 18750"/>
              <a:gd name="adj2" fmla="val -8333"/>
              <a:gd name="adj3" fmla="val 20587"/>
              <a:gd name="adj4" fmla="val -32000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овая равновесная цен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количество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4335E-006 L 0.32084 -0.00277 E">
                                      <p:cBhvr>
                                        <p:cTn id="363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0.31666 -1.96532E-006 E">
                                      <p:cBhvr>
                                        <p:cTn id="365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8208E-006 L -3.33333E-006 -0.19145 E">
                                      <p:cBhvr>
                                        <p:cTn id="372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8555E-006 L -0.00503 -0.18867 E">
                                      <p:cBhvr>
                                        <p:cTn id="374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10405E-006 L 0.1625 -0.00277 E">
                                      <p:cBhvr>
                                        <p:cTn id="381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4104E-006 L 0.16493 -3.4104E-006 E">
                                      <p:cBhvr>
                                        <p:cTn id="383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ынок — сфера свободног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устойчивого обмена равноценными товарами, услугами и факторам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х производств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ынок возникает в результате разделения труда — специализаци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рос находится 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обратной зависимости от цены товара: выше цена — ниже спро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ложение — количество товара, которое поставляется 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н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рынок при определенной цен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но находится в прямой зависимости от цены: выше цена — больше предлож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ое равновесие возникает, когда спрос равен предложению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ижний колонтитул 6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ластичность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6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8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762120" y="4267080"/>
                <a:ext cx="694512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Три варианта ценовой эластичности спрос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ластичный, когда изменение объема спроса больше изменения цен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прос единичной эластичности, когда изменения объема спроса равны изменению це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эластичный спрос, когда изменение объема спроса меньше изменения це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Факторы эластичности спроса по цен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заменимость тов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начимость товара для потребител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сто товара в структуре потребл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Определен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ынок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(market)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сфера свободного и устойчивого обмена равноценными товарами, услугами и факторами их производст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прос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mand, 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) – количество товара, которое покупатели готовы приобрести на рынке по определенной це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кон спроса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w of deman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дложение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pply, S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количество товара, которое продавцы готовы продать на рынке по определенной це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кон предложения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w of supply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величина предложения находится в прямой зависимости от цены: чем выше цена, тем выше предложение и наоборо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пределени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ое равновесие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rket equilibrium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равенство спроса и предложения на рынке определенного това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а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ce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дание «Спрос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Выберите правильный отве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чиной увеличения спроса на роликовые коньки может быть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ожидание наступления дожд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нижение цен на подшипн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лижение летних канику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орожание апельсинового с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берите пару товаров-заменителей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томобильные покрышки и бенз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ьевые ручки и черни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жинсы и футбол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сло и маргар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ро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man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количество товара, которое покупатели готовы приобрести на рынк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 определенной цене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спрос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21932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72428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21932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цены при неизменности других факторов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72428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других факторов при неизменной цене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21932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личи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проса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472428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ункци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проса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18637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37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величины спро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2406600" y="4705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2482920" y="3409920"/>
            <a:ext cx="8380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0" name="Freeform 29"/>
          <p:cNvSpPr/>
          <p:nvPr/>
        </p:nvSpPr>
        <p:spPr>
          <a:xfrm>
            <a:off x="2895480" y="1447920"/>
            <a:ext cx="4248360" cy="3768480"/>
          </a:xfrm>
          <a:custGeom>
            <a:avLst/>
            <a:gdLst>
              <a:gd name="textAreaLeft" fmla="*/ 0 w 4248360"/>
              <a:gd name="textAreaRight" fmla="*/ 4248720 w 4248360"/>
              <a:gd name="textAreaTop" fmla="*/ 0 h 3768480"/>
              <a:gd name="textAreaBottom" fmla="*/ 3768840 h 37684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1" name="AutoShape 30"/>
          <p:cNvSpPr/>
          <p:nvPr/>
        </p:nvSpPr>
        <p:spPr>
          <a:xfrm>
            <a:off x="4786200" y="458460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2" name="AutoShape 21"/>
          <p:cNvSpPr/>
          <p:nvPr/>
        </p:nvSpPr>
        <p:spPr>
          <a:xfrm>
            <a:off x="2863800" y="15811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3" name="AutoShape 28"/>
          <p:cNvSpPr/>
          <p:nvPr/>
        </p:nvSpPr>
        <p:spPr>
          <a:xfrm>
            <a:off x="3321000" y="333360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14479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7467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6" name="Line 33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3397320" y="3029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4844880" y="4324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9" name="Freeform 47"/>
          <p:cNvSpPr/>
          <p:nvPr/>
        </p:nvSpPr>
        <p:spPr>
          <a:xfrm>
            <a:off x="3397320" y="3409920"/>
            <a:ext cx="1731960" cy="127152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1091" h="801">
                <a:moveTo>
                  <a:pt x="0" y="0"/>
                </a:moveTo>
                <a:cubicBezTo>
                  <a:pt x="8" y="42"/>
                  <a:pt x="17" y="83"/>
                  <a:pt x="25" y="125"/>
                </a:cubicBezTo>
                <a:cubicBezTo>
                  <a:pt x="28" y="138"/>
                  <a:pt x="29" y="153"/>
                  <a:pt x="37" y="163"/>
                </a:cubicBezTo>
                <a:cubicBezTo>
                  <a:pt x="46" y="175"/>
                  <a:pt x="62" y="180"/>
                  <a:pt x="75" y="188"/>
                </a:cubicBezTo>
                <a:cubicBezTo>
                  <a:pt x="83" y="200"/>
                  <a:pt x="89" y="215"/>
                  <a:pt x="100" y="225"/>
                </a:cubicBezTo>
                <a:cubicBezTo>
                  <a:pt x="123" y="245"/>
                  <a:pt x="175" y="275"/>
                  <a:pt x="175" y="275"/>
                </a:cubicBezTo>
                <a:cubicBezTo>
                  <a:pt x="210" y="329"/>
                  <a:pt x="275" y="384"/>
                  <a:pt x="325" y="425"/>
                </a:cubicBezTo>
                <a:cubicBezTo>
                  <a:pt x="373" y="464"/>
                  <a:pt x="398" y="513"/>
                  <a:pt x="450" y="551"/>
                </a:cubicBezTo>
                <a:cubicBezTo>
                  <a:pt x="531" y="610"/>
                  <a:pt x="510" y="596"/>
                  <a:pt x="601" y="626"/>
                </a:cubicBezTo>
                <a:cubicBezTo>
                  <a:pt x="613" y="630"/>
                  <a:pt x="638" y="638"/>
                  <a:pt x="638" y="638"/>
                </a:cubicBezTo>
                <a:cubicBezTo>
                  <a:pt x="682" y="667"/>
                  <a:pt x="695" y="677"/>
                  <a:pt x="751" y="701"/>
                </a:cubicBezTo>
                <a:cubicBezTo>
                  <a:pt x="775" y="711"/>
                  <a:pt x="826" y="726"/>
                  <a:pt x="826" y="726"/>
                </a:cubicBezTo>
                <a:cubicBezTo>
                  <a:pt x="873" y="761"/>
                  <a:pt x="930" y="801"/>
                  <a:pt x="989" y="801"/>
                </a:cubicBezTo>
                <a:lnTo>
                  <a:pt x="1091" y="39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0" name="Text Box 49"/>
          <p:cNvSpPr/>
          <p:nvPr/>
        </p:nvSpPr>
        <p:spPr>
          <a:xfrm>
            <a:off x="6597720" y="4795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1" name="Line 52"/>
          <p:cNvSpPr/>
          <p:nvPr/>
        </p:nvSpPr>
        <p:spPr>
          <a:xfrm>
            <a:off x="2406600" y="4705200"/>
            <a:ext cx="24382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2909880" y="1735200"/>
            <a:ext cx="0" cy="38098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3" name="Line 54"/>
          <p:cNvSpPr/>
          <p:nvPr/>
        </p:nvSpPr>
        <p:spPr>
          <a:xfrm>
            <a:off x="3397320" y="3486240"/>
            <a:ext cx="0" cy="20574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4" name="Line 55"/>
          <p:cNvSpPr/>
          <p:nvPr/>
        </p:nvSpPr>
        <p:spPr>
          <a:xfrm>
            <a:off x="4857840" y="4745160"/>
            <a:ext cx="19080" cy="811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5" name="Line 56"/>
          <p:cNvSpPr/>
          <p:nvPr/>
        </p:nvSpPr>
        <p:spPr>
          <a:xfrm>
            <a:off x="2468520" y="5148360"/>
            <a:ext cx="43434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6" name="AutoShape 57"/>
          <p:cNvSpPr/>
          <p:nvPr/>
        </p:nvSpPr>
        <p:spPr>
          <a:xfrm>
            <a:off x="6750000" y="508644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7" name="Line 58"/>
          <p:cNvSpPr/>
          <p:nvPr/>
        </p:nvSpPr>
        <p:spPr>
          <a:xfrm>
            <a:off x="6826320" y="5238720"/>
            <a:ext cx="0" cy="3128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2895480" y="1447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man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 спроса находится в обратной зависимости 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спро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спро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AutoShape 9"/>
          <p:cNvSpPr/>
          <p:nvPr/>
        </p:nvSpPr>
        <p:spPr>
          <a:xfrm rot="20623800">
            <a:off x="3276720" y="4800600"/>
            <a:ext cx="1600200" cy="38088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 rot="1093200">
            <a:off x="3276720" y="3581280"/>
            <a:ext cx="1600200" cy="38124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3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3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ценовые факто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исло покупа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ходы покупа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почт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овой барь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дохо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замещ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нцип убывания предельной полез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лючение из правил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Гиффена(повышение цены ведет к повышению величины спрос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функции спро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Line 10"/>
          <p:cNvSpPr/>
          <p:nvPr/>
        </p:nvSpPr>
        <p:spPr>
          <a:xfrm>
            <a:off x="3200400" y="3505320"/>
            <a:ext cx="0" cy="2133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6" name="Freeform 12"/>
          <p:cNvSpPr/>
          <p:nvPr/>
        </p:nvSpPr>
        <p:spPr>
          <a:xfrm>
            <a:off x="2743200" y="1676520"/>
            <a:ext cx="2971800" cy="31240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7" name="AutoShape 16"/>
          <p:cNvSpPr/>
          <p:nvPr/>
        </p:nvSpPr>
        <p:spPr>
          <a:xfrm>
            <a:off x="31240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3276720" y="3429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1" name="AutoShape 26"/>
          <p:cNvSpPr/>
          <p:nvPr/>
        </p:nvSpPr>
        <p:spPr>
          <a:xfrm>
            <a:off x="4114800" y="335268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4191120" y="35053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3733920" y="1600200"/>
            <a:ext cx="6094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r>
              <a:rPr b="1" lang="ru-RU" sz="2000" spc="-1" strike="noStrike" baseline="-25000">
                <a:solidFill>
                  <a:srgbClr val="00cc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4" name="Text Box 34"/>
          <p:cNvSpPr/>
          <p:nvPr/>
        </p:nvSpPr>
        <p:spPr>
          <a:xfrm>
            <a:off x="274320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5" name="Line 35"/>
          <p:cNvSpPr/>
          <p:nvPr/>
        </p:nvSpPr>
        <p:spPr>
          <a:xfrm>
            <a:off x="3306600" y="3414600"/>
            <a:ext cx="838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6" name="AutoShape 38"/>
          <p:cNvSpPr/>
          <p:nvPr/>
        </p:nvSpPr>
        <p:spPr>
          <a:xfrm>
            <a:off x="4952880" y="1714680"/>
            <a:ext cx="1752840" cy="419040"/>
          </a:xfrm>
          <a:prstGeom prst="borderCallout2">
            <a:avLst>
              <a:gd name="adj1" fmla="val 18750"/>
              <a:gd name="adj2" fmla="val -8333"/>
              <a:gd name="adj3" fmla="val 27273"/>
              <a:gd name="adj4" fmla="val -36324"/>
              <a:gd name="adj5" fmla="val 390907"/>
              <a:gd name="adj6" fmla="val -69564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спрос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.10417 3.33333E-006 E">
                                      <p:cBhvr>
                                        <p:cTn id="111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9:40:43Z</dcterms:created>
  <dc:creator/>
  <dc:description/>
  <dc:language>en-US</dc:language>
  <cp:lastModifiedBy>LEGION</cp:lastModifiedBy>
  <dcterms:modified xsi:type="dcterms:W3CDTF">2016-01-04T08:18:30Z</dcterms:modified>
  <cp:revision>115</cp:revision>
  <dc:subject/>
  <dc:title>Тема 2. Рыночная система экономики</dc:title>
</cp:coreProperties>
</file>