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drumroll.wav" ContentType="audio/x-wav"/>
  <Override PartName="/ppt/media/push.wav" ContentType="audio/x-wav"/>
  <Override PartName="/ppt/media/whoosh.wav" ContentType="audio/x-wav"/>
  <Override PartName="/ppt/media/suction.wav" ContentType="audio/x-wav"/>
  <Override PartName="/ppt/media/image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51AC-D2A3-4D01-B1E3-199FCC4BD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, предложение и 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изши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ые»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меняемы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яющ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е изменения доходов и це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числа покупател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supply, S) — количество товара, которое продавцы готовы продать на рынке по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: изменение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supply) — 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ыш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 — ниже предложен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условий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лише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фики спроса и предлож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енкин Флеминг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833-1885), английский инженер и экономист, впервые представил спрос и предлож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виде пересекающихся графиков. Он ж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л канатные дороги. На фоне эскиза такой дороги он показан на рисунк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market) — сфера  устойчивого обмена эквивалентными ценностями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, а не определенное мест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устойчивого  обмена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мена, а не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эквивалентными ценностями, ценность которых рав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рыночного равновес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количе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ая равновесная це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количество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— сфера свобод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обмена равноценными товарами, услугами и факторам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х производства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возникает в результате разделения труда — специализ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ходится в обратной зависимости от цены товара: выше цена — ниже спрос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— количество товара, которое поставляется на рынок при определенной цене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находится в прямой зависимости от цены: выше цена — больше предложени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возникает, когда спрос равен предложению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арианта ценовой эластичност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ый, когда изменение объема спроса больше изменения цены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единичной эластичности, когда изменения объема спроса равны изменению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эластичный спрос, когда изменение объема спроса меньше изменения цен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ластичности спроса по цене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менимость товар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товара в структуре потреб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(market) – сфера свободного и устойчивого обмена равноценными товарами, услугами и факторами их производств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(demand, D ) – количество товара, которое покупатели готовы приобрести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(law of demand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(supply, S) – количество товара, которое продавцы готовы продать на рынке по определенной цен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предложения (law of supply) – величина предложения находится в прямой зависимости от цены: чем выше цена, тем выше предложение и наоборот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е равновесие (market equilibrium) - равенство спроса и предложения на рынке определенного товара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(price)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«Спрос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Выберите правильный ответ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ой увеличения спроса на роликовые коньки может быть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жидание наступления дожд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на подшипн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летних каникул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рожание апельсинового сок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пару товаров-заменителей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мобильные покрышки и бенз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ьевые ручки и чернил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инсы и футбол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ло и маргарин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demand, D) — количество товара, которое покупатели готовы приобрести на рын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пределенной цене. 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цены при неизменности других факторов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других факторов при неизменной цене–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величину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яют функцию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величины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law of demand) — величина спроса находится в обратной зависимости от цены: 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ше спрос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же цен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ценовые факто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о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покупателей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другие товары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чт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вой барьер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доход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замещения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 убывания предельной полезност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лючение из правила: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Гиффена(повышение цены ведет к повышению величины спроса)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1. Принципы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Рыночная система экономики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 функции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спроса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F6D1D-D20A-414D-AAAD-4A9C59EC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DC92-469C-4DB5-A354-D49A1713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D9050-0B29-4ED3-8E60-338D802B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3B7B1-2B6B-489D-A9AD-E24CF03A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2627-DBF9-43EE-BF38-12FB9AB7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8A0D-EDF1-4468-B5E6-4411EFF8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5BDB-C968-4610-8DA5-7F7FC350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7958-F8C9-40A1-BDAE-44AD946A7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8A1C-570A-4179-B416-776A5221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C3C1-107B-49D9-BF50-1F750345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F6E7-91B0-4BD1-BB0E-8B51F514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9540-2FBC-43AE-B6FC-AFDE2881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F93F-1EED-4783-8C8E-A4D8F8E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49E4-C6E7-4649-A902-60A9AD68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417D-DA94-4031-A28E-175FD2A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10CD-C3DF-4745-8BD5-E05781AB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2CB6-3F5C-42E8-9850-7AA0750C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09BED-E9C4-41D1-9722-E6592851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B5D2-B075-40FA-B564-348A9866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3823-42E1-4B82-A9F4-08FEE63E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C3B8A-AE0C-4645-A400-92476798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E3ED-8896-4DA7-B057-3BCC5565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0E22-0934-47E3-994B-A15987D2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FCE6-B2B8-4C55-B6B2-9E227BB4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51460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7E85-58BC-47D3-A5C1-B1341EEF90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514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514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4771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1. Принципы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840" cy="2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CCE7-56A4-4275-B4DE-3068DAEA99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zt.ru/img/20070109213354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audio" Target="../media/push.wav"/><Relationship Id="rId4" Type="http://schemas.openxmlformats.org/officeDocument/2006/relationships/audio" Target="../media/whoosh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лава 3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Спрос, предложение и рыночное равновес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52388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2007010921335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3124080"/>
            <a:ext cx="373356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изши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ормальные»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усы и предпочтения потреби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заимозаменяемы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полняющ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е изменения доходов и це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менение числа покупател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едложе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родавцы готовы продать на рынке 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на предложени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едложения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едложение: изменение цен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Line 4"/>
          <p:cNvSpPr/>
          <p:nvPr/>
        </p:nvSpPr>
        <p:spPr>
          <a:xfrm>
            <a:off x="2209680" y="4724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4724280" y="472428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99" name="Freeform 8"/>
          <p:cNvSpPr/>
          <p:nvPr/>
        </p:nvSpPr>
        <p:spPr>
          <a:xfrm rot="16468200">
            <a:off x="2740680" y="1373400"/>
            <a:ext cx="3963960" cy="381024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810240"/>
              <a:gd name="textAreaBottom" fmla="*/ 3810600 h 381024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0" name="AutoShape 9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209680" y="1676520"/>
            <a:ext cx="4343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6705720" y="167652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5334120" y="35812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17220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6629400" y="16002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2362320" y="45720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0" name="Line 33"/>
          <p:cNvSpPr/>
          <p:nvPr/>
        </p:nvSpPr>
        <p:spPr>
          <a:xfrm>
            <a:off x="6705720" y="1752480"/>
            <a:ext cx="0" cy="3886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1" name="Line 34"/>
          <p:cNvSpPr/>
          <p:nvPr/>
        </p:nvSpPr>
        <p:spPr>
          <a:xfrm flipV="1">
            <a:off x="2362320" y="1676520"/>
            <a:ext cx="4343400" cy="15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2" name="Line 35"/>
          <p:cNvSpPr/>
          <p:nvPr/>
        </p:nvSpPr>
        <p:spPr>
          <a:xfrm>
            <a:off x="5715000" y="3962520"/>
            <a:ext cx="0" cy="16761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3" name="Line 36"/>
          <p:cNvSpPr/>
          <p:nvPr/>
        </p:nvSpPr>
        <p:spPr>
          <a:xfrm>
            <a:off x="2286000" y="3886200"/>
            <a:ext cx="3338640" cy="14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4" name="Line 37"/>
          <p:cNvSpPr/>
          <p:nvPr/>
        </p:nvSpPr>
        <p:spPr>
          <a:xfrm>
            <a:off x="2195640" y="4754520"/>
            <a:ext cx="2485800" cy="18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5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предложения находится в прямой зависимости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предлож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pply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редложения находится в прям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выш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 — ниже предло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24" name="Object 3"/>
          <p:cNvGraphicFramePr/>
          <p:nvPr/>
        </p:nvGraphicFramePr>
        <p:xfrm>
          <a:off x="1676520" y="914400"/>
          <a:ext cx="5790960" cy="54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9096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6"/>
          <p:cNvSpPr/>
          <p:nvPr/>
        </p:nvSpPr>
        <p:spPr>
          <a:xfrm>
            <a:off x="5715000" y="38862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7" name="Line 7"/>
          <p:cNvSpPr/>
          <p:nvPr/>
        </p:nvSpPr>
        <p:spPr>
          <a:xfrm>
            <a:off x="2286000" y="38862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8" name="Freeform 8"/>
          <p:cNvSpPr/>
          <p:nvPr/>
        </p:nvSpPr>
        <p:spPr>
          <a:xfrm rot="16468200">
            <a:off x="2704320" y="1409760"/>
            <a:ext cx="3963960" cy="3733560"/>
          </a:xfrm>
          <a:custGeom>
            <a:avLst/>
            <a:gdLst>
              <a:gd name="textAreaLeft" fmla="*/ 0 w 3963960"/>
              <a:gd name="textAreaRight" fmla="*/ 3964320 w 3963960"/>
              <a:gd name="textAreaTop" fmla="*/ 0 h 3733560"/>
              <a:gd name="textAreaBottom" fmla="*/ 3733920 h 37335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5638680" y="38098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5486400" y="3429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59436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4" name="Line 28"/>
          <p:cNvSpPr/>
          <p:nvPr/>
        </p:nvSpPr>
        <p:spPr>
          <a:xfrm>
            <a:off x="6705720" y="396252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6400800" y="3429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6629400" y="1981080"/>
            <a:ext cx="68580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6666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7" name="AutoShape 18"/>
          <p:cNvSpPr/>
          <p:nvPr/>
        </p:nvSpPr>
        <p:spPr>
          <a:xfrm>
            <a:off x="6629400" y="38098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8" name="Line 33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39" name="Line 34"/>
          <p:cNvSpPr/>
          <p:nvPr/>
        </p:nvSpPr>
        <p:spPr>
          <a:xfrm>
            <a:off x="5791320" y="388620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0" name="AutoShape 35"/>
          <p:cNvSpPr/>
          <p:nvPr/>
        </p:nvSpPr>
        <p:spPr>
          <a:xfrm>
            <a:off x="2514600" y="2666880"/>
            <a:ext cx="2362320" cy="381240"/>
          </a:xfrm>
          <a:prstGeom prst="borderCallout1">
            <a:avLst>
              <a:gd name="adj1" fmla="val 18750"/>
              <a:gd name="adj2" fmla="val -8333"/>
              <a:gd name="adj3" fmla="val 320000"/>
              <a:gd name="adj4" fmla="val 154837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предложения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022E-016 2.22222E-006 L 0.1125 2.22222E-006 E">
                                      <p:cBhvr>
                                        <p:cTn id="205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3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ост объемов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лучшение условий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чное равновес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Freeform 6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601992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2819520" y="1447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4" name="Freeform 18"/>
          <p:cNvSpPr/>
          <p:nvPr/>
        </p:nvSpPr>
        <p:spPr>
          <a:xfrm rot="16468200">
            <a:off x="2646360" y="1347480"/>
            <a:ext cx="3846600" cy="4113000"/>
          </a:xfrm>
          <a:custGeom>
            <a:avLst/>
            <a:gdLst>
              <a:gd name="textAreaLeft" fmla="*/ 0 w 3846600"/>
              <a:gd name="textAreaRight" fmla="*/ 3846960 w 3846600"/>
              <a:gd name="textAreaTop" fmla="*/ 0 h 4113000"/>
              <a:gd name="textAreaBottom" fmla="*/ 4113360 h 411300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4602240" y="466236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29718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7" name="AutoShape 20"/>
          <p:cNvSpPr/>
          <p:nvPr/>
        </p:nvSpPr>
        <p:spPr>
          <a:xfrm>
            <a:off x="60958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8" name="AutoShape 22"/>
          <p:cNvSpPr/>
          <p:nvPr/>
        </p:nvSpPr>
        <p:spPr>
          <a:xfrm>
            <a:off x="6568920" y="507528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59" name="Text Box 24"/>
          <p:cNvSpPr/>
          <p:nvPr/>
        </p:nvSpPr>
        <p:spPr>
          <a:xfrm>
            <a:off x="6400800" y="4724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0" name="AutoShape 25"/>
          <p:cNvSpPr/>
          <p:nvPr/>
        </p:nvSpPr>
        <p:spPr>
          <a:xfrm rot="16200000">
            <a:off x="4572000" y="1828440"/>
            <a:ext cx="228600" cy="2667240"/>
          </a:xfrm>
          <a:custGeom>
            <a:avLst/>
            <a:gdLst>
              <a:gd name="textAreaLeft" fmla="*/ 0 w 228600"/>
              <a:gd name="textAreaRight" fmla="*/ 82440 w 2286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1" name="Text Box 28"/>
          <p:cNvSpPr/>
          <p:nvPr/>
        </p:nvSpPr>
        <p:spPr>
          <a:xfrm>
            <a:off x="4191120" y="4952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фицит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7391520" y="571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3" name="Text Box 30"/>
          <p:cNvSpPr/>
          <p:nvPr/>
        </p:nvSpPr>
        <p:spPr>
          <a:xfrm>
            <a:off x="6095880" y="160020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2895480" y="1600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4692600" y="4815000"/>
            <a:ext cx="0" cy="76176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7" name="AutoShape 35"/>
          <p:cNvSpPr/>
          <p:nvPr/>
        </p:nvSpPr>
        <p:spPr>
          <a:xfrm>
            <a:off x="5791320" y="4305240"/>
            <a:ext cx="2666880" cy="343080"/>
          </a:xfrm>
          <a:prstGeom prst="borderCallout1">
            <a:avLst>
              <a:gd name="adj1" fmla="val 18750"/>
              <a:gd name="adj2" fmla="val -8333"/>
              <a:gd name="adj3" fmla="val 118055"/>
              <a:gd name="adj4" fmla="val -35416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ыночное равновесие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8" name="Line 36"/>
          <p:cNvSpPr/>
          <p:nvPr/>
        </p:nvSpPr>
        <p:spPr>
          <a:xfrm>
            <a:off x="2255760" y="3398760"/>
            <a:ext cx="3886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0" name="Line 37"/>
          <p:cNvSpPr/>
          <p:nvPr/>
        </p:nvSpPr>
        <p:spPr>
          <a:xfrm>
            <a:off x="3216240" y="346068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1" name="Line 38"/>
          <p:cNvSpPr/>
          <p:nvPr/>
        </p:nvSpPr>
        <p:spPr>
          <a:xfrm>
            <a:off x="6156360" y="3444840"/>
            <a:ext cx="0" cy="21337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4038480" y="2971800"/>
            <a:ext cx="1219320" cy="6426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злишек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3" name="Line 40"/>
          <p:cNvSpPr/>
          <p:nvPr/>
        </p:nvSpPr>
        <p:spPr>
          <a:xfrm>
            <a:off x="2255760" y="5149800"/>
            <a:ext cx="42814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4" name="AutoShape 21"/>
          <p:cNvSpPr/>
          <p:nvPr/>
        </p:nvSpPr>
        <p:spPr>
          <a:xfrm>
            <a:off x="3627360" y="50292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5" name="Text Box 41"/>
          <p:cNvSpPr/>
          <p:nvPr/>
        </p:nvSpPr>
        <p:spPr>
          <a:xfrm>
            <a:off x="4419720" y="5181480"/>
            <a:ext cx="1218960" cy="3682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ефицит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3276720" y="3429000"/>
            <a:ext cx="2819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7" name="Line 43"/>
          <p:cNvSpPr/>
          <p:nvPr/>
        </p:nvSpPr>
        <p:spPr>
          <a:xfrm>
            <a:off x="3733920" y="5135400"/>
            <a:ext cx="2865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8" name="Line 44"/>
          <p:cNvSpPr/>
          <p:nvPr/>
        </p:nvSpPr>
        <p:spPr>
          <a:xfrm flipH="1">
            <a:off x="3701520" y="5151600"/>
            <a:ext cx="1800" cy="487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79" name="Line 45"/>
          <p:cNvSpPr/>
          <p:nvPr/>
        </p:nvSpPr>
        <p:spPr>
          <a:xfrm>
            <a:off x="6629400" y="5181480"/>
            <a:ext cx="0" cy="4572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autoRev="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8" dur="2000" fill="hold"/>
                                        <p:tgtEl>
                                          <p:spTgt spid="25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9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Графики спроса и предложен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женкин Флемин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8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1833-1885)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глийский инженер и экономист, впервые представил спрос и предложени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иде пересекающихся графиков. Он же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л канатные дороги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фоне эскиза такой дороги он показан на рисунк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4" descr="jenkin2"/>
          <p:cNvPicPr/>
          <p:nvPr/>
        </p:nvPicPr>
        <p:blipFill>
          <a:blip r:embed="rId1"/>
          <a:stretch/>
        </p:blipFill>
        <p:spPr>
          <a:xfrm>
            <a:off x="5257800" y="1447920"/>
            <a:ext cx="3406680" cy="47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сфера  устойчивого обмена эквивалентными ценностям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Сфер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определенное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устойчивого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обмена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фера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мена,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е производ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мен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эквивалентным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ностями, ценность которых рав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рыночного равновесия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Freeform 4"/>
          <p:cNvSpPr/>
          <p:nvPr/>
        </p:nvSpPr>
        <p:spPr>
          <a:xfrm>
            <a:off x="2743200" y="1676520"/>
            <a:ext cx="3962520" cy="3504960"/>
          </a:xfrm>
          <a:custGeom>
            <a:avLst/>
            <a:gdLst>
              <a:gd name="textAreaLeft" fmla="*/ 0 w 3962520"/>
              <a:gd name="textAreaRight" fmla="*/ 3962880 w 3962520"/>
              <a:gd name="textAreaTop" fmla="*/ 0 h 3504960"/>
              <a:gd name="textAreaBottom" fmla="*/ 3505320 h 350496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4648320" y="4267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5486400" y="289548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6629400" y="1447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4" name="Freeform 12"/>
          <p:cNvSpPr/>
          <p:nvPr/>
        </p:nvSpPr>
        <p:spPr>
          <a:xfrm rot="16468200">
            <a:off x="2742120" y="1464120"/>
            <a:ext cx="3583080" cy="4038480"/>
          </a:xfrm>
          <a:custGeom>
            <a:avLst/>
            <a:gdLst>
              <a:gd name="textAreaLeft" fmla="*/ 0 w 3583080"/>
              <a:gd name="textAreaRight" fmla="*/ 3583440 w 3583080"/>
              <a:gd name="textAreaTop" fmla="*/ 0 h 4038480"/>
              <a:gd name="textAreaBottom" fmla="*/ 4038840 h 403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64832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6" name="AutoShape 15"/>
          <p:cNvSpPr/>
          <p:nvPr/>
        </p:nvSpPr>
        <p:spPr>
          <a:xfrm>
            <a:off x="6080040" y="3322800"/>
            <a:ext cx="15264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2179800" y="46483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8" name="Line 37"/>
          <p:cNvSpPr/>
          <p:nvPr/>
        </p:nvSpPr>
        <p:spPr>
          <a:xfrm>
            <a:off x="2362320" y="47242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299" name="Line 38"/>
          <p:cNvSpPr/>
          <p:nvPr/>
        </p:nvSpPr>
        <p:spPr>
          <a:xfrm>
            <a:off x="4724280" y="48006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0" name="Line 39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1" name="Line 40"/>
          <p:cNvSpPr/>
          <p:nvPr/>
        </p:nvSpPr>
        <p:spPr>
          <a:xfrm>
            <a:off x="6172200" y="358128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2" name="AutoShape 43"/>
          <p:cNvSpPr/>
          <p:nvPr/>
        </p:nvSpPr>
        <p:spPr>
          <a:xfrm>
            <a:off x="2209680" y="6019920"/>
            <a:ext cx="2210040" cy="342720"/>
          </a:xfrm>
          <a:prstGeom prst="borderCallout1">
            <a:avLst>
              <a:gd name="adj1" fmla="val 18750"/>
              <a:gd name="adj2" fmla="val -8333"/>
              <a:gd name="adj3" fmla="val -122222"/>
              <a:gd name="adj4" fmla="val 110342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количеств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>
            <a:off x="304920" y="4648320"/>
            <a:ext cx="1371600" cy="342720"/>
          </a:xfrm>
          <a:prstGeom prst="borderCallout1">
            <a:avLst>
              <a:gd name="adj1" fmla="val 18750"/>
              <a:gd name="adj2" fmla="val -8333"/>
              <a:gd name="adj3" fmla="val 18981"/>
              <a:gd name="adj4" fmla="val 130208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цен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4" name="AutoShape 45"/>
          <p:cNvSpPr/>
          <p:nvPr/>
        </p:nvSpPr>
        <p:spPr>
          <a:xfrm>
            <a:off x="3962520" y="2133720"/>
            <a:ext cx="1600200" cy="342720"/>
          </a:xfrm>
          <a:prstGeom prst="borderCallout1">
            <a:avLst>
              <a:gd name="adj1" fmla="val 18750"/>
              <a:gd name="adj2" fmla="val -8333"/>
              <a:gd name="adj3" fmla="val 277777"/>
              <a:gd name="adj4" fmla="val -54263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5" name="AutoShape 46"/>
          <p:cNvSpPr/>
          <p:nvPr/>
        </p:nvSpPr>
        <p:spPr>
          <a:xfrm>
            <a:off x="4587840" y="548640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6" name="Text Box 47"/>
          <p:cNvSpPr/>
          <p:nvPr/>
        </p:nvSpPr>
        <p:spPr>
          <a:xfrm>
            <a:off x="6172200" y="160020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7" name="Text Box 48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8" name="Line 49"/>
          <p:cNvSpPr/>
          <p:nvPr/>
        </p:nvSpPr>
        <p:spPr>
          <a:xfrm>
            <a:off x="2332080" y="4724280"/>
            <a:ext cx="231624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09" name="Line 50"/>
          <p:cNvSpPr/>
          <p:nvPr/>
        </p:nvSpPr>
        <p:spPr>
          <a:xfrm>
            <a:off x="2286000" y="3429000"/>
            <a:ext cx="38098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0" name="Line 51"/>
          <p:cNvSpPr/>
          <p:nvPr/>
        </p:nvSpPr>
        <p:spPr>
          <a:xfrm>
            <a:off x="4694400" y="4768920"/>
            <a:ext cx="0" cy="73332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1" name="Line 52"/>
          <p:cNvSpPr/>
          <p:nvPr/>
        </p:nvSpPr>
        <p:spPr>
          <a:xfrm>
            <a:off x="6172200" y="3505320"/>
            <a:ext cx="0" cy="198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2" name="AutoShape 53"/>
          <p:cNvSpPr/>
          <p:nvPr/>
        </p:nvSpPr>
        <p:spPr>
          <a:xfrm>
            <a:off x="6858000" y="4800600"/>
            <a:ext cx="1981080" cy="990720"/>
          </a:xfrm>
          <a:prstGeom prst="borderCallout1">
            <a:avLst>
              <a:gd name="adj1" fmla="val 18750"/>
              <a:gd name="adj2" fmla="val -8333"/>
              <a:gd name="adj3" fmla="val -7851"/>
              <a:gd name="adj4" fmla="val -97675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вновесная цен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3" name="AutoShape 54"/>
          <p:cNvSpPr/>
          <p:nvPr/>
        </p:nvSpPr>
        <p:spPr>
          <a:xfrm>
            <a:off x="6858000" y="3124080"/>
            <a:ext cx="1905120" cy="1295640"/>
          </a:xfrm>
          <a:prstGeom prst="borderCallout1">
            <a:avLst>
              <a:gd name="adj1" fmla="val 18750"/>
              <a:gd name="adj2" fmla="val -8333"/>
              <a:gd name="adj3" fmla="val 20587"/>
              <a:gd name="adj4" fmla="val -32000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Новая равновесная цен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 количество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4335E-006 L 0.32084 -0.00277 E">
                                      <p:cBhvr>
                                        <p:cTn id="363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0.31666 -1.96532E-006 E">
                                      <p:cBhvr>
                                        <p:cTn id="36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68208E-006 L -3.33333E-006 -0.19145 E">
                                      <p:cBhvr>
                                        <p:cTn id="372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-0.00503 -0.18867 E">
                                      <p:cBhvr>
                                        <p:cTn id="374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4.10405E-006 L 0.1625 -0.00277 E">
                                      <p:cBhvr>
                                        <p:cTn id="38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4104E-006 L 0.16493 -3.4104E-006 E">
                                      <p:cBhvr>
                                        <p:cTn id="383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— сфера свободног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устойчивого обмена равноценными товарами, услугами и факторам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х производств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ынок возникает в результате разделения труда — специализаци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производстве определенных товаров и услуг, которыми производители обмениваются для удовлетворения своих потре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— количество товара, которое продавцы готовы продать на рынке по определенной цен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прос находи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в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братной зависимости от цены товара: выше цена — ниже спрос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ложение — количество товара, которое поставляется </a:t>
            </a:r>
            <a:r>
              <a:rPr b="0" lang="ru-RU" sz="2400" spc="-1" strike="noStrike">
                <a:solidFill>
                  <a:srgbClr val="ffffff"/>
                </a:solidFill>
                <a:latin typeface="Arial Unicode MS"/>
              </a:rPr>
              <a:t>н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рынок при определенной цене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о находится в прямой зависимости от цены: выше цена — больше предложени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возникает, когда спрос равен предложению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ый механизм автоматически устраняет избыток и дефицит товаров и устанавливает равновесную цен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Нижний колонтитул 6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ластичность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астичность означает степень чувствительности изменений одной величины на изменение другой величины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эффициент эластичности показывает на сколько процентов изменяется спрос в ответ на однопроцентное изменение це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6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8"/>
              <p:cNvSpPr txBox="1"/>
              <p:nvPr/>
            </p:nvSpPr>
            <p:spPr>
              <a:xfrm>
                <a:off x="0" y="0"/>
                <a:ext cx="2238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Object 13"/>
              <p:cNvSpPr txBox="1"/>
              <p:nvPr/>
            </p:nvSpPr>
            <p:spPr>
              <a:xfrm>
                <a:off x="762120" y="4267080"/>
                <a:ext cx="694512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Q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ниеPв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Три варианта ценовой эластичности спроса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ластичный, когда изменение объема спроса больше изменения цен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прос единичной эластичности, когда изменения объема спроса равны изменению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эластичный спрос, когда изменение объема спроса меньше изменения це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Факторы эластичности спроса по цене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езаменимость това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чимость товара для потребител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сто товара в структуре потребл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ынок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(market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– сфера свободного и устойчивого обмена равноценными товарами, услугами и факторами их производст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прос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mand, 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) – количество товара, которое покупатели готовы приобрести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спроса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demand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спроса находится в обратной зависимости от цены: чем выше цена, тем ниже величина спроса,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едложение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ply, S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количество товара, которое продавцы готовы продать на рынке по определенной цен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Закон предложения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w of supply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) – величина предложения находится в прямой зависимости от цены: чем выше цена, тем выше предложение и наоборот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Определения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ыночное равновесие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rket equilibrium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- равенство спроса и предложения на рынке определенного товар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а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ice)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– пропорция обмена товара на деньги, если цена выражена в деньгах, или альтернативная стоимость, если цена выражена в другом това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дание «Спрос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.Выберите правильный отве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чиной увеличения спроса на роликовые коньки может быть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ожидание наступления дожд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нижение цен на подшипни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лижение летних канику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орожание апельсинового со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берите пару товаров-заменител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втомобильные покрышки и бенз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ерьевые ручки и черни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жинсы и футбо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асло и марг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ро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количество товара, которое покупатели готовы приобрести на рынк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по определенной цене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Факторы, влияющие на спрос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21932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4724280" y="2133720"/>
            <a:ext cx="32004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ценовые факторы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21932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цены при неизменности других факторов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724280" y="3048120"/>
            <a:ext cx="320040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изменение других факторов при неизменной цене–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121932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еличин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4724280" y="4495680"/>
            <a:ext cx="320040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яю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ункци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спроса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8637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37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величины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2406600" y="47052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29" name="Line 27"/>
          <p:cNvSpPr/>
          <p:nvPr/>
        </p:nvSpPr>
        <p:spPr>
          <a:xfrm>
            <a:off x="2482920" y="3409920"/>
            <a:ext cx="8380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0" name="Freeform 29"/>
          <p:cNvSpPr/>
          <p:nvPr/>
        </p:nvSpPr>
        <p:spPr>
          <a:xfrm>
            <a:off x="2895480" y="1447920"/>
            <a:ext cx="4248360" cy="3768480"/>
          </a:xfrm>
          <a:custGeom>
            <a:avLst/>
            <a:gdLst>
              <a:gd name="textAreaLeft" fmla="*/ 0 w 4248360"/>
              <a:gd name="textAreaRight" fmla="*/ 4248720 w 4248360"/>
              <a:gd name="textAreaTop" fmla="*/ 0 h 3768480"/>
              <a:gd name="textAreaBottom" fmla="*/ 3768840 h 37684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1" name="AutoShape 30"/>
          <p:cNvSpPr/>
          <p:nvPr/>
        </p:nvSpPr>
        <p:spPr>
          <a:xfrm>
            <a:off x="4786200" y="458460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2" name="AutoShape 21"/>
          <p:cNvSpPr/>
          <p:nvPr/>
        </p:nvSpPr>
        <p:spPr>
          <a:xfrm>
            <a:off x="2863800" y="158112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3" name="AutoShape 28"/>
          <p:cNvSpPr/>
          <p:nvPr/>
        </p:nvSpPr>
        <p:spPr>
          <a:xfrm>
            <a:off x="3321000" y="333360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144792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746748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6" name="Line 33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3397320" y="30290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4844880" y="4324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39" name="Freeform 47"/>
          <p:cNvSpPr/>
          <p:nvPr/>
        </p:nvSpPr>
        <p:spPr>
          <a:xfrm>
            <a:off x="3397320" y="3409920"/>
            <a:ext cx="1731960" cy="1271520"/>
          </a:xfrm>
          <a:custGeom>
            <a:avLst/>
            <a:gdLst>
              <a:gd name="textAreaLeft" fmla="*/ 0 w 1731960"/>
              <a:gd name="textAreaRight" fmla="*/ 1732320 w 173196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1091" h="801">
                <a:moveTo>
                  <a:pt x="0" y="0"/>
                </a:moveTo>
                <a:cubicBezTo>
                  <a:pt x="8" y="42"/>
                  <a:pt x="17" y="83"/>
                  <a:pt x="25" y="125"/>
                </a:cubicBezTo>
                <a:cubicBezTo>
                  <a:pt x="28" y="138"/>
                  <a:pt x="29" y="153"/>
                  <a:pt x="37" y="163"/>
                </a:cubicBezTo>
                <a:cubicBezTo>
                  <a:pt x="46" y="175"/>
                  <a:pt x="62" y="180"/>
                  <a:pt x="75" y="188"/>
                </a:cubicBezTo>
                <a:cubicBezTo>
                  <a:pt x="83" y="200"/>
                  <a:pt x="89" y="215"/>
                  <a:pt x="100" y="225"/>
                </a:cubicBezTo>
                <a:cubicBezTo>
                  <a:pt x="123" y="245"/>
                  <a:pt x="175" y="275"/>
                  <a:pt x="175" y="275"/>
                </a:cubicBezTo>
                <a:cubicBezTo>
                  <a:pt x="210" y="329"/>
                  <a:pt x="275" y="384"/>
                  <a:pt x="325" y="425"/>
                </a:cubicBezTo>
                <a:cubicBezTo>
                  <a:pt x="373" y="464"/>
                  <a:pt x="398" y="513"/>
                  <a:pt x="450" y="551"/>
                </a:cubicBezTo>
                <a:cubicBezTo>
                  <a:pt x="531" y="610"/>
                  <a:pt x="510" y="596"/>
                  <a:pt x="601" y="626"/>
                </a:cubicBezTo>
                <a:cubicBezTo>
                  <a:pt x="613" y="630"/>
                  <a:pt x="638" y="638"/>
                  <a:pt x="638" y="638"/>
                </a:cubicBezTo>
                <a:cubicBezTo>
                  <a:pt x="682" y="667"/>
                  <a:pt x="695" y="677"/>
                  <a:pt x="751" y="701"/>
                </a:cubicBezTo>
                <a:cubicBezTo>
                  <a:pt x="775" y="711"/>
                  <a:pt x="826" y="726"/>
                  <a:pt x="826" y="726"/>
                </a:cubicBezTo>
                <a:cubicBezTo>
                  <a:pt x="873" y="761"/>
                  <a:pt x="930" y="801"/>
                  <a:pt x="989" y="801"/>
                </a:cubicBezTo>
                <a:lnTo>
                  <a:pt x="1091" y="39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0" name="Text Box 49"/>
          <p:cNvSpPr/>
          <p:nvPr/>
        </p:nvSpPr>
        <p:spPr>
          <a:xfrm>
            <a:off x="6597720" y="4795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1" name="Line 52"/>
          <p:cNvSpPr/>
          <p:nvPr/>
        </p:nvSpPr>
        <p:spPr>
          <a:xfrm>
            <a:off x="2406600" y="4705200"/>
            <a:ext cx="243828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2909880" y="1735200"/>
            <a:ext cx="0" cy="38098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3" name="Line 54"/>
          <p:cNvSpPr/>
          <p:nvPr/>
        </p:nvSpPr>
        <p:spPr>
          <a:xfrm>
            <a:off x="3397320" y="3486240"/>
            <a:ext cx="0" cy="205740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4" name="Line 55"/>
          <p:cNvSpPr/>
          <p:nvPr/>
        </p:nvSpPr>
        <p:spPr>
          <a:xfrm>
            <a:off x="4857840" y="4745160"/>
            <a:ext cx="19080" cy="81108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5" name="Line 56"/>
          <p:cNvSpPr/>
          <p:nvPr/>
        </p:nvSpPr>
        <p:spPr>
          <a:xfrm>
            <a:off x="2468520" y="5148360"/>
            <a:ext cx="4343400" cy="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6" name="AutoShape 57"/>
          <p:cNvSpPr/>
          <p:nvPr/>
        </p:nvSpPr>
        <p:spPr>
          <a:xfrm>
            <a:off x="6750000" y="5086440"/>
            <a:ext cx="152280" cy="152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7" name="Line 58"/>
          <p:cNvSpPr/>
          <p:nvPr/>
        </p:nvSpPr>
        <p:spPr>
          <a:xfrm>
            <a:off x="6826320" y="5238720"/>
            <a:ext cx="0" cy="312840"/>
          </a:xfrm>
          <a:prstGeom prst="line">
            <a:avLst/>
          </a:prstGeom>
          <a:ln w="9360">
            <a:solidFill>
              <a:srgbClr val="00051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2895480" y="1447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514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акон спрос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w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f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mand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) — величина спроса находится в обратной зависимости от цен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ыше спро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иже цен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AutoShape 9"/>
          <p:cNvSpPr/>
          <p:nvPr/>
        </p:nvSpPr>
        <p:spPr>
          <a:xfrm rot="20623800">
            <a:off x="3276720" y="4800600"/>
            <a:ext cx="1600200" cy="38088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 rot="1093200">
            <a:off x="3276720" y="3581280"/>
            <a:ext cx="1600200" cy="38124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ценовые факто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ло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оходы покупат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ы на другие това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едпочт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жид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овой барь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дох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замещ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нцип убывания предельной полез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лючение из правил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ффект Гиффена(повышение цены ведет к повышению величины спрос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ижний колонтитул 5"/>
          <p:cNvSpPr/>
          <p:nvPr/>
        </p:nvSpPr>
        <p:spPr>
          <a:xfrm>
            <a:off x="3124080" y="6477120"/>
            <a:ext cx="3353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зменение функции спрос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2" name="Object 3"/>
          <p:cNvGraphicFramePr/>
          <p:nvPr/>
        </p:nvGraphicFramePr>
        <p:xfrm>
          <a:off x="1676520" y="914400"/>
          <a:ext cx="5715000" cy="53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57150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Line 10"/>
          <p:cNvSpPr/>
          <p:nvPr/>
        </p:nvSpPr>
        <p:spPr>
          <a:xfrm>
            <a:off x="3200400" y="3505320"/>
            <a:ext cx="0" cy="2133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2209680" y="34290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2743200" y="1676520"/>
            <a:ext cx="2971800" cy="31240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2496" h="2208">
                <a:moveTo>
                  <a:pt x="0" y="0"/>
                </a:moveTo>
                <a:cubicBezTo>
                  <a:pt x="40" y="392"/>
                  <a:pt x="80" y="784"/>
                  <a:pt x="288" y="1104"/>
                </a:cubicBezTo>
                <a:cubicBezTo>
                  <a:pt x="496" y="1424"/>
                  <a:pt x="880" y="1736"/>
                  <a:pt x="1248" y="1920"/>
                </a:cubicBezTo>
                <a:cubicBezTo>
                  <a:pt x="1616" y="2104"/>
                  <a:pt x="2288" y="2160"/>
                  <a:pt x="2496" y="2208"/>
                </a:cubicBezTo>
              </a:path>
            </a:pathLst>
          </a:custGeom>
          <a:noFill/>
          <a:ln w="63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7" name="AutoShape 16"/>
          <p:cNvSpPr/>
          <p:nvPr/>
        </p:nvSpPr>
        <p:spPr>
          <a:xfrm>
            <a:off x="3124080" y="3352680"/>
            <a:ext cx="15264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295280" y="1143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7391520" y="5715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0" name="Line 25"/>
          <p:cNvSpPr/>
          <p:nvPr/>
        </p:nvSpPr>
        <p:spPr>
          <a:xfrm>
            <a:off x="3276720" y="34290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4114800" y="3352680"/>
            <a:ext cx="152280" cy="15264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2" name="Line 28"/>
          <p:cNvSpPr/>
          <p:nvPr/>
        </p:nvSpPr>
        <p:spPr>
          <a:xfrm>
            <a:off x="4191120" y="35053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3733920" y="1600200"/>
            <a:ext cx="60948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r>
              <a:rPr b="1" lang="ru-RU" sz="2000" spc="-1" strike="noStrike" baseline="-25000">
                <a:solidFill>
                  <a:srgbClr val="00cc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4" name="Text Box 34"/>
          <p:cNvSpPr/>
          <p:nvPr/>
        </p:nvSpPr>
        <p:spPr>
          <a:xfrm>
            <a:off x="2743200" y="1600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5" name="Line 35"/>
          <p:cNvSpPr/>
          <p:nvPr/>
        </p:nvSpPr>
        <p:spPr>
          <a:xfrm>
            <a:off x="3306600" y="3414600"/>
            <a:ext cx="838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  <p:sp>
        <p:nvSpPr>
          <p:cNvPr id="176" name="AutoShape 38"/>
          <p:cNvSpPr/>
          <p:nvPr/>
        </p:nvSpPr>
        <p:spPr>
          <a:xfrm>
            <a:off x="4952880" y="1714680"/>
            <a:ext cx="1752840" cy="419040"/>
          </a:xfrm>
          <a:prstGeom prst="borderCallout2">
            <a:avLst>
              <a:gd name="adj1" fmla="val 18750"/>
              <a:gd name="adj2" fmla="val -8333"/>
              <a:gd name="adj3" fmla="val 27273"/>
              <a:gd name="adj4" fmla="val -36324"/>
              <a:gd name="adj5" fmla="val 390907"/>
              <a:gd name="adj6" fmla="val -69564"/>
            </a:avLst>
          </a:prstGeom>
          <a:solidFill>
            <a:srgbClr val="0099cc"/>
          </a:solidFill>
          <a:ln w="9360">
            <a:solidFill>
              <a:srgbClr val="00051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ост спроса</a:t>
            </a:r>
            <a:endParaRPr b="0" lang="en-US" sz="1800" spc="-1" strike="noStrike">
              <a:solidFill>
                <a:srgbClr val="000514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0417 3.33333E-006 E">
                                      <p:cBhvr>
                                        <p:cTn id="11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9:40:43Z</dcterms:created>
  <dc:creator/>
  <dc:description/>
  <dc:language>en-US</dc:language>
  <cp:lastModifiedBy>LEGION</cp:lastModifiedBy>
  <dcterms:modified xsi:type="dcterms:W3CDTF">2016-01-04T08:18:30Z</dcterms:modified>
  <cp:revision>115</cp:revision>
  <dc:subject/>
  <dc:title>Тема 2. Рыночная система экономики</dc:title>
</cp:coreProperties>
</file>