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drumroll.wav" ContentType="audio/x-wav"/>
  <Override PartName="/ppt/media/push.wav" ContentType="audio/x-wav"/>
  <Override PartName="/ppt/media/whoosh.wav" ContentType="audio/x-wav"/>
  <Override PartName="/ppt/media/suction.wav" ContentType="audio/x-wav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20DC-63CA-449C-AB93-FC5BEA907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0035-E7F3-4B49-B721-15DF0A39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5868-E23E-4A4B-8CDF-A88D27CF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3359-2BE5-4723-AB50-346FEBC1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B014D-7A8E-4227-B057-DE1F2505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93F2-3B19-4FE8-96FA-B475A476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B556-B1E6-45BA-951A-9AE6DF8D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783F-E99A-42FB-B7F9-0537D8A0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63E9-D2BB-4B3B-B9CE-08201BF8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82B3-1E16-440B-A5C9-210CDF31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911A-A70E-4655-98C8-CC82C945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1CA5-8F43-4253-A916-455D474B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71D20-4BC5-4068-9226-D5604586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CD68-8063-4C5D-BA05-97773526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63F3-BE89-45A4-9EF4-185C3F0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452F-7C43-47D8-925E-F5EA625B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61FB-06CB-44BE-8D86-22CF1438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309D-A496-4ACF-BEF4-54B5947A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53C1-3CEC-411C-BB5C-BA2011AC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D5AE-38DA-48C2-8867-F5CFA467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A80F5-CA36-4344-9E91-72BC76AB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D72A-A3FB-476B-BE04-F1F64402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4E5E3-1F0A-4C58-A7EF-6C96ADEB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6C92-C8B4-45D8-8145-F4BC10B5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2625-F7FF-4990-AC57-6C06879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61BE-2D37-4921-A67C-2060941E67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BD64-45C8-4EE6-B73C-3D6754941E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zt.ru/img/2007010921335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push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а 3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прос, предложение и рыночное равновес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200701092133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124080"/>
            <a:ext cx="3733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изши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ормальны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усы и предпочтения потреб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аимозаменяемы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яющ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е изменения доходов и ц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родавцы готовы продать на рынке 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 пред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едложение: изменение це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Line 4"/>
          <p:cNvSpPr/>
          <p:nvPr/>
        </p:nvSpPr>
        <p:spPr>
          <a:xfrm>
            <a:off x="2209680" y="4724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724280" y="47242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9" name="Freeform 8"/>
          <p:cNvSpPr/>
          <p:nvPr/>
        </p:nvSpPr>
        <p:spPr>
          <a:xfrm rot="16468200">
            <a:off x="2740680" y="1373400"/>
            <a:ext cx="3963960" cy="381024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209680" y="167652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6705720" y="167652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5334120" y="3581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1722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6629400" y="1600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23623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0" name="Line 33"/>
          <p:cNvSpPr/>
          <p:nvPr/>
        </p:nvSpPr>
        <p:spPr>
          <a:xfrm>
            <a:off x="6705720" y="1752480"/>
            <a:ext cx="0" cy="3886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1" name="Line 34"/>
          <p:cNvSpPr/>
          <p:nvPr/>
        </p:nvSpPr>
        <p:spPr>
          <a:xfrm flipV="1">
            <a:off x="2362320" y="1676520"/>
            <a:ext cx="4343400" cy="15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5715000" y="3962520"/>
            <a:ext cx="0" cy="16761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2286000" y="3886200"/>
            <a:ext cx="3338640" cy="14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4" name="Line 37"/>
          <p:cNvSpPr/>
          <p:nvPr/>
        </p:nvSpPr>
        <p:spPr>
          <a:xfrm>
            <a:off x="2195640" y="4754520"/>
            <a:ext cx="2485800" cy="18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предложения находится в прямой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ложения находится в прям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 rot="16468200">
            <a:off x="2704320" y="1409760"/>
            <a:ext cx="3963960" cy="373356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486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59436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6705720" y="3962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64008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6629400" y="1981080"/>
            <a:ext cx="6858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6666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6629400" y="38098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2514600" y="2666880"/>
            <a:ext cx="2362320" cy="381240"/>
          </a:xfrm>
          <a:prstGeom prst="borderCallout1">
            <a:avLst>
              <a:gd name="adj1" fmla="val 18750"/>
              <a:gd name="adj2" fmla="val -8333"/>
              <a:gd name="adj3" fmla="val 320000"/>
              <a:gd name="adj4" fmla="val 154837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предложения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2.22222E-006 L 0.1125 2.22222E-006 E">
                                      <p:cBhvr>
                                        <p:cTn id="2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ст объемов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учшение условий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Freeform 6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60199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28195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4" name="Freeform 18"/>
          <p:cNvSpPr/>
          <p:nvPr/>
        </p:nvSpPr>
        <p:spPr>
          <a:xfrm rot="16468200">
            <a:off x="2646360" y="1347480"/>
            <a:ext cx="3846600" cy="4113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4113000"/>
              <a:gd name="textAreaBottom" fmla="*/ 4113360 h 411300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4602240" y="466236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9718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0958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6568920" y="507528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64008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rot="16200000">
            <a:off x="4572000" y="1828440"/>
            <a:ext cx="228600" cy="266724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41911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ицит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7391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6095880" y="1600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2895480" y="1600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4692600" y="4815000"/>
            <a:ext cx="0" cy="7617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7" name="AutoShape 35"/>
          <p:cNvSpPr/>
          <p:nvPr/>
        </p:nvSpPr>
        <p:spPr>
          <a:xfrm>
            <a:off x="5791320" y="4305240"/>
            <a:ext cx="2666880" cy="343080"/>
          </a:xfrm>
          <a:prstGeom prst="borderCallout1">
            <a:avLst>
              <a:gd name="adj1" fmla="val 18750"/>
              <a:gd name="adj2" fmla="val -8333"/>
              <a:gd name="adj3" fmla="val 118055"/>
              <a:gd name="adj4" fmla="val -35416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ночное равновесие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2255760" y="3398760"/>
            <a:ext cx="3886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3216240" y="346068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6156360" y="344484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4038480" y="2971800"/>
            <a:ext cx="121932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лишек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2255760" y="5149800"/>
            <a:ext cx="42814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4" name="AutoShape 21"/>
          <p:cNvSpPr/>
          <p:nvPr/>
        </p:nvSpPr>
        <p:spPr>
          <a:xfrm>
            <a:off x="3627360" y="50292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4419720" y="5181480"/>
            <a:ext cx="1218960" cy="368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фицит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276720" y="342900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3733920" y="5135400"/>
            <a:ext cx="2865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8" name="Line 44"/>
          <p:cNvSpPr/>
          <p:nvPr/>
        </p:nvSpPr>
        <p:spPr>
          <a:xfrm flipH="1">
            <a:off x="3701520" y="5151600"/>
            <a:ext cx="1800" cy="487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рафики спроса 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женкин Флемин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33-1885)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нженер и экономист, впервые представил спрос и предложе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иде пересекающихся графиков. Он ж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л канатные дор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фоне эскиза такой дороги он показан на рисун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4" descr="jenkin2"/>
          <p:cNvPicPr/>
          <p:nvPr/>
        </p:nvPicPr>
        <p:blipFill>
          <a:blip r:embed="rId1"/>
          <a:stretch/>
        </p:blipFill>
        <p:spPr>
          <a:xfrm>
            <a:off x="5257800" y="1447920"/>
            <a:ext cx="3406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сфера  устойчивого обмена эквивалентными ценностя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фер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определенное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устойчивого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мен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мен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мен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квивалент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ностями, ценность которых ра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рыночного равновес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Freeform 4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548640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4" name="Freeform 12"/>
          <p:cNvSpPr/>
          <p:nvPr/>
        </p:nvSpPr>
        <p:spPr>
          <a:xfrm rot="16468200">
            <a:off x="2742120" y="1464120"/>
            <a:ext cx="3583080" cy="40384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080040" y="3322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217980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8" name="Line 37"/>
          <p:cNvSpPr/>
          <p:nvPr/>
        </p:nvSpPr>
        <p:spPr>
          <a:xfrm>
            <a:off x="236232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0" name="Line 39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1" name="Line 40"/>
          <p:cNvSpPr/>
          <p:nvPr/>
        </p:nvSpPr>
        <p:spPr>
          <a:xfrm>
            <a:off x="6172200" y="35812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2" name="AutoShape 43"/>
          <p:cNvSpPr/>
          <p:nvPr/>
        </p:nvSpPr>
        <p:spPr>
          <a:xfrm>
            <a:off x="2209680" y="6019920"/>
            <a:ext cx="2210040" cy="342720"/>
          </a:xfrm>
          <a:prstGeom prst="borderCallout1">
            <a:avLst>
              <a:gd name="adj1" fmla="val 18750"/>
              <a:gd name="adj2" fmla="val -8333"/>
              <a:gd name="adj3" fmla="val -122222"/>
              <a:gd name="adj4" fmla="val 11034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количеств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>
            <a:off x="304920" y="4648320"/>
            <a:ext cx="1371600" cy="342720"/>
          </a:xfrm>
          <a:prstGeom prst="borderCallout1">
            <a:avLst>
              <a:gd name="adj1" fmla="val 18750"/>
              <a:gd name="adj2" fmla="val -8333"/>
              <a:gd name="adj3" fmla="val 18981"/>
              <a:gd name="adj4" fmla="val 130208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цен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4" name="AutoShape 45"/>
          <p:cNvSpPr/>
          <p:nvPr/>
        </p:nvSpPr>
        <p:spPr>
          <a:xfrm>
            <a:off x="3962520" y="2133720"/>
            <a:ext cx="1600200" cy="342720"/>
          </a:xfrm>
          <a:prstGeom prst="borderCallout1">
            <a:avLst>
              <a:gd name="adj1" fmla="val 18750"/>
              <a:gd name="adj2" fmla="val -8333"/>
              <a:gd name="adj3" fmla="val 277777"/>
              <a:gd name="adj4" fmla="val -54263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5" name="AutoShape 46"/>
          <p:cNvSpPr/>
          <p:nvPr/>
        </p:nvSpPr>
        <p:spPr>
          <a:xfrm>
            <a:off x="4587840" y="54864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61722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9" name="Line 50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0" name="Line 51"/>
          <p:cNvSpPr/>
          <p:nvPr/>
        </p:nvSpPr>
        <p:spPr>
          <a:xfrm>
            <a:off x="4694400" y="4768920"/>
            <a:ext cx="0" cy="7333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6172200" y="3505320"/>
            <a:ext cx="0" cy="198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2" name="AutoShape 53"/>
          <p:cNvSpPr/>
          <p:nvPr/>
        </p:nvSpPr>
        <p:spPr>
          <a:xfrm>
            <a:off x="6858000" y="4800600"/>
            <a:ext cx="1981080" cy="990720"/>
          </a:xfrm>
          <a:prstGeom prst="borderCallout1">
            <a:avLst>
              <a:gd name="adj1" fmla="val 18750"/>
              <a:gd name="adj2" fmla="val -8333"/>
              <a:gd name="adj3" fmla="val -7851"/>
              <a:gd name="adj4" fmla="val -97675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вновесная цен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3" name="AutoShape 54"/>
          <p:cNvSpPr/>
          <p:nvPr/>
        </p:nvSpPr>
        <p:spPr>
          <a:xfrm>
            <a:off x="6858000" y="3124080"/>
            <a:ext cx="1905120" cy="1295640"/>
          </a:xfrm>
          <a:prstGeom prst="borderCallout1">
            <a:avLst>
              <a:gd name="adj1" fmla="val 18750"/>
              <a:gd name="adj2" fmla="val -8333"/>
              <a:gd name="adj3" fmla="val 20587"/>
              <a:gd name="adj4" fmla="val -3200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вая равновесная це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L 0.32084 -0.00277 E">
                                      <p:cBhvr>
                                        <p:cTn id="36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31666 -1.96532E-006 E">
                                      <p:cBhvr>
                                        <p:cTn id="36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-3.33333E-006 -0.19145 E">
                                      <p:cBhvr>
                                        <p:cTn id="37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0.00503 -0.18867 E">
                                      <p:cBhvr>
                                        <p:cTn id="37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10405E-006 L 0.1625 -0.00277 E">
                                      <p:cBhvr>
                                        <p:cTn id="38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104E-006 L 0.16493 -3.4104E-006 E">
                                      <p:cBhvr>
                                        <p:cTn id="38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— сфера свободн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устойчивого обмена равноценными товарами, услугами и фактор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производ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возникает в результате разделения труда — специализаци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находи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братной зависимости от цены товара: выше цена — ниже спро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ложение — количество товара, которое поставляе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рынок при определенной цен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о находится в прямой зависимости от цены: выше цена — больше предлож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возникает, когда спрос равен предложени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6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762120" y="4267080"/>
                <a:ext cx="69451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ри варианта ценовой эластичности спрос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ластичный, когда изменение объема спроса больше изменения цен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рос единичной эластичности, когда изменения объема спроса равны изменению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эластичный спрос, когда изменение объема спроса меньше изменения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Факторы эластичности спроса по це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менимость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ь товара для потребите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сто товара в структуре потреб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ынок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market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сфера свободного и устойчивого обмена равноценными товарами, услугами и факторами их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прос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mand, 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) – количество товара, которое покупатели готовы приобрести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спроса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deman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ложение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y, 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количество товара, которое продавцы готовы продать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предложения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supply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предложения находится в прямой зависимости от цены: чем выше цена, тем выше предложение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equilibrium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авенство спроса и предложения на рынке определенного това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ние «Спрос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Выберите 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ой увеличения спроса на роликовые коньки может быт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ожидание наступления дожд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ижение цен на подшип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лижение летних канику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орожание апельсинового с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берите пару товаров-заменител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мобильные покрышки и бенз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ьевые ручки и черни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инсы и футбо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ло и марг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окупатели готовы приобрести на рын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спро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8637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величины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406600" y="4705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2482920" y="3409920"/>
            <a:ext cx="8380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0" name="Freeform 29"/>
          <p:cNvSpPr/>
          <p:nvPr/>
        </p:nvSpPr>
        <p:spPr>
          <a:xfrm>
            <a:off x="2895480" y="1447920"/>
            <a:ext cx="4248360" cy="37684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3768480"/>
              <a:gd name="textAreaBottom" fmla="*/ 3768840 h 376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4786200" y="458460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2863800" y="15811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3" name="AutoShape 28"/>
          <p:cNvSpPr/>
          <p:nvPr/>
        </p:nvSpPr>
        <p:spPr>
          <a:xfrm>
            <a:off x="3321000" y="333360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1447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7467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3397320" y="30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4844880" y="4324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9" name="Freeform 47"/>
          <p:cNvSpPr/>
          <p:nvPr/>
        </p:nvSpPr>
        <p:spPr>
          <a:xfrm>
            <a:off x="3397320" y="3409920"/>
            <a:ext cx="1731960" cy="12715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091" h="801">
                <a:moveTo>
                  <a:pt x="0" y="0"/>
                </a:moveTo>
                <a:cubicBezTo>
                  <a:pt x="8" y="42"/>
                  <a:pt x="17" y="83"/>
                  <a:pt x="25" y="125"/>
                </a:cubicBezTo>
                <a:cubicBezTo>
                  <a:pt x="28" y="138"/>
                  <a:pt x="29" y="153"/>
                  <a:pt x="37" y="163"/>
                </a:cubicBezTo>
                <a:cubicBezTo>
                  <a:pt x="46" y="175"/>
                  <a:pt x="62" y="180"/>
                  <a:pt x="75" y="188"/>
                </a:cubicBezTo>
                <a:cubicBezTo>
                  <a:pt x="83" y="200"/>
                  <a:pt x="89" y="215"/>
                  <a:pt x="100" y="225"/>
                </a:cubicBezTo>
                <a:cubicBezTo>
                  <a:pt x="123" y="245"/>
                  <a:pt x="175" y="275"/>
                  <a:pt x="175" y="275"/>
                </a:cubicBezTo>
                <a:cubicBezTo>
                  <a:pt x="210" y="329"/>
                  <a:pt x="275" y="384"/>
                  <a:pt x="325" y="425"/>
                </a:cubicBezTo>
                <a:cubicBezTo>
                  <a:pt x="373" y="464"/>
                  <a:pt x="398" y="513"/>
                  <a:pt x="450" y="551"/>
                </a:cubicBezTo>
                <a:cubicBezTo>
                  <a:pt x="531" y="610"/>
                  <a:pt x="510" y="596"/>
                  <a:pt x="601" y="626"/>
                </a:cubicBezTo>
                <a:cubicBezTo>
                  <a:pt x="613" y="630"/>
                  <a:pt x="638" y="638"/>
                  <a:pt x="638" y="638"/>
                </a:cubicBezTo>
                <a:cubicBezTo>
                  <a:pt x="682" y="667"/>
                  <a:pt x="695" y="677"/>
                  <a:pt x="751" y="701"/>
                </a:cubicBezTo>
                <a:cubicBezTo>
                  <a:pt x="775" y="711"/>
                  <a:pt x="826" y="726"/>
                  <a:pt x="826" y="726"/>
                </a:cubicBezTo>
                <a:cubicBezTo>
                  <a:pt x="873" y="761"/>
                  <a:pt x="930" y="801"/>
                  <a:pt x="989" y="801"/>
                </a:cubicBezTo>
                <a:lnTo>
                  <a:pt x="1091" y="3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0" name="Text Box 49"/>
          <p:cNvSpPr/>
          <p:nvPr/>
        </p:nvSpPr>
        <p:spPr>
          <a:xfrm>
            <a:off x="6597720" y="4795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1" name="Line 52"/>
          <p:cNvSpPr/>
          <p:nvPr/>
        </p:nvSpPr>
        <p:spPr>
          <a:xfrm>
            <a:off x="2406600" y="4705200"/>
            <a:ext cx="24382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2909880" y="1735200"/>
            <a:ext cx="0" cy="3809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3397320" y="3486240"/>
            <a:ext cx="0" cy="20574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4857840" y="4745160"/>
            <a:ext cx="19080" cy="81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2468520" y="5148360"/>
            <a:ext cx="43434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6" name="AutoShape 57"/>
          <p:cNvSpPr/>
          <p:nvPr/>
        </p:nvSpPr>
        <p:spPr>
          <a:xfrm>
            <a:off x="6750000" y="508644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6826320" y="5238720"/>
            <a:ext cx="0" cy="312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28954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9"/>
          <p:cNvSpPr/>
          <p:nvPr/>
        </p:nvSpPr>
        <p:spPr>
          <a:xfrm rot="20623800">
            <a:off x="3276720" y="4800600"/>
            <a:ext cx="1600200" cy="38088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1093200">
            <a:off x="3276720" y="3581280"/>
            <a:ext cx="1600200" cy="3812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ло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ходы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овой барь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дох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заме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цип убывания предельной поле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лючение из пра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Гиффена(повышение цены ведет к повышению величины спрос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Line 10"/>
          <p:cNvSpPr/>
          <p:nvPr/>
        </p:nvSpPr>
        <p:spPr>
          <a:xfrm>
            <a:off x="3200400" y="35053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2743200" y="167652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76720" y="3429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4114800" y="33526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91120" y="3505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3733920" y="1600200"/>
            <a:ext cx="609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r>
              <a:rPr b="1" lang="ru-RU" sz="2000" spc="-1" strike="noStrike" baseline="-25000">
                <a:solidFill>
                  <a:srgbClr val="00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>
            <a:off x="3306600" y="341460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6" name="AutoShape 38"/>
          <p:cNvSpPr/>
          <p:nvPr/>
        </p:nvSpPr>
        <p:spPr>
          <a:xfrm>
            <a:off x="4952880" y="1714680"/>
            <a:ext cx="1752840" cy="4190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-36324"/>
              <a:gd name="adj5" fmla="val 390907"/>
              <a:gd name="adj6" fmla="val -69564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0417 3.33333E-006 E">
                                      <p:cBhvr>
                                        <p:cTn id="11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9:40:43Z</dcterms:created>
  <dc:creator/>
  <dc:description/>
  <dc:language>en-US</dc:language>
  <cp:lastModifiedBy>LEGION</cp:lastModifiedBy>
  <dcterms:modified xsi:type="dcterms:W3CDTF">2016-01-04T08:18:30Z</dcterms:modified>
  <cp:revision>115</cp:revision>
  <dc:subject/>
  <dc:title>Тема 2. Рыночная система экономики</dc:title>
</cp:coreProperties>
</file>