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3961-9381-436F-85D7-9B803F40FE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C6CE-19F7-4908-A912-5057C159D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071F-F3A4-422F-B9F5-AD6E2EA33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2AAF-F982-4E20-A7BC-74EC1C10A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8387-2D4A-4B7A-AEAE-8885A15AE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FF4D-3ABE-413C-A3E4-AE1E697E7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BEC2-DE3D-4698-9506-2F78694C8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E11E-5F30-4E83-A3AD-BF485678F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6060-21CE-4AFB-9145-3002C6A6B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63B2-0D66-43A3-BEFD-4973D49F0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D567-361C-4C87-B57E-AEF161582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70C8-428D-4855-A2B6-0ED142063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DA1D-0BC1-4F20-8E43-75D6E5C5F6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58DC-C427-4452-A12D-68F5E3BF4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8FF0-83AF-4A9C-B174-4BE01778B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C9D9-4036-45AF-B38C-F7E8C8A11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3D18-C4AC-40F1-A55C-2180B6F0A5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2A46-7690-46D6-8269-7983A5CF3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41BD-1B16-4282-879B-C670B99C0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B78A-8783-4FB3-9D82-24A8439EA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E6B4-F3A5-4DBD-A83B-BAACEC417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5A64-CB07-45F9-AA15-3B1420618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973A-E80F-4220-9197-5058EF122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749F-DF85-48B0-AA76-1CD0B3437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C46-5EA9-4642-9E33-5831CC4F3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E498-A24F-4213-9C07-9A36494BB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797-33AE-4885-B30D-6D831D5D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947-36EF-4BCF-AF70-5ED547DD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3A2-14BB-403A-B982-CB6540A8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0FE-CBDA-4E2A-977B-04C6326D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A91-3198-469E-BF2D-9F809D4D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876-7B31-4E58-B301-C92FEA20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838-C4F2-4A68-AB2E-64FCD821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EC1-754A-4C8B-8F75-53C1E660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051-D3E7-4505-A7B8-A81191B5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4BD-1645-4482-815E-1DFF8B3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27F-B7B6-4383-8E0D-909860E3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B01-8821-439B-BCF3-8E55A6AD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C38A-140F-4C80-A12E-614CDB0EE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98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4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3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4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5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6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7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8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9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4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5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9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0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4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6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7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8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09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3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0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6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9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LEGION</cp:lastModifiedBy>
  <dcterms:modified xsi:type="dcterms:W3CDTF">2014-11-11T12:34:56Z</dcterms:modified>
  <cp:revision>95</cp:revision>
  <dc:subject>Основы философии - Тема 7</dc:subject>
  <dc:title>Античный скептицизм</dc:title>
</cp:coreProperties>
</file>