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562608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C87442F-DB3C-44EC-80D9-48A2FC242D6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913-C212-4EFE-AEAD-CDFC7EA9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577-D047-44E3-988F-B3D71BF8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89D-F6EA-4B06-BFE6-818CBFA7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6E1-381A-4112-A2C0-57B9A4F2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4BAC-972F-42C1-8475-0BF2968D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BE9B-B411-4DEA-AC96-01E24A7C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4834-A462-4B09-9B7B-B085E3AD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CAEF-0E1F-446E-ACE4-6BA13310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2C86-E0C6-4F23-B952-7E4576D6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BE28-B6B1-4A38-ADCC-6517C5E3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7CDF-F898-4030-8248-C34B3CA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6B6-6BCB-4142-837F-C170D95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87DE-A35F-4ED0-84E8-140C3B0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0EFA-74DC-4E7F-93EB-0F053E28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9555-0022-40C9-AA4F-CC1AA743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2B12-1C4F-482A-981A-FF5D31DE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65B9-1197-4C9C-8466-0245B8E6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247-66E4-49AD-B95A-226694D9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8D2-800F-4B8C-AE52-D224FC60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0DE-629D-4912-B0DA-95936365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B90-4B92-4A6A-93D8-AB135D1B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CCC-75A5-444A-9738-F3E159C3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6C8-D7D9-4094-B0E3-50D4C37A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021-75DB-4471-9377-EC287122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1030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34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036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Rectangle 1038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1039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Rectangle 1040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42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1046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1050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1051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1055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6680-0196-4E97-9AFA-1349CCF7DBDB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" name="Picture 1063" descr="G:\tmp\mf_svetlov3.gif"/>
          <p:cNvPicPr/>
          <p:nvPr/>
        </p:nvPicPr>
        <p:blipFill>
          <a:blip r:embed="rId2"/>
          <a:stretch/>
        </p:blipFill>
        <p:spPr>
          <a:xfrm>
            <a:off x="0" y="152280"/>
            <a:ext cx="4190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41FE-49ED-4F14-846A-253757BB94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1828800" y="6027840"/>
            <a:ext cx="6324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8172360" y="6027840"/>
            <a:ext cx="74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BA90-FBB5-4C56-91D7-329C3B5071FC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кция 1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рынка: оценивание функций Торнкви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334116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ле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ходы к моделированию ры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висимость спроса от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дура оценивания параметров функций Торнквиста на основе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70000" y="139356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астичность спроса по це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новая цена;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старая цен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Цена рассматривается как фактор, сокращающий располагаемый дохо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Может быть вычислена аналитически, но приводит к слишком сложному выраже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агрессивной ценовой поли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расширения сбы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033640" y="1751040"/>
          <a:ext cx="38638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751040"/>
                    <a:ext cx="3863880" cy="81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181B-3E93-4197-91DE-3DFDAA09DA06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2480" y="96948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о-математические методы и прикладные модели: Учеб. пособие для вузов / Под ред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.В. Федосее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— 2-е изд. М.: ЮНИТИ-ДАНА, 20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етрика: начальный курс /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Я.Р. Магнус, П.К. Катышев, А.А. Пересец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– 8-е изд. – М.: Акад. нар. хоз-ва при Правительстве РФ, 20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0E40-7729-4294-97F5-3BC417929CE5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1. Подходы к моделированию рын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0000" y="1359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це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амый употребительный способ исследования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дох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годны для описания только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конечного 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ные модели ры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Употребляются для моделирования спроса на промежуточную продукц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ют определить объём сбыта и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Точнее предыдущих двух подходов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BD71-5857-49AD-B21E-C664D0F13E22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ая модель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объём спроса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одного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доход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влияние на спрос факторов, не связанных с доходо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называется кривой Эн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пирическая спецификация – функция Торнкви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любом доход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втор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редметов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является ненасыщаемы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146640" y="3583080"/>
          <a:ext cx="13129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6640" y="3583080"/>
                    <a:ext cx="1312920" cy="77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2"/>
          <p:cNvGraphicFramePr/>
          <p:nvPr/>
        </p:nvGraphicFramePr>
        <p:xfrm>
          <a:off x="6681960" y="4452840"/>
          <a:ext cx="1728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4452840"/>
                    <a:ext cx="172872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Object 2"/>
          <p:cNvGraphicFramePr/>
          <p:nvPr/>
        </p:nvGraphicFramePr>
        <p:xfrm>
          <a:off x="6635880" y="5357880"/>
          <a:ext cx="1874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5357880"/>
                    <a:ext cx="187488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0529-04FD-4198-8F33-A121ED0218B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00120" y="2014560"/>
            <a:ext cx="6775560" cy="407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2081160" y="3481560"/>
          <a:ext cx="67140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3481560"/>
                    <a:ext cx="671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343320" y="2819520"/>
          <a:ext cx="99864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2819520"/>
                    <a:ext cx="998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4495680" y="4292640"/>
          <a:ext cx="9194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4292640"/>
                    <a:ext cx="919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AB84-26FC-4741-A64B-50C8484B2A16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5780160" y="560232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 rot="16200000">
            <a:off x="1038960" y="387036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54160" y="4483080"/>
            <a:ext cx="77882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аем 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линейные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cel, Statistica, SPSS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необходимо принять константу равной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возникают сложности, связанные с корреляцией между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оценки параметров становятся неустойчивыми, а </a:t>
            </a:r>
            <a:r>
              <a:rPr b="0" i="1" lang="ru-RU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тест завышает их значимост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еменные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коррелированы </a:t>
            </a:r>
            <a:r>
              <a:rPr b="0" lang="ru-RU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ки, как правило,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ильно смещены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(особенно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Метод практически не пригоден для реальных дан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187280" y="1844640"/>
          <a:ext cx="291492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2914920" cy="253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Object 2"/>
          <p:cNvGraphicFramePr/>
          <p:nvPr/>
        </p:nvGraphicFramePr>
        <p:xfrm>
          <a:off x="4967280" y="1844640"/>
          <a:ext cx="308304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844640"/>
                    <a:ext cx="3083040" cy="257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23B5-1F94-4FB4-A8CC-220334FED617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54160" y="3489480"/>
            <a:ext cx="778824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 оценивании рекомендуетс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если спрос есть всегда, то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Эта процедура особенно полезна, если наблюдений мало (в пределах 20-3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384200" y="2230560"/>
          <a:ext cx="2370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230560"/>
                    <a:ext cx="237024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2"/>
          <p:cNvGraphicFramePr/>
          <p:nvPr/>
        </p:nvGraphicFramePr>
        <p:xfrm>
          <a:off x="5103720" y="2219400"/>
          <a:ext cx="2543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2219400"/>
                    <a:ext cx="2543400" cy="124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947C-4CF7-41A3-A94A-2FA1ADCE9FB6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70000" y="157140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стратегии рекламно-информационных камп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итационное моделирование спр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 ИМ функция Торнквиста используется сместе с данными о распределении величины </a:t>
            </a: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ние всех трёх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ариа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социальный слой потребителей вашей продукции, его численность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насыщаемость спроса и потенциальный объём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5857-0D74-4E45-98C3-DE4B384B9E6F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52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зависит от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очень высокая – целесообразно принимать меры по повышению доходов потребител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 т.ч. лоббирование соответствующих законопроект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127160" y="2446200"/>
          <a:ext cx="31906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446200"/>
                    <a:ext cx="319068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2"/>
          <p:cNvGraphicFramePr/>
          <p:nvPr/>
        </p:nvGraphicFramePr>
        <p:xfrm>
          <a:off x="4784760" y="2446200"/>
          <a:ext cx="30654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446200"/>
                    <a:ext cx="306540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6E0D-2FED-4E84-886E-886CE12E30E7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04T08:18:43Z</dcterms:modified>
  <cp:revision>261</cp:revision>
  <dc:subject/>
  <dc:title>Моделирование рынка: оценивание функций Торнквиста</dc:title>
</cp:coreProperties>
</file>