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9928225" cy="6800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928800" cy="680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dt" idx="7"/>
          </p:nvPr>
        </p:nvSpPr>
        <p:spPr>
          <a:xfrm>
            <a:off x="5626080" y="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88200" rIns="8820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ftr" idx="8"/>
          </p:nvPr>
        </p:nvSpPr>
        <p:spPr>
          <a:xfrm>
            <a:off x="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 type="sldNum" idx="9"/>
          </p:nvPr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  <a:defRPr b="0" lang="ru-RU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fld id="{E3270497-E4BE-4984-9D7A-B0BE3CBEFC6F}" type="slidenum"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екция 12. Моделирование рынка: оценивание функций Торнквис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держание лекци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ходы к моделированию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висимость спроса от дох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цедура оценивания параметров функций Торнквиста на основе статистических дан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пользование функции Торнквиста в маркетинг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/1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Лекция 12. Моделирование рынка: оценивание функций Торнквист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одержание лекции: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одходы к моделированию рынк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Зависимость спроса от доход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роцедура оценивания параметров функций Торнквиста на основе статистических данных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Использование функции Торнквиста в маркетинг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.4. Использование функции Торнквиста в маркетинг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астичность спроса по цен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p – новая цена; p0 – старая це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а рассматривается как фактор, сокращающий располагаемый дох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полагается отсутствие других влияний цены на спрос, кроме как через дох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частности, отсутствие товаров, комплементарных или субституционарных данном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жет быть вычислена аналитически, но приводит к слишком сложному выражен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зволяет хоть как-то определить эластичность спроса по цене, если весь товар продаётся по одной и той же цене либо если данные о ценах продаж отсутствую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изкая Ey/p указывает на возможность агрессивной ценовой полит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сокая Ey/p указывает на возможность расширения сбы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0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2.4. Использование функции Торнквиста в маркетинг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Эластичность спроса по цен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p – новая цена; p0 – старая цен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Цена рассматривается как фактор, сокращающий располагаемый доход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редполагается отсутствие других влияний цены на спрос, кроме как через доход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 частности, отсутствие товаров, комплементарных или субституционарных данному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жет быть вычислена аналитически, но приводит к слишком сложному выражению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озволяет хоть как-то определить эластичность спроса по цене, если весь товар продаётся по одной и той же цене либо если данные о ценах продаж отсутствуют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Низкая Ey/p указывает на возможность агрессивной ценовой политик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ысокая Ey/p указывает на возможность расширения сбыт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0/1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ко-математические методы и прикладные модели: Учеб. пособие для вузов / Под ред. В.В. Федосеева. — 2-е изд. М.: ЮНИТИ-ДАНА, 2005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етрика: начальный курс / Я.Р. Магнус, П.К. Катышев, А.А. Пересецкий. – 8-е изд. – М.: Акад. нар. хоз-ва при Правительстве РФ, 200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Литератур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Экономико-математические методы и прикладные модели: Учеб. пособие для вузов / Под ред. В.В. Федосеева. — 2-е изд. М.: ЮНИТИ-ДАНА, 2005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Эконометрика: начальный курс / Я.Р. Магнус, П.К. Катышев, А.А. Пересецкий. – 8-е изд. – М.: Акад. нар. хоз-ва при Правительстве РФ, 2007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2/1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.1. Подходы к моделированию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етрическое моделирование зависимости спроса от це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мый употребительный способ исследования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зволяет определить эластичность спроса по цен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рынке в цел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сегменте клиентов данной фир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ктически непригоден при предельных случаях эластичности спроса по цене (очень высокая и очень низка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том числе для маркетинга важнейших видов сельскохозяйственной продукции продовольственного назнач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етрическое моделирование зависимости спроса от дох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зволяет определить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ъём сбыта на монопольном рын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астичность спроса по доход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астичность спроса по цене в предположении постоянного дох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годны для описания только конечного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том числе спроса на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руктурные модели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аны на математическом описании технологий производства и производственных мощностей покупа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отребляются для моделирования спроса на промежуточную продукц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зволяют определить объём сбыта и эластичность спроса по цен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чнее предыдущих двух подход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2.1. Подходы к моделированию рынк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Эконометрическое моделирование зависимости спроса от цены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амый употребительный способ исследования рынк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озволяет определить эластичность спроса по цен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на рынке в целом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 сегменте клиентов данной фирмы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рактически непригоден при предельных случаях эластичности спроса по цене (очень высокая и очень низкая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 том числе для маркетинга важнейших видов сельскохозяйственной продукции продовольственного назначения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Эконометрическое моделирование зависимости спроса от доход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озволяет определить: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Объём сбыта на монопольном рынк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Эластичность спроса по доходу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Эластичность спроса по цене в предположении постоянного доход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ригодны для описания только конечного спрос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 том числе спроса на услуг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труктурные модели рынк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Основаны на математическом описании технологий производства и производственных мощностей покупателей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Употребляются для моделирования спроса на промежуточную продукцию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озволяют определить объём сбыта и эластичность спроса по цен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Точнее предыдущих двух подходов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3/1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.2. Зависимость спроса от дох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оретическая модель: y = f (z) + 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y – объём спроса одного потребите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z – доход потребите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ε – влияние на спрос факторов, не связанных с доход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афик функции y = f (z) называется кривой Энге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мпирическая спецификация – функция Торнквис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товаров первой необходим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возникает при любом доход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имеет уровень насыщения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товаров второй необходим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возникает при доходе, превышающем b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имеет уровень насыщения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предметов роскош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возникает при доходе, превышающем b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является ненасыщаемы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2.2. Зависимость спроса от доход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Теоретическая модель: y = f (z) + 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y – объём спроса одного потребителя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z – доход потребителя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ε – влияние на спрос факторов, не связанных с доходом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График функции y = f (z) называется кривой Энгеля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Эмпирическая спецификация – функция Торнквист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Для товаров первой необходимост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прос возникает при любом доходе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и имеет уровень насыщения a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Для товаров второй необходимост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прос возникает при доходе, превышающем b,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и имеет уровень насыщения a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Для предметов роскош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прос возникает при доходе, превышающем b,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и является ненасыщаемым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4/1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.2. Зависимость спроса от дох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ход, у.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, ш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2.2. Зависимость спроса от доход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5/1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доход, у.е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прос, шт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.3. Оценивание параметров функций Торнквис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учаем линейные уравнения регресс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иваем их параметры методом наименьших квадратов (OL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Excel, Statistica, SPSS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оценивании функции Торнквиста для предметов роскоши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бходимо принять константу равной нул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никают сложности, связанные с корреляцией между z и z2: оценки параметров становятся неустойчивыми, а t-тест завышает их значим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еременные y и z коррелированы  оценки, как правило, сильно смещены (особенно c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тод практически не пригоден для реальных данн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2.3. Оценивание параметров функций Торнквист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олучаем линейные уравнения регресси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Оцениваем их параметры методом наименьших квадратов (OLS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Excel, Statistica, SPSS и др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ри оценивании функции Торнквиста для предметов роскоши: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необходимо принять константу равной нулю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озникают сложности, связанные с корреляцией между z и z2: оценки параметров становятся неустойчивыми, а t-тест завышает их значимость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еременные y и z коррелированы  оценки, как правило, сильно смещены (особенно c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етод практически не пригоден для реальных данных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6/1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.3. Оценивание параметров функций Торнквис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оценивании рекомендуетс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ять b равным минимальному известному из данных доходу, при котором возникает ненулевой с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спрос есть всегда, то нул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ять a равным максимальной наблюдаемой величине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остить выражения, как показано выше, чтобы избавиться от мультиколлинеарности и сузить интервал доверия к оценке параметра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спользоваться однофакторным регрессионным анализом, приравняв константу (свободный член) к нул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а процедура особенно полезна, если наблюдений мало (в пределах 20-3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борка обязательно должна быть репрезентативной: распределение опрошенных лиц по доходам в выборке должно соответствовать генеральной совокуп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2.3. Оценивание параметров функций Торнквист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ри оценивании рекомендуется: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ринять b равным минимальному известному из данных доходу, при котором возникает ненулевой спрос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если спрос есть всегда, то нулю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ринять a равным максимальной наблюдаемой величине спрос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упростить выражения, как показано выше, чтобы избавиться от мультиколлинеарности и сузить интервал доверия к оценке параметра c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оспользоваться однофакторным регрессионным анализом, приравняв константу (свободный член) к нулю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Эта процедура особенно полезна, если наблюдений мало (в пределах 20-30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ыборка обязательно должна быть репрезентативной: распределение опрошенных лиц по доходам в выборке должно соответствовать генеральной совокупност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7/1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.4. Использование функции Торнквиста в маркетинг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ение стратегии рекламно-информационных камп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м выше уровень дохода потенциального клиента, тем больше издержки на рекламу, способную победить в конкурентной борьбе за его вним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 помощью ф.Т. можно определить социальный слой, максимизирующий разницу между прибавкой дохода от сбыта продукции и затратами на рекламную компани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мимо ф.Т., требуется эмпирическая зависимость затрат на эффективную рекламу (в расчёте на одного потенциального клиента) от дохода потенциального клиен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итационное моделирование спро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ИМ функция Торнквиста используется сместе с данными о распределении величины 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итационное моделирование позволяет принять правильные маркетинговые решения в ожидании сокращения доходов из-за кризисов, повышения зарплат бюджетников или госслужащих, изменения налогов, выплачиваемых гражданами, и т.п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ивание всех трёх вариантов функции Торнквиста по одним и тем же данным и выбор наилучшей подгонки позволяет классифицировать продаваемый това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ить социальный слой потребителей вашей продукции, его числен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ить насыщаемость спроса и потенциальный объём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2.4. Использование функции Торнквиста в маркетинг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Определение стратегии рекламно-информационных кампаний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Чем выше уровень дохода потенциального клиента, тем больше издержки на рекламу, способную победить в конкурентной борьбе за его внимани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С помощью ф.Т. можно определить социальный слой, максимизирующий разницу между прибавкой дохода от сбыта продукции и затратами на рекламную компанию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Помимо ф.Т., требуется эмпирическая зависимость затрат на эффективную рекламу (в расчёте на одного потенциального клиента) от дохода потенциального клиент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Имитационное моделирование спрос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 ИМ функция Торнквиста используется сместе с данными о распределении величины 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Имитационное моделирование позволяет принять правильные маркетинговые решения в ожидании сокращения доходов из-за кризисов, повышения зарплат бюджетников или госслужащих, изменения налогов, выплачиваемых гражданами, и т.п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Оценивание всех трёх вариантов функции Торнквиста по одним и тем же данным и выбор наилучшей подгонки позволяет классифицировать продаваемый товар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Определить социальный слой потребителей вашей продукции, его численность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Определить насыщаемость спроса и потенциальный объём рынк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8/1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400560" cy="255096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1323720" y="3228840"/>
            <a:ext cx="7280280" cy="3060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880" bIns="478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.4. Использование функции Торнквиста в маркетинг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ластичность спроса по доход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зависит от 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низкая – можно игнорировать изменение доходов при планировании маркетинговой стратег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Если очень высокая – целесообразно принимать меры по повышению доходов потреби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т.ч. лоббирование соответствующих законопроек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/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5626080" y="6459480"/>
            <a:ext cx="430200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880" bIns="478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12.4. Использование функции Торнквиста в маркетинг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Эластичность спроса по доходу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Не зависит от a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Если низкая – можно игнорировать изменение доходов при планировании маркетинговой стратеги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Если очень высокая – целесообразно принимать меры по повышению доходов потребителей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В т.ч. лоббирование соответствующих законопроектов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Моделирование рынка: оценивание функций Торнквиста</a:t>
            </a:r>
            <a:br>
              <a:rPr sz="1300"/>
            </a:b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(с) Н.М. Светлов, 2008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9/10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55800"/>
                <a:tab algn="l" pos="1911240"/>
                <a:tab algn="l" pos="2867040"/>
                <a:tab algn="l" pos="3822840"/>
                <a:tab algn="l" pos="4778280"/>
                <a:tab algn="l" pos="5734080"/>
                <a:tab algn="l" pos="6689880"/>
                <a:tab algn="l" pos="7645320"/>
                <a:tab algn="l" pos="8601120"/>
                <a:tab algn="l" pos="9556920"/>
                <a:tab algn="l" pos="1051236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8D18-3CDE-4E79-AC74-9782A463A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F59B-B52D-4D8B-9169-C6F455B6A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A06B-B15C-4F2D-A738-4E08ABC2B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26A10-4005-46B6-89F2-7A0C0798A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489AD-63BF-4954-B999-CB50485CD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1390E-505F-4657-B440-F218AEA93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BB4BF-EC74-48EC-8CB1-4FADF7192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E4884-E8D2-49F8-B3F3-C91BB148D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6FC3F-FA63-4D10-87A2-1EAE0BE8C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A1CCF-5184-4329-81FF-B35FE2073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2552E2-F7E3-4A36-8B82-037443C11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2651-DF22-4CF9-8CBD-7ADE3F767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992B1-A592-4D34-A463-E739941B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C9EE1-6FAE-4521-9BC7-9E7B80D06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E7045-6236-4224-AA16-DEBD84870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01F62-7087-483A-8145-65FF6DCA8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23C66-AC46-4258-934D-EF546DDFF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9380D-755D-4135-8E3A-023F38F9B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B5DC-CEB9-4F43-8D78-9E556840F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15A3E-266F-4D73-B0F1-4DBE0B68A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7A81-1E61-4CC2-A595-09A9B4FFB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950F6-2E67-48B4-A060-AE2E6A977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0BC3-3807-45DD-989C-DD4FC2AB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82C82-C594-4211-A0D6-21989587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1027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bcbc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2" name="Group 1028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1029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4" name="Rectangle 1030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" name="Rectangle 1031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6" name="Rectangle 1032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" name="Rectangle 1033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" name="Rectangle 1034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" name="Rectangle 1035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" name="Rectangle 1036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1" name="Rectangle 1037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2" name="Rectangle 1038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3" name="Rectangle 1039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4" name="Rectangle 1040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5" name="Rectangle 1041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6" name="Rectangle 1042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7" name="Rectangle 1043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8" name="Rectangle 1044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9" name="Rectangle 1045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0" name="Rectangle 1046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1" name="Rectangle 1047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2" name="Rectangle 1048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3" name="Rectangle 1049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4" name="Rectangle 1050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5" name="Rectangle 1051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6" name="Rectangle 1052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7" name="Rectangle 1053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8" name="Rectangle 1054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29" name="Rectangle 1055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0" name="Rectangle 1056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31" name="Rectangle 1057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2640" y="6248520"/>
            <a:ext cx="6922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900" spc="-1" strike="noStrike">
                <a:solidFill>
                  <a:srgbClr val="5f5f5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f5f5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3E80C-C796-4768-BA18-408E5CF2BAEC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37" name="Picture 1063" descr="G:\tmp\mf_svetlov3.gif"/>
          <p:cNvPicPr/>
          <p:nvPr/>
        </p:nvPicPr>
        <p:blipFill>
          <a:blip r:embed="rId2"/>
          <a:stretch/>
        </p:blipFill>
        <p:spPr>
          <a:xfrm>
            <a:off x="0" y="152280"/>
            <a:ext cx="419040" cy="419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bcbcb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1026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5" name="Rectangle 1027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cbcbc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grpSp>
          <p:nvGrpSpPr>
            <p:cNvPr id="76" name="Group 1028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7" name="Rectangle 1029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8" name="Rectangle 1030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79" name="Rectangle 1031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0" name="Rectangle 1032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1" name="Rectangle 1033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2" name="Rectangle 1034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3" name="Rectangle 1035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4" name="Rectangle 1036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5" name="Rectangle 1037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6" name="Rectangle 1038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7" name="Rectangle 1039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8" name="Rectangle 1040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89" name="Rectangle 1041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0" name="Rectangle 1042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1" name="Rectangle 1043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2" name="Rectangle 1044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3" name="Rectangle 1045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4" name="Rectangle 1046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5" name="Rectangle 1047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6" name="Rectangle 1048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7" name="Rectangle 1049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8" name="Rectangle 1050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99" name="Rectangle 1051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0" name="Rectangle 1052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1" name="Rectangle 1053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2" name="Rectangle 1054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3" name="Rectangle 1055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4" name="Rectangle 1056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105" name="Rectangle 1057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</p:grp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9079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5"/>
          </p:nvPr>
        </p:nvSpPr>
        <p:spPr>
          <a:xfrm>
            <a:off x="2123640" y="6248520"/>
            <a:ext cx="5977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6"/>
          </p:nvPr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91A91-AA22-42BC-B68B-78D7305D0A3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Нижний колонтитул 4"/>
          <p:cNvSpPr/>
          <p:nvPr/>
        </p:nvSpPr>
        <p:spPr>
          <a:xfrm>
            <a:off x="1828800" y="6027840"/>
            <a:ext cx="632448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Номер слайда 5"/>
          <p:cNvSpPr/>
          <p:nvPr/>
        </p:nvSpPr>
        <p:spPr>
          <a:xfrm>
            <a:off x="8172360" y="6027840"/>
            <a:ext cx="74304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B535B-95A8-462B-80FA-DEA500A0F7FF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587520"/>
            <a:ext cx="7772400" cy="1103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Лекция 12.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Моделирование рынка: оценивание функций Торнквист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70000" y="3341160"/>
            <a:ext cx="7772400" cy="231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держание лекции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дходы к моделированию рынк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ависимость спроса от доход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цедура оценивания параметров функций Торнквиста на основе статистических данны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спользование функции Торнквиста в маркетинг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116000" y="156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2.4. Использование функции Торнквиста в маркетинг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170000" y="1393560"/>
            <a:ext cx="7772400" cy="49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Эластичность спроса по цене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 – новая цена; </a:t>
            </a:r>
            <a:r>
              <a:rPr b="0" i="1" lang="ru-RU" sz="15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ru-RU" sz="1500" spc="-1" strike="noStrike" baseline="-25000">
                <a:solidFill>
                  <a:srgbClr val="000000"/>
                </a:solidFill>
                <a:latin typeface="Tahoma"/>
              </a:rPr>
              <a:t>0</a:t>
            </a: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 – старая цена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Цена рассматривается как фактор, сокращающий располагаемый доход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предполагается отсутствие других влияний цены на спрос, кроме как через доход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в частности, отсутствие товаров, комплементарных или субституционарных данному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Может быть вычислена аналитически, но приводит к слишком сложному выражению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Позволяет хоть как-то определить эластичность спроса по цене, если весь товар продаётся по одной и той же цене либо если данные о ценах продаж отсутствуют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Низкая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Tahoma"/>
              </a:rPr>
              <a:t>y/p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указывает на возможность агрессивной ценовой политик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ысокая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E</a:t>
            </a:r>
            <a:r>
              <a:rPr b="0" i="1" lang="ru-RU" sz="1800" spc="-1" strike="noStrike" baseline="-25000">
                <a:solidFill>
                  <a:srgbClr val="000000"/>
                </a:solidFill>
                <a:latin typeface="Tahoma"/>
              </a:rPr>
              <a:t>y/p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указывает на возможность расширения сбыт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8" name="Object 2"/>
          <p:cNvGraphicFramePr/>
          <p:nvPr/>
        </p:nvGraphicFramePr>
        <p:xfrm>
          <a:off x="2033640" y="1751040"/>
          <a:ext cx="3863880" cy="81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3640" y="1751040"/>
                    <a:ext cx="3863880" cy="81900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20" name="Нижний колонтитул 4"/>
          <p:cNvSpPr/>
          <p:nvPr/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1" name="Номер слайда 5"/>
          <p:cNvSpPr/>
          <p:nvPr/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7D559-9F51-4DB1-AD26-EF14BDC37B5C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95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Литератур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22480" y="96948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кономико-математические методы и прикладные модели: Учеб. пособие для вузов / Под ред.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В.В. Федосеева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— 2-е изд. М.: ЮНИТИ-ДАНА, 2005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Эконометрика: начальный курс /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Я.Р. Магнус, П.К. Катышев, А.А. Пересецкий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– 8-е изд. – М.: Акад. нар. хоз-ва при Правительстве РФ, 2007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Нижний колонтитул 4"/>
          <p:cNvSpPr/>
          <p:nvPr/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Номер слайда 5"/>
          <p:cNvSpPr/>
          <p:nvPr/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7EFD0-529B-4ABD-86B1-BD79F471238C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3000" y="13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12.1. Подходы к моделированию рынк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1170000" y="1359000"/>
            <a:ext cx="7772400" cy="488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Эконометрическое моделирование зависимости спроса от цены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Самый употребительный способ исследования рынка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Позволяет определить эластичность спроса по цене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на рынке в целом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в сегменте клиентов данной фирмы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Практически непригоден при предельных случаях эластичности спроса по цене (очень высокая и очень низкая)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в том числе для маркетинга важнейших видов сельскохозяйственной продукции продовольственного назначения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Эконометрическое моделирование зависимости спроса от доход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Позволяет определить: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Объём сбыта на монопольном рынке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Эластичность спроса по доходу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Эластичность спроса по цене в предположении постоянного доход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Пригодны для описания только </a:t>
            </a:r>
            <a:r>
              <a:rPr b="0" i="1" lang="ru-RU" sz="1500" spc="-1" strike="noStrike">
                <a:solidFill>
                  <a:srgbClr val="000000"/>
                </a:solidFill>
                <a:latin typeface="Tahoma"/>
              </a:rPr>
              <a:t>конечного </a:t>
            </a: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спроса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В том числе спроса на услуг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труктурные модели рынк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Основаны на математическом описании технологий производства и производственных мощностей покупателей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Употребляются для моделирования спроса на промежуточную продукцию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Позволяют определить объём сбыта и эластичность спроса по цене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Точнее предыдущих двух подходов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Нижний колонтитул 4"/>
          <p:cNvSpPr/>
          <p:nvPr/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5" name="Номер слайда 5"/>
          <p:cNvSpPr/>
          <p:nvPr/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E971C-1CE7-473D-8FA4-BA067F14E3B7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12.2. Зависимость спроса от доход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еоретическая модель: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f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) + </a:t>
            </a:r>
            <a:r>
              <a:rPr b="0" i="1" lang="el-GR" sz="2000" spc="-1" strike="noStrike">
                <a:solidFill>
                  <a:srgbClr val="000000"/>
                </a:solidFill>
                <a:latin typeface="Tahoma"/>
              </a:rPr>
              <a:t>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 – объём спроса </a:t>
            </a:r>
            <a:r>
              <a:rPr b="0" i="1" lang="ru-RU" sz="1500" spc="-1" strike="noStrike">
                <a:solidFill>
                  <a:srgbClr val="000000"/>
                </a:solidFill>
                <a:latin typeface="Tahoma"/>
              </a:rPr>
              <a:t>одного потребителя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5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 – доход потребителя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1500" spc="-1" strike="noStrike">
                <a:solidFill>
                  <a:srgbClr val="000000"/>
                </a:solidFill>
                <a:latin typeface="Tahoma"/>
              </a:rPr>
              <a:t>ε</a:t>
            </a: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 – влияние на спрос факторов, не связанных с доходом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рафик функции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y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=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f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z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) называется кривой Энгеля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мпирическая спецификация – функция Торнквист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ля товаров первой необходимост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Спрос возникает при любом доходе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и имеет уровень насыщения </a:t>
            </a:r>
            <a:r>
              <a:rPr b="0" i="1" lang="ru-RU" sz="15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ля товаров второй необходимост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Спрос возникает при доходе, превышающем </a:t>
            </a:r>
            <a:r>
              <a:rPr b="0" i="1" lang="ru-RU" sz="15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и имеет уровень насыщения </a:t>
            </a:r>
            <a:r>
              <a:rPr b="0" i="1" lang="ru-RU" sz="15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ля предметов роскоши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Спрос возникает при доходе, превышающем </a:t>
            </a:r>
            <a:r>
              <a:rPr b="0" i="1" lang="ru-RU" sz="15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,</a:t>
            </a:r>
            <a:br>
              <a:rPr sz="1500"/>
            </a:b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и является ненасыщаемым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8" name="Object 2"/>
          <p:cNvGraphicFramePr/>
          <p:nvPr/>
        </p:nvGraphicFramePr>
        <p:xfrm>
          <a:off x="6146640" y="3583080"/>
          <a:ext cx="1312920" cy="77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6640" y="3583080"/>
                    <a:ext cx="1312920" cy="771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Object 2"/>
          <p:cNvGraphicFramePr/>
          <p:nvPr/>
        </p:nvGraphicFramePr>
        <p:xfrm>
          <a:off x="6681960" y="4452840"/>
          <a:ext cx="1728720" cy="770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71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681960" y="4452840"/>
                    <a:ext cx="1728720" cy="770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2" name="Object 2"/>
          <p:cNvGraphicFramePr/>
          <p:nvPr/>
        </p:nvGraphicFramePr>
        <p:xfrm>
          <a:off x="6635880" y="5357880"/>
          <a:ext cx="1874880" cy="770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3" name="Object 2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635880" y="5357880"/>
                    <a:ext cx="1874880" cy="770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4" name="Нижний колонтитул 4"/>
          <p:cNvSpPr/>
          <p:nvPr/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Номер слайда 5"/>
          <p:cNvSpPr/>
          <p:nvPr/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3D998-E6C0-47E9-830F-9DECCE007F93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5" descr=""/>
          <p:cNvPicPr/>
          <p:nvPr/>
        </p:nvPicPr>
        <p:blipFill>
          <a:blip r:embed="rId1"/>
          <a:stretch/>
        </p:blipFill>
        <p:spPr>
          <a:xfrm>
            <a:off x="1500120" y="2014560"/>
            <a:ext cx="6775560" cy="40752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12.2. Зависимость спроса от дохода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78" name="Object 2"/>
          <p:cNvGraphicFramePr/>
          <p:nvPr/>
        </p:nvGraphicFramePr>
        <p:xfrm>
          <a:off x="2081160" y="3481560"/>
          <a:ext cx="671400" cy="393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9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081160" y="3481560"/>
                    <a:ext cx="671400" cy="39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0" name="Object 2"/>
          <p:cNvGraphicFramePr/>
          <p:nvPr/>
        </p:nvGraphicFramePr>
        <p:xfrm>
          <a:off x="3343320" y="2819520"/>
          <a:ext cx="998640" cy="444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81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343320" y="2819520"/>
                    <a:ext cx="998640" cy="44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Object 2"/>
          <p:cNvGraphicFramePr/>
          <p:nvPr/>
        </p:nvGraphicFramePr>
        <p:xfrm>
          <a:off x="4495680" y="4292640"/>
          <a:ext cx="919440" cy="3776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83" name="Object 2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495680" y="4292640"/>
                    <a:ext cx="919440" cy="37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Нижний колонтитул 4"/>
          <p:cNvSpPr/>
          <p:nvPr/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Номер слайда 5"/>
          <p:cNvSpPr/>
          <p:nvPr/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49947-060E-43A0-B297-D155D69C796B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TextBox 12"/>
          <p:cNvSpPr/>
          <p:nvPr/>
        </p:nvSpPr>
        <p:spPr>
          <a:xfrm>
            <a:off x="5780160" y="5602320"/>
            <a:ext cx="106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оход, у.е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TextBox 13"/>
          <p:cNvSpPr/>
          <p:nvPr/>
        </p:nvSpPr>
        <p:spPr>
          <a:xfrm rot="16200000">
            <a:off x="1038960" y="3870360"/>
            <a:ext cx="1065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прос, шт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12.3. Оценивание параметров функций Торнквиста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1154160" y="4483080"/>
            <a:ext cx="7788240" cy="17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олучаем </a:t>
            </a:r>
            <a:r>
              <a:rPr b="1" i="1" lang="ru-RU" sz="1300" spc="-1" strike="noStrike">
                <a:solidFill>
                  <a:srgbClr val="000000"/>
                </a:solidFill>
                <a:latin typeface="Tahoma"/>
              </a:rPr>
              <a:t>линейные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 уравнения регресси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Оцениваем их параметры методом наименьших квадратов (OLS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75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ahoma"/>
              </a:rPr>
              <a:t>Excel, Statistica, SPSS 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и др.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ри оценивании функции Торнквиста для предметов роскоши: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75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необходимо принять константу равной нулю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75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возникают сложности, связанные с корреляцией между </a:t>
            </a:r>
            <a:r>
              <a:rPr b="0" i="1" lang="ru-RU" sz="1100" spc="-1" strike="noStrike">
                <a:solidFill>
                  <a:srgbClr val="7f7f7f"/>
                </a:solidFill>
                <a:latin typeface="Tahoma"/>
              </a:rPr>
              <a:t>z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0" i="1" lang="ru-RU" sz="1100" spc="-1" strike="noStrike">
                <a:solidFill>
                  <a:srgbClr val="7f7f7f"/>
                </a:solidFill>
                <a:latin typeface="Tahoma"/>
              </a:rPr>
              <a:t>z</a:t>
            </a:r>
            <a:r>
              <a:rPr b="0" lang="ru-RU" sz="11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: оценки параметров становятся неустойчивыми, а </a:t>
            </a:r>
            <a:r>
              <a:rPr b="0" i="1" lang="ru-RU" sz="11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-тест завышает их значимость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еременные </a:t>
            </a:r>
            <a:r>
              <a:rPr b="0" i="1" lang="ru-RU" sz="1300" spc="-1" strike="noStrike">
                <a:solidFill>
                  <a:srgbClr val="7f7f7f"/>
                </a:solidFill>
                <a:latin typeface="Tahoma"/>
              </a:rPr>
              <a:t>y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0" i="1" lang="ru-RU" sz="1300" spc="-1" strike="noStrike">
                <a:solidFill>
                  <a:srgbClr val="7f7f7f"/>
                </a:solidFill>
                <a:latin typeface="Tahoma"/>
              </a:rPr>
              <a:t>z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 коррелированы </a:t>
            </a:r>
            <a:r>
              <a:rPr b="0" lang="ru-RU" sz="13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оценки, как правило, </a:t>
            </a:r>
            <a:r>
              <a:rPr b="1" lang="ru-RU" sz="1300" spc="-1" strike="noStrike">
                <a:solidFill>
                  <a:srgbClr val="000000"/>
                </a:solidFill>
                <a:latin typeface="Tahoma"/>
              </a:rPr>
              <a:t>сильно смещены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 (особенно </a:t>
            </a:r>
            <a:r>
              <a:rPr b="0" i="1" lang="ru-RU" sz="13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275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ahoma"/>
              </a:rPr>
              <a:t>Метод практически не пригоден для реальных данных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0" name="Object 2"/>
          <p:cNvGraphicFramePr/>
          <p:nvPr/>
        </p:nvGraphicFramePr>
        <p:xfrm>
          <a:off x="1187280" y="1844640"/>
          <a:ext cx="2914920" cy="253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87280" y="1844640"/>
                    <a:ext cx="2914920" cy="25383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92" name="Object 2"/>
          <p:cNvGraphicFramePr/>
          <p:nvPr/>
        </p:nvGraphicFramePr>
        <p:xfrm>
          <a:off x="4967280" y="1844640"/>
          <a:ext cx="3083040" cy="2579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67280" y="1844640"/>
                    <a:ext cx="3083040" cy="2579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94" name="Нижний колонтитул 4"/>
          <p:cNvSpPr/>
          <p:nvPr/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Номер слайда 5"/>
          <p:cNvSpPr/>
          <p:nvPr/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D9191-ACED-4E57-BA62-F161AD0CED15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2.3. Оценивание параметров функций Торнквист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1154160" y="3489480"/>
            <a:ext cx="7788240" cy="26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При оценивании рекомендуется: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ринять </a:t>
            </a:r>
            <a:r>
              <a:rPr b="0" i="1" lang="ru-RU" sz="1300" spc="-1" strike="noStrike">
                <a:solidFill>
                  <a:srgbClr val="000000"/>
                </a:solidFill>
                <a:latin typeface="Tahoma"/>
              </a:rPr>
              <a:t>b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 равным минимальному известному из данных доходу, при котором возникает ненулевой спрос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ahoma"/>
              </a:rPr>
              <a:t>если спрос есть всегда, то нулю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ринять </a:t>
            </a:r>
            <a:r>
              <a:rPr b="0" i="1" lang="ru-RU" sz="13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 равным максимальной наблюдаемой величине спрос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упростить выражения, как показано выше, чтобы избавиться от мультиколлинеарности и сузить интервал доверия к оценке параметра </a:t>
            </a:r>
            <a:r>
              <a:rPr b="0" i="1" lang="ru-RU" sz="13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воспользоваться однофакторным регрессионным анализом, приравняв константу (свободный член) к нулю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Эта процедура особенно полезна, если наблюдений мало (в пределах 20-30)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выборка обязательно должна быть репрезентативной: распределение опрошенных лиц по доходам в выборке должно соответствовать генеральной совокупности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98" name="Object 2"/>
          <p:cNvGraphicFramePr/>
          <p:nvPr/>
        </p:nvGraphicFramePr>
        <p:xfrm>
          <a:off x="1384200" y="2230560"/>
          <a:ext cx="2370240" cy="120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84200" y="2230560"/>
                    <a:ext cx="2370240" cy="12049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00" name="Object 2"/>
          <p:cNvGraphicFramePr/>
          <p:nvPr/>
        </p:nvGraphicFramePr>
        <p:xfrm>
          <a:off x="5103720" y="2219400"/>
          <a:ext cx="2543400" cy="1243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1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3720" y="2219400"/>
                    <a:ext cx="2543400" cy="12430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02" name="Нижний колонтитул 4"/>
          <p:cNvSpPr/>
          <p:nvPr/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Номер слайда 5"/>
          <p:cNvSpPr/>
          <p:nvPr/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4C129-9BFC-44A3-AE45-5F04FC80876E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43000" y="17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12.4. Использование функции Торнквиста в маркетинге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170000" y="1571400"/>
            <a:ext cx="7772400" cy="46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пределение стратегии рекламно-информационных кампани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Чем выше уровень дохода потенциального клиента, тем больше издержки на рекламу, способную победить в конкурентной борьбе за его внимание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С помощью ф.Т. можно определить социальный слой, максимизирующий разницу между прибавкой дохода от сбыта продукции и затратами на рекламную компанию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ahoma"/>
              </a:rPr>
              <a:t>Помимо ф.Т., требуется эмпирическая зависимость затрат на эффективную рекламу (в расчёте на одного потенциального клиента) от дохода потенциального клиента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митационное моделирование спроса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В ИМ функция Торнквиста используется сместе с данными о распределении величины </a:t>
            </a:r>
            <a:r>
              <a:rPr b="0" i="1" lang="el-GR" sz="1500" spc="-1" strike="noStrike">
                <a:solidFill>
                  <a:srgbClr val="000000"/>
                </a:solidFill>
                <a:latin typeface="Tahoma"/>
              </a:rPr>
              <a:t>ε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Имитационное моделирование позволяет принять правильные маркетинговые решения в ожидании сокращения доходов из-за кризисов, повышения зарплат бюджетников или госслужащих, изменения налогов, выплачиваемых гражданами, и т.п.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ценивание всех трёх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вариантов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функции Торнквиста по одним и тем же данным и выбор наилучшей подгонки позволяет классифицировать продаваемый товар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Определить социальный слой потребителей вашей продукции, его численность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80000"/>
              </a:lnSpc>
              <a:spcBef>
                <a:spcPts val="374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Tahoma"/>
              </a:rPr>
              <a:t>Определить насыщаемость спроса и потенциальный объём рынка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Нижний колонтитул 4"/>
          <p:cNvSpPr/>
          <p:nvPr/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Номер слайда 5"/>
          <p:cNvSpPr/>
          <p:nvPr/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7CE93-B871-48CC-B2FB-B625713EA8C1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143000" y="352080"/>
            <a:ext cx="7772400" cy="69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2.4. Использование функции Торнквиста в маркетинг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Tahoma"/>
              </a:rPr>
              <a:t>Эластичность спроса по доходу</a:t>
            </a: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Не зависит от </a:t>
            </a:r>
            <a:r>
              <a:rPr b="0" i="1" lang="ru-RU" sz="22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Если низкая – можно игнорировать изменение доходов при планировании маркетинговой стратегии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969696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ahoma"/>
              </a:rPr>
              <a:t>Если очень высокая – целесообразно принимать меры по повышению доходов потребителей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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Tahoma"/>
              </a:rPr>
              <a:t>В т.ч. лоббирование соответствующих законопроектов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210" name="Object 2"/>
          <p:cNvGraphicFramePr/>
          <p:nvPr/>
        </p:nvGraphicFramePr>
        <p:xfrm>
          <a:off x="1127160" y="2446200"/>
          <a:ext cx="3190680" cy="776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27160" y="2446200"/>
                    <a:ext cx="3190680" cy="7765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212" name="Object 2"/>
          <p:cNvGraphicFramePr/>
          <p:nvPr/>
        </p:nvGraphicFramePr>
        <p:xfrm>
          <a:off x="4784760" y="2446200"/>
          <a:ext cx="3065400" cy="77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1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84760" y="2446200"/>
                    <a:ext cx="3065400" cy="7765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14" name="Нижний колонтитул 4"/>
          <p:cNvSpPr/>
          <p:nvPr/>
        </p:nvSpPr>
        <p:spPr>
          <a:xfrm>
            <a:off x="1828800" y="6248520"/>
            <a:ext cx="632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900" spc="-1" strike="noStrike">
                <a:solidFill>
                  <a:srgbClr val="5f5f5f"/>
                </a:solidFill>
                <a:latin typeface="Tahoma"/>
              </a:rPr>
              <a:t>www.sliderpoint.org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Номер слайда 5"/>
          <p:cNvSpPr/>
          <p:nvPr/>
        </p:nvSpPr>
        <p:spPr>
          <a:xfrm>
            <a:off x="8172360" y="6248520"/>
            <a:ext cx="74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61421-5015-47A2-9C27-F6DF1A5D24A0}" type="slidenum">
              <a:rPr b="0" lang="ru-RU" sz="1400" spc="-1" strike="noStrike">
                <a:solidFill>
                  <a:srgbClr val="5f5f5f"/>
                </a:solidFill>
                <a:latin typeface="Tahoma"/>
              </a:rPr>
              <a:t>&lt;number&gt;</a:t>
            </a:fld>
            <a:r>
              <a:rPr b="0" lang="ru-RU" sz="1400" spc="-1" strike="noStrike">
                <a:solidFill>
                  <a:srgbClr val="5f5f5f"/>
                </a:solidFill>
                <a:latin typeface="Tahoma"/>
              </a:rPr>
              <a:t>/</a:t>
            </a:r>
            <a:r>
              <a:rPr b="0" lang="ru-RU" sz="1200" spc="-1" strike="noStrike">
                <a:solidFill>
                  <a:srgbClr val="5f5f5f"/>
                </a:solidFill>
                <a:latin typeface="Tahoma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31T17:48:52Z</dcterms:created>
  <dc:creator>Н. Светлов</dc:creator>
  <dc:description/>
  <dc:language>en-US</dc:language>
  <cp:lastModifiedBy>LEGION</cp:lastModifiedBy>
  <dcterms:modified xsi:type="dcterms:W3CDTF">2016-01-04T08:18:43Z</dcterms:modified>
  <cp:revision>261</cp:revision>
  <dc:subject/>
  <dc:title>Моделирование рынка: оценивание функций Торнквиста</dc:title>
</cp:coreProperties>
</file>