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A283-59F8-410E-891A-8E24FA0968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A8A-688A-460A-839A-30F15D88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E47-EBE7-4ECC-A64E-E4358691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7DC-150A-4EEB-A6D9-D94642AC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0DE-E65D-442F-821E-46264D96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73D5-4780-43E7-89DD-54036D21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8AC5-DD9B-48BE-8C5C-658B3B59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6881-4C9E-4960-AAB1-7ED95AFD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478F-E7F5-47D9-AFF4-A3F971A4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DE89-592D-49F7-AE1D-334BF903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8F34-B0C9-448D-B028-4DA5ED9B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094E-1813-46A8-B4C6-51158A66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746-6996-4CC7-96B6-7FD4901D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25D7-8660-4C7F-9152-0D9567E1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9348-C507-4EB4-AE4A-93AD7A6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EFD1-09BE-4BAB-8E99-2973462F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0B51-C23F-49F6-9897-0DBA9952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6029-3D1F-4B29-817E-3E642646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999-EABD-4DEB-880D-E26DAEBE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5F2-A278-4868-98D2-AA4415BE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839-BAE9-479F-BB75-5A2832C2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57A-0F0B-4C6A-B1E3-28BCAE3F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99E-0C89-4D15-B4B6-E310F1C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3C6-7679-44CD-A18B-2F0C3FC3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532-2EBB-4E9C-B89E-7DCA9085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D20E-EB5B-4288-A6AC-EB294C8CC7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B6AE-A642-43CF-A125-2B44E5D503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5" descr="food14[1]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" descr="026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002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21M4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AG00032_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AG00033_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G00328_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AG00327_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AG00330_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AG00331_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AG00332_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AG00333_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J0076210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J0095685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J0095684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J0095723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J0095724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J0095710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J0076120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J0095678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food19[1]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5" descr="BS00004A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BS00005A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6" descr="food26[1]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food10[1]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ood20[1]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food33[1]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21M4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6" descr="BS00558A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08:18:57Z</dcterms:modified>
  <cp:revision>19</cp:revision>
  <dc:subject/>
  <dc:title>Цены товар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7000000000001024140</vt:lpwstr>
  </property>
</Properties>
</file>