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cashreg.wav" ContentType="audio/x-wav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C3BA-5E33-4278-97F1-E0D6F11708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387-4B14-4480-A2F1-97927602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4D8-EE25-402E-9BBA-D0449394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7A9-8802-468A-A505-1B790DFB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746-1468-4BF5-B331-CCC94225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B377-F4A1-4641-8385-AD3641B0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3EE7-6548-4406-8EED-6C2A25B4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2B09-D1EC-4C83-AE6F-290B9F5B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7A5A-C992-4AF2-9DE7-B5C42D8F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EC33-EF6F-4A45-BAC2-931F4CD3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FDE0-C19B-43E2-82DE-F93927A9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955A-6DFE-4A8E-ACB3-C8525E6E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9F2-2009-4A7B-95EF-03FA1AF7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4F19-0245-4312-BF84-249CE3CD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2511-710E-4F2D-B5C3-08A6498C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6EB6-6481-4B28-BD20-56914772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933C-60C9-445E-8371-41628D27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ABDF-AD71-4C4A-AEE8-6FAD8A37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4E6-8AC5-49CB-BAD3-DEDE6DC3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AE3-E541-4F87-A9E7-B1B9946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94A-33ED-43AC-A614-725ECA4E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DF2-B609-4A71-B267-7E90433A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2DC-7E40-42BB-BBAD-BF2A36E8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5C4-D607-4013-B1F6-FA44E03F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CB7-10F0-46EC-B74F-DC5CC76C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0D45-2300-4464-8CF3-61FBE9768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A2B1-2F1C-40C1-9EEE-C8EB21D5D2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stu.ru/social_field/newspaper/images/social_gazeta_3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part-aeros.com.ua/img/pneomostands/P1010034_640x479.jpg" TargetMode="External"/><Relationship Id="rId3" Type="http://schemas.openxmlformats.org/officeDocument/2006/relationships/image" Target="../media/image2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11.nnm.ru/b/e/c/7/a/a7d16f9853933ba0119c76e5bd3.jpg" TargetMode="External"/><Relationship Id="rId3" Type="http://schemas.openxmlformats.org/officeDocument/2006/relationships/image" Target="../media/image2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-fotki.yandex.ru/get/3109/nigabuga.1/0_7cf2_ddb5083d_XL" TargetMode="External"/><Relationship Id="rId3" Type="http://schemas.openxmlformats.org/officeDocument/2006/relationships/image" Target="../media/image27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hejokester.net/images/time.gif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stv-2008.ucoz.ru/_ph/12/2/506482013.jpg" TargetMode="External"/><Relationship Id="rId4" Type="http://schemas.openxmlformats.org/officeDocument/2006/relationships/image" Target="../media/image2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bcar.ru/news/en/i/2009-03-18/chrysler-minivan-canada-plant-58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ardsusers.org/mysr/images/stories/factory-smoke-pollution-g-00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inppk.ru/upload/iblock/8f5/handling_tesa_big.gif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pw.ru/zrd/meet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hyperlink" Target="http://www.theepochtimes.com/n2/images/stories/large/2010/02/22/metal-china-71905442.jpg" TargetMode="External"/><Relationship Id="rId4" Type="http://schemas.openxmlformats.org/officeDocument/2006/relationships/image" Target="../media/image11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businesspundit.com/wp-content/uploads/2010/06/nardelli.jpg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media.autoweek.nl/m/m1cyjsvb71wt_800.jpg" TargetMode="External"/><Relationship Id="rId3" Type="http://schemas.openxmlformats.org/officeDocument/2006/relationships/image" Target="../media/image13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chilenomac.files.wordpress.com/2009/05/sc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nevosoft.ru/games/screenshots/247_1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g0.liveinternet.ru/images/attach/c/0/38/606/38606352_1uzhas.jpg" TargetMode="External"/><Relationship Id="rId7" Type="http://schemas.openxmlformats.org/officeDocument/2006/relationships/image" Target="../media/image16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hyperlink" Target="http://moscvichka.ru/article/2006_42/foto/42-05-04_resize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vnnews.ru/uploads/2010-01/20/4502/8A2BFA633483-4.jpg" TargetMode="External"/><Relationship Id="rId7" Type="http://schemas.openxmlformats.org/officeDocument/2006/relationships/image" Target="../media/image20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11280" y="1193760"/>
            <a:ext cx="8137440" cy="3524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</a:t>
            </a:r>
            <a:r>
              <a:rPr b="0" lang="ru-RU" sz="3600" spc="-1" strike="noStrike">
                <a:solidFill>
                  <a:srgbClr val="2663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0" descr="Картинка 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76560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698400" cy="7873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68360" y="2060640"/>
            <a:ext cx="8280360" cy="316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ждая из последующих заметок содержит предположение об эластичности спрос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кажите, верно или нет сделано предположение об эластичности спро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360d90ada58f[1]"/>
          <p:cNvPicPr/>
          <p:nvPr/>
        </p:nvPicPr>
        <p:blipFill>
          <a:blip r:embed="rId1"/>
          <a:stretch/>
        </p:blipFill>
        <p:spPr>
          <a:xfrm>
            <a:off x="6516720" y="4365720"/>
            <a:ext cx="2208240" cy="2492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эластичность спроса"/>
          <p:cNvPicPr/>
          <p:nvPr/>
        </p:nvPicPr>
        <p:blipFill>
          <a:blip r:embed="rId2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i?id=15835423-06"/>
          <p:cNvPicPr/>
          <p:nvPr/>
        </p:nvPicPr>
        <p:blipFill>
          <a:blip r:embed="rId2"/>
          <a:stretch/>
        </p:blipFill>
        <p:spPr>
          <a:xfrm>
            <a:off x="7308720" y="5084640"/>
            <a:ext cx="1835280" cy="1785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?id=44084234-12"/>
          <p:cNvPicPr/>
          <p:nvPr/>
        </p:nvPicPr>
        <p:blipFill>
          <a:blip r:embed="rId3"/>
          <a:stretch/>
        </p:blipFill>
        <p:spPr>
          <a:xfrm>
            <a:off x="255600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Картинка 11 из 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26360" y="1341360"/>
            <a:ext cx="1817640" cy="13604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Картинка 1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5468760"/>
            <a:ext cx="1908000" cy="1389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Картинка 3 из 221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5219640"/>
            <a:ext cx="2465280" cy="1638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1523880"/>
            <a:ext cx="662436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Эластичность </a:t>
            </a:r>
            <a:br>
              <a:rPr sz="6000"/>
            </a:b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предложения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4" name="Picture 6" descr="эластичность спроса"/>
          <p:cNvPicPr/>
          <p:nvPr/>
        </p:nvPicPr>
        <p:blipFill>
          <a:blip r:embed="rId1"/>
          <a:stretch/>
        </p:blipFill>
        <p:spPr>
          <a:xfrm>
            <a:off x="3276720" y="3573360"/>
            <a:ext cx="3024000" cy="26607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50920" y="1268280"/>
            <a:ext cx="8424720" cy="360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4" descr="эластичность спроса"/>
          <p:cNvPicPr/>
          <p:nvPr/>
        </p:nvPicPr>
        <p:blipFill>
          <a:blip r:embed="rId1"/>
          <a:stretch/>
        </p:blipFill>
        <p:spPr>
          <a:xfrm>
            <a:off x="7596360" y="386064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1773360"/>
            <a:ext cx="8280360" cy="1150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не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l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2771640" y="3645000"/>
                <a:ext cx="37083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900000" y="2133720"/>
                <a:ext cx="741708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539640" y="3645000"/>
            <a:ext cx="828036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если в булочной в 12.00 нет хлеба, то в 12.01 он не появи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13" descr="Картинка 8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Картинка 10 из 109">
            <a:hlinkClick r:id="rId3"/>
          </p:cNvPr>
          <p:cNvPicPr/>
          <p:nvPr/>
        </p:nvPicPr>
        <p:blipFill>
          <a:blip r:embed="rId4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«Рабочие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согласны на снижение заработной платы и льготных выпла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Картинка 7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645000"/>
            <a:ext cx="3973320" cy="29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краткосрочной перспектив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39640" y="3645000"/>
            <a:ext cx="8280360" cy="187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 появится в течение час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29264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среднесрочной перспективе ещ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39640" y="3645000"/>
            <a:ext cx="8280360" cy="216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 следующий день выпекут больше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лительной перспективе абсолютно эластично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39640" y="3645000"/>
            <a:ext cx="8280360" cy="2232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озавод увеличит свои мощности и расширит произ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58136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Факторы эластичности пред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11280" y="981000"/>
            <a:ext cx="80643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или отсутствие резерв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i?id=6119226-10"/>
          <p:cNvPicPr/>
          <p:nvPr/>
        </p:nvPicPr>
        <p:blipFill>
          <a:blip r:embed="rId1"/>
          <a:stretch/>
        </p:blipFill>
        <p:spPr>
          <a:xfrm>
            <a:off x="611280" y="981000"/>
            <a:ext cx="1152360" cy="882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539640" y="2492280"/>
            <a:ext cx="7993080" cy="8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характер и ти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имого тов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39640" y="4221000"/>
            <a:ext cx="81378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возможности хран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начительное колич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апасов готовой проду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12" descr="daewoo_kalos2[1]"/>
          <p:cNvPicPr/>
          <p:nvPr/>
        </p:nvPicPr>
        <p:blipFill>
          <a:blip r:embed="rId2"/>
          <a:stretch/>
        </p:blipFill>
        <p:spPr>
          <a:xfrm>
            <a:off x="539640" y="249228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Картинка 9 из 64000"/>
          <p:cNvPicPr/>
          <p:nvPr/>
        </p:nvPicPr>
        <p:blipFill>
          <a:blip r:embed="rId3"/>
          <a:stretch/>
        </p:blipFill>
        <p:spPr>
          <a:xfrm>
            <a:off x="468360" y="4221000"/>
            <a:ext cx="1871640" cy="12463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 производстве модной одежды сегодня в мире преобладают небольшие, но высокомеханизированные предприятия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5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Картинка 12 из 64000"/>
          <p:cNvPicPr/>
          <p:nvPr/>
        </p:nvPicPr>
        <p:blipFill>
          <a:blip r:embed="rId2"/>
          <a:stretch/>
        </p:blipFill>
        <p:spPr>
          <a:xfrm>
            <a:off x="2484360" y="3517920"/>
            <a:ext cx="3888000" cy="31291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о всем мире при многих булочных существуют собственные пекарни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Картинка 31 из 20978"/>
          <p:cNvPicPr/>
          <p:nvPr/>
        </p:nvPicPr>
        <p:blipFill>
          <a:blip r:embed="rId2"/>
          <a:stretch/>
        </p:blipFill>
        <p:spPr>
          <a:xfrm>
            <a:off x="2556000" y="2622600"/>
            <a:ext cx="4608360" cy="33303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Задач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2. «Новая робото-технолог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увеличивае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ффективность 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ах Детройт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Картинка 65 из 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916280"/>
            <a:ext cx="1835280" cy="1099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артинка 1 из 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3789360"/>
            <a:ext cx="3907080" cy="258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360d90ada58f[1]"/>
          <p:cNvPicPr/>
          <p:nvPr/>
        </p:nvPicPr>
        <p:blipFill>
          <a:blip r:embed="rId5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3. «Национальная забастов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началас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полночь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Картинка 18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573360"/>
            <a:ext cx="4194360" cy="314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11280" y="126828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4. «Отменены квоты: вво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мпортных машин расте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11280" y="422100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5. «Цены на сталь вырос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а 10 %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daewoo_kalos2[1]"/>
          <p:cNvPicPr/>
          <p:nvPr/>
        </p:nvPicPr>
        <p:blipFill>
          <a:blip r:embed="rId1"/>
          <a:stretch/>
        </p:blipFill>
        <p:spPr>
          <a:xfrm>
            <a:off x="7164360" y="2421000"/>
            <a:ext cx="1535040" cy="102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360d90ada58f[1]"/>
          <p:cNvPicPr/>
          <p:nvPr/>
        </p:nvPicPr>
        <p:blipFill>
          <a:blip r:embed="rId2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Картинка 1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5084640"/>
            <a:ext cx="1728720" cy="1293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6. «Крупный производит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автомобилей обанкротилс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и закрыт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артинка 49 из 159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3500280"/>
            <a:ext cx="4705560" cy="3000600"/>
          </a:xfrm>
          <a:prstGeom prst="rect">
            <a:avLst/>
          </a:prstGeom>
          <a:ln w="0">
            <a:noFill/>
          </a:ln>
        </p:spPr>
      </p:pic>
      <p:sp>
        <p:nvSpPr>
          <p:cNvPr id="180" name="Line 11"/>
          <p:cNvSpPr/>
          <p:nvPr/>
        </p:nvSpPr>
        <p:spPr>
          <a:xfrm>
            <a:off x="1619280" y="3500280"/>
            <a:ext cx="4681440" cy="3024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1547640" y="3573360"/>
            <a:ext cx="4680000" cy="2880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7. «Покупатели отвергают новые модели машин: продавцы снижают цен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Картинка 1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997360"/>
            <a:ext cx="4681800" cy="3117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68360" y="1268280"/>
            <a:ext cx="8280360" cy="381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8. «Значительная нехва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отребительск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лектроники – потребите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е могут купить новые игры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 техническ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испособления 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достаточном количестве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Картинка 8 из 554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5157720"/>
            <a:ext cx="1962360" cy="147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Картинка 7 из 554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51577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Картинка 4 из 5546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5229360"/>
            <a:ext cx="1871640" cy="1380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68360" y="981000"/>
            <a:ext cx="8280360" cy="57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азовите причины изменения пред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9640" y="1773360"/>
            <a:ext cx="80647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сто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фактор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i?id=6119226-10"/>
          <p:cNvPicPr/>
          <p:nvPr/>
        </p:nvPicPr>
        <p:blipFill>
          <a:blip r:embed="rId1"/>
          <a:stretch/>
        </p:blipFill>
        <p:spPr>
          <a:xfrm>
            <a:off x="539640" y="1773360"/>
            <a:ext cx="1152720" cy="882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9640" y="2924280"/>
            <a:ext cx="799308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Изменение техноло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7" descr="i?id=31051579-03"/>
          <p:cNvPicPr/>
          <p:nvPr/>
        </p:nvPicPr>
        <p:blipFill>
          <a:blip r:embed="rId2"/>
          <a:stretch/>
        </p:blipFill>
        <p:spPr>
          <a:xfrm>
            <a:off x="539640" y="2924280"/>
            <a:ext cx="1295640" cy="855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539640" y="4149720"/>
            <a:ext cx="799308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колич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давцов на рын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68360" y="5373720"/>
            <a:ext cx="806436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возможност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лучения прибыли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изводства други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0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Картинка 2 из 847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149720"/>
            <a:ext cx="1368360" cy="10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Картинка 16 из 639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5373720"/>
            <a:ext cx="1655640" cy="13255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9:21Z</dcterms:modified>
  <cp:revision>121</cp:revision>
  <dc:subject/>
  <dc:title>Упражнение 1</dc:title>
</cp:coreProperties>
</file>