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8A52-6C15-45DC-BE32-6BF2B324E3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4DE-BF3B-4AFA-BF0F-34C99F1D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C01-FE1D-43A3-B583-D2E53794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42F-3F85-4232-8C80-F7522897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1D3-EFFB-4E69-AFE6-A6CA74C6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D24B-310F-4D54-8D7D-B824EEBF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7578-75EC-4127-A854-F3205D68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9F5D-AF2B-4379-9558-767B664E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0F85-75C6-4BD0-9AF4-785B7C16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6540-5D9D-4954-B8F4-6B2B2504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2ACA-F974-49B3-B36B-97A98D8B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EF6A-E7AD-487E-9CFF-4E7FC2E8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BE9-7A6A-493E-B90D-68000AE8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EA3E-1270-493B-AD33-E753418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5017-00EF-44E8-8052-A871217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9539-50F2-4AA0-B511-81568DC4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B2F2-CD0F-483B-B904-EE2B72F5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0605-C820-41DA-A121-C30E6EB8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C76-E607-47C1-9173-AC2E5933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F52-451B-43B5-BE20-4D285DF4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699-F27A-4140-84A0-E2D63F9B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03D-DA04-4FC5-8A4D-CAF2A7F9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E67-44BF-4957-B6DF-B5169977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B0E-6E7A-47CD-99FD-AE9856CD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342-3867-4180-BE1F-D84A8368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D001-281D-4945-A9EF-D3E55207E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01B8-E62C-4346-A811-49CDC2F885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tu.ru/social_field/newspaper/images/social_gazeta_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part-aeros.com.ua/img/pneomostands/P1010034_640x479.jpg" TargetMode="External"/><Relationship Id="rId3" Type="http://schemas.openxmlformats.org/officeDocument/2006/relationships/image" Target="../media/image2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11.nnm.ru/b/e/c/7/a/a7d16f9853933ba0119c76e5bd3.jpg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-fotki.yandex.ru/get/3109/nigabuga.1/0_7cf2_ddb5083d_XL" TargetMode="External"/><Relationship Id="rId3" Type="http://schemas.openxmlformats.org/officeDocument/2006/relationships/image" Target="../media/image27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hejokester.net/images/time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stv-2008.ucoz.ru/_ph/12/2/506482013.jpg" TargetMode="External"/><Relationship Id="rId4" Type="http://schemas.openxmlformats.org/officeDocument/2006/relationships/image" Target="../media/image2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bcar.ru/news/en/i/2009-03-18/chrysler-minivan-canada-plant-58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dsusers.org/mysr/images/stories/factory-smoke-pollution-g-00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inppk.ru/upload/iblock/8f5/handling_tesa_big.gif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pw.ru/zrd/meet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hyperlink" Target="http://www.theepochtimes.com/n2/images/stories/large/2010/02/22/metal-china-71905442.jpg" TargetMode="External"/><Relationship Id="rId4" Type="http://schemas.openxmlformats.org/officeDocument/2006/relationships/image" Target="../media/image11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usinesspundit.com/wp-content/uploads/2010/06/nardelli.jp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edia.autoweek.nl/m/m1cyjsvb71wt_800.jpg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hilenomac.files.wordpress.com/2009/05/sc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nevosoft.ru/games/screenshots/247_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g0.liveinternet.ru/images/attach/c/0/38/606/38606352_1uzhas.jpg" TargetMode="External"/><Relationship Id="rId7" Type="http://schemas.openxmlformats.org/officeDocument/2006/relationships/image" Target="../media/image16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hyperlink" Target="http://moscvichka.ru/article/2006_42/foto/42-05-04_resize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vnnews.ru/uploads/2010-01/20/4502/8A2BFA633483-4.jpg" TargetMode="External"/><Relationship Id="rId7" Type="http://schemas.openxmlformats.org/officeDocument/2006/relationships/image" Target="../media/image20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11280" y="1193760"/>
            <a:ext cx="8137440" cy="3524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</a:t>
            </a:r>
            <a:r>
              <a:rPr b="0" lang="ru-RU" sz="36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0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76560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69840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68360" y="2060640"/>
            <a:ext cx="8280360" cy="316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ждая из последующих заметок содержит предположение об эластичности спро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кажите, верно или нет сделано предположение об эластичности спро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360d90ada58f[1]"/>
          <p:cNvPicPr/>
          <p:nvPr/>
        </p:nvPicPr>
        <p:blipFill>
          <a:blip r:embed="rId1"/>
          <a:stretch/>
        </p:blipFill>
        <p:spPr>
          <a:xfrm>
            <a:off x="6516720" y="4365720"/>
            <a:ext cx="220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эластичность спроса"/>
          <p:cNvPicPr/>
          <p:nvPr/>
        </p:nvPicPr>
        <p:blipFill>
          <a:blip r:embed="rId2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i?id=15835423-06"/>
          <p:cNvPicPr/>
          <p:nvPr/>
        </p:nvPicPr>
        <p:blipFill>
          <a:blip r:embed="rId2"/>
          <a:stretch/>
        </p:blipFill>
        <p:spPr>
          <a:xfrm>
            <a:off x="7308720" y="5084640"/>
            <a:ext cx="183528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?id=44084234-12"/>
          <p:cNvPicPr/>
          <p:nvPr/>
        </p:nvPicPr>
        <p:blipFill>
          <a:blip r:embed="rId3"/>
          <a:stretch/>
        </p:blipFill>
        <p:spPr>
          <a:xfrm>
            <a:off x="255600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11 из 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26360" y="1341360"/>
            <a:ext cx="18176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Картинка 1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468760"/>
            <a:ext cx="1908000" cy="1389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3 из 221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5219640"/>
            <a:ext cx="246528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1523880"/>
            <a:ext cx="66243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Эластичность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предложения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4" name="Picture 6" descr="эластичность спроса"/>
          <p:cNvPicPr/>
          <p:nvPr/>
        </p:nvPicPr>
        <p:blipFill>
          <a:blip r:embed="rId1"/>
          <a:stretch/>
        </p:blipFill>
        <p:spPr>
          <a:xfrm>
            <a:off x="3276720" y="3573360"/>
            <a:ext cx="302400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1268280"/>
            <a:ext cx="8424720" cy="360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4" descr="эластичность спроса"/>
          <p:cNvPicPr/>
          <p:nvPr/>
        </p:nvPicPr>
        <p:blipFill>
          <a:blip r:embed="rId1"/>
          <a:stretch/>
        </p:blipFill>
        <p:spPr>
          <a:xfrm>
            <a:off x="7596360" y="386064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1773360"/>
            <a:ext cx="8280360" cy="1150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не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l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771640" y="3645000"/>
                <a:ext cx="37083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00000" y="2133720"/>
                <a:ext cx="741708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39640" y="3645000"/>
            <a:ext cx="828036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если в булочной в 12.00 нет хлеба, то в 12.01 он не появ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3" descr="Картинка 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Картинка 10 из 109">
            <a:hlinkClick r:id="rId3"/>
          </p:cNvPr>
          <p:cNvPicPr/>
          <p:nvPr/>
        </p:nvPicPr>
        <p:blipFill>
          <a:blip r:embed="rId4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Рабочие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согласны на снижение заработной платы и льготных выпла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Картинка 7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645000"/>
            <a:ext cx="397332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краткосрочной перспектив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9640" y="3645000"/>
            <a:ext cx="8280360" cy="187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 появится в течение час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29264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среднесрочной перспективе ещ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9640" y="3645000"/>
            <a:ext cx="8280360" cy="216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 следующий день выпекут больше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лительной перспективе абсолютно эластично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9640" y="3645000"/>
            <a:ext cx="8280360" cy="2232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озавод увеличит свои мощности и расширит произ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58136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 эластичности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11280" y="981000"/>
            <a:ext cx="8064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или отсутствие резерв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i?id=6119226-10"/>
          <p:cNvPicPr/>
          <p:nvPr/>
        </p:nvPicPr>
        <p:blipFill>
          <a:blip r:embed="rId1"/>
          <a:stretch/>
        </p:blipFill>
        <p:spPr>
          <a:xfrm>
            <a:off x="611280" y="981000"/>
            <a:ext cx="1152360" cy="882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2492280"/>
            <a:ext cx="7993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характер и ти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имого тов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4221000"/>
            <a:ext cx="81378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возможности хран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начительное 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апасов готов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12" descr="daewoo_kalos2[1]"/>
          <p:cNvPicPr/>
          <p:nvPr/>
        </p:nvPicPr>
        <p:blipFill>
          <a:blip r:embed="rId2"/>
          <a:stretch/>
        </p:blipFill>
        <p:spPr>
          <a:xfrm>
            <a:off x="539640" y="249228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Картинка 9 из 64000"/>
          <p:cNvPicPr/>
          <p:nvPr/>
        </p:nvPicPr>
        <p:blipFill>
          <a:blip r:embed="rId3"/>
          <a:stretch/>
        </p:blipFill>
        <p:spPr>
          <a:xfrm>
            <a:off x="468360" y="4221000"/>
            <a:ext cx="1871640" cy="12463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 производстве модной одежды сегодня в мире преобладают небольшие, но высокомеханизированные предприятия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Картинка 12 из 64000"/>
          <p:cNvPicPr/>
          <p:nvPr/>
        </p:nvPicPr>
        <p:blipFill>
          <a:blip r:embed="rId2"/>
          <a:stretch/>
        </p:blipFill>
        <p:spPr>
          <a:xfrm>
            <a:off x="2484360" y="3517920"/>
            <a:ext cx="3888000" cy="31291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о всем мире при многих булочных существуют собственные пекарни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Картинка 31 из 20978"/>
          <p:cNvPicPr/>
          <p:nvPr/>
        </p:nvPicPr>
        <p:blipFill>
          <a:blip r:embed="rId2"/>
          <a:stretch/>
        </p:blipFill>
        <p:spPr>
          <a:xfrm>
            <a:off x="2556000" y="262260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2. «Новая робото-техн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величивае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ффективность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ах Детройт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Картинка 65 из 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916280"/>
            <a:ext cx="1835280" cy="109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789360"/>
            <a:ext cx="390708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60d90ada58f[1]"/>
          <p:cNvPicPr/>
          <p:nvPr/>
        </p:nvPicPr>
        <p:blipFill>
          <a:blip r:embed="rId5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3. «Национальная забаст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начала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полноч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Картинка 18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4194360" cy="314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26828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4. «Отменены квоты: вв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мпортных машин расте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11280" y="422100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5. «Цены на сталь вырос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 10 %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daewoo_kalos2[1]"/>
          <p:cNvPicPr/>
          <p:nvPr/>
        </p:nvPicPr>
        <p:blipFill>
          <a:blip r:embed="rId1"/>
          <a:stretch/>
        </p:blipFill>
        <p:spPr>
          <a:xfrm>
            <a:off x="7164360" y="24210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360d90ada58f[1]"/>
          <p:cNvPicPr/>
          <p:nvPr/>
        </p:nvPicPr>
        <p:blipFill>
          <a:blip r:embed="rId2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08464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6. «Крупный произ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автомобилей обанкротил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и закрыт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49 из 15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500280"/>
            <a:ext cx="470556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1619280" y="3500280"/>
            <a:ext cx="4681440" cy="3024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547640" y="3573360"/>
            <a:ext cx="4680000" cy="2880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7. «Покупатели отвергают новые модели машин: продавцы снижают цен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Картинка 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997360"/>
            <a:ext cx="4681800" cy="3117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68360" y="1268280"/>
            <a:ext cx="8280360" cy="381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8. «Значительная нехва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отребительс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лектроники – потребит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е могут купить нов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 техн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испособления 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достаточном количестве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артинка 8 из 55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5157720"/>
            <a:ext cx="1962360" cy="147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Картинка 7 из 554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Картинка 4 из 554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5229360"/>
            <a:ext cx="1871640" cy="1380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81000"/>
            <a:ext cx="8280360" cy="57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зовите причины изменения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773360"/>
            <a:ext cx="80647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сто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фактор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i?id=6119226-10"/>
          <p:cNvPicPr/>
          <p:nvPr/>
        </p:nvPicPr>
        <p:blipFill>
          <a:blip r:embed="rId1"/>
          <a:stretch/>
        </p:blipFill>
        <p:spPr>
          <a:xfrm>
            <a:off x="539640" y="1773360"/>
            <a:ext cx="1152720" cy="88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2924280"/>
            <a:ext cx="7993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Изменение техноло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i?id=31051579-03"/>
          <p:cNvPicPr/>
          <p:nvPr/>
        </p:nvPicPr>
        <p:blipFill>
          <a:blip r:embed="rId2"/>
          <a:stretch/>
        </p:blipFill>
        <p:spPr>
          <a:xfrm>
            <a:off x="539640" y="2924280"/>
            <a:ext cx="1295640" cy="855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39640" y="4149720"/>
            <a:ext cx="79930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коли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давцов на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373720"/>
            <a:ext cx="806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возможност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лучения прибыл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изводства други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Картинка 2 из 84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Картинка 16 из 639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53737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9:21Z</dcterms:modified>
  <cp:revision>121</cp:revision>
  <dc:subject/>
  <dc:title>Упражнение 1</dc:title>
</cp:coreProperties>
</file>