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19.jpeg" ContentType="image/jpeg"/>
  <Override PartName="/ppt/media/image32.gif" ContentType="image/gif"/>
  <Override PartName="/ppt/media/image2.gif" ContentType="image/gif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cashreg.wav" ContentType="audio/x-wav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255D-1F32-4510-9370-4F3461FE3F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ждая из последующих заметок содержит предположение об эластичности спрос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кажите, верно или нет сделано предположение об эластичности спро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Применение эластичности в реальном мире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эластично, если Eps &g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неэластично, если Eps &lt;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астичность предложения по це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в булочной в 12.00 нет хлеба, то в 12.01 он не появи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Рабочие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согласны на снижение заработной платы и льготных выпла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краткосрочной перспектив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 появится в течение час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среднесрочной перспективе еще более эластичн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следующий день выпекут больше хлеб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ремя и предложе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в длительной перспективе абсолютно эластич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лебозавод увеличит свои мощности и расширит производ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 эластичност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или отсутствие резерв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характер и тип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ого товар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возможности хран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начительное количе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пасов готовой продук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 производстве модной одежды сегодня в мире преобладают небольшие, но высокомеханизированные предприятия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чему во всем мире при многих булочных существуют собственные пекарн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. «Новая робото-технолог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ивае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ффективность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ах Детройт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. «Национальная забастов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автомобильн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мышленности началас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полночь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. «Отменены квоты: ввоз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портных машин растет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. «Цены на сталь вырос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10 %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. «Крупный производит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втомобилей обанкротился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брики закрыт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. «Покупатели отвергают новые модели машин: продавцы снижают цены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. «Значительная нехват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о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лектроники – потребите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 могут купить новые игр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ехническ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пособления 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статочном колич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пражнение 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зовите причины изменения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стоим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техн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колич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возможности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ения прибыли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 других продук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6F5-4E86-45C0-9E98-A66F157F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812-E5CB-45E0-9A5F-D5D1FA79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7BB-60D3-4D7F-89FA-93761D0E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7D8-D03A-404C-9FFA-5F9E2D1D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C7E0-7077-421B-BF15-FDFCAE09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91DD-7CDE-47D9-BE3B-BC11B354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3C51-325B-402D-8133-D9AFA224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7ED1-666C-4D2D-A658-544FA1FE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B9A4-1B26-4146-8640-8EADA3B4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2616-7935-4337-AD00-D1800AFF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4621-FE25-4E5F-8623-E3F362C2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FD8-8F20-40B6-83AB-11D56AE9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7A9F-406F-4CD9-A5F3-54AE0141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1E1F-632E-46A3-8838-51BCDC89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2A83-6296-4879-9DC6-C6907F3E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1D6B-5442-4A0E-BF33-135E621B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0DD7-1D75-4049-84DB-66686DC5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E4D-C650-467A-B032-B90ACACF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365-20F6-491C-A7EF-0DE1D93A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DB1-CF72-4B64-80E8-D774F331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DB0-1D12-4A5F-863E-5E23C648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9B6-C4D0-4945-B75A-E37BDDCE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B3D-B176-4F95-B479-0DFEBD39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F58-1B18-4981-8CF4-1AD55E40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8DF8-A3CB-4D1B-A3F3-2B743E74F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8264-7A2D-4484-9DB2-E4041B1040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ostu.ru/social_field/newspaper/images/social_gazeta_3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spart-aeros.com.ua/img/pneomostands/P1010034_640x479.jpg" TargetMode="External"/><Relationship Id="rId3" Type="http://schemas.openxmlformats.org/officeDocument/2006/relationships/image" Target="../media/image25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11.nnm.ru/b/e/c/7/a/a7d16f9853933ba0119c76e5bd3.jpg" TargetMode="External"/><Relationship Id="rId3" Type="http://schemas.openxmlformats.org/officeDocument/2006/relationships/image" Target="../media/image2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g-fotki.yandex.ru/get/3109/nigabuga.1/0_7cf2_ddb5083d_XL" TargetMode="External"/><Relationship Id="rId3" Type="http://schemas.openxmlformats.org/officeDocument/2006/relationships/image" Target="../media/image27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hejokester.net/images/time.gif" TargetMode="External"/><Relationship Id="rId2" Type="http://schemas.openxmlformats.org/officeDocument/2006/relationships/image" Target="../media/image28.png"/><Relationship Id="rId3" Type="http://schemas.openxmlformats.org/officeDocument/2006/relationships/hyperlink" Target="http://stv-2008.ucoz.ru/_ph/12/2/506482013.jpg" TargetMode="External"/><Relationship Id="rId4" Type="http://schemas.openxmlformats.org/officeDocument/2006/relationships/image" Target="../media/image29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pbcar.ru/news/en/i/2009-03-18/chrysler-minivan-canada-plant-580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andardsusers.org/mysr/images/stories/factory-smoke-pollution-g-00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inppk.ru/upload/iblock/8f5/handling_tesa_big.gif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pw.ru/zrd/meet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jpeg"/><Relationship Id="rId3" Type="http://schemas.openxmlformats.org/officeDocument/2006/relationships/hyperlink" Target="http://www.theepochtimes.com/n2/images/stories/large/2010/02/22/metal-china-71905442.jpg" TargetMode="External"/><Relationship Id="rId4" Type="http://schemas.openxmlformats.org/officeDocument/2006/relationships/image" Target="../media/image11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businesspundit.com/wp-content/uploads/2010/06/nardelli.jpg" TargetMode="External"/><Relationship Id="rId3" Type="http://schemas.openxmlformats.org/officeDocument/2006/relationships/image" Target="../media/image12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media.autoweek.nl/m/m1cyjsvb71wt_800.jpg" TargetMode="External"/><Relationship Id="rId3" Type="http://schemas.openxmlformats.org/officeDocument/2006/relationships/image" Target="../media/image13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chilenomac.files.wordpress.com/2009/05/sc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images.nevosoft.ru/games/screenshots/247_1.jpg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img0.liveinternet.ru/images/attach/c/0/38/606/38606352_1uzhas.jpg" TargetMode="External"/><Relationship Id="rId7" Type="http://schemas.openxmlformats.org/officeDocument/2006/relationships/image" Target="../media/image16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6.jpeg"/><Relationship Id="rId4" Type="http://schemas.openxmlformats.org/officeDocument/2006/relationships/hyperlink" Target="http://moscvichka.ru/article/2006_42/foto/42-05-04_resize.jpg" TargetMode="External"/><Relationship Id="rId5" Type="http://schemas.openxmlformats.org/officeDocument/2006/relationships/image" Target="../media/image19.jpeg"/><Relationship Id="rId6" Type="http://schemas.openxmlformats.org/officeDocument/2006/relationships/hyperlink" Target="http://vnnews.ru/uploads/2010-01/20/4502/8A2BFA633483-4.jpg" TargetMode="External"/><Relationship Id="rId7" Type="http://schemas.openxmlformats.org/officeDocument/2006/relationships/image" Target="../media/image20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11280" y="1193760"/>
            <a:ext cx="8137440" cy="3524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чтите газетные заголовки и в каждом случае решите, приведет ли указанное событие к  изменению рыночного предложения автомобилей.</a:t>
            </a:r>
            <a:r>
              <a:rPr b="0" lang="ru-RU" sz="3600" spc="-1" strike="noStrike">
                <a:solidFill>
                  <a:srgbClr val="2663a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10" descr="Картинка 7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765600"/>
            <a:ext cx="3586320" cy="268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1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698400" cy="7873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468360" y="2060640"/>
            <a:ext cx="8280360" cy="316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ждая из последующих заметок содержит предположение об эластичности спрос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кажите, верно или нет сделано предположение об эластичности спро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4" descr="360d90ada58f[1]"/>
          <p:cNvPicPr/>
          <p:nvPr/>
        </p:nvPicPr>
        <p:blipFill>
          <a:blip r:embed="rId1"/>
          <a:stretch/>
        </p:blipFill>
        <p:spPr>
          <a:xfrm>
            <a:off x="6516720" y="4365720"/>
            <a:ext cx="2208240" cy="2492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эластичность спроса"/>
          <p:cNvPicPr/>
          <p:nvPr/>
        </p:nvPicPr>
        <p:blipFill>
          <a:blip r:embed="rId2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.М. Политико, кандидат в законодательное собрание штата, предложил значительное увеличение налогов на спиртное и сигареты. Он сказал: "Я предлагаю такие налоги не для увеличения доходов, а чтобы отбить охоту у выпивох и покончить с такой отвратительной привычкой, как курение. Если цены на сигареты и выпивку вырастут, большинство людей прекратит их употреблять. В конце концов, никто не должен курить или выпивать".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i?id=15835423-06"/>
          <p:cNvPicPr/>
          <p:nvPr/>
        </p:nvPicPr>
        <p:blipFill>
          <a:blip r:embed="rId2"/>
          <a:stretch/>
        </p:blipFill>
        <p:spPr>
          <a:xfrm>
            <a:off x="7308720" y="5084640"/>
            <a:ext cx="1835280" cy="1785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i?id=44084234-12"/>
          <p:cNvPicPr/>
          <p:nvPr/>
        </p:nvPicPr>
        <p:blipFill>
          <a:blip r:embed="rId3"/>
          <a:stretch/>
        </p:blipFill>
        <p:spPr>
          <a:xfrm>
            <a:off x="2556000" y="5600880"/>
            <a:ext cx="990360" cy="125712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Ю.Р. Кул, кандидат в Конгресс, предложил заморозить цену на бензин. "Бензин ничто не может заменить", - сказал он. "Людям необходимо добираться от одного места до другого. Экономисты, которые говорят, что более высокие цены отбивают у людей охоту покупать столько же бензина, сколько и раньше, не живут в реальном мире"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Картинка 11 из 5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26360" y="1341360"/>
            <a:ext cx="1817640" cy="136044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лен муниципального совета Вик Аква выступал против повышения платы за воду во время недавней засухи. Он утверждал, что воду ничем не заменить, и следовательно, спрос на воду неэластичен. Он считает, что увеличение цены на воду (налог на воду) вообще не приведет к уменьшению ее использования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Картинка 16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5468760"/>
            <a:ext cx="1908000" cy="1389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13813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2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«Применение эластичности в реальном мир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68360" y="1700280"/>
            <a:ext cx="8280360" cy="4321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кай Кинг, много путешествующая по миру, говорит, что если авиакомпании хотят привлечь больше пассажиров, им следует снизить цены на билеты, как для бизнесменов, так и для отпускников. Она считает, что на уменьшение цены эти обе группы людей откликнутся одинаково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4" descr="эластичность спроса"/>
          <p:cNvPicPr/>
          <p:nvPr/>
        </p:nvPicPr>
        <p:blipFill>
          <a:blip r:embed="rId1"/>
          <a:stretch/>
        </p:blipFill>
        <p:spPr>
          <a:xfrm>
            <a:off x="0" y="0"/>
            <a:ext cx="1042920" cy="91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Картинка 3 из 2218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5219640"/>
            <a:ext cx="2465280" cy="163836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34920" y="1523880"/>
            <a:ext cx="662436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Эластичность </a:t>
            </a:r>
            <a:br>
              <a:rPr sz="6000"/>
            </a:br>
            <a:r>
              <a:rPr b="0" lang="ru-RU" sz="6000" spc="-1" strike="noStrike">
                <a:solidFill>
                  <a:srgbClr val="ffcc00"/>
                </a:solidFill>
                <a:latin typeface="Arial Black"/>
              </a:rPr>
              <a:t>предложения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4" name="Picture 6" descr="эластичность спроса"/>
          <p:cNvPicPr/>
          <p:nvPr/>
        </p:nvPicPr>
        <p:blipFill>
          <a:blip r:embed="rId1"/>
          <a:stretch/>
        </p:blipFill>
        <p:spPr>
          <a:xfrm>
            <a:off x="3276720" y="3573360"/>
            <a:ext cx="3024000" cy="26607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50920" y="1268280"/>
            <a:ext cx="8424720" cy="360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еакция на изменение цены со стороны производителей, она показывает, на сколько изменится в процентном отношении величина предложения при изменении цены товара или услуги на 1 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14" descr="эластичность спроса"/>
          <p:cNvPicPr/>
          <p:nvPr/>
        </p:nvPicPr>
        <p:blipFill>
          <a:blip r:embed="rId1"/>
          <a:stretch/>
        </p:blipFill>
        <p:spPr>
          <a:xfrm>
            <a:off x="7596360" y="3860640"/>
            <a:ext cx="1042920" cy="9176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24000" y="1773360"/>
            <a:ext cx="8280360" cy="1150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едложение неэластично, если </a:t>
            </a: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Eps 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&l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2771640" y="3645000"/>
                <a:ext cx="370836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Эластичность предложения по цен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"/>
              <p:cNvSpPr txBox="1"/>
              <p:nvPr/>
            </p:nvSpPr>
            <p:spPr>
              <a:xfrm>
                <a:off x="900000" y="2133720"/>
                <a:ext cx="741708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анный момент времени (моментальное) практически совершенно не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539640" y="3645000"/>
            <a:ext cx="828036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если в булочной в 12.00 нет хлеба, то в 12.01 он не появи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13" descr="Картинка 8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Картинка 10 из 109">
            <a:hlinkClick r:id="rId3"/>
          </p:cNvPr>
          <p:cNvPicPr/>
          <p:nvPr/>
        </p:nvPicPr>
        <p:blipFill>
          <a:blip r:embed="rId4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«Рабочие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согласны на снижение заработной платы и льготных выпла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Картинка 7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645000"/>
            <a:ext cx="3973320" cy="2987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краткосрочной перспектив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539640" y="3645000"/>
            <a:ext cx="8280360" cy="187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 появится в течение часа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29264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среднесрочной перспективе еще более эластичн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39640" y="3645000"/>
            <a:ext cx="8280360" cy="216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 следующий день выпекут больше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411280" y="4581360"/>
            <a:ext cx="4113360" cy="1189080"/>
          </a:xfrm>
          <a:prstGeom prst="rect">
            <a:avLst/>
          </a:prstGeom>
          <a:ln w="0">
            <a:noFill/>
          </a:ln>
        </p:spPr>
      </p:pic>
      <p:sp>
        <p:nvSpPr>
          <p:cNvPr id="264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Black"/>
              </a:rPr>
              <a:t>Время и предлож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95280" y="1268280"/>
            <a:ext cx="8280360" cy="1873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дложение в длительной перспективе абсолютно эластично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539640" y="3645000"/>
            <a:ext cx="8280360" cy="2232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хлебозавод увеличит свои мощности и расширит произ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5" descr="Картинка 83 из 64000"/>
          <p:cNvPicPr/>
          <p:nvPr/>
        </p:nvPicPr>
        <p:blipFill>
          <a:blip r:embed="rId1"/>
          <a:stretch/>
        </p:blipFill>
        <p:spPr>
          <a:xfrm>
            <a:off x="0" y="0"/>
            <a:ext cx="712800" cy="765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Картинка 10 из 109"/>
          <p:cNvPicPr/>
          <p:nvPr/>
        </p:nvPicPr>
        <p:blipFill>
          <a:blip r:embed="rId2"/>
          <a:srcRect l="3780" t="15791" r="9827" b="49489"/>
          <a:stretch/>
        </p:blipFill>
        <p:spPr>
          <a:xfrm>
            <a:off x="2556000" y="4581360"/>
            <a:ext cx="4113000" cy="118908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Факторы эластичности предлож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611280" y="981000"/>
            <a:ext cx="806436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или отсутствие резерв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i?id=6119226-10"/>
          <p:cNvPicPr/>
          <p:nvPr/>
        </p:nvPicPr>
        <p:blipFill>
          <a:blip r:embed="rId1"/>
          <a:stretch/>
        </p:blipFill>
        <p:spPr>
          <a:xfrm>
            <a:off x="611280" y="981000"/>
            <a:ext cx="1152360" cy="8827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>
            <a:off x="539640" y="2492280"/>
            <a:ext cx="7993080" cy="86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характер и тип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имого това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539640" y="4221000"/>
            <a:ext cx="813780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наличие возможности храни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начительное колич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запасов готовой продук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Picture 12" descr="daewoo_kalos2[1]"/>
          <p:cNvPicPr/>
          <p:nvPr/>
        </p:nvPicPr>
        <p:blipFill>
          <a:blip r:embed="rId2"/>
          <a:stretch/>
        </p:blipFill>
        <p:spPr>
          <a:xfrm>
            <a:off x="539640" y="2492280"/>
            <a:ext cx="1295640" cy="8636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4" descr="Картинка 9 из 64000"/>
          <p:cNvPicPr/>
          <p:nvPr/>
        </p:nvPicPr>
        <p:blipFill>
          <a:blip r:embed="rId3"/>
          <a:stretch/>
        </p:blipFill>
        <p:spPr>
          <a:xfrm>
            <a:off x="468360" y="4221000"/>
            <a:ext cx="1871640" cy="12463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 производстве модной одежды сегодня в мире преобладают небольшие, но высокомеханизированные предприятия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5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Картинка 12 из 64000"/>
          <p:cNvPicPr/>
          <p:nvPr/>
        </p:nvPicPr>
        <p:blipFill>
          <a:blip r:embed="rId2"/>
          <a:stretch/>
        </p:blipFill>
        <p:spPr>
          <a:xfrm>
            <a:off x="2484360" y="3517920"/>
            <a:ext cx="3888000" cy="312912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Вопро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чему во всем мире при многих булочных существуют собственные пекарни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4" descr="Рисунок1"/>
          <p:cNvPicPr/>
          <p:nvPr/>
        </p:nvPicPr>
        <p:blipFill>
          <a:blip r:embed="rId1"/>
          <a:stretch/>
        </p:blipFill>
        <p:spPr>
          <a:xfrm>
            <a:off x="7956720" y="5013360"/>
            <a:ext cx="1037880" cy="13334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Картинка 31 из 20978"/>
          <p:cNvPicPr/>
          <p:nvPr/>
        </p:nvPicPr>
        <p:blipFill>
          <a:blip r:embed="rId2"/>
          <a:stretch/>
        </p:blipFill>
        <p:spPr>
          <a:xfrm>
            <a:off x="2556000" y="2622600"/>
            <a:ext cx="4608360" cy="33303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6600"/>
                </a:solidFill>
                <a:latin typeface="Arial Black"/>
              </a:rPr>
              <a:t>Задач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50920" y="1268280"/>
            <a:ext cx="8424720" cy="2448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ак изменится поступающее в магазины количество товара с эластичностью предложения 1,2, если цена на него возрастет с 30 до 35 руб.?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2. «Новая робото-технолог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увеличивает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ффективность 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ах Детройта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5" descr="Картинка 65 из 2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916280"/>
            <a:ext cx="1835280" cy="1099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Картинка 1 из 6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71640" y="3789360"/>
            <a:ext cx="3907080" cy="2587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360d90ada58f[1]"/>
          <p:cNvPicPr/>
          <p:nvPr/>
        </p:nvPicPr>
        <p:blipFill>
          <a:blip r:embed="rId5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11280" y="1268280"/>
            <a:ext cx="8137440" cy="2737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3. «Национальная забастов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автомобиль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омышленности началас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в полночь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Картинка 18 из 35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3573360"/>
            <a:ext cx="4194360" cy="3148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11280" y="126828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4. «Отменены квоты: вво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мпортных машин растет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611280" y="4221000"/>
            <a:ext cx="8137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5. «Цены на сталь вырос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а 10 %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daewoo_kalos2[1]"/>
          <p:cNvPicPr/>
          <p:nvPr/>
        </p:nvPicPr>
        <p:blipFill>
          <a:blip r:embed="rId1"/>
          <a:stretch/>
        </p:blipFill>
        <p:spPr>
          <a:xfrm>
            <a:off x="7164360" y="2421000"/>
            <a:ext cx="1535040" cy="1023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360d90ada58f[1]"/>
          <p:cNvPicPr/>
          <p:nvPr/>
        </p:nvPicPr>
        <p:blipFill>
          <a:blip r:embed="rId2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Картинка 17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20000" y="5084640"/>
            <a:ext cx="1728720" cy="1293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6. «Крупный производите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автомобилей обанкротилс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фабрики закрыт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5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Картинка 49 из 159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47640" y="3500280"/>
            <a:ext cx="4705560" cy="3000600"/>
          </a:xfrm>
          <a:prstGeom prst="rect">
            <a:avLst/>
          </a:prstGeom>
          <a:ln w="0">
            <a:noFill/>
          </a:ln>
        </p:spPr>
      </p:pic>
      <p:sp>
        <p:nvSpPr>
          <p:cNvPr id="180" name="Line 11"/>
          <p:cNvSpPr/>
          <p:nvPr/>
        </p:nvSpPr>
        <p:spPr>
          <a:xfrm>
            <a:off x="1619280" y="3500280"/>
            <a:ext cx="4681440" cy="30243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V="1">
            <a:off x="1547640" y="3573360"/>
            <a:ext cx="4680000" cy="2880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611280" y="1268280"/>
            <a:ext cx="8137440" cy="288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7. «Покупатели отвергают новые модели машин: продавцы снижают цены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Картинка 1 из 6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997360"/>
            <a:ext cx="4681800" cy="31176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4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68360" y="1268280"/>
            <a:ext cx="8280360" cy="381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8. «Значительная нехватк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отребительск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электроники – потребител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е могут купить новые игры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и технически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риспособления 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достаточном количестве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4" descr="360d90ada58f[1]"/>
          <p:cNvPicPr/>
          <p:nvPr/>
        </p:nvPicPr>
        <p:blipFill>
          <a:blip r:embed="rId1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Картинка 8 из 5546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87280" y="5157720"/>
            <a:ext cx="1962360" cy="1473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Картинка 7 из 5546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5640" y="5157720"/>
            <a:ext cx="1871640" cy="14050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Картинка 4 из 5546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5229360"/>
            <a:ext cx="1871640" cy="1380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 Black"/>
              </a:rPr>
              <a:t>Упражнение 1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468360" y="981000"/>
            <a:ext cx="8280360" cy="576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Назовите причины изменения предлож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39640" y="1773360"/>
            <a:ext cx="806472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стоим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факторов 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i?id=6119226-10"/>
          <p:cNvPicPr/>
          <p:nvPr/>
        </p:nvPicPr>
        <p:blipFill>
          <a:blip r:embed="rId1"/>
          <a:stretch/>
        </p:blipFill>
        <p:spPr>
          <a:xfrm>
            <a:off x="539640" y="1773360"/>
            <a:ext cx="1152720" cy="8823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539640" y="2924280"/>
            <a:ext cx="7993080" cy="86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 Black"/>
              </a:rPr>
              <a:t>              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Изменение техноло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cc3300"/>
                </a:solidFill>
                <a:latin typeface="Arial Black"/>
              </a:rPr>
              <a:t>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7" descr="i?id=31051579-03"/>
          <p:cNvPicPr/>
          <p:nvPr/>
        </p:nvPicPr>
        <p:blipFill>
          <a:blip r:embed="rId2"/>
          <a:stretch/>
        </p:blipFill>
        <p:spPr>
          <a:xfrm>
            <a:off x="539640" y="2924280"/>
            <a:ext cx="1295640" cy="855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"/>
          <p:cNvSpPr/>
          <p:nvPr/>
        </p:nvSpPr>
        <p:spPr>
          <a:xfrm>
            <a:off x="539640" y="4149720"/>
            <a:ext cx="799308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колич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давцов на рын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468360" y="5373720"/>
            <a:ext cx="806436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Изменение возможности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олучения прибыли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                    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производства други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0" descr="360d90ada58f[1]"/>
          <p:cNvPicPr/>
          <p:nvPr/>
        </p:nvPicPr>
        <p:blipFill>
          <a:blip r:embed="rId3"/>
          <a:stretch/>
        </p:blipFill>
        <p:spPr>
          <a:xfrm>
            <a:off x="0" y="0"/>
            <a:ext cx="741240" cy="836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Картинка 2 из 8479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9640" y="4149720"/>
            <a:ext cx="1368360" cy="1028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Картинка 16 из 63966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68360" y="5373720"/>
            <a:ext cx="1655640" cy="132552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9:21Z</dcterms:modified>
  <cp:revision>121</cp:revision>
  <dc:subject/>
  <dc:title>Упражнение 1</dc:title>
</cp:coreProperties>
</file>