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D4AF-8EBF-4733-9AB6-716BB9CE39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797-3D2F-4C52-B3A1-44C88BD9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A59-3C95-41B1-9C99-9263B48D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8EE-21B8-416E-9BEE-35E2A035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7AC-4C4E-4463-947A-F55FD3D0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C172-B64E-4B4D-A7AA-A78FE4E0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5C0E-52B4-4EEF-BA82-C045E26C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9767-824C-49AE-BFED-8AAA8F5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BE4A-B1F4-4021-B850-B97188A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26C3-FC79-4436-BE0E-E9A13B67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C16B-ABE1-46DD-AD07-F4EB5EC9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0A09-8FC2-469F-8282-9A4F56B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690-4A77-4AA3-91B4-18B9A7E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D7EA-85B8-4408-89CD-849A0C59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8FAB-7B4A-4409-A862-77D5869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ADAD-B365-4EB3-8FE6-33C7EEE3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A444-2352-421B-A69B-B2D9BF9C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BB24-BCC7-49B5-A3F8-89B8582F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1C47D-687C-4E11-BDD5-87CC491E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2F57E-03C6-4431-8E74-69DF1D1F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EC360-100B-4963-AA89-52C89D4D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20518-3E2A-4FFC-8F16-DE22F2D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4D348-4024-49AA-8B62-379A77BF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840-14E8-4768-B652-45FA163B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F810D-FD3A-45D9-BCA2-A28E75A2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D95F7-F6BC-4206-8610-B1C4476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78A1C-327F-49A3-AA80-1DA93B20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5B908-1BDF-48C6-8086-2894A7F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293E8-E475-4376-BA41-221E4747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E8126-55B1-4912-98FC-F347C720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7A589-A04C-477B-B332-797BBA9A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D6957-4463-4D1F-BB59-3CD62E48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5B0D9-3822-42FD-88B5-1BFAE570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625C3-5F9F-446C-A462-9248C26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EE0-2203-4694-917E-B0E0F09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35706-8C85-4DB1-B08F-5FF6D9B1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5660E-1DBA-4BB9-A5A0-CBA82988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F18F0-D188-4671-A9E9-C7BEA86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2597F-BE56-4E2B-A6EB-C1983456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43DC4-DF12-4F1E-97DC-5C5234F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DC799-8DBC-4504-A67D-D15CDC6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E3002-FAC0-4438-A456-2920B1B4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660F1-0F12-44E7-A7D1-2BE74F5B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968B1-6E58-4F39-A826-5BD6B17E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FA120-242F-4319-A7CF-B8F57347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DF9-C192-4FAA-93BB-AB0A1D0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1797F-0CC8-4077-AB9D-B56E4BE6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13D20-98BD-4311-BE1D-E3D55E93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7BF82-C6C9-4928-B0DE-AB697C5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426D9-D8DF-4FAB-B90F-89147CC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F0742-9B00-4822-9E70-7E680A5D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D06F3-3212-4B5E-A9B8-90AF2B9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8F68A-C8CB-4D38-A6BF-C6290EA6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A584C-935D-4B75-9E8B-C4EA4666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7D433-AE5B-44C0-8809-7C76C36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8B38B-6C7D-462B-9867-D3067564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033-1B14-4505-9C12-481D0167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21768-D87B-4046-9211-254AD896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F96F6-D954-4A93-B585-AA749562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2269-9472-43B8-BC41-39FF5EE9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A80C1-D347-4605-8BC2-05BDC49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992AE-E76E-46B7-ABC8-87B6FC6B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D2E9-0E8F-4B2A-BA5A-7111136A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B53B-3075-481D-BCFE-F59E1B93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EB674-6A1E-4E23-AE58-BAB763D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C438-6732-4FA2-A88F-6E60A889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DB2AB-95D9-47A1-AC74-F52D908B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A44-CBC8-44E9-AE4D-C9BB910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CD7C-4225-4CAB-A2E8-8CE5C7CB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75914-3F18-4FAB-8E66-8BC35FD6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4B22-C958-4059-8AA4-9C7D748B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D5BD9-F61D-40DD-9B79-F79F6F11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3E67E-E5B2-4392-A5F6-4E64DFD1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71A60-8F18-4A3C-893E-4F267A3E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F87A3-C247-4F65-AACD-0284293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635AC-E676-468A-80B8-312A74F6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51D60-198D-4273-BCED-FC4865A4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16257-EC44-478C-BE08-A130D5C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3A6-E512-4A08-8A76-73B0F7C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CE22E-B1E4-4F55-B308-20696DE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AF61B-E43F-43C8-A58A-991A5CA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EFA5E-771B-458F-8FB3-77252EFB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92B80-46A2-4441-B64E-7D4A2A18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E2186-76A8-4D56-8634-3B980540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B034-EA46-43FB-B2A5-8FAD4E54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CC75F-6CBA-48EB-93BB-5B8BA104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3CC0-8CA6-4D44-B708-2699B1D6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8B9F6-2831-473B-8956-029AE7E0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F7BB-E327-4594-A2DD-D3FAE583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7C5-4714-4331-8932-BAB5D18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1E3FD-7BCA-4748-8855-3F07AF25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684E4-700C-479B-A2A7-0A38B0EB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31773-A62D-46C3-B1CD-AFF3A3FE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0D709-9785-46F9-B13F-A92DB16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5F0DE-5569-4DC2-A2B2-02F33C85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D0186-3345-4E2F-99E5-1B8D31D8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84045-198D-4DD0-B8A5-A4A45533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A59-CBF8-49AC-8648-D368D70C05A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42BC-AC28-45FC-A55F-3FB3ACE2FF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9013-0BD1-43E2-A597-39E1B7F7E519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0C80-5686-4FAC-9753-69699DC05323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C44-875B-4ED6-895C-0777A75394F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32DF-9BE6-4774-AABD-41AF48096D80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76C9-0C60-47DC-AB6A-F068456DF8FA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1603-3CBF-405F-8D4E-9A1491D340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455B-BE96-40EB-A4E3-CB07F1461277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4978-F0D8-4BE9-82F9-E3B34365E4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3B97-6407-49F8-A77A-D2D1548A0AF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00B-7FA4-45DA-961A-A647149345AA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D1F0-3DDE-4290-9ABB-B6DC44DDE6A7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FA2E-90BA-4538-BB86-1098807FC32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DB59-116D-4443-9FEC-EF9D23C0022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0C9-A25C-44BD-B101-477B8B29C7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879720"/>
            <a:ext cx="647676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ЭЛАСТИЧНОСТЬ СПРОСА И ПРЕДЛОЖЕНИЯ 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ма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4640" y="3643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1692360" y="3284640"/>
            <a:ext cx="4392360" cy="1008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2"/>
          <p:cNvSpPr/>
          <p:nvPr/>
        </p:nvSpPr>
        <p:spPr>
          <a:xfrm>
            <a:off x="3059280" y="3573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4572000" y="4005360"/>
            <a:ext cx="1440" cy="1655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1547640" y="357336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1547640" y="393372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2050920" y="35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прос единичной эластичност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14560" y="4714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41"/>
          <p:cNvSpPr/>
          <p:nvPr/>
        </p:nvSpPr>
        <p:spPr>
          <a:xfrm>
            <a:off x="1908000" y="2492280"/>
            <a:ext cx="2808360" cy="280836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42"/>
          <p:cNvSpPr/>
          <p:nvPr/>
        </p:nvSpPr>
        <p:spPr>
          <a:xfrm>
            <a:off x="305928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3564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3059280" y="501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611280" y="3357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1547640" y="364500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42880" y="4786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2627280" y="2349360"/>
            <a:ext cx="1440000" cy="3095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059280" y="328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42"/>
          <p:cNvSpPr/>
          <p:nvPr/>
        </p:nvSpPr>
        <p:spPr>
          <a:xfrm>
            <a:off x="3492360" y="4221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84360" y="29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1547640" y="328464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1547640" y="42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38"/>
          <p:cNvSpPr/>
          <p:nvPr/>
        </p:nvSpPr>
        <p:spPr>
          <a:xfrm>
            <a:off x="2050920" y="3284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785760" y="2500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38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спроса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отрез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ой спроса, выраженные в форме прямой линии могут име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ную эласт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57880" y="514332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ая соединительная линия 42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ая соединительная линия 50"/>
          <p:cNvSpPr/>
          <p:nvPr/>
        </p:nvSpPr>
        <p:spPr>
          <a:xfrm>
            <a:off x="3348000" y="3933720"/>
            <a:ext cx="172872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авая фигурная скобка 54"/>
          <p:cNvSpPr/>
          <p:nvPr/>
        </p:nvSpPr>
        <p:spPr>
          <a:xfrm rot="18881400">
            <a:off x="2441520" y="1522080"/>
            <a:ext cx="560520" cy="25477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547720"/>
              <a:gd name="textAreaBottom" fmla="*/ 253332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657"/>
                </a:lnTo>
                <a:cubicBezTo>
                  <a:pt x="10800" y="10855"/>
                  <a:pt x="16200" y="11053"/>
                  <a:pt x="21600" y="11053"/>
                </a:cubicBezTo>
                <a:cubicBezTo>
                  <a:pt x="16200" y="11053"/>
                  <a:pt x="10800" y="11251"/>
                  <a:pt x="10800" y="11449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авая фигурная скобка 55"/>
          <p:cNvSpPr/>
          <p:nvPr/>
        </p:nvSpPr>
        <p:spPr>
          <a:xfrm rot="18931800">
            <a:off x="4184280" y="3355560"/>
            <a:ext cx="571680" cy="241452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2414520"/>
              <a:gd name="textAreaBottom" fmla="*/ 2399760 h 24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65"/>
                </a:lnTo>
                <a:cubicBezTo>
                  <a:pt x="10800" y="10578"/>
                  <a:pt x="16200" y="10791"/>
                  <a:pt x="21600" y="10791"/>
                </a:cubicBezTo>
                <a:cubicBezTo>
                  <a:pt x="16200" y="10791"/>
                  <a:pt x="10800" y="11004"/>
                  <a:pt x="10800" y="11217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2987640" y="1773360"/>
            <a:ext cx="24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Эластичный интервал (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4859280" y="3716280"/>
            <a:ext cx="309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эластичный интервал (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4" name="Прямая со стрелкой 62"/>
          <p:cNvCxnSpPr/>
          <p:nvPr/>
        </p:nvCxnSpPr>
        <p:spPr>
          <a:xfrm flipH="1">
            <a:off x="3347280" y="2780280"/>
            <a:ext cx="2880360" cy="1152720"/>
          </a:xfrm>
          <a:prstGeom prst="straightConnector1">
            <a:avLst/>
          </a:prstGeom>
          <a:ln w="38160">
            <a:solidFill>
              <a:srgbClr val="968c8c"/>
            </a:solidFill>
            <a:miter/>
            <a:tailEnd len="med" type="arrow" w="med"/>
          </a:ln>
        </p:spPr>
      </p:cxnSp>
      <p:sp>
        <p:nvSpPr>
          <p:cNvPr id="685" name="Rectangle 20"/>
          <p:cNvSpPr/>
          <p:nvPr/>
        </p:nvSpPr>
        <p:spPr>
          <a:xfrm>
            <a:off x="5796000" y="198900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Точка единичной эластичности (│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726868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│=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Реакция покупателей на изменения цены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rcRect l="9656" t="27677" r="9417" b="16860"/>
          <a:stretch/>
        </p:blipFill>
        <p:spPr>
          <a:xfrm>
            <a:off x="0" y="160020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68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785760" y="4857840"/>
            <a:ext cx="5605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"/>
          <p:cNvSpPr/>
          <p:nvPr/>
        </p:nvSpPr>
        <p:spPr>
          <a:xfrm flipV="1">
            <a:off x="755640" y="1700280"/>
            <a:ext cx="0" cy="39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55640" y="5661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20"/>
          <p:cNvSpPr/>
          <p:nvPr/>
        </p:nvSpPr>
        <p:spPr>
          <a:xfrm>
            <a:off x="4140360" y="58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179280" y="1557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Line 41"/>
          <p:cNvSpPr/>
          <p:nvPr/>
        </p:nvSpPr>
        <p:spPr>
          <a:xfrm>
            <a:off x="755640" y="3933720"/>
            <a:ext cx="676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Line 42"/>
          <p:cNvSpPr/>
          <p:nvPr/>
        </p:nvSpPr>
        <p:spPr>
          <a:xfrm>
            <a:off x="2340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Прямая соединительная линия 42"/>
          <p:cNvSpPr/>
          <p:nvPr/>
        </p:nvSpPr>
        <p:spPr>
          <a:xfrm>
            <a:off x="754920" y="2276640"/>
            <a:ext cx="1584360" cy="165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Прямая соединительная линия 50"/>
          <p:cNvSpPr/>
          <p:nvPr/>
        </p:nvSpPr>
        <p:spPr>
          <a:xfrm>
            <a:off x="2339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324000" y="573408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3"/>
          <p:cNvSpPr/>
          <p:nvPr/>
        </p:nvSpPr>
        <p:spPr>
          <a:xfrm flipV="1">
            <a:off x="485928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4859280" y="566100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8317080" y="5805360"/>
            <a:ext cx="8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4356000" y="162864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0"/>
          <p:cNvSpPr/>
          <p:nvPr/>
        </p:nvSpPr>
        <p:spPr>
          <a:xfrm>
            <a:off x="4572000" y="5734080"/>
            <a:ext cx="5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Дуга 45"/>
          <p:cNvSpPr/>
          <p:nvPr/>
        </p:nvSpPr>
        <p:spPr>
          <a:xfrm>
            <a:off x="2627280" y="2276640"/>
            <a:ext cx="4897440" cy="3384360"/>
          </a:xfrm>
          <a:custGeom>
            <a:avLst/>
            <a:gdLst/>
            <a:ahLst/>
            <a:rect l="l" t="t" r="r" b="b"/>
            <a:pathLst>
              <a:path stroke="0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  <a:lnTo>
                  <a:pt x="2448719" y="1692275"/>
                </a:lnTo>
                <a:lnTo>
                  <a:pt x="2258135" y="5133"/>
                </a:lnTo>
                <a:close/>
              </a:path>
              <a:path fill="none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1"/>
          <p:cNvSpPr/>
          <p:nvPr/>
        </p:nvSpPr>
        <p:spPr>
          <a:xfrm>
            <a:off x="755640" y="227664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752472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21"/>
          <p:cNvSpPr/>
          <p:nvPr/>
        </p:nvSpPr>
        <p:spPr>
          <a:xfrm>
            <a:off x="0" y="2060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0" y="3573360"/>
            <a:ext cx="7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1979640" y="57340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708360" y="573408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877080" y="573408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7511760" y="3284640"/>
            <a:ext cx="13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аким образом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ерекрестная эластичность спрос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3000240" y="3071880"/>
                <a:ext cx="3095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Rectangle 12"/>
          <p:cNvSpPr/>
          <p:nvPr/>
        </p:nvSpPr>
        <p:spPr>
          <a:xfrm>
            <a:off x="611280" y="4653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заменяемые блага (субститу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дополняемые блага (комплемен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нейтральные бла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дохо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3132000" y="278136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Rectangle 9"/>
          <p:cNvSpPr/>
          <p:nvPr/>
        </p:nvSpPr>
        <p:spPr>
          <a:xfrm>
            <a:off x="611280" y="4221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ро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первой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изкокачественные това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54900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Кривые Энг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4" descr="50_7_f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62728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предлож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1640" y="2071440"/>
            <a:ext cx="560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41"/>
          <p:cNvSpPr/>
          <p:nvPr/>
        </p:nvSpPr>
        <p:spPr>
          <a:xfrm>
            <a:off x="1547640" y="479736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rc 26"/>
          <p:cNvSpPr/>
          <p:nvPr/>
        </p:nvSpPr>
        <p:spPr>
          <a:xfrm flipV="1" rot="591600">
            <a:off x="2484000" y="220428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41"/>
          <p:cNvSpPr/>
          <p:nvPr/>
        </p:nvSpPr>
        <p:spPr>
          <a:xfrm>
            <a:off x="1547640" y="414972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42"/>
          <p:cNvSpPr/>
          <p:nvPr/>
        </p:nvSpPr>
        <p:spPr>
          <a:xfrm>
            <a:off x="3059280" y="4797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31"/>
          <p:cNvSpPr/>
          <p:nvPr/>
        </p:nvSpPr>
        <p:spPr>
          <a:xfrm>
            <a:off x="4572000" y="4076640"/>
            <a:ext cx="574560" cy="504720"/>
          </a:xfrm>
          <a:prstGeom prst="wedgeRectCallout">
            <a:avLst>
              <a:gd name="adj1" fmla="val -138675"/>
              <a:gd name="adj2" fmla="val 34907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32"/>
          <p:cNvSpPr/>
          <p:nvPr/>
        </p:nvSpPr>
        <p:spPr>
          <a:xfrm>
            <a:off x="4500720" y="5013360"/>
            <a:ext cx="647640" cy="504720"/>
          </a:xfrm>
          <a:prstGeom prst="wedgeRectCallout">
            <a:avLst>
              <a:gd name="adj1" fmla="val -188236"/>
              <a:gd name="adj2" fmla="val -89935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Line 34"/>
          <p:cNvSpPr/>
          <p:nvPr/>
        </p:nvSpPr>
        <p:spPr>
          <a:xfrm>
            <a:off x="3059280" y="54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11280" y="458136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0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Line 42"/>
          <p:cNvSpPr/>
          <p:nvPr/>
        </p:nvSpPr>
        <p:spPr>
          <a:xfrm flipV="1">
            <a:off x="1763640" y="4149720"/>
            <a:ext cx="230364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43"/>
          <p:cNvSpPr/>
          <p:nvPr/>
        </p:nvSpPr>
        <p:spPr>
          <a:xfrm flipV="1">
            <a:off x="4067280" y="2637000"/>
            <a:ext cx="230328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4"/>
              <p:cNvSpPr txBox="1"/>
              <p:nvPr/>
            </p:nvSpPr>
            <p:spPr>
              <a:xfrm>
                <a:off x="5076720" y="2349360"/>
                <a:ext cx="388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7" name="Прямая со стрелкой 42"/>
          <p:cNvCxnSpPr/>
          <p:nvPr/>
        </p:nvCxnSpPr>
        <p:spPr>
          <a:xfrm flipV="1">
            <a:off x="1926000" y="414504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8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42920" y="20714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1547640" y="4581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42"/>
          <p:cNvSpPr/>
          <p:nvPr/>
        </p:nvSpPr>
        <p:spPr>
          <a:xfrm>
            <a:off x="507672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rc 26"/>
          <p:cNvSpPr/>
          <p:nvPr/>
        </p:nvSpPr>
        <p:spPr>
          <a:xfrm flipV="1" rot="591600">
            <a:off x="2626920" y="2275920"/>
            <a:ext cx="2449440" cy="2520720"/>
          </a:xfrm>
          <a:custGeom>
            <a:avLst/>
            <a:gdLst>
              <a:gd name="textAreaLeft" fmla="*/ 0 w 2449440"/>
              <a:gd name="textAreaRight" fmla="*/ 2449440 w 2449440"/>
              <a:gd name="textAreaTop" fmla="*/ 360 h 2520720"/>
              <a:gd name="textAreaBottom" fmla="*/ 2521440 h 252072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</a:path>
              <a:path stroke="0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1"/>
          <p:cNvSpPr/>
          <p:nvPr/>
        </p:nvSpPr>
        <p:spPr>
          <a:xfrm>
            <a:off x="1547640" y="31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42"/>
          <p:cNvSpPr/>
          <p:nvPr/>
        </p:nvSpPr>
        <p:spPr>
          <a:xfrm>
            <a:off x="3059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5508720" y="4149720"/>
            <a:ext cx="574560" cy="504720"/>
          </a:xfrm>
          <a:prstGeom prst="wedgeRectCallout">
            <a:avLst>
              <a:gd name="adj1" fmla="val -126518"/>
              <a:gd name="adj2" fmla="val -8522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0"/>
          <p:cNvSpPr/>
          <p:nvPr/>
        </p:nvSpPr>
        <p:spPr>
          <a:xfrm>
            <a:off x="5508720" y="4869000"/>
            <a:ext cx="647640" cy="504720"/>
          </a:xfrm>
          <a:prstGeom prst="wedgeRectCallout">
            <a:avLst>
              <a:gd name="adj1" fmla="val -247060"/>
              <a:gd name="adj2" fmla="val -10503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32"/>
          <p:cNvSpPr/>
          <p:nvPr/>
        </p:nvSpPr>
        <p:spPr>
          <a:xfrm>
            <a:off x="3059280" y="515772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1128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1"/>
          <p:cNvSpPr/>
          <p:nvPr/>
        </p:nvSpPr>
        <p:spPr>
          <a:xfrm>
            <a:off x="611280" y="422100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48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3" name="Object 3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Line 39"/>
          <p:cNvSpPr/>
          <p:nvPr/>
        </p:nvSpPr>
        <p:spPr>
          <a:xfrm flipV="1">
            <a:off x="3059280" y="3141360"/>
            <a:ext cx="2017440" cy="143820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43"/>
              <p:cNvSpPr txBox="1"/>
              <p:nvPr/>
            </p:nvSpPr>
            <p:spPr>
              <a:xfrm>
                <a:off x="5572080" y="2357280"/>
                <a:ext cx="3413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19" name="Прямая со стрелкой 41"/>
          <p:cNvCxnSpPr/>
          <p:nvPr/>
        </p:nvCxnSpPr>
        <p:spPr>
          <a:xfrm flipV="1">
            <a:off x="2068920" y="3142800"/>
            <a:ext cx="2520" cy="143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14600" y="3571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9" name="Object 3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33"/>
          <p:cNvSpPr/>
          <p:nvPr/>
        </p:nvSpPr>
        <p:spPr>
          <a:xfrm>
            <a:off x="6659640" y="3500280"/>
            <a:ext cx="1297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е предлож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500800" y="250020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41"/>
          <p:cNvSpPr/>
          <p:nvPr/>
        </p:nvSpPr>
        <p:spPr>
          <a:xfrm flipV="1">
            <a:off x="1835280" y="3068640"/>
            <a:ext cx="4249440" cy="1224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42"/>
          <p:cNvSpPr/>
          <p:nvPr/>
        </p:nvSpPr>
        <p:spPr>
          <a:xfrm>
            <a:off x="457200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42"/>
          <p:cNvSpPr/>
          <p:nvPr/>
        </p:nvSpPr>
        <p:spPr>
          <a:xfrm flipH="1">
            <a:off x="3059280" y="3933720"/>
            <a:ext cx="1440" cy="165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Rectangle 34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Line 35"/>
          <p:cNvSpPr/>
          <p:nvPr/>
        </p:nvSpPr>
        <p:spPr>
          <a:xfrm>
            <a:off x="1547640" y="3933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1547640" y="350028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5f55"/>
                </a:solidFill>
                <a:latin typeface="Calibri"/>
              </a:rPr>
              <a:t>Предложение единичной эластичности 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41"/>
          <p:cNvSpPr/>
          <p:nvPr/>
        </p:nvSpPr>
        <p:spPr>
          <a:xfrm flipV="1">
            <a:off x="1979640" y="2349360"/>
            <a:ext cx="2879640" cy="288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42"/>
          <p:cNvSpPr/>
          <p:nvPr/>
        </p:nvSpPr>
        <p:spPr>
          <a:xfrm>
            <a:off x="356400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3059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1128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1547640" y="4149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619280" y="3645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611280" y="3284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Неэластичное предложение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00680" y="235728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Line 41"/>
          <p:cNvSpPr/>
          <p:nvPr/>
        </p:nvSpPr>
        <p:spPr>
          <a:xfrm flipH="1">
            <a:off x="2916360" y="2492280"/>
            <a:ext cx="1008000" cy="295272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42"/>
          <p:cNvSpPr/>
          <p:nvPr/>
        </p:nvSpPr>
        <p:spPr>
          <a:xfrm>
            <a:off x="370836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3348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3348000" y="5013360"/>
            <a:ext cx="362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75564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20"/>
          <p:cNvSpPr/>
          <p:nvPr/>
        </p:nvSpPr>
        <p:spPr>
          <a:xfrm>
            <a:off x="30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20"/>
          <p:cNvSpPr/>
          <p:nvPr/>
        </p:nvSpPr>
        <p:spPr>
          <a:xfrm>
            <a:off x="3564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35"/>
          <p:cNvSpPr/>
          <p:nvPr/>
        </p:nvSpPr>
        <p:spPr>
          <a:xfrm>
            <a:off x="154764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36"/>
          <p:cNvSpPr/>
          <p:nvPr/>
        </p:nvSpPr>
        <p:spPr>
          <a:xfrm>
            <a:off x="1547640" y="3141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755640" y="299736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8"/>
          <p:cNvSpPr/>
          <p:nvPr/>
        </p:nvSpPr>
        <p:spPr>
          <a:xfrm>
            <a:off x="212400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не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714840" y="228564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8" name="Object 2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2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30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4" dur="5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9" dur="500"/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4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Распределение налогового бремени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076720" y="4220640"/>
            <a:ext cx="4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704404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1258920" y="5734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324000" y="1628640"/>
            <a:ext cx="1223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23"/>
          <p:cNvSpPr/>
          <p:nvPr/>
        </p:nvSpPr>
        <p:spPr>
          <a:xfrm>
            <a:off x="5651640" y="2565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924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26"/>
          <p:cNvSpPr/>
          <p:nvPr/>
        </p:nvSpPr>
        <p:spPr>
          <a:xfrm>
            <a:off x="6227640" y="3357720"/>
            <a:ext cx="266400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27"/>
          <p:cNvSpPr/>
          <p:nvPr/>
        </p:nvSpPr>
        <p:spPr>
          <a:xfrm flipV="1">
            <a:off x="1979640" y="242064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Line 28"/>
          <p:cNvSpPr/>
          <p:nvPr/>
        </p:nvSpPr>
        <p:spPr>
          <a:xfrm>
            <a:off x="2340000" y="1844640"/>
            <a:ext cx="3095640" cy="324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Line 30"/>
          <p:cNvSpPr/>
          <p:nvPr/>
        </p:nvSpPr>
        <p:spPr>
          <a:xfrm flipH="1">
            <a:off x="1547280" y="3141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31"/>
          <p:cNvSpPr/>
          <p:nvPr/>
        </p:nvSpPr>
        <p:spPr>
          <a:xfrm flipH="1">
            <a:off x="1547280" y="371628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Line 32"/>
          <p:cNvSpPr/>
          <p:nvPr/>
        </p:nvSpPr>
        <p:spPr>
          <a:xfrm>
            <a:off x="4067280" y="371628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Line 33"/>
          <p:cNvSpPr/>
          <p:nvPr/>
        </p:nvSpPr>
        <p:spPr>
          <a:xfrm>
            <a:off x="3564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Line 34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1692360" y="169992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5508720" y="17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Line 39"/>
          <p:cNvSpPr/>
          <p:nvPr/>
        </p:nvSpPr>
        <p:spPr>
          <a:xfrm flipV="1">
            <a:off x="45720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4643280" y="24210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1547640" y="3141720"/>
            <a:ext cx="2016360" cy="1008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1547640" y="3141720"/>
            <a:ext cx="201636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547640" y="3716280"/>
            <a:ext cx="2016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52"/>
          <p:cNvSpPr/>
          <p:nvPr/>
        </p:nvSpPr>
        <p:spPr>
          <a:xfrm>
            <a:off x="3780000" y="357336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5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6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2960" y="1600200"/>
            <a:ext cx="8123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эластичность спроса по цене», «перекрестная эластичность спроса»  и «эластичность спроса по дох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цен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79280" y="4797360"/>
                <a:ext cx="878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ластичность</m:t>
                    </m:r>
                    <m:r>
                      <m:rPr>
                        <m:lit/>
                        <m:nor/>
                      </m:rPr>
                      <m:t xml:space="preserve">спроса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цен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объема спроса, 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ие цены, 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моду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ак как рост цены всегда приводит к снижению объема с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85880" y="414324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rc 34"/>
          <p:cNvSpPr/>
          <p:nvPr/>
        </p:nvSpPr>
        <p:spPr>
          <a:xfrm flipV="1" rot="5400000">
            <a:off x="2662920" y="216900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ая соединительная линия 50"/>
          <p:cNvSpPr/>
          <p:nvPr/>
        </p:nvSpPr>
        <p:spPr>
          <a:xfrm>
            <a:off x="3347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ая соединительная линия 50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3492360" y="3141720"/>
            <a:ext cx="574920" cy="504720"/>
          </a:xfrm>
          <a:prstGeom prst="wedgeRectCallout">
            <a:avLst>
              <a:gd name="adj1" fmla="val -71546"/>
              <a:gd name="adj2" fmla="val 192768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4284720" y="3645000"/>
            <a:ext cx="647640" cy="504720"/>
          </a:xfrm>
          <a:prstGeom prst="wedgeRectCallout">
            <a:avLst>
              <a:gd name="adj1" fmla="val -14901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1835280" y="3933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3348000" y="5445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1280" y="3573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987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7"/>
              <p:cNvSpPr txBox="1"/>
              <p:nvPr/>
            </p:nvSpPr>
            <p:spPr>
              <a:xfrm>
                <a:off x="4572000" y="213372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4" name="Object 4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Місце для нижнього колонтитула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1680" y="45716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1619280" y="314172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2556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rc 26"/>
          <p:cNvSpPr/>
          <p:nvPr/>
        </p:nvSpPr>
        <p:spPr>
          <a:xfrm flipV="1" rot="5400000">
            <a:off x="2446920" y="2312640"/>
            <a:ext cx="2449800" cy="2521080"/>
          </a:xfrm>
          <a:custGeom>
            <a:avLst/>
            <a:gdLst>
              <a:gd name="textAreaLeft" fmla="*/ 0 w 2449800"/>
              <a:gd name="textAreaRight" fmla="*/ 2450160 w 244980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4067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ая соединительная линия 50"/>
          <p:cNvSpPr/>
          <p:nvPr/>
        </p:nvSpPr>
        <p:spPr>
          <a:xfrm>
            <a:off x="2556000" y="3141720"/>
            <a:ext cx="1511280" cy="1511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31"/>
          <p:cNvSpPr/>
          <p:nvPr/>
        </p:nvSpPr>
        <p:spPr>
          <a:xfrm>
            <a:off x="4572000" y="3645000"/>
            <a:ext cx="574560" cy="504720"/>
          </a:xfrm>
          <a:prstGeom prst="wedgeRectCallout">
            <a:avLst>
              <a:gd name="adj1" fmla="val -138675"/>
              <a:gd name="adj2" fmla="val 19180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3419640" y="2133720"/>
            <a:ext cx="647640" cy="504720"/>
          </a:xfrm>
          <a:prstGeom prst="wedgeRectCallout">
            <a:avLst>
              <a:gd name="adj1" fmla="val -9264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205092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2556000" y="5157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11280" y="2781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9" name="Object 43"/>
              <p:cNvSpPr txBox="1"/>
              <p:nvPr/>
            </p:nvSpPr>
            <p:spPr>
              <a:xfrm>
                <a:off x="4572000" y="2133720"/>
                <a:ext cx="4032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57880" y="357156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42"/>
          <p:cNvSpPr/>
          <p:nvPr/>
        </p:nvSpPr>
        <p:spPr>
          <a:xfrm>
            <a:off x="6659640" y="3500280"/>
            <a:ext cx="1584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59:14Z</dcterms:created>
  <dc:creator>ira</dc:creator>
  <dc:description/>
  <dc:language>en-US</dc:language>
  <cp:lastModifiedBy>LEGION</cp:lastModifiedBy>
  <dcterms:modified xsi:type="dcterms:W3CDTF">2016-01-04T08:19:36Z</dcterms:modified>
  <cp:revision>47</cp:revision>
  <dc:subject/>
  <dc:title>Эластичность спроса и предложения</dc:title>
</cp:coreProperties>
</file>