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2ECC-2EC1-4814-BE7F-8E3EA52E063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15D-F411-4625-B405-D6FAD687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CB6-9696-4BCE-BFA6-BDD16625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C75-2AC7-44BA-A7FF-41991E2D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529-78D1-4EC3-BDCC-4F886019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05C9-0A1A-4B2D-A534-E6DC42B5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846E-F28F-470B-9841-8BD5927E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025C-A091-4A96-A8F7-722ACC30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1A82-5C60-4B8F-8D58-275D91EE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E23F-36C1-4182-8493-C4FAFA2C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9790-959F-4558-B459-F643562F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1C69-20DD-437A-A756-E590D97F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810-3133-484F-8304-801FACF2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D6CB-BC9D-4A34-B47B-1D31D0B1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E9F6-F957-4E71-90C8-F8D785DA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EFFE-F3CE-4F0F-9A86-DE7E9E70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30D1-BC8A-4C1E-B1D8-D635577B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50F3-A236-4E2D-8814-AF246F1E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D2703-EA92-47A1-BA87-E094DB18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80770-8798-468D-8835-834959FB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779A5-26C4-4EEC-A3B7-6BB3D10D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D5F7B-6238-427B-B7D6-01CED7DA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D0186-4FAD-4E80-A765-3067DC90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5AE-F523-400C-800C-45BDF058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047B9-D209-4325-AC1C-7BF31EF3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9C3FA-5340-4BB1-9422-D9BA3F99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B58EE-86EA-4FA3-A94D-16057935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E7690-60F2-4277-BABF-132D6168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4E91F-32E3-4E87-A6BC-275B7892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CF8AC-1029-4EB5-BD18-7274764A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0D0999-AD76-43C9-A4C3-262FC489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47F93-C29B-43C0-9288-89454C9B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52B797-E14F-4797-803B-6A7099F6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DFC49-A957-420F-8B0A-99AC3AA6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F597-8A82-4F21-AC85-955A94E2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C645F-D8F1-4436-A7A9-6DE78138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19E3F2-097D-4A60-A83C-CE7479C9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60D59-7CD8-4E5D-8289-9A358DC3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FCDBAF-A71B-47FB-915D-0C4C85A3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09E48-BD29-4E13-BCD3-2B148ED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E2DFF-0B6F-4744-80B5-4D42F785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1CA13-AE78-4D8A-9669-5FD92515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7AC2F-6236-493E-BAA0-37775E85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3F020-92B8-490E-A124-7E830F61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03AA7-3F8C-4574-90F7-543731CE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43C-D6BF-46DD-ADDD-F6246A54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B5C49-86AA-443B-B6DA-400BC84B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0BEBDC-ACC6-41EF-AB35-1B1FDCFE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12A0E-6CF8-4C7F-97C8-81790C9C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6DB3C-A3C4-43B7-88B1-BB77630E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BC24C-1EB3-4ED5-B5A3-DC50B024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30F2B-0AD3-464A-BCB2-39C79BB3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F853F-B2A9-4F45-B6A7-5EB32AE5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BC166-0E47-44E8-959C-A0D35FE0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2BEEB-A043-44E7-962E-2606E922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036B5-D095-46ED-88A0-E515CCAF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8DD-B435-4DCD-A4CC-010E9D2A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63F3E-AF52-439B-9900-81722306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CA5D-DB4C-4931-8A9B-31AA7D86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F30AA-21AB-4083-93DB-921D5909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21D19-8E00-4BA9-8F96-A062DCA9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72824-EDF3-4713-9CEB-169BA379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496F8-7F0B-4561-861D-B10207B0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4CE02-87B5-4808-A5F4-309EEC9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94223-2436-4598-8374-36F53A89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4B2E7-5A97-41A4-8E86-6651F59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925CE-242B-4D1A-A0E1-6ECAF9CE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531-643F-4FEE-BEED-86538BD3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242F-A1AC-4371-A386-F0001529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74664-FBA9-49E9-9C57-B1FC8505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52C9F-74EC-4BFE-8B9B-8D70BD9A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8B36D-0D55-4045-B68E-F6F57742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B3C81-C8B3-4C4E-A158-D71E6AC0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F7D0A-8DA7-4D1F-B4ED-41675001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1BF4DD-0C36-4B14-BF4E-07B2043B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3958B-9125-4903-95E3-C79E47DE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C94855-2918-432F-A068-CDAAA2E7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B46FD-F885-4CF4-9CCE-32E024E3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3F3-7FC4-4017-A087-2FBBEB83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CEDCB-86F6-4557-AB4B-44A7BDA8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08D341-E4F6-42C0-BEC0-5FB5908D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E79B9A-A601-4FCC-85A8-F3F33B89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25E22-A4BD-4C51-8F9F-F66F4932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717EE-7B3E-46AA-8593-31234268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F4BA8-FE9D-4E9A-ACCD-13CD489D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AD80B-C591-4299-99A1-7D44A5A2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19935-8452-4504-A496-8C454817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D2159-6953-4A8E-8AF6-FDBD207A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CE052-CFBE-423D-B66F-45ABCEF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89F-3E3C-46E3-8B1C-BDD61DB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351D4-174A-4B88-894A-C3FAF996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3AE0C-4BD5-47C1-9DAE-161E6F55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E94ED-E8D0-4FE5-A17F-53B77581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FF1B3-DB47-4678-A947-F892CB8B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248BA-E5E0-45AB-BE27-DF9A88A8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48FAF-AB26-45C5-B612-A210CA19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21413-3E99-49ED-96E6-8278D403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A5BF-FE28-4DBC-95CC-8E55AB5F87BC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05A2-5C4A-4A8D-A6FD-2C464AA5B32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CAD-017B-42E5-A1B9-8B1DFFFC7989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189E-2956-47FC-B34A-3738B2086052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A7E5-5F3E-46F9-B718-76492D09C26E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3A89-C04C-4050-AF03-D786F1045E51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E641-5748-4D69-AEEA-44374705A800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D4FA-A95F-4FEC-80D9-A0F8DA43D6B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D02C-F22A-46C1-89AB-2E36ED6123EC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D20F-23E0-47A4-B54E-B021B1A44B3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08B4-707D-4636-BDC5-B2986437D6D6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792-5724-4D26-9939-286094882FE9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66E-9A6A-453D-9326-3936BA31F1DD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848D-E943-4CFD-AF08-F2DA4B5FAE0E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9A90-8776-4193-BB4D-DBD909CB7D06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5D88-94EA-4A54-9B15-BA3D58F6991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879720"/>
            <a:ext cx="647676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ЭЛАСТИЧНОСТЬ СПРОСА И ПРЕДЛОЖЕНИЯ 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ма 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4640" y="3643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1692360" y="3284640"/>
            <a:ext cx="4392360" cy="1008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42"/>
          <p:cNvSpPr/>
          <p:nvPr/>
        </p:nvSpPr>
        <p:spPr>
          <a:xfrm>
            <a:off x="3059280" y="357336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42"/>
          <p:cNvSpPr/>
          <p:nvPr/>
        </p:nvSpPr>
        <p:spPr>
          <a:xfrm flipH="1">
            <a:off x="4572000" y="4005360"/>
            <a:ext cx="1440" cy="1655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1547640" y="357336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1547640" y="393372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2050920" y="35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Спрос единичной эластичности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14560" y="4714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41"/>
          <p:cNvSpPr/>
          <p:nvPr/>
        </p:nvSpPr>
        <p:spPr>
          <a:xfrm>
            <a:off x="1908000" y="2492280"/>
            <a:ext cx="2808360" cy="280836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42"/>
          <p:cNvSpPr/>
          <p:nvPr/>
        </p:nvSpPr>
        <p:spPr>
          <a:xfrm>
            <a:off x="305928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3564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3059280" y="5013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611280" y="335772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1547640" y="364500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142880" y="4786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41"/>
          <p:cNvSpPr/>
          <p:nvPr/>
        </p:nvSpPr>
        <p:spPr>
          <a:xfrm>
            <a:off x="2627280" y="2349360"/>
            <a:ext cx="1440000" cy="3095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42"/>
          <p:cNvSpPr/>
          <p:nvPr/>
        </p:nvSpPr>
        <p:spPr>
          <a:xfrm>
            <a:off x="3059280" y="328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42"/>
          <p:cNvSpPr/>
          <p:nvPr/>
        </p:nvSpPr>
        <p:spPr>
          <a:xfrm>
            <a:off x="3492360" y="4221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3059280" y="501336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684360" y="2924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35"/>
          <p:cNvSpPr/>
          <p:nvPr/>
        </p:nvSpPr>
        <p:spPr>
          <a:xfrm>
            <a:off x="1547640" y="328464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36"/>
          <p:cNvSpPr/>
          <p:nvPr/>
        </p:nvSpPr>
        <p:spPr>
          <a:xfrm>
            <a:off x="1547640" y="4221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38"/>
          <p:cNvSpPr/>
          <p:nvPr/>
        </p:nvSpPr>
        <p:spPr>
          <a:xfrm>
            <a:off x="2050920" y="3284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785760" y="2500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8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38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спроса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ые отрез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вой спроса, выраженные в форме прямой линии могут имет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ную эласт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57880" y="514332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ая соединительная линия 42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ая соединительная линия 50"/>
          <p:cNvSpPr/>
          <p:nvPr/>
        </p:nvSpPr>
        <p:spPr>
          <a:xfrm>
            <a:off x="3348000" y="3933720"/>
            <a:ext cx="172872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Правая фигурная скобка 54"/>
          <p:cNvSpPr/>
          <p:nvPr/>
        </p:nvSpPr>
        <p:spPr>
          <a:xfrm rot="18881400">
            <a:off x="2441520" y="1522080"/>
            <a:ext cx="560520" cy="2547720"/>
          </a:xfrm>
          <a:custGeom>
            <a:avLst/>
            <a:gdLst>
              <a:gd name="textAreaLeft" fmla="*/ 0 w 560520"/>
              <a:gd name="textAreaRight" fmla="*/ 202320 w 560520"/>
              <a:gd name="textAreaTop" fmla="*/ 14400 h 2547720"/>
              <a:gd name="textAreaBottom" fmla="*/ 2533320 h 25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657"/>
                </a:lnTo>
                <a:cubicBezTo>
                  <a:pt x="10800" y="10855"/>
                  <a:pt x="16200" y="11053"/>
                  <a:pt x="21600" y="11053"/>
                </a:cubicBezTo>
                <a:cubicBezTo>
                  <a:pt x="16200" y="11053"/>
                  <a:pt x="10800" y="11251"/>
                  <a:pt x="10800" y="11449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Правая фигурная скобка 55"/>
          <p:cNvSpPr/>
          <p:nvPr/>
        </p:nvSpPr>
        <p:spPr>
          <a:xfrm rot="18931800">
            <a:off x="4184280" y="3355560"/>
            <a:ext cx="571680" cy="241452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2414520"/>
              <a:gd name="textAreaBottom" fmla="*/ 2399760 h 24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65"/>
                </a:lnTo>
                <a:cubicBezTo>
                  <a:pt x="10800" y="10578"/>
                  <a:pt x="16200" y="10791"/>
                  <a:pt x="21600" y="10791"/>
                </a:cubicBezTo>
                <a:cubicBezTo>
                  <a:pt x="16200" y="10791"/>
                  <a:pt x="10800" y="11004"/>
                  <a:pt x="10800" y="11217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2987640" y="1773360"/>
            <a:ext cx="24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Эластичный интервал (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&g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4859280" y="3716280"/>
            <a:ext cx="309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еэластичный интервал (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&l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84" name="Прямая со стрелкой 62"/>
          <p:cNvCxnSpPr/>
          <p:nvPr/>
        </p:nvCxnSpPr>
        <p:spPr>
          <a:xfrm flipH="1">
            <a:off x="3347280" y="2780280"/>
            <a:ext cx="2880360" cy="1152720"/>
          </a:xfrm>
          <a:prstGeom prst="straightConnector1">
            <a:avLst/>
          </a:prstGeom>
          <a:ln w="38160">
            <a:solidFill>
              <a:srgbClr val="968c8c"/>
            </a:solidFill>
            <a:miter/>
            <a:tailEnd len="med" type="arrow" w="med"/>
          </a:ln>
        </p:spPr>
      </p:cxnSp>
      <p:sp>
        <p:nvSpPr>
          <p:cNvPr id="685" name="Rectangle 20"/>
          <p:cNvSpPr/>
          <p:nvPr/>
        </p:nvSpPr>
        <p:spPr>
          <a:xfrm>
            <a:off x="5796000" y="1989000"/>
            <a:ext cx="324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Точка единичной эластичности (│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726868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│=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Реакция покупателей на изменения цены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rcRect l="9656" t="27677" r="9417" b="16860"/>
          <a:stretch/>
        </p:blipFill>
        <p:spPr>
          <a:xfrm>
            <a:off x="0" y="1600200"/>
            <a:ext cx="9144000" cy="5068800"/>
          </a:xfrm>
          <a:prstGeom prst="rect">
            <a:avLst/>
          </a:prstGeom>
          <a:ln w="0">
            <a:noFill/>
          </a:ln>
        </p:spPr>
      </p:pic>
      <p:sp>
        <p:nvSpPr>
          <p:cNvPr id="68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785760" y="4857840"/>
            <a:ext cx="5605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3"/>
          <p:cNvSpPr/>
          <p:nvPr/>
        </p:nvSpPr>
        <p:spPr>
          <a:xfrm flipV="1">
            <a:off x="755640" y="1700280"/>
            <a:ext cx="0" cy="396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755640" y="5661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20"/>
          <p:cNvSpPr/>
          <p:nvPr/>
        </p:nvSpPr>
        <p:spPr>
          <a:xfrm>
            <a:off x="4140360" y="5805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21"/>
          <p:cNvSpPr/>
          <p:nvPr/>
        </p:nvSpPr>
        <p:spPr>
          <a:xfrm>
            <a:off x="179280" y="1557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Line 41"/>
          <p:cNvSpPr/>
          <p:nvPr/>
        </p:nvSpPr>
        <p:spPr>
          <a:xfrm>
            <a:off x="755640" y="3933720"/>
            <a:ext cx="676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Line 42"/>
          <p:cNvSpPr/>
          <p:nvPr/>
        </p:nvSpPr>
        <p:spPr>
          <a:xfrm>
            <a:off x="2340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Прямая соединительная линия 42"/>
          <p:cNvSpPr/>
          <p:nvPr/>
        </p:nvSpPr>
        <p:spPr>
          <a:xfrm>
            <a:off x="754920" y="2276640"/>
            <a:ext cx="1584360" cy="165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Прямая соединительная линия 50"/>
          <p:cNvSpPr/>
          <p:nvPr/>
        </p:nvSpPr>
        <p:spPr>
          <a:xfrm>
            <a:off x="2339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324000" y="573408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3"/>
          <p:cNvSpPr/>
          <p:nvPr/>
        </p:nvSpPr>
        <p:spPr>
          <a:xfrm flipV="1">
            <a:off x="485928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4859280" y="5661000"/>
            <a:ext cx="403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8317080" y="5805360"/>
            <a:ext cx="82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4356000" y="162864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Rectangle 20"/>
          <p:cNvSpPr/>
          <p:nvPr/>
        </p:nvSpPr>
        <p:spPr>
          <a:xfrm>
            <a:off x="4572000" y="5734080"/>
            <a:ext cx="503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Дуга 45"/>
          <p:cNvSpPr/>
          <p:nvPr/>
        </p:nvSpPr>
        <p:spPr>
          <a:xfrm>
            <a:off x="2627280" y="2276640"/>
            <a:ext cx="4897440" cy="3384360"/>
          </a:xfrm>
          <a:custGeom>
            <a:avLst/>
            <a:gdLst/>
            <a:ahLst/>
            <a:rect l="l" t="t" r="r" b="b"/>
            <a:pathLst>
              <a:path stroke="0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  <a:lnTo>
                  <a:pt x="2448719" y="1692275"/>
                </a:lnTo>
                <a:lnTo>
                  <a:pt x="2258135" y="5133"/>
                </a:lnTo>
                <a:close/>
              </a:path>
              <a:path fill="none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41"/>
          <p:cNvSpPr/>
          <p:nvPr/>
        </p:nvSpPr>
        <p:spPr>
          <a:xfrm>
            <a:off x="755640" y="227664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752472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Rectangle 21"/>
          <p:cNvSpPr/>
          <p:nvPr/>
        </p:nvSpPr>
        <p:spPr>
          <a:xfrm>
            <a:off x="0" y="2060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0" y="3573360"/>
            <a:ext cx="7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21"/>
          <p:cNvSpPr/>
          <p:nvPr/>
        </p:nvSpPr>
        <p:spPr>
          <a:xfrm>
            <a:off x="1979640" y="57340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3708360" y="573408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21"/>
          <p:cNvSpPr/>
          <p:nvPr/>
        </p:nvSpPr>
        <p:spPr>
          <a:xfrm>
            <a:off x="6877080" y="573408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28"/>
          <p:cNvSpPr/>
          <p:nvPr/>
        </p:nvSpPr>
        <p:spPr>
          <a:xfrm>
            <a:off x="7511760" y="3284640"/>
            <a:ext cx="133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7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аким образом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Вопрос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ерекрестная эластичность спрос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3000240" y="3071880"/>
                <a:ext cx="30956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2" name="Rectangle 12"/>
          <p:cNvSpPr/>
          <p:nvPr/>
        </p:nvSpPr>
        <p:spPr>
          <a:xfrm>
            <a:off x="611280" y="46530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заменяемые блага (субститу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дополняемые блага (комплемен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нейтральные бла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дохо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8"/>
              <p:cNvSpPr txBox="1"/>
              <p:nvPr/>
            </p:nvSpPr>
            <p:spPr>
              <a:xfrm>
                <a:off x="3132000" y="2781360"/>
                <a:ext cx="23767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7" name="Rectangle 9"/>
          <p:cNvSpPr/>
          <p:nvPr/>
        </p:nvSpPr>
        <p:spPr>
          <a:xfrm>
            <a:off x="611280" y="4221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роско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первой необх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низкокачественные това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2640" y="54900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Кривые Энг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4" descr="50_7_f3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62728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предлож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1640" y="2071440"/>
            <a:ext cx="560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41"/>
          <p:cNvSpPr/>
          <p:nvPr/>
        </p:nvSpPr>
        <p:spPr>
          <a:xfrm>
            <a:off x="1547640" y="479736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Arc 26"/>
          <p:cNvSpPr/>
          <p:nvPr/>
        </p:nvSpPr>
        <p:spPr>
          <a:xfrm flipV="1" rot="591600">
            <a:off x="2484000" y="220428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Line 41"/>
          <p:cNvSpPr/>
          <p:nvPr/>
        </p:nvSpPr>
        <p:spPr>
          <a:xfrm>
            <a:off x="1547640" y="414972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Line 42"/>
          <p:cNvSpPr/>
          <p:nvPr/>
        </p:nvSpPr>
        <p:spPr>
          <a:xfrm>
            <a:off x="3059280" y="4797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AutoShape 31"/>
          <p:cNvSpPr/>
          <p:nvPr/>
        </p:nvSpPr>
        <p:spPr>
          <a:xfrm>
            <a:off x="4572000" y="4076640"/>
            <a:ext cx="574560" cy="504720"/>
          </a:xfrm>
          <a:prstGeom prst="wedgeRectCallout">
            <a:avLst>
              <a:gd name="adj1" fmla="val -138675"/>
              <a:gd name="adj2" fmla="val 34907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32"/>
          <p:cNvSpPr/>
          <p:nvPr/>
        </p:nvSpPr>
        <p:spPr>
          <a:xfrm>
            <a:off x="4500720" y="5013360"/>
            <a:ext cx="647640" cy="504720"/>
          </a:xfrm>
          <a:prstGeom prst="wedgeRectCallout">
            <a:avLst>
              <a:gd name="adj1" fmla="val -188236"/>
              <a:gd name="adj2" fmla="val -89935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Line 34"/>
          <p:cNvSpPr/>
          <p:nvPr/>
        </p:nvSpPr>
        <p:spPr>
          <a:xfrm>
            <a:off x="3059280" y="5445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21"/>
          <p:cNvSpPr/>
          <p:nvPr/>
        </p:nvSpPr>
        <p:spPr>
          <a:xfrm>
            <a:off x="611280" y="458136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0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Line 42"/>
          <p:cNvSpPr/>
          <p:nvPr/>
        </p:nvSpPr>
        <p:spPr>
          <a:xfrm flipV="1">
            <a:off x="1763640" y="4149720"/>
            <a:ext cx="230364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43"/>
          <p:cNvSpPr/>
          <p:nvPr/>
        </p:nvSpPr>
        <p:spPr>
          <a:xfrm flipV="1">
            <a:off x="4067280" y="2637000"/>
            <a:ext cx="230328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4"/>
              <p:cNvSpPr txBox="1"/>
              <p:nvPr/>
            </p:nvSpPr>
            <p:spPr>
              <a:xfrm>
                <a:off x="5076720" y="2349360"/>
                <a:ext cx="38880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77" name="Прямая со стрелкой 42"/>
          <p:cNvCxnSpPr/>
          <p:nvPr/>
        </p:nvCxnSpPr>
        <p:spPr>
          <a:xfrm flipV="1">
            <a:off x="1926000" y="414504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8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42920" y="20714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Line 41"/>
          <p:cNvSpPr/>
          <p:nvPr/>
        </p:nvSpPr>
        <p:spPr>
          <a:xfrm>
            <a:off x="1547640" y="4581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Line 42"/>
          <p:cNvSpPr/>
          <p:nvPr/>
        </p:nvSpPr>
        <p:spPr>
          <a:xfrm>
            <a:off x="507672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rc 26"/>
          <p:cNvSpPr/>
          <p:nvPr/>
        </p:nvSpPr>
        <p:spPr>
          <a:xfrm flipV="1" rot="591600">
            <a:off x="2626920" y="2275920"/>
            <a:ext cx="2449440" cy="2520720"/>
          </a:xfrm>
          <a:custGeom>
            <a:avLst/>
            <a:gdLst>
              <a:gd name="textAreaLeft" fmla="*/ 0 w 2449440"/>
              <a:gd name="textAreaRight" fmla="*/ 2449440 w 2449440"/>
              <a:gd name="textAreaTop" fmla="*/ 360 h 2520720"/>
              <a:gd name="textAreaBottom" fmla="*/ 2521440 h 2520720"/>
            </a:gdLst>
            <a:ahLst/>
            <a:rect l="textAreaLeft" t="textAreaTop" r="textAreaRight" b="textAreaBottom"/>
            <a:pathLst>
              <a:path fill="none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</a:path>
              <a:path stroke="0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Line 41"/>
          <p:cNvSpPr/>
          <p:nvPr/>
        </p:nvSpPr>
        <p:spPr>
          <a:xfrm>
            <a:off x="1547640" y="31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Line 42"/>
          <p:cNvSpPr/>
          <p:nvPr/>
        </p:nvSpPr>
        <p:spPr>
          <a:xfrm>
            <a:off x="3059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AutoShape 29"/>
          <p:cNvSpPr/>
          <p:nvPr/>
        </p:nvSpPr>
        <p:spPr>
          <a:xfrm>
            <a:off x="5508720" y="4149720"/>
            <a:ext cx="574560" cy="504720"/>
          </a:xfrm>
          <a:prstGeom prst="wedgeRectCallout">
            <a:avLst>
              <a:gd name="adj1" fmla="val -126518"/>
              <a:gd name="adj2" fmla="val -8522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30"/>
          <p:cNvSpPr/>
          <p:nvPr/>
        </p:nvSpPr>
        <p:spPr>
          <a:xfrm>
            <a:off x="5508720" y="4869000"/>
            <a:ext cx="647640" cy="504720"/>
          </a:xfrm>
          <a:prstGeom prst="wedgeRectCallout">
            <a:avLst>
              <a:gd name="adj1" fmla="val -247060"/>
              <a:gd name="adj2" fmla="val -10503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Line 32"/>
          <p:cNvSpPr/>
          <p:nvPr/>
        </p:nvSpPr>
        <p:spPr>
          <a:xfrm>
            <a:off x="3059280" y="5157720"/>
            <a:ext cx="20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1128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1"/>
          <p:cNvSpPr/>
          <p:nvPr/>
        </p:nvSpPr>
        <p:spPr>
          <a:xfrm>
            <a:off x="611280" y="422100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Rectangle 20"/>
          <p:cNvSpPr/>
          <p:nvPr/>
        </p:nvSpPr>
        <p:spPr>
          <a:xfrm>
            <a:off x="48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3" name="Object 3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Line 39"/>
          <p:cNvSpPr/>
          <p:nvPr/>
        </p:nvSpPr>
        <p:spPr>
          <a:xfrm flipV="1">
            <a:off x="3059280" y="3141360"/>
            <a:ext cx="2017440" cy="143820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43"/>
              <p:cNvSpPr txBox="1"/>
              <p:nvPr/>
            </p:nvSpPr>
            <p:spPr>
              <a:xfrm>
                <a:off x="5572080" y="2357280"/>
                <a:ext cx="34131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819" name="Прямая со стрелкой 41"/>
          <p:cNvCxnSpPr/>
          <p:nvPr/>
        </p:nvCxnSpPr>
        <p:spPr>
          <a:xfrm flipV="1">
            <a:off x="2068920" y="3142800"/>
            <a:ext cx="2520" cy="143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214600" y="3571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Line 26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9" name="Object 3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33"/>
          <p:cNvSpPr/>
          <p:nvPr/>
        </p:nvSpPr>
        <p:spPr>
          <a:xfrm>
            <a:off x="6659640" y="3500280"/>
            <a:ext cx="1297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е предлож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500800" y="250020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Line 41"/>
          <p:cNvSpPr/>
          <p:nvPr/>
        </p:nvSpPr>
        <p:spPr>
          <a:xfrm flipV="1">
            <a:off x="1835280" y="3068640"/>
            <a:ext cx="4249440" cy="1224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Line 42"/>
          <p:cNvSpPr/>
          <p:nvPr/>
        </p:nvSpPr>
        <p:spPr>
          <a:xfrm>
            <a:off x="4572000" y="350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Line 42"/>
          <p:cNvSpPr/>
          <p:nvPr/>
        </p:nvSpPr>
        <p:spPr>
          <a:xfrm flipH="1">
            <a:off x="3059280" y="3933720"/>
            <a:ext cx="1440" cy="165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Rectangle 34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Line 35"/>
          <p:cNvSpPr/>
          <p:nvPr/>
        </p:nvSpPr>
        <p:spPr>
          <a:xfrm>
            <a:off x="1547640" y="3933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Line 36"/>
          <p:cNvSpPr/>
          <p:nvPr/>
        </p:nvSpPr>
        <p:spPr>
          <a:xfrm>
            <a:off x="1547640" y="350028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75f55"/>
                </a:solidFill>
                <a:latin typeface="Calibri"/>
              </a:rPr>
              <a:t>Предложение единичной эластичности 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Line 41"/>
          <p:cNvSpPr/>
          <p:nvPr/>
        </p:nvSpPr>
        <p:spPr>
          <a:xfrm flipV="1">
            <a:off x="1979640" y="2349360"/>
            <a:ext cx="2879640" cy="288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Line 42"/>
          <p:cNvSpPr/>
          <p:nvPr/>
        </p:nvSpPr>
        <p:spPr>
          <a:xfrm>
            <a:off x="356400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3059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Line 27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61128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Line 35"/>
          <p:cNvSpPr/>
          <p:nvPr/>
        </p:nvSpPr>
        <p:spPr>
          <a:xfrm>
            <a:off x="1547640" y="4149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Line 36"/>
          <p:cNvSpPr/>
          <p:nvPr/>
        </p:nvSpPr>
        <p:spPr>
          <a:xfrm>
            <a:off x="1619280" y="3645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611280" y="3284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nodeType="clickEffect" fill="hold">
                      <p:stCondLst>
                        <p:cond delay="indefinite"/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142640" y="620640"/>
            <a:ext cx="8001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Неэластичное предложение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000680" y="235728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Line 41"/>
          <p:cNvSpPr/>
          <p:nvPr/>
        </p:nvSpPr>
        <p:spPr>
          <a:xfrm flipH="1">
            <a:off x="2916360" y="2492280"/>
            <a:ext cx="1008000" cy="295272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42"/>
          <p:cNvSpPr/>
          <p:nvPr/>
        </p:nvSpPr>
        <p:spPr>
          <a:xfrm>
            <a:off x="370836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Line 42"/>
          <p:cNvSpPr/>
          <p:nvPr/>
        </p:nvSpPr>
        <p:spPr>
          <a:xfrm>
            <a:off x="3348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Line 27"/>
          <p:cNvSpPr/>
          <p:nvPr/>
        </p:nvSpPr>
        <p:spPr>
          <a:xfrm>
            <a:off x="3348000" y="5013360"/>
            <a:ext cx="362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21"/>
          <p:cNvSpPr/>
          <p:nvPr/>
        </p:nvSpPr>
        <p:spPr>
          <a:xfrm>
            <a:off x="75564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Rectangle 20"/>
          <p:cNvSpPr/>
          <p:nvPr/>
        </p:nvSpPr>
        <p:spPr>
          <a:xfrm>
            <a:off x="30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20"/>
          <p:cNvSpPr/>
          <p:nvPr/>
        </p:nvSpPr>
        <p:spPr>
          <a:xfrm>
            <a:off x="3564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35"/>
          <p:cNvSpPr/>
          <p:nvPr/>
        </p:nvSpPr>
        <p:spPr>
          <a:xfrm>
            <a:off x="1547640" y="4149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Line 36"/>
          <p:cNvSpPr/>
          <p:nvPr/>
        </p:nvSpPr>
        <p:spPr>
          <a:xfrm>
            <a:off x="1547640" y="314172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21"/>
          <p:cNvSpPr/>
          <p:nvPr/>
        </p:nvSpPr>
        <p:spPr>
          <a:xfrm>
            <a:off x="755640" y="299736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8"/>
          <p:cNvSpPr/>
          <p:nvPr/>
        </p:nvSpPr>
        <p:spPr>
          <a:xfrm>
            <a:off x="212400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не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714840" y="228564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8" name="Object 2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Object 2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30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1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Line 32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34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8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4" dur="500"/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9" dur="500"/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4" dur="5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Распределение налогового бремени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076720" y="4220640"/>
            <a:ext cx="43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704404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Line 13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1258920" y="5734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Rectangle 21"/>
          <p:cNvSpPr/>
          <p:nvPr/>
        </p:nvSpPr>
        <p:spPr>
          <a:xfrm>
            <a:off x="324000" y="1628640"/>
            <a:ext cx="1223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Rectangle 23"/>
          <p:cNvSpPr/>
          <p:nvPr/>
        </p:nvSpPr>
        <p:spPr>
          <a:xfrm>
            <a:off x="5651640" y="2565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92436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Rectangle 26"/>
          <p:cNvSpPr/>
          <p:nvPr/>
        </p:nvSpPr>
        <p:spPr>
          <a:xfrm>
            <a:off x="6227640" y="3357720"/>
            <a:ext cx="266400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27"/>
          <p:cNvSpPr/>
          <p:nvPr/>
        </p:nvSpPr>
        <p:spPr>
          <a:xfrm flipV="1">
            <a:off x="1979640" y="242064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Line 28"/>
          <p:cNvSpPr/>
          <p:nvPr/>
        </p:nvSpPr>
        <p:spPr>
          <a:xfrm>
            <a:off x="2340000" y="1844640"/>
            <a:ext cx="3095640" cy="324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Line 30"/>
          <p:cNvSpPr/>
          <p:nvPr/>
        </p:nvSpPr>
        <p:spPr>
          <a:xfrm flipH="1">
            <a:off x="1547280" y="3141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Line 31"/>
          <p:cNvSpPr/>
          <p:nvPr/>
        </p:nvSpPr>
        <p:spPr>
          <a:xfrm flipH="1">
            <a:off x="1547280" y="371628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Line 32"/>
          <p:cNvSpPr/>
          <p:nvPr/>
        </p:nvSpPr>
        <p:spPr>
          <a:xfrm>
            <a:off x="4067280" y="371628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Line 33"/>
          <p:cNvSpPr/>
          <p:nvPr/>
        </p:nvSpPr>
        <p:spPr>
          <a:xfrm>
            <a:off x="3564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Line 34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Line 37"/>
          <p:cNvSpPr/>
          <p:nvPr/>
        </p:nvSpPr>
        <p:spPr>
          <a:xfrm flipV="1">
            <a:off x="1692360" y="169992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ctangle 38"/>
          <p:cNvSpPr/>
          <p:nvPr/>
        </p:nvSpPr>
        <p:spPr>
          <a:xfrm>
            <a:off x="5508720" y="17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Line 39"/>
          <p:cNvSpPr/>
          <p:nvPr/>
        </p:nvSpPr>
        <p:spPr>
          <a:xfrm flipV="1">
            <a:off x="45720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Rectangle 40"/>
          <p:cNvSpPr/>
          <p:nvPr/>
        </p:nvSpPr>
        <p:spPr>
          <a:xfrm>
            <a:off x="4643280" y="24210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1547640" y="3141720"/>
            <a:ext cx="2016360" cy="1008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42"/>
          <p:cNvSpPr/>
          <p:nvPr/>
        </p:nvSpPr>
        <p:spPr>
          <a:xfrm>
            <a:off x="1547640" y="3141720"/>
            <a:ext cx="2016360" cy="57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Rectangle 43"/>
          <p:cNvSpPr/>
          <p:nvPr/>
        </p:nvSpPr>
        <p:spPr>
          <a:xfrm>
            <a:off x="1547640" y="3716280"/>
            <a:ext cx="201636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Line 52"/>
          <p:cNvSpPr/>
          <p:nvPr/>
        </p:nvSpPr>
        <p:spPr>
          <a:xfrm>
            <a:off x="3780000" y="357336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nodeType="clickEffect" fill="hold">
                      <p:stCondLst>
                        <p:cond delay="indefinite"/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5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1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6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42960" y="1600200"/>
            <a:ext cx="8123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эластичность спроса по цене», «перекрестная эластичность спроса»  и «эластичность спроса по доход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цен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79280" y="4797360"/>
                <a:ext cx="878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Эластичность</m:t>
                    </m:r>
                    <m:r>
                      <m:rPr>
                        <m:lit/>
                        <m:nor/>
                      </m:rPr>
                      <m:t xml:space="preserve">спроса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rPr>
                        <m:lit/>
                        <m:nor/>
                      </m:rPr>
                      <m:t xml:space="preserve">цен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 объема спроса, 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ие цены, 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моду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ак как рост цены всегда приводит к снижению объема спро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85880" y="414324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rc 34"/>
          <p:cNvSpPr/>
          <p:nvPr/>
        </p:nvSpPr>
        <p:spPr>
          <a:xfrm flipV="1" rot="5400000">
            <a:off x="2662920" y="216900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4067280" y="4653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ая соединительная линия 50"/>
          <p:cNvSpPr/>
          <p:nvPr/>
        </p:nvSpPr>
        <p:spPr>
          <a:xfrm>
            <a:off x="3347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Прямая соединительная линия 50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AutoShape 39"/>
          <p:cNvSpPr/>
          <p:nvPr/>
        </p:nvSpPr>
        <p:spPr>
          <a:xfrm>
            <a:off x="3492360" y="3141720"/>
            <a:ext cx="574920" cy="504720"/>
          </a:xfrm>
          <a:prstGeom prst="wedgeRectCallout">
            <a:avLst>
              <a:gd name="adj1" fmla="val -71546"/>
              <a:gd name="adj2" fmla="val 192768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40"/>
          <p:cNvSpPr/>
          <p:nvPr/>
        </p:nvSpPr>
        <p:spPr>
          <a:xfrm>
            <a:off x="4284720" y="3645000"/>
            <a:ext cx="647640" cy="504720"/>
          </a:xfrm>
          <a:prstGeom prst="wedgeRectCallout">
            <a:avLst>
              <a:gd name="adj1" fmla="val -14901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41"/>
          <p:cNvSpPr/>
          <p:nvPr/>
        </p:nvSpPr>
        <p:spPr>
          <a:xfrm>
            <a:off x="1835280" y="3933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3348000" y="5445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611280" y="3573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2987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7"/>
              <p:cNvSpPr txBox="1"/>
              <p:nvPr/>
            </p:nvSpPr>
            <p:spPr>
              <a:xfrm>
                <a:off x="4572000" y="213372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4" name="Object 4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4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Місце для нижнього колонтитула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71680" y="45716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1619280" y="314172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42"/>
          <p:cNvSpPr/>
          <p:nvPr/>
        </p:nvSpPr>
        <p:spPr>
          <a:xfrm>
            <a:off x="2556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Arc 26"/>
          <p:cNvSpPr/>
          <p:nvPr/>
        </p:nvSpPr>
        <p:spPr>
          <a:xfrm flipV="1" rot="5400000">
            <a:off x="2446920" y="2312640"/>
            <a:ext cx="2449800" cy="2521080"/>
          </a:xfrm>
          <a:custGeom>
            <a:avLst/>
            <a:gdLst>
              <a:gd name="textAreaLeft" fmla="*/ 0 w 2449800"/>
              <a:gd name="textAreaRight" fmla="*/ 2450160 w 244980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4067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Прямая соединительная линия 50"/>
          <p:cNvSpPr/>
          <p:nvPr/>
        </p:nvSpPr>
        <p:spPr>
          <a:xfrm>
            <a:off x="2556000" y="3141720"/>
            <a:ext cx="1511280" cy="1511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31"/>
          <p:cNvSpPr/>
          <p:nvPr/>
        </p:nvSpPr>
        <p:spPr>
          <a:xfrm>
            <a:off x="4572000" y="3645000"/>
            <a:ext cx="574560" cy="504720"/>
          </a:xfrm>
          <a:prstGeom prst="wedgeRectCallout">
            <a:avLst>
              <a:gd name="adj1" fmla="val -138675"/>
              <a:gd name="adj2" fmla="val 19180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32"/>
          <p:cNvSpPr/>
          <p:nvPr/>
        </p:nvSpPr>
        <p:spPr>
          <a:xfrm>
            <a:off x="3419640" y="2133720"/>
            <a:ext cx="647640" cy="504720"/>
          </a:xfrm>
          <a:prstGeom prst="wedgeRectCallout">
            <a:avLst>
              <a:gd name="adj1" fmla="val -9264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33"/>
          <p:cNvSpPr/>
          <p:nvPr/>
        </p:nvSpPr>
        <p:spPr>
          <a:xfrm>
            <a:off x="2050920" y="3213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2556000" y="5157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611280" y="2781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9" name="Object 43"/>
              <p:cNvSpPr txBox="1"/>
              <p:nvPr/>
            </p:nvSpPr>
            <p:spPr>
              <a:xfrm>
                <a:off x="4572000" y="2133720"/>
                <a:ext cx="4032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57880" y="357156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9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42"/>
          <p:cNvSpPr/>
          <p:nvPr/>
        </p:nvSpPr>
        <p:spPr>
          <a:xfrm>
            <a:off x="6659640" y="3500280"/>
            <a:ext cx="1584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0:59:14Z</dcterms:created>
  <dc:creator>ira</dc:creator>
  <dc:description/>
  <dc:language>en-US</dc:language>
  <cp:lastModifiedBy>LEGION</cp:lastModifiedBy>
  <dcterms:modified xsi:type="dcterms:W3CDTF">2016-01-04T08:19:36Z</dcterms:modified>
  <cp:revision>47</cp:revision>
  <dc:subject/>
  <dc:title>Эластичность спроса и предложения</dc:title>
</cp:coreProperties>
</file>