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5.jpeg" ContentType="image/jpeg"/>
  <Override PartName="/ppt/media/image20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7.wmf" ContentType="image/x-wmf"/>
  <Override PartName="/ppt/media/image30.jpeg" ContentType="image/jpeg"/>
  <Override PartName="/ppt/media/image24.jpeg" ContentType="image/jpeg"/>
  <Override PartName="/ppt/media/image11.jpeg" ContentType="image/jpeg"/>
  <Override PartName="/ppt/media/image10.wmf" ContentType="image/x-wmf"/>
  <Override PartName="/ppt/media/image25.jpeg" ContentType="image/jpeg"/>
  <Override PartName="/ppt/media/image12.jpeg" ContentType="image/jpeg"/>
  <Override PartName="/ppt/media/image8.wmf" ContentType="image/x-wmf"/>
  <Override PartName="/ppt/media/image13.jpeg" ContentType="image/jpeg"/>
  <Override PartName="/ppt/media/image31.wmf" ContentType="image/x-wmf"/>
  <Override PartName="/ppt/media/image6.wmf" ContentType="image/x-wmf"/>
  <Override PartName="/ppt/media/image19.jpeg" ContentType="image/jpeg"/>
  <Override PartName="/ppt/media/image33.jpeg" ContentType="image/jpeg"/>
  <Override PartName="/ppt/media/image3.gif" ContentType="image/gi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CB60-3E0B-4F0D-ADEF-8D2032AF41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.Что такое    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ерв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ховые»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кушки каур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аллические деньги на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на Рус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I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Доходы и расходы семь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ходы – уменьшение суммы первоначальных средств течения отчётного пери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ы расход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йдите в правой колонке определения, соответствующим понятиям в левой коло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3. СЕМЕЙНЫЙ БЮДЖ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 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им бюджетом называют таблицу доходов и расходов человека, семьи за определенный период времени, чаще всего за месяц и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минимальный потребительский бюджет (прожиточный минимум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ьская корзина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балан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 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актива и пасси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тив отражает состав сред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ссив указывает источники их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айдите правильный ответ.  Бюджет семьи э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кончите предло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айдите в правой колонке определения, соответствующие понятиям в левой колон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ышл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а обслу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илищн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роитель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ельское хозяй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части экономики тесно взаимосвяза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F1D1-0D6B-4731-A0B2-3DFF4C38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2845-84B6-47F9-BBC7-2C854902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B282-DA37-4395-98A0-AF3437B2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DCF2-F600-4B3C-A482-A3F719B7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3A9-19CF-4B14-A026-AE92B98E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6B8C-19E6-4C97-BD08-997CE15E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1D0D-FAAF-44BB-A73F-34D66D34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6780-89AC-4E5A-902B-82171AC7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8938-66EE-4431-A7EE-49371A79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CC5-317D-4632-8A0F-46D37CF8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489D-5EF8-488E-8223-381AECC1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34F9-4962-4608-96F8-45AF41E9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5492-AA79-423B-B70C-8AE3C3F28C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hyperlink" Target="http://helpower.narod.ru/image/stockfish.jpg" TargetMode="External"/><Relationship Id="rId10" Type="http://schemas.openxmlformats.org/officeDocument/2006/relationships/image" Target="../media/image16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332000" y="9079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d60093"/>
                </a:solidFill>
                <a:latin typeface="Arial Unicode MS"/>
              </a:rPr>
              <a:t>1.Что такое     экономика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1" descr="C:\Program Files\Common Files\Microsoft Shared\Clipart\cagcat50\PE01561_.wmf"/>
          <p:cNvPicPr/>
          <p:nvPr/>
        </p:nvPicPr>
        <p:blipFill>
          <a:blip r:embed="rId1"/>
          <a:stretch/>
        </p:blipFill>
        <p:spPr>
          <a:xfrm>
            <a:off x="5186520" y="4035600"/>
            <a:ext cx="3549600" cy="235584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050920" y="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d60093"/>
                </a:solidFill>
                <a:latin typeface="Arial"/>
              </a:rPr>
              <a:t>Первые деньг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05264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2" name="Рисунок 11" descr="овца"/>
          <p:cNvPicPr/>
          <p:nvPr/>
        </p:nvPicPr>
        <p:blipFill>
          <a:blip r:embed="rId3"/>
          <a:stretch/>
        </p:blipFill>
        <p:spPr>
          <a:xfrm>
            <a:off x="179280" y="4076640"/>
            <a:ext cx="3672000" cy="2465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8" descr="http://im6-tub.mail.ru/i?id=141166318&amp;tov=6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140360" y="1125360"/>
            <a:ext cx="2125440" cy="2519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0" descr="http://im7-tub.mail.ru/i?id=48172935&amp;tov=7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516720" y="1125360"/>
            <a:ext cx="2158920" cy="251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" descr="Соль"/>
          <p:cNvPicPr/>
          <p:nvPr/>
        </p:nvPicPr>
        <p:blipFill>
          <a:blip r:embed="rId8"/>
          <a:srcRect l="0" t="15875" r="0" b="0"/>
          <a:stretch/>
        </p:blipFill>
        <p:spPr>
          <a:xfrm>
            <a:off x="4140360" y="4149720"/>
            <a:ext cx="1819080" cy="223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6" name="Picture 11" descr="Картинка 29 из 1264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156360" y="4221000"/>
            <a:ext cx="2771640" cy="21704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9"/>
          <p:cNvSpPr/>
          <p:nvPr/>
        </p:nvSpPr>
        <p:spPr>
          <a:xfrm>
            <a:off x="1332000" y="1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«Меховые» деньги на Р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50920" y="836640"/>
            <a:ext cx="849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гами служили и шкуры животных – песца, белки, соболя, куниц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ракушка"/>
          <p:cNvPicPr/>
          <p:nvPr/>
        </p:nvPicPr>
        <p:blipFill>
          <a:blip r:embed="rId1"/>
          <a:stretch/>
        </p:blipFill>
        <p:spPr>
          <a:xfrm>
            <a:off x="4572000" y="4152960"/>
            <a:ext cx="4103640" cy="2705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im0-tub.mail.ru/i?id=55807633&amp;tov=0"/>
          <p:cNvPicPr/>
          <p:nvPr/>
        </p:nvPicPr>
        <p:blipFill>
          <a:blip r:embed="rId2"/>
          <a:stretch/>
        </p:blipFill>
        <p:spPr>
          <a:xfrm>
            <a:off x="395280" y="4000680"/>
            <a:ext cx="3308400" cy="2857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Text Box 6"/>
          <p:cNvSpPr/>
          <p:nvPr/>
        </p:nvSpPr>
        <p:spPr>
          <a:xfrm>
            <a:off x="539640" y="1125360"/>
            <a:ext cx="820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1403280" y="260280"/>
            <a:ext cx="68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кушки каур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324000" y="1890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Металлические деньги на Рус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Платежный слиток гривна 'черниговского' типа. XII-XIII века. Увеличить"/>
          <p:cNvPicPr/>
          <p:nvPr/>
        </p:nvPicPr>
        <p:blipFill>
          <a:blip r:embed="rId1"/>
          <a:stretch/>
        </p:blipFill>
        <p:spPr>
          <a:xfrm>
            <a:off x="3203640" y="3805200"/>
            <a:ext cx="5651280" cy="3052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Новгородские рубли - слитки. XIV-XV века. Увеличить"/>
          <p:cNvPicPr/>
          <p:nvPr/>
        </p:nvPicPr>
        <p:blipFill>
          <a:blip r:embed="rId2"/>
          <a:stretch/>
        </p:blipFill>
        <p:spPr>
          <a:xfrm>
            <a:off x="0" y="907920"/>
            <a:ext cx="7272360" cy="23576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5"/>
          <p:cNvSpPr/>
          <p:nvPr/>
        </p:nvSpPr>
        <p:spPr>
          <a:xfrm>
            <a:off x="611280" y="40464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ивну рубили на части – отсюда название «рубл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9" descr="Картинка 46 из 205"/>
          <p:cNvPicPr/>
          <p:nvPr/>
        </p:nvPicPr>
        <p:blipFill>
          <a:blip r:embed="rId1"/>
          <a:stretch/>
        </p:blipFill>
        <p:spPr>
          <a:xfrm>
            <a:off x="5364000" y="3543480"/>
            <a:ext cx="3953160" cy="3314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alery_1_7_2"/>
          <p:cNvPicPr/>
          <p:nvPr/>
        </p:nvPicPr>
        <p:blipFill>
          <a:blip r:embed="rId2"/>
          <a:stretch/>
        </p:blipFill>
        <p:spPr>
          <a:xfrm>
            <a:off x="0" y="1628640"/>
            <a:ext cx="5278320" cy="39592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6" descr="1892 год"/>
          <p:cNvPicPr/>
          <p:nvPr/>
        </p:nvPicPr>
        <p:blipFill>
          <a:blip r:embed="rId1"/>
          <a:stretch/>
        </p:blipFill>
        <p:spPr>
          <a:xfrm>
            <a:off x="179280" y="3359160"/>
            <a:ext cx="5832720" cy="3498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!0 екат"/>
          <p:cNvPicPr/>
          <p:nvPr/>
        </p:nvPicPr>
        <p:blipFill>
          <a:blip r:embed="rId2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6"/>
          <p:cNvSpPr/>
          <p:nvPr/>
        </p:nvSpPr>
        <p:spPr>
          <a:xfrm>
            <a:off x="1476360" y="260280"/>
            <a:ext cx="69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Бумажные деньги на Рус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250920" y="1197000"/>
            <a:ext cx="57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умажные деньги появились в России в 18 веке при Екатерине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"/>
              </a:rPr>
              <a:t>Функции де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J0182582"/>
          <p:cNvPicPr/>
          <p:nvPr/>
        </p:nvPicPr>
        <p:blipFill>
          <a:blip r:embed="rId1"/>
          <a:stretch/>
        </p:blipFill>
        <p:spPr>
          <a:xfrm>
            <a:off x="4067280" y="3429000"/>
            <a:ext cx="4883040" cy="3263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71280" y="1413000"/>
            <a:ext cx="907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годня в мире экономики деньги выполняют три основные функции: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обме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измер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средства сбере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62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d60093"/>
                </a:solidFill>
                <a:latin typeface="Arial"/>
              </a:rPr>
              <a:t>2. Доходы и расходы семь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PE02622_"/>
          <p:cNvPicPr/>
          <p:nvPr/>
        </p:nvPicPr>
        <p:blipFill>
          <a:blip r:embed="rId1"/>
          <a:stretch/>
        </p:blipFill>
        <p:spPr>
          <a:xfrm>
            <a:off x="2340000" y="3517920"/>
            <a:ext cx="4118040" cy="334008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Доход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деньги или материальные ценности, получаемые от предприятия, отдельного лица или какого-либо вида деятельности. Различают совокупный и денежный доходы. Если в совокупный входят все виды доходов (зарплата, дивиденды на акции, льготы, бесплатная путёвка в дом отдыха, служебная машина), то денежный доход включает только деньги, полученные за определённый период времен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11280" y="62028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60093"/>
                </a:solidFill>
                <a:latin typeface="Arial"/>
              </a:rPr>
              <a:t>Расходы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уменьшение суммы первоначальных средств течения отчётного период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требительские расходы можно разделить на обязательные и произвольные. Обязательные расходы - это расходы на питание, квартплату и коммунальные услуги, одежду, транспорт; всё в рамках необходимого минимум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звольные расходы зависят от индивидуальности человека и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4920" y="404640"/>
            <a:ext cx="6227640" cy="579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мог он ямба от хоре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мы ни бились, отлич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ранил Гомера, Феокри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то читал Адама См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был глубокий экон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 есть умел судить о т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государство богат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чем живет, и поч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нужно золота ем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простой продукт име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.С. Пушк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G00013_"/>
          <p:cNvPicPr/>
          <p:nvPr/>
        </p:nvPicPr>
        <p:blipFill>
          <a:blip r:embed="rId1"/>
          <a:stretch/>
        </p:blipFill>
        <p:spPr>
          <a:xfrm>
            <a:off x="5435640" y="549360"/>
            <a:ext cx="3301920" cy="2773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BS00508_"/>
          <p:cNvPicPr/>
          <p:nvPr/>
        </p:nvPicPr>
        <p:blipFill>
          <a:blip r:embed="rId2"/>
          <a:stretch/>
        </p:blipFill>
        <p:spPr>
          <a:xfrm>
            <a:off x="6443640" y="3933720"/>
            <a:ext cx="1575000" cy="16621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60093"/>
                </a:solidFill>
                <a:latin typeface="Arial"/>
              </a:rPr>
              <a:t>Группы расход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язательные пла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т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зяйственно-бытовые нуж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личного поль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меты комнатного убр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товая техника и приспособления для ведения домашнего хозяй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ультурные и информационные потре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рт, туризм, увлечения, отд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ч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324000" y="-1080"/>
            <a:ext cx="8820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т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ите в правой колонке определения, соответствующим понятиям в левой колон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5280" y="1268280"/>
          <a:ext cx="8569440" cy="5211720"/>
        </p:xfrm>
        <a:graphic>
          <a:graphicData uri="http://schemas.openxmlformats.org/drawingml/2006/table">
            <a:tbl>
              <a:tblPr/>
              <a:tblGrid>
                <a:gridCol w="241200"/>
                <a:gridCol w="1865520"/>
                <a:gridCol w="303120"/>
                <a:gridCol w="615960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457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ка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товаров и услуг, которые Гражданин 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ья могут приобрести в определённый пери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43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ени на свои номинальные доход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ctr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туральное хозяй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точники, средства, обеспечения жизни людей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принимательской деятельности,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бы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ица между суммой денег от реализации товаров 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уг и затратами на их производство, продаж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ная 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620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 жизни, при котором семья вынуждена сама производить всё или почти всё, что ей нужно для жиз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альный доход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ое вознаграждение, которое получает работ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095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емья за свой труд за определённый период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зяйство и хозяйственная деятельность т.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окупность средств, ресурсов, процессов, используемых людьми для обеспечения жизни, удовлетворения потребносте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160"/>
          <p:cNvSpPr/>
          <p:nvPr/>
        </p:nvSpPr>
        <p:spPr>
          <a:xfrm>
            <a:off x="0" y="543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26920" y="33336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римере своей семьи расскажите о том, из чего складывается доходы и расходы семьи в течение месяца в табличной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11280" y="3429000"/>
          <a:ext cx="8075520" cy="11844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  <a:gridCol w="2017800"/>
                <a:gridCol w="2019240"/>
              </a:tblGrid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3" name="Picture 3" descr="PE01460_"/>
          <p:cNvPicPr/>
          <p:nvPr/>
        </p:nvPicPr>
        <p:blipFill>
          <a:blip r:embed="rId1"/>
          <a:stretch/>
        </p:blipFill>
        <p:spPr>
          <a:xfrm>
            <a:off x="6804000" y="4456080"/>
            <a:ext cx="1932120" cy="24019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d60093"/>
                </a:solidFill>
                <a:latin typeface="Arial"/>
              </a:rPr>
              <a:t>3. СЕМЕЙНЫЙ БЮДЖЕТ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PE02622_"/>
          <p:cNvPicPr/>
          <p:nvPr/>
        </p:nvPicPr>
        <p:blipFill>
          <a:blip r:embed="rId1"/>
          <a:stretch/>
        </p:blipFill>
        <p:spPr>
          <a:xfrm>
            <a:off x="2484360" y="3068640"/>
            <a:ext cx="4189320" cy="339732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333360"/>
            <a:ext cx="637236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600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Бюджет</a:t>
            </a:r>
            <a:r>
              <a:rPr b="0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в переводе с английского означает «денежная сумка» - это смета или финансовый отчет, который суммирует доходы и расходы за определенный период времени (месяц, год). Если бюджет показывает, что расходы равны доходам, то его называют сбалансированным. Когда расходы превышают доходы, тогда говорят, что бюджет имеет дефици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4" descr="00007326"/>
          <p:cNvPicPr/>
          <p:nvPr/>
        </p:nvPicPr>
        <p:blipFill>
          <a:blip r:embed="rId1"/>
          <a:stretch/>
        </p:blipFill>
        <p:spPr>
          <a:xfrm>
            <a:off x="6081840" y="1989000"/>
            <a:ext cx="30621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333000"/>
            <a:ext cx="8893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ребительским бюдж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таблицу доходов и расходов человека, семьи за определенный период времени, чаще всего за месяц и го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ществует минимальный уровень жизни и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минимальный потребительский бюдже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житочный миниму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- это социально-экономическая категория, характеризующая минимум жизненных средств, физически необходимый для поддержания жизнедеятельности людей и восстановления их рабочей силы, т. е. тот самый минимум, который необходим человеку для существ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отребительская корзин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это принятый в данной стране расчетный годовой набор товаров и услуг, потребление которого обеспечивает необходимый уровень жизни населения. В потребительскую корзину входят основные продукты питания: молоко, хлеб, мясо, масло, фрукты, овощи, различные услуги 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3" descr="BD08911_"/>
          <p:cNvPicPr/>
          <p:nvPr/>
        </p:nvPicPr>
        <p:blipFill>
          <a:blip r:embed="rId1"/>
          <a:stretch/>
        </p:blipFill>
        <p:spPr>
          <a:xfrm>
            <a:off x="6934320" y="4778280"/>
            <a:ext cx="2209680" cy="2079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, чтобы семья умела правильно распределять свой бюджет, освоила основные принципы домашней бухгалтерии, необходимые для получения навыков правильного и рационального распределения полученных доходов. Для этого семья составл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балан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аланс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это равновесие, а точнее сопоставление отдельных сторон какого-то явления, которые должны уравновешивать друг друга, например: доходы – расходы; ресурсы – потребности и т.д. Он позволяет выявить сумму на определенную дату имеющихся в распоряжении семьи средств и раскрыть источники их образования. Баланс состоит из двух частей: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а и пассив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кт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тражает состав средст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асс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казывает источники их образ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72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Найдите правильный ответ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 Бюджет семьи эт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деньги или материальные ценности, получаемые от предприятия, отдельного лица или какого-либо рода деятель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журнал, где учтены все доходы семьи, имущество, ценности, долги и расходы на те или иные потребн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) структура всех доходов и расходов семьи за определенный промежуток времен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) умение правильно распределять доход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2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кончите предложения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Если бюджет показывает, что расходы равны доходам, то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) Если расходы превышают доходы, т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3.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йдите в правой колонке определения, соответствующие понятиям в левой колонке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Доход               А  Затраты, издержки, потребление чего-либо дл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пределенной ц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Расход             Б  Равновесие, сопоставление отдельных сторон какого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бо явления, которые должны уравновесить друг дру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Баланс             В  Деньги или материальные ценности, получаемые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приятия, отдельного лица или какого-либо 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7"/>
          <p:cNvSpPr/>
          <p:nvPr/>
        </p:nvSpPr>
        <p:spPr>
          <a:xfrm>
            <a:off x="324000" y="189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60093"/>
                </a:solidFill>
                <a:latin typeface="Arial Unicode MS"/>
              </a:rPr>
              <a:t>Что такое эконом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50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Экос» - дом, хозяй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номос» - зак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рмин “экономика” ввёл в научный оборот выдающийся философ Древней Греции Аристотель (384-322г.г. до Н.Э.), составил его из двух греческих слов: “Эйкос” – “хозяйство” и “Номос” – “закон”; так что “экономика” в переводе с древнегреческого означает “законы хозяйства”. Первоначально само слово “экономика” обозначало “искусство ведения домашнего хозяйства”. Постепенно границы экономики расширялись и в последние время включали в себя всё, что относится к экономической жизни обществ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0" descr="Аристотель"/>
          <p:cNvPicPr/>
          <p:nvPr/>
        </p:nvPicPr>
        <p:blipFill>
          <a:blip r:embed="rId1"/>
          <a:stretch/>
        </p:blipFill>
        <p:spPr>
          <a:xfrm>
            <a:off x="5245200" y="907920"/>
            <a:ext cx="3898800" cy="29257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24000" y="-13320"/>
            <a:ext cx="842472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ыне в России начался период активного возрождения домашних хозяйств, а вместе с ним и домашней эконом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это общество в миниатюре, она развивается в основном по тем же экономическим законам, что и об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является важнейшим источником воспроизводства физиологического и интеллектуального потенциала государства. люди, рабочая сила – ведущая составляющая ресурсов семьи, общества. И чем выше уровень культуры, образованности членов семьи, тем выше интеллектуальный потенциал государ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мья – важнейший источник социального и экономического развития общества. Она является его первичной ячейкой. Для каждого человека семья – начало начал. Не зря говорят :счастлив тот, кто счастлив в своём до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57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ждая семья живёт в условиях возрастающих потребностей и ограниченности ресурсов, то есть обладает определёнными ограничен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машние хозяйства и предприятия представляют собой основу экономического цикла, являются основными субъектами экономики. Товары и услуги, производимые на предприятиях, поступают в распоряжение домашних хозяйств, которые в свою очередь предоставляют за это капитал, осуществляя обмен товара на 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-684360" y="3517920"/>
            <a:ext cx="10434960" cy="3339720"/>
            <a:chOff x="-684360" y="3517920"/>
            <a:chExt cx="10434960" cy="3339720"/>
          </a:xfrm>
        </p:grpSpPr>
        <p:sp>
          <p:nvSpPr>
            <p:cNvPr id="63" name="AutoShape 5"/>
            <p:cNvSpPr/>
            <p:nvPr/>
          </p:nvSpPr>
          <p:spPr>
            <a:xfrm>
              <a:off x="-684360" y="3517920"/>
              <a:ext cx="10434960" cy="33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6"/>
            <p:cNvSpPr/>
            <p:nvPr/>
          </p:nvSpPr>
          <p:spPr>
            <a:xfrm>
              <a:off x="3449880" y="3963240"/>
              <a:ext cx="255888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осудар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7"/>
            <p:cNvSpPr/>
            <p:nvPr/>
          </p:nvSpPr>
          <p:spPr>
            <a:xfrm>
              <a:off x="891000" y="5299200"/>
              <a:ext cx="1968120" cy="1112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машнее хозяйств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8"/>
            <p:cNvSpPr/>
            <p:nvPr/>
          </p:nvSpPr>
          <p:spPr>
            <a:xfrm>
              <a:off x="5616000" y="5521680"/>
              <a:ext cx="2362320" cy="66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редприят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9"/>
            <p:cNvSpPr/>
            <p:nvPr/>
          </p:nvSpPr>
          <p:spPr>
            <a:xfrm flipV="1">
              <a:off x="1283760" y="4185360"/>
              <a:ext cx="2166120" cy="11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10"/>
            <p:cNvSpPr/>
            <p:nvPr/>
          </p:nvSpPr>
          <p:spPr>
            <a:xfrm flipH="1">
              <a:off x="1677960" y="4408560"/>
              <a:ext cx="177192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1"/>
            <p:cNvSpPr/>
            <p:nvPr/>
          </p:nvSpPr>
          <p:spPr>
            <a:xfrm>
              <a:off x="2859120" y="57441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12"/>
            <p:cNvSpPr/>
            <p:nvPr/>
          </p:nvSpPr>
          <p:spPr>
            <a:xfrm flipH="1">
              <a:off x="2858760" y="5967360"/>
              <a:ext cx="275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3"/>
            <p:cNvSpPr/>
            <p:nvPr/>
          </p:nvSpPr>
          <p:spPr>
            <a:xfrm>
              <a:off x="6008760" y="4185720"/>
              <a:ext cx="1575360" cy="133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4"/>
            <p:cNvSpPr/>
            <p:nvPr/>
          </p:nvSpPr>
          <p:spPr>
            <a:xfrm flipH="1" flipV="1">
              <a:off x="5812200" y="4631040"/>
              <a:ext cx="98496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NA00417_"/>
          <p:cNvPicPr/>
          <p:nvPr/>
        </p:nvPicPr>
        <p:blipFill>
          <a:blip r:embed="rId1"/>
          <a:stretch/>
        </p:blipFill>
        <p:spPr>
          <a:xfrm>
            <a:off x="1908000" y="333360"/>
            <a:ext cx="5472360" cy="6026040"/>
          </a:xfrm>
          <a:prstGeom prst="rect">
            <a:avLst/>
          </a:prstGeom>
          <a:ln w="0">
            <a:noFill/>
          </a:ln>
        </p:spPr>
      </p:pic>
      <p:sp>
        <p:nvSpPr>
          <p:cNvPr id="75" name="WordArt 14"/>
          <p:cNvSpPr txBox="1"/>
          <p:nvPr/>
        </p:nvSpPr>
        <p:spPr>
          <a:xfrm>
            <a:off x="2484360" y="6165720"/>
            <a:ext cx="3816360" cy="4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Экономика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50920" y="436572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ельск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468360" y="3213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рои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1332000" y="1916280"/>
            <a:ext cx="2808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мышле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1116000" y="69228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анспо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3564000" y="333360"/>
            <a:ext cx="25146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диц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3"/>
          <p:cNvSpPr/>
          <p:nvPr/>
        </p:nvSpPr>
        <p:spPr>
          <a:xfrm>
            <a:off x="6300720" y="62064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рго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5076720" y="1989000"/>
            <a:ext cx="26672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6372360" y="3284640"/>
            <a:ext cx="25905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фера обслуж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6372360" y="4437000"/>
            <a:ext cx="2286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илищн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1258920" y="26028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оитель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анспорт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J0233546"/>
          <p:cNvPicPr/>
          <p:nvPr/>
        </p:nvPicPr>
        <p:blipFill>
          <a:blip r:embed="rId1"/>
          <a:stretch/>
        </p:blipFill>
        <p:spPr>
          <a:xfrm>
            <a:off x="0" y="2276640"/>
            <a:ext cx="403380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J0233548"/>
          <p:cNvPicPr/>
          <p:nvPr/>
        </p:nvPicPr>
        <p:blipFill>
          <a:blip r:embed="rId2"/>
          <a:stretch/>
        </p:blipFill>
        <p:spPr>
          <a:xfrm>
            <a:off x="5219640" y="2421000"/>
            <a:ext cx="3706920" cy="2044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250920" y="260280"/>
            <a:ext cx="8642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ельское хозяй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042920" y="5661000"/>
            <a:ext cx="6551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орговл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AutoShape 4"/>
          <p:cNvSpPr/>
          <p:nvPr/>
        </p:nvSpPr>
        <p:spPr>
          <a:xfrm>
            <a:off x="3995640" y="1413000"/>
            <a:ext cx="1368360" cy="3960720"/>
          </a:xfrm>
          <a:prstGeom prst="upDownArrow">
            <a:avLst>
              <a:gd name="adj1" fmla="val 50000"/>
              <a:gd name="adj2" fmla="val 57622"/>
            </a:avLst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3"/>
          <p:cNvPicPr/>
          <p:nvPr/>
        </p:nvPicPr>
        <p:blipFill>
          <a:blip r:embed="rId1"/>
          <a:stretch/>
        </p:blipFill>
        <p:spPr>
          <a:xfrm>
            <a:off x="179280" y="1557360"/>
            <a:ext cx="3662640" cy="3743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000803_1071_1190_vnvv"/>
          <p:cNvPicPr/>
          <p:nvPr/>
        </p:nvPicPr>
        <p:blipFill>
          <a:blip r:embed="rId2"/>
          <a:stretch/>
        </p:blipFill>
        <p:spPr>
          <a:xfrm>
            <a:off x="5508720" y="1413000"/>
            <a:ext cx="3475080" cy="431964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5"/>
          <p:cNvSpPr/>
          <p:nvPr/>
        </p:nvSpPr>
        <p:spPr>
          <a:xfrm>
            <a:off x="0" y="16286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d60093"/>
                </a:solidFill>
                <a:latin typeface="Impact"/>
              </a:rPr>
              <a:t>Все части экономики тесно взаимосвязаны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2T15:04:16Z</dcterms:created>
  <dc:creator>Синецкая Г.Г.</dc:creator>
  <dc:description/>
  <dc:language>en-US</dc:language>
  <cp:lastModifiedBy>LEGION</cp:lastModifiedBy>
  <dcterms:modified xsi:type="dcterms:W3CDTF">2016-01-04T08:19:12Z</dcterms:modified>
  <cp:revision>19</cp:revision>
  <dc:subject>Что такое экономика</dc:subject>
  <dc:title>1.Что такое экономика</dc:title>
</cp:coreProperties>
</file>