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9.jpeg" ContentType="image/jpeg"/>
  <Override PartName="/ppt/media/image28.jpeg" ContentType="image/jpeg"/>
  <Override PartName="/ppt/media/image27.jpeg" ContentType="image/jpeg"/>
  <Override PartName="/ppt/media/image26.jpeg" ContentType="image/jpeg"/>
  <Override PartName="/ppt/media/image5.jpeg" ContentType="image/jpeg"/>
  <Override PartName="/ppt/media/image20.jpeg" ContentType="image/jpeg"/>
  <Override PartName="/ppt/media/image21.jpeg" ContentType="image/jpeg"/>
  <Override PartName="/ppt/media/image2.wmf" ContentType="image/x-wmf"/>
  <Override PartName="/ppt/media/image32.wmf" ContentType="image/x-wmf"/>
  <Override PartName="/ppt/media/image7.wmf" ContentType="image/x-wmf"/>
  <Override PartName="/ppt/media/image30.jpeg" ContentType="image/jpeg"/>
  <Override PartName="/ppt/media/image24.jpeg" ContentType="image/jpeg"/>
  <Override PartName="/ppt/media/image11.jpeg" ContentType="image/jpeg"/>
  <Override PartName="/ppt/media/image10.wmf" ContentType="image/x-wmf"/>
  <Override PartName="/ppt/media/image25.jpeg" ContentType="image/jpeg"/>
  <Override PartName="/ppt/media/image12.jpeg" ContentType="image/jpeg"/>
  <Override PartName="/ppt/media/image8.wmf" ContentType="image/x-wmf"/>
  <Override PartName="/ppt/media/image13.jpeg" ContentType="image/jpeg"/>
  <Override PartName="/ppt/media/image31.wmf" ContentType="image/x-wmf"/>
  <Override PartName="/ppt/media/image6.wmf" ContentType="image/x-wmf"/>
  <Override PartName="/ppt/media/image19.jpeg" ContentType="image/jpeg"/>
  <Override PartName="/ppt/media/image33.jpeg" ContentType="image/jpeg"/>
  <Override PartName="/ppt/media/image3.gif" ContentType="image/gif"/>
  <Override PartName="/ppt/media/image23.jpeg" ContentType="image/jpeg"/>
  <Override PartName="/ppt/media/image34.wmf" ContentType="image/x-wmf"/>
  <Override PartName="/ppt/media/image4.wmf" ContentType="image/x-wmf"/>
  <Override PartName="/ppt/media/image1.jpeg" ContentType="image/jpeg"/>
  <Override PartName="/ppt/media/image22.jpeg" ContentType="image/jpeg"/>
  <Override PartName="/ppt/media/image9.png" ContentType="image/png"/>
  <Override PartName="/ppt/media/image14.jpeg" ContentType="image/jpeg"/>
  <Override PartName="/ppt/media/image16.jpeg" ContentType="image/jpeg"/>
  <Override PartName="/ppt/media/image17.jpeg" ContentType="image/jpeg"/>
  <Override PartName="/ppt/media/image15.png" ContentType="image/png"/>
  <Override PartName="/ppt/media/image1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81F30-FF53-4F89-8E83-CC4D19019A8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1.Что такое     экономик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1.Что такое     экономик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Первые деньг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Первые деньг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Меховые» деньги на Рус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ньгами служили и шкуры животных – песца, белки, соболя, куниц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Меховые» деньги на Рус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ньгами служили и шкуры животных – песца, белки, соболя, куниц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лестящие, легкие, прочные, маленькие ракушки с Мальдивских островов в Индийском океане завоевали многие cтpaны Азии, Африки, Европы и с помощью арабских купцов попали на Русь, где им дали название «змеиная головка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кушки каури на Рус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лестящие, легкие, прочные, маленькие ракушки с Мальдивских островов в Индийском океане завоевали многие cтpaны Азии, Африки, Европы и с помощью арабских купцов попали на Русь, где им дали название «змеиная головка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кушки каури на Рус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Металлические деньги на Рус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Металлические деньги на Рус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ивну рубили на части – отсюда название «рубль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ивну рубили на части – отсюда название «рубль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умажные деньги на Рус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умажные деньги появились в России в 18 веке при Екатерине II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умажные деньги на Рус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умажные деньги появились в России в 18 веке при Екатерине I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ункции дене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годня в мире экономики деньги выполняют три основные функции: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средства обмен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средства измер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средства сбереж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ункции дене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годня в мире экономики деньги выполняют три основные функции: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средства обмен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средства измер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средства сбереж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Доходы и расходы семь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Доходы и расходы семь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ход – деньги или материальные ценности, получаемые от предприятия, отдельного лица или какого-либо вида деятельности. Различают совокупный и денежный доходы. Если в совокупный входят все виды доходов (зарплата, дивиденды на акции, льготы, бесплатная путёвка в дом отдыха, служебная машина), то денежный доход включает только деньги, полученные за определённый период времен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ход – деньги или материальные ценности, получаемые от предприятия, отдельного лица или какого-либо вида деятельности. Различают совокупный и денежный доходы. Если в совокупный входят все виды доходов (зарплата, дивиденды на акции, льготы, бесплатная путёвка в дом отдыха, служебная машина), то денежный доход включает только деньги, полученные за определённый период времен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ходы – уменьшение суммы первоначальных средств течения отчётного период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требительские расходы можно разделить на обязательные и произвольные. Обязательные расходы - это расходы на питание, квартплату и коммунальные услуги, одежду, транспорт; всё в рамках необходимого минимум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звольные расходы зависят от индивидуальности человека и семь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ходы – уменьшение суммы первоначальных средств течения отчётного период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требительские расходы можно разделить на обязательные и произвольные. Обязательные расходы - это расходы на питание, квартплату и коммунальные услуги, одежду, транспорт; всё в рамках необходимого минимум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извольные расходы зависят от индивидуальности человека и семь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мог он ямба от хорея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мы ни бились, отличи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ранил Гомера, Феокрит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то читал Адама Сми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был глубокий эконом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 есть умел судить о том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государство богатеет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чем живет, и почем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нужно золота ему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гда простой продукт име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.С. Пушки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 мог он ямба от хорея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мы ни бились, отличи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ранил Гомера, Феокрит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то читал Адама Сми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был глубокий эконом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 есть умел судить о том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государство богатеет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чем живет, и почем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 нужно золота ему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гда простой продукт имее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.С. Пушки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уппы расходо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ог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язательные платеж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ит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озяйственно-бытовые нуж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меты личного польз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меты комнатного убран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ытовая техника и приспособления для ведения домашнего хозяй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ультурные и информационные потреб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анспор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рт, туризм, увлечения, отд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че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уппы расходов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лог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язательные платеж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ит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озяйственно-бытовые нуж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меты личного пользо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меты комнатного убран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ытовая техника и приспособления для ведения домашнего хозяй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ультурные и информационные потреб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анспор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орт, туризм, увлечения, отды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че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с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йдите в правой колонке определения, соответствующим понятиям в левой колонк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с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йдите в правой колонке определения, соответствующим понятиям в левой колонк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ашнее зад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примере своей семьи расскажите о том, из чего складывается доходы и расходы семьи в течение месяца в табличной форм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машнее зад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примере своей семьи расскажите о том, из чего складывается доходы и расходы семьи в течение месяца в табличной форм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3. СЕМЕЙНЫЙ БЮДЖЕ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3. СЕМЕЙНЫЙ БЮДЖЕ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юджет – в переводе с английского означает «денежная сумка» - это смета или финансовый отчет, который суммирует доходы и расходы за определенный период времени (месяц, год). Если бюджет показывает, что расходы равны доходам, то его называют сбалансированным. Когда расходы превышают доходы, тогда говорят, что бюджет имеет дефици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юджет – в переводе с английского означает «денежная сумка» - это смета или финансовый отчет, который суммирует доходы и расходы за определенный период времени (месяц, год). Если бюджет показывает, что расходы равны доходам, то его называют сбалансированным. Когда расходы превышают доходы, тогда говорят, что бюджет имеет дефицит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требительским бюджетом называют таблицу доходов и расходов человека, семьи за определенный период времени, чаще всего за месяц и год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ществует минимальный уровень жизни или минимальный потребительский бюджет (прожиточный минимум) - это социально-экономическая категория, характеризующая минимум жизненных средств, физически необходимый для поддержания жизнедеятельности людей и восстановления их рабочей силы, т. е. тот самый минимум, который необходим человеку для существова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требительским бюджетом называют таблицу доходов и расходов человека, семьи за определенный период времени, чаще всего за месяц и год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ществует минимальный уровень жизни или минимальный потребительский бюджет (прожиточный минимум) - это социально-экономическая категория, характеризующая минимум жизненных средств, физически необходимый для поддержания жизнедеятельности людей и восстановления их рабочей силы, т. е. тот самый минимум, который необходим человеку для существован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требительская корзина - это принятый в данной стране расчетный годовой набор товаров и услуг, потребление которого обеспечивает необходимый уровень жизни населения. В потребительскую корзину входят основные продукты питания: молоко, хлеб, мясо, масло, фрукты, овощи, различные услуги и т. д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требительская корзина - это принятый в данной стране расчетный годовой набор товаров и услуг, потребление которого обеспечивает необходимый уровень жизни населения. В потребительскую корзину входят основные продукты питания: молоко, хлеб, мясо, масло, фрукты, овощи, различные услуги и т. д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обходимо, чтобы семья умела правильно распределять свой бюджет, освоила основные принципы домашней бухгалтерии, необходимые для получения навыков правильного и рационального распределения полученных доходов. Для этого семья составляет балан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ланс – это равновесие, а точнее сопоставление отдельных сторон какого-то явления, которые должны уравновешивать друг друга, например: доходы – расходы; ресурсы – потребности и т.д. Он позволяет выявить сумму на определенную дату имеющихся в распоряжении семьи средств и раскрыть источники их образования. Баланс состоит из двух частей: актива и пассив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тив отражает состав средст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ссив указывает источники их образова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обходимо, чтобы семья умела правильно распределять свой бюджет, освоила основные принципы домашней бухгалтерии, необходимые для получения навыков правильного и рационального распределения полученных доходов. Для этого семья составляет балан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аланс – это равновесие, а точнее сопоставление отдельных сторон какого-то явления, которые должны уравновешивать друг друга, например: доходы – расходы; ресурсы – потребности и т.д. Он позволяет выявить сумму на определенную дату имеющихся в распоряжении семьи средств и раскрыть источники их образования. Баланс состоит из двух частей: актива и пассив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ктив отражает состав средст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ассив указывает источники их образован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Найдите правильный ответ.  Бюджет семьи это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деньги или материальные ценности, получаемые от предприятия, отдельного лица или какого-либо рода деятельност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журнал, где учтены все доходы семьи, имущество, ценности, долги и расходы на те или иные потребност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 структура всех доходов и расходов семьи за определенный промежуток времен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) умение правильно распределять доход семь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Закончите предлож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Если бюджет показывает, что расходы равны доходам, то..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Если расходы превышают доходы, то.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Найдите в правой колонке определения, соответствующие понятиям в левой колонк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Доход               А  Затраты, издержки, потребление чего-либо для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енной це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Расход             Б  Равновесие, сопоставление отдельных сторон какого-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бо явления, которые должны уравновесить друг друг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Баланс             В  Деньги или материальные ценности, получаемые о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риятия, отдельного лица или какого-либо р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ятель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Найдите правильный ответ.  Бюджет семьи это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) деньги или материальные ценности, получаемые от предприятия, отдельного лица или какого-либо рода деятельности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) журнал, где учтены все доходы семьи, имущество, ценности, долги и расходы на те или иные потребности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) структура всех доходов и расходов семьи за определенный промежуток времени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) умение правильно распределять доход семь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Закончите предложен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) Если бюджет показывает, что расходы равны доходам, то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) Если расходы превышают доходы, то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Найдите в правой колонке определения, соответствующие понятиям в левой колонк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Доход               А  Затраты, издержки, потребление чего-либо для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енной це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Расход             Б  Равновесие, сопоставление отдельных сторон какого-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бо явления, которые должны уравновесить друг друг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Баланс             В  Деньги или материальные ценности, получаемые о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ятия, отдельного лица или какого-либо р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яте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такое экономик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Экос» - дом, хозяй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номос» - зако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рмин “экономика” ввёл в научный оборот выдающийся философ Древней Греции Аристотель (384-322г.г. до Н.Э.), составил его из двух греческих слов: “Эйкос” – “хозяйство” и “Номос” – “закон”; так что “экономика” в переводе с древнегреческого означает “законы хозяйства”. Первоначально само слово “экономика” обозначало “искусство ведения домашнего хозяйства”. Постепенно границы экономики расширялись и в последние время включали в себя всё, что относится к экономической жизни обществ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такое экономик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Экос» - дом, хозяй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номос» - зако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рмин “экономика” ввёл в научный оборот выдающийся философ Древней Греции Аристотель (384-322г.г. до Н.Э.), составил его из двух греческих слов: “Эйкос” – “хозяйство” и “Номос” – “закон”; так что “экономика” в переводе с древнегреческого означает “законы хозяйства”. Первоначально само слово “экономика” обозначало “искусство ведения домашнего хозяйства”. Постепенно границы экономики расширялись и в последние время включали в себя всё, что относится к экономической жизни обществ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ыне в России начался период активного возрождения домашних хозяйств, а вместе с ним и домашней экономи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мья – это общество в миниатюре, она развивается в основном по тем же экономическим законам, что и обществ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мья является важнейшим источником воспроизводства физиологического и интеллектуального потенциала государства. люди, рабочая сила – ведущая составляющая ресурсов семьи, общества. И чем выше уровень культуры, образованности членов семьи, тем выше интеллектуальный потенциал государств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мья – важнейший источник социального и экономического развития общества. Она является его первичной ячейкой. Для каждого человека семья – начало начал. Не зря говорят :счастлив тот, кто счастлив в своём дом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ждая семья живёт в условиях возрастающих потребностей и ограниченности ресурсов, то есть обладает определёнными ограниченными возможностя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ыне в России начался период активного возрождения домашних хозяйств, а вместе с ним и домашней экономи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мья – это общество в миниатюре, она развивается в основном по тем же экономическим законам, что и обществ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мья является важнейшим источником воспроизводства физиологического и интеллектуального потенциала государства. люди, рабочая сила – ведущая составляющая ресурсов семьи, общества. И чем выше уровень культуры, образованности членов семьи, тем выше интеллектуальный потенциал государств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мья – важнейший источник социального и экономического развития общества. Она является его первичной ячейкой. Для каждого человека семья – начало начал. Не зря говорят :счастлив тот, кто счастлив в своём дом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ждая семья живёт в условиях возрастающих потребностей и ограниченности ресурсов, то есть обладает определёнными ограниченными возможностям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ашние хозяйства и предприятия представляют собой основу экономического цикла, являются основными субъектами экономики. Товары и услуги, производимые на предприятиях, поступают в распоряжение домашних хозяйств, которые в свою очередь предоставляют за это капитал, осуществляя обмен товара на деньг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машние хозяйства и предприятия представляют собой основу экономического цикла, являются основными субъектами экономики. Товары и услуги, производимые на предприятиях, поступают в распоряжение домашних хозяйств, которые в свою очередь предоставляют за это капитал, осуществляя обмен товара на деньг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льское хозяй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оитель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мышлен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анспор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дици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рговл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разо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фера обслужи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илищное хозяй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льское хозяй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оитель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мышлен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анспор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дици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рговл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зов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фера обслужи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илищное хозяй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Строитель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Транспор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Строитель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Транспор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Сельское хозяй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Торговл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Сельское хозяй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Торговл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 части экономики тесно взаимосвяза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е части экономики тесно взаимосвязан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8A160-73CF-41AD-9F2B-840403CCE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1791A-79D2-438E-87EB-9F68FAF11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D4E08-9FC4-4EFC-8FB1-7FFD0B2FE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095B7-E022-49D7-8136-1E5215BFF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4A08E-020F-4048-A01C-3FF49C1F0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1662A-841C-43F0-BD58-F04C5DCCB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B8020-758C-4BBA-8913-4C3B00098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CF60D-F35A-4225-B3CE-081641BAF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A502B-ED6F-439F-9B89-7AB835FC2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4C18B-B3EB-4482-AF35-056CC1BE3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C90A4-05BA-4374-9E99-4A594BEDD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80F0C-B11E-42C7-9EC6-BB4E48C20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54C44-943C-4E9D-8A7B-5B0F65BDF79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go.mail.ru/frame.html?imgurl=http://www.umaine.edu/grazingguide/grazenortheast/images/animal2.jpg&amp;pageurl=http://uk.wikipedia.org/wiki/&#1050;&#1086;&#1088;&#1086;&#1074;&#1080;&amp;id=60195841&amp;iid=7&amp;imgwidth=258&amp;imgheight=181&amp;imgsize=104765&amp;images_links=b" TargetMode="External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hyperlink" Target="http://go.mail.ru/frame.html?imgurl=http://infosite.org.ua/wp-content/uploads/2008/05/pero.jpeg&amp;pageurl=http://xakep.lv/user/tresor/news/page/1496/&amp;id=141166318&amp;iid=6&amp;imgwidth=421&amp;imgheight=500&amp;imgsize=14964&amp;images_links=b" TargetMode="External"/><Relationship Id="rId5" Type="http://schemas.openxmlformats.org/officeDocument/2006/relationships/image" Target="../media/image13.jpeg"/><Relationship Id="rId6" Type="http://schemas.openxmlformats.org/officeDocument/2006/relationships/hyperlink" Target="http://go.mail.ru/frame.html?imgurl=http://www.respublika.info/images/602b-sm.jpg&amp;pageurl=http://www.spim.ru/info/page%5F306%5F16.html&amp;id=48172935&amp;iid=7&amp;imgwidth=150&amp;imgheight=211&amp;imgsize=22772&amp;images_links=b" TargetMode="External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hyperlink" Target="http://helpower.narod.ru/image/stockfish.jpg" TargetMode="External"/><Relationship Id="rId10" Type="http://schemas.openxmlformats.org/officeDocument/2006/relationships/image" Target="../media/image16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1332000" y="907920"/>
            <a:ext cx="9144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d60093"/>
                </a:solidFill>
                <a:latin typeface="Arial Unicode MS"/>
              </a:rPr>
              <a:t>1.Что такое     экономика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31" descr="C:\Program Files\Common Files\Microsoft Shared\Clipart\cagcat50\PE01561_.wmf"/>
          <p:cNvPicPr/>
          <p:nvPr/>
        </p:nvPicPr>
        <p:blipFill>
          <a:blip r:embed="rId1"/>
          <a:stretch/>
        </p:blipFill>
        <p:spPr>
          <a:xfrm>
            <a:off x="5186520" y="4035600"/>
            <a:ext cx="3549600" cy="2355840"/>
          </a:xfrm>
          <a:prstGeom prst="rect">
            <a:avLst/>
          </a:prstGeom>
          <a:ln w="0">
            <a:noFill/>
          </a:ln>
        </p:spPr>
      </p:pic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4"/>
          <p:cNvSpPr/>
          <p:nvPr/>
        </p:nvSpPr>
        <p:spPr>
          <a:xfrm>
            <a:off x="2050920" y="0"/>
            <a:ext cx="568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d60093"/>
                </a:solidFill>
                <a:latin typeface="Arial"/>
              </a:rPr>
              <a:t>Первые деньг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6" descr="http://im7-tub.mail.ru/i?id=60195841&amp;tov=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0920" y="1052640"/>
            <a:ext cx="3670200" cy="2571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02" name="Рисунок 11" descr="овца"/>
          <p:cNvPicPr/>
          <p:nvPr/>
        </p:nvPicPr>
        <p:blipFill>
          <a:blip r:embed="rId3"/>
          <a:stretch/>
        </p:blipFill>
        <p:spPr>
          <a:xfrm>
            <a:off x="179280" y="4076640"/>
            <a:ext cx="3672000" cy="24652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8" descr="http://im6-tub.mail.ru/i?id=141166318&amp;tov=6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140360" y="1125360"/>
            <a:ext cx="2125440" cy="25196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0" descr="http://im7-tub.mail.ru/i?id=48172935&amp;tov=7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6516720" y="1125360"/>
            <a:ext cx="2158920" cy="25196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5" descr="Соль"/>
          <p:cNvPicPr/>
          <p:nvPr/>
        </p:nvPicPr>
        <p:blipFill>
          <a:blip r:embed="rId8"/>
          <a:srcRect l="0" t="15875" r="0" b="0"/>
          <a:stretch/>
        </p:blipFill>
        <p:spPr>
          <a:xfrm>
            <a:off x="4140360" y="4149720"/>
            <a:ext cx="1819080" cy="223200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106" name="Picture 11" descr="Картинка 29 из 1264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6156360" y="4221000"/>
            <a:ext cx="2771640" cy="2170440"/>
          </a:xfrm>
          <a:prstGeom prst="rect">
            <a:avLst/>
          </a:prstGeom>
          <a:ln w="0">
            <a:noFill/>
          </a:ln>
        </p:spPr>
      </p:pic>
      <p:sp>
        <p:nvSpPr>
          <p:cNvPr id="1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8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8" descr="http://im4-tub.mail.ru/i?id=20401381&amp;tov=4"/>
          <p:cNvPicPr/>
          <p:nvPr/>
        </p:nvPicPr>
        <p:blipFill>
          <a:blip r:embed="rId1"/>
          <a:stretch/>
        </p:blipFill>
        <p:spPr>
          <a:xfrm>
            <a:off x="1357200" y="2643120"/>
            <a:ext cx="2786040" cy="15415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5" descr="C:\D&amp;S\ЮРА\Мои документы\МАРИНА\КАРТИНКИ\животные\песец2.jpg"/>
          <p:cNvPicPr/>
          <p:nvPr/>
        </p:nvPicPr>
        <p:blipFill>
          <a:blip r:embed="rId2"/>
          <a:stretch/>
        </p:blipFill>
        <p:spPr>
          <a:xfrm>
            <a:off x="5715000" y="2428920"/>
            <a:ext cx="2314440" cy="20574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2" descr="C:\D&amp;S\ЮРА\Мои документы\МАРИНА\КАРТИНКИ\животные\белкаE.jpg"/>
          <p:cNvPicPr/>
          <p:nvPr/>
        </p:nvPicPr>
        <p:blipFill>
          <a:blip r:embed="rId3"/>
          <a:stretch/>
        </p:blipFill>
        <p:spPr>
          <a:xfrm>
            <a:off x="214200" y="4429080"/>
            <a:ext cx="1860840" cy="22654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" descr="C:\D&amp;S\ЮРА\Мои документы\МАРИНА\КАРТИНКИ\животные\соболь.jpg"/>
          <p:cNvPicPr/>
          <p:nvPr/>
        </p:nvPicPr>
        <p:blipFill>
          <a:blip r:embed="rId4"/>
          <a:stretch/>
        </p:blipFill>
        <p:spPr>
          <a:xfrm>
            <a:off x="2643120" y="4500720"/>
            <a:ext cx="3238560" cy="22064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3" descr="C:\D&amp;S\ЮРА\Мои документы\МАРИНА\КАРТИНКИ\животные\куницаE.jpg"/>
          <p:cNvPicPr/>
          <p:nvPr/>
        </p:nvPicPr>
        <p:blipFill>
          <a:blip r:embed="rId5"/>
          <a:stretch/>
        </p:blipFill>
        <p:spPr>
          <a:xfrm>
            <a:off x="6286680" y="4500720"/>
            <a:ext cx="2657160" cy="215712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9"/>
          <p:cNvSpPr/>
          <p:nvPr/>
        </p:nvSpPr>
        <p:spPr>
          <a:xfrm>
            <a:off x="1332000" y="189000"/>
            <a:ext cx="72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d60093"/>
                </a:solidFill>
                <a:latin typeface="Arial"/>
              </a:rPr>
              <a:t>«Меховые» деньги на Рус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250920" y="836640"/>
            <a:ext cx="8496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Деньгами служили и шкуры животных – песца, белки, соболя, куниц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Рисунок 1" descr="ракушка"/>
          <p:cNvPicPr/>
          <p:nvPr/>
        </p:nvPicPr>
        <p:blipFill>
          <a:blip r:embed="rId1"/>
          <a:stretch/>
        </p:blipFill>
        <p:spPr>
          <a:xfrm>
            <a:off x="4572000" y="4152960"/>
            <a:ext cx="4103640" cy="27050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4" descr="http://im0-tub.mail.ru/i?id=55807633&amp;tov=0"/>
          <p:cNvPicPr/>
          <p:nvPr/>
        </p:nvPicPr>
        <p:blipFill>
          <a:blip r:embed="rId2"/>
          <a:stretch/>
        </p:blipFill>
        <p:spPr>
          <a:xfrm>
            <a:off x="395280" y="4000680"/>
            <a:ext cx="3308400" cy="2857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18" name="Text Box 6"/>
          <p:cNvSpPr/>
          <p:nvPr/>
        </p:nvSpPr>
        <p:spPr>
          <a:xfrm>
            <a:off x="539640" y="1125360"/>
            <a:ext cx="8209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лестящие, легкие, прочные, маленькие ракушки с Мальдивских островов в Индийском океане завоевали многие cтpaны Азии, Африки, Европы и с помощью арабских купцов попали на Русь, где им дали название «змеиная головка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7"/>
          <p:cNvSpPr/>
          <p:nvPr/>
        </p:nvSpPr>
        <p:spPr>
          <a:xfrm>
            <a:off x="1403280" y="260280"/>
            <a:ext cx="684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60093"/>
                </a:solidFill>
                <a:latin typeface="Arial"/>
              </a:rPr>
              <a:t>Ракушки каури на Рус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4"/>
          <p:cNvSpPr/>
          <p:nvPr/>
        </p:nvSpPr>
        <p:spPr>
          <a:xfrm>
            <a:off x="324000" y="189000"/>
            <a:ext cx="856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60093"/>
                </a:solidFill>
                <a:latin typeface="Arial"/>
              </a:rPr>
              <a:t>Металлические деньги на Рус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4" descr="Платежный слиток гривна 'черниговского' типа. XII-XIII века. Увеличить"/>
          <p:cNvPicPr/>
          <p:nvPr/>
        </p:nvPicPr>
        <p:blipFill>
          <a:blip r:embed="rId1"/>
          <a:stretch/>
        </p:blipFill>
        <p:spPr>
          <a:xfrm>
            <a:off x="3203640" y="3805200"/>
            <a:ext cx="5651280" cy="30528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5" descr="Новгородские рубли - слитки. XIV-XV века. Увеличить"/>
          <p:cNvPicPr/>
          <p:nvPr/>
        </p:nvPicPr>
        <p:blipFill>
          <a:blip r:embed="rId2"/>
          <a:stretch/>
        </p:blipFill>
        <p:spPr>
          <a:xfrm>
            <a:off x="0" y="907920"/>
            <a:ext cx="7272360" cy="2357640"/>
          </a:xfrm>
          <a:prstGeom prst="rect">
            <a:avLst/>
          </a:prstGeom>
          <a:ln w="0">
            <a:noFill/>
          </a:ln>
        </p:spPr>
      </p:pic>
      <p:sp>
        <p:nvSpPr>
          <p:cNvPr id="1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5"/>
          <p:cNvSpPr/>
          <p:nvPr/>
        </p:nvSpPr>
        <p:spPr>
          <a:xfrm>
            <a:off x="611280" y="404640"/>
            <a:ext cx="806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ривну рубили на части – отсюда название «рубль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9" descr="Картинка 46 из 205"/>
          <p:cNvPicPr/>
          <p:nvPr/>
        </p:nvPicPr>
        <p:blipFill>
          <a:blip r:embed="rId1"/>
          <a:stretch/>
        </p:blipFill>
        <p:spPr>
          <a:xfrm>
            <a:off x="5364000" y="3543480"/>
            <a:ext cx="3953160" cy="33145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0" descr="galery_1_7_2"/>
          <p:cNvPicPr/>
          <p:nvPr/>
        </p:nvPicPr>
        <p:blipFill>
          <a:blip r:embed="rId2"/>
          <a:stretch/>
        </p:blipFill>
        <p:spPr>
          <a:xfrm>
            <a:off x="0" y="1628640"/>
            <a:ext cx="5278320" cy="3959280"/>
          </a:xfrm>
          <a:prstGeom prst="rect">
            <a:avLst/>
          </a:prstGeom>
          <a:ln w="0">
            <a:noFill/>
          </a:ln>
        </p:spPr>
      </p:pic>
      <p:sp>
        <p:nvSpPr>
          <p:cNvPr id="12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6" descr="1892 год"/>
          <p:cNvPicPr/>
          <p:nvPr/>
        </p:nvPicPr>
        <p:blipFill>
          <a:blip r:embed="rId1"/>
          <a:stretch/>
        </p:blipFill>
        <p:spPr>
          <a:xfrm>
            <a:off x="179280" y="3359160"/>
            <a:ext cx="5832720" cy="34988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5" descr="!0 екат"/>
          <p:cNvPicPr/>
          <p:nvPr/>
        </p:nvPicPr>
        <p:blipFill>
          <a:blip r:embed="rId2"/>
          <a:stretch/>
        </p:blipFill>
        <p:spPr>
          <a:xfrm>
            <a:off x="6097680" y="1571760"/>
            <a:ext cx="3046320" cy="528624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6"/>
          <p:cNvSpPr/>
          <p:nvPr/>
        </p:nvSpPr>
        <p:spPr>
          <a:xfrm>
            <a:off x="1476360" y="260280"/>
            <a:ext cx="698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60093"/>
                </a:solidFill>
                <a:latin typeface="Arial"/>
              </a:rPr>
              <a:t>Бумажные деньги на Рус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7"/>
          <p:cNvSpPr/>
          <p:nvPr/>
        </p:nvSpPr>
        <p:spPr>
          <a:xfrm>
            <a:off x="250920" y="1197000"/>
            <a:ext cx="5761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Бумажные деньги появились в России в 18 веке при Екатерине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60093"/>
                </a:solidFill>
                <a:latin typeface="Arial"/>
              </a:rPr>
              <a:t>Функции дене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4" descr="J0182582"/>
          <p:cNvPicPr/>
          <p:nvPr/>
        </p:nvPicPr>
        <p:blipFill>
          <a:blip r:embed="rId1"/>
          <a:stretch/>
        </p:blipFill>
        <p:spPr>
          <a:xfrm>
            <a:off x="4067280" y="3429000"/>
            <a:ext cx="4883040" cy="326376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7"/>
          <p:cNvSpPr/>
          <p:nvPr/>
        </p:nvSpPr>
        <p:spPr>
          <a:xfrm>
            <a:off x="71280" y="1413000"/>
            <a:ext cx="90727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егодня в мире экономики деньги выполняют три основные функции: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средства обмен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средства измер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средства сбереж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95280" y="1628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d60093"/>
                </a:solidFill>
                <a:latin typeface="Arial"/>
              </a:rPr>
              <a:t>2. Доходы и расходы семьи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3" descr="PE02622_"/>
          <p:cNvPicPr/>
          <p:nvPr/>
        </p:nvPicPr>
        <p:blipFill>
          <a:blip r:embed="rId1"/>
          <a:stretch/>
        </p:blipFill>
        <p:spPr>
          <a:xfrm>
            <a:off x="2340000" y="3517920"/>
            <a:ext cx="4118040" cy="3340080"/>
          </a:xfrm>
          <a:prstGeom prst="rect">
            <a:avLst/>
          </a:prstGeom>
          <a:ln w="0">
            <a:noFill/>
          </a:ln>
        </p:spPr>
      </p:pic>
      <p:sp>
        <p:nvSpPr>
          <p:cNvPr id="14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d60093"/>
                </a:solidFill>
                <a:latin typeface="Arial"/>
              </a:rPr>
              <a:t>Доход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деньги или материальные ценности, получаемые от предприятия, отдельного лица или какого-либо вида деятельности. Различают совокупный и денежный доходы. Если в совокупный входят все виды доходов (зарплата, дивиденды на акции, льготы, бесплатная путёвка в дом отдыха, служебная машина), то денежный доход включает только деньги, полученные за определённый период времен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611280" y="62028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60093"/>
                </a:solidFill>
                <a:latin typeface="Arial"/>
              </a:rPr>
              <a:t>Расходы</a:t>
            </a: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– уменьшение суммы первоначальных средств течения отчётного период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требительские расходы можно разделить на обязательные и произвольные. Обязательные расходы - это расходы на питание, квартплату и коммунальные услуги, одежду, транспорт; всё в рамках необходимого минимум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извольные расходы зависят от индивидуальности человека и семь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394920" y="404640"/>
            <a:ext cx="6227640" cy="579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 мог он ямба от хоре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 мы ни бились, отличи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ранил Гомера, Феокрит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то читал Адама Сми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был глубокий эконом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о есть умел судить о том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 государство богатеет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чем живет, и почем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 нужно золота ему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гда простой продукт име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.С. Пушк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9" descr="AG00013_"/>
          <p:cNvPicPr/>
          <p:nvPr/>
        </p:nvPicPr>
        <p:blipFill>
          <a:blip r:embed="rId1"/>
          <a:stretch/>
        </p:blipFill>
        <p:spPr>
          <a:xfrm>
            <a:off x="5435640" y="549360"/>
            <a:ext cx="3301920" cy="27734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BS00508_"/>
          <p:cNvPicPr/>
          <p:nvPr/>
        </p:nvPicPr>
        <p:blipFill>
          <a:blip r:embed="rId2"/>
          <a:stretch/>
        </p:blipFill>
        <p:spPr>
          <a:xfrm>
            <a:off x="6443640" y="3933720"/>
            <a:ext cx="1575000" cy="1662120"/>
          </a:xfrm>
          <a:prstGeom prst="rect">
            <a:avLst/>
          </a:prstGeom>
          <a:ln w="0">
            <a:noFill/>
          </a:ln>
        </p:spPr>
      </p:pic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539640" y="333000"/>
            <a:ext cx="822960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d60093"/>
                </a:solidFill>
                <a:latin typeface="Arial"/>
              </a:rPr>
              <a:t>Группы расходов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лог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язательные платеж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ит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Хозяйственно-бытовые нуж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едметы личного польз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едметы комнатного убран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ытовая техника и приспособления для ведения домашнего хозяй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ультурные и информационные потреб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ранспор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порт, туризм, увлечения, отд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че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4"/>
          <p:cNvSpPr/>
          <p:nvPr/>
        </p:nvSpPr>
        <p:spPr>
          <a:xfrm>
            <a:off x="324000" y="-1080"/>
            <a:ext cx="8820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ест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Найдите в правой колонке определения, соответствующим понятиям в левой колонк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395280" y="1268280"/>
          <a:ext cx="8569440" cy="5211720"/>
        </p:xfrm>
        <a:graphic>
          <a:graphicData uri="http://schemas.openxmlformats.org/drawingml/2006/table">
            <a:tbl>
              <a:tblPr/>
              <a:tblGrid>
                <a:gridCol w="241200"/>
                <a:gridCol w="1865520"/>
                <a:gridCol w="303120"/>
                <a:gridCol w="6159600"/>
              </a:tblGrid>
              <a:tr h="914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4572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4572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кономика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 товаров и услуг, которые Гражданин ил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мья могут приобрести в определённый период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емени на свои номинальные доходы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4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ctr" pos="162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туральное хозяйств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точники, средства, обеспечения жизни людей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принимательской деятельности, производств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бы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ница между суммой денег от реализации товаров 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луг и затратами на их производство, продаж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работная пла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62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раз жизни, при котором семья вынуждена сама производить всё или почти всё, что ей нужно для жизн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4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альный доход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095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нежное вознаграждение, которое получает работни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095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ли семья за свой труд за определённый период времен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сурс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озяйство и хозяйственная деятельность т.е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вокупность средств, ресурсов, процессов, используемых людьми для обеспечения жизни, удовлетворения потребностей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9" name="Rectangle 160"/>
          <p:cNvSpPr/>
          <p:nvPr/>
        </p:nvSpPr>
        <p:spPr>
          <a:xfrm>
            <a:off x="0" y="543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826920" y="333360"/>
            <a:ext cx="77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омашнее зад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примере своей семьи расскажите о том, из чего складывается доходы и расходы семьи в течение месяца в табличной форм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611280" y="3429000"/>
          <a:ext cx="8075520" cy="1184400"/>
        </p:xfrm>
        <a:graphic>
          <a:graphicData uri="http://schemas.openxmlformats.org/drawingml/2006/table">
            <a:tbl>
              <a:tblPr/>
              <a:tblGrid>
                <a:gridCol w="2019240"/>
                <a:gridCol w="2019240"/>
                <a:gridCol w="2017800"/>
                <a:gridCol w="2019240"/>
              </a:tblGrid>
              <a:tr h="59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ход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мм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сход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мм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53" name="Picture 3" descr="PE01460_"/>
          <p:cNvPicPr/>
          <p:nvPr/>
        </p:nvPicPr>
        <p:blipFill>
          <a:blip r:embed="rId1"/>
          <a:stretch/>
        </p:blipFill>
        <p:spPr>
          <a:xfrm>
            <a:off x="6804000" y="4456080"/>
            <a:ext cx="1932120" cy="2401920"/>
          </a:xfrm>
          <a:prstGeom prst="rect">
            <a:avLst/>
          </a:prstGeom>
          <a:ln w="0">
            <a:noFill/>
          </a:ln>
        </p:spPr>
      </p:pic>
      <p:sp>
        <p:nvSpPr>
          <p:cNvPr id="1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9528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d60093"/>
                </a:solidFill>
                <a:latin typeface="Arial"/>
              </a:rPr>
              <a:t>3. СЕМЕЙНЫЙ БЮДЖЕТ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3" descr="PE02622_"/>
          <p:cNvPicPr/>
          <p:nvPr/>
        </p:nvPicPr>
        <p:blipFill>
          <a:blip r:embed="rId1"/>
          <a:stretch/>
        </p:blipFill>
        <p:spPr>
          <a:xfrm>
            <a:off x="2484360" y="3068640"/>
            <a:ext cx="4189320" cy="3397320"/>
          </a:xfrm>
          <a:prstGeom prst="rect">
            <a:avLst/>
          </a:prstGeom>
          <a:ln w="0">
            <a:noFill/>
          </a:ln>
        </p:spPr>
      </p:pic>
      <p:sp>
        <p:nvSpPr>
          <p:cNvPr id="1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-360" y="333360"/>
            <a:ext cx="637236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d60093"/>
                </a:solidFill>
                <a:latin typeface="Arial"/>
              </a:rPr>
              <a:t>Бюджет</a:t>
            </a:r>
            <a:r>
              <a:rPr b="0" lang="ru-RU" sz="32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– в переводе с английского означает «денежная сумка» - это смета или финансовый отчет, который суммирует доходы и расходы за определенный период времени (месяц, год). Если бюджет показывает, что расходы равны доходам, то его называют сбалансированным. Когда расходы превышают доходы, тогда говорят, что бюджет имеет дефицит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44" descr="00007326"/>
          <p:cNvPicPr/>
          <p:nvPr/>
        </p:nvPicPr>
        <p:blipFill>
          <a:blip r:embed="rId1"/>
          <a:stretch/>
        </p:blipFill>
        <p:spPr>
          <a:xfrm>
            <a:off x="6081840" y="1989000"/>
            <a:ext cx="3062160" cy="3888000"/>
          </a:xfrm>
          <a:prstGeom prst="rect">
            <a:avLst/>
          </a:prstGeom>
          <a:ln w="0">
            <a:noFill/>
          </a:ln>
        </p:spPr>
      </p:pic>
      <p:sp>
        <p:nvSpPr>
          <p:cNvPr id="1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-360" y="333000"/>
            <a:ext cx="889308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отребительским бюджетом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называют таблицу доходов и расходов человека, семьи за определенный период времени, чаще всего за месяц и год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уществует минимальный уровень жизни или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минимальный потребительский бюджет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рожиточный минимум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 - это социально-экономическая категория, характеризующая минимум жизненных средств, физически необходимый для поддержания жизнедеятельности людей и восстановления их рабочей силы, т. е. тот самый минимум, который необходим человеку для существован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468360" y="62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Потребительская корзин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- это принятый в данной стране расчетный годовой набор товаров и услуг, потребление которого обеспечивает необходимый уровень жизни населения. В потребительскую корзину входят основные продукты питания: молоко, хлеб, мясо, масло, фрукты, овощи, различные услуги и т. д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3" descr="BD08911_"/>
          <p:cNvPicPr/>
          <p:nvPr/>
        </p:nvPicPr>
        <p:blipFill>
          <a:blip r:embed="rId1"/>
          <a:stretch/>
        </p:blipFill>
        <p:spPr>
          <a:xfrm>
            <a:off x="6934320" y="4778280"/>
            <a:ext cx="2209680" cy="2079720"/>
          </a:xfrm>
          <a:prstGeom prst="rect">
            <a:avLst/>
          </a:prstGeom>
          <a:ln w="0">
            <a:noFill/>
          </a:ln>
        </p:spPr>
      </p:pic>
      <p:sp>
        <p:nvSpPr>
          <p:cNvPr id="1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0" y="260280"/>
            <a:ext cx="91440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обходимо, чтобы семья умела правильно распределять свой бюджет, освоила основные принципы домашней бухгалтерии, необходимые для получения навыков правильного и рационального распределения полученных доходов. Для этого семья составляет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баланс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Баланс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– это равновесие, а точнее сопоставление отдельных сторон какого-то явления, которые должны уравновешивать друг друга, например: доходы – расходы; ресурсы – потребности и т.д. Он позволяет выявить сумму на определенную дату имеющихся в распоряжении семьи средств и раскрыть источники их образования. Баланс состоит из двух частей: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актива и пассив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Актив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отражает состав средст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ассив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указывает источники их образова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0" y="259920"/>
            <a:ext cx="9144000" cy="72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1</a:t>
            </a: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. Найдите правильный ответ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.  Бюджет семьи это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) деньги или материальные ценности, получаемые от предприятия, отдельного лица или какого-либо рода деятельности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) журнал, где учтены все доходы семьи, имущество, ценности, долги и расходы на те или иные потребности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) структура всех доходов и расходов семьи за определенный промежуток времени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) умение правильно распределять доход семь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2. </a:t>
            </a: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Закончите предложения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) Если бюджет показывает, что расходы равны доходам, то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) Если расходы превышают доходы, то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3. </a:t>
            </a: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Найдите в правой колонке определения, соответствующие понятиям в левой колонке.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. Доход               А  Затраты, издержки, потребление чего-либо для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пределенной це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. Расход             Б  Равновесие, сопоставление отдельных сторон какого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ибо явления, которые должны уравновесить друг дру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. Баланс             В  Деньги или материальные ценности, получаемые о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дприятия, отдельного лица или какого-либо р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еятель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7"/>
          <p:cNvSpPr/>
          <p:nvPr/>
        </p:nvSpPr>
        <p:spPr>
          <a:xfrm>
            <a:off x="324000" y="189000"/>
            <a:ext cx="784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60093"/>
                </a:solidFill>
                <a:latin typeface="Arial Unicode MS"/>
              </a:rPr>
              <a:t>Что такое экономика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9"/>
          <p:cNvSpPr/>
          <p:nvPr/>
        </p:nvSpPr>
        <p:spPr>
          <a:xfrm>
            <a:off x="250920" y="1125360"/>
            <a:ext cx="8497800" cy="56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«Экос» - дом, хозяйст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«номос» - зак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ермин “экономика” ввёл в научный оборот выдающийся философ Древней Греции Аристотель (384-322г.г. до Н.Э.), составил его из двух греческих слов: “Эйкос” – “хозяйство” и “Номос” – “закон”; так что “экономика” в переводе с древнегреческого означает “законы хозяйства”. Первоначально само слово “экономика” обозначало “искусство ведения домашнего хозяйства”. Постепенно границы экономики расширялись и в последние время включали в себя всё, что относится к экономической жизни общества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0" descr="Аристотель"/>
          <p:cNvPicPr/>
          <p:nvPr/>
        </p:nvPicPr>
        <p:blipFill>
          <a:blip r:embed="rId1"/>
          <a:stretch/>
        </p:blipFill>
        <p:spPr>
          <a:xfrm>
            <a:off x="5245200" y="907920"/>
            <a:ext cx="3898800" cy="2925720"/>
          </a:xfrm>
          <a:prstGeom prst="rect">
            <a:avLst/>
          </a:prstGeom>
          <a:ln w="0">
            <a:noFill/>
          </a:ln>
        </p:spPr>
      </p:pic>
      <p:sp>
        <p:nvSpPr>
          <p:cNvPr id="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5"/>
          <p:cNvSpPr/>
          <p:nvPr/>
        </p:nvSpPr>
        <p:spPr>
          <a:xfrm>
            <a:off x="324000" y="-13320"/>
            <a:ext cx="8424720" cy="64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5857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ыне в России начался период активного возрождения домашних хозяйств, а вместе с ним и домашней экономи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57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57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емья – это общество в миниатюре, она развивается в основном по тем же экономическим законам, что и обществ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57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57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емья является важнейшим источником воспроизводства физиологического и интеллектуального потенциала государства. люди, рабочая сила – ведущая составляющая ресурсов семьи, общества. И чем выше уровень культуры, образованности членов семьи, тем выше интеллектуальный потенциал государств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57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57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емья – важнейший источник социального и экономического развития общества. Она является его первичной ячейкой. Для каждого человека семья – начало начал. Не зря говорят :счастлив тот, кто счастлив в своём дом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57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57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ждая семья живёт в условиях возрастающих потребностей и ограниченности ресурсов, то есть обладает определёнными ограниченными возможностям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68360" y="189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омашние хозяйства и предприятия представляют собой основу экономического цикла, являются основными субъектами экономики. Товары и услуги, производимые на предприятиях, поступают в распоряжение домашних хозяйств, которые в свою очередь предоставляют за это капитал, осуществляя обмен товара на деньг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Group 4"/>
          <p:cNvGrpSpPr/>
          <p:nvPr/>
        </p:nvGrpSpPr>
        <p:grpSpPr>
          <a:xfrm>
            <a:off x="-684360" y="3517920"/>
            <a:ext cx="10434960" cy="3339720"/>
            <a:chOff x="-684360" y="3517920"/>
            <a:chExt cx="10434960" cy="3339720"/>
          </a:xfrm>
        </p:grpSpPr>
        <p:sp>
          <p:nvSpPr>
            <p:cNvPr id="63" name="AutoShape 5"/>
            <p:cNvSpPr/>
            <p:nvPr/>
          </p:nvSpPr>
          <p:spPr>
            <a:xfrm>
              <a:off x="-684360" y="3517920"/>
              <a:ext cx="10434960" cy="33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Text Box 6"/>
            <p:cNvSpPr/>
            <p:nvPr/>
          </p:nvSpPr>
          <p:spPr>
            <a:xfrm>
              <a:off x="3449880" y="3963240"/>
              <a:ext cx="2558880" cy="667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Государств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Text Box 7"/>
            <p:cNvSpPr/>
            <p:nvPr/>
          </p:nvSpPr>
          <p:spPr>
            <a:xfrm>
              <a:off x="891000" y="5299200"/>
              <a:ext cx="1968120" cy="1112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Домашнее хозяйств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Text Box 8"/>
            <p:cNvSpPr/>
            <p:nvPr/>
          </p:nvSpPr>
          <p:spPr>
            <a:xfrm>
              <a:off x="5616000" y="5521680"/>
              <a:ext cx="2362320" cy="667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Предприяти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Line 9"/>
            <p:cNvSpPr/>
            <p:nvPr/>
          </p:nvSpPr>
          <p:spPr>
            <a:xfrm flipV="1">
              <a:off x="1283760" y="4185360"/>
              <a:ext cx="2166120" cy="111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Line 10"/>
            <p:cNvSpPr/>
            <p:nvPr/>
          </p:nvSpPr>
          <p:spPr>
            <a:xfrm flipH="1">
              <a:off x="1677960" y="4408560"/>
              <a:ext cx="1771920" cy="890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Line 11"/>
            <p:cNvSpPr/>
            <p:nvPr/>
          </p:nvSpPr>
          <p:spPr>
            <a:xfrm>
              <a:off x="2859120" y="5744160"/>
              <a:ext cx="2756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Line 12"/>
            <p:cNvSpPr/>
            <p:nvPr/>
          </p:nvSpPr>
          <p:spPr>
            <a:xfrm flipH="1">
              <a:off x="2858760" y="5967360"/>
              <a:ext cx="2756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Line 13"/>
            <p:cNvSpPr/>
            <p:nvPr/>
          </p:nvSpPr>
          <p:spPr>
            <a:xfrm>
              <a:off x="6008760" y="4185720"/>
              <a:ext cx="1575360" cy="133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Line 14"/>
            <p:cNvSpPr/>
            <p:nvPr/>
          </p:nvSpPr>
          <p:spPr>
            <a:xfrm flipH="1" flipV="1">
              <a:off x="5812200" y="4631040"/>
              <a:ext cx="984960" cy="890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4" descr="NA00417_"/>
          <p:cNvPicPr/>
          <p:nvPr/>
        </p:nvPicPr>
        <p:blipFill>
          <a:blip r:embed="rId1"/>
          <a:stretch/>
        </p:blipFill>
        <p:spPr>
          <a:xfrm>
            <a:off x="1908000" y="333360"/>
            <a:ext cx="5472360" cy="6026040"/>
          </a:xfrm>
          <a:prstGeom prst="rect">
            <a:avLst/>
          </a:prstGeom>
          <a:ln w="0">
            <a:noFill/>
          </a:ln>
        </p:spPr>
      </p:pic>
      <p:sp>
        <p:nvSpPr>
          <p:cNvPr id="75" name="WordArt 14"/>
          <p:cNvSpPr txBox="1"/>
          <p:nvPr/>
        </p:nvSpPr>
        <p:spPr>
          <a:xfrm>
            <a:off x="2484360" y="6165720"/>
            <a:ext cx="3816360" cy="4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Экономика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76" name="Rectangle 5"/>
          <p:cNvSpPr/>
          <p:nvPr/>
        </p:nvSpPr>
        <p:spPr>
          <a:xfrm>
            <a:off x="250920" y="4365720"/>
            <a:ext cx="259056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ельское хозяйст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"/>
          <p:cNvSpPr/>
          <p:nvPr/>
        </p:nvSpPr>
        <p:spPr>
          <a:xfrm>
            <a:off x="468360" y="3213000"/>
            <a:ext cx="2286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троительст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7"/>
          <p:cNvSpPr/>
          <p:nvPr/>
        </p:nvSpPr>
        <p:spPr>
          <a:xfrm>
            <a:off x="1332000" y="1916280"/>
            <a:ext cx="280836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омышлен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"/>
          <p:cNvSpPr/>
          <p:nvPr/>
        </p:nvSpPr>
        <p:spPr>
          <a:xfrm>
            <a:off x="1116000" y="692280"/>
            <a:ext cx="2286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ранспор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9"/>
          <p:cNvSpPr/>
          <p:nvPr/>
        </p:nvSpPr>
        <p:spPr>
          <a:xfrm>
            <a:off x="3564000" y="333360"/>
            <a:ext cx="25146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едици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13"/>
          <p:cNvSpPr/>
          <p:nvPr/>
        </p:nvSpPr>
        <p:spPr>
          <a:xfrm>
            <a:off x="6300720" y="620640"/>
            <a:ext cx="2286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орговл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5076720" y="1989000"/>
            <a:ext cx="266724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бразов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1"/>
          <p:cNvSpPr/>
          <p:nvPr/>
        </p:nvSpPr>
        <p:spPr>
          <a:xfrm>
            <a:off x="6372360" y="3284640"/>
            <a:ext cx="259056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фера обслужи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2"/>
          <p:cNvSpPr/>
          <p:nvPr/>
        </p:nvSpPr>
        <p:spPr>
          <a:xfrm>
            <a:off x="6372360" y="4437000"/>
            <a:ext cx="2286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Жилищное хозяйст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WordArt 2"/>
          <p:cNvSpPr txBox="1"/>
          <p:nvPr/>
        </p:nvSpPr>
        <p:spPr>
          <a:xfrm>
            <a:off x="1258920" y="260280"/>
            <a:ext cx="65516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троительство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7" name="WordArt 3"/>
          <p:cNvSpPr txBox="1"/>
          <p:nvPr/>
        </p:nvSpPr>
        <p:spPr>
          <a:xfrm>
            <a:off x="1042920" y="5661000"/>
            <a:ext cx="65516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ранспорт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8" name="AutoShape 6"/>
          <p:cNvSpPr/>
          <p:nvPr/>
        </p:nvSpPr>
        <p:spPr>
          <a:xfrm>
            <a:off x="3995640" y="1413000"/>
            <a:ext cx="1368360" cy="3960720"/>
          </a:xfrm>
          <a:prstGeom prst="upDownArrow">
            <a:avLst>
              <a:gd name="adj1" fmla="val 50000"/>
              <a:gd name="adj2" fmla="val 57622"/>
            </a:avLst>
          </a:prstGeom>
          <a:solidFill>
            <a:srgbClr val="66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7" descr="J0233546"/>
          <p:cNvPicPr/>
          <p:nvPr/>
        </p:nvPicPr>
        <p:blipFill>
          <a:blip r:embed="rId1"/>
          <a:stretch/>
        </p:blipFill>
        <p:spPr>
          <a:xfrm>
            <a:off x="0" y="2276640"/>
            <a:ext cx="4033800" cy="22986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8" descr="J0233548"/>
          <p:cNvPicPr/>
          <p:nvPr/>
        </p:nvPicPr>
        <p:blipFill>
          <a:blip r:embed="rId2"/>
          <a:stretch/>
        </p:blipFill>
        <p:spPr>
          <a:xfrm>
            <a:off x="5219640" y="2421000"/>
            <a:ext cx="3706920" cy="2044800"/>
          </a:xfrm>
          <a:prstGeom prst="rect">
            <a:avLst/>
          </a:prstGeom>
          <a:ln w="0">
            <a:noFill/>
          </a:ln>
        </p:spPr>
      </p:pic>
      <p:sp>
        <p:nvSpPr>
          <p:cNvPr id="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WordArt 2"/>
          <p:cNvSpPr txBox="1"/>
          <p:nvPr/>
        </p:nvSpPr>
        <p:spPr>
          <a:xfrm>
            <a:off x="250920" y="260280"/>
            <a:ext cx="864216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ельское хозяйство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3" name="WordArt 3"/>
          <p:cNvSpPr txBox="1"/>
          <p:nvPr/>
        </p:nvSpPr>
        <p:spPr>
          <a:xfrm>
            <a:off x="1042920" y="5661000"/>
            <a:ext cx="65516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орговля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4" name="AutoShape 4"/>
          <p:cNvSpPr/>
          <p:nvPr/>
        </p:nvSpPr>
        <p:spPr>
          <a:xfrm>
            <a:off x="3995640" y="1413000"/>
            <a:ext cx="1368360" cy="3960720"/>
          </a:xfrm>
          <a:prstGeom prst="upDownArrow">
            <a:avLst>
              <a:gd name="adj1" fmla="val 50000"/>
              <a:gd name="adj2" fmla="val 57622"/>
            </a:avLst>
          </a:prstGeom>
          <a:solidFill>
            <a:srgbClr val="66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7" descr="3"/>
          <p:cNvPicPr/>
          <p:nvPr/>
        </p:nvPicPr>
        <p:blipFill>
          <a:blip r:embed="rId1"/>
          <a:stretch/>
        </p:blipFill>
        <p:spPr>
          <a:xfrm>
            <a:off x="179280" y="1557360"/>
            <a:ext cx="3662640" cy="37432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9" descr="000803_1071_1190_vnvv"/>
          <p:cNvPicPr/>
          <p:nvPr/>
        </p:nvPicPr>
        <p:blipFill>
          <a:blip r:embed="rId2"/>
          <a:stretch/>
        </p:blipFill>
        <p:spPr>
          <a:xfrm>
            <a:off x="5508720" y="1413000"/>
            <a:ext cx="3475080" cy="4319640"/>
          </a:xfrm>
          <a:prstGeom prst="rect">
            <a:avLst/>
          </a:prstGeom>
          <a:ln w="0">
            <a:noFill/>
          </a:ln>
        </p:spPr>
      </p:pic>
      <p:sp>
        <p:nvSpPr>
          <p:cNvPr id="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8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5"/>
          <p:cNvSpPr/>
          <p:nvPr/>
        </p:nvSpPr>
        <p:spPr>
          <a:xfrm>
            <a:off x="0" y="1628640"/>
            <a:ext cx="914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d60093"/>
                </a:solidFill>
                <a:latin typeface="Impact"/>
              </a:rPr>
              <a:t>Все части экономики тесно взаимосвязаны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0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2T15:04:16Z</dcterms:created>
  <dc:creator>Синецкая Г.Г.</dc:creator>
  <dc:description/>
  <dc:language>en-US</dc:language>
  <cp:lastModifiedBy>LEGION</cp:lastModifiedBy>
  <dcterms:modified xsi:type="dcterms:W3CDTF">2016-01-04T08:19:12Z</dcterms:modified>
  <cp:revision>19</cp:revision>
  <dc:subject>Что такое экономика</dc:subject>
  <dc:title>1.Что такое экономика</dc:title>
</cp:coreProperties>
</file>