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E1DC-7E82-4FD6-9EA7-638D44C0D5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астичность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ем экономики МО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основый 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фим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Эластичность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а выполн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ителем экономики МОУ СОШ №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 Сосновый Б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фимовой Е.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Коэффициент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времени и эласт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 времени и эластич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шение задач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ременн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логов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вна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бсолютно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увелич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увеличению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окращ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-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едложение 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еличина предложения равн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терминант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кон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уб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едложение 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еличина предложения равна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етерминант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закон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убститу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-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ить задач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ал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завис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ов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он предложения выраж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 -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он предложения выраж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личина предложения по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количество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ерно 1 и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снижение цены на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еличина предложения показыв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количество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верно 1 и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снижение цены на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19F-1133-47EE-BC7E-D75BB8CA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4F8-F177-4D8F-A687-10173F6F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C68-721C-4994-815B-6BCBF541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98E-577C-4FED-AE8B-5E072D65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DD38-147B-4924-B0E4-9FC217F2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6EF5-9D32-41C5-9C48-EAF90940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B8E9-D4B3-4E9A-A986-0ACC402E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13A7-042E-4A5D-9081-BC426395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65D7-42E1-4540-89A8-733868B0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4CF1-F12C-40D6-A14D-B9E20C73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45BE-6D5B-4DE1-A89D-DCC0EC27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897-B96B-4EB5-B036-629E769F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41A3-5D76-486A-8712-39BD26C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F205-CC17-43DC-8942-EB98B28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BFC2-0FFC-49D3-B275-0FC91F4D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D2F2-53B6-45D3-BBD8-DAB3A1D0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5A2C-DBA1-497D-B58A-B3679B75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67B-47A0-4304-AE45-76F3B486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EE1-F140-42F4-BF67-2A3685C7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896-9DDA-48CC-AE73-C910C303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EAC-5325-42F6-8B30-097E29DD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2B9-CE94-4E57-AE6C-3E2B070B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856-4E3B-4D90-AF26-6B73127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248-50E9-468A-872E-62F246B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527A-8B13-4732-A725-877F0976AD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3FC6-5BE7-4C75-9302-09D82AB4A8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едложение.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Эластичность предложения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640" y="5013360"/>
            <a:ext cx="36734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бота выполн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ителем экономики МОУ СОШ №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 Сосновый Бо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фимовой Е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ластичность пред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Эластичн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есть мера изменения зависимой переменной в ответ на изменение независимой перем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Эластичность предложения по цен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масштаб изменения величины предложения (в %) при изменении цены на 1 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эффициент эластич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6" descr="f3"/>
          <p:cNvPicPr/>
          <p:nvPr/>
        </p:nvPicPr>
        <p:blipFill>
          <a:blip r:embed="rId1"/>
          <a:stretch/>
        </p:blipFill>
        <p:spPr>
          <a:xfrm>
            <a:off x="2340000" y="1628640"/>
            <a:ext cx="3960720" cy="108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Рисунок1"/>
          <p:cNvPicPr/>
          <p:nvPr/>
        </p:nvPicPr>
        <p:blipFill>
          <a:blip r:embed="rId2"/>
          <a:stretch/>
        </p:blipFill>
        <p:spPr>
          <a:xfrm>
            <a:off x="826920" y="3357720"/>
            <a:ext cx="7361280" cy="24001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Фактор времени и эластичность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ткосрочном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реднесрочны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лгосрочны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3300"/>
                </a:solidFill>
                <a:latin typeface="Tahoma"/>
              </a:rPr>
              <a:t>Виды ценовой эластичности предложения: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эластично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ри изменении цены на 1% его величина изменится более чем 1% (Es &g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6" descr="microecon-051"/>
          <p:cNvPicPr/>
          <p:nvPr/>
        </p:nvPicPr>
        <p:blipFill>
          <a:blip r:embed="rId1"/>
          <a:stretch/>
        </p:blipFill>
        <p:spPr>
          <a:xfrm>
            <a:off x="5292720" y="3213000"/>
            <a:ext cx="3200400" cy="3086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неэластич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, если при изменении цены товара на 1% величина его предложения изменится менее чем на 1% (Es &l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microecon-051"/>
          <p:cNvPicPr/>
          <p:nvPr/>
        </p:nvPicPr>
        <p:blipFill>
          <a:blip r:embed="rId1"/>
          <a:stretch/>
        </p:blipFill>
        <p:spPr>
          <a:xfrm>
            <a:off x="6156360" y="2997360"/>
            <a:ext cx="2663640" cy="30859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е имеет место тогда, когда величина предложения бесконечно изменяется при малом изменении це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076720" y="3429000"/>
            <a:ext cx="3132360" cy="2390760"/>
            <a:chOff x="5076720" y="3429000"/>
            <a:chExt cx="3132360" cy="2390760"/>
          </a:xfrm>
        </p:grpSpPr>
        <p:sp>
          <p:nvSpPr>
            <p:cNvPr id="192" name="AutoShape 7"/>
            <p:cNvSpPr/>
            <p:nvPr/>
          </p:nvSpPr>
          <p:spPr>
            <a:xfrm>
              <a:off x="5076720" y="3429000"/>
              <a:ext cx="3132360" cy="2390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 flipV="1">
              <a:off x="5567760" y="3814560"/>
              <a:ext cx="0" cy="154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5567760" y="5357160"/>
              <a:ext cx="11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V="1">
              <a:off x="5567760" y="4431240"/>
              <a:ext cx="10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6673680" y="535716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 fontScale="93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5322240" y="3660120"/>
              <a:ext cx="2451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6673680" y="4354200"/>
              <a:ext cx="306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14"/>
          <p:cNvGrpSpPr/>
          <p:nvPr/>
        </p:nvGrpSpPr>
        <p:grpSpPr>
          <a:xfrm>
            <a:off x="2700360" y="4005360"/>
            <a:ext cx="3360600" cy="2563560"/>
            <a:chOff x="2700360" y="4005360"/>
            <a:chExt cx="3360600" cy="2563560"/>
          </a:xfrm>
        </p:grpSpPr>
        <p:sp>
          <p:nvSpPr>
            <p:cNvPr id="202" name="AutoShape 15"/>
            <p:cNvSpPr/>
            <p:nvPr/>
          </p:nvSpPr>
          <p:spPr>
            <a:xfrm>
              <a:off x="2700360" y="4005360"/>
              <a:ext cx="3360600" cy="2563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 flipV="1">
              <a:off x="3319560" y="410364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Line 17"/>
            <p:cNvSpPr/>
            <p:nvPr/>
          </p:nvSpPr>
          <p:spPr>
            <a:xfrm>
              <a:off x="3319560" y="5779800"/>
              <a:ext cx="11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 flipV="1">
              <a:off x="3912840" y="4300560"/>
              <a:ext cx="0" cy="14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4439880" y="5719680"/>
              <a:ext cx="3952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3055680" y="4005360"/>
              <a:ext cx="1976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3978720" y="4300920"/>
              <a:ext cx="32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3774600" y="5719680"/>
              <a:ext cx="79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15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верь себя-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нятие предложени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количество товаров, предлагаемых производителем для продажи на рын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В соответствии с законом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окупатели купят больше товаров  по низким ценам, чем по высо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окупатели купят больше товаров по высоким ценам, чем по низ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продавцы будут предлагать больше товаров, если цены на них станут выше, а не ни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Если коэффициент предложения равен нулю, т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редложение абсолютно не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редложение 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кривая предложения имеет отрицательный накл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Если коэффициент предложения равен 4, 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редложение товара является 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величина предложения равна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предложение является не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Факторы, вызывающие изменение предложения и сдвиг кривой предлож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детерминанты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закон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убститу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веты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1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2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3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4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6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7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8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4" descr="i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3"/>
          <p:cNvPicPr/>
          <p:nvPr/>
        </p:nvPicPr>
        <p:blipFill>
          <a:blip r:embed="rId2"/>
          <a:stretch/>
        </p:blipFill>
        <p:spPr>
          <a:xfrm>
            <a:off x="0" y="4668840"/>
            <a:ext cx="2173320" cy="2189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555480" y="17002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Разбор конспекта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55640" y="2421000"/>
            <a:ext cx="69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Шкала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</a:t>
            </a:r>
            <a:r>
              <a:rPr b="1" lang="ru-RU" sz="1500" spc="-1" strike="noStrike" u="sng">
                <a:solidFill>
                  <a:srgbClr val="ff9900"/>
                </a:solidFill>
                <a:uFillTx/>
                <a:latin typeface="Tahoma"/>
              </a:rPr>
              <a:t>шкалой предложения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30440" y="2421000"/>
          <a:ext cx="4038480" cy="38559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3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,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, ш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ивая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microecon-004"/>
          <p:cNvPicPr/>
          <p:nvPr/>
        </p:nvPicPr>
        <p:blipFill>
          <a:blip r:embed="rId1"/>
          <a:stretch/>
        </p:blipFill>
        <p:spPr>
          <a:xfrm>
            <a:off x="611280" y="3284640"/>
            <a:ext cx="3171600" cy="2485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859280" y="12682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РИВАЯ 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ОН ПРЕДЛОЖЕНИЯ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86000" y="3213000"/>
            <a:ext cx="538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64000" y="436572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348000" y="5516640"/>
            <a:ext cx="432000" cy="504720"/>
          </a:xfrm>
          <a:prstGeom prst="upArrow">
            <a:avLst>
              <a:gd name="adj1" fmla="val 50000"/>
              <a:gd name="adj2" fmla="val 292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акто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36000" y="189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380360" y="692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неценов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765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цен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012000" y="620640"/>
            <a:ext cx="129528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2050920" y="620640"/>
            <a:ext cx="1152720" cy="647640"/>
          </a:xfrm>
          <a:prstGeom prst="leftArrow">
            <a:avLst>
              <a:gd name="adj1" fmla="val 50000"/>
              <a:gd name="adj2" fmla="val 4449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95280" y="1341360"/>
            <a:ext cx="647640" cy="935280"/>
          </a:xfrm>
          <a:prstGeom prst="downArrow">
            <a:avLst>
              <a:gd name="adj1" fmla="val 50000"/>
              <a:gd name="adj2" fmla="val 361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24000" y="242100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е цены ведет к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менению величины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жением вдоль кривой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8172360" y="1197000"/>
            <a:ext cx="720720" cy="144000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156360" y="269712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ду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 изменению предложения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двигом кривой предложения(вправо или вле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50920" y="189000"/>
          <a:ext cx="8734320" cy="6408720"/>
        </p:xfrm>
        <a:graphic>
          <a:graphicData uri="http://schemas.openxmlformats.org/drawingml/2006/table">
            <a:tbl>
              <a:tblPr/>
              <a:tblGrid>
                <a:gridCol w="4367160"/>
                <a:gridCol w="4367160"/>
              </a:tblGrid>
              <a:tr h="170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ложение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, есл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080">
                <a:tc>
                  <a:txBody>
                    <a:bodyPr lIns="90000" rIns="90000" anchor="t">
                      <a:noAutofit/>
                    </a:bodyPr>
                    <a:p>
                      <a:pPr lvl="4" marL="21718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ffcc66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затраты на производ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новая техника и 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одятся или отменяются нало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цены на товары, производимые в аналогичных услов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тся изменение цены производимого тов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величивается количество продав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" name="Group 364"/>
          <p:cNvGrpSpPr/>
          <p:nvPr/>
        </p:nvGrpSpPr>
        <p:grpSpPr>
          <a:xfrm>
            <a:off x="5292720" y="4365720"/>
            <a:ext cx="2446200" cy="1944720"/>
            <a:chOff x="5292720" y="4365720"/>
            <a:chExt cx="2446200" cy="1944720"/>
          </a:xfrm>
        </p:grpSpPr>
        <p:sp>
          <p:nvSpPr>
            <p:cNvPr id="129" name="AutoShape 365"/>
            <p:cNvSpPr/>
            <p:nvPr/>
          </p:nvSpPr>
          <p:spPr>
            <a:xfrm>
              <a:off x="5292720" y="4365720"/>
              <a:ext cx="2446200" cy="1944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366"/>
            <p:cNvSpPr/>
            <p:nvPr/>
          </p:nvSpPr>
          <p:spPr>
            <a:xfrm flipV="1">
              <a:off x="5668920" y="4365720"/>
              <a:ext cx="360" cy="15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367"/>
            <p:cNvSpPr/>
            <p:nvPr/>
          </p:nvSpPr>
          <p:spPr>
            <a:xfrm flipV="1">
              <a:off x="5668920" y="5934240"/>
              <a:ext cx="1756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368"/>
            <p:cNvSpPr/>
            <p:nvPr/>
          </p:nvSpPr>
          <p:spPr>
            <a:xfrm>
              <a:off x="7425360" y="5871600"/>
              <a:ext cx="3135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369"/>
            <p:cNvSpPr/>
            <p:nvPr/>
          </p:nvSpPr>
          <p:spPr>
            <a:xfrm>
              <a:off x="5292720" y="4365720"/>
              <a:ext cx="2505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70"/>
            <p:cNvSpPr/>
            <p:nvPr/>
          </p:nvSpPr>
          <p:spPr>
            <a:xfrm flipV="1">
              <a:off x="5919480" y="492984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71"/>
            <p:cNvSpPr/>
            <p:nvPr/>
          </p:nvSpPr>
          <p:spPr>
            <a:xfrm flipV="1">
              <a:off x="6107760" y="505548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372"/>
            <p:cNvSpPr/>
            <p:nvPr/>
          </p:nvSpPr>
          <p:spPr>
            <a:xfrm flipV="1">
              <a:off x="5794200" y="480420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73"/>
            <p:cNvSpPr/>
            <p:nvPr/>
          </p:nvSpPr>
          <p:spPr>
            <a:xfrm>
              <a:off x="6860520" y="4804560"/>
              <a:ext cx="313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Text Box 374"/>
            <p:cNvSpPr/>
            <p:nvPr/>
          </p:nvSpPr>
          <p:spPr>
            <a:xfrm>
              <a:off x="7111800" y="49928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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Text Box 375"/>
            <p:cNvSpPr/>
            <p:nvPr/>
          </p:nvSpPr>
          <p:spPr>
            <a:xfrm>
              <a:off x="6735600" y="4616280"/>
              <a:ext cx="31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376"/>
            <p:cNvSpPr/>
            <p:nvPr/>
          </p:nvSpPr>
          <p:spPr>
            <a:xfrm>
              <a:off x="6359040" y="536940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377"/>
            <p:cNvSpPr/>
            <p:nvPr/>
          </p:nvSpPr>
          <p:spPr>
            <a:xfrm flipH="1">
              <a:off x="6421320" y="5055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378"/>
            <p:cNvSpPr/>
            <p:nvPr/>
          </p:nvSpPr>
          <p:spPr>
            <a:xfrm>
              <a:off x="5668920" y="5181120"/>
              <a:ext cx="119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Line 379"/>
            <p:cNvSpPr/>
            <p:nvPr/>
          </p:nvSpPr>
          <p:spPr>
            <a:xfrm>
              <a:off x="623340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380"/>
            <p:cNvSpPr/>
            <p:nvPr/>
          </p:nvSpPr>
          <p:spPr>
            <a:xfrm>
              <a:off x="6484320" y="518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Line 381"/>
            <p:cNvSpPr/>
            <p:nvPr/>
          </p:nvSpPr>
          <p:spPr>
            <a:xfrm>
              <a:off x="686052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2"/>
            <p:cNvSpPr/>
            <p:nvPr/>
          </p:nvSpPr>
          <p:spPr>
            <a:xfrm>
              <a:off x="654696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383"/>
            <p:cNvSpPr/>
            <p:nvPr/>
          </p:nvSpPr>
          <p:spPr>
            <a:xfrm>
              <a:off x="5292720" y="5118480"/>
              <a:ext cx="313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384"/>
            <p:cNvSpPr/>
            <p:nvPr/>
          </p:nvSpPr>
          <p:spPr>
            <a:xfrm>
              <a:off x="6735240" y="5997240"/>
              <a:ext cx="3762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385"/>
            <p:cNvSpPr/>
            <p:nvPr/>
          </p:nvSpPr>
          <p:spPr>
            <a:xfrm>
              <a:off x="6383880" y="5997240"/>
              <a:ext cx="2887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Text Box 386"/>
            <p:cNvSpPr/>
            <p:nvPr/>
          </p:nvSpPr>
          <p:spPr>
            <a:xfrm>
              <a:off x="6133320" y="59972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Group 403"/>
          <p:cNvGrpSpPr/>
          <p:nvPr/>
        </p:nvGrpSpPr>
        <p:grpSpPr>
          <a:xfrm>
            <a:off x="971640" y="3645000"/>
            <a:ext cx="2984400" cy="2636640"/>
            <a:chOff x="971640" y="3645000"/>
            <a:chExt cx="2984400" cy="2636640"/>
          </a:xfrm>
        </p:grpSpPr>
        <p:sp>
          <p:nvSpPr>
            <p:cNvPr id="152" name="AutoShape 404"/>
            <p:cNvSpPr/>
            <p:nvPr/>
          </p:nvSpPr>
          <p:spPr>
            <a:xfrm>
              <a:off x="971640" y="3645000"/>
              <a:ext cx="2984400" cy="26366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405"/>
            <p:cNvSpPr/>
            <p:nvPr/>
          </p:nvSpPr>
          <p:spPr>
            <a:xfrm flipV="1">
              <a:off x="1468800" y="3984840"/>
              <a:ext cx="0" cy="15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406"/>
            <p:cNvSpPr/>
            <p:nvPr/>
          </p:nvSpPr>
          <p:spPr>
            <a:xfrm>
              <a:off x="1468800" y="5516280"/>
              <a:ext cx="15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407"/>
            <p:cNvSpPr/>
            <p:nvPr/>
          </p:nvSpPr>
          <p:spPr>
            <a:xfrm>
              <a:off x="2961360" y="5516280"/>
              <a:ext cx="99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Text Box 408"/>
            <p:cNvSpPr/>
            <p:nvPr/>
          </p:nvSpPr>
          <p:spPr>
            <a:xfrm>
              <a:off x="1054080" y="381528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409"/>
            <p:cNvSpPr/>
            <p:nvPr/>
          </p:nvSpPr>
          <p:spPr>
            <a:xfrm flipV="1">
              <a:off x="1717920" y="4154760"/>
              <a:ext cx="1242720" cy="11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Text Box 410"/>
            <p:cNvSpPr/>
            <p:nvPr/>
          </p:nvSpPr>
          <p:spPr>
            <a:xfrm>
              <a:off x="2961360" y="3984840"/>
              <a:ext cx="829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411"/>
            <p:cNvSpPr/>
            <p:nvPr/>
          </p:nvSpPr>
          <p:spPr>
            <a:xfrm>
              <a:off x="1468800" y="4920480"/>
              <a:ext cx="6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412"/>
            <p:cNvSpPr/>
            <p:nvPr/>
          </p:nvSpPr>
          <p:spPr>
            <a:xfrm>
              <a:off x="1468800" y="4495680"/>
              <a:ext cx="116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413"/>
            <p:cNvSpPr/>
            <p:nvPr/>
          </p:nvSpPr>
          <p:spPr>
            <a:xfrm>
              <a:off x="2131920" y="4920480"/>
              <a:ext cx="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Line 414"/>
            <p:cNvSpPr/>
            <p:nvPr/>
          </p:nvSpPr>
          <p:spPr>
            <a:xfrm>
              <a:off x="2630160" y="4495680"/>
              <a:ext cx="0" cy="10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415"/>
            <p:cNvSpPr/>
            <p:nvPr/>
          </p:nvSpPr>
          <p:spPr>
            <a:xfrm>
              <a:off x="1136880" y="4750920"/>
              <a:ext cx="2487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416"/>
            <p:cNvSpPr/>
            <p:nvPr/>
          </p:nvSpPr>
          <p:spPr>
            <a:xfrm>
              <a:off x="1220400" y="4410360"/>
              <a:ext cx="248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417"/>
            <p:cNvSpPr/>
            <p:nvPr/>
          </p:nvSpPr>
          <p:spPr>
            <a:xfrm>
              <a:off x="2049120" y="5516280"/>
              <a:ext cx="3315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Text Box 418"/>
            <p:cNvSpPr/>
            <p:nvPr/>
          </p:nvSpPr>
          <p:spPr>
            <a:xfrm>
              <a:off x="2546640" y="560124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ебя -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новые факторы спроса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Закон предложения гласит - чем выше цена, те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меньше продавцов на рынке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меньше величина спрос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больше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кон предложения выраж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обратн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 )связь между эластичными и неэластичными товар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прям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меру эластичности кажд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кривая предложения сместится впра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кривая предложения сместится вле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кривая предложения не изменит своего по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ничто из вышеперечисленного не подход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Величина предложения показыв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количество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количество предлагаемого товара на рынке при данной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зависимость между ценой и количеством предлаг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верно 1 и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Ценовые факторы предложения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. Причиной увеличения предложения видеотехники стал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снижение цены на тов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снижение таможенных пошлин на ввозимую видеотехни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снижение цен на комплектующие издел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6:18:57Z</dcterms:created>
  <dc:creator>USER</dc:creator>
  <dc:description/>
  <dc:language>en-US</dc:language>
  <cp:lastModifiedBy>LEGION</cp:lastModifiedBy>
  <dcterms:modified xsi:type="dcterms:W3CDTF">2016-01-04T08:19:27Z</dcterms:modified>
  <cp:revision>15</cp:revision>
  <dc:subject/>
  <dc:title>Предложение</dc:title>
</cp:coreProperties>
</file>