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3B135-B7CE-4C7A-972F-2878934270ED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Эластичность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абота выполн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ителем экономики МОУ СОШ №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 Сосновый Бо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Ефимовой Е.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. 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Эластичность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абота выполн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учителем экономики МОУ СОШ №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 Сосновый Б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Ефимовой Е.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- есть мера изменения зависимой переменной в ответ на изменение независимой перемен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Эластичность предложения по цене – это масштаб изменения величины предложения (в %) при изменении цены на 1 %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Коэффициент эластичност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Коэффициент эластич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 времени и эластичност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 времени и эластичнос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краткосрочном 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среднесрочный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 долгосрочный 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иды ценовой эластичности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эластично, если при изменении цены на 1% его величина изменится более чем 1% (Es &g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неэластично , если при изменении цены товара на 1% величина его предложения изменится менее чем на 1% (Es &lt; 1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 предложение имеет место тогда, когда величина предложения бесконечно изменяется при малом изменении цены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ешение задач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Решение задач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-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ременного период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налоговой политики государст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равна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равна 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не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абсолютно эластично по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увелич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увеличению спрос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окращению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-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нятие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нятие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едложение - это количество товаров, предлагаемых производителем для продажи на рынк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предложение эластичн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величина предложения равна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детерминанты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закон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субститут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 соответствии с законом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окупатели купят больше товаров  по низким ценам, чем по высо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окупатели купят больше товаров по высоким ценам, чем по низки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продавцы будут предлагать больше товаров, если цены на них станут выше, а не ниже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Если коэффициент предложения равен нулю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абсолютно не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предложение эластичн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кривая предложения имеет отрицательный накло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Если коэффициент предложения равен 4, т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предложение товара является 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величина предложения равна 4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предложение является неэластичны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. Факторы, вызывающие изменение предложения и сдвиг кривой предложен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детерминанты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закон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субститу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веты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Б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веты -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Б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8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Решить задачу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Домашнее задание</a:t>
            </a:r>
            <a:br>
              <a:rPr sz="1200"/>
            </a:b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Разбор конспекта.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Шкал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Шкал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шкал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аждая из точек кривой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тображает зависимость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КРИВАЯ ПРЕДЛОЖЕНИЯ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выш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ш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иже величина пред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чем ниже цен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ЗАКОН ПРЕДЛОЖЕНИЯ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Фактор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еценовы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ценово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Фактор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неценовы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ценов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изменение цены ведет к изменению величины предложения, что графически изображается движением вдоль кривой предлож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едут к изменению предложения, что графически изображается сдвигом кривой предложения(вправо или влево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оверь себя -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больше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Закон предложения выраж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Проверь себя -1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1. Ценовые факторы спроса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2. Закон предложения гласит - чем выше цена, те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меньше продавцов на рынке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меньше величина спроса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больше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3. Закон предложения выраж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обратн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 )связь между эластичными и неэластичными товарам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прямую связь между ценой и количеством продав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меру эластичности кажд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Величина предложения показывае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количество продавцов на рынк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г) верно 1 и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) от времени год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.) снижение цены на товар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кривая предложения сместится впра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кривая предложения сместится влев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кривая предложения не изменит своего полож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.) ничто из вышеперечисленного не подходи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5. Величина предложения показыв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количество продавцов на рынк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количество предлагаемого товара на рынке при данной цен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зависимость между ценой и количеством предлагаемого товар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г) верно 1 и 2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6. Ценовые факторы предложения зависят о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) вкусов покупателей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) цены на данный товар;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) от времени год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7. Причиной увеличения предложения видеотехники стало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а.) снижение цены на това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б.) снижение таможенных пошлин на ввозимую видеотехник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Tahoma"/>
              </a:rPr>
              <a:t>в.) снижение цен на комплектующие изде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2BACE-9DC9-4F13-9048-F3DAAC1E53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9856A-14B3-48F9-A61D-9C6B21EEA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7476-4104-4C4A-962C-6542D0529A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36CCA-5121-4B32-821A-304335351F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8E0C52-6DC4-4E2C-B1A9-23B043CC78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9791B-9F45-4010-AD60-B39B86945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4B990A-679C-4F17-9EF7-530BAC6B00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7DEE7-13E3-47C9-90C5-7F7CC11C2F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B4C7C-3CE1-4B34-8E42-11BACC14BA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37B80-AD03-4C7C-BC00-D501561A8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D3A45-15D6-4B78-B318-5208CB879D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17577-D2C5-4314-9F0F-9DE30CBF32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2F72F6-78E9-425C-B240-176370AB5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2FDBB-7F09-4A78-A87A-7825A7D59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F9063-DC99-4E05-8E8A-69C09F9C08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80024C-E876-4653-908D-81B62A73F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74A0C-D668-4C00-B7FB-EB76B374FF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E3F53-3CE5-435E-B26C-C16C38887D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10126-FC63-4FB6-9D2C-37566C1FF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CA40-7A43-46AA-A095-3BF5FC6F9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F8732-CAD0-4146-88CF-3228B5379E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199F-03A7-438F-BA8A-13B60A6F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3C98A-5FE0-4FAA-BC5A-F2A7BF986B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32E3-BB0F-43E0-B89D-F2B71AEC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6DC2F6-477A-4459-AB56-B77BED60BA26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257D4E-77DD-46DD-9894-8AD12F180223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767960"/>
            <a:ext cx="7772400" cy="173700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Предложение. </a:t>
            </a:r>
            <a:br>
              <a:rPr sz="4800"/>
            </a:br>
            <a:r>
              <a:rPr b="0" lang="ru-RU" sz="4800" spc="-1" strike="noStrike">
                <a:solidFill>
                  <a:srgbClr val="ffffcc"/>
                </a:solidFill>
                <a:latin typeface="Tahoma"/>
              </a:rPr>
              <a:t> Эластичность предложения.</a:t>
            </a:r>
            <a:endParaRPr b="0" lang="en-US" sz="48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640" y="5013360"/>
            <a:ext cx="3673440" cy="103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Работа выполнен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учителем экономики МОУ СОШ № 4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 Сосновый Бо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Ефимовой Е.В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Эластичность предложения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cc66"/>
                </a:solidFill>
                <a:latin typeface="Tahoma"/>
              </a:rPr>
              <a:t>Эластичность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- есть мера изменения зависимой переменной в ответ на изменение независимой переменной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изменения величины цены говорит об эластичности предложения по цене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9900"/>
                </a:solidFill>
                <a:latin typeface="Tahoma"/>
              </a:rPr>
              <a:t>Эластичность предложения по цене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– это масштаб изменения величины предложения (в %) при изменении цены на 1 %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Степень такой эластичности (коэффициента эластичности) определяют путем деления разницы (в %) в величинах предложения до и после изменения цены на величину изменения цены (в %)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оэффициент эластичности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177" name="Picture 6" descr="f3"/>
          <p:cNvPicPr/>
          <p:nvPr/>
        </p:nvPicPr>
        <p:blipFill>
          <a:blip r:embed="rId1"/>
          <a:stretch/>
        </p:blipFill>
        <p:spPr>
          <a:xfrm>
            <a:off x="2340000" y="1628640"/>
            <a:ext cx="3960720" cy="1089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9" descr="Рисунок1"/>
          <p:cNvPicPr/>
          <p:nvPr/>
        </p:nvPicPr>
        <p:blipFill>
          <a:blip r:embed="rId2"/>
          <a:stretch/>
        </p:blipFill>
        <p:spPr>
          <a:xfrm>
            <a:off x="826920" y="3357720"/>
            <a:ext cx="7361280" cy="240012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1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Tahoma"/>
              </a:rPr>
              <a:t>Фактор времени и эластичность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267920"/>
            <a:ext cx="8229600" cy="518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ольшое значение имеет фактор времени для характеристики эластичности предложения: прежде чем предложение полностью приспособится к новому уровню цен, должен пройти определённый промежуток времени, т.е. по способности производителя реагировать на рыночную ситуацию выделяют три периода: краткосрочный, среднесрочный, долгосрочны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краткосрочном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е у фирмы нет времени, чтобы изменить предложение. Это значит, что в этом периоде предложение абсолютно неэластично.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среднесрочный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период фирма использует резервы и увеличивает производство. Предложение может быть увеличено, несмотря на неизменность числа фирм и объема принадлежащего им капитала.Эластичность предложения становится положительной, больше нуля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1600" spc="-1" strike="noStrike">
                <a:solidFill>
                  <a:srgbClr val="ffffff"/>
                </a:solidFill>
                <a:latin typeface="Tahoma"/>
              </a:rPr>
              <a:t>долгосрочный 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период фирма может перестроить производство путём замены старого оборудования новым, расширить производственные мощности. Эластичность предложения становится максимальной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ff3300"/>
                </a:solidFill>
                <a:latin typeface="Tahoma"/>
              </a:rPr>
              <a:t>Виды ценовой эластичности предложения:</a:t>
            </a:r>
            <a:endParaRPr b="0" lang="en-US" sz="31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эластично,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если при изменении цены на 1% его величина изменится более чем 1% (Es &g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5" name="Picture 6" descr="microecon-051"/>
          <p:cNvPicPr/>
          <p:nvPr/>
        </p:nvPicPr>
        <p:blipFill>
          <a:blip r:embed="rId1"/>
          <a:stretch/>
        </p:blipFill>
        <p:spPr>
          <a:xfrm>
            <a:off x="5292720" y="3213000"/>
            <a:ext cx="3200400" cy="3086280"/>
          </a:xfrm>
          <a:prstGeom prst="rect">
            <a:avLst/>
          </a:prstGeom>
          <a:ln w="0">
            <a:noFill/>
          </a:ln>
        </p:spPr>
      </p:pic>
      <p:sp>
        <p:nvSpPr>
          <p:cNvPr id="18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457200" y="549000"/>
            <a:ext cx="8229600" cy="554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неэластично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, если при изменении цены товара на 1% величина его предложения изменится менее чем на 1% (Es &lt; 1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88" name="Picture 4" descr="microecon-051"/>
          <p:cNvPicPr/>
          <p:nvPr/>
        </p:nvPicPr>
        <p:blipFill>
          <a:blip r:embed="rId1"/>
          <a:stretch/>
        </p:blipFill>
        <p:spPr>
          <a:xfrm>
            <a:off x="6156360" y="2997360"/>
            <a:ext cx="2663640" cy="3085920"/>
          </a:xfrm>
          <a:prstGeom prst="rect">
            <a:avLst/>
          </a:prstGeom>
          <a:ln w="0">
            <a:noFill/>
          </a:ln>
        </p:spPr>
      </p:pic>
      <p:sp>
        <p:nvSpPr>
          <p:cNvPr id="18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457200" y="259920"/>
            <a:ext cx="829152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(совершенно) эластичное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едложение имеет место тогда, когда величина предложения бесконечно изменяется при малом изменении цены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(Es = ~). Эта форма эластичности предложения свойственна долгому периоду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91" name="Group 6"/>
          <p:cNvGrpSpPr/>
          <p:nvPr/>
        </p:nvGrpSpPr>
        <p:grpSpPr>
          <a:xfrm>
            <a:off x="5076720" y="3429000"/>
            <a:ext cx="3132360" cy="2390760"/>
            <a:chOff x="5076720" y="3429000"/>
            <a:chExt cx="3132360" cy="2390760"/>
          </a:xfrm>
        </p:grpSpPr>
        <p:sp>
          <p:nvSpPr>
            <p:cNvPr id="192" name="AutoShape 7"/>
            <p:cNvSpPr/>
            <p:nvPr/>
          </p:nvSpPr>
          <p:spPr>
            <a:xfrm>
              <a:off x="5076720" y="3429000"/>
              <a:ext cx="3132360" cy="2390760"/>
            </a:xfrm>
            <a:prstGeom prst="rect">
              <a:avLst/>
            </a:prstGeom>
            <a:solidFill>
              <a:srgbClr val="ff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3" name="Line 8"/>
            <p:cNvSpPr/>
            <p:nvPr/>
          </p:nvSpPr>
          <p:spPr>
            <a:xfrm flipV="1">
              <a:off x="5567760" y="3814560"/>
              <a:ext cx="0" cy="1542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4" name="Line 9"/>
            <p:cNvSpPr/>
            <p:nvPr/>
          </p:nvSpPr>
          <p:spPr>
            <a:xfrm>
              <a:off x="5567760" y="5357160"/>
              <a:ext cx="11671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5" name="Line 10"/>
            <p:cNvSpPr/>
            <p:nvPr/>
          </p:nvSpPr>
          <p:spPr>
            <a:xfrm flipV="1">
              <a:off x="5567760" y="4431240"/>
              <a:ext cx="104400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6" name="Text Box 11"/>
            <p:cNvSpPr/>
            <p:nvPr/>
          </p:nvSpPr>
          <p:spPr>
            <a:xfrm>
              <a:off x="6673680" y="5357160"/>
              <a:ext cx="613800" cy="23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 fontScale="93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7" name="Text Box 12"/>
            <p:cNvSpPr/>
            <p:nvPr/>
          </p:nvSpPr>
          <p:spPr>
            <a:xfrm>
              <a:off x="5322240" y="3660120"/>
              <a:ext cx="24516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98" name="Text Box 13"/>
            <p:cNvSpPr/>
            <p:nvPr/>
          </p:nvSpPr>
          <p:spPr>
            <a:xfrm>
              <a:off x="6673680" y="4354200"/>
              <a:ext cx="306720" cy="38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600" bIns="306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бсолютно неэластичное предложени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имеет место тогда, когда величина предложения равна нулю (Е = 0), т. е. величина предложения абсолютно не меняется при изменении цены (для  текущего периода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01" name="Group 14"/>
          <p:cNvGrpSpPr/>
          <p:nvPr/>
        </p:nvGrpSpPr>
        <p:grpSpPr>
          <a:xfrm>
            <a:off x="2700360" y="4005360"/>
            <a:ext cx="3360600" cy="2563560"/>
            <a:chOff x="2700360" y="4005360"/>
            <a:chExt cx="3360600" cy="2563560"/>
          </a:xfrm>
        </p:grpSpPr>
        <p:sp>
          <p:nvSpPr>
            <p:cNvPr id="202" name="AutoShape 15"/>
            <p:cNvSpPr/>
            <p:nvPr/>
          </p:nvSpPr>
          <p:spPr>
            <a:xfrm>
              <a:off x="2700360" y="4005360"/>
              <a:ext cx="3360600" cy="2563560"/>
            </a:xfrm>
            <a:prstGeom prst="rect">
              <a:avLst/>
            </a:prstGeom>
            <a:solidFill>
              <a:srgbClr val="3399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3" name="Line 16"/>
            <p:cNvSpPr/>
            <p:nvPr/>
          </p:nvSpPr>
          <p:spPr>
            <a:xfrm flipV="1">
              <a:off x="3319560" y="4103640"/>
              <a:ext cx="0" cy="1676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4" name="Line 17"/>
            <p:cNvSpPr/>
            <p:nvPr/>
          </p:nvSpPr>
          <p:spPr>
            <a:xfrm>
              <a:off x="3319560" y="5779800"/>
              <a:ext cx="11858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5" name="Line 18"/>
            <p:cNvSpPr/>
            <p:nvPr/>
          </p:nvSpPr>
          <p:spPr>
            <a:xfrm flipV="1">
              <a:off x="3912840" y="4300560"/>
              <a:ext cx="0" cy="1478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6" name="Text Box 19"/>
            <p:cNvSpPr/>
            <p:nvPr/>
          </p:nvSpPr>
          <p:spPr>
            <a:xfrm>
              <a:off x="4439880" y="5719680"/>
              <a:ext cx="395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7" name="Text Box 20"/>
            <p:cNvSpPr/>
            <p:nvPr/>
          </p:nvSpPr>
          <p:spPr>
            <a:xfrm>
              <a:off x="3055680" y="4005360"/>
              <a:ext cx="197640" cy="49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8" name="Text Box 21"/>
            <p:cNvSpPr/>
            <p:nvPr/>
          </p:nvSpPr>
          <p:spPr>
            <a:xfrm>
              <a:off x="3978720" y="4300920"/>
              <a:ext cx="329400" cy="393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09" name="Text Box 22"/>
            <p:cNvSpPr/>
            <p:nvPr/>
          </p:nvSpPr>
          <p:spPr>
            <a:xfrm>
              <a:off x="3774600" y="5719680"/>
              <a:ext cx="799920" cy="45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78480" rIns="78480" tIns="39240" bIns="392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5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15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5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21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Решение задач.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1. Что произойдет с кривой предложения пшеницы при увеличении цен на минеральные удобрения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2. У вас завод по производству автомобилей. Вы внедрили новую технологию сборки, которая обеспечивает экономию затрат. Что случится с предложением на рынке автомобилей?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35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3. Если цена выросла на 8 %, а величина предложения увеличилась на 10%, предложение эластично по цене? Изобразите на графи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4. Цена на морковь выросла с 5р. до 8 р., величина предложения моркови в среднесрочном периоде изменилась с 30 кг. до 60 кг. Каков характер предложения моркови в среднесрочном периоде?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роверь себя-2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197000"/>
            <a:ext cx="8229600" cy="489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1.Ценовая эластичность предложения находится в прямой зависимости о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временного период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изменений количества покупателей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налоговой политики государств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2. Ценовая эластичность вертикально расположенной кривой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равна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равна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больше 1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3. Если цена снизилась на 5%, а величина предложения уменьшилась на 3%, предложение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не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абсолютно эластично по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4. Повышение налога на прибыль предприятий приведет к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А) увелич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Б) увеличению спрос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) сокращению пред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Понятие предложения.</a:t>
            </a: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052280"/>
            <a:ext cx="8229600" cy="504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Величина предложения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- количество товаров, которые предлагают к продаже продавцы на рынок в течение определенного периода времени и при определенном уровне рыночной цены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редложение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- это количество товаров, предлагаемых производителем для продажи на рынк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wedg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768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8" dur="768" fill="hold"/>
                                        <p:tgtEl>
                                          <p:spTgt spid="98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0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2" dur="768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457200" y="33300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5. В соответствии с законом предложения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окупатели купят больше товаров  по низким ценам, чем по высо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окупатели купят больше товаров по высоким ценам, чем по низки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продавцы будут предлагать больше товаров, если цены на них станут выше, а не ниже</a:t>
            </a: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Если коэффициент предложения равен нулю, т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предложение абсолютно не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предложение эластичн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кривая предложения имеет отрицательный наклон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7. Если коэффициент предложения равен 4, то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предложение товара является 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величина предложения равна 4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предложение является неэластичным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8. Факторы, вызывающие изменение предложения и сдвиг кривой предложения: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А) детерминанты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Б) закон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imes New Roman"/>
              </a:rPr>
              <a:t>В) субституты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Ответы - 2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1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2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3Б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4В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6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7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66"/>
                </a:solidFill>
                <a:latin typeface="Tahoma"/>
              </a:rPr>
              <a:t>8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Tahoma"/>
              </a:rPr>
              <a:t>Домашнее задание</a:t>
            </a: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ffffcc"/>
              </a:solidFill>
              <a:latin typeface="Tahoma"/>
            </a:endParaRPr>
          </a:p>
        </p:txBody>
      </p:sp>
      <p:pic>
        <p:nvPicPr>
          <p:cNvPr id="225" name="Picture 4" descr="i"/>
          <p:cNvPicPr/>
          <p:nvPr/>
        </p:nvPicPr>
        <p:blipFill>
          <a:blip r:embed="rId1"/>
          <a:stretch/>
        </p:blipFill>
        <p:spPr>
          <a:xfrm>
            <a:off x="7238880" y="0"/>
            <a:ext cx="1905120" cy="1282680"/>
          </a:xfrm>
          <a:prstGeom prst="rect">
            <a:avLst/>
          </a:prstGeom>
          <a:ln w="0">
            <a:noFill/>
          </a:ln>
        </p:spPr>
      </p:pic>
      <p:pic>
        <p:nvPicPr>
          <p:cNvPr id="226" name="Picture 5" descr="3"/>
          <p:cNvPicPr/>
          <p:nvPr/>
        </p:nvPicPr>
        <p:blipFill>
          <a:blip r:embed="rId2"/>
          <a:stretch/>
        </p:blipFill>
        <p:spPr>
          <a:xfrm>
            <a:off x="0" y="4668840"/>
            <a:ext cx="2173320" cy="2189160"/>
          </a:xfrm>
          <a:prstGeom prst="rect">
            <a:avLst/>
          </a:prstGeom>
          <a:ln w="0">
            <a:noFill/>
          </a:ln>
        </p:spPr>
      </p:pic>
      <p:sp>
        <p:nvSpPr>
          <p:cNvPr id="227" name="Rectangle 6"/>
          <p:cNvSpPr/>
          <p:nvPr/>
        </p:nvSpPr>
        <p:spPr>
          <a:xfrm>
            <a:off x="555480" y="1700280"/>
            <a:ext cx="249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1. Разбор конспекта</a:t>
            </a:r>
            <a:r>
              <a:rPr b="0" lang="ru-RU" sz="1800" spc="-1" strike="noStrike">
                <a:solidFill>
                  <a:srgbClr val="ffffcc"/>
                </a:solidFill>
                <a:latin typeface="Tahoma"/>
              </a:rPr>
              <a:t>.</a:t>
            </a: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8" name="Text Box 7"/>
          <p:cNvSpPr/>
          <p:nvPr/>
        </p:nvSpPr>
        <p:spPr>
          <a:xfrm>
            <a:off x="755640" y="2421000"/>
            <a:ext cx="698508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2. Решить задачу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При изменении цены на розы с 10р. до 20 р. за штуку величина их предложения увеличилась с 200 тыс. штук до 250 тыс. штук. Эластично или неэластично по цене предложение роз? Решение задачи представьте графически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Шкала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ffffff"/>
                </a:solidFill>
                <a:latin typeface="Tahoma"/>
              </a:rPr>
              <a:t>Зависимость величины предложения от уровня цены называется </a:t>
            </a:r>
            <a:r>
              <a:rPr b="1" lang="ru-RU" sz="1500" spc="-1" strike="noStrike" u="sng">
                <a:solidFill>
                  <a:srgbClr val="ff9900"/>
                </a:solidFill>
                <a:uFillTx/>
                <a:latin typeface="Tahoma"/>
              </a:rPr>
              <a:t>шкалой предложения.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2530440" y="2421000"/>
          <a:ext cx="4038480" cy="3855960"/>
        </p:xfrm>
        <a:graphic>
          <a:graphicData uri="http://schemas.openxmlformats.org/drawingml/2006/table">
            <a:tbl>
              <a:tblPr/>
              <a:tblGrid>
                <a:gridCol w="2019240"/>
                <a:gridCol w="2019240"/>
              </a:tblGrid>
              <a:tr h="1235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Цена, руб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, шт.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344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5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488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5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2720"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2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Кривая предложения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Каждая из точек кривой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отображает зависимость 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ahoma"/>
              </a:rPr>
              <a:t>величины предложения от уровня цены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7" name="Picture 4" descr="microecon-004"/>
          <p:cNvPicPr/>
          <p:nvPr/>
        </p:nvPicPr>
        <p:blipFill>
          <a:blip r:embed="rId1"/>
          <a:stretch/>
        </p:blipFill>
        <p:spPr>
          <a:xfrm>
            <a:off x="611280" y="3284640"/>
            <a:ext cx="3171600" cy="2485800"/>
          </a:xfrm>
          <a:prstGeom prst="rect">
            <a:avLst/>
          </a:prstGeom>
          <a:ln w="0">
            <a:noFill/>
          </a:ln>
        </p:spPr>
      </p:pic>
      <p:sp>
        <p:nvSpPr>
          <p:cNvPr id="108" name="Rectangle 5"/>
          <p:cNvSpPr/>
          <p:nvPr/>
        </p:nvSpPr>
        <p:spPr>
          <a:xfrm>
            <a:off x="4859280" y="1268280"/>
            <a:ext cx="38163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cc66"/>
                </a:solidFill>
                <a:latin typeface="Tahoma"/>
              </a:rPr>
              <a:t>КРИВАЯ ПРЕДЛОЖЕНИЯ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 ( в графической форме) -зависимость между величиной предложения товара на рынке (количеством предлагаемого по данной цене товара) и ценой этого товара при неизменных неценовых факторах, влияющих на предложение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ЗАКОН ПРЕДЛОЖЕНИЯ</a:t>
            </a:r>
            <a:br>
              <a:rPr sz="4400"/>
            </a:b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27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овышение цен обычно ведет к увеличению величины предложения, а снижение цен – к ее уменьшению  ИЛ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Rectangle 4"/>
          <p:cNvSpPr/>
          <p:nvPr/>
        </p:nvSpPr>
        <p:spPr>
          <a:xfrm>
            <a:off x="2286000" y="3213000"/>
            <a:ext cx="538164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еличина предложения находится в прямой зависимости от цены: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выш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ыш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ниже величина предложения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чем ниже цен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3" name="AutoShape 5"/>
          <p:cNvSpPr/>
          <p:nvPr/>
        </p:nvSpPr>
        <p:spPr>
          <a:xfrm>
            <a:off x="3564000" y="4365720"/>
            <a:ext cx="503280" cy="36036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AutoShape 6"/>
          <p:cNvSpPr/>
          <p:nvPr/>
        </p:nvSpPr>
        <p:spPr>
          <a:xfrm>
            <a:off x="3348000" y="5516640"/>
            <a:ext cx="432000" cy="504720"/>
          </a:xfrm>
          <a:prstGeom prst="upArrow">
            <a:avLst>
              <a:gd name="adj1" fmla="val 50000"/>
              <a:gd name="adj2" fmla="val 29208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0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2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Факторы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7" name="Text Box 5"/>
          <p:cNvSpPr/>
          <p:nvPr/>
        </p:nvSpPr>
        <p:spPr>
          <a:xfrm>
            <a:off x="7236000" y="189000"/>
            <a:ext cx="1800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6"/>
          <p:cNvSpPr/>
          <p:nvPr/>
        </p:nvSpPr>
        <p:spPr>
          <a:xfrm>
            <a:off x="7380360" y="692280"/>
            <a:ext cx="176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неценовые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Text Box 8"/>
          <p:cNvSpPr/>
          <p:nvPr/>
        </p:nvSpPr>
        <p:spPr>
          <a:xfrm>
            <a:off x="0" y="765000"/>
            <a:ext cx="205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cc"/>
                </a:solidFill>
                <a:latin typeface="Tahoma"/>
              </a:rPr>
              <a:t>ценовой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AutoShape 10"/>
          <p:cNvSpPr/>
          <p:nvPr/>
        </p:nvSpPr>
        <p:spPr>
          <a:xfrm>
            <a:off x="6012000" y="620640"/>
            <a:ext cx="1295280" cy="6476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1" name="AutoShape 11"/>
          <p:cNvSpPr/>
          <p:nvPr/>
        </p:nvSpPr>
        <p:spPr>
          <a:xfrm>
            <a:off x="2050920" y="620640"/>
            <a:ext cx="1152720" cy="647640"/>
          </a:xfrm>
          <a:prstGeom prst="leftArrow">
            <a:avLst>
              <a:gd name="adj1" fmla="val 50000"/>
              <a:gd name="adj2" fmla="val 4449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AutoShape 12"/>
          <p:cNvSpPr/>
          <p:nvPr/>
        </p:nvSpPr>
        <p:spPr>
          <a:xfrm>
            <a:off x="395280" y="1341360"/>
            <a:ext cx="647640" cy="935280"/>
          </a:xfrm>
          <a:prstGeom prst="downArrow">
            <a:avLst>
              <a:gd name="adj1" fmla="val 50000"/>
              <a:gd name="adj2" fmla="val 36103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3" name="Rectangle 13"/>
          <p:cNvSpPr/>
          <p:nvPr/>
        </p:nvSpPr>
        <p:spPr>
          <a:xfrm>
            <a:off x="324000" y="2421000"/>
            <a:ext cx="259236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изменение цены ведет к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зменению величины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, 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движением вдоль кривой предложения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4" name="AutoShape 14"/>
          <p:cNvSpPr/>
          <p:nvPr/>
        </p:nvSpPr>
        <p:spPr>
          <a:xfrm>
            <a:off x="8172360" y="1197000"/>
            <a:ext cx="720720" cy="1440000"/>
          </a:xfrm>
          <a:prstGeom prst="downArrow">
            <a:avLst>
              <a:gd name="adj1" fmla="val 50000"/>
              <a:gd name="adj2" fmla="val 49950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Rectangle 16"/>
          <p:cNvSpPr/>
          <p:nvPr/>
        </p:nvSpPr>
        <p:spPr>
          <a:xfrm>
            <a:off x="6156360" y="2697120"/>
            <a:ext cx="2808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ведут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к изменению предложения, 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что графически изображается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сдвигом кривой предложения(вправо или влево)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60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27" name=""/>
          <p:cNvGraphicFramePr/>
          <p:nvPr/>
        </p:nvGraphicFramePr>
        <p:xfrm>
          <a:off x="250920" y="189000"/>
          <a:ext cx="8734320" cy="6408720"/>
        </p:xfrm>
        <a:graphic>
          <a:graphicData uri="http://schemas.openxmlformats.org/drawingml/2006/table">
            <a:tbl>
              <a:tblPr/>
              <a:tblGrid>
                <a:gridCol w="4367160"/>
                <a:gridCol w="4367160"/>
              </a:tblGrid>
              <a:tr h="1704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еличина предложения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33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дложение</a:t>
                      </a: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>
                        <a:spcBef>
                          <a:spcPts val="8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3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 gridSpan="2"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, если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186080">
                <a:tc>
                  <a:txBody>
                    <a:bodyPr lIns="90000" rIns="90000" anchor="t">
                      <a:noAutofit/>
                    </a:bodyPr>
                    <a:p>
                      <a:pPr lvl="4" marL="2171880" indent="-343080">
                        <a:lnSpc>
                          <a:spcPct val="100000"/>
                        </a:lnSpc>
                        <a:tabLst>
                          <a:tab algn="l" pos="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buClr>
                          <a:srgbClr val="ffcc66"/>
                        </a:buClr>
                        <a:buSzPct val="80000"/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ется цена данного товара.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затраты на производство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спользуется новая техника и технология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водятся или отменяются налоги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Изменяются цены на товары, производимые в аналогичных условиях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Ожидается изменение цены производимого товара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buClr>
                          <a:srgbClr val="ffffff"/>
                        </a:buClr>
                        <a:buFont typeface="Tahoma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величивается количество продавцов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  <a:p>
                      <a:pPr marL="533520" indent="-533520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128" name="Group 364"/>
          <p:cNvGrpSpPr/>
          <p:nvPr/>
        </p:nvGrpSpPr>
        <p:grpSpPr>
          <a:xfrm>
            <a:off x="5292720" y="4365720"/>
            <a:ext cx="2446200" cy="1944720"/>
            <a:chOff x="5292720" y="4365720"/>
            <a:chExt cx="2446200" cy="1944720"/>
          </a:xfrm>
        </p:grpSpPr>
        <p:sp>
          <p:nvSpPr>
            <p:cNvPr id="129" name="AutoShape 365"/>
            <p:cNvSpPr/>
            <p:nvPr/>
          </p:nvSpPr>
          <p:spPr>
            <a:xfrm>
              <a:off x="5292720" y="4365720"/>
              <a:ext cx="2446200" cy="1944720"/>
            </a:xfrm>
            <a:prstGeom prst="rect">
              <a:avLst/>
            </a:prstGeom>
            <a:solidFill>
              <a:srgbClr val="cc99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0" name="Line 366"/>
            <p:cNvSpPr/>
            <p:nvPr/>
          </p:nvSpPr>
          <p:spPr>
            <a:xfrm flipV="1">
              <a:off x="5668920" y="4365720"/>
              <a:ext cx="360" cy="1568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1" name="Line 367"/>
            <p:cNvSpPr/>
            <p:nvPr/>
          </p:nvSpPr>
          <p:spPr>
            <a:xfrm flipV="1">
              <a:off x="5668920" y="5934240"/>
              <a:ext cx="1756440" cy="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2" name="Text Box 368"/>
            <p:cNvSpPr/>
            <p:nvPr/>
          </p:nvSpPr>
          <p:spPr>
            <a:xfrm>
              <a:off x="7425360" y="5871600"/>
              <a:ext cx="313560" cy="250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3" name="Text Box 369"/>
            <p:cNvSpPr/>
            <p:nvPr/>
          </p:nvSpPr>
          <p:spPr>
            <a:xfrm>
              <a:off x="5292720" y="4365720"/>
              <a:ext cx="25056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4" name="Line 370"/>
            <p:cNvSpPr/>
            <p:nvPr/>
          </p:nvSpPr>
          <p:spPr>
            <a:xfrm flipV="1">
              <a:off x="5919480" y="492984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5" name="Line 371"/>
            <p:cNvSpPr/>
            <p:nvPr/>
          </p:nvSpPr>
          <p:spPr>
            <a:xfrm flipV="1">
              <a:off x="6107760" y="505548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6" name="Line 372"/>
            <p:cNvSpPr/>
            <p:nvPr/>
          </p:nvSpPr>
          <p:spPr>
            <a:xfrm flipV="1">
              <a:off x="5794200" y="4804200"/>
              <a:ext cx="941040" cy="69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7" name="Text Box 373"/>
            <p:cNvSpPr/>
            <p:nvPr/>
          </p:nvSpPr>
          <p:spPr>
            <a:xfrm>
              <a:off x="6860520" y="4804560"/>
              <a:ext cx="313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8" name="Text Box 374"/>
            <p:cNvSpPr/>
            <p:nvPr/>
          </p:nvSpPr>
          <p:spPr>
            <a:xfrm>
              <a:off x="7111800" y="49928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2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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39" name="Text Box 375"/>
            <p:cNvSpPr/>
            <p:nvPr/>
          </p:nvSpPr>
          <p:spPr>
            <a:xfrm>
              <a:off x="6735600" y="4616280"/>
              <a:ext cx="31356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r>
                <a:rPr b="0" lang="en-US" sz="1100" spc="-1" strike="noStrike">
                  <a:solidFill>
                    <a:srgbClr val="ffffff"/>
                  </a:solidFill>
                  <a:latin typeface="Tahoma"/>
                </a:rPr>
                <a:t> 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0" name="Line 376"/>
            <p:cNvSpPr/>
            <p:nvPr/>
          </p:nvSpPr>
          <p:spPr>
            <a:xfrm>
              <a:off x="6359040" y="5369400"/>
              <a:ext cx="18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1" name="Line 377"/>
            <p:cNvSpPr/>
            <p:nvPr/>
          </p:nvSpPr>
          <p:spPr>
            <a:xfrm flipH="1">
              <a:off x="6421320" y="5055840"/>
              <a:ext cx="250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2" name="Line 378"/>
            <p:cNvSpPr/>
            <p:nvPr/>
          </p:nvSpPr>
          <p:spPr>
            <a:xfrm>
              <a:off x="5668920" y="5181120"/>
              <a:ext cx="1191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3" name="Line 379"/>
            <p:cNvSpPr/>
            <p:nvPr/>
          </p:nvSpPr>
          <p:spPr>
            <a:xfrm>
              <a:off x="623340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4" name="Line 380"/>
            <p:cNvSpPr/>
            <p:nvPr/>
          </p:nvSpPr>
          <p:spPr>
            <a:xfrm>
              <a:off x="6484320" y="518112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5" name="Line 381"/>
            <p:cNvSpPr/>
            <p:nvPr/>
          </p:nvSpPr>
          <p:spPr>
            <a:xfrm>
              <a:off x="686052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6" name="Line 382"/>
            <p:cNvSpPr/>
            <p:nvPr/>
          </p:nvSpPr>
          <p:spPr>
            <a:xfrm>
              <a:off x="6546960" y="5181120"/>
              <a:ext cx="0" cy="753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7" name="Text Box 383"/>
            <p:cNvSpPr/>
            <p:nvPr/>
          </p:nvSpPr>
          <p:spPr>
            <a:xfrm>
              <a:off x="5292720" y="5118480"/>
              <a:ext cx="313560" cy="25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  </a:t>
              </a: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11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8" name="Text Box 384"/>
            <p:cNvSpPr/>
            <p:nvPr/>
          </p:nvSpPr>
          <p:spPr>
            <a:xfrm>
              <a:off x="6735240" y="5997240"/>
              <a:ext cx="376200" cy="18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49" name="Text Box 385"/>
            <p:cNvSpPr/>
            <p:nvPr/>
          </p:nvSpPr>
          <p:spPr>
            <a:xfrm>
              <a:off x="6383880" y="5997240"/>
              <a:ext cx="288720" cy="313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0" name="Text Box 386"/>
            <p:cNvSpPr/>
            <p:nvPr/>
          </p:nvSpPr>
          <p:spPr>
            <a:xfrm>
              <a:off x="6133320" y="5997240"/>
              <a:ext cx="250560" cy="18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0760" rIns="50760" tIns="25560" bIns="25560" anchor="t">
              <a:normAutofit fontScale="88000"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900" spc="-1" strike="noStrike" baseline="-25000">
                  <a:solidFill>
                    <a:srgbClr val="ffffff"/>
                  </a:solidFill>
                  <a:latin typeface="Tahoma"/>
                </a:rPr>
                <a:t>3</a:t>
              </a:r>
              <a:endParaRPr b="0" lang="en-US" sz="9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grpSp>
        <p:nvGrpSpPr>
          <p:cNvPr id="151" name="Group 403"/>
          <p:cNvGrpSpPr/>
          <p:nvPr/>
        </p:nvGrpSpPr>
        <p:grpSpPr>
          <a:xfrm>
            <a:off x="971640" y="3645000"/>
            <a:ext cx="2984400" cy="2636640"/>
            <a:chOff x="971640" y="3645000"/>
            <a:chExt cx="2984400" cy="2636640"/>
          </a:xfrm>
        </p:grpSpPr>
        <p:sp>
          <p:nvSpPr>
            <p:cNvPr id="152" name="AutoShape 404"/>
            <p:cNvSpPr/>
            <p:nvPr/>
          </p:nvSpPr>
          <p:spPr>
            <a:xfrm>
              <a:off x="971640" y="3645000"/>
              <a:ext cx="2984400" cy="2636640"/>
            </a:xfrm>
            <a:prstGeom prst="rect">
              <a:avLst/>
            </a:prstGeom>
            <a:solidFill>
              <a:srgbClr val="00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405"/>
            <p:cNvSpPr/>
            <p:nvPr/>
          </p:nvSpPr>
          <p:spPr>
            <a:xfrm flipV="1">
              <a:off x="1468800" y="3984840"/>
              <a:ext cx="0" cy="153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406"/>
            <p:cNvSpPr/>
            <p:nvPr/>
          </p:nvSpPr>
          <p:spPr>
            <a:xfrm>
              <a:off x="1468800" y="5516280"/>
              <a:ext cx="1575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Text Box 407"/>
            <p:cNvSpPr/>
            <p:nvPr/>
          </p:nvSpPr>
          <p:spPr>
            <a:xfrm>
              <a:off x="2961360" y="5516280"/>
              <a:ext cx="99468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Text Box 408"/>
            <p:cNvSpPr/>
            <p:nvPr/>
          </p:nvSpPr>
          <p:spPr>
            <a:xfrm>
              <a:off x="1054080" y="381528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endParaRPr b="0" lang="en-US" sz="11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409"/>
            <p:cNvSpPr/>
            <p:nvPr/>
          </p:nvSpPr>
          <p:spPr>
            <a:xfrm flipV="1">
              <a:off x="1717920" y="4154760"/>
              <a:ext cx="1242720" cy="1190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Text Box 410"/>
            <p:cNvSpPr/>
            <p:nvPr/>
          </p:nvSpPr>
          <p:spPr>
            <a:xfrm>
              <a:off x="2961360" y="3984840"/>
              <a:ext cx="829080" cy="510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ffffff"/>
                  </a:solidFill>
                  <a:latin typeface="Tahoma"/>
                </a:rPr>
                <a:t>S</a:t>
              </a:r>
              <a:endParaRPr b="0" lang="en-US" sz="10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411"/>
            <p:cNvSpPr/>
            <p:nvPr/>
          </p:nvSpPr>
          <p:spPr>
            <a:xfrm>
              <a:off x="1468800" y="4920480"/>
              <a:ext cx="662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0" name="Line 412"/>
            <p:cNvSpPr/>
            <p:nvPr/>
          </p:nvSpPr>
          <p:spPr>
            <a:xfrm>
              <a:off x="1468800" y="4495680"/>
              <a:ext cx="1161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1" name="Line 413"/>
            <p:cNvSpPr/>
            <p:nvPr/>
          </p:nvSpPr>
          <p:spPr>
            <a:xfrm>
              <a:off x="2131920" y="4920480"/>
              <a:ext cx="0" cy="5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2" name="Line 414"/>
            <p:cNvSpPr/>
            <p:nvPr/>
          </p:nvSpPr>
          <p:spPr>
            <a:xfrm>
              <a:off x="2630160" y="4495680"/>
              <a:ext cx="0" cy="1020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3" name="Text Box 415"/>
            <p:cNvSpPr/>
            <p:nvPr/>
          </p:nvSpPr>
          <p:spPr>
            <a:xfrm>
              <a:off x="1136880" y="4750920"/>
              <a:ext cx="2487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4" name="Text Box 416"/>
            <p:cNvSpPr/>
            <p:nvPr/>
          </p:nvSpPr>
          <p:spPr>
            <a:xfrm>
              <a:off x="1220400" y="4410360"/>
              <a:ext cx="24840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P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5" name="Text Box 417"/>
            <p:cNvSpPr/>
            <p:nvPr/>
          </p:nvSpPr>
          <p:spPr>
            <a:xfrm>
              <a:off x="2049120" y="5516280"/>
              <a:ext cx="331560" cy="339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1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66" name="Text Box 418"/>
            <p:cNvSpPr/>
            <p:nvPr/>
          </p:nvSpPr>
          <p:spPr>
            <a:xfrm>
              <a:off x="2546640" y="5601240"/>
              <a:ext cx="331560" cy="254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53640" rIns="53640" tIns="26640" bIns="266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700" spc="-1" strike="noStrike">
                  <a:solidFill>
                    <a:srgbClr val="ffffff"/>
                  </a:solidFill>
                  <a:latin typeface="Tahoma"/>
                </a:rPr>
                <a:t>Q</a:t>
              </a:r>
              <a:r>
                <a:rPr b="1" lang="en-US" sz="700" spc="-1" strike="noStrike" baseline="-25000">
                  <a:solidFill>
                    <a:srgbClr val="ffffff"/>
                  </a:solidFill>
                  <a:latin typeface="Tahoma"/>
                </a:rPr>
                <a:t>2</a:t>
              </a:r>
              <a:endParaRPr b="0" lang="en-US" sz="7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cc"/>
                </a:solidFill>
                <a:latin typeface="Tahoma"/>
              </a:rPr>
              <a:t>Проверь себя -1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49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1</a:t>
            </a:r>
            <a:r>
              <a:rPr b="0" lang="ru-RU" sz="3200" spc="-1" strike="noStrike">
                <a:solidFill>
                  <a:srgbClr val="ffffff"/>
                </a:solidFill>
                <a:latin typeface="Times New Roman"/>
              </a:rPr>
              <a:t>. 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Ценовые факторы спроса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2. Закон предложения гласит - чем выше цена, тем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меньше продавцов на рынке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меньше величина спроса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больше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3. </a:t>
            </a: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Закон предложения выраж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обратн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 )связь между эластичными и неэластичными товарами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прямую связь между ценой и количеством продав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меру эластичности кажд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457200" y="476280"/>
            <a:ext cx="8229600" cy="561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4. Что случится с кривой предложения йогуртов, если цена йогурта снизится в 2 раза при прочих равных условиях?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кривая предложения сместится впра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кривая предложения сместится влево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кривая предложения не изменит своего положен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.) ничто из вышеперечисленного не подходи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Times New Roman"/>
              </a:rPr>
              <a:t>5. Величина предложения показывает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количество продавцов на рынк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количество предлагаемого товара на рынке при данной цене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зависимость между ценой и количеством предлагаемого товара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г) верно 1 и 2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6. Ценовые факторы предложения зависят от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) вкусов покупателей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) цены на данный товар;</a:t>
            </a:r>
            <a:br>
              <a:rPr sz="1600"/>
            </a:b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) от времени года.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7. Причиной увеличения предложения видеотехники стало: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а.) снижение цены на товар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б.) снижение таможенных пошлин на ввозимую видеотехнику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в.) снижение цен на комплектующие изделия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2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29T06:18:57Z</dcterms:created>
  <dc:creator>USER</dc:creator>
  <dc:description/>
  <dc:language>en-US</dc:language>
  <cp:lastModifiedBy>LEGION</cp:lastModifiedBy>
  <dcterms:modified xsi:type="dcterms:W3CDTF">2016-01-04T08:19:27Z</dcterms:modified>
  <cp:revision>15</cp:revision>
  <dc:subject/>
  <dc:title>Предложение</dc:title>
</cp:coreProperties>
</file>