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12.jpeg" ContentType="image/jpeg"/>
  <Override PartName="/ppt/media/image5.gif" ContentType="image/gif"/>
  <Override PartName="/ppt/media/image7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ACB8-E579-4258-8CAC-1E3B59256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1CD-EC40-4647-8FED-2771D6F3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DF9-B09E-43C8-A6C9-D515400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355-D29E-4A49-9A92-6086A16A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AC8-FE60-46D4-9115-AE1597CB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EFEC-E4E5-4620-883D-66C4785D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CBA-7F66-4088-AC35-AC48FC62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0A40-DC3D-407B-841B-59CF5C3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E3D7-9CC0-46B0-88F1-460E6A4E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08DE-CBBE-4D76-B922-1D1C537F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6774-E2B5-421A-BEF7-416CE1C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4E4-E1A6-480D-BFAA-4CF2A4C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E02-9A44-4BC6-92EB-4D5984EA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C1E3-F40A-4D48-8DB0-1E175AC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D6DA-B8BB-47F9-989F-E30A7A9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E047-7DDB-47AA-933A-9032768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D6C-8B7A-4DFD-BA0F-0F9EE057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3A15-DC0C-470F-91EE-38822BB9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D11-0FF4-453C-BBF4-EFCD75F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0C6-4C55-4938-A0E9-63C21558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9EB-7DFB-445E-8C0E-475B065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32A-370A-4E91-8681-B90E5AD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F53-790B-4214-A4B5-3DBD171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237-491A-47A8-9430-C024B91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DFF-411C-4B5C-8F40-ADCA01B2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E51-5F9C-4891-AD60-4866CAB2FB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B13-D3A5-4C03-8123-A718829D5A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auralom.net/images/news/6434_1_produt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klama-mama.ru/media/odej-01-1564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брый день, ребята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1" lang="ru-RU" sz="9000" spc="-1" strike="noStrike">
                <a:solidFill>
                  <a:srgbClr val="996666"/>
                </a:solidFill>
                <a:latin typeface="Arial"/>
              </a:rPr>
              <a:t>Что? Где? Когда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76" descr="Девочка машет"/>
          <p:cNvPicPr/>
          <p:nvPr/>
        </p:nvPicPr>
        <p:blipFill>
          <a:blip r:embed="rId1"/>
          <a:stretch/>
        </p:blipFill>
        <p:spPr>
          <a:xfrm>
            <a:off x="611280" y="16286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77" descr="девочка с бантом"/>
          <p:cNvPicPr/>
          <p:nvPr/>
        </p:nvPicPr>
        <p:blipFill>
          <a:blip r:embed="rId2"/>
          <a:stretch/>
        </p:blipFill>
        <p:spPr>
          <a:xfrm>
            <a:off x="7308720" y="162864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78" descr="Девочка с ранцем"/>
          <p:cNvPicPr/>
          <p:nvPr/>
        </p:nvPicPr>
        <p:blipFill>
          <a:blip r:embed="rId3"/>
          <a:stretch/>
        </p:blipFill>
        <p:spPr>
          <a:xfrm>
            <a:off x="1835280" y="1484280"/>
            <a:ext cx="1441440" cy="12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80" descr="Мальчик плачет"/>
          <p:cNvPicPr/>
          <p:nvPr/>
        </p:nvPicPr>
        <p:blipFill>
          <a:blip r:embed="rId4"/>
          <a:stretch/>
        </p:blipFill>
        <p:spPr>
          <a:xfrm>
            <a:off x="7093080" y="443700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81" descr="Мальчик"/>
          <p:cNvPicPr/>
          <p:nvPr/>
        </p:nvPicPr>
        <p:blipFill>
          <a:blip r:embed="rId5"/>
          <a:stretch/>
        </p:blipFill>
        <p:spPr>
          <a:xfrm>
            <a:off x="1187280" y="4365720"/>
            <a:ext cx="115272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9290052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464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4 из 62124"/>
          <p:cNvPicPr/>
          <p:nvPr/>
        </p:nvPicPr>
        <p:blipFill>
          <a:blip r:embed="rId1"/>
          <a:stretch/>
        </p:blipFill>
        <p:spPr>
          <a:xfrm>
            <a:off x="1332000" y="1773360"/>
            <a:ext cx="611964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Постоянно - действующ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66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10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0206_2"/>
          <p:cNvPicPr/>
          <p:nvPr/>
        </p:nvPicPr>
        <p:blipFill>
          <a:blip r:embed="rId1"/>
          <a:stretch/>
        </p:blipFill>
        <p:spPr>
          <a:xfrm>
            <a:off x="1619280" y="1628640"/>
            <a:ext cx="511344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тов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944376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нова 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Картинка 19 из 109132"/>
          <p:cNvPicPr/>
          <p:nvPr/>
        </p:nvPicPr>
        <p:blipFill>
          <a:blip r:embed="rId1"/>
          <a:stretch/>
        </p:blipFill>
        <p:spPr>
          <a:xfrm>
            <a:off x="1258920" y="1628640"/>
            <a:ext cx="7058160" cy="43149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hop_items_catalog_image8185"/>
          <p:cNvPicPr/>
          <p:nvPr/>
        </p:nvPicPr>
        <p:blipFill>
          <a:blip r:embed="rId1"/>
          <a:stretch/>
        </p:blipFill>
        <p:spPr>
          <a:xfrm>
            <a:off x="1692360" y="2205000"/>
            <a:ext cx="633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бегущая девочка"/>
          <p:cNvPicPr/>
          <p:nvPr/>
        </p:nvPicPr>
        <p:blipFill>
          <a:blip r:embed="rId2"/>
          <a:stretch/>
        </p:blipFill>
        <p:spPr>
          <a:xfrm>
            <a:off x="7093080" y="198900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иды рынк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Organization Chart 16"/>
          <p:cNvGrpSpPr/>
          <p:nvPr/>
        </p:nvGrpSpPr>
        <p:grpSpPr>
          <a:xfrm>
            <a:off x="576360" y="1568520"/>
            <a:ext cx="7920720" cy="4391280"/>
            <a:chOff x="576360" y="1568520"/>
            <a:chExt cx="7920720" cy="439128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484600" y="2378160"/>
              <a:ext cx="878760" cy="27705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2"/>
            </p:cNvCxnSpPr>
            <p:nvPr/>
          </p:nvCxnSpPr>
          <p:spPr>
            <a:xfrm flipV="1">
              <a:off x="4539240" y="332424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712600" y="2376000"/>
              <a:ext cx="878760" cy="277560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1"/>
            <p:cNvSpPr/>
            <p:nvPr/>
          </p:nvSpPr>
          <p:spPr>
            <a:xfrm>
              <a:off x="3348720" y="156852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одук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ещев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2"/>
            <p:cNvSpPr/>
            <p:nvPr/>
          </p:nvSpPr>
          <p:spPr>
            <a:xfrm>
              <a:off x="57636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остоян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действующ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ременн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3"/>
            <p:cNvSpPr/>
            <p:nvPr/>
          </p:nvSpPr>
          <p:spPr>
            <a:xfrm>
              <a:off x="334872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т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612108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мелко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 от зрителе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это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1 из 29662"/>
          <p:cNvPicPr/>
          <p:nvPr/>
        </p:nvPicPr>
        <p:blipFill>
          <a:blip r:embed="rId1"/>
          <a:stretch/>
        </p:blipFill>
        <p:spPr>
          <a:xfrm>
            <a:off x="1042920" y="1700280"/>
            <a:ext cx="6769080" cy="42368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ясните сами – это 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Картинка 3 из 2351"/>
          <p:cNvPicPr/>
          <p:nvPr/>
        </p:nvPicPr>
        <p:blipFill>
          <a:blip r:embed="rId1"/>
          <a:stretch/>
        </p:blipFill>
        <p:spPr>
          <a:xfrm>
            <a:off x="900000" y="1628640"/>
            <a:ext cx="7129440" cy="40323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й рынок вспомнили …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Картинка 7 из 29662"/>
          <p:cNvPicPr/>
          <p:nvPr/>
        </p:nvPicPr>
        <p:blipFill>
          <a:blip r:embed="rId1"/>
          <a:stretch/>
        </p:blipFill>
        <p:spPr>
          <a:xfrm>
            <a:off x="1042920" y="1773360"/>
            <a:ext cx="6624720" cy="410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вы видит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57"/>
          <p:cNvPicPr/>
          <p:nvPr/>
        </p:nvPicPr>
        <p:blipFill>
          <a:blip r:embed="rId1"/>
          <a:stretch/>
        </p:blipFill>
        <p:spPr>
          <a:xfrm>
            <a:off x="971640" y="1413000"/>
            <a:ext cx="74041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рынок? Объяснит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22 из 2351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43149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это рынок, расскажите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Картинка 27 из 2351"/>
          <p:cNvPicPr/>
          <p:nvPr/>
        </p:nvPicPr>
        <p:blipFill>
          <a:blip r:embed="rId1"/>
          <a:stretch/>
        </p:blipFill>
        <p:spPr>
          <a:xfrm>
            <a:off x="1476360" y="1700280"/>
            <a:ext cx="5869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аш вывод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70211_64974"/>
          <p:cNvPicPr/>
          <p:nvPr/>
        </p:nvPicPr>
        <p:blipFill>
          <a:blip r:embed="rId1"/>
          <a:stretch/>
        </p:blipFill>
        <p:spPr>
          <a:xfrm>
            <a:off x="755640" y="1461960"/>
            <a:ext cx="7848720" cy="47037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айте правильный ответ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Картинка 37 из 13715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17672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е слово узнали, где видели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IMG_9312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243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черкни парные букв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ловиц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думай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девочка с бантом"/>
          <p:cNvPicPr/>
          <p:nvPr/>
        </p:nvPicPr>
        <p:blipFill>
          <a:blip r:embed="rId1"/>
          <a:stretch/>
        </p:blipFill>
        <p:spPr>
          <a:xfrm>
            <a:off x="5580000" y="234936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плодисменты"/>
          <p:cNvPicPr/>
          <p:nvPr/>
        </p:nvPicPr>
        <p:blipFill>
          <a:blip r:embed="rId2"/>
          <a:stretch/>
        </p:blipFill>
        <p:spPr>
          <a:xfrm>
            <a:off x="1547640" y="2997360"/>
            <a:ext cx="1295640" cy="151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Мо – лод - 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new_year_001[1]"/>
          <p:cNvPicPr/>
          <p:nvPr/>
        </p:nvPicPr>
        <p:blipFill>
          <a:blip r:embed="rId1"/>
          <a:stretch/>
        </p:blipFill>
        <p:spPr>
          <a:xfrm>
            <a:off x="1763640" y="2276640"/>
            <a:ext cx="626436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звонок"/>
          <p:cNvPicPr/>
          <p:nvPr/>
        </p:nvPicPr>
        <p:blipFill>
          <a:blip r:embed="rId2"/>
          <a:stretch/>
        </p:blipFill>
        <p:spPr>
          <a:xfrm>
            <a:off x="723600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40176"/>
          <p:cNvPicPr/>
          <p:nvPr/>
        </p:nvPicPr>
        <p:blipFill>
          <a:blip r:embed="rId1"/>
          <a:stretch/>
        </p:blipFill>
        <p:spPr>
          <a:xfrm>
            <a:off x="1332000" y="256536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Картинка 56 из 768"/>
          <p:cNvPicPr/>
          <p:nvPr/>
        </p:nvPicPr>
        <p:blipFill>
          <a:blip r:embed="rId2"/>
          <a:stretch/>
        </p:blipFill>
        <p:spPr>
          <a:xfrm>
            <a:off x="3851280" y="2060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готовились юноши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1245304075_3"/>
          <p:cNvPicPr/>
          <p:nvPr/>
        </p:nvPicPr>
        <p:blipFill>
          <a:blip r:embed="rId1"/>
          <a:stretch/>
        </p:blipFill>
        <p:spPr>
          <a:xfrm>
            <a:off x="1042920" y="1700280"/>
            <a:ext cx="6842160" cy="417672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лушаем девушек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17 из 487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равочное бюро по тем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рт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став и соотношение видов (сортов) товаров,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ловой человек, предприним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я –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ын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овый или продовольствен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 по реализации продовольственного сырья и пищевых продуктов промышленного изгот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в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где реализуют вещи и другие промышленные т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ы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ынок, который имеет закрыт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который находитс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о – действующий рынок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ь которого основана на долгосрочном договоре аренды земельного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ынок, деятельность которого основана на краткосрочном договоре аренды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тов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де продают товар в большом количестве,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лкооп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котором реализуют разный товар(всё что мо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Торговля – это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ые средства, полученные предприятием, фирмой, предпринимателем от продажи товаров ил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нежные или иные ценности, получаемые в результате какой-либо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ицо, группа лиц, фирма, предприятие, соперничающие в достижении одних и тех же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ое соперничество за право получения большей доли определённого вида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ая торгов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ый торговец-посредн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покупает товар большими партиями у изготовителя и продаёт их малыми партиями розничным торговц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быль- 1)разница между выру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р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плата товаров и услуг не в разовом порядке, не в полной сумме, а по ча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13107299b8b5fef79e629c4b8d07131c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473040"/>
            <a:ext cx="80168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Ры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40000"/>
            <a:ext cx="79930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едующие 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ос, предложение и ц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одуктовый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-main-pic" descr="Картинка 5 из 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зови, какой вид рын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1.liveinternet.ru/images/foto/b/3/94/2480094/f_14500222.jpg"/>
          <p:cNvPicPr/>
          <p:nvPr/>
        </p:nvPicPr>
        <p:blipFill>
          <a:blip r:embed="rId1"/>
          <a:stretch/>
        </p:blipFill>
        <p:spPr>
          <a:xfrm>
            <a:off x="2050920" y="192096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ещев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1 из 2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0100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2:38Z</dcterms:created>
  <dc:creator>Admin</dc:creator>
  <dc:description/>
  <dc:language>en-US</dc:language>
  <cp:lastModifiedBy>LEGION</cp:lastModifiedBy>
  <dcterms:modified xsi:type="dcterms:W3CDTF">2016-01-04T13:41:12Z</dcterms:modified>
  <cp:revision>97</cp:revision>
  <dc:subject/>
  <dc:title>         Торговля</dc:title>
</cp:coreProperties>
</file>