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6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27.gif" ContentType="image/gif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28.gif" ContentType="image/gif"/>
  <Override PartName="/ppt/media/image14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3.gif" ContentType="image/gif"/>
  <Override PartName="/ppt/media/image32.jpeg" ContentType="image/jpeg"/>
  <Override PartName="/ppt/media/image12.jpeg" ContentType="image/jpeg"/>
  <Override PartName="/ppt/media/image5.gif" ContentType="image/gif"/>
  <Override PartName="/ppt/media/image7.jpeg" ContentType="image/jpeg"/>
  <Override PartName="/ppt/media/image11.jpeg" ContentType="image/jpeg"/>
  <Override PartName="/ppt/media/image1.gif" ContentType="image/gif"/>
  <Override PartName="/ppt/media/image15.jpeg" ContentType="image/jpeg"/>
  <Override PartName="/ppt/media/image16.gif" ContentType="image/gif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B67B-9482-4B1E-A9F4-4318A6387A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ый день, ребя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:            Что? Где? Ког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ый день, ребя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:            Что? Где? Ког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оянно - действ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 - действ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нова 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ова 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ды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т зр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 находится в нашем сел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пределени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т зр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 находится в нашем сел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пределени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ожно купить хороший подарок и недоро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ожно купить хороший подарок и недоро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ъясните сами – это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е сами – это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акой рынок вспомнили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 вспомнили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то вы види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ы види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акой рынок? Объясн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? Объясн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акой это рынок, расскаж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это рынок, расскаж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аш вывод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ш вывод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айте правильный ответ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йте правильный ответ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слово узнали, где видел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слово узнали, где видел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еркни парные бук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ВУЫВНОМ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еркни парные бук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ВУЫВНОМ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овиц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и деньги, твои и глаза: гляди сам, что покупаеш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овиц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и деньги, твои и глаза: гляди сам, что покупаеш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ынки.              Виды ры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.              Виды ры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,   Рынок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о выруч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кого выуч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,   Рынок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о выруч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кого выуч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дум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 – лод - ц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 – лод - ц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готовились юнош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отовились юнош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лушаем девушек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шаем девушек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очное бюро по 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ртимент – состав и соотношение видов (сортов) товаров,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– инициативная экономическая деятельность, ставящая главными целями получение прибыли и развитие собственного д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мен – деловой человек, предприним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очное бюро по 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ртимент – состав и соотношение видов (сортов) товаров,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– инициативная экономическая деятельность, ставящая главными целями получение прибыли и развитие собственного д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мен – деловой человек, предприним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–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- имущественный комплекс, состоящий из земельного участка, изолированного от прилегающей территории, расположенном на нём объектов торговли, предназначенный для свободных торгов между продавцами и покуп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овый или продовольственный – рынок по реализации продовольственного сырья и пищевых продуктов промышленного изгото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вой – рынок, где реализуют вещи и другие промышленны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ытый – рынок, который имеет закрытое по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й – рынок, который находится на ул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 – действующий рынок, деятельность которого основана на долг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–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- имущественный комплекс, состоящий из земельного участка, изолированного от прилегающей территории, расположенном на нём объектов торговли, предназначенный для свободных торгов между продавцами и покуп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овый или продовольственный – рынок по реализации продовольственного сырья и пищевых продуктов промышленного изгото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вой – рынок, где реализуют вещи и другие промышленны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ытый – рынок, который имеет закрытое по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й – рынок, который находится на ул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 – действующий рынок, деятельность которого основана на долг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ая торговля – торговля товарами поштучно или в небольших количества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– блага, предоставляемые не в виде вещей, а в форме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деятельность, результаты которой в удовлетворении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ая торговля – торговля товарами поштучно или в небольших количества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– блага, предоставляемые не в виде вещей, а в форме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деятельность, результаты которой в удовлетворении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 – рынок, деятельность которого основана на кратк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рынок – где продают товар в большом количестве, пар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– рынок, на котором осуществляется реализация товаров потребительского назначения маленькими партиями и штучно(в розниц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ованный рынок – на котором реализуют разный товар(всё что можн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 – рынок, деятельность которого основана на кратк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рынок – где продают товар в большом количестве, пар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– рынок, на котором осуществляется реализация товаров потребительского назначения маленькими партиями и штучно(в розниц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ованный рынок – на котором реализуют разный товар(всё что можн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это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ая деятельность по обороту товаров, купле и прода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связана с собственным произ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это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ая деятельность по обороту товаров, купле и прода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связана с собственным произ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 – это розничный сбытч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й – товар продаётся штучно, по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ополия – отрасль, защищена юридически от конкуренции, обычно это государственное предприятие. Монополия относится к экономике рынка, при естественной монополии достигается эффективное использование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 – это розничный сбытч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й – товар продаётся штучно, по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ополия – отрасль, защищена юридически от конкуренции, обычно это государственное предприятие. Монополия относится к экономике рынка, при естественной монополии достигается эффективное использование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– денежные средства, полученные предприятием, фирмой, предпринимателем от продажи товаров ил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– особый товар, выражающий стоимость всех других товаров и обмениваемый на любой из них; металлические или бумажные знаки, являющиеся мерой стоимости при купле-прода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– денежные средства, полученные предприятием, фирмой, предпринимателем от продажи товаров ил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– особый товар, выражающий стоимость всех других товаров и обмениваемый на любой из них; металлические или бумажные знаки, являющиеся мерой стоимости при купле-прода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ежные или иные ценности, получаемые в результате какой-либ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 – лицо, группа лиц, фирма, предприятие, соперничающие в достижении одних и тех же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ция – экономическое соперничество за право получения большей доли определённого вида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ежные или иные ценности, получаемые в результате какой-либ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 – лицо, группа лиц, фирма, предприятие, соперничающие в достижении одних и тех же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ция – экономическое соперничество за право получения большей доли определённого вида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ая торговля – торговля крупными партиями товара, потребляемого в значительном количестве или продаваемого затем в розни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торговец-посредник, который покупает товар большими партиями у изготовителя и продаёт их малыми партиями розничным торгов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ая торговля – торговля крупными партиями товара, потребляемого в значительном количестве или продаваемого затем в розни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торговец-посредник, который покупает товар большими партиями у изготовителя и продаёт их малыми партиями розничным торгов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- 1)разница между выру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й от продажи товаров (услуг) и затратами, необходимыми для производства и организации продажи этих товаров (услуг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превышение доходами рас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рочка - оплата товаров и услуг не в разовом порядке, не в полной сумме, а по ча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- 1)разница между выру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й от продажи товаров (услуг) и затратами, необходимыми для производства и организации продажи этих товаров (услуг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превышение доходами рас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рочка - оплата товаров и услуг не в разовом порядке, не в полной сумме, а по ча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 – вывоз за границу товаров, проданных иностранным покупа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 – вывоз за границу товаров, проданных иностранным покупа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сотрудничество людей, в результате которого продавцы могут продавать, а покупатели - купить 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сотрудничество людей, в результате которого продавцы могут продавать, а покупатели - купить 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е опреде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купли-продажи товаров и услуг, заключения торговых сдел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отношения, связанные с обменом товаров и услуг, в результате которых формируются спрос, предложение и ц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е опреде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купли-продажи товаров и услуг, заключения торговых сдел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отношения, связанные с обменом товаров и услуг, в результате которых формируются спрос, предложение и ц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дук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зови, какой вид ры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, какой вид ры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ещ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8AD3-718A-40E8-8D93-2A814AD2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DA0-E11B-498A-8738-49A5DE18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D50-A475-412D-AB08-96250B54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B56-4509-45E7-BFE0-5331D343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DE60-66D9-40F4-AEBB-4B024F91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E96E-6BB1-4161-BCC5-D2D565F1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4980-419E-4D58-8645-821A6BCA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B6E4-904E-4ACC-A52E-4F65535B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9F3D-21C5-41AD-A626-B62CE64A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EDA7-DF05-477B-9A29-F0403540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A062-6280-4453-A4C6-D8A0A3AF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0A2-FE73-46F7-A2CE-D04942CF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935B-9459-46D1-A8E4-B0B2A6F3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77DE-B2D3-466A-AF48-E5338267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DDC1-FA1E-426B-8766-61DE879A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EFA6-EC2D-4FA9-9744-FC107A2E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7D10-F8EC-4ECA-83A7-A766F415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CABC-8E8D-4FB8-99A1-1C397D5F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4CB-5F05-491B-81FA-D4965DA1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23F-BCFE-4E41-B01D-36785C3C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7EF-7A98-465F-8412-DD6F8C5D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5B4-F9AF-47E7-ADC6-8C7B43DD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C39-3DC2-4E1D-BB6A-7E197CB1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BA0-75C2-476C-B837-A34A2971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D0E7-5D83-4D57-8464-226141504EF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FFD7-6CE1-486B-88F2-32447FBB7A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zauralom.net/images/news/6434_1_produtky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klama-mama.ru/media/odej-01-15649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Добрый день, ребята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000000"/>
                </a:solidFill>
                <a:latin typeface="Arial"/>
              </a:rPr>
              <a:t>Игра</a:t>
            </a: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1" lang="ru-RU" sz="9000" spc="-1" strike="noStrike">
                <a:solidFill>
                  <a:srgbClr val="996666"/>
                </a:solidFill>
                <a:latin typeface="Arial"/>
              </a:rPr>
              <a:t>Что? Где? Когда?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76" descr="Девочка машет"/>
          <p:cNvPicPr/>
          <p:nvPr/>
        </p:nvPicPr>
        <p:blipFill>
          <a:blip r:embed="rId1"/>
          <a:stretch/>
        </p:blipFill>
        <p:spPr>
          <a:xfrm>
            <a:off x="611280" y="1628640"/>
            <a:ext cx="1296720" cy="129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77" descr="девочка с бантом"/>
          <p:cNvPicPr/>
          <p:nvPr/>
        </p:nvPicPr>
        <p:blipFill>
          <a:blip r:embed="rId2"/>
          <a:stretch/>
        </p:blipFill>
        <p:spPr>
          <a:xfrm>
            <a:off x="7308720" y="1628640"/>
            <a:ext cx="695520" cy="1219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78" descr="Девочка с ранцем"/>
          <p:cNvPicPr/>
          <p:nvPr/>
        </p:nvPicPr>
        <p:blipFill>
          <a:blip r:embed="rId3"/>
          <a:stretch/>
        </p:blipFill>
        <p:spPr>
          <a:xfrm>
            <a:off x="1835280" y="1484280"/>
            <a:ext cx="1441440" cy="1287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80" descr="Мальчик плачет"/>
          <p:cNvPicPr/>
          <p:nvPr/>
        </p:nvPicPr>
        <p:blipFill>
          <a:blip r:embed="rId4"/>
          <a:stretch/>
        </p:blipFill>
        <p:spPr>
          <a:xfrm>
            <a:off x="7093080" y="4437000"/>
            <a:ext cx="1150920" cy="136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81" descr="Мальчик"/>
          <p:cNvPicPr/>
          <p:nvPr/>
        </p:nvPicPr>
        <p:blipFill>
          <a:blip r:embed="rId5"/>
          <a:stretch/>
        </p:blipFill>
        <p:spPr>
          <a:xfrm>
            <a:off x="1187280" y="4365720"/>
            <a:ext cx="1152720" cy="1511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рыты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P9290052"/>
          <p:cNvPicPr/>
          <p:nvPr/>
        </p:nvPicPr>
        <p:blipFill>
          <a:blip r:embed="rId1"/>
          <a:stretch/>
        </p:blipFill>
        <p:spPr>
          <a:xfrm>
            <a:off x="971640" y="1700280"/>
            <a:ext cx="7129440" cy="4464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Открыты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Картинка 4 из 62124"/>
          <p:cNvPicPr/>
          <p:nvPr/>
        </p:nvPicPr>
        <p:blipFill>
          <a:blip r:embed="rId1"/>
          <a:stretch/>
        </p:blipFill>
        <p:spPr>
          <a:xfrm>
            <a:off x="1332000" y="1773360"/>
            <a:ext cx="6119640" cy="424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Постоянно - действующий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2066"/>
          <p:cNvPicPr/>
          <p:nvPr/>
        </p:nvPicPr>
        <p:blipFill>
          <a:blip r:embed="rId1"/>
          <a:stretch/>
        </p:blipFill>
        <p:spPr>
          <a:xfrm>
            <a:off x="1116000" y="1844640"/>
            <a:ext cx="6769080" cy="410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ременный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50206_2"/>
          <p:cNvPicPr/>
          <p:nvPr/>
        </p:nvPicPr>
        <p:blipFill>
          <a:blip r:embed="rId1"/>
          <a:stretch/>
        </p:blipFill>
        <p:spPr>
          <a:xfrm>
            <a:off x="1619280" y="1628640"/>
            <a:ext cx="5113440" cy="44643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Оптовы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7944376"/>
          <p:cNvPicPr/>
          <p:nvPr/>
        </p:nvPicPr>
        <p:blipFill>
          <a:blip r:embed="rId1"/>
          <a:stretch/>
        </p:blipFill>
        <p:spPr>
          <a:xfrm>
            <a:off x="971640" y="1484280"/>
            <a:ext cx="7416720" cy="51134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Снова оптовый рыно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Картинка 19 из 109132"/>
          <p:cNvPicPr/>
          <p:nvPr/>
        </p:nvPicPr>
        <p:blipFill>
          <a:blip r:embed="rId1"/>
          <a:stretch/>
        </p:blipFill>
        <p:spPr>
          <a:xfrm>
            <a:off x="1258920" y="1628640"/>
            <a:ext cx="7058160" cy="43149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Мелкооптовый рыно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hop_items_catalog_image8185"/>
          <p:cNvPicPr/>
          <p:nvPr/>
        </p:nvPicPr>
        <p:blipFill>
          <a:blip r:embed="rId1"/>
          <a:stretch/>
        </p:blipFill>
        <p:spPr>
          <a:xfrm>
            <a:off x="1692360" y="2205000"/>
            <a:ext cx="6337080" cy="338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бегущая девочка"/>
          <p:cNvPicPr/>
          <p:nvPr/>
        </p:nvPicPr>
        <p:blipFill>
          <a:blip r:embed="rId2"/>
          <a:stretch/>
        </p:blipFill>
        <p:spPr>
          <a:xfrm>
            <a:off x="7093080" y="1989000"/>
            <a:ext cx="857160" cy="9907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иды рынков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Organization Chart 16"/>
          <p:cNvGrpSpPr/>
          <p:nvPr/>
        </p:nvGrpSpPr>
        <p:grpSpPr>
          <a:xfrm>
            <a:off x="576360" y="1568520"/>
            <a:ext cx="7920720" cy="4391280"/>
            <a:chOff x="576360" y="1568520"/>
            <a:chExt cx="7920720" cy="4391280"/>
          </a:xfrm>
        </p:grpSpPr>
        <p:cxnSp>
          <p:nvCxnSpPr>
            <p:cNvPr id="168" name="_s1028"/>
            <p:cNvCxnSpPr>
              <a:stCxn id="169" idx="0"/>
              <a:endCxn id="170" idx="2"/>
            </p:cNvCxnSpPr>
            <p:nvPr/>
          </p:nvCxnSpPr>
          <p:spPr>
            <a:xfrm flipV="1" rot="16200000">
              <a:off x="5484600" y="2378160"/>
              <a:ext cx="878760" cy="277056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1029"/>
            <p:cNvCxnSpPr>
              <a:stCxn id="172" idx="0"/>
              <a:endCxn id="170" idx="2"/>
            </p:cNvCxnSpPr>
            <p:nvPr/>
          </p:nvCxnSpPr>
          <p:spPr>
            <a:xfrm flipV="1">
              <a:off x="4539240" y="3324240"/>
              <a:ext cx="3600" cy="87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1030"/>
            <p:cNvCxnSpPr>
              <a:stCxn id="174" idx="0"/>
              <a:endCxn id="170" idx="2"/>
            </p:cNvCxnSpPr>
            <p:nvPr/>
          </p:nvCxnSpPr>
          <p:spPr>
            <a:xfrm flipH="1" flipV="1" rot="5400000">
              <a:off x="2712600" y="2376000"/>
              <a:ext cx="878760" cy="277560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0" name="_s1031"/>
            <p:cNvSpPr/>
            <p:nvPr/>
          </p:nvSpPr>
          <p:spPr>
            <a:xfrm>
              <a:off x="3348720" y="156852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Продуктов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Вещево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32"/>
            <p:cNvSpPr/>
            <p:nvPr/>
          </p:nvSpPr>
          <p:spPr>
            <a:xfrm>
              <a:off x="576360" y="420336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Постоянно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действующи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временн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33"/>
            <p:cNvSpPr/>
            <p:nvPr/>
          </p:nvSpPr>
          <p:spPr>
            <a:xfrm>
              <a:off x="3348720" y="420336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Крыт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Открыт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34"/>
            <p:cNvSpPr/>
            <p:nvPr/>
          </p:nvSpPr>
          <p:spPr>
            <a:xfrm>
              <a:off x="6121080" y="420336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Оптов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мелкооптов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прос от зрителей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Какой рынок находится в нашем селе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Назовите определения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Что это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Картинка 1 из 29662"/>
          <p:cNvPicPr/>
          <p:nvPr/>
        </p:nvPicPr>
        <p:blipFill>
          <a:blip r:embed="rId1"/>
          <a:stretch/>
        </p:blipFill>
        <p:spPr>
          <a:xfrm>
            <a:off x="1042920" y="1700280"/>
            <a:ext cx="6769080" cy="42368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прос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Где можно купить хороший подарок и недорого?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ясните сами – это …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Картинка 3 из 2351"/>
          <p:cNvPicPr/>
          <p:nvPr/>
        </p:nvPicPr>
        <p:blipFill>
          <a:blip r:embed="rId1"/>
          <a:stretch/>
        </p:blipFill>
        <p:spPr>
          <a:xfrm>
            <a:off x="900000" y="1628640"/>
            <a:ext cx="7129440" cy="40323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акой рынок вспомнили …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Картинка 7 из 29662"/>
          <p:cNvPicPr/>
          <p:nvPr/>
        </p:nvPicPr>
        <p:blipFill>
          <a:blip r:embed="rId1"/>
          <a:stretch/>
        </p:blipFill>
        <p:spPr>
          <a:xfrm>
            <a:off x="1042920" y="1773360"/>
            <a:ext cx="6624720" cy="4101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Что вы видите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157"/>
          <p:cNvPicPr/>
          <p:nvPr/>
        </p:nvPicPr>
        <p:blipFill>
          <a:blip r:embed="rId1"/>
          <a:stretch/>
        </p:blipFill>
        <p:spPr>
          <a:xfrm>
            <a:off x="971640" y="1413000"/>
            <a:ext cx="74041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рынок? Объясните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Картинка 22 из 2351"/>
          <p:cNvPicPr/>
          <p:nvPr/>
        </p:nvPicPr>
        <p:blipFill>
          <a:blip r:embed="rId1"/>
          <a:stretch/>
        </p:blipFill>
        <p:spPr>
          <a:xfrm>
            <a:off x="1116000" y="1628640"/>
            <a:ext cx="6264360" cy="431496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ой это рынок, расскажите 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Картинка 27 из 2351"/>
          <p:cNvPicPr/>
          <p:nvPr/>
        </p:nvPicPr>
        <p:blipFill>
          <a:blip r:embed="rId1"/>
          <a:stretch/>
        </p:blipFill>
        <p:spPr>
          <a:xfrm>
            <a:off x="1476360" y="1700280"/>
            <a:ext cx="5869080" cy="40989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аш вывод 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20070211_64974"/>
          <p:cNvPicPr/>
          <p:nvPr/>
        </p:nvPicPr>
        <p:blipFill>
          <a:blip r:embed="rId1"/>
          <a:stretch/>
        </p:blipFill>
        <p:spPr>
          <a:xfrm>
            <a:off x="755640" y="1461960"/>
            <a:ext cx="7848720" cy="47037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Дайте правильный ответ 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Картинка 37 из 13715"/>
          <p:cNvPicPr/>
          <p:nvPr/>
        </p:nvPicPr>
        <p:blipFill>
          <a:blip r:embed="rId1"/>
          <a:stretch/>
        </p:blipFill>
        <p:spPr>
          <a:xfrm>
            <a:off x="1258920" y="1844640"/>
            <a:ext cx="6408720" cy="417672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ое слово узнали, где видели 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IMG_9312"/>
          <p:cNvPicPr/>
          <p:nvPr/>
        </p:nvPicPr>
        <p:blipFill>
          <a:blip r:embed="rId1"/>
          <a:stretch/>
        </p:blipFill>
        <p:spPr>
          <a:xfrm>
            <a:off x="971640" y="1844640"/>
            <a:ext cx="7056360" cy="4243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черкни парные букв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МРВУЫВНОМУ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Пословица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Твои деньги, твои и глаза: гляди сам, что покупаеш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Торговл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000000"/>
                </a:solidFill>
                <a:latin typeface="Arial"/>
              </a:rPr>
              <a:t>Рынки.              Виды рынков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Запомни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Торговля,   Рынок –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Кого выручит,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А кого выучит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одумайт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девочка с бантом"/>
          <p:cNvPicPr/>
          <p:nvPr/>
        </p:nvPicPr>
        <p:blipFill>
          <a:blip r:embed="rId1"/>
          <a:stretch/>
        </p:blipFill>
        <p:spPr>
          <a:xfrm>
            <a:off x="5580000" y="2349360"/>
            <a:ext cx="1584360" cy="2808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Аплодисменты"/>
          <p:cNvPicPr/>
          <p:nvPr/>
        </p:nvPicPr>
        <p:blipFill>
          <a:blip r:embed="rId2"/>
          <a:stretch/>
        </p:blipFill>
        <p:spPr>
          <a:xfrm>
            <a:off x="1547640" y="2997360"/>
            <a:ext cx="1295640" cy="1512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Мо – лод - цы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ольшое спасибо за работ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new_year_001[1]"/>
          <p:cNvPicPr/>
          <p:nvPr/>
        </p:nvPicPr>
        <p:blipFill>
          <a:blip r:embed="rId1"/>
          <a:stretch/>
        </p:blipFill>
        <p:spPr>
          <a:xfrm>
            <a:off x="1763640" y="2276640"/>
            <a:ext cx="6264360" cy="360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звонок"/>
          <p:cNvPicPr/>
          <p:nvPr/>
        </p:nvPicPr>
        <p:blipFill>
          <a:blip r:embed="rId2"/>
          <a:stretch/>
        </p:blipFill>
        <p:spPr>
          <a:xfrm>
            <a:off x="7236000" y="2565360"/>
            <a:ext cx="1008000" cy="8636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Мелкооптовый рынок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40176"/>
          <p:cNvPicPr/>
          <p:nvPr/>
        </p:nvPicPr>
        <p:blipFill>
          <a:blip r:embed="rId1"/>
          <a:stretch/>
        </p:blipFill>
        <p:spPr>
          <a:xfrm>
            <a:off x="1332000" y="2565360"/>
            <a:ext cx="2114640" cy="281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Картинка 56 из 768"/>
          <p:cNvPicPr/>
          <p:nvPr/>
        </p:nvPicPr>
        <p:blipFill>
          <a:blip r:embed="rId2"/>
          <a:stretch/>
        </p:blipFill>
        <p:spPr>
          <a:xfrm>
            <a:off x="3851280" y="206064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готовились юноши 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1245304075_3"/>
          <p:cNvPicPr/>
          <p:nvPr/>
        </p:nvPicPr>
        <p:blipFill>
          <a:blip r:embed="rId1"/>
          <a:stretch/>
        </p:blipFill>
        <p:spPr>
          <a:xfrm>
            <a:off x="1042920" y="1700280"/>
            <a:ext cx="6842160" cy="417672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Слушаем девушек 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Картинка 17 из 487"/>
          <p:cNvPicPr/>
          <p:nvPr/>
        </p:nvPicPr>
        <p:blipFill>
          <a:blip r:embed="rId1"/>
          <a:stretch/>
        </p:blipFill>
        <p:spPr>
          <a:xfrm>
            <a:off x="1042920" y="1628640"/>
            <a:ext cx="7058160" cy="453708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правочное бюро по тем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ртиме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став и соотношение видов (сортов) товаров, усл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зне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нициативная экономическая деятельность, ставящая главными целями получение прибыли и развитие собственного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знесме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деловой человек, предпринима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пределения –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ынок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имущественный комплекс, состоящий из земельного участка, изолированного от прилегающей территории, расположенном на нём объектов торговли, предназначенный для свободных торгов между продавцами и покупа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дуктовый или продовольствен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ынок по реализации продовольственного сырья и пищевых продуктов промышленного изгото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ещев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ынок, где реализуют вещи и другие промышленные това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рыт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рынок, который имеет закрытое поме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крыт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ынок, который находится на у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стоянно – действующий рынок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еятельность которого основана на долгосрочном договоре аренды земельного учас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ничная торговля – торговля товарами поштучно или в небольших количества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уги – блага, предоставляемые не в виде вещей, а в форме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ая деятельность, результаты которой в удовлетворении потребностей на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реме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рынок, деятельность которого основана на краткосрочном договоре аренды земельного учас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товый рын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где продают товар в большом количестве, парт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лкооптов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ынок, на котором осуществляется реализация товаров потребительского назначения маленькими партиями и штучно(в розниц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пециализированный рын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а котором реализуют разный товар(всё что мож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Торговля – это работ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озяйственная деятельность по обороту товаров, купле и продаж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Торговля связана с собственным производством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лкооптовый рынок – это розничный сбыт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зничный – товар продаётся штучно, по од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нополия – отрасль, защищена юридически от конкуренции, обычно это государственное предприятие. Монополия относится к экономике рынка, при естественной монополии достигается эффективное использование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уч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денежные средства, полученные предприятием, фирмой, предпринимателем от продажи товаров или усл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ги – особый товар, выражающий стоимость всех других товаров и обмениваемый на любой из них; металлические или бумажные знаки, являющиеся мерой стоимости при купле-прод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денежные или иные ценности, получаемые в результате какой-либо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курен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лицо, группа лиц, фирма, предприятие, соперничающие в достижении одних и тех же ц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кономическое соперничество за право получения большей доли определённого вида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товая торговл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торговля крупными партиями товара, потребляемого в значительном количестве или продаваемого затем в розниц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товый торговец-посредни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который покупает товар большими партиями у изготовителя и продаёт их малыми партиями розничным торговц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ибыль- 1)разница между выруч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й от продажи товаров (услуг) и затратами, необходимыми для производства и организации продажи этих товаров (услуг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превышение доходами рас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роч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плата товаров и услуг не в разовом порядке, не в полной сумме, а по част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орт – вывоз за границу товаров, проданных иностранным покупате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ременны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13107299b8b5fef79e629c4b8d07131c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4643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473040"/>
            <a:ext cx="801684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Рыно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440000"/>
            <a:ext cx="799308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- это сотрудничество людей, в результате которого продавцы могут продавать, а покупатели - купить товары и услуг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ледующие определе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Место купли-продажи товаров и услуг, заключения торговых сделок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ие отношения, связанные с обменом товаров и услуг, в результате которых формируются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рос, предложение и це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Продуктовый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i-main-pic" descr="Картинка 5 из 1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773360"/>
            <a:ext cx="476244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Назови, какой вид рынка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img1.liveinternet.ru/images/foto/b/3/94/2480094/f_14500222.jpg"/>
          <p:cNvPicPr/>
          <p:nvPr/>
        </p:nvPicPr>
        <p:blipFill>
          <a:blip r:embed="rId1"/>
          <a:stretch/>
        </p:blipFill>
        <p:spPr>
          <a:xfrm>
            <a:off x="2050920" y="1920960"/>
            <a:ext cx="5400720" cy="4052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0" y="535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ещево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Картинка 1 из 23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773360"/>
            <a:ext cx="7272360" cy="40100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4:12:38Z</dcterms:created>
  <dc:creator>Admin</dc:creator>
  <dc:description/>
  <dc:language>en-US</dc:language>
  <cp:lastModifiedBy>LEGION</cp:lastModifiedBy>
  <dcterms:modified xsi:type="dcterms:W3CDTF">2016-01-04T13:41:12Z</dcterms:modified>
  <cp:revision>97</cp:revision>
  <dc:subject/>
  <dc:title>         Торговля</dc:title>
</cp:coreProperties>
</file>