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gif" ContentType="image/gif"/>
  <Override PartName="/ppt/media/image14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12.jpeg" ContentType="image/jpeg"/>
  <Override PartName="/ppt/media/image5.gif" ContentType="image/gif"/>
  <Override PartName="/ppt/media/image7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227-E308-418E-8231-F297D475F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757-704A-4EEC-BFD1-6F24DBDF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F6C-6007-49B3-92C8-7EBD3014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1CB-6EF5-4F7E-84DA-941564C6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030-F726-4066-BD6B-694943FB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1ADA-9CF2-4BE9-B682-039C384B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721C-94B4-4A0E-85E7-AA4A9F4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983B-8E98-4D05-A5D8-E666888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E21A-F4B7-49F7-8FD3-7735ED66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84E9-B721-409D-A5C1-71171F7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9A46-B351-4244-9586-EBBA73B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FFC-80FA-437E-B7F7-4678F4F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B45-5EC7-42A9-9259-035AEF6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32A0-B79D-4576-9AAD-AD989B1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6592-0FFC-4B09-9296-1428425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8718-7D18-47F3-90C7-C3F5A662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067C-E1D0-4787-89E8-B78DEFDF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4DB-89DA-4AFB-98AA-25A05035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AC2-BF72-4CD7-9520-C8F34A0D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C6C-98B9-4FBC-8379-DCB3AC15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3AE-C662-4A57-BAB8-CFF4228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C23-9285-4B6B-8504-7BE6BDF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6CA-2188-490E-8001-8DA87C8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F0F-60F4-46EA-9199-C0BA84B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733-8566-470F-9C94-3507957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5BF-2EEA-40BC-9472-86A21E56AB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995A-E44B-407D-9320-9A1DCDD68F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auralom.net/images/news/6434_1_produt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klama-mama.ru/media/odej-01-1564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Добрый день, ребята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1" lang="ru-RU" sz="9000" spc="-1" strike="noStrike">
                <a:solidFill>
                  <a:srgbClr val="996666"/>
                </a:solidFill>
                <a:latin typeface="Arial"/>
              </a:rPr>
              <a:t>Что? Где? Когда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76" descr="Девочка машет"/>
          <p:cNvPicPr/>
          <p:nvPr/>
        </p:nvPicPr>
        <p:blipFill>
          <a:blip r:embed="rId1"/>
          <a:stretch/>
        </p:blipFill>
        <p:spPr>
          <a:xfrm>
            <a:off x="611280" y="16286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77" descr="девочка с бантом"/>
          <p:cNvPicPr/>
          <p:nvPr/>
        </p:nvPicPr>
        <p:blipFill>
          <a:blip r:embed="rId2"/>
          <a:stretch/>
        </p:blipFill>
        <p:spPr>
          <a:xfrm>
            <a:off x="7308720" y="162864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78" descr="Девочка с ранцем"/>
          <p:cNvPicPr/>
          <p:nvPr/>
        </p:nvPicPr>
        <p:blipFill>
          <a:blip r:embed="rId3"/>
          <a:stretch/>
        </p:blipFill>
        <p:spPr>
          <a:xfrm>
            <a:off x="1835280" y="1484280"/>
            <a:ext cx="1441440" cy="12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80" descr="Мальчик плачет"/>
          <p:cNvPicPr/>
          <p:nvPr/>
        </p:nvPicPr>
        <p:blipFill>
          <a:blip r:embed="rId4"/>
          <a:stretch/>
        </p:blipFill>
        <p:spPr>
          <a:xfrm>
            <a:off x="7093080" y="4437000"/>
            <a:ext cx="115092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81" descr="Мальчик"/>
          <p:cNvPicPr/>
          <p:nvPr/>
        </p:nvPicPr>
        <p:blipFill>
          <a:blip r:embed="rId5"/>
          <a:stretch/>
        </p:blipFill>
        <p:spPr>
          <a:xfrm>
            <a:off x="1187280" y="4365720"/>
            <a:ext cx="115272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9290052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464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4 из 62124"/>
          <p:cNvPicPr/>
          <p:nvPr/>
        </p:nvPicPr>
        <p:blipFill>
          <a:blip r:embed="rId1"/>
          <a:stretch/>
        </p:blipFill>
        <p:spPr>
          <a:xfrm>
            <a:off x="1332000" y="1773360"/>
            <a:ext cx="611964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Постоянно - действующий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66"/>
          <p:cNvPicPr/>
          <p:nvPr/>
        </p:nvPicPr>
        <p:blipFill>
          <a:blip r:embed="rId1"/>
          <a:stretch/>
        </p:blipFill>
        <p:spPr>
          <a:xfrm>
            <a:off x="1116000" y="1844640"/>
            <a:ext cx="6769080" cy="410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50206_2"/>
          <p:cNvPicPr/>
          <p:nvPr/>
        </p:nvPicPr>
        <p:blipFill>
          <a:blip r:embed="rId1"/>
          <a:stretch/>
        </p:blipFill>
        <p:spPr>
          <a:xfrm>
            <a:off x="1619280" y="1628640"/>
            <a:ext cx="5113440" cy="4464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тов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944376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нова 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Картинка 19 из 109132"/>
          <p:cNvPicPr/>
          <p:nvPr/>
        </p:nvPicPr>
        <p:blipFill>
          <a:blip r:embed="rId1"/>
          <a:stretch/>
        </p:blipFill>
        <p:spPr>
          <a:xfrm>
            <a:off x="1258920" y="1628640"/>
            <a:ext cx="7058160" cy="43149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hop_items_catalog_image8185"/>
          <p:cNvPicPr/>
          <p:nvPr/>
        </p:nvPicPr>
        <p:blipFill>
          <a:blip r:embed="rId1"/>
          <a:stretch/>
        </p:blipFill>
        <p:spPr>
          <a:xfrm>
            <a:off x="1692360" y="2205000"/>
            <a:ext cx="633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бегущая девочка"/>
          <p:cNvPicPr/>
          <p:nvPr/>
        </p:nvPicPr>
        <p:blipFill>
          <a:blip r:embed="rId2"/>
          <a:stretch/>
        </p:blipFill>
        <p:spPr>
          <a:xfrm>
            <a:off x="7093080" y="198900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иды рынков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Organization Chart 16"/>
          <p:cNvGrpSpPr/>
          <p:nvPr/>
        </p:nvGrpSpPr>
        <p:grpSpPr>
          <a:xfrm>
            <a:off x="576360" y="1568520"/>
            <a:ext cx="7920720" cy="4391280"/>
            <a:chOff x="576360" y="1568520"/>
            <a:chExt cx="7920720" cy="439128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484600" y="2378160"/>
              <a:ext cx="878760" cy="277056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29"/>
            <p:cNvCxnSpPr>
              <a:stCxn id="172" idx="0"/>
              <a:endCxn id="170" idx="2"/>
            </p:cNvCxnSpPr>
            <p:nvPr/>
          </p:nvCxnSpPr>
          <p:spPr>
            <a:xfrm flipV="1">
              <a:off x="4539240" y="332424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30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712600" y="2376000"/>
              <a:ext cx="878760" cy="277560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1"/>
            <p:cNvSpPr/>
            <p:nvPr/>
          </p:nvSpPr>
          <p:spPr>
            <a:xfrm>
              <a:off x="3348720" y="156852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одук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ещев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32"/>
            <p:cNvSpPr/>
            <p:nvPr/>
          </p:nvSpPr>
          <p:spPr>
            <a:xfrm>
              <a:off x="57636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остоянн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действующ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ременн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3"/>
            <p:cNvSpPr/>
            <p:nvPr/>
          </p:nvSpPr>
          <p:spPr>
            <a:xfrm>
              <a:off x="334872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т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612108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мелко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 от зрителе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это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Картинка 1 из 29662"/>
          <p:cNvPicPr/>
          <p:nvPr/>
        </p:nvPicPr>
        <p:blipFill>
          <a:blip r:embed="rId1"/>
          <a:stretch/>
        </p:blipFill>
        <p:spPr>
          <a:xfrm>
            <a:off x="1042920" y="1700280"/>
            <a:ext cx="6769080" cy="42368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ясните сами – это 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Картинка 3 из 2351"/>
          <p:cNvPicPr/>
          <p:nvPr/>
        </p:nvPicPr>
        <p:blipFill>
          <a:blip r:embed="rId1"/>
          <a:stretch/>
        </p:blipFill>
        <p:spPr>
          <a:xfrm>
            <a:off x="900000" y="1628640"/>
            <a:ext cx="7129440" cy="40323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й рынок вспомнили …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Картинка 7 из 29662"/>
          <p:cNvPicPr/>
          <p:nvPr/>
        </p:nvPicPr>
        <p:blipFill>
          <a:blip r:embed="rId1"/>
          <a:stretch/>
        </p:blipFill>
        <p:spPr>
          <a:xfrm>
            <a:off x="1042920" y="1773360"/>
            <a:ext cx="6624720" cy="410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вы видит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57"/>
          <p:cNvPicPr/>
          <p:nvPr/>
        </p:nvPicPr>
        <p:blipFill>
          <a:blip r:embed="rId1"/>
          <a:stretch/>
        </p:blipFill>
        <p:spPr>
          <a:xfrm>
            <a:off x="971640" y="1413000"/>
            <a:ext cx="74041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рынок? Объяснит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22 из 2351"/>
          <p:cNvPicPr/>
          <p:nvPr/>
        </p:nvPicPr>
        <p:blipFill>
          <a:blip r:embed="rId1"/>
          <a:stretch/>
        </p:blipFill>
        <p:spPr>
          <a:xfrm>
            <a:off x="1116000" y="1628640"/>
            <a:ext cx="6264360" cy="43149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это рынок, расскажите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Картинка 27 из 2351"/>
          <p:cNvPicPr/>
          <p:nvPr/>
        </p:nvPicPr>
        <p:blipFill>
          <a:blip r:embed="rId1"/>
          <a:stretch/>
        </p:blipFill>
        <p:spPr>
          <a:xfrm>
            <a:off x="1476360" y="1700280"/>
            <a:ext cx="5869080" cy="40989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аш вывод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0070211_64974"/>
          <p:cNvPicPr/>
          <p:nvPr/>
        </p:nvPicPr>
        <p:blipFill>
          <a:blip r:embed="rId1"/>
          <a:stretch/>
        </p:blipFill>
        <p:spPr>
          <a:xfrm>
            <a:off x="755640" y="1461960"/>
            <a:ext cx="7848720" cy="47037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айте правильный ответ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Картинка 37 из 13715"/>
          <p:cNvPicPr/>
          <p:nvPr/>
        </p:nvPicPr>
        <p:blipFill>
          <a:blip r:embed="rId1"/>
          <a:stretch/>
        </p:blipFill>
        <p:spPr>
          <a:xfrm>
            <a:off x="1258920" y="1844640"/>
            <a:ext cx="6408720" cy="417672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е слово узнали, где видели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IMG_9312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243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черкни парные букв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словиц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думайт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девочка с бантом"/>
          <p:cNvPicPr/>
          <p:nvPr/>
        </p:nvPicPr>
        <p:blipFill>
          <a:blip r:embed="rId1"/>
          <a:stretch/>
        </p:blipFill>
        <p:spPr>
          <a:xfrm>
            <a:off x="5580000" y="234936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плодисменты"/>
          <p:cNvPicPr/>
          <p:nvPr/>
        </p:nvPicPr>
        <p:blipFill>
          <a:blip r:embed="rId2"/>
          <a:stretch/>
        </p:blipFill>
        <p:spPr>
          <a:xfrm>
            <a:off x="1547640" y="2997360"/>
            <a:ext cx="1295640" cy="151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Мо – лод - 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new_year_001[1]"/>
          <p:cNvPicPr/>
          <p:nvPr/>
        </p:nvPicPr>
        <p:blipFill>
          <a:blip r:embed="rId1"/>
          <a:stretch/>
        </p:blipFill>
        <p:spPr>
          <a:xfrm>
            <a:off x="1763640" y="2276640"/>
            <a:ext cx="6264360" cy="360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звонок"/>
          <p:cNvPicPr/>
          <p:nvPr/>
        </p:nvPicPr>
        <p:blipFill>
          <a:blip r:embed="rId2"/>
          <a:stretch/>
        </p:blipFill>
        <p:spPr>
          <a:xfrm>
            <a:off x="723600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40176"/>
          <p:cNvPicPr/>
          <p:nvPr/>
        </p:nvPicPr>
        <p:blipFill>
          <a:blip r:embed="rId1"/>
          <a:stretch/>
        </p:blipFill>
        <p:spPr>
          <a:xfrm>
            <a:off x="1332000" y="256536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Картинка 56 из 768"/>
          <p:cNvPicPr/>
          <p:nvPr/>
        </p:nvPicPr>
        <p:blipFill>
          <a:blip r:embed="rId2"/>
          <a:stretch/>
        </p:blipFill>
        <p:spPr>
          <a:xfrm>
            <a:off x="3851280" y="2060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готовились юноши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1245304075_3"/>
          <p:cNvPicPr/>
          <p:nvPr/>
        </p:nvPicPr>
        <p:blipFill>
          <a:blip r:embed="rId1"/>
          <a:stretch/>
        </p:blipFill>
        <p:spPr>
          <a:xfrm>
            <a:off x="1042920" y="1700280"/>
            <a:ext cx="6842160" cy="417672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лушаем девушек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Картинка 17 из 487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5370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равочное бюро по тем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рт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став и соотношение видов (сортов) товаров,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м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ловой человек, предприним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ения –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ын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овый или продовольствен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 по реализации продовольственного сырья и пищевых продуктов промышленного изгот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в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где реализуют вещи и другие промышленные т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ы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ынок, который имеет закрыт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крыт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который находитс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о – действующий рынок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ь которого основана на долгосрочном договоре аренды земельного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рем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ынок, деятельность которого основана на краткосрочном договоре аренды земель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тов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где продают товар в большом количестве,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лкооп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котором реализуют разный товар(всё что мож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Торговля – это рабо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у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ые средства, полученные предприятием, фирмой, предпринимателем от продажи товаров или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нежные или иные ценности, получаемые в результате какой-либо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лицо, группа лиц, фирма, предприятие, соперничающие в достижении одних и тех же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ое соперничество за право получения большей доли определённого вида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ая торгов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ый торговец-посредн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покупает товар большими партиями у изготовителя и продаёт их малыми партиями розничным торговц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быль- 1)разница между выру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р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плата товаров и услуг не в разовом порядке, не в полной сумме, а по ча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13107299b8b5fef79e629c4b8d07131c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473040"/>
            <a:ext cx="80168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Ры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40000"/>
            <a:ext cx="79930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едующие 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рос, предложение и ц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одуктовый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-main-pic" descr="Картинка 5 из 1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зови, какой вид рын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1.liveinternet.ru/images/foto/b/3/94/2480094/f_14500222.jpg"/>
          <p:cNvPicPr/>
          <p:nvPr/>
        </p:nvPicPr>
        <p:blipFill>
          <a:blip r:embed="rId1"/>
          <a:stretch/>
        </p:blipFill>
        <p:spPr>
          <a:xfrm>
            <a:off x="2050920" y="192096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ещево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1 из 2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0100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2:38Z</dcterms:created>
  <dc:creator>Admin</dc:creator>
  <dc:description/>
  <dc:language>en-US</dc:language>
  <cp:lastModifiedBy>LEGION</cp:lastModifiedBy>
  <dcterms:modified xsi:type="dcterms:W3CDTF">2016-01-04T13:41:12Z</dcterms:modified>
  <cp:revision>97</cp:revision>
  <dc:subject/>
  <dc:title>         Торговля</dc:title>
</cp:coreProperties>
</file>