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13EB-647A-4C29-9FA4-BEFCB32C54A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земель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– 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поиск и использование новых земель пригодных для сельхоз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оптимизация использования земельного фонда с точки зрения конечных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логизация земельных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– 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поиск и использование новых земель пригодных для сельхозпроизводств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 - оптимизация использования земельного фонда с точки зрения конечных результа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три способа восстановления сельскохозяйственных зем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способ - неполное воспроизводство естественного плодород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способ - простое воспроизводство (природоохран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способ - расширенное воспроизводство (природоулучающ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уществует три способа восстановления сельскохозяйственных земель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способ - неполное воспроизводство естественного плодород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способ - простое воспроизводство (природоохранны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ий способ - расширенное воспроизводство (природоулучающий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теперь землю с позиций общей экономической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смотрим теперь землю с позиций общей экономической теор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начит, что земля, требует свербережного отношения к себ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тивном случае всемирный голод неизбеж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значит, что земля, требует свербережного отношения к себ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противном случае всемирный голод неизбежен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4-х - земля совмещает в себе функции предмета и средств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5-х - земля на сегодняшний день является незаменимым ресур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4-х - земля совмещает в себе функции предмета и средства труд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5-х - земля на сегодняшний день является незаменимым ресурс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: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: вы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для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это важный конструкционный материал для строительного комплек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это основное сырьё для целлюлозно-бумажной промышл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- лес используется для производства меб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чение для экономи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, это важный конструкционный материал для строительного комплекс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, это основное сырьё для целлюлозно-бумажной промышл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третьих, - лес используется для производства меб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ресурсы – значение дл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ные ресурсы – значение для эк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(10%) - ограниченная эксплуатационной ценность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(70%) - промышленная вырубка - должны быть неистощи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ая (10%) - ограниченная эксплуатационной ценностью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ья (70%) - промышленная вырубка - должны быть неистощим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вития экономики и биосферы огромное значение имеет пресная вода, потенциал которой (2,19%) сосредоточен в полярных и горных ледниках (1,74%) и в пресных водах рек, озер и болот (0,4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развития экономики и биосферы огромное значение имеет пресная вода, потенциал которой (2,19%) сосредоточен в полярных и горных ледниках (1,74%) и в пресных водах рек, озер и болот (0,45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вовлечения водных ресурсов в хозяйственный оборот следует различать водопользование и водопотреб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пользование - это порядок, условия и формы использования водных ресурсов, включающее в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потребление 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точки зрения вовлечения водных ресурсов в хозяйственный оборот следует различать водопользование и водопотреблени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опользование - это порядок, условия и формы использования водных ресурсов, включающее в себ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опотребление 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- опреснение соленой морской 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- опреснение соленой морской вод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- опреснение засолённых пресных подземных в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 лимитирующие подземный водозабо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 неравномерность их распределения по Зем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трудность переработки засоленных пресных вод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- опреснение засолённых пресных подземных во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 лимитирующие подземный водозабор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- неравномерность их распределения по Земле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- трудность переработки засоленных пресных вод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- утилизация воды в твёрдой фаз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 - водоотдача горных лед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 - транспорт льда из полярных райо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 эти возможности считаются потенциально негативными по отдалённым экологическим последств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ий - утилизация воды в твёрдой фаз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 - водоотдача горных ледник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 - транспорт льда из полярных районов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е эти возможности считаются потенциально негативными по отдалённым экологическим последствия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ассматривать водное хозяйство как отрасль, то её цель - своевременное удовлетворение потребностей в пресной воде необходимого количества и кач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ё материально-техническую базу входя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ное 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рассматривать водное хозяйство как отрасль, то её цель - своевременное удовлетворение потребностей в пресной воде необходимого количества и качеств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её материально-техническую базу входя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 инфраструктура, доставляющая воду потребителям (водопроводы, насосы и т.д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 водо-охранные основные фонды (очистные соору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ное 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- инфраструктура, доставляющая воду потребителям (водопроводы, насосы и т.д.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- водо-охранные основные фонды (очистные сооруже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все сельхозугодия делятся на пашню (27%), а также пастбища и сенокосы(73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вою очередь, все сельхозугодия делятся на пашню (27%), а также пастбища и сенокосы(73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проценты зависят в частности от следующих основны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реальных потребностей в производстве сельхоз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иродно-климатических условий (от среднегодовой температуры - в США она равна +100, а в России - +50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и проценты зависят в частности от следующих основных факторов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- реальных потребностей в производстве сельхозпродукции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- природно-климатических условий (от среднегодовой температуры - в США она равна +100, а в России - +50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уровня развития сельскохозяйственных технолог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уровня развития сельскохозяйственных технологи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земель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выделяют четыре на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борьба с эрозией почв (надо переходить с химических на био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логизация земельных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ычно выделяют четыре направл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- борьба с эрозией почв (надо переходить с химических на биотехн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335-6BAE-4227-991A-7C2821BA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CDE-0AA0-4B12-AD14-34C34548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F341-FA43-4D4C-A6B7-D959A215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0AD7-F096-44EE-818C-C7A42A27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789A-51AE-4CCD-9DAD-A9305810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279A-D84D-4EA0-9A36-15681063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40A9-5998-406B-8DF0-468AEF8E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1F8C-91C0-476F-A5B9-AE313871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7B39-BF57-4448-B338-84AAABD1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4773-535A-4251-B23E-0D40ED6A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94CD-68C6-4F71-AC0E-D2A91F33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779-DD72-4C76-BD54-55B91865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DC15-ABB3-49F8-B478-65B18466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4C98-F98B-4A65-81C7-EB0314DA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F2FB-8812-4B21-806D-F0CD272F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812A-869C-4945-AC7B-988A6F35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1EBD-02C8-40EA-BE79-4079461B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2C1F-C5E7-42B7-84AC-F6DCC3DB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0280-CAC0-47E7-85ED-94B7EF2C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6B60-75B8-428F-887F-156816C3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D77-D529-4F5F-8615-3B66977E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751-8DDC-45FF-93F7-CF081C63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6D1-548D-458B-BF35-0EB90A0B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E00-5425-4909-956A-48EAB4D5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A7D1-8721-4566-B3E5-6DAB5EA5BD8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1021-0E6E-4CC9-A74D-1BBC0FF0B00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кологизация земельных ресурс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 - поиск и использование новых земель пригодных для сельхозпроизводств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 - оптимизация использования земельного фонда с точки зрения конечных результат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уществует три способа восстановления сельскохозяйственных земель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ый способ - неполное воспроизводство естественного плодород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торой способ - простое воспроизводство (природоохранны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тий способ - расширенное воспроизводство (природоулучающий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cc"/>
                </a:solidFill>
                <a:latin typeface="Tahoma"/>
              </a:rPr>
              <a:t>Рассмотрим теперь землю с позиций общей экономической теории.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значит, что земля, требует свербережного отношения к себ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отивном случае всемирный голод неизбеже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8930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4-х - земля совмещает в себе функции предмета и средства труд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5-х - земля на сегодняшний день является незаменимым ресурсо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емельные ресурсы: выв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Лес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184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ение для экономи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-первых, это важный конструкционный материал для строительного комплекс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-вторых, это основное сырьё для целлюлозно-бумажной промышленност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третьих, - лес используется для производства мебел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Лесные ресурсы – значение для экологии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вторая (10%) - ограниченная эксплуатационной ценностью: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третья (70%) - промышленная вырубка - должны быть неистощимыми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развития экономики и биосферы огромное значение имеет пресная вода, потенциал которой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(2,19%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осредоточен в полярных и горных ледниках (1,74%) и в пресных водах рек, озер и болот (0,45%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С точки зрения вовлечения водных ресурсов в хозяйственный оборот следует различать водопользование и водопотребление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Tahoma"/>
              </a:rPr>
              <a:t>Водопользование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- это порядок, условия и формы использования водных ресурсов, включающее в себя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Tahoma"/>
              </a:rPr>
              <a:t>Водопотребление 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тоды «производства» пресной в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8013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Первый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- опреснение соленой морской вод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торо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опреснение засолённых пресных подземных во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акторы,  лимитирующие подземный водозабор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- неравномерность их распределения по Земл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 - трудность переработки засоленных пресных вод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тоды «производства» пресной в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8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рети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утилизация воды в твёрдой фаз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-первых - водоотдача горных лед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-вторых - транспорт льда из полярных райо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бе эти возможности считаются потенциально негативными по отдалённым экологическим последствия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одное хозяйств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69796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Если рассматривать водное хозяйство как отрасль, то её цель -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своевременное удовлетворение потребностей в пресной воде необходимого количества и качеств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её материально-техническую базу входя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дное хозяйст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- инфраструктура, доставляющая воду потребителям (водопроводы, насосы и т.д.);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- водо-охранные основные фонды (очистные сооружения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вою очередь, все сельхозугодия делятся на пашню (27%), а также пастбища и сенокосы(73%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и проценты зависят в частности от следующих основных фактор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льных потребностей в производстве сельхозпродукци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родно-климатических условий (от среднегодовой температуры - в США она равна +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а в России - +5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овня развития сельскохозяйственных технолог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кологизация земельных ресурс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бычно выделяют четыре направле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 - борьба с эрозией почв (надо переходить с химических на биотехнолог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18:39:14Z</dcterms:created>
  <dc:creator>user</dc:creator>
  <dc:description/>
  <dc:language>en-US</dc:language>
  <cp:lastModifiedBy>LEGION</cp:lastModifiedBy>
  <dcterms:modified xsi:type="dcterms:W3CDTF">2016-01-04T13:41:19Z</dcterms:modified>
  <cp:revision>25</cp:revision>
  <dc:subject/>
  <dc:title>Земельные ресурсы</dc:title>
</cp:coreProperties>
</file>