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BA30-2E14-44F0-82C8-C932C5C3D4B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земельными ресурсами понимаются определенные площади поверхности суши с различными ландшафтами, почвами, климатическими условиями и рядом других свойств. Эти ресурсы занимают часть поверхности суши (около 150 млн. кв. км) нашей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 земельными ресурсами понимаются определенные площади поверхности суши с различными ландшафтами, почвами, климатическими условиями и рядом других свойств. Эти ресурсы занимают часть поверхности суши (около 150 млн. кв. км) нашей плане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зация земель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– резкое ограничение влияния отраслей промышленности и коммунально-бытового хозяйства на сельское хозяйство (при открытой добыче полезных ископаемых нарушены более 2 млн. га сельхозугод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поиск и использование новых земель пригодных для сельхоз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- оптимизация использования земельного фонда с точки зрения конечных результ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кологизация земельных ресурс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 – резкое ограничение влияния отраслей промышленности и коммунально-бытового хозяйства на сельское хозяйство (при открытой добыче полезных ископаемых нарушены более 2 млн. га сельхозугодий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 - поиск и использование новых земель пригодных для сельхозпроизводств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 - оптимизация использования земельного фонда с точки зрения конечных результат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три способа восстановления сельскохозяйственных зем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й способ - неполное воспроизводство естественного плодород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й способ - простое воспроизводство (природоохранны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способ - расширенное воспроизводство (природоулучающ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уществует три способа восстановления сельскохозяйственных земель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вый способ - неполное воспроизводство естественного плодород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торой способ - простое воспроизводство (природоохранный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ретий способ - расширенное воспроизводство (природоулучающий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теперь землю с позиций общей экономической те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средства производства земля (по сравнению с искусственно создаваемыми средствами производства) имеет специфические черты (рассматривая которые важно иметь в виду региональные и географические особеннос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смотрим теперь землю с позиций общей экономической теор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качестве средства производства земля (по сравнению с искусственно создаваемыми средствами производства) имеет специфические черты (рассматривая которые важно иметь в виду региональные и географические особенности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1-х - она продукт Природы (значит, она не имеет стоимости, т.к. нет затраты труда на её создани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2-х - период естественного восстановления почвенного покрова значительно выше периода искусственного восстановления “обычных” средств производства(сотни лет: на восстановление 2,5 см требуется 300 лет, 20 см - до 5-7 тысяч лет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начит, что земля, требует свербережного отношения к себ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тивном случае всемирный голод неизбеже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1-х - она продукт Природы (значит, она не имеет стоимости, т.к. нет затраты труда на её создание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2-х - период естественного восстановления почвенного покрова значительно выше периода искусственного восстановления “обычных” средств производства(сотни лет: на восстановление 2,5 см требуется 300 лет, 20 см - до 5-7 тысяч лет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значит, что земля, требует свербережного отношения к себе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противном случае всемирный голод неизбежен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3-х – она обладает присущими только ей одной свойствами воспроизводства. При научно-обоснованных подходах возможен значительный рост плодородия зем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4-х - земля совмещает в себе функции предмета и средств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5-х - земля на сегодняшний день является незаменимым ресур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-3-х – она обладает присущими только ей одной свойствами воспроизводства. При научно-обоснованных подходах возможен значительный рост плодородия земл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-4-х - земля совмещает в себе функции предмета и средства труд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-5-х - земля на сегодняшний день является незаменимым ресурсо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: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, отношение к земельным ресурсам предопределяет переход на эколого-экономическую траекторию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этого следует, что сохранение природных свойств почв, поддержание и восстановление их плодородия, контроль за качественным состоянием, проведение мероприятий по рациональному использованию и охране являются основными задачами государства в вопросах использования земельного фон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: выво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начит, отношение к земельным ресурсам предопределяет переход на эколого-экономическую траекторию развит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 этого следует, что сохранение природных свойств почв, поддержание и восстановление их плодородия, контроль за качественным состоянием, проведение мероприятий по рациональному использованию и охране являются основными задачами государства в вопросах использования земельного фонд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для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это важный конструкционный материал для строительного комплек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это основное сырьё для целлюлозно-бумажной промышл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третьих, - лес используется для производства меб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начение для экономик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первых, это важный конструкционный материал для строительного комплекс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вторых, это основное сырьё для целлюлозно-бумажной промышленн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-третьих, - лес используется для производства мебел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ные ресурсы – значение для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 водорегулирующий - это лес, растущий у истоков рек и по берегам водоемов, а также занимающий те места на водосборах, которые определяют водность данного бассейна. Такой лес регулирует водный сток и защищает водоем от подмыва берег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 почвозащитный - естественные или посаженные лесные полосы предназначенные для создания благоприятных климатических условий развития культурных растений и защиты полей от эрозии и пыльных бур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 рекреационный - естественный или посаженный, используемый для различных видов отдыха и санаторно-курортного ле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 рыбоохранный - естественная или посаженная лесная растительность по берегам водоемов, которая создает необходимые условия для жизни и размножения ценных видов рыб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ные ресурсы – значение для эколог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 водорегулирующий - это лес, растущий у истоков рек и по берегам водоемов, а также занимающий те места на водосборах, которые определяют водность данного бассейна. Такой лес регулирует водный сток и защищает водоем от подмыва берегов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 почвозащитный - естественные или посаженные лесные полосы предназначенные для создания благоприятных климатических условий развития культурных растений и защиты полей от эрозии и пыльных бурь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 рекреационный - естественный или посаженный, используемый для различных видов отдыха и санаторно-курортного леч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 рыбоохранный - естественная или посаженная лесная растительность по берегам водоемов, которая создает необходимые условия для жизни и размножения ценных видов рыб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и все леса государственного значения делятся на три группы (по различным категориям защищеннос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(площадь 20% от всей площади лесов) - леса в населённых пунктах, вдоль рек, трасс и т.д. - вырубка разрешена с согласия федеральных или местных вла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(10%) - ограниченная эксплуатационной ценность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я (70%) - промышленная вырубка - должны быть неистощим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России все леса государственного значения делятся на три группы (по различным категориям защищенности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вая (площадь 20% от всей площади лесов) - леса в населённых пунктах, вдоль рек, трасс и т.д. - вырубка разрешена с согласия федеральных или местных власте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торая (10%) - ограниченная эксплуатационной ценностью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ретья (70%) - промышленная вырубка - должны быть неистощимы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сю поверхность нашей планеты принять за 100%, то вода покрывает 71% этой поверхности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96,5% всего объёма гидросферы занимают моря и океаны. Этой воды очень много, но она не пригодна для хозяйственных нуж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звития экономики и биосферы огромное значение имеет пресная вода, потенциал которой (2,19%) сосредоточен в полярных и горных ледниках (1,74%) и в пресных водах рек, озер и болот (0,45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сли всю поверхность нашей планеты принять за 100%, то вода покрывает 71% этой поверхности Земл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 этом 96,5% всего объёма гидросферы занимают моря и океаны. Этой воды очень много, но она не пригодна для хозяйственных нужд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ля развития экономики и биосферы огромное значение имеет пресная вода, потенциал которой (2,19%) сосредоточен в полярных и горных ледниках (1,74%) и в пресных водах рек, озер и болот (0,45%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й структуре земельных ресурсов важнейшим компонентом окружающей природной среды и центральным связующим звеном биосферы, обладающим способностью преобразования и накопления солнечной энергии, плодородием, служащим основным источником получения продуктов питания, средой существования растительного и животного мира, базой социально-экономического развития и стратегическим природным ресурсом, являются поч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общей структуре земельных ресурсов важнейшим компонентом окружающей природной среды и центральным связующим звеном биосферы, обладающим способностью преобразования и накопления солнечной энергии, плодородием, служащим основным источником получения продуктов питания, средой существования растительного и животного мира, базой социально-экономического развития и стратегическим природным ресурсом, являются почв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точки зрения вовлечения водных ресурсов в хозяйственный оборот следует различать водопользование и водопотребл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пользование - это порядок, условия и формы использования водных ресурсов, включающее в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использование водных объектов для удовлетворения любых нужд населения и народного хозяйства; 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использование воды в хозяйственных или бытовых целях без отвода ее из водотока, путем «пропускания ее через себя" (гидроэлектростанц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потребление - это потребление воды из водного объекта или систем водоснабжения. Различают возвратное (с возвращением забранной воды в водотоки) и безвозвратное водопотреб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точки зрения вовлечения водных ресурсов в хозяйственный оборот следует различать водопользование и водопотребление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допользование - это порядок, условия и формы использования водных ресурсов, включающее в себ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первых, использование водных объектов для удовлетворения любых нужд населения и народного хозяйства; и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вторых, использование воды в хозяйственных или бытовых целях без отвода ее из водотока, путем «пропускания ее через себя" (гидроэлектростанция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допотребление - это потребление воды из водного объекта или систем водоснабжения. Различают возвратное (с возвращением забранной воды в водотоки) и безвозвратное водопотреблен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«производства» пресной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й - опреснение соленой морской в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- себестоимость опреснения в 100 и более раз выше забора вод из открытых водны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тоды «производства» пресной во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вый - опреснение соленой морской воды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граничение - себестоимость опреснения в 100 и более раз выше забора вод из открытых водных систе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й - опреснение засолённых пресных подземных в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 лимитирующие подземный водозабор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 неравномерность их распределения по Земл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трудность переработки засоленных пресных вод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быстро снижающиеся темпы их естественного возобновления с одновременным ростом глубины залегания водоносных пла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торой - опреснение засолённых пресных подземных вод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 лимитирующие подземный водозабор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- неравномерность их распределения по Земле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 - трудность переработки засоленных пресных вод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 - быстро снижающиеся темпы их естественного возобновления с одновременным ростом глубины залегания водоносных пласт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«производства» пресной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- утилизация воды в твёрдой фаз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 - водоотдача горных ледн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 - транспорт льда из полярных райо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 эти возможности считаются потенциально негативными по отдалённым экологическим последств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тоды «производства» пресной во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ретий - утилизация воды в твёрдой фаз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первых - водоотдача горных ледников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вторых - транспорт льда из полярных районов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е эти возможности считаются потенциально негативными по отдалённым экологическим последствия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н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ассматривать водное хозяйство как отрасль, то её цель - своевременное удовлетворение потребностей в пресной воде необходимого количества и кач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её материально-техническую базу входя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 гидротехнические сооружения (плотины, дамбы и т.д.), т.е. все основные фонды, обеспечивающие потребителей водными ресурсами на данном участке водоснаб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дное хозяй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сли рассматривать водное хозяйство как отрасль, то её цель - своевременное удовлетворение потребностей в пресной воде необходимого количества и качеств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её материально-техническую базу входя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- гидротехнические сооружения (плотины, дамбы и т.д.), т.е. все основные фонды, обеспечивающие потребителей водными ресурсами на данном участке водоснабж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н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- инфраструктура, доставляющая воду потребителям (водопроводы, насосы и т.д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- водо-охранные основные фонды (очистные сооруж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дное хозяй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- инфраструктура, доставляющая воду потребителям (водопроводы, насосы и т.д.)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- водо-охранные основные фонды (очистные сооружения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венная составляющая служит естественным базисом, на котором строится практически вся сельскохозяйственная деятельность человека, поставляющая населению основную массу продовольствия и значительную часть технического сырья для промышл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чвенная составляющая служит естественным базисом, на котором строится практически вся сельскохозяйственная деятельность человека, поставляющая населению основную массу продовольствия и значительную часть технического сырья для промышленн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атываемые земли дают 88% продуктов питания (в энергетическом эквиваленте) для современного человечества, 10% получают с естественных пастбищ и лесных угодий и лишь 2% - из ресурсов Мирового оке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рабатываемые земли дают 88% продуктов питания (в энергетическом эквиваленте) для современного человечества, 10% получают с естественных пастбищ и лесных угодий и лишь 2% - из ресурсов Мирового океа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я землю с "прикладных" экономических позиций отметим, что для экономического развития особую ценность представляют земли сельскохозяйственного назначения, которые занимают примерно треть поверхности суш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сматривая землю с "прикладных" экономических позиций отметим, что для экономического развития особую ценность представляют земли сельскохозяйственного назначения, которые занимают примерно треть поверхности суш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ю очередь, все сельхозугодия делятся на пашню (27%), а также пастбища и сенокосы(73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льный вес сельскохозяйственных земель различается по странам. Например, в России он составляет 25%, Китае - 40%, Индии -60; США - 53%, Японии - 7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свою очередь, все сельхозугодия делятся на пашню (27%), а также пастбища и сенокосы(73%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дельный вес сельскохозяйственных земель различается по странам. Например, в России он составляет 25%, Китае - 40%, Индии -60; США - 53%, Японии - 7%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проценты зависят в частности от следующих основных фак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реальных потребностей в производстве сельхозпродук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природно-климатических условий (от среднегодовой температуры - в США она равна +100, а в России - +50 и среднегодовой величины осадков (в России в зонах со среднегодовым количеством осадков более 700 мм находится 1% пашни, а в США - 60%)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и проценты зависят в частности от следующих основных факторов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 - реальных потребностей в производстве сельхозпродукции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 - природно-климатических условий (от среднегодовой температуры - в США она равна +100, а в России - +50 и среднегодовой величины осадков (в России в зонах со среднегодовым количеством осадков более 700 мм находится 1% пашни, а в США - 60%))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уровня развития сельскохозяйственных технолог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сём мире как тенденция наблюдается снижение удельного веса пашни. Нивелировать это можно за счёт более высокой урожайности, которая (по зерновым и зернобобовым культурам) в 2000 году составляла (в ц/га): Япония - 60; США - 50; Китай - 40; Россия - 2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 - уровня развития сельскохозяйственных технологий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 всём мире как тенденция наблюдается снижение удельного веса пашни. Нивелировать это можно за счёт более высокой урожайности, которая (по зерновым и зернобобовым культурам) в 2000 году составляла (в ц/га): Япония - 60; США - 50; Китай - 40; Россия - 20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зация земель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в России единственный путь к росту социо-эколого-экономической эффективности сельскохозяйственного производства - его экологиза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о выделяют четыре на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борьба с эрозией почв (надо переходить с химических на био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кологизация земельных ресурс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егодня в России единственный путь к росту социо-эколого-экономической эффективности сельскохозяйственного производства - его экологизация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ычно выделяют четыре направлен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 - борьба с эрозией почв (надо переходить с химических на биотехнолог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D823-688A-4BC1-B39E-35B0F39C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C816-CA9E-4465-BBBD-9F2FA2E3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676A-8281-4406-A839-5F31827F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D359-106E-4AE2-9FFD-3A89CCBC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7647-4920-40B0-90AD-130EA0DC5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3F99-B3B2-49E5-8E88-C6EF8D85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2D92-7DA9-4F13-9489-04576B26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305D-4E8D-4CC4-AA37-A2392D2E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7F36-6C4C-47C7-AF26-1F368D8B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7916-AC57-447A-857F-F1AE166D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DA82-F59E-43AE-926D-F454044A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EB82-F313-40B2-BF95-0E82DA9B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FD10-8901-482A-8DA0-56DC734C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E9AB0-3C9F-46BF-95DD-33946952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CFD4-25F2-43B1-A3D7-069C5724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4C14-2407-4740-A95E-A0407BE4F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7320-D23C-44B2-BCE7-C154E3E8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4430-B0CD-468C-894D-E2D44261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BDB6-5770-4D0A-92A8-65577F1B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8648-B82D-4405-AF20-BDE02B43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7D69-21F2-425B-A71B-6176DDF8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C56D-AC1C-49D4-AA58-73852B23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34AF-B371-462D-B9E1-EEC090E1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ECAD-0A92-4BDE-8BFF-FDC560A7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C0E4-9412-4014-BC16-5D3136F6C40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65EB-AF3E-4921-A67D-F463A572969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8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Под земельными ресурсами понимаются определенные площади поверхности суши с различными ландшафтами, почвами, климатическими условиями и рядом других свойств. Эти ресурсы занимают часть поверхности суши (около 150 млн. кв. км) нашей планеты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Экологизация земельных ресурсов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езкое ограничение влияния отраслей промышленности и коммунально-бытового хозяйства на сельское хозяйство (при открытой добыче полезных ископаемых нарушены более 2 млн. га сельхозугодий)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3 - поиск и использование новых земель пригодных для сельхозпроизводств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4 - оптимизация использования земельного фонда с точки зрения конечных результатов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уществует три способа восстановления сельскохозяйственных земель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вый способ - неполное воспроизводство естественного плодород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торой способ - простое воспроизводство (природоохранный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етий способ - расширенное воспроизводство (природоулучающий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cc"/>
                </a:solidFill>
                <a:latin typeface="Tahoma"/>
              </a:rPr>
              <a:t>Рассмотрим теперь землю с позиций общей экономической теории.</a:t>
            </a:r>
            <a:endParaRPr b="0" lang="en-US" sz="3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качестве средства производства земля (по сравнению с искусственно создаваемыми средствами производства) имеет специфические черты (рассматривая которые важно иметь в виду региональные и географические особенности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-1-х - она продукт Природы (значит, она не имеет стоимости, т.к. нет затраты труда на её создание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-2-х - период естественного восстановления почвенного покрова значительно выше периода искусственного восстановления “обычных” средств производства(сотни лет: на восстановление 2,5 см требуется 300 лет, 20 см - до 5-7 тысяч лет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значит, что земля, требует свербережного отношения к себ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ротивном случае всемирный голод неизбежен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89308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-3-х – она обладает присущими только ей одной свойствами воспроизводства. При научно-обоснованных подходах возможен значительный рост плодородия земли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-4-х - земля совмещает в себе функции предмета и средства труд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-5-х - земля на сегодняшний день является незаменимым ресурсом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емельные ресурсы: вывод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начит, отношение к земельным ресурсам предопределяет переход на эколого-экономическую траекторию развит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этого следует, что сохранение природных свойств почв, поддержание и восстановление их плодородия, контроль за качественным состоянием, проведение мероприятий по рациональному использованию и охране являются основными задачами государства в вопросах использования земельного фонд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Лес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21844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чение для экономик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о-первых, это важный конструкционный материал для строительного комплекса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о-вторых, это основное сырьё для целлюлозно-бумажной промышленност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-третьих, - лес используется для производства мебел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Лесные ресурсы – значение для экологии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с водорегулирующий - это лес, растущий у истоков рек и по берегам водоемов, а также занимающий те места на водосборах, которые определяют водность данного бассейна. Такой лес регулирует водный сток и защищает водоем от подмыва берег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с почвозащитный - естественные или посаженные лесные полосы предназначенные для создания благоприятных климатических условий развития культурных растений и защиты полей от эрозии и пыльных бур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с рекреационный - естественный или посаженный, используемый для различных видов отдыха и санаторно-курортного леч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с рыбоохранный - естественная или посаженная лесная растительность по берегам водоемов, которая создает необходимые условия для жизни и размножения ценных видов рыб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 России все леса государственного значения делятся на три группы (по различным категориям защищенности)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8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ahoma"/>
              </a:rPr>
              <a:t>первая (площадь 20% от всей площади лесов) - леса в населённых пунктах, вдоль рек, трасс и т.д. - вырубка разрешена с согласия федеральных или местных властей;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8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ahoma"/>
              </a:rPr>
              <a:t>вторая (10%) - ограниченная эксплуатационной ценностью: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8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ahoma"/>
              </a:rPr>
              <a:t>третья (70%) - промышленная вырубка - должны быть неистощимыми.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Если всю поверхность нашей планеты принять за 100%, то вода покрывает 71% этой поверхности Земли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этом 96,5% всего объёма гидросферы занимают моря и океаны. Этой воды очень много, но она не пригодна для хозяйственных нужд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развития экономики и биосферы огромное значение имеет пресная вода, потенциал которой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(2,19%)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осредоточен в полярных и горных ледниках (1,74%) и в пресных водах рек, озер и болот (0,45%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бщей структуре земельных ресурсов важнейшим компонентом окружающей природной среды и центральным связующим звеном биосферы, обладающим способностью преобразования и накопления солнечной энергии, плодородием, служащим основным источником получения продуктов питания, средой существования растительного и животного мира, базой социально-экономического развития и стратегическим природным ресурсом, являются почв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С точки зрения вовлечения водных ресурсов в хозяйственный оборот следует различать водопользование и водопотребление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ffffff"/>
                </a:solidFill>
                <a:uFillTx/>
                <a:latin typeface="Tahoma"/>
              </a:rPr>
              <a:t>Водопользование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 - это порядок, условия и формы использования водных ресурсов, включающее в себя: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во-первых, использование водных объектов для удовлетворения любых нужд населения и народного хозяйства; и,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во-вторых, использование воды в хозяйственных или бытовых целях без отвода ее из водотока, путем «пропускания ее через себя" (гидроэлектростанция).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ffffff"/>
                </a:solidFill>
                <a:uFillTx/>
                <a:latin typeface="Tahoma"/>
              </a:rPr>
              <a:t>Водопотребление 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- это потребление воды из водного объекта или систем водоснабжения. Различают возвратное (с возвращением забранной воды в водотоки) и безвозвратное водопотребление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Методы «производства» пресной вод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8013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Первый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- опреснение соленой морской воды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граничение - себестоимость опреснения в 100 и более раз выше забора вод из открытых водных систе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торой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- опреснение засолённых пресных подземных вод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Факторы,  лимитирующие подземный водозабор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1- неравномерность их распределения по Земл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2 - трудность переработки засоленных пресных вод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3 - быстро снижающиеся темпы их естественного возобновления с одновременным ростом глубины залегания водоносных плас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Методы «производства» пресной вод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3628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Третий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- утилизация воды в твёрдой фаз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о-первых - водоотдача горных ледник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о-вторых - транспорт льда из полярных район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бе эти возможности считаются потенциально негативными по отдалённым экологическим последствия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одное хозяйство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8697960" cy="55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Если рассматривать водное хозяйство как отрасль, то её цель -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своевременное удовлетворение потребностей в пресной воде необходимого количества и качества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75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её материально-техническую базу входят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75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- гидротехнические сооружения (плотины, дамбы и т.д.), т.е. все основные фонды, обеспечивающие потребителей водными ресурсами на данном участке водоснабжени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одное хозяйств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- инфраструктура, доставляющая воду потребителям (водопроводы, насосы и т.д.);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3- водо-охранные основные фонды (очистные сооружения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чвенная составляющая служит естественным базисом, на котором строится практически вся сельскохозяйственная деятельность человека, поставляющая населению основную массу продовольствия и значительную часть технического сырья для промышленност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брабатываемые земли дают 88% продуктов питания (в энергетическом эквиваленте) для современного человечества, 10% получают с естественных пастбищ и лесных угодий и лишь 2% - из ресурсов Мирового океа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ассматривая землю с "прикладных" экономических позиций отметим, что для экономического развития особую ценность представляют земли сельскохозяйственного назначения, которые занимают примерно треть поверхности суши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свою очередь, все сельхозугодия делятся на пашню (27%), а также пастбища и сенокосы(73%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дельный вес сельскохозяйственных земель различается по странам. Например, в России он составляет 25%, Китае - 40%, Индии -60; США - 53%, Японии - 7%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и проценты зависят в частности от следующих основных факторов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альных потребностей в производстве сельхозпродукции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родно-климатических условий (от среднегодовой температуры - в США она равна +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а в России - +5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среднегодовой величины осадков (в России в зонах со среднегодовым количеством осадков более 700 мм находится 1% пашни, а в США - 60%)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ровня развития сельскохозяйственных технолог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 всём мире как тенденция наблюдается снижение удельного веса пашни. Нивелировать это можно за счёт более высокой урожайности, которая (по зерновым и зернобобовым культурам) в 2000 году составляла (в ц/га): Япония - 60; США - 50; Китай - 40; Россия - 20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Экологизация земельных ресурсов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егодня в России единственный путь к росту социо-эколого-экономической эффективности сельскохозяйственного производства - его экологизация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бычно выделяют четыре направления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 - борьба с эрозией почв (надо переходить с химических на биотехнолог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4T18:39:14Z</dcterms:created>
  <dc:creator>user</dc:creator>
  <dc:description/>
  <dc:language>en-US</dc:language>
  <cp:lastModifiedBy>LEGION</cp:lastModifiedBy>
  <dcterms:modified xsi:type="dcterms:W3CDTF">2016-01-04T13:41:19Z</dcterms:modified>
  <cp:revision>25</cp:revision>
  <dc:subject/>
  <dc:title>Земельные ресурсы</dc:title>
</cp:coreProperties>
</file>