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DDE0-36DE-436B-A1B3-60D885AA29E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: вы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для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7BF-D0BD-4BF5-835A-1007D302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DBE-AC57-4D60-900C-9B4E51A5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406-DAA0-46FB-BA7A-FF6BDDA5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C07-70BD-4898-9CDF-4D248E29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1D11-8C4D-4969-A2FE-A8D17BF0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12EE-0528-43E9-B804-A290D261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E2D1-4DDA-432F-8F4F-90336E56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A330-BB50-487B-AAB0-3AAE9BFB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7A2D-E4E4-45C1-8D34-D40ABA76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D347-F8A5-4B1E-92FA-16BDB52D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827A-E7AA-4DFC-AB42-8A4BC84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373-73B0-4766-A7F9-7EE6687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D827-94E5-40A8-9EA0-09A6E54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A409-26CF-430B-B3B4-6CF952E3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E95C-442F-4EE0-870F-ECAFA33C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9EA3-374F-4803-B92D-4D2E4D73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47E2-C354-436F-9EBA-45DD6588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BDE-285F-4EA7-9DBB-47F230C6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535-DCBE-440F-8AB6-FF92589E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B98-B0BE-4FB1-8FA1-2C2F9FF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FEC-F2B6-4878-B5DA-AA9FAC86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AF8-D374-4EA1-A555-E6E4B8E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EBD-E9D9-4673-AD4A-94DA380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16D-33CA-4959-8FF8-8877C0B1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AA48-1933-41A0-A59B-4ED62699406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58FB-E57E-409A-90A4-E65E36749E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емельные ресурсы: 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с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Лесные ресурсы – значение для эколог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(2,19%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средоточен в полярных и горных ледниках (1,74%) и в пресных водах рек, озер и болот (0,4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льзование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- это порядок, условия и формы использования водных ресурсов, включающее в себя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требление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013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ерв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опреснение соленой морской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то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опреснение засолённых пресных подземных в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ети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тилизация воды в твёрдой фаз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97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воевременное удовлетворение потребностей в пресной воде необходимого количества и качеств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ьных потребностей в производстве сельхозпродукц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-климатических условий (от среднегодовой температуры - в США она равна +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в России - +5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вня развития сельскохозяйстве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8:39:14Z</dcterms:created>
  <dc:creator>user</dc:creator>
  <dc:description/>
  <dc:language>en-US</dc:language>
  <cp:lastModifiedBy>LEGION</cp:lastModifiedBy>
  <dcterms:modified xsi:type="dcterms:W3CDTF">2016-01-04T13:41:19Z</dcterms:modified>
  <cp:revision>25</cp:revision>
  <dc:subject/>
  <dc:title>Земельные ресурсы</dc:title>
</cp:coreProperties>
</file>