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0191-F190-476C-B308-221AD8F7749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земельными ресурсами понимаются определенные площади поверхности суши с различными ландшафтами, почвами, климатическими условиями и рядом других свойств. Эти ресурсы занимают часть поверхности суши (около 150 млн. кв. км) нашей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 земельными ресурсами понимаются определенные площади поверхности суши с различными ландшафтами, почвами, климатическими условиями и рядом других свойств. Эти ресурсы занимают часть поверхности суши (около 150 млн. кв. км) нашей плане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земель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– резкое ограничение влияния отраслей промышленности и коммунально-бытового хозяйства на сельское хозяйство (при открытой добыче полезных ископаемых нарушены более 2 млн. га сельхозугод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поиск и использование новых земель пригодных для сельхоз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оптимизация использования земельного фонда с точки зрения конечных результ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логизация земельных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 – резкое ограничение влияния отраслей промышленности и коммунально-бытового хозяйства на сельское хозяйство (при открытой добыче полезных ископаемых нарушены более 2 млн. га сельхозугодий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 - поиск и использование новых земель пригодных для сельхозпроизводств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 - оптимизация использования земельного фонда с точки зрения конечных результат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три способа восстановления сельскохозяйственных зем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способ - неполное воспроизводство естественного плодород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способ - простое воспроизводство (природоохранны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способ - расширенное воспроизводство (природоулучающ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уществует три способа восстановления сельскохозяйственных земель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ый способ - неполное воспроизводство естественного плодород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ой способ - простое воспроизводство (природоохранный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ретий способ - расширенное воспроизводство (природоулучающий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теперь землю с позиций общей экономической 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средства производства земля (по сравнению с искусственно создаваемыми средствами производства) имеет специфические черты (рассматривая которые важно иметь в виду региональные и географические особен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смотрим теперь землю с позиций общей экономической теор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качестве средства производства земля (по сравнению с искусственно создаваемыми средствами производства) имеет специфические черты (рассматривая которые важно иметь в виду региональные и географические особенности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1-х - она продукт Природы (значит, она не имеет стоимости, т.к. нет затраты труда на её созда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2-х - период естественного восстановления почвенного покрова значительно выше периода искусственного восстановления “обычных” средств производства(сотни лет: на восстановление 2,5 см требуется 300 лет, 20 см - до 5-7 тысяч ле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начит, что земля, требует свербережного отношения к себ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тивном случае всемирный голод неизбеж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1-х - она продукт Природы (значит, она не имеет стоимости, т.к. нет затраты труда на её создание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2-х - период естественного восстановления почвенного покрова значительно выше периода искусственного восстановления “обычных” средств производства(сотни лет: на восстановление 2,5 см требуется 300 лет, 20 см - до 5-7 тысяч лет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значит, что земля, требует свербережного отношения к себ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противном случае всемирный голод неизбежен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3-х – она обладает присущими только ей одной свойствами воспроизводства. При научно-обоснованных подходах возможен значительный рост плодородия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4-х - земля совмещает в себе функции предмета и средств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5-х - земля на сегодняшний день является незаменимым ресур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3-х – она обладает присущими только ей одной свойствами воспроизводства. При научно-обоснованных подходах возможен значительный рост плодородия земл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4-х - земля совмещает в себе функции предмета и средства труд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5-х - земля на сегодняшний день является незаменимым ресурсо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: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, отношение к земельным ресурсам предопределяет переход на эколого-экономическую траекторию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этого следует, что сохранение природных свойств почв, поддержание и восстановление их плодородия, контроль за качественным состоянием, проведение мероприятий по рациональному использованию и охране являются основными задачами государства в вопросах использования земельного фон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: выв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начит, отношение к земельным ресурсам предопределяет переход на эколого-экономическую траекторию развит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 этого следует, что сохранение природных свойств почв, поддержание и восстановление их плодородия, контроль за качественным состоянием, проведение мероприятий по рациональному использованию и охране являются основными задачами государства в вопросах использования земельного фонд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для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это важный конструкционный материал для строительного комплек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это основное сырьё для целлюлозно-бумажной промышл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- лес используется для производства меб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начение для экономи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первых, это важный конструкционный материал для строительного комплекс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вторых, это основное сырьё для целлюлозно-бумажной промышлен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третьих, - лес используется для производства мебе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ые ресурсы – значение дл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водорегулирующий - это лес, растущий у истоков рек и по берегам водоемов, а также занимающий те места на водосборах, которые определяют водность данного бассейна. Такой лес регулирует водный сток и защищает водоем от подмыва бере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почвозащитный - естественные или посаженные лесные полосы предназначенные для создания благоприятных климатических условий развития культурных растений и защиты полей от эрозии и пыльных бур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рекреационный - естественный или посаженный, используемый для различных видов отдыха и санаторно-курортного ле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рыбоохранный - естественная или посаженная лесная растительность по берегам водоемов, которая создает необходимые условия для жизни и размножения ценных видов рыб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ные ресурсы – значение для эк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водорегулирующий - это лес, растущий у истоков рек и по берегам водоемов, а также занимающий те места на водосборах, которые определяют водность данного бассейна. Такой лес регулирует водный сток и защищает водоем от подмыва берегов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почвозащитный - естественные или посаженные лесные полосы предназначенные для создания благоприятных климатических условий развития культурных растений и защиты полей от эрозии и пыльных бур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рекреационный - естественный или посаженный, используемый для различных видов отдыха и санаторно-курортного леч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рыбоохранный - естественная или посаженная лесная растительность по берегам водоемов, которая создает необходимые условия для жизни и размножения ценных видов рыб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все леса государственного значения делятся на три группы (по различным категориям защищен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(площадь 20% от всей площади лесов) - леса в населённых пунктах, вдоль рек, трасс и т.д. - вырубка разрешена с согласия федеральных или местных вла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(10%) - ограниченная эксплуатационной ценность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я (70%) - промышленная вырубка - должны быть неистощим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России все леса государственного значения делятся на три группы (по различным категориям защищенности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ая (площадь 20% от всей площади лесов) - леса в населённых пунктах, вдоль рек, трасс и т.д. - вырубка разрешена с согласия федеральных или местных власт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ая (10%) - ограниченная эксплуатационной ценностью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ретья (70%) - промышленная вырубка - должны быть неистощим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сю поверхность нашей планеты принять за 100%, то вода покрывает 71% этой поверхности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96,5% всего объёма гидросферы занимают моря и океаны. Этой воды очень много, но она не пригодна для хозяйственных нуж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вития экономики и биосферы огромное значение имеет пресная вода, потенциал которой (2,19%) сосредоточен в полярных и горных ледниках (1,74%) и в пресных водах рек, озер и болот (0,4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всю поверхность нашей планеты принять за 100%, то вода покрывает 71% этой поверхности Зем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 этом 96,5% всего объёма гидросферы занимают моря и океаны. Этой воды очень много, но она не пригодна для хозяйственных нуж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ля развития экономики и биосферы огромное значение имеет пресная вода, потенциал которой (2,19%) сосредоточен в полярных и горных ледниках (1,74%) и в пресных водах рек, озер и болот (0,45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й структуре земельных ресурсов важнейшим компонентом окружающей природной среды и центральным связующим звеном биосферы, обладающим способностью преобразования и накопления солнечной энергии, плодородием, служащим основным источником получения продуктов питания, средой существования растительного и животного мира, базой социально-экономического развития и стратегическим природным ресурсом, являются поч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общей структуре земельных ресурсов важнейшим компонентом окружающей природной среды и центральным связующим звеном биосферы, обладающим способностью преобразования и накопления солнечной энергии, плодородием, служащим основным источником получения продуктов питания, средой существования растительного и животного мира, базой социально-экономического развития и стратегическим природным ресурсом, являются почв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очки зрения вовлечения водных ресурсов в хозяйственный оборот следует различать водопользование и водопотребл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пользование - это порядок, условия и формы использования водных ресурсов, включающее в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использование водных объектов для удовлетворения любых нужд населения и народного хозяйства; 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использование воды в хозяйственных или бытовых целях без отвода ее из водотока, путем «пропускания ее через себя" (гидроэлектростанц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потребление - это потребление воды из водного объекта или систем водоснабжения. Различают возвратное (с возвращением забранной воды в водотоки) и безвозвратное водопотреб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точки зрения вовлечения водных ресурсов в хозяйственный оборот следует различать водопользование и водопотреблени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опользование - это порядок, условия и формы использования водных ресурсов, включающее в себ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первых, использование водных объектов для удовлетворения любых нужд населения и народного хозяйства; и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вторых, использование воды в хозяйственных или бытовых целях без отвода ее из водотока, путем «пропускания ее через себя" (гидроэлектростанция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опотребление - это потребление воды из водного объекта или систем водоснабжения. Различают возвратное (с возвращением забранной воды в водотоки) и безвозвратное водопотребле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- опреснение соленой морской в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- себестоимость опреснения в 100 и более раз выше забора вод из открытых водны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ый - опреснение соленой морской воды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граничение - себестоимость опреснения в 100 и более раз выше забора вод из открытых водных сист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- опреснение засолённых пресных подземных в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 лимитирующие подземный водозабор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 неравномерность их распределения по Зем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трудность переработки засоленных пресных вод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быстро снижающиеся темпы их естественного возобновления с одновременным ростом глубины залегания водоносных пла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ой - опреснение засолённых пресных подземных во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 лимитирующие подземный водозабор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- неравномерность их распределения по Земле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 - трудность переработки засоленных пресных вод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 - быстро снижающиеся темпы их естественного возобновления с одновременным ростом глубины залегания водоносных пласт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- утилизация воды в твёрдой фаз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 - водоотдача горных лед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 - транспорт льда из полярных райо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 эти возможности считаются потенциально негативными по отдалённым экологическим последств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ретий - утилизация воды в твёрдой фаз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первых - водоотдача горных ледников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вторых - транспорт льда из полярных районов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е эти возможности считаются потенциально негативными по отдалённым экологическим последствия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н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ассматривать водное хозяйство как отрасль, то её цель - своевременное удовлетворение потребностей в пресной воде необходимого количества и кач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её материально-техническую базу входя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 гидротехнические сооружения (плотины, дамбы и т.д.), т.е. все основные фонды, обеспечивающие потребителей водными ресурсами на данном участке водоснаб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ное 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рассматривать водное хозяйство как отрасль, то её цель - своевременное удовлетворение потребностей в пресной воде необходимого количества и качеств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её материально-техническую базу входя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- гидротехнические сооружения (плотины, дамбы и т.д.), т.е. все основные фонды, обеспечивающие потребителей водными ресурсами на данном участке водоснабж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н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 инфраструктура, доставляющая воду потребителям (водопроводы, насосы и т.д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 водо-охранные основные фонды (очистные соору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ное 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- инфраструктура, доставляющая воду потребителям (водопроводы, насосы и т.д.)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- водо-охранные основные фонды (очистные сооружения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венная составляющая служит естественным базисом, на котором строится практически вся сельскохозяйственная деятельность человека, поставляющая населению основную массу продовольствия и значительную часть технического сырья для промышл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чвенная составляющая служит естественным базисом, на котором строится практически вся сельскохозяйственная деятельность человека, поставляющая населению основную массу продовольствия и значительную часть технического сырья для промышлен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атываемые земли дают 88% продуктов питания (в энергетическом эквиваленте) для современного человечества, 10% получают с естественных пастбищ и лесных угодий и лишь 2% - из ресурсов 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рабатываемые земли дают 88% продуктов питания (в энергетическом эквиваленте) для современного человечества, 10% получают с естественных пастбищ и лесных угодий и лишь 2% - из ресурсов Мирового океа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я землю с "прикладных" экономических позиций отметим, что для экономического развития особую ценность представляют земли сельскохозяйственного назначения, которые занимают примерно треть поверхности суш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сматривая землю с "прикладных" экономических позиций отметим, что для экономического развития особую ценность представляют земли сельскохозяйственного назначения, которые занимают примерно треть поверхности суш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очередь, все сельхозугодия делятся на пашню (27%), а также пастбища и сенокосы(73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ьный вес сельскохозяйственных земель различается по странам. Например, в России он составляет 25%, Китае - 40%, Индии -60; США - 53%, Японии - 7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свою очередь, все сельхозугодия делятся на пашню (27%), а также пастбища и сенокосы(73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дельный вес сельскохозяйственных земель различается по странам. Например, в России он составляет 25%, Китае - 40%, Индии -60; США - 53%, Японии - 7%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проценты зависят в частности от следующих основных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реальных потребностей в производстве сельхоз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природно-климатических условий (от среднегодовой температуры - в США она равна +100, а в России - +50 и среднегодовой величины осадков (в России в зонах со среднегодовым количеством осадков более 700 мм находится 1% пашни, а в США - 60%)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и проценты зависят в частности от следующих основных факторов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 - реальных потребностей в производстве сельхозпродукции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 - природно-климатических условий (от среднегодовой температуры - в США она равна +100, а в России - +50 и среднегодовой величины осадков (в России в зонах со среднегодовым количеством осадков более 700 мм находится 1% пашни, а в США - 60%))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уровня развития сельскохозяйственных технолог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сём мире как тенденция наблюдается снижение удельного веса пашни. Нивелировать это можно за счёт более высокой урожайности, которая (по зерновым и зернобобовым культурам) в 2000 году составляла (в ц/га): Япония - 60; США - 50; Китай - 40; Россия - 2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 - уровня развития сельскохозяйственных технологий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 всём мире как тенденция наблюдается снижение удельного веса пашни. Нивелировать это можно за счёт более высокой урожайности, которая (по зерновым и зернобобовым культурам) в 2000 году составляла (в ц/га): Япония - 60; США - 50; Китай - 40; Россия - 20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земель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в России единственный путь к росту социо-эколого-экономической эффективности сельскохозяйственного производства - его экологиза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выделяют четыре на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борьба с эрозией почв (надо переходить с химических на био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логизация земельных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в России единственный путь к росту социо-эколого-экономической эффективности сельскохозяйственного производства - его экологизаци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ычно выделяют четыре направл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 - борьба с эрозией почв (надо переходить с химических на биотехн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E3C3-6E58-491F-ACA6-80372CED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F156-4B5E-42AD-93C7-A2076959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DE4D-D666-49BA-A349-B7C28ABA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39D6-A7F9-49D7-8DA1-0E5ACD9E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428F-674C-4CA7-8A94-1C4945A0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AD2C-BC7C-41EA-97CD-1CE86777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2375-3470-4734-8B29-C4E6A12F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C508-70F7-4E4D-9AF1-8A2D3C00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8B9A-704F-4AFF-8401-7289D73E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DE8A-F1E7-41E4-B700-36D2E6E9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63E3-664E-4398-BD08-B0ABB288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86AF-9873-47CD-9C75-DA77BF17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5D35-8E35-41B6-833E-F3C49C14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7BAD-C709-4615-A0F1-B7DE0CEC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0EE5-D6B4-439D-B963-F879AF53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A86C-E260-4A98-8425-6DF666A2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7B52-D1C7-41D5-9712-E0025E3B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2919-09FE-44CA-9CE4-97133490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A680-F89D-4248-8A77-0E2549A2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661C-4EDF-4E70-96F3-88E394D9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E452-576F-4238-9070-DA1CAE98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52AF-4447-4DAD-8C01-5B054269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97F6-E4B5-4FE8-8F68-65EB6220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7E17-7ACC-4BDD-8931-6964C86F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8047-36AF-4AC9-8C86-8755D63A692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A7A0-11C7-4BD7-B1FE-B31D189F2D6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8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Под земельными ресурсами понимаются определенные площади поверхности суши с различными ландшафтами, почвами, климатическими условиями и рядом других свойств. Эти ресурсы занимают часть поверхности суши (около 150 млн. кв. км) нашей планеты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Экологизация земельных ресурсов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езкое ограничение влияния отраслей промышленности и коммунально-бытового хозяйства на сельское хозяйство (при открытой добыче полезных ископаемых нарушены более 2 млн. га сельхозугодий)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 - поиск и использование новых земель пригодных для сельхозпроизводств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4 - оптимизация использования земельного фонда с точки зрения конечных результат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уществует три способа восстановления сельскохозяйственных земель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ый способ - неполное воспроизводство естественного плодород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торой способ - простое воспроизводство (природоохранный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етий способ - расширенное воспроизводство (природоулучающий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cc"/>
                </a:solidFill>
                <a:latin typeface="Tahoma"/>
              </a:rPr>
              <a:t>Рассмотрим теперь землю с позиций общей экономической теории.</a:t>
            </a:r>
            <a:endParaRPr b="0" lang="en-US" sz="3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качестве средства производства земля (по сравнению с искусственно создаваемыми средствами производства) имеет специфические черты (рассматривая которые важно иметь в виду региональные и географические особенности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-1-х - она продукт Природы (значит, она не имеет стоимости, т.к. нет затраты труда на её создание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-2-х - период естественного восстановления почвенного покрова значительно выше периода искусственного восстановления “обычных” средств производства(сотни лет: на восстановление 2,5 см требуется 300 лет, 20 см - до 5-7 тысяч лет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значит, что земля, требует свербережного отношения к себ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отивном случае всемирный голод неизбеже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8930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3-х – она обладает присущими только ей одной свойствами воспроизводства. При научно-обоснованных подходах возможен значительный рост плодородия земл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4-х - земля совмещает в себе функции предмета и средства труд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5-х - земля на сегодняшний день является незаменимым ресурсо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емельные ресурсы: вывод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чит, отношение к земельным ресурсам предопределяет переход на эколого-экономическую траекторию разви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этого следует, что сохранение природных свойств почв, поддержание и восстановление их плодородия, контроль за качественным состоянием, проведение мероприятий по рациональному использованию и охране являются основными задачами государства в вопросах использования земельного фонд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Лес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21844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чение для экономик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-первых, это важный конструкционный материал для строительного комплекс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-вторых, это основное сырьё для целлюлозно-бумажной промышленност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третьих, - лес используется для производства мебел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Лесные ресурсы – значение для экологии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водорегулирующий - это лес, растущий у истоков рек и по берегам водоемов, а также занимающий те места на водосборах, которые определяют водность данного бассейна. Такой лес регулирует водный сток и защищает водоем от подмыва берег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почвозащитный - естественные или посаженные лесные полосы предназначенные для создания благоприятных климатических условий развития культурных растений и защиты полей от эрозии и пыльных бур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рекреационный - естественный или посаженный, используемый для различных видов отдыха и санаторно-курортного леч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рыбоохранный - естественная или посаженная лесная растительность по берегам водоемов, которая создает необходимые условия для жизни и размножения ценных видов рыб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 России все леса государственного значения делятся на три группы (по различным категориям защищенности)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первая (площадь 20% от всей площади лесов) - леса в населённых пунктах, вдоль рек, трасс и т.д. - вырубка разрешена с согласия федеральных или местных властей;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вторая (10%) - ограниченная эксплуатационной ценностью: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третья (70%) - промышленная вырубка - должны быть неистощимыми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Если всю поверхность нашей планеты принять за 100%, то вода покрывает 71% этой поверхности Земли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этом 96,5% всего объёма гидросферы занимают моря и океаны. Этой воды очень много, но она не пригодна для хозяйственных нуж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развития экономики и биосферы огромное значение имеет пресная вода, потенциал которой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(2,19%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осредоточен в полярных и горных ледниках (1,74%) и в пресных водах рек, озер и болот (0,45%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бщей структуре земельных ресурсов важнейшим компонентом окружающей природной среды и центральным связующим звеном биосферы, обладающим способностью преобразования и накопления солнечной энергии, плодородием, служащим основным источником получения продуктов питания, средой существования растительного и животного мира, базой социально-экономического развития и стратегическим природным ресурсом, являются почв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С точки зрения вовлечения водных ресурсов в хозяйственный оборот следует различать водопользование и водопотребление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ffff"/>
                </a:solidFill>
                <a:uFillTx/>
                <a:latin typeface="Tahoma"/>
              </a:rPr>
              <a:t>Водопользование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 - это порядок, условия и формы использования водных ресурсов, включающее в себя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во-первых, использование водных объектов для удовлетворения любых нужд населения и народного хозяйства; и,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во-вторых, использование воды в хозяйственных или бытовых целях без отвода ее из водотока, путем «пропускания ее через себя" (гидроэлектростанция).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ffff"/>
                </a:solidFill>
                <a:uFillTx/>
                <a:latin typeface="Tahoma"/>
              </a:rPr>
              <a:t>Водопотребление 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- это потребление воды из водного объекта или систем водоснабжения. Различают возвратное (с возвращением забранной воды в водотоки) и безвозвратное водопотребление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Методы «производства» пресной вод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8013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Первый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- опреснение соленой морской воды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граничение - себестоимость опреснения в 100 и более раз выше забора вод из открытых водных систе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торой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- опреснение засолённых пресных подземных во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Факторы,  лимитирующие подземный водозабор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1- неравномерность их распределения по Земл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2 - трудность переработки засоленных пресных вод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 - быстро снижающиеся темпы их естественного возобновления с одновременным ростом глубины залегания водоносных плас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Методы «производства» пресной вод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3628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Третий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- утилизация воды в твёрдой фаз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о-первых - водоотдача горных ледник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о-вторых - транспорт льда из полярных райо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бе эти возможности считаются потенциально негативными по отдалённым экологическим последствия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одное хозяйство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697960" cy="55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Если рассматривать водное хозяйство как отрасль, то её цель -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своевременное удовлетворение потребностей в пресной воде необходимого количества и качеств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75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её материально-техническую базу входят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75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- гидротехнические сооружения (плотины, дамбы и т.д.), т.е. все основные фонды, обеспечивающие потребителей водными ресурсами на данном участке водоснабж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одное хозяйств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- инфраструктура, доставляющая воду потребителям (водопроводы, насосы и т.д.);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- водо-охранные основные фонды (очистные сооружения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чвенная составляющая служит естественным базисом, на котором строится практически вся сельскохозяйственная деятельность человека, поставляющая населению основную массу продовольствия и значительную часть технического сырья для промышленност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брабатываемые земли дают 88% продуктов питания (в энергетическом эквиваленте) для современного человечества, 10% получают с естественных пастбищ и лесных угодий и лишь 2% - из ресурсов Мирового океа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ассматривая землю с "прикладных" экономических позиций отметим, что для экономического развития особую ценность представляют земли сельскохозяйственного назначения, которые занимают примерно треть поверхности суши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свою очередь, все сельхозугодия делятся на пашню (27%), а также пастбища и сенокосы(73%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дельный вес сельскохозяйственных земель различается по странам. Например, в России он составляет 25%, Китае - 40%, Индии -60; США - 53%, Японии - 7%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и проценты зависят в частности от следующих основных фактор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альных потребностей в производстве сельхозпродукци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родно-климатических условий (от среднегодовой температуры - в США она равна +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а в России - +5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среднегодовой величины осадков (в России в зонах со среднегодовым количеством осадков более 700 мм находится 1% пашни, а в США - 60%)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ровня развития сельскохозяйственных технолог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 всём мире как тенденция наблюдается снижение удельного веса пашни. Нивелировать это можно за счёт более высокой урожайности, которая (по зерновым и зернобобовым культурам) в 2000 году составляла (в ц/га): Япония - 60; США - 50; Китай - 40; Россия - 20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Экологизация земельных ресурсов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егодня в России единственный путь к росту социо-эколого-экономической эффективности сельскохозяйственного производства - его экологизация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бычно выделяют четыре направлен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 - борьба с эрозией почв (надо переходить с химических на биотехнолог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4T18:39:14Z</dcterms:created>
  <dc:creator>user</dc:creator>
  <dc:description/>
  <dc:language>en-US</dc:language>
  <cp:lastModifiedBy>LEGION</cp:lastModifiedBy>
  <dcterms:modified xsi:type="dcterms:W3CDTF">2016-01-04T13:41:19Z</dcterms:modified>
  <cp:revision>25</cp:revision>
  <dc:subject/>
  <dc:title>Земельные ресурсы</dc:title>
</cp:coreProperties>
</file>