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50FC-0812-440E-9B23-9A6943980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2CC9-8F0F-47CA-8B67-985D3BABD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B781-F966-479A-9BEA-C46FFD01E9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AE23-5A80-4332-B5B4-49F01F9DA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F07C-FBDF-46F8-A55E-08BC84444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EAA3-FE15-4240-8477-B0990E738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C847-95B1-4994-839D-371721F74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01C8-6148-4ED1-885E-3D42F2AAD6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6937-2E91-45E1-B10E-65C9F8D69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3AF2-9361-4E4B-9578-A3ACECE0D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5826-4F76-430F-A0A8-5C55228BF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8F13-1F30-4137-BF8F-D8258BC9C8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9199-FE2D-45A7-A101-22B6B993C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0E64-76FB-41E8-ABD7-FA6A0CCC4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7E25-0013-4128-ADE7-2ECC1A1F5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52E8-3914-4EC1-9630-CBE3B3EF7F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A7F8-DE46-4D07-9EFB-591FFF12F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481A-2F3B-4462-8F7E-76CBF26B2C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EA31-15B0-4DDC-BCE7-F88F5ACEA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F996-CA15-4178-AC49-F30AC397F4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7F50-AFE3-43CD-8E4E-4014AE83DE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422B-285F-43D1-9DDA-E596CB99C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B3C-F144-4DFE-8CA7-A69CCF7A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6E1-593D-4420-8662-985891EE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EDC-0690-43F6-A6C9-EB1A3BC7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0B0-E5EC-4A18-B9A4-EC905B54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F66-1D3E-4708-AC83-49D48ED1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0C9-57ED-4412-8716-4EAB41C3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443-77B5-46D5-AA1A-06325DA2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CE2-9B61-4D92-A75A-F8FCC1E6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4B0-1178-42EB-AA1C-1763B88D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212-A5F9-4A02-9F24-8DCCCA4D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352-F1E8-4255-9B31-9C4791D3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DAA-B0F4-4385-AEAF-AC7D8A84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96A5-DD38-4B17-B2B0-9EA2413C5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138560" y="3057480"/>
            <a:ext cx="4857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озерцание Вл. Соловьё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мира в древнерусской иконопис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рение в краск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ческие предположения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Трубецкой Е (1)"/>
          <p:cNvPicPr/>
          <p:nvPr/>
        </p:nvPicPr>
        <p:blipFill>
          <a:blip r:embed="rId1"/>
          <a:stretch/>
        </p:blipFill>
        <p:spPr>
          <a:xfrm>
            <a:off x="46656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200"/>
            <a:ext cx="323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опатин (3)"/>
          <p:cNvPicPr/>
          <p:nvPr/>
        </p:nvPicPr>
        <p:blipFill>
          <a:blip r:embed="rId1"/>
          <a:stretch/>
        </p:blipFill>
        <p:spPr>
          <a:xfrm>
            <a:off x="3778200" y="1619280"/>
            <a:ext cx="19717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Трубецкой С (2)"/>
          <p:cNvPicPr/>
          <p:nvPr/>
        </p:nvPicPr>
        <p:blipFill>
          <a:blip r:embed="rId2"/>
          <a:stretch/>
        </p:blipFill>
        <p:spPr>
          <a:xfrm>
            <a:off x="5307120" y="2787480"/>
            <a:ext cx="207648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Трубецкой Е (1)"/>
          <p:cNvPicPr/>
          <p:nvPr/>
        </p:nvPicPr>
        <p:blipFill>
          <a:blip r:embed="rId3"/>
          <a:stretch/>
        </p:blipFill>
        <p:spPr>
          <a:xfrm>
            <a:off x="6837480" y="3957480"/>
            <a:ext cx="1971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Лопат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317840" y="3057480"/>
            <a:ext cx="4570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задачи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2-х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ь умозрительных вопро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й связи как основа умозрительного знания действи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317840" y="3057480"/>
            <a:ext cx="44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в Древней Гре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-189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иде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Логосе в его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Трубецкой С (1)"/>
          <p:cNvPicPr/>
          <p:nvPr/>
        </p:nvPicPr>
        <p:blipFill>
          <a:blip r:embed="rId1"/>
          <a:stretch/>
        </p:blipFill>
        <p:spPr>
          <a:xfrm>
            <a:off x="466560" y="1798560"/>
            <a:ext cx="3627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38:31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37:41Z</dcterms:modified>
  <cp:revision>21</cp:revision>
  <dc:subject>История русской философии - Лекция 8</dc:subject>
  <dc:title>Философы круга В. С. Соловьёва</dc:title>
</cp:coreProperties>
</file>