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5EC9-40B8-46C5-976E-0B2490C55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AD0E-9F07-41CE-96FA-92D9EA539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A4A2-113F-4227-A9B9-ED6B1265D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9982-352E-48CB-9C37-FA902BAB6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8C16-48AC-4976-AEAC-A6CFB872AE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7747-3DC8-4161-9B9B-5228879BA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D63E-D757-4324-B42C-F5429C494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449C-C02F-4A1F-B748-67121A41B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09B3-B0EC-4202-9F44-1F403DCE2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C187-76EA-4A29-B85F-12CFC94687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CF2D-299B-4736-8BFF-F029CE16BB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8EAE-A444-411E-BEE8-88C903AA5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10FD-F68A-48C6-9ACF-8F34B01FF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36EF-8AE4-41CD-AC68-0623241F0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58B7-AC8B-4A79-BE9E-ECF39D75E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603C-0597-43CE-A562-60B43669F6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AF23-BCCC-468E-A101-2E32F371D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D754-4B99-4301-A0D8-FAAA059DE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57E7-FDE3-4307-B6C0-38079D226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332D-DC41-4798-991D-967C908D1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2C40-FCB4-486B-AD91-6A4C26C06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0485-88E1-4AAF-81A6-CCB01B1FE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0A4-D038-48D7-96FD-5CCDDD67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674-957F-47AA-BDEA-6A07455F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16D-1FCB-4ABE-A4E9-67DEDE1F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EEE-91D6-43C1-AC95-C9511720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603-0E2F-4C16-A53D-7BCEE2C5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992-659D-414E-BC79-C75623A2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692-1C8E-4532-9686-BDB19538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3DF-372F-4C0F-BD7D-97428DBD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36B-7BA7-46D7-B57E-D9A049CF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387-47A8-4CA2-99E8-80A4EE76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2D5-D677-47F7-BFB3-81884ED6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4DF-3F61-4D25-BDCF-AE1DBC1D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51FB-FB55-4486-BDE2-981BD8605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138560" y="3057480"/>
            <a:ext cx="4857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озерцание Вл. Соловьё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мира в древнерусской иконопис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рение в краск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ческие предположения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Трубецкой Е (1)"/>
          <p:cNvPicPr/>
          <p:nvPr/>
        </p:nvPicPr>
        <p:blipFill>
          <a:blip r:embed="rId1"/>
          <a:stretch/>
        </p:blipFill>
        <p:spPr>
          <a:xfrm>
            <a:off x="46656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200"/>
            <a:ext cx="323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опатин (3)"/>
          <p:cNvPicPr/>
          <p:nvPr/>
        </p:nvPicPr>
        <p:blipFill>
          <a:blip r:embed="rId1"/>
          <a:stretch/>
        </p:blipFill>
        <p:spPr>
          <a:xfrm>
            <a:off x="3778200" y="1619280"/>
            <a:ext cx="19717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Трубецкой С (2)"/>
          <p:cNvPicPr/>
          <p:nvPr/>
        </p:nvPicPr>
        <p:blipFill>
          <a:blip r:embed="rId2"/>
          <a:stretch/>
        </p:blipFill>
        <p:spPr>
          <a:xfrm>
            <a:off x="5307120" y="2787480"/>
            <a:ext cx="207648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Трубецкой Е (1)"/>
          <p:cNvPicPr/>
          <p:nvPr/>
        </p:nvPicPr>
        <p:blipFill>
          <a:blip r:embed="rId3"/>
          <a:stretch/>
        </p:blipFill>
        <p:spPr>
          <a:xfrm>
            <a:off x="6837480" y="3957480"/>
            <a:ext cx="1971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Лопат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317840" y="3057480"/>
            <a:ext cx="4570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задачи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2-х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ь умозрительных вопро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й связи как основа умозрительного знания действи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317840" y="3057480"/>
            <a:ext cx="44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в Древней Гре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-189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иде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Логосе в его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Трубецкой С (1)"/>
          <p:cNvPicPr/>
          <p:nvPr/>
        </p:nvPicPr>
        <p:blipFill>
          <a:blip r:embed="rId1"/>
          <a:stretch/>
        </p:blipFill>
        <p:spPr>
          <a:xfrm>
            <a:off x="466560" y="1798560"/>
            <a:ext cx="3627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38:31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37:41Z</dcterms:modified>
  <cp:revision>21</cp:revision>
  <dc:subject>История русской философии - Лекция 8</dc:subject>
  <dc:title>Философы круга В. С. Соловьёва</dc:title>
</cp:coreProperties>
</file>