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3F81-77F8-4432-87E1-064692CC5C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9017-ABBC-423E-BCDC-F5A7AE0804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ы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уга В. С. Соловьё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7183-1C73-4702-AADF-052B0E4899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6B35-357F-45FF-BE9C-4EC7A84F44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42B2-87A7-478D-BC38-FFE2192804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D6F2-549B-46F4-AAEB-7947EBC663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C1C7-A950-47A9-B125-59429D28BD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E66F-F30C-44A1-9174-60C5516BAA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B0B3-4193-4821-99D7-5885B2C916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0413-2333-4657-BEED-06BA94470C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32C3-9B64-4791-93AE-12FB451464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орность созн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убъективистских интерпретаций сознания в западной философ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сть с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коллективная функция человеческого 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живой и конкретный универсальный проце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ушевленность Вселенн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универсальной соотносительност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Метафизический социализм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F985-496F-4A1D-A2B0-5E2A80D9CE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Е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. Трубецкой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63-192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D2DF-D899-44CD-8102-87DE92AC97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ы круга В. С. Соловьё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. Лопатин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5-192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62-190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й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63-192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A519-F09E-4133-88A4-36E00A45E2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абсолютного с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Религиозный материализ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ность познавательн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и своб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414B-85EC-48DE-9464-9BCBF9CC57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5137-0572-4925-840E-9ADC2E5FCA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Л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М. Лопатин (1855-1920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онкретный спиритуа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C314-10C8-4AC4-A2F9-1C74F46A2E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 Лопатин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спириту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ведение в философскую систему Л. М. Лоп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пы философских сис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ириту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номен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типы онт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в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ская система Л. М. Лоп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овная субстанция (монада) как базисное онтологическое понят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ричинности как базисный онтологический принцип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: учение о свободе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46C9-74DB-4156-90F9-E8BDE702BD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. Трубецкой (1862-1905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онкретный идеа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8768-BD9F-494A-86DF-EFFC7C1BAF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иде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орность созн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убъективистских интерпретаций сознания в западной философ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сть с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коллективная функция человеческого 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живой и конкретный универсальный проце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ушевлённость Вселенн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универсальной соотносительност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Метафизический социализм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99B8-4496-473F-8D17-6A0B5EA5DE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C7FC-8F19-45D7-ADB1-2D04E133AE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2017-38A4-4D88-AB9E-6E4DCF11DA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C202-F9D5-4F06-B4FF-64F314AA0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866C-FBB7-4B60-97DB-E49090A2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6A22-09FF-4334-BACF-EE96A0B56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42CC-3ADC-4BC1-A391-FE808662F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2B10-68EF-4E25-849F-62A7614F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6C69-9B78-4C45-B9E6-E4EC42BD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18A2-A874-45C9-89F9-B8627CEE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924B-00A5-485A-83CE-C0124B79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6538-E8EC-4CCB-8CC3-1EA04B53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6F64-D174-46A7-A661-F437AB26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DB1A-41DF-46A7-B42D-44FECC0A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EE7B-9AEA-4C29-8102-54FC257A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8EDC-349A-47DB-A1F6-DC5B4BE051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9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28760" y="2499840"/>
            <a:ext cx="82008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ы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руга В. С. Соловьё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 rot="10800000">
            <a:off x="250920" y="1618920"/>
            <a:ext cx="665784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знание обще всем на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то, что я познаю им и в нём объективно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.е. всеобщи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о я признаю истинным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т всех и за всех, не для себя только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актически я по поводу вс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ржу внутри себя собор со всеми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только то для меня истинно, достовер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еобщим и безусловны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должно быть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таковым для всех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аше общее согласие, возмож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диногласие, которое я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сматриваю в своём сознании, есть дл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еня безусловный внутренний критерий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 rot="10800000">
            <a:off x="142560" y="1618920"/>
            <a:ext cx="672948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Я могу ошибаться внутри себ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тносительно всеобщего органическо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гласия – в сложных запутанных вопросах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том, что не для всех очевидно, о чё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щё не состоялось внешнего соглашения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о самая моя ошибка предполагает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веренность в возможности общего согласия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этому каждый может меня обличи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оказать мне моё заблуждение на основани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щепризнанного, –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того, что все</a:t>
            </a:r>
            <a:br>
              <a:rPr sz="1800"/>
            </a:b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внутри меня признают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 бы ни силил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заглушить общий голос, он непогрешим;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 когда я сознаю, что имею его за себ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 смело отвечаю за всех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"/>
          <p:cNvSpPr/>
          <p:nvPr/>
        </p:nvSpPr>
        <p:spPr>
          <a:xfrm>
            <a:off x="719784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431784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143820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431640" y="287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Эмпир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3309840" y="287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цион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431640" y="521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липс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309840" y="521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олирован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2409840" y="1798560"/>
            <a:ext cx="431784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ческая робинзон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1"/>
          <p:cNvSpPr/>
          <p:nvPr/>
        </p:nvSpPr>
        <p:spPr>
          <a:xfrm>
            <a:off x="6189840" y="2878200"/>
            <a:ext cx="251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антиа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2"/>
          <p:cNvSpPr/>
          <p:nvPr/>
        </p:nvSpPr>
        <p:spPr>
          <a:xfrm>
            <a:off x="6189840" y="5218200"/>
            <a:ext cx="251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инаковость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телл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3"/>
          <p:cNvSpPr/>
          <p:nvPr/>
        </p:nvSpPr>
        <p:spPr>
          <a:xfrm>
            <a:off x="97164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ереходит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4"/>
          <p:cNvSpPr/>
          <p:nvPr/>
        </p:nvSpPr>
        <p:spPr>
          <a:xfrm>
            <a:off x="384984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утвержд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5"/>
          <p:cNvSpPr/>
          <p:nvPr/>
        </p:nvSpPr>
        <p:spPr>
          <a:xfrm>
            <a:off x="672948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4680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бъясняет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бщезначи-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м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/>
          <p:cNvSpPr/>
          <p:nvPr/>
        </p:nvSpPr>
        <p:spPr>
          <a:xfrm>
            <a:off x="4317840" y="507348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2590920" y="550548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едовательно, сознани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лективная функц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ческого 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7088040" y="3562200"/>
            <a:ext cx="719280" cy="1258920"/>
          </a:xfrm>
          <a:custGeom>
            <a:avLst/>
            <a:gdLst>
              <a:gd name="textAreaLeft" fmla="*/ 96120 w 719280"/>
              <a:gd name="textAreaRight" fmla="*/ 623160 w 719280"/>
              <a:gd name="textAreaTop" fmla="*/ 220320 h 1258920"/>
              <a:gd name="textAreaBottom" fmla="*/ 91296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1332000" y="3562200"/>
            <a:ext cx="718920" cy="1258920"/>
          </a:xfrm>
          <a:custGeom>
            <a:avLst/>
            <a:gdLst>
              <a:gd name="textAreaLeft" fmla="*/ 96120 w 718920"/>
              <a:gd name="textAreaRight" fmla="*/ 622800 w 718920"/>
              <a:gd name="textAreaTop" fmla="*/ 220320 h 1258920"/>
              <a:gd name="textAreaBottom" fmla="*/ 912960 h 12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4749840" y="2338560"/>
            <a:ext cx="718920" cy="1258560"/>
          </a:xfrm>
          <a:custGeom>
            <a:avLst/>
            <a:gdLst>
              <a:gd name="textAreaLeft" fmla="*/ 96120 w 718920"/>
              <a:gd name="textAreaRight" fmla="*/ 622800 w 718920"/>
              <a:gd name="textAreaTop" fmla="*/ 219960 h 1258560"/>
              <a:gd name="textAreaBottom" fmla="*/ 912600 h 125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3670200" y="2338560"/>
            <a:ext cx="719280" cy="1258560"/>
          </a:xfrm>
          <a:custGeom>
            <a:avLst/>
            <a:gdLst>
              <a:gd name="textAreaLeft" fmla="*/ 96120 w 719280"/>
              <a:gd name="textAreaRight" fmla="*/ 623160 w 719280"/>
              <a:gd name="textAreaTop" fmla="*/ 219960 h 1258560"/>
              <a:gd name="textAreaBottom" fmla="*/ 912600 h 12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611280" y="2841480"/>
            <a:ext cx="3058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и как нечт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гу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ч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5468760" y="2841480"/>
            <a:ext cx="3059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и 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трактно-обще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ойств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ногих инди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2409840" y="161928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еловеческое сознание н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адлежность индиви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2"/>
          <p:cNvSpPr/>
          <p:nvPr/>
        </p:nvSpPr>
        <p:spPr>
          <a:xfrm>
            <a:off x="2050920" y="4065480"/>
            <a:ext cx="5038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Личное, ограниченное сознани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дполагает сознани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щее, коллективное.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"/>
          <p:cNvSpPr/>
          <p:nvPr/>
        </p:nvSpPr>
        <p:spPr>
          <a:xfrm rot="10800000">
            <a:off x="142920" y="1620360"/>
            <a:ext cx="694512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нание человека начинает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 чувственного опыта, показания которо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егда частны и единичны; от эт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астн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учаев единичный субъект лично, сам по себ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имел бы ни психологической возможност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 логического права перейти к чему-л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общему, универсальному и необходимому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ак в действительности это делают все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Логически совершенно непонятно, каки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разом отдельный индивид может знать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 безусловной всеобщей достоверностью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бы то ни было: своё собствен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ествование, бытие внешнего мир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бесконечного времени и пространств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 rot="10800000">
            <a:off x="250920" y="1620360"/>
            <a:ext cx="665784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месте с тем вера каждого человека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реальное существование мира и всех нас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поколебима и вселенски истинна. </a:t>
            </a: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же уполномочивает нас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посредственно признавать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объективность? Что свидетельствует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нас непосредственно об этом реально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всеобщем существовании вещей 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универсальных свойств и качеств?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е сознани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котором я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спринимаю вселенское согласи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 rot="10800000">
            <a:off x="431640" y="1798200"/>
            <a:ext cx="629784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зитивность опыт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.е. восприятие самобытно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зависимой от нас реальности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возможная логичность знан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дполагают коренную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ественную соборность сознания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 логические функци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правленные на позна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го и общег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вышали бы компетенц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уальной личности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ли бы она не заключала в себ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ерхличного начал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"/>
          <p:cNvSpPr/>
          <p:nvPr/>
        </p:nvSpPr>
        <p:spPr>
          <a:xfrm rot="10800000">
            <a:off x="142560" y="1474560"/>
            <a:ext cx="6910200" cy="5146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ждое слово наше доказывает фак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лективного созн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едполагая ег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слова никогда не мыслит человек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олько в форме слов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сль 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ивно обобщается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лов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отвлекаем, образуем, определя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огические универсальные понятия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ами же обособляем и закрепля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дивидуализируем наши представлен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мест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ово есть воплощение собор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зн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бо не было бы слов, если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были непонятны и невнятны для други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незачем и не с кем было говорить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о предполагает органическ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собность взаимного понимания, родов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сихологическое единство; и вместе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полагает говорящих и внимающих люд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орность созн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убъективистских интерпретаций сознания в западной философ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сть с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коллективная функция человеческого 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живой и конкретный универсальный проце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ушевленность Вселенн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универсальной соотносительност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Метафизический социализм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Е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Трубецкой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63-19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4138560" y="3057480"/>
            <a:ext cx="485784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осозерцание Вл. Соловьёв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а мира в древнерусской иконопис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мозрение в красках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ческие предположения позн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жизн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Трубецкой Е (1)"/>
          <p:cNvPicPr/>
          <p:nvPr/>
        </p:nvPicPr>
        <p:blipFill>
          <a:blip r:embed="rId1"/>
          <a:stretch/>
        </p:blipFill>
        <p:spPr>
          <a:xfrm>
            <a:off x="466560" y="1798560"/>
            <a:ext cx="338004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8" name="Text Box 6"/>
          <p:cNvSpPr/>
          <p:nvPr/>
        </p:nvSpPr>
        <p:spPr>
          <a:xfrm>
            <a:off x="4894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ы круга В. С. Соловьё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400" y="1798200"/>
            <a:ext cx="323820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. Лопат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55-19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62-19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 Трубецкой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63-19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Лопатин (3)"/>
          <p:cNvPicPr/>
          <p:nvPr/>
        </p:nvPicPr>
        <p:blipFill>
          <a:blip r:embed="rId1"/>
          <a:stretch/>
        </p:blipFill>
        <p:spPr>
          <a:xfrm>
            <a:off x="3778200" y="1619280"/>
            <a:ext cx="1971720" cy="2521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6" name="Picture 5" descr="Трубецкой С (2)"/>
          <p:cNvPicPr/>
          <p:nvPr/>
        </p:nvPicPr>
        <p:blipFill>
          <a:blip r:embed="rId2"/>
          <a:stretch/>
        </p:blipFill>
        <p:spPr>
          <a:xfrm>
            <a:off x="5307120" y="2787480"/>
            <a:ext cx="2076480" cy="25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7" name="Picture 6" descr="Трубецкой Е (1)"/>
          <p:cNvPicPr/>
          <p:nvPr/>
        </p:nvPicPr>
        <p:blipFill>
          <a:blip r:embed="rId3"/>
          <a:stretch/>
        </p:blipFill>
        <p:spPr>
          <a:xfrm>
            <a:off x="6837480" y="3957480"/>
            <a:ext cx="1971720" cy="25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абсолютного с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Религиозный материализ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ность познавательн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и своб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0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. Лопатин (1855-1920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спириту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Лопатин (3)"/>
          <p:cNvPicPr/>
          <p:nvPr/>
        </p:nvPicPr>
        <p:blipFill>
          <a:blip r:embed="rId1"/>
          <a:stretch/>
        </p:blipFill>
        <p:spPr>
          <a:xfrm>
            <a:off x="539640" y="1798560"/>
            <a:ext cx="338004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1" name="Rectangle 5"/>
          <p:cNvSpPr/>
          <p:nvPr/>
        </p:nvSpPr>
        <p:spPr>
          <a:xfrm>
            <a:off x="4317840" y="3057480"/>
            <a:ext cx="457056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ожительные задачи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в 2-х ч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ласть умозрительных вопрос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ричинной связи как основа умозрительного знания действитель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1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786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 Лопатин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спириту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73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ведение в философскую систему Л. М. Лоп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пы философских сис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ириту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номен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типы онт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в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ская система Л. М. Лоп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овная субстанция (монада) как базисное онтологическое понят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ричинности как базисный онтологический принцип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: учение о свободе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Трубецкой (1862-1905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иде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4317840" y="3057480"/>
            <a:ext cx="44992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 в Древней Грец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природе человеческого позн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9-1891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ания идеализм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е о Логосе в его истор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Трубецкой С (1)"/>
          <p:cNvPicPr/>
          <p:nvPr/>
        </p:nvPicPr>
        <p:blipFill>
          <a:blip r:embed="rId1"/>
          <a:stretch/>
        </p:blipFill>
        <p:spPr>
          <a:xfrm>
            <a:off x="466560" y="1798560"/>
            <a:ext cx="362772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0" name="Text Box 6"/>
          <p:cNvSpPr/>
          <p:nvPr/>
        </p:nvSpPr>
        <p:spPr>
          <a:xfrm>
            <a:off x="4894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орность созн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убъективистских интерпретаций сознания в западной философ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сть с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коллективная функция человеческого 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живой и конкретный универсальный проце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ушевлённость Вселенн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универсальной соотносительност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Метафизический социализм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иде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"/>
          <p:cNvSpPr/>
          <p:nvPr/>
        </p:nvSpPr>
        <p:spPr>
          <a:xfrm>
            <a:off x="3346560" y="3057480"/>
            <a:ext cx="50328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3273480" y="4678200"/>
            <a:ext cx="64764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358920" y="5145120"/>
            <a:ext cx="647856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ое восприят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опыт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крывает нам мир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в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719280" y="3525840"/>
            <a:ext cx="575784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стигает идеи –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м подчинён этот мир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1079640" y="1906560"/>
            <a:ext cx="503856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онкретное единство живых объектов)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ваив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9"/>
          <p:cNvSpPr/>
          <p:nvPr/>
        </p:nvSpPr>
        <p:spPr>
          <a:xfrm>
            <a:off x="6981840" y="503712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2"/>
          <p:cNvSpPr/>
          <p:nvPr/>
        </p:nvSpPr>
        <p:spPr>
          <a:xfrm>
            <a:off x="6908760" y="4954680"/>
            <a:ext cx="733320" cy="1295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1496880" y="4954680"/>
            <a:ext cx="733680" cy="1295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4929120" y="376092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3475080" y="376092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1690560" y="2949480"/>
            <a:ext cx="2698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эмпиризм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диничные вещи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 представ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4749840" y="2949480"/>
            <a:ext cx="269856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рационализм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бщие начала, идеи,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нципы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 пон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531720" y="1935000"/>
            <a:ext cx="1158840" cy="1917720"/>
          </a:xfrm>
          <a:custGeom>
            <a:avLst/>
            <a:gdLst>
              <a:gd name="textAreaLeft" fmla="*/ 155160 w 1158840"/>
              <a:gd name="textAreaRight" fmla="*/ 1003680 w 1158840"/>
              <a:gd name="textAreaTop" fmla="*/ 335520 h 1917720"/>
              <a:gd name="textAreaBottom" fmla="*/ 1390320 h 191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9"/>
          <p:cNvSpPr/>
          <p:nvPr/>
        </p:nvSpPr>
        <p:spPr>
          <a:xfrm>
            <a:off x="7448400" y="1935000"/>
            <a:ext cx="1101960" cy="192276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36240 h 1922760"/>
              <a:gd name="textAreaBottom" fmla="*/ 1393920 h 192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84160" y="4173480"/>
            <a:ext cx="2590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ответственно,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эмпириков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убъе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1"/>
          <p:cNvSpPr/>
          <p:nvPr/>
        </p:nvSpPr>
        <p:spPr>
          <a:xfrm>
            <a:off x="5664240" y="4173480"/>
            <a:ext cx="2590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рационалист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ъе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ниверса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ховное нача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3"/>
          <p:cNvSpPr/>
          <p:nvPr/>
        </p:nvSpPr>
        <p:spPr>
          <a:xfrm>
            <a:off x="1690560" y="1546200"/>
            <a:ext cx="5757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 всех различиях между ними дв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сновных направления западной гносеологии: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эмпиризм и рационализм –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ходятся между собой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ивиз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4"/>
          <p:cNvSpPr/>
          <p:nvPr/>
        </p:nvSpPr>
        <p:spPr>
          <a:xfrm>
            <a:off x="2230560" y="5397480"/>
            <a:ext cx="467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тем, сознание не может бы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безличным, ни единоличны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о более, чем лично –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о собор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1042920" y="3489480"/>
            <a:ext cx="341964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о-первых,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ность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знавательного акта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ключается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отношении ко вне 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му предмету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«трансцендировании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"/>
          <p:cNvSpPr/>
          <p:nvPr/>
        </p:nvSpPr>
        <p:spPr>
          <a:xfrm>
            <a:off x="4678200" y="3489480"/>
            <a:ext cx="341964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о-вторых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який а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тендует на то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бы иметь общее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аже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обязате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611280" y="2230560"/>
            <a:ext cx="1079280" cy="1800000"/>
          </a:xfrm>
          <a:custGeom>
            <a:avLst/>
            <a:gdLst>
              <a:gd name="textAreaLeft" fmla="*/ 144360 w 1079280"/>
              <a:gd name="textAreaRight" fmla="*/ 934920 w 107928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7448400" y="2230560"/>
            <a:ext cx="1079640" cy="180000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1690560" y="1798560"/>
            <a:ext cx="5757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аше познание выводит нас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 пределы нашей индивидуальности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двух отношениях: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08:38:31Z</dcterms:created>
  <dc:creator>Николай Бирюков / Nikolai Biryukov</dc:creator>
  <dc:description>Версия марта 2006 г.</dc:description>
  <dc:language>en-US</dc:language>
  <cp:lastModifiedBy>LEGION</cp:lastModifiedBy>
  <dcterms:modified xsi:type="dcterms:W3CDTF">2014-11-11T12:37:41Z</dcterms:modified>
  <cp:revision>21</cp:revision>
  <dc:subject>История русской философии - Лекция 8</dc:subject>
  <dc:title>Философы круга В. С. Соловьёва</dc:title>
</cp:coreProperties>
</file>