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19B2-D2D3-416F-BB48-C5A50C37A4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918F-9C3E-4842-AABB-FEF77F7642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ы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уга В. С. Соловь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0B7D-65A3-4349-A4C0-FD9B72D627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48E7-18AA-4BDD-8C39-101729D510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CD2D-5F9E-4BD7-AEAF-A45A758B3E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4386-BCB6-444F-8164-4BFFF0B3AD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23BB-89A9-4665-8C70-07ACF35C18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58F7-5608-4F7B-A735-B3890EFC17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265D-AE1D-4803-A06D-954064D5ED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E711-A07B-42CA-8DAC-264428677A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9C44-22C6-4994-A91A-7B53974549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е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5ADD-29A6-40EC-B1DE-ED8B90C5DC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Трубецко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D458-C0DE-463B-9217-5E6785E0C1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ы круга В. С. Соловьё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 Лопат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0E21-6CEF-4714-909E-A6BA7B4BD2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абсолютного с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лигиозный материали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позна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0FDB-2974-449C-BB88-603F53C883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9CAF-37C5-40AF-9182-86DF0C335C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. Лопатин (1855-1920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0055-A4C2-4D3F-AD18-BD1EC365C3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дение в философскую систему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ы философск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ри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номе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нт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в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ая система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ая субстанция (монада) как базисное онтологическое понят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сти как базисный онтологический принци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учение о свободе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D283-A520-4333-ADFD-2D521C0D5C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Трубецкой (1862-1905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B4A7-4DA8-4D70-A3F7-85CC8CFAD8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ё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D6FF-F01B-4426-9D07-372C315610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4A4C-7817-457B-BB61-21D1213661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B8C2-9F73-47AD-8106-1EA7F490C5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EC6-7A80-4A1A-9A77-06777924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56CC-EE5C-4667-BDA8-6FE394E3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F30-42B0-42DC-A773-87EA181D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882F-546D-4208-AC70-DABC3EA1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B8B-098F-4FB1-945B-8143E33B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49FF-9366-40F4-BF8C-E1B76C9F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28B7-1EA1-404A-BF05-3FFF65CB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A091-909F-4A67-A7CB-DDB852D8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F47-B732-4D98-AB29-0408BDFA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CCE7-04DA-4A7F-8175-A4D569B1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41B-D5E6-4222-8104-E5D41FE0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8A9-C961-4D5D-9373-EA87DEC8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882F-AFEF-4167-8C9C-7564708C7F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28760" y="249984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руга В. С. Соловьё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 rot="10800000">
            <a:off x="250920" y="161892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обще всем на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, что я познаю им и в нём объектив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сеобщ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я признаю истинным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 всех и за всех, не для себя тольк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ктически я по поводу вс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ржу внутри себя собор со всеми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лько то для меня истинно, достовер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общим и безусло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олжно быть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таковым для всех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общее согласие, возмож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огласие, которое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сматриваю в своём сознании, есть дл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ня безусловный внутренний критерий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142560" y="1618920"/>
            <a:ext cx="672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 могу ошибаться внутри себ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носительно всеобщего орга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гласия – в сложных запутанных вопроса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том, что не для всех очевидно, о чё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щё не состоялось внешнего соглашен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я моя ошибка предполага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веренность в возможности общего соглас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этому каждый может меня обличи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оказать мне моё заблуждение 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признанного,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того, что все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нутри меня признают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бы ни силил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заглушить общий голос, он непогрешим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 когда я сознаю, что имею его за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смело отвечаю за все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719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431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43820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316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мпи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3098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цио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4316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липс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3098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олир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409840" y="1798560"/>
            <a:ext cx="431784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ая робинзо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6189840" y="287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нти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6189840" y="521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аковост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телл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9716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ереходит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38498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тверж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5"/>
          <p:cNvSpPr/>
          <p:nvPr/>
        </p:nvSpPr>
        <p:spPr>
          <a:xfrm>
            <a:off x="672948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ъясняет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щезначи-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4317840" y="50734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2590920" y="5505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овательно, созна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ая функ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88040" y="3562200"/>
            <a:ext cx="719280" cy="1258920"/>
          </a:xfrm>
          <a:custGeom>
            <a:avLst/>
            <a:gdLst>
              <a:gd name="textAreaLeft" fmla="*/ 96120 w 719280"/>
              <a:gd name="textAreaRight" fmla="*/ 623160 w 71928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332000" y="3562200"/>
            <a:ext cx="718920" cy="1258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4749840" y="2338560"/>
            <a:ext cx="718920" cy="1258560"/>
          </a:xfrm>
          <a:custGeom>
            <a:avLst/>
            <a:gdLst>
              <a:gd name="textAreaLeft" fmla="*/ 96120 w 718920"/>
              <a:gd name="textAreaRight" fmla="*/ 622800 w 71892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3670200" y="2338560"/>
            <a:ext cx="719280" cy="1258560"/>
          </a:xfrm>
          <a:custGeom>
            <a:avLst/>
            <a:gdLst>
              <a:gd name="textAreaLeft" fmla="*/ 96120 w 719280"/>
              <a:gd name="textAreaRight" fmla="*/ 623160 w 71928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611280" y="2841480"/>
            <a:ext cx="3058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не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гу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5468760" y="2841480"/>
            <a:ext cx="30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трактно-обще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ойств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ног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409840" y="16192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еловеческое сознание н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адлежность индив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2050920" y="406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ичное, ограниченн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ет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е, коллективное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 rot="10800000">
            <a:off x="142920" y="1620360"/>
            <a:ext cx="6945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нание человека начин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чувственного опыта, показания котор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гда частны и единичны; от эт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учаев единичный субъект лично, сам по себ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л бы ни психологической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логического права перейти к чему-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му, универсальному и необходимому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в действительности это делают все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огически совершенно непонятно, каки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ом отдельный индивид может зн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безусловной всеобщей достоверностью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бы то ни было: своё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ование, бытие внешнего мир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сконечного времени и 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 rot="10800000">
            <a:off x="250920" y="162036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месте с тем вера каждого человек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еальное существование мира и всех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колебима и вселенски истинна.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же уполномочивает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средственно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объективность? Что свидетельству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нас непосредственно об этом реально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сеобщем существовании вещей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универсальных свойств и качеств?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 сознани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отором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нимаю вселенское соглас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 rot="10800000">
            <a:off x="431640" y="1798200"/>
            <a:ext cx="629784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итивность опыт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осприятие самобыт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зависимой от нас реаль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озможная логичность 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ют коренную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енную соборность сознан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логические функ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ные на позн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об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ышали бы компетенц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уальной лич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ли бы она не заключала в себ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личного начал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 rot="10800000">
            <a:off x="142560" y="1474560"/>
            <a:ext cx="6910200" cy="514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е слово наше доказывает фа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ого 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полагая е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ова никогда не мыслит человек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лько в форме сло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ь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 обобщается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о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влекаем, образуем, опреде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ие универсальные понятия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 же обособляем и закрепля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изируем наши представл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мест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во есть воплощение собор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не было бы слов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были непонятны и невнятны для друг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незачем и не с кем было говорит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о предполагает орган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взаимного понимания, родов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ое единство; и вместе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говорящих и внимающих люд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е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Трубецко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138560" y="3057480"/>
            <a:ext cx="48578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осозерцание Вл. Соловьё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мира в древнерусской иконопис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озрение в краск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ческие предположения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Трубецкой Е (1)"/>
          <p:cNvPicPr/>
          <p:nvPr/>
        </p:nvPicPr>
        <p:blipFill>
          <a:blip r:embed="rId1"/>
          <a:stretch/>
        </p:blipFill>
        <p:spPr>
          <a:xfrm>
            <a:off x="466560" y="1798560"/>
            <a:ext cx="33800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8" name="Text Box 6"/>
          <p:cNvSpPr/>
          <p:nvPr/>
        </p:nvSpPr>
        <p:spPr>
          <a:xfrm>
            <a:off x="4894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ы круга В. С. Соловь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400" y="1798200"/>
            <a:ext cx="323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 Лопат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Трубецко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Лопатин (3)"/>
          <p:cNvPicPr/>
          <p:nvPr/>
        </p:nvPicPr>
        <p:blipFill>
          <a:blip r:embed="rId1"/>
          <a:stretch/>
        </p:blipFill>
        <p:spPr>
          <a:xfrm>
            <a:off x="3778200" y="1619280"/>
            <a:ext cx="1971720" cy="252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5" descr="Трубецкой С (2)"/>
          <p:cNvPicPr/>
          <p:nvPr/>
        </p:nvPicPr>
        <p:blipFill>
          <a:blip r:embed="rId2"/>
          <a:stretch/>
        </p:blipFill>
        <p:spPr>
          <a:xfrm>
            <a:off x="5307120" y="2787480"/>
            <a:ext cx="2076480" cy="25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6" descr="Трубецкой Е (1)"/>
          <p:cNvPicPr/>
          <p:nvPr/>
        </p:nvPicPr>
        <p:blipFill>
          <a:blip r:embed="rId3"/>
          <a:stretch/>
        </p:blipFill>
        <p:spPr>
          <a:xfrm>
            <a:off x="6837480" y="3957480"/>
            <a:ext cx="1971720" cy="25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абсолютного с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лигиозный материали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позна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. Лопатин (1855-1920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Лопатин (3)"/>
          <p:cNvPicPr/>
          <p:nvPr/>
        </p:nvPicPr>
        <p:blipFill>
          <a:blip r:embed="rId1"/>
          <a:stretch/>
        </p:blipFill>
        <p:spPr>
          <a:xfrm>
            <a:off x="539640" y="1798560"/>
            <a:ext cx="33800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Rectangle 5"/>
          <p:cNvSpPr/>
          <p:nvPr/>
        </p:nvSpPr>
        <p:spPr>
          <a:xfrm>
            <a:off x="4317840" y="3057480"/>
            <a:ext cx="45705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е задачи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2-х 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ласть умозрительных вопрос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й связи как основа умозрительного знания действи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1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786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73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дение в философскую систему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ы философск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ри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номе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нт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в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ая система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ая субстанция (монада) как базисное онтологическое понят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сти как базисный онтологический принци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учение о свободе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Трубецкой (1862-1905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4317840" y="3057480"/>
            <a:ext cx="44992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в Древней Грец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природе человеческого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9-1891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ания идеал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Логосе в его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Трубецкой С (1)"/>
          <p:cNvPicPr/>
          <p:nvPr/>
        </p:nvPicPr>
        <p:blipFill>
          <a:blip r:embed="rId1"/>
          <a:stretch/>
        </p:blipFill>
        <p:spPr>
          <a:xfrm>
            <a:off x="466560" y="1798560"/>
            <a:ext cx="3627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4894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ё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334656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327348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358920" y="5145120"/>
            <a:ext cx="647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пыт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вает нам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719280" y="352584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тигает идеи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м подчинён этот мир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079640" y="1906560"/>
            <a:ext cx="503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нкретное единство живых объектов)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аи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6981840" y="503712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6908760" y="4954680"/>
            <a:ext cx="733320" cy="1295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496880" y="4954680"/>
            <a:ext cx="733680" cy="1295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492912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347508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690560" y="2949480"/>
            <a:ext cx="2698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диничные вещи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редст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4749840" y="2949480"/>
            <a:ext cx="2698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щие начала, идеи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нципы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531720" y="1935000"/>
            <a:ext cx="1158840" cy="1917720"/>
          </a:xfrm>
          <a:custGeom>
            <a:avLst/>
            <a:gdLst>
              <a:gd name="textAreaLeft" fmla="*/ 155160 w 1158840"/>
              <a:gd name="textAreaRight" fmla="*/ 1003680 w 1158840"/>
              <a:gd name="textAreaTop" fmla="*/ 335520 h 1917720"/>
              <a:gd name="textAreaBottom" fmla="*/ 1390320 h 191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7448400" y="1935000"/>
            <a:ext cx="1101960" cy="192276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36240 h 1922760"/>
              <a:gd name="textAreaBottom" fmla="*/ 1393920 h 192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8416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ответственно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ков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566424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рационал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ое нач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1690560" y="154620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 всех различиях между ними дв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ных направления западной гносеологии: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зм и рационализм –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ходятся между собой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ивиз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4"/>
          <p:cNvSpPr/>
          <p:nvPr/>
        </p:nvSpPr>
        <p:spPr>
          <a:xfrm>
            <a:off x="2230560" y="539748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тем, сознание не может бы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езличным, ни единоличны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более, чем лично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собо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04292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первых,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ность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навательного акта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ключаетс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тношении ко вне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му предмету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«трансцендирован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467820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вторы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ий а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тендует на т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бы иметь обще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аж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223056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7448400" y="223056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1690560" y="179856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познание выводит нас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 пределы нашей индивидуальности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двух отношениях: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08:38:31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2:37:41Z</dcterms:modified>
  <cp:revision>21</cp:revision>
  <dc:subject>История русской философии - Лекция 8</dc:subject>
  <dc:title>Философы круга В. С. Соловьёва</dc:title>
</cp:coreProperties>
</file>