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E78D-B811-4F89-B7C9-3288B0097B9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. </a:t>
            </a:r>
            <a:br>
              <a:rPr sz="1200"/>
            </a:b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.</a:t>
            </a:r>
            <a:br>
              <a:rPr sz="1200"/>
            </a:b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тегрированный урок обществознания и информационных технологий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9 клас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ба занятости (биржа тру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ый поиск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Анк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бес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ест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лужба занятости (биржа труда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ый поиск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Анке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Собеседовани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естирования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о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Фамилия   Имя   От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от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варн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рма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кц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торгов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сферы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требительски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Товарн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Ярмарк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укцион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торгов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приятия сферы услу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энер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машин и механизмов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факторов производств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сырь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энерги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машин и механизмов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капит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дитн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ценных бума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довые бир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капиталов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Кредитный рынок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анки – учреждения, сосредотачивающие своих руках денежные средства клиентов и предоставляющие займы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ценных бумаг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ондовые биржи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Акции – ценные бумаги, указывающие на принадлежность их собственнику доли в том или ином предприятии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ивиденд – право владельца акции на часть прибыли предприятия.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особый товар – рабочая сила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рабочей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редложение рабочей сил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прос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Заработная плата –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Рабочая сила- физические и умственные возможности, умения, навыки позволяющие человеку выполнять определённые работы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работ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икцио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рыт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- 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E17-8442-4B82-B3F0-1BA4AEDD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D1D7-1539-45BB-8372-DA11E65B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7C89-9EF8-43DC-8327-FE9219FBA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ED7E-4C44-49A9-AE89-C097D6BE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EEDB-7668-4B76-A602-4D234ABD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CAC8-5D98-4F89-B5B9-97C7FA4BE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B129-3EFC-4462-BC57-8DD3A86A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275A-3A59-45BD-ADA8-E3F7AEF8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C561-6CF9-42DF-BA5F-E859C367A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5DF-B002-4A21-B385-7F8AC31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812-F51D-4371-8940-E4C34992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FB0-92F6-4F20-BA1D-D3A48CEA7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500AC-B627-46DF-976D-DE3AE207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E081-EF34-46F3-AC36-CB8F4CCC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74E8-A024-46EF-9DB7-3E8D8C63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B448-7F59-4D3D-9C18-F99B5165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6E7-9A98-4707-89DB-9882741E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F43B-D127-4085-9075-91BD5D57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B2FB-A99C-4177-98EE-3BCB0A99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2505-0663-4658-8723-7553B808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D32-7F7B-4F28-B61B-D521614C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1D87-161D-44D1-9F9A-C2C8F15A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B9E-FDF2-47B2-8DB6-36558F63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DD14-C4B0-48DB-8757-D3281B5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8A58-6726-45A7-B33A-B01A92B71F9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Group 11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AutoShape 12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AutoShape 13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AutoShape 3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73B2-18CF-4478-902B-A3F1EC6ECE2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4572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Инфраструктура рынка.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Рынок труда.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39272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Интегрированный урок обществознания и информационных технологи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9 класс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5195880" y="6550920"/>
            <a:ext cx="327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764640"/>
            <a:ext cx="5673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иск работ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0000" y="2923920"/>
            <a:ext cx="3370320" cy="279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лужба занятости (биржа труд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32000" y="2852640"/>
            <a:ext cx="3924360" cy="28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стоятельный поиск рабо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Резю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Анкет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Собеседовани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Тестирован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987640" y="7617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зюм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6920" y="2781000"/>
            <a:ext cx="6394680" cy="22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кумент, в котором содержаться сведения о работнике: общие сведения, цели поиска работы, образование, опыт работы и др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5"/>
          <p:cNvGrpSpPr/>
          <p:nvPr/>
        </p:nvGrpSpPr>
        <p:grpSpPr>
          <a:xfrm>
            <a:off x="0" y="-378000"/>
            <a:ext cx="571680" cy="343080"/>
            <a:chOff x="0" y="-378000"/>
            <a:chExt cx="571680" cy="343080"/>
          </a:xfrm>
        </p:grpSpPr>
        <p:sp>
          <p:nvSpPr>
            <p:cNvPr id="165" name="AutoShape 6"/>
            <p:cNvSpPr/>
            <p:nvPr/>
          </p:nvSpPr>
          <p:spPr>
            <a:xfrm>
              <a:off x="0" y="-378000"/>
              <a:ext cx="57168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66" name="Text Box 7"/>
          <p:cNvSpPr/>
          <p:nvPr/>
        </p:nvSpPr>
        <p:spPr>
          <a:xfrm>
            <a:off x="179280" y="476280"/>
            <a:ext cx="457200" cy="4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10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то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3492360" y="333360"/>
            <a:ext cx="5372280" cy="62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------------------------------------------------------------------------------------------------------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амилия   Имя   Отчество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-378000"/>
            <a:ext cx="75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89000"/>
          <a:ext cx="754200" cy="1074600"/>
        </p:xfrm>
        <a:graphic>
          <a:graphicData uri="http://schemas.openxmlformats.org/drawingml/2006/table">
            <a:tbl>
              <a:tblPr/>
              <a:tblGrid>
                <a:gridCol w="754200"/>
              </a:tblGrid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Rectangle 18"/>
          <p:cNvSpPr/>
          <p:nvPr/>
        </p:nvSpPr>
        <p:spPr>
          <a:xfrm>
            <a:off x="1403280" y="404640"/>
            <a:ext cx="7416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Rectangle 85"/>
          <p:cNvSpPr/>
          <p:nvPr/>
        </p:nvSpPr>
        <p:spPr>
          <a:xfrm>
            <a:off x="0" y="724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16000" y="836640"/>
          <a:ext cx="7666200" cy="5943600"/>
        </p:xfrm>
        <a:graphic>
          <a:graphicData uri="http://schemas.openxmlformats.org/drawingml/2006/table">
            <a:tbl>
              <a:tblPr/>
              <a:tblGrid>
                <a:gridCol w="2473200"/>
                <a:gridCol w="5193000"/>
              </a:tblGrid>
              <a:tr h="45972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ведения о себ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Место рожд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онтактные телефон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Е-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mail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емейное положе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Цели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ожидаемые должности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знания, навыки, ум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Опыт работы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(за последние 5 ле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полнительные сведения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читаю себ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ессиональные кач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Рынок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фический способ организации экономической деятельности, где хозяйственные отношения между людьми выступают как отношения между товарами, причём между производителями и потребителями нет никаких промежуточных планирующих, управляющих и других административных учреждений, а всеобщим эквивалентом является товар особого рода – деньг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836280"/>
            <a:ext cx="6321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Инфраструктура рын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3505320" y="2514600"/>
            <a:ext cx="2438280" cy="99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Oval 14"/>
          <p:cNvSpPr/>
          <p:nvPr/>
        </p:nvSpPr>
        <p:spPr>
          <a:xfrm>
            <a:off x="1042920" y="4076640"/>
            <a:ext cx="1873440" cy="10810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1" action="ppaction://hlinksldjump"/>
              </a:rPr>
              <a:t>Потребительский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2" action="ppaction://hlinksldjump"/>
              </a:rPr>
              <a:t> 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2987640" y="4869000"/>
            <a:ext cx="173664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3" action="ppaction://hlinksldjump"/>
              </a:rPr>
              <a:t>Рынок фактор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4" action="ppaction://hlinksldjump"/>
              </a:rPr>
              <a:t> производств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003640" y="4797360"/>
            <a:ext cx="172908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5" action="ppaction://hlinksldjump"/>
              </a:rPr>
              <a:t>Рынок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333399"/>
                </a:solidFill>
                <a:uFillTx/>
                <a:latin typeface="Times New Roman"/>
                <a:hlinkClick r:id="rId6" action="ppaction://hlinksldjump"/>
              </a:rPr>
              <a:t> капиталов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6804000" y="4292640"/>
            <a:ext cx="1944720" cy="91440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Рынок</a:t>
            </a: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труд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Line 19"/>
          <p:cNvSpPr/>
          <p:nvPr/>
        </p:nvSpPr>
        <p:spPr>
          <a:xfrm flipH="1">
            <a:off x="3809520" y="3505320"/>
            <a:ext cx="381240" cy="1295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Line 20"/>
          <p:cNvSpPr/>
          <p:nvPr/>
        </p:nvSpPr>
        <p:spPr>
          <a:xfrm>
            <a:off x="5364000" y="3500280"/>
            <a:ext cx="38124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2050920" y="3284640"/>
            <a:ext cx="1441440" cy="7668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Line 23"/>
          <p:cNvSpPr/>
          <p:nvPr/>
        </p:nvSpPr>
        <p:spPr>
          <a:xfrm>
            <a:off x="5940360" y="3213000"/>
            <a:ext cx="172728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86920" y="692280"/>
            <a:ext cx="7007400" cy="122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требительский рыно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79640" y="2708280"/>
            <a:ext cx="56167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варные бирж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Ярмарк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укцион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торгов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едприятия сферы услу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451640" y="63817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560" y="764640"/>
            <a:ext cx="7713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факторов производств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14240" y="2514600"/>
            <a:ext cx="5729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зем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сырь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энерг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ынок машин и механизмов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7667640" y="61657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24000" y="836280"/>
            <a:ext cx="4594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капитал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420640"/>
            <a:ext cx="33703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Кредитный рынок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анки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учреждения, сосредотачивающие своих руках денежные средства клиентов и предоставляющие займ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32360" y="2421000"/>
            <a:ext cx="35640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Рынок ценных бума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ндовые бирж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Акци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ценные бумаги, указывающие на принадлежность их собственнику доли в том или ином предприят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Дивиденд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 право владельца акции на часть прибыли предприяти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826920" y="63086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Назад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52419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ынок труд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285264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истема общественных механизмов, при которых одни члены общества (работники) имеют возможности найти работу, а другие- работодатели- могут нанять работников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 рынке труда продается и покупается </a:t>
            </a:r>
            <a:r>
              <a:rPr b="0" lang="ru-RU" sz="2800" spc="-1" strike="noStrike" u="sng">
                <a:solidFill>
                  <a:srgbClr val="003366"/>
                </a:solidFill>
                <a:uFillTx/>
                <a:latin typeface="Times New Roman"/>
              </a:rPr>
              <a:t>особый товар – рабочая сил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19280" y="2361960"/>
            <a:ext cx="39243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PE01838_"/>
          <p:cNvPicPr/>
          <p:nvPr/>
        </p:nvPicPr>
        <p:blipFill>
          <a:blip r:embed="rId1"/>
          <a:stretch/>
        </p:blipFill>
        <p:spPr>
          <a:xfrm>
            <a:off x="762120" y="2362320"/>
            <a:ext cx="2209680" cy="2119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BD07153_"/>
          <p:cNvPicPr/>
          <p:nvPr/>
        </p:nvPicPr>
        <p:blipFill>
          <a:blip r:embed="rId2"/>
          <a:stretch/>
        </p:blipFill>
        <p:spPr>
          <a:xfrm>
            <a:off x="7497720" y="5056200"/>
            <a:ext cx="1646280" cy="180180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2484360" y="3573360"/>
            <a:ext cx="5639040" cy="16970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Line 7"/>
          <p:cNvSpPr/>
          <p:nvPr/>
        </p:nvSpPr>
        <p:spPr>
          <a:xfrm flipH="1" flipV="1">
            <a:off x="1547280" y="4508280"/>
            <a:ext cx="6039000" cy="18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WordArt 10"/>
          <p:cNvSpPr txBox="1"/>
          <p:nvPr/>
        </p:nvSpPr>
        <p:spPr>
          <a:xfrm rot="1024200">
            <a:off x="2851200" y="3230640"/>
            <a:ext cx="5197320" cy="11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65e00"/>
                    </a:gs>
                    <a:gs pos="50000">
                      <a:srgbClr val="ffcc00"/>
                    </a:gs>
                    <a:gs pos="100000">
                      <a:srgbClr val="765e00"/>
                    </a:gs>
                  </a:gsLst>
                  <a:lin ang="16794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Times New Roman"/>
              </a:rPr>
              <a:t>Предложение рабочей силы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65e00"/>
                  </a:gs>
                  <a:gs pos="50000">
                    <a:srgbClr val="ffcc00"/>
                  </a:gs>
                  <a:gs pos="100000">
                    <a:srgbClr val="765e00"/>
                  </a:gs>
                </a:gsLst>
                <a:lin ang="16794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11"/>
          <p:cNvSpPr txBox="1"/>
          <p:nvPr/>
        </p:nvSpPr>
        <p:spPr>
          <a:xfrm rot="1068600">
            <a:off x="3924000" y="4652640"/>
            <a:ext cx="1981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76"/>
                    </a:gs>
                    <a:gs pos="50000">
                      <a:srgbClr val="0000ff"/>
                    </a:gs>
                    <a:gs pos="100000">
                      <a:srgbClr val="000076"/>
                    </a:gs>
                  </a:gsLst>
                  <a:lin ang="552000"/>
                </a:gra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спро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76"/>
                  </a:gs>
                  <a:gs pos="50000">
                    <a:srgbClr val="0000ff"/>
                  </a:gs>
                  <a:gs pos="100000">
                    <a:srgbClr val="000076"/>
                  </a:gs>
                </a:gsLst>
                <a:lin ang="552000"/>
              </a:gra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1219320" y="5486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826920" y="5084640"/>
            <a:ext cx="27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Заработная плата</a:t>
            </a:r>
            <a:r>
              <a:rPr b="1" lang="ru-RU" sz="1600" spc="-1" strike="noStrike">
                <a:solidFill>
                  <a:srgbClr val="003366"/>
                </a:solidFill>
                <a:latin typeface="Times New Roman"/>
              </a:rPr>
              <a:t> –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величина денежного вознаграждения, которое выплачивает работодатель работнику за выполнение определенного объема работ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6084720" y="2421000"/>
            <a:ext cx="2880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3366"/>
                </a:solidFill>
                <a:uFillTx/>
                <a:latin typeface="Times New Roman"/>
              </a:rPr>
              <a:t>Рабочая сила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физические и умственные возможности, умения, навыки позволяющие человеку выполнять определённые работы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Безработица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2997000"/>
            <a:ext cx="3673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такая ситуация в экономике, при  которой часть способных и желающих трудиться людей не могут найти работу, соответствующую их способностя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Oval 6"/>
          <p:cNvSpPr/>
          <p:nvPr/>
        </p:nvSpPr>
        <p:spPr>
          <a:xfrm>
            <a:off x="5940360" y="2781360"/>
            <a:ext cx="1656000" cy="7207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безработица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Oval 7"/>
          <p:cNvSpPr/>
          <p:nvPr/>
        </p:nvSpPr>
        <p:spPr>
          <a:xfrm>
            <a:off x="4788000" y="4038480"/>
            <a:ext cx="1384200" cy="90324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фрикцион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Oval 9"/>
          <p:cNvSpPr/>
          <p:nvPr/>
        </p:nvSpPr>
        <p:spPr>
          <a:xfrm>
            <a:off x="5435640" y="5157720"/>
            <a:ext cx="1359000" cy="9352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труктурн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Oval 10"/>
          <p:cNvSpPr/>
          <p:nvPr/>
        </p:nvSpPr>
        <p:spPr>
          <a:xfrm>
            <a:off x="6948360" y="5157720"/>
            <a:ext cx="1511280" cy="92088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циклическ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7543800" y="4038480"/>
            <a:ext cx="1349280" cy="830520"/>
          </a:xfrm>
          <a:prstGeom prst="ellipse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скрытая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Line 12"/>
          <p:cNvSpPr/>
          <p:nvPr/>
        </p:nvSpPr>
        <p:spPr>
          <a:xfrm flipH="1">
            <a:off x="5651640" y="3500280"/>
            <a:ext cx="474480" cy="505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Line 14"/>
          <p:cNvSpPr/>
          <p:nvPr/>
        </p:nvSpPr>
        <p:spPr>
          <a:xfrm flipH="1">
            <a:off x="6227280" y="3645000"/>
            <a:ext cx="320760" cy="14191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Line 15"/>
          <p:cNvSpPr/>
          <p:nvPr/>
        </p:nvSpPr>
        <p:spPr>
          <a:xfrm>
            <a:off x="7238880" y="3505320"/>
            <a:ext cx="914400" cy="5331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Line 18"/>
          <p:cNvSpPr/>
          <p:nvPr/>
        </p:nvSpPr>
        <p:spPr>
          <a:xfrm>
            <a:off x="6877080" y="3645000"/>
            <a:ext cx="503280" cy="143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2936880" y="6527160"/>
            <a:ext cx="28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07:03:14Z</dcterms:created>
  <dc:creator>Ивановец</dc:creator>
  <dc:description/>
  <dc:language>en-US</dc:language>
  <cp:lastModifiedBy>LEGION</cp:lastModifiedBy>
  <dcterms:modified xsi:type="dcterms:W3CDTF">2016-01-04T13:41:26Z</dcterms:modified>
  <cp:revision>27</cp:revision>
  <dc:subject/>
  <dc:title>Инфраструктура рынка</dc:title>
</cp:coreProperties>
</file>