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4CF12-AC8B-40AF-A25D-78AFD4DB463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рынк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труд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грированный урок обществознания и информационных технолог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Инфраструктура рынка. </a:t>
            </a:r>
            <a:br>
              <a:rPr sz="1200"/>
            </a:b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 труда.</a:t>
            </a: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Интегрированный урок обществознания и информационных технологий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9 класс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иск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жба занятости (биржа труд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езю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Анк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обес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Тестир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ый поиск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езю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Анк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обес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Тестир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Поиск работ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Служба занятости (биржа труда)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- Резюме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- Анкет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- Собеседовани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- Тестирования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Самостоятельный поиск работ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- Резюме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- Анкет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- Собеседовани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- Тестирования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ю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умент, в котором содержаться сведения о работнике: общие сведения, цели поиска работы, образование, опыт работы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езюме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Документ, в котором содержаться сведения о работнике: общие сведения, цели поиска работы, образование, опыт работы и др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фо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Фамилия   Имя   Отч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uk-UA" sz="1200" spc="-1" strike="noStrike">
                <a:solidFill>
                  <a:srgbClr val="003366"/>
                </a:solidFill>
                <a:latin typeface="Times New Roman"/>
              </a:rPr>
              <a:t>фото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Times New Roman"/>
              </a:rPr>
              <a:t>------------------------------------------------------------------------------------------------------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Times New Roman"/>
              </a:rPr>
              <a:t>Фамилия   Имя   Отчество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фический способ организации экономической деятельности, где хозяйственные отношения между людьми выступают как отношения между товарами, причём между производителями и потребителями нет никаких промежуточных планирующих, управляющих и других административных учреждений, а всеобщим эквивалентом является товар особого рода – день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Специфический способ организации экономической деятельности, где хозяйственные отношения между людьми выступают как отношения между товарами, причём между производителями и потребителями нет никаких промежуточных планирующих, управляющих и других административных учреждений, а всеобщим эквивалентом является товар особого рода – деньги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итель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факт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Инфраструктура рынк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Потребительский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 факторов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производств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капиталов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труд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ительский 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ные бирж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рмар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укци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я торгов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я сферы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Потребительский рынок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Товарные биржи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Ярмарки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Аукцион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Предприятия торговли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Предприятия сферы услуг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Назад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зем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сыр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энер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машин и механизмов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 факторов производств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 земли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 сырь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 энергии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 машин и механизмов 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Назад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капита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ный 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и – учреждения, сосредотачивающие своих руках денежные средства клиентов и предоставляющие зай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ндовые бирж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и – ценные бумаги, указывающие на принадлежность их собственнику доли в том или ином предприят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виденд – право владельца акции на часть прибыли предприят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 капиталов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Кредитный рынок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Банки – учреждения, сосредотачивающие своих руках денежные средства клиентов и предоставляющие займы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 ценных бумаг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Фондовые биржи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Акции – ценные бумаги, указывающие на принадлежность их собственнику доли в том или ином предприятии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Дивиденд – право владельца акции на часть прибыли предприятия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Назад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общественных механизмов, при которых одни члены общества (работники) имеют возможности найти работу, а другие- работодатели- могут нанять работ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рынке труда продается и покупается особый товар – рабочая си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 труд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Система общественных механизмов, при которых одни члены общества (работники) имеют возможности найти работу, а другие- работодатели- могут нанять работников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На рынке труда продается и покупается особый товар – рабочая сила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ие рабочей си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аботная плата – величина денежного вознаграждения, которое выплачивает работодатель работнику за выполнение определенного объема рабо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чая сила- физические и умственные возможности, умения, навыки позволяющие человеку выполнять определённые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Предложение рабочей сил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спрос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Заработная плата – величина денежного вознаграждения, которое выплачивает работодатель работнику за выполнение определенного объема работ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абочая сила- физические и умственные возможности, умения, навыки позволяющие человеку выполнять определённые работ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работ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такая ситуация в экономике, при  которой часть способных и желающих трудиться людей не могут найти работу, соответствующую их способност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работ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икцио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икл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рыт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Безработиц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- такая ситуация в экономике, при  которой часть способных и желающих трудиться людей не могут найти работу, соответствующую их способностям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безработиц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фрикционна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структурна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циклическа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скрыта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88F5-27B2-42D2-A759-DBB2476F2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F909-8786-413B-9323-EABE10401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445B-F97D-4313-9C7F-56607CCE9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B0B0-5D6A-4EE4-9543-8A730B5C1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BFA67-F2CF-4A3B-9AD2-A96477962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A6DE7-209B-45A7-8AA2-194DB0081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E394C-5AB6-4E28-820D-4054B0949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3039D-0EFF-435F-B1D1-D7B7363AF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68EC9-EF58-4A0A-9F12-79B42D532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9EE95-4F8D-43E0-9907-ACDA6D051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8C133-F82A-4D3B-B51F-B1F9017E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C9A2-6A64-4E81-B327-6BA44E8C9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1F4A1-50B2-4976-B474-A0F15135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64C19-6CD6-4A81-A635-5F2D9518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C210B-F07A-4AC9-9127-3BD80A819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8B775-BC84-4884-B158-136A6A54A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8C604-753E-4451-AB73-1969B3578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806B-62C9-422D-BBDB-59610AD2B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9967-E0B9-4F7E-A287-7CBC26D5F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B5C4-804C-40E6-ACD1-AEE2B9D79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FB52-B3A1-412F-9927-008D5C446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CF2A-D999-4F06-9E79-86057458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BC14-23BF-4864-846E-E48EDEF8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B3A5-53FC-4E7E-AE77-83E70D28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C04BD-D6BF-4048-B421-DCF4CF797155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1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AutoShape 13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42F65-26B3-4CCF-829D-39A8429490E1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-457200"/>
            <a:ext cx="815328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Инфраструктура рынка. </a:t>
            </a:r>
            <a:br>
              <a:rPr sz="3600"/>
            </a:b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Рынок труда.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39272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Интегрированный урок обществознания и информационных технологий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9 клас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5195880" y="6550920"/>
            <a:ext cx="327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63280" y="764640"/>
            <a:ext cx="5673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иск работ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00000" y="2923920"/>
            <a:ext cx="3370320" cy="27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лужба занятости (биржа труда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Резюм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Анкет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Собеседова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Тестирования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32000" y="2852640"/>
            <a:ext cx="3924360" cy="28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амостоятельный поиск работ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Резюм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Анкет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Собеседова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Тестирования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2936880" y="65271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987640" y="761760"/>
            <a:ext cx="4392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езюм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6920" y="2781000"/>
            <a:ext cx="6394680" cy="22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окумент, в котором содержаться сведения о работнике: общие сведения, цели поиска работы, образование, опыт работы и др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2936880" y="65271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5"/>
          <p:cNvGrpSpPr/>
          <p:nvPr/>
        </p:nvGrpSpPr>
        <p:grpSpPr>
          <a:xfrm>
            <a:off x="0" y="-378000"/>
            <a:ext cx="571680" cy="343080"/>
            <a:chOff x="0" y="-378000"/>
            <a:chExt cx="571680" cy="343080"/>
          </a:xfrm>
        </p:grpSpPr>
        <p:sp>
          <p:nvSpPr>
            <p:cNvPr id="165" name="AutoShape 6"/>
            <p:cNvSpPr/>
            <p:nvPr/>
          </p:nvSpPr>
          <p:spPr>
            <a:xfrm>
              <a:off x="0" y="-378000"/>
              <a:ext cx="5716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66" name="Text Box 7"/>
          <p:cNvSpPr/>
          <p:nvPr/>
        </p:nvSpPr>
        <p:spPr>
          <a:xfrm>
            <a:off x="179280" y="476280"/>
            <a:ext cx="457200" cy="44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ru-RU" sz="1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фото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492360" y="333360"/>
            <a:ext cx="5372280" cy="62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-----------------------------------------------------------------------------------------------------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Фамилия   Имя   Отчество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0" y="-378000"/>
            <a:ext cx="754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0" y="189000"/>
          <a:ext cx="754200" cy="1074600"/>
        </p:xfrm>
        <a:graphic>
          <a:graphicData uri="http://schemas.openxmlformats.org/drawingml/2006/table">
            <a:tbl>
              <a:tblPr/>
              <a:tblGrid>
                <a:gridCol w="754200"/>
              </a:tblGrid>
              <a:tr h="107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Rectangle 18"/>
          <p:cNvSpPr/>
          <p:nvPr/>
        </p:nvSpPr>
        <p:spPr>
          <a:xfrm>
            <a:off x="1403280" y="404640"/>
            <a:ext cx="741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Rectangle 85"/>
          <p:cNvSpPr/>
          <p:nvPr/>
        </p:nvSpPr>
        <p:spPr>
          <a:xfrm>
            <a:off x="0" y="724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116000" y="836640"/>
          <a:ext cx="7666200" cy="5943600"/>
        </p:xfrm>
        <a:graphic>
          <a:graphicData uri="http://schemas.openxmlformats.org/drawingml/2006/table">
            <a:tbl>
              <a:tblPr/>
              <a:tblGrid>
                <a:gridCol w="2473200"/>
                <a:gridCol w="5193000"/>
              </a:tblGrid>
              <a:tr h="45972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ведения о себе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ата рожд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Место рожд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Контактные телефон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Е-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ail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емейное положе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Цели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(ожидаемые должности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рофессиональные знания, навыки, ум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Опыт работы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(за последние 5 лет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ополнительные сведения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читаю себ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рофессиональные кач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Місце для нижнього колонтитула 1"/>
          <p:cNvSpPr/>
          <p:nvPr/>
        </p:nvSpPr>
        <p:spPr>
          <a:xfrm>
            <a:off x="2936880" y="65271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Arial"/>
              </a:rPr>
              <a:t>Рынок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пецифический способ организации экономической деятельности, где хозяйственные отношения между людьми выступают как отношения между товарами, причём между производителями и потребителями нет никаких промежуточных планирующих, управляющих и других административных учреждений, а всеобщим эквивалентом является товар особого рода – деньг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2936880" y="65271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03280" y="836280"/>
            <a:ext cx="6321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Инфраструктура рын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Oval 13"/>
          <p:cNvSpPr/>
          <p:nvPr/>
        </p:nvSpPr>
        <p:spPr>
          <a:xfrm>
            <a:off x="3505320" y="2514600"/>
            <a:ext cx="2438280" cy="990720"/>
          </a:xfrm>
          <a:prstGeom prst="ellipse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Рынок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Oval 14"/>
          <p:cNvSpPr/>
          <p:nvPr/>
        </p:nvSpPr>
        <p:spPr>
          <a:xfrm>
            <a:off x="1042920" y="4076640"/>
            <a:ext cx="1873440" cy="1081080"/>
          </a:xfrm>
          <a:prstGeom prst="ellipse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99"/>
                </a:solidFill>
                <a:uFillTx/>
                <a:latin typeface="Times New Roman"/>
                <a:hlinkClick r:id="rId1" action="ppaction://hlinksldjump"/>
              </a:rPr>
              <a:t>Потребительский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99"/>
                </a:solidFill>
                <a:uFillTx/>
                <a:latin typeface="Times New Roman"/>
                <a:hlinkClick r:id="rId2" action="ppaction://hlinksldjump"/>
              </a:rPr>
              <a:t> рынок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Oval 16"/>
          <p:cNvSpPr/>
          <p:nvPr/>
        </p:nvSpPr>
        <p:spPr>
          <a:xfrm>
            <a:off x="2987640" y="4869000"/>
            <a:ext cx="1736640" cy="914400"/>
          </a:xfrm>
          <a:prstGeom prst="ellipse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99"/>
                </a:solidFill>
                <a:uFillTx/>
                <a:latin typeface="Times New Roman"/>
                <a:hlinkClick r:id="rId3" action="ppaction://hlinksldjump"/>
              </a:rPr>
              <a:t>Рынок факторов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99"/>
                </a:solidFill>
                <a:uFillTx/>
                <a:latin typeface="Times New Roman"/>
                <a:hlinkClick r:id="rId4" action="ppaction://hlinksldjump"/>
              </a:rPr>
              <a:t> производства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Oval 17"/>
          <p:cNvSpPr/>
          <p:nvPr/>
        </p:nvSpPr>
        <p:spPr>
          <a:xfrm>
            <a:off x="5003640" y="4797360"/>
            <a:ext cx="1729080" cy="914400"/>
          </a:xfrm>
          <a:prstGeom prst="ellipse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99"/>
                </a:solidFill>
                <a:uFillTx/>
                <a:latin typeface="Times New Roman"/>
                <a:hlinkClick r:id="rId5" action="ppaction://hlinksldjump"/>
              </a:rPr>
              <a:t>Рынок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99"/>
                </a:solidFill>
                <a:uFillTx/>
                <a:latin typeface="Times New Roman"/>
                <a:hlinkClick r:id="rId6" action="ppaction://hlinksldjump"/>
              </a:rPr>
              <a:t> капиталов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Oval 18"/>
          <p:cNvSpPr/>
          <p:nvPr/>
        </p:nvSpPr>
        <p:spPr>
          <a:xfrm>
            <a:off x="6804000" y="4292640"/>
            <a:ext cx="1944720" cy="914400"/>
          </a:xfrm>
          <a:prstGeom prst="ellipse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Рынок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труда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Line 19"/>
          <p:cNvSpPr/>
          <p:nvPr/>
        </p:nvSpPr>
        <p:spPr>
          <a:xfrm flipH="1">
            <a:off x="3809520" y="3505320"/>
            <a:ext cx="381240" cy="12952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Line 20"/>
          <p:cNvSpPr/>
          <p:nvPr/>
        </p:nvSpPr>
        <p:spPr>
          <a:xfrm>
            <a:off x="5364000" y="3500280"/>
            <a:ext cx="381240" cy="1295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Line 22"/>
          <p:cNvSpPr/>
          <p:nvPr/>
        </p:nvSpPr>
        <p:spPr>
          <a:xfrm flipH="1">
            <a:off x="2050920" y="3284640"/>
            <a:ext cx="1441440" cy="7668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Line 23"/>
          <p:cNvSpPr/>
          <p:nvPr/>
        </p:nvSpPr>
        <p:spPr>
          <a:xfrm>
            <a:off x="5940360" y="3213000"/>
            <a:ext cx="1727280" cy="10080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2936880" y="65271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86920" y="692280"/>
            <a:ext cx="7007400" cy="122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требительский рынок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79640" y="2708280"/>
            <a:ext cx="56167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оварные бирж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Ярмарк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Аукцион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едприятия торговл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едприятия сферы услуг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7451640" y="63817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Назад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2936880" y="65271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6560" y="764640"/>
            <a:ext cx="7713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ынок факторов производств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14240" y="2514600"/>
            <a:ext cx="5729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ынок земл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ынок сырь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ынок энерги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ынок машин и механизмов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7667640" y="61657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Назад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2936880" y="65271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24000" y="836280"/>
            <a:ext cx="4594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ынок капиталов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42920" y="2420640"/>
            <a:ext cx="33703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Кредитный рынок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Банки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– учреждения, сосредотачивающие своих руках денежные средства клиентов и предоставляющие займы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32360" y="2421000"/>
            <a:ext cx="3564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Рынок ценных бумаг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Фондовые бирж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Акции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– ценные бумаги, указывающие на принадлежность их собственнику доли в том или ином предприяти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Дивиденд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– право владельца акции на часть прибыли предприятия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826920" y="63086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Назад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2936880" y="65271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47280" y="691920"/>
            <a:ext cx="5241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ынок труд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99640" y="285264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Система общественных механизмов, при которых одни члены общества (работники) имеют возможности найти работу, а другие- работодатели- могут нанять работник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На рынке труда продается и покупается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Times New Roman"/>
              </a:rPr>
              <a:t>особый товар – рабочая сил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192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2936880" y="65271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PE01838_"/>
          <p:cNvPicPr/>
          <p:nvPr/>
        </p:nvPicPr>
        <p:blipFill>
          <a:blip r:embed="rId1"/>
          <a:stretch/>
        </p:blipFill>
        <p:spPr>
          <a:xfrm>
            <a:off x="762120" y="2362320"/>
            <a:ext cx="2209680" cy="21193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BD07153_"/>
          <p:cNvPicPr/>
          <p:nvPr/>
        </p:nvPicPr>
        <p:blipFill>
          <a:blip r:embed="rId2"/>
          <a:stretch/>
        </p:blipFill>
        <p:spPr>
          <a:xfrm>
            <a:off x="7497720" y="5056200"/>
            <a:ext cx="1646280" cy="1801800"/>
          </a:xfrm>
          <a:prstGeom prst="rect">
            <a:avLst/>
          </a:prstGeom>
          <a:ln w="0">
            <a:noFill/>
          </a:ln>
        </p:spPr>
      </p:pic>
      <p:sp>
        <p:nvSpPr>
          <p:cNvPr id="137" name="Line 6"/>
          <p:cNvSpPr/>
          <p:nvPr/>
        </p:nvSpPr>
        <p:spPr>
          <a:xfrm>
            <a:off x="2484360" y="3573360"/>
            <a:ext cx="5639040" cy="16970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Line 7"/>
          <p:cNvSpPr/>
          <p:nvPr/>
        </p:nvSpPr>
        <p:spPr>
          <a:xfrm flipH="1" flipV="1">
            <a:off x="1547280" y="4508280"/>
            <a:ext cx="6039000" cy="18730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WordArt 10"/>
          <p:cNvSpPr txBox="1"/>
          <p:nvPr/>
        </p:nvSpPr>
        <p:spPr>
          <a:xfrm rot="1024200">
            <a:off x="2851200" y="3230640"/>
            <a:ext cx="5197320" cy="11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5e00"/>
                    </a:gs>
                    <a:gs pos="50000">
                      <a:srgbClr val="ffcc00"/>
                    </a:gs>
                    <a:gs pos="100000">
                      <a:srgbClr val="765e00"/>
                    </a:gs>
                  </a:gsLst>
                  <a:lin ang="16794000"/>
                </a:gradFill>
                <a:effectLst>
                  <a:outerShdw dist="17819" dir="2700000" blurRad="0" rotWithShape="0">
                    <a:srgbClr val="ffffff"/>
                  </a:outerShdw>
                </a:effectLst>
                <a:latin typeface="Times New Roman"/>
              </a:rPr>
              <a:t>Предложение рабочей силы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65e00"/>
                  </a:gs>
                  <a:gs pos="50000">
                    <a:srgbClr val="ffcc00"/>
                  </a:gs>
                  <a:gs pos="100000">
                    <a:srgbClr val="765e00"/>
                  </a:gs>
                </a:gsLst>
                <a:lin ang="16794000"/>
              </a:gradFill>
              <a:effectLst>
                <a:outerShdw dist="17819" dir="2700000" blurRad="0" rotWithShape="0">
                  <a:srgbClr val="ffff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0" name="WordArt 11"/>
          <p:cNvSpPr txBox="1"/>
          <p:nvPr/>
        </p:nvSpPr>
        <p:spPr>
          <a:xfrm rot="1068600">
            <a:off x="3924000" y="4652640"/>
            <a:ext cx="1981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76"/>
                    </a:gs>
                    <a:gs pos="50000">
                      <a:srgbClr val="0000ff"/>
                    </a:gs>
                    <a:gs pos="100000">
                      <a:srgbClr val="000076"/>
                    </a:gs>
                  </a:gsLst>
                  <a:lin ang="552000"/>
                </a:gradFill>
                <a:effectLst>
                  <a:outerShdw dist="17819" dir="2700000" blurRad="0" rotWithShape="0">
                    <a:srgbClr val="ffffff"/>
                  </a:outerShdw>
                </a:effectLst>
                <a:latin typeface="Arial"/>
              </a:rPr>
              <a:t>спро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76"/>
                  </a:gs>
                  <a:gs pos="50000">
                    <a:srgbClr val="0000ff"/>
                  </a:gs>
                  <a:gs pos="100000">
                    <a:srgbClr val="000076"/>
                  </a:gs>
                </a:gsLst>
                <a:lin ang="552000"/>
              </a:gradFill>
              <a:effectLst>
                <a:outerShdw dist="17819" dir="2700000" blurRad="0" rotWithShape="0">
                  <a:srgbClr val="ffff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1" name="Text Box 12"/>
          <p:cNvSpPr/>
          <p:nvPr/>
        </p:nvSpPr>
        <p:spPr>
          <a:xfrm>
            <a:off x="1219320" y="54864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826920" y="5084640"/>
            <a:ext cx="27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3366"/>
                </a:solidFill>
                <a:uFillTx/>
                <a:latin typeface="Times New Roman"/>
              </a:rPr>
              <a:t>Заработная плата</a:t>
            </a:r>
            <a:r>
              <a:rPr b="1" lang="ru-RU" sz="1600" spc="-1" strike="noStrike">
                <a:solidFill>
                  <a:srgbClr val="003366"/>
                </a:solidFill>
                <a:latin typeface="Times New Roman"/>
              </a:rPr>
              <a:t> –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величина денежного вознаграждения, которое выплачивает работодатель работнику за выполнение определенного объема работ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6084720" y="2421000"/>
            <a:ext cx="2880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3366"/>
                </a:solidFill>
                <a:uFillTx/>
                <a:latin typeface="Times New Roman"/>
              </a:rPr>
              <a:t>Рабочая сила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- физические и умственные возможности, умения, навыки позволяющие человеку выполнять определённые работы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2936880" y="65271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Безработица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6560" y="2997000"/>
            <a:ext cx="36738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такая ситуация в экономике, при  которой часть способных и желающих трудиться людей не могут найти работу, соответствующую их способностям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Oval 6"/>
          <p:cNvSpPr/>
          <p:nvPr/>
        </p:nvSpPr>
        <p:spPr>
          <a:xfrm>
            <a:off x="5940360" y="2781360"/>
            <a:ext cx="1656000" cy="720720"/>
          </a:xfrm>
          <a:prstGeom prst="ellipse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безработица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Oval 7"/>
          <p:cNvSpPr/>
          <p:nvPr/>
        </p:nvSpPr>
        <p:spPr>
          <a:xfrm>
            <a:off x="4788000" y="4038480"/>
            <a:ext cx="1384200" cy="903240"/>
          </a:xfrm>
          <a:prstGeom prst="ellipse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фрикционная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Oval 9"/>
          <p:cNvSpPr/>
          <p:nvPr/>
        </p:nvSpPr>
        <p:spPr>
          <a:xfrm>
            <a:off x="5435640" y="5157720"/>
            <a:ext cx="1359000" cy="935280"/>
          </a:xfrm>
          <a:prstGeom prst="ellipse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структурная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Oval 10"/>
          <p:cNvSpPr/>
          <p:nvPr/>
        </p:nvSpPr>
        <p:spPr>
          <a:xfrm>
            <a:off x="6948360" y="5157720"/>
            <a:ext cx="1511280" cy="920880"/>
          </a:xfrm>
          <a:prstGeom prst="ellipse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циклическая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Oval 11"/>
          <p:cNvSpPr/>
          <p:nvPr/>
        </p:nvSpPr>
        <p:spPr>
          <a:xfrm>
            <a:off x="7543800" y="4038480"/>
            <a:ext cx="1349280" cy="830520"/>
          </a:xfrm>
          <a:prstGeom prst="ellipse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скрытая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Line 12"/>
          <p:cNvSpPr/>
          <p:nvPr/>
        </p:nvSpPr>
        <p:spPr>
          <a:xfrm flipH="1">
            <a:off x="5651640" y="3500280"/>
            <a:ext cx="474480" cy="5050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Line 14"/>
          <p:cNvSpPr/>
          <p:nvPr/>
        </p:nvSpPr>
        <p:spPr>
          <a:xfrm flipH="1">
            <a:off x="6227280" y="3645000"/>
            <a:ext cx="320760" cy="14191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Line 15"/>
          <p:cNvSpPr/>
          <p:nvPr/>
        </p:nvSpPr>
        <p:spPr>
          <a:xfrm>
            <a:off x="7238880" y="3505320"/>
            <a:ext cx="914400" cy="5331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Line 18"/>
          <p:cNvSpPr/>
          <p:nvPr/>
        </p:nvSpPr>
        <p:spPr>
          <a:xfrm>
            <a:off x="6877080" y="3645000"/>
            <a:ext cx="503280" cy="1439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2936880" y="65271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7T07:03:14Z</dcterms:created>
  <dc:creator>Ивановец</dc:creator>
  <dc:description/>
  <dc:language>en-US</dc:language>
  <cp:lastModifiedBy>LEGION</cp:lastModifiedBy>
  <dcterms:modified xsi:type="dcterms:W3CDTF">2016-01-04T13:41:26Z</dcterms:modified>
  <cp:revision>27</cp:revision>
  <dc:subject/>
  <dc:title>Инфраструктура рынка</dc:title>
</cp:coreProperties>
</file>