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9F44-62C1-4CAF-A2F5-E849AFAFF40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ынк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ированный урок обществознания и информационных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фраструктура рынка. 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труда.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тегрированный урок обществознания и информационных технологий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9 класс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занятости (биржа тру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бес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ст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ый поиск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бес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ст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иск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лужба занятости (биржа труд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Анке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Собеседова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естирова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амостоятельный поиск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Анке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Собеседова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естирова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амилия   Имя   От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фот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Фамилия   Имя   Отчеств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требительский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фактор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труд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е бир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м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кц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сферы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требительский 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Товарные бирж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Ярмарк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Аукцион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приятия торговл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приятия сферы услуг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сы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машин и механизм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факторов производств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сырь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энерги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машин и механизмов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и – учреждения, сосредотачивающие своих руках денежные средства клиентов и предоставляющие зай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овые бир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 – ценные бумаги, указывающие на принадлежность их собственнику доли в том или ином предпри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иденд – право владельца акции на часть прибыли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капитал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Кредитный 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анки – учреждения, сосредотачивающие своих руках денежные средства клиентов и предоставляющие займы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Фондовые бирж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Акции – ценные бумаги, указывающие на принадлежность их собственнику доли в том или ином предприяти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ивиденд – право владельца акции на часть прибыли предприятия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труда продается и покупается особый товар – рабочая с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 рынке труда продается и покупается особый товар – рабочая сил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рабоче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 –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сила- физические и умственные возможности, умения, навыки позволяющие человеку выполнять определённы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ложение рабочей си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прос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Заработная плата –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абочая сила- физические и умственные возможности, умения, навыки позволяющие человеку выполнять определённые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ик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ры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фрикционн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труктурн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циклическ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крыт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11C-6F52-4671-AA84-60449212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B6E-A2A0-411F-A669-42537C37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DE9-95FB-4CBE-8E7E-D7383720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461-3729-454C-8803-71F93E33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875E-CD8D-47F2-9ACE-F6F4FDE6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DDA5-EAC7-45DD-A873-0B4F4A61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14B7-4624-48FB-8EA8-E25AD494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E28E-F6A5-4C32-9E5C-63AFF276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46A0-0150-45FA-ADB3-43C90F57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1534-72C2-4F1A-A83D-2F40BD9A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F637-A7E3-4030-8BFD-BF2E791C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312-C149-45F8-B9FF-E4B45524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33B7-9429-4474-9638-DD774AEB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C75A-BBFE-41EC-B319-B985AF71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F801-B154-4D04-B166-E510DF68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6AFE-F2E5-4781-B8BB-0DD0D37D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D6C6-F203-48B0-A131-71720938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47B5-378E-4684-A828-88DCA507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DCE0-8AF3-45E5-83D2-F8119598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DE18-6CFC-40BA-BD69-A50E4F7D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BC7C-A833-4292-B4E6-1BEA1D58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AD6-2A8F-4252-8121-0981D377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0C9-58BC-4A93-AE8D-8DBC7D9C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34E-0846-46CE-BBCF-528A41A7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C9E3-2EBE-4FF5-BB5A-803B8605B82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E0FF-DF80-4A9C-A04E-37187A98501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4572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Инфраструктура рынка.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ынок труда.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3927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Интегрированный урок обществознания и информационны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5195880" y="6550920"/>
            <a:ext cx="32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764640"/>
            <a:ext cx="5673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иск рабо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0000" y="2923920"/>
            <a:ext cx="3370320" cy="27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лужба занятости (биржа труд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езю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Анке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Собесед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Тестирован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32000" y="2852640"/>
            <a:ext cx="392436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стоятельный поиск рабо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езю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Анке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Собесед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Тестирован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87640" y="7617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зюм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6920" y="2781000"/>
            <a:ext cx="6394680" cy="22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5"/>
          <p:cNvGrpSpPr/>
          <p:nvPr/>
        </p:nvGrpSpPr>
        <p:grpSpPr>
          <a:xfrm>
            <a:off x="0" y="-378000"/>
            <a:ext cx="571680" cy="343080"/>
            <a:chOff x="0" y="-378000"/>
            <a:chExt cx="571680" cy="343080"/>
          </a:xfrm>
        </p:grpSpPr>
        <p:sp>
          <p:nvSpPr>
            <p:cNvPr id="165" name="AutoShape 6"/>
            <p:cNvSpPr/>
            <p:nvPr/>
          </p:nvSpPr>
          <p:spPr>
            <a:xfrm>
              <a:off x="0" y="-378000"/>
              <a:ext cx="5716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6" name="Text Box 7"/>
          <p:cNvSpPr/>
          <p:nvPr/>
        </p:nvSpPr>
        <p:spPr>
          <a:xfrm>
            <a:off x="179280" y="476280"/>
            <a:ext cx="457200" cy="4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ото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492360" y="333360"/>
            <a:ext cx="537228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амилия   Имя   Отчеств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-37800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89000"/>
          <a:ext cx="754200" cy="1074600"/>
        </p:xfrm>
        <a:graphic>
          <a:graphicData uri="http://schemas.openxmlformats.org/drawingml/2006/table">
            <a:tbl>
              <a:tblPr/>
              <a:tblGrid>
                <a:gridCol w="75420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18"/>
          <p:cNvSpPr/>
          <p:nvPr/>
        </p:nvSpPr>
        <p:spPr>
          <a:xfrm>
            <a:off x="1403280" y="404640"/>
            <a:ext cx="741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Rectangle 85"/>
          <p:cNvSpPr/>
          <p:nvPr/>
        </p:nvSpPr>
        <p:spPr>
          <a:xfrm>
            <a:off x="0" y="724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16000" y="836640"/>
          <a:ext cx="7666200" cy="5943600"/>
        </p:xfrm>
        <a:graphic>
          <a:graphicData uri="http://schemas.openxmlformats.org/drawingml/2006/table">
            <a:tbl>
              <a:tblPr/>
              <a:tblGrid>
                <a:gridCol w="2473200"/>
                <a:gridCol w="5193000"/>
              </a:tblGrid>
              <a:tr h="4597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ведения о себ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есто рожд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онтактные телефон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-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емейное полож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Цели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ожидаемые должности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ессиональные знания, навыки, ум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пыт работы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за последние 5 ле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полнительные сведения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читаю себ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ессиональные кач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Рынок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3280" y="836280"/>
            <a:ext cx="6321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раструктура рын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3505320" y="2514600"/>
            <a:ext cx="2438280" cy="9907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1042920" y="4076640"/>
            <a:ext cx="1873440" cy="10810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1" action="ppaction://hlinksldjump"/>
              </a:rPr>
              <a:t>Потребительский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2" action="ppaction://hlinksldjump"/>
              </a:rPr>
              <a:t> рыно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Oval 16"/>
          <p:cNvSpPr/>
          <p:nvPr/>
        </p:nvSpPr>
        <p:spPr>
          <a:xfrm>
            <a:off x="2987640" y="4869000"/>
            <a:ext cx="173664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3" action="ppaction://hlinksldjump"/>
              </a:rPr>
              <a:t>Рынок факторо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4" action="ppaction://hlinksldjump"/>
              </a:rPr>
              <a:t> производств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Oval 17"/>
          <p:cNvSpPr/>
          <p:nvPr/>
        </p:nvSpPr>
        <p:spPr>
          <a:xfrm>
            <a:off x="5003640" y="4797360"/>
            <a:ext cx="172908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5" action="ppaction://hlinksldjump"/>
              </a:rPr>
              <a:t>Рыно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6" action="ppaction://hlinksldjump"/>
              </a:rPr>
              <a:t> капитало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6804000" y="4292640"/>
            <a:ext cx="194472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труд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3809520" y="3505320"/>
            <a:ext cx="381240" cy="1295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5364000" y="3500280"/>
            <a:ext cx="381240" cy="129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2050920" y="3284640"/>
            <a:ext cx="1441440" cy="766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5940360" y="3213000"/>
            <a:ext cx="1727280" cy="1008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6920" y="692280"/>
            <a:ext cx="7007400" cy="122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требительский рыно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79640" y="2708280"/>
            <a:ext cx="5616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варные бирж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Ярмар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укцион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приятия торгов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приятия сферы услу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7451640" y="6381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713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факторов производст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14240" y="2514600"/>
            <a:ext cx="5729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зем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сырь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энерг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машин и механизмов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7667640" y="6165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4000" y="836280"/>
            <a:ext cx="459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капитал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920" y="2420640"/>
            <a:ext cx="33703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Кредитный ры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анки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учреждения, сосредотачивающие своих руках денежные средства клиентов и предоставляющие зай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32360" y="2421000"/>
            <a:ext cx="35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Рынок ценных бума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ондовые бирж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кци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ценные бумаги, указывающие на принадлежность их собственнику доли в том или ином предприят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ивиденд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право владельца акции на часть прибыли предприяти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826920" y="63086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524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труд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285264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 рынке труда продается и покупается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Times New Roman"/>
              </a:rPr>
              <a:t>особый товар – рабочая си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192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PE01838_"/>
          <p:cNvPicPr/>
          <p:nvPr/>
        </p:nvPicPr>
        <p:blipFill>
          <a:blip r:embed="rId1"/>
          <a:stretch/>
        </p:blipFill>
        <p:spPr>
          <a:xfrm>
            <a:off x="762120" y="2362320"/>
            <a:ext cx="2209680" cy="2119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BD07153_"/>
          <p:cNvPicPr/>
          <p:nvPr/>
        </p:nvPicPr>
        <p:blipFill>
          <a:blip r:embed="rId2"/>
          <a:stretch/>
        </p:blipFill>
        <p:spPr>
          <a:xfrm>
            <a:off x="7497720" y="5056200"/>
            <a:ext cx="1646280" cy="1801800"/>
          </a:xfrm>
          <a:prstGeom prst="rect">
            <a:avLst/>
          </a:prstGeom>
          <a:ln w="0">
            <a:noFill/>
          </a:ln>
        </p:spPr>
      </p:pic>
      <p:sp>
        <p:nvSpPr>
          <p:cNvPr id="137" name="Line 6"/>
          <p:cNvSpPr/>
          <p:nvPr/>
        </p:nvSpPr>
        <p:spPr>
          <a:xfrm>
            <a:off x="2484360" y="3573360"/>
            <a:ext cx="5639040" cy="16970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Line 7"/>
          <p:cNvSpPr/>
          <p:nvPr/>
        </p:nvSpPr>
        <p:spPr>
          <a:xfrm flipH="1" flipV="1">
            <a:off x="1547280" y="4508280"/>
            <a:ext cx="6039000" cy="187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WordArt 10"/>
          <p:cNvSpPr txBox="1"/>
          <p:nvPr/>
        </p:nvSpPr>
        <p:spPr>
          <a:xfrm rot="1024200">
            <a:off x="2851200" y="3230640"/>
            <a:ext cx="5197320" cy="11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5e00"/>
                    </a:gs>
                    <a:gs pos="50000">
                      <a:srgbClr val="ffcc00"/>
                    </a:gs>
                    <a:gs pos="100000">
                      <a:srgbClr val="765e00"/>
                    </a:gs>
                  </a:gsLst>
                  <a:lin ang="16794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Times New Roman"/>
              </a:rPr>
              <a:t>Предложение рабочей силы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5e00"/>
                  </a:gs>
                  <a:gs pos="50000">
                    <a:srgbClr val="ffcc00"/>
                  </a:gs>
                  <a:gs pos="100000">
                    <a:srgbClr val="765e00"/>
                  </a:gs>
                </a:gsLst>
                <a:lin ang="16794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1"/>
          <p:cNvSpPr txBox="1"/>
          <p:nvPr/>
        </p:nvSpPr>
        <p:spPr>
          <a:xfrm rot="1068600">
            <a:off x="3924000" y="465264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76"/>
                    </a:gs>
                    <a:gs pos="50000">
                      <a:srgbClr val="0000ff"/>
                    </a:gs>
                    <a:gs pos="100000">
                      <a:srgbClr val="000076"/>
                    </a:gs>
                  </a:gsLst>
                  <a:lin ang="552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спро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76"/>
                  </a:gs>
                  <a:gs pos="50000">
                    <a:srgbClr val="0000ff"/>
                  </a:gs>
                  <a:gs pos="100000">
                    <a:srgbClr val="000076"/>
                  </a:gs>
                </a:gsLst>
                <a:lin ang="552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219320" y="54864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826920" y="5084640"/>
            <a:ext cx="27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Заработная плата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 –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6084720" y="2421000"/>
            <a:ext cx="2880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бочая сил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физические и умственные возможности, умения, навыки позволяющие человеку выполнять определённые работы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Безработиц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2997000"/>
            <a:ext cx="367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5940360" y="2781360"/>
            <a:ext cx="1656000" cy="7207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Oval 7"/>
          <p:cNvSpPr/>
          <p:nvPr/>
        </p:nvSpPr>
        <p:spPr>
          <a:xfrm>
            <a:off x="4788000" y="4038480"/>
            <a:ext cx="1384200" cy="90324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фрикционн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Oval 9"/>
          <p:cNvSpPr/>
          <p:nvPr/>
        </p:nvSpPr>
        <p:spPr>
          <a:xfrm>
            <a:off x="5435640" y="5157720"/>
            <a:ext cx="1359000" cy="9352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структурн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Oval 10"/>
          <p:cNvSpPr/>
          <p:nvPr/>
        </p:nvSpPr>
        <p:spPr>
          <a:xfrm>
            <a:off x="6948360" y="5157720"/>
            <a:ext cx="1511280" cy="9208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циклическ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7543800" y="4038480"/>
            <a:ext cx="1349280" cy="8305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скрыт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5651640" y="3500280"/>
            <a:ext cx="474480" cy="505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Line 14"/>
          <p:cNvSpPr/>
          <p:nvPr/>
        </p:nvSpPr>
        <p:spPr>
          <a:xfrm flipH="1">
            <a:off x="6227280" y="3645000"/>
            <a:ext cx="320760" cy="1419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Line 15"/>
          <p:cNvSpPr/>
          <p:nvPr/>
        </p:nvSpPr>
        <p:spPr>
          <a:xfrm>
            <a:off x="7238880" y="3505320"/>
            <a:ext cx="914400" cy="533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6877080" y="3645000"/>
            <a:ext cx="503280" cy="143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07:03:14Z</dcterms:created>
  <dc:creator>Ивановец</dc:creator>
  <dc:description/>
  <dc:language>en-US</dc:language>
  <cp:lastModifiedBy>LEGION</cp:lastModifiedBy>
  <dcterms:modified xsi:type="dcterms:W3CDTF">2016-01-04T13:41:26Z</dcterms:modified>
  <cp:revision>27</cp:revision>
  <dc:subject/>
  <dc:title>Инфраструктура рынка</dc:title>
</cp:coreProperties>
</file>