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0A47-270D-4F1B-B2D4-1D55BADB85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оц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1. Сущность и формы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2. Ссудный процент. Номинальная и реальная ставка проц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3Дисконтированная стои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капитал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оцен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1. Сущность и формы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2. Ссудный процент. Номинальная и реальная ставка проц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3Дисконтированная сто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жидаемый уровень доход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жидаемый уровень доход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= rK. Капитал воспроизвод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&gt; rK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бразования капитала, средства проед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&lt; rK. Процесс образования капитала резко активизиру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капитал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= rK. Капитал воспроизводи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&gt; rK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 образования капитала, средства проед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временного предпочтения &lt; rK. Процесс образования капитала резко активизир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капитал (DК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капитала (SК) имеет положительный наклон. Такое положение обусловлено тем, что, чем большую сумму капитала вы предлагае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капитал (DК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капитала (SК) имеет положительный наклон. Такое положение обусловлено тем, что, чем большую сумму капитала вы предлагает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в узком смысле слова – ценность, приносящая до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в узком смысле слова – ценность, приносящая дох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ЫТ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ВНОВЕСИЕ НА РЫНКЕ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D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ие функции процентной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сбережения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мулирующие функции процентной ста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 процентной ставки стимулирует сбережения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минальная ставка – это процентная ставка, выраженная в рублях по текущему курс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ставка – это процентная ставка, выраженная в неизменных рублях или с поправкой на инфля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минальная ставка – это процентная ставка, выраженная в рублях по текущему курс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ая ставка – это процентная ставка, выраженная в неизменных рублях или с поправкой на инфляц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+i) x (1+P) = 1+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– реальная ставка процен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 – темп инфляц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номинальная ставка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+i) x (1+P) = 1+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реальная ставка проц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 – темп инфляци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номинальная ставка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нвестиции.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нвестиции.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ьные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е, портфельные - вложения в покупку акций, други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—общее увеличение запаса капитала. Валовые инвестиции учитывают затраты на возмещение (амортизацию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мортизация —процесс замены изношенного основного капит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ые инвестиции —валовые инвестиции за вычетом средств, идущих на воз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е инвестиции  = Амортизация + Чистые инвестиции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получение экономического или социального результата на один рубль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=П/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и - абсолютная эффективность инвестиций в основной капита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- прибыль (бухгалтерская, чистая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– инвестиции в основной капитал (капитальные вложе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спроса на 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ность капитала 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ность капитала 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ние к единому моменту времени будущих затрат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онтируемая или приведённая (текущая) стоимость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V – текущая стоим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ожидаемый в будущем до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– ставка дисконтирования (ставка ссудного процен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 – период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PV – текущая стоим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ожидаемый в будущем доход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r – ставка дисконтирования (ставка ссудного процент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t – период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ая 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PV = П1 /(1 + r) + П2/(1+ r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…+ Пn/(1+ r)n —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NPV - чистая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 — прибыль, получаемая в n-м г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 – величина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ая дисконтированная стоимость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PV = П1 /(1 + r) + П2/(1+ r)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…+ Пn/(1+ r)n —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NPV - чистая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 — прибыль, получаемая в n-м г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I – величина инвести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тивный капитал  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ктивный капитал  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иссионная ценная бума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щается выпуск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ссионная ценная бумаг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щается выпус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щность капитала как фактора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уровень доходности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ить реальную ставку проц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инвестиционный проект будет прин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щность капитала как фактора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уровень доходности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ить реальную ставку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дисконтированная сто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инвестиционный проект будет приня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 - материально-вещественный капитал: машины, здания, сооружения, сырье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капитал – акции и другие ценные бумаги, счета в банках, патенты и т.д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- материально-вещественный капитал: машины, здания, сооружения, сырье и т. 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капитал – акции и другие ценные бумаги, счета в банках, патенты и т.д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капитал - реальные активы длительного пользования, такие, как здания, сооружения, машины, оборуд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 - 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й 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капитал - реальные активы длительного пользования, такие, как здания, сооружения, машины, оборуд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ый капитал - 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капитал служит в течение нескольких лет и подлежит замене (возмещению) лишь по мере физического или морального изн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ный капитал 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ой капитал служит в течение нескольких лет и подлежит замене (возмещению) лишь по мере физического или морального изно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ный капитал 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ооборот капитала — 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— деньги, Рс — рабочая сила, Сп — средства производства, П— производство…Т - 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угооборот капитала — 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— деньги, Рс — рабочая сила, Сп — средства производства, П— производство…Т -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т капитала - такое движение капитала, при котором авансированная стоимость полностью возмещ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рот капитала - такое движение капитала, при котором авансированная стоимость полностью возмещает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 – это вложения финансовых средств в различные виды эк деятельности с целью сохранения и увеличения капит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коне РФ инвестиции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2302-0710-4275-AA24-E74D091B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8B70-025D-4763-9D4A-9911D581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AAE7-A75F-436C-AD92-1F815B18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7FBF-8CE8-4024-9382-CD52B746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4EEDE-11FC-432B-B323-9D54BE8D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10F9-C82F-4D04-A650-B56E0DAA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99C2-94DD-4783-AB70-C450F90F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23DD-9718-4529-AEB6-58BABA2DD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890E-6B70-4614-9F51-FF575AFF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DF62-9EF8-454A-BE68-AE6B8615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3BF86-E564-4072-B4C1-B4ECC927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079-14BE-4BDC-8822-92C011C0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CDA7A-64DD-4312-8839-1276C614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CAFD-7419-4C98-B9A0-16C142BE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F061-740F-4DCF-91E2-6D34C307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568D-32F6-45CF-8083-5DAF1752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4BCA-CAA3-4081-8231-1A7B2C91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568-7B83-477E-95F4-584205E4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1B37-8B2C-47CC-B992-E3DF95DD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656B-633F-4D7C-90E3-F52FF9B1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8C70-D282-4C17-91AF-A7D3D2A4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0C0-3CB4-4FE5-9B58-9BE7D5B13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3B61-4735-46A2-AA3D-6F5E8D55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140C-A19F-4AEA-B9BB-C5ED9689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F30D1-1383-49CD-8E2D-25C2E8E6A30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BB04-4C82-4B83-A066-E56DE5F6AD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4546-21AA-4E51-8374-1F53FAA4C86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C9F2-0387-4B4A-804D-1B289CAABB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:\projects\экономическая теория\PSD\6.jpg"/>
          <p:cNvPicPr/>
          <p:nvPr/>
        </p:nvPicPr>
        <p:blipFill>
          <a:blip r:embed="rId1"/>
          <a:stretch/>
        </p:blipFill>
        <p:spPr>
          <a:xfrm>
            <a:off x="0" y="-243000"/>
            <a:ext cx="9828360" cy="78631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149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6.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Рынок капитала </a:t>
            </a:r>
            <a:br>
              <a:rPr sz="4000"/>
            </a:b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и проце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826920" y="4149720"/>
            <a:ext cx="58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1. Сущность и формы капит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2. Ссудный процент. Номинальная и реальная ставка процен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6092"/>
                </a:solidFill>
                <a:latin typeface="Tahoma"/>
                <a:ea typeface="Tahoma"/>
              </a:rPr>
              <a:t>6.3Дисконтированная стоим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инансовые, портф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в покупку акций, других ценных бума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щее увеличение запаса капитал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учитывают затраты на возмещение (амортизацию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мортизац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цесс замены изношенного основного капит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т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за вычетом средств, идущих на возме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Амортизация + Чистые инвестици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онтируе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приведённая (текущая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1619280" y="2133720"/>
                <a:ext cx="507348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2000" y="259920"/>
            <a:ext cx="86425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КАПИТАЛ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– отказ от сегодняшнего потребления ради его увеличения  в будуще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ожидаемый уровень доходнос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819000" y="3213000"/>
                <a:ext cx="7577280" cy="26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Уровень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доходности</m:t>
                          </m:r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капитала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ирост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родукции 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 будущем</m:t>
                              </m:r>
                            </m:e>
                          </m:mr>
                        </m: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сокращение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потребления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в настоящем</m:t>
                              </m:r>
                            </m:e>
                          </m:mr>
                        </m: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277920"/>
            <a:ext cx="864216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оздание капитал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Капитал воспроизводи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gt;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т образования капитала, средства проеда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199"/>
              </a:spcBef>
              <a:buClr>
                <a:srgbClr val="ffcc6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орма временного предпочтения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роцесс образования капитала резко активизиру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прос на капитал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отрицательный наклон, т. к. он зависит от доходности, а она определяется законом убывающей производительности капит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едложение капитала (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имеет положительный наклон. Такое положение обусловлено тем, что, чем большую сумму капитала вы предлагает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суду, тем больше его предельная альтернативная стоимость или предельные издержки упущенных возможнос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Определение капит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итал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широком смысле слова — это любой ресурс, создаваемый с целью производства большего количества экономических бла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пита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узком смысле слова – ценность, приносящая дох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reeform 2"/>
          <p:cNvSpPr/>
          <p:nvPr/>
        </p:nvSpPr>
        <p:spPr>
          <a:xfrm>
            <a:off x="2209680" y="1839960"/>
            <a:ext cx="5029200" cy="3114720"/>
          </a:xfrm>
          <a:custGeom>
            <a:avLst/>
            <a:gdLst>
              <a:gd name="textAreaLeft" fmla="*/ 0 w 5029200"/>
              <a:gd name="textAreaRight" fmla="*/ 5029200 w 5029200"/>
              <a:gd name="textAreaTop" fmla="*/ 0 h 3114720"/>
              <a:gd name="textAreaBottom" fmla="*/ 3115080 h 3114720"/>
            </a:gdLst>
            <a:ahLst/>
            <a:rect l="textAreaLeft" t="textAreaTop" r="textAreaRight" b="textAreaBottom"/>
            <a:pathLst>
              <a:path w="381" h="218">
                <a:moveTo>
                  <a:pt x="0" y="218"/>
                </a:moveTo>
                <a:lnTo>
                  <a:pt x="55" y="204"/>
                </a:lnTo>
                <a:lnTo>
                  <a:pt x="109" y="184"/>
                </a:lnTo>
                <a:lnTo>
                  <a:pt x="163" y="156"/>
                </a:lnTo>
                <a:lnTo>
                  <a:pt x="218" y="122"/>
                </a:lnTo>
                <a:lnTo>
                  <a:pt x="272" y="82"/>
                </a:lnTo>
                <a:lnTo>
                  <a:pt x="326" y="41"/>
                </a:lnTo>
                <a:lnTo>
                  <a:pt x="381" y="0"/>
                </a:lnTo>
              </a:path>
            </a:pathLst>
          </a:custGeom>
          <a:noFill/>
          <a:ln w="507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374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РАВНОВЕСИЕ НА РЫНКЕ КАПИТАЛ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Line 4"/>
          <p:cNvSpPr/>
          <p:nvPr/>
        </p:nvSpPr>
        <p:spPr>
          <a:xfrm flipV="1">
            <a:off x="1476360" y="1433160"/>
            <a:ext cx="1440" cy="4311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1476360" y="5734080"/>
            <a:ext cx="6450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1256400" y="563724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1084320" y="513720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084320" y="466092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1084320" y="417672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1084320" y="368604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084320" y="3201840"/>
            <a:ext cx="39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084320" y="2728800"/>
            <a:ext cx="350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1084320" y="2238480"/>
            <a:ext cx="299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12004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285984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3578760" y="582768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4331160" y="5824440"/>
            <a:ext cx="13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6411960" y="5829480"/>
            <a:ext cx="4125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7143840" y="5829480"/>
            <a:ext cx="3207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5006880" y="5829480"/>
            <a:ext cx="41292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1"/>
          <p:cNvSpPr/>
          <p:nvPr/>
        </p:nvSpPr>
        <p:spPr>
          <a:xfrm>
            <a:off x="5726160" y="5829480"/>
            <a:ext cx="333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22"/>
          <p:cNvSpPr/>
          <p:nvPr/>
        </p:nvSpPr>
        <p:spPr>
          <a:xfrm>
            <a:off x="2050920" y="1989000"/>
            <a:ext cx="5129280" cy="3530880"/>
          </a:xfrm>
          <a:custGeom>
            <a:avLst/>
            <a:gdLst>
              <a:gd name="textAreaLeft" fmla="*/ 0 w 5129280"/>
              <a:gd name="textAreaRight" fmla="*/ 5129640 w 5129280"/>
              <a:gd name="textAreaTop" fmla="*/ 0 h 3530880"/>
              <a:gd name="textAreaBottom" fmla="*/ 3531240 h 3530880"/>
            </a:gdLst>
            <a:ahLst/>
            <a:rect l="textAreaLeft" t="textAreaTop" r="textAreaRight" b="textAreaBottom"/>
            <a:pathLst>
              <a:path w="381" h="261">
                <a:moveTo>
                  <a:pt x="0" y="0"/>
                </a:moveTo>
                <a:lnTo>
                  <a:pt x="55" y="49"/>
                </a:lnTo>
                <a:lnTo>
                  <a:pt x="109" y="98"/>
                </a:lnTo>
                <a:lnTo>
                  <a:pt x="163" y="146"/>
                </a:lnTo>
                <a:lnTo>
                  <a:pt x="218" y="187"/>
                </a:lnTo>
                <a:lnTo>
                  <a:pt x="272" y="220"/>
                </a:lnTo>
                <a:lnTo>
                  <a:pt x="326" y="244"/>
                </a:lnTo>
                <a:lnTo>
                  <a:pt x="381" y="261"/>
                </a:lnTo>
              </a:path>
            </a:pathLst>
          </a:custGeom>
          <a:noFill/>
          <a:ln w="507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3"/>
          <p:cNvSpPr/>
          <p:nvPr/>
        </p:nvSpPr>
        <p:spPr>
          <a:xfrm>
            <a:off x="4299120" y="3998880"/>
            <a:ext cx="141120" cy="127080"/>
          </a:xfrm>
          <a:prstGeom prst="ellipse">
            <a:avLst/>
          </a:prstGeom>
          <a:solidFill>
            <a:srgbClr val="00ffff"/>
          </a:solidFill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2916360" y="2997360"/>
            <a:ext cx="0" cy="273672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5"/>
          <p:cNvSpPr/>
          <p:nvPr/>
        </p:nvSpPr>
        <p:spPr>
          <a:xfrm flipH="1" flipV="1">
            <a:off x="5094360" y="4579920"/>
            <a:ext cx="1440" cy="1116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6"/>
          <p:cNvSpPr/>
          <p:nvPr/>
        </p:nvSpPr>
        <p:spPr>
          <a:xfrm>
            <a:off x="1494000" y="4052880"/>
            <a:ext cx="2869920" cy="1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7"/>
          <p:cNvSpPr/>
          <p:nvPr/>
        </p:nvSpPr>
        <p:spPr>
          <a:xfrm flipH="1" flipV="1">
            <a:off x="4373640" y="4062240"/>
            <a:ext cx="1440" cy="165600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8"/>
          <p:cNvSpPr/>
          <p:nvPr/>
        </p:nvSpPr>
        <p:spPr>
          <a:xfrm>
            <a:off x="1471680" y="3003480"/>
            <a:ext cx="4249800" cy="0"/>
          </a:xfrm>
          <a:prstGeom prst="line">
            <a:avLst/>
          </a:prstGeom>
          <a:ln w="2556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 flipV="1">
            <a:off x="5824440" y="2978280"/>
            <a:ext cx="0" cy="273816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 flipH="1" flipV="1">
            <a:off x="3642840" y="4468680"/>
            <a:ext cx="1800" cy="124488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1474920" y="4562640"/>
            <a:ext cx="3638520" cy="1440"/>
          </a:xfrm>
          <a:prstGeom prst="line">
            <a:avLst/>
          </a:prstGeom>
          <a:ln w="255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7853400" y="5753160"/>
            <a:ext cx="39060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1042920" y="119700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4"/>
          <p:cNvSpPr/>
          <p:nvPr/>
        </p:nvSpPr>
        <p:spPr>
          <a:xfrm>
            <a:off x="5837400" y="5033880"/>
            <a:ext cx="534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r>
              <a:rPr b="1" i="1" lang="ru-RU" sz="2800" spc="-1" strike="noStrike" baseline="-25000">
                <a:solidFill>
                  <a:srgbClr val="c0504d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5"/>
          <p:cNvSpPr/>
          <p:nvPr/>
        </p:nvSpPr>
        <p:spPr>
          <a:xfrm>
            <a:off x="2050920" y="2513160"/>
            <a:ext cx="5065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0504d"/>
                </a:solidFill>
                <a:latin typeface="Calibri"/>
                <a:ea typeface="Arial"/>
              </a:rPr>
              <a:t>D</a:t>
            </a:r>
            <a:r>
              <a:rPr b="1" i="1" lang="ru-RU" sz="2800" spc="-1" strike="noStrike" baseline="-25000">
                <a:solidFill>
                  <a:srgbClr val="c0504d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6"/>
          <p:cNvSpPr/>
          <p:nvPr/>
        </p:nvSpPr>
        <p:spPr>
          <a:xfrm>
            <a:off x="1085760" y="1670040"/>
            <a:ext cx="25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7"/>
          <p:cNvSpPr/>
          <p:nvPr/>
        </p:nvSpPr>
        <p:spPr>
          <a:xfrm>
            <a:off x="2009880" y="4262400"/>
            <a:ext cx="474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</a:t>
            </a:r>
            <a:r>
              <a:rPr b="1" i="1" lang="ru-RU" sz="2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8"/>
          <p:cNvSpPr/>
          <p:nvPr/>
        </p:nvSpPr>
        <p:spPr>
          <a:xfrm>
            <a:off x="6402240" y="1670040"/>
            <a:ext cx="474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7030a0"/>
                </a:solidFill>
                <a:latin typeface="Calibri"/>
                <a:ea typeface="Arial"/>
              </a:rPr>
              <a:t>S</a:t>
            </a:r>
            <a:r>
              <a:rPr b="1" i="1" lang="ru-RU" sz="2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9"/>
          <p:cNvSpPr/>
          <p:nvPr/>
        </p:nvSpPr>
        <p:spPr>
          <a:xfrm rot="16200000">
            <a:off x="4284360" y="3931560"/>
            <a:ext cx="142920" cy="1441440"/>
          </a:xfrm>
          <a:custGeom>
            <a:avLst/>
            <a:gdLst>
              <a:gd name="textAreaLeft" fmla="*/ 91440 w 142920"/>
              <a:gd name="textAreaRight" fmla="*/ 143280 w 14292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0"/>
          <p:cNvSpPr/>
          <p:nvPr/>
        </p:nvSpPr>
        <p:spPr>
          <a:xfrm>
            <a:off x="3348000" y="5084640"/>
            <a:ext cx="2016000" cy="426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ДЕФИЦ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41"/>
          <p:cNvSpPr/>
          <p:nvPr/>
        </p:nvSpPr>
        <p:spPr>
          <a:xfrm flipV="1" rot="5400000">
            <a:off x="4285440" y="1482480"/>
            <a:ext cx="142920" cy="2881080"/>
          </a:xfrm>
          <a:custGeom>
            <a:avLst/>
            <a:gdLst>
              <a:gd name="textAreaLeft" fmla="*/ 91440 w 142920"/>
              <a:gd name="textAreaRight" fmla="*/ 143280 w 14292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2"/>
          <p:cNvSpPr/>
          <p:nvPr/>
        </p:nvSpPr>
        <p:spPr>
          <a:xfrm>
            <a:off x="3564000" y="2133720"/>
            <a:ext cx="2016000" cy="426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  <a:ea typeface="Arial"/>
              </a:rPr>
              <a:t>ИЗБЫ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3"/>
          <p:cNvSpPr/>
          <p:nvPr/>
        </p:nvSpPr>
        <p:spPr>
          <a:xfrm>
            <a:off x="4315680" y="3500280"/>
            <a:ext cx="174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3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тимулирующие функции процентной став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ffcc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повышение  эффективности  инвестиционных прое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1800"/>
              </a:spcBef>
              <a:buClr>
                <a:srgbClr val="ffcc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ост процентной ставки стимулирует сбережения населения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уществуют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оминальная став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процентная ставка, выраженная в рублях по текущему курс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альная став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процентная ставка, выраженная в неизменных рублях или с поправкой на инфляц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(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) = 1+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альная ставка процента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емп инфляции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– номинальная ставка процен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76092"/>
                </a:solidFill>
                <a:latin typeface="Tahoma"/>
                <a:ea typeface="Tahoma"/>
              </a:rPr>
              <a:t>Инвестиции. Дисконтированная стои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вложения финансовых средств в различные виды эк деятельности с целью сохранения и увеличения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коне РФ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реа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средств в физический капитал, например в создание новых основных фондов, реконструкцию старых, техническое перевоору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финансовые, портфель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вложения в покупку акций, других ценных бума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нвести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общее увеличение запаса капитала.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учитывают затраты на возмещение (амортизацию)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Амортизация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процесс замены изношенного основного капитал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истые инвестиции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за вычетом средств, идущих на возме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Валовые инвестиции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Амортизация + Чистые инвестиции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Эффективность инвест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получение экономического или социального результата на один рубль инвестиц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Эи=П/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и - абсолютная эффективность инвестиций в основной капитал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- прибыль (бухгалтерская, чистая);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 – инвестиции в основной капитал (капитальные вложения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собенность спроса на инвести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итал существует во времени и многие компоненты связанных с ним издержек и доходов относятся к разным период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ример, так затраты на капитальное строительство могут осуществляться не одномоментно, а в течении двух-трех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ущность капит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авансированная стоимость, которая в результате эксплуатации наемного труда приносит прибавочную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Дисконтиро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ведение к единому моменту времени будущих затрат и дох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исконтированная стоимость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сконтируем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приведённая (текущая)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- это оценка стоимости будущих прибылей от вложения средств в процентный финансовый инструмент (облигация, вексель) в пересчёте на момент времени, когда производится оцен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PV – текущая стоимость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R – ожидаемый в будущем доход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r – ставка дисконтирования (ставка ссудного процента)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t – период времен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2"/>
              <p:cNvSpPr txBox="1"/>
              <p:nvPr/>
            </p:nvSpPr>
            <p:spPr>
              <a:xfrm>
                <a:off x="1341360" y="981000"/>
                <a:ext cx="6029280" cy="20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7138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ерез три года потребуется денежная сумма в размере 100 000 Р. Процентная ставка составляет 9 %. СКОЛЬКО СТОИТ ЗАПЛАТИТЬ СЕГОДНЯ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2"/>
              <p:cNvSpPr txBox="1"/>
              <p:nvPr/>
            </p:nvSpPr>
            <p:spPr>
              <a:xfrm>
                <a:off x="192240" y="3213000"/>
                <a:ext cx="8689680" cy="14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 0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 000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5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р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истая дисконтированная стоимость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PV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= П1 /(1 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 + П2/(1+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1" lang="ru-RU" sz="4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/(1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r)n —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PV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истая дисконтирова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прибыль, получаемая в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м год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величина инвестиц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ктивный капитал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капитал представленный в ценных бумагах, совершающий самостоятельное, отличное от реального капитала движение, регулярно приносящий доход его владельцам в виде дивиденда или проц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енная бумага - это финансовое средство, дающее заимодавцу (инвестору) обеспеченное законом право получать в будущем определенный доход в установленном поряд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Эмиссионная ценная бумаг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акрепляет совокупность имущественных и неимущественных прав, подлежащих удостоверению, уступке и безусловному осуществлению с соблюдением установленных законом формы и порядка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мещается выпусками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меет равные объем и сроки осуществления прав внутри одного выпуска вне зависимости от времени приобретения ценной бумаг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чем сущность капитала как фактора произво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яется уровень доходности капита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определить реальную ставку проц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такое дисконтированная стоим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гда инвестиционный проект будет приня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ahoma"/>
                <a:ea typeface="Tahoma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ормы капита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изический - материально-вещественный капитал: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шины, здания, сооружения, сырье и т.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инансовый капитал – акции и другие ценные бумаги, счета в банках, патенты и т.д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Физический капита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ой капитал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ьные активы длительного пользования, такие, как здания, сооружения, машины, оборудо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оротный капитал 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сходуется на покупку средств для каждого цикла производства: сырья, основных и вспомогательных материалов тру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сновной капита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ужит в течение нескольких лет и подлежит замене (возмещению) лишь по мере физического или морального износ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оборотный капитал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лностью потребляется в течение одного цикла производства, и его стоимость включается в издержки производства целиком, в отличие от основного капитала, стоимость которого учитывается в издержках по частя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Кругооборот капитала —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о такое движение капитала, при котором, проходя различные стадии, он возвращается в ту форм с которой начал свое дви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деньги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рабочая сил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— средства производства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производство…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 - 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борот капитал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такое движение капитала, при котором авансированная стоимость полностью возмещаетс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измерения скорости оборота капитала используется показатель - время оборота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вести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вложения финансовых средств в различные виды эк деятельности с целью сохранения и увеличения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законе РФ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енежные средства, ценные бумаги, иное имущество, вкладываемые в объекты предпринимательской деятельности и иной деятельности в целях получения прибыли или достижения иного полезного эффек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1:35Z</dcterms:modified>
  <cp:revision>4</cp:revision>
  <dc:subject/>
  <dc:title>Тема 6.  Рынок капитала  и процент</dc:title>
</cp:coreProperties>
</file>