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31E5-CFA2-47B8-A293-A40D2C1D7D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63E-ED77-4915-AEB7-E712A8B7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47E-6743-4F89-B64E-6B120B6E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8FB-4976-4438-8955-C77F25DC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86C-E940-4474-87F8-34C1612A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FDA8-14CC-4928-BB5D-90FF7FC4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E05C-3088-4DC8-B89D-713CF0A2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C938-73E5-4583-8144-D2246D25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68CE-0928-4434-B9D4-F5772855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262C-737B-4CEB-8E0C-25EF7126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FB59-1DC8-44A8-85D5-23CC30EF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603D-7383-43DF-8764-BDAADD3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771-37C0-432F-928B-2939D5EB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4ACD-C5E0-4EF4-85C4-E929EBF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8002-709F-4AE4-BFAF-4C9CF94C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D275-9166-4BD1-ACB9-9AAE428E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9332-5BB4-4281-9DC1-5230DCBC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2D8D-9117-49C3-AF6B-136E3FC9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007-3A2D-4CB0-A424-3288135A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9D2-5416-4F66-80A1-6CA765B6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D41-82A8-4F78-A9C0-BD94AFC2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8D5-2699-4A6C-8EA9-237F2D6F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C92-92BA-4262-A9ED-EBE7A9B2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1AD-D4BD-48AA-A4BC-E8BAE1E1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CBB-FD8F-4C8F-BA2A-490F18C9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EDEC-71B0-49B8-857B-DC52B789CA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9F56-3789-4165-9CE2-7746B92EC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6DF3-5403-417F-88CA-C1E17BD52A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C9D2-F519-404E-B06B-B2EAA2198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projects\экономическая теория\PSD\6.jpg"/>
          <p:cNvPicPr/>
          <p:nvPr/>
        </p:nvPicPr>
        <p:blipFill>
          <a:blip r:embed="rId1"/>
          <a:stretch/>
        </p:blipFill>
        <p:spPr>
          <a:xfrm>
            <a:off x="0" y="-243000"/>
            <a:ext cx="9828360" cy="7863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4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6.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Рынок капитала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и проц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826920" y="41497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1. Сущность и формы капит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2. Ссудный процент. Номинальная и реальная ставка проц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3Дисконтированная сто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619280" y="2133720"/>
                <a:ext cx="507348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2000" y="259920"/>
            <a:ext cx="8642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819000" y="3213000"/>
                <a:ext cx="757728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Уровень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доходности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капитала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ирост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одукции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буду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окращение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отребления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настоя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капитал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апитал воспроизвод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оцесс образования капитала резко активиз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ос на капитал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е капитал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положительный наклон. Такое положение обусловлено тем, что, чем большую сумму капитала вы предлагает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ени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узком смысле слова – ценность, приносящая до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209680" y="1839960"/>
            <a:ext cx="5029200" cy="3114720"/>
          </a:xfrm>
          <a:custGeom>
            <a:avLst/>
            <a:gdLst>
              <a:gd name="textAreaLeft" fmla="*/ 0 w 5029200"/>
              <a:gd name="textAreaRight" fmla="*/ 5029200 w 5029200"/>
              <a:gd name="textAreaTop" fmla="*/ 0 h 3114720"/>
              <a:gd name="textAreaBottom" fmla="*/ 3115080 h 3114720"/>
            </a:gdLst>
            <a:ahLst/>
            <a:rect l="textAreaLeft" t="textAreaTop" r="textAreaRight" b="textAreaBottom"/>
            <a:pathLst>
              <a:path w="381" h="218">
                <a:moveTo>
                  <a:pt x="0" y="218"/>
                </a:moveTo>
                <a:lnTo>
                  <a:pt x="55" y="204"/>
                </a:lnTo>
                <a:lnTo>
                  <a:pt x="109" y="184"/>
                </a:lnTo>
                <a:lnTo>
                  <a:pt x="163" y="156"/>
                </a:lnTo>
                <a:lnTo>
                  <a:pt x="218" y="122"/>
                </a:lnTo>
                <a:lnTo>
                  <a:pt x="272" y="82"/>
                </a:lnTo>
                <a:lnTo>
                  <a:pt x="326" y="41"/>
                </a:lnTo>
                <a:lnTo>
                  <a:pt x="381" y="0"/>
                </a:lnTo>
              </a:path>
            </a:pathLst>
          </a:custGeom>
          <a:noFill/>
          <a:ln w="507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374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1476360" y="1433160"/>
            <a:ext cx="1440" cy="431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476360" y="5734080"/>
            <a:ext cx="6450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56400" y="56372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084320" y="513720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084320" y="46609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084320" y="41767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084320" y="368604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084320" y="3201840"/>
            <a:ext cx="39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084320" y="2728800"/>
            <a:ext cx="35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084320" y="223848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1200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28598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57876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4331160" y="58244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6411960" y="5829480"/>
            <a:ext cx="41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7143840" y="5829480"/>
            <a:ext cx="320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5006880" y="5829480"/>
            <a:ext cx="412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726160" y="5829480"/>
            <a:ext cx="333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2050920" y="1989000"/>
            <a:ext cx="5129280" cy="3530880"/>
          </a:xfrm>
          <a:custGeom>
            <a:avLst/>
            <a:gdLst>
              <a:gd name="textAreaLeft" fmla="*/ 0 w 5129280"/>
              <a:gd name="textAreaRight" fmla="*/ 5129640 w 5129280"/>
              <a:gd name="textAreaTop" fmla="*/ 0 h 3530880"/>
              <a:gd name="textAreaBottom" fmla="*/ 3531240 h 3530880"/>
            </a:gdLst>
            <a:ahLst/>
            <a:rect l="textAreaLeft" t="textAreaTop" r="textAreaRight" b="textAreaBottom"/>
            <a:pathLst>
              <a:path w="381" h="261">
                <a:moveTo>
                  <a:pt x="0" y="0"/>
                </a:moveTo>
                <a:lnTo>
                  <a:pt x="55" y="49"/>
                </a:lnTo>
                <a:lnTo>
                  <a:pt x="109" y="98"/>
                </a:lnTo>
                <a:lnTo>
                  <a:pt x="163" y="146"/>
                </a:lnTo>
                <a:lnTo>
                  <a:pt x="218" y="187"/>
                </a:lnTo>
                <a:lnTo>
                  <a:pt x="272" y="220"/>
                </a:lnTo>
                <a:lnTo>
                  <a:pt x="326" y="244"/>
                </a:lnTo>
                <a:lnTo>
                  <a:pt x="381" y="261"/>
                </a:lnTo>
              </a:path>
            </a:pathLst>
          </a:custGeom>
          <a:noFill/>
          <a:ln w="507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4299120" y="3998880"/>
            <a:ext cx="141120" cy="127080"/>
          </a:xfrm>
          <a:prstGeom prst="ellipse">
            <a:avLst/>
          </a:prstGeom>
          <a:solidFill>
            <a:srgbClr val="00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2916360" y="2997360"/>
            <a:ext cx="0" cy="273672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 flipH="1" flipV="1">
            <a:off x="5094360" y="4579920"/>
            <a:ext cx="1440" cy="111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1494000" y="4052880"/>
            <a:ext cx="2869920" cy="1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 flipH="1" flipV="1">
            <a:off x="4373640" y="4062240"/>
            <a:ext cx="1440" cy="165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1471680" y="3003480"/>
            <a:ext cx="4249800" cy="0"/>
          </a:xfrm>
          <a:prstGeom prst="line">
            <a:avLst/>
          </a:prstGeom>
          <a:ln w="255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 flipV="1">
            <a:off x="5824440" y="2978280"/>
            <a:ext cx="0" cy="27381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 flipH="1" flipV="1">
            <a:off x="3642840" y="4468680"/>
            <a:ext cx="1800" cy="124488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1474920" y="4562640"/>
            <a:ext cx="3638520" cy="144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7853400" y="5753160"/>
            <a:ext cx="390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1042920" y="11970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837400" y="5033880"/>
            <a:ext cx="534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2050920" y="2513160"/>
            <a:ext cx="50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1085760" y="1670040"/>
            <a:ext cx="25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2009880" y="4262400"/>
            <a:ext cx="474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6402240" y="1670040"/>
            <a:ext cx="474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9"/>
          <p:cNvSpPr/>
          <p:nvPr/>
        </p:nvSpPr>
        <p:spPr>
          <a:xfrm rot="16200000">
            <a:off x="4284360" y="3931560"/>
            <a:ext cx="142920" cy="14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3348000" y="508464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ДЕФИЦ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1"/>
          <p:cNvSpPr/>
          <p:nvPr/>
        </p:nvSpPr>
        <p:spPr>
          <a:xfrm flipV="1" rot="5400000">
            <a:off x="4285440" y="1482480"/>
            <a:ext cx="142920" cy="28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3564000" y="213372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ИЗБЫ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4315680" y="3500280"/>
            <a:ext cx="174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минальная ста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процентная ставка, выраженная в рублях по текущему курс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альная ста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процентная ставка, выраженная в неизменных рублях или с поправкой на инфля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= 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альная ставка процент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п инфляци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номинальная ставка процен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Tahoma"/>
                <a:ea typeface="Tahoma"/>
              </a:rPr>
              <a:t>Инвестиции. Дисконтированная стои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щность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341360" y="981000"/>
                <a:ext cx="60292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240" y="3213000"/>
                <a:ext cx="868968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PV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П1 /(1 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 + П2/(1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/(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r)n —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PV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истая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прибыль, получаемая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еличина инвести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ктивный капитал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миссионная ценная бумаг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ины, здания, сооружения, сырье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ьные активы длительного пользования, такие, как здания, сооружения, машины, оборуд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ротны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сновно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ит в течение нескольких лет и подлежит замене (возмещению) лишь по мере физического или морального износ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боротны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ругооборот капитала 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деньги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рабочая сил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средства производств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производство…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 - 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орот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акое движение капитала, при котором авансированная стоимость полностью возмещае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1:35Z</dcterms:modified>
  <cp:revision>4</cp:revision>
  <dc:subject/>
  <dc:title>Тема 6.  Рынок капитала  и процент</dc:title>
</cp:coreProperties>
</file>