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CF45-F0B4-46B5-AB0F-9E27F55CFB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A67-839D-468E-AE8C-14B4DA63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069-1A9E-4F9D-8E77-AFF2B476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3D9-E74F-4CD2-80B2-2DAF7979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E85-1B9C-43A6-AC5C-60504464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C95-41D4-4814-B341-3CE56BC9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EA7-31AE-495B-8606-929629D5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CB3-62A2-4C54-BC5B-E05A7AA3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B2D-548C-42BE-BD34-67BFD762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2E3-53A4-4472-93F3-DB61AFDB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075-989A-47C4-B8B3-D10B3F7D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C10-69D8-4FAF-9BFC-5061129E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BC0-7DAC-4188-94C7-B5294DC7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0B74-361E-4D3F-A5C8-282FA9D3FF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13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хт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редставляет собой вознаграждение, выплачиваемое перевозчику за безопасную и сохранную доставку груз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80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фрахтовым рынк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понимается рынок морских транспортной продукции, рынок услуг по перевозке товаров мор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перевозимых груз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рыно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ухо-грузных судов и рынок танкерного тоннаж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собственности на суда и условий конкурен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крытый и закрытый ры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 географической направл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лится на 9 секций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оевропейский, Средиземноморский; Североамериканский, Южноамериканский, Тихоокеанский, Индийский, Дальневосточ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тралийский и Африканский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989000"/>
          <a:ext cx="8713800" cy="4535640"/>
        </p:xfrm>
        <a:graphic>
          <a:graphicData uri="http://schemas.openxmlformats.org/drawingml/2006/table">
            <a:tbl>
              <a:tblPr/>
              <a:tblGrid>
                <a:gridCol w="3384360"/>
                <a:gridCol w="1728720"/>
                <a:gridCol w="36007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расход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срок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антии доставки (надежность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у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транспорт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еревозч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52"/>
          <p:cNvSpPr/>
          <p:nvPr/>
        </p:nvSpPr>
        <p:spPr>
          <a:xfrm>
            <a:off x="370836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3"/>
          <p:cNvSpPr/>
          <p:nvPr/>
        </p:nvSpPr>
        <p:spPr>
          <a:xfrm flipH="1">
            <a:off x="3635280" y="40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6093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404640"/>
          <a:ext cx="8785440" cy="5472360"/>
        </p:xfrm>
        <a:graphic>
          <a:graphicData uri="http://schemas.openxmlformats.org/drawingml/2006/table">
            <a:tbl>
              <a:tblPr/>
              <a:tblGrid>
                <a:gridCol w="3168720"/>
                <a:gridCol w="1008000"/>
                <a:gridCol w="936720"/>
                <a:gridCol w="934920"/>
                <a:gridCol w="936720"/>
                <a:gridCol w="936720"/>
                <a:gridCol w="863640"/>
              </a:tblGrid>
              <a:tr h="98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ы, влияющие на выбор вида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нодоро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оби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бопро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424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рынком транспортных услуг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онимается рынок транспортной продукции, или рынок услуг по международным перевозкам груз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состоит в том, что грузоотправители и грузополучатели прежде всего выступают как продавцы и покупатели товаров, а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евозчик –  промежуточным звеном, без которого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делка купли - продаж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е может быть осуществлен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2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ранспортный факт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общественно необходимых затрат на доставку товар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от поставщика к потребителю, при этом оценивается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ая характеристика транспортного обслужи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на всем маршру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7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взаимной выг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тный принц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пределя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доход от продажи товар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издержки товародви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556000" y="2492280"/>
                <a:ext cx="41036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Э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278136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56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42Z</dcterms:modified>
  <cp:revision>7</cp:revision>
  <dc:subject/>
  <dc:title>Мировой рынок транспортных услуг</dc:title>
</cp:coreProperties>
</file>