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C92-8681-4B7F-9ED5-C51F4358D51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 представляет собой вознаграждение, выплачиваемое перевозчику за безопасную и сохранную доставку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фрахтовым рынком понимается рынок морских транспортной продукции, рынок услуг по перевозке товаров мор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перевозимых грузов на рынок сухо-грузных судов и рынок танкерного тоннаж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арактера собственности на суда и условий конкуренции на открытый и закрытый рын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географической направленности (делится на 9 секций: Североевропейский, Средиземноморский; Североамериканский, Южноамериканский, Тихоокеанский, Индийский, Дальневосточный, Австралийский и Африканск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 мировым рынком транспортных услуг понимается рынок транспортной продукции, или рынок услуг по международным перевозкам гру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 состоит в том, что грузоотправители и грузополучатели прежде всего выступают как продавцы и покупатели товаров, а перевозчик –  промежуточным звеном, без которого  сделка купли - продажи не может быть осуществл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й фактор характеризует уровень общественно необходимых затрат на доставку товаров от поставщика к потребителю, при этом оценивается эффективность и качественная характеристика транспортного обслуживания на всем маршрут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 взаимной выгоды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тный принцип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тв) определя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F – доход от продажи товаров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 тв –издержки товародви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6C6C-B10A-4010-89E0-5BD12944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E0D6-E7D9-4040-B635-10889B1B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6B43-5C5A-4888-8C0D-2F1D2B5E1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06AE-B770-4AA9-A69F-D63B08E2C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9FFC-53A4-4770-9323-F83B52BF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8995-22B9-4ED7-8076-CFCBA4D60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0C76-2EA9-4479-9661-01DE1CB4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401A-811E-4E0D-A238-15067FF48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5074-5824-4B69-AF68-C2077F1D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FDFD-32E4-44A7-89F2-33DF928E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7F42-C020-4E74-9CE9-FE5891CC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DBE-8311-4B1B-B2BF-AB0A06197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B643-DF3E-4239-936E-B7DA600412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65000"/>
            <a:ext cx="77724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портный факто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ынки транспортных услу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бор вида транспорт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684000" y="549000"/>
            <a:ext cx="81356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Фрахт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редставляет собой вознаграждение, выплачиваемое перевозчику за безопасную и сохранную доставку груз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4920" y="620280"/>
            <a:ext cx="828036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4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фрахтовым рынком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понимается рынок морских транспортной продукции, рынок услуг по перевозке товаров мор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обенности фрахтового рынка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37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ет огромные пространственные масштабы (все моря и океан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объектов перевозки выступают практически все товары мировой торговл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рахтовый рынок подразделяется в зависимости от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8508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перевозимых груз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рынок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сухо-грузных судов и рынок танкерного тоннаж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Характера собственности на суда и условий конкурен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крытый и закрытый рын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От географической направленн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делится на 9 секций: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евероевропейский, Средиземноморский; Североамериканский, Южноамериканский, Тихоокеанский, Индийский, Дальневосточны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встралийский и Африканский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выборе средств и способов транспортировки товаров первостепенное значение имеет выбор цел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250920" y="1989000"/>
          <a:ext cx="8713800" cy="4535640"/>
        </p:xfrm>
        <a:graphic>
          <a:graphicData uri="http://schemas.openxmlformats.org/drawingml/2006/table">
            <a:tbl>
              <a:tblPr/>
              <a:tblGrid>
                <a:gridCol w="3384360"/>
                <a:gridCol w="1728720"/>
                <a:gridCol w="3600720"/>
              </a:tblGrid>
              <a:tr h="45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ЕЛИ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расход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кращение сроков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рантии доставки (надежность)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ути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транспорта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ыбор оптимального перевозч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Line 52"/>
          <p:cNvSpPr/>
          <p:nvPr/>
        </p:nvSpPr>
        <p:spPr>
          <a:xfrm>
            <a:off x="3708360" y="4005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53"/>
          <p:cNvSpPr/>
          <p:nvPr/>
        </p:nvSpPr>
        <p:spPr>
          <a:xfrm flipH="1">
            <a:off x="3635280" y="400536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6093000"/>
            <a:ext cx="878544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чание: Наиболее благоприятный показатель 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79280" y="404640"/>
          <a:ext cx="8785440" cy="5472360"/>
        </p:xfrm>
        <a:graphic>
          <a:graphicData uri="http://schemas.openxmlformats.org/drawingml/2006/table">
            <a:tbl>
              <a:tblPr/>
              <a:tblGrid>
                <a:gridCol w="3168720"/>
                <a:gridCol w="1008000"/>
                <a:gridCol w="936720"/>
                <a:gridCol w="934920"/>
                <a:gridCol w="936720"/>
                <a:gridCol w="936720"/>
                <a:gridCol w="863640"/>
              </a:tblGrid>
              <a:tr h="981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акторы, влияющие на выбор вида транспорт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34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Железнодорож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втомобиль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убопровод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душны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акторы влияющие на выбор вида транспорт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78544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 – скорость (время доставки «от двери  до двери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б – частота отправок (по плану в сут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-  надежность (соблюдение графиков доставки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 – перевозочная способность (способность перевозить разные грузы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 – доступность (число обслуживаемых географических точек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 -  стоимость (за тонно-милю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42472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од </a:t>
            </a:r>
            <a:r>
              <a:rPr b="1" lang="ru-RU" sz="4800" spc="-1" strike="noStrike" u="sng">
                <a:solidFill>
                  <a:srgbClr val="000000"/>
                </a:solidFill>
                <a:uFillTx/>
                <a:latin typeface="Times New Roman"/>
              </a:rPr>
              <a:t>мировым рынком транспортных услуг</a:t>
            </a: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понимается рынок транспортной продукции, или рынок услуг по международным перевозкам груз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собенность транспортного рынк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состоит в том, что грузоотправители и грузополучатели прежде всего выступают как продавцы и покупатели товаров, а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еревозчик –  промежуточным звеном, без которого 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сделка купли - продажи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не может быть осуществлен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842472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Транспортный фактор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характеризует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уровень общественно необходимых затрат на доставку товар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от поставщика к потребителю, при этом оценивается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эффективность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lang="ru-RU" sz="4000" spc="-1" strike="noStrike" u="sng">
                <a:solidFill>
                  <a:srgbClr val="000000"/>
                </a:solidFill>
                <a:uFillTx/>
                <a:latin typeface="Times New Roman"/>
              </a:rPr>
              <a:t>качественная характеристика транспортного обслуживания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на всем маршруте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4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анспортная составляющая в цене товара зависит 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50560" y="213372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Географического расположения партнеров по отношению друг к другу и центрам международной торговл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Установления экономически обоснованных тарифов на перевозку грузов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676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учета в ценах взаимного расположения производителей и потребител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Принцип взаимной выгоды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выгоды и невыгоды расположения относительно центров мировой торговли могут делиться между партнерами поровну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Конкурентный принцип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огда производят деление выгод и невыгод местоположения на рынке в зависимости от конкуренции или соотношения спроса и предложения на товар.(При превышении спроса основная нагрузка транспортных расходов ложится на покупателя и наоборот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ранспортные условия на территории поставщика или покупателя не оказывают влияние на соответствующие экспортные и импортные цен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ономическая эффективность канала товародвижения (Э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пределяе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доход от продажи товар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т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издержки товародвижени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4"/>
              <p:cNvSpPr txBox="1"/>
              <p:nvPr/>
            </p:nvSpPr>
            <p:spPr>
              <a:xfrm>
                <a:off x="2556000" y="2492280"/>
                <a:ext cx="4103640" cy="19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Э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тв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в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26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качестве варьируемых слагаемых по перемещения товарной массы для определения оптимального варианта товародвижения рассматриваютс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2781360"/>
            <a:ext cx="87138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Транспортная схема доставки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Перевозка транзитом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копление складских запасов в промежуточных пунктах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ование различных видов транспорта и т.д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ировой рынок транспортных услуг подразделяется по 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56944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идам транспорта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 признаку стабильности грузоперевозок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иодичност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ъемам перевозимых груз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42Z</dcterms:modified>
  <cp:revision>7</cp:revision>
  <dc:subject/>
  <dc:title>Мировой рынок транспортных услуг</dc:title>
</cp:coreProperties>
</file>