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1B9-97C5-4071-B8A1-B40DB509EC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7A5-5ECE-4A3E-A73D-F19D5FD0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C9A-17FA-466A-9886-F3A58EFC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903-4DBB-4C57-822C-2BC528E8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56A-B385-4D3B-8129-8ED8F0E3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0DB7-9863-417A-8D9E-8A6A4962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8C15-8EE7-4E32-9EFB-ED7D42EB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0E80-5B2E-4F70-9479-129EA913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9355-BF57-4BCD-BAC4-B8683975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0482-E356-4AFC-AA87-180FB48D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8926-CDEE-4AEC-8C44-686991CC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87B0-FA1C-4335-BE2C-A4C1B517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7EA-45F2-4855-A333-B43E23BB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65FD-126F-4495-8A4C-9A87BEC5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8A51-040E-4B62-A30B-381E31F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9A3F-9A5E-4CF7-B9DD-AEF650FB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0F61-2745-44CB-8E48-7BBA561E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E0B2-8108-409F-BADF-272CB3E7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E72-A72D-43C7-8CB4-F0FA4EF3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2EE-A9EC-4125-8F33-294E9573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F1D-F5DB-436A-84F7-F5B64CD8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310-BD5D-40F1-A326-C7ADBB36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FFF-5FC3-4757-9BFD-FDD940A0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C4F-61DD-43FC-9C10-F7A38A66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512-F9C2-4172-80A6-186CE062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EED2-1084-4EB0-8BBA-5A2207B67D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A488-14F2-4710-9117-AB11FA8B3D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4;&#1077;&#1085;&#1072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73;&#1072;&#1085;&#1082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1"/>
          <p:cNvSpPr/>
          <p:nvPr/>
        </p:nvSpPr>
        <p:spPr>
          <a:xfrm>
            <a:off x="3557520" y="6021360"/>
            <a:ext cx="2895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6986520" y="6021360"/>
            <a:ext cx="1905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83AE-9B23-48B1-B042-92379E984B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ые отношения в эконом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71080" y="2976480"/>
            <a:ext cx="766764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Экономические систем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чные структур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нкуренция и монополия.</a:t>
            </a:r>
            <a:fld id="{B1A5131B-EE45-414B-B4B9-DFB1138CB736}" type="slidenum">
              <a:rPr b="0" lang="ru-RU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ременный рын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тановление рыночной экономики в Росси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A12B-8F66-4A63-A1C2-13F9445830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свободного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9268-11EE-454D-9F8A-AA21D2E7FC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Взаимовлияние спроса и предложения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371600" y="2209680"/>
            <a:ext cx="152280" cy="152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838080" y="2133720"/>
            <a:ext cx="43434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Спрос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общественная потреб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выраженная в денежной форме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обеспеченная платежными средствам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азмеры спроса зависят от уров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денежных доходов населения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сумм, выделяемых произв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на приобретение средств производ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15000" y="2514600"/>
            <a:ext cx="342900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Предложение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совокуп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товаров и услуг, котор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могут быть реализованы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ын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48520" y="4038480"/>
            <a:ext cx="259056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Влияет на 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(формирует его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утем формир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ассортимента  това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и услуг, и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19720" y="1676520"/>
            <a:ext cx="2438280" cy="99036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144720 h 990360"/>
              <a:gd name="textAreaBottom" fmla="*/ 845640 h 990360"/>
            </a:gdLst>
            <a:ahLst/>
            <a:rect l="textAreaLeft" t="textAreaTop" r="textAreaRight" b="textAreaBottom"/>
            <a:pathLst>
              <a:path w="21600" h="21600">
                <a:moveTo>
                  <a:pt x="15458" y="11353"/>
                </a:moveTo>
                <a:cubicBezTo>
                  <a:pt x="15480" y="11170"/>
                  <a:pt x="15491" y="10985"/>
                  <a:pt x="15491" y="10800"/>
                </a:cubicBezTo>
                <a:cubicBezTo>
                  <a:pt x="15491" y="8209"/>
                  <a:pt x="13390" y="6109"/>
                  <a:pt x="10800" y="6109"/>
                </a:cubicBezTo>
                <a:cubicBezTo>
                  <a:pt x="8209" y="6109"/>
                  <a:pt x="6109" y="8209"/>
                  <a:pt x="6109" y="10800"/>
                </a:cubicBezTo>
                <a:cubicBezTo>
                  <a:pt x="6108" y="10837"/>
                  <a:pt x="6109" y="10874"/>
                  <a:pt x="6110" y="10912"/>
                </a:cubicBezTo>
                <a:lnTo>
                  <a:pt x="3" y="11058"/>
                </a:lnTo>
                <a:cubicBezTo>
                  <a:pt x="1" y="10972"/>
                  <a:pt x="0" y="1088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26"/>
                  <a:pt x="21574" y="11652"/>
                  <a:pt x="21524" y="12075"/>
                </a:cubicBezTo>
                <a:lnTo>
                  <a:pt x="24205" y="12394"/>
                </a:lnTo>
                <a:lnTo>
                  <a:pt x="17812" y="17428"/>
                </a:lnTo>
                <a:lnTo>
                  <a:pt x="12777" y="11035"/>
                </a:lnTo>
                <a:lnTo>
                  <a:pt x="15458" y="1135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16"/>
          <p:cNvSpPr/>
          <p:nvPr/>
        </p:nvSpPr>
        <p:spPr>
          <a:xfrm flipH="1" flipV="1">
            <a:off x="4419720" y="3048120"/>
            <a:ext cx="1828800" cy="21333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15392" y="6203"/>
                </a:moveTo>
                <a:cubicBezTo>
                  <a:pt x="14174" y="4985"/>
                  <a:pt x="12522" y="4302"/>
                  <a:pt x="10800" y="4302"/>
                </a:cubicBezTo>
                <a:cubicBezTo>
                  <a:pt x="7211" y="4302"/>
                  <a:pt x="4302" y="7211"/>
                  <a:pt x="4302" y="10800"/>
                </a:cubicBezTo>
                <a:cubicBezTo>
                  <a:pt x="4301" y="10985"/>
                  <a:pt x="4309" y="11170"/>
                  <a:pt x="4325" y="11354"/>
                </a:cubicBezTo>
                <a:lnTo>
                  <a:pt x="39" y="11721"/>
                </a:lnTo>
                <a:cubicBezTo>
                  <a:pt x="13" y="11415"/>
                  <a:pt x="0" y="1110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62" y="-1"/>
                  <a:pt x="16408" y="1136"/>
                  <a:pt x="18433" y="3159"/>
                </a:cubicBezTo>
                <a:lnTo>
                  <a:pt x="20341" y="1249"/>
                </a:lnTo>
                <a:lnTo>
                  <a:pt x="20345" y="8110"/>
                </a:lnTo>
                <a:lnTo>
                  <a:pt x="13484" y="8113"/>
                </a:lnTo>
                <a:lnTo>
                  <a:pt x="15392" y="620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143000" y="4191120"/>
            <a:ext cx="2971800" cy="2286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Определяет предлож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через готовность оплат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имые товары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услуги. Чем больше спро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тем больше цена тов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и устойчи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ст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FEE1-47E9-47FE-B70B-413230B115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акторы, определяющие спрос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овой фактор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цена товара или услуги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ff"/>
                </a:solidFill>
                <a:uFillTx/>
                <a:latin typeface="Arial Narrow"/>
                <a:hlinkClick r:id="rId1"/>
              </a:rPr>
              <a:t>Цена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оличество денег, других товаров и услуг, уплачиваемое и получаемое за единицу товара или услуг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ценовые фак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Численность потенциальных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еличина дохода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личие заменителей товара или услуг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жидаемое поведение цен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енная полити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9305-72F2-4300-BB86-06944AD286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ильные стороны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циональное распределение ресурсов между различными сферами деятель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вобода выбора и действий производителей и потреби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имулирование внедрения достижений научно-технического прогресс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ездефицитность рынка, удовлетворение разнообразных потребност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5C71-D16E-4CD7-8029-1714F7BBDB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лабые стороны (“изъяны”)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940E-2E1E-4128-AFFB-CD34935A9A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Государственное регулировани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жет компенсировать изъяны рыночного регулирова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рямое(административное)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Косвенное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регулирование объемов денег в обращении, политика в области налогообложения, таможенных пошлин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4AA9-54A6-430A-9C45-CB5E72D83D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Критерии характеристики рыночной структур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объекта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товаров и услуг, труда и капитала, информации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убъектам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покупателей, продавцов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географическому положению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местный, регион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тепени ограниченности конкуренци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свободный, монополистически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оответствию законодательству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легальный, нелег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32AB-928E-44A4-8C3D-5175E0E2D9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120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ый рынок</a:t>
            </a:r>
            <a:br>
              <a:rPr sz="4400"/>
            </a:b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(Рынок ценных бумаг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вар – эмиссионные бумаг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Эмиссия (выпуск ценных бумаг)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астная(выпуск акций и облигаций акционерными компаниям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осударственная (выпуск облигаций государственных займов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0B7F-F7FE-43CD-97DB-0D04113E3B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Финансовые документы, в которых зафиксированы права их владельца или предъявител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82DE-D9E5-4082-9C79-9F69BD7E94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3288-EAA9-4AE0-9BBF-DE6BC77B1B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Экономические систем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ыночна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148E-79DD-44D7-9401-43668EB497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Облигация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3264-C8F1-453B-A9D4-A01862E90E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значейские обязательства государ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ексел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берегательные сертифика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ек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кредитив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олговые распис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вещан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B5F8-A70C-4ECE-BB93-7BA150D38D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ункции рынка ценных бумаг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здание условий для передела собственност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уществление покрытия дефицита текущего бюдже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2505-88CE-42FF-93D7-FCC2908144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ая бирж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EEAD-6514-4FC1-A967-2ADAFBD567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раструктура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вокупность институтов, служб, предприятий, обслуживающих рынок, особую роль в которой играют </a:t>
            </a:r>
            <a:r>
              <a:rPr b="0" lang="ru-RU" sz="3200" spc="-1" strike="noStrike" u="sng">
                <a:solidFill>
                  <a:srgbClr val="6666ff"/>
                </a:solidFill>
                <a:uFillTx/>
                <a:latin typeface="Arial Black"/>
                <a:hlinkClick r:id="rId1"/>
              </a:rPr>
              <a:t>банк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92EF-DA26-4048-81FF-4EBA8574A3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соперничество фирм покупателей и продавцов на рынк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ополистическ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лигополистическ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совершенн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нов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ценов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9294-69E3-4C2A-95EF-0FB1F75982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Недобросовестная 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E369-EA0C-4D20-AA10-5ED18A22CD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Чистая конкуренц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совершенная, идеаль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53D5-3F66-4CAD-BCC2-F0DFC719D5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ичины возникновения монопол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 Black"/>
              </a:rPr>
              <a:t>Монопольная цена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7E38-4DB9-4590-BF82-E115AFEB5B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Взаимодействие рынка и государств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вляется обязательной составляющей механизма возникновения монополи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219320" y="2895480"/>
          <a:ext cx="7924680" cy="3645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пуститель-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ощрение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восходство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становление естественных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не противостоит возникновению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о поощряет возникновение монополий путем установления тарифов, патентов, при реализации политики протекцион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допускает превосходство монополиста в технологиях, вт.ч. управленческих, что ведет к разорению остальных продавц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ление государственных монополий (на пользование или добычу сырья, выпуск денег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5CC8-E4D1-4C5B-905D-18A8FC5F9D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Традиционная экономика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изводство обмен, распределение доходов базируются на освященных временем обыча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7D57-CDEA-4F36-88C3-A6DCA3FDEC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55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ом средств производства и ресурсов является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полностью регулирует все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определяется государством, есть черный рынок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EF21-732F-458C-8B13-1B7EDCBE16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еобладает частная собственность на ресурс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Существует конкурентная сред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Цены и уровень зарплаты складываются стихийно,  под влиянием спроса и предлож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Государство выступает в роли частной фирм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27E9-50F1-4583-82F2-67A79A1B59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Смешан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в основном регулирует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3049-DBEA-4B5F-A5FD-5BB33F1D29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          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к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дельная сфера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есто для осуществления торговых операци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B8F1-4665-4545-AAEE-88CDC25B31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ое предложение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роизводитель свободно решает, что, как, сколько, для кого производить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ый спрос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отребитель сам решает, что, где, как, сколько покупать)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ая (свободная) цена зависит от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BA1D-AA6D-499E-95AD-3F84D3E2C1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19320" y="2209680"/>
            <a:ext cx="167616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Финансовы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809880" y="2209680"/>
            <a:ext cx="16765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ова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и услу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2209680"/>
            <a:ext cx="18288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факто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219320" y="3429000"/>
            <a:ext cx="1143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дене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819520" y="3581280"/>
            <a:ext cx="12952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апит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181480" y="3581280"/>
            <a:ext cx="12956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зем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7543800" y="3657600"/>
            <a:ext cx="13716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ру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AutoShape 19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20"/>
          <p:cNvCxnSpPr>
            <a:stCxn id="172" idx="2"/>
            <a:endCxn id="176" idx="0"/>
          </p:cNvCxnSpPr>
          <p:nvPr/>
        </p:nvCxnSpPr>
        <p:spPr>
          <a:xfrm>
            <a:off x="2057400" y="3047760"/>
            <a:ext cx="14104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21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2"/>
          <p:cNvCxnSpPr>
            <a:stCxn id="174" idx="2"/>
            <a:endCxn id="177" idx="0"/>
          </p:cNvCxnSpPr>
          <p:nvPr/>
        </p:nvCxnSpPr>
        <p:spPr>
          <a:xfrm flipH="1">
            <a:off x="5829120" y="3124080"/>
            <a:ext cx="16387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3"/>
          <p:cNvCxnSpPr>
            <a:stCxn id="174" idx="2"/>
            <a:endCxn id="178" idx="0"/>
          </p:cNvCxnSpPr>
          <p:nvPr/>
        </p:nvCxnSpPr>
        <p:spPr>
          <a:xfrm>
            <a:off x="7467120" y="3124080"/>
            <a:ext cx="76284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Rectangle 24"/>
          <p:cNvSpPr/>
          <p:nvPr/>
        </p:nvSpPr>
        <p:spPr>
          <a:xfrm>
            <a:off x="1523880" y="4876920"/>
            <a:ext cx="14479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ценных бума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505320" y="4876920"/>
            <a:ext cx="13716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реди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400800" y="4724280"/>
            <a:ext cx="1371600" cy="10670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AutoShape 28"/>
          <p:cNvCxnSpPr>
            <a:stCxn id="174" idx="2"/>
            <a:endCxn id="186" idx="0"/>
          </p:cNvCxnSpPr>
          <p:nvPr/>
        </p:nvCxnSpPr>
        <p:spPr>
          <a:xfrm flipH="1">
            <a:off x="7086240" y="3123720"/>
            <a:ext cx="381600" cy="1600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1"/>
          <p:cNvCxnSpPr>
            <a:stCxn id="176" idx="2"/>
            <a:endCxn id="184" idx="0"/>
          </p:cNvCxnSpPr>
          <p:nvPr/>
        </p:nvCxnSpPr>
        <p:spPr>
          <a:xfrm flipH="1">
            <a:off x="2247120" y="4267080"/>
            <a:ext cx="12200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2"/>
          <p:cNvCxnSpPr>
            <a:stCxn id="176" idx="2"/>
            <a:endCxn id="185" idx="0"/>
          </p:cNvCxnSpPr>
          <p:nvPr/>
        </p:nvCxnSpPr>
        <p:spPr>
          <a:xfrm>
            <a:off x="3466800" y="4267080"/>
            <a:ext cx="7246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Rectangle 33"/>
          <p:cNvSpPr/>
          <p:nvPr/>
        </p:nvSpPr>
        <p:spPr>
          <a:xfrm>
            <a:off x="3200400" y="457200"/>
            <a:ext cx="2819520" cy="1143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932"/>
                </a:solidFill>
                <a:latin typeface="Arial Black"/>
              </a:rPr>
              <a:t>Рын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AutoShape 39"/>
          <p:cNvCxnSpPr>
            <a:stCxn id="190" idx="2"/>
            <a:endCxn id="172" idx="0"/>
          </p:cNvCxnSpPr>
          <p:nvPr/>
        </p:nvCxnSpPr>
        <p:spPr>
          <a:xfrm flipH="1">
            <a:off x="2057040" y="1599840"/>
            <a:ext cx="25531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AutoShape 40"/>
          <p:cNvCxnSpPr>
            <a:stCxn id="190" idx="2"/>
            <a:endCxn id="174" idx="0"/>
          </p:cNvCxnSpPr>
          <p:nvPr/>
        </p:nvCxnSpPr>
        <p:spPr>
          <a:xfrm>
            <a:off x="4609800" y="1599840"/>
            <a:ext cx="285804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0" idx="2"/>
          </p:cNvCxnSpPr>
          <p:nvPr/>
        </p:nvCxnSpPr>
        <p:spPr>
          <a:xfrm>
            <a:off x="4609800" y="15998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56Z</dcterms:modified>
  <cp:revision>35</cp:revision>
  <dc:subject/>
  <dc:title>PowerPoint Presentation</dc:title>
</cp:coreProperties>
</file>