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917280" y="735120"/>
            <a:ext cx="490068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C700-4563-4B74-99B8-D9920306F8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е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струк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овление рыночной экономики в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е отношения в экономи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ие систем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е структур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нкуренция и монополия.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ременный рынок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ановление рыночной экономики в Росс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и свободного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знаки свободного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влияние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– общественная потребн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женная в денежной форме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ная платежными средствам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ы спроса зависят от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х доходов населения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мм, выделяемых производител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риобретение средств производств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– совокуп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ов и услуг, котор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гут быть реализованы 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ет на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формирует его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тем форм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ссортимента  това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услуг, и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ет пред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з готовность оплат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мые товары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уги. Чем больше спрос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 больше цена това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устойчив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влияние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ос – общественная потребность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ыраженная в денежной форме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еспеченная платежными средствами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еры спроса зависят от уровн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нежных доходов населения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мм, выделяемых производителям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приобретение средств производства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– совокупнос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ов и услуг, котор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гут быть реализованы 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лияет на с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формирует его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утем формирова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ссортимента  това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услуг, их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ределяет предлож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рез готовность оплати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имые товары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луги. Чем больше спрос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 больше цена товар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устойчив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, определяющие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овой фактор (цена товара или услуг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– количество денег, других товаров и услуг, уплачиваемое и получаемое за единицу товара или услу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енность потенциальных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дохода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заменителей товара ил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жидаемое поведение ц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а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ы, определяющие с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овой фактор (цена товара или услуг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а – количество денег, других товаров и услуг, уплачиваемое и получаемое за единицу товара или услуг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ценовые фактор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исленность потенциальных покупа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личина дохода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заменителей товара или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жидаемое поведение цен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ая полит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льные стороны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циональное распределение ресурсов между различными сферами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а выбора и действий производителей и потреб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 качества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мулирование внедрения достижений научно-технического прог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дефицитность рынка, удовлетворение разнообразных потребн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ьные стороны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циональное распределение ресурсов между различными сферами 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вобода выбора и действий производителей и потреби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ышение качества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мулирование внедрения достижений научно-технического прогрес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ездефицитность рынка, удовлетворение разнообразных потребност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бые стороны (“изъяны”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абые стороны (“изъяны”)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компенсировать изъяны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ое(административное):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свенное: регулирование объемов денег в обращении, политика в области налогообложения, таможенных пошлин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ет компенсировать изъяны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ямое(административное):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свенное: регулирование объемов денег в обращении, политика в области налогообложения, таможенных пошлин и т.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характеристики рыночной струк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объект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товаров и услуг, труда и капитала, информации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убъект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купателей, продавцов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географическому положению (местный, региональны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тепени ограниченности конкурен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вободный, монополистически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оответствию законодательству (легальный, нелегальны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терии характеристики рыночной структур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объекта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товаров и услуг, труда и капитала, информации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убъекта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покупателей, продавцов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географическому положению (местный, региональны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тепени ограниченности конкуренци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свободный, монополистически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оответствию законодательству (легальный, нелегальны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ндовый рынок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Рынок ценных бумаг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 – эмиссионные бумаг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миссия (выпуск ценных бумаг)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астная(выпуск акций и облигаций акционерными компаниям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ая (выпуск облигаций государственных займов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довый рын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Рынок ценных бумаг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 – эмиссионные бума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иссия (выпуск ценных бумаг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(выпуск акций и облигаций акционерными компания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ая (выпуск облигаций государственных займ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 документы, в которых зафиксированы права их владельца или предъяв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инансовые документы, в которых зафиксированы права их владельца или предъявит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я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ция –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е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дицио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ие систе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дицио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лигация 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значейские обязательства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кс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берегательные сертификат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к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кредитив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лговые распис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веща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значейские обязательства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кс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ерегательные сертифик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креди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говые рас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ещ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рынка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условий для передела 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уществление покрытия дефицита текущего бюдж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ункции рынка ценных бума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здание условий для передела соб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уществление покрытия дефицита текущего бюдже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довая бир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ндовая бирж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окупность институтов, служб, предприятий, обслуживающих рынок, особую роль в которой играют банк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институтов, служб, предприятий, обслуживающих рынок, особую роль в которой играют ба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перничество фирм покупателей и продавцов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ополист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лигополистиче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оверш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ов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нкуренц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перничество фирм покупателей и продавцов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ополистическ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лигополистическ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соверше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ов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ценов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бросовестная конкурен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 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добросовестная конкуренц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 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ая конкурен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овершенная, идеаль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истая конкуренц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совершенная, идеаль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монопо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опольная цена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возникновения монопол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опольная цена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рынка и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вляется обязательной составляющей механизма возникновения монопо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действие рынка и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Является обязательной составляющей механизма возникновения монопол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дицион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о обмен, распределение доходов базируются на освященных временем обыча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дицион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о обмен, распределение доходов базируются на освященных временем обычая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ом средств производства и ресурсов является 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полностью регулирует все экономически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зарплаты и цен определяется государством, есть черный 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иком средств производства и ресурсов является государ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полностью регулирует все экономические процес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зарплаты и цен определяется государством, есть черный рынок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обладает частная собственность на 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конкурентная сре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и уровень зарплаты складываются стихийно, 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 в роли частной 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обладает частная собственность на ресур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ществует конкурентная сре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ы и уровень зарплаты складываются стихийно,  под влиянием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выступает в роли частной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 основном регулирует экономически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мешан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в основном регулирует экономические процес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ьная сфера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для осуществления торговых опер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дельная сфер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сто для осуществления торговых операц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ое предложение (производитель свободно решает, что, как, сколько, для кого производит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ый спрос (потребитель сам решает, что, где, как, сколько покупать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ая (свободная) цена зависит от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знаки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ое предложение (производитель свободно решает, что, как, сколько, для кого производить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ый спрос (потребитель сам решает, что, где, как, сколько покупать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ая (свободная) цена зависит от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факто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ди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инансовы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това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факто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не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х бума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едит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ст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1E52-8040-48CB-8419-74BC9E84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0AC-F402-485F-B603-7DFBED41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03D-43F1-4CC9-A88A-396E10B2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D299-B944-4A58-B3D4-F91F83D8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65BD-1EF6-481D-8B66-C07A7035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11B4-4A6B-4ED1-8703-D273F8DB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DFF7-FF95-49B6-8EF8-2C37D596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DFD2-000A-4B19-B413-99A3FB4B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B39E-0EB0-412F-9994-B2D84811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513A-BAC9-41DC-83F7-4ED8484D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BEFD-EA76-4883-B676-62754B69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9779-C946-4B38-9905-BF6FA546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9C5A-A421-40B1-A398-85763391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8468-7193-4D93-8695-21280D3D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80F3-C2BD-42C8-96D1-2E63B06F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A052-0EF1-4F8E-BB41-72761306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2B04-7E89-4A56-B606-689DE538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034-7AC3-43F0-9DE2-F5FA1F00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824-48FF-47BB-9EBE-5A47EBEE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43E8-30A3-4C6F-9FD0-2882FC65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94D-3A56-40A3-AB52-758F085A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6AF-8D42-4F9B-85F3-57352BF9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FA0-02F8-4FB1-B181-118B23DD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6AF-96D2-4581-A4B0-B710E160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8B58-E2EF-4971-8B16-36746131A5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BFA3-7F04-4DF4-A5E4-79B1A375D5F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94;&#1077;&#1085;&#1072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73;&#1072;&#1085;&#1082;&#108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1"/>
          <p:cNvSpPr/>
          <p:nvPr/>
        </p:nvSpPr>
        <p:spPr>
          <a:xfrm>
            <a:off x="3557520" y="6021360"/>
            <a:ext cx="28958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32"/>
          <p:cNvSpPr/>
          <p:nvPr/>
        </p:nvSpPr>
        <p:spPr>
          <a:xfrm>
            <a:off x="6986520" y="6021360"/>
            <a:ext cx="1905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D84D-168D-45FC-A697-353406C337B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4160" y="108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чные отношения в экономик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71080" y="2976480"/>
            <a:ext cx="766764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Экономические систем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ыночные структур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нкуренция и монополия.</a:t>
            </a:r>
            <a:fld id="{F2D78AA3-6017-4E7A-8DA9-F7CC65610DE9}" type="slidenum">
              <a:rPr b="0" lang="ru-RU" sz="2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овременный рынок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тановление рыночной экономики в Росси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FCC3-A91C-4B38-9AE7-B0559D1708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Признаки свободного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ижний колонтитул 3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Номер слайда 4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3F86-614A-46E7-B6D4-2BE0C68EF6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Взаимовлияние спроса и предложения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371600" y="2209680"/>
            <a:ext cx="152280" cy="152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838080" y="2133720"/>
            <a:ext cx="4343400" cy="2057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2"/>
                </a:solidFill>
                <a:latin typeface="Times New Roman"/>
              </a:rPr>
              <a:t>Спрос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– общественная потребность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выраженная в денежной форме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обеспеченная платежными средствам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размеры спроса зависят от уровн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денежных доходов населения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сумм, выделяемых производителям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на приобретение средств производств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715000" y="2514600"/>
            <a:ext cx="3429000" cy="15238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2"/>
                </a:solidFill>
                <a:latin typeface="Times New Roman"/>
              </a:rPr>
              <a:t>Предложение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– совокуп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товаров и услуг, котор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могут быть реализованы 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рынк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6248520" y="4038480"/>
            <a:ext cx="2590560" cy="16765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Влияет на спро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(формирует его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утем формирова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ассортимента  товар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и услуг, их це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4419720" y="1676520"/>
            <a:ext cx="2438280" cy="990360"/>
          </a:xfrm>
          <a:custGeom>
            <a:avLst/>
            <a:gdLst>
              <a:gd name="textAreaLeft" fmla="*/ 356760 w 2438280"/>
              <a:gd name="textAreaRight" fmla="*/ 2081520 w 2438280"/>
              <a:gd name="textAreaTop" fmla="*/ 144720 h 990360"/>
              <a:gd name="textAreaBottom" fmla="*/ 845640 h 990360"/>
            </a:gdLst>
            <a:ahLst/>
            <a:rect l="textAreaLeft" t="textAreaTop" r="textAreaRight" b="textAreaBottom"/>
            <a:pathLst>
              <a:path w="21600" h="21600">
                <a:moveTo>
                  <a:pt x="15458" y="11353"/>
                </a:moveTo>
                <a:cubicBezTo>
                  <a:pt x="15480" y="11170"/>
                  <a:pt x="15491" y="10985"/>
                  <a:pt x="15491" y="10800"/>
                </a:cubicBezTo>
                <a:cubicBezTo>
                  <a:pt x="15491" y="8209"/>
                  <a:pt x="13390" y="6109"/>
                  <a:pt x="10800" y="6109"/>
                </a:cubicBezTo>
                <a:cubicBezTo>
                  <a:pt x="8209" y="6109"/>
                  <a:pt x="6109" y="8209"/>
                  <a:pt x="6109" y="10800"/>
                </a:cubicBezTo>
                <a:cubicBezTo>
                  <a:pt x="6108" y="10837"/>
                  <a:pt x="6109" y="10874"/>
                  <a:pt x="6110" y="10912"/>
                </a:cubicBezTo>
                <a:lnTo>
                  <a:pt x="3" y="11058"/>
                </a:lnTo>
                <a:cubicBezTo>
                  <a:pt x="1" y="10972"/>
                  <a:pt x="0" y="10886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226"/>
                  <a:pt x="21574" y="11652"/>
                  <a:pt x="21524" y="12075"/>
                </a:cubicBezTo>
                <a:lnTo>
                  <a:pt x="24205" y="12394"/>
                </a:lnTo>
                <a:lnTo>
                  <a:pt x="17812" y="17428"/>
                </a:lnTo>
                <a:lnTo>
                  <a:pt x="12777" y="11035"/>
                </a:lnTo>
                <a:lnTo>
                  <a:pt x="15458" y="11353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16"/>
          <p:cNvSpPr/>
          <p:nvPr/>
        </p:nvSpPr>
        <p:spPr>
          <a:xfrm flipH="1" flipV="1">
            <a:off x="4419720" y="3048120"/>
            <a:ext cx="1828800" cy="213336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312120 h 2133360"/>
              <a:gd name="textAreaBottom" fmla="*/ 1821240 h 2133360"/>
            </a:gdLst>
            <a:ahLst/>
            <a:rect l="textAreaLeft" t="textAreaTop" r="textAreaRight" b="textAreaBottom"/>
            <a:pathLst>
              <a:path w="21600" h="21600">
                <a:moveTo>
                  <a:pt x="15392" y="6203"/>
                </a:moveTo>
                <a:cubicBezTo>
                  <a:pt x="14174" y="4985"/>
                  <a:pt x="12522" y="4302"/>
                  <a:pt x="10800" y="4302"/>
                </a:cubicBezTo>
                <a:cubicBezTo>
                  <a:pt x="7211" y="4302"/>
                  <a:pt x="4302" y="7211"/>
                  <a:pt x="4302" y="10800"/>
                </a:cubicBezTo>
                <a:cubicBezTo>
                  <a:pt x="4301" y="10985"/>
                  <a:pt x="4309" y="11170"/>
                  <a:pt x="4325" y="11354"/>
                </a:cubicBezTo>
                <a:lnTo>
                  <a:pt x="39" y="11721"/>
                </a:lnTo>
                <a:cubicBezTo>
                  <a:pt x="13" y="11415"/>
                  <a:pt x="0" y="11107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3662" y="-1"/>
                  <a:pt x="16408" y="1136"/>
                  <a:pt x="18433" y="3159"/>
                </a:cubicBezTo>
                <a:lnTo>
                  <a:pt x="20341" y="1249"/>
                </a:lnTo>
                <a:lnTo>
                  <a:pt x="20345" y="8110"/>
                </a:lnTo>
                <a:lnTo>
                  <a:pt x="13484" y="8113"/>
                </a:lnTo>
                <a:lnTo>
                  <a:pt x="15392" y="6203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1143000" y="4191120"/>
            <a:ext cx="2971800" cy="2286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Определяет предлож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через готовность оплати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оизводимые товары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услуги. Чем больше спрос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тем больше цена товар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и устойчиво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оизводств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1D08-0D6B-4079-B7C9-9513AEB06AF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акторы, определяющие спрос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новой фактор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цена товара или услуги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ff"/>
                </a:solidFill>
                <a:uFillTx/>
                <a:latin typeface="Arial Narrow"/>
                <a:hlinkClick r:id="rId1"/>
              </a:rPr>
              <a:t>Цена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оличество денег, других товаров и услуг, уплачиваемое и получаемое за единицу товара или услуг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еценовые факторы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Численность потенциальных покупа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еличина дохода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Наличие заменителей товара или услуг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жидаемое поведение цен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енная политик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6F31-AF68-43C5-9683-CE917BE2A8D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Сильные стороны рыночного регулирования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8483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ациональное распределение ресурсов между различными сферами деятельн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вобода выбора и действий производителей и потреби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овышение качества товаров и услуг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тимулирование внедрения достижений научно-технического прогресс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Бездефицитность рынка, удовлетворение разнообразных потребност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17BC-B4D0-485C-AD7F-5406D6494D5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Слабые стороны (“изъяны”)</a:t>
            </a:r>
            <a:br>
              <a:rPr sz="3600"/>
            </a:b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рыночного регулирования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616A-578B-432C-8807-EA05769670A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Государственное регулировани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ожет компенсировать изъяны рыночного регулирован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Прямое(административное)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Косвенное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регулирование объемов денег в обращении, политика в области налогообложения, таможенных пошлин и т.п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E8F8-F1E9-4B0E-97AE-37701726F5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Критерии характеристики рыночной структуры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объекта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товаров и услуг, труда и капитала, информации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убъектам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покупателей, продавцов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географическому положению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местный, региональны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тепени ограниченности конкуренции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свободный, монополистически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оответствию законодательству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легальный, нелегальны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56BD-9C37-43C3-BE3B-F96DF94A7B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99840" y="1202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ондовый рынок</a:t>
            </a:r>
            <a:br>
              <a:rPr sz="4400"/>
            </a:b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(Рынок ценных бумаг)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овар – эмиссионные бумаг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Эмиссия (выпуск ценных бумаг)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Частная(выпуск акций и облигаций акционерными компаниями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Государственная (выпуск облигаций государственных займов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FA16-B72D-48FE-9046-37ABB1AABCD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Финансовые документы, в которых зафиксированы права их владельца или предъявител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D3B2-99C2-4C00-9039-F942909DAD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          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Акция –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0096-FBCB-48FB-BD92-313B7A2979B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874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Экономические системы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радиционна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омандно-административная (централизованная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Рыночная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мешанна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CE11-19C5-4768-BA67-9E2B19234B5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Облигация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BD1C-AED9-44AA-9EA0-7B842734A9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азначейские обязательства государст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ексел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берегательные сертификат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Чеки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ккредитив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олговые расписк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вещания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131E-C5D8-4E5C-B898-21143986D32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ункции рынка ценных бумаг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оздание условий для передела собственност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существление покрытия дефицита текущего бюджет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3781-3801-4C79-9735-B4AACC69A31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ондовая бирж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0ABE-D2BB-4051-827F-2392AC093A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Инфраструктура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овокупность институтов, служб, предприятий, обслуживающих рынок, особую роль в которой играют </a:t>
            </a:r>
            <a:r>
              <a:rPr b="0" lang="ru-RU" sz="3200" spc="-1" strike="noStrike" u="sng">
                <a:solidFill>
                  <a:srgbClr val="6666ff"/>
                </a:solidFill>
                <a:uFillTx/>
                <a:latin typeface="Arial Black"/>
                <a:hlinkClick r:id="rId1"/>
              </a:rPr>
              <a:t>банки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8D74-F605-42BE-A38C-FF3DC48C0AA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Конкуренция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соперничество фирм покупателей и продавцов на рынк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онополистическ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Олигополистическая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совершенн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Ценовая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ценов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A5C1-8892-4D4D-BE1C-FEEB6F1798E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Недобросовестная конкуренция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7895-40D5-4A09-A0F3-8361C28E669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Чистая конкуренция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(совершенная, идеальная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A5C3-C920-4E28-9C25-D811E4F966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Причины возникновения монополии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 Black"/>
              </a:rPr>
              <a:t>Монопольная цена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E773-FE3D-499E-AAFE-39EE7DA5E6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Взаимодействие рынка и государств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Является обязательной составляющей механизма возникновения монополии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219320" y="2895480"/>
          <a:ext cx="7924680" cy="36450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пуститель-ств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ощрение 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евосходство 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Установление естественных монопол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литика не противостоит возникновению монопол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о поощряет возникновение монополий путем установления тарифов, патентов, при реализации политики протекцион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литика допускает превосходство монополиста в технологиях, вт.ч. управленческих, что ведет к разорению остальных продавц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ление государственных монополий (на пользование или добычу сырья, выпуск денег и т.п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82AA-BD03-4260-A5A4-F180A5B76B1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874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Традиционная экономика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оизводство обмен, распределение доходов базируются на освященных временем обычая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E9BA-821B-4577-83AE-9886E15184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55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Командно-административная (централизованная)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обственником средств производства и ресурсов является государ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о полностью регулирует все экономические процесс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ровень зарплаты и цен определяется государством, есть черный рынок товаров и услуг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E576-5CF0-49A4-AEE5-EAF276B10BC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чная экономи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Преобладает частная собственность на ресурс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Существует конкурентная среда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Цены и уровень зарплаты складываются стихийно,  под влиянием спроса и предлож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Государство выступает в роли частной фирм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E9AC-BDC2-46F2-985D-8C6264DAD4C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Смешанная экономи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о в основном регулирует экономические процесс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EC1F-3AC4-4C91-AE93-6EB195A06E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            </a:t>
            </a: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к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тдельная сфера экономик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Место для осуществления торговых операци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A8B1-3E39-4F51-8A13-565EB5343FE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Признаки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ое предложение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(производитель свободно решает, что, как, сколько, для кого производить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ый спрос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(потребитель сам решает, что, где, как, сколько покупать)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ая (свободная) цена зависит от спроса и предлож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ижний колонтитул 3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Номер слайда 4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14B4-C928-4FDE-A25C-7CA0CA2025C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219320" y="2209680"/>
            <a:ext cx="167616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Финансовы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809880" y="2209680"/>
            <a:ext cx="167652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товар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и услу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553080" y="2209680"/>
            <a:ext cx="182880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фактор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производ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1219320" y="3429000"/>
            <a:ext cx="11430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дене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2819520" y="3581280"/>
            <a:ext cx="1295280" cy="6858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капитал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5181480" y="3581280"/>
            <a:ext cx="129564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земл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7543800" y="3657600"/>
            <a:ext cx="13716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тру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9" name="AutoShape 19"/>
          <p:cNvCxnSpPr>
            <a:stCxn id="172" idx="2"/>
            <a:endCxn id="175" idx="0"/>
          </p:cNvCxnSpPr>
          <p:nvPr/>
        </p:nvCxnSpPr>
        <p:spPr>
          <a:xfrm flipH="1">
            <a:off x="1790280" y="3048120"/>
            <a:ext cx="26712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AutoShape 20"/>
          <p:cNvCxnSpPr>
            <a:stCxn id="172" idx="2"/>
            <a:endCxn id="176" idx="0"/>
          </p:cNvCxnSpPr>
          <p:nvPr/>
        </p:nvCxnSpPr>
        <p:spPr>
          <a:xfrm>
            <a:off x="2057400" y="3047760"/>
            <a:ext cx="14104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1" name="AutoShape 21"/>
          <p:cNvCxnSpPr>
            <a:stCxn id="172" idx="2"/>
            <a:endCxn id="175" idx="0"/>
          </p:cNvCxnSpPr>
          <p:nvPr/>
        </p:nvCxnSpPr>
        <p:spPr>
          <a:xfrm flipH="1">
            <a:off x="1790280" y="3048120"/>
            <a:ext cx="26712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AutoShape 22"/>
          <p:cNvCxnSpPr>
            <a:stCxn id="174" idx="2"/>
            <a:endCxn id="177" idx="0"/>
          </p:cNvCxnSpPr>
          <p:nvPr/>
        </p:nvCxnSpPr>
        <p:spPr>
          <a:xfrm flipH="1">
            <a:off x="5829120" y="3124080"/>
            <a:ext cx="16387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3" name="AutoShape 23"/>
          <p:cNvCxnSpPr>
            <a:stCxn id="174" idx="2"/>
            <a:endCxn id="178" idx="0"/>
          </p:cNvCxnSpPr>
          <p:nvPr/>
        </p:nvCxnSpPr>
        <p:spPr>
          <a:xfrm>
            <a:off x="7467120" y="3124080"/>
            <a:ext cx="76284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4" name="Rectangle 24"/>
          <p:cNvSpPr/>
          <p:nvPr/>
        </p:nvSpPr>
        <p:spPr>
          <a:xfrm>
            <a:off x="1523880" y="4876920"/>
            <a:ext cx="144792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ценных бума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3505320" y="4876920"/>
            <a:ext cx="13716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креди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6400800" y="4724280"/>
            <a:ext cx="1371600" cy="10670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средст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производ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7" name="AutoShape 28"/>
          <p:cNvCxnSpPr>
            <a:stCxn id="174" idx="2"/>
            <a:endCxn id="186" idx="0"/>
          </p:cNvCxnSpPr>
          <p:nvPr/>
        </p:nvCxnSpPr>
        <p:spPr>
          <a:xfrm flipH="1">
            <a:off x="7086240" y="3123720"/>
            <a:ext cx="381600" cy="1600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1"/>
          <p:cNvCxnSpPr>
            <a:stCxn id="176" idx="2"/>
            <a:endCxn id="184" idx="0"/>
          </p:cNvCxnSpPr>
          <p:nvPr/>
        </p:nvCxnSpPr>
        <p:spPr>
          <a:xfrm flipH="1">
            <a:off x="2247120" y="4267080"/>
            <a:ext cx="122004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2"/>
          <p:cNvCxnSpPr>
            <a:stCxn id="176" idx="2"/>
            <a:endCxn id="185" idx="0"/>
          </p:cNvCxnSpPr>
          <p:nvPr/>
        </p:nvCxnSpPr>
        <p:spPr>
          <a:xfrm>
            <a:off x="3466800" y="4267080"/>
            <a:ext cx="7246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0" name="Rectangle 33"/>
          <p:cNvSpPr/>
          <p:nvPr/>
        </p:nvSpPr>
        <p:spPr>
          <a:xfrm>
            <a:off x="3200400" y="457200"/>
            <a:ext cx="2819520" cy="1143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1932"/>
                </a:solidFill>
                <a:latin typeface="Arial Black"/>
              </a:rPr>
              <a:t>Рын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1" name="AutoShape 39"/>
          <p:cNvCxnSpPr>
            <a:stCxn id="190" idx="2"/>
            <a:endCxn id="172" idx="0"/>
          </p:cNvCxnSpPr>
          <p:nvPr/>
        </p:nvCxnSpPr>
        <p:spPr>
          <a:xfrm flipH="1">
            <a:off x="2057040" y="1599840"/>
            <a:ext cx="255312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2" name="AutoShape 40"/>
          <p:cNvCxnSpPr>
            <a:stCxn id="190" idx="2"/>
            <a:endCxn id="174" idx="0"/>
          </p:cNvCxnSpPr>
          <p:nvPr/>
        </p:nvCxnSpPr>
        <p:spPr>
          <a:xfrm>
            <a:off x="4609800" y="1599840"/>
            <a:ext cx="285804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0" idx="2"/>
          </p:cNvCxnSpPr>
          <p:nvPr/>
        </p:nvCxnSpPr>
        <p:spPr>
          <a:xfrm>
            <a:off x="4609800" y="15998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1:56Z</dcterms:modified>
  <cp:revision>35</cp:revision>
  <dc:subject/>
  <dc:title>PowerPoint Presentation</dc:title>
</cp:coreProperties>
</file>