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9F0-78D8-4BCB-96E1-D121089787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69D-F819-4C39-A94E-55A78218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D58-A7A9-43F9-9459-7F48DE08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AB6-FD9D-4AEE-BB75-E7CF5686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D6F-BB2E-430F-838E-ACD31223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7FBB-8552-4976-9093-756E09B7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9F56-5844-47D1-986D-855D57EA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D71B-41EF-43B9-96EF-3E6D505D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98D2-6E2D-44B8-9D13-7370AF44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4D90-2D5A-4901-996E-23462435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3F7F-EA7B-4BB2-9BF2-1A76D2FC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35B9-7A3C-4476-9DF4-AF68508F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35C-6E84-4618-9096-12D38B11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D263-6F67-4189-94EA-EE03F104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98B3-B413-4FFA-A05F-024531E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12D3-6C26-40A8-93A8-973E64C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EC86-E758-401D-A90F-9C1ECD7F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D5D5-E58A-44A6-85A4-F279A0C9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D4F-5310-451F-A135-7B7260BD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35E-3F4A-468C-B9E4-610DBFDF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E2E-9ED3-4DD8-83B7-02C7AB45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EFE-2555-44C5-92FF-E6080495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707-A08B-40E2-B4CB-0B4EDCD4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E4F-E8BC-4D0F-AD6F-FD2CD462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605-8814-4D52-9173-00E2B82F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13C5-36A6-4088-A94B-740CF10EE9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8A9E-E995-43C7-B345-F30829F9A1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4;&#1077;&#1085;&#1072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73;&#1072;&#1085;&#1082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1"/>
          <p:cNvSpPr/>
          <p:nvPr/>
        </p:nvSpPr>
        <p:spPr>
          <a:xfrm>
            <a:off x="3557520" y="6021360"/>
            <a:ext cx="2895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6986520" y="6021360"/>
            <a:ext cx="1905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2F37-D6BC-4EE5-A942-4DA5753A89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ые отношения в эконом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71080" y="2976480"/>
            <a:ext cx="766764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Экономические систем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чные структур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нкуренция и монополия.</a:t>
            </a:r>
            <a:fld id="{AE75045F-565C-4B73-9DC2-D6587E96A2CA}" type="slidenum">
              <a:rPr b="0" lang="ru-RU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ременный рын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тановление рыночной экономики в Росси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EC27-8717-4666-AE06-D4121B055C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свободного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433D-5136-4965-8081-A8C9574AEF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Взаимовлияние спроса и предложения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371600" y="2209680"/>
            <a:ext cx="152280" cy="152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838080" y="2133720"/>
            <a:ext cx="43434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Спрос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общественная потреб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выраженная в денежной форме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обеспеченная платежными средствам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азмеры спроса зависят от уров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денежных доходов населения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сумм, выделяемых произв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на приобретение средств производ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15000" y="2514600"/>
            <a:ext cx="342900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Предложение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совокуп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товаров и услуг, котор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могут быть реализованы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ын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48520" y="4038480"/>
            <a:ext cx="259056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Влияет на 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(формирует его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утем формир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ассортимента  това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и услуг, и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19720" y="1676520"/>
            <a:ext cx="2438280" cy="99036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144720 h 990360"/>
              <a:gd name="textAreaBottom" fmla="*/ 845640 h 990360"/>
            </a:gdLst>
            <a:ahLst/>
            <a:rect l="textAreaLeft" t="textAreaTop" r="textAreaRight" b="textAreaBottom"/>
            <a:pathLst>
              <a:path w="21600" h="21600">
                <a:moveTo>
                  <a:pt x="15458" y="11353"/>
                </a:moveTo>
                <a:cubicBezTo>
                  <a:pt x="15480" y="11170"/>
                  <a:pt x="15491" y="10985"/>
                  <a:pt x="15491" y="10800"/>
                </a:cubicBezTo>
                <a:cubicBezTo>
                  <a:pt x="15491" y="8209"/>
                  <a:pt x="13390" y="6109"/>
                  <a:pt x="10800" y="6109"/>
                </a:cubicBezTo>
                <a:cubicBezTo>
                  <a:pt x="8209" y="6109"/>
                  <a:pt x="6109" y="8209"/>
                  <a:pt x="6109" y="10800"/>
                </a:cubicBezTo>
                <a:cubicBezTo>
                  <a:pt x="6108" y="10837"/>
                  <a:pt x="6109" y="10874"/>
                  <a:pt x="6110" y="10912"/>
                </a:cubicBezTo>
                <a:lnTo>
                  <a:pt x="3" y="11058"/>
                </a:lnTo>
                <a:cubicBezTo>
                  <a:pt x="1" y="10972"/>
                  <a:pt x="0" y="1088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26"/>
                  <a:pt x="21574" y="11652"/>
                  <a:pt x="21524" y="12075"/>
                </a:cubicBezTo>
                <a:lnTo>
                  <a:pt x="24205" y="12394"/>
                </a:lnTo>
                <a:lnTo>
                  <a:pt x="17812" y="17428"/>
                </a:lnTo>
                <a:lnTo>
                  <a:pt x="12777" y="11035"/>
                </a:lnTo>
                <a:lnTo>
                  <a:pt x="15458" y="1135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16"/>
          <p:cNvSpPr/>
          <p:nvPr/>
        </p:nvSpPr>
        <p:spPr>
          <a:xfrm flipH="1" flipV="1">
            <a:off x="4419720" y="3048120"/>
            <a:ext cx="1828800" cy="21333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15392" y="6203"/>
                </a:moveTo>
                <a:cubicBezTo>
                  <a:pt x="14174" y="4985"/>
                  <a:pt x="12522" y="4302"/>
                  <a:pt x="10800" y="4302"/>
                </a:cubicBezTo>
                <a:cubicBezTo>
                  <a:pt x="7211" y="4302"/>
                  <a:pt x="4302" y="7211"/>
                  <a:pt x="4302" y="10800"/>
                </a:cubicBezTo>
                <a:cubicBezTo>
                  <a:pt x="4301" y="10985"/>
                  <a:pt x="4309" y="11170"/>
                  <a:pt x="4325" y="11354"/>
                </a:cubicBezTo>
                <a:lnTo>
                  <a:pt x="39" y="11721"/>
                </a:lnTo>
                <a:cubicBezTo>
                  <a:pt x="13" y="11415"/>
                  <a:pt x="0" y="1110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62" y="-1"/>
                  <a:pt x="16408" y="1136"/>
                  <a:pt x="18433" y="3159"/>
                </a:cubicBezTo>
                <a:lnTo>
                  <a:pt x="20341" y="1249"/>
                </a:lnTo>
                <a:lnTo>
                  <a:pt x="20345" y="8110"/>
                </a:lnTo>
                <a:lnTo>
                  <a:pt x="13484" y="8113"/>
                </a:lnTo>
                <a:lnTo>
                  <a:pt x="15392" y="620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143000" y="4191120"/>
            <a:ext cx="2971800" cy="2286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Определяет предлож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через готовность оплат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имые товары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услуги. Чем больше спро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тем больше цена тов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и устойчи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ст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D525-8A17-4EA5-A582-C4AD336136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акторы, определяющие спрос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овой фактор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цена товара или услуги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ff"/>
                </a:solidFill>
                <a:uFillTx/>
                <a:latin typeface="Arial Narrow"/>
                <a:hlinkClick r:id="rId1"/>
              </a:rPr>
              <a:t>Цена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оличество денег, других товаров и услуг, уплачиваемое и получаемое за единицу товара или услуг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ценовые фак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Численность потенциальных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еличина дохода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личие заменителей товара или услуг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жидаемое поведение цен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енная полити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DD43-EA7E-4B1A-BD3F-1BF966415E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ильные стороны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циональное распределение ресурсов между различными сферами деятель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вобода выбора и действий производителей и потреби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имулирование внедрения достижений научно-технического прогресс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ездефицитность рынка, удовлетворение разнообразных потребност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8076-BA17-4138-8BC5-411E68E96B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лабые стороны (“изъяны”)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7940-51EE-4756-811A-0A77EF43AE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Государственное регулировани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жет компенсировать изъяны рыночного регулирова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рямое(административное)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Косвенное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регулирование объемов денег в обращении, политика в области налогообложения, таможенных пошлин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46E2-BB64-4A40-93A2-F0C79A3D07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Критерии характеристики рыночной структур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объекта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товаров и услуг, труда и капитала, информации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убъектам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покупателей, продавцов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географическому положению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местный, регион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тепени ограниченности конкуренци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свободный, монополистически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оответствию законодательству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легальный, нелег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B765-4448-4C5D-B41A-AC83418D0CB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120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ый рынок</a:t>
            </a:r>
            <a:br>
              <a:rPr sz="4400"/>
            </a:b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(Рынок ценных бумаг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вар – эмиссионные бумаг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Эмиссия (выпуск ценных бумаг)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астная(выпуск акций и облигаций акционерными компаниям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осударственная (выпуск облигаций государственных займов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A705-088E-4E82-9194-BD80696CC1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Финансовые документы, в которых зафиксированы права их владельца или предъявител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6647-67DA-442B-BFE8-75CF924DBC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B7FF-EC21-469F-8944-5C043562D3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Экономические систем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ыночна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B025-790F-4167-8662-D1BED6C2764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Облигация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A948-DF44-4D39-82E3-B097B347E2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значейские обязательства государ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ексел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берегательные сертифика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ек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кредитив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олговые распис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вещан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B288-E2FC-4F39-A694-170AAB5BEA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ункции рынка ценных бумаг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здание условий для передела собственност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уществление покрытия дефицита текущего бюдже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7097-C16F-4801-AC1B-F10146E683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ая бирж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BEBF-E5EA-4BA6-A77D-AA52875124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раструктура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вокупность институтов, служб, предприятий, обслуживающих рынок, особую роль в которой играют </a:t>
            </a:r>
            <a:r>
              <a:rPr b="0" lang="ru-RU" sz="3200" spc="-1" strike="noStrike" u="sng">
                <a:solidFill>
                  <a:srgbClr val="6666ff"/>
                </a:solidFill>
                <a:uFillTx/>
                <a:latin typeface="Arial Black"/>
                <a:hlinkClick r:id="rId1"/>
              </a:rPr>
              <a:t>банк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F41E-6A8D-428E-8499-80FC2A04F4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соперничество фирм покупателей и продавцов на рынк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ополистическ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лигополистическ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совершенн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нов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ценов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AE42-16D0-4624-B2B3-F2D7A7FC5B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Недобросовестная 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1F3F-6EA3-4663-9909-D7F8D41648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Чистая конкуренц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совершенная, идеаль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E921-BC8B-4C80-8857-6F35CAB532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ичины возникновения монопол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 Black"/>
              </a:rPr>
              <a:t>Монопольная цена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8F85-F129-4743-AAF8-4E5901F353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Взаимодействие рынка и государств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вляется обязательной составляющей механизма возникновения монополи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219320" y="2895480"/>
          <a:ext cx="7924680" cy="3645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пуститель-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ощрение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восходство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становление естественных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не противостоит возникновению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о поощряет возникновение монополий путем установления тарифов, патентов, при реализации политики протекцион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допускает превосходство монополиста в технологиях, вт.ч. управленческих, что ведет к разорению остальных продавц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ление государственных монополий (на пользование или добычу сырья, выпуск денег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BCCD-835A-45FC-9FAE-B72FE4BDC8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Традиционная экономика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изводство обмен, распределение доходов базируются на освященных временем обыча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70E8-3E17-4A22-9CA8-90AAECA14F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55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ом средств производства и ресурсов является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полностью регулирует все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определяется государством, есть черный рынок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3C0B-3640-4C08-AD9E-B571083FD1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еобладает частная собственность на ресурс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Существует конкурентная сред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Цены и уровень зарплаты складываются стихийно,  под влиянием спроса и предлож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Государство выступает в роли частной фирм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1514-234E-4E9C-8D43-A6A2E67579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Смешан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в основном регулирует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BA10-EF88-42C3-B588-9A96A1D50C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          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к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дельная сфера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есто для осуществления торговых операци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352B-F539-49D8-9912-D4A7259FFD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ое предложение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роизводитель свободно решает, что, как, сколько, для кого производить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ый спрос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отребитель сам решает, что, где, как, сколько покупать)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ая (свободная) цена зависит от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D5D0-2DE9-4B0F-A572-C56B297EFD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19320" y="2209680"/>
            <a:ext cx="167616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Финансовы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809880" y="2209680"/>
            <a:ext cx="16765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ова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и услу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2209680"/>
            <a:ext cx="18288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факто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219320" y="3429000"/>
            <a:ext cx="1143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дене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819520" y="3581280"/>
            <a:ext cx="12952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апит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181480" y="3581280"/>
            <a:ext cx="12956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зем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7543800" y="3657600"/>
            <a:ext cx="13716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ру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AutoShape 19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20"/>
          <p:cNvCxnSpPr>
            <a:stCxn id="172" idx="2"/>
            <a:endCxn id="176" idx="0"/>
          </p:cNvCxnSpPr>
          <p:nvPr/>
        </p:nvCxnSpPr>
        <p:spPr>
          <a:xfrm>
            <a:off x="2057400" y="3047760"/>
            <a:ext cx="14104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21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2"/>
          <p:cNvCxnSpPr>
            <a:stCxn id="174" idx="2"/>
            <a:endCxn id="177" idx="0"/>
          </p:cNvCxnSpPr>
          <p:nvPr/>
        </p:nvCxnSpPr>
        <p:spPr>
          <a:xfrm flipH="1">
            <a:off x="5829120" y="3124080"/>
            <a:ext cx="16387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3"/>
          <p:cNvCxnSpPr>
            <a:stCxn id="174" idx="2"/>
            <a:endCxn id="178" idx="0"/>
          </p:cNvCxnSpPr>
          <p:nvPr/>
        </p:nvCxnSpPr>
        <p:spPr>
          <a:xfrm>
            <a:off x="7467120" y="3124080"/>
            <a:ext cx="76284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Rectangle 24"/>
          <p:cNvSpPr/>
          <p:nvPr/>
        </p:nvSpPr>
        <p:spPr>
          <a:xfrm>
            <a:off x="1523880" y="4876920"/>
            <a:ext cx="14479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ценных бума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505320" y="4876920"/>
            <a:ext cx="13716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реди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400800" y="4724280"/>
            <a:ext cx="1371600" cy="10670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AutoShape 28"/>
          <p:cNvCxnSpPr>
            <a:stCxn id="174" idx="2"/>
            <a:endCxn id="186" idx="0"/>
          </p:cNvCxnSpPr>
          <p:nvPr/>
        </p:nvCxnSpPr>
        <p:spPr>
          <a:xfrm flipH="1">
            <a:off x="7086240" y="3123720"/>
            <a:ext cx="381600" cy="1600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1"/>
          <p:cNvCxnSpPr>
            <a:stCxn id="176" idx="2"/>
            <a:endCxn id="184" idx="0"/>
          </p:cNvCxnSpPr>
          <p:nvPr/>
        </p:nvCxnSpPr>
        <p:spPr>
          <a:xfrm flipH="1">
            <a:off x="2247120" y="4267080"/>
            <a:ext cx="12200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2"/>
          <p:cNvCxnSpPr>
            <a:stCxn id="176" idx="2"/>
            <a:endCxn id="185" idx="0"/>
          </p:cNvCxnSpPr>
          <p:nvPr/>
        </p:nvCxnSpPr>
        <p:spPr>
          <a:xfrm>
            <a:off x="3466800" y="4267080"/>
            <a:ext cx="7246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Rectangle 33"/>
          <p:cNvSpPr/>
          <p:nvPr/>
        </p:nvSpPr>
        <p:spPr>
          <a:xfrm>
            <a:off x="3200400" y="457200"/>
            <a:ext cx="2819520" cy="1143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932"/>
                </a:solidFill>
                <a:latin typeface="Arial Black"/>
              </a:rPr>
              <a:t>Рын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AutoShape 39"/>
          <p:cNvCxnSpPr>
            <a:stCxn id="190" idx="2"/>
            <a:endCxn id="172" idx="0"/>
          </p:cNvCxnSpPr>
          <p:nvPr/>
        </p:nvCxnSpPr>
        <p:spPr>
          <a:xfrm flipH="1">
            <a:off x="2057040" y="1599840"/>
            <a:ext cx="25531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AutoShape 40"/>
          <p:cNvCxnSpPr>
            <a:stCxn id="190" idx="2"/>
            <a:endCxn id="174" idx="0"/>
          </p:cNvCxnSpPr>
          <p:nvPr/>
        </p:nvCxnSpPr>
        <p:spPr>
          <a:xfrm>
            <a:off x="4609800" y="1599840"/>
            <a:ext cx="285804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0" idx="2"/>
          </p:cNvCxnSpPr>
          <p:nvPr/>
        </p:nvCxnSpPr>
        <p:spPr>
          <a:xfrm>
            <a:off x="4609800" y="15998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56Z</dcterms:modified>
  <cp:revision>35</cp:revision>
  <dc:subject/>
  <dc:title>PowerPoint Presentation</dc:title>
</cp:coreProperties>
</file>