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85CE0-B4D1-433B-8B88-DC96C906115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ки знаний и современные технологии обмена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апоненко А.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едующий кафедрой менеджмента РАГС при Президенте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ки знаний и современные технологии обмена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Гапоненко А.Л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аведующий кафедрой менеджмента РАГС при Президенте РФ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овые и индивидуа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вные и неявные 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ки разных видов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иды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Групповые и индивидуальные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Явные и неявные знания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ки разных видов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рынков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тель не только получает готовые знания, но и участвует в создании необходимого зн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сультирование по поводу разработки стратегии предприятия: совместная деятельность является главным условием передачи накопленных знаний и производства нового зн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тель должен изначально обладать необходимым уровнем контекстуальных зна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ность тех или иных знаний зависит от подготовки реципиента. Перенос новых наукоемких технологий требует соответствующей подготов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собенности рынков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окупатель не только получает готовые знания, но и участвует в создании необходимого знания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онсультирование по поводу разработки стратегии предприятия: совместная деятельность является главным условием передачи накопленных знаний и производства нового знания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окупатель должен изначально обладать необходимым уровнем контекстуальных знаний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Ценность тех или иных знаний зависит от подготовки реципиента. Перенос новых наукоемких технологий требует соответствующей подготовк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фекты рынков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ия, при которых рыночные механизмы не способны обеспечить эффективное распределение  ресурс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ственные бла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ие эффек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нопольная вла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симметричная информац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Дефекты рынков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Условия, при которых рыночные механизмы не способны обеспечить эффективное распределение  ресурсов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бщественные блага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нешние эффекты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монопольная власть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асимметричная информация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ударство на рынках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фекты рынка требуют соответствующего государственного  вмеш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общественных благ финансируется через нало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гувианские налоги на производителей благ, обладающих внешними эффект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одательные ограничения на предоставление ложной информации, снижающие асимметричный характер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тентное право, регулирование интеллектуальной собственности, формирование монополий по использованию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Государство на рынках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Дефекты рынка требуют соответствующего государственного  вмешательства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оизводство общественных благ финансируется через налог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игувианские налоги на производителей благ, обладающих внешними эффектам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аконодательные ограничения на предоставление ложной информации, снижающие асимметричный характер информаци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атентное право, регулирование интеллектуальной собственности, формирование монополий по использованию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системы охраны интеллектуальной собств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ыт Росси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 интеллектуальной собственности, созданные при государственном финансировании, принадлежат государств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ыт СШ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Байя-Доула (1980). Права собственности на изобретения, созданные за счет бюджетных средств, переданы тем организациям, где эти изобретения созда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ятие закона Байя-Доула привело к расширению сотрудничества между исследовательскими институтами, университетами, лабораториями и промышленность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азвитие системы охраны интеллектуальной собственност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пыт России: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бъекты интеллектуальной собственности, созданные при государственном финансировании, принадлежат государству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пыт США: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акон Байя-Доула (1980). Права собственности на изобретения, созданные за счет бюджетных средств, переданы тем организациям, где эти изобретения созданы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инятие закона Байя-Доула привело к расширению сотрудничества между исследовательскими институтами, университетами, лабораториями и промышленностью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удсорсинг на рынке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удсорсинг: «crowd» – толпа, «source» – источни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удсорсинг - передача задания по созданию нового знания большой группе людей в форме открытого предлож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ы краудсорсинг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новой технолог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нового продукта (в виде операционной системы, энциклопед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ботка большого количества дан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раудсорсинг на рынке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раудсорсинг: «crowd» – толпа, «source» – источник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раудсорсинг - передача задания по созданию нового знания большой группе людей в форме открытого предложения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едметы краудсорсинга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оздание новой технологии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оздание нового продукта (в виде операционной системы, энциклопедии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бработка большого количества данных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ры краудсорсин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кипед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нциклопедия, авторами которой стали тысячи пользователей Интерн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InnoCentive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дение исследований в разнообразных областях – от инженерии до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диняет более 125 000 исследователей, предлагающих свои решения для конкретных комп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Amazon Mechanical Turk» - интеллектуальная бирж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интересованные фирмы и организации выставляют на всеобщее обозрение интеллектуальные задач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ый может предложить собственные решения в расчете на вознаграж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имеры краудсорсинга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икипедия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энциклопедия, авторами которой стали тысячи пользователей Интернет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«InnoCentive»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оведение исследований в разнообразных областях – от инженерии до менеджмента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бъединяет более 125 000 исследователей, предлагающих свои решения для конкретных комп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«Amazon Mechanical Turk» - интеллектуальная биржа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аинтересованные фирмы и организации выставляют на всеобщее обозрение интеллектуальные задач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аждый может предложить собственные решения в расчете на вознаграждение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ры краудсорсин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Goldcorp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рала более 400 мегабайт данных геологоразведки на своем участке в штате Онтари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ила приз в 575 000 долларов тому, кто проанализирует лучшим образом эти данные и укажет места залегания зол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ники конкурса  указали на 110 мест  залегания золота на сумму более 3 млрд. до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 выиграла небольшая австралийская консалтинговая компания «Fractal Graphics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имеры краудсорсинга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«Goldcorp»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обрала более 400 мегабайт данных геологоразведки на своем участке в штате Онтарио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едложила приз в 575 000 долларов тому, кто проанализирует лучшим образом эти данные и укажет места залегания золота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участники конкурса  указали на 110 мест  залегания золота на сумму более 3 млрд. дол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из выиграла небольшая австралийская консалтинговая компания «Fractal Graphics»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ры краудсорсин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nnovation J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0 000 людей из 104 стран участвовали в виртуальном мозговом штурме по поводу новых идей в транспорте, в охране окружающей среды, в финансах, коммер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анией IBM сформировано 10 масштабных проектов с начальными инвестициями в 100 млн. долл. кажд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ференция ООН по городам в 2006 году (Value Ja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ссовое участие в выработке новых ид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ческое осуществление IB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имеры краудсорсинга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Innovation Jam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50 000 людей из 104 стран участвовали в виртуальном мозговом штурме по поводу новых идей в транспорте, в охране окружающей среды, в финансах, коммерции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омпанией IBM сформировано 10 масштабных проектов с начальными инвестициями в 100 млн. долл. кажды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онференция ООН по городам в 2006 году (Value Jam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массовое участие в выработке новых идей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технологическое осуществление IBM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мен знаниями и распространение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мен и распространение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утри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пространение и обмен зна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платной осно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бесплатной осно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знаний – одна из форм обмена и распространения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бмен знаниями и распространение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бмен и распространение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нутри организаци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не организаци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аспространение и обмен знаний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а платной основе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а бесплатной основе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ок знаний – одна из форм обмена и распространения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е  – доказанное истинное убеждение (Плато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я – осведомленность о чем-либо, приобретенная из опыта (Оксфордский словар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я – отражение внешнего и внутреннего мира в сознании человека в форме представлений, понятий, суждений, теорий (Википедия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укт деятельности люд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 потребл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ство тезавр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 купли-продажи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только предмет трансакций, но и средство трансак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нания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нание  – доказанное истинное убеждение (Платон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нания – осведомленность о чем-либо, приобретенная из опыта (Оксфордский словарь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нания – отражение внешнего и внутреннего мира в сознании человека в форме представлений, понятий, суждений, теорий (Википедия)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нания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одукт деятельности люде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едмет потребления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редство тезавраци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едмет купли-продажи 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е только предмет трансакций, но и средство трансакц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рыночные формы обмена знания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рыночные формы обмена внутри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зговые атак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ранет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ктронная почт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щани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товня в каф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рыночные формы обмена вне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ференци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мен опытом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ие в профессиональных сообществах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удсорсин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ерыночные формы обмена знаниями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ерыночные формы обмена внутри организаци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мозговые атаки,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интранет,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электронная почта,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овещания,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болтовня в кафе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ерыночные формы обмена вне организаци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онференции,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бмен опытом,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участие в профессиональных сообществах,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раудсорсинг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ые механизмы рынков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аются не знания, а рекламные возмож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ент – бесплатно, а за рекламу платя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я не продаются, а распространяются на бесплатной основе с целью укрепления брен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дача на бесплатной основе для построения бренда (семинар, открытые лекц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укционные и конкурсные продаж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единичные трансакции, а связанные цепочки трансакций с элементами рыночного и нерыночного взаимодей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овые механизмы рынков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одаются не знания, а рекламные возможности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онтент – бесплатно, а за рекламу платят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нания не продаются, а распространяются на бесплатной основе с целью укрепления бренда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аздача на бесплатной основе для построения бренда (семинар, открытые лекции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Аукционные и конкурсные продаж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е единичные трансакции, а связанные цепочки трансакций с элементами рыночного и нерыночного взаимодействия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ки знаний в России: степень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о поданных заявок на изобретения  на 1 млн. населения в России в 3 - 4 раза ниже, чем в США и Германии, в 18 - 19 раз ниже, чем в Япо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достаточно развиты процедуры коммерциализации результатов интеллектуальной деятель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бо развиты институты рынка знаний, способствующие распространению знаний в инновационной сфере (венчурные фонды, фонды, финансирующие прикладные исследования, корпоративные университеты и п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бо развиты современные формы обмена знаниями (краудсорсинг, блог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в полной мере используется мировой опыт в сфере государственного регулирования рынков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ки знаний в России: степень развития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оличество поданных заявок на изобретения  на 1 млн. населения в России в 3 - 4 раза ниже, чем в США и Германии, в 18 - 19 раз ниже, чем в Япони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едостаточно развиты процедуры коммерциализации результатов интеллектуальной деятельности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лабо развиты институты рынка знаний, способствующие распространению знаний в инновационной сфере (венчурные фонды, фонды, финансирующие прикладные исследования, корпоративные университеты и пр.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лабо развиты современные формы обмена знаниями (краудсорсинг, блоги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е в полной мере используется мировой опыт в сфере государственного регулирования рынков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я в свернутом виде присутствует в любом товаре и услу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ный галстук, реактивный истребитель, 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я вместе со своими носителями становятся основой конкурентоспособности того или иного пред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нолог винодельческого хозяйства, шеф-повар ресторана, главный конструктор предприятия, 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я трудно отделить от носителя (человек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алист (менеджер, хирург, специалист по инвестированию), предлагая свои услуги, фактически предлагает свои зн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нания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нания в свернутом виде присутствует в любом товаре и услуге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модный галстук, реактивный истребитель, …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нания вместе со своими носителями становятся основой конкурентоспособности того или иного предприятия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энолог винодельческого хозяйства, шеф-повар ресторана, главный конструктор предприятия, …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нания трудно отделить от носителя (человека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пециалист (менеджер, хирург, специалист по инвестированию), предлагая свои услуги, фактически предлагает свои знания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бстрактное или реальное пространство, в котором происходит купля-продажа товаров и 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окупность условий, благодаря которым покупатели и продавцы вступают в контакт друг с друго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ырья, материалов, средств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движимости, потребительских товар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уг, капитала, валюты, рабочей сил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к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ок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абстрактное или реальное пространство, в котором происходит купля-продажа товаров и услуг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овокупность условий, благодаря которым покупатели и продавцы вступают в контакт друг с другом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ки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ырья, материалов, средств производства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едвижимости, потребительских товаров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услуг, капитала, валюты, рабочей силы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…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ры рынков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рикладной науке - рынки результатов научных исследований и разработо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бразовании - рынки образовательных услуг (услуг по передаче знаний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редствах массовой информации - рынки новостной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библиотечном и архивном деле - рынки услуг по хранению, поиску и предоставлению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имеры рынков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 прикладной науке - рынки результатов научных исследований и разработок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 образовании - рынки образовательных услуг (услуг по передаче знаний)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 средствах массовой информации - рынки новостной информаци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 библиотечном и архивном деле - рынки услуг по хранению, поиску и предоставлению информаци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связь рынков предметов, услуг и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заимосвязь рынков предметов, услуг и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ы покупки и продажи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ка кодифицированных знаний – передача информации устно или на носител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роцессе обуч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ем сотрудников, обладающих знаниями и опыто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изация партнерских отношений с другой организацией, сотрудники которой обладают соответствующими знаниями и опыт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роцессе слияний и поглощ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ка консультационных услуг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пособы покупки и продажи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окупка кодифицированных знаний – передача информации устно или на носителе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 процессе обучения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аем сотрудников, обладающих знаниями и опытом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еализация партнерских отношений с другой организацией, сотрудники которой обладают соответствующими знаниями и опытом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 процессе слияний и поглоще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окупка консультационных услуг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нные, информация и знания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я в широком и узком смысл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Данные, информация и знания:</a:t>
            </a:r>
            <a:br>
              <a:rPr sz="1200"/>
            </a:b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нания в широком и узком смысле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ки данных, информации и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ки дан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нные о биржевых сделках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нные об опытах на сложном оборудовании (например, на синхрофазотроне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ки информ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нижный рынок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аудио и видеопродук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научно-технической информ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новостной информ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шпионских сведе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промышленных секре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ки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консалтинговых 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университетского образ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управленческих кад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специалистов различных сфер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ки данных, информации и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ки данных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данные о биржевых сделках,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данные об опытах на сложном оборудовании (например, на синхрофазотроне)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ки информации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нижный рынок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ок аудио и видеопродукции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ок научно-технической информации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ок новостной информации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ок шпионских сведений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ок промышленных секрет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ки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ок консалтинговых услуг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ок университетского образования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ок управленческих кадров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ок специалистов различных сфер деятельност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6A7F-44B4-4586-B738-CDD3F8AE4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86DB-E300-4423-A222-9C5051F2B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8012-9B87-410F-94ED-10FDFE28A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463F-1195-44DB-8F07-31F44C079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5984C-8640-42C7-A88F-EDA519935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6ABB6-4EAC-42ED-B612-4DE33DE90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AED68-A69D-4EBE-95E9-20C06069C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9630D-657D-42DE-9D2D-1F35478BC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4166A-4F86-4398-9539-6474E5FA9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A5BA2-AD51-4018-A8B2-B4232A6C4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2E449-5A4B-4269-B36D-7BD07068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3656-9A1B-4C9A-8535-318A4D194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D3D71-FA8A-461A-ACA6-963E146E7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F73C0-8144-48AD-89FC-7EA62BA96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8BF94-1843-4074-A04C-8E7FFD8E9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93C6B-0FBF-4687-89BA-A9C6A0631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F3024-6F76-4C7F-9F2D-7FD803CD2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ED22-AD1C-4C6B-B2AE-40CBCF0FC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4D23-52F2-4CAA-A2E4-D6A9CB324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7DC6-191F-4EDC-B931-D4C5B24EE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126E-9270-4039-B393-7675E2519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1CCF-03E3-4BA6-8E04-4A978152B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5993-F1FE-465A-BFFD-035B6C29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AA9A-F716-4CFB-B7D1-AD96C8B0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10850-FC01-47F6-94B4-CA0ED647425F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E62E9-37A0-4B3E-8467-65BE360BF9DA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Amazon_Mechanical_Turk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Goldcorp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Рынки знаний и современные технологии обмена знаний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Гапоненко А.Л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заведующий кафедрой менеджмента РАГС при Президенте РФ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иды знаний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рупповые и индивидуальны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Явные и неявные зна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ынки разных видов знани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49" name="Group 32"/>
          <p:cNvGrpSpPr/>
          <p:nvPr/>
        </p:nvGrpSpPr>
        <p:grpSpPr>
          <a:xfrm>
            <a:off x="2124000" y="3933720"/>
            <a:ext cx="5756400" cy="2317320"/>
            <a:chOff x="2124000" y="3933720"/>
            <a:chExt cx="5756400" cy="2317320"/>
          </a:xfrm>
        </p:grpSpPr>
        <p:grpSp>
          <p:nvGrpSpPr>
            <p:cNvPr id="150" name="Group 33"/>
            <p:cNvGrpSpPr/>
            <p:nvPr/>
          </p:nvGrpSpPr>
          <p:grpSpPr>
            <a:xfrm>
              <a:off x="2124000" y="3933720"/>
              <a:ext cx="5756400" cy="2317320"/>
              <a:chOff x="2124000" y="3933720"/>
              <a:chExt cx="5756400" cy="2317320"/>
            </a:xfrm>
          </p:grpSpPr>
          <p:sp>
            <p:nvSpPr>
              <p:cNvPr id="151" name="WordArt 34"/>
              <p:cNvSpPr txBox="1"/>
              <p:nvPr/>
            </p:nvSpPr>
            <p:spPr>
              <a:xfrm>
                <a:off x="4257360" y="3933720"/>
                <a:ext cx="1072080" cy="22752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2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"/>
                  </a:rPr>
                  <a:t>Знания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  <p:grpSp>
            <p:nvGrpSpPr>
              <p:cNvPr id="152" name="Group 35"/>
              <p:cNvGrpSpPr/>
              <p:nvPr/>
            </p:nvGrpSpPr>
            <p:grpSpPr>
              <a:xfrm>
                <a:off x="2124000" y="4023360"/>
                <a:ext cx="5756400" cy="2227680"/>
                <a:chOff x="2124000" y="4023360"/>
                <a:chExt cx="5756400" cy="2227680"/>
              </a:xfrm>
            </p:grpSpPr>
            <p:sp>
              <p:nvSpPr>
                <p:cNvPr id="153" name="AutoShape 36"/>
                <p:cNvSpPr/>
                <p:nvPr/>
              </p:nvSpPr>
              <p:spPr>
                <a:xfrm>
                  <a:off x="2124000" y="4023360"/>
                  <a:ext cx="5756400" cy="222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54" name="Oval 37"/>
                <p:cNvSpPr/>
                <p:nvPr/>
              </p:nvSpPr>
              <p:spPr>
                <a:xfrm>
                  <a:off x="3703680" y="4598280"/>
                  <a:ext cx="2258640" cy="12931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55" name="Line 38"/>
                <p:cNvSpPr/>
                <p:nvPr/>
              </p:nvSpPr>
              <p:spPr>
                <a:xfrm>
                  <a:off x="4832640" y="4598280"/>
                  <a:ext cx="0" cy="12931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56" name="Text Box 39"/>
                <p:cNvSpPr/>
                <p:nvPr/>
              </p:nvSpPr>
              <p:spPr>
                <a:xfrm>
                  <a:off x="4042440" y="4167000"/>
                  <a:ext cx="1693080" cy="2869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57" name="Line 40"/>
                <p:cNvSpPr/>
                <p:nvPr/>
              </p:nvSpPr>
              <p:spPr>
                <a:xfrm>
                  <a:off x="3365280" y="4741920"/>
                  <a:ext cx="789840" cy="286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58" name="Text Box 41"/>
                <p:cNvSpPr/>
                <p:nvPr/>
              </p:nvSpPr>
              <p:spPr>
                <a:xfrm>
                  <a:off x="2349360" y="4382640"/>
                  <a:ext cx="1692360" cy="359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68000"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003366"/>
                      </a:solidFill>
                      <a:latin typeface="Arial"/>
                      <a:ea typeface="Times New Roman"/>
                    </a:rPr>
                    <a:t>Явные индивидуальные</a:t>
                  </a:r>
                  <a:endParaRPr b="0" lang="en-US" sz="1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59" name="Text Box 42"/>
                <p:cNvSpPr/>
                <p:nvPr/>
              </p:nvSpPr>
              <p:spPr>
                <a:xfrm>
                  <a:off x="5848560" y="4454280"/>
                  <a:ext cx="1690920" cy="359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62000"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003366"/>
                      </a:solidFill>
                      <a:latin typeface="Arial"/>
                      <a:ea typeface="Times New Roman"/>
                    </a:rPr>
                    <a:t>Явные </a:t>
                  </a:r>
                  <a:endParaRPr b="0" lang="en-US" sz="1400" spc="-1" strike="noStrike">
                    <a:solidFill>
                      <a:srgbClr val="003366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003366"/>
                      </a:solidFill>
                      <a:latin typeface="Arial"/>
                      <a:ea typeface="Times New Roman"/>
                    </a:rPr>
                    <a:t>групповые</a:t>
                  </a:r>
                  <a:endParaRPr b="0" lang="en-US" sz="1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0" name="Text Box 43"/>
                <p:cNvSpPr/>
                <p:nvPr/>
              </p:nvSpPr>
              <p:spPr>
                <a:xfrm>
                  <a:off x="5961240" y="5676120"/>
                  <a:ext cx="1690920" cy="359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78000"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003366"/>
                      </a:solidFill>
                      <a:latin typeface="Arial"/>
                      <a:ea typeface="Times New Roman"/>
                    </a:rPr>
                    <a:t>Неявные групповые</a:t>
                  </a:r>
                  <a:endParaRPr b="0" lang="en-US" sz="1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1" name="Text Box 44"/>
                <p:cNvSpPr/>
                <p:nvPr/>
              </p:nvSpPr>
              <p:spPr>
                <a:xfrm>
                  <a:off x="2349360" y="5676120"/>
                  <a:ext cx="1580400" cy="359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62000"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003366"/>
                      </a:solidFill>
                      <a:latin typeface="Arial"/>
                      <a:ea typeface="Times New Roman"/>
                    </a:rPr>
                    <a:t>Неявные индивидуальные</a:t>
                  </a:r>
                  <a:endParaRPr b="0" lang="en-US" sz="1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2" name="Line 45"/>
                <p:cNvSpPr/>
                <p:nvPr/>
              </p:nvSpPr>
              <p:spPr>
                <a:xfrm flipV="1">
                  <a:off x="3252600" y="5531760"/>
                  <a:ext cx="1015200" cy="143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3" name="Line 46"/>
                <p:cNvSpPr/>
                <p:nvPr/>
              </p:nvSpPr>
              <p:spPr>
                <a:xfrm flipH="1">
                  <a:off x="5396760" y="4741920"/>
                  <a:ext cx="903240" cy="215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4" name="Line 47"/>
                <p:cNvSpPr/>
                <p:nvPr/>
              </p:nvSpPr>
              <p:spPr>
                <a:xfrm flipH="1" flipV="1">
                  <a:off x="5171400" y="5531760"/>
                  <a:ext cx="1128960" cy="143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5" name="Line 48"/>
            <p:cNvSpPr/>
            <p:nvPr/>
          </p:nvSpPr>
          <p:spPr>
            <a:xfrm>
              <a:off x="3688200" y="5201280"/>
              <a:ext cx="22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6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собенности рынков знаний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купатель не только получает готовые знания, но и участвует в создании необходимого знания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Консультирование по поводу разработки стратегии предприятия: совместная деятельность является главным условием передачи накопленных знаний и производства нового знания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купатель должен изначально обладать необходимым уровнем контекстуальных знаний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Ценность тех или иных знаний зависит от подготовки реципиента. Перенос новых наукоемких технологий требует соответствующей подготовк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Дефекты рынков знаний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Условия, при которых рыночные механизмы не способны обеспечить эффективное распределение  ресурсов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бщественные благ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нешние эффект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онопольная власть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асимметричная информация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Государство на рынках знаний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Дефекты рынка требуют соответствующего государственного  вмешательств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оизводство общественных благ финансируется через налог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игувианские налоги на производителей благ, обладающих внешними эффектам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Законодательные ограничения на предоставление ложной информации, снижающие асимметричный характер информаци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атентное право, регулирование интеллектуальной собственности, формирование монополий по использованию знаний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азвитие системы охраны интеллектуальной собственно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пыт России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объекты интеллектуальной собственности, созданные при государственном финансировании, принадлежат государству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пыт США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закон Байя-Доула (1980). Права собственности на изобретения, созданные за счет бюджетных средств, переданы тем организациям, где эти изобретения созданы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инятие закона Байя-Доула привело к расширению сотрудничества между исследовательскими институтами, университетами, лабораториями и промышленностью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Краудсорсинг на рынке знаний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раудсорсинг: «crowd» – толпа, «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ource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» – источник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раудсорсинг - передача задания по созданию нового знания большой группе людей в форме открытого предложения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едметы краудсорсинга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оздание новой технологии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оздание нового продукта (в виде операционной системы, энциклопедии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бработка большого количества данных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имеры краудсорсинг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Википедия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энциклопедия, авторами которой стали тысячи пользователей Интерне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«InnoCentive»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оведение исследований в разнообразных областях – от инженерии до менеджмент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объединяет более 125 000 исследователей, предлагающих свои решения для конкретных компаний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«</a:t>
            </a:r>
            <a:r>
              <a:rPr b="0" lang="ru-RU" sz="20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Amazon Mechanical Turk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» - интеллектуальная бирж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заинтересованные фирмы и организации выставляют на всеобщее обозрение интеллектуальные задач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каждый может предложить собственные решения в расчете на вознаграждени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имеры краудсорсинг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«</a:t>
            </a: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Goldcorp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обрала более 400 мегабайт данных геологоразведки на своем участке в штате Онтарио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едложила приз в 575 000 долларов тому, кто проанализирует лучшим образом эти данные и укажет места залегания золот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участники конкурса  указали на 110 мест  залегания золота на сумму более 3 млрд. дол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из выиграла небольшая австралийская консалтинговая компания «Fractal Graphics»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имеры краудсорсинг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Innovation Jam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150 000 людей из 104 стран участвовали в виртуальном мозговом штурме по поводу новых идей в транспорте, в охране окружающей среды, в финансах, коммерции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Компанией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BM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формировано 10 масштабных проектов с начальными инвестициями в 100 млн. долл. каждый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онференция ООН по городам в 2006 году (Value Jam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массовое участие в выработке новых идей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технологическое осуществление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B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бмен знаниями и распространение знаний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бмен и распространение знаний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нутри организаци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не организаци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аспространение и обмен знаний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а платной основ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а бесплатной основ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ынок знаний – одна из форм обмена и распространения знаний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нан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Знание  – доказанное истинное убеждение (Платон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Знания – осведомленность о чем-либо, приобретенная из опыта (Оксфордский словарь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Знания – отражение внешнего и внутреннего мира в сознании человека в форме представлений, понятий, суждений, теорий (Википедия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Знания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одукт деятельности людей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едмет потребления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средство тезавраци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едмет купли-продажи</a:t>
            </a: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е только предмет трансакций, но и средство трансакций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Нерыночные формы обмена знаниями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ерыночные формы обмена внутри организаци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мозговые атаки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интранет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электронная почта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овещания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болтовня в каф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ерыночные формы обмена вне организаци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конференции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бмен опытом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участие в профессиональных сообществах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краудсорсинг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Новые механизмы рынков знаний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одаются не знания, а рекламные возможности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Контент – бесплатно, а за рекламу платя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нания не продаются, а распространяются на бесплатной основе с целью укрепления бренд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Раздача на бесплатной основе для построения бренда (семинар, открытые лекции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Аукционные и конкурсные продаж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Не единичные трансакции, а связанные цепочки трансакций с элементами рыночного и нерыночного взаимодейств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ынки знаний в России: степень развит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Количество поданных заявок на изобретения  на 1 млн. населения в России в 3 - 4 раза ниже, чем в США и Германии, в 18 - 19 раз ниже, чем в Япони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Недостаточно развиты процедуры коммерциализации результатов интеллектуальной деятельности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лабо развиты институты рынка знаний, способствующие распространению знаний в инновационной сфере (венчурные фонды, фонды, финансирующие прикладные исследования, корпоративные университеты и пр.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лабо развиты современные формы обмена знаниями (краудсорсинг, блоги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Не в полной мере используется мировой опыт в сфере государственного регулирования рынков знаний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нан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Знания в свернутом виде присутствует в любом товаре и услуг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одный галстук, реактивный истребитель, …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Знания вместе со своими носителями становятся основой конкурентоспособности того или иного предприяти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энолог винодельческого хозяйства, шеф-повар ресторана, главный конструктор предприятия, …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Знания трудно отделить от носителя (человека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специалист (менеджер, хирург, специалист по инвестированию), предлагая свои услуги, фактически предлагает свои знания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ынк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ынок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абстрактное или реальное пространство, в котором происходит купля-продажа товаров и услуг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овокупность условий, благодаря которым покупатели и продавцы вступают в контакт друг с другом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ынки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ырья, материалов, средств производств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недвижимости, потребительских товаров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услуг, капитала, валюты, рабочей силы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знаний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…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имеры рынков знаний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прикладной науке - рынки результатов научных исследований и разработок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образовании - рынки образовательных услуг (услуг по передаче знаний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средствах массовой информации - рынки новостной информаци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библиотечном и архивном деле - рынки услуг по хранению, поиску и предоставлению информаци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Взаимосвязь рынков предметов, услуг и знаний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18" name="Group 3"/>
          <p:cNvGrpSpPr/>
          <p:nvPr/>
        </p:nvGrpSpPr>
        <p:grpSpPr>
          <a:xfrm>
            <a:off x="179280" y="1700280"/>
            <a:ext cx="8425080" cy="5162400"/>
            <a:chOff x="179280" y="1700280"/>
            <a:chExt cx="8425080" cy="5162400"/>
          </a:xfrm>
        </p:grpSpPr>
        <p:sp>
          <p:nvSpPr>
            <p:cNvPr id="119" name="AutoShape 4"/>
            <p:cNvSpPr/>
            <p:nvPr/>
          </p:nvSpPr>
          <p:spPr>
            <a:xfrm>
              <a:off x="179280" y="1700280"/>
              <a:ext cx="8425080" cy="51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0" name="Oval 5"/>
            <p:cNvSpPr/>
            <p:nvPr/>
          </p:nvSpPr>
          <p:spPr>
            <a:xfrm>
              <a:off x="1170360" y="2533320"/>
              <a:ext cx="3468240" cy="2163960"/>
            </a:xfrm>
            <a:prstGeom prst="ellipse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1" name="Oval 6"/>
            <p:cNvSpPr/>
            <p:nvPr/>
          </p:nvSpPr>
          <p:spPr>
            <a:xfrm>
              <a:off x="3978360" y="2533320"/>
              <a:ext cx="3799080" cy="2163960"/>
            </a:xfrm>
            <a:prstGeom prst="ellipse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2" name="Oval 7"/>
            <p:cNvSpPr/>
            <p:nvPr/>
          </p:nvSpPr>
          <p:spPr>
            <a:xfrm>
              <a:off x="2325960" y="3531960"/>
              <a:ext cx="3965760" cy="2165400"/>
            </a:xfrm>
            <a:prstGeom prst="ellipse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3" name="Text Box 8"/>
            <p:cNvSpPr/>
            <p:nvPr/>
          </p:nvSpPr>
          <p:spPr>
            <a:xfrm>
              <a:off x="1666080" y="3032640"/>
              <a:ext cx="2147040" cy="499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1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3366"/>
                  </a:solidFill>
                  <a:latin typeface="Arial"/>
                </a:rPr>
                <a:t>Рын</a:t>
              </a:r>
              <a:r>
                <a:rPr b="1" lang="en-US" sz="2000" spc="-1" strike="noStrike">
                  <a:solidFill>
                    <a:srgbClr val="003366"/>
                  </a:solidFill>
                  <a:latin typeface="Arial"/>
                </a:rPr>
                <a:t>ки</a:t>
              </a:r>
              <a:r>
                <a:rPr b="1" lang="ru-RU" sz="2000" spc="-1" strike="noStrike">
                  <a:solidFill>
                    <a:srgbClr val="003366"/>
                  </a:solidFill>
                  <a:latin typeface="Arial"/>
                </a:rPr>
                <a:t> предметов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4" name="Text Box 9"/>
            <p:cNvSpPr/>
            <p:nvPr/>
          </p:nvSpPr>
          <p:spPr>
            <a:xfrm>
              <a:off x="4969800" y="3032640"/>
              <a:ext cx="2478240" cy="499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3366"/>
                  </a:solidFill>
                  <a:latin typeface="Arial"/>
                </a:rPr>
                <a:t>Рынки услуг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5" name="Text Box 10"/>
            <p:cNvSpPr/>
            <p:nvPr/>
          </p:nvSpPr>
          <p:spPr>
            <a:xfrm>
              <a:off x="3152520" y="4864680"/>
              <a:ext cx="2477880" cy="499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3366"/>
                  </a:solidFill>
                  <a:latin typeface="Arial"/>
                </a:rPr>
                <a:t>Рынки знаний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2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пособы покупки и продажи знаний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купка кодифицированных знаний – передача информации устно или на носител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процессе обуче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аем сотрудников, обладающих знаниями и опытом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еализация партнерских отношений с другой организацией, сотрудники которой обладают соответствующими знаниями и опыто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процессе слияний и поглощени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купка консультационных услуг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Данные, информация и знания: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нания в широком и узком смысле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31" name="Group 4"/>
          <p:cNvGrpSpPr/>
          <p:nvPr/>
        </p:nvGrpSpPr>
        <p:grpSpPr>
          <a:xfrm>
            <a:off x="1536840" y="2276640"/>
            <a:ext cx="5829120" cy="4586040"/>
            <a:chOff x="1536840" y="2276640"/>
            <a:chExt cx="5829120" cy="4586040"/>
          </a:xfrm>
        </p:grpSpPr>
        <p:sp>
          <p:nvSpPr>
            <p:cNvPr id="132" name="AutoShape 5"/>
            <p:cNvSpPr/>
            <p:nvPr/>
          </p:nvSpPr>
          <p:spPr>
            <a:xfrm>
              <a:off x="1536840" y="2276640"/>
              <a:ext cx="5829120" cy="458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3" name="Rectangle 6"/>
            <p:cNvSpPr/>
            <p:nvPr/>
          </p:nvSpPr>
          <p:spPr>
            <a:xfrm>
              <a:off x="2679840" y="2471760"/>
              <a:ext cx="3886200" cy="683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4" name="Rectangle 7"/>
            <p:cNvSpPr/>
            <p:nvPr/>
          </p:nvSpPr>
          <p:spPr>
            <a:xfrm>
              <a:off x="2679840" y="5984640"/>
              <a:ext cx="3886200" cy="682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5" name="Rectangle 8"/>
            <p:cNvSpPr/>
            <p:nvPr/>
          </p:nvSpPr>
          <p:spPr>
            <a:xfrm>
              <a:off x="2679840" y="4228200"/>
              <a:ext cx="3886200" cy="68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6" name="Text Box 9"/>
            <p:cNvSpPr/>
            <p:nvPr/>
          </p:nvSpPr>
          <p:spPr>
            <a:xfrm>
              <a:off x="3251520" y="2666520"/>
              <a:ext cx="2742840" cy="292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2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3366"/>
                  </a:solidFill>
                  <a:latin typeface="Arial"/>
                </a:rPr>
                <a:t>З</a:t>
              </a: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нания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7" name="Text Box 10"/>
            <p:cNvSpPr/>
            <p:nvPr/>
          </p:nvSpPr>
          <p:spPr>
            <a:xfrm>
              <a:off x="2908080" y="4422960"/>
              <a:ext cx="3314520" cy="29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2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3366"/>
                  </a:solidFill>
                  <a:latin typeface="Arial"/>
                </a:rPr>
                <a:t>Информация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8" name="Text Box 11"/>
            <p:cNvSpPr/>
            <p:nvPr/>
          </p:nvSpPr>
          <p:spPr>
            <a:xfrm>
              <a:off x="3022200" y="6180120"/>
              <a:ext cx="3200040" cy="292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2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3366"/>
                  </a:solidFill>
                  <a:latin typeface="Arial"/>
                </a:rPr>
                <a:t>Данные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9" name="AutoShape 12"/>
            <p:cNvSpPr/>
            <p:nvPr/>
          </p:nvSpPr>
          <p:spPr>
            <a:xfrm>
              <a:off x="2679840" y="4911120"/>
              <a:ext cx="3886200" cy="107352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0" name="AutoShape 13"/>
            <p:cNvSpPr/>
            <p:nvPr/>
          </p:nvSpPr>
          <p:spPr>
            <a:xfrm>
              <a:off x="2679840" y="3154680"/>
              <a:ext cx="3886200" cy="107352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Text Box 14"/>
            <p:cNvSpPr/>
            <p:nvPr/>
          </p:nvSpPr>
          <p:spPr>
            <a:xfrm>
              <a:off x="3823200" y="5106240"/>
              <a:ext cx="1599480" cy="681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3366"/>
                  </a:solidFill>
                  <a:latin typeface="Arial"/>
                </a:rPr>
                <a:t>контекстуализация, категоризация,  подсчет, коррекция,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3366"/>
                  </a:solidFill>
                  <a:latin typeface="Arial"/>
                </a:rPr>
                <a:t>сжатие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Text Box 15"/>
            <p:cNvSpPr/>
            <p:nvPr/>
          </p:nvSpPr>
          <p:spPr>
            <a:xfrm>
              <a:off x="3823200" y="3350160"/>
              <a:ext cx="1599480" cy="77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3366"/>
                  </a:solidFill>
                  <a:latin typeface="Arial"/>
                </a:rPr>
                <a:t>сравнение, оценка, определение области применения,</a:t>
              </a:r>
              <a:r>
                <a:rPr b="0" lang="ru-RU" sz="12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0" lang="ru-RU" sz="1000" spc="-1" strike="noStrike">
                  <a:solidFill>
                    <a:srgbClr val="003366"/>
                  </a:solidFill>
                  <a:latin typeface="Arial"/>
                </a:rPr>
                <a:t>установление связей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9131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ынки данных, информации и знаний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Рынки данных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данные о биржевых сделках,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данные об опытах на сложном оборудовании (например, на синхрофазотроне)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Рынки информации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книжный рынок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рынок аудио и видеопродукции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рынок научно-технической информации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рынок новостной информации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рынок шпионских сведений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рынок промышленных секретов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Рынки знаний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рынок консалтинговых услуг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рынок университетского образования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рынок управленческих кадров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рынок специалистов различных сфер деятельности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9T05:48:52Z</dcterms:created>
  <dc:creator>gapon</dc:creator>
  <dc:description/>
  <dc:language>en-US</dc:language>
  <cp:lastModifiedBy>LEGION</cp:lastModifiedBy>
  <dcterms:modified xsi:type="dcterms:W3CDTF">2016-01-04T13:42:12Z</dcterms:modified>
  <cp:revision>14</cp:revision>
  <dc:subject/>
  <dc:title>Рынки знаний и современные технологии обмена знаний</dc:title>
</cp:coreProperties>
</file>