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AF12-F7A5-4EB4-928E-04F7A76356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апоненко А.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ды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обенности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осударство на рынках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на рынк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: «crowd» – толпа, «source» – источник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Amazon Mechanical Turk» - интеллектуальная бирж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Goldcorp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краудсорсинг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мпанией IBM сформировано 10 масштабных проектов с начальными инвестициями в 100 млн. долл. кажды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IB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знаниями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мет купли-продажи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знаниям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овые механизм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 в России: степень разви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ры рынков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заимосвязь рынков предметов, услуг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покупки и продаж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, информация и знания: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нания в широком и узком смысле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, информации 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5F1-47C2-4E38-A2F5-932F19C3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98D-3746-4491-9525-8B54D5E2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C0C-0B95-4DCE-B241-21C5B88C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3BA-BCA9-48A0-AB2F-4B4B8927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C78A-81FB-4EB5-B3B2-D36DAAEC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994D-D96C-4EA4-8E5B-67699C43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13EE-7EB1-49C8-8CC1-3EE6DE29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9803-61D2-432A-9E92-261B55AF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6CB8-B653-45E6-8551-4685941C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C9A2-B51E-4FD8-A80E-DE6A45FE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9E81-151F-43EA-AD08-79034794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AC2-5356-438F-8B39-DE19A877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CE71-6D96-4191-8802-AD6850F8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2BD0-EAE7-4C48-81D1-73C20FA2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1A68-258A-41CA-AB60-567F8EF4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9FF0-B162-42F3-939A-8A6AC84E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ACF6-4D88-42EF-995A-7F72D38A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1BF-C04F-455D-8444-F4E662C1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927-CA8E-4009-A63D-B42CE95F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58E-E6B1-42C6-82C6-98210A12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895-EF92-4596-825E-6DCFF6C0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9CB-133D-4595-BEF9-69F3D283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14F-9274-417F-9379-6CD0B51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598-A453-4194-AE3A-7BBB214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4255-DA51-4BC9-BB09-42CD0D6BEA1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D87D-DA70-45DF-A4AE-B466C026551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azon_Mechanical_Turk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ldcor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ки знаний и современные технологии обмена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Гапоненко А.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ведующий кафедрой менеджмента РАГС при Президенте Р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ые и индивидуаль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ные и неявные 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 разных видов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9" name="Group 32"/>
          <p:cNvGrpSpPr/>
          <p:nvPr/>
        </p:nvGrpSpPr>
        <p:grpSpPr>
          <a:xfrm>
            <a:off x="2124000" y="3933720"/>
            <a:ext cx="5756400" cy="2317320"/>
            <a:chOff x="2124000" y="3933720"/>
            <a:chExt cx="5756400" cy="2317320"/>
          </a:xfrm>
        </p:grpSpPr>
        <p:grpSp>
          <p:nvGrpSpPr>
            <p:cNvPr id="150" name="Group 33"/>
            <p:cNvGrpSpPr/>
            <p:nvPr/>
          </p:nvGrpSpPr>
          <p:grpSpPr>
            <a:xfrm>
              <a:off x="2124000" y="3933720"/>
              <a:ext cx="5756400" cy="2317320"/>
              <a:chOff x="2124000" y="3933720"/>
              <a:chExt cx="5756400" cy="2317320"/>
            </a:xfrm>
          </p:grpSpPr>
          <p:sp>
            <p:nvSpPr>
              <p:cNvPr id="151" name="WordArt 34"/>
              <p:cNvSpPr txBox="1"/>
              <p:nvPr/>
            </p:nvSpPr>
            <p:spPr>
              <a:xfrm>
                <a:off x="4257360" y="3933720"/>
                <a:ext cx="1072080" cy="2275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2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Знания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2" name="Group 35"/>
              <p:cNvGrpSpPr/>
              <p:nvPr/>
            </p:nvGrpSpPr>
            <p:grpSpPr>
              <a:xfrm>
                <a:off x="2124000" y="4023360"/>
                <a:ext cx="5756400" cy="2227680"/>
                <a:chOff x="2124000" y="4023360"/>
                <a:chExt cx="5756400" cy="2227680"/>
              </a:xfrm>
            </p:grpSpPr>
            <p:sp>
              <p:nvSpPr>
                <p:cNvPr id="153" name="AutoShape 36"/>
                <p:cNvSpPr/>
                <p:nvPr/>
              </p:nvSpPr>
              <p:spPr>
                <a:xfrm>
                  <a:off x="2124000" y="4023360"/>
                  <a:ext cx="5756400" cy="22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7"/>
                <p:cNvSpPr/>
                <p:nvPr/>
              </p:nvSpPr>
              <p:spPr>
                <a:xfrm>
                  <a:off x="3703680" y="4598280"/>
                  <a:ext cx="2258640" cy="129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8"/>
                <p:cNvSpPr/>
                <p:nvPr/>
              </p:nvSpPr>
              <p:spPr>
                <a:xfrm>
                  <a:off x="4832640" y="4598280"/>
                  <a:ext cx="0" cy="129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39"/>
                <p:cNvSpPr/>
                <p:nvPr/>
              </p:nvSpPr>
              <p:spPr>
                <a:xfrm>
                  <a:off x="4042440" y="4167000"/>
                  <a:ext cx="1693080" cy="28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7" name="Line 40"/>
                <p:cNvSpPr/>
                <p:nvPr/>
              </p:nvSpPr>
              <p:spPr>
                <a:xfrm>
                  <a:off x="3365280" y="4741920"/>
                  <a:ext cx="789840" cy="28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41"/>
                <p:cNvSpPr/>
                <p:nvPr/>
              </p:nvSpPr>
              <p:spPr>
                <a:xfrm>
                  <a:off x="2349360" y="4382640"/>
                  <a:ext cx="169236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2"/>
                <p:cNvSpPr/>
                <p:nvPr/>
              </p:nvSpPr>
              <p:spPr>
                <a:xfrm>
                  <a:off x="5848560" y="445428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Явные 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3"/>
                <p:cNvSpPr/>
                <p:nvPr/>
              </p:nvSpPr>
              <p:spPr>
                <a:xfrm>
                  <a:off x="5961240" y="5676120"/>
                  <a:ext cx="169092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группов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44"/>
                <p:cNvSpPr/>
                <p:nvPr/>
              </p:nvSpPr>
              <p:spPr>
                <a:xfrm>
                  <a:off x="2349360" y="5676120"/>
                  <a:ext cx="1580400" cy="359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2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3366"/>
                      </a:solidFill>
                      <a:latin typeface="Arial"/>
                      <a:ea typeface="Times New Roman"/>
                    </a:rPr>
                    <a:t>Неявные индивидуальные</a:t>
                  </a:r>
                  <a:endParaRPr b="0" lang="en-US" sz="1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Line 45"/>
                <p:cNvSpPr/>
                <p:nvPr/>
              </p:nvSpPr>
              <p:spPr>
                <a:xfrm flipV="1">
                  <a:off x="3252600" y="5531760"/>
                  <a:ext cx="101520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Line 46"/>
                <p:cNvSpPr/>
                <p:nvPr/>
              </p:nvSpPr>
              <p:spPr>
                <a:xfrm flipH="1">
                  <a:off x="5396760" y="4741920"/>
                  <a:ext cx="903240" cy="21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7"/>
                <p:cNvSpPr/>
                <p:nvPr/>
              </p:nvSpPr>
              <p:spPr>
                <a:xfrm flipH="1" flipV="1">
                  <a:off x="5171400" y="5531760"/>
                  <a:ext cx="1128960" cy="14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Line 48"/>
            <p:cNvSpPr/>
            <p:nvPr/>
          </p:nvSpPr>
          <p:spPr>
            <a:xfrm>
              <a:off x="3688200" y="5201280"/>
              <a:ext cx="22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не только получает готовые знания, но и участвует в создании необходимого зна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сультирование по поводу разработки стратегии предприятия: совместная деятельность является главным условием передачи накопленных знаний и производства нового зн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атель должен изначально обладать необходимым уровнем контекстуальны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нность тех или иных знаний зависит от подготовки реципиента. Перенос новых наукоемких технологий требует соответствующей подготов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фект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, при которых рыночные механизмы не способны обеспечить эффективное распределение  ресурс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ественные бла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ешние эффек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ольная влас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симметричная информ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сударство на рынках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Дефекты рынка требуют соответствующего государственного  вмешатель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изводство общественных благ финансируется через налог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игувианские налоги на производителей благ, обладающих внешними эффекта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конодательные ограничения на предоставление ложной информации, снижающие асимметричный характер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атентное право, регулирование интеллектуальной собственности, формирование монополий по использованию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звитие системы охраны интеллектуальной собствен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России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кты интеллектуальной собственности, созданные при государственном финансировании, принадлежат государству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ыт США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кон Байя-Доула (1980). Права собственности на изобретения, созданные за счет бюджетных средств, переданы тем организациям, где эти изобретения создан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нятие закона Байя-Доула привело к расширению сотрудничества между исследовательскими институтами, университетами, лабораториями и промышленность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аудсорсинг на рынке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: «crowd» – толпа, «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 – источни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удсорсинг - передача задания по созданию нового знания большой группе людей в форме открытого предлож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меты краудсорсин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й техноло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здание нового продукта (в виде операционной системы, энциклопед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работка большого количества данны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кипед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циклопедия, авторами которой стали тысячи пользователей Интерне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InnoCentive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ведение исследований в разнообразных областях – от инженерии до менеджмен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ъединяет более 125 000 исследователей, предлагающих свои решения для конкретных компа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azon Mechanical Turk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» - интеллектуальная бир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интересованные фирмы и организации выставляют на всеобщее обозрение интеллектуальные задач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ждый может предложить собственные решения в расчете на вознагражд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Goldcorp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брала более 400 мегабайт данных геологоразведки на своем участке в штате Онтари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дложила приз в 575 000 долларов тому, кто проанализирует лучшим образом эти данные и укажет места залегания зол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ники конкурса  указали на 110 мест  залегания золота на сумму более 3 млрд. до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з выиграла небольшая австралийская консалтинговая компания «Fractal Graphics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краудсорс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Innovation Jam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50 000 людей из 104 стран участвовали в виртуальном мозговом штурме по поводу новых идей в транспорте, в охране окружающей среды, в финансах, коммерц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мпание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формировано 10 масштабных проектов с начальными инвестициями в 100 млн. долл. кажды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еренция ООН по городам в 2006 году (Value Ja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ссовое участие в выработке новых иде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ехнологическое осуществлени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мен знаниями и распространение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мен и распространение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пространение и обмен знани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бесплатной основ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наний – одна из форм обмена и распространения зна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е  – доказанное истинное убеждение (Платон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сведомленность о чем-либо, приобретенная из опыта (Оксфордский словарь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– отражение внешнего и внутреннего мира в сознании человека в форме представлений, понятий, суждений, теорий (Википедия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дукт деятельности люд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потребления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редство тезавр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мет купли-продажи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 только предмет трансакций, но и средство трансакц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ерыночные формы обмена знаниям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утри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говые атак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ранет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лектронная почта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ещани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олтовня в каф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рыночные формы обмена вне орган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ференции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мен опытом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профессиональных сообществах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аудсорсин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овые механизмы рынков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даются не знания, а рекламные возмож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нтент – бесплатно, а за рекламу платя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не продаются, а распространяются на бесплатной основе с целью укрепления брен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дача на бесплатной основе для построения бренда (семинар, открытые лекц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ные и конкурсные прода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Не единичные трансакции, а связанные цепочки трансакций с элементами рыночного и нерыночного взаимо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знаний в России: степень развит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личество поданных заявок на изобретения  на 1 млн. населения в России в 3 - 4 раза ниже, чем в США и Германии, в 18 - 19 раз ниже, чем в Япон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чно развиты процедуры коммерциализации результатов интеллектуальной деятельно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институты рынка знаний, способствующие распространению знаний в инновационной сфере (венчурные фонды, фонды, финансирующие прикладные исследования, корпоративные университеты и пр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лабо развиты современные формы обмена знаниями (краудсорсинг, блог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 в полной мере используется мировой опыт в сфере государственного регулирования рынков 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 свернутом виде присутствует в любом товаре и услуг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ный галстук, реактивный истребитель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вместе со своими носителями становятся основой конкурентоспособности того или иного предприят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нолог винодельческого хозяйства, шеф-повар ресторана, главный конструктор предприятия, …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нания трудно отделить от носителя (человека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ециалист (менеджер, хирург, специалист по инвестированию), предлагая свои услуги, фактически предлагает свои зна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ок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бстрактное или реальное пространство, в котором происходит купля-продажа товаров и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вокупность условий, благодаря которым покупатели и продавцы вступают в контакт друг с другом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ынк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ырья, материалов, средств производст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вижимости, потребительских товар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слуг, капитала, валюты, рабочей сил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зна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меры рынков знани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икладной науке - рынки результатов научных исследований и разработо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бразовании - рынки образовательных услуг (услуг по передаче знаний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средствах массовой информации - рынки новостной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библиотечном и архивном деле - рынки услуг по хранению, поиску и предоставлению информ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заимосвязь рынков предметов, услуг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79280" y="1700280"/>
            <a:ext cx="8425080" cy="5162400"/>
            <a:chOff x="179280" y="1700280"/>
            <a:chExt cx="8425080" cy="5162400"/>
          </a:xfrm>
        </p:grpSpPr>
        <p:sp>
          <p:nvSpPr>
            <p:cNvPr id="119" name="AutoShape 4"/>
            <p:cNvSpPr/>
            <p:nvPr/>
          </p:nvSpPr>
          <p:spPr>
            <a:xfrm>
              <a:off x="179280" y="1700280"/>
              <a:ext cx="8425080" cy="51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Oval 5"/>
            <p:cNvSpPr/>
            <p:nvPr/>
          </p:nvSpPr>
          <p:spPr>
            <a:xfrm>
              <a:off x="1170360" y="2533320"/>
              <a:ext cx="346824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978360" y="2533320"/>
              <a:ext cx="3799080" cy="216396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2325960" y="3531960"/>
              <a:ext cx="3965760" cy="21654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1666080" y="3032640"/>
              <a:ext cx="21470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</a:t>
              </a: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ки</a:t>
              </a: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 предмет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4969800" y="3032640"/>
              <a:ext cx="24782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услуг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3152520" y="4864680"/>
              <a:ext cx="24778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66"/>
                  </a:solidFill>
                  <a:latin typeface="Arial"/>
                </a:rPr>
                <a:t>Рынки знаний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ы покупки и продаж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дифицированных знаний – передача информации устно или на носите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ем сотрудников, обладающих знаниями и опы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ализация партнерских отношений с другой организацией, сотрудники которой обладают соответствующими знаниями и опы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процессе слияний и погло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упка консультационных услуг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анные, информация и знания: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ния в широком и узком смысл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536840" y="2276640"/>
            <a:ext cx="5829120" cy="4586040"/>
            <a:chOff x="1536840" y="2276640"/>
            <a:chExt cx="5829120" cy="4586040"/>
          </a:xfrm>
        </p:grpSpPr>
        <p:sp>
          <p:nvSpPr>
            <p:cNvPr id="132" name="AutoShape 5"/>
            <p:cNvSpPr/>
            <p:nvPr/>
          </p:nvSpPr>
          <p:spPr>
            <a:xfrm>
              <a:off x="1536840" y="2276640"/>
              <a:ext cx="58291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679840" y="2471760"/>
              <a:ext cx="3886200" cy="683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2679840" y="5984640"/>
              <a:ext cx="3886200" cy="68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679840" y="4228200"/>
              <a:ext cx="3886200" cy="68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251520" y="2666520"/>
              <a:ext cx="27428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З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нан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2908080" y="4422960"/>
              <a:ext cx="33145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Информация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22200" y="6180120"/>
              <a:ext cx="32000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</a:rPr>
                <a:t>Данные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2679840" y="491112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AutoShape 13"/>
            <p:cNvSpPr/>
            <p:nvPr/>
          </p:nvSpPr>
          <p:spPr>
            <a:xfrm>
              <a:off x="2679840" y="3154680"/>
              <a:ext cx="3886200" cy="107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3823200" y="5106240"/>
              <a:ext cx="1599480" cy="68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контекстуализация, категоризация,  подсчет, коррекция,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жатие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3823200" y="3350160"/>
              <a:ext cx="1599480" cy="7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сравнение, оценка, определение области применения,</a:t>
              </a:r>
              <a:r>
                <a:rPr b="0" lang="ru-RU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3366"/>
                  </a:solidFill>
                  <a:latin typeface="Arial"/>
                </a:rPr>
                <a:t>установление связей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913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ынки данных, информации и знан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данны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 биржевых сделках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анные об опытах на сложном оборудовании (например, на синхрофазотроне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информации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книжный рынок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аудио и видеопродук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аучно-техническ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новостной информ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шпионских сведений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промышленных секретов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ынки знан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консалтинговых услуг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ниверситетского образо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управленческих кадр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рынок специалистов различных сфер деятельнос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5:48:52Z</dcterms:created>
  <dc:creator>gapon</dc:creator>
  <dc:description/>
  <dc:language>en-US</dc:language>
  <cp:lastModifiedBy>LEGION</cp:lastModifiedBy>
  <dcterms:modified xsi:type="dcterms:W3CDTF">2016-01-04T13:42:12Z</dcterms:modified>
  <cp:revision>14</cp:revision>
  <dc:subject/>
  <dc:title>Рынки знаний и современные технологии обмена знаний</dc:title>
</cp:coreProperties>
</file>