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6BE3-55CF-4C2F-86FC-DF929AD30A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585-9464-426B-8FFE-0266F73C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755-F16D-4888-B0B6-DF1A957D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2A6-1803-49BF-A52D-D7A9E692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84F-BC40-4D36-A4CB-32D131F3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371-B20D-41D1-990C-BAA602FB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263-A1BA-4C28-BE02-0E3E25C7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C27-AE57-4EAA-AAE7-96D9081D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26D-E063-4D6A-8511-4DFB5063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2B4-0D4E-49EA-ACE2-EE164C9A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EDF-918C-4449-A3E6-0A28AD16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A17-A704-4681-9B0B-77874012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CD7-C124-4CAE-AA28-04CE33E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66"/>
            </a:gs>
            <a:gs pos="100000">
              <a:srgbClr val="cc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37F-661B-48E3-8015-E248317B9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14732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3024360"/>
            <a:ext cx="216036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32720" y="3024360"/>
            <a:ext cx="194292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564000" y="1600200"/>
            <a:ext cx="2232000" cy="949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708360" y="4514760"/>
            <a:ext cx="2232000" cy="951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476360" y="4854600"/>
            <a:ext cx="184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7543800" y="2222280"/>
            <a:ext cx="0" cy="812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5724360" y="2211480"/>
            <a:ext cx="187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5940360" y="5057640"/>
            <a:ext cx="1656000" cy="18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7596360" y="3836520"/>
            <a:ext cx="0" cy="12207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476360" y="3836880"/>
            <a:ext cx="0" cy="1152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1476360" y="4989600"/>
            <a:ext cx="223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H="1">
            <a:off x="1476000" y="2211480"/>
            <a:ext cx="2087640" cy="14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1476360" y="2211480"/>
            <a:ext cx="0" cy="8128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1388520" y="186516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880600" y="19368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973120" y="444672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334520" y="458964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68360" y="1533600"/>
            <a:ext cx="8229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0" y="3873600"/>
            <a:ext cx="9144000" cy="2581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0" y="0"/>
            <a:ext cx="9144000" cy="301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собенности рынка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рынок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ынок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услуг факторов производ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про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акторы производства является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изводн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 ы н о 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ВСЕГД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е происходит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ДАЖ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Услуг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ОПРЕДЕЛЕННОГО СРОКА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ДАЮТСЯ В АРЕ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оизводный 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означ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Верно 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определение, что так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0"/>
            <a:ext cx="822960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Как вы считаете,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идет о рынке труда или услуг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ыяснить,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что общего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 че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тличия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рынка факторов производства и рынка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 Понимать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обенности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рынка факторов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оходы от факторов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ы производства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(экономические ресур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товаров и услуг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762012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51120" y="1600200"/>
            <a:ext cx="239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586200" y="1600200"/>
            <a:ext cx="24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6631200" y="426708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ДАВЦ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229320" y="4267080"/>
            <a:ext cx="26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3200400" y="3505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3200400" y="6095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3429000" y="3962520"/>
            <a:ext cx="2286000" cy="19047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5853240" y="567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V="1">
            <a:off x="3429000" y="3962160"/>
            <a:ext cx="2438280" cy="1523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562464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 flipH="1">
            <a:off x="3200040" y="4800600"/>
            <a:ext cx="121932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821320" y="457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6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 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769000" y="55627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815760" y="53341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63200" y="26416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782400" y="2641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V="1">
            <a:off x="3429000" y="14479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3429000" y="3581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3657600" y="1752480"/>
            <a:ext cx="2209680" cy="16002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5853240" y="308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 flipV="1">
            <a:off x="3733920" y="1752480"/>
            <a:ext cx="2209680" cy="13716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005520" y="156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4497120" y="2209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 flipH="1">
            <a:off x="3429000" y="2514600"/>
            <a:ext cx="129528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312588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9"/>
          <p:cNvSpPr/>
          <p:nvPr/>
        </p:nvSpPr>
        <p:spPr>
          <a:xfrm>
            <a:off x="609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754380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556640" y="227664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5880600" y="20574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961960" y="486900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1334520" y="487692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10560" y="42670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706440" y="42670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935400" y="27176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34240" y="2717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 т л и ч и 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Товар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Рынок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, труд, капит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дот М.С.</dc:creator>
  <dc:description/>
  <dc:language>en-US</dc:language>
  <cp:lastModifiedBy>LEGION</cp:lastModifiedBy>
  <dcterms:modified xsi:type="dcterms:W3CDTF">2016-01-04T13:42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