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B3D3-CF22-45EC-80CE-8A549A2FB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рынок факторов производства и рынок услуг факторов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прос на факторы производства является производ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 ы н о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НАВСЕГДА, т.е происходит ПРОДАЖА ф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 ОПРЕДЕЛЕННОГО СРОКА, т.е. ф.п. СДАЮТСЯ В АРЕН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-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но 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пределение, что такое РЫНОК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т о рынке труда или услуг тру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ок  факт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снить, что общего и в чем отличия рынка факторов производства и рынка товаров и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нимать особенности рынка факторов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кономические ресурс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 факторов 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 т л и ч и 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товар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 продажи – земля, труд,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авцы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AB3-0188-4469-99F4-81F9E989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EF4-9785-4503-A1F8-CA46EFF0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D21-A848-458C-9751-3CEA86D7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D694-EFEA-4F35-A245-A4B8057A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89E-2805-4256-A432-A532503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BA3-A31D-4CA4-BE70-A80E35BE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9AF5-A26B-4FDC-AC12-2F117562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B8E-4987-4E79-A79F-151E21F2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6EE-9AB2-4617-9C7C-CE3E064D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4E09-8BB7-4279-BC8E-AFDA89B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AB4B-2C65-4EBF-88D5-3F14F077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9C41-26AC-4803-A771-BAC4FD06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61C4-726D-402E-A1C7-84CB4EDF41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147320"/>
            <a:ext cx="8229600" cy="45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50920" y="3024360"/>
            <a:ext cx="216036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32720" y="3024360"/>
            <a:ext cx="1942920" cy="81252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564000" y="1600200"/>
            <a:ext cx="2232000" cy="9493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3708360" y="4514760"/>
            <a:ext cx="2232000" cy="951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476360" y="4854600"/>
            <a:ext cx="184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7543800" y="2222280"/>
            <a:ext cx="0" cy="8125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 flipH="1">
            <a:off x="5724360" y="2211480"/>
            <a:ext cx="187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5940360" y="5057640"/>
            <a:ext cx="1656000" cy="18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 flipV="1">
            <a:off x="7596360" y="3836520"/>
            <a:ext cx="0" cy="12207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3"/>
          <p:cNvSpPr/>
          <p:nvPr/>
        </p:nvSpPr>
        <p:spPr>
          <a:xfrm>
            <a:off x="1476360" y="3836880"/>
            <a:ext cx="0" cy="115272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1476360" y="4989600"/>
            <a:ext cx="2232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5"/>
          <p:cNvSpPr/>
          <p:nvPr/>
        </p:nvSpPr>
        <p:spPr>
          <a:xfrm flipH="1">
            <a:off x="1476000" y="2211480"/>
            <a:ext cx="2087640" cy="14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1476360" y="2211480"/>
            <a:ext cx="0" cy="8128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1388520" y="186516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5880600" y="19368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5973120" y="444672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334520" y="458964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1"/>
          <p:cNvSpPr/>
          <p:nvPr/>
        </p:nvSpPr>
        <p:spPr>
          <a:xfrm>
            <a:off x="468360" y="1533600"/>
            <a:ext cx="82296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0" y="3873600"/>
            <a:ext cx="9144000" cy="2581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0" y="0"/>
            <a:ext cx="9144000" cy="3011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собенности рынка 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ует рынок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факторов производст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рынок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услуг факторов производств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про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факторы производства является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изводны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 ы н о 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отчуждаются от своих собственников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ВСЕГД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е происходит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ДАЖ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ф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Услуг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не отчуждаются от своих собственников, а оказывают услуги в течение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ОПРЕДЕЛЕННОГО СРОКА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.п.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СДАЮТСЯ В АРЕ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Производный с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знача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что спрос на факторы производства, ЗАВИСИТ от спроса на товары и услуги, производимые фирмами, использующими эти факторы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общие черты с рынком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ют отличия между рынками факторов производства и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факторов производства имеет свои особен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громное количество импортных тканей, трикотажа и модной одежды на российском рынке привели к сокращению занятости работников на отечественных предприятиях легкой и текстильной промышленности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Подумай-к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Верно 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ресурсы предъявляют домашние хозяй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рос на товары зависит от спроса на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сахар возник ажиотажный спрос, в результате которого вырос спрос на грузовые автомобили для его перевоз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рачи заявили о том, что употребление картофеля не является полезным, в результате сократился спрос на картофелеуборочную техн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3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8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3809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ь определение, что тако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НОК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чем заключаются особенности рынка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0"/>
            <a:ext cx="8229600" cy="28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Как вы считаете,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идет о рынке труда или услуг тру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оров И.П. устроился учителем английского языка в школ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лучить представление о рынке факторов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Выяснить,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что общего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в чем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тличия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рынка факторов производства и рынка товаров и услу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2. Понимать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обенности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рынка факторов производ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Факторы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оходы от факторов произво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работная пл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Факторы производства</a:t>
            </a:r>
            <a:br>
              <a:rPr sz="4000"/>
            </a:b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(экономические ресурс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товаров и услуг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762012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951120" y="1600200"/>
            <a:ext cx="239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6586200" y="1600200"/>
            <a:ext cx="246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2"/>
          <p:cNvSpPr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6631200" y="426708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ОДАВЦ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229320" y="4267080"/>
            <a:ext cx="261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 flipV="1">
            <a:off x="3200400" y="3505320"/>
            <a:ext cx="0" cy="2590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3200400" y="60958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3429000" y="3962520"/>
            <a:ext cx="2286000" cy="190476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5853240" y="567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 flipV="1">
            <a:off x="3429000" y="3962160"/>
            <a:ext cx="2438280" cy="15238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5624640" y="354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 flipH="1">
            <a:off x="3200040" y="4800600"/>
            <a:ext cx="121932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2821320" y="45720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971640" y="404640"/>
            <a:ext cx="705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ынок  факторов  производства</a:t>
            </a:r>
            <a:endParaRPr b="0" lang="en-US" sz="2800" spc="1" strike="noStrike">
              <a:ln w="9360">
                <a:solidFill>
                  <a:srgbClr val="3333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6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7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769000" y="55627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куп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3"/>
          <p:cNvSpPr/>
          <p:nvPr/>
        </p:nvSpPr>
        <p:spPr>
          <a:xfrm>
            <a:off x="815760" y="5334120"/>
            <a:ext cx="33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род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5"/>
          <p:cNvSpPr/>
          <p:nvPr/>
        </p:nvSpPr>
        <p:spPr>
          <a:xfrm>
            <a:off x="763200" y="26416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6"/>
          <p:cNvSpPr/>
          <p:nvPr/>
        </p:nvSpPr>
        <p:spPr>
          <a:xfrm>
            <a:off x="6782400" y="26416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9"/>
          <p:cNvSpPr/>
          <p:nvPr/>
        </p:nvSpPr>
        <p:spPr>
          <a:xfrm flipV="1">
            <a:off x="3429000" y="1447920"/>
            <a:ext cx="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0"/>
          <p:cNvSpPr/>
          <p:nvPr/>
        </p:nvSpPr>
        <p:spPr>
          <a:xfrm>
            <a:off x="3429000" y="358128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1"/>
          <p:cNvSpPr/>
          <p:nvPr/>
        </p:nvSpPr>
        <p:spPr>
          <a:xfrm>
            <a:off x="3657600" y="1752480"/>
            <a:ext cx="2209680" cy="160020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5853240" y="308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3"/>
          <p:cNvSpPr/>
          <p:nvPr/>
        </p:nvSpPr>
        <p:spPr>
          <a:xfrm flipV="1">
            <a:off x="3733920" y="1752480"/>
            <a:ext cx="2209680" cy="137160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005520" y="1560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4497120" y="220968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6"/>
          <p:cNvSpPr/>
          <p:nvPr/>
        </p:nvSpPr>
        <p:spPr>
          <a:xfrm flipH="1">
            <a:off x="3429000" y="2514600"/>
            <a:ext cx="129528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7"/>
          <p:cNvSpPr/>
          <p:nvPr/>
        </p:nvSpPr>
        <p:spPr>
          <a:xfrm>
            <a:off x="312588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9"/>
          <p:cNvSpPr/>
          <p:nvPr/>
        </p:nvSpPr>
        <p:spPr>
          <a:xfrm>
            <a:off x="6094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38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385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385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4"/>
          <p:cNvSpPr/>
          <p:nvPr/>
        </p:nvSpPr>
        <p:spPr>
          <a:xfrm>
            <a:off x="250920" y="3213000"/>
            <a:ext cx="216036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МОХОЗЯ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732720" y="3213000"/>
            <a:ext cx="1942920" cy="863640"/>
          </a:xfrm>
          <a:prstGeom prst="rect">
            <a:avLst/>
          </a:prstGeom>
          <a:gradFill rotWithShape="0">
            <a:gsLst>
              <a:gs pos="0">
                <a:srgbClr val="5e762f"/>
              </a:gs>
              <a:gs pos="50000">
                <a:srgbClr val="ccff66"/>
              </a:gs>
              <a:gs pos="100000">
                <a:srgbClr val="5e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 И Р М 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6"/>
          <p:cNvSpPr/>
          <p:nvPr/>
        </p:nvSpPr>
        <p:spPr>
          <a:xfrm>
            <a:off x="3564000" y="1700280"/>
            <a:ext cx="2232000" cy="10080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ТОВАРОВ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3708360" y="4797360"/>
            <a:ext cx="2232000" cy="1009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ЫНОК ЭКОНОМИЧ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Х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47636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7543800" y="23619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H="1">
            <a:off x="5724360" y="2349360"/>
            <a:ext cx="187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5940360" y="5373720"/>
            <a:ext cx="1656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7596360" y="4076280"/>
            <a:ext cx="0" cy="129708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>
            <a:off x="1476360" y="4076640"/>
            <a:ext cx="0" cy="122400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1476360" y="5300640"/>
            <a:ext cx="2232000" cy="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>
            <a:off x="1476000" y="2349360"/>
            <a:ext cx="2087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476360" y="2349360"/>
            <a:ext cx="0" cy="8636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1556640" y="2276640"/>
            <a:ext cx="19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5880600" y="205740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Товары и услуг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61960" y="4869000"/>
            <a:ext cx="16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1334520" y="4876920"/>
            <a:ext cx="269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Факторы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2"/>
          <p:cNvSpPr/>
          <p:nvPr/>
        </p:nvSpPr>
        <p:spPr>
          <a:xfrm>
            <a:off x="468360" y="1628640"/>
            <a:ext cx="82296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610560" y="426708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706440" y="426708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5"/>
          <p:cNvSpPr/>
          <p:nvPr/>
        </p:nvSpPr>
        <p:spPr>
          <a:xfrm>
            <a:off x="6935400" y="2717640"/>
            <a:ext cx="17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ОДА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6"/>
          <p:cNvSpPr/>
          <p:nvPr/>
        </p:nvSpPr>
        <p:spPr>
          <a:xfrm>
            <a:off x="534240" y="2717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КУП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8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0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ействуют законы спроса и предл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 воздействием спроса и предложения складывается рыночное равновес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Сходство товарного рынка и рынка факторов произво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 т л и ч и 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Товар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вары и услуг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Рынок факторов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бъект продажи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емля, труд, капит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окупател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р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давцы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ашние хозяй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дот М.С.</dc:creator>
  <dc:description/>
  <dc:language>en-US</dc:language>
  <cp:lastModifiedBy>LEGION</cp:lastModifiedBy>
  <dcterms:modified xsi:type="dcterms:W3CDTF">2016-01-04T13:42:1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