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8D37-5B25-4718-8504-AD5E42A687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Х РЕСУР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Х РЕСУР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рын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рынок факторов производства и рынок услуг факторов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прос на факторы производства является производ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рын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рынок факторов производства и рынок услуг факторов произво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прос на факторы производства является производ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ы н о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.п. отчуждаются от своих собственников НАВСЕГДА, т.е происходит ПРОДАЖА ф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.п. не отчуждаются от своих собственников, а оказывают услуги в течение  ОПРЕДЕЛЕННОГО СРОКА, т.е. ф.п. СДАЮТСЯ В АРЕН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ы н о 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.п. отчуждаются от своих собственников НАВСЕГДА, т.е происходит ПРОДАЖА ф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.п. не отчуждаются от своих собственников, а оказывают услуги в течение  ОПРЕДЕЛЕННОГО СРОКА, т.е. ф.п. СДАЮТСЯ В АРЕН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ча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прос на факторы производства, ЗАВИСИТ от спроса на товары и услуги, производимые фирмами, использующими эти факторы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ный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чае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прос на факторы производства, ЗАВИСИТ от спроса на товары и услуги, производимые фирмами, использующими эти факторы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 производства имеет общие черты с рынком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 отличия между рынками факторов производства и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 производства имеет свои особ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факторов производства имеет общие черты с рынком товаров и услу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отличия между рынками факторов производства и товаров и услу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факторов производства имеет свои особ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й-к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омное количество импортных тканей, трикотажа и модной одежды на российском рынке привели к сокращению занятости работников на отечественных предприятиях легкой и текстильной промышленности.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умай-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омное количество импортных тканей, трикотажа и модной одежды на российском рынке привели к сокращению занятости работников на отечественных предприятиях легкой и текстильной промышленности.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й-к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но 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ресурсы предъявляют домашние хозя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товары зависит от спроса на ресурс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ахар возник ажиотажный спрос, в результате которого вырос спрос на грузовые автомобили для его перево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ачи заявили о том, что употребление картофеля не является полезным, в результате сократился спрос на картофелеуборочную техн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умай-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о л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ресурсы предъявляют домашние хозяй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товары зависит от спроса на ресурс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ахар возник ажиотажный спрос, в результате которого вырос спрос на грузовые автомобили для его перевоз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ачи заявили о том, что употребление картофеля не является полезным, в результате сократился спрос на картофелеуборочную техн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пределение, что такое РЫНОК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заключаются особенности рынка тру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считаете, реч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т о рынке труда или услуг тру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 И.П. устроился учителем английского языка в школу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пределение, что такое РЫНОК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ем заключаются особенности рынка тру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считаете, реч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т о рынке труда или услуг тру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доров И.П. устроился учителем английского языка в школу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ынок  факто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ынок  фактор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ть представление о рынке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, что общего и в чем отличия рынка факторов производства и рынка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нимать особенности рынка факторов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ить представление о рынке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снить, что общего и в чем отличия рынка факторов производства и рынка товаров и услу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нимать особенности рынка факторов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от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 пл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кономические ресурс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ы от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экономические ресурс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 факторов 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 факторов 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ют законы спроса и предло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оздействием спроса и предложения складывается рыночное равновес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о товарного рынка и рынка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уют законы спроса и предло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воздействием спроса и предложения складывается рыночное равновес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одство товарного рынка и рынка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т л и ч и 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продажи – товары и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ие хозяй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продажи – земля, труд, капита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ие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т л и ч и 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н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 продажи – товары и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ие хозяй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 продажи – земля, труд, капит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р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ие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5B7A-D9BC-4678-AC28-9A2ED8F5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28D1-90F3-441B-BB85-FA98D979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5CA5-A399-4F32-A2E2-54E103F8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5BDA-2AD5-4AE1-B24B-9960E8906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1331-83E5-45D7-9168-FC273496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BA9A-0181-402F-AB17-BAC0CCEF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EE49-5E0C-42BD-A510-E7BB9359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497D-9F5B-4104-A960-E44A6BB7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2A34-C444-420C-A2F6-DE0B5DB5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E408-A6F0-42C4-A11B-9E62E58C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1E29-C55A-4DC6-9146-F96771C8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4EA3-FA23-4B47-9841-65987E9D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50000">
              <a:srgbClr val="ffff66"/>
            </a:gs>
            <a:gs pos="100000">
              <a:srgbClr val="cc66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363D-EDDA-441C-93BC-9EEB21FB7D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147320"/>
            <a:ext cx="822960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50920" y="3024360"/>
            <a:ext cx="2160360" cy="81252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732720" y="3024360"/>
            <a:ext cx="1942920" cy="81252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6"/>
          <p:cNvSpPr/>
          <p:nvPr/>
        </p:nvSpPr>
        <p:spPr>
          <a:xfrm>
            <a:off x="3564000" y="1600200"/>
            <a:ext cx="2232000" cy="949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3708360" y="4514760"/>
            <a:ext cx="2232000" cy="951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ИХ РЕСУРС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476360" y="4854600"/>
            <a:ext cx="184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 flipV="1">
            <a:off x="7543800" y="2222280"/>
            <a:ext cx="0" cy="81252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 flipH="1">
            <a:off x="5724360" y="2211480"/>
            <a:ext cx="1872000" cy="14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5940360" y="5057640"/>
            <a:ext cx="1656000" cy="18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 flipV="1">
            <a:off x="7596360" y="3836520"/>
            <a:ext cx="0" cy="122076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3"/>
          <p:cNvSpPr/>
          <p:nvPr/>
        </p:nvSpPr>
        <p:spPr>
          <a:xfrm>
            <a:off x="1476360" y="3836880"/>
            <a:ext cx="0" cy="115272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4"/>
          <p:cNvSpPr/>
          <p:nvPr/>
        </p:nvSpPr>
        <p:spPr>
          <a:xfrm>
            <a:off x="1476360" y="4989600"/>
            <a:ext cx="2232000" cy="14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5"/>
          <p:cNvSpPr/>
          <p:nvPr/>
        </p:nvSpPr>
        <p:spPr>
          <a:xfrm flipH="1">
            <a:off x="1476000" y="2211480"/>
            <a:ext cx="2087640" cy="14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6"/>
          <p:cNvSpPr/>
          <p:nvPr/>
        </p:nvSpPr>
        <p:spPr>
          <a:xfrm>
            <a:off x="1476360" y="2211480"/>
            <a:ext cx="0" cy="81288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1388520" y="1865160"/>
            <a:ext cx="19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овары и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5880600" y="1936800"/>
            <a:ext cx="20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овары и услу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973120" y="4446720"/>
            <a:ext cx="16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Факто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1334520" y="4589640"/>
            <a:ext cx="269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Факторы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1"/>
          <p:cNvSpPr/>
          <p:nvPr/>
        </p:nvSpPr>
        <p:spPr>
          <a:xfrm>
            <a:off x="468360" y="1533600"/>
            <a:ext cx="822960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6"/>
          <p:cNvSpPr/>
          <p:nvPr/>
        </p:nvSpPr>
        <p:spPr>
          <a:xfrm>
            <a:off x="0" y="3873600"/>
            <a:ext cx="9144000" cy="2581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0" y="0"/>
            <a:ext cx="9144000" cy="3011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Особенности рынка </a:t>
            </a:r>
            <a:br>
              <a:rPr sz="4000"/>
            </a:b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факторов производ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ет рынок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факторов производст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рынок </a:t>
            </a: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услуг факторов производств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про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факторы производства является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роизводны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Р ы н о 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Факторов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.п. отчуждаются от своих собственников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ВСЕГДА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.е происходит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РОДАЖ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ф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Услуг факторов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.п. не отчуждаются от своих собственников, а оказывают услуги в течение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ОПРЕДЕЛЕННОГО СРОКА, т.е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.п.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СДАЮТСЯ В АРЕН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Производный с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означа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что спрос на факторы производства, ЗАВИСИТ от спроса на товары и услуги, производимые фирмами, использующими эти факторы производ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7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ынок факторов производства имеет общие черты с рынком товаров и усл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ществуют отличия между рынками факторов производства и товаров и усл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ынок факторов производства имеет свои особ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Arial"/>
              </a:rPr>
              <a:t>Подумай-к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громное количество импортных тканей, трикотажа и модной одежды на российском рынке привели к сокращению занятости работников на отечественных предприятиях легкой и текстильной промышленности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6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Arial"/>
              </a:rPr>
              <a:t>Подумай-к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Верно 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рос на ресурсы предъявляют домашние хозяй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рос на товары зависит от спроса на ресурс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сахар возник ажиотажный спрос, в результате которого вырос спрос на грузовые автомобили для его перевоз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рачи заявили о том, что употребление картофеля не является полезным, в результате сократился спрос на картофелеуборочную техни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9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6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4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ть определение, что тако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ЫНОК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чем заключаются особенности рынка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57200" y="0"/>
            <a:ext cx="8229600" cy="28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Как вы считаете, ре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идет о рынке труда или услуг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доров И.П. устроился учителем английского языка в школу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4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6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ынок  факторов </a:t>
            </a:r>
            <a:endParaRPr b="0" lang="en-US" sz="2800" spc="1" strike="noStrike">
              <a:ln w="9360">
                <a:solidFill>
                  <a:srgbClr val="3333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изводства</a:t>
            </a:r>
            <a:endParaRPr b="0" lang="en-US" sz="2800" spc="1" strike="noStrike">
              <a:ln w="9360">
                <a:solidFill>
                  <a:srgbClr val="3333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олучить представление о рынке факторов произво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Выяснить,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что общего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и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в чем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отличия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рынка факторов производства и рынка товаров и усл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2. Понимать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особенности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рынка факторов производ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Факторы произв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ем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пит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Доходы от факторов произв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н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Факторы производства</a:t>
            </a:r>
            <a:br>
              <a:rPr sz="4000"/>
            </a:b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(экономические ресурс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250920" y="3213000"/>
            <a:ext cx="216036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6732720" y="3213000"/>
            <a:ext cx="194292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6"/>
          <p:cNvSpPr/>
          <p:nvPr/>
        </p:nvSpPr>
        <p:spPr>
          <a:xfrm>
            <a:off x="3564000" y="1700280"/>
            <a:ext cx="2232000" cy="1008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8"/>
          <p:cNvSpPr txBox="1"/>
          <p:nvPr/>
        </p:nvSpPr>
        <p:spPr>
          <a:xfrm>
            <a:off x="971640" y="404640"/>
            <a:ext cx="7056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ынок товаров и услуг</a:t>
            </a:r>
            <a:endParaRPr b="0" lang="en-US" sz="2800" spc="1" strike="noStrike">
              <a:ln w="9360">
                <a:solidFill>
                  <a:srgbClr val="3333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476360" y="515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"/>
          <p:cNvSpPr/>
          <p:nvPr/>
        </p:nvSpPr>
        <p:spPr>
          <a:xfrm flipV="1">
            <a:off x="7620120" y="2361960"/>
            <a:ext cx="0" cy="8636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1"/>
          <p:cNvSpPr/>
          <p:nvPr/>
        </p:nvSpPr>
        <p:spPr>
          <a:xfrm flipH="1">
            <a:off x="5724360" y="2349360"/>
            <a:ext cx="1872000" cy="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6"/>
          <p:cNvSpPr/>
          <p:nvPr/>
        </p:nvSpPr>
        <p:spPr>
          <a:xfrm flipH="1">
            <a:off x="1476000" y="2349360"/>
            <a:ext cx="208764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7"/>
          <p:cNvSpPr/>
          <p:nvPr/>
        </p:nvSpPr>
        <p:spPr>
          <a:xfrm>
            <a:off x="1476360" y="2349360"/>
            <a:ext cx="0" cy="8636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951120" y="1600200"/>
            <a:ext cx="239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куп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товары и усл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6586200" y="1600200"/>
            <a:ext cx="246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род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товары и услу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5"/>
          <p:cNvSpPr/>
          <p:nvPr/>
        </p:nvSpPr>
        <p:spPr>
          <a:xfrm>
            <a:off x="6631200" y="4267080"/>
            <a:ext cx="235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ОДАВЦЫ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6"/>
          <p:cNvSpPr/>
          <p:nvPr/>
        </p:nvSpPr>
        <p:spPr>
          <a:xfrm>
            <a:off x="229320" y="4267080"/>
            <a:ext cx="261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КУПАТЕЛ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7"/>
          <p:cNvSpPr/>
          <p:nvPr/>
        </p:nvSpPr>
        <p:spPr>
          <a:xfrm flipV="1">
            <a:off x="3200400" y="3505320"/>
            <a:ext cx="0" cy="2590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8"/>
          <p:cNvSpPr/>
          <p:nvPr/>
        </p:nvSpPr>
        <p:spPr>
          <a:xfrm>
            <a:off x="3200400" y="60958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9"/>
          <p:cNvSpPr/>
          <p:nvPr/>
        </p:nvSpPr>
        <p:spPr>
          <a:xfrm>
            <a:off x="3429000" y="3962520"/>
            <a:ext cx="2286000" cy="190476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0"/>
          <p:cNvSpPr/>
          <p:nvPr/>
        </p:nvSpPr>
        <p:spPr>
          <a:xfrm>
            <a:off x="5853240" y="5675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1"/>
          <p:cNvSpPr/>
          <p:nvPr/>
        </p:nvSpPr>
        <p:spPr>
          <a:xfrm flipV="1">
            <a:off x="3429000" y="3962160"/>
            <a:ext cx="2438280" cy="152388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5624640" y="3541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3"/>
          <p:cNvSpPr/>
          <p:nvPr/>
        </p:nvSpPr>
        <p:spPr>
          <a:xfrm>
            <a:off x="4267080" y="4495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4"/>
          <p:cNvSpPr/>
          <p:nvPr/>
        </p:nvSpPr>
        <p:spPr>
          <a:xfrm flipH="1">
            <a:off x="3200040" y="4800600"/>
            <a:ext cx="1219320" cy="0"/>
          </a:xfrm>
          <a:prstGeom prst="line">
            <a:avLst/>
          </a:prstGeom>
          <a:ln w="3816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5"/>
          <p:cNvSpPr/>
          <p:nvPr/>
        </p:nvSpPr>
        <p:spPr>
          <a:xfrm>
            <a:off x="2821320" y="4572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250920" y="3213000"/>
            <a:ext cx="216036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6732720" y="3213000"/>
            <a:ext cx="194292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3708360" y="4797360"/>
            <a:ext cx="2232000" cy="10098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ИХ РЕСУР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16"/>
          <p:cNvSpPr txBox="1"/>
          <p:nvPr/>
        </p:nvSpPr>
        <p:spPr>
          <a:xfrm>
            <a:off x="971640" y="404640"/>
            <a:ext cx="7056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ынок  факторов  производства</a:t>
            </a:r>
            <a:endParaRPr b="0" lang="en-US" sz="2800" spc="1" strike="noStrike">
              <a:ln w="9360">
                <a:solidFill>
                  <a:srgbClr val="3333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1476360" y="515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4"/>
          <p:cNvSpPr/>
          <p:nvPr/>
        </p:nvSpPr>
        <p:spPr>
          <a:xfrm>
            <a:off x="5940360" y="5373720"/>
            <a:ext cx="165600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5"/>
          <p:cNvSpPr/>
          <p:nvPr/>
        </p:nvSpPr>
        <p:spPr>
          <a:xfrm flipV="1">
            <a:off x="7596360" y="4076280"/>
            <a:ext cx="0" cy="129708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6"/>
          <p:cNvSpPr/>
          <p:nvPr/>
        </p:nvSpPr>
        <p:spPr>
          <a:xfrm>
            <a:off x="1476360" y="4076640"/>
            <a:ext cx="0" cy="12240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7"/>
          <p:cNvSpPr/>
          <p:nvPr/>
        </p:nvSpPr>
        <p:spPr>
          <a:xfrm>
            <a:off x="1476360" y="5300640"/>
            <a:ext cx="2232000" cy="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2"/>
          <p:cNvSpPr/>
          <p:nvPr/>
        </p:nvSpPr>
        <p:spPr>
          <a:xfrm>
            <a:off x="5769000" y="5562720"/>
            <a:ext cx="332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куп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факторы произ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3"/>
          <p:cNvSpPr/>
          <p:nvPr/>
        </p:nvSpPr>
        <p:spPr>
          <a:xfrm>
            <a:off x="815760" y="5334120"/>
            <a:ext cx="332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род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факторы произ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4"/>
          <p:cNvSpPr/>
          <p:nvPr/>
        </p:nvSpPr>
        <p:spPr>
          <a:xfrm>
            <a:off x="468360" y="162864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5"/>
          <p:cNvSpPr/>
          <p:nvPr/>
        </p:nvSpPr>
        <p:spPr>
          <a:xfrm>
            <a:off x="763200" y="2641680"/>
            <a:ext cx="17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РОДАВ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6"/>
          <p:cNvSpPr/>
          <p:nvPr/>
        </p:nvSpPr>
        <p:spPr>
          <a:xfrm>
            <a:off x="6782400" y="264168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КУП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9"/>
          <p:cNvSpPr/>
          <p:nvPr/>
        </p:nvSpPr>
        <p:spPr>
          <a:xfrm flipV="1">
            <a:off x="3429000" y="144792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0"/>
          <p:cNvSpPr/>
          <p:nvPr/>
        </p:nvSpPr>
        <p:spPr>
          <a:xfrm>
            <a:off x="3429000" y="35812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1"/>
          <p:cNvSpPr/>
          <p:nvPr/>
        </p:nvSpPr>
        <p:spPr>
          <a:xfrm>
            <a:off x="3657600" y="1752480"/>
            <a:ext cx="2209680" cy="16002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2"/>
          <p:cNvSpPr/>
          <p:nvPr/>
        </p:nvSpPr>
        <p:spPr>
          <a:xfrm>
            <a:off x="5853240" y="3084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3"/>
          <p:cNvSpPr/>
          <p:nvPr/>
        </p:nvSpPr>
        <p:spPr>
          <a:xfrm flipV="1">
            <a:off x="3733920" y="1752480"/>
            <a:ext cx="2209680" cy="137160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4"/>
          <p:cNvSpPr/>
          <p:nvPr/>
        </p:nvSpPr>
        <p:spPr>
          <a:xfrm>
            <a:off x="6005520" y="1560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5"/>
          <p:cNvSpPr/>
          <p:nvPr/>
        </p:nvSpPr>
        <p:spPr>
          <a:xfrm>
            <a:off x="4497120" y="220968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6"/>
          <p:cNvSpPr/>
          <p:nvPr/>
        </p:nvSpPr>
        <p:spPr>
          <a:xfrm flipH="1">
            <a:off x="3429000" y="2514600"/>
            <a:ext cx="1295280" cy="0"/>
          </a:xfrm>
          <a:prstGeom prst="line">
            <a:avLst/>
          </a:prstGeom>
          <a:ln w="3816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7"/>
          <p:cNvSpPr/>
          <p:nvPr/>
        </p:nvSpPr>
        <p:spPr>
          <a:xfrm>
            <a:off x="3125880" y="2286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9"/>
          <p:cNvSpPr/>
          <p:nvPr/>
        </p:nvSpPr>
        <p:spPr>
          <a:xfrm>
            <a:off x="60948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38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385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2" dur="38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4" dur="38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38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385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3" dur="38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5" dur="38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7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250920" y="3213000"/>
            <a:ext cx="216036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732720" y="3213000"/>
            <a:ext cx="194292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6"/>
          <p:cNvSpPr/>
          <p:nvPr/>
        </p:nvSpPr>
        <p:spPr>
          <a:xfrm>
            <a:off x="3564000" y="1700280"/>
            <a:ext cx="2232000" cy="1008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3708360" y="4797360"/>
            <a:ext cx="2232000" cy="10098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ИХ РЕСУР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1476360" y="515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 flipV="1">
            <a:off x="7543800" y="2361960"/>
            <a:ext cx="0" cy="8636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1"/>
          <p:cNvSpPr/>
          <p:nvPr/>
        </p:nvSpPr>
        <p:spPr>
          <a:xfrm flipH="1">
            <a:off x="5724360" y="2349360"/>
            <a:ext cx="1872000" cy="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>
            <a:off x="5940360" y="5373720"/>
            <a:ext cx="165600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 flipV="1">
            <a:off x="7596360" y="4076280"/>
            <a:ext cx="0" cy="129708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1476360" y="4076640"/>
            <a:ext cx="0" cy="12240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5"/>
          <p:cNvSpPr/>
          <p:nvPr/>
        </p:nvSpPr>
        <p:spPr>
          <a:xfrm>
            <a:off x="1476360" y="5300640"/>
            <a:ext cx="2232000" cy="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6"/>
          <p:cNvSpPr/>
          <p:nvPr/>
        </p:nvSpPr>
        <p:spPr>
          <a:xfrm flipH="1">
            <a:off x="1476000" y="2349360"/>
            <a:ext cx="208764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7"/>
          <p:cNvSpPr/>
          <p:nvPr/>
        </p:nvSpPr>
        <p:spPr>
          <a:xfrm>
            <a:off x="1476360" y="2349360"/>
            <a:ext cx="0" cy="8636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1556640" y="2276640"/>
            <a:ext cx="19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овары и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5880600" y="2057400"/>
            <a:ext cx="20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овары и услу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0"/>
          <p:cNvSpPr/>
          <p:nvPr/>
        </p:nvSpPr>
        <p:spPr>
          <a:xfrm>
            <a:off x="5961960" y="4869000"/>
            <a:ext cx="16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Факто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1"/>
          <p:cNvSpPr/>
          <p:nvPr/>
        </p:nvSpPr>
        <p:spPr>
          <a:xfrm>
            <a:off x="1334520" y="4876920"/>
            <a:ext cx="269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Факторы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2"/>
          <p:cNvSpPr/>
          <p:nvPr/>
        </p:nvSpPr>
        <p:spPr>
          <a:xfrm>
            <a:off x="468360" y="162864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610560" y="4267080"/>
            <a:ext cx="17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РОДАВ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6706440" y="426708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КУП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5"/>
          <p:cNvSpPr/>
          <p:nvPr/>
        </p:nvSpPr>
        <p:spPr>
          <a:xfrm>
            <a:off x="6935400" y="2717640"/>
            <a:ext cx="17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РОДАВ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6"/>
          <p:cNvSpPr/>
          <p:nvPr/>
        </p:nvSpPr>
        <p:spPr>
          <a:xfrm>
            <a:off x="534240" y="271764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КУП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6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8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0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77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6" dur="770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8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0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5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5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йствуют законы спроса и предлож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д воздействием спроса и предложения складывается рыночное равновес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Сходство товарного рынка и рынка факторов производ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О т л и ч и 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Товарный ры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Объект продажи 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вары и услуг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Покупател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ашние хозяй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Продавцы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р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Рынок факторов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Объект продажи 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емля, труд, капита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Покупател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р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Продавцы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ашние хозя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дот М.С.</dc:creator>
  <dc:description/>
  <dc:language>en-US</dc:language>
  <cp:lastModifiedBy>LEGION</cp:lastModifiedBy>
  <dcterms:modified xsi:type="dcterms:W3CDTF">2016-01-04T13:42:19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