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771B-5BD6-4788-81B2-F01AFF01A2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экономике на тему: Рынок земли и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по экономике на тему: Рынок земли и природн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на зем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на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и экономическое 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и экономическое зна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природны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природн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оизводимые ресурсы – 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спроизводимые ресурсы – 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одимые ресурсы – 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спроизводимые ресурсы – 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вратные ресурсы – 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вратные ресурсы – 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вратные ресурсы – 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тные ресурсы – 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рынка зем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а зем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892F-2EEE-4A90-8265-350C0392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BA21-9C5D-4641-B58A-5BCDB264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24A7-9D4A-4FB0-BE92-6990B971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2DA-D763-4CE1-BCEC-1F595178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D72-8384-438E-A18F-D195FC5E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692-9EFA-4794-B0DA-6B71E552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1CDF-500C-4717-93D5-8D151DA1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DFC-9F66-4585-B190-A214937E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DDD-9B9F-4510-B684-9F7DECF7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059D-0E35-46A3-B211-FE6CB371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0A3-B18D-485F-B1FC-35797136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7231-C593-4E69-8182-CA49753F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B61F-D0F7-4927-B298-F48498DC77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Презентация по экономике на тему: Рынок земли и природных 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000450325"/>
          <p:cNvPicPr/>
          <p:nvPr/>
        </p:nvPicPr>
        <p:blipFill>
          <a:blip r:embed="rId2"/>
          <a:stretch/>
        </p:blipFill>
        <p:spPr>
          <a:xfrm>
            <a:off x="7238880" y="4172040"/>
            <a:ext cx="1905120" cy="26859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астная собственность на зем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219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207766582_755"/>
          <p:cNvPicPr/>
          <p:nvPr/>
        </p:nvPicPr>
        <p:blipFill>
          <a:blip r:embed="rId2"/>
          <a:stretch/>
        </p:blipFill>
        <p:spPr>
          <a:xfrm>
            <a:off x="5076720" y="1413000"/>
            <a:ext cx="3745080" cy="42494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астная собственность и экономическое 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80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ынок природных ресур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788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роизводим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оспроизводим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2305730749493540"/>
          <p:cNvPicPr/>
          <p:nvPr/>
        </p:nvPicPr>
        <p:blipFill>
          <a:blip r:embed="rId2"/>
          <a:stretch/>
        </p:blipFill>
        <p:spPr>
          <a:xfrm>
            <a:off x="4788000" y="4005360"/>
            <a:ext cx="3673440" cy="263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Udobreniya"/>
          <p:cNvPicPr/>
          <p:nvPr/>
        </p:nvPicPr>
        <p:blipFill>
          <a:blip r:embed="rId3"/>
          <a:stretch/>
        </p:blipFill>
        <p:spPr>
          <a:xfrm>
            <a:off x="4932360" y="333360"/>
            <a:ext cx="3600360" cy="29336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озврат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врат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49568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0" y="3284640"/>
            <a:ext cx="4572000" cy="29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обенности рынка земл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50515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623"/>
          <p:cNvPicPr/>
          <p:nvPr/>
        </p:nvPicPr>
        <p:blipFill>
          <a:blip r:embed="rId2"/>
          <a:stretch/>
        </p:blipFill>
        <p:spPr>
          <a:xfrm>
            <a:off x="4788000" y="2060640"/>
            <a:ext cx="4356000" cy="33116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Заклю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2:23:12Z</dcterms:created>
  <dc:creator>Admin</dc:creator>
  <dc:description/>
  <dc:language>en-US</dc:language>
  <cp:lastModifiedBy>LEGION</cp:lastModifiedBy>
  <dcterms:modified xsi:type="dcterms:W3CDTF">2016-01-04T13:42:26Z</dcterms:modified>
  <cp:revision>8</cp:revision>
  <dc:subject/>
  <dc:title>Презентация по экономике на тему: Рынок земли и природных ресурсов</dc:title>
</cp:coreProperties>
</file>