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A1B8-82EA-4FCD-93E1-D58D43391E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экономике на тему: Рынок земли и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по экономике на тему: Рынок земли и прир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на зем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на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и экономическое 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и экономическое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природны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природ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одимые ресурсы – 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спроизводимые ресурсы – 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одимые ресурсы – 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спроизводимые ресурсы – 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вратные ресурсы – 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тные ресурсы – 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вратные ресурсы – 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тные ресурсы – 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ынка зем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а зем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0963-4846-4FB8-BED6-F51D9EF8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CC77-7E02-41B9-AB43-DC666729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C9B6-B161-46E0-BD08-27B3774A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D2CB-F5A8-443C-B7F2-05326EAD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F13-3C32-478F-A401-A9AD919C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844-118C-4B2E-AFEA-82D4A4CA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B73A-B92D-4104-894F-4153767B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441-7F97-4B80-B4CE-A8D23682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5320-A936-44D2-9316-8E8323F9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0A37-07F1-48ED-A39B-3E8D6468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8AF5-5D49-4999-8FE6-8B994591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5BA-1E91-49E2-AFF3-A7B201ED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47E4-B6B1-47E9-BECE-CE9764E5E2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Презентация по экономике на тему: Рынок земли и природных 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000450325"/>
          <p:cNvPicPr/>
          <p:nvPr/>
        </p:nvPicPr>
        <p:blipFill>
          <a:blip r:embed="rId2"/>
          <a:stretch/>
        </p:blipFill>
        <p:spPr>
          <a:xfrm>
            <a:off x="7238880" y="4172040"/>
            <a:ext cx="1905120" cy="26859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астная собственность на зем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219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207766582_755"/>
          <p:cNvPicPr/>
          <p:nvPr/>
        </p:nvPicPr>
        <p:blipFill>
          <a:blip r:embed="rId2"/>
          <a:stretch/>
        </p:blipFill>
        <p:spPr>
          <a:xfrm>
            <a:off x="5076720" y="1413000"/>
            <a:ext cx="3745080" cy="42494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астная собственность и экономическое 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ынок природных ресур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роизводим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спроизводим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2305730749493540"/>
          <p:cNvPicPr/>
          <p:nvPr/>
        </p:nvPicPr>
        <p:blipFill>
          <a:blip r:embed="rId2"/>
          <a:stretch/>
        </p:blipFill>
        <p:spPr>
          <a:xfrm>
            <a:off x="4788000" y="4005360"/>
            <a:ext cx="3673440" cy="263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Udobreniya"/>
          <p:cNvPicPr/>
          <p:nvPr/>
        </p:nvPicPr>
        <p:blipFill>
          <a:blip r:embed="rId3"/>
          <a:stretch/>
        </p:blipFill>
        <p:spPr>
          <a:xfrm>
            <a:off x="4932360" y="333360"/>
            <a:ext cx="3600360" cy="29336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зврат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врат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49568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0" y="3284640"/>
            <a:ext cx="4572000" cy="29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обенности рынка зем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50515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623"/>
          <p:cNvPicPr/>
          <p:nvPr/>
        </p:nvPicPr>
        <p:blipFill>
          <a:blip r:embed="rId2"/>
          <a:stretch/>
        </p:blipFill>
        <p:spPr>
          <a:xfrm>
            <a:off x="4788000" y="2060640"/>
            <a:ext cx="4356000" cy="33116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Заклю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2:23:12Z</dcterms:created>
  <dc:creator>Admin</dc:creator>
  <dc:description/>
  <dc:language>en-US</dc:language>
  <cp:lastModifiedBy>LEGION</cp:lastModifiedBy>
  <dcterms:modified xsi:type="dcterms:W3CDTF">2016-01-04T13:42:26Z</dcterms:modified>
  <cp:revision>8</cp:revision>
  <dc:subject/>
  <dc:title>Презентация по экономике на тему: Рынок земли и природных ресурсов</dc:title>
</cp:coreProperties>
</file>