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646A-4D11-44B9-9211-CBD156C63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228-A462-4A14-97FD-8A2173C9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211-9FF1-4B52-BE8D-1BA81683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391-BB0F-4838-9F00-B52F740C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B51-06AF-4B71-9830-23E5DDD6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BFC-A85F-4BC2-A764-8B50A167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378-E05C-46DA-942C-10DD261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C30-7C37-4F4A-A37C-C839B26E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B74-7D5C-43F1-8960-A7E14F2B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361-AAEA-4416-94C7-7B8D6F21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17F-757E-4A30-BCE4-43554DB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699-642C-42CD-AFDE-1389EB8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40A-C703-4D12-A814-1E9BABD7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E443-9998-4FA6-A104-7D5321806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LEGION</cp:lastModifiedBy>
  <dcterms:modified xsi:type="dcterms:W3CDTF">2016-01-04T13:42:26Z</dcterms:modified>
  <cp:revision>8</cp:revision>
  <dc:subject/>
  <dc:title>Презентация по экономике на тему: Рынок земли и природных ресурсов</dc:title>
</cp:coreProperties>
</file>