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1817-DCA0-466A-B0CF-1D28C318DA9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урока: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Тема урока: Рын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№8,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основные поня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, рынок, рыночная цена, банк, вкл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аграф №8, вопрос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учить основные понятия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мен, рынок, рыночная цена, банк, вкл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- определенное место, где происходит торгов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система экономических отношений, связанных с обменом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- сфера товар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- это купля - продажа 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- определенное место, где происходит торговл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– система экономических отношений, связанных с обменом товаров и услуг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- сфера товарного об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мен - это купля - продажа  товаров и услуг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уральный об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месл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д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то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туральный обме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меслен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леделец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котов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обмен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делец             ремесл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нежный обмен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леделец             ремеслен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упец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– денежное выражение стоимости товаров и услуг.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ют на поведение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уют покупателей на  совершение покуп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вают потребление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 – денежное выражение стоимости товаров и услуг.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лияют на поведение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иентируют покупателей на  совершение покуп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ивают потребление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ее средств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платежа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накопления (сбере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ньг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сеобщее средство об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редства платежа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редства накопления (сбереж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– 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ад – денежные средства, размещаемые в целях хранения и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анк – 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клад – денежные средства, размещаемые в целях хранения и получения дох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185-FD79-45D3-BA4D-0F981411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0FE-52CB-47B8-8C15-D8259AE9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2C9D5-7E51-4168-ADA8-143C4B13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2B314-DA2D-4B33-BA74-D5F01921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9AF5B-8531-43A4-ACB6-F83D3DDC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BB342-4E03-4B96-A8E9-C602847B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EAD88-1F64-46CA-9492-D7622B2C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8DCC6-C101-47B3-AD49-CFE45A88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08550-98F3-4C86-BFEE-50AD048E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86691-B448-4C6A-BEF5-7712535D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63BA1-E107-47C5-B866-8E095E6D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B6A3A-7EE6-4F08-B366-D2B9CC51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70E-3343-451C-AD05-C60FB00E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42038-1AB9-4FE1-B8E5-3D37D63E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F8D6A-6A11-461C-A80F-369D0147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7846C-E8D8-4CD6-ACC8-A65B41AB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A7C03-E6CD-438D-A449-44AE8EE9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B638E-7917-4027-96AA-B4A74194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C7918-0394-49C2-B369-7D695E64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0CC73-CC43-4719-A4D6-14BAC3FB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505D7-4903-4642-A1A2-9E39A0BE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6F9D4-1470-4455-85FF-642A1A69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9C3B5-F2BA-47B6-AEF3-94A6E647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6F9C-AAE6-4C4B-A556-8736DD80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5D050-2D79-4C47-8906-8EA83712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F86D8-3653-4C07-92E2-AAC34B0E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FB89F-1AE3-4817-8DD9-6078645A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97AEB-FD99-4B15-BD6D-ACDDA610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2DAA5-4B16-4FD8-90C3-70E25DAF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576C9-CC11-4A56-818C-9A903D29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C8F6B-497C-4DBC-AF8F-AD6BA248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0BCC1-75B9-4062-A892-217606ED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0C16E-F155-4F0E-B522-A903E766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ADDBD-DFEC-4360-91BC-4ED66BAC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827C-C75B-424C-802C-3AD6F356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CFA3D-2A12-4C56-A340-15B46987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6BF04-C55E-4CD2-8C5D-0D3B8C1A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10067-5414-434E-94C5-FECC215A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8DF99-DC88-481D-8604-07258033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E9DCE-DAA2-48B7-80A9-7D2D263F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C5519-12C5-4367-B14C-93BF55B8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E84EB-24A0-4846-B7A6-93483185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52174D-60ED-4408-8E45-493CFA85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10264-554C-47AB-B939-52BABB08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AE37F-4E2A-4E56-8397-551CDCCB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5E72-45EC-4F36-8CDD-8FA8B282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B652A-2AE2-485C-9BA6-16ADBF3D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DAAC9-4B97-4C26-BBCD-E360E345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9B3CF-1EFF-45AE-AA4D-3E3A2864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621CE-7C90-4166-AD47-03D227DD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12341-342B-41EE-B314-2B0235AC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36FBE-2FFB-407C-B7F9-A4971E85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23807-527B-42A8-BC17-7AF2D117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529B4-CAF9-496C-9612-9EE779C0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724A9-EEFD-41DB-A6EE-9FBD553D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26E942-F484-4EE2-A591-5695E8A2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FAB0-A0F4-45CB-BF69-80E01D40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6F71E-A3E9-4F3C-ADAA-35EE52E1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D9F82-4230-4137-8F4C-BDD4C4FF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20A8C-6AC6-4727-8D43-55BE20F2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493DA-75D3-4B05-AC36-15A855B6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A8001-312B-4C83-99C7-A2B2AF02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0ADCA-A754-4950-8E45-0EA93466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7E481-7952-4C50-A51C-7FF7B5BE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8DED56-4CBF-45D9-A109-C011673C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35D2A7-4E1F-4604-84C5-0B9C2C17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4306B7-850C-4707-8C1F-BF57858B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E2E3-EE4A-48E0-96D9-8E6710F2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D0DEE2-7B51-421F-80D5-E60B51DA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3119E3-BB73-46E0-8D98-35922C3D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882D7-269C-49C6-91D3-EE7400E1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D44184-3DE1-40C1-A4CE-B486F0D9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9465D8-95F9-4909-9237-BA364B13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8E3EC3-D6A7-41BA-A71A-D733C463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7B51A8-648F-4781-9930-14DD72C2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DFBB17-D141-4824-8BC2-D3A36447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2AA644-EA63-4908-8B14-DE194735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B9D1-6E3C-4F77-B63D-37697061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2259-0FC7-4114-B043-9EAD743B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2A22-D1CF-4C95-A588-2087448E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D7F-AE2D-480F-A84A-31531DFD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54EA-22A4-4F08-B850-E70AC980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C549-A655-4C97-B75F-1134CE99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115C-1F7C-44E8-BAC0-F4F6A994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E4C6-F618-473D-A11C-23ED1CEF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DBF6-2719-46FA-8070-E8F1B36E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6C051-DB74-4A2F-84C8-74DF49A89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0BB9F-2D8A-4BDB-B25B-76EC3A00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5DEFC-1AF6-4AF8-87DF-9948CEE7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A8FB9-573E-41D5-8B01-1639D0C5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E568E-4BF9-4253-853C-65CB628D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2CEE-6B3F-4494-9AB7-31CD8A1D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2AABE-6880-4B6D-ABDA-20404D51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853F7-DFF5-44F3-B63E-1E4B419E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BAF80-7231-4904-91D5-97EF1C9E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3B7D4-3FB5-433B-B965-D5D30EFD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E402C-59CF-4E69-988B-73F8C887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8E2F4-3124-4896-8BD7-F2D44AC5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5DCA5-B0F5-47F3-924E-B71239F4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9A91F-776D-4D15-A0FD-9FEF8CDD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8EBF6-C232-4DDF-9660-960C4A05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222C5-6F34-44D4-B56C-C0FEA408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2CDF-A42C-48DE-A5EC-6D43785D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C1BC9-B8F4-4AB3-BB4F-9711C6BE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808E0-201D-4E11-B0BE-72EE2496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1621C-F3FA-44CC-9B65-F06D44CD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C6EA1-CD6F-4B69-BA5B-FDDD7D77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02925-AE86-47C7-A194-5CA0A6DE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5E79C-FED5-4394-8B10-CC820D67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D4844-7B76-4C55-BC61-8E5FD647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67BFF-3D16-4829-BC07-FBA10753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34AFB-8C45-44A1-8198-A3F6F235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6BACB-F1BD-4A24-BE07-506BF6FF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6B5-C6B7-44D3-ABE6-E5018757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1A6E4-A051-414E-8053-5D979970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FFED9-9CCC-42B3-9EA7-1D667C5C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D1C6E-D541-4C25-83A3-56EA72E2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D9791-C2F8-4EFA-B481-FDC34112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6F28F-CD8D-40C5-8A33-CC53DCC7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29106-FEFE-4519-A594-1DC553B8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3DFCF-9303-47EB-85C9-EF49AA1C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1ACA3-7C5F-4A80-8C28-1E6FECB7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E9B5D-B9C2-4A69-AAC7-80BB215C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E429B-6C52-41AC-9052-E0A74C4A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0A3-F3D7-4FE6-915A-BB31BD39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DE02B-76E5-4CE9-AB64-041116B2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90012-F402-4C09-BAFB-0DD59D37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0CBEA-DA8C-478D-8955-AB3E26D3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7D6F6-1F61-4E67-8133-29160B7D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126FB-3237-4459-9CF4-792B7E42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5699E-F208-407A-B673-AEE8EFD7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B6466-7C87-4417-A494-D3D0064E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7EE59-493A-48C4-9641-D02BD6AD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05393-3547-4D35-A485-F9C72EA5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7FA9C-83C7-48E1-A859-7D81BBE8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245-4E27-4ACA-B322-7D5CF214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69567-BFAF-4040-B4D6-26CEA346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77D79-9891-47E6-A77D-FCA8623C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DFACD-81BA-4825-A373-FB9A8EAF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1C24D-E9B6-4864-86EE-854DB86B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411FD-CAA2-4CB9-BEC0-9E825186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91FFE-1C98-4219-8738-4E0526B1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3626E-3589-4E82-A451-30284CBC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90C05-669A-406D-BC7C-73A338D0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73731-53AF-4F7D-B824-4A25D3F8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7286E-A7CF-40F3-99CC-CF89B7CB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A68-D196-48BF-B1C3-E487FDFF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C6DD0-82B7-4E6B-86E9-BA093F40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35EAA-77CC-467E-892A-520386A7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8D872-34BC-4AF7-86D4-6AB20806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B9DCC-CAF7-420E-979E-229C690FF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7F0C7-9686-4529-9820-67808A98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ADFEE-A098-468A-9477-9CE92F9C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69DF5-CF60-48BF-83FC-DFAA8FE0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41387-FF37-4276-B008-8F06ECF5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66552-C509-435D-912A-E4933CD6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D7EED-FEDE-49CF-BD3D-415C5070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2BB1-9351-41AC-BF7D-C3CDE357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EDFD6-F8D2-4E93-9110-22839522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10416-15E7-49CA-95DF-F03AB0EC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7BEC3-31CF-41AE-B394-BCE85AA1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BAE5E-53CA-4CC3-B3D9-6218B545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F6314-A5D7-4F2B-9497-E15F0005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E3822-F265-483D-973C-F638918D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5F778-B39F-4822-A857-C7AED67F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ECEA2-5277-4FAC-8F52-F55B1CF0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3212C-21A8-4B68-826F-5CB2B27A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D5FD3-EA8B-4B14-AF56-8609D70F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1F45-0531-4FE2-B9AA-8D38C9DC3CB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8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8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8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59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9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6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9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9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0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1B37-B3FC-4E9D-8347-14DE947CB58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4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03B1-1F21-4C49-9ABE-A049279DB4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9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065B-AA09-4D36-8A52-7375419658A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739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740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1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42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5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746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7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9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0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3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5A6F-E195-4BE2-B754-168E284E9BB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9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3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3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8957-3535-42CC-92F9-ABFD0CFD23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8CB1-1D0B-49D2-9BC1-FE71415E59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D207-69C0-423E-A985-4CDE215CCC2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4FC0-D69F-4E74-A51F-B5BAC71E05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7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B8F4-39B3-471F-BBB2-22CBC48C705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15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17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18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FEBC-2DEC-47F5-98EB-790014ED827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6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0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0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905E-8F49-4534-AE85-40EB5B383AB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5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4C10-CD5A-4D87-923F-6C2892AF0E3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0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FB0D-AFF2-4DEC-BDAC-7D49DABDBF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9efee"/>
                </a:solidFill>
                <a:latin typeface="Times New Roman"/>
              </a:rPr>
              <a:t>Тема урока: Рынок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раграф №8, вопросы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учить основные понятия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мен, рынок, рыночная цена, банк, вкла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bd71"/>
                </a:solidFill>
                <a:latin typeface="Arial"/>
              </a:rPr>
              <a:t>Цель урок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определить роль рынка, денег и банков в современной экономик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- определенное место, где происходит торговля;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– система экономических отношений, связанных с обменом товаров и услуг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Рынок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сфера товарного обме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бмен -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это купля - продажа  товаров и услуг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атуральный обме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меслен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емледе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котов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Line 4"/>
          <p:cNvSpPr/>
          <p:nvPr/>
        </p:nvSpPr>
        <p:spPr>
          <a:xfrm flipV="1">
            <a:off x="3635280" y="2852280"/>
            <a:ext cx="1728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3635280" y="3716280"/>
            <a:ext cx="1800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Денежный обме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емледелец             ремеслен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ынок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уп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Line 6"/>
          <p:cNvSpPr/>
          <p:nvPr/>
        </p:nvSpPr>
        <p:spPr>
          <a:xfrm>
            <a:off x="2484360" y="2060640"/>
            <a:ext cx="18716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Line 7"/>
          <p:cNvSpPr/>
          <p:nvPr/>
        </p:nvSpPr>
        <p:spPr>
          <a:xfrm flipH="1">
            <a:off x="4858920" y="2060640"/>
            <a:ext cx="1800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Line 8"/>
          <p:cNvSpPr/>
          <p:nvPr/>
        </p:nvSpPr>
        <p:spPr>
          <a:xfrm>
            <a:off x="4572000" y="422100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на –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енежное выражение стоимости товаров и услуг.                     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Н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лияют на поведение производител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риентируют покупателей на  совершение покуп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граничивают потребление ресурс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 u="sng">
                <a:solidFill>
                  <a:srgbClr val="ffffff"/>
                </a:solidFill>
                <a:uFillTx/>
                <a:latin typeface="Times New Roman"/>
              </a:rPr>
              <a:t>Деньг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Всеобщее средство обмен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редства платежа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редства накопления (сбережения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Банк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Вклад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– денежные средства, размещаемые в целях хранения и получения доход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bd71"/>
                </a:solidFill>
                <a:latin typeface="Arial"/>
              </a:rPr>
              <a:t>Цель урок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определить роль рынка, денег и банков в современной экономик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0:48Z</dcterms:created>
  <dc:creator>Home</dc:creator>
  <dc:description/>
  <dc:language>en-US</dc:language>
  <cp:lastModifiedBy>LEGION</cp:lastModifiedBy>
  <dcterms:modified xsi:type="dcterms:W3CDTF">2016-01-04T13:42:35Z</dcterms:modified>
  <cp:revision>5</cp:revision>
  <dc:subject/>
  <dc:title>Тема урока: Рынок</dc:title>
</cp:coreProperties>
</file>