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B488-F93F-41F8-8454-1D8A19FF2A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урока: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Тема урока: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№8,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основные поня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граф №8, вопро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основные понят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сфера товар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сфера товарног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ьный 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туральный 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котов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обмен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             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ежный обмен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             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уп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ют потребление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ивают потребление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е средств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платежа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накопления (сбере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ьг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общее средств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платежа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накопления (сбере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AAB-3980-438A-80AF-9FDFB5B3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9C5-A775-4A46-9E33-12064E8A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E585C-E356-4993-88AA-55E55D9D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32298-DB44-4028-8FC7-11B500C5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6EFD0-01E7-4F73-9212-BAE56FE7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37A57-1AB5-423B-A5B4-C92860FF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BD411-78FE-453A-BB0D-C0D64FC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09151-DAED-4D3F-8C3E-07F277D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313D8-CD8C-4AC3-A9E1-EA13A6A0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EB5BE-F0E3-4336-9688-5A769288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C2CD1-DF7C-4F5A-AF2D-7D045D5A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9DF50-DBDC-4C61-870F-B18D2520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18B-4E39-45B9-9162-20444274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AF943-2E32-46FC-9C0F-F3729C9A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3FEBD-5F81-4B82-A0A2-C020D7E8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3F3AA-93AE-40D6-A943-4D9F5BE6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82CCA-45F0-4D61-95FF-F101DEDF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F810C-D5E4-43EA-90CB-0F244E83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8310C-1A35-4641-9B72-5A7AD2D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46205-BAE8-47C8-9194-7E9A5926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3F8E7-BD7A-4F4F-AB63-AB5BDDF2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B0F91-D1DD-4CC7-8CDB-DF42F075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9BD4E-FE64-4144-A94C-91315683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618-7774-4758-A55F-89DE0688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11AD2-E697-4C48-B02E-620F8BAA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42476-9734-4904-8010-D04421E8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55817-4036-4144-B370-7A6AEFB7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A78D1-C9FE-4BE7-A5B0-2119B48C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302F3-350A-4C0B-8BEC-7DA0EA2F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88446-4B4D-4D43-8A64-97A662DE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DFA4B-B4CB-4A9E-96BC-B1A8E9CE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FA9C8-ACF1-431E-8147-F9F62D5D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42227-1A1C-4B88-814A-DB6CB13E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CC762-C7CA-4C2C-9DF8-9425CE66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2D2E-1AC5-4045-97D8-AECDDDD3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2AEB1-5FCD-42E4-B08C-8F4BDA77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18D9C-D6F7-49AE-92CF-1FD9440A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4FE79-9857-4FBC-8EBA-33E6C1C1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EE7F3-3FDF-4E70-8B24-4959ECED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982D9-F3A0-418C-8AD2-6D781329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8CE2E-1695-40AA-B1E8-D85C1C47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7E677-4F79-406C-9D7B-C11EFED3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924EB-CA78-4C00-B407-B51942AA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CC05F-AC8F-4885-A4EA-F3888388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D8CEF-2028-4754-92C8-725F6F83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1CE3-3AAF-41B2-9D1B-CBB369A7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FCFBB-92E5-4EBE-A6E2-6768FCC8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1E486-F710-446D-BB04-17BD0EC9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6460A-DD06-4E92-8744-792731EB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455CE-3548-4820-85C5-A46DFCED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78B3A-71A3-48DB-A2A5-B96FCD3E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D7662-D83A-4ACD-9804-12D8CB0B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E7E18-09BC-4394-89F3-DE8880DA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7F322-AF25-4AEC-BE90-1019ACA4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C915E-1AF7-4598-AFA3-289F7B50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A0C4D-A55F-4FD9-A40C-C712ECE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4B54-93C8-4FD9-8BB7-00D1355D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987E86-CDF2-41DD-B4A5-ABFC672C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BF9EA-0517-4845-82C4-7E6D456E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702AD-7501-403B-BB92-5B40202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470C4-303D-43D2-9077-9892B8D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604D8-2438-4F27-8935-95D03A23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DEEA8-987C-460C-90B8-E39D578B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03668-333E-42F6-8D5C-2BBE63E9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2A534-3582-4AD5-91B5-1BF13BAA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20CFB-8534-46D7-8BC0-20403843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972A0-0904-4A54-80B1-A2622AC0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CB02-0705-4A9A-A2CC-955B1F8F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25657-808C-434B-A819-F3C009C9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F6AEF-12D7-4082-A0EB-31ABD3EF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4721A-5DD5-485B-84D1-319259A4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87A08-C37C-4184-828F-3690DECA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B8BAF-D1E6-48BE-B861-84B9257C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B3A74-6A27-4D79-B68E-59D13077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CE3A4-BF9B-41A5-9104-93758C97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089C6-B821-4B57-B585-BFD72285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C8F26-1C6B-48BA-91C7-ACA0FF2D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B145-5B28-4977-AE93-400C56E8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2A1F-1F02-461B-BEA2-C19C7722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8B36-62B2-4ED4-BF7F-232A4350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749-27F9-4CA4-A593-DF8596DA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F055-48D7-40F3-BE9F-12950A27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03B1-A881-4F19-B2DB-E3FBDE85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5B1F-CE4D-4BF0-98C7-00CA0206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CFC2-33C1-4224-9819-F33B716C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B9B2-1AE3-4338-B526-AA2BBEF5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02EC-324E-4EB9-A55D-A7DABC6A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19F4-CD93-46F7-9209-412EF0F0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DB27-8360-4BA0-9FCB-D60F7584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68CC-0DCA-48AD-84C7-1C909989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9C68F-8864-43B1-8D40-AC5CB2B5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CA7-8147-4C73-A68A-C76C9F96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7252-122A-4F15-B3FF-298F49F5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C9942-667E-413A-A63D-39A01AAA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D662-B9F7-4E09-B300-C62F2B42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09791-8290-4BB8-8AD7-F087D084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948E1-9235-46D6-90E7-3AC146DD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D3FE-24A5-4899-9C1D-C97C4962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9671-0F3B-4DA8-9FBC-0B23BBEE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FB5E7-0F1C-4E63-A112-5CA40192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4A6A4-73E5-49D7-9E21-998D0625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6D00A-295B-4EA2-83BE-91A5CC14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337-E17F-44AF-93F5-795DE43D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02B9-EAE7-4FA9-84A4-81B55A9A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AB6A-AE93-4F37-8E09-2ADC4A77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0F688-8C83-4B57-80D2-334F48BB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AEB37-BBB8-44BB-91CB-BB17A161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6C80D-5D66-40B2-A87C-4F950AEC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2BCC-897F-4A18-98AF-4D21F7FD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B7FA0-90F2-421C-B3A3-39FE1428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AE33A-6481-45CD-82EB-783611BB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8D3F5-D61F-41FD-882B-36AB0014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0D849-16CF-4161-B4B1-3DD015AA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022-24B1-4D08-B23F-ECC7B25E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5F4CB-D763-4CC1-936F-840B2E8C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E05F2-6B62-4054-8F9A-7AA9E96A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3C3B-BAF0-4AA6-A134-49A290A9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C4D1A-3059-4FED-A32D-5AB2F769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B5C6E-0A3D-424A-A3CE-6468CDA7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83BAC-506F-4A93-B5E4-6DB4B442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C26B0-A6B4-4636-9259-563F6F3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31D37-D021-49D9-92E8-42A5872A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A9DA4-93E2-4362-8E8A-76E567AD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E52D9-BD8F-4CCA-A2C1-14D5344B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788-72BC-4BCC-9C86-50309767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131A0-F3F1-4369-A923-C7848118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5E568-E88E-451F-A994-B8D44E4B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6BD5E-BEA6-46CD-91A1-486B17B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3EFF4-9C46-41F1-BB93-12786F88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E82C4-8B21-4AC2-A31C-B1500972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1767B-ED90-4978-8873-BA7304C9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ED9C2-9543-42DA-A54B-BB657786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79D75-A5C4-43F6-9C11-36CD61DA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D789D-D9E6-492F-8269-76582D52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7D4D2-8BEF-409F-9D63-520FC8B0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147-B0B3-4426-8612-C4224574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9D7A-C602-4F9B-B2B3-CC7AD205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58FE-594D-40FC-8909-760C74EE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A067-726E-4C63-A980-21389970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725E9-46B2-4E33-B583-06C87149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C8D99-FDE7-4B67-9DAE-BC93735D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38D79-10D2-4775-9040-1ED58EEF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5C5AC-3CA0-41A0-AE3E-99F5BF1C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C02B0-2A15-4A72-B1C7-1F1DBC5D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9AF4A-DD9E-4718-984F-ECDCE709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9B089-1EAC-4EE3-A68C-232332B7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A8A-9068-4AC1-8ABB-0A83AFC0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1395E-EE2B-485E-850C-222558D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8D5CC-5459-41C5-9F6D-8565AFD9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1C8D3-F290-4ED1-9CF4-35226BFA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51722-E38C-4580-9A76-5374B0BC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33BCE-DA8E-4C0D-B961-931ECEEB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077C7-2704-4577-B1BC-48FC81A2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7CF46-FDA1-4040-A007-77B7DFC2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7D004-3A4C-4F83-B8F6-6EF8BDFC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30717-2E24-4FDA-B168-5CF67BCF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D0684-B4FB-4F43-839D-067D761A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839-0FF6-4DAB-88F5-099ACCC8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8AFEA-DF75-43C3-AB4B-31C02D90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C2878-A0FA-43E5-9818-86A00A78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E980C-0835-4F04-A344-F36F5875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EC437-68F5-4600-A005-20B5B5E9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35A93-C5EC-408B-AB07-9ED34BF1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C2A07-8080-4CF4-94F4-719841DC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FCD63-2731-4A46-9B8E-9F9AC692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ADFAC-5D27-467F-9254-03F6870C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4C6BC-1A26-46F1-8075-96392BF5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8965D-4CD2-4EFF-AA54-EF497C4C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98AE-B4FB-4F2D-AA6F-C9F025CE44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9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3FB1-4528-4899-A5C2-0DB1333E480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0F1E-36D8-4BD4-9C3E-233E116C4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A0E8-8D28-4FA9-8B67-439B00B1D7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4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0DFD-CB15-49BC-9AFB-288267D845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A65E-FD6F-482A-85C9-7E103F1DBD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4BCE-B572-4FEF-B20F-94AE0AEBDF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BD99-0BB9-40FB-AB0C-3CBC2127801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FC0C-B72C-42F0-9493-8738CEF17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857A-4614-40B3-8A18-B72B5BAD62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BFF8-E1EB-4433-B76E-7091D2F408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4059-0B39-41EC-A089-35FD5B34F4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EA30-3721-4F30-A1F1-89E98E270EC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4D79-A338-49A0-8BDB-4DC6508945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9efee"/>
                </a:solidFill>
                <a:latin typeface="Times New Roman"/>
              </a:rPr>
              <a:t>Тема урока: Рынок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граф №8, вопрос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учить основные понятия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, рынок, рыночная цена, банк, вкл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определенное место, где происходит торговля;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– система экономических отношений, связанных с обменом товаров и услуг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Рынок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фера товарного об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мен 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это купля - продажа  товаров и услуг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туральный 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ото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4"/>
          <p:cNvSpPr/>
          <p:nvPr/>
        </p:nvSpPr>
        <p:spPr>
          <a:xfrm flipV="1">
            <a:off x="3635280" y="285228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3635280" y="371628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енежный об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             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6"/>
          <p:cNvSpPr/>
          <p:nvPr/>
        </p:nvSpPr>
        <p:spPr>
          <a:xfrm>
            <a:off x="2484360" y="2060640"/>
            <a:ext cx="18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7"/>
          <p:cNvSpPr/>
          <p:nvPr/>
        </p:nvSpPr>
        <p:spPr>
          <a:xfrm flipH="1">
            <a:off x="4858920" y="2060640"/>
            <a:ext cx="1800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"/>
          <p:cNvSpPr/>
          <p:nvPr/>
        </p:nvSpPr>
        <p:spPr>
          <a:xfrm>
            <a:off x="4572000" y="4221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а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нежное выражение стоимости товаров и услуг.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лияют на поведение произв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иентируют покупателей на  совершение покуп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граничивают потребление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Times New Roman"/>
              </a:rPr>
              <a:t>День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Всеобщее средство обм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платежа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накопления (сбережения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Банк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Вклад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– денежные средства, размещаемые в целях хранения и получения дох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0:48Z</dcterms:created>
  <dc:creator>Home</dc:creator>
  <dc:description/>
  <dc:language>en-US</dc:language>
  <cp:lastModifiedBy>LEGION</cp:lastModifiedBy>
  <dcterms:modified xsi:type="dcterms:W3CDTF">2016-01-04T13:42:35Z</dcterms:modified>
  <cp:revision>5</cp:revision>
  <dc:subject/>
  <dc:title>Тема урока: Рынок</dc:title>
</cp:coreProperties>
</file>