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1AED-697D-41AD-9D85-68159CB014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урока: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Тема урока: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№8,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основные поня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граф №8, вопро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основные понят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сфера товар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сфера товарног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ьный 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туральный обме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котов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обмен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             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ежный обмен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             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уп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ют потребление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ивают потребление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е средств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платежа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накопления (сбере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ьг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общее средств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платежа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накопления (сбере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4AE-11E0-41A7-BCC2-8246B219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291-6546-4992-B133-8ABEA5A4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41245-14AF-43F9-9CE4-7E0BDB39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720A3-97C4-4855-8014-905FD462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96DD1-41C5-451D-9E51-BA50ED15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7ABC9-5B51-43A1-9DD4-107509DE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1C321-90B4-4BC2-A911-7AA6E5BE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E46C7-2F0C-429F-8073-6BFD7B47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8F8F5-D86E-4E85-904B-4232B23A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2AA0A-A66F-4932-AE97-2EF39B4D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40C25-11C3-40BE-87B9-DDA9812D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EB043-618C-42CC-9D67-0AD8042F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07E-B041-4FC9-ABB0-C0E77469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D3F23-A0C4-4B01-A61F-3626F2B7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A995B-F154-4809-8618-CE362ECC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A171B-41D9-4D8F-8C9E-88184C4B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DBECC-A0DF-44E2-B869-CBA49FFD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DD2E1-A89D-4BF8-86CA-081E96D3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603CA-EC68-420A-85AC-E655E88A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C25BA-95F1-4BFE-8E3E-F6D4A322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FD9EC-2DA9-434E-8E9B-06108B8A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E5E9B-F227-4340-B8D8-803E1D4B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3F7B9-5AD2-4C20-9668-A4C2CDC8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E06-3C18-4326-A92B-D99CC487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6C3F6-57CC-4B21-BB64-9E0B861F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B2FD8-CC7B-4938-BDDF-213CA336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09A11-D3FD-4EEB-836C-D82D44D3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5FBD5-42E6-46DD-AB41-A3256B42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ED29C-BC0D-4DA8-8923-8F16908C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FB578-0E27-4512-9E78-589EA8DF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9A1E2-EE75-443F-818E-E72A411A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DD419-1A73-4170-97AF-91DE5728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6CFAA-20CB-40ED-8368-4FD1310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589E0-3187-42EE-AC06-907EF1AD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75ED-4491-4920-8E24-49B5A122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E1C7B-DFBA-4D97-9672-A8A26768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0DB66-EA0C-4E00-9DF7-73FF5DF8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85425-B463-4563-B92E-AA83ACA2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12680-A311-47A3-B496-9A1DF50A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4F35B-8523-4D37-88F7-8FC5B083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865B2-039E-483C-864B-BCD252CA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04A2B-30D6-4943-9542-99AE5C7C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06CB9-F1F1-4A6E-B27A-AA72D9CB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D06DB-7F58-4F16-995F-C17DB4A3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72707-C471-436A-8DA1-376C788C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742A-597C-4489-988F-7171394D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99CD3-690D-4A56-9EAE-687D8DF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3655E-C7B3-4096-9D3B-AABF568A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16F5F-4C74-4326-85A1-CF8D417F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8A2D9-5FA1-447A-AFDC-F2A3A09C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801F2-EA4F-4566-B552-23D16FED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0B65F-0E46-4BD8-AAEB-DEFE0D64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5DE08-C98F-4FD4-939D-2EB73AE0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B01C8-865C-479A-8016-10E5E722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3E545-7268-4EF5-ACF8-FBD22CDB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E314D-0704-4B86-BB29-906CC916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46E3-C8B0-4A28-825A-645465F6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28AE1-20BF-4999-97AC-F8C55E86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6698A-6E7D-46DF-B80E-FDF69963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35053-4B02-4D38-B6F3-88769C50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F0F76-A834-43CD-AD45-13235422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6E138-A353-48F5-92EE-3AA314CF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079B3C-1BFA-4340-AB22-A653500F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C4FC8-AB84-4C47-9C3F-BC5277F3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C68F1-1FBD-4451-9C43-DA8B4C2F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AD1D7-272A-4424-A6A4-25DE2C0F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11D3E8-796A-4792-B4A5-266F70EB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8C8B-D75C-4BAB-BB9D-867CBCBA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4A8D2-B7D4-4773-8C01-2FCCC2E9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DBB4D-E0E4-450D-AB36-50EA0D62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A69E1-149D-4C76-968C-E5630573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677E9-7D95-4B5A-BA2A-D8FCFE88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22A96-681A-4F7E-A588-2B3BBA41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B4C36-230D-4EEF-8D8F-F4B64560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B3DF3-C9A4-4385-B80B-8613CF98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7F47C-337C-4B1A-B2AF-881BC5C9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D169F-A6E7-4588-B171-3B8A5599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19DA-5E77-4F00-936F-02458D3F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2AB2-9B1B-4E9B-BF6C-0F488DE3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327F-FFCF-45D9-8913-C6B7B498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9CB-4E96-4481-9E24-CBE3CCA4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C936-DBC9-42FA-A63D-B9D5F56E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E6EF-50B1-49C0-AF42-33AF7280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C90D-DD75-4FA2-9811-0C4E6BC3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0495-0703-4D3C-8E08-4649D179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49EC-0232-4796-A8B4-A5963CB3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613F-F353-47BE-919E-470F1619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6ED6A-97AA-4092-9037-827B6490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6A195-7038-4139-94E0-739AFDD8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FFE1C-C28F-496B-B711-BC00F80B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3A59-3E2C-438D-8DBF-265230C6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3CE-7C78-45CE-BCFE-0AAD922B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ED8FA-F20B-4056-A141-102CF1B5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B5AC-361C-436D-A0D0-F63D693E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1BE79-7AE7-42A3-A3C1-0D57D680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3E0AF-168A-42D6-A2B4-FA04053B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7D556-97A8-4E59-BE4A-131C5E7B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33AC-B1AD-44AF-A299-CEE50CBE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30301-B523-48CA-A6AD-116947C3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56FC8-2166-4CDD-A618-AB072EA5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BAFE-2832-4E10-BF4A-FF832BC3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064B4-4974-4044-BF05-FB8E5DDC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DE5-9535-4FEC-BDC6-3655CA2C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4026E-1DFA-4510-9EF2-ABE4C61C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CBC7C-3EDF-4371-B50C-BFDC3766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5E31B-37D1-4643-B917-6460D3AE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4C010-7969-4C71-891E-CED04DDB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BF16-B44B-4B47-AF17-88CDDBB2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A72D-02B5-429C-9E17-F5D005C6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4312-3F44-4D03-9658-338335D1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886BD-1A15-4CDF-B821-1E6CD1F6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C7BC-CD94-4100-ABAB-CB7DF735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7DF4D-0952-47F8-A258-8272ECA7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C14-58D5-4B11-A438-3ECAA9DB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FC94-7599-4613-ADD8-01EA3CA8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CFB39-5E0D-4458-B094-440DFB51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70B5-46F5-4C98-91AE-DFAD60F2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A5E20-9BCA-4B75-BE1E-0D8CAC0A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7ADA6-25C6-442D-85A5-D1E25F1C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3324F-0045-4DE9-B716-C56CF1C1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3FB39-6279-4C55-B856-AB9B2EA2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3ED26-6078-4462-AFAB-845884C2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927A5-D262-4569-B7C4-227564CC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323F3-4449-44C6-BE9E-946A0C09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E22-DDDF-4ECE-9896-D69DA6C8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E9A43-9A2F-47A6-82A1-5BBC6EED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7E89-D0BC-482F-B500-D0DC1C76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280F8-65A2-4F67-8058-48E9EFF7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E5D61-8D6F-4C64-81D3-4B9E39A6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259F8-A2A5-43C6-9E3F-2F2AAD3E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012CE-5130-42B7-94F3-0183BA2E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92E18-C6E6-4413-B506-DF399ABD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DEB85-66BC-42A0-81FF-F1ECF3D7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7E29B-B69E-4F3E-9C69-F249F827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5A7FC-7E94-42E0-A8AC-A3BDE4E4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26A-FB4D-4815-9920-DAD0BFE5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8D369-20E1-4CD5-8C68-FE39676C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C262D-1F69-46B2-A5F8-BD91B6C8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10912-07F7-4F89-8B60-4BD40608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08711-CE9A-448E-AC4E-277A81A2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E47D1-4B06-4610-89AA-BAF784AA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A034D-241A-4639-A6D7-53886D5C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A5714-20F2-4FA8-947B-69D1E036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20D32-BCBA-4D73-8B12-2DB36E33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EF9D1-CC91-404E-9513-22A1AE10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369B9-2187-48CC-BD2C-DD8F8A2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040-84E6-4477-B8C5-CB39EBE4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9BD23-3912-4A41-82E1-6B6F9477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45525-CC04-404E-93CF-79FACF69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8E3FF-7A32-49AB-B81C-3F0101D6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7A761-BAE0-4B01-8590-2D824D08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A55B1-F8A0-46F2-B71B-C7D9BFBE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D881A-F7EB-47EA-8E72-F93831CA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E6506-005E-45A8-9F1F-5558DB83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D1E47-F2A2-4D62-A2A2-8C481D5A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59741-49A5-41F9-9D4E-59977D85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D362F-FC75-4D32-AFE3-4829F85E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B88-B656-45BE-B251-1243CD34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1D58D-D2BC-4937-BC1F-AEBC8DC0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944BF-11D6-44B8-98CA-D85500E6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8879D-87A6-4EAB-BF8E-22EFE4B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1A4B7-EB6E-4A82-B995-3C0529FB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3EADD-AE21-4C0D-8E9C-BEE79C29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98E9D-DA1D-41B3-8F50-29EF0780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D9550-A90A-4AC1-AFB0-58980F89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C957C-0347-4A09-A0AF-D986E745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C984E-7B4B-4B33-82B2-EC0AEFA6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016D7-113B-469B-B2D7-38B73C1D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2708-FFF6-4EA4-8E37-737181C3B36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59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9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9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2DBF-FE91-4578-B3A4-803273DD995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4D7-53F5-4906-86F0-64091BECF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D512-7D89-4550-9B8C-BEFF66326C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4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4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0D48-A4D5-4451-BAFA-32AC1BFE153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C584-E332-4D64-9B77-3C78A7200A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B7D2-AD39-48C9-A8A4-C6C4FB2EE9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0587-808D-4648-B1DB-5CA669FE004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A2C2-2C6B-4FC8-A13B-9E46B44BC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7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5081-D8AB-4758-9522-1A44EE6655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15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7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8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46F1-7056-4B7E-8806-50671B2EE16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5D7D-C497-4A59-B3B2-AA91EE3407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18D2-742F-42FF-ADF0-EB990910643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33B1-7F26-499A-94E2-4AF5F1864D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9efee"/>
                </a:solidFill>
                <a:latin typeface="Times New Roman"/>
              </a:rPr>
              <a:t>Тема урока: Рынок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граф №8, вопрос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учить основные понятия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мен, рынок, рыночная цена, банк, вкла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 определенное место, где происходит торговля;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– система экономических отношений, связанных с обменом товаров и услуг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Рынок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сфера товарного об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мен -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это купля - продажа  товаров и услуг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туральный обм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ото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4"/>
          <p:cNvSpPr/>
          <p:nvPr/>
        </p:nvSpPr>
        <p:spPr>
          <a:xfrm flipV="1">
            <a:off x="3635280" y="2852280"/>
            <a:ext cx="1728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3635280" y="371628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енежный обм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             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6"/>
          <p:cNvSpPr/>
          <p:nvPr/>
        </p:nvSpPr>
        <p:spPr>
          <a:xfrm>
            <a:off x="2484360" y="2060640"/>
            <a:ext cx="18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Line 7"/>
          <p:cNvSpPr/>
          <p:nvPr/>
        </p:nvSpPr>
        <p:spPr>
          <a:xfrm flipH="1">
            <a:off x="4858920" y="2060640"/>
            <a:ext cx="1800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Line 8"/>
          <p:cNvSpPr/>
          <p:nvPr/>
        </p:nvSpPr>
        <p:spPr>
          <a:xfrm>
            <a:off x="4572000" y="4221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а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нежное выражение стоимости товаров и услуг.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лияют на поведение производ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риентируют покупателей на  совершение покуп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граничивают потребление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ffffff"/>
                </a:solidFill>
                <a:uFillTx/>
                <a:latin typeface="Times New Roman"/>
              </a:rPr>
              <a:t>Деньг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Всеобщее средство обм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платежа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накопления (сбережения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Банк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Вклад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– денежные средства, размещаемые в целях хранения и получения дохо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0:48Z</dcterms:created>
  <dc:creator>Home</dc:creator>
  <dc:description/>
  <dc:language>en-US</dc:language>
  <cp:lastModifiedBy>LEGION</cp:lastModifiedBy>
  <dcterms:modified xsi:type="dcterms:W3CDTF">2016-01-04T13:42:35Z</dcterms:modified>
  <cp:revision>5</cp:revision>
  <dc:subject/>
  <dc:title>Тема урока: Рынок</dc:title>
</cp:coreProperties>
</file>