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BEBD-2DF1-4EE5-85D7-5C597A12D1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у подготовила Кириакова Диа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итель Маркова Юлия Викторов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склонности к сбережениям различаются по семьям в зависимости о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Уже достигнут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и уровн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агосостоя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Уровня получаемых дене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ов и его соотнош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прожиточным минимум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Жизненной ориент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воспитание членов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 сбере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с полным взносом их це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накопления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иод жизни в комфорте и погашения долга за товары, купленные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взрослой жизни челове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покупке товара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в рассрочк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покупки товаров с немедленным внесением их полной стоим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потреб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авление денег на приобретение дополнительного капитала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годно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дежност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превращения доходов семей в капитал фирм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емный капитал(кредит) – 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бственный капитал – 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е средств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едитный рынок (краткая характеристика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служивают коммерческие банк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носит характер заемного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источники средств – сбережения семей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ряд пробл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блига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лигация – 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 - заем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ит слаб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ые 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уктура инвестиц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питал, как заемный, так и собственны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является не только активным, но и крупнейшим инвестор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держ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ройство рынка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цен на рынке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обственного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я – 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чества акций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разориться, к владельцу акций нельзя предъявить никаких претенз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участие в управлен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ым обществом и получен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и его чистой прибыл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ценная бумага, владелец котор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право на дивиденд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ксирован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личиной независимо о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ого, скольк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ой прибыли фирма получил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ально, но не имеет пра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вовать в управлении ею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виденды – часть чистой прибыл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ционерной фирмы, котор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плачивается ее акционера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порционально сто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адлежащих им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рс акций – рыночная стоимость акц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ладывающаяся при их свобод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продаже на рынке ценных бума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 изменения курса акц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жидаемой будущей доходности фирм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чина регулирования рын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он станет слишком опасным из-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вичное размещение (эмиссия) акций, приносящий фирмам дополнительный собственный капита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торичное обращение ценных бумаг, 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ипы сделок на фондовом рын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на капитал – это спрос фирм на физический капитал, позволяющий фирмам реализовать свои инвестиционные проек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капитал – 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ос и предлож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рыночной цены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акторы, влияющие на оценку прибыльности фи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Длителен процесс получения результатов от реализации инвестиционных процесс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виз финансиста и бизнесмен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убль, полученный сегодня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ит больше, чем рубль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ученный завтра.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 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ратная формула. Показывает будущую стоимость вкла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FV – стоимость вклада, PV – текущая ценность вклада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n – период времени, k- величина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контиров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 - рынок, на котором продаются финансовые ресурсы, необходимые для организации коммерческой деятельности фи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 отвлечения средств – 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иск инвестирования – поддающаяся оценке вероятность потери инвестированных средств или неполучение по ним ожидаемого дохо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предлож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ложение на рынке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елезное правило рынка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м выше рис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вестиций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 больш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ход он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лжн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ть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.В.Липсиц «Экономика», книга 2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д. Вита пресс Москва 2006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.К.Журавлева «Экономика» изд. Юристъ 2004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капитал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зический капитал- 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вещественный (незримый) капитал – знания, умения и информация, которые могут быть длительно использованы для производства благ и их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и их превращение в капита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 - рынка денежного капитала, или рынка капитал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понимать физический капитал (станки, здания, запасы, и т.д.), то рынок капитала – это часть рынка факторов производства наряду с рынком труда и зем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под капиталом на рынке финансов понимать денежный капитал, то рынок капитала выступает составной частью рынка ссудных капитал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арианты трактовки рынка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ссудного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неж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капитал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потечн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нансовый рын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 как выбор между текущим и будущи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ями потреб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вая сбережения, семьи ограничивают свое текущее потребление, ради увеличения потребления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173F-BBA2-4262-A2DD-D5FAE933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1C066-7D7F-4AC3-8FC8-A06D109E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0BB7-7A8D-4FF8-9E89-7EC97E48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D0AC6-837F-4BB7-9A70-2FF23B0C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1CBB-C3DF-4519-B5CF-3C3DD26B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920-7D6E-4308-BD41-9A6F3BD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EDB6-4244-408C-AEFB-DA726DEA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AA7F-28EE-4714-BB5E-4A92134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AA86-092B-477E-99C0-33BC54CB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A11-AAF2-4563-A964-0A95B13A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DCB0-89CB-4E42-A98A-7F77478B2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4FB8A-6EDD-4F36-90DC-D484C5D5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D114-5F1D-4CB8-A383-A5BFF6A8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4F85-80F1-4FC6-87C1-06243AF4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2A91-3B25-4262-8E2F-68DBDC80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9708-A1D3-41EC-90FB-A204B8EA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DBC-1CBC-4600-B0E0-543B6D1F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48419-B79A-4457-9055-E668ED9C3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65E88-FA93-4985-97E7-8EABB3B6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2046-0989-40B2-9C3C-C222BBF2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1412D-E937-4A59-BD6A-4C0F56C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4839-F0A5-4128-88C5-DFA313E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4FE4-8206-45C1-A5B1-F130D660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0314E-4462-4085-9BF3-01F38F18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D5F-0442-40E9-9A81-8193724B3B3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42C-CB6F-471B-B144-F4FAAF5F4F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48;&#1053;&#1042;&#1045;&#1057;&#1058;&#1048;&#1062;&#1048;&#1048;.&#1076;&#1086;&#1087;&#1086;&#1083;&#1085;&#1077;&#1085;&#1080;&#1077;%20&#1082;%20&#1088;&#1099;&#1085;&#1082;&#1091;%20&#1082;&#1072;&#1087;&#1080;&#1090;&#1072;&#1083;&#1072;.ppt" TargetMode="Externa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2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26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elvis - a little less conversation.mp3" descr=""/>
          <p:cNvPicPr/>
          <p:nvPr/>
        </p:nvPicPr>
        <p:blipFill>
          <a:blip r:embed="rId1"/>
          <a:stretch/>
        </p:blipFill>
        <p:spPr>
          <a:xfrm>
            <a:off x="4427640" y="4694400"/>
            <a:ext cx="298440" cy="29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692360" y="5821200"/>
            <a:ext cx="5759280" cy="6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Работу подготовила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Кириакова Диа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68616"/>
                </a:solidFill>
                <a:latin typeface="Garamond"/>
              </a:rPr>
              <a:t>Учитель </a:t>
            </a:r>
            <a:r>
              <a:rPr b="1" lang="ru-RU" sz="2000" spc="-1" strike="noStrike">
                <a:solidFill>
                  <a:srgbClr val="f68616"/>
                </a:solidFill>
                <a:latin typeface="Monotype Corsiva"/>
              </a:rPr>
              <a:t>Маркова Юлия Викторовн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WordArt 5"/>
          <p:cNvSpPr txBox="1"/>
          <p:nvPr/>
        </p:nvSpPr>
        <p:spPr>
          <a:xfrm>
            <a:off x="684360" y="2016000"/>
            <a:ext cx="7772400" cy="18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42282"/>
                  </a:outerShdw>
                </a:effectLst>
                <a:latin typeface="Impact"/>
              </a:rPr>
              <a:t>Рынок капит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7819" dir="2700000" blurRad="0" rotWithShape="0">
                  <a:srgbClr val="042282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Picture 6" descr="j0222015"/>
          <p:cNvPicPr/>
          <p:nvPr/>
        </p:nvPicPr>
        <p:blipFill>
          <a:blip r:embed="rId2"/>
          <a:stretch/>
        </p:blipFill>
        <p:spPr>
          <a:xfrm>
            <a:off x="684360" y="3989520"/>
            <a:ext cx="1741320" cy="1747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j0222019"/>
          <p:cNvPicPr/>
          <p:nvPr/>
        </p:nvPicPr>
        <p:blipFill>
          <a:blip r:embed="rId3"/>
          <a:stretch/>
        </p:blipFill>
        <p:spPr>
          <a:xfrm>
            <a:off x="3635280" y="184320"/>
            <a:ext cx="1743120" cy="1749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j0222021"/>
          <p:cNvPicPr/>
          <p:nvPr/>
        </p:nvPicPr>
        <p:blipFill>
          <a:blip r:embed="rId4"/>
          <a:stretch/>
        </p:blipFill>
        <p:spPr>
          <a:xfrm>
            <a:off x="6804000" y="3919680"/>
            <a:ext cx="1743120" cy="174780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6"/>
          <p:cNvSpPr txBox="1"/>
          <p:nvPr/>
        </p:nvSpPr>
        <p:spPr>
          <a:xfrm rot="591600">
            <a:off x="3710160" y="4411800"/>
            <a:ext cx="1726920" cy="85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420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420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set>
                                <p:cBhvr>
                                  <p:cTn id="10" dur="1" fill="hold">
                                    <p:stCondLst>
                                      <p:cond evt="end">
                                        <p:tn val="8"/>
                                      </p:cond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47720" indent="-7477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Уровень склонности к сбережениям различаются по семьям в зависимости от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1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же достигнутог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ми уровн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благосостоя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2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Уровня получаемых денеж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доходов и его соотношен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 прожиточным минимум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Garamond"/>
              </a:rPr>
              <a:t>3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Жизненной ориентаци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477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 воспитание членов семь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WordArt 5"/>
          <p:cNvSpPr txBox="1"/>
          <p:nvPr/>
        </p:nvSpPr>
        <p:spPr>
          <a:xfrm rot="336000">
            <a:off x="1258920" y="0"/>
            <a:ext cx="5902200" cy="12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04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клонность к сбережен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04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AutoShape 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1"/>
          <p:cNvSpPr/>
          <p:nvPr/>
        </p:nvSpPr>
        <p:spPr>
          <a:xfrm>
            <a:off x="1116000" y="63388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476360" y="522936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4861080" y="5229360"/>
            <a:ext cx="0" cy="79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1454400" y="5372280"/>
            <a:ext cx="34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4518360" y="537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1584360" y="472428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587960" y="601992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с полным взносом их це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476360" y="3070080"/>
            <a:ext cx="6048360" cy="79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270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5940360" y="3070080"/>
            <a:ext cx="0" cy="792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1332000" y="2997360"/>
            <a:ext cx="14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2b6f6"/>
                </a:solidFill>
                <a:latin typeface="Garamond"/>
              </a:rPr>
              <a:t>Период накопления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14"/>
          <p:cNvSpPr/>
          <p:nvPr/>
        </p:nvSpPr>
        <p:spPr>
          <a:xfrm>
            <a:off x="6156360" y="2997360"/>
            <a:ext cx="12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Garamond"/>
              </a:rPr>
              <a:t>Период жизни в комфор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2413080" y="299736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Garamond"/>
              </a:rPr>
              <a:t>Период жизни в комфорте и погашения долга за товары, купленные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7"/>
          <p:cNvSpPr/>
          <p:nvPr/>
        </p:nvSpPr>
        <p:spPr>
          <a:xfrm>
            <a:off x="1584360" y="2565360"/>
            <a:ext cx="58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Garamond"/>
              </a:rPr>
              <a:t>Срок взрослой жизни челове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401560" y="3862440"/>
            <a:ext cx="39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Garamond"/>
              </a:rPr>
              <a:t>При покупке товара в рассроч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-737280" y="1434960"/>
            <a:ext cx="102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в рассрочк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ffcc99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99"/>
                </a:solidFill>
                <a:latin typeface="Garamond"/>
              </a:rPr>
              <a:t>Модель покупки товаров с немедленным внесением их полной сто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WordArt 35"/>
          <p:cNvSpPr txBox="1"/>
          <p:nvPr/>
        </p:nvSpPr>
        <p:spPr>
          <a:xfrm>
            <a:off x="1042920" y="404640"/>
            <a:ext cx="698508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дели потребления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AutoShape 37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5419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Инвестиции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Направление денег на приобретение дополнительного капитала.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8fd0f"/>
                </a:solidFill>
                <a:latin typeface="Monotype Corsiva"/>
              </a:rPr>
              <a:t>Все виды активов(средств), вкладываемых в хозяйственную деятельность в целях получения дохода.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a8fd0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Monotype Corsiva"/>
              </a:rPr>
              <a:t>Расходы на создание, расширение и техническое перевооружение основного капитала, а также на связанные с этим изменения оборот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7" nodeType="afterEffect" fill="hold" presetClass="entr" presetID="5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c861a"/>
                </a:solidFill>
                <a:latin typeface="Comic Sans MS"/>
              </a:rPr>
              <a:t>Экономический механизм любой страны только тогда можно считать нормально отлаженным, когда он предлагает владельцам сбережений широкий набор форм инвестирования,  обладающий двумя главными параметрами качеств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Выгодност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3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3200" spc="-1" strike="noStrike">
                <a:solidFill>
                  <a:srgbClr val="00ff00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00ff00"/>
                </a:solidFill>
                <a:latin typeface="Monotype Corsiva"/>
              </a:rPr>
              <a:t>Надежност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AutoShape 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7480"/>
                            </p:stCondLst>
                            <p:childTnLst>
                              <p:par>
                                <p:cTn id="446" nodeType="afterEffect" fill="hold" presetClass="exit" presetID="49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980"/>
                            </p:stCondLst>
                            <p:childTnLst>
                              <p:par>
                                <p:cTn id="45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862 -0.04769 L -0.04862 -0.38102 E">
                                      <p:cBhvr>
                                        <p:cTn id="454" dur="2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1980"/>
                            </p:stCondLst>
                            <p:childTnLst>
                              <p:par>
                                <p:cTn id="456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animClr clrSpc="rgb">
                                      <p:cBhvr>
                                        <p:cTn id="4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8f804"/>
                                      </p:to>
                                    </p:animClr>
                                    <p:set>
                                      <p:cBhvr>
                                        <p:cTn id="45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6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3980"/>
                            </p:stCondLst>
                            <p:childTnLst>
                              <p:par>
                                <p:cTn id="46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25 0.15023 L 0.01025 -0.1831 E">
                                      <p:cBhvr>
                                        <p:cTn id="465" dur="2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5980"/>
                            </p:stCondLst>
                            <p:childTnLst>
                              <p:par>
                                <p:cTn id="467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animClr clrSpc="rgb">
                                      <p:cBhvr>
                                        <p:cTn id="46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70101"/>
                                      </p:to>
                                    </p:animClr>
                                    <p:set>
                                      <p:cBhvr>
                                        <p:cTn id="47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3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7"/>
          <p:cNvGrpSpPr/>
          <p:nvPr/>
        </p:nvGrpSpPr>
        <p:grpSpPr>
          <a:xfrm>
            <a:off x="1402920" y="981000"/>
            <a:ext cx="6628320" cy="5688000"/>
            <a:chOff x="1402920" y="981000"/>
            <a:chExt cx="6628320" cy="5688000"/>
          </a:xfrm>
        </p:grpSpPr>
        <p:sp>
          <p:nvSpPr>
            <p:cNvPr id="212" name="Rectangle 6"/>
            <p:cNvSpPr/>
            <p:nvPr/>
          </p:nvSpPr>
          <p:spPr>
            <a:xfrm>
              <a:off x="4067280" y="1846080"/>
              <a:ext cx="1584360" cy="8650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Семь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Group 47"/>
            <p:cNvGrpSpPr/>
            <p:nvPr/>
          </p:nvGrpSpPr>
          <p:grpSpPr>
            <a:xfrm>
              <a:off x="1402920" y="1846080"/>
              <a:ext cx="1874880" cy="865080"/>
              <a:chOff x="1402920" y="1846080"/>
              <a:chExt cx="1874880" cy="865080"/>
            </a:xfrm>
          </p:grpSpPr>
          <p:sp>
            <p:nvSpPr>
              <p:cNvPr id="214" name="Rectangle 8"/>
              <p:cNvSpPr/>
              <p:nvPr/>
            </p:nvSpPr>
            <p:spPr>
              <a:xfrm rot="5400000">
                <a:off x="1656360" y="1592640"/>
                <a:ext cx="865080" cy="13719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Text Box 9"/>
              <p:cNvSpPr/>
              <p:nvPr/>
            </p:nvSpPr>
            <p:spPr>
              <a:xfrm>
                <a:off x="1460520" y="1933200"/>
                <a:ext cx="1817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Текущие проблемы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12"/>
            <p:cNvGrpSpPr/>
            <p:nvPr/>
          </p:nvGrpSpPr>
          <p:grpSpPr>
            <a:xfrm>
              <a:off x="3996000" y="3141360"/>
              <a:ext cx="1800000" cy="649440"/>
              <a:chOff x="3996000" y="3141360"/>
              <a:chExt cx="1800000" cy="649440"/>
            </a:xfrm>
          </p:grpSpPr>
          <p:sp>
            <p:nvSpPr>
              <p:cNvPr id="217" name="Rectangle 10"/>
              <p:cNvSpPr/>
              <p:nvPr/>
            </p:nvSpPr>
            <p:spPr>
              <a:xfrm>
                <a:off x="3996000" y="3141360"/>
                <a:ext cx="1800000" cy="64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11"/>
              <p:cNvSpPr/>
              <p:nvPr/>
            </p:nvSpPr>
            <p:spPr>
              <a:xfrm>
                <a:off x="4148280" y="3284280"/>
                <a:ext cx="159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Сбережения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8"/>
            <p:cNvGrpSpPr/>
            <p:nvPr/>
          </p:nvGrpSpPr>
          <p:grpSpPr>
            <a:xfrm>
              <a:off x="1474920" y="3214440"/>
              <a:ext cx="1368360" cy="1152360"/>
              <a:chOff x="1474920" y="3214440"/>
              <a:chExt cx="1368360" cy="1152360"/>
            </a:xfrm>
          </p:grpSpPr>
          <p:sp>
            <p:nvSpPr>
              <p:cNvPr id="220" name="Rectangle 13"/>
              <p:cNvSpPr/>
              <p:nvPr/>
            </p:nvSpPr>
            <p:spPr>
              <a:xfrm>
                <a:off x="1474920" y="3214440"/>
                <a:ext cx="1368360" cy="115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1474920" y="3430080"/>
                <a:ext cx="1368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Деньги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на рука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46"/>
            <p:cNvGrpSpPr/>
            <p:nvPr/>
          </p:nvGrpSpPr>
          <p:grpSpPr>
            <a:xfrm>
              <a:off x="6515280" y="3141360"/>
              <a:ext cx="1515960" cy="858600"/>
              <a:chOff x="6515280" y="3141360"/>
              <a:chExt cx="1515960" cy="858600"/>
            </a:xfrm>
          </p:grpSpPr>
          <p:sp>
            <p:nvSpPr>
              <p:cNvPr id="223" name="Rectangle 14"/>
              <p:cNvSpPr/>
              <p:nvPr/>
            </p:nvSpPr>
            <p:spPr>
              <a:xfrm>
                <a:off x="6515280" y="3141360"/>
                <a:ext cx="1436760" cy="79236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Text Box 19"/>
              <p:cNvSpPr/>
              <p:nvPr/>
            </p:nvSpPr>
            <p:spPr>
              <a:xfrm>
                <a:off x="6515280" y="3357360"/>
                <a:ext cx="1515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Инвестици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44"/>
            <p:cNvGrpSpPr/>
            <p:nvPr/>
          </p:nvGrpSpPr>
          <p:grpSpPr>
            <a:xfrm>
              <a:off x="5505120" y="5951520"/>
              <a:ext cx="1875240" cy="647640"/>
              <a:chOff x="5505120" y="5951520"/>
              <a:chExt cx="1875240" cy="647640"/>
            </a:xfrm>
          </p:grpSpPr>
          <p:sp>
            <p:nvSpPr>
              <p:cNvPr id="226" name="Rectangle 15"/>
              <p:cNvSpPr/>
              <p:nvPr/>
            </p:nvSpPr>
            <p:spPr>
              <a:xfrm>
                <a:off x="5580000" y="5951520"/>
                <a:ext cx="1726920" cy="6476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Text Box 21"/>
              <p:cNvSpPr/>
              <p:nvPr/>
            </p:nvSpPr>
            <p:spPr>
              <a:xfrm>
                <a:off x="5505120" y="6094440"/>
                <a:ext cx="187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Капитал фир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45"/>
            <p:cNvGrpSpPr/>
            <p:nvPr/>
          </p:nvGrpSpPr>
          <p:grpSpPr>
            <a:xfrm>
              <a:off x="1906560" y="5373720"/>
              <a:ext cx="1820880" cy="1295280"/>
              <a:chOff x="1906560" y="5373720"/>
              <a:chExt cx="1820880" cy="1295280"/>
            </a:xfrm>
          </p:grpSpPr>
          <p:sp>
            <p:nvSpPr>
              <p:cNvPr id="229" name="Rectangle 16"/>
              <p:cNvSpPr/>
              <p:nvPr/>
            </p:nvSpPr>
            <p:spPr>
              <a:xfrm>
                <a:off x="2122560" y="5373720"/>
                <a:ext cx="1368360" cy="129528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51"/>
                  </a:spcBef>
                  <a:buClr>
                    <a:srgbClr val="ffcc00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22"/>
              <p:cNvSpPr/>
              <p:nvPr/>
            </p:nvSpPr>
            <p:spPr>
              <a:xfrm>
                <a:off x="1906560" y="5516640"/>
                <a:ext cx="1820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физическ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43"/>
            <p:cNvGrpSpPr/>
            <p:nvPr/>
          </p:nvGrpSpPr>
          <p:grpSpPr>
            <a:xfrm>
              <a:off x="3996000" y="4222440"/>
              <a:ext cx="1439640" cy="1681200"/>
              <a:chOff x="3996000" y="4222440"/>
              <a:chExt cx="1439640" cy="1681200"/>
            </a:xfrm>
          </p:grpSpPr>
          <p:sp>
            <p:nvSpPr>
              <p:cNvPr id="232" name="AutoShape 40"/>
              <p:cNvSpPr/>
              <p:nvPr/>
            </p:nvSpPr>
            <p:spPr>
              <a:xfrm>
                <a:off x="3996000" y="4222440"/>
                <a:ext cx="1439640" cy="1368360"/>
              </a:xfrm>
              <a:custGeom>
                <a:avLst/>
                <a:gdLst>
                  <a:gd name="textAreaLeft" fmla="*/ 210960 w 1439640"/>
                  <a:gd name="textAreaRight" fmla="*/ 1228680 w 1439640"/>
                  <a:gd name="textAreaTop" fmla="*/ 199800 h 1368360"/>
                  <a:gd name="textAreaBottom" fmla="*/ 1168560 h 136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802" y="10800"/>
                    </a:moveTo>
                    <a:cubicBezTo>
                      <a:pt x="802" y="16322"/>
                      <a:pt x="5278" y="20798"/>
                      <a:pt x="10800" y="20798"/>
                    </a:cubicBezTo>
                    <a:cubicBezTo>
                      <a:pt x="16322" y="20798"/>
                      <a:pt x="20798" y="16322"/>
                      <a:pt x="20798" y="10800"/>
                    </a:cubicBezTo>
                    <a:cubicBezTo>
                      <a:pt x="20798" y="5278"/>
                      <a:pt x="16322" y="802"/>
                      <a:pt x="10800" y="802"/>
                    </a:cubicBezTo>
                    <a:cubicBezTo>
                      <a:pt x="5278" y="802"/>
                      <a:pt x="802" y="5278"/>
                      <a:pt x="802" y="10800"/>
                    </a:cubicBezTo>
                    <a:close/>
                  </a:path>
                </a:pathLst>
              </a:custGeom>
              <a:solidFill>
                <a:srgbClr val="0099cc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41"/>
              <p:cNvSpPr/>
              <p:nvPr/>
            </p:nvSpPr>
            <p:spPr>
              <a:xfrm>
                <a:off x="4066920" y="4438080"/>
                <a:ext cx="124452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Garamond"/>
                  </a:rPr>
                  <a:t>Рынок денежного капитал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AutoShape 48"/>
            <p:cNvSpPr/>
            <p:nvPr/>
          </p:nvSpPr>
          <p:spPr>
            <a:xfrm>
              <a:off x="3419640" y="2062080"/>
              <a:ext cx="647640" cy="503280"/>
            </a:xfrm>
            <a:prstGeom prst="leftArrow">
              <a:avLst>
                <a:gd name="adj1" fmla="val 50000"/>
                <a:gd name="adj2" fmla="val 32171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AutoShape 49"/>
            <p:cNvSpPr/>
            <p:nvPr/>
          </p:nvSpPr>
          <p:spPr>
            <a:xfrm rot="16200000">
              <a:off x="4752000" y="2529360"/>
              <a:ext cx="216000" cy="5763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53"/>
            <p:cNvSpPr/>
            <p:nvPr/>
          </p:nvSpPr>
          <p:spPr>
            <a:xfrm>
              <a:off x="3922920" y="981000"/>
              <a:ext cx="1871640" cy="503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Доход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55"/>
            <p:cNvSpPr/>
            <p:nvPr/>
          </p:nvSpPr>
          <p:spPr>
            <a:xfrm>
              <a:off x="4859280" y="1485720"/>
              <a:ext cx="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56"/>
            <p:cNvSpPr/>
            <p:nvPr/>
          </p:nvSpPr>
          <p:spPr>
            <a:xfrm flipH="1">
              <a:off x="2987280" y="3430440"/>
              <a:ext cx="100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57"/>
            <p:cNvSpPr/>
            <p:nvPr/>
          </p:nvSpPr>
          <p:spPr>
            <a:xfrm>
              <a:off x="5796000" y="3430440"/>
              <a:ext cx="576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60"/>
            <p:cNvSpPr/>
            <p:nvPr/>
          </p:nvSpPr>
          <p:spPr>
            <a:xfrm flipH="1">
              <a:off x="3635640" y="5518080"/>
              <a:ext cx="50472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61"/>
            <p:cNvSpPr/>
            <p:nvPr/>
          </p:nvSpPr>
          <p:spPr>
            <a:xfrm>
              <a:off x="3635640" y="6381720"/>
              <a:ext cx="172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62"/>
            <p:cNvSpPr/>
            <p:nvPr/>
          </p:nvSpPr>
          <p:spPr>
            <a:xfrm flipH="1">
              <a:off x="5506920" y="4006800"/>
              <a:ext cx="718920" cy="50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416720" cy="105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565f1"/>
                </a:solidFill>
                <a:uFillTx/>
                <a:latin typeface="Garamond"/>
              </a:rPr>
              <a:t>Процесс превращения доходов семей в капитал фирм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AutoShape 7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650"/>
                            </p:stCondLst>
                            <p:childTnLst>
                              <p:par>
                                <p:cTn id="4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56832" dir="1603641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5574b"/>
                </a:solidFill>
                <a:latin typeface="Garamond"/>
              </a:rPr>
              <a:t>Устройство рынка капитал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AutoShape 38"/>
          <p:cNvSpPr/>
          <p:nvPr/>
        </p:nvSpPr>
        <p:spPr>
          <a:xfrm>
            <a:off x="1763640" y="1341360"/>
            <a:ext cx="5184720" cy="4869000"/>
          </a:xfrm>
          <a:prstGeom prst="flowChartOr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Oval 39"/>
          <p:cNvSpPr/>
          <p:nvPr/>
        </p:nvSpPr>
        <p:spPr>
          <a:xfrm>
            <a:off x="3203640" y="2637000"/>
            <a:ext cx="2376360" cy="22334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42"/>
          <p:cNvSpPr/>
          <p:nvPr/>
        </p:nvSpPr>
        <p:spPr>
          <a:xfrm rot="19493400">
            <a:off x="1815480" y="2310120"/>
            <a:ext cx="273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Кредитный ры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43"/>
          <p:cNvSpPr/>
          <p:nvPr/>
        </p:nvSpPr>
        <p:spPr>
          <a:xfrm rot="2761200">
            <a:off x="4622400" y="2295000"/>
            <a:ext cx="198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ак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4"/>
          <p:cNvSpPr/>
          <p:nvPr/>
        </p:nvSpPr>
        <p:spPr>
          <a:xfrm rot="2608800">
            <a:off x="1497600" y="4478040"/>
            <a:ext cx="322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Государстве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инвести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45"/>
          <p:cNvSpPr/>
          <p:nvPr/>
        </p:nvSpPr>
        <p:spPr>
          <a:xfrm rot="19275600">
            <a:off x="4032720" y="4652280"/>
            <a:ext cx="328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Monotype Corsiva"/>
              </a:rPr>
              <a:t>Рынок облиг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4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3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Заемный капитал(кредит)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Calligraph421 BT"/>
              </a:rPr>
              <a:t>денежные средства, которые предоставлены фирме в пользование на строго фиксированное время и под установленную в договоре займа плат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48280" indent="-548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ff00"/>
                </a:solidFill>
                <a:uFillTx/>
                <a:latin typeface="Garamond"/>
              </a:rPr>
              <a:t>Собственный капитал</a:t>
            </a:r>
            <a:r>
              <a:rPr b="0" lang="ru-RU" sz="3200" spc="-1" strike="noStrike">
                <a:solidFill>
                  <a:srgbClr val="00ff00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7c80"/>
                </a:solidFill>
                <a:latin typeface="Garamond"/>
              </a:rPr>
              <a:t>денежные средства, которые предоставляются фирме в обмен на право совладения ее имуществом и доходами, а потому, не подлежит возврату и приносят доход, зависящий от итогов работы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WordArt 5"/>
          <p:cNvSpPr txBox="1"/>
          <p:nvPr/>
        </p:nvSpPr>
        <p:spPr>
          <a:xfrm>
            <a:off x="1835280" y="333360"/>
            <a:ext cx="5616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енежные средств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5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7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9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1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Кредитный рынок (краткая характеристика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бслуживают коммерческие банки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Капитал носит характер </a:t>
            </a:r>
            <a:r>
              <a:rPr b="0" lang="ru-RU" sz="2400" spc="-1" strike="noStrike">
                <a:solidFill>
                  <a:srgbClr val="ffcc00"/>
                </a:solidFill>
                <a:latin typeface="Comic Sans MS"/>
              </a:rPr>
              <a:t>заемного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, фирма может получить его на срок от нескольких месяцев (краткосрочный кредит) до нескольких лет (долгосрочный кредит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Основные источники средств – сбережения семей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Существуют ряд пробле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5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5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583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59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Рынок облига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Облига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15ded"/>
                </a:solidFill>
                <a:latin typeface="Comic Sans MS"/>
              </a:rPr>
              <a:t>ценная бумага, удостоверяющая, что ее владелец одолжил некоторую сумму фирме или государству, выпустившим облигацию, и имеет право получить спустя определенное время свои деньги назад вместе с премией, величина которой также фиксируется при продаже облига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Капитал - заемны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Comic Sans MS"/>
              </a:rPr>
              <a:t>Развит слаб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5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353ff"/>
                </a:solidFill>
                <a:latin typeface="Monotype Corsiva"/>
              </a:rPr>
              <a:t>Государственные 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8" name="Object 4"/>
          <p:cNvGraphicFramePr/>
          <p:nvPr/>
        </p:nvGraphicFramePr>
        <p:xfrm>
          <a:off x="1042920" y="1700280"/>
          <a:ext cx="6056280" cy="404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6056280" cy="40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6"/>
          <p:cNvSpPr/>
          <p:nvPr/>
        </p:nvSpPr>
        <p:spPr>
          <a:xfrm>
            <a:off x="2340360" y="1125360"/>
            <a:ext cx="63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Структура инвестиц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2ed47"/>
                </a:solidFill>
                <a:latin typeface="Arial"/>
              </a:rPr>
              <a:t>в экономику России в 1992-1996гг. по источникам средст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24600" y="5397480"/>
            <a:ext cx="858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Comic Sans MS"/>
              </a:rPr>
              <a:t>Капитал, как заемный, так и собственный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15ded"/>
                </a:solidFill>
                <a:latin typeface="Comic Sans MS"/>
              </a:rPr>
              <a:t>Государство является не только активным, но и крупнейшим инвестор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68360" y="623736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0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9"/>
          <p:cNvSpPr txBox="1"/>
          <p:nvPr/>
        </p:nvSpPr>
        <p:spPr>
          <a:xfrm>
            <a:off x="2268360" y="476280"/>
            <a:ext cx="4896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1fd55"/>
                </a:soli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одерж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1fd55"/>
              </a:soli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6" name="Text Box 19"/>
          <p:cNvSpPr/>
          <p:nvPr/>
        </p:nvSpPr>
        <p:spPr>
          <a:xfrm>
            <a:off x="611280" y="1557360"/>
            <a:ext cx="813744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1" action="ppaction://hlinksldjump"/>
              </a:rPr>
              <a:t>Сбережения и их превращение в капит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2" action="ppaction://hlinksldjump"/>
              </a:rPr>
              <a:t>Инвести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3" action="ppaction://hlinksldjump"/>
              </a:rPr>
              <a:t>Устройство рынка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4" action="ppaction://hlinksldjump"/>
              </a:rPr>
              <a:t>Рынок акц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Формирование цен на рынке капит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Дисконти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c00"/>
                </a:solidFill>
                <a:uFillTx/>
                <a:latin typeface="Arial"/>
                <a:hlinkClick r:id="rId7" action="ppaction://hlinksldjump"/>
              </a:rPr>
              <a:t>Список литератур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8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24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5353ff"/>
                </a:solidFill>
                <a:latin typeface="Monotype Corsiva"/>
              </a:rPr>
              <a:t>Рынок акций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Рынок собственного капитал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Comic Sans MS"/>
              </a:rPr>
              <a:t>ценная бумага, выдаваемая инвестору в обмен на полученные от него денежные средства для развития фирмы и подтверждающая его права как совладельца имущества фирмы и ее будущих доход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6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cc66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e85d"/>
                </a:solidFill>
                <a:latin typeface="Garamond"/>
              </a:rPr>
              <a:t>Качества акций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Она удостоверяет права ее владельца на долю в имуществе частной фирмы, выпустившей эту ценную бумагу, и участие в управлении ее деятельностью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Если компания разориться, к владельцу акций нельзя предъявить никаких претензи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4949"/>
                </a:solidFill>
                <a:latin typeface="Monotype Corsiva"/>
              </a:rPr>
              <a:t>Если компания будет ликвидирована, то из выручки от распродажи ее имущества владельцу акций будет возвращена сумма, соответствующая его дол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99"/>
                </a:solidFill>
                <a:latin typeface="Monotype Corsiva"/>
              </a:rPr>
              <a:t>Акционер обретает право на получение части прибылей фирмы, т.к. существует риск потери дене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716" nodeType="afterEffect" fill="hold" presetClass="entr" presetID="2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722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9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729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4"/>
          <p:cNvSpPr/>
          <p:nvPr/>
        </p:nvSpPr>
        <p:spPr>
          <a:xfrm>
            <a:off x="3780000" y="1197000"/>
            <a:ext cx="1512720" cy="64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971640" y="1989000"/>
            <a:ext cx="1873080" cy="720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ыкно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5796000" y="1989000"/>
            <a:ext cx="2305080" cy="719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вилегирова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8"/>
          <p:cNvSpPr/>
          <p:nvPr/>
        </p:nvSpPr>
        <p:spPr>
          <a:xfrm flipH="1">
            <a:off x="1834920" y="1413000"/>
            <a:ext cx="187308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5364000" y="1413000"/>
            <a:ext cx="165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304560" y="2728800"/>
            <a:ext cx="432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участие в управлен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акционерным обществом и получ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асти его чистой прибыл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5272920" y="2728800"/>
            <a:ext cx="395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(ценная бумага, владелец котор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имеет право на дивиден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фиксированно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величиной независимо 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того, скольк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чистой прибыли фирма получ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реально, но не имеет пра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cc"/>
                </a:solidFill>
                <a:latin typeface="Arial"/>
              </a:rPr>
              <a:t>участвовать в управлении ею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12"/>
          <p:cNvSpPr/>
          <p:nvPr/>
        </p:nvSpPr>
        <p:spPr>
          <a:xfrm>
            <a:off x="-26280" y="4467240"/>
            <a:ext cx="51645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Дивиденды 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часть чистой прибыл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акционерной фирмы, котор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выплачивается ее акционерам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опорционально стоим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ринадлежащих им акц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13"/>
          <p:cNvSpPr/>
          <p:nvPr/>
        </p:nvSpPr>
        <p:spPr>
          <a:xfrm>
            <a:off x="3785760" y="5451480"/>
            <a:ext cx="56761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99"/>
                </a:solidFill>
                <a:latin typeface="Arial"/>
              </a:rPr>
              <a:t>Курс акций</a:t>
            </a:r>
            <a:r>
              <a:rPr b="0" lang="ru-RU" sz="2000" spc="-1" strike="noStrike">
                <a:solidFill>
                  <a:srgbClr val="00ff99"/>
                </a:solidFill>
                <a:latin typeface="Arial"/>
              </a:rPr>
              <a:t> –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рыночная стоимость акци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складывающаяся при их свобод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7c80"/>
                </a:solidFill>
                <a:latin typeface="Comic Sans MS"/>
              </a:rPr>
              <a:t>перепродаже на рынке ценных бума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WordArt 15"/>
          <p:cNvSpPr txBox="1"/>
          <p:nvPr/>
        </p:nvSpPr>
        <p:spPr>
          <a:xfrm>
            <a:off x="1547640" y="260280"/>
            <a:ext cx="61930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eee41e"/>
                  </a:outerShdw>
                </a:effectLst>
                <a:latin typeface="Impact"/>
              </a:rPr>
              <a:t>Виды 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eee41e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9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7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7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27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10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700"/>
                            </p:stCondLst>
                            <p:childTnLst>
                              <p:par>
                                <p:cTn id="8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20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cc"/>
                </a:solidFill>
                <a:latin typeface="Garamond"/>
              </a:rPr>
              <a:t>Факторы изменения курса акций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Ожидаемой будущей доходности фирмы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Monotype Corsiv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Спекулятивной игрой на рынке акций, основанной на различных представлениях его участников об ожидаемой доходности фир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-7041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Comic Sans MS"/>
              </a:rPr>
              <a:t>Причина регулирования рынк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Если он станет слишком опасным из-з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704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82ed47"/>
                </a:solidFill>
                <a:latin typeface="Comic Sans MS"/>
              </a:rPr>
              <a:t>неограниченных махинаций, то рядовые инвесторы буду опасаться покупки акции, и тогда рынок умр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0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7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7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0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2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4" dur="77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7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Первичное размещение (эмиссия) акций</a:t>
            </a:r>
            <a:r>
              <a:rPr b="0" i="1" lang="ru-RU" sz="3200" spc="-1" strike="noStrike">
                <a:solidFill>
                  <a:srgbClr val="eee41e"/>
                </a:solidFill>
                <a:latin typeface="Calligraph421 BT"/>
              </a:rPr>
              <a:t>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риносящий фирмам дополнительный собственный капитал</a:t>
            </a:r>
            <a:r>
              <a:rPr b="0" lang="ru-RU" sz="3200" spc="-1" strike="noStrike">
                <a:solidFill>
                  <a:srgbClr val="3cd6c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ee41e"/>
                </a:solidFill>
                <a:latin typeface="Calligraph421 BT"/>
              </a:rPr>
              <a:t>Вторичное обращение ценных бумаг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cd6cf"/>
                </a:solidFill>
                <a:latin typeface="Comic Sans MS"/>
              </a:rPr>
              <a:t>позволяющее владельцам ценных бумаг и обладателям сбережений свободно продавать или покупать ранее эмитированные акции различных фир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WordArt 5"/>
          <p:cNvSpPr txBox="1"/>
          <p:nvPr/>
        </p:nvSpPr>
        <p:spPr>
          <a:xfrm>
            <a:off x="1042920" y="404640"/>
            <a:ext cx="6985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ипы сделок на фондовом рынке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00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8" nodeType="after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Спрос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спрос фирм на физический капитал, позволяющий фирмам реализовать свои инвестиционные проекты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e71b"/>
                </a:solidFill>
                <a:latin typeface="Garamond"/>
              </a:rPr>
              <a:t>Предложение на капитал</a:t>
            </a:r>
            <a:r>
              <a:rPr b="0" lang="ru-RU" sz="3200" spc="-1" strike="noStrike">
                <a:solidFill>
                  <a:srgbClr val="4ce71b"/>
                </a:solidFill>
                <a:latin typeface="Garamond"/>
              </a:rPr>
              <a:t> –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это предложение владеющих капиталом, предоставляют капитал в пользование фирмам и при этом получают доход в виде процента на вложенные средств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WordArt 6"/>
          <p:cNvSpPr txBox="1"/>
          <p:nvPr/>
        </p:nvSpPr>
        <p:spPr>
          <a:xfrm rot="207000">
            <a:off x="1263600" y="-9360"/>
            <a:ext cx="6121440" cy="15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6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рос и предло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6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4" name="AutoShape 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nodeType="clickEffect" fill="hold">
                      <p:stCondLst>
                        <p:cond delay="0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3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8"/>
          <p:cNvGrpSpPr/>
          <p:nvPr/>
        </p:nvGrpSpPr>
        <p:grpSpPr>
          <a:xfrm>
            <a:off x="1165680" y="1526760"/>
            <a:ext cx="6480000" cy="4646880"/>
            <a:chOff x="1165680" y="1526760"/>
            <a:chExt cx="6480000" cy="4646880"/>
          </a:xfrm>
        </p:grpSpPr>
        <p:grpSp>
          <p:nvGrpSpPr>
            <p:cNvPr id="307" name="Group 11"/>
            <p:cNvGrpSpPr/>
            <p:nvPr/>
          </p:nvGrpSpPr>
          <p:grpSpPr>
            <a:xfrm>
              <a:off x="1690200" y="1526760"/>
              <a:ext cx="5688360" cy="4276800"/>
              <a:chOff x="1690200" y="1526760"/>
              <a:chExt cx="5688360" cy="4276800"/>
            </a:xfrm>
          </p:grpSpPr>
          <p:grpSp>
            <p:nvGrpSpPr>
              <p:cNvPr id="308" name="Group 10"/>
              <p:cNvGrpSpPr/>
              <p:nvPr/>
            </p:nvGrpSpPr>
            <p:grpSpPr>
              <a:xfrm>
                <a:off x="1868400" y="1526760"/>
                <a:ext cx="4800240" cy="3891600"/>
                <a:chOff x="1868400" y="1526760"/>
                <a:chExt cx="4800240" cy="3891600"/>
              </a:xfrm>
            </p:grpSpPr>
            <p:sp>
              <p:nvSpPr>
                <p:cNvPr id="309" name="Arc 4"/>
                <p:cNvSpPr/>
                <p:nvPr/>
              </p:nvSpPr>
              <p:spPr>
                <a:xfrm rot="10800000">
                  <a:off x="2402640" y="2058480"/>
                  <a:ext cx="3529080" cy="3203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</a:path>
                    <a:path stroke="0" w="21600" h="23552">
                      <a:moveTo>
                        <a:pt x="2650" y="0"/>
                      </a:moveTo>
                      <a:cubicBezTo>
                        <a:pt x="13472" y="1338"/>
                        <a:pt x="21600" y="10532"/>
                        <a:pt x="21600" y="21437"/>
                      </a:cubicBezTo>
                      <a:cubicBezTo>
                        <a:pt x="21600" y="22143"/>
                        <a:pt x="21565" y="22849"/>
                        <a:pt x="21496" y="23552"/>
                      </a:cubicBezTo>
                      <a:lnTo>
                        <a:pt x="0" y="21437"/>
                      </a:lnTo>
                      <a:lnTo>
                        <a:pt x="2650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Arc 5"/>
                <p:cNvSpPr/>
                <p:nvPr/>
              </p:nvSpPr>
              <p:spPr>
                <a:xfrm flipH="1" rot="9641400">
                  <a:off x="2192760" y="2137320"/>
                  <a:ext cx="4151160" cy="2669760"/>
                </a:xfrm>
                <a:custGeom>
                  <a:avLst/>
                  <a:gdLst/>
                  <a:ahLst/>
                  <a:rect l="l" t="t" r="r" b="b"/>
                  <a:pathLst>
                    <a:path fill="none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</a:path>
                    <a:path stroke="0" w="23421" h="21600">
                      <a:moveTo>
                        <a:pt x="-1" y="106"/>
                      </a:moveTo>
                      <a:cubicBezTo>
                        <a:pt x="712" y="35"/>
                        <a:pt x="1428" y="-1"/>
                        <a:pt x="2145" y="0"/>
                      </a:cubicBezTo>
                      <a:cubicBezTo>
                        <a:pt x="12636" y="0"/>
                        <a:pt x="21610" y="7538"/>
                        <a:pt x="23420" y="17872"/>
                      </a:cubicBezTo>
                      <a:lnTo>
                        <a:pt x="2145" y="21600"/>
                      </a:lnTo>
                      <a:lnTo>
                        <a:pt x="-1" y="106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Line 6"/>
              <p:cNvSpPr/>
              <p:nvPr/>
            </p:nvSpPr>
            <p:spPr>
              <a:xfrm flipV="1">
                <a:off x="1690560" y="1987560"/>
                <a:ext cx="0" cy="3816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1690560" y="5803560"/>
                <a:ext cx="5688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8"/>
              <p:cNvSpPr/>
              <p:nvPr/>
            </p:nvSpPr>
            <p:spPr>
              <a:xfrm flipH="1">
                <a:off x="1690200" y="48668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9"/>
              <p:cNvSpPr/>
              <p:nvPr/>
            </p:nvSpPr>
            <p:spPr>
              <a:xfrm>
                <a:off x="4066920" y="4866840"/>
                <a:ext cx="0" cy="93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Text Box 12"/>
            <p:cNvSpPr/>
            <p:nvPr/>
          </p:nvSpPr>
          <p:spPr>
            <a:xfrm>
              <a:off x="4409280" y="5805360"/>
              <a:ext cx="315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умма денежных 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Text Box 13"/>
            <p:cNvSpPr/>
            <p:nvPr/>
          </p:nvSpPr>
          <p:spPr>
            <a:xfrm rot="16200000">
              <a:off x="367920" y="2750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Text Box 14"/>
            <p:cNvSpPr/>
            <p:nvPr/>
          </p:nvSpPr>
          <p:spPr>
            <a:xfrm>
              <a:off x="1165680" y="4724280"/>
              <a:ext cx="54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R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5"/>
            <p:cNvSpPr/>
            <p:nvPr/>
          </p:nvSpPr>
          <p:spPr>
            <a:xfrm>
              <a:off x="3763440" y="5805360"/>
              <a:ext cx="56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ccff"/>
                  </a:solidFill>
                  <a:latin typeface="Garamond"/>
                </a:rPr>
                <a:t>Q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Text Box 16"/>
            <p:cNvSpPr/>
            <p:nvPr/>
          </p:nvSpPr>
          <p:spPr>
            <a:xfrm>
              <a:off x="2293200" y="19162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Спрос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на инвестиции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Text Box 17"/>
            <p:cNvSpPr/>
            <p:nvPr/>
          </p:nvSpPr>
          <p:spPr>
            <a:xfrm>
              <a:off x="5861880" y="191628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Предложени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6ccff"/>
                  </a:solidFill>
                  <a:latin typeface="Garamond"/>
                </a:rPr>
                <a:t>инвести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WordArt 19"/>
          <p:cNvSpPr txBox="1"/>
          <p:nvPr/>
        </p:nvSpPr>
        <p:spPr>
          <a:xfrm rot="20622000">
            <a:off x="1619280" y="259920"/>
            <a:ext cx="79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60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7338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Формирование рыночной цены 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7338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2" name="AutoShape 22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nodeType="clickEffect" fill="hold">
                      <p:stCondLst>
                        <p:cond delay="0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b0fe"/>
                </a:solidFill>
                <a:latin typeface="Century Gothic"/>
              </a:rPr>
              <a:t>Факторы, влияющие на оценку прибыльности фирмы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1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d9e22c"/>
                </a:solidFill>
                <a:latin typeface="Garamond"/>
              </a:rPr>
              <a:t>Инвестиционные расходы могут осуществляться либо разово, либо неоднократно на протяжении достаточно длительного периода времен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2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82ed47"/>
                </a:solidFill>
                <a:latin typeface="Garamond"/>
              </a:rPr>
              <a:t>Длителен процесс получения результатов от реализации инвестиционных процессо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aramond"/>
              </a:rPr>
              <a:t>3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e579dd"/>
                </a:solidFill>
                <a:latin typeface="Garamond"/>
              </a:rPr>
              <a:t>Осуществление длительных операций приводит к росту неопределенности при оценке всех аспектов инвестиций и риск ошиб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9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4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8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Monotype Corsiva"/>
              </a:rPr>
              <a:t>Девиз финансиста и бизнесмен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WordArt 24"/>
          <p:cNvSpPr txBox="1"/>
          <p:nvPr/>
        </p:nvSpPr>
        <p:spPr>
          <a:xfrm rot="21009000">
            <a:off x="2228760" y="1963800"/>
            <a:ext cx="5977080" cy="37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Рубль, полученный сегодн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тоит больше, чем рубль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полученный завтра.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30" name="AutoShape 2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0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61" nodeType="afterEffect" fill="hold" presetClass="path" presetID="1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5 0.288 L -0.125 0.288 L 0 0 Z">
                                      <p:cBhvr>
                                        <p:cTn id="962" dur="2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9"/>
          <p:cNvSpPr/>
          <p:nvPr/>
        </p:nvSpPr>
        <p:spPr>
          <a:xfrm>
            <a:off x="611280" y="1413000"/>
            <a:ext cx="7705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1f715"/>
                </a:solidFill>
                <a:latin typeface="Monotype Corsiva"/>
              </a:rPr>
              <a:t>Процесс расчета будущей стоимости средств, инвестируемой сегодня, является одной из разновидностей особого типа финансовых расчетов –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68616"/>
                </a:solidFill>
                <a:latin typeface="Garamond"/>
              </a:rPr>
              <a:t>дисконтиров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3" name="Group 11"/>
          <p:cNvGrpSpPr/>
          <p:nvPr/>
        </p:nvGrpSpPr>
        <p:grpSpPr>
          <a:xfrm>
            <a:off x="1692360" y="3051720"/>
            <a:ext cx="5761080" cy="882000"/>
            <a:chOff x="1692360" y="3051720"/>
            <a:chExt cx="5761080" cy="882000"/>
          </a:xfrm>
        </p:grpSpPr>
        <p:grpSp>
          <p:nvGrpSpPr>
            <p:cNvPr id="334" name="Group 8"/>
            <p:cNvGrpSpPr/>
            <p:nvPr/>
          </p:nvGrpSpPr>
          <p:grpSpPr>
            <a:xfrm>
              <a:off x="2511360" y="3051720"/>
              <a:ext cx="4322880" cy="804240"/>
              <a:chOff x="2511360" y="3051720"/>
              <a:chExt cx="4322880" cy="804240"/>
            </a:xfrm>
          </p:grpSpPr>
          <p:sp>
            <p:nvSpPr>
              <p:cNvPr id="335" name="Text Box 5"/>
              <p:cNvSpPr/>
              <p:nvPr/>
            </p:nvSpPr>
            <p:spPr>
              <a:xfrm>
                <a:off x="2511360" y="3068640"/>
                <a:ext cx="4322880" cy="78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PV=FV</a:t>
                </a:r>
                <a:r>
                  <a:rPr b="1" i="1" lang="en-US" sz="4000" spc="-1" strike="noStrike" baseline="-25000">
                    <a:solidFill>
                      <a:srgbClr val="ff0000"/>
                    </a:solidFill>
                    <a:latin typeface="Garamond"/>
                  </a:rPr>
                  <a:t>n</a:t>
                </a:r>
                <a:r>
                  <a:rPr b="1" i="1" lang="en-US" sz="4000" spc="-1" strike="noStrike">
                    <a:solidFill>
                      <a:srgbClr val="ff0000"/>
                    </a:solidFill>
                    <a:latin typeface="Garamond"/>
                  </a:rPr>
                  <a:t>   1/(1+k)</a:t>
                </a:r>
                <a:r>
                  <a:rPr b="1" i="1" lang="en-US" sz="4000" spc="-1" strike="noStrike" baseline="30000">
                    <a:solidFill>
                      <a:srgbClr val="ff0000"/>
                    </a:solidFill>
                    <a:latin typeface="Garamond"/>
                  </a:rPr>
                  <a:t>n</a:t>
                </a:r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Text Box 6"/>
              <p:cNvSpPr/>
              <p:nvPr/>
            </p:nvSpPr>
            <p:spPr>
              <a:xfrm rot="18938400">
                <a:off x="4429800" y="3212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Garamond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7" name="Rectangle 10"/>
            <p:cNvSpPr/>
            <p:nvPr/>
          </p:nvSpPr>
          <p:spPr>
            <a:xfrm>
              <a:off x="1692360" y="3068640"/>
              <a:ext cx="5761080" cy="865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14"/>
          <p:cNvGrpSpPr/>
          <p:nvPr/>
        </p:nvGrpSpPr>
        <p:grpSpPr>
          <a:xfrm>
            <a:off x="1692360" y="4941720"/>
            <a:ext cx="5688000" cy="936720"/>
            <a:chOff x="1692360" y="4941720"/>
            <a:chExt cx="5688000" cy="936720"/>
          </a:xfrm>
        </p:grpSpPr>
        <p:sp>
          <p:nvSpPr>
            <p:cNvPr id="339" name="Text Box 12"/>
            <p:cNvSpPr/>
            <p:nvPr/>
          </p:nvSpPr>
          <p:spPr>
            <a:xfrm>
              <a:off x="2858400" y="5014800"/>
              <a:ext cx="329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Garamond"/>
                </a:rPr>
                <a:t>FV=PV(1+k)</a:t>
              </a:r>
              <a:r>
                <a:rPr b="1" i="1" lang="en-US" sz="4000" spc="-1" strike="noStrike" baseline="30000">
                  <a:solidFill>
                    <a:srgbClr val="ff0000"/>
                  </a:solidFill>
                  <a:latin typeface="Garamond"/>
                </a:rPr>
                <a:t>n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1692360" y="4941720"/>
              <a:ext cx="5688000" cy="936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buClr>
                  <a:srgbClr val="ffcc00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1" name="Text Box 15"/>
          <p:cNvSpPr/>
          <p:nvPr/>
        </p:nvSpPr>
        <p:spPr>
          <a:xfrm>
            <a:off x="-627120" y="4149720"/>
            <a:ext cx="10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1f715"/>
                </a:solidFill>
                <a:latin typeface="Garamond"/>
              </a:rPr>
              <a:t>Обратная формула. Показывает будущую стоимость вкла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1036800" y="6073920"/>
            <a:ext cx="699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F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стоимость вклада, 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PV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текущая ценность вклад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n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 – период времени,</a:t>
            </a:r>
            <a:r>
              <a:rPr b="0" lang="en-US" sz="2000" spc="-1" strike="noStrike">
                <a:solidFill>
                  <a:srgbClr val="f68616"/>
                </a:solidFill>
                <a:latin typeface="Comic Sans MS"/>
              </a:rPr>
              <a:t> k</a:t>
            </a:r>
            <a:r>
              <a:rPr b="0" lang="ru-RU" sz="2000" spc="-1" strike="noStrike">
                <a:solidFill>
                  <a:srgbClr val="f68616"/>
                </a:solidFill>
                <a:latin typeface="Comic Sans MS"/>
              </a:rPr>
              <a:t>- величина дох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WordArt 17"/>
          <p:cNvSpPr txBox="1"/>
          <p:nvPr/>
        </p:nvSpPr>
        <p:spPr>
          <a:xfrm rot="20707200">
            <a:off x="2268000" y="333000"/>
            <a:ext cx="47469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Дисконтировани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44" name="AutoShape 20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0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3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5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8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9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58920" y="1197000"/>
            <a:ext cx="662616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Comic Sans MS"/>
              </a:rPr>
              <a:t>Для того, чтобы любая фирма могла осуществить свою коммерческую деятельность, ей нужно собрать воедино все необходимые виды ресурсов: труд, капитал, землю, предпринимательские способности. Один из этих ресурсов, а именно капитал, можно приобрести на рынке капитал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4365720"/>
            <a:ext cx="8424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Impact"/>
              </a:rPr>
              <a:t>Рынок капитала 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ff00"/>
                </a:solidFill>
                <a:latin typeface="Comic Sans MS"/>
              </a:rPr>
              <a:t>рынок, на котором продаются финансовые ресурсы, необходимые для организации коммерческой деятельности фир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2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Срок отвлечения средств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время, в течение которого инвестор не сможет свободно распоряжаться своими денежными средствами, так как они будут находиться в пользовании фирмы, получившей их для финансирования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a5f741"/>
                </a:solidFill>
                <a:latin typeface="Garamond"/>
              </a:rPr>
              <a:t>Риск инвестирования</a:t>
            </a:r>
            <a:r>
              <a:rPr b="0" i="1" lang="ru-RU" sz="2800" spc="-1" strike="noStrike">
                <a:solidFill>
                  <a:srgbClr val="a5f741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3eb0fe"/>
                </a:solidFill>
                <a:latin typeface="Garamond"/>
              </a:rPr>
              <a:t>поддающаяся оценке вероятность потери инвестированных средств или неполучение по ним ожидаемого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7" name="WordArt 5"/>
          <p:cNvSpPr txBox="1"/>
          <p:nvPr/>
        </p:nvSpPr>
        <p:spPr>
          <a:xfrm>
            <a:off x="1476360" y="404640"/>
            <a:ext cx="5969160" cy="88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514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ормирование предложения</a:t>
            </a:r>
            <a:endParaRPr b="0" lang="en-US" sz="1800" spc="1" strike="noStrike">
              <a:ln w="12600">
                <a:solidFill>
                  <a:srgbClr val="000514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2"/>
          <p:cNvSpPr/>
          <p:nvPr/>
        </p:nvSpPr>
        <p:spPr>
          <a:xfrm>
            <a:off x="5076720" y="1628640"/>
            <a:ext cx="3024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f741"/>
                </a:solidFill>
                <a:latin typeface="Garamond"/>
              </a:rPr>
              <a:t>Зависимость ставки процента за пользование привлеченными средствами от срока пользования и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13"/>
          <p:cNvSpPr/>
          <p:nvPr/>
        </p:nvSpPr>
        <p:spPr>
          <a:xfrm>
            <a:off x="1042920" y="4869000"/>
            <a:ext cx="2900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26ae8"/>
                </a:solidFill>
                <a:latin typeface="Garamond"/>
              </a:rPr>
              <a:t>Зависимость ставки процента за пользование привлеченными средствами от риска инвестир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Group 19"/>
          <p:cNvGrpSpPr/>
          <p:nvPr/>
        </p:nvGrpSpPr>
        <p:grpSpPr>
          <a:xfrm>
            <a:off x="539640" y="1067760"/>
            <a:ext cx="3974400" cy="3377160"/>
            <a:chOff x="539640" y="1067760"/>
            <a:chExt cx="3974400" cy="3377160"/>
          </a:xfrm>
        </p:grpSpPr>
        <p:grpSp>
          <p:nvGrpSpPr>
            <p:cNvPr id="353" name="Group 11"/>
            <p:cNvGrpSpPr/>
            <p:nvPr/>
          </p:nvGrpSpPr>
          <p:grpSpPr>
            <a:xfrm>
              <a:off x="971280" y="1125360"/>
              <a:ext cx="3168720" cy="2879640"/>
              <a:chOff x="971280" y="1125360"/>
              <a:chExt cx="3168720" cy="2879640"/>
            </a:xfrm>
          </p:grpSpPr>
          <p:sp>
            <p:nvSpPr>
              <p:cNvPr id="354" name="Line 4"/>
              <p:cNvSpPr/>
              <p:nvPr/>
            </p:nvSpPr>
            <p:spPr>
              <a:xfrm flipV="1">
                <a:off x="971280" y="1192320"/>
                <a:ext cx="0" cy="28119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5"/>
              <p:cNvSpPr/>
              <p:nvPr/>
            </p:nvSpPr>
            <p:spPr>
              <a:xfrm>
                <a:off x="971280" y="4005000"/>
                <a:ext cx="316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Arc 6"/>
              <p:cNvSpPr/>
              <p:nvPr/>
            </p:nvSpPr>
            <p:spPr>
              <a:xfrm rot="5400000">
                <a:off x="1117440" y="1176840"/>
                <a:ext cx="2492280" cy="2388960"/>
              </a:xfrm>
              <a:custGeom>
                <a:avLst/>
                <a:gdLst/>
                <a:ahLst/>
                <a:rect l="l" t="t" r="r" b="b"/>
                <a:pathLst>
                  <a:path fill="none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</a:path>
                  <a:path stroke="0" w="21600" h="21556">
                    <a:moveTo>
                      <a:pt x="1375" y="-1"/>
                    </a:moveTo>
                    <a:cubicBezTo>
                      <a:pt x="12747" y="725"/>
                      <a:pt x="21600" y="10160"/>
                      <a:pt x="21600" y="21556"/>
                    </a:cubicBezTo>
                    <a:lnTo>
                      <a:pt x="0" y="21556"/>
                    </a:lnTo>
                    <a:lnTo>
                      <a:pt x="1375" y="-1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Text Box 14"/>
            <p:cNvSpPr/>
            <p:nvPr/>
          </p:nvSpPr>
          <p:spPr>
            <a:xfrm>
              <a:off x="1413360" y="4076640"/>
              <a:ext cx="310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ок отвлечения</a:t>
              </a:r>
              <a:r>
                <a:rPr b="0" lang="ru-RU" sz="1800" spc="-1" strike="noStrike">
                  <a:solidFill>
                    <a:srgbClr val="ffffff"/>
                  </a:solidFill>
                  <a:latin typeface="Garamond"/>
                </a:rPr>
                <a:t> </a:t>
              </a: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редст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15"/>
            <p:cNvSpPr/>
            <p:nvPr/>
          </p:nvSpPr>
          <p:spPr>
            <a:xfrm rot="16200000">
              <a:off x="-350640" y="195840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a5f741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Group 18"/>
          <p:cNvGrpSpPr/>
          <p:nvPr/>
        </p:nvGrpSpPr>
        <p:grpSpPr>
          <a:xfrm>
            <a:off x="4500720" y="3683160"/>
            <a:ext cx="4124880" cy="3176280"/>
            <a:chOff x="4500720" y="3683160"/>
            <a:chExt cx="4124880" cy="3176280"/>
          </a:xfrm>
        </p:grpSpPr>
        <p:grpSp>
          <p:nvGrpSpPr>
            <p:cNvPr id="360" name="Group 10"/>
            <p:cNvGrpSpPr/>
            <p:nvPr/>
          </p:nvGrpSpPr>
          <p:grpSpPr>
            <a:xfrm>
              <a:off x="4932360" y="3683160"/>
              <a:ext cx="3528720" cy="2808000"/>
              <a:chOff x="4932360" y="3683160"/>
              <a:chExt cx="3528720" cy="2808000"/>
            </a:xfrm>
          </p:grpSpPr>
          <p:sp>
            <p:nvSpPr>
              <p:cNvPr id="361" name="Line 7"/>
              <p:cNvSpPr/>
              <p:nvPr/>
            </p:nvSpPr>
            <p:spPr>
              <a:xfrm flipV="1">
                <a:off x="4932360" y="3683160"/>
                <a:ext cx="0" cy="28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8"/>
              <p:cNvSpPr/>
              <p:nvPr/>
            </p:nvSpPr>
            <p:spPr>
              <a:xfrm>
                <a:off x="4932360" y="6491160"/>
                <a:ext cx="35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Arc 9"/>
              <p:cNvSpPr/>
              <p:nvPr/>
            </p:nvSpPr>
            <p:spPr>
              <a:xfrm rot="5633400">
                <a:off x="5297760" y="3846960"/>
                <a:ext cx="2360160" cy="22852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4" name="Text Box 16"/>
            <p:cNvSpPr/>
            <p:nvPr/>
          </p:nvSpPr>
          <p:spPr>
            <a:xfrm rot="16200000">
              <a:off x="3610080" y="4588920"/>
              <a:ext cx="214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Ставка процент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Text Box 17"/>
            <p:cNvSpPr/>
            <p:nvPr/>
          </p:nvSpPr>
          <p:spPr>
            <a:xfrm>
              <a:off x="5893560" y="6491160"/>
              <a:ext cx="273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e26ae8"/>
                  </a:solidFill>
                  <a:latin typeface="Garamond"/>
                </a:rPr>
                <a:t>Риск инвес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21044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7af8"/>
                </a:solidFill>
                <a:latin typeface="Comic Sans MS"/>
              </a:rPr>
              <a:t>Предложение на рынке капитала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7" name="AutoShape 2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nodeType="clickEffect" fill="hold">
                      <p:stCondLst>
                        <p:cond delay="0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4" dur="2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eb0fe"/>
                </a:solidFill>
                <a:latin typeface="Monotype Corsiva"/>
              </a:rPr>
              <a:t>Железное правило рынка капитал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0" name="WordArt 16"/>
          <p:cNvSpPr txBox="1"/>
          <p:nvPr/>
        </p:nvSpPr>
        <p:spPr>
          <a:xfrm>
            <a:off x="684360" y="1844640"/>
            <a:ext cx="7559640" cy="44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Чем выше рис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инвестиций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тем больш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ход он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должны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27008" dir="7616091" blurRad="0" rotWithShape="0">
                    <a:srgbClr val="8867ff"/>
                  </a:outerShdw>
                </a:effectLst>
                <a:latin typeface="Impact"/>
              </a:rPr>
              <a:t>обеспеч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27008" dir="7616091" blurRad="0" rotWithShape="0">
                  <a:srgbClr val="8867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1" name="AutoShape 18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6" dur="250" autoRev="1" fill="hold"/>
                                        <p:tgtEl>
                                          <p:spTgt spid="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bf33e"/>
                </a:solidFill>
                <a:latin typeface="Book Antiqua"/>
              </a:rPr>
              <a:t>Список литератур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00"/>
                </a:solidFill>
                <a:latin typeface="Monotype Corsiva"/>
              </a:rPr>
              <a:t>И.В.Липсиц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9900"/>
                </a:solidFill>
                <a:latin typeface="Garamond"/>
              </a:rPr>
              <a:t>«Экономика»,</a:t>
            </a:r>
            <a:r>
              <a:rPr b="0" lang="ru-RU" sz="3200" spc="-1" strike="noStrike">
                <a:solidFill>
                  <a:srgbClr val="ff99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книга 2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9900"/>
                </a:solidFill>
                <a:latin typeface="Comic Sans MS"/>
              </a:rPr>
              <a:t>изд. Вита пресс Москва 2006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Monotype Corsiva"/>
              </a:rPr>
              <a:t>Г.К.Журавлева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66ff"/>
                </a:solidFill>
                <a:latin typeface="Garamond"/>
              </a:rPr>
              <a:t>«Экономика»</a:t>
            </a:r>
            <a:r>
              <a:rPr b="0" lang="ru-RU" sz="3200" spc="-1" strike="noStrike">
                <a:solidFill>
                  <a:srgbClr val="ff66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66ff"/>
                </a:solidFill>
                <a:latin typeface="Comic Sans MS"/>
              </a:rPr>
              <a:t>изд. Юристъ 2004г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AutoShape 5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nodeType="clickEffect" fill="hold">
                      <p:stCondLst>
                        <p:cond delay="0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WordArt 4"/>
          <p:cNvSpPr txBox="1"/>
          <p:nvPr/>
        </p:nvSpPr>
        <p:spPr>
          <a:xfrm>
            <a:off x="1042920" y="1700280"/>
            <a:ext cx="7632720" cy="257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ffbf00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ffbf00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30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2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04360" y="1657440"/>
            <a:ext cx="8062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b561"/>
                </a:solidFill>
                <a:latin typeface="Jokerman LET"/>
              </a:rPr>
              <a:t>Виды капитала</a:t>
            </a:r>
            <a:r>
              <a:rPr b="0" lang="ru-RU" sz="2800" spc="-1" strike="noStrike">
                <a:solidFill>
                  <a:srgbClr val="dfb561"/>
                </a:solidFill>
                <a:latin typeface="Jokerman LET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University Roman LET"/>
              </a:rPr>
              <a:t>Физический капитал-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дания, сооружения, машины, мелиоративные системы, используемые для превращения с помощью технологий природных веществ в полезные людьми блага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ff"/>
                </a:solidFill>
                <a:latin typeface="Cataneo BT"/>
              </a:rPr>
              <a:t>Невещественный (незримый) капитал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</a:t>
            </a:r>
            <a:r>
              <a:rPr b="0" lang="ru-RU" sz="2400" spc="-1" strike="noStrike">
                <a:solidFill>
                  <a:srgbClr val="7afa95"/>
                </a:solidFill>
                <a:latin typeface="Comic Sans MS"/>
              </a:rPr>
              <a:t>знания, умения и информация, которые могут быть длительно использованы для производства благ и их продаж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WordArt 41"/>
          <p:cNvSpPr txBox="1"/>
          <p:nvPr/>
        </p:nvSpPr>
        <p:spPr>
          <a:xfrm>
            <a:off x="468360" y="476280"/>
            <a:ext cx="8064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b7bb1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Сбережения и их превращение в капит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b7bb11"/>
                  </a:gs>
                </a:gsLst>
                <a:lin ang="5400000"/>
              </a:grad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AutoShape 43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86924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6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cd6cf"/>
                </a:solidFill>
                <a:latin typeface="Monotype Corsiva"/>
              </a:rPr>
              <a:t>Общая проблема всех фирм: Как добыть денежный капитал, на который можно приобрести капитал физический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Garamond"/>
              </a:rPr>
              <a:t>Это способствовало к образованию особого рынка, на котором покупаются именно денежные средства для коммерческой деятельности,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</a:t>
            </a:r>
            <a:r>
              <a:rPr b="0" lang="ru-RU" sz="2800" spc="-1" strike="noStrike">
                <a:solidFill>
                  <a:srgbClr val="00ccff"/>
                </a:solidFill>
                <a:latin typeface="Comic Sans MS"/>
              </a:rPr>
              <a:t>рынка денежного капитала, или </a:t>
            </a:r>
            <a:r>
              <a:rPr b="1" lang="ru-RU" sz="3200" spc="-1" strike="noStrike">
                <a:solidFill>
                  <a:srgbClr val="00ccff"/>
                </a:solidFill>
                <a:latin typeface="Comic Sans MS"/>
              </a:rPr>
              <a:t>рынка капитала</a:t>
            </a:r>
            <a:r>
              <a:rPr b="0" lang="ru-RU" sz="3200" spc="-1" strike="noStrike">
                <a:solidFill>
                  <a:srgbClr val="00ccff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5640" y="1268280"/>
            <a:ext cx="734364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animScale>
                                      <p:cBhvr>
                                        <p:cTn id="143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44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45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46" dur="1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40"/>
                            </p:stCondLst>
                            <p:childTnLst>
                              <p:par>
                                <p:cTn id="148" nodeType="afterEffect" fill="hold" presetClass="emph" presetID="26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понимать физический капитал (станки, здания, запасы, и т.д.), то рынок капитала –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это часть рынка факторов производства наряду с рынком труда и зем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b561"/>
                </a:solidFill>
                <a:latin typeface="Monotype Corsiva"/>
              </a:rPr>
              <a:t>Если под капиталом на рынке финансов понимать денежный капитал,</a:t>
            </a:r>
            <a:r>
              <a:rPr b="0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99ccff"/>
                </a:solidFill>
                <a:latin typeface="Monotype Corsiva"/>
              </a:rPr>
              <a:t>то рынок капитала выступает составной частью рынка ссудных капитал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6722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>
                    <a:alphaModFix amt="90000"/>
                  </a:blip>
                  <a:srcRect/>
                  <a:stretch/>
                </a:blipFill>
                <a:effectLst>
                  <a:outerShdw dist="17819" dir="2700000" blurRad="0" rotWithShape="0">
                    <a:srgbClr val="0bcd39"/>
                  </a:outerShdw>
                </a:effectLst>
                <a:latin typeface="Impact"/>
              </a:rPr>
              <a:t>Варианты трактовки рынка капитала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>
                  <a:alphaModFix amt="90000"/>
                </a:blip>
                <a:srcRect/>
                <a:stretch/>
              </a:blipFill>
              <a:effectLst>
                <a:outerShdw dist="17819" dir="2700000" blurRad="0" rotWithShape="0">
                  <a:srgbClr val="0bcd3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AutoShape 7">
            <a:hlinkClick r:id="rId3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" nodeType="afterEffect" fill="hold" presetClass="entr" presetID="2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52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2604960" y="1125360"/>
            <a:ext cx="3786480" cy="98136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ссудного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270000" y="3094200"/>
            <a:ext cx="35449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Денеж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102280" y="3094200"/>
            <a:ext cx="38671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Рынок капита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644920" y="5234040"/>
            <a:ext cx="297972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Ипотечн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6321600" y="5234040"/>
            <a:ext cx="2822400" cy="1158840"/>
          </a:xfrm>
          <a:prstGeom prst="rect">
            <a:avLst/>
          </a:prstGeom>
          <a:gradFill rotWithShape="0">
            <a:gsLst>
              <a:gs pos="0">
                <a:srgbClr val="78eeeb"/>
              </a:gs>
              <a:gs pos="100000">
                <a:srgbClr val="386e6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Comic Sans MS"/>
              </a:rPr>
              <a:t>Финансовый ры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14"/>
          <p:cNvSpPr/>
          <p:nvPr/>
        </p:nvSpPr>
        <p:spPr>
          <a:xfrm flipH="1">
            <a:off x="2744280" y="2111400"/>
            <a:ext cx="498600" cy="904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5"/>
          <p:cNvSpPr/>
          <p:nvPr/>
        </p:nvSpPr>
        <p:spPr>
          <a:xfrm>
            <a:off x="5397480" y="2104920"/>
            <a:ext cx="57312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6"/>
          <p:cNvSpPr/>
          <p:nvPr/>
        </p:nvSpPr>
        <p:spPr>
          <a:xfrm flipH="1">
            <a:off x="491940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7"/>
          <p:cNvSpPr/>
          <p:nvPr/>
        </p:nvSpPr>
        <p:spPr>
          <a:xfrm>
            <a:off x="6742080" y="4280040"/>
            <a:ext cx="561960" cy="911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20"/>
          <p:cNvSpPr/>
          <p:nvPr/>
        </p:nvSpPr>
        <p:spPr>
          <a:xfrm flipH="1">
            <a:off x="2556000" y="2133720"/>
            <a:ext cx="79200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21"/>
          <p:cNvSpPr/>
          <p:nvPr/>
        </p:nvSpPr>
        <p:spPr>
          <a:xfrm>
            <a:off x="5292720" y="2133720"/>
            <a:ext cx="647640" cy="86364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22"/>
          <p:cNvSpPr/>
          <p:nvPr/>
        </p:nvSpPr>
        <p:spPr>
          <a:xfrm flipH="1">
            <a:off x="4643280" y="4292640"/>
            <a:ext cx="93672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23"/>
          <p:cNvSpPr/>
          <p:nvPr/>
        </p:nvSpPr>
        <p:spPr>
          <a:xfrm>
            <a:off x="6877080" y="4292640"/>
            <a:ext cx="790560" cy="93672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5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32"/>
          <p:cNvGrpSpPr/>
          <p:nvPr/>
        </p:nvGrpSpPr>
        <p:grpSpPr>
          <a:xfrm>
            <a:off x="1607400" y="2365560"/>
            <a:ext cx="5457960" cy="4493520"/>
            <a:chOff x="1607400" y="2365560"/>
            <a:chExt cx="5457960" cy="4493520"/>
          </a:xfrm>
        </p:grpSpPr>
        <p:sp>
          <p:nvSpPr>
            <p:cNvPr id="150" name="Text Box 17"/>
            <p:cNvSpPr/>
            <p:nvPr/>
          </p:nvSpPr>
          <p:spPr>
            <a:xfrm>
              <a:off x="1607400" y="5552640"/>
              <a:ext cx="56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68d88b"/>
                  </a:solidFill>
                  <a:latin typeface="Garamond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1" name="Group 31"/>
            <p:cNvGrpSpPr/>
            <p:nvPr/>
          </p:nvGrpSpPr>
          <p:grpSpPr>
            <a:xfrm>
              <a:off x="1777680" y="2365560"/>
              <a:ext cx="5287680" cy="4493520"/>
              <a:chOff x="1777680" y="2365560"/>
              <a:chExt cx="5287680" cy="4493520"/>
            </a:xfrm>
          </p:grpSpPr>
          <p:sp>
            <p:nvSpPr>
              <p:cNvPr id="152" name="Line 11"/>
              <p:cNvSpPr/>
              <p:nvPr/>
            </p:nvSpPr>
            <p:spPr>
              <a:xfrm flipV="1">
                <a:off x="2235960" y="2664720"/>
                <a:ext cx="1800" cy="3826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Line 12"/>
              <p:cNvSpPr/>
              <p:nvPr/>
            </p:nvSpPr>
            <p:spPr>
              <a:xfrm>
                <a:off x="2235960" y="6490800"/>
                <a:ext cx="464040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Arc 13"/>
              <p:cNvSpPr/>
              <p:nvPr/>
            </p:nvSpPr>
            <p:spPr>
              <a:xfrm>
                <a:off x="2235960" y="3055680"/>
                <a:ext cx="3170520" cy="26550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14"/>
              <p:cNvSpPr/>
              <p:nvPr/>
            </p:nvSpPr>
            <p:spPr>
              <a:xfrm>
                <a:off x="2235960" y="5710680"/>
                <a:ext cx="425340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Text Box 15"/>
              <p:cNvSpPr/>
              <p:nvPr/>
            </p:nvSpPr>
            <p:spPr>
              <a:xfrm rot="16200000">
                <a:off x="331200" y="3811680"/>
                <a:ext cx="326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Text Box 16"/>
              <p:cNvSpPr/>
              <p:nvPr/>
            </p:nvSpPr>
            <p:spPr>
              <a:xfrm>
                <a:off x="4063680" y="6490800"/>
                <a:ext cx="300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Text Box 18"/>
              <p:cNvSpPr/>
              <p:nvPr/>
            </p:nvSpPr>
            <p:spPr>
              <a:xfrm>
                <a:off x="2313000" y="2664720"/>
                <a:ext cx="34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Text Box 19"/>
              <p:cNvSpPr/>
              <p:nvPr/>
            </p:nvSpPr>
            <p:spPr>
              <a:xfrm>
                <a:off x="5404680" y="52423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68d88b"/>
                    </a:solidFill>
                    <a:latin typeface="Garamond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 flipH="1">
                <a:off x="5330160" y="5710680"/>
                <a:ext cx="76320" cy="78012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" name="Text Box 29"/>
          <p:cNvSpPr/>
          <p:nvPr/>
        </p:nvSpPr>
        <p:spPr>
          <a:xfrm>
            <a:off x="4788000" y="2492280"/>
            <a:ext cx="40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Сбережения как выбор между текущим и будущ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8d88b"/>
                </a:solidFill>
                <a:latin typeface="Cataneo BT"/>
              </a:rPr>
              <a:t>уровнями потребл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324000" y="1125360"/>
            <a:ext cx="84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b6f6"/>
                </a:solidFill>
                <a:latin typeface="Century Gothic"/>
              </a:rPr>
              <a:t>Создавая сбережения, семьи ограничивают свое текущее потребление, ради увеличения потребления в будущем</a:t>
            </a:r>
            <a:r>
              <a:rPr b="0" lang="ru-RU" sz="2800" spc="-1" strike="noStrike">
                <a:solidFill>
                  <a:srgbClr val="42b6f6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34"/>
          <p:cNvSpPr txBox="1"/>
          <p:nvPr/>
        </p:nvSpPr>
        <p:spPr>
          <a:xfrm rot="210000">
            <a:off x="1187280" y="0"/>
            <a:ext cx="6409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5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бережения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5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4" name="AutoShape 36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2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animClr clrSpc="rgb">
                                      <p:cBhvr>
                                        <p:cTn id="264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99"/>
                                      </p:to>
                                    </p:animClr>
                                    <p:set>
                                      <p:cBhvr>
                                        <p:cTn id="265" dur="250" autoRev="1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0" y="2852280"/>
            <a:ext cx="4105440" cy="9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Garamond"/>
              </a:rPr>
              <a:t>Если семья делает выбор в пользу текущего потребления, т.е. ничего не откладывает, то она достигает наивысшего уровня потребления в настоящем(точка А). При этом уровень ее потребления в будущем нисколько не возрастет по сравнению с текущим моментом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Garamond"/>
              </a:rPr>
              <a:t>Напротив, семья, максимально ориентированная на сбережения, направляет на эти цели все средства сверх стоимости прожиточного минимума(линия ПМ). И тогда ее текущее потребление снижается именно до прожиточного минимума. Но зато в будущем она сможет резко повысить свое потребление(точка В). Например, ей будет по силам приобрести те дорогостоящие блага, о которых не сможет и мечтать семья, живущая только сегодняшним днем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-1440" y="732240"/>
            <a:ext cx="4980240" cy="4412880"/>
            <a:chOff x="-1440" y="732240"/>
            <a:chExt cx="4980240" cy="4412880"/>
          </a:xfrm>
        </p:grpSpPr>
        <p:sp>
          <p:nvSpPr>
            <p:cNvPr id="168" name="Text Box 8"/>
            <p:cNvSpPr/>
            <p:nvPr/>
          </p:nvSpPr>
          <p:spPr>
            <a:xfrm>
              <a:off x="-1440" y="391824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cc00"/>
                  </a:solidFill>
                  <a:latin typeface="Cataneo BT"/>
                </a:rPr>
                <a:t>ПМ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9" name="Group 9"/>
            <p:cNvGrpSpPr/>
            <p:nvPr/>
          </p:nvGrpSpPr>
          <p:grpSpPr>
            <a:xfrm>
              <a:off x="145440" y="732240"/>
              <a:ext cx="4833360" cy="4412880"/>
              <a:chOff x="145440" y="732240"/>
              <a:chExt cx="4833360" cy="4412880"/>
            </a:xfrm>
          </p:grpSpPr>
          <p:sp>
            <p:nvSpPr>
              <p:cNvPr id="170" name="Line 10"/>
              <p:cNvSpPr/>
              <p:nvPr/>
            </p:nvSpPr>
            <p:spPr>
              <a:xfrm flipV="1">
                <a:off x="505800" y="1266120"/>
                <a:ext cx="1440" cy="3504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Line 11"/>
              <p:cNvSpPr/>
              <p:nvPr/>
            </p:nvSpPr>
            <p:spPr>
              <a:xfrm>
                <a:off x="505800" y="4765680"/>
                <a:ext cx="3809160" cy="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Arc 12"/>
              <p:cNvSpPr/>
              <p:nvPr/>
            </p:nvSpPr>
            <p:spPr>
              <a:xfrm>
                <a:off x="505800" y="1623600"/>
                <a:ext cx="2601720" cy="242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13"/>
              <p:cNvSpPr/>
              <p:nvPr/>
            </p:nvSpPr>
            <p:spPr>
              <a:xfrm>
                <a:off x="505800" y="4051800"/>
                <a:ext cx="3491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Text Box 14"/>
              <p:cNvSpPr/>
              <p:nvPr/>
            </p:nvSpPr>
            <p:spPr>
              <a:xfrm rot="16200000">
                <a:off x="-1271520" y="2149560"/>
                <a:ext cx="3202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настоя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Text Box 15"/>
              <p:cNvSpPr/>
              <p:nvPr/>
            </p:nvSpPr>
            <p:spPr>
              <a:xfrm>
                <a:off x="2030400" y="4776840"/>
                <a:ext cx="294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Потребление в будущем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Text Box 16"/>
              <p:cNvSpPr/>
              <p:nvPr/>
            </p:nvSpPr>
            <p:spPr>
              <a:xfrm>
                <a:off x="581400" y="1278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А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Text Box 17"/>
              <p:cNvSpPr/>
              <p:nvPr/>
            </p:nvSpPr>
            <p:spPr>
              <a:xfrm>
                <a:off x="3111120" y="363492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cc00"/>
                    </a:solidFill>
                    <a:latin typeface="Cataneo BT"/>
                  </a:rPr>
                  <a:t>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18"/>
              <p:cNvSpPr/>
              <p:nvPr/>
            </p:nvSpPr>
            <p:spPr>
              <a:xfrm flipH="1">
                <a:off x="3044880" y="4051800"/>
                <a:ext cx="62640" cy="718200"/>
              </a:xfrm>
              <a:custGeom>
                <a:avLst/>
                <a:gdLst/>
                <a:ahLst/>
                <a:rect l="l" t="t" r="r" b="b"/>
                <a:pathLst>
                  <a:path w="1" h="453">
                    <a:moveTo>
                      <a:pt x="0" y="0"/>
                    </a:moveTo>
                    <a:cubicBezTo>
                      <a:pt x="0" y="0"/>
                      <a:pt x="0" y="226"/>
                      <a:pt x="0" y="453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AutoShape 20">
            <a:hlinkClick r:id="rId1" action="ppaction://hlinksldjump"/>
          </p:cNvPr>
          <p:cNvSpPr/>
          <p:nvPr/>
        </p:nvSpPr>
        <p:spPr>
          <a:xfrm>
            <a:off x="468360" y="6093000"/>
            <a:ext cx="647640" cy="431640"/>
          </a:xfrm>
          <a:prstGeom prst="leftArrow">
            <a:avLst>
              <a:gd name="adj1" fmla="val 50000"/>
              <a:gd name="adj2" fmla="val 37510"/>
            </a:avLst>
          </a:prstGeom>
          <a:solidFill>
            <a:srgbClr val="55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6000"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5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5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16:06:06Z</dcterms:created>
  <dc:creator>505</dc:creator>
  <dc:description/>
  <dc:language>en-US</dc:language>
  <cp:lastModifiedBy>LEGION</cp:lastModifiedBy>
  <dcterms:modified xsi:type="dcterms:W3CDTF">2016-01-04T13:42:44Z</dcterms:modified>
  <cp:revision>39</cp:revision>
  <dc:subject/>
  <dc:title>Рынок финансового капитала</dc:title>
</cp:coreProperties>
</file>