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01A4-726E-41D0-9F2B-EC068A345B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931C-E41C-4B5F-8C46-4069E14C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7C2D-7B72-4BA9-BF34-4867A292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8BD5-4ED4-4452-AD96-273D166E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6698-5F8A-4CBA-B8DA-00B543C7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19F4-91B0-4CAD-80F7-B29B6AE8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56F3-E5C1-414F-92B8-574B0DB1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896B-6136-408B-95E3-597135C9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5A6F-77BE-4CBF-980A-AC1BE07E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0734-F478-4D1D-B142-8130F4B9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D9F7-35DF-4323-A397-8BB3B36F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DD77-FC1C-435E-A1B5-F601540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6A8F-A737-494F-84CC-2DD57514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ABF8-535D-4DE3-9CBD-9B6A352C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4BDA-9151-4E5B-9DF9-A9BDA064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20CC-FF52-4EE8-B316-095C4822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8F0B-E3FE-4BF7-A829-3198411A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668B-417F-4F5A-9979-43145700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C13E-95BB-41EC-BCD4-D8A988B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E8B5-44D9-49E7-9546-9C109B17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69E2-68A7-4988-B296-F63A1DDB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4C10-8637-4F6B-8504-3962F3B6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8A6A-B81D-4288-B73F-21D79872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B9A1-6951-4F5C-AE69-894B3398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38E4-55ED-4C00-B041-F29E592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96AC-1AA4-4D36-9777-3D5BB1072B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CB45-22D8-45C3-AF8A-88D0911C3A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42;&#1045;&#1057;&#1058;&#1048;&#1062;&#1048;&#1048;.&#1076;&#1086;&#1087;&#1086;&#1083;&#1085;&#1077;&#1085;&#1080;&#1077;%20&#1082;%20&#1088;&#1099;&#1085;&#1082;&#1091;%20&#1082;&#1072;&#1087;&#1080;&#1090;&#1072;&#1083;&#1072;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6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lvis - a little less conversation.mp3" descr=""/>
          <p:cNvPicPr/>
          <p:nvPr/>
        </p:nvPicPr>
        <p:blipFill>
          <a:blip r:embed="rId1"/>
          <a:stretch/>
        </p:blipFill>
        <p:spPr>
          <a:xfrm>
            <a:off x="4427640" y="469440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92360" y="5821200"/>
            <a:ext cx="57592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Работу подготовила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Кириакова Ди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Учитель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Маркова Юлия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684360" y="2016000"/>
            <a:ext cx="77724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42282"/>
                  </a:outerShdw>
                </a:effectLst>
                <a:latin typeface="Impact"/>
              </a:rPr>
              <a:t>Рынок капит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4228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6" descr="j0222015"/>
          <p:cNvPicPr/>
          <p:nvPr/>
        </p:nvPicPr>
        <p:blipFill>
          <a:blip r:embed="rId2"/>
          <a:stretch/>
        </p:blipFill>
        <p:spPr>
          <a:xfrm>
            <a:off x="684360" y="3989520"/>
            <a:ext cx="17413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j0222019"/>
          <p:cNvPicPr/>
          <p:nvPr/>
        </p:nvPicPr>
        <p:blipFill>
          <a:blip r:embed="rId3"/>
          <a:stretch/>
        </p:blipFill>
        <p:spPr>
          <a:xfrm>
            <a:off x="3635280" y="184320"/>
            <a:ext cx="1743120" cy="17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222021"/>
          <p:cNvPicPr/>
          <p:nvPr/>
        </p:nvPicPr>
        <p:blipFill>
          <a:blip r:embed="rId4"/>
          <a:stretch/>
        </p:blipFill>
        <p:spPr>
          <a:xfrm>
            <a:off x="6804000" y="3919680"/>
            <a:ext cx="1743120" cy="1747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6"/>
          <p:cNvSpPr txBox="1"/>
          <p:nvPr/>
        </p:nvSpPr>
        <p:spPr>
          <a:xfrm rot="591600">
            <a:off x="3710160" y="4411800"/>
            <a:ext cx="172692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420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420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Уровень склонности к сбережениям различаются по семьям в зависимости о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остигнут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ровн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лагосостоя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ня получаемых денеж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ходов и его соотнош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 прожиточным миниму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зненной ориента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воспитание членов семь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 rot="336000">
            <a:off x="1258920" y="0"/>
            <a:ext cx="5902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клонность к сбережен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11600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76360" y="522936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61080" y="522936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54400" y="5372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518360" y="537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584360" y="472428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87960" y="601992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с полным взносом их 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476360" y="307008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70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94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332000" y="299736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156360" y="29973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13080" y="299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Период жизни в комфорте и погашения долга за товары, купленные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584360" y="256536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401560" y="38624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-737280" y="1434960"/>
            <a:ext cx="102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в расср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с немедленным внесением их пол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35"/>
          <p:cNvSpPr txBox="1"/>
          <p:nvPr/>
        </p:nvSpPr>
        <p:spPr>
          <a:xfrm>
            <a:off x="1042920" y="404640"/>
            <a:ext cx="69850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 потребле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AutoShape 3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Инвестиц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правление денег на приобретение дополнительного капитала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fd0f"/>
                </a:solidFill>
                <a:latin typeface="Monotype Corsiva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861a"/>
                </a:solidFill>
                <a:latin typeface="Comic Sans MS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Выгод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Надежно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480"/>
                            </p:stCondLst>
                            <p:childTnLst>
                              <p:par>
                                <p:cTn id="446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4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2 -0.04769 L -0.04862 -0.38102 E">
                                      <p:cBhvr>
                                        <p:cTn id="45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45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animClr clrSpc="rgb">
                                      <p:cBhvr>
                                        <p:cTn id="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set>
                                      <p:cBhvr>
                                        <p:cTn id="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980"/>
                            </p:stCondLst>
                            <p:childTnLst>
                              <p:par>
                                <p:cTn id="4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15023 L 0.01025 -0.1831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980"/>
                            </p:stCondLst>
                            <p:childTnLst>
                              <p:par>
                                <p:cTn id="46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set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7"/>
          <p:cNvGrpSpPr/>
          <p:nvPr/>
        </p:nvGrpSpPr>
        <p:grpSpPr>
          <a:xfrm>
            <a:off x="1402920" y="981000"/>
            <a:ext cx="6628320" cy="5688000"/>
            <a:chOff x="1402920" y="981000"/>
            <a:chExt cx="6628320" cy="5688000"/>
          </a:xfrm>
        </p:grpSpPr>
        <p:sp>
          <p:nvSpPr>
            <p:cNvPr id="212" name="Rectangle 6"/>
            <p:cNvSpPr/>
            <p:nvPr/>
          </p:nvSpPr>
          <p:spPr>
            <a:xfrm>
              <a:off x="4067280" y="1846080"/>
              <a:ext cx="1584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47"/>
            <p:cNvGrpSpPr/>
            <p:nvPr/>
          </p:nvGrpSpPr>
          <p:grpSpPr>
            <a:xfrm>
              <a:off x="1402920" y="1846080"/>
              <a:ext cx="1874880" cy="865080"/>
              <a:chOff x="1402920" y="1846080"/>
              <a:chExt cx="1874880" cy="865080"/>
            </a:xfrm>
          </p:grpSpPr>
          <p:sp>
            <p:nvSpPr>
              <p:cNvPr id="214" name="Rectangle 8"/>
              <p:cNvSpPr/>
              <p:nvPr/>
            </p:nvSpPr>
            <p:spPr>
              <a:xfrm rot="5400000">
                <a:off x="1656360" y="1592640"/>
                <a:ext cx="865080" cy="13719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1460520" y="193320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Текущие пробле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2"/>
            <p:cNvGrpSpPr/>
            <p:nvPr/>
          </p:nvGrpSpPr>
          <p:grpSpPr>
            <a:xfrm>
              <a:off x="3996000" y="3141360"/>
              <a:ext cx="1800000" cy="649440"/>
              <a:chOff x="3996000" y="3141360"/>
              <a:chExt cx="1800000" cy="649440"/>
            </a:xfrm>
          </p:grpSpPr>
          <p:sp>
            <p:nvSpPr>
              <p:cNvPr id="217" name="Rectangle 10"/>
              <p:cNvSpPr/>
              <p:nvPr/>
            </p:nvSpPr>
            <p:spPr>
              <a:xfrm>
                <a:off x="3996000" y="3141360"/>
                <a:ext cx="1800000" cy="64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148280" y="328428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Сбереже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1474920" y="3214440"/>
              <a:ext cx="1368360" cy="1152360"/>
              <a:chOff x="1474920" y="3214440"/>
              <a:chExt cx="1368360" cy="1152360"/>
            </a:xfrm>
          </p:grpSpPr>
          <p:sp>
            <p:nvSpPr>
              <p:cNvPr id="220" name="Rectangle 13"/>
              <p:cNvSpPr/>
              <p:nvPr/>
            </p:nvSpPr>
            <p:spPr>
              <a:xfrm>
                <a:off x="1474920" y="3214440"/>
                <a:ext cx="1368360" cy="115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1474920" y="3430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Деньг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на рука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46"/>
            <p:cNvGrpSpPr/>
            <p:nvPr/>
          </p:nvGrpSpPr>
          <p:grpSpPr>
            <a:xfrm>
              <a:off x="6515280" y="3141360"/>
              <a:ext cx="1515960" cy="858600"/>
              <a:chOff x="6515280" y="3141360"/>
              <a:chExt cx="1515960" cy="858600"/>
            </a:xfrm>
          </p:grpSpPr>
          <p:sp>
            <p:nvSpPr>
              <p:cNvPr id="223" name="Rectangle 14"/>
              <p:cNvSpPr/>
              <p:nvPr/>
            </p:nvSpPr>
            <p:spPr>
              <a:xfrm>
                <a:off x="6515280" y="3141360"/>
                <a:ext cx="1436760" cy="79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6515280" y="3357360"/>
                <a:ext cx="151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Инвестиц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4"/>
            <p:cNvGrpSpPr/>
            <p:nvPr/>
          </p:nvGrpSpPr>
          <p:grpSpPr>
            <a:xfrm>
              <a:off x="5505120" y="5951520"/>
              <a:ext cx="1875240" cy="647640"/>
              <a:chOff x="5505120" y="5951520"/>
              <a:chExt cx="1875240" cy="647640"/>
            </a:xfrm>
          </p:grpSpPr>
          <p:sp>
            <p:nvSpPr>
              <p:cNvPr id="226" name="Rectangle 15"/>
              <p:cNvSpPr/>
              <p:nvPr/>
            </p:nvSpPr>
            <p:spPr>
              <a:xfrm>
                <a:off x="5580000" y="5951520"/>
                <a:ext cx="1726920" cy="647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505120" y="6094440"/>
                <a:ext cx="187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Капитал фир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5"/>
            <p:cNvGrpSpPr/>
            <p:nvPr/>
          </p:nvGrpSpPr>
          <p:grpSpPr>
            <a:xfrm>
              <a:off x="1906560" y="5373720"/>
              <a:ext cx="1820880" cy="1295280"/>
              <a:chOff x="1906560" y="5373720"/>
              <a:chExt cx="1820880" cy="1295280"/>
            </a:xfrm>
          </p:grpSpPr>
          <p:sp>
            <p:nvSpPr>
              <p:cNvPr id="229" name="Rectangle 16"/>
              <p:cNvSpPr/>
              <p:nvPr/>
            </p:nvSpPr>
            <p:spPr>
              <a:xfrm>
                <a:off x="2122560" y="5373720"/>
                <a:ext cx="1368360" cy="1295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1906560" y="5516640"/>
                <a:ext cx="182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физическ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43"/>
            <p:cNvGrpSpPr/>
            <p:nvPr/>
          </p:nvGrpSpPr>
          <p:grpSpPr>
            <a:xfrm>
              <a:off x="3996000" y="4222440"/>
              <a:ext cx="1439640" cy="1681200"/>
              <a:chOff x="3996000" y="4222440"/>
              <a:chExt cx="1439640" cy="1681200"/>
            </a:xfrm>
          </p:grpSpPr>
          <p:sp>
            <p:nvSpPr>
              <p:cNvPr id="232" name="AutoShape 40"/>
              <p:cNvSpPr/>
              <p:nvPr/>
            </p:nvSpPr>
            <p:spPr>
              <a:xfrm>
                <a:off x="3996000" y="4222440"/>
                <a:ext cx="1439640" cy="1368360"/>
              </a:xfrm>
              <a:custGeom>
                <a:avLst/>
                <a:gdLst>
                  <a:gd name="textAreaLeft" fmla="*/ 210960 w 1439640"/>
                  <a:gd name="textAreaRight" fmla="*/ 1228680 w 1439640"/>
                  <a:gd name="textAreaTop" fmla="*/ 199800 h 1368360"/>
                  <a:gd name="textAreaBottom" fmla="*/ 116856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02" y="10800"/>
                    </a:moveTo>
                    <a:cubicBezTo>
                      <a:pt x="802" y="16322"/>
                      <a:pt x="5278" y="20798"/>
                      <a:pt x="10800" y="20798"/>
                    </a:cubicBezTo>
                    <a:cubicBezTo>
                      <a:pt x="16322" y="20798"/>
                      <a:pt x="20798" y="16322"/>
                      <a:pt x="20798" y="10800"/>
                    </a:cubicBezTo>
                    <a:cubicBezTo>
                      <a:pt x="20798" y="5278"/>
                      <a:pt x="16322" y="802"/>
                      <a:pt x="10800" y="802"/>
                    </a:cubicBezTo>
                    <a:cubicBezTo>
                      <a:pt x="5278" y="802"/>
                      <a:pt x="802" y="5278"/>
                      <a:pt x="802" y="10800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41"/>
              <p:cNvSpPr/>
              <p:nvPr/>
            </p:nvSpPr>
            <p:spPr>
              <a:xfrm>
                <a:off x="4066920" y="4438080"/>
                <a:ext cx="1244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денежн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AutoShape 48"/>
            <p:cNvSpPr/>
            <p:nvPr/>
          </p:nvSpPr>
          <p:spPr>
            <a:xfrm>
              <a:off x="3419640" y="2062080"/>
              <a:ext cx="647640" cy="503280"/>
            </a:xfrm>
            <a:prstGeom prst="leftArrow">
              <a:avLst>
                <a:gd name="adj1" fmla="val 50000"/>
                <a:gd name="adj2" fmla="val 3217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9"/>
            <p:cNvSpPr/>
            <p:nvPr/>
          </p:nvSpPr>
          <p:spPr>
            <a:xfrm rot="16200000">
              <a:off x="4752000" y="2529360"/>
              <a:ext cx="216000" cy="576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3"/>
            <p:cNvSpPr/>
            <p:nvPr/>
          </p:nvSpPr>
          <p:spPr>
            <a:xfrm>
              <a:off x="3922920" y="981000"/>
              <a:ext cx="1871640" cy="503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Дох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>
              <a:off x="4859280" y="14857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6"/>
            <p:cNvSpPr/>
            <p:nvPr/>
          </p:nvSpPr>
          <p:spPr>
            <a:xfrm flipH="1">
              <a:off x="2987280" y="3430440"/>
              <a:ext cx="10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>
              <a:off x="5796000" y="343044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 flipH="1">
              <a:off x="3635640" y="551808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61"/>
            <p:cNvSpPr/>
            <p:nvPr/>
          </p:nvSpPr>
          <p:spPr>
            <a:xfrm>
              <a:off x="3635640" y="638172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 flipH="1">
              <a:off x="5506920" y="4006800"/>
              <a:ext cx="71892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1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565f1"/>
                </a:solidFill>
                <a:uFillTx/>
                <a:latin typeface="Garamond"/>
              </a:rPr>
              <a:t>Процесс превращения доходов семей в капитал фирм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AutoShape 7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574b"/>
                </a:solidFill>
                <a:latin typeface="Garamond"/>
              </a:rPr>
              <a:t>Устройство рынка капитал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1763640" y="1341360"/>
            <a:ext cx="5184720" cy="486900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39"/>
          <p:cNvSpPr/>
          <p:nvPr/>
        </p:nvSpPr>
        <p:spPr>
          <a:xfrm>
            <a:off x="3203640" y="2637000"/>
            <a:ext cx="2376360" cy="2233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 rot="19493400">
            <a:off x="1815480" y="231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Кредитный ры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 rot="2761200">
            <a:off x="4622400" y="2295000"/>
            <a:ext cx="19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а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 rot="2608800">
            <a:off x="1497600" y="4478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нвест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 rot="19275600">
            <a:off x="4032720" y="46522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облиг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Заемный капитал(кредит)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Calligraph421 BT"/>
              </a:rPr>
              <a:t>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Собственный капитал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Garamond"/>
              </a:rPr>
              <a:t>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1835280" y="333360"/>
            <a:ext cx="56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енежные сред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Кредитный рынок (краткая характеристик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бслуживают коммерческие бан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Капитал носит характер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заемного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сновные источники средств – сбережения сем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уществуют ряд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Рынок облига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блига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апитал - заем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Развит слаб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Государственные 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042920" y="170028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6"/>
          <p:cNvSpPr/>
          <p:nvPr/>
        </p:nvSpPr>
        <p:spPr>
          <a:xfrm>
            <a:off x="2340360" y="1125360"/>
            <a:ext cx="63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Структура инвести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24600" y="5397480"/>
            <a:ext cx="85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Капитал, как заемный, так и собственный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5ded"/>
                </a:solidFill>
                <a:latin typeface="Comic Sans MS"/>
              </a:rPr>
              <a:t>Государство является не только активным, но и крупнейшим инвес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8360" y="6237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9"/>
          <p:cNvSpPr txBox="1"/>
          <p:nvPr/>
        </p:nvSpPr>
        <p:spPr>
          <a:xfrm>
            <a:off x="2268360" y="476280"/>
            <a:ext cx="48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1fd55"/>
                </a:soli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одерж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1fd55"/>
              </a:soli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11280" y="1557360"/>
            <a:ext cx="813744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бережения и их превращение в капит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Устройство рынка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Рынок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Формирование цен на рынке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Дисконти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ff"/>
                </a:solidFill>
                <a:latin typeface="Monotype Corsiva"/>
              </a:rPr>
              <a:t>Рынок акци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Рынок собствен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Comic Sans MS"/>
              </a:rPr>
              <a:t>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6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e85d"/>
                </a:solidFill>
                <a:latin typeface="Garamond"/>
              </a:rPr>
              <a:t>Качества акц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Если компания разориться, к владельцу акций нельзя предъявить никаких претенз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780000" y="1197000"/>
            <a:ext cx="151272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71640" y="1989000"/>
            <a:ext cx="187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796000" y="1989000"/>
            <a:ext cx="230508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1834920" y="1413000"/>
            <a:ext cx="18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5364000" y="1413000"/>
            <a:ext cx="165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04560" y="272880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участие в управл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акционерным обществом и полу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асти его чистой прибы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272920" y="2728800"/>
            <a:ext cx="39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дивиде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фиксиров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величиной независим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того, 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истой прибыли фирма получ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реально, но не имеет 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частвовать в управлении е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-26280" y="4467240"/>
            <a:ext cx="51645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Дивиденды 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часть чистой прибы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акционерной фирмы, кото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выплачивается ее акционер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опорционально стоим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инадлежащих им 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785760" y="5451480"/>
            <a:ext cx="567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Курс акций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рыночная стоимость акц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складывающаяся при их свобод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ерепродаже на рынке ценных бум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1547640" y="260280"/>
            <a:ext cx="6193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eee41e"/>
                  </a:outerShdw>
                </a:effectLst>
                <a:latin typeface="Impact"/>
              </a:rPr>
              <a:t>Виды 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eee41e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Garamond"/>
              </a:rPr>
              <a:t>Факторы изменения курса ак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Ожидаемой будущей доходности фир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omic Sans MS"/>
              </a:rPr>
              <a:t>Причина регулирования рын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Если он станет слишком опасным из-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Первичное размещение (эмиссия) акций</a:t>
            </a:r>
            <a:r>
              <a:rPr b="0" i="1" lang="ru-RU" sz="3200" spc="-1" strike="noStrike">
                <a:solidFill>
                  <a:srgbClr val="eee41e"/>
                </a:solidFill>
                <a:latin typeface="Calligraph421 BT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риносящий фирмам дополнительный собственный капитал</a:t>
            </a:r>
            <a:r>
              <a:rPr b="0" lang="ru-RU" sz="3200" spc="-1" strike="noStrike">
                <a:solidFill>
                  <a:srgbClr val="3cd6c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Вторичное обращение ценных бумаг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ы сделок на фондовом рынк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Спрос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спрос фирм на физический капитал, позволяющий фирмам реализовать свои инвестиционные проект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Предложение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WordArt 6"/>
          <p:cNvSpPr txBox="1"/>
          <p:nvPr/>
        </p:nvSpPr>
        <p:spPr>
          <a:xfrm rot="207000">
            <a:off x="1263600" y="-9360"/>
            <a:ext cx="612144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рос и пред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8"/>
          <p:cNvGrpSpPr/>
          <p:nvPr/>
        </p:nvGrpSpPr>
        <p:grpSpPr>
          <a:xfrm>
            <a:off x="1165680" y="1526760"/>
            <a:ext cx="6480000" cy="4646880"/>
            <a:chOff x="1165680" y="1526760"/>
            <a:chExt cx="6480000" cy="4646880"/>
          </a:xfrm>
        </p:grpSpPr>
        <p:grpSp>
          <p:nvGrpSpPr>
            <p:cNvPr id="307" name="Group 11"/>
            <p:cNvGrpSpPr/>
            <p:nvPr/>
          </p:nvGrpSpPr>
          <p:grpSpPr>
            <a:xfrm>
              <a:off x="1690200" y="1526760"/>
              <a:ext cx="5688360" cy="4276800"/>
              <a:chOff x="1690200" y="1526760"/>
              <a:chExt cx="5688360" cy="4276800"/>
            </a:xfrm>
          </p:grpSpPr>
          <p:grpSp>
            <p:nvGrpSpPr>
              <p:cNvPr id="308" name="Group 10"/>
              <p:cNvGrpSpPr/>
              <p:nvPr/>
            </p:nvGrpSpPr>
            <p:grpSpPr>
              <a:xfrm>
                <a:off x="1868400" y="1526760"/>
                <a:ext cx="4800240" cy="3891600"/>
                <a:chOff x="1868400" y="1526760"/>
                <a:chExt cx="4800240" cy="3891600"/>
              </a:xfrm>
            </p:grpSpPr>
            <p:sp>
              <p:nvSpPr>
                <p:cNvPr id="309" name="Arc 4"/>
                <p:cNvSpPr/>
                <p:nvPr/>
              </p:nvSpPr>
              <p:spPr>
                <a:xfrm rot="10800000">
                  <a:off x="2402640" y="2058480"/>
                  <a:ext cx="3529080" cy="3203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</a:path>
                    <a:path stroke="0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  <a:lnTo>
                        <a:pt x="0" y="21437"/>
                      </a:lnTo>
                      <a:lnTo>
                        <a:pt x="265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Arc 5"/>
                <p:cNvSpPr/>
                <p:nvPr/>
              </p:nvSpPr>
              <p:spPr>
                <a:xfrm flipH="1" rot="9641400">
                  <a:off x="2192760" y="2137320"/>
                  <a:ext cx="4151160" cy="2669760"/>
                </a:xfrm>
                <a:custGeom>
                  <a:avLst/>
                  <a:gdLst/>
                  <a:ahLst/>
                  <a:rect l="l" t="t" r="r" b="b"/>
                  <a:pathLst>
                    <a:path fill="none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</a:path>
                    <a:path stroke="0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  <a:lnTo>
                        <a:pt x="2145" y="21600"/>
                      </a:lnTo>
                      <a:lnTo>
                        <a:pt x="-1" y="10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Line 6"/>
              <p:cNvSpPr/>
              <p:nvPr/>
            </p:nvSpPr>
            <p:spPr>
              <a:xfrm flipV="1">
                <a:off x="1690560" y="1987560"/>
                <a:ext cx="0" cy="38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1690560" y="5803560"/>
                <a:ext cx="568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 flipH="1">
                <a:off x="1690200" y="48668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4066920" y="4866840"/>
                <a:ext cx="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12"/>
            <p:cNvSpPr/>
            <p:nvPr/>
          </p:nvSpPr>
          <p:spPr>
            <a:xfrm>
              <a:off x="4409280" y="5805360"/>
              <a:ext cx="31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умма денежных 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 rot="16200000">
              <a:off x="367920" y="2750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165680" y="47242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763440" y="58053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Q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2293200" y="19162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про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на инвести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861880" y="191628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Предл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инвести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WordArt 19"/>
          <p:cNvSpPr txBox="1"/>
          <p:nvPr/>
        </p:nvSpPr>
        <p:spPr>
          <a:xfrm rot="20622000">
            <a:off x="1619280" y="25992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60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7338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Формирование рыночной цены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7338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b0fe"/>
                </a:solidFill>
                <a:latin typeface="Century Gothic"/>
              </a:rPr>
              <a:t>Факторы, влияющие на оценку прибыльности фирм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d9e22c"/>
                </a:solidFill>
                <a:latin typeface="Garamond"/>
              </a:rPr>
              <a:t>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2ed47"/>
                </a:solidFill>
                <a:latin typeface="Garamond"/>
              </a:rPr>
              <a:t>Длителен процесс получения результатов от реализации инвестиционны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Garamond"/>
              </a:rPr>
              <a:t>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Monotype Corsiva"/>
              </a:rPr>
              <a:t>Девиз финансиста и бизнесмен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WordArt 24"/>
          <p:cNvSpPr txBox="1"/>
          <p:nvPr/>
        </p:nvSpPr>
        <p:spPr>
          <a:xfrm rot="21009000">
            <a:off x="2228760" y="1963800"/>
            <a:ext cx="5977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, полученный сегодн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тоит больше, чем руб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полученный завтра.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0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8 L -0.125 0.288 L 0 0 Z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611280" y="141300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f715"/>
                </a:solidFill>
                <a:latin typeface="Monotype Corsiva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68616"/>
                </a:solidFill>
                <a:latin typeface="Garamond"/>
              </a:rPr>
              <a:t>дисконт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1692360" y="3051720"/>
            <a:ext cx="5761080" cy="882000"/>
            <a:chOff x="1692360" y="3051720"/>
            <a:chExt cx="5761080" cy="882000"/>
          </a:xfrm>
        </p:grpSpPr>
        <p:grpSp>
          <p:nvGrpSpPr>
            <p:cNvPr id="334" name="Group 8"/>
            <p:cNvGrpSpPr/>
            <p:nvPr/>
          </p:nvGrpSpPr>
          <p:grpSpPr>
            <a:xfrm>
              <a:off x="2511360" y="3051720"/>
              <a:ext cx="4322880" cy="804240"/>
              <a:chOff x="2511360" y="3051720"/>
              <a:chExt cx="4322880" cy="804240"/>
            </a:xfrm>
          </p:grpSpPr>
          <p:sp>
            <p:nvSpPr>
              <p:cNvPr id="335" name="Text Box 5"/>
              <p:cNvSpPr/>
              <p:nvPr/>
            </p:nvSpPr>
            <p:spPr>
              <a:xfrm>
                <a:off x="2511360" y="3068640"/>
                <a:ext cx="43228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PV=FV</a:t>
                </a:r>
                <a:r>
                  <a:rPr b="1" i="1" lang="en-US" sz="4000" spc="-1" strike="noStrike" baseline="-25000">
                    <a:solidFill>
                      <a:srgbClr val="ff0000"/>
                    </a:solidFill>
                    <a:latin typeface="Garamond"/>
                  </a:rPr>
                  <a:t>n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   1/(1+k)</a:t>
                </a:r>
                <a:r>
                  <a:rPr b="1" i="1" lang="en-US" sz="4000" spc="-1" strike="noStrike" baseline="30000">
                    <a:solidFill>
                      <a:srgbClr val="ff0000"/>
                    </a:solidFill>
                    <a:latin typeface="Garamond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6"/>
              <p:cNvSpPr/>
              <p:nvPr/>
            </p:nvSpPr>
            <p:spPr>
              <a:xfrm rot="18938400">
                <a:off x="4429800" y="3212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0"/>
            <p:cNvSpPr/>
            <p:nvPr/>
          </p:nvSpPr>
          <p:spPr>
            <a:xfrm>
              <a:off x="1692360" y="3068640"/>
              <a:ext cx="5761080" cy="86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4"/>
          <p:cNvGrpSpPr/>
          <p:nvPr/>
        </p:nvGrpSpPr>
        <p:grpSpPr>
          <a:xfrm>
            <a:off x="1692360" y="4941720"/>
            <a:ext cx="5688000" cy="936720"/>
            <a:chOff x="1692360" y="4941720"/>
            <a:chExt cx="5688000" cy="936720"/>
          </a:xfrm>
        </p:grpSpPr>
        <p:sp>
          <p:nvSpPr>
            <p:cNvPr id="339" name="Text Box 12"/>
            <p:cNvSpPr/>
            <p:nvPr/>
          </p:nvSpPr>
          <p:spPr>
            <a:xfrm>
              <a:off x="2858400" y="5014800"/>
              <a:ext cx="329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Garamond"/>
                </a:rPr>
                <a:t>FV=PV(1+k)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Garamond"/>
                </a:rPr>
                <a:t>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692360" y="4941720"/>
              <a:ext cx="568800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-627120" y="4149720"/>
            <a:ext cx="10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f715"/>
                </a:solidFill>
                <a:latin typeface="Garamond"/>
              </a:rPr>
              <a:t>Обратная формула. Показывает будущую стоимость вкл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036800" y="6073920"/>
            <a:ext cx="69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F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стоимость вклада, 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P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текущая ценность вкла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n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период времени,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 k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- величина до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7"/>
          <p:cNvSpPr txBox="1"/>
          <p:nvPr/>
        </p:nvSpPr>
        <p:spPr>
          <a:xfrm rot="20707200">
            <a:off x="2268000" y="333000"/>
            <a:ext cx="4746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исконтиров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66261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Comic Sans MS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43657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Рынок капитала 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Comic Sans MS"/>
              </a:rPr>
              <a:t>рынок, на котором продаются финансовые ресурсы, необходимые для организации коммерческой деятельности фи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2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Срок отвлечения средств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Риск инвестирования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поддающаяся оценке вероятность потери инвестированных средств или неполучение по ним ожидаемого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476360" y="404640"/>
            <a:ext cx="59691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рмирование предложения</a:t>
            </a:r>
            <a:endParaRPr b="0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2"/>
          <p:cNvSpPr/>
          <p:nvPr/>
        </p:nvSpPr>
        <p:spPr>
          <a:xfrm>
            <a:off x="5076720" y="162864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f741"/>
                </a:solidFill>
                <a:latin typeface="Garamond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042920" y="4869000"/>
            <a:ext cx="290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6ae8"/>
                </a:solidFill>
                <a:latin typeface="Garamond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9640" y="1067760"/>
            <a:ext cx="3974400" cy="3377160"/>
            <a:chOff x="539640" y="1067760"/>
            <a:chExt cx="3974400" cy="3377160"/>
          </a:xfrm>
        </p:grpSpPr>
        <p:grpSp>
          <p:nvGrpSpPr>
            <p:cNvPr id="353" name="Group 11"/>
            <p:cNvGrpSpPr/>
            <p:nvPr/>
          </p:nvGrpSpPr>
          <p:grpSpPr>
            <a:xfrm>
              <a:off x="971280" y="1125360"/>
              <a:ext cx="3168720" cy="2879640"/>
              <a:chOff x="971280" y="1125360"/>
              <a:chExt cx="3168720" cy="2879640"/>
            </a:xfrm>
          </p:grpSpPr>
          <p:sp>
            <p:nvSpPr>
              <p:cNvPr id="354" name="Line 4"/>
              <p:cNvSpPr/>
              <p:nvPr/>
            </p:nvSpPr>
            <p:spPr>
              <a:xfrm flipV="1">
                <a:off x="971280" y="1192320"/>
                <a:ext cx="0" cy="28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5"/>
              <p:cNvSpPr/>
              <p:nvPr/>
            </p:nvSpPr>
            <p:spPr>
              <a:xfrm>
                <a:off x="971280" y="4005000"/>
                <a:ext cx="316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rc 6"/>
              <p:cNvSpPr/>
              <p:nvPr/>
            </p:nvSpPr>
            <p:spPr>
              <a:xfrm rot="5400000">
                <a:off x="1117440" y="1176840"/>
                <a:ext cx="2492280" cy="2388960"/>
              </a:xfrm>
              <a:custGeom>
                <a:avLst/>
                <a:gdLst/>
                <a:ahLst/>
                <a:rect l="l" t="t" r="r" b="b"/>
                <a:pathLst>
                  <a:path fill="none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</a:path>
                  <a:path stroke="0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  <a:lnTo>
                      <a:pt x="0" y="21556"/>
                    </a:lnTo>
                    <a:lnTo>
                      <a:pt x="1375" y="-1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4"/>
            <p:cNvSpPr/>
            <p:nvPr/>
          </p:nvSpPr>
          <p:spPr>
            <a:xfrm>
              <a:off x="1413360" y="4076640"/>
              <a:ext cx="31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ок отвлечения</a:t>
              </a: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 rot="16200000">
              <a:off x="-350640" y="1958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18"/>
          <p:cNvGrpSpPr/>
          <p:nvPr/>
        </p:nvGrpSpPr>
        <p:grpSpPr>
          <a:xfrm>
            <a:off x="4500720" y="3683160"/>
            <a:ext cx="4124880" cy="3176280"/>
            <a:chOff x="4500720" y="3683160"/>
            <a:chExt cx="4124880" cy="3176280"/>
          </a:xfrm>
        </p:grpSpPr>
        <p:grpSp>
          <p:nvGrpSpPr>
            <p:cNvPr id="360" name="Group 10"/>
            <p:cNvGrpSpPr/>
            <p:nvPr/>
          </p:nvGrpSpPr>
          <p:grpSpPr>
            <a:xfrm>
              <a:off x="4932360" y="3683160"/>
              <a:ext cx="3528720" cy="2808000"/>
              <a:chOff x="4932360" y="3683160"/>
              <a:chExt cx="3528720" cy="280800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4932360" y="3683160"/>
                <a:ext cx="0" cy="28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8"/>
              <p:cNvSpPr/>
              <p:nvPr/>
            </p:nvSpPr>
            <p:spPr>
              <a:xfrm>
                <a:off x="4932360" y="6491160"/>
                <a:ext cx="35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rc 9"/>
              <p:cNvSpPr/>
              <p:nvPr/>
            </p:nvSpPr>
            <p:spPr>
              <a:xfrm rot="5633400">
                <a:off x="5297760" y="3846960"/>
                <a:ext cx="2360160" cy="2285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 Box 16"/>
            <p:cNvSpPr/>
            <p:nvPr/>
          </p:nvSpPr>
          <p:spPr>
            <a:xfrm rot="16200000">
              <a:off x="3610080" y="45889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5893560" y="64911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Риск инвес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7af8"/>
                </a:solidFill>
                <a:latin typeface="Comic Sans MS"/>
              </a:rPr>
              <a:t>Предложение на рынке капита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b0fe"/>
                </a:solidFill>
                <a:latin typeface="Monotype Corsiva"/>
              </a:rPr>
              <a:t>Железное правило рынка капитал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684360" y="1844640"/>
            <a:ext cx="7559640" cy="44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Чем выше рис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инвестици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тем больш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ход о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лж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обеспеч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f33e"/>
                </a:solidFill>
                <a:latin typeface="Book Antiqua"/>
              </a:rPr>
              <a:t>Список литерату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И.В.Липсиц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Garamond"/>
              </a:rPr>
              <a:t>«Экономика»,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книга 2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изд. Вита пресс Москва 2006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Г.К.Журавлева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«Экономика»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изд. Юристъ 2004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042920" y="1700280"/>
            <a:ext cx="76327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4360" y="1657440"/>
            <a:ext cx="8062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b561"/>
                </a:solidFill>
                <a:latin typeface="Jokerman LET"/>
              </a:rPr>
              <a:t>Виды капитала</a:t>
            </a:r>
            <a:r>
              <a:rPr b="0" lang="ru-RU" sz="2800" spc="-1" strike="noStrike">
                <a:solidFill>
                  <a:srgbClr val="dfb561"/>
                </a:solidFill>
                <a:latin typeface="Jokerman LE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University Roman LET"/>
              </a:rPr>
              <a:t>Физический капитал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Cataneo BT"/>
              </a:rPr>
              <a:t>Невещественный (незримый) капита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нания, умения и информация, которые могут быть длительно использованы для производства благ и их продаж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41"/>
          <p:cNvSpPr txBox="1"/>
          <p:nvPr/>
        </p:nvSpPr>
        <p:spPr>
          <a:xfrm>
            <a:off x="468360" y="47628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7bb1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бережения и их превращение в капит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b7bb11"/>
                  </a:gs>
                </a:gsLst>
                <a:lin ang="5400000"/>
              </a:gra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AutoShape 43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8692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d6cf"/>
                </a:solidFill>
                <a:latin typeface="Monotype Corsiva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00ccff"/>
                </a:solidFill>
                <a:latin typeface="Comic Sans MS"/>
              </a:rPr>
              <a:t>рынка денежного капитала, или </a:t>
            </a:r>
            <a:r>
              <a:rPr b="1" lang="ru-RU" sz="3200" spc="-1" strike="noStrike">
                <a:solidFill>
                  <a:srgbClr val="00ccff"/>
                </a:solidFill>
                <a:latin typeface="Comic Sans MS"/>
              </a:rPr>
              <a:t>рынка капитала</a:t>
            </a:r>
            <a:r>
              <a:rPr b="0" lang="ru-RU" sz="3200" spc="-1" strike="noStrike">
                <a:solidFill>
                  <a:srgbClr val="00cc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5640" y="1268280"/>
            <a:ext cx="73436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animScale>
                                      <p:cBhvr>
                                        <p:cTn id="1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понимать физический капитал (станки, здания, запасы, и т.д.), то рынок капитала –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это часть рынка факторов производства наряду с рынком труда 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на рынке финансов понимать денежный капитал,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то рынок капитала выступает составной частью рынка ссудных капит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Варианты трактовки рынка капит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52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604960" y="1125360"/>
            <a:ext cx="3786480" cy="98136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ссудн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00" y="3094200"/>
            <a:ext cx="35449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Денеж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02280" y="3094200"/>
            <a:ext cx="38671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644920" y="5234040"/>
            <a:ext cx="29797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Ипотеч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321600" y="5234040"/>
            <a:ext cx="282240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Финансов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744280" y="2111400"/>
            <a:ext cx="498600" cy="90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5397480" y="2104920"/>
            <a:ext cx="57312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491940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74208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556000" y="2133720"/>
            <a:ext cx="79200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292720" y="2133720"/>
            <a:ext cx="64764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4643280" y="4292640"/>
            <a:ext cx="93672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877080" y="4292640"/>
            <a:ext cx="79056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2"/>
          <p:cNvGrpSpPr/>
          <p:nvPr/>
        </p:nvGrpSpPr>
        <p:grpSpPr>
          <a:xfrm>
            <a:off x="1607400" y="2365560"/>
            <a:ext cx="5457960" cy="4493520"/>
            <a:chOff x="1607400" y="2365560"/>
            <a:chExt cx="5457960" cy="4493520"/>
          </a:xfrm>
        </p:grpSpPr>
        <p:sp>
          <p:nvSpPr>
            <p:cNvPr id="150" name="Text Box 17"/>
            <p:cNvSpPr/>
            <p:nvPr/>
          </p:nvSpPr>
          <p:spPr>
            <a:xfrm>
              <a:off x="1607400" y="5552640"/>
              <a:ext cx="5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8d88b"/>
                  </a:solidFill>
                  <a:latin typeface="Garamond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1777680" y="2365560"/>
              <a:ext cx="5287680" cy="4493520"/>
              <a:chOff x="1777680" y="2365560"/>
              <a:chExt cx="5287680" cy="4493520"/>
            </a:xfrm>
          </p:grpSpPr>
          <p:sp>
            <p:nvSpPr>
              <p:cNvPr id="152" name="Line 11"/>
              <p:cNvSpPr/>
              <p:nvPr/>
            </p:nvSpPr>
            <p:spPr>
              <a:xfrm flipV="1">
                <a:off x="2235960" y="2664720"/>
                <a:ext cx="1800" cy="382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2235960" y="6490800"/>
                <a:ext cx="4640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rc 13"/>
              <p:cNvSpPr/>
              <p:nvPr/>
            </p:nvSpPr>
            <p:spPr>
              <a:xfrm>
                <a:off x="2235960" y="3055680"/>
                <a:ext cx="3170520" cy="265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2235960" y="5710680"/>
                <a:ext cx="42534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 rot="16200000">
                <a:off x="331200" y="3811680"/>
                <a:ext cx="32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4063680" y="6490800"/>
                <a:ext cx="30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18"/>
              <p:cNvSpPr/>
              <p:nvPr/>
            </p:nvSpPr>
            <p:spPr>
              <a:xfrm>
                <a:off x="2313000" y="26647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404680" y="52423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 flipH="1">
                <a:off x="5330160" y="5710680"/>
                <a:ext cx="76320" cy="7801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9"/>
          <p:cNvSpPr/>
          <p:nvPr/>
        </p:nvSpPr>
        <p:spPr>
          <a:xfrm>
            <a:off x="4788000" y="2492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Сбережения как выбор между текущим и будущ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уровнями потреб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324000" y="112536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b6f6"/>
                </a:solidFill>
                <a:latin typeface="Century Gothic"/>
              </a:rPr>
              <a:t>Создавая сбережения, семьи ограничивают свое текущее потребление, ради увеличения потребления в будущем</a:t>
            </a:r>
            <a:r>
              <a:rPr b="0" lang="ru-RU" sz="2800" spc="-1" strike="noStrike">
                <a:solidFill>
                  <a:srgbClr val="42b6f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 rot="210000">
            <a:off x="1187280" y="0"/>
            <a:ext cx="640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береж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3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0" y="2852280"/>
            <a:ext cx="4105440" cy="9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Garamond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-1440" y="732240"/>
            <a:ext cx="4980240" cy="4412880"/>
            <a:chOff x="-1440" y="732240"/>
            <a:chExt cx="4980240" cy="4412880"/>
          </a:xfrm>
        </p:grpSpPr>
        <p:sp>
          <p:nvSpPr>
            <p:cNvPr id="168" name="Text Box 8"/>
            <p:cNvSpPr/>
            <p:nvPr/>
          </p:nvSpPr>
          <p:spPr>
            <a:xfrm>
              <a:off x="-1440" y="39182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Cataneo BT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145440" y="732240"/>
              <a:ext cx="4833360" cy="4412880"/>
              <a:chOff x="145440" y="732240"/>
              <a:chExt cx="4833360" cy="4412880"/>
            </a:xfrm>
          </p:grpSpPr>
          <p:sp>
            <p:nvSpPr>
              <p:cNvPr id="170" name="Line 10"/>
              <p:cNvSpPr/>
              <p:nvPr/>
            </p:nvSpPr>
            <p:spPr>
              <a:xfrm flipV="1">
                <a:off x="505800" y="1266120"/>
                <a:ext cx="1440" cy="350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1"/>
              <p:cNvSpPr/>
              <p:nvPr/>
            </p:nvSpPr>
            <p:spPr>
              <a:xfrm>
                <a:off x="505800" y="4765680"/>
                <a:ext cx="3809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rc 12"/>
              <p:cNvSpPr/>
              <p:nvPr/>
            </p:nvSpPr>
            <p:spPr>
              <a:xfrm>
                <a:off x="505800" y="1623600"/>
                <a:ext cx="2601720" cy="242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505800" y="4051800"/>
                <a:ext cx="3491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14"/>
              <p:cNvSpPr/>
              <p:nvPr/>
            </p:nvSpPr>
            <p:spPr>
              <a:xfrm rot="16200000">
                <a:off x="-1271520" y="2149560"/>
                <a:ext cx="32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2030400" y="4776840"/>
                <a:ext cx="29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16"/>
              <p:cNvSpPr/>
              <p:nvPr/>
            </p:nvSpPr>
            <p:spPr>
              <a:xfrm>
                <a:off x="581400" y="1278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111120" y="36349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 flipH="1">
                <a:off x="3044880" y="4051800"/>
                <a:ext cx="62640" cy="71820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06:06Z</dcterms:created>
  <dc:creator>505</dc:creator>
  <dc:description/>
  <dc:language>en-US</dc:language>
  <cp:lastModifiedBy>LEGION</cp:lastModifiedBy>
  <dcterms:modified xsi:type="dcterms:W3CDTF">2016-01-04T13:42:44Z</dcterms:modified>
  <cp:revision>39</cp:revision>
  <dc:subject/>
  <dc:title>Рынок финансового капитала</dc:title>
</cp:coreProperties>
</file>