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F71E-BF98-4091-B5B2-68BF8AD7AF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у подготовила Кириакова Ди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Маркова Юлия Викто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б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у подготовила Кириакова Диа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итель Маркова Юлия Виктор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б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ень склонности к сбережениям различаются по семьям в зависимости от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Уже достигнут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ми уровн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лагосостоя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Уровня получаемых денежны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ходов и его соотнош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прожиточным минимум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Жизненной ориентаци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воспитание членов семь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клонность к сбережения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склонности к сбережениям различаются по семьям в зависимости о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Уже достигнут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и уровн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состо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Уровня получаемых денеж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ов и его соотно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рожиточным минимум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Жизненной ориент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оспитание членов семь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лонность к сбереже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накопления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жизни в комфор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к взрослой жизни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купке товара с полным взносом их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накопления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жизни в комфор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жизни в комфорте и погашения долга за товары, купленные в рассроч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к взрослой жизни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купке товара в рассроч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покупки товаров в рассроч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покупки товаров с немедленным внесением их полной сто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 потреб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иод накопления средст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иод жизни в комфорт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 взрослой жизни челове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покупке товара с полным взносом их це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иод накопления средст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иод жизни в комфорт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иод жизни в комфорте и погашения долга за товары, купленные в рассрочк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 взрослой жизни челове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покупке товара в рассрочк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дель покупки товаров в рассрочк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дель покупки товаров с немедленным внесением их полной стоим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дели потреб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е денег на приобретение дополнительного капитала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виды активов(средств), вкладываемых в хозяйственную деятельность в целях получения доход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ходы на создание, расширение и техническое перевооружение основного капитала, а также на связанные с этим изменения оборотного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вести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равление денег на приобретение дополнительного капитала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е виды активов(средств), вкладываемых в хозяйственную деятельность в целях получения дохода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ходы на создание, расширение и техническое перевооружение основного капитала, а также на связанные с этим изменения оборотного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й механизм любой страны только тогда можно считать нормально отлаженным, когда он предлагает владельцам сбережений широкий набор форм инвестирования,  обладающий двумя главными параметрами каче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год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еж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ческий механизм любой страны только тогда можно считать нормально отлаженным, когда он предлагает владельцам сбережений широкий набор форм инвестирования,  обладающий двумя главными параметрами качеств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год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дежность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превращения доходов семей в капитал фир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 превращения доходов семей в капитал фирм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о рынка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облиг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ройство рынка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едитный рын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ен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облига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емный капитал(кредит) – денежные средства, которые предоставлены фирме в пользование на строго фиксированное время и под установленную в договоре займа пла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ый капитал – денежные средства, которые предоставляются фирме в обмен на право совладения ее имуществом и доходами, а потому, не подлежит возврату и приносят доход, зависящий от итогов работы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ежные сред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емный капитал(кредит) – денежные средства, которые предоставлены фирме в пользование на строго фиксированное время и под установленную в договоре займа плат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бственный капитал – денежные средства, которые предоставляются фирме в обмен на право совладения ее имуществом и доходами, а потому, не подлежит возврату и приносят доход, зависящий от итогов работы фирм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нежные средств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й рынок (краткая характеристи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ют коммерческие банк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носит характер заемного, фирма может получить его на срок от нескольких месяцев (краткосрочный кредит) до нескольких лет (долгосрочный кредит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источники средств – сбережения семе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ряд проб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едитный рынок (краткая характеристика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служивают коммерческие банки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 носит характер заемного, фирма может получить его на срок от нескольких месяцев (краткосрочный кредит) до нескольких лет (долгосрочный кредит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источники средств – сбережения семей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ществуют ряд пробле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облиг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игация – ценная бумага, удостоверяющая, что ее владелец одолжил некоторую сумму фирме или государству, выпустившим облигацию, и имеет право получить спустя определенное время свои деньги назад вместе с премией, величина которой также фиксируется при продаже облиг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- заемн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 слаб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облига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лигация – ценная бумага, удостоверяющая, что ее владелец одолжил некоторую сумму фирме или государству, выпустившим облигацию, и имеет право получить спустя определенное время свои деньги назад вместе с премией, величина которой также фиксируется при продаже облигац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 - заемны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т слаб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е 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инвестиц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кономику России в 1992-1996гг. по источникам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, как заемный, так и собственн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о является не только активным, но и крупнейшим инвесто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енные инвести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уктура инвестици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экономику России в 1992-1996гг. по источникам средст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, как заемный, так и собственны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о является не только активным, но и крупнейшим инвестор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ережения и их превращение в капит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о рынка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цен на рынке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держа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бережения и их превращение в капита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ройство рынка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ирование цен на рынке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контирова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исок литерату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собственного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я – ценная бумага, выдаваемая инвестору в обмен на полученные от него денежные средства для развития фирмы и подтверждающая его права как совладельца имущества фирмы и ее будущих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собственного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ция – ценная бумага, выдаваемая инвестору в обмен на полученные от него денежные средства для развития фирмы и подтверждающая его права как совладельца имущества фирмы и ее будущих доход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а акц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а удостоверяет права ее владельца на долю в имуществе частной фирмы, выпустившей эту ценную бумагу, и участие в управлении ее деятельн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компания разориться, к владельцу акций нельзя предъявить никаких претенз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компания будет ликвидирована, то из выручки от распродажи ее имущества владельцу акций будет возвращена сумма, соответствующая его до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 обретает право на получение части прибылей фирмы, т.к. существует риск потери дене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чества акций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на удостоверяет права ее владельца на долю в имуществе частной фирмы, выпустившей эту ценную бумагу, и участие в управлении ее деятельностью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компания разориться, к владельцу акций нельзя предъявить никаких претенз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компания будет ликвидирована, то из выручки от распродажи ее имущества владельцу акций будет возвращена сумма, соответствующая его дол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ционер обретает право на получение части прибылей фирмы, т.к. существует риск потери дене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ыкнов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илегирова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ценная бумага, владелец котор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право на участие в управлен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ным обществом и полу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и его чистой прибыл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ценная бумага, владелец котор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право на дивиденд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ксирова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ой независимо 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го, скольк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ой прибыли фирма получи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о, но не имеет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овать в управлении е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виденды – часть чистой прибы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ной фирмы, кото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лачивается ее акционер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порционально стоим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адлежащих им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акций – рыночная стоимость акци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ладывающаяся при их свобод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продаже на рынке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ыкновен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вилегирован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ценная бумага, владелец котор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меет право на участие в управлени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ционерным обществом и получе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асти его чистой прибыли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ценная бумага, владелец котор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меет право на дивиденд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иксированн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еличиной независимо о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го, скольк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истой прибыли фирма получил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ально, но не имеет прав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ствовать в управлении ею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виденды – часть чистой прибыл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ционерной фирмы, котор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плачивается ее акционера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порционально стоимост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адлежащих им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урс акций – рыночная стоимость акций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кладывающаяся при их свободн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продаже на рынке ценных бума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ы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изменения курса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ой будущей доходности фир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кулятивной игрой на рынке акций, основанной на различных представлениях его участников об ожидаемой доходности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а регулирования рын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он станет слишком опасным из-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граниченных махинаций, то рядовые инвесторы буду опасаться покупки акции, и тогда рынок умр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акторы изменения курса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жидаемой будущей доходности фирм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екулятивной игрой на рынке акций, основанной на различных представлениях его участников об ожидаемой доходности фирм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чина регулирования рынк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он станет слишком опасным из-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ограниченных махинаций, то рядовые инвесторы буду опасаться покупки акции, и тогда рынок умре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ичное размещение (эмиссия) акций, приносящий фирмам дополнительный собственный капита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ичное обращение ценных бумаг, позволяющее владельцам ценных бумаг и обладателям сбережений свободно продавать или покупать ранее эмитированные акции различных фи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ы сделок на фондовом рын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ичное размещение (эмиссия) акций, приносящий фирмам дополнительный собственный капитал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торичное обращение ценных бумаг, позволяющее владельцам ценных бумаг и обладателям сбережений свободно продавать или покупать ранее эмитированные акции различных фир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ипы сделок на фондовом рын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капитал – это спрос фирм на физический капитал, позволяющий фирмам реализовать свои инвестиционные проек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на капитал – это предложение владеющих капиталом, предоставляют капитал в пользование фирмам и при этом получают доход в виде процента на вложенные сред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и 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рос на капитал – это спрос фирм на физический капитал, позволяющий фирмам реализовать свои инвестиционные проек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ложение на капитал – это предложение владеющих капиталом, предоставляют капитал в пользование фирмам и при этом получают доход в виде процента на вложенные средств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рос и предло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Формирование рыночной цен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ирование рыночной цены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оценку прибыльности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Инвестиционные расходы могут осуществляться либо разово, либо неоднократно на протяжении достаточно длительного период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лителен процесс получения результатов от реализации инвестиционных процес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существление длительных операций приводит к росту неопределенности при оценке всех аспектов инвестиций и риск ошиб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акторы, влияющие на оценку прибыльности фирм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Инвестиционные расходы могут осуществляться либо разово, либо неоднократно на протяжении достаточно длительного периода времен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Длителен процесс получения результатов от реализации инвестиционных процесс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Осуществление длительных операций приводит к росту неопределенности при оценке всех аспектов инвестиций и риск ошиб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виз финансиста и бизнесме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бль, полученный сегодн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ит больше, чем рубл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ный завтра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виз финансиста и бизнесмен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бль, полученный сегодня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оит больше, чем рубль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ученный завтра.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расчета будущей стоимости средств, инвестируемой сегодня, является одной из разновидностей особого типа финансовых расчетов – диско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тная формула. Показывает будущую стоимость вкла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V – стоимость вклада, PV – текущая ценность вклад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 – период времени, k- величина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 расчета будущей стоимости средств, инвестируемой сегодня, является одной из разновидностей особого типа финансовых расчетов – дисконтирова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тная формула. Показывает будущую стоимость вкла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FV – стоимость вклада, PV – текущая ценность вклада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n – период времени, k- величина дохо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контирова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го, чтобы любая фирма могла осуществить свою коммерческую деятельность, ей нужно собрать воедино все необходимые виды ресурсов: труд, капитал, землю, предпринимательские способности. Один из этих ресурсов, а именно капитал, можно приобрести на рынке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апитала - рынок, на котором продаются финансовые ресурсы, необходимые для организации коммерческой деятельности фи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того, чтобы любая фирма могла осуществить свою коммерческую деятельность, ей нужно собрать воедино все необходимые виды ресурсов: труд, капитал, землю, предпринимательские способности. Один из этих ресурсов, а именно капитал, можно приобрести на рынке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капитала - рынок, на котором продаются финансовые ресурсы, необходимые для организации коммерческой деятельности фир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к отвлечения средств – время, в течение которого инвестор не сможет свободно распоряжаться своими денежными средствами, так как они будут находиться в пользовании фирмы, получившей их для финансирования инвести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инвестирования – поддающаяся оценке вероятность потери инвестированных средств или неполучение по ним ожидаемого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 отвлечения средств – время, в течение которого инвестор не сможет свободно распоряжаться своими денежными средствами, так как они будут находиться в пользовании фирмы, получившей их для финансирования инвестиц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иск инвестирования – поддающаяся оценке вероятность потери инвестированных средств или неполучение по ним ожидаемого дохо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ирование предлож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ставки процента за пользование привлеченными средствами от срока пользования 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ставки процента за пользование привлеченными средствами от риска инвест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на рынке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висимость ставки процента за пользование привлеченными средствами от срока пользования и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висимость ставки процента за пользование привлеченными средствами от риска инвестир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ложение на рынке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лезное правило рынка капита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выше рис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 больш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 он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ж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ивать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Железное правило рынка капитал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м выше риск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вестиций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м больши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ход он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лжн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ивать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.В.Липсиц «Экономика», книга 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. Вита пресс Москва 2006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К.Журавлева «Экономика» изд. Юристъ 2004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исок литерату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.В.Липсиц «Экономика», книга 2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д. Вита пресс Москва 2006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.К.Журавлева «Экономика» изд. Юристъ 2004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капита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й капитал- здания, сооружения, машины, мелиоративные системы, используемые для превращения с помощью технологий природных веществ в полезные людьми благ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ещественный (незримый) капитал – знания, умения и информация, которые могут быть длительно использованы для производства благ и их продаж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ережения и их превращение в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ы капитал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изический капитал- здания, сооружения, машины, мелиоративные системы, используемые для превращения с помощью технологий природных веществ в полезные людьми благ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ещественный (незримый) капитал – знания, умения и информация, которые могут быть длительно использованы для производства благ и их продаж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бережения и их превращение в капита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проблема всех фирм: Как добыть денежный капитал, на который можно приобрести капитал физически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пособствовало к образованию особого рынка, на котором покупаются именно денежные средства для коммерческой деятельности, - рынка денежного капитала, или рынка капит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ая проблема всех фирм: Как добыть денежный капитал, на который можно приобрести капитал физический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о способствовало к образованию особого рынка, на котором покупаются именно денежные средства для коммерческой деятельности, - рынка денежного капитала, или рынка капитал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од капиталом понимать физический капитал (станки, здания, запасы, и т.д.), то рынок капитала – это часть рынка факторов производства наряду с рынком труда и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од капиталом на рынке финансов понимать денежный капитал, то рынок капитала выступает составной частью рынка ссудных капит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рианты трактовки рынка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под капиталом понимать физический капитал (станки, здания, запасы, и т.д.), то рынок капитала – это часть рынка факторов производства наряду с рынком труда и земл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под капиталом на рынке финансов понимать денежный капитал, то рынок капитала выступает составной частью рынка ссудных капитал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арианты трактовки рынка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ссудного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ежн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потечн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ссудного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нежный рын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потечный рын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инансовый рын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бережения как выбор между текущим и будущи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ями потребл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вая сбережения, семьи ограничивают свое текущее потребление, ради увеличения потребления в будуще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береж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ережения как выбор между текущим и будущи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ями потреб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вая сбережения, семьи ограничивают свое текущее потребление, ради увеличения потребления в будущ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ере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семья делает выбор в пользу текущего потребления, т.е. ничего не откладывает, то она достигает наивысшего уровня потребления в настоящем(точка А). При этом уровень ее потребления в будущем нисколько не возрастет по сравнению с текущим момент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отив, семья, максимально ориентированная на сбережения, направляет на эти цели все средства сверх стоимости прожиточного минимума(линия ПМ). И тогда ее текущее потребление снижается именно до прожиточного минимума. Но зато в будущем она сможет резко повысить свое потребление(точка В). Например, ей будет по силам приобрести те дорогостоящие блага, о которых не сможет и мечтать семья, живущая только сегодняшним днем.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семья делает выбор в пользу текущего потребления, т.е. ничего не откладывает, то она достигает наивысшего уровня потребления в настоящем(точка А). При этом уровень ее потребления в будущем нисколько не возрастет по сравнению с текущим моментом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ротив, семья, максимально ориентированная на сбережения, направляет на эти цели все средства сверх стоимости прожиточного минимума(линия ПМ). И тогда ее текущее потребление снижается именно до прожиточного минимума. Но зато в будущем она сможет резко повысить свое потребление(точка В). Например, ей будет по силам приобрести те дорогостоящие блага, о которых не сможет и мечтать семья, живущая только сегодняшним днем.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66EF7-F276-42B9-ACC4-65C897410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5CDAA-466E-4B6D-9AA9-266C83E5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566F0-F61F-4E63-A324-687B8937F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5634F-84BA-4BFD-9F04-B8777DC27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ACE6-65DF-4859-BAC3-BC0D7EA58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3132-BDD2-48F1-8326-AC2021FA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BB3A-C61F-4A47-A562-FE4F91AE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55F6-FCE8-4F15-A14C-9F8DFA2E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A4B5-548C-4C84-9623-B7579952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4A8F-8930-4B97-A7D3-EC855B76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40B4-DDE8-4897-B99F-6AF72A04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CD95E-0770-4D4B-B19D-0EDA442E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FD02-34A4-45D9-870F-F9C87BA3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826D-5F79-4A2E-8CDD-BBB68432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663C-8E24-455E-B14A-460151B3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7413-E18B-4B22-BBA8-F4CF0C4BE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A450-91F8-4DF4-A413-FFD7B3BE5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5913F-ED8C-40EA-8F86-F95F13F0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DF89F-13ED-44FF-A9A8-42064222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A56DD-E2E5-4C5C-8CB5-23C9BF20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49D34-1955-4652-AABB-0B4A4764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35C48-866B-4A01-B62F-0E9C3093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68E81-EDAA-4E81-80B5-D3DBED93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FE9EB-FE86-46E8-A856-10AF848F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4125-E772-4892-89B3-29936476BF1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4FC5-7B11-4314-93A1-2F0F6A94A38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48;&#1053;&#1042;&#1045;&#1057;&#1058;&#1048;&#1062;&#1048;&#1048;.&#1076;&#1086;&#1087;&#1086;&#1083;&#1085;&#1077;&#1085;&#1080;&#1077;%20&#1082;%20&#1088;&#1099;&#1085;&#1082;&#1091;%20&#1082;&#1072;&#1087;&#1080;&#1090;&#1072;&#1083;&#1072;.ppt" TargetMode="Externa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20.xml"/><Relationship Id="rId5" Type="http://schemas.openxmlformats.org/officeDocument/2006/relationships/slide" Target="slide26.xml"/><Relationship Id="rId6" Type="http://schemas.openxmlformats.org/officeDocument/2006/relationships/slide" Target="slide29.xml"/><Relationship Id="rId7" Type="http://schemas.openxmlformats.org/officeDocument/2006/relationships/slide" Target="slide33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elvis - a little less conversation.mp3" descr=""/>
          <p:cNvPicPr/>
          <p:nvPr/>
        </p:nvPicPr>
        <p:blipFill>
          <a:blip r:embed="rId1"/>
          <a:stretch/>
        </p:blipFill>
        <p:spPr>
          <a:xfrm>
            <a:off x="4427640" y="4694400"/>
            <a:ext cx="298440" cy="2984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692360" y="5821200"/>
            <a:ext cx="5759280" cy="6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68616"/>
                </a:solidFill>
                <a:latin typeface="Garamond"/>
              </a:rPr>
              <a:t>Работу подготовила </a:t>
            </a:r>
            <a:r>
              <a:rPr b="1" lang="ru-RU" sz="2000" spc="-1" strike="noStrike">
                <a:solidFill>
                  <a:srgbClr val="f68616"/>
                </a:solidFill>
                <a:latin typeface="Monotype Corsiva"/>
              </a:rPr>
              <a:t>Кириакова Диан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68616"/>
                </a:solidFill>
                <a:latin typeface="Garamond"/>
              </a:rPr>
              <a:t>Учитель </a:t>
            </a:r>
            <a:r>
              <a:rPr b="1" lang="ru-RU" sz="2000" spc="-1" strike="noStrike">
                <a:solidFill>
                  <a:srgbClr val="f68616"/>
                </a:solidFill>
                <a:latin typeface="Monotype Corsiva"/>
              </a:rPr>
              <a:t>Маркова Юлия Викторовн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WordArt 5"/>
          <p:cNvSpPr txBox="1"/>
          <p:nvPr/>
        </p:nvSpPr>
        <p:spPr>
          <a:xfrm>
            <a:off x="684360" y="2016000"/>
            <a:ext cx="7772400" cy="18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72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42282"/>
                  </a:outerShdw>
                </a:effectLst>
                <a:latin typeface="Impact"/>
              </a:rPr>
              <a:t>Рынок капитал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042282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Picture 6" descr="j0222015"/>
          <p:cNvPicPr/>
          <p:nvPr/>
        </p:nvPicPr>
        <p:blipFill>
          <a:blip r:embed="rId2"/>
          <a:stretch/>
        </p:blipFill>
        <p:spPr>
          <a:xfrm>
            <a:off x="684360" y="3989520"/>
            <a:ext cx="1741320" cy="1747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j0222019"/>
          <p:cNvPicPr/>
          <p:nvPr/>
        </p:nvPicPr>
        <p:blipFill>
          <a:blip r:embed="rId3"/>
          <a:stretch/>
        </p:blipFill>
        <p:spPr>
          <a:xfrm>
            <a:off x="3635280" y="184320"/>
            <a:ext cx="1743120" cy="1749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j0222021"/>
          <p:cNvPicPr/>
          <p:nvPr/>
        </p:nvPicPr>
        <p:blipFill>
          <a:blip r:embed="rId4"/>
          <a:stretch/>
        </p:blipFill>
        <p:spPr>
          <a:xfrm>
            <a:off x="6804000" y="3919680"/>
            <a:ext cx="1743120" cy="1747800"/>
          </a:xfrm>
          <a:prstGeom prst="rect">
            <a:avLst/>
          </a:prstGeom>
          <a:ln w="0">
            <a:noFill/>
          </a:ln>
        </p:spPr>
      </p:pic>
      <p:sp>
        <p:nvSpPr>
          <p:cNvPr id="113" name="WordArt 16"/>
          <p:cNvSpPr txBox="1"/>
          <p:nvPr/>
        </p:nvSpPr>
        <p:spPr>
          <a:xfrm rot="591600">
            <a:off x="3710160" y="4411800"/>
            <a:ext cx="1726920" cy="85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4206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Руб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4206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0" dur="1" fill="hold">
                                    <p:stCondLst>
                                      <p:cond evt="end">
                                        <p:tn val="8"/>
                                      </p:cond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747720" indent="-7477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Уровень склонности к сбережениям различаются по семьям в зависимости от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Garamond"/>
              </a:rPr>
              <a:t>1.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Уже достигнутог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ими уровн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благосостоя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Garamond"/>
              </a:rPr>
              <a:t>2.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Уровня получаемых денежных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доходов и его соотношени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с прожиточным минимум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Garamond"/>
              </a:rPr>
              <a:t>3.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Жизненной ориентаци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и воспитание членов семь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WordArt 5"/>
          <p:cNvSpPr txBox="1"/>
          <p:nvPr/>
        </p:nvSpPr>
        <p:spPr>
          <a:xfrm rot="336000">
            <a:off x="1258920" y="0"/>
            <a:ext cx="590220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704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Склонность к сбережения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704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AutoShape 7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1"/>
          <p:cNvSpPr/>
          <p:nvPr/>
        </p:nvSpPr>
        <p:spPr>
          <a:xfrm>
            <a:off x="1116000" y="6338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476360" y="5229360"/>
            <a:ext cx="6048360" cy="79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4861080" y="5229360"/>
            <a:ext cx="0" cy="79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1454400" y="5372280"/>
            <a:ext cx="34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2b6f6"/>
                </a:solidFill>
                <a:latin typeface="Garamond"/>
              </a:rPr>
              <a:t>Период накопления сред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4518360" y="5372280"/>
            <a:ext cx="32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Garamond"/>
              </a:rPr>
              <a:t>Период жизни в комфор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1584360" y="4724280"/>
            <a:ext cx="58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Garamond"/>
              </a:rPr>
              <a:t>Срок взрослой жизни челов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587960" y="6019920"/>
            <a:ext cx="576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Garamond"/>
              </a:rPr>
              <a:t>При покупке товара с полным взносом их це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1476360" y="3070080"/>
            <a:ext cx="6048360" cy="79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7"/>
          <p:cNvSpPr/>
          <p:nvPr/>
        </p:nvSpPr>
        <p:spPr>
          <a:xfrm>
            <a:off x="2700360" y="307008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8"/>
          <p:cNvSpPr/>
          <p:nvPr/>
        </p:nvSpPr>
        <p:spPr>
          <a:xfrm>
            <a:off x="5940360" y="307008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1332000" y="2997360"/>
            <a:ext cx="14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2b6f6"/>
                </a:solidFill>
                <a:latin typeface="Garamond"/>
              </a:rPr>
              <a:t>Период накопления сред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14"/>
          <p:cNvSpPr/>
          <p:nvPr/>
        </p:nvSpPr>
        <p:spPr>
          <a:xfrm>
            <a:off x="6156360" y="2997360"/>
            <a:ext cx="12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Garamond"/>
              </a:rPr>
              <a:t>Период жизни в комфор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2413080" y="299736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Garamond"/>
              </a:rPr>
              <a:t>Период жизни в комфорте и погашения долга за товары, купленные в рассроч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1584360" y="2565360"/>
            <a:ext cx="58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Garamond"/>
              </a:rPr>
              <a:t>Срок взрослой жизни челов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9"/>
          <p:cNvSpPr/>
          <p:nvPr/>
        </p:nvSpPr>
        <p:spPr>
          <a:xfrm>
            <a:off x="2401560" y="3862440"/>
            <a:ext cx="39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Garamond"/>
              </a:rPr>
              <a:t>При покупке товара в рассроч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0"/>
          <p:cNvSpPr/>
          <p:nvPr/>
        </p:nvSpPr>
        <p:spPr>
          <a:xfrm>
            <a:off x="-737280" y="1434960"/>
            <a:ext cx="1023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ffcc99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Garamond"/>
              </a:rPr>
              <a:t>Модель покупки товаров в рассроч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cc99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Garamond"/>
              </a:rPr>
              <a:t>Модель покупки товаров с немедленным внесением их полной стоим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WordArt 35"/>
          <p:cNvSpPr txBox="1"/>
          <p:nvPr/>
        </p:nvSpPr>
        <p:spPr>
          <a:xfrm>
            <a:off x="1042920" y="404640"/>
            <a:ext cx="698508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дели потребления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AutoShape 37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382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cc00"/>
                </a:solidFill>
                <a:uFillTx/>
                <a:latin typeface="Comic Sans MS"/>
                <a:hlinkClick r:id="rId1"/>
              </a:rPr>
              <a:t>Инвестиции.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Направление денег на приобретение дополнительного капитала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8fd0f"/>
                </a:solidFill>
                <a:latin typeface="Monotype Corsiva"/>
              </a:rPr>
              <a:t>Все виды активов(средств), вкладываемых в хозяйственную деятельность в целях получения дохода.</a:t>
            </a:r>
            <a:r>
              <a:rPr b="0" lang="ru-RU" sz="2800" spc="-1" strike="noStrike">
                <a:solidFill>
                  <a:srgbClr val="a8fd0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a8fd0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a8fd0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Monotype Corsiva"/>
              </a:rPr>
              <a:t>Расходы на создание, расширение и техническое перевооружение основного капитала, а также на связанные с этим изменения оборотного капитал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AutoShape 4">
            <a:hlinkClick r:id="rId2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7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5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1" nodeType="afterEffect" fill="hold" presetClass="entr" presetID="5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c861a"/>
                </a:solidFill>
                <a:latin typeface="Comic Sans MS"/>
              </a:rPr>
              <a:t>Экономический механизм любой страны только тогда можно считать нормально отлаженным, когда он предлагает владельцам сбережений широкий набор форм инвестирования,  обладающий двумя главными параметрами качеств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00ff00"/>
                </a:solidFill>
                <a:latin typeface="Monotype Corsiva"/>
              </a:rPr>
              <a:t>Выгодность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00ff00"/>
                </a:solidFill>
                <a:latin typeface="Monotype Corsiva"/>
              </a:rPr>
              <a:t>Надежность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AutoShape 5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7480"/>
                            </p:stCondLst>
                            <p:childTnLst>
                              <p:par>
                                <p:cTn id="446" nodeType="afterEffect" fill="hold" presetClass="exit" presetID="49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4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9980"/>
                            </p:stCondLst>
                            <p:childTnLst>
                              <p:par>
                                <p:cTn id="45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862 -0.04769 L -0.04862 -0.38102 E">
                                      <p:cBhvr>
                                        <p:cTn id="454" dur="2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1980"/>
                            </p:stCondLst>
                            <p:childTnLst>
                              <p:par>
                                <p:cTn id="456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04"/>
                                      </p:to>
                                    </p:animClr>
                                    <p:animClr clrSpc="rgb">
                                      <p:cBhvr>
                                        <p:cTn id="45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04"/>
                                      </p:to>
                                    </p:animClr>
                                    <p:set>
                                      <p:cBhvr>
                                        <p:cTn id="45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6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6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3980"/>
                            </p:stCondLst>
                            <p:childTnLst>
                              <p:par>
                                <p:cTn id="46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25 0.15023 L 0.01025 -0.1831 E">
                                      <p:cBhvr>
                                        <p:cTn id="465" dur="2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5980"/>
                            </p:stCondLst>
                            <p:childTnLst>
                              <p:par>
                                <p:cTn id="467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70101"/>
                                      </p:to>
                                    </p:animClr>
                                    <p:animClr clrSpc="rgb">
                                      <p:cBhvr>
                                        <p:cTn id="46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70101"/>
                                      </p:to>
                                    </p:animClr>
                                    <p:set>
                                      <p:cBhvr>
                                        <p:cTn id="47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7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7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67"/>
          <p:cNvGrpSpPr/>
          <p:nvPr/>
        </p:nvGrpSpPr>
        <p:grpSpPr>
          <a:xfrm>
            <a:off x="1402920" y="981000"/>
            <a:ext cx="6628320" cy="5688000"/>
            <a:chOff x="1402920" y="981000"/>
            <a:chExt cx="6628320" cy="5688000"/>
          </a:xfrm>
        </p:grpSpPr>
        <p:sp>
          <p:nvSpPr>
            <p:cNvPr id="212" name="Rectangle 6"/>
            <p:cNvSpPr/>
            <p:nvPr/>
          </p:nvSpPr>
          <p:spPr>
            <a:xfrm>
              <a:off x="4067280" y="1846080"/>
              <a:ext cx="1584360" cy="8650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Garamond"/>
                </a:rPr>
                <a:t>Семь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3" name="Group 47"/>
            <p:cNvGrpSpPr/>
            <p:nvPr/>
          </p:nvGrpSpPr>
          <p:grpSpPr>
            <a:xfrm>
              <a:off x="1402920" y="1846080"/>
              <a:ext cx="1874880" cy="865080"/>
              <a:chOff x="1402920" y="1846080"/>
              <a:chExt cx="1874880" cy="865080"/>
            </a:xfrm>
          </p:grpSpPr>
          <p:sp>
            <p:nvSpPr>
              <p:cNvPr id="214" name="Rectangle 8"/>
              <p:cNvSpPr/>
              <p:nvPr/>
            </p:nvSpPr>
            <p:spPr>
              <a:xfrm rot="5400000">
                <a:off x="1656360" y="1592640"/>
                <a:ext cx="865080" cy="137196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Text Box 9"/>
              <p:cNvSpPr/>
              <p:nvPr/>
            </p:nvSpPr>
            <p:spPr>
              <a:xfrm>
                <a:off x="1460520" y="1933200"/>
                <a:ext cx="1817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Текущие проблемы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6" name="Group 12"/>
            <p:cNvGrpSpPr/>
            <p:nvPr/>
          </p:nvGrpSpPr>
          <p:grpSpPr>
            <a:xfrm>
              <a:off x="3996000" y="3141360"/>
              <a:ext cx="1800000" cy="649440"/>
              <a:chOff x="3996000" y="3141360"/>
              <a:chExt cx="1800000" cy="649440"/>
            </a:xfrm>
          </p:grpSpPr>
          <p:sp>
            <p:nvSpPr>
              <p:cNvPr id="217" name="Rectangle 10"/>
              <p:cNvSpPr/>
              <p:nvPr/>
            </p:nvSpPr>
            <p:spPr>
              <a:xfrm>
                <a:off x="3996000" y="3141360"/>
                <a:ext cx="1800000" cy="64944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Text Box 11"/>
              <p:cNvSpPr/>
              <p:nvPr/>
            </p:nvSpPr>
            <p:spPr>
              <a:xfrm>
                <a:off x="4148280" y="3284280"/>
                <a:ext cx="159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Сбережения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18"/>
            <p:cNvGrpSpPr/>
            <p:nvPr/>
          </p:nvGrpSpPr>
          <p:grpSpPr>
            <a:xfrm>
              <a:off x="1474920" y="3214440"/>
              <a:ext cx="1368360" cy="1152360"/>
              <a:chOff x="1474920" y="3214440"/>
              <a:chExt cx="1368360" cy="1152360"/>
            </a:xfrm>
          </p:grpSpPr>
          <p:sp>
            <p:nvSpPr>
              <p:cNvPr id="220" name="Rectangle 13"/>
              <p:cNvSpPr/>
              <p:nvPr/>
            </p:nvSpPr>
            <p:spPr>
              <a:xfrm>
                <a:off x="1474920" y="3214440"/>
                <a:ext cx="1368360" cy="115236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Text Box 17"/>
              <p:cNvSpPr/>
              <p:nvPr/>
            </p:nvSpPr>
            <p:spPr>
              <a:xfrm>
                <a:off x="1474920" y="3430080"/>
                <a:ext cx="1368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Деньги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на руках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46"/>
            <p:cNvGrpSpPr/>
            <p:nvPr/>
          </p:nvGrpSpPr>
          <p:grpSpPr>
            <a:xfrm>
              <a:off x="6515280" y="3141360"/>
              <a:ext cx="1515960" cy="858600"/>
              <a:chOff x="6515280" y="3141360"/>
              <a:chExt cx="1515960" cy="858600"/>
            </a:xfrm>
          </p:grpSpPr>
          <p:sp>
            <p:nvSpPr>
              <p:cNvPr id="223" name="Rectangle 14"/>
              <p:cNvSpPr/>
              <p:nvPr/>
            </p:nvSpPr>
            <p:spPr>
              <a:xfrm>
                <a:off x="6515280" y="3141360"/>
                <a:ext cx="1436760" cy="79236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Text Box 19"/>
              <p:cNvSpPr/>
              <p:nvPr/>
            </p:nvSpPr>
            <p:spPr>
              <a:xfrm>
                <a:off x="6515280" y="3357360"/>
                <a:ext cx="1515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Инвестици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44"/>
            <p:cNvGrpSpPr/>
            <p:nvPr/>
          </p:nvGrpSpPr>
          <p:grpSpPr>
            <a:xfrm>
              <a:off x="5505120" y="5951520"/>
              <a:ext cx="1875240" cy="647640"/>
              <a:chOff x="5505120" y="5951520"/>
              <a:chExt cx="1875240" cy="647640"/>
            </a:xfrm>
          </p:grpSpPr>
          <p:sp>
            <p:nvSpPr>
              <p:cNvPr id="226" name="Rectangle 15"/>
              <p:cNvSpPr/>
              <p:nvPr/>
            </p:nvSpPr>
            <p:spPr>
              <a:xfrm>
                <a:off x="5580000" y="5951520"/>
                <a:ext cx="1726920" cy="64764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Text Box 21"/>
              <p:cNvSpPr/>
              <p:nvPr/>
            </p:nvSpPr>
            <p:spPr>
              <a:xfrm>
                <a:off x="5505120" y="6094440"/>
                <a:ext cx="187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Капитал фирм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45"/>
            <p:cNvGrpSpPr/>
            <p:nvPr/>
          </p:nvGrpSpPr>
          <p:grpSpPr>
            <a:xfrm>
              <a:off x="1906560" y="5373720"/>
              <a:ext cx="1820880" cy="1295280"/>
              <a:chOff x="1906560" y="5373720"/>
              <a:chExt cx="1820880" cy="1295280"/>
            </a:xfrm>
          </p:grpSpPr>
          <p:sp>
            <p:nvSpPr>
              <p:cNvPr id="229" name="Rectangle 16"/>
              <p:cNvSpPr/>
              <p:nvPr/>
            </p:nvSpPr>
            <p:spPr>
              <a:xfrm>
                <a:off x="2122560" y="5373720"/>
                <a:ext cx="1368360" cy="129528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Text Box 22"/>
              <p:cNvSpPr/>
              <p:nvPr/>
            </p:nvSpPr>
            <p:spPr>
              <a:xfrm>
                <a:off x="1906560" y="5516640"/>
                <a:ext cx="1820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Рынок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физического капитал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43"/>
            <p:cNvGrpSpPr/>
            <p:nvPr/>
          </p:nvGrpSpPr>
          <p:grpSpPr>
            <a:xfrm>
              <a:off x="3996000" y="4222440"/>
              <a:ext cx="1439640" cy="1681200"/>
              <a:chOff x="3996000" y="4222440"/>
              <a:chExt cx="1439640" cy="1681200"/>
            </a:xfrm>
          </p:grpSpPr>
          <p:sp>
            <p:nvSpPr>
              <p:cNvPr id="232" name="AutoShape 40"/>
              <p:cNvSpPr/>
              <p:nvPr/>
            </p:nvSpPr>
            <p:spPr>
              <a:xfrm>
                <a:off x="3996000" y="4222440"/>
                <a:ext cx="1439640" cy="1368360"/>
              </a:xfrm>
              <a:custGeom>
                <a:avLst/>
                <a:gdLst>
                  <a:gd name="textAreaLeft" fmla="*/ 210960 w 1439640"/>
                  <a:gd name="textAreaRight" fmla="*/ 1228680 w 1439640"/>
                  <a:gd name="textAreaTop" fmla="*/ 199800 h 1368360"/>
                  <a:gd name="textAreaBottom" fmla="*/ 1168560 h 136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802" y="10800"/>
                    </a:moveTo>
                    <a:cubicBezTo>
                      <a:pt x="802" y="16322"/>
                      <a:pt x="5278" y="20798"/>
                      <a:pt x="10800" y="20798"/>
                    </a:cubicBezTo>
                    <a:cubicBezTo>
                      <a:pt x="16322" y="20798"/>
                      <a:pt x="20798" y="16322"/>
                      <a:pt x="20798" y="10800"/>
                    </a:cubicBezTo>
                    <a:cubicBezTo>
                      <a:pt x="20798" y="5278"/>
                      <a:pt x="16322" y="802"/>
                      <a:pt x="10800" y="802"/>
                    </a:cubicBezTo>
                    <a:cubicBezTo>
                      <a:pt x="5278" y="802"/>
                      <a:pt x="802" y="5278"/>
                      <a:pt x="802" y="10800"/>
                    </a:cubicBezTo>
                    <a:close/>
                  </a:path>
                </a:pathLst>
              </a:custGeom>
              <a:solidFill>
                <a:srgbClr val="0099cc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Text Box 41"/>
              <p:cNvSpPr/>
              <p:nvPr/>
            </p:nvSpPr>
            <p:spPr>
              <a:xfrm>
                <a:off x="4066920" y="4438080"/>
                <a:ext cx="124452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Рынок денежного капитал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4" name="AutoShape 48"/>
            <p:cNvSpPr/>
            <p:nvPr/>
          </p:nvSpPr>
          <p:spPr>
            <a:xfrm>
              <a:off x="3419640" y="2062080"/>
              <a:ext cx="647640" cy="503280"/>
            </a:xfrm>
            <a:prstGeom prst="leftArrow">
              <a:avLst>
                <a:gd name="adj1" fmla="val 50000"/>
                <a:gd name="adj2" fmla="val 32171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AutoShape 49"/>
            <p:cNvSpPr/>
            <p:nvPr/>
          </p:nvSpPr>
          <p:spPr>
            <a:xfrm rot="16200000">
              <a:off x="4752000" y="2529360"/>
              <a:ext cx="216000" cy="57636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53"/>
            <p:cNvSpPr/>
            <p:nvPr/>
          </p:nvSpPr>
          <p:spPr>
            <a:xfrm>
              <a:off x="3922920" y="981000"/>
              <a:ext cx="1871640" cy="5032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Garamond"/>
                </a:rPr>
                <a:t>Доход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55"/>
            <p:cNvSpPr/>
            <p:nvPr/>
          </p:nvSpPr>
          <p:spPr>
            <a:xfrm>
              <a:off x="4859280" y="148572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56"/>
            <p:cNvSpPr/>
            <p:nvPr/>
          </p:nvSpPr>
          <p:spPr>
            <a:xfrm flipH="1">
              <a:off x="2987280" y="3430440"/>
              <a:ext cx="1008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57"/>
            <p:cNvSpPr/>
            <p:nvPr/>
          </p:nvSpPr>
          <p:spPr>
            <a:xfrm>
              <a:off x="5796000" y="3430440"/>
              <a:ext cx="57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60"/>
            <p:cNvSpPr/>
            <p:nvPr/>
          </p:nvSpPr>
          <p:spPr>
            <a:xfrm flipH="1">
              <a:off x="3635640" y="5518080"/>
              <a:ext cx="50472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61"/>
            <p:cNvSpPr/>
            <p:nvPr/>
          </p:nvSpPr>
          <p:spPr>
            <a:xfrm>
              <a:off x="3635640" y="6381720"/>
              <a:ext cx="1728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62"/>
            <p:cNvSpPr/>
            <p:nvPr/>
          </p:nvSpPr>
          <p:spPr>
            <a:xfrm flipH="1">
              <a:off x="5506920" y="4006800"/>
              <a:ext cx="718920" cy="5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4167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6565f1"/>
                </a:solidFill>
                <a:uFillTx/>
                <a:latin typeface="Garamond"/>
              </a:rPr>
              <a:t>Процесс превращения доходов семей в капитал фирм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AutoShape 72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2650"/>
                            </p:stCondLst>
                            <p:childTnLst>
                              <p:par>
                                <p:cTn id="4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6832" dir="1603641" blurRad="0" rotWithShape="0">
              <a:srgbClr val="00cc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5574b"/>
                </a:solidFill>
                <a:latin typeface="Garamond"/>
              </a:rPr>
              <a:t>Устройство рынка капитала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AutoShape 38"/>
          <p:cNvSpPr/>
          <p:nvPr/>
        </p:nvSpPr>
        <p:spPr>
          <a:xfrm>
            <a:off x="1763640" y="1341360"/>
            <a:ext cx="5184720" cy="4869000"/>
          </a:xfrm>
          <a:prstGeom prst="flowChartOr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Oval 39"/>
          <p:cNvSpPr/>
          <p:nvPr/>
        </p:nvSpPr>
        <p:spPr>
          <a:xfrm>
            <a:off x="3203640" y="2637000"/>
            <a:ext cx="2376360" cy="22334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Рынок капит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42"/>
          <p:cNvSpPr/>
          <p:nvPr/>
        </p:nvSpPr>
        <p:spPr>
          <a:xfrm rot="19493400">
            <a:off x="1815480" y="2310120"/>
            <a:ext cx="27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Кредитный ры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43"/>
          <p:cNvSpPr/>
          <p:nvPr/>
        </p:nvSpPr>
        <p:spPr>
          <a:xfrm rot="2761200">
            <a:off x="4622400" y="2295000"/>
            <a:ext cx="198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Рынок ак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44"/>
          <p:cNvSpPr/>
          <p:nvPr/>
        </p:nvSpPr>
        <p:spPr>
          <a:xfrm rot="2608800">
            <a:off x="1497600" y="4478040"/>
            <a:ext cx="322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Государствен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инвести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45"/>
          <p:cNvSpPr/>
          <p:nvPr/>
        </p:nvSpPr>
        <p:spPr>
          <a:xfrm rot="19275600">
            <a:off x="4032720" y="4652280"/>
            <a:ext cx="328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Рынок облига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47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3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ff00"/>
                </a:solidFill>
                <a:uFillTx/>
                <a:latin typeface="Garamond"/>
              </a:rPr>
              <a:t>Заемный капитал(кредит)</a:t>
            </a: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 –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7c80"/>
                </a:solidFill>
                <a:latin typeface="Calligraph421 BT"/>
              </a:rPr>
              <a:t>денежные средства, которые предоставлены фирме в пользование на строго фиксированное время и под установленную в договоре займа плат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ff00"/>
                </a:solidFill>
                <a:uFillTx/>
                <a:latin typeface="Garamond"/>
              </a:rPr>
              <a:t>Собственный капитал</a:t>
            </a: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 –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7c80"/>
                </a:solidFill>
                <a:latin typeface="Garamond"/>
              </a:rPr>
              <a:t>денежные средства, которые предоставляются фирме в обмен на право совладения ее имуществом и доходами, а потому, не подлежит возврату и приносят доход, зависящий от итогов работы фирм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WordArt 5"/>
          <p:cNvSpPr txBox="1"/>
          <p:nvPr/>
        </p:nvSpPr>
        <p:spPr>
          <a:xfrm>
            <a:off x="1835280" y="333360"/>
            <a:ext cx="5616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Денежные средств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7" name="AutoShape 7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77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5" dur="770" fill="hold"/>
                                        <p:tgtEl>
                                          <p:spTgt spid="2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7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9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8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8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1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53ff"/>
                </a:solidFill>
                <a:latin typeface="Monotype Corsiva"/>
              </a:rPr>
              <a:t>Кредитный рынок (краткая характеристика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Обслуживают коммерческие банки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15ded"/>
                </a:solidFill>
                <a:latin typeface="Comic Sans MS"/>
              </a:rPr>
              <a:t>Капитал носит характер </a:t>
            </a:r>
            <a:r>
              <a:rPr b="0" lang="ru-RU" sz="2400" spc="-1" strike="noStrike">
                <a:solidFill>
                  <a:srgbClr val="ffcc00"/>
                </a:solidFill>
                <a:latin typeface="Comic Sans MS"/>
              </a:rPr>
              <a:t>заемного</a:t>
            </a:r>
            <a:r>
              <a:rPr b="0" lang="ru-RU" sz="2400" spc="-1" strike="noStrike">
                <a:solidFill>
                  <a:srgbClr val="f15ded"/>
                </a:solidFill>
                <a:latin typeface="Comic Sans MS"/>
              </a:rPr>
              <a:t>, фирма может получить его на срок от нескольких месяцев (краткосрочный кредит) до нескольких лет (долгосрочный кредит)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Основные источники средств – сбережения семей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Существуют ряд пробле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0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5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5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5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583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59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4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4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53ff"/>
                </a:solidFill>
                <a:latin typeface="Monotype Corsiva"/>
              </a:rPr>
              <a:t>Рынок облигац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Облигация –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15ded"/>
                </a:solidFill>
                <a:latin typeface="Comic Sans MS"/>
              </a:rPr>
              <a:t>ценная бумага, удостоверяющая, что ее владелец одолжил некоторую сумму фирме или государству, выпустившим облигацию, и имеет право получить спустя определенное время свои деньги назад вместе с премией, величина которой также фиксируется при продаже облигаци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Капитал - заемны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Развит слабо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4" nodeType="afterEffect" fill="hold" presetClass="entr" presetID="5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53ff"/>
                </a:solidFill>
                <a:latin typeface="Monotype Corsiva"/>
              </a:rPr>
              <a:t>Государственные инвестиц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68" name="Object 4"/>
          <p:cNvGraphicFramePr/>
          <p:nvPr/>
        </p:nvGraphicFramePr>
        <p:xfrm>
          <a:off x="1042920" y="1700280"/>
          <a:ext cx="6056280" cy="40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00280"/>
                    <a:ext cx="6056280" cy="40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Text Box 6"/>
          <p:cNvSpPr/>
          <p:nvPr/>
        </p:nvSpPr>
        <p:spPr>
          <a:xfrm>
            <a:off x="2340360" y="1125360"/>
            <a:ext cx="637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2ed47"/>
                </a:solidFill>
                <a:latin typeface="Arial"/>
              </a:rPr>
              <a:t>Структура инвестиц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2ed47"/>
                </a:solidFill>
                <a:latin typeface="Arial"/>
              </a:rPr>
              <a:t>в экономику России в 1992-1996гг. по источникам сред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624600" y="5397480"/>
            <a:ext cx="858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Comic Sans MS"/>
              </a:rPr>
              <a:t>Капитал, как заемный, так и собственный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15ded"/>
                </a:solidFill>
                <a:latin typeface="Comic Sans MS"/>
              </a:rPr>
              <a:t>Государство является не только активным, но и крупнейшим инвестор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68360" y="623736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0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9"/>
          <p:cNvSpPr txBox="1"/>
          <p:nvPr/>
        </p:nvSpPr>
        <p:spPr>
          <a:xfrm>
            <a:off x="2268360" y="476280"/>
            <a:ext cx="489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72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1fd55"/>
                </a:solidFill>
                <a:effectLst>
                  <a:outerShdw dist="17819" dir="2700000" blurRad="0" rotWithShape="0">
                    <a:srgbClr val="0bcd39"/>
                  </a:outerShdw>
                </a:effectLst>
                <a:latin typeface="Impact"/>
              </a:rPr>
              <a:t>Содержа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1fd55"/>
              </a:solidFill>
              <a:effectLst>
                <a:outerShdw dist="17819" dir="2700000" blurRad="0" rotWithShape="0">
                  <a:srgbClr val="0bcd3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611280" y="1557360"/>
            <a:ext cx="8137440" cy="52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Сбережения и их превращение в капит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Инвести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Устройство рынка капит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Рынок акц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Формирование цен на рынке капит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Дисконтиров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7" action="ppaction://hlinksldjump"/>
              </a:rPr>
              <a:t>Список литерату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8240"/>
                            </p:stCondLst>
                            <p:childTnLst>
                              <p:par>
                                <p:cTn id="8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240"/>
                            </p:stCondLst>
                            <p:childTnLst>
                              <p:par>
                                <p:cTn id="9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353ff"/>
                </a:solidFill>
                <a:latin typeface="Monotype Corsiva"/>
              </a:rPr>
              <a:t>Рынок акций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Рынок собственного капитал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Акция –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e579dd"/>
                </a:solidFill>
                <a:latin typeface="Comic Sans MS"/>
              </a:rPr>
              <a:t>ценная бумага, выдаваемая инвестору в обмен на полученные от него денежные средства для развития фирмы и подтверждающая его права как совладельца имущества фирмы и ее будущих доход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0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3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5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6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2440"/>
                            </p:stCondLst>
                            <p:childTnLst>
                              <p:par>
                                <p:cTn id="69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00cc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be85d"/>
                </a:solidFill>
                <a:latin typeface="Garamond"/>
              </a:rPr>
              <a:t>Качества акций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4949"/>
                </a:solidFill>
                <a:latin typeface="Monotype Corsiva"/>
              </a:rPr>
              <a:t>Она удостоверяет права ее владельца на долю в имуществе частной фирмы, выпустившей эту ценную бумагу, и участие в управлении ее деятельностью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Monotype Corsiva"/>
              </a:rPr>
              <a:t>Если компания разориться, к владельцу акций нельзя предъявить никаких претензи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4949"/>
                </a:solidFill>
                <a:latin typeface="Monotype Corsiva"/>
              </a:rPr>
              <a:t>Если компания будет ликвидирована, то из выручки от распродажи ее имущества владельцу акций будет возвращена сумма, соответствующая его дол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Monotype Corsiva"/>
              </a:rPr>
              <a:t>Акционер обретает право на получение части прибылей фирмы, т.к. существует риск потери дене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0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7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4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716" nodeType="afterEffect" fill="hold" presetClass="entr" presetID="2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722" nodeType="afterEffect" fill="hold" presetClass="entr" presetID="37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9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729" nodeType="afterEffect" fill="hold" presetClass="entr" presetID="37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9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4"/>
          <p:cNvSpPr/>
          <p:nvPr/>
        </p:nvSpPr>
        <p:spPr>
          <a:xfrm>
            <a:off x="3780000" y="1197000"/>
            <a:ext cx="1512720" cy="64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971640" y="1989000"/>
            <a:ext cx="1873080" cy="72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ыкнов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5796000" y="1989000"/>
            <a:ext cx="2305080" cy="719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вилегирова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8"/>
          <p:cNvSpPr/>
          <p:nvPr/>
        </p:nvSpPr>
        <p:spPr>
          <a:xfrm flipH="1">
            <a:off x="1834920" y="1413000"/>
            <a:ext cx="187308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5364000" y="1413000"/>
            <a:ext cx="165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304560" y="2728800"/>
            <a:ext cx="432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(ценная бумага, владелец котор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имеет право на участие в управлен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акционерным обществом и получ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части его чистой прибыл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5272920" y="2728800"/>
            <a:ext cx="395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(ценная бумага, владелец котор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имеет право на дивиден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фиксирован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величиной независимо 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того, скольк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чистой прибыли фирма получи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реально, но не имеет пра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участвовать в управлении ею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-26280" y="4467240"/>
            <a:ext cx="51645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99"/>
                </a:solidFill>
                <a:latin typeface="Arial"/>
              </a:rPr>
              <a:t>Дивиденды </a:t>
            </a:r>
            <a:r>
              <a:rPr b="0" lang="ru-RU" sz="2000" spc="-1" strike="noStrike">
                <a:solidFill>
                  <a:srgbClr val="00ff99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часть чистой прибыл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акционерной фирмы, котор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выплачивается ее акционера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пропорционально стоимос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принадлежащих им ак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3785760" y="5451480"/>
            <a:ext cx="56761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99"/>
                </a:solidFill>
                <a:latin typeface="Arial"/>
              </a:rPr>
              <a:t>Курс акций</a:t>
            </a:r>
            <a:r>
              <a:rPr b="0" lang="ru-RU" sz="2000" spc="-1" strike="noStrike">
                <a:solidFill>
                  <a:srgbClr val="00ff99"/>
                </a:solidFill>
                <a:latin typeface="Arial"/>
              </a:rPr>
              <a:t> –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рыночная стоимость акци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складывающаяся при их свободн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перепродаже на рынке ценных бума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WordArt 15"/>
          <p:cNvSpPr txBox="1"/>
          <p:nvPr/>
        </p:nvSpPr>
        <p:spPr>
          <a:xfrm>
            <a:off x="1547640" y="260280"/>
            <a:ext cx="619308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eee41e"/>
                  </a:outerShdw>
                </a:effectLst>
                <a:latin typeface="Impact"/>
              </a:rPr>
              <a:t>Виды акц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eee41e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2" name="AutoShape 17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0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7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20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7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77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12700"/>
                            </p:stCondLst>
                            <p:childTnLst>
                              <p:par>
                                <p:cTn id="7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2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14700"/>
                            </p:stCondLst>
                            <p:childTnLst>
                              <p:par>
                                <p:cTn id="810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2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20700"/>
                            </p:stCondLst>
                            <p:childTnLst>
                              <p:par>
                                <p:cTn id="8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cc"/>
                </a:solidFill>
                <a:latin typeface="Garamond"/>
              </a:rPr>
              <a:t>Факторы изменения курса акций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-70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Monotype Corsi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Ожидаемой будущей доходности фирмы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04160" indent="-70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Monotype Corsi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Спекулятивной игрой на рынке акций, основанной на различных представлениях его участников об ожидаемой доходности фирм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04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04160" indent="-70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cc"/>
                </a:solidFill>
                <a:latin typeface="Comic Sans MS"/>
              </a:rPr>
              <a:t>Причина регулирования рынк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0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82ed47"/>
                </a:solidFill>
                <a:latin typeface="Comic Sans MS"/>
              </a:rPr>
              <a:t>Если он станет слишком опасным из-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70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2ed47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82ed47"/>
                </a:solidFill>
                <a:latin typeface="Comic Sans MS"/>
              </a:rPr>
              <a:t>неограниченных махинаций, то рядовые инвесторы буду опасаться покупки акции, и тогда рынок умрет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0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7" nodeType="afterEffect" fill="hold" presetClass="entr" presetID="5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77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0" dur="77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2" dur="77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4" dur="77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6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ee41e"/>
                </a:solidFill>
                <a:latin typeface="Calligraph421 BT"/>
              </a:rPr>
              <a:t>Первичное размещение (эмиссия) акций</a:t>
            </a:r>
            <a:r>
              <a:rPr b="0" i="1" lang="ru-RU" sz="3200" spc="-1" strike="noStrike">
                <a:solidFill>
                  <a:srgbClr val="eee41e"/>
                </a:solidFill>
                <a:latin typeface="Calligraph421 BT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3cd6cf"/>
                </a:solidFill>
                <a:latin typeface="Comic Sans MS"/>
              </a:rPr>
              <a:t>приносящий фирмам дополнительный собственный капитал</a:t>
            </a:r>
            <a:r>
              <a:rPr b="0" lang="ru-RU" sz="3200" spc="-1" strike="noStrike">
                <a:solidFill>
                  <a:srgbClr val="3cd6cf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ee41e"/>
                </a:solidFill>
                <a:latin typeface="Calligraph421 BT"/>
              </a:rPr>
              <a:t>Вторичное обращение ценных бумаг,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3cd6cf"/>
                </a:solidFill>
                <a:latin typeface="Comic Sans MS"/>
              </a:rPr>
              <a:t>позволяющее владельцам ценных бумаг и обладателям сбережений свободно продавать или покупать ранее эмитированные акции различных фир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WordArt 5"/>
          <p:cNvSpPr txBox="1"/>
          <p:nvPr/>
        </p:nvSpPr>
        <p:spPr>
          <a:xfrm>
            <a:off x="1042920" y="404640"/>
            <a:ext cx="6985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ипы сделок на фондовом рынк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0" name="AutoShape 7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nodeType="clickEffect" fill="hold">
                      <p:stCondLst>
                        <p:cond delay="0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20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ce71b"/>
                </a:solidFill>
                <a:latin typeface="Garamond"/>
              </a:rPr>
              <a:t>Спрос на капитал</a:t>
            </a:r>
            <a:r>
              <a:rPr b="0" lang="ru-RU" sz="3200" spc="-1" strike="noStrike">
                <a:solidFill>
                  <a:srgbClr val="4ce71b"/>
                </a:solidFill>
                <a:latin typeface="Garamond"/>
              </a:rPr>
              <a:t> –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это спрос фирм на физический капитал, позволяющий фирмам реализовать свои инвестиционные проекты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ce71b"/>
                </a:solidFill>
                <a:latin typeface="Garamond"/>
              </a:rPr>
              <a:t>Предложение на капитал</a:t>
            </a:r>
            <a:r>
              <a:rPr b="0" lang="ru-RU" sz="3200" spc="-1" strike="noStrike">
                <a:solidFill>
                  <a:srgbClr val="4ce71b"/>
                </a:solidFill>
                <a:latin typeface="Garamond"/>
              </a:rPr>
              <a:t> –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это предложение владеющих капиталом, предоставляют капитал в пользование фирмам и при этом получают доход в виде процента на вложенные средств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WordArt 6"/>
          <p:cNvSpPr txBox="1"/>
          <p:nvPr/>
        </p:nvSpPr>
        <p:spPr>
          <a:xfrm rot="207000">
            <a:off x="1263600" y="-9360"/>
            <a:ext cx="6121440" cy="15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56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Спрос и предлож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956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4" name="AutoShape 8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nodeType="clickEffect" fill="hold">
                      <p:stCondLst>
                        <p:cond delay="0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7" dur="250" autoRev="1" fill="hold"/>
                                        <p:tgtEl>
                                          <p:spTgt spid="3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7" nodeType="afterEffect" fill="hold" presetClass="entr" presetID="2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18"/>
          <p:cNvGrpSpPr/>
          <p:nvPr/>
        </p:nvGrpSpPr>
        <p:grpSpPr>
          <a:xfrm>
            <a:off x="1165680" y="1526760"/>
            <a:ext cx="6480000" cy="4646880"/>
            <a:chOff x="1165680" y="1526760"/>
            <a:chExt cx="6480000" cy="4646880"/>
          </a:xfrm>
        </p:grpSpPr>
        <p:grpSp>
          <p:nvGrpSpPr>
            <p:cNvPr id="307" name="Group 11"/>
            <p:cNvGrpSpPr/>
            <p:nvPr/>
          </p:nvGrpSpPr>
          <p:grpSpPr>
            <a:xfrm>
              <a:off x="1690200" y="1526760"/>
              <a:ext cx="5688360" cy="4276800"/>
              <a:chOff x="1690200" y="1526760"/>
              <a:chExt cx="5688360" cy="4276800"/>
            </a:xfrm>
          </p:grpSpPr>
          <p:grpSp>
            <p:nvGrpSpPr>
              <p:cNvPr id="308" name="Group 10"/>
              <p:cNvGrpSpPr/>
              <p:nvPr/>
            </p:nvGrpSpPr>
            <p:grpSpPr>
              <a:xfrm>
                <a:off x="1868400" y="1526760"/>
                <a:ext cx="4800240" cy="3891600"/>
                <a:chOff x="1868400" y="1526760"/>
                <a:chExt cx="4800240" cy="3891600"/>
              </a:xfrm>
            </p:grpSpPr>
            <p:sp>
              <p:nvSpPr>
                <p:cNvPr id="309" name="Arc 4"/>
                <p:cNvSpPr/>
                <p:nvPr/>
              </p:nvSpPr>
              <p:spPr>
                <a:xfrm rot="10800000">
                  <a:off x="2402640" y="2058480"/>
                  <a:ext cx="3529080" cy="3203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3552">
                      <a:moveTo>
                        <a:pt x="2650" y="0"/>
                      </a:moveTo>
                      <a:cubicBezTo>
                        <a:pt x="13472" y="1338"/>
                        <a:pt x="21600" y="10532"/>
                        <a:pt x="21600" y="21437"/>
                      </a:cubicBezTo>
                      <a:cubicBezTo>
                        <a:pt x="21600" y="22143"/>
                        <a:pt x="21565" y="22849"/>
                        <a:pt x="21496" y="23552"/>
                      </a:cubicBezTo>
                    </a:path>
                    <a:path stroke="0" w="21600" h="23552">
                      <a:moveTo>
                        <a:pt x="2650" y="0"/>
                      </a:moveTo>
                      <a:cubicBezTo>
                        <a:pt x="13472" y="1338"/>
                        <a:pt x="21600" y="10532"/>
                        <a:pt x="21600" y="21437"/>
                      </a:cubicBezTo>
                      <a:cubicBezTo>
                        <a:pt x="21600" y="22143"/>
                        <a:pt x="21565" y="22849"/>
                        <a:pt x="21496" y="23552"/>
                      </a:cubicBezTo>
                      <a:lnTo>
                        <a:pt x="0" y="21437"/>
                      </a:lnTo>
                      <a:lnTo>
                        <a:pt x="265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Arc 5"/>
                <p:cNvSpPr/>
                <p:nvPr/>
              </p:nvSpPr>
              <p:spPr>
                <a:xfrm flipH="1" rot="9641400">
                  <a:off x="2192760" y="2137320"/>
                  <a:ext cx="4151160" cy="2669760"/>
                </a:xfrm>
                <a:custGeom>
                  <a:avLst/>
                  <a:gdLst/>
                  <a:ahLst/>
                  <a:rect l="l" t="t" r="r" b="b"/>
                  <a:pathLst>
                    <a:path fill="none" w="23421" h="21600">
                      <a:moveTo>
                        <a:pt x="-1" y="106"/>
                      </a:moveTo>
                      <a:cubicBezTo>
                        <a:pt x="712" y="35"/>
                        <a:pt x="1428" y="-1"/>
                        <a:pt x="2145" y="0"/>
                      </a:cubicBezTo>
                      <a:cubicBezTo>
                        <a:pt x="12636" y="0"/>
                        <a:pt x="21610" y="7538"/>
                        <a:pt x="23420" y="17872"/>
                      </a:cubicBezTo>
                    </a:path>
                    <a:path stroke="0" w="23421" h="21600">
                      <a:moveTo>
                        <a:pt x="-1" y="106"/>
                      </a:moveTo>
                      <a:cubicBezTo>
                        <a:pt x="712" y="35"/>
                        <a:pt x="1428" y="-1"/>
                        <a:pt x="2145" y="0"/>
                      </a:cubicBezTo>
                      <a:cubicBezTo>
                        <a:pt x="12636" y="0"/>
                        <a:pt x="21610" y="7538"/>
                        <a:pt x="23420" y="17872"/>
                      </a:cubicBezTo>
                      <a:lnTo>
                        <a:pt x="2145" y="21600"/>
                      </a:lnTo>
                      <a:lnTo>
                        <a:pt x="-1" y="10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Line 6"/>
              <p:cNvSpPr/>
              <p:nvPr/>
            </p:nvSpPr>
            <p:spPr>
              <a:xfrm flipV="1">
                <a:off x="1690560" y="1987560"/>
                <a:ext cx="0" cy="38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7"/>
              <p:cNvSpPr/>
              <p:nvPr/>
            </p:nvSpPr>
            <p:spPr>
              <a:xfrm>
                <a:off x="1690560" y="5803560"/>
                <a:ext cx="5688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8"/>
              <p:cNvSpPr/>
              <p:nvPr/>
            </p:nvSpPr>
            <p:spPr>
              <a:xfrm flipH="1">
                <a:off x="1690200" y="4866840"/>
                <a:ext cx="2376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9"/>
              <p:cNvSpPr/>
              <p:nvPr/>
            </p:nvSpPr>
            <p:spPr>
              <a:xfrm>
                <a:off x="4066920" y="4866840"/>
                <a:ext cx="0" cy="93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5" name="Text Box 12"/>
            <p:cNvSpPr/>
            <p:nvPr/>
          </p:nvSpPr>
          <p:spPr>
            <a:xfrm>
              <a:off x="4409280" y="5805360"/>
              <a:ext cx="315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Сумма денежных средст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Text Box 13"/>
            <p:cNvSpPr/>
            <p:nvPr/>
          </p:nvSpPr>
          <p:spPr>
            <a:xfrm rot="16200000">
              <a:off x="367920" y="2750400"/>
              <a:ext cx="21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Ставка процент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Text Box 14"/>
            <p:cNvSpPr/>
            <p:nvPr/>
          </p:nvSpPr>
          <p:spPr>
            <a:xfrm>
              <a:off x="1165680" y="4724280"/>
              <a:ext cx="54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Garamond"/>
                </a:rPr>
                <a:t>R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Text Box 15"/>
            <p:cNvSpPr/>
            <p:nvPr/>
          </p:nvSpPr>
          <p:spPr>
            <a:xfrm>
              <a:off x="3763440" y="5805360"/>
              <a:ext cx="56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Garamond"/>
                </a:rPr>
                <a:t>Q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Text Box 16"/>
            <p:cNvSpPr/>
            <p:nvPr/>
          </p:nvSpPr>
          <p:spPr>
            <a:xfrm>
              <a:off x="2293200" y="1916280"/>
              <a:ext cx="202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Спрос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на инвестици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 Box 17"/>
            <p:cNvSpPr/>
            <p:nvPr/>
          </p:nvSpPr>
          <p:spPr>
            <a:xfrm>
              <a:off x="5861880" y="1916280"/>
              <a:ext cx="178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Предложен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инвестици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WordArt 19"/>
          <p:cNvSpPr txBox="1"/>
          <p:nvPr/>
        </p:nvSpPr>
        <p:spPr>
          <a:xfrm rot="20622000">
            <a:off x="1619280" y="259920"/>
            <a:ext cx="7993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4606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7338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Формирование рыночной цены 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7338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2" name="AutoShape 22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nodeType="clickEffect" fill="hold">
                      <p:stCondLst>
                        <p:cond delay="0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eb0fe"/>
                </a:solidFill>
                <a:latin typeface="Century Gothic"/>
              </a:rPr>
              <a:t>Факторы, влияющие на оценку прибыльности фирмы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d9e22c"/>
                </a:solidFill>
                <a:latin typeface="Garamond"/>
              </a:rPr>
              <a:t>Инвестиционные расходы могут осуществляться либо разово, либо неоднократно на протяжении достаточно длительного периода времен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82ed47"/>
                </a:solidFill>
                <a:latin typeface="Garamond"/>
              </a:rPr>
              <a:t>Длителен процесс получения результатов от реализации инвестиционных процесс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e579dd"/>
                </a:solidFill>
                <a:latin typeface="Garamond"/>
              </a:rPr>
              <a:t>Осуществление длительных операций приводит к росту неопределенности при оценке всех аспектов инвестиций и риск ошибк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nodeType="clickEffect" fill="hold">
                      <p:stCondLst>
                        <p:cond delay="0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3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3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3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3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2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4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46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8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ff"/>
                </a:solidFill>
                <a:latin typeface="Monotype Corsiva"/>
              </a:rPr>
              <a:t>Девиз финансиста и бизнесмена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9" name="WordArt 24"/>
          <p:cNvSpPr txBox="1"/>
          <p:nvPr/>
        </p:nvSpPr>
        <p:spPr>
          <a:xfrm rot="21009000">
            <a:off x="2228760" y="1963800"/>
            <a:ext cx="597708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47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Рубль, полученный сегодня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стоит больше, чем рубль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полученный завтра.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0" name="AutoShape 26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nodeType="clickEffect" fill="hold">
                      <p:stCondLst>
                        <p:cond delay="0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961" nodeType="afterEffect" fill="hold" presetClass="path" presetID="1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.288 L -0.125 0.288 L 0 0 Z">
                                      <p:cBhvr>
                                        <p:cTn id="962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9"/>
          <p:cNvSpPr/>
          <p:nvPr/>
        </p:nvSpPr>
        <p:spPr>
          <a:xfrm>
            <a:off x="611280" y="1413000"/>
            <a:ext cx="7705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1f715"/>
                </a:solidFill>
                <a:latin typeface="Monotype Corsiva"/>
              </a:rPr>
              <a:t>Процесс расчета будущей стоимости средств, инвестируемой сегодня, является одной из разновидностей особого типа финансовых расчетов –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68616"/>
                </a:solidFill>
                <a:latin typeface="Garamond"/>
              </a:rPr>
              <a:t>дисконтиров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3" name="Group 11"/>
          <p:cNvGrpSpPr/>
          <p:nvPr/>
        </p:nvGrpSpPr>
        <p:grpSpPr>
          <a:xfrm>
            <a:off x="1692360" y="3051720"/>
            <a:ext cx="5761080" cy="882000"/>
            <a:chOff x="1692360" y="3051720"/>
            <a:chExt cx="5761080" cy="882000"/>
          </a:xfrm>
        </p:grpSpPr>
        <p:grpSp>
          <p:nvGrpSpPr>
            <p:cNvPr id="334" name="Group 8"/>
            <p:cNvGrpSpPr/>
            <p:nvPr/>
          </p:nvGrpSpPr>
          <p:grpSpPr>
            <a:xfrm>
              <a:off x="2511360" y="3051720"/>
              <a:ext cx="4322880" cy="804240"/>
              <a:chOff x="2511360" y="3051720"/>
              <a:chExt cx="4322880" cy="804240"/>
            </a:xfrm>
          </p:grpSpPr>
          <p:sp>
            <p:nvSpPr>
              <p:cNvPr id="335" name="Text Box 5"/>
              <p:cNvSpPr/>
              <p:nvPr/>
            </p:nvSpPr>
            <p:spPr>
              <a:xfrm>
                <a:off x="2511360" y="3068640"/>
                <a:ext cx="432288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Garamond"/>
                  </a:rPr>
                  <a:t>PV=FV</a:t>
                </a:r>
                <a:r>
                  <a:rPr b="1" i="1" lang="en-US" sz="4000" spc="-1" strike="noStrike" baseline="-25000">
                    <a:solidFill>
                      <a:srgbClr val="ff0000"/>
                    </a:solidFill>
                    <a:latin typeface="Garamond"/>
                  </a:rPr>
                  <a:t>n</a:t>
                </a:r>
                <a:r>
                  <a:rPr b="1" i="1" lang="en-US" sz="4000" spc="-1" strike="noStrike">
                    <a:solidFill>
                      <a:srgbClr val="ff0000"/>
                    </a:solidFill>
                    <a:latin typeface="Garamond"/>
                  </a:rPr>
                  <a:t>   1/(1+k)</a:t>
                </a:r>
                <a:r>
                  <a:rPr b="1" i="1" lang="en-US" sz="4000" spc="-1" strike="noStrike" baseline="30000">
                    <a:solidFill>
                      <a:srgbClr val="ff0000"/>
                    </a:solidFill>
                    <a:latin typeface="Garamond"/>
                  </a:rPr>
                  <a:t>n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Text Box 6"/>
              <p:cNvSpPr/>
              <p:nvPr/>
            </p:nvSpPr>
            <p:spPr>
              <a:xfrm rot="18938400">
                <a:off x="4429800" y="32126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Garamond"/>
                  </a:rPr>
                  <a:t>+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7" name="Rectangle 10"/>
            <p:cNvSpPr/>
            <p:nvPr/>
          </p:nvSpPr>
          <p:spPr>
            <a:xfrm>
              <a:off x="1692360" y="3068640"/>
              <a:ext cx="5761080" cy="865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8" name="Group 14"/>
          <p:cNvGrpSpPr/>
          <p:nvPr/>
        </p:nvGrpSpPr>
        <p:grpSpPr>
          <a:xfrm>
            <a:off x="1692360" y="4941720"/>
            <a:ext cx="5688000" cy="936720"/>
            <a:chOff x="1692360" y="4941720"/>
            <a:chExt cx="5688000" cy="936720"/>
          </a:xfrm>
        </p:grpSpPr>
        <p:sp>
          <p:nvSpPr>
            <p:cNvPr id="339" name="Text Box 12"/>
            <p:cNvSpPr/>
            <p:nvPr/>
          </p:nvSpPr>
          <p:spPr>
            <a:xfrm>
              <a:off x="2858400" y="5014800"/>
              <a:ext cx="3297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Garamond"/>
                </a:rPr>
                <a:t>FV=PV(1+k)</a:t>
              </a:r>
              <a:r>
                <a:rPr b="1" i="1" lang="en-US" sz="4000" spc="-1" strike="noStrike" baseline="30000">
                  <a:solidFill>
                    <a:srgbClr val="ff0000"/>
                  </a:solidFill>
                  <a:latin typeface="Garamond"/>
                </a:rPr>
                <a:t>n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13"/>
            <p:cNvSpPr/>
            <p:nvPr/>
          </p:nvSpPr>
          <p:spPr>
            <a:xfrm>
              <a:off x="1692360" y="4941720"/>
              <a:ext cx="5688000" cy="936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Text Box 15"/>
          <p:cNvSpPr/>
          <p:nvPr/>
        </p:nvSpPr>
        <p:spPr>
          <a:xfrm>
            <a:off x="-627120" y="4149720"/>
            <a:ext cx="10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f715"/>
                </a:solidFill>
                <a:latin typeface="Garamond"/>
              </a:rPr>
              <a:t>Обратная формула. Показывает будущую стоимость вкла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1036800" y="6073920"/>
            <a:ext cx="699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8616"/>
                </a:solidFill>
                <a:latin typeface="Comic Sans MS"/>
              </a:rPr>
              <a:t>FV</a:t>
            </a:r>
            <a:r>
              <a:rPr b="0" lang="ru-RU" sz="2000" spc="-1" strike="noStrike">
                <a:solidFill>
                  <a:srgbClr val="f68616"/>
                </a:solidFill>
                <a:latin typeface="Comic Sans MS"/>
              </a:rPr>
              <a:t> – стоимость вклада, </a:t>
            </a:r>
            <a:r>
              <a:rPr b="0" lang="en-US" sz="2000" spc="-1" strike="noStrike">
                <a:solidFill>
                  <a:srgbClr val="f68616"/>
                </a:solidFill>
                <a:latin typeface="Comic Sans MS"/>
              </a:rPr>
              <a:t>PV</a:t>
            </a:r>
            <a:r>
              <a:rPr b="0" lang="ru-RU" sz="2000" spc="-1" strike="noStrike">
                <a:solidFill>
                  <a:srgbClr val="f68616"/>
                </a:solidFill>
                <a:latin typeface="Comic Sans MS"/>
              </a:rPr>
              <a:t> – текущая ценность вклад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8616"/>
                </a:solidFill>
                <a:latin typeface="Comic Sans MS"/>
              </a:rPr>
              <a:t>n</a:t>
            </a:r>
            <a:r>
              <a:rPr b="0" lang="ru-RU" sz="2000" spc="-1" strike="noStrike">
                <a:solidFill>
                  <a:srgbClr val="f68616"/>
                </a:solidFill>
                <a:latin typeface="Comic Sans MS"/>
              </a:rPr>
              <a:t> – период времени,</a:t>
            </a:r>
            <a:r>
              <a:rPr b="0" lang="en-US" sz="2000" spc="-1" strike="noStrike">
                <a:solidFill>
                  <a:srgbClr val="f68616"/>
                </a:solidFill>
                <a:latin typeface="Comic Sans MS"/>
              </a:rPr>
              <a:t> k</a:t>
            </a:r>
            <a:r>
              <a:rPr b="0" lang="ru-RU" sz="2000" spc="-1" strike="noStrike">
                <a:solidFill>
                  <a:srgbClr val="f68616"/>
                </a:solidFill>
                <a:latin typeface="Comic Sans MS"/>
              </a:rPr>
              <a:t>- величина дох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WordArt 17"/>
          <p:cNvSpPr txBox="1"/>
          <p:nvPr/>
        </p:nvSpPr>
        <p:spPr>
          <a:xfrm rot="20707200">
            <a:off x="2268000" y="333000"/>
            <a:ext cx="47469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Дисконтирова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" name="AutoShape 20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nodeType="clickEffect" fill="hold">
                      <p:stCondLst>
                        <p:cond delay="0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3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5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8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9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2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2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258920" y="1197000"/>
            <a:ext cx="6626160" cy="21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ff"/>
                </a:solidFill>
                <a:latin typeface="Comic Sans MS"/>
              </a:rPr>
              <a:t>Для того, чтобы любая фирма могла осуществить свою коммерческую деятельность, ей нужно собрать воедино все необходимые виды ресурсов: труд, капитал, землю, предпринимательские способности. Один из этих ресурсов, а именно капитал, можно приобрести на рынке капитал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395280" y="4365720"/>
            <a:ext cx="8424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Impact"/>
              </a:rPr>
              <a:t>Рынок капитала -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00ff00"/>
                </a:solidFill>
                <a:latin typeface="Comic Sans MS"/>
              </a:rPr>
              <a:t>рынок, на котором продаются финансовые ресурсы, необходимые для организации коммерческой деятельности фир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2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5f741"/>
                </a:solidFill>
                <a:latin typeface="Garamond"/>
              </a:rPr>
              <a:t>Срок отвлечения средств</a:t>
            </a:r>
            <a:r>
              <a:rPr b="0" i="1" lang="ru-RU" sz="2800" spc="-1" strike="noStrike">
                <a:solidFill>
                  <a:srgbClr val="a5f741"/>
                </a:solidFill>
                <a:latin typeface="Garamond"/>
              </a:rPr>
              <a:t> –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3eb0fe"/>
                </a:solidFill>
                <a:latin typeface="Garamond"/>
              </a:rPr>
              <a:t>время, в течение которого инвестор не сможет свободно распоряжаться своими денежными средствами, так как они будут находиться в пользовании фирмы, получившей их для финансирования инвестици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5f741"/>
                </a:solidFill>
                <a:latin typeface="Garamond"/>
              </a:rPr>
              <a:t>Риск инвестирования</a:t>
            </a:r>
            <a:r>
              <a:rPr b="0" i="1" lang="ru-RU" sz="2800" spc="-1" strike="noStrike">
                <a:solidFill>
                  <a:srgbClr val="a5f741"/>
                </a:solidFill>
                <a:latin typeface="Garamond"/>
              </a:rPr>
              <a:t> –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3eb0fe"/>
                </a:solidFill>
                <a:latin typeface="Garamond"/>
              </a:rPr>
              <a:t>поддающаяся оценке вероятность потери инвестированных средств или неполучение по ним ожидаемого доход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7" name="WordArt 5"/>
          <p:cNvSpPr txBox="1"/>
          <p:nvPr/>
        </p:nvSpPr>
        <p:spPr>
          <a:xfrm>
            <a:off x="1476360" y="404640"/>
            <a:ext cx="5969160" cy="88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514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Формирование предложения</a:t>
            </a:r>
            <a:endParaRPr b="0" lang="en-US" sz="1800" spc="1" strike="noStrike">
              <a:ln w="12600">
                <a:solidFill>
                  <a:srgbClr val="000514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8" name="AutoShape 7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nodeType="clickEffect" fill="hold">
                      <p:stCondLst>
                        <p:cond delay="0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6" nodeType="afterEffect" fill="hold" presetClass="entr" presetID="5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2"/>
          <p:cNvSpPr/>
          <p:nvPr/>
        </p:nvSpPr>
        <p:spPr>
          <a:xfrm>
            <a:off x="5076720" y="1628640"/>
            <a:ext cx="302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f741"/>
                </a:solidFill>
                <a:latin typeface="Garamond"/>
              </a:rPr>
              <a:t>Зависимость ставки процента за пользование привлеченными средствами от срока пользования и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13"/>
          <p:cNvSpPr/>
          <p:nvPr/>
        </p:nvSpPr>
        <p:spPr>
          <a:xfrm>
            <a:off x="1042920" y="4869000"/>
            <a:ext cx="2900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6ae8"/>
                </a:solidFill>
                <a:latin typeface="Garamond"/>
              </a:rPr>
              <a:t>Зависимость ставки процента за пользование привлеченными средствами от риска инвестир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Group 19"/>
          <p:cNvGrpSpPr/>
          <p:nvPr/>
        </p:nvGrpSpPr>
        <p:grpSpPr>
          <a:xfrm>
            <a:off x="539640" y="1067760"/>
            <a:ext cx="3974400" cy="3377160"/>
            <a:chOff x="539640" y="1067760"/>
            <a:chExt cx="3974400" cy="3377160"/>
          </a:xfrm>
        </p:grpSpPr>
        <p:grpSp>
          <p:nvGrpSpPr>
            <p:cNvPr id="353" name="Group 11"/>
            <p:cNvGrpSpPr/>
            <p:nvPr/>
          </p:nvGrpSpPr>
          <p:grpSpPr>
            <a:xfrm>
              <a:off x="971280" y="1125360"/>
              <a:ext cx="3168720" cy="2879640"/>
              <a:chOff x="971280" y="1125360"/>
              <a:chExt cx="3168720" cy="2879640"/>
            </a:xfrm>
          </p:grpSpPr>
          <p:sp>
            <p:nvSpPr>
              <p:cNvPr id="354" name="Line 4"/>
              <p:cNvSpPr/>
              <p:nvPr/>
            </p:nvSpPr>
            <p:spPr>
              <a:xfrm flipV="1">
                <a:off x="971280" y="1192320"/>
                <a:ext cx="0" cy="2811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5"/>
              <p:cNvSpPr/>
              <p:nvPr/>
            </p:nvSpPr>
            <p:spPr>
              <a:xfrm>
                <a:off x="971280" y="4005000"/>
                <a:ext cx="3168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Arc 6"/>
              <p:cNvSpPr/>
              <p:nvPr/>
            </p:nvSpPr>
            <p:spPr>
              <a:xfrm rot="5400000">
                <a:off x="1117440" y="1176840"/>
                <a:ext cx="2492280" cy="2388960"/>
              </a:xfrm>
              <a:custGeom>
                <a:avLst/>
                <a:gdLst/>
                <a:ahLst/>
                <a:rect l="l" t="t" r="r" b="b"/>
                <a:pathLst>
                  <a:path fill="none" w="21600" h="21556">
                    <a:moveTo>
                      <a:pt x="1375" y="-1"/>
                    </a:moveTo>
                    <a:cubicBezTo>
                      <a:pt x="12747" y="725"/>
                      <a:pt x="21600" y="10160"/>
                      <a:pt x="21600" y="21556"/>
                    </a:cubicBezTo>
                  </a:path>
                  <a:path stroke="0" w="21600" h="21556">
                    <a:moveTo>
                      <a:pt x="1375" y="-1"/>
                    </a:moveTo>
                    <a:cubicBezTo>
                      <a:pt x="12747" y="725"/>
                      <a:pt x="21600" y="10160"/>
                      <a:pt x="21600" y="21556"/>
                    </a:cubicBezTo>
                    <a:lnTo>
                      <a:pt x="0" y="21556"/>
                    </a:lnTo>
                    <a:lnTo>
                      <a:pt x="1375" y="-1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7" name="Text Box 14"/>
            <p:cNvSpPr/>
            <p:nvPr/>
          </p:nvSpPr>
          <p:spPr>
            <a:xfrm>
              <a:off x="1413360" y="4076640"/>
              <a:ext cx="31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a5f741"/>
                  </a:solidFill>
                  <a:latin typeface="Garamond"/>
                </a:rPr>
                <a:t>Срок отвлечения</a:t>
              </a:r>
              <a:r>
                <a:rPr b="0" lang="ru-RU" sz="18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ru-RU" sz="1800" spc="-1" strike="noStrike">
                  <a:solidFill>
                    <a:srgbClr val="a5f741"/>
                  </a:solidFill>
                  <a:latin typeface="Garamond"/>
                </a:rPr>
                <a:t>средст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Text Box 15"/>
            <p:cNvSpPr/>
            <p:nvPr/>
          </p:nvSpPr>
          <p:spPr>
            <a:xfrm rot="16200000">
              <a:off x="-350640" y="1958400"/>
              <a:ext cx="21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a5f741"/>
                  </a:solidFill>
                  <a:latin typeface="Garamond"/>
                </a:rPr>
                <a:t>Ставка процент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Group 18"/>
          <p:cNvGrpSpPr/>
          <p:nvPr/>
        </p:nvGrpSpPr>
        <p:grpSpPr>
          <a:xfrm>
            <a:off x="4500720" y="3683160"/>
            <a:ext cx="4124880" cy="3176280"/>
            <a:chOff x="4500720" y="3683160"/>
            <a:chExt cx="4124880" cy="3176280"/>
          </a:xfrm>
        </p:grpSpPr>
        <p:grpSp>
          <p:nvGrpSpPr>
            <p:cNvPr id="360" name="Group 10"/>
            <p:cNvGrpSpPr/>
            <p:nvPr/>
          </p:nvGrpSpPr>
          <p:grpSpPr>
            <a:xfrm>
              <a:off x="4932360" y="3683160"/>
              <a:ext cx="3528720" cy="2808000"/>
              <a:chOff x="4932360" y="3683160"/>
              <a:chExt cx="3528720" cy="2808000"/>
            </a:xfrm>
          </p:grpSpPr>
          <p:sp>
            <p:nvSpPr>
              <p:cNvPr id="361" name="Line 7"/>
              <p:cNvSpPr/>
              <p:nvPr/>
            </p:nvSpPr>
            <p:spPr>
              <a:xfrm flipV="1">
                <a:off x="4932360" y="3683160"/>
                <a:ext cx="0" cy="2808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8"/>
              <p:cNvSpPr/>
              <p:nvPr/>
            </p:nvSpPr>
            <p:spPr>
              <a:xfrm>
                <a:off x="4932360" y="6491160"/>
                <a:ext cx="3528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Arc 9"/>
              <p:cNvSpPr/>
              <p:nvPr/>
            </p:nvSpPr>
            <p:spPr>
              <a:xfrm rot="5633400">
                <a:off x="5297760" y="3846960"/>
                <a:ext cx="2360160" cy="22852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4" name="Text Box 16"/>
            <p:cNvSpPr/>
            <p:nvPr/>
          </p:nvSpPr>
          <p:spPr>
            <a:xfrm rot="16200000">
              <a:off x="3610080" y="4588920"/>
              <a:ext cx="21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26ae8"/>
                  </a:solidFill>
                  <a:latin typeface="Garamond"/>
                </a:rPr>
                <a:t>Ставка процент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Text Box 17"/>
            <p:cNvSpPr/>
            <p:nvPr/>
          </p:nvSpPr>
          <p:spPr>
            <a:xfrm>
              <a:off x="5893560" y="6491160"/>
              <a:ext cx="27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26ae8"/>
                  </a:solidFill>
                  <a:latin typeface="Garamond"/>
                </a:rPr>
                <a:t>Риск инвестиров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21044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7af8"/>
                </a:solidFill>
                <a:latin typeface="Comic Sans MS"/>
              </a:rPr>
              <a:t>Предложение на рынке капитал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7" name="AutoShape 2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nodeType="clickEffect" fill="hold">
                      <p:stCondLst>
                        <p:cond delay="0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2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6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2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eb0fe"/>
                </a:solidFill>
                <a:latin typeface="Monotype Corsiva"/>
              </a:rPr>
              <a:t>Железное правило рынка капитала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0" name="WordArt 16"/>
          <p:cNvSpPr txBox="1"/>
          <p:nvPr/>
        </p:nvSpPr>
        <p:spPr>
          <a:xfrm>
            <a:off x="684360" y="1844640"/>
            <a:ext cx="7559640" cy="44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Чем выше риск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инвестиций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тем больши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доход он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должн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обеспечиват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1" name="AutoShape 18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nodeType="clickEffect" fill="hold">
                      <p:stCondLst>
                        <p:cond delay="0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6" dur="250" autoRev="1" fill="hold"/>
                                        <p:tgtEl>
                                          <p:spTgt spid="3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f33e"/>
                </a:solidFill>
                <a:latin typeface="Book Antiqua"/>
              </a:rPr>
              <a:t>Список литератур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Monotype Corsiva"/>
              </a:rPr>
              <a:t>И.В.Липсиц</a:t>
            </a:r>
            <a:r>
              <a:rPr b="0" lang="ru-RU" sz="32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9900"/>
                </a:solidFill>
                <a:latin typeface="Garamond"/>
              </a:rPr>
              <a:t>«Экономика»,</a:t>
            </a:r>
            <a:r>
              <a:rPr b="0" lang="ru-RU" sz="32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9900"/>
                </a:solidFill>
                <a:latin typeface="Comic Sans MS"/>
              </a:rPr>
              <a:t>книга 2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9900"/>
                </a:solidFill>
                <a:latin typeface="Comic Sans MS"/>
              </a:rPr>
              <a:t>изд. Вита пресс Москва 2006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Monotype Corsiva"/>
              </a:rPr>
              <a:t>Г.К.Журавлева</a:t>
            </a:r>
            <a:r>
              <a:rPr b="0" lang="ru-RU" sz="3200" spc="-1" strike="noStrike">
                <a:solidFill>
                  <a:srgbClr val="ff66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66ff"/>
                </a:solidFill>
                <a:latin typeface="Garamond"/>
              </a:rPr>
              <a:t>«Экономика»</a:t>
            </a:r>
            <a:r>
              <a:rPr b="0" lang="ru-RU" sz="3200" spc="-1" strike="noStrike">
                <a:solidFill>
                  <a:srgbClr val="ff66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66ff"/>
                </a:solidFill>
                <a:latin typeface="Comic Sans MS"/>
              </a:rPr>
              <a:t>изд. Юристъ 2004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5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nodeType="clickEffect" fill="hold">
                      <p:stCondLst>
                        <p:cond delay="0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WordArt 4"/>
          <p:cNvSpPr txBox="1"/>
          <p:nvPr/>
        </p:nvSpPr>
        <p:spPr>
          <a:xfrm>
            <a:off x="1042920" y="1700280"/>
            <a:ext cx="7632720" cy="25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nodeType="clickEffect" fill="hold">
                      <p:stCondLst>
                        <p:cond delay="0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2" nodeType="afterEffect" fill="hold" presetClass="exit" presetID="3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2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2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04360" y="1657440"/>
            <a:ext cx="80629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b561"/>
                </a:solidFill>
                <a:latin typeface="Jokerman LET"/>
              </a:rPr>
              <a:t>Виды капитала</a:t>
            </a:r>
            <a:r>
              <a:rPr b="0" lang="ru-RU" sz="2800" spc="-1" strike="noStrike">
                <a:solidFill>
                  <a:srgbClr val="dfb561"/>
                </a:solidFill>
                <a:latin typeface="Jokerman LET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ff"/>
                </a:solidFill>
                <a:latin typeface="University Roman LET"/>
              </a:rPr>
              <a:t>Физический капитал-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7afa95"/>
                </a:solidFill>
                <a:latin typeface="Comic Sans MS"/>
              </a:rPr>
              <a:t>здания, сооружения, машины, мелиоративные системы, используемые для превращения с помощью технологий природных веществ в полезные людьми благ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ff"/>
                </a:solidFill>
                <a:latin typeface="Cataneo BT"/>
              </a:rPr>
              <a:t>Невещественный (незримый) капитал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</a:t>
            </a:r>
            <a:r>
              <a:rPr b="0" lang="ru-RU" sz="2400" spc="-1" strike="noStrike">
                <a:solidFill>
                  <a:srgbClr val="7afa95"/>
                </a:solidFill>
                <a:latin typeface="Comic Sans MS"/>
              </a:rPr>
              <a:t>знания, умения и информация, которые могут быть длительно использованы для производства благ и их продаж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WordArt 41"/>
          <p:cNvSpPr txBox="1"/>
          <p:nvPr/>
        </p:nvSpPr>
        <p:spPr>
          <a:xfrm>
            <a:off x="468360" y="476280"/>
            <a:ext cx="806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72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b7bb1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bcd39"/>
                  </a:outerShdw>
                </a:effectLst>
                <a:latin typeface="Impact"/>
              </a:rPr>
              <a:t>Сбережения и их превращение в капита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b7bb11"/>
                  </a:gs>
                </a:gsLst>
                <a:lin ang="5400000"/>
              </a:gradFill>
              <a:effectLst>
                <a:outerShdw dist="17819" dir="2700000" blurRad="0" rotWithShape="0">
                  <a:srgbClr val="0bcd3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AutoShape 43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755280" y="1557360"/>
            <a:ext cx="786924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65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cd6cf"/>
                </a:solidFill>
                <a:latin typeface="Monotype Corsiva"/>
              </a:rPr>
              <a:t>Общая проблема всех фирм: Как добыть денежный капитал, на который можно приобрести капитал физический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Garamond"/>
              </a:rPr>
              <a:t>Это способствовало к образованию особого рынка, на котором покупаются именно денежные средства для коммерческой деятельности,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lang="ru-RU" sz="2800" spc="-1" strike="noStrike">
                <a:solidFill>
                  <a:srgbClr val="00ccff"/>
                </a:solidFill>
                <a:latin typeface="Comic Sans MS"/>
              </a:rPr>
              <a:t>рынка денежного капитала, или </a:t>
            </a:r>
            <a:r>
              <a:rPr b="1" lang="ru-RU" sz="3200" spc="-1" strike="noStrike">
                <a:solidFill>
                  <a:srgbClr val="00ccff"/>
                </a:solidFill>
                <a:latin typeface="Comic Sans MS"/>
              </a:rPr>
              <a:t>рынка капитала</a:t>
            </a:r>
            <a:r>
              <a:rPr b="0" lang="ru-RU" sz="3200" spc="-1" strike="noStrike">
                <a:solidFill>
                  <a:srgbClr val="00ccff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755640" y="1268280"/>
            <a:ext cx="7343640" cy="180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6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animScale>
                                      <p:cBhvr>
                                        <p:cTn id="143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4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5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6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940"/>
                            </p:stCondLst>
                            <p:childTnLst>
                              <p:par>
                                <p:cTn id="148" nodeType="afterEffect" fill="hold" presetClass="emph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250" autoRev="1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b561"/>
                </a:solidFill>
                <a:latin typeface="Monotype Corsiva"/>
              </a:rPr>
              <a:t>Если под капиталом понимать физический капитал (станки, здания, запасы, и т.д.), то рынок капитала –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99ccff"/>
                </a:solidFill>
                <a:latin typeface="Monotype Corsiva"/>
              </a:rPr>
              <a:t>это часть рынка факторов производства наряду с рынком труда и земл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b561"/>
                </a:solidFill>
                <a:latin typeface="Monotype Corsiva"/>
              </a:rPr>
              <a:t>Если под капиталом на рынке финансов понимать денежный капитал,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99ccff"/>
                </a:solidFill>
                <a:latin typeface="Monotype Corsiva"/>
              </a:rPr>
              <a:t>то рынок капитала выступает составной частью рынка ссудных капитал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72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>
                    <a:alphaModFix amt="90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0bcd39"/>
                  </a:outerShdw>
                </a:effectLst>
                <a:latin typeface="Impact"/>
              </a:rPr>
              <a:t>Варианты трактовки рынка капитала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>
                  <a:alphaModFix amt="90000"/>
                </a:blip>
                <a:srcRect/>
                <a:stretch/>
              </a:blipFill>
              <a:effectLst>
                <a:outerShdw dist="17819" dir="2700000" blurRad="0" rotWithShape="0">
                  <a:srgbClr val="0bcd3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AutoShape 7">
            <a:hlinkClick r:id="rId3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2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" nodeType="afterEffect" fill="hold" presetClass="exit" presetID="52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8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2604960" y="1125360"/>
            <a:ext cx="3786480" cy="981360"/>
          </a:xfrm>
          <a:prstGeom prst="rect">
            <a:avLst/>
          </a:prstGeom>
          <a:gradFill rotWithShape="0">
            <a:gsLst>
              <a:gs pos="0">
                <a:srgbClr val="78eeeb"/>
              </a:gs>
              <a:gs pos="100000">
                <a:srgbClr val="386e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Рынок ссудного капит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270000" y="3094200"/>
            <a:ext cx="3544920" cy="1158840"/>
          </a:xfrm>
          <a:prstGeom prst="rect">
            <a:avLst/>
          </a:prstGeom>
          <a:gradFill rotWithShape="0">
            <a:gsLst>
              <a:gs pos="0">
                <a:srgbClr val="78eeeb"/>
              </a:gs>
              <a:gs pos="100000">
                <a:srgbClr val="386e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Денежный ры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5102280" y="3094200"/>
            <a:ext cx="3867120" cy="1158840"/>
          </a:xfrm>
          <a:prstGeom prst="rect">
            <a:avLst/>
          </a:prstGeom>
          <a:gradFill rotWithShape="0">
            <a:gsLst>
              <a:gs pos="0">
                <a:srgbClr val="78eeeb"/>
              </a:gs>
              <a:gs pos="100000">
                <a:srgbClr val="386e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Рынок капит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2644920" y="5234040"/>
            <a:ext cx="2979720" cy="1158840"/>
          </a:xfrm>
          <a:prstGeom prst="rect">
            <a:avLst/>
          </a:prstGeom>
          <a:gradFill rotWithShape="0">
            <a:gsLst>
              <a:gs pos="0">
                <a:srgbClr val="78eeeb"/>
              </a:gs>
              <a:gs pos="100000">
                <a:srgbClr val="386e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Ипотечный ры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6321600" y="5234040"/>
            <a:ext cx="2822400" cy="1158840"/>
          </a:xfrm>
          <a:prstGeom prst="rect">
            <a:avLst/>
          </a:prstGeom>
          <a:gradFill rotWithShape="0">
            <a:gsLst>
              <a:gs pos="0">
                <a:srgbClr val="78eeeb"/>
              </a:gs>
              <a:gs pos="100000">
                <a:srgbClr val="386e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Финансовый ры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4"/>
          <p:cNvSpPr/>
          <p:nvPr/>
        </p:nvSpPr>
        <p:spPr>
          <a:xfrm flipH="1">
            <a:off x="2744280" y="2111400"/>
            <a:ext cx="498600" cy="904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5"/>
          <p:cNvSpPr/>
          <p:nvPr/>
        </p:nvSpPr>
        <p:spPr>
          <a:xfrm>
            <a:off x="5397480" y="2104920"/>
            <a:ext cx="573120" cy="911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6"/>
          <p:cNvSpPr/>
          <p:nvPr/>
        </p:nvSpPr>
        <p:spPr>
          <a:xfrm flipH="1">
            <a:off x="4919400" y="4280040"/>
            <a:ext cx="561960" cy="911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7"/>
          <p:cNvSpPr/>
          <p:nvPr/>
        </p:nvSpPr>
        <p:spPr>
          <a:xfrm>
            <a:off x="6742080" y="4280040"/>
            <a:ext cx="561960" cy="911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20"/>
          <p:cNvSpPr/>
          <p:nvPr/>
        </p:nvSpPr>
        <p:spPr>
          <a:xfrm flipH="1">
            <a:off x="2556000" y="2133720"/>
            <a:ext cx="792000" cy="863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21"/>
          <p:cNvSpPr/>
          <p:nvPr/>
        </p:nvSpPr>
        <p:spPr>
          <a:xfrm>
            <a:off x="5292720" y="2133720"/>
            <a:ext cx="647640" cy="863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22"/>
          <p:cNvSpPr/>
          <p:nvPr/>
        </p:nvSpPr>
        <p:spPr>
          <a:xfrm flipH="1">
            <a:off x="4643280" y="4292640"/>
            <a:ext cx="936720" cy="9367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23"/>
          <p:cNvSpPr/>
          <p:nvPr/>
        </p:nvSpPr>
        <p:spPr>
          <a:xfrm>
            <a:off x="6877080" y="4292640"/>
            <a:ext cx="790560" cy="9367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25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32"/>
          <p:cNvGrpSpPr/>
          <p:nvPr/>
        </p:nvGrpSpPr>
        <p:grpSpPr>
          <a:xfrm>
            <a:off x="1607400" y="2365560"/>
            <a:ext cx="5457960" cy="4493520"/>
            <a:chOff x="1607400" y="2365560"/>
            <a:chExt cx="5457960" cy="4493520"/>
          </a:xfrm>
        </p:grpSpPr>
        <p:sp>
          <p:nvSpPr>
            <p:cNvPr id="150" name="Text Box 17"/>
            <p:cNvSpPr/>
            <p:nvPr/>
          </p:nvSpPr>
          <p:spPr>
            <a:xfrm>
              <a:off x="1607400" y="5552640"/>
              <a:ext cx="56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8d88b"/>
                  </a:solidFill>
                  <a:latin typeface="Garamond"/>
                </a:rPr>
                <a:t>П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1" name="Group 31"/>
            <p:cNvGrpSpPr/>
            <p:nvPr/>
          </p:nvGrpSpPr>
          <p:grpSpPr>
            <a:xfrm>
              <a:off x="1777680" y="2365560"/>
              <a:ext cx="5287680" cy="4493520"/>
              <a:chOff x="1777680" y="2365560"/>
              <a:chExt cx="5287680" cy="4493520"/>
            </a:xfrm>
          </p:grpSpPr>
          <p:sp>
            <p:nvSpPr>
              <p:cNvPr id="152" name="Line 11"/>
              <p:cNvSpPr/>
              <p:nvPr/>
            </p:nvSpPr>
            <p:spPr>
              <a:xfrm flipV="1">
                <a:off x="2235960" y="2664720"/>
                <a:ext cx="1800" cy="3826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12"/>
              <p:cNvSpPr/>
              <p:nvPr/>
            </p:nvSpPr>
            <p:spPr>
              <a:xfrm>
                <a:off x="2235960" y="6490800"/>
                <a:ext cx="464040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Arc 13"/>
              <p:cNvSpPr/>
              <p:nvPr/>
            </p:nvSpPr>
            <p:spPr>
              <a:xfrm>
                <a:off x="2235960" y="3055680"/>
                <a:ext cx="3170520" cy="26550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Line 14"/>
              <p:cNvSpPr/>
              <p:nvPr/>
            </p:nvSpPr>
            <p:spPr>
              <a:xfrm>
                <a:off x="2235960" y="5710680"/>
                <a:ext cx="425340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Text Box 15"/>
              <p:cNvSpPr/>
              <p:nvPr/>
            </p:nvSpPr>
            <p:spPr>
              <a:xfrm rot="16200000">
                <a:off x="331200" y="3811680"/>
                <a:ext cx="326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68d88b"/>
                    </a:solidFill>
                    <a:latin typeface="Garamond"/>
                  </a:rPr>
                  <a:t>Потребление в настоящем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Text Box 16"/>
              <p:cNvSpPr/>
              <p:nvPr/>
            </p:nvSpPr>
            <p:spPr>
              <a:xfrm>
                <a:off x="4063680" y="6490800"/>
                <a:ext cx="3001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68d88b"/>
                    </a:solidFill>
                    <a:latin typeface="Garamond"/>
                  </a:rPr>
                  <a:t>Потребление в будущем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Text Box 18"/>
              <p:cNvSpPr/>
              <p:nvPr/>
            </p:nvSpPr>
            <p:spPr>
              <a:xfrm>
                <a:off x="2313000" y="2664720"/>
                <a:ext cx="34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68d88b"/>
                    </a:solidFill>
                    <a:latin typeface="Garamond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Text Box 19"/>
              <p:cNvSpPr/>
              <p:nvPr/>
            </p:nvSpPr>
            <p:spPr>
              <a:xfrm>
                <a:off x="5404680" y="524232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68d88b"/>
                    </a:solidFill>
                    <a:latin typeface="Garamond"/>
                  </a:rPr>
                  <a:t>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27"/>
              <p:cNvSpPr/>
              <p:nvPr/>
            </p:nvSpPr>
            <p:spPr>
              <a:xfrm flipH="1">
                <a:off x="5330160" y="5710680"/>
                <a:ext cx="76320" cy="780120"/>
              </a:xfrm>
              <a:custGeom>
                <a:avLst/>
                <a:gdLst/>
                <a:ahLst/>
                <a:rect l="l" t="t" r="r" b="b"/>
                <a:pathLst>
                  <a:path w="1" h="453">
                    <a:moveTo>
                      <a:pt x="0" y="0"/>
                    </a:moveTo>
                    <a:cubicBezTo>
                      <a:pt x="0" y="0"/>
                      <a:pt x="0" y="226"/>
                      <a:pt x="0" y="45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Text Box 29"/>
          <p:cNvSpPr/>
          <p:nvPr/>
        </p:nvSpPr>
        <p:spPr>
          <a:xfrm>
            <a:off x="4788000" y="2492280"/>
            <a:ext cx="40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8d88b"/>
                </a:solidFill>
                <a:latin typeface="Cataneo BT"/>
              </a:rPr>
              <a:t>Сбережения как выбор между текущим и будущи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8d88b"/>
                </a:solidFill>
                <a:latin typeface="Cataneo BT"/>
              </a:rPr>
              <a:t>уровнями потребл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30"/>
          <p:cNvSpPr/>
          <p:nvPr/>
        </p:nvSpPr>
        <p:spPr>
          <a:xfrm>
            <a:off x="324000" y="1125360"/>
            <a:ext cx="8496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b6f6"/>
                </a:solidFill>
                <a:latin typeface="Century Gothic"/>
              </a:rPr>
              <a:t>Создавая сбережения, семьи ограничивают свое текущее потребление, ради увеличения потребления в будущем</a:t>
            </a:r>
            <a:r>
              <a:rPr b="0" lang="ru-RU" sz="2800" spc="-1" strike="noStrike">
                <a:solidFill>
                  <a:srgbClr val="42b6f6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34"/>
          <p:cNvSpPr txBox="1"/>
          <p:nvPr/>
        </p:nvSpPr>
        <p:spPr>
          <a:xfrm rot="210000">
            <a:off x="1187280" y="0"/>
            <a:ext cx="6409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95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бережения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95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AutoShape 36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60"/>
                            </p:stCondLst>
                            <p:childTnLst>
                              <p:par>
                                <p:cTn id="26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250" autoRev="1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animClr clrSpc="rgb">
                                      <p:cBhvr>
                                        <p:cTn id="264" dur="250" autoRev="1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265" dur="250" autoRev="1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0" y="2852280"/>
            <a:ext cx="4105440" cy="9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Garamond"/>
              </a:rPr>
              <a:t>Если семья делает выбор в пользу текущего потребления, т.е. ничего не откладывает, то она достигает наивысшего уровня потребления в настоящем(точка А). При этом уровень ее потребления в будущем нисколько не возрастет по сравнению с текущим моментом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Garamond"/>
              </a:rPr>
              <a:t>Напротив, семья, максимально ориентированная на сбережения, направляет на эти цели все средства сверх стоимости прожиточного минимума(линия ПМ). И тогда ее текущее потребление снижается именно до прожиточного минимума. Но зато в будущем она сможет резко повысить свое потребление(точка В). Например, ей будет по силам приобрести те дорогостоящие блага, о которых не сможет и мечтать семья, живущая только сегодняшним днем.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67" name="Group 7"/>
          <p:cNvGrpSpPr/>
          <p:nvPr/>
        </p:nvGrpSpPr>
        <p:grpSpPr>
          <a:xfrm>
            <a:off x="-1440" y="732240"/>
            <a:ext cx="4980240" cy="4412880"/>
            <a:chOff x="-1440" y="732240"/>
            <a:chExt cx="4980240" cy="4412880"/>
          </a:xfrm>
        </p:grpSpPr>
        <p:sp>
          <p:nvSpPr>
            <p:cNvPr id="168" name="Text Box 8"/>
            <p:cNvSpPr/>
            <p:nvPr/>
          </p:nvSpPr>
          <p:spPr>
            <a:xfrm>
              <a:off x="-1440" y="391824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cc00"/>
                  </a:solidFill>
                  <a:latin typeface="Cataneo BT"/>
                </a:rPr>
                <a:t>П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" name="Group 9"/>
            <p:cNvGrpSpPr/>
            <p:nvPr/>
          </p:nvGrpSpPr>
          <p:grpSpPr>
            <a:xfrm>
              <a:off x="145440" y="732240"/>
              <a:ext cx="4833360" cy="4412880"/>
              <a:chOff x="145440" y="732240"/>
              <a:chExt cx="4833360" cy="4412880"/>
            </a:xfrm>
          </p:grpSpPr>
          <p:sp>
            <p:nvSpPr>
              <p:cNvPr id="170" name="Line 10"/>
              <p:cNvSpPr/>
              <p:nvPr/>
            </p:nvSpPr>
            <p:spPr>
              <a:xfrm flipV="1">
                <a:off x="505800" y="1266120"/>
                <a:ext cx="1440" cy="3504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Line 11"/>
              <p:cNvSpPr/>
              <p:nvPr/>
            </p:nvSpPr>
            <p:spPr>
              <a:xfrm>
                <a:off x="505800" y="4765680"/>
                <a:ext cx="3809160" cy="1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Arc 12"/>
              <p:cNvSpPr/>
              <p:nvPr/>
            </p:nvSpPr>
            <p:spPr>
              <a:xfrm>
                <a:off x="505800" y="1623600"/>
                <a:ext cx="2601720" cy="2423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Line 13"/>
              <p:cNvSpPr/>
              <p:nvPr/>
            </p:nvSpPr>
            <p:spPr>
              <a:xfrm>
                <a:off x="505800" y="4051800"/>
                <a:ext cx="349164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Text Box 14"/>
              <p:cNvSpPr/>
              <p:nvPr/>
            </p:nvSpPr>
            <p:spPr>
              <a:xfrm rot="16200000">
                <a:off x="-1271520" y="2149560"/>
                <a:ext cx="3202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ataneo BT"/>
                  </a:rPr>
                  <a:t>Потребление в настоящем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Text Box 15"/>
              <p:cNvSpPr/>
              <p:nvPr/>
            </p:nvSpPr>
            <p:spPr>
              <a:xfrm>
                <a:off x="2030400" y="4776840"/>
                <a:ext cx="2948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ataneo BT"/>
                  </a:rPr>
                  <a:t>Потребление в будущем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Text Box 16"/>
              <p:cNvSpPr/>
              <p:nvPr/>
            </p:nvSpPr>
            <p:spPr>
              <a:xfrm>
                <a:off x="581400" y="127836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ataneo BT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Text Box 17"/>
              <p:cNvSpPr/>
              <p:nvPr/>
            </p:nvSpPr>
            <p:spPr>
              <a:xfrm>
                <a:off x="3111120" y="363492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ataneo BT"/>
                  </a:rPr>
                  <a:t>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18"/>
              <p:cNvSpPr/>
              <p:nvPr/>
            </p:nvSpPr>
            <p:spPr>
              <a:xfrm flipH="1">
                <a:off x="3044880" y="4051800"/>
                <a:ext cx="62640" cy="718200"/>
              </a:xfrm>
              <a:custGeom>
                <a:avLst/>
                <a:gdLst/>
                <a:ahLst/>
                <a:rect l="l" t="t" r="r" b="b"/>
                <a:pathLst>
                  <a:path w="1" h="453">
                    <a:moveTo>
                      <a:pt x="0" y="0"/>
                    </a:moveTo>
                    <a:cubicBezTo>
                      <a:pt x="0" y="0"/>
                      <a:pt x="0" y="226"/>
                      <a:pt x="0" y="45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AutoShape 20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5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5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5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5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2T16:06:06Z</dcterms:created>
  <dc:creator>505</dc:creator>
  <dc:description/>
  <dc:language>en-US</dc:language>
  <cp:lastModifiedBy>LEGION</cp:lastModifiedBy>
  <dcterms:modified xsi:type="dcterms:W3CDTF">2016-01-04T13:42:44Z</dcterms:modified>
  <cp:revision>39</cp:revision>
  <dc:subject/>
  <dc:title>Рынок финансового капитала</dc:title>
</cp:coreProperties>
</file>